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C56-5FF9-4739-AC8E-CACA9753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5D28-7E5C-476F-A397-790A67C5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A6C0-1E7E-40E4-A351-5541810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8652-819B-44C5-B63C-76DC405F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F1EBA-D8DB-48DC-B9E9-C33EA8F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A9E27-1D95-48B4-B19F-10E40A31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18FD-AB62-4C49-B81A-0E33FF9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08536-0424-4B53-BBA4-56FA9C49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8BF92-533B-435F-85E2-A6C6ACD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0B18-FD2A-4A38-923A-D55E2B1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4B18B-A3AF-4DD1-B73F-CBAD3C0C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AD9D1-3A64-4A7B-90FA-F2C99675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BFA-E514-4D87-A0D0-037D4693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71EBE-EC8B-48D8-A99B-49FC007F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BA49-BE0D-40A8-AF44-5CDAE346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2ED4E-192A-4CB8-9D4E-99827B8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37496-5948-47E4-9991-2C13E3E8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55B95-D9DD-4DE0-9CB9-0DEED99D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3C1AC-2AAE-48F8-958D-7D6B456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9E817-BFCB-485F-9F77-BB7D6C2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97386-FB8F-40AF-A60D-D17F1D0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77CCE-13A7-43E8-844E-8631BC15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39CB1-0930-470D-A6A9-32739AAE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136-66DC-4DC3-BD98-C5DA6226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64EA9-C9C7-48AC-B6E3-E91F557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44A11-A25F-4661-B4FE-ADCCB18D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56097-E001-4C3A-B4A5-C8469D3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6679-5B2F-48E6-BB77-BA1AE3B0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CAAB8-DBCA-44E5-A735-FCF221E2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78CF9-0645-4662-9BA1-AD73E17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E75BE-DDB3-4FEA-86BA-BF8748E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1D07-8CC2-498A-8438-75FEF889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98499-D46C-4B74-A408-33032BB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B681D-E657-4058-8610-48BF358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61B3-BDD8-4859-B8C4-057D387B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7CEED-090C-4F36-BA93-D088F9C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DD43F-B8CE-4EC3-AD4C-E6AFC61F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DD6E-ECDE-49FC-A16E-AC404FF4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C58F9-B168-47B3-90E1-9E3CB78C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0964-9974-4E7B-985F-A0DF376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4FC93-673C-4C2E-82CA-97E5774C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98632-81F6-47F4-9D50-6903876C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4733F-9FA0-47C0-89D5-F04DD43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B029D-C5E9-4B83-B1F5-23211757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D8B9D-9B36-4443-A16D-8575FAE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680F-FE43-4F86-AEC9-B9196D0B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6C589-3E9B-4EB9-970B-F609830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7EE85-23E4-4A45-B731-CAC7F66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7295D-2E3C-4CDC-939A-28B43EE9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740D0-1174-411C-9C0A-2AA3A9ED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1343F-4D3E-49FF-BBA0-D68B551C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A6B21-9FB2-48F7-9A96-FEBEEE85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30E05-7208-4470-96A1-13BD1621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C5E73-F93C-4E3C-8AF0-30187BB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80D79-D3CC-4F78-A4F4-56A38310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3CF59-E5EF-4E93-8CD5-52544E86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978-1EA1-4442-A6C4-6908E3C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8AB2A-CCEC-4D59-8561-2348DF6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CEBA3-28D6-40CD-9C98-4F28457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E7B07-AA03-4CCE-8AF0-871CF2E6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34605D-5052-43F2-B2C7-E04A959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A7F51-657E-425F-8A01-3FF0B21A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85CB2-CA6D-400F-B1DF-9DB1EBC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2475E-7117-409E-8036-66D3C335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7166-989B-434C-9DB3-258143F7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A41A-68BC-4596-A01E-485C607E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D688-165A-49F5-B7E1-9E8179B9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EE0B-3B1E-4DD5-9FA1-DBF943D4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CD9-14AE-4526-B613-61D86336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FAEA-6AC6-4CAE-B2F9-DB405C3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70DA-0595-44B6-8E55-13E1659A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B0A-79EE-41A5-BECE-047D1A2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1D0-DD44-45C6-8100-DCFD0410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3728-8C37-4A56-8DA2-78E78B7A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41BB-3E2E-48D3-AEFF-A37111F9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F86E-8319-469D-A827-21692C0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CFAA-54EF-457C-8A97-0ED5731B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6A14-EF11-4025-9BFA-A7C348E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DC75-E410-4859-AB2B-76653378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0D3-896D-4650-9B5A-634DFB1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0DA2-F07A-4B3A-AE72-A10CDF6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736C-956D-464F-B53F-9F4DED9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D1B7-80BB-475E-91F2-8F5AB6B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81C9-96EF-4408-B203-2ACCBF2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91AA-33A1-4439-A7E7-695C4D4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4800-CE78-4514-83D1-D33D6A2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4645-A02F-4DF1-9525-C2C5577B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5F56-7F11-47C2-9D7F-532AB7C6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917BF-8E40-4AA4-80D3-F270D58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7837-3C88-47FA-918E-76647D46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55F-2B2E-4C4D-B500-2F47200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16A2-B624-4ABB-AB67-0B8C329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4F8E-7447-4B22-A469-27408FD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DB96-BF29-400C-B80A-F53DCBE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D84E6-7DF6-41A1-A3DF-F115316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368A-3BD0-4945-90BE-A48E4DA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B7E8-0C70-4954-8A42-33215D0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FFA9-1804-4437-B4E8-1941C686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F4C0-4950-4F1F-BCDE-02D26C43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1988-2854-45A6-9779-2DF630BB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E989-31B5-4F5D-B8BC-CF935744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E44-7A6A-4752-B01B-62A2A3D0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0FF2-183D-42C0-A7B1-D01ABD4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7E78-5566-4009-9325-48A338E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962E-0DC5-41C6-AAC0-29309A88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5A0C-8175-4202-A5B9-2F1E8A9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5683F-9E87-40E9-9274-183A50BC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03B3-F5E0-4A03-85BF-079A0AD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F6F0-0D96-460E-AFA7-BEB4C48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3F47-0E48-4CFB-B4B1-67AAAB5C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8741-09AE-43BE-BDDA-DE163EC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AEE6-9EFF-4E61-94B7-0B33C522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F9D-3662-4337-BA4B-25137A7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AE5E-77A3-42F0-AFA7-CAF2376E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FCEC-1622-4605-B1BB-831EBD0A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1A56-1071-4BEA-ABA1-94862659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D5BB-865D-4DEA-95DC-87C4BE8D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550FE-E8ED-4FF7-935B-3C92CD0B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41F9-3372-47D0-9D74-506B118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111F5-6C31-4E1D-A287-C44A4D1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DF4DA-F6F8-408F-B35F-7827F17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3427A-0B44-4593-B964-47317B52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FB7B-7490-4FF3-970C-90517B9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C88-1306-4841-9CC0-461A919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07478-5AAB-4AB2-821F-3CC4122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555F-41EF-48B2-A6D1-A8200974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DEA2F-0FA9-49D9-A0C9-8C789852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CFA8-06DF-4B00-891D-508D97F9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2E9AD-7BFE-4B0A-8B2C-BFF44EEE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36432-6BA6-4992-AFD0-08B4D48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56A6-4661-46D3-9EF7-01419053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EC5B-6372-4A3C-979C-4225B969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6801-6511-4344-94A5-E2150BBD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5BB17-366F-409D-9AE8-15789571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CE9-B2F5-417C-8F0C-4C97C11F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A126-11D3-4B23-98D2-9E49558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71E6-34D3-4DFE-884D-B1BC555C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EEC9D-CDB7-4178-AFB5-601ED1CB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E8D93-FA91-4F4C-9C5A-2B7DBAA5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60BDB-309B-4D9B-93AB-23D7F7F7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5D2E4-3189-4AAC-8068-CE351EF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F7C0-7C86-43DC-A83A-61E6B508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9F199-057A-467D-B19D-2CF1F7D7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52E2-EF04-4DA3-9B1C-5C068A75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DF0C2-737E-466B-A129-1B54F05F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404-432E-4873-BD05-1D2B30C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A9944-0B18-4121-BF6A-FD7C2173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56EAB-42B4-42B2-B9E0-4B3FE58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88314-F991-47BA-8A77-F95E492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1B485-C42B-4F36-AE3A-5ADF150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DB537-626C-41F7-8820-10945AE8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B0839-4DF0-447C-ACA3-B9F635BE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BD07-82C7-4D94-94C7-BC7F0BDD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ECAF1-D681-49F6-8B3D-E9C93761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8BA4E-83D6-404C-9C5B-076DC8DF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D065-E641-4935-856D-9E01C746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6FB-545B-4329-80C2-0EB69070F0C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E92-9CC2-453A-BA41-4DC01F7F10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F39-DBC2-4CBF-B808-E28A705613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666-6929-42AE-8EF4-117F33274E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6CBD-1E05-4AEE-86C3-DF5C16DDB2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7B9-A809-492B-BA45-D83105BABE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CD29-EEA4-4898-A081-27C64A4F3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C07F-35CD-4F4D-911E-94DB97A431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26E-6A82-4621-AB99-3E1B9A835A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436-A221-4A4B-8B50-0A132D7819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953-C4D8-4D49-A53A-1157934057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4AFC-DC07-4313-98FB-38F8E93716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2A2-6EAB-4479-A08A-F5B6B0BCDC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545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592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595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598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602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 rot="4260000">
              <a:off x="6292440" y="71496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609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46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651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667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85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688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702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23" name="Picture 5" descr="header_bg"/>
            <p:cNvPicPr/>
            <p:nvPr/>
          </p:nvPicPr>
          <p:blipFill>
            <a:blip r:embed="rId7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 rot="2460000">
              <a:off x="985680" y="94932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729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42" name="Picture 24" descr="header_bg"/>
            <p:cNvPicPr/>
            <p:nvPr/>
          </p:nvPicPr>
          <p:blipFill>
            <a:blip r:embed="rId8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ngel</cp:lastModifiedBy>
  <dcterms:modified xsi:type="dcterms:W3CDTF">2015-12-11T01:09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