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F54-9E43-4480-9A24-C5FC318B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870-942A-476D-BFC2-34DD44A9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AD8-CEDE-4FB4-A944-D8F3E7FD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CD9-0458-4A35-BFAA-1CE2C08A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57D3-4FFC-4384-80A2-10A16489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49FD-AEC7-4816-8A14-6B20E333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E246-A13C-44E4-8E54-71D48060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0EC7-64E4-459F-8F6E-4E5E6844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D510-D113-47A8-9211-2BB1974E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63F3-308A-445F-8882-D6CD98AF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4BD6-48DE-4BEE-93CD-32235EC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A38-78B4-417A-90F2-E338319A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8ABA-86F8-4D82-A4D3-568954F3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BE79-F6DF-484C-BA82-9211F40E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00C1-D212-437F-A273-A9B0C85F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67A2-B8ED-48B2-8F70-11B2283B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5FBE-472E-4B7C-A29D-A0E31274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7FBA-E9DE-4266-BBC9-DD611F2E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92D9-6063-4496-98BB-6003B01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DC02-5601-488A-B326-388059F0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C988-E47F-43DB-8779-BEA63EC8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B3A5-77E2-49FA-AACB-5CCBF391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6B6-9C8D-40C1-9976-793F7C47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AF16-8092-43AB-9C32-22F85731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6C78-F769-4B6F-A5C8-6DF78E6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503F-8A92-468D-BD6B-28D8E96C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C77D-C677-428A-B244-CC6ED24B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A662-E57D-4EB7-8BDB-E9CD0ED4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0838-E365-4CF6-B334-9A35E459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3793-AA6D-4346-802A-246CA5D8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55D1-3AF1-447A-A0D8-5206CE71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6B03-1AC7-42BB-AA9B-7AFB9379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2E2A1-3F52-44F7-8D4F-CD390935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950-ACDD-41D8-B5F8-9025D1DA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3A9D-C335-400C-B307-616D242F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8AD5-6563-49DB-98AA-63C265B1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CC5AA-B35C-47A5-B136-604BF956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96EB-39E0-4183-B587-3878B54D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4A4BE-796F-4128-BE93-1A8FA77D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2AE5-AA8A-458B-A9DA-60681B62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B080-9FAD-4942-A861-D487AA81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9559B-A6F0-45CC-9A82-C0382C99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CE0E-6EF2-4D9E-BF63-D6083094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16C-FDFF-4365-BFC8-FDA31F01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3B4-635A-48AC-B3E9-6B27C79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353-9AD8-42EE-AC1B-6389F0E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BA8-133A-419B-A2CF-9DBE0241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033-9F1F-4692-9B64-FB03ED8A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5913-506F-4A3D-83DD-D0C1EF9F7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E0F8-DC54-4FE8-9EB9-97B732C5B4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0091-2281-4978-A247-44E4DECFD4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F791-E71D-42DD-A99E-301C60EA5C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145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69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Gulim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Gulim"/>
                <a:ea typeface="Gulim"/>
              </a:endParaRPr>
            </a:p>
          </p:txBody>
        </p:sp>
        <p:sp>
          <p:nvSpPr>
            <p:cNvPr id="170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Gulim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Gulim"/>
                <a:ea typeface="Gulim"/>
              </a:endParaRPr>
            </a:p>
          </p:txBody>
        </p:sp>
      </p:grp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169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4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1" name="组合 7177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2" name="组合 7178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3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4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5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7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8" name="组合 7184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9" name="组合 7185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90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1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2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4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5" name="组合 7191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6" name="组合 7192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7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8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9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1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2" name="组合 7198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3" name="组合 7199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4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5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6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8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组合 7205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10" name="组合 7206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1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2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3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5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6" name="组合 7212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7" name="组合 7213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8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9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0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2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3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8193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6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7" name="组合 8195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8" name="组合 8196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9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0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1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3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6-03-25T22:59:19Z</dcterms:modified>
  <cp:revision>19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