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FF01-E566-4A09-9A5B-50CE91004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C24E-41FC-4E0E-9582-C6E60FC27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0C2E-8991-48A7-9D7F-1F7D818A0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3181-2A07-447B-B007-E9DF71F9D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9C56-6301-4034-9BCC-022A9A01A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8A87-D999-49CE-B36A-362375AF9D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BDA9-C26F-4444-97F8-3FA1A802B4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FD7C-0F7C-4D8A-BBF1-66F688E546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1951-8F9C-4516-8604-9ED64E7AD7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8700-609D-4F21-8BC9-8625B7C1C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540E-B902-4476-AC9C-06FDFBC8E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D810-767C-49FF-876C-725F65D90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589FA0D-14B1-4CD2-AF2A-4FA8AD36B6D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bg3"/>
          <p:cNvPicPr/>
          <p:nvPr/>
        </p:nvPicPr>
        <p:blipFill>
          <a:blip r:embed="rId2"/>
          <a:stretch/>
        </p:blipFill>
        <p:spPr>
          <a:xfrm>
            <a:off x="-1764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8841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37153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9280" y="5157360"/>
            <a:ext cx="820764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00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0F510B0-DA12-4333-A6AA-8607D1F37A0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内容占位符 3" descr=""/>
          <p:cNvPicPr/>
          <p:nvPr/>
        </p:nvPicPr>
        <p:blipFill>
          <a:blip r:embed="rId1"/>
          <a:stretch/>
        </p:blipFill>
        <p:spPr>
          <a:xfrm>
            <a:off x="-36360" y="0"/>
            <a:ext cx="3781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6200" y="1125360"/>
            <a:ext cx="8207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82560" y="4694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Administrator</cp:lastModifiedBy>
  <dcterms:modified xsi:type="dcterms:W3CDTF">2016-03-25T21:41:37Z</dcterms:modified>
  <cp:revision>27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