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D17C-762B-42DF-B2DA-12F322BFCD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45D7-9102-4524-A9E5-C983DC8BED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E92-FF4A-4DF8-85A1-DEE3A371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F47-06D1-4012-BDFB-587D917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414-BFFE-4451-9B61-2067685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A45-F5CE-429B-B7C7-2B081CF3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410-3176-411F-BDEE-1EA55A2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D58-7979-4098-AE3A-208FA37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8D9-C669-4E36-9741-2329BBAF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F1C-5E1E-4ED0-BFA6-D15BE3D4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DFB-3D98-4F4C-A58B-E79106A4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822-71CA-4905-9153-849D449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8B5-246F-4B70-AF4D-654AB1F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32C-A51E-4FE6-991E-2203DBA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355-4001-4A2B-922E-2BE4683A93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Microsoft</cp:lastModifiedBy>
  <dcterms:modified xsi:type="dcterms:W3CDTF">2016-04-20T05:10:30Z</dcterms:modified>
  <cp:revision>76</cp:revision>
  <dc:subject/>
  <dc:title>幻灯片 1</dc:title>
</cp:coreProperties>
</file>