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EF0-D201-4BE6-9F65-99C5195E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29B-1BED-466F-8B75-84C3F57E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D4F-DA45-4C63-8271-672D2D95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2C1-9FE0-46F7-8CE6-EBD1C661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730F-59A7-40EA-A625-55CED0C4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B8F4-2C01-4DC4-AD09-D0552FB9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EF3A-44C7-450C-8C95-F56C27A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7B31-73B2-422E-A363-0CD9762D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50E0-D298-4D1D-B74D-59D7E4BF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A20B-5F98-4143-8E64-623BAE54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CC73-8E04-40B0-8DA5-93C71938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233-820B-4652-9224-81DF288A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8295-8371-4D57-8FED-5DD86016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2208-BD0B-4747-91CB-FF8646B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3171-EF26-4650-B96F-F615486A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B278-00C9-4D2B-8DC8-D4261666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22BC-6F01-4C4B-84E7-11417110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622-99FE-4CE1-BD37-32941565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1FE-2F44-4FD1-8634-924975BD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B4A-F906-4239-A769-54C60A5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7E9-7985-45B9-8FA2-96AD11B7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49F-E6C9-4A0E-B995-610E856F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BA3-167A-4CF6-AB6D-031476B7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CB3-D02F-4D6E-9827-2F1A1711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6FEA-9C99-46BF-BD51-A69B2587E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BEF6-0F88-423B-9299-2903DECF54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393840" y="143496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 flipH="1">
            <a:off x="4793400" y="143496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V="1">
            <a:off x="393840" y="376812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H="1" flipV="1">
            <a:off x="4793400" y="376812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3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7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8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3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4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9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0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5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6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31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6" name="AutoShape 7"/>
            <p:cNvSpPr/>
            <p:nvPr/>
          </p:nvSpPr>
          <p:spPr>
            <a:xfrm>
              <a:off x="1117080" y="68256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 rot="4320000">
              <a:off x="1210680" y="75204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 rot="8640000">
              <a:off x="1173960" y="8614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 rot="17280000">
              <a:off x="1022760" y="75168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 rot="12960000">
              <a:off x="1059840" y="8578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3"/>
          <p:cNvSpPr/>
          <p:nvPr/>
        </p:nvSpPr>
        <p:spPr>
          <a:xfrm rot="10800000">
            <a:off x="2688840" y="1053720"/>
            <a:ext cx="64580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3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7" name="未知"/>
            <p:cNvSpPr/>
            <p:nvPr/>
          </p:nvSpPr>
          <p:spPr>
            <a:xfrm>
              <a:off x="8102520" y="4413240"/>
              <a:ext cx="122400" cy="1771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007480" y="4488120"/>
              <a:ext cx="160920" cy="1108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581360"/>
              <a:ext cx="160920" cy="1126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100720" y="4590360"/>
              <a:ext cx="122400" cy="1785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57240" y="4581360"/>
              <a:ext cx="160920" cy="110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485960"/>
              <a:ext cx="160920" cy="11304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09720" y="4544640"/>
              <a:ext cx="107640" cy="92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5" name="未知"/>
            <p:cNvSpPr/>
            <p:nvPr/>
          </p:nvSpPr>
          <p:spPr>
            <a:xfrm>
              <a:off x="7086240" y="5784840"/>
              <a:ext cx="122760" cy="17712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6991200" y="5859720"/>
              <a:ext cx="161280" cy="110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952960"/>
              <a:ext cx="161280" cy="1126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084440" y="5961960"/>
              <a:ext cx="122760" cy="17856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141320" y="5952960"/>
              <a:ext cx="161280" cy="110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857560"/>
              <a:ext cx="161280" cy="11304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093800" y="5916240"/>
              <a:ext cx="108000" cy="92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rc 27"/>
          <p:cNvSpPr/>
          <p:nvPr/>
        </p:nvSpPr>
        <p:spPr>
          <a:xfrm rot="9876600">
            <a:off x="2315880" y="2184480"/>
            <a:ext cx="64976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11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8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19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6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7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2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3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8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39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2"/>
          <p:cNvSpPr/>
          <p:nvPr/>
        </p:nvSpPr>
        <p:spPr>
          <a:xfrm>
            <a:off x="2068560" y="391464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4075200" y="89208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5840280" y="39783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7567560" y="7905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0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4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8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3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8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2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5" name="Group 10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6" name="Oval 11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2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14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5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3" name="Group 18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4" name="Oval 19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20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1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3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1" name="Group 26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2" name="Oval 27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9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0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31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33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rc 2"/>
          <p:cNvSpPr/>
          <p:nvPr/>
        </p:nvSpPr>
        <p:spPr>
          <a:xfrm rot="10800000">
            <a:off x="7893000" y="3809880"/>
            <a:ext cx="1238400" cy="24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3"/>
          <p:cNvSpPr/>
          <p:nvPr/>
        </p:nvSpPr>
        <p:spPr>
          <a:xfrm>
            <a:off x="0" y="952560"/>
            <a:ext cx="1276200" cy="255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4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4200" y="172800"/>
            <a:ext cx="3481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3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4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Arc 4"/>
          <p:cNvSpPr/>
          <p:nvPr/>
        </p:nvSpPr>
        <p:spPr>
          <a:xfrm flipH="1">
            <a:off x="1383480" y="1628640"/>
            <a:ext cx="239580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5"/>
          <p:cNvSpPr/>
          <p:nvPr/>
        </p:nvSpPr>
        <p:spPr>
          <a:xfrm>
            <a:off x="5570640" y="1666800"/>
            <a:ext cx="230328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6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724560" y="27871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14840" y="28116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2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892440" y="28126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82720" y="28371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8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810840" y="2825280"/>
              <a:ext cx="23256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01120" y="2849760"/>
              <a:ext cx="25308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874800" y="3317760"/>
            <a:ext cx="150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6843600" y="3355920"/>
            <a:ext cx="150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7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9" name="AutoShape 9"/>
              <p:cNvSpPr/>
              <p:nvPr/>
            </p:nvSpPr>
            <p:spPr>
              <a:xfrm rot="5400000">
                <a:off x="2862000" y="15188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0"/>
              <p:cNvSpPr/>
              <p:nvPr/>
            </p:nvSpPr>
            <p:spPr>
              <a:xfrm rot="16200000">
                <a:off x="2638440" y="15210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1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2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3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5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6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7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8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1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2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3" name="AutoShape 23"/>
              <p:cNvSpPr/>
              <p:nvPr/>
            </p:nvSpPr>
            <p:spPr>
              <a:xfrm rot="5400000">
                <a:off x="3522240" y="25855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24"/>
              <p:cNvSpPr/>
              <p:nvPr/>
            </p:nvSpPr>
            <p:spPr>
              <a:xfrm rot="16200000">
                <a:off x="3298680" y="258768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8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9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30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31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2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5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6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7" name="AutoShape 37"/>
              <p:cNvSpPr/>
              <p:nvPr/>
            </p:nvSpPr>
            <p:spPr>
              <a:xfrm rot="5400000">
                <a:off x="3509640" y="366516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38"/>
              <p:cNvSpPr/>
              <p:nvPr/>
            </p:nvSpPr>
            <p:spPr>
              <a:xfrm rot="16200000">
                <a:off x="3286080" y="36673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9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0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1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2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3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4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45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6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9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1" name="AutoShape 51"/>
              <p:cNvSpPr/>
              <p:nvPr/>
            </p:nvSpPr>
            <p:spPr>
              <a:xfrm rot="5400000">
                <a:off x="3027240" y="47192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52"/>
              <p:cNvSpPr/>
              <p:nvPr/>
            </p:nvSpPr>
            <p:spPr>
              <a:xfrm rot="16200000">
                <a:off x="2803680" y="47214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3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4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5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6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57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8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9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0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6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1" name="AutoShape 10"/>
            <p:cNvSpPr/>
            <p:nvPr/>
          </p:nvSpPr>
          <p:spPr>
            <a:xfrm rot="5400000">
              <a:off x="2213640" y="11631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"/>
            <p:cNvSpPr/>
            <p:nvPr/>
          </p:nvSpPr>
          <p:spPr>
            <a:xfrm rot="16200000">
              <a:off x="1990440" y="11660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2" name="AutoShape 21"/>
            <p:cNvSpPr/>
            <p:nvPr/>
          </p:nvSpPr>
          <p:spPr>
            <a:xfrm rot="5400000">
              <a:off x="6874560" y="11757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 rot="16200000">
              <a:off x="6651360" y="11786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9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40" name="Text Box 39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1434960" y="5562720"/>
            <a:ext cx="254160" cy="25380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1689120" y="5359320"/>
            <a:ext cx="495360" cy="49536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 rot="14400000">
            <a:off x="8123760" y="1689120"/>
            <a:ext cx="129960" cy="4431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800000">
            <a:off x="8383680" y="4576320"/>
            <a:ext cx="145800" cy="443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5400000">
            <a:off x="8493480" y="5879160"/>
            <a:ext cx="141120" cy="304920"/>
          </a:xfrm>
          <a:prstGeom prst="pie">
            <a:avLst/>
          </a:pr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17400000">
            <a:off x="8359560" y="3612600"/>
            <a:ext cx="181080" cy="533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5400000">
            <a:off x="8391960" y="2502360"/>
            <a:ext cx="141120" cy="304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 flipV="1">
            <a:off x="673200" y="39369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73200" y="18921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1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5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8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2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6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9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3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7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0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4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5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AutoShape 42"/>
              <p:cNvSpPr/>
              <p:nvPr/>
            </p:nvSpPr>
            <p:spPr>
              <a:xfrm>
                <a:off x="6066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43"/>
              <p:cNvSpPr/>
              <p:nvPr/>
            </p:nvSpPr>
            <p:spPr>
              <a:xfrm>
                <a:off x="7794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Microsoft</cp:lastModifiedBy>
  <cp:lastPrinted>1899-12-30T00:00:00Z</cp:lastPrinted>
  <dcterms:modified xsi:type="dcterms:W3CDTF">2016-04-20T01:57:48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