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528-D183-4ED4-ACB1-2B215919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A89-C7C6-4356-815D-C13EFFC5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528-269B-46BA-BA3C-E799F8F2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60C-932D-4F44-9407-F2C240D7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76D5-C641-4AE0-AF69-59DF028B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214B-8BFE-4B90-994F-E958CF2A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B07-41C2-4A27-A5C8-F9FB8823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CBC3-E294-45D3-9F57-FE704327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7AED-5929-4915-B873-88B45FA8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D0D6-42C2-44DA-864C-A78B47AF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E97-B94E-4D42-87DD-1172B6DE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449-CE73-4FA2-A0CD-ED01DC53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D9B8-33D4-4D11-90F0-8AFA24297A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000240" y="143352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286080" y="22147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514800" y="428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4000680" y="2214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5712120" y="5214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497920" y="342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211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6627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6140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926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283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711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497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99788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7736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071880" y="2071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569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2497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711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22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4-06-23T07:56:29Z</dcterms:modified>
  <cp:revision>36</cp:revision>
  <dc:subject/>
  <dc:title>幻灯片 1</dc:title>
</cp:coreProperties>
</file>