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6C7-E116-4670-A109-A87CB369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0EE-92F9-4CC5-8229-9017A57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DFD-380A-4B12-AD34-CF14EDCB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78A-A6B1-44DB-BA5A-D8A328C1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5EA-159E-4D06-9E27-2E7A88FC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E12-D6AF-4E1B-BF4A-DA6F614C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92A-FDDB-4D25-8E82-5FF1643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C96-5886-42D6-B23B-DB5A06B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30C-568C-45BC-BD46-AF762CC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164-1A16-4445-A7C4-1889728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143-4E89-40B3-90E9-0DB3A6F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A53-B768-46CB-B024-86F2F92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1C84-BA73-46CE-AF71-16FA5F86CCC8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FRESH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700" spc="-1" strike="noStrike">
                <a:solidFill>
                  <a:srgbClr val="5ad00a"/>
                </a:solidFill>
                <a:latin typeface="造字工房悦黑体验版常规体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8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49" name="8 Rectángulo" descr=""/>
              <p:cNvPicPr/>
              <p:nvPr/>
            </p:nvPicPr>
            <p:blipFill>
              <a:blip r:embed="rId3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" name="Imagen 2" descr="C:\Users\Design\Documents\Edu\Product Launch\LCD.png"/>
            <p:cNvPicPr/>
            <p:nvPr/>
          </p:nvPicPr>
          <p:blipFill>
            <a:blip r:embed="rId4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造字工房悦黑体验版常规体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Imagen 3" descr="C:\Users\Design\Documents\Edu\Product Launch\magic_wand.png"/>
            <p:cNvPicPr/>
            <p:nvPr/>
          </p:nvPicPr>
          <p:blipFill>
            <a:blip r:embed="rId5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1 Imagen" descr=""/>
          <p:cNvPicPr/>
          <p:nvPr/>
        </p:nvPicPr>
        <p:blipFill>
          <a:blip r:embed="rId6"/>
          <a:stretch/>
        </p:blipFill>
        <p:spPr>
          <a:xfrm>
            <a:off x="179280" y="5665680"/>
            <a:ext cx="20890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造字工房悦黑体验版常规体"/>
              </a:rPr>
              <a:t>ABOUT </a:t>
            </a:r>
            <a:r>
              <a:rPr b="1" lang="es-HN" sz="44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造字工房悦黑体验版常规体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9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24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造字工房悦黑体验版常规体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6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8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27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8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47 Imagen" descr=""/>
          <p:cNvPicPr/>
          <p:nvPr/>
        </p:nvPicPr>
        <p:blipFill>
          <a:blip r:embed="rId9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BES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3" descr="C:\Users\Design\Documents\Edu\Product Launch\icons\database_check.png"/>
          <p:cNvPicPr/>
          <p:nvPr/>
        </p:nvPicPr>
        <p:blipFill>
          <a:blip r:embed="rId6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8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1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4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造字工房悦黑体验版常规体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造字工房悦黑体验版常规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造字工房悦黑体验版常规体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Imagen 5" descr="C:\Users\Design\Documents\Edu\Product Launch\icons\presentation.png"/>
          <p:cNvPicPr/>
          <p:nvPr/>
        </p:nvPicPr>
        <p:blipFill>
          <a:blip r:embed="rId11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6" descr="C:\Users\Design\Documents\Edu\Product Launch\icons\color_wheel.png"/>
          <p:cNvPicPr/>
          <p:nvPr/>
        </p:nvPicPr>
        <p:blipFill>
          <a:blip r:embed="rId12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8" descr="C:\Users\Design\Documents\Edu\Product Launch\icons\web.png"/>
          <p:cNvPicPr/>
          <p:nvPr/>
        </p:nvPicPr>
        <p:blipFill>
          <a:blip r:embed="rId13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5" descr="C:\Users\Design\Documents\Edu\Product Launch\shadown.png"/>
          <p:cNvPicPr/>
          <p:nvPr/>
        </p:nvPicPr>
        <p:blipFill>
          <a:blip r:embed="rId14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3" name="27 Imagen" descr=""/>
          <p:cNvPicPr/>
          <p:nvPr/>
        </p:nvPicPr>
        <p:blipFill>
          <a:blip r:embed="rId1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28 Imagen" descr=""/>
          <p:cNvPicPr/>
          <p:nvPr/>
        </p:nvPicPr>
        <p:blipFill>
          <a:blip r:embed="rId1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43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4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n 5" descr="C:\Users\Design\Documents\Edu\Product Launch\shadown.png"/>
          <p:cNvPicPr/>
          <p:nvPr/>
        </p:nvPicPr>
        <p:blipFill>
          <a:blip r:embed="rId1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27" descr="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28" descr="">
            <a:hlinkClick r:id="" action="ppaction://hlinkshowjump?jump=previousslide"/>
          </p:cNvPr>
          <p:cNvPicPr/>
          <p:nvPr/>
        </p:nvPicPr>
        <p:blipFill>
          <a:blip r:embed="rId20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44" name="51 Imagen" descr=""/>
          <p:cNvPicPr/>
          <p:nvPr/>
        </p:nvPicPr>
        <p:blipFill>
          <a:blip r:embed="rId21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49 Objeto" descr=""/>
          <p:cNvPicPr/>
          <p:nvPr/>
        </p:nvPicPr>
        <p:blipFill>
          <a:blip r:embed="rId2"/>
          <a:stretch/>
        </p:blipFill>
        <p:spPr>
          <a:xfrm>
            <a:off x="-209520" y="1795320"/>
            <a:ext cx="6777000" cy="4121280"/>
          </a:xfrm>
          <a:prstGeom prst="rect">
            <a:avLst/>
          </a:prstGeom>
          <a:ln w="0">
            <a:noFill/>
          </a:ln>
        </p:spPr>
      </p:pic>
      <p:sp>
        <p:nvSpPr>
          <p:cNvPr id="149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9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32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3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69" name="40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77760" y="1560600"/>
            <a:ext cx="61498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GRAPHIC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造字工房悦黑体验版常规体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3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4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5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34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5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magen 27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93" name="Imagen 28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94" name="42 Imagen" descr=""/>
          <p:cNvPicPr/>
          <p:nvPr/>
        </p:nvPicPr>
        <p:blipFill>
          <a:blip r:embed="rId10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造字工房悦黑体验版常规体"/>
              </a:rPr>
              <a:t>CONTACT </a:t>
            </a:r>
            <a:r>
              <a:rPr b="1" lang="es-HN" sz="3600" spc="-1" strike="noStrike">
                <a:solidFill>
                  <a:srgbClr val="5ad00a"/>
                </a:solidFill>
                <a:latin typeface="造字工房悦黑体验版常规体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造字工房悦黑体验版常规体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2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06" name="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09" name="49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造字工房悦黑体验版常规体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造字工房悦黑体验版常规体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造字工房悦黑体验版常规体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4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5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16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5ad00a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35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36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www.</a:t>
            </a:r>
            <a:r>
              <a:rPr b="1" lang="es-HN" sz="1200" spc="-1" strike="noStrike">
                <a:solidFill>
                  <a:srgbClr val="5ad00a"/>
                </a:solidFill>
                <a:latin typeface="造字工房悦黑体验版常规体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造字工房悦黑体验版常规体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7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103720" y="622152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28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925800" y="62215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225" name="46 Imagen" descr=""/>
          <p:cNvPicPr/>
          <p:nvPr/>
        </p:nvPicPr>
        <p:blipFill>
          <a:blip r:embed="rId12"/>
          <a:stretch/>
        </p:blipFill>
        <p:spPr>
          <a:xfrm>
            <a:off x="0" y="5978520"/>
            <a:ext cx="17175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造字工房悦黑体验版常规体"/>
              </a:rPr>
              <a:t>THANK </a:t>
            </a:r>
            <a:r>
              <a:rPr b="1" lang="es-HN" sz="4900" spc="-1" strike="noStrike">
                <a:solidFill>
                  <a:srgbClr val="5ad00a"/>
                </a:solidFill>
                <a:latin typeface="造字工房悦黑体验版常规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ad00a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4 Imagen" descr=""/>
          <p:cNvPicPr/>
          <p:nvPr/>
        </p:nvPicPr>
        <p:blipFill>
          <a:blip r:embed="rId2"/>
          <a:stretch/>
        </p:blipFill>
        <p:spPr>
          <a:xfrm>
            <a:off x="324000" y="5580000"/>
            <a:ext cx="2160360" cy="8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3:13Z</dcterms:modified>
  <cp:revision>3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