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5A9-B709-4A5C-B4C3-138AF7EF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F41-C775-4C2D-89DB-062EAD7D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404-8658-45BB-9566-31EA893E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DCE-4E5F-4F4F-8B4D-B1DA0659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FC0-2667-4C67-99FB-A6CEAF93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656-6955-4B06-BAE4-C42D6C12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8FB-F707-42EB-B177-D2877D7A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E09-DFD7-4B0F-A188-100ADD07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DE7-26C8-4AAA-9AA0-77203DBA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689-43E4-4F40-90F6-D9FEE74C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339-803F-4978-A60C-68FACDBD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D32-02D6-4368-B708-B55FACE3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B6B-17A1-4A10-8536-637A1E494488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8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FRESH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700" spc="-1" strike="noStrike">
                <a:solidFill>
                  <a:srgbClr val="5ad00a"/>
                </a:solidFill>
                <a:latin typeface="造字工房悦黑体验版常规体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8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49" name="8 Rectángulo" descr=""/>
              <p:cNvPicPr/>
              <p:nvPr/>
            </p:nvPicPr>
            <p:blipFill>
              <a:blip r:embed="rId3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Imagen 2" descr="C:\Users\Design\Documents\Edu\Product Launch\LCD.png"/>
            <p:cNvPicPr/>
            <p:nvPr/>
          </p:nvPicPr>
          <p:blipFill>
            <a:blip r:embed="rId4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造字工房悦黑体验版常规体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Imagen 3" descr="C:\Users\Design\Documents\Edu\Product Launch\magic_wand.png"/>
            <p:cNvPicPr/>
            <p:nvPr/>
          </p:nvPicPr>
          <p:blipFill>
            <a:blip r:embed="rId5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1 Imagen" descr=""/>
          <p:cNvPicPr/>
          <p:nvPr/>
        </p:nvPicPr>
        <p:blipFill>
          <a:blip r:embed="rId6"/>
          <a:stretch/>
        </p:blipFill>
        <p:spPr>
          <a:xfrm>
            <a:off x="179280" y="5665680"/>
            <a:ext cx="208908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ABOUT </a:t>
            </a:r>
            <a:r>
              <a:rPr b="1" lang="es-HN" sz="44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 CuadroTexto" descr=""/>
          <p:cNvPicPr/>
          <p:nvPr/>
        </p:nvPicPr>
        <p:blipFill>
          <a:blip r:embed="rId3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3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造字工房悦黑体验版常规体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9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6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7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2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75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76" name="24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79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YOUR </a:t>
            </a:r>
            <a:r>
              <a:rPr b="1" lang="es-HN" sz="3600" spc="-1" strike="noStrike">
                <a:solidFill>
                  <a:srgbClr val="0eb1e7"/>
                </a:solidFill>
                <a:latin typeface="造字工房悦黑体验版常规体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90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97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9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6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8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0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07" name="47 Imagen" descr=""/>
          <p:cNvPicPr/>
          <p:nvPr/>
        </p:nvPicPr>
        <p:blipFill>
          <a:blip r:embed="rId9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2" descr="C:\Users\Design\Documents\Edu\Product Launch\bgservices.png"/>
          <p:cNvPicPr/>
          <p:nvPr/>
        </p:nvPicPr>
        <p:blipFill>
          <a:blip r:embed="rId2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5" name="Imagen 2" descr="C:\Users\Design\Documents\Edu\Product Launch\bgservices.png"/>
          <p:cNvPicPr/>
          <p:nvPr/>
        </p:nvPicPr>
        <p:blipFill>
          <a:blip r:embed="rId5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3" descr="C:\Users\Design\Documents\Edu\Product Launch\icons\database_check.png"/>
          <p:cNvPicPr/>
          <p:nvPr/>
        </p:nvPicPr>
        <p:blipFill>
          <a:blip r:embed="rId6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4" descr="C:\Users\Design\Documents\Edu\Product Launch\shadown 2.png"/>
          <p:cNvPicPr/>
          <p:nvPr/>
        </p:nvPicPr>
        <p:blipFill>
          <a:blip r:embed="rId7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18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4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n 4" descr="C:\Users\Design\Documents\Edu\Product Launch\shadown 2.png"/>
          <p:cNvPicPr/>
          <p:nvPr/>
        </p:nvPicPr>
        <p:blipFill>
          <a:blip r:embed="rId10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agen 5" descr="C:\Users\Design\Documents\Edu\Product Launch\icons\presentation.png"/>
          <p:cNvPicPr/>
          <p:nvPr/>
        </p:nvPicPr>
        <p:blipFill>
          <a:blip r:embed="rId11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6" descr="C:\Users\Design\Documents\Edu\Product Launch\icons\color_wheel.png"/>
          <p:cNvPicPr/>
          <p:nvPr/>
        </p:nvPicPr>
        <p:blipFill>
          <a:blip r:embed="rId12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n 8" descr="C:\Users\Design\Documents\Edu\Product Launch\icons\web.png"/>
          <p:cNvPicPr/>
          <p:nvPr/>
        </p:nvPicPr>
        <p:blipFill>
          <a:blip r:embed="rId13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5" descr="C:\Users\Design\Documents\Edu\Product Launch\shadown.png"/>
          <p:cNvPicPr/>
          <p:nvPr/>
        </p:nvPicPr>
        <p:blipFill>
          <a:blip r:embed="rId1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33" name="27 Imagen" descr=""/>
          <p:cNvPicPr/>
          <p:nvPr/>
        </p:nvPicPr>
        <p:blipFill>
          <a:blip r:embed="rId1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34" name="28 Imagen" descr=""/>
          <p:cNvPicPr/>
          <p:nvPr/>
        </p:nvPicPr>
        <p:blipFill>
          <a:blip r:embed="rId1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3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3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44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n 5" descr="C:\Users\Design\Documents\Edu\Product Launch\shadown.png"/>
          <p:cNvPicPr/>
          <p:nvPr/>
        </p:nvPicPr>
        <p:blipFill>
          <a:blip r:embed="rId1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39" name="Imagen 5" descr="C:\Users\Design\Documents\Edu\Product Launch\shadown.png"/>
          <p:cNvPicPr/>
          <p:nvPr/>
        </p:nvPicPr>
        <p:blipFill>
          <a:blip r:embed="rId18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4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27" descr="">
            <a:hlinkClick r:id="" action="ppaction://hlinkshowjump?jump=nextslide"/>
          </p:cNvPr>
          <p:cNvPicPr/>
          <p:nvPr/>
        </p:nvPicPr>
        <p:blipFill>
          <a:blip r:embed="rId19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28" descr="">
            <a:hlinkClick r:id="" action="ppaction://hlinkshowjump?jump=previousslide"/>
          </p:cNvPr>
          <p:cNvPicPr/>
          <p:nvPr/>
        </p:nvPicPr>
        <p:blipFill>
          <a:blip r:embed="rId20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44" name="51 Imagen" descr=""/>
          <p:cNvPicPr/>
          <p:nvPr/>
        </p:nvPicPr>
        <p:blipFill>
          <a:blip r:embed="rId21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49 Objeto" descr=""/>
          <p:cNvPicPr/>
          <p:nvPr/>
        </p:nvPicPr>
        <p:blipFill>
          <a:blip r:embed="rId2"/>
          <a:stretch/>
        </p:blipFill>
        <p:spPr>
          <a:xfrm>
            <a:off x="-209520" y="1795320"/>
            <a:ext cx="6777000" cy="4121280"/>
          </a:xfrm>
          <a:prstGeom prst="rect">
            <a:avLst/>
          </a:prstGeom>
          <a:ln w="0">
            <a:noFill/>
          </a:ln>
        </p:spPr>
      </p:pic>
      <p:sp>
        <p:nvSpPr>
          <p:cNvPr id="149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58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9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60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2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33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69" name="40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77760" y="1560600"/>
            <a:ext cx="61498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83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84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8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4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5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9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9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93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94" name="42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19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CONTAC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02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06" name="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09" name="49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4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15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16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5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6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21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27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28" descr="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225" name="46 Imagen" descr=""/>
          <p:cNvPicPr/>
          <p:nvPr/>
        </p:nvPicPr>
        <p:blipFill>
          <a:blip r:embed="rId12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THANK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4 Imagen" descr=""/>
          <p:cNvPicPr/>
          <p:nvPr/>
        </p:nvPicPr>
        <p:blipFill>
          <a:blip r:embed="rId2"/>
          <a:stretch/>
        </p:blipFill>
        <p:spPr>
          <a:xfrm>
            <a:off x="324000" y="5580000"/>
            <a:ext cx="2160360" cy="8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3:13Z</dcterms:modified>
  <cp:revision>3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