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E76-7BBF-4429-807C-745D0577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D66-EF0B-4ED1-9866-FBABC53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EC5-D869-4E1C-9650-41A943B6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210-0026-4EC5-A9C8-94779DF7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434-892C-475A-A041-E9E30F7E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07C-F616-4B2F-9609-9D8797E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BB7-924C-49F0-8177-EDF48EE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02CB-F399-48A5-9BBA-C07E629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76E-50D1-4620-B232-7127F6B7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386-E4D2-4646-B6B6-D578F32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074-ADED-46A6-B989-3A6402B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56A-8773-4C32-A951-2B4E4EB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F7A9-A7E3-498C-95ED-A78D2A5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7B2-631C-481A-B4DB-BD7464F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5861-DA2B-475A-A6CF-9CEE5349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E1C7-C3DF-42F6-BFC3-AD6D7F8F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FA2-485B-4C13-AF27-F393B022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8EA-7CC8-4C17-AD48-41CCB230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D69-80F5-4C9C-879E-0E0BEC9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C1D-432F-49A7-80EE-7C8FFDE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028-8348-471A-8068-E41569E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338-EDB3-42B3-AFBA-B8FCB22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06D-AD58-4DBE-8BAC-07EED78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7E7-880A-494B-A957-F46880D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A67-88B5-4307-93AF-3CC9973FBE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0680" y="46530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850E-0DF5-48F9-9CDC-28089E52E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7080" y="437184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400" y="464328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微软雅黑"/>
              </a:rPr>
              <a:t>北京锐得幻演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3">
            <a:hlinkClick r:id="rId1"/>
          </p:cNvPr>
          <p:cNvSpPr/>
          <p:nvPr/>
        </p:nvSpPr>
        <p:spPr>
          <a:xfrm>
            <a:off x="674892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52880" y="1228680"/>
            <a:ext cx="2595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0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54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e8364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58d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7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4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1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2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8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9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5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6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2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3" name="AutoShape 5"/>
            <p:cNvCxnSpPr>
              <a:stCxn id="154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5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6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4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2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6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0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4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5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图片 27" descr="无标题666.bmp"/>
          <p:cNvPicPr/>
          <p:nvPr/>
        </p:nvPicPr>
        <p:blipFill>
          <a:blip r:embed="rId2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9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2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图片 27" descr="无标题666.bmp"/>
          <p:cNvPicPr/>
          <p:nvPr/>
        </p:nvPicPr>
        <p:blipFill>
          <a:blip r:embed="rId3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7" descr="无标题666.bmp"/>
          <p:cNvPicPr/>
          <p:nvPr/>
        </p:nvPicPr>
        <p:blipFill>
          <a:blip r:embed="rId4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9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2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5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8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1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2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6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7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2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6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0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7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901800" y="45784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379520" y="52927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番茄花园</cp:lastModifiedBy>
  <dcterms:modified xsi:type="dcterms:W3CDTF">2011-08-20T03:34:44Z</dcterms:modified>
  <cp:revision>336</cp:revision>
  <dc:subject/>
  <dc:title>锐得PPT模板</dc:title>
</cp:coreProperties>
</file>