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11.jpeg" ContentType="image/jpe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3A21-7BBE-42BE-8B72-E1057D31370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5312-2436-490D-80AC-5EC84A7718D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2982-9F35-423C-9430-E2616B36894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F399-274A-4D98-B308-3F326878AD4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F25A-0EB3-4909-A9B1-D7D79500FEB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EC01-C5CD-4675-9480-5AB3DC5B213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05FA-AC87-44C5-8153-BA79D23A967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1D66-854B-48DE-96A1-89B8CDB0CC8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BE51-9711-4A79-AFB8-B397C91FD7C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CB58-6855-47C8-989B-A9F763DE80D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9E7B-1962-4184-BA3D-D029B98BA86C}"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2669-3945-4E3D-9E16-CF2F4B6B39E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75E3-2462-4DB1-BA96-8702AEEFB85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9A78-DD5D-4572-913B-B01CDC98AD8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A163-FE5C-405A-9D43-E44696BC2DC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F6FD-03C4-499D-BC7F-4AB6939C356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A498-B50B-4034-AC48-A6FC2CEE1D8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9710-3C2B-4C40-8F90-E958A18F6D9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DE41-D634-4EB3-AF73-5F14926040E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CCDC-1963-467F-8D11-6F5EDE756FD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3E70-91AA-4DBE-9D64-4BD2E1BCF3B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280C-548B-42EA-9E63-6361CC54A87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36FA-45F9-4D09-BDB7-FA6A76E8C78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4298-A6F0-4D0E-A852-D1091EF6E80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2AE2-BD3E-49C6-9B95-7A72C76FB76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25B4-DA35-4D87-8667-09E65473F7B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402-81DA-4ED3-9516-BAC7A70EA4E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3E91-B4FE-499A-A76B-7CBEE0627EE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4BB6-7433-4FB9-970A-F731AB87873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F268-8AA1-46BF-88F1-4E39617A285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C3D7-28FF-4024-A705-18F80B851D6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008E-D09C-4562-BF32-6F06D203F58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6A05-847F-4015-89DC-6423E6CD1B9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FB48-AC85-42E9-ACE5-68F3CBBC03A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2180-9AEE-4E09-BC6F-454156BD790C}"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7F6F-6D17-4F73-8A9A-B492B6A3B70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866B-62ED-45A3-BCBB-4F79274FBAD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7C52-05F9-41BC-830F-6B406B32D77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5AC6-78CF-4C05-B264-3EA6ADEF15E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8589-4389-41CC-8E3B-CC3277C7B22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10CC-199C-4A84-BA28-BC0C12FC1FE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BCCF-4ACB-48F8-BC0D-D57A1F9E828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8946-5158-4A64-B8C4-EB3BD07AA00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E9F8-CD91-4D85-8BC1-730BA45D1B0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80880" y="685800"/>
            <a:ext cx="6096240" cy="3429000"/>
          </a:xfrm>
          <a:prstGeom prst="rect">
            <a:avLst/>
          </a:prstGeom>
          <a:ln w="0">
            <a:noFill/>
          </a:ln>
        </p:spPr>
      </p:sp>
      <p:sp>
        <p:nvSpPr>
          <p:cNvPr id="8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69D4-7727-4970-AB9F-1D3F911762A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994A-2436-4BE4-B627-561001BEB6A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83B5-7065-42E7-AD71-21D11B14756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9274-0FB5-4C25-A188-92CF65F7EDA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80880" y="685800"/>
            <a:ext cx="6096240" cy="3429000"/>
          </a:xfrm>
          <a:prstGeom prst="rect">
            <a:avLst/>
          </a:prstGeom>
          <a:ln w="0">
            <a:noFill/>
          </a:ln>
        </p:spPr>
      </p:sp>
      <p:sp>
        <p:nvSpPr>
          <p:cNvPr id="8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E90D-310E-4159-A2FF-BAE91FBCEB1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A2A9-CEA9-47A6-831E-71B77C566D4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195E-6EE8-4815-BAC7-A981769C470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55A5-245A-4C48-90BF-EAB40211D45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80880" y="685800"/>
            <a:ext cx="6096240" cy="3429000"/>
          </a:xfrm>
          <a:prstGeom prst="rect">
            <a:avLst/>
          </a:prstGeom>
          <a:ln w="0">
            <a:noFill/>
          </a:ln>
        </p:spPr>
      </p:sp>
      <p:sp>
        <p:nvSpPr>
          <p:cNvPr id="8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01CB-1D5F-4B08-AB4E-D0F6512B4A2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CDA7-65BD-4A1C-A7C5-FE708FA7966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80880" y="685800"/>
            <a:ext cx="6096240" cy="3429000"/>
          </a:xfrm>
          <a:prstGeom prst="rect">
            <a:avLst/>
          </a:prstGeom>
          <a:ln w="0">
            <a:noFill/>
          </a:ln>
        </p:spPr>
      </p:sp>
      <p:sp>
        <p:nvSpPr>
          <p:cNvPr id="8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2B3A-0C25-4832-A9A4-A611AE95EE1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178E-F44C-4C25-85F6-5282A09821E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6FF1-1E02-4EDD-956D-8B3E8BA328D0}"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FBD9-1CBE-4F51-8C2E-00620987E9E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8CC4-A150-4991-BE6E-3508998387A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306F-D497-435A-BC30-F943FD1F8F1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90F4-9F0F-4452-9A6D-1FFE8946541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28CC-4081-48CA-80C0-BA1016B8CE1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8FD2-2036-48DF-AAF1-0474B1D8D2A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7F7A-AA75-4723-B4A2-DB9B080E3C4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EB28-31D7-434E-A921-D9E73B80AFF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5FE2-C8FD-4A89-84E6-D864FF2F584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1B10-40E1-4242-A9A2-89F737B80FE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2468-30FF-47AC-80A4-965D4BB00B4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21B1-35EA-4416-8274-8492727B972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AF62-21D0-4CDC-8675-8365117538D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3F11-0875-411A-A780-3ED1F800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83924-B1D9-45E4-80D9-DDB87EEF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76537-EE5D-4B27-9377-436E8D57E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0F3F9-F15D-492A-A3EA-582139E57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F3C8-05B2-4725-8C6F-3C1F57191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15495-C53C-43DB-B432-93390A4B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194C-C761-4D1E-8A51-99125189D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37FF-C643-4015-B61F-37264B79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4B4F7-5DEE-4ACA-8B7C-5FDDF60C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4E90-3DE5-4DBA-8526-6A505F1E9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1B91-513C-4645-A1F8-E5DC264B1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2C17B-06D1-49BB-B505-BFDFA9E44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970D-3FA0-41DC-A49D-6D5149BAC909}" type="datetime">
              <a:rPr b="0" lang="zh-CN" sz="1200" spc="-1" strike="noStrike">
                <a:solidFill>
                  <a:srgbClr val="898989"/>
                </a:solidFill>
                <a:latin typeface="Calibri"/>
                <a:ea typeface="微软雅黑"/>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E810-0505-41DA-BAA0-7CB60D8FFC53}"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7" name="图片 10" descr=""/>
          <p:cNvPicPr/>
          <p:nvPr/>
        </p:nvPicPr>
        <p:blipFill>
          <a:blip r:embed="rId1"/>
          <a:srcRect l="9549" t="0" r="1789" b="0"/>
          <a:stretch/>
        </p:blipFill>
        <p:spPr>
          <a:xfrm>
            <a:off x="5095800" y="2049480"/>
            <a:ext cx="1162080" cy="1163520"/>
          </a:xfrm>
          <a:prstGeom prst="rect">
            <a:avLst/>
          </a:prstGeom>
          <a:ln w="0">
            <a:noFill/>
          </a:ln>
        </p:spPr>
      </p:pic>
      <p:sp>
        <p:nvSpPr>
          <p:cNvPr id="258"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9" name="组合 32"/>
          <p:cNvGrpSpPr/>
          <p:nvPr/>
        </p:nvGrpSpPr>
        <p:grpSpPr>
          <a:xfrm>
            <a:off x="4608360" y="3156120"/>
            <a:ext cx="2227320" cy="423720"/>
            <a:chOff x="4608360" y="3156120"/>
            <a:chExt cx="2227320" cy="423720"/>
          </a:xfrm>
        </p:grpSpPr>
        <p:sp>
          <p:nvSpPr>
            <p:cNvPr id="270"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2"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3" name="图片 18" descr=""/>
          <p:cNvPicPr/>
          <p:nvPr/>
        </p:nvPicPr>
        <p:blipFill>
          <a:blip r:embed="rId3"/>
          <a:srcRect l="0" t="9787" r="0" b="36039"/>
          <a:stretch/>
        </p:blipFill>
        <p:spPr>
          <a:xfrm>
            <a:off x="4597560" y="3979800"/>
            <a:ext cx="2339640" cy="951120"/>
          </a:xfrm>
          <a:prstGeom prst="rect">
            <a:avLst/>
          </a:prstGeom>
          <a:ln w="0">
            <a:noFill/>
          </a:ln>
        </p:spPr>
      </p:pic>
      <p:pic>
        <p:nvPicPr>
          <p:cNvPr id="274" name="图片 19" descr=""/>
          <p:cNvPicPr/>
          <p:nvPr/>
        </p:nvPicPr>
        <p:blipFill>
          <a:blip r:embed="rId4"/>
          <a:srcRect l="4387" t="8940" r="3403" b="9864"/>
          <a:stretch/>
        </p:blipFill>
        <p:spPr>
          <a:xfrm>
            <a:off x="7969320" y="3979800"/>
            <a:ext cx="2360520" cy="949320"/>
          </a:xfrm>
          <a:prstGeom prst="rect">
            <a:avLst/>
          </a:prstGeom>
          <a:ln w="0">
            <a:noFill/>
          </a:ln>
        </p:spPr>
      </p:pic>
      <p:sp>
        <p:nvSpPr>
          <p:cNvPr id="275"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6"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7"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8"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9"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80"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81"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8"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0"/>
          <p:cNvGrpSpPr/>
          <p:nvPr/>
        </p:nvGrpSpPr>
        <p:grpSpPr>
          <a:xfrm>
            <a:off x="546120" y="4705200"/>
            <a:ext cx="10507680" cy="1846440"/>
            <a:chOff x="546120" y="4705200"/>
            <a:chExt cx="10507680" cy="1846440"/>
          </a:xfrm>
        </p:grpSpPr>
        <p:sp>
          <p:nvSpPr>
            <p:cNvPr id="284"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6"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4" name="组合 52"/>
          <p:cNvGrpSpPr/>
          <p:nvPr/>
        </p:nvGrpSpPr>
        <p:grpSpPr>
          <a:xfrm>
            <a:off x="833400" y="473040"/>
            <a:ext cx="9825120" cy="4267080"/>
            <a:chOff x="833400" y="473040"/>
            <a:chExt cx="9825120" cy="4267080"/>
          </a:xfrm>
        </p:grpSpPr>
        <p:grpSp>
          <p:nvGrpSpPr>
            <p:cNvPr id="295" name="组合 20"/>
            <p:cNvGrpSpPr/>
            <p:nvPr/>
          </p:nvGrpSpPr>
          <p:grpSpPr>
            <a:xfrm>
              <a:off x="833400" y="941760"/>
              <a:ext cx="2579400" cy="2085840"/>
              <a:chOff x="833400" y="941760"/>
              <a:chExt cx="2579400" cy="2085840"/>
            </a:xfrm>
          </p:grpSpPr>
          <p:sp>
            <p:nvSpPr>
              <p:cNvPr id="296"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图片 15" descr=""/>
              <p:cNvPicPr/>
              <p:nvPr/>
            </p:nvPicPr>
            <p:blipFill>
              <a:blip r:embed="rId1"/>
              <a:stretch/>
            </p:blipFill>
            <p:spPr>
              <a:xfrm>
                <a:off x="833400" y="942120"/>
                <a:ext cx="2579400" cy="2018160"/>
              </a:xfrm>
              <a:prstGeom prst="rect">
                <a:avLst/>
              </a:prstGeom>
              <a:ln w="0">
                <a:noFill/>
              </a:ln>
            </p:spPr>
          </p:pic>
        </p:grpSp>
        <p:sp>
          <p:nvSpPr>
            <p:cNvPr id="298"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30"/>
            <p:cNvGrpSpPr/>
            <p:nvPr/>
          </p:nvGrpSpPr>
          <p:grpSpPr>
            <a:xfrm>
              <a:off x="3148920" y="3277800"/>
              <a:ext cx="1495080" cy="1462320"/>
              <a:chOff x="3148920" y="3277800"/>
              <a:chExt cx="1495080" cy="1462320"/>
            </a:xfrm>
          </p:grpSpPr>
          <p:sp>
            <p:nvSpPr>
              <p:cNvPr id="300"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301"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2"/>
            <p:cNvGrpSpPr/>
            <p:nvPr/>
          </p:nvGrpSpPr>
          <p:grpSpPr>
            <a:xfrm>
              <a:off x="6758280" y="2699280"/>
              <a:ext cx="1495080" cy="1462320"/>
              <a:chOff x="6758280" y="2699280"/>
              <a:chExt cx="1495080" cy="1462320"/>
            </a:xfrm>
          </p:grpSpPr>
          <p:sp>
            <p:nvSpPr>
              <p:cNvPr id="303"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4"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3"/>
            <p:cNvGrpSpPr/>
            <p:nvPr/>
          </p:nvGrpSpPr>
          <p:grpSpPr>
            <a:xfrm>
              <a:off x="9163440" y="1352880"/>
              <a:ext cx="1495080" cy="1462320"/>
              <a:chOff x="9163440" y="1352880"/>
              <a:chExt cx="1495080" cy="1462320"/>
            </a:xfrm>
          </p:grpSpPr>
          <p:sp>
            <p:nvSpPr>
              <p:cNvPr id="306"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7"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组合 31"/>
            <p:cNvGrpSpPr/>
            <p:nvPr/>
          </p:nvGrpSpPr>
          <p:grpSpPr>
            <a:xfrm>
              <a:off x="5204880" y="473040"/>
              <a:ext cx="1495080" cy="1462320"/>
              <a:chOff x="5204880" y="473040"/>
              <a:chExt cx="1495080" cy="1462320"/>
            </a:xfrm>
          </p:grpSpPr>
          <p:sp>
            <p:nvSpPr>
              <p:cNvPr id="309"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10"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12"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pic>
        <p:nvPicPr>
          <p:cNvPr id="316" name="Picture 35"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8"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20"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pic>
        <p:nvPicPr>
          <p:cNvPr id="323"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6"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9"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32"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33"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4"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1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4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45"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组合 1"/>
          <p:cNvGrpSpPr/>
          <p:nvPr/>
        </p:nvGrpSpPr>
        <p:grpSpPr>
          <a:xfrm>
            <a:off x="290520" y="1271520"/>
            <a:ext cx="6473880" cy="5316480"/>
            <a:chOff x="290520" y="1271520"/>
            <a:chExt cx="6473880" cy="5316480"/>
          </a:xfrm>
        </p:grpSpPr>
        <p:sp>
          <p:nvSpPr>
            <p:cNvPr id="347"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9"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60"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61"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62"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63"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64"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3"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67"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pic>
        <p:nvPicPr>
          <p:cNvPr id="391"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93"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6" name="图片 1" descr=""/>
          <p:cNvPicPr/>
          <p:nvPr/>
        </p:nvPicPr>
        <p:blipFill>
          <a:blip r:embed="rId1"/>
          <a:stretch/>
        </p:blipFill>
        <p:spPr>
          <a:xfrm>
            <a:off x="0" y="2413080"/>
            <a:ext cx="3905280" cy="2838240"/>
          </a:xfrm>
          <a:prstGeom prst="rect">
            <a:avLst/>
          </a:prstGeom>
          <a:ln w="0">
            <a:noFill/>
          </a:ln>
        </p:spPr>
      </p:pic>
      <p:sp>
        <p:nvSpPr>
          <p:cNvPr id="39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98"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pic>
        <p:nvPicPr>
          <p:cNvPr id="399" name="Picture 9"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40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40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40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1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1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2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24"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26"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27"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28"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32"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3"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pic>
        <p:nvPicPr>
          <p:cNvPr id="434" name="Picture 1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37"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9" name="组合 24"/>
          <p:cNvGrpSpPr/>
          <p:nvPr/>
        </p:nvGrpSpPr>
        <p:grpSpPr>
          <a:xfrm>
            <a:off x="819000" y="1859040"/>
            <a:ext cx="4353120" cy="3527280"/>
            <a:chOff x="819000" y="1859040"/>
            <a:chExt cx="4353120" cy="3527280"/>
          </a:xfrm>
        </p:grpSpPr>
        <p:grpSp>
          <p:nvGrpSpPr>
            <p:cNvPr id="440" name="组合 2"/>
            <p:cNvGrpSpPr/>
            <p:nvPr/>
          </p:nvGrpSpPr>
          <p:grpSpPr>
            <a:xfrm>
              <a:off x="819000" y="1859040"/>
              <a:ext cx="4353120" cy="2272320"/>
              <a:chOff x="819000" y="1859040"/>
              <a:chExt cx="4353120" cy="2272320"/>
            </a:xfrm>
          </p:grpSpPr>
          <p:sp>
            <p:nvSpPr>
              <p:cNvPr id="441"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3"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4"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45"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7"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8"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49"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50"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51"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52"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5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61"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5" name="组合 31"/>
          <p:cNvGrpSpPr/>
          <p:nvPr/>
        </p:nvGrpSpPr>
        <p:grpSpPr>
          <a:xfrm>
            <a:off x="6162840" y="4871880"/>
            <a:ext cx="4568760" cy="1376640"/>
            <a:chOff x="6162840" y="4871880"/>
            <a:chExt cx="4568760" cy="1376640"/>
          </a:xfrm>
        </p:grpSpPr>
        <p:sp>
          <p:nvSpPr>
            <p:cNvPr id="466"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8"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69"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70"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71"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22"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7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79" name="组合 30"/>
          <p:cNvGrpSpPr/>
          <p:nvPr/>
        </p:nvGrpSpPr>
        <p:grpSpPr>
          <a:xfrm>
            <a:off x="2716200" y="2075040"/>
            <a:ext cx="6157800" cy="1438200"/>
            <a:chOff x="2716200" y="2075040"/>
            <a:chExt cx="6157800" cy="1438200"/>
          </a:xfrm>
        </p:grpSpPr>
        <p:grpSp>
          <p:nvGrpSpPr>
            <p:cNvPr id="480" name="组合 13"/>
            <p:cNvGrpSpPr/>
            <p:nvPr/>
          </p:nvGrpSpPr>
          <p:grpSpPr>
            <a:xfrm>
              <a:off x="3024720" y="2234880"/>
              <a:ext cx="5849280" cy="1278360"/>
              <a:chOff x="3024720" y="2234880"/>
              <a:chExt cx="5849280" cy="1278360"/>
            </a:xfrm>
          </p:grpSpPr>
          <p:sp>
            <p:nvSpPr>
              <p:cNvPr id="481"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82"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83"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84" name="组合 20"/>
            <p:cNvGrpSpPr/>
            <p:nvPr/>
          </p:nvGrpSpPr>
          <p:grpSpPr>
            <a:xfrm>
              <a:off x="2716200" y="2081160"/>
              <a:ext cx="636480" cy="636840"/>
              <a:chOff x="2716200" y="2081160"/>
              <a:chExt cx="636480" cy="636840"/>
            </a:xfrm>
          </p:grpSpPr>
          <p:sp>
            <p:nvSpPr>
              <p:cNvPr id="485"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组合 21"/>
            <p:cNvGrpSpPr/>
            <p:nvPr/>
          </p:nvGrpSpPr>
          <p:grpSpPr>
            <a:xfrm>
              <a:off x="4959000" y="2075040"/>
              <a:ext cx="636480" cy="636840"/>
              <a:chOff x="4959000" y="2075040"/>
              <a:chExt cx="636480" cy="636840"/>
            </a:xfrm>
          </p:grpSpPr>
          <p:sp>
            <p:nvSpPr>
              <p:cNvPr id="488"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90" name="组合 22"/>
            <p:cNvGrpSpPr/>
            <p:nvPr/>
          </p:nvGrpSpPr>
          <p:grpSpPr>
            <a:xfrm>
              <a:off x="7381800" y="2103840"/>
              <a:ext cx="636480" cy="636840"/>
              <a:chOff x="7381800" y="2103840"/>
              <a:chExt cx="636480" cy="636840"/>
            </a:xfrm>
          </p:grpSpPr>
          <p:sp>
            <p:nvSpPr>
              <p:cNvPr id="491"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93" name="图片 23" descr=""/>
          <p:cNvPicPr/>
          <p:nvPr/>
        </p:nvPicPr>
        <p:blipFill>
          <a:blip r:embed="rId1"/>
          <a:stretch/>
        </p:blipFill>
        <p:spPr>
          <a:xfrm>
            <a:off x="2239920" y="4309920"/>
            <a:ext cx="2895480" cy="1930680"/>
          </a:xfrm>
          <a:prstGeom prst="rect">
            <a:avLst/>
          </a:prstGeom>
          <a:ln w="0">
            <a:noFill/>
          </a:ln>
        </p:spPr>
      </p:pic>
      <p:sp>
        <p:nvSpPr>
          <p:cNvPr id="494"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95"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pic>
        <p:nvPicPr>
          <p:cNvPr id="498" name="Picture 27"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500"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50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504" name="组合 29"/>
          <p:cNvGrpSpPr/>
          <p:nvPr/>
        </p:nvGrpSpPr>
        <p:grpSpPr>
          <a:xfrm>
            <a:off x="423720" y="1474920"/>
            <a:ext cx="10744200" cy="4735440"/>
            <a:chOff x="423720" y="1474920"/>
            <a:chExt cx="10744200" cy="4735440"/>
          </a:xfrm>
        </p:grpSpPr>
        <p:sp>
          <p:nvSpPr>
            <p:cNvPr id="505"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19"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20"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21"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22"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23"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24"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25"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26"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27"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8"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9"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30"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31"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32"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33"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4"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5"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6" name="图片 48" descr=""/>
          <p:cNvPicPr/>
          <p:nvPr/>
        </p:nvPicPr>
        <p:blipFill>
          <a:blip r:embed="rId1"/>
          <a:srcRect l="4594" t="3490" r="0" b="3832"/>
          <a:stretch/>
        </p:blipFill>
        <p:spPr>
          <a:xfrm>
            <a:off x="433440" y="1679400"/>
            <a:ext cx="1347840" cy="1328760"/>
          </a:xfrm>
          <a:prstGeom prst="rect">
            <a:avLst/>
          </a:prstGeom>
          <a:ln w="0">
            <a:noFill/>
          </a:ln>
        </p:spPr>
      </p:pic>
      <p:pic>
        <p:nvPicPr>
          <p:cNvPr id="537" name="Picture 40"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9"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42" name="组合 15"/>
          <p:cNvGrpSpPr/>
          <p:nvPr/>
        </p:nvGrpSpPr>
        <p:grpSpPr>
          <a:xfrm>
            <a:off x="1257480" y="1817640"/>
            <a:ext cx="1861920" cy="4429080"/>
            <a:chOff x="1257480" y="1817640"/>
            <a:chExt cx="1861920" cy="4429080"/>
          </a:xfrm>
        </p:grpSpPr>
        <p:grpSp>
          <p:nvGrpSpPr>
            <p:cNvPr id="543" name="组合 11"/>
            <p:cNvGrpSpPr/>
            <p:nvPr/>
          </p:nvGrpSpPr>
          <p:grpSpPr>
            <a:xfrm>
              <a:off x="1257480" y="1817640"/>
              <a:ext cx="1861920" cy="4429080"/>
              <a:chOff x="1257480" y="1817640"/>
              <a:chExt cx="1861920" cy="4429080"/>
            </a:xfrm>
          </p:grpSpPr>
          <p:sp>
            <p:nvSpPr>
              <p:cNvPr id="544"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8"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9"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50"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pic>
        <p:nvPicPr>
          <p:cNvPr id="551"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5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5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pic>
        <p:nvPicPr>
          <p:cNvPr id="558"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63"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4"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5"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6"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7"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8"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9"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71"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72"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3"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5" name="组合 36"/>
          <p:cNvGrpSpPr/>
          <p:nvPr/>
        </p:nvGrpSpPr>
        <p:grpSpPr>
          <a:xfrm>
            <a:off x="3994200" y="480960"/>
            <a:ext cx="4172040" cy="3943440"/>
            <a:chOff x="3994200" y="480960"/>
            <a:chExt cx="4172040" cy="3943440"/>
          </a:xfrm>
        </p:grpSpPr>
        <p:sp>
          <p:nvSpPr>
            <p:cNvPr id="576"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83" name="Picture 26"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87"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8"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90" name="组合 22"/>
          <p:cNvGrpSpPr/>
          <p:nvPr/>
        </p:nvGrpSpPr>
        <p:grpSpPr>
          <a:xfrm>
            <a:off x="1747080" y="2327400"/>
            <a:ext cx="3920040" cy="4214520"/>
            <a:chOff x="1747080" y="2327400"/>
            <a:chExt cx="3920040" cy="4214520"/>
          </a:xfrm>
        </p:grpSpPr>
        <p:sp>
          <p:nvSpPr>
            <p:cNvPr id="591"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8"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9"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600"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601"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602"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pic>
        <p:nvPicPr>
          <p:cNvPr id="60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607" name="组合 79"/>
          <p:cNvGrpSpPr/>
          <p:nvPr/>
        </p:nvGrpSpPr>
        <p:grpSpPr>
          <a:xfrm>
            <a:off x="1209600" y="843120"/>
            <a:ext cx="10450440" cy="3844800"/>
            <a:chOff x="1209600" y="843120"/>
            <a:chExt cx="10450440" cy="3844800"/>
          </a:xfrm>
        </p:grpSpPr>
        <p:sp>
          <p:nvSpPr>
            <p:cNvPr id="60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609" name="组合 78"/>
            <p:cNvGrpSpPr/>
            <p:nvPr/>
          </p:nvGrpSpPr>
          <p:grpSpPr>
            <a:xfrm>
              <a:off x="1209600" y="843120"/>
              <a:ext cx="9966600" cy="3844800"/>
              <a:chOff x="1209600" y="843120"/>
              <a:chExt cx="9966600" cy="3844800"/>
            </a:xfrm>
          </p:grpSpPr>
          <p:pic>
            <p:nvPicPr>
              <p:cNvPr id="610" name="图表 39" descr=""/>
              <p:cNvPicPr/>
              <p:nvPr/>
            </p:nvPicPr>
            <p:blipFill>
              <a:blip r:embed="rId1"/>
              <a:stretch/>
            </p:blipFill>
            <p:spPr>
              <a:xfrm>
                <a:off x="3746160" y="1536480"/>
                <a:ext cx="4086000" cy="2566800"/>
              </a:xfrm>
              <a:prstGeom prst="rect">
                <a:avLst/>
              </a:prstGeom>
              <a:ln w="0">
                <a:noFill/>
              </a:ln>
            </p:spPr>
          </p:pic>
          <p:grpSp>
            <p:nvGrpSpPr>
              <p:cNvPr id="611" name="组合 53"/>
              <p:cNvGrpSpPr/>
              <p:nvPr/>
            </p:nvGrpSpPr>
            <p:grpSpPr>
              <a:xfrm>
                <a:off x="2786040" y="924840"/>
                <a:ext cx="5990400" cy="3763080"/>
                <a:chOff x="2786040" y="924840"/>
                <a:chExt cx="5990400" cy="3763080"/>
              </a:xfrm>
            </p:grpSpPr>
            <p:pic>
              <p:nvPicPr>
                <p:cNvPr id="612" name="图表 40" descr=""/>
                <p:cNvPicPr/>
                <p:nvPr/>
              </p:nvPicPr>
              <p:blipFill>
                <a:blip r:embed="rId2"/>
                <a:stretch/>
              </p:blipFill>
              <p:spPr>
                <a:xfrm>
                  <a:off x="2786040" y="924840"/>
                  <a:ext cx="5990400" cy="3763080"/>
                </a:xfrm>
                <a:prstGeom prst="rect">
                  <a:avLst/>
                </a:prstGeom>
                <a:ln w="0">
                  <a:noFill/>
                </a:ln>
              </p:spPr>
            </p:pic>
            <p:pic>
              <p:nvPicPr>
                <p:cNvPr id="613" name="图表 38" descr=""/>
                <p:cNvPicPr/>
                <p:nvPr/>
              </p:nvPicPr>
              <p:blipFill>
                <a:blip r:embed="rId3"/>
                <a:stretch/>
              </p:blipFill>
              <p:spPr>
                <a:xfrm>
                  <a:off x="4437000" y="1984680"/>
                  <a:ext cx="2676600" cy="1681560"/>
                </a:xfrm>
                <a:prstGeom prst="rect">
                  <a:avLst/>
                </a:prstGeom>
                <a:ln w="0">
                  <a:noFill/>
                </a:ln>
              </p:spPr>
            </p:pic>
          </p:grpSp>
          <p:sp>
            <p:nvSpPr>
              <p:cNvPr id="61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61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61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0" name="组合 82"/>
          <p:cNvGrpSpPr/>
          <p:nvPr/>
        </p:nvGrpSpPr>
        <p:grpSpPr>
          <a:xfrm>
            <a:off x="657360" y="4894200"/>
            <a:ext cx="11555280" cy="1478160"/>
            <a:chOff x="657360" y="4894200"/>
            <a:chExt cx="11555280" cy="1478160"/>
          </a:xfrm>
        </p:grpSpPr>
        <p:sp>
          <p:nvSpPr>
            <p:cNvPr id="62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pic>
        <p:nvPicPr>
          <p:cNvPr id="623" name="Picture 21" descr=""/>
          <p:cNvPicPr/>
          <p:nvPr/>
        </p:nvPicPr>
        <p:blipFill>
          <a:blip r:embed="rId4"/>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28" name="组合 2"/>
          <p:cNvGrpSpPr/>
          <p:nvPr/>
        </p:nvGrpSpPr>
        <p:grpSpPr>
          <a:xfrm>
            <a:off x="1981080" y="2548080"/>
            <a:ext cx="9126720" cy="3790800"/>
            <a:chOff x="1981080" y="2548080"/>
            <a:chExt cx="9126720" cy="3790800"/>
          </a:xfrm>
        </p:grpSpPr>
        <p:grpSp>
          <p:nvGrpSpPr>
            <p:cNvPr id="629" name="组合 7"/>
            <p:cNvGrpSpPr/>
            <p:nvPr/>
          </p:nvGrpSpPr>
          <p:grpSpPr>
            <a:xfrm>
              <a:off x="1981080" y="2950200"/>
              <a:ext cx="9126720" cy="3388680"/>
              <a:chOff x="1981080" y="2950200"/>
              <a:chExt cx="9126720" cy="3388680"/>
            </a:xfrm>
          </p:grpSpPr>
          <p:sp>
            <p:nvSpPr>
              <p:cNvPr id="630"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34"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35"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6" name="组合 1"/>
            <p:cNvGrpSpPr/>
            <p:nvPr/>
          </p:nvGrpSpPr>
          <p:grpSpPr>
            <a:xfrm>
              <a:off x="2083680" y="2548080"/>
              <a:ext cx="7088760" cy="1181880"/>
              <a:chOff x="2083680" y="2548080"/>
              <a:chExt cx="7088760" cy="1181880"/>
            </a:xfrm>
          </p:grpSpPr>
          <p:sp>
            <p:nvSpPr>
              <p:cNvPr id="637"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41"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42"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43"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pic>
        <p:nvPicPr>
          <p:cNvPr id="644" name="Picture 25"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4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4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pic>
        <p:nvPicPr>
          <p:cNvPr id="651"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53"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组合 67"/>
          <p:cNvGrpSpPr/>
          <p:nvPr/>
        </p:nvGrpSpPr>
        <p:grpSpPr>
          <a:xfrm>
            <a:off x="601560" y="2168640"/>
            <a:ext cx="10942920" cy="4230720"/>
            <a:chOff x="601560" y="2168640"/>
            <a:chExt cx="10942920" cy="4230720"/>
          </a:xfrm>
        </p:grpSpPr>
        <p:grpSp>
          <p:nvGrpSpPr>
            <p:cNvPr id="655" name="组合 8"/>
            <p:cNvGrpSpPr/>
            <p:nvPr/>
          </p:nvGrpSpPr>
          <p:grpSpPr>
            <a:xfrm>
              <a:off x="601560" y="2855520"/>
              <a:ext cx="2408760" cy="2395080"/>
              <a:chOff x="601560" y="2855520"/>
              <a:chExt cx="2408760" cy="2395080"/>
            </a:xfrm>
          </p:grpSpPr>
          <p:sp>
            <p:nvSpPr>
              <p:cNvPr id="656"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58" name="组合 9"/>
            <p:cNvGrpSpPr/>
            <p:nvPr/>
          </p:nvGrpSpPr>
          <p:grpSpPr>
            <a:xfrm>
              <a:off x="3442680" y="4004280"/>
              <a:ext cx="2412000" cy="2395080"/>
              <a:chOff x="3442680" y="4004280"/>
              <a:chExt cx="2412000" cy="2395080"/>
            </a:xfrm>
          </p:grpSpPr>
          <p:sp>
            <p:nvSpPr>
              <p:cNvPr id="659"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61" name="组合 12"/>
            <p:cNvGrpSpPr/>
            <p:nvPr/>
          </p:nvGrpSpPr>
          <p:grpSpPr>
            <a:xfrm>
              <a:off x="6287760" y="2855520"/>
              <a:ext cx="2412000" cy="2395080"/>
              <a:chOff x="6287760" y="2855520"/>
              <a:chExt cx="2412000" cy="2395080"/>
            </a:xfrm>
          </p:grpSpPr>
          <p:sp>
            <p:nvSpPr>
              <p:cNvPr id="662"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64" name="组合 15"/>
            <p:cNvGrpSpPr/>
            <p:nvPr/>
          </p:nvGrpSpPr>
          <p:grpSpPr>
            <a:xfrm>
              <a:off x="9132480" y="4004280"/>
              <a:ext cx="2412000" cy="2395080"/>
              <a:chOff x="9132480" y="4004280"/>
              <a:chExt cx="2412000" cy="2395080"/>
            </a:xfrm>
          </p:grpSpPr>
          <p:sp>
            <p:nvSpPr>
              <p:cNvPr id="665"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67"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78"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79"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0"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1"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pic>
        <p:nvPicPr>
          <p:cNvPr id="682" name="Picture 4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8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88"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89"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90"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91"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2"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3"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4"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5"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2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70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组合 39"/>
          <p:cNvGrpSpPr/>
          <p:nvPr/>
        </p:nvGrpSpPr>
        <p:grpSpPr>
          <a:xfrm>
            <a:off x="992160" y="2509920"/>
            <a:ext cx="3235320" cy="1982160"/>
            <a:chOff x="992160" y="2509920"/>
            <a:chExt cx="3235320" cy="1982160"/>
          </a:xfrm>
        </p:grpSpPr>
        <p:sp>
          <p:nvSpPr>
            <p:cNvPr id="706"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7"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08"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09"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3"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组合 69"/>
          <p:cNvGrpSpPr/>
          <p:nvPr/>
        </p:nvGrpSpPr>
        <p:grpSpPr>
          <a:xfrm>
            <a:off x="7086600" y="2295360"/>
            <a:ext cx="1628640" cy="3633840"/>
            <a:chOff x="7086600" y="2295360"/>
            <a:chExt cx="1628640" cy="3633840"/>
          </a:xfrm>
        </p:grpSpPr>
        <p:sp>
          <p:nvSpPr>
            <p:cNvPr id="715"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7"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7"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pic>
        <p:nvPicPr>
          <p:cNvPr id="730" name="Picture 4"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8257680" y="35020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0" name="Picture 4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9" name="组合 1"/>
          <p:cNvGrpSpPr/>
          <p:nvPr/>
        </p:nvGrpSpPr>
        <p:grpSpPr>
          <a:xfrm>
            <a:off x="1125360" y="2589120"/>
            <a:ext cx="9126720" cy="3498840"/>
            <a:chOff x="1125360" y="2589120"/>
            <a:chExt cx="9126720" cy="3498840"/>
          </a:xfrm>
        </p:grpSpPr>
        <p:grpSp>
          <p:nvGrpSpPr>
            <p:cNvPr id="220" name="组合 33"/>
            <p:cNvGrpSpPr/>
            <p:nvPr/>
          </p:nvGrpSpPr>
          <p:grpSpPr>
            <a:xfrm>
              <a:off x="1125360" y="2699640"/>
              <a:ext cx="9126720" cy="3388320"/>
              <a:chOff x="1125360" y="2699640"/>
              <a:chExt cx="9126720" cy="3388320"/>
            </a:xfrm>
          </p:grpSpPr>
          <p:sp>
            <p:nvSpPr>
              <p:cNvPr id="221"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8"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9"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30"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1"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2"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pic>
        <p:nvPicPr>
          <p:cNvPr id="233"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5" name="图表 54" descr=""/>
          <p:cNvPicPr/>
          <p:nvPr/>
        </p:nvPicPr>
        <p:blipFill>
          <a:blip r:embed="rId1"/>
          <a:stretch/>
        </p:blipFill>
        <p:spPr>
          <a:xfrm>
            <a:off x="3711600" y="2635200"/>
            <a:ext cx="4086360" cy="3245040"/>
          </a:xfrm>
          <a:prstGeom prst="rect">
            <a:avLst/>
          </a:prstGeom>
          <a:ln w="0">
            <a:noFill/>
          </a:ln>
        </p:spPr>
      </p:pic>
      <p:sp>
        <p:nvSpPr>
          <p:cNvPr id="246"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3"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4"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pic>
        <p:nvPicPr>
          <p:cNvPr id="255" name="Picture 23"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Yehuan Liu</cp:lastModifiedBy>
  <dcterms:modified xsi:type="dcterms:W3CDTF">2014-11-06T02:02:21Z</dcterms:modified>
  <cp:revision>2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