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3F2F-7431-41F8-9D4F-053966C0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849-1C64-41F6-ACF9-E1E173618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A72-A871-444F-A0E0-65669F84B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330-0958-4CEA-9D95-A2127814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8B8E-F6C5-4888-A6E4-D96F1DC7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9EED-6389-4713-A4DE-4978151B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9299-52C8-4D62-A9B4-FA7A99F1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7788-6A4D-488F-98BE-0B74531C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E477-E362-4E6D-B291-AAF0D76A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BEA0-98C9-4FDA-9B6B-B2E68C32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96A0-87F1-4406-AACD-E1CE7825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F42E-5465-46C8-8DFC-BF5F407E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F63A-E768-4489-9DCF-657643B0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15F5-3BD2-4F29-8AA1-16C77875E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040E-DF48-4DF5-973F-4D7F9D5C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C5E2-15A7-4E9A-B5D3-1C823E120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2457-B1CC-499A-A07E-17BF0EC0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A928-FBF3-401A-BF9C-7060CA6B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6C6-6860-4FA6-B137-CD460565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65C-C969-4252-85F2-20EF3095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8D56-67BF-4D42-9B2E-4CA1F236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73B-2499-48D3-B8CB-5E8B5A3A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107-4A9F-48D8-AC82-90B5BEEE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805-B4A1-425B-871C-B6F25E6E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41B3-F937-4BFD-B853-348B495696B3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3D32-D9EE-4D6B-84DB-7E4D38C3B9D5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5" marL="1828800">
              <a:spcBef>
                <a:spcPts val="34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6" marL="1828800">
              <a:spcBef>
                <a:spcPts val="34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9017" t="15973" r="9408" b="30123"/>
          <a:stretch/>
        </p:blipFill>
        <p:spPr>
          <a:xfrm>
            <a:off x="689040" y="1117440"/>
            <a:ext cx="7956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3"/>
          <p:cNvSpPr/>
          <p:nvPr/>
        </p:nvSpPr>
        <p:spPr>
          <a:xfrm>
            <a:off x="6822000" y="44359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本页可作为理念展示及书写地址联系方式等。</a:t>
            </a:r>
            <a:r>
              <a:rPr b="0" i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0" y="2349360"/>
            <a:ext cx="9144000" cy="178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17840" y="288288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锐得精品 　幻演天下　　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8632" t="15681" r="15170" b="16457"/>
          <a:stretch/>
        </p:blipFill>
        <p:spPr>
          <a:xfrm>
            <a:off x="3138480" y="1224000"/>
            <a:ext cx="28414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4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5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6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09" name="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badcf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4a1df"/>
                </a:gs>
                <a:gs pos="100000">
                  <a:srgbClr val="0066cc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bafef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4bafe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15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6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18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0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2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3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4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25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7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9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0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1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0066cc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2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34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36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7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38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66ff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9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0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1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43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4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5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d5cb0d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46" name="Picture 36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8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50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1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2" name="AutoShape 5"/>
            <p:cNvCxnSpPr>
              <a:stCxn id="153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4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</p:grpSp>
      <p:sp>
        <p:nvSpPr>
          <p:cNvPr id="155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3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59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0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1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2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3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4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5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d5cb0d"/>
            </a:solidFill>
            <a:ln w="12600">
              <a:solidFill>
                <a:srgbClr val="d5c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6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5cb0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7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8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79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0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1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3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4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5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8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0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4" name="AutoShape 17"/>
            <p:cNvSpPr/>
            <p:nvPr/>
          </p:nvSpPr>
          <p:spPr>
            <a:xfrm>
              <a:off x="1495440" y="2425680"/>
              <a:ext cx="1258920" cy="10796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99cc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5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196" name="图片 27" descr="无标题666.bmp"/>
          <p:cNvPicPr/>
          <p:nvPr/>
        </p:nvPicPr>
        <p:blipFill>
          <a:blip r:embed="rId2">
            <a:lum bright="48000"/>
          </a:blip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198" name="AutoShape 3"/>
            <p:cNvSpPr/>
            <p:nvPr/>
          </p:nvSpPr>
          <p:spPr>
            <a:xfrm>
              <a:off x="6348240" y="2425680"/>
              <a:ext cx="1258920" cy="107964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9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1" name="AutoShape 10"/>
            <p:cNvSpPr/>
            <p:nvPr/>
          </p:nvSpPr>
          <p:spPr>
            <a:xfrm>
              <a:off x="3890880" y="2425680"/>
              <a:ext cx="1260720" cy="107964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203" name="图片 27" descr="无标题666.bmp"/>
          <p:cNvPicPr/>
          <p:nvPr/>
        </p:nvPicPr>
        <p:blipFill>
          <a:blip r:embed="rId3">
            <a:lum bright="48000"/>
          </a:blip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27" descr="无标题666.bmp"/>
          <p:cNvPicPr/>
          <p:nvPr/>
        </p:nvPicPr>
        <p:blipFill>
          <a:blip r:embed="rId4">
            <a:lum bright="48000"/>
          </a:blip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cfcfc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07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08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1506240" y="263520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0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1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5068800" y="2635200"/>
              <a:ext cx="243360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3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4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150624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6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7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8" name="Text Box 15"/>
            <p:cNvSpPr/>
            <p:nvPr/>
          </p:nvSpPr>
          <p:spPr>
            <a:xfrm>
              <a:off x="507816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0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1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2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5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6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8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36" name=" 3" descr=""/>
          <p:cNvPicPr/>
          <p:nvPr/>
        </p:nvPicPr>
        <p:blipFill>
          <a:blip r:embed="rId2"/>
          <a:stretch/>
        </p:blipFill>
        <p:spPr>
          <a:xfrm>
            <a:off x="3773520" y="3828960"/>
            <a:ext cx="2309760" cy="2279880"/>
          </a:xfrm>
          <a:prstGeom prst="rect">
            <a:avLst/>
          </a:prstGeom>
          <a:ln w="0">
            <a:noFill/>
          </a:ln>
        </p:spPr>
      </p:pic>
      <p:pic>
        <p:nvPicPr>
          <p:cNvPr id="237" name=" 3" descr=""/>
          <p:cNvPicPr/>
          <p:nvPr/>
        </p:nvPicPr>
        <p:blipFill>
          <a:blip r:embed="rId3"/>
          <a:stretch/>
        </p:blipFill>
        <p:spPr>
          <a:xfrm>
            <a:off x="2779560" y="2541600"/>
            <a:ext cx="1901880" cy="1878120"/>
          </a:xfrm>
          <a:prstGeom prst="rect">
            <a:avLst/>
          </a:prstGeom>
          <a:ln w="0">
            <a:noFill/>
          </a:ln>
        </p:spPr>
      </p:pic>
      <p:pic>
        <p:nvPicPr>
          <p:cNvPr id="238" name=" 3" descr=""/>
          <p:cNvPicPr/>
          <p:nvPr/>
        </p:nvPicPr>
        <p:blipFill>
          <a:blip r:embed="rId4"/>
          <a:stretch/>
        </p:blipFill>
        <p:spPr>
          <a:xfrm>
            <a:off x="3968640" y="1468440"/>
            <a:ext cx="1650960" cy="1635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1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0099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2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5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6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49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99cc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50" name="Picture 37" descr="cir_lighteffect0"/>
            <p:cNvPicPr/>
            <p:nvPr/>
          </p:nvPicPr>
          <p:blipFill>
            <a:blip r:embed="rId7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AutoShape 3"/>
          <p:cNvSpPr/>
          <p:nvPr/>
        </p:nvSpPr>
        <p:spPr>
          <a:xfrm rot="18033600">
            <a:off x="1642680" y="1936440"/>
            <a:ext cx="5692680" cy="5629320"/>
          </a:xfrm>
          <a:prstGeom prst="pie">
            <a:avLst/>
          </a:pr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1663560" y="1916280"/>
            <a:ext cx="5631120" cy="5692680"/>
          </a:xfrm>
          <a:prstGeom prst="pie">
            <a:avLst/>
          </a:pr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 rot="3543600">
            <a:off x="1652760" y="1958400"/>
            <a:ext cx="5693040" cy="5630760"/>
          </a:xfrm>
          <a:prstGeom prst="pie">
            <a:avLst/>
          </a:pr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3441600" y="3675240"/>
            <a:ext cx="2075040" cy="2001600"/>
          </a:xfrm>
          <a:prstGeom prst="pie">
            <a:avLst/>
          </a:pr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 rot="18061200">
            <a:off x="3364560" y="3724920"/>
            <a:ext cx="2098800" cy="1979640"/>
          </a:xfrm>
          <a:prstGeom prst="pie">
            <a:avLst/>
          </a:pr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 rot="3532200">
            <a:off x="3516840" y="3744000"/>
            <a:ext cx="2095560" cy="1979640"/>
          </a:xfrm>
          <a:prstGeom prst="pie">
            <a:avLst/>
          </a:pr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6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67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3193920" y="2865600"/>
            <a:ext cx="2968920" cy="60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0" name="WordArt 5"/>
          <p:cNvSpPr txBox="1"/>
          <p:nvPr/>
        </p:nvSpPr>
        <p:spPr>
          <a:xfrm>
            <a:off x="3814920" y="3627360"/>
            <a:ext cx="183672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北京锐得幻演广告有限公司</dc:creator>
  <dc:description/>
  <dc:language>en-US</dc:language>
  <cp:lastModifiedBy>番茄花园</cp:lastModifiedBy>
  <dcterms:modified xsi:type="dcterms:W3CDTF">2011-08-20T04:20:39Z</dcterms:modified>
  <cp:revision>129</cp:revision>
  <dc:subject/>
  <dc:title>锐得PPT模板</dc:title>
</cp:coreProperties>
</file>