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8DCD-82B6-4BC3-B1D8-B1F07A0A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9DC-6E6D-4AC4-A312-0EEEA5DA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0AB-2C09-412E-9CC7-8D75C298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295-FF5D-4D7A-8C6C-7B102698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49DE-DDD2-455E-AC77-536CD692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6FFF-4D21-440A-88B3-0E0339F8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651C-A6A5-468C-95BA-98A31126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0D8E-E01D-4FF3-AFC2-BEE5A7C9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E343-931F-40FE-801B-06ACD91F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07DA-087A-48DD-AE09-A3F0E94B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26AC-7EA7-4C9B-A38F-A4FF535A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6187-6AC3-4684-BBEF-A3CB9683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7242-D754-47A6-B85D-0C081773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A23C-55FF-4BD8-963B-030A78A5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7766-5D2B-4369-B92D-8824BC5B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AA40-D491-4981-BCA0-792D40C7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1E4C-48BB-4412-BC99-2AF9BC07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E0CD-377C-4454-AB63-ACCDE924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CFBF-86D1-4E5A-8403-88CB79B4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845-FAC6-416E-B039-68402F28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A91-19D5-4835-967E-05E331C1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11E-CAAE-4E76-8ACD-D7B90346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927-AB8B-4334-876B-F320AAFF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D9F-40CC-4536-B1E8-439A34C8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518C-EFFB-4F72-862D-3BB17B85DD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5149-4C5C-4AE9-A022-2137463E0B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未标题-1副本"/>
          <p:cNvPicPr/>
          <p:nvPr/>
        </p:nvPicPr>
        <p:blipFill>
          <a:blip r:embed="rId1"/>
          <a:srcRect l="33481" t="0" r="27786" b="0"/>
          <a:stretch/>
        </p:blipFill>
        <p:spPr>
          <a:xfrm>
            <a:off x="2705040" y="736560"/>
            <a:ext cx="2924280" cy="53625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 rot="5400000">
            <a:off x="4830840" y="2703240"/>
            <a:ext cx="538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662880" y="612720"/>
            <a:ext cx="43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微软雅黑"/>
              </a:rPr>
              <a:t>广告有限公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7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11" name="Freeform 28"/>
            <p:cNvSpPr/>
            <p:nvPr/>
          </p:nvSpPr>
          <p:spPr>
            <a:xfrm>
              <a:off x="5652360" y="3098880"/>
              <a:ext cx="135288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5555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9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ff8465"/>
                </a:gs>
                <a:gs pos="100000">
                  <a:srgbClr val="ff33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0"/>
            <p:cNvSpPr/>
            <p:nvPr/>
          </p:nvSpPr>
          <p:spPr>
            <a:xfrm>
              <a:off x="5495760" y="4088520"/>
              <a:ext cx="1191240" cy="133596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c78e8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1"/>
            <p:cNvSpPr/>
            <p:nvPr/>
          </p:nvSpPr>
          <p:spPr>
            <a:xfrm>
              <a:off x="6886800" y="3274920"/>
              <a:ext cx="120744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dd5555"/>
                </a:gs>
                <a:gs pos="100000">
                  <a:srgbClr val="cc00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32"/>
          <p:cNvGrpSpPr/>
          <p:nvPr/>
        </p:nvGrpSpPr>
        <p:grpSpPr>
          <a:xfrm>
            <a:off x="2000160" y="1571760"/>
            <a:ext cx="660600" cy="656640"/>
            <a:chOff x="2000160" y="1571760"/>
            <a:chExt cx="660600" cy="656640"/>
          </a:xfrm>
        </p:grpSpPr>
        <p:grpSp>
          <p:nvGrpSpPr>
            <p:cNvPr id="118" name="Group 34"/>
            <p:cNvGrpSpPr/>
            <p:nvPr/>
          </p:nvGrpSpPr>
          <p:grpSpPr>
            <a:xfrm>
              <a:off x="2000160" y="1571760"/>
              <a:ext cx="660600" cy="656640"/>
              <a:chOff x="2000160" y="1571760"/>
              <a:chExt cx="660600" cy="656640"/>
            </a:xfrm>
          </p:grpSpPr>
          <p:sp>
            <p:nvSpPr>
              <p:cNvPr id="119" name="Oval 35"/>
              <p:cNvSpPr/>
              <p:nvPr/>
            </p:nvSpPr>
            <p:spPr>
              <a:xfrm>
                <a:off x="2000160" y="1574640"/>
                <a:ext cx="660600" cy="6537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36" descr="cir_lighteffect0"/>
              <p:cNvPicPr/>
              <p:nvPr/>
            </p:nvPicPr>
            <p:blipFill>
              <a:blip r:embed="rId1"/>
              <a:stretch/>
            </p:blipFill>
            <p:spPr>
              <a:xfrm>
                <a:off x="205596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34"/>
          <p:cNvGrpSpPr/>
          <p:nvPr/>
        </p:nvGrpSpPr>
        <p:grpSpPr>
          <a:xfrm>
            <a:off x="2000160" y="2419200"/>
            <a:ext cx="660600" cy="657360"/>
            <a:chOff x="2000160" y="2419200"/>
            <a:chExt cx="660600" cy="657360"/>
          </a:xfrm>
        </p:grpSpPr>
        <p:grpSp>
          <p:nvGrpSpPr>
            <p:cNvPr id="125" name="Group 34"/>
            <p:cNvGrpSpPr/>
            <p:nvPr/>
          </p:nvGrpSpPr>
          <p:grpSpPr>
            <a:xfrm>
              <a:off x="2000160" y="2419200"/>
              <a:ext cx="660600" cy="657360"/>
              <a:chOff x="2000160" y="2419200"/>
              <a:chExt cx="660600" cy="657360"/>
            </a:xfrm>
          </p:grpSpPr>
          <p:sp>
            <p:nvSpPr>
              <p:cNvPr id="126" name="Oval 35"/>
              <p:cNvSpPr/>
              <p:nvPr/>
            </p:nvSpPr>
            <p:spPr>
              <a:xfrm>
                <a:off x="2000160" y="2422440"/>
                <a:ext cx="660600" cy="654120"/>
              </a:xfrm>
              <a:prstGeom prst="ellipse">
                <a:avLst/>
              </a:prstGeom>
              <a:solidFill>
                <a:srgbClr val="cc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96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41"/>
          <p:cNvGrpSpPr/>
          <p:nvPr/>
        </p:nvGrpSpPr>
        <p:grpSpPr>
          <a:xfrm>
            <a:off x="2000160" y="3265560"/>
            <a:ext cx="660600" cy="656640"/>
            <a:chOff x="2000160" y="3265560"/>
            <a:chExt cx="660600" cy="656640"/>
          </a:xfrm>
        </p:grpSpPr>
        <p:grpSp>
          <p:nvGrpSpPr>
            <p:cNvPr id="132" name="Group 34"/>
            <p:cNvGrpSpPr/>
            <p:nvPr/>
          </p:nvGrpSpPr>
          <p:grpSpPr>
            <a:xfrm>
              <a:off x="2000160" y="3265560"/>
              <a:ext cx="660600" cy="656640"/>
              <a:chOff x="2000160" y="3265560"/>
              <a:chExt cx="660600" cy="656640"/>
            </a:xfrm>
          </p:grpSpPr>
          <p:sp>
            <p:nvSpPr>
              <p:cNvPr id="133" name="Oval 35"/>
              <p:cNvSpPr/>
              <p:nvPr/>
            </p:nvSpPr>
            <p:spPr>
              <a:xfrm>
                <a:off x="2000160" y="3268440"/>
                <a:ext cx="660600" cy="6537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96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5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48"/>
          <p:cNvGrpSpPr/>
          <p:nvPr/>
        </p:nvGrpSpPr>
        <p:grpSpPr>
          <a:xfrm>
            <a:off x="2000160" y="4113360"/>
            <a:ext cx="660600" cy="656640"/>
            <a:chOff x="2000160" y="4113360"/>
            <a:chExt cx="660600" cy="656640"/>
          </a:xfrm>
        </p:grpSpPr>
        <p:grpSp>
          <p:nvGrpSpPr>
            <p:cNvPr id="139" name="Group 34"/>
            <p:cNvGrpSpPr/>
            <p:nvPr/>
          </p:nvGrpSpPr>
          <p:grpSpPr>
            <a:xfrm>
              <a:off x="2000160" y="4113360"/>
              <a:ext cx="660600" cy="656640"/>
              <a:chOff x="2000160" y="4113360"/>
              <a:chExt cx="660600" cy="656640"/>
            </a:xfrm>
          </p:grpSpPr>
          <p:sp>
            <p:nvSpPr>
              <p:cNvPr id="140" name="Oval 35"/>
              <p:cNvSpPr/>
              <p:nvPr/>
            </p:nvSpPr>
            <p:spPr>
              <a:xfrm>
                <a:off x="2000160" y="4116240"/>
                <a:ext cx="660600" cy="653760"/>
              </a:xfrm>
              <a:prstGeom prst="ellipse">
                <a:avLst/>
              </a:prstGeom>
              <a:solidFill>
                <a:srgbClr val="80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1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96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2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55"/>
          <p:cNvGrpSpPr/>
          <p:nvPr/>
        </p:nvGrpSpPr>
        <p:grpSpPr>
          <a:xfrm>
            <a:off x="2000160" y="4960800"/>
            <a:ext cx="660600" cy="657360"/>
            <a:chOff x="2000160" y="4960800"/>
            <a:chExt cx="660600" cy="657360"/>
          </a:xfrm>
        </p:grpSpPr>
        <p:grpSp>
          <p:nvGrpSpPr>
            <p:cNvPr id="146" name="Group 34"/>
            <p:cNvGrpSpPr/>
            <p:nvPr/>
          </p:nvGrpSpPr>
          <p:grpSpPr>
            <a:xfrm>
              <a:off x="2000160" y="4960800"/>
              <a:ext cx="660600" cy="657360"/>
              <a:chOff x="2000160" y="4960800"/>
              <a:chExt cx="660600" cy="657360"/>
            </a:xfrm>
          </p:grpSpPr>
          <p:sp>
            <p:nvSpPr>
              <p:cNvPr id="147" name="Oval 35"/>
              <p:cNvSpPr/>
              <p:nvPr/>
            </p:nvSpPr>
            <p:spPr>
              <a:xfrm>
                <a:off x="2000160" y="4964040"/>
                <a:ext cx="660600" cy="654120"/>
              </a:xfrm>
              <a:prstGeom prst="ellipse">
                <a:avLst/>
              </a:prstGeom>
              <a:solidFill>
                <a:srgbClr val="ff9933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2119320" y="1877760"/>
            <a:ext cx="5045400" cy="1544400"/>
            <a:chOff x="2119320" y="1877760"/>
            <a:chExt cx="5045400" cy="1544400"/>
          </a:xfrm>
        </p:grpSpPr>
        <p:cxnSp>
          <p:nvCxnSpPr>
            <p:cNvPr id="153" name="AutoShape 4"/>
            <p:cNvCxnSpPr/>
            <p:nvPr/>
          </p:nvCxnSpPr>
          <p:spPr>
            <a:xfrm>
              <a:off x="4619160" y="288864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" name="AutoShape 5"/>
            <p:cNvCxnSpPr>
              <a:stCxn id="155" idx="0"/>
            </p:cNvCxnSpPr>
            <p:nvPr/>
          </p:nvCxnSpPr>
          <p:spPr>
            <a:xfrm flipH="1" flipV="1" rot="5400000">
              <a:off x="4640760" y="873360"/>
              <a:ext cx="2160" cy="504576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6" name="AutoShape 4"/>
            <p:cNvCxnSpPr/>
            <p:nvPr/>
          </p:nvCxnSpPr>
          <p:spPr>
            <a:xfrm>
              <a:off x="4619160" y="187776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57" name="Rectangle 7"/>
          <p:cNvSpPr/>
          <p:nvPr/>
        </p:nvSpPr>
        <p:spPr>
          <a:xfrm>
            <a:off x="720720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60436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9"/>
          <p:cNvGrpSpPr/>
          <p:nvPr/>
        </p:nvGrpSpPr>
        <p:grpSpPr>
          <a:xfrm>
            <a:off x="981000" y="3359160"/>
            <a:ext cx="2273400" cy="536040"/>
            <a:chOff x="981000" y="3359160"/>
            <a:chExt cx="2273400" cy="536040"/>
          </a:xfrm>
        </p:grpSpPr>
        <p:sp>
          <p:nvSpPr>
            <p:cNvPr id="155" name="AutoShape 10"/>
            <p:cNvSpPr/>
            <p:nvPr/>
          </p:nvSpPr>
          <p:spPr>
            <a:xfrm>
              <a:off x="9810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1"/>
            <p:cNvSpPr/>
            <p:nvPr/>
          </p:nvSpPr>
          <p:spPr>
            <a:xfrm>
              <a:off x="10162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18"/>
          <p:cNvSpPr/>
          <p:nvPr/>
        </p:nvSpPr>
        <p:spPr>
          <a:xfrm>
            <a:off x="10000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216360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0080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9000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2058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351792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468144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3417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8"/>
          <p:cNvSpPr/>
          <p:nvPr/>
        </p:nvSpPr>
        <p:spPr>
          <a:xfrm>
            <a:off x="457668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9"/>
          <p:cNvSpPr/>
          <p:nvPr/>
        </p:nvSpPr>
        <p:spPr>
          <a:xfrm>
            <a:off x="59436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71024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1"/>
          <p:cNvGrpSpPr/>
          <p:nvPr/>
        </p:nvGrpSpPr>
        <p:grpSpPr>
          <a:xfrm>
            <a:off x="3497400" y="2357280"/>
            <a:ext cx="2273040" cy="536400"/>
            <a:chOff x="3497400" y="2357280"/>
            <a:chExt cx="2273040" cy="536400"/>
          </a:xfrm>
        </p:grpSpPr>
        <p:sp>
          <p:nvSpPr>
            <p:cNvPr id="173" name="AutoShape 32"/>
            <p:cNvSpPr/>
            <p:nvPr/>
          </p:nvSpPr>
          <p:spPr>
            <a:xfrm>
              <a:off x="3497400" y="2357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33"/>
            <p:cNvSpPr/>
            <p:nvPr/>
          </p:nvSpPr>
          <p:spPr>
            <a:xfrm>
              <a:off x="3532680" y="2389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4"/>
          <p:cNvSpPr/>
          <p:nvPr/>
        </p:nvSpPr>
        <p:spPr>
          <a:xfrm>
            <a:off x="353376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5"/>
          <p:cNvGrpSpPr/>
          <p:nvPr/>
        </p:nvGrpSpPr>
        <p:grpSpPr>
          <a:xfrm>
            <a:off x="3497400" y="1484280"/>
            <a:ext cx="2273040" cy="536400"/>
            <a:chOff x="3497400" y="1484280"/>
            <a:chExt cx="2273040" cy="536400"/>
          </a:xfrm>
        </p:grpSpPr>
        <p:sp>
          <p:nvSpPr>
            <p:cNvPr id="177" name="AutoShape 36"/>
            <p:cNvSpPr/>
            <p:nvPr/>
          </p:nvSpPr>
          <p:spPr>
            <a:xfrm>
              <a:off x="3497400" y="1484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37"/>
            <p:cNvSpPr/>
            <p:nvPr/>
          </p:nvSpPr>
          <p:spPr>
            <a:xfrm>
              <a:off x="3532680" y="1516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8"/>
          <p:cNvSpPr/>
          <p:nvPr/>
        </p:nvSpPr>
        <p:spPr>
          <a:xfrm>
            <a:off x="3533760" y="15955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3516480" y="3359160"/>
            <a:ext cx="2273040" cy="536040"/>
            <a:chOff x="3516480" y="3359160"/>
            <a:chExt cx="2273040" cy="536040"/>
          </a:xfrm>
        </p:grpSpPr>
        <p:sp>
          <p:nvSpPr>
            <p:cNvPr id="181" name="AutoShape 10"/>
            <p:cNvSpPr/>
            <p:nvPr/>
          </p:nvSpPr>
          <p:spPr>
            <a:xfrm>
              <a:off x="3516480" y="33591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3551760" y="33915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21"/>
          <p:cNvSpPr/>
          <p:nvPr/>
        </p:nvSpPr>
        <p:spPr>
          <a:xfrm>
            <a:off x="3543480" y="3440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9"/>
          <p:cNvGrpSpPr/>
          <p:nvPr/>
        </p:nvGrpSpPr>
        <p:grpSpPr>
          <a:xfrm>
            <a:off x="6022800" y="3359160"/>
            <a:ext cx="2273400" cy="536040"/>
            <a:chOff x="6022800" y="3359160"/>
            <a:chExt cx="2273400" cy="536040"/>
          </a:xfrm>
        </p:grpSpPr>
        <p:sp>
          <p:nvSpPr>
            <p:cNvPr id="185" name="AutoShape 10"/>
            <p:cNvSpPr/>
            <p:nvPr/>
          </p:nvSpPr>
          <p:spPr>
            <a:xfrm>
              <a:off x="60228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60580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498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圆柱形 13"/>
          <p:cNvSpPr/>
          <p:nvPr/>
        </p:nvSpPr>
        <p:spPr>
          <a:xfrm>
            <a:off x="103824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0800000"/>
          </a:gradFill>
          <a:ln w="1908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1214280" y="3921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柱形 21"/>
          <p:cNvSpPr/>
          <p:nvPr/>
        </p:nvSpPr>
        <p:spPr>
          <a:xfrm>
            <a:off x="346716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0800000"/>
          </a:gradFill>
          <a:ln w="1908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64320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柱形 26"/>
          <p:cNvSpPr/>
          <p:nvPr/>
        </p:nvSpPr>
        <p:spPr>
          <a:xfrm>
            <a:off x="589608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0800000"/>
          </a:gradFill>
          <a:ln w="1908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607212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9"/>
          <p:cNvGrpSpPr/>
          <p:nvPr/>
        </p:nvGrpSpPr>
        <p:grpSpPr>
          <a:xfrm>
            <a:off x="1495440" y="2425680"/>
            <a:ext cx="1258920" cy="1079640"/>
            <a:chOff x="1495440" y="2425680"/>
            <a:chExt cx="1258920" cy="1079640"/>
          </a:xfrm>
        </p:grpSpPr>
        <p:sp>
          <p:nvSpPr>
            <p:cNvPr id="196" name="AutoShape 17"/>
            <p:cNvSpPr/>
            <p:nvPr/>
          </p:nvSpPr>
          <p:spPr>
            <a:xfrm>
              <a:off x="1495440" y="2425680"/>
              <a:ext cx="1258920" cy="1079640"/>
            </a:xfrm>
            <a:custGeom>
              <a:avLst/>
              <a:gdLst>
                <a:gd name="textAreaLeft" fmla="*/ 0 w 1258920"/>
                <a:gd name="textAreaRight" fmla="*/ 1259280 w 1258920"/>
                <a:gd name="textAreaTop" fmla="*/ 54000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8"/>
            <p:cNvSpPr/>
            <p:nvPr/>
          </p:nvSpPr>
          <p:spPr>
            <a:xfrm>
              <a:off x="14954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图片 27" descr="无标题666.bmp"/>
          <p:cNvPicPr/>
          <p:nvPr/>
        </p:nvPicPr>
        <p:blipFill>
          <a:blip r:embed="rId1"/>
          <a:srcRect l="0" t="44931" r="84512" b="21700"/>
          <a:stretch/>
        </p:blipFill>
        <p:spPr>
          <a:xfrm>
            <a:off x="1768320" y="1652760"/>
            <a:ext cx="642960" cy="152064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13"/>
          <p:cNvGrpSpPr/>
          <p:nvPr/>
        </p:nvGrpSpPr>
        <p:grpSpPr>
          <a:xfrm>
            <a:off x="6348240" y="2425680"/>
            <a:ext cx="1258920" cy="1079640"/>
            <a:chOff x="6348240" y="2425680"/>
            <a:chExt cx="1258920" cy="1079640"/>
          </a:xfrm>
        </p:grpSpPr>
        <p:sp>
          <p:nvSpPr>
            <p:cNvPr id="200" name="AutoShape 3"/>
            <p:cNvSpPr/>
            <p:nvPr/>
          </p:nvSpPr>
          <p:spPr>
            <a:xfrm>
              <a:off x="6348240" y="2425680"/>
              <a:ext cx="12589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"/>
            <p:cNvSpPr/>
            <p:nvPr/>
          </p:nvSpPr>
          <p:spPr>
            <a:xfrm>
              <a:off x="63482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6"/>
          <p:cNvGrpSpPr/>
          <p:nvPr/>
        </p:nvGrpSpPr>
        <p:grpSpPr>
          <a:xfrm>
            <a:off x="3890880" y="2425680"/>
            <a:ext cx="1260720" cy="1079640"/>
            <a:chOff x="3890880" y="2425680"/>
            <a:chExt cx="1260720" cy="1079640"/>
          </a:xfrm>
        </p:grpSpPr>
        <p:sp>
          <p:nvSpPr>
            <p:cNvPr id="203" name="AutoShape 10"/>
            <p:cNvSpPr/>
            <p:nvPr/>
          </p:nvSpPr>
          <p:spPr>
            <a:xfrm>
              <a:off x="3890880" y="2425680"/>
              <a:ext cx="12607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1"/>
            <p:cNvSpPr/>
            <p:nvPr/>
          </p:nvSpPr>
          <p:spPr>
            <a:xfrm>
              <a:off x="3890880" y="2860560"/>
              <a:ext cx="1260720" cy="228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图片 27" descr="无标题666.bmp"/>
          <p:cNvPicPr/>
          <p:nvPr/>
        </p:nvPicPr>
        <p:blipFill>
          <a:blip r:embed="rId2"/>
          <a:srcRect l="15494" t="44931" r="63059" b="21700"/>
          <a:stretch/>
        </p:blipFill>
        <p:spPr>
          <a:xfrm>
            <a:off x="4095720" y="1521000"/>
            <a:ext cx="890640" cy="15206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27" descr="无标题666.bmp"/>
          <p:cNvPicPr/>
          <p:nvPr/>
        </p:nvPicPr>
        <p:blipFill>
          <a:blip r:embed="rId3"/>
          <a:srcRect l="68428" t="44931" r="-1122" b="21700"/>
          <a:stretch/>
        </p:blipFill>
        <p:spPr>
          <a:xfrm>
            <a:off x="6381720" y="1616040"/>
            <a:ext cx="13572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圆角矩形 57"/>
          <p:cNvSpPr/>
          <p:nvPr/>
        </p:nvSpPr>
        <p:spPr>
          <a:xfrm>
            <a:off x="930240" y="2071800"/>
            <a:ext cx="6999480" cy="3143160"/>
          </a:xfrm>
          <a:prstGeom prst="roundRect">
            <a:avLst>
              <a:gd name="adj" fmla="val 9074"/>
            </a:avLst>
          </a:prstGeom>
          <a:noFill/>
          <a:ln w="19080">
            <a:solidFill>
              <a:srgbClr val="dcdcd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58"/>
          <p:cNvGrpSpPr/>
          <p:nvPr/>
        </p:nvGrpSpPr>
        <p:grpSpPr>
          <a:xfrm>
            <a:off x="1233360" y="2500200"/>
            <a:ext cx="2887920" cy="928800"/>
            <a:chOff x="1233360" y="2500200"/>
            <a:chExt cx="2887920" cy="928800"/>
          </a:xfrm>
        </p:grpSpPr>
        <p:sp>
          <p:nvSpPr>
            <p:cNvPr id="210" name="AutoShape 54"/>
            <p:cNvSpPr/>
            <p:nvPr/>
          </p:nvSpPr>
          <p:spPr>
            <a:xfrm>
              <a:off x="1233360" y="250020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5"/>
            <p:cNvSpPr/>
            <p:nvPr/>
          </p:nvSpPr>
          <p:spPr>
            <a:xfrm>
              <a:off x="1504080" y="263268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61"/>
          <p:cNvGrpSpPr/>
          <p:nvPr/>
        </p:nvGrpSpPr>
        <p:grpSpPr>
          <a:xfrm>
            <a:off x="4795920" y="2500200"/>
            <a:ext cx="2887560" cy="928800"/>
            <a:chOff x="4795920" y="2500200"/>
            <a:chExt cx="2887560" cy="928800"/>
          </a:xfrm>
        </p:grpSpPr>
        <p:sp>
          <p:nvSpPr>
            <p:cNvPr id="213" name="AutoShape 54"/>
            <p:cNvSpPr/>
            <p:nvPr/>
          </p:nvSpPr>
          <p:spPr>
            <a:xfrm>
              <a:off x="4795920" y="2500200"/>
              <a:ext cx="288756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5"/>
            <p:cNvSpPr/>
            <p:nvPr/>
          </p:nvSpPr>
          <p:spPr>
            <a:xfrm>
              <a:off x="5066640" y="2632680"/>
              <a:ext cx="243648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64"/>
          <p:cNvGrpSpPr/>
          <p:nvPr/>
        </p:nvGrpSpPr>
        <p:grpSpPr>
          <a:xfrm>
            <a:off x="1233360" y="3786120"/>
            <a:ext cx="2887920" cy="928800"/>
            <a:chOff x="1233360" y="3786120"/>
            <a:chExt cx="2887920" cy="928800"/>
          </a:xfrm>
        </p:grpSpPr>
        <p:sp>
          <p:nvSpPr>
            <p:cNvPr id="216" name="AutoShape 54"/>
            <p:cNvSpPr/>
            <p:nvPr/>
          </p:nvSpPr>
          <p:spPr>
            <a:xfrm>
              <a:off x="123336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5"/>
            <p:cNvSpPr/>
            <p:nvPr/>
          </p:nvSpPr>
          <p:spPr>
            <a:xfrm>
              <a:off x="1504080" y="391860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67"/>
          <p:cNvGrpSpPr/>
          <p:nvPr/>
        </p:nvGrpSpPr>
        <p:grpSpPr>
          <a:xfrm>
            <a:off x="4805280" y="3786120"/>
            <a:ext cx="2887920" cy="928800"/>
            <a:chOff x="4805280" y="3786120"/>
            <a:chExt cx="2887920" cy="928800"/>
          </a:xfrm>
        </p:grpSpPr>
        <p:sp>
          <p:nvSpPr>
            <p:cNvPr id="219" name="AutoShape 54"/>
            <p:cNvSpPr/>
            <p:nvPr/>
          </p:nvSpPr>
          <p:spPr>
            <a:xfrm>
              <a:off x="480528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5076000" y="391860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6"/>
          <p:cNvGrpSpPr/>
          <p:nvPr/>
        </p:nvGrpSpPr>
        <p:grpSpPr>
          <a:xfrm>
            <a:off x="3419640" y="1790640"/>
            <a:ext cx="1936440" cy="523800"/>
            <a:chOff x="3419640" y="1790640"/>
            <a:chExt cx="1936440" cy="523800"/>
          </a:xfrm>
        </p:grpSpPr>
        <p:grpSp>
          <p:nvGrpSpPr>
            <p:cNvPr id="222" name="Group 15"/>
            <p:cNvGrpSpPr/>
            <p:nvPr/>
          </p:nvGrpSpPr>
          <p:grpSpPr>
            <a:xfrm>
              <a:off x="3419640" y="1790640"/>
              <a:ext cx="1936440" cy="523800"/>
              <a:chOff x="3419640" y="1790640"/>
              <a:chExt cx="1936440" cy="523800"/>
            </a:xfrm>
          </p:grpSpPr>
          <p:sp>
            <p:nvSpPr>
              <p:cNvPr id="223" name="AutoShape 16"/>
              <p:cNvSpPr/>
              <p:nvPr/>
            </p:nvSpPr>
            <p:spPr>
              <a:xfrm>
                <a:off x="3419640" y="179064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17"/>
              <p:cNvSpPr/>
              <p:nvPr/>
            </p:nvSpPr>
            <p:spPr>
              <a:xfrm>
                <a:off x="3449520" y="182232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Rectangle 18"/>
            <p:cNvSpPr/>
            <p:nvPr/>
          </p:nvSpPr>
          <p:spPr>
            <a:xfrm>
              <a:off x="3458880" y="1841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1"/>
          <p:cNvGrpSpPr/>
          <p:nvPr/>
        </p:nvGrpSpPr>
        <p:grpSpPr>
          <a:xfrm>
            <a:off x="3419640" y="4921200"/>
            <a:ext cx="1936440" cy="523800"/>
            <a:chOff x="3419640" y="4921200"/>
            <a:chExt cx="1936440" cy="523800"/>
          </a:xfrm>
        </p:grpSpPr>
        <p:grpSp>
          <p:nvGrpSpPr>
            <p:cNvPr id="227" name="Group 15"/>
            <p:cNvGrpSpPr/>
            <p:nvPr/>
          </p:nvGrpSpPr>
          <p:grpSpPr>
            <a:xfrm>
              <a:off x="3419640" y="4921200"/>
              <a:ext cx="1936440" cy="523800"/>
              <a:chOff x="3419640" y="4921200"/>
              <a:chExt cx="1936440" cy="523800"/>
            </a:xfrm>
          </p:grpSpPr>
          <p:sp>
            <p:nvSpPr>
              <p:cNvPr id="228" name="AutoShape 16"/>
              <p:cNvSpPr/>
              <p:nvPr/>
            </p:nvSpPr>
            <p:spPr>
              <a:xfrm>
                <a:off x="3419640" y="492120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utoShape 17"/>
              <p:cNvSpPr/>
              <p:nvPr/>
            </p:nvSpPr>
            <p:spPr>
              <a:xfrm>
                <a:off x="3449520" y="495288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18"/>
            <p:cNvSpPr/>
            <p:nvPr/>
          </p:nvSpPr>
          <p:spPr>
            <a:xfrm>
              <a:off x="3458880" y="497196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519120" y="2863800"/>
            <a:ext cx="2995560" cy="1254240"/>
          </a:xfrm>
          <a:prstGeom prst="roundRect">
            <a:avLst>
              <a:gd name="adj" fmla="val 6343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600120" y="3032280"/>
            <a:ext cx="2328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5467320" y="4430880"/>
            <a:ext cx="3119400" cy="1198440"/>
          </a:xfrm>
          <a:prstGeom prst="roundRect">
            <a:avLst>
              <a:gd name="adj" fmla="val 4750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6054840" y="4618080"/>
            <a:ext cx="2446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2"/>
          <p:cNvSpPr/>
          <p:nvPr/>
        </p:nvSpPr>
        <p:spPr>
          <a:xfrm>
            <a:off x="5057640" y="1784520"/>
            <a:ext cx="3567240" cy="1096920"/>
          </a:xfrm>
          <a:prstGeom prst="roundRect">
            <a:avLst>
              <a:gd name="adj" fmla="val 6343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5673600" y="1889280"/>
            <a:ext cx="284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 3" descr=""/>
          <p:cNvPicPr/>
          <p:nvPr/>
        </p:nvPicPr>
        <p:blipFill>
          <a:blip r:embed="rId1"/>
          <a:stretch/>
        </p:blipFill>
        <p:spPr>
          <a:xfrm>
            <a:off x="3773520" y="3833640"/>
            <a:ext cx="2316240" cy="2281320"/>
          </a:xfrm>
          <a:prstGeom prst="rect">
            <a:avLst/>
          </a:prstGeom>
          <a:ln w="0">
            <a:noFill/>
          </a:ln>
        </p:spPr>
      </p:pic>
      <p:pic>
        <p:nvPicPr>
          <p:cNvPr id="239" name=" 3" descr=""/>
          <p:cNvPicPr/>
          <p:nvPr/>
        </p:nvPicPr>
        <p:blipFill>
          <a:blip r:embed="rId2"/>
          <a:stretch/>
        </p:blipFill>
        <p:spPr>
          <a:xfrm>
            <a:off x="2779560" y="2548080"/>
            <a:ext cx="1908360" cy="1877760"/>
          </a:xfrm>
          <a:prstGeom prst="rect">
            <a:avLst/>
          </a:prstGeom>
          <a:ln w="0">
            <a:noFill/>
          </a:ln>
        </p:spPr>
      </p:pic>
      <p:pic>
        <p:nvPicPr>
          <p:cNvPr id="240" name=" 3" descr=""/>
          <p:cNvPicPr/>
          <p:nvPr/>
        </p:nvPicPr>
        <p:blipFill>
          <a:blip r:embed="rId3"/>
          <a:stretch/>
        </p:blipFill>
        <p:spPr>
          <a:xfrm>
            <a:off x="3968640" y="1474920"/>
            <a:ext cx="1657440" cy="16333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533520" y="1143000"/>
            <a:ext cx="79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3133800" y="2854440"/>
            <a:ext cx="1182600" cy="1222200"/>
            <a:chOff x="3133800" y="2854440"/>
            <a:chExt cx="1182600" cy="1222200"/>
          </a:xfrm>
        </p:grpSpPr>
        <p:sp>
          <p:nvSpPr>
            <p:cNvPr id="243" name="Oval 173"/>
            <p:cNvSpPr/>
            <p:nvPr/>
          </p:nvSpPr>
          <p:spPr>
            <a:xfrm>
              <a:off x="3133800" y="2884320"/>
              <a:ext cx="1182600" cy="1192320"/>
            </a:xfrm>
            <a:prstGeom prst="ellipse">
              <a:avLst/>
            </a:prstGeom>
            <a:solidFill>
              <a:srgbClr val="cc0000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37" descr="cir_lighteffect0"/>
            <p:cNvPicPr/>
            <p:nvPr/>
          </p:nvPicPr>
          <p:blipFill>
            <a:blip r:embed="rId4"/>
            <a:stretch/>
          </p:blipFill>
          <p:spPr>
            <a:xfrm>
              <a:off x="3146400" y="2854440"/>
              <a:ext cx="1138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47"/>
            <p:cNvSpPr/>
            <p:nvPr/>
          </p:nvSpPr>
          <p:spPr>
            <a:xfrm>
              <a:off x="3294000" y="31370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"/>
          <p:cNvGrpSpPr/>
          <p:nvPr/>
        </p:nvGrpSpPr>
        <p:grpSpPr>
          <a:xfrm>
            <a:off x="4192560" y="4164120"/>
            <a:ext cx="1498680" cy="1557360"/>
            <a:chOff x="4192560" y="4164120"/>
            <a:chExt cx="1498680" cy="1557360"/>
          </a:xfrm>
        </p:grpSpPr>
        <p:sp>
          <p:nvSpPr>
            <p:cNvPr id="247" name="Oval 173"/>
            <p:cNvSpPr/>
            <p:nvPr/>
          </p:nvSpPr>
          <p:spPr>
            <a:xfrm>
              <a:off x="4192560" y="4211640"/>
              <a:ext cx="1498680" cy="150984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4241880" y="4164120"/>
              <a:ext cx="13968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47"/>
            <p:cNvSpPr/>
            <p:nvPr/>
          </p:nvSpPr>
          <p:spPr>
            <a:xfrm>
              <a:off x="4521240" y="4632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1"/>
          <p:cNvGrpSpPr/>
          <p:nvPr/>
        </p:nvGrpSpPr>
        <p:grpSpPr>
          <a:xfrm>
            <a:off x="4273560" y="1725480"/>
            <a:ext cx="1036800" cy="1076400"/>
            <a:chOff x="4273560" y="1725480"/>
            <a:chExt cx="1036800" cy="1076400"/>
          </a:xfrm>
        </p:grpSpPr>
        <p:sp>
          <p:nvSpPr>
            <p:cNvPr id="251" name="Oval 173"/>
            <p:cNvSpPr/>
            <p:nvPr/>
          </p:nvSpPr>
          <p:spPr>
            <a:xfrm>
              <a:off x="4273560" y="1755720"/>
              <a:ext cx="1036800" cy="104616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4300560" y="1725480"/>
              <a:ext cx="974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47"/>
            <p:cNvSpPr/>
            <p:nvPr/>
          </p:nvSpPr>
          <p:spPr>
            <a:xfrm>
              <a:off x="4359240" y="1866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 rot="18033600">
            <a:off x="1642680" y="1936440"/>
            <a:ext cx="5692680" cy="5629320"/>
          </a:xfrm>
          <a:custGeom>
            <a:avLst/>
            <a:gdLst>
              <a:gd name="textAreaLeft" fmla="*/ 987840 w 5692680"/>
              <a:gd name="textAreaRight" fmla="*/ 4704840 w 5692680"/>
              <a:gd name="textAreaTop" fmla="*/ 0 h 5629320"/>
              <a:gd name="textAreaBottom" fmla="*/ 2010960 h 5629320"/>
            </a:gdLst>
            <a:ahLst/>
            <a:rect l="textAreaLeft" t="textAreaTop" r="textAreaRight" b="textAreaBottom"/>
            <a:pathLst>
              <a:path w="21600" h="21600">
                <a:moveTo>
                  <a:pt x="8782" y="7264"/>
                </a:moveTo>
                <a:cubicBezTo>
                  <a:pt x="9396" y="6913"/>
                  <a:pt x="10092" y="6728"/>
                  <a:pt x="10800" y="6729"/>
                </a:cubicBezTo>
                <a:cubicBezTo>
                  <a:pt x="11507" y="6729"/>
                  <a:pt x="12203" y="6913"/>
                  <a:pt x="12817" y="7264"/>
                </a:cubicBezTo>
                <a:lnTo>
                  <a:pt x="16153" y="1420"/>
                </a:lnTo>
                <a:cubicBezTo>
                  <a:pt x="14522" y="489"/>
                  <a:pt x="12677" y="-1"/>
                  <a:pt x="10799" y="0"/>
                </a:cubicBezTo>
                <a:cubicBezTo>
                  <a:pt x="8922" y="0"/>
                  <a:pt x="7077" y="489"/>
                  <a:pt x="5446" y="1420"/>
                </a:cubicBezTo>
                <a:lnTo>
                  <a:pt x="8782" y="7264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1663560" y="1916280"/>
            <a:ext cx="5631120" cy="5692680"/>
          </a:xfrm>
          <a:custGeom>
            <a:avLst/>
            <a:gdLst>
              <a:gd name="textAreaLeft" fmla="*/ 1002240 w 5631120"/>
              <a:gd name="textAreaRight" fmla="*/ 4628880 w 5631120"/>
              <a:gd name="textAreaTop" fmla="*/ 0 h 5692680"/>
              <a:gd name="textAreaBottom" fmla="*/ 2021400 h 5692680"/>
            </a:gdLst>
            <a:ahLst/>
            <a:rect l="textAreaLeft" t="textAreaTop" r="textAreaRight" b="textAreaBottom"/>
            <a:pathLst>
              <a:path w="21600" h="21600">
                <a:moveTo>
                  <a:pt x="8810" y="7225"/>
                </a:moveTo>
                <a:cubicBezTo>
                  <a:pt x="9418" y="6886"/>
                  <a:pt x="10103" y="6708"/>
                  <a:pt x="10800" y="6709"/>
                </a:cubicBezTo>
                <a:cubicBezTo>
                  <a:pt x="11496" y="6709"/>
                  <a:pt x="12181" y="6886"/>
                  <a:pt x="12789" y="7225"/>
                </a:cubicBezTo>
                <a:lnTo>
                  <a:pt x="16052" y="1363"/>
                </a:lnTo>
                <a:cubicBezTo>
                  <a:pt x="14446" y="469"/>
                  <a:pt x="12638" y="-1"/>
                  <a:pt x="10799" y="0"/>
                </a:cubicBezTo>
                <a:cubicBezTo>
                  <a:pt x="8961" y="0"/>
                  <a:pt x="7153" y="469"/>
                  <a:pt x="5547" y="1363"/>
                </a:cubicBezTo>
                <a:lnTo>
                  <a:pt x="8810" y="7225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3543600">
            <a:off x="1652760" y="1958400"/>
            <a:ext cx="5693040" cy="5630760"/>
          </a:xfrm>
          <a:custGeom>
            <a:avLst/>
            <a:gdLst>
              <a:gd name="textAreaLeft" fmla="*/ 931680 w 5693040"/>
              <a:gd name="textAreaRight" fmla="*/ 4761360 w 5693040"/>
              <a:gd name="textAreaTop" fmla="*/ 0 h 5630760"/>
              <a:gd name="textAreaBottom" fmla="*/ 2023560 h 5630760"/>
            </a:gdLst>
            <a:ahLst/>
            <a:rect l="textAreaLeft" t="textAreaTop" r="textAreaRight" b="textAreaBottom"/>
            <a:pathLst>
              <a:path w="21600" h="21600">
                <a:moveTo>
                  <a:pt x="8680" y="7285"/>
                </a:moveTo>
                <a:cubicBezTo>
                  <a:pt x="9320" y="6899"/>
                  <a:pt x="10052" y="6695"/>
                  <a:pt x="10800" y="6696"/>
                </a:cubicBezTo>
                <a:cubicBezTo>
                  <a:pt x="11547" y="6696"/>
                  <a:pt x="12279" y="6899"/>
                  <a:pt x="12919" y="7285"/>
                </a:cubicBezTo>
                <a:lnTo>
                  <a:pt x="16377" y="1551"/>
                </a:lnTo>
                <a:cubicBezTo>
                  <a:pt x="14694" y="536"/>
                  <a:pt x="12765" y="-1"/>
                  <a:pt x="10799" y="0"/>
                </a:cubicBezTo>
                <a:cubicBezTo>
                  <a:pt x="8834" y="0"/>
                  <a:pt x="6905" y="536"/>
                  <a:pt x="5222" y="1551"/>
                </a:cubicBezTo>
                <a:lnTo>
                  <a:pt x="8680" y="7285"/>
                </a:lnTo>
                <a:close/>
              </a:path>
            </a:pathLst>
          </a:custGeom>
          <a:solidFill>
            <a:srgbClr val="ff9933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"/>
          <p:cNvSpPr/>
          <p:nvPr/>
        </p:nvSpPr>
        <p:spPr>
          <a:xfrm>
            <a:off x="3441600" y="3675240"/>
            <a:ext cx="2075040" cy="2001600"/>
          </a:xfrm>
          <a:custGeom>
            <a:avLst/>
            <a:gdLst>
              <a:gd name="textAreaLeft" fmla="*/ 352080 w 2075040"/>
              <a:gd name="textAreaRight" fmla="*/ 1722960 w 2075040"/>
              <a:gd name="textAreaTop" fmla="*/ 0 h 2001600"/>
              <a:gd name="textAreaBottom" fmla="*/ 330120 h 200160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 rot="18061200">
            <a:off x="3364560" y="3724920"/>
            <a:ext cx="2098800" cy="1979640"/>
          </a:xfrm>
          <a:custGeom>
            <a:avLst/>
            <a:gdLst>
              <a:gd name="textAreaLeft" fmla="*/ 356040 w 2098800"/>
              <a:gd name="textAreaRight" fmla="*/ 1742760 w 2098800"/>
              <a:gd name="textAreaTop" fmla="*/ 0 h 1979640"/>
              <a:gd name="textAreaBottom" fmla="*/ 326520 h 197964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"/>
          <p:cNvSpPr/>
          <p:nvPr/>
        </p:nvSpPr>
        <p:spPr>
          <a:xfrm rot="3532200">
            <a:off x="3516840" y="3744000"/>
            <a:ext cx="2095560" cy="1979640"/>
          </a:xfrm>
          <a:custGeom>
            <a:avLst/>
            <a:gdLst>
              <a:gd name="textAreaLeft" fmla="*/ 341640 w 2095560"/>
              <a:gd name="textAreaRight" fmla="*/ 1753920 w 2095560"/>
              <a:gd name="textAreaTop" fmla="*/ 0 h 1979640"/>
              <a:gd name="textAreaBottom" fmla="*/ 330480 h 1979640"/>
            </a:gdLst>
            <a:ahLst/>
            <a:rect l="textAreaLeft" t="textAreaTop" r="textAreaRight" b="textAreaBottom"/>
            <a:pathLst>
              <a:path w="21600" h="21600">
                <a:moveTo>
                  <a:pt x="5759" y="2470"/>
                </a:moveTo>
                <a:cubicBezTo>
                  <a:pt x="7279" y="1550"/>
                  <a:pt x="9022" y="1063"/>
                  <a:pt x="10800" y="1064"/>
                </a:cubicBezTo>
                <a:cubicBezTo>
                  <a:pt x="12577" y="1064"/>
                  <a:pt x="14320" y="1550"/>
                  <a:pt x="15840" y="2470"/>
                </a:cubicBezTo>
                <a:lnTo>
                  <a:pt x="16391" y="1560"/>
                </a:lnTo>
                <a:cubicBezTo>
                  <a:pt x="14705" y="539"/>
                  <a:pt x="12771" y="-1"/>
                  <a:pt x="10799" y="0"/>
                </a:cubicBezTo>
                <a:cubicBezTo>
                  <a:pt x="8828" y="0"/>
                  <a:pt x="6894" y="539"/>
                  <a:pt x="5208" y="1560"/>
                </a:cubicBezTo>
                <a:lnTo>
                  <a:pt x="5759" y="2470"/>
                </a:lnTo>
                <a:close/>
              </a:path>
            </a:pathLst>
          </a:custGeom>
          <a:solidFill>
            <a:srgbClr val="ff9933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4000680" y="4416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纲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50012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557208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1785960" y="364320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5"/>
          <p:cNvSpPr/>
          <p:nvPr/>
        </p:nvSpPr>
        <p:spPr>
          <a:xfrm>
            <a:off x="3500280" y="257184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5357880" y="357192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0"/>
          <p:cNvGrpSpPr/>
          <p:nvPr/>
        </p:nvGrpSpPr>
        <p:grpSpPr>
          <a:xfrm>
            <a:off x="3649680" y="3871800"/>
            <a:ext cx="1692000" cy="1730160"/>
            <a:chOff x="3649680" y="3871800"/>
            <a:chExt cx="1692000" cy="1730160"/>
          </a:xfrm>
        </p:grpSpPr>
        <p:sp>
          <p:nvSpPr>
            <p:cNvPr id="268" name="Oval 11"/>
            <p:cNvSpPr/>
            <p:nvPr/>
          </p:nvSpPr>
          <p:spPr>
            <a:xfrm>
              <a:off x="3649680" y="3929760"/>
              <a:ext cx="1692000" cy="167220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3793680" y="3871800"/>
              <a:ext cx="1395720" cy="13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Text Box 39"/>
          <p:cNvSpPr/>
          <p:nvPr/>
        </p:nvSpPr>
        <p:spPr>
          <a:xfrm>
            <a:off x="3932280" y="455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4"/>
          <p:cNvSpPr txBox="1"/>
          <p:nvPr/>
        </p:nvSpPr>
        <p:spPr>
          <a:xfrm>
            <a:off x="5364000" y="2708280"/>
            <a:ext cx="279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2" name="WordArt 5"/>
          <p:cNvSpPr txBox="1"/>
          <p:nvPr/>
        </p:nvSpPr>
        <p:spPr>
          <a:xfrm>
            <a:off x="5842080" y="342252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北京锐得幻演广告有限公司</dc:creator>
  <dc:description/>
  <dc:language>en-US</dc:language>
  <cp:lastModifiedBy>Administrator</cp:lastModifiedBy>
  <dcterms:modified xsi:type="dcterms:W3CDTF">2016-08-06T01:14:53Z</dcterms:modified>
  <cp:revision>336</cp:revision>
  <dc:subject/>
  <dc:title>锐得PPT模板</dc:title>
</cp:coreProperties>
</file>