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F1D-580D-4EB6-96D8-7472CCA3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9CE-7F0E-42D2-B752-5E226095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C8B-2F91-423F-834D-D92043E2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33A-8B48-4D74-900F-67C419D7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BDB5-186A-414A-874E-21BF6916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6D6E-82C4-4B76-AC39-020F073C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B70B-5B7D-4260-B29D-9A5D5063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A16C-EF35-4E06-A855-29EE6BFC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B87D-C832-4811-86BE-B839AB2A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225E-A7A6-432A-9409-972CCFD2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2A04-A7E3-46E3-89E5-816902EF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1A4-97AF-4BAC-8F72-ADA4195E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A45B-B218-4218-AFFE-58C679CD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724F-9A2F-4E96-BFCC-C51692BE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9CA9-AF24-42C6-8116-743330BE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C944-1644-4255-8883-039AC442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9DC1-AD46-4755-9865-51B69F9F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7A6-AC8C-4DE3-9FE7-D8DDEB44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E06-364E-4B85-8F60-B16CC895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5E9-923F-4C98-BB10-F7390472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93B-4CAF-4CAD-AAFB-004D816B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8CA-68C3-4553-AA33-89CCC24A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B86-2B89-4033-AC2D-9D1B045D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90E-9B86-4D32-BC85-E9F2AF3B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B9D1-BFD6-4226-8829-A0A561DC3B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B9A0-90F6-4437-B771-2B175E3CDC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未标题-1副本"/>
          <p:cNvPicPr/>
          <p:nvPr/>
        </p:nvPicPr>
        <p:blipFill>
          <a:blip r:embed="rId1"/>
          <a:srcRect l="33481" t="0" r="27786" b="0"/>
          <a:stretch/>
        </p:blipFill>
        <p:spPr>
          <a:xfrm>
            <a:off x="2705040" y="736560"/>
            <a:ext cx="2924280" cy="5362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 rot="5400000">
            <a:off x="4830840" y="2703240"/>
            <a:ext cx="538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662880" y="612720"/>
            <a:ext cx="43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微软雅黑"/>
              </a:rPr>
              <a:t>广告有限公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7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11" name="Freeform 28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5555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9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ff8465"/>
                </a:gs>
                <a:gs pos="100000">
                  <a:srgbClr val="ff33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0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c78e8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8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36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5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6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2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3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5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9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40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80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2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6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7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ff9933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3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" name="AutoShape 5"/>
            <p:cNvCxnSpPr>
              <a:stCxn id="155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6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57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5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3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7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81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5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6" name="AutoShape 17"/>
            <p:cNvSpPr/>
            <p:nvPr/>
          </p:nvSpPr>
          <p:spPr>
            <a:xfrm>
              <a:off x="1495440" y="2425680"/>
              <a:ext cx="1258920" cy="1079640"/>
            </a:xfrm>
            <a:custGeom>
              <a:avLst/>
              <a:gdLst>
                <a:gd name="textAreaLeft" fmla="*/ 0 w 1258920"/>
                <a:gd name="textAreaRight" fmla="*/ 1259280 w 1258920"/>
                <a:gd name="textAreaTop" fmla="*/ 54000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图片 27" descr="无标题666.bmp"/>
          <p:cNvPicPr/>
          <p:nvPr/>
        </p:nvPicPr>
        <p:blipFill>
          <a:blip r:embed="rId1"/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13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200" name="AutoShape 3"/>
            <p:cNvSpPr/>
            <p:nvPr/>
          </p:nvSpPr>
          <p:spPr>
            <a:xfrm>
              <a:off x="6348240" y="2425680"/>
              <a:ext cx="12589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3" name="AutoShape 10"/>
            <p:cNvSpPr/>
            <p:nvPr/>
          </p:nvSpPr>
          <p:spPr>
            <a:xfrm>
              <a:off x="3890880" y="2425680"/>
              <a:ext cx="12607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图片 27" descr="无标题666.bmp"/>
          <p:cNvPicPr/>
          <p:nvPr/>
        </p:nvPicPr>
        <p:blipFill>
          <a:blip r:embed="rId2"/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27" descr="无标题666.bmp"/>
          <p:cNvPicPr/>
          <p:nvPr/>
        </p:nvPicPr>
        <p:blipFill>
          <a:blip r:embed="rId3"/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dcdcd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10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1504080" y="263268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3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5066640" y="2632680"/>
              <a:ext cx="243648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6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5"/>
            <p:cNvSpPr/>
            <p:nvPr/>
          </p:nvSpPr>
          <p:spPr>
            <a:xfrm>
              <a:off x="150408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9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507600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6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2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3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1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7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8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 3" descr=""/>
          <p:cNvPicPr/>
          <p:nvPr/>
        </p:nvPicPr>
        <p:blipFill>
          <a:blip r:embed="rId1"/>
          <a:stretch/>
        </p:blipFill>
        <p:spPr>
          <a:xfrm>
            <a:off x="3773520" y="3833640"/>
            <a:ext cx="2316240" cy="2281320"/>
          </a:xfrm>
          <a:prstGeom prst="rect">
            <a:avLst/>
          </a:prstGeom>
          <a:ln w="0">
            <a:noFill/>
          </a:ln>
        </p:spPr>
      </p:pic>
      <p:pic>
        <p:nvPicPr>
          <p:cNvPr id="239" name=" 3" descr=""/>
          <p:cNvPicPr/>
          <p:nvPr/>
        </p:nvPicPr>
        <p:blipFill>
          <a:blip r:embed="rId2"/>
          <a:stretch/>
        </p:blipFill>
        <p:spPr>
          <a:xfrm>
            <a:off x="2779560" y="2548080"/>
            <a:ext cx="1908360" cy="1877760"/>
          </a:xfrm>
          <a:prstGeom prst="rect">
            <a:avLst/>
          </a:prstGeom>
          <a:ln w="0">
            <a:noFill/>
          </a:ln>
        </p:spPr>
      </p:pic>
      <p:pic>
        <p:nvPicPr>
          <p:cNvPr id="240" name=" 3" descr=""/>
          <p:cNvPicPr/>
          <p:nvPr/>
        </p:nvPicPr>
        <p:blipFill>
          <a:blip r:embed="rId3"/>
          <a:stretch/>
        </p:blipFill>
        <p:spPr>
          <a:xfrm>
            <a:off x="3968640" y="1474920"/>
            <a:ext cx="1657440" cy="16333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3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cc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37" descr="cir_lighteffect0"/>
            <p:cNvPicPr/>
            <p:nvPr/>
          </p:nvPicPr>
          <p:blipFill>
            <a:blip r:embed="rId4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7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1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51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 rot="18033600">
            <a:off x="1642680" y="1936440"/>
            <a:ext cx="5692680" cy="5629320"/>
          </a:xfrm>
          <a:custGeom>
            <a:avLst/>
            <a:gdLst>
              <a:gd name="textAreaLeft" fmla="*/ 987840 w 5692680"/>
              <a:gd name="textAreaRight" fmla="*/ 4704840 w 5692680"/>
              <a:gd name="textAreaTop" fmla="*/ 0 h 5629320"/>
              <a:gd name="textAreaBottom" fmla="*/ 2010960 h 5629320"/>
            </a:gdLst>
            <a:ahLst/>
            <a:rect l="textAreaLeft" t="textAreaTop" r="textAreaRight" b="textAreaBottom"/>
            <a:pathLst>
              <a:path w="21600" h="21600">
                <a:moveTo>
                  <a:pt x="8782" y="7264"/>
                </a:moveTo>
                <a:cubicBezTo>
                  <a:pt x="9396" y="6913"/>
                  <a:pt x="10092" y="6728"/>
                  <a:pt x="10800" y="6729"/>
                </a:cubicBezTo>
                <a:cubicBezTo>
                  <a:pt x="11507" y="6729"/>
                  <a:pt x="12203" y="6913"/>
                  <a:pt x="12817" y="7264"/>
                </a:cubicBezTo>
                <a:lnTo>
                  <a:pt x="16153" y="1420"/>
                </a:lnTo>
                <a:cubicBezTo>
                  <a:pt x="14522" y="489"/>
                  <a:pt x="12677" y="-1"/>
                  <a:pt x="10799" y="0"/>
                </a:cubicBezTo>
                <a:cubicBezTo>
                  <a:pt x="8922" y="0"/>
                  <a:pt x="7077" y="489"/>
                  <a:pt x="5446" y="1420"/>
                </a:cubicBezTo>
                <a:lnTo>
                  <a:pt x="8782" y="7264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1663560" y="1916280"/>
            <a:ext cx="5631120" cy="5692680"/>
          </a:xfrm>
          <a:custGeom>
            <a:avLst/>
            <a:gdLst>
              <a:gd name="textAreaLeft" fmla="*/ 1002240 w 5631120"/>
              <a:gd name="textAreaRight" fmla="*/ 4628880 w 5631120"/>
              <a:gd name="textAreaTop" fmla="*/ 0 h 5692680"/>
              <a:gd name="textAreaBottom" fmla="*/ 2021400 h 5692680"/>
            </a:gdLst>
            <a:ahLst/>
            <a:rect l="textAreaLeft" t="textAreaTop" r="textAreaRight" b="textAreaBottom"/>
            <a:pathLst>
              <a:path w="21600" h="21600">
                <a:moveTo>
                  <a:pt x="8810" y="7225"/>
                </a:moveTo>
                <a:cubicBezTo>
                  <a:pt x="9418" y="6886"/>
                  <a:pt x="10103" y="6708"/>
                  <a:pt x="10800" y="6709"/>
                </a:cubicBezTo>
                <a:cubicBezTo>
                  <a:pt x="11496" y="6709"/>
                  <a:pt x="12181" y="6886"/>
                  <a:pt x="12789" y="7225"/>
                </a:cubicBezTo>
                <a:lnTo>
                  <a:pt x="16052" y="1363"/>
                </a:lnTo>
                <a:cubicBezTo>
                  <a:pt x="14446" y="469"/>
                  <a:pt x="12638" y="-1"/>
                  <a:pt x="10799" y="0"/>
                </a:cubicBezTo>
                <a:cubicBezTo>
                  <a:pt x="8961" y="0"/>
                  <a:pt x="7153" y="469"/>
                  <a:pt x="5547" y="1363"/>
                </a:cubicBezTo>
                <a:lnTo>
                  <a:pt x="8810" y="7225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3543600">
            <a:off x="1652760" y="1958400"/>
            <a:ext cx="5693040" cy="5630760"/>
          </a:xfrm>
          <a:custGeom>
            <a:avLst/>
            <a:gdLst>
              <a:gd name="textAreaLeft" fmla="*/ 931680 w 5693040"/>
              <a:gd name="textAreaRight" fmla="*/ 4761360 w 5693040"/>
              <a:gd name="textAreaTop" fmla="*/ 0 h 5630760"/>
              <a:gd name="textAreaBottom" fmla="*/ 2023560 h 5630760"/>
            </a:gdLst>
            <a:ahLst/>
            <a:rect l="textAreaLeft" t="textAreaTop" r="textAreaRight" b="textAreaBottom"/>
            <a:pathLst>
              <a:path w="21600" h="21600">
                <a:moveTo>
                  <a:pt x="8680" y="7285"/>
                </a:moveTo>
                <a:cubicBezTo>
                  <a:pt x="9320" y="6899"/>
                  <a:pt x="10052" y="6695"/>
                  <a:pt x="10800" y="6696"/>
                </a:cubicBezTo>
                <a:cubicBezTo>
                  <a:pt x="11547" y="6696"/>
                  <a:pt x="12279" y="6899"/>
                  <a:pt x="12919" y="7285"/>
                </a:cubicBezTo>
                <a:lnTo>
                  <a:pt x="16377" y="1551"/>
                </a:lnTo>
                <a:cubicBezTo>
                  <a:pt x="14694" y="536"/>
                  <a:pt x="12765" y="-1"/>
                  <a:pt x="10799" y="0"/>
                </a:cubicBezTo>
                <a:cubicBezTo>
                  <a:pt x="8834" y="0"/>
                  <a:pt x="6905" y="536"/>
                  <a:pt x="5222" y="1551"/>
                </a:cubicBezTo>
                <a:lnTo>
                  <a:pt x="8680" y="7285"/>
                </a:lnTo>
                <a:close/>
              </a:path>
            </a:pathLst>
          </a:cu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3441600" y="3675240"/>
            <a:ext cx="2075040" cy="2001600"/>
          </a:xfrm>
          <a:custGeom>
            <a:avLst/>
            <a:gdLst>
              <a:gd name="textAreaLeft" fmla="*/ 352080 w 2075040"/>
              <a:gd name="textAreaRight" fmla="*/ 1722960 w 2075040"/>
              <a:gd name="textAreaTop" fmla="*/ 0 h 2001600"/>
              <a:gd name="textAreaBottom" fmla="*/ 330120 h 200160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 rot="18061200">
            <a:off x="3364560" y="3724920"/>
            <a:ext cx="2098800" cy="1979640"/>
          </a:xfrm>
          <a:custGeom>
            <a:avLst/>
            <a:gdLst>
              <a:gd name="textAreaLeft" fmla="*/ 356040 w 2098800"/>
              <a:gd name="textAreaRight" fmla="*/ 1742760 w 2098800"/>
              <a:gd name="textAreaTop" fmla="*/ 0 h 1979640"/>
              <a:gd name="textAreaBottom" fmla="*/ 326520 h 197964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 rot="3532200">
            <a:off x="3516840" y="3744000"/>
            <a:ext cx="2095560" cy="1979640"/>
          </a:xfrm>
          <a:custGeom>
            <a:avLst/>
            <a:gdLst>
              <a:gd name="textAreaLeft" fmla="*/ 341640 w 2095560"/>
              <a:gd name="textAreaRight" fmla="*/ 1753920 w 2095560"/>
              <a:gd name="textAreaTop" fmla="*/ 0 h 1979640"/>
              <a:gd name="textAreaBottom" fmla="*/ 330480 h 1979640"/>
            </a:gdLst>
            <a:ahLst/>
            <a:rect l="textAreaLeft" t="textAreaTop" r="textAreaRight" b="textAreaBottom"/>
            <a:pathLst>
              <a:path w="21600" h="21600">
                <a:moveTo>
                  <a:pt x="5759" y="2470"/>
                </a:moveTo>
                <a:cubicBezTo>
                  <a:pt x="7279" y="1550"/>
                  <a:pt x="9022" y="1063"/>
                  <a:pt x="10800" y="1064"/>
                </a:cubicBezTo>
                <a:cubicBezTo>
                  <a:pt x="12577" y="1064"/>
                  <a:pt x="14320" y="1550"/>
                  <a:pt x="15840" y="2470"/>
                </a:cubicBezTo>
                <a:lnTo>
                  <a:pt x="16391" y="1560"/>
                </a:lnTo>
                <a:cubicBezTo>
                  <a:pt x="14705" y="539"/>
                  <a:pt x="12771" y="-1"/>
                  <a:pt x="10799" y="0"/>
                </a:cubicBezTo>
                <a:cubicBezTo>
                  <a:pt x="8828" y="0"/>
                  <a:pt x="6894" y="539"/>
                  <a:pt x="5208" y="1560"/>
                </a:cubicBezTo>
                <a:lnTo>
                  <a:pt x="5759" y="2470"/>
                </a:lnTo>
                <a:close/>
              </a:path>
            </a:pathLst>
          </a:cu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8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4"/>
          <p:cNvSpPr txBox="1"/>
          <p:nvPr/>
        </p:nvSpPr>
        <p:spPr>
          <a:xfrm>
            <a:off x="5364000" y="2708280"/>
            <a:ext cx="279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5842080" y="34225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幻演广告有限公司</dc:creator>
  <dc:description/>
  <dc:language>en-US</dc:language>
  <cp:lastModifiedBy>Administrator</cp:lastModifiedBy>
  <dcterms:modified xsi:type="dcterms:W3CDTF">2016-08-06T01:14:53Z</dcterms:modified>
  <cp:revision>336</cp:revision>
  <dc:subject/>
  <dc:title>锐得PPT模板</dc:title>
</cp:coreProperties>
</file>