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CDE-8664-4921-9D8E-92C55B2B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110-0F33-4310-BCC8-912D0FFB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031-D97A-4008-B27A-C5982540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DD4-C0D7-46E0-8EDD-D2927228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FB4-19FF-4140-A114-D837066F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3C8-469B-4910-AFB2-879CBFE9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CAB-F3CE-473B-805B-93F6E6CA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4D8-413A-4CD2-A4F4-CA15FEC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176-0444-4388-A286-9A2BD7C5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B30-BA98-4B68-B923-C595E964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E15-D5F8-4B20-8464-27270A94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A240-FF25-444A-9B9F-21B55050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6A1C-FB2C-4174-8AE0-E66EFE79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3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六边形 64" descr=""/>
            <p:cNvPicPr/>
            <p:nvPr/>
          </p:nvPicPr>
          <p:blipFill>
            <a:blip r:embed="rId3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六边形 67" descr=""/>
            <p:cNvPicPr/>
            <p:nvPr/>
          </p:nvPicPr>
          <p:blipFill>
            <a:blip r:embed="rId4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六边形 70" descr=""/>
            <p:cNvPicPr/>
            <p:nvPr/>
          </p:nvPicPr>
          <p:blipFill>
            <a:blip r:embed="rId5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73" descr=""/>
            <p:cNvPicPr/>
            <p:nvPr/>
          </p:nvPicPr>
          <p:blipFill>
            <a:blip r:embed="rId6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6" descr=""/>
            <p:cNvPicPr/>
            <p:nvPr/>
          </p:nvPicPr>
          <p:blipFill>
            <a:blip r:embed="rId7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9" descr=""/>
            <p:cNvPicPr/>
            <p:nvPr/>
          </p:nvPicPr>
          <p:blipFill>
            <a:blip r:embed="rId8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82" descr=""/>
            <p:cNvPicPr/>
            <p:nvPr/>
          </p:nvPicPr>
          <p:blipFill>
            <a:blip r:embed="rId9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0" name="双波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TextBox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3" name="双波形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TextBox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36" name="双波形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TextBox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3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6" name="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4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5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6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7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9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1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4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5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prstGeom prst="pie">
            <a:avLst/>
          </a:pr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prstGeom prst="pie">
            <a:avLst/>
          </a:pr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prstGeom prst="pie">
            <a:avLst/>
          </a:pr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2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3e06c"/>
                </a:gs>
                <a:gs pos="50000">
                  <a:srgbClr val="99cc00"/>
                </a:gs>
                <a:gs pos="100000">
                  <a:srgbClr val="c3e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ce7e9"/>
                </a:gs>
                <a:gs pos="50000">
                  <a:srgbClr val="bbe0e3"/>
                </a:gs>
                <a:gs pos="100000">
                  <a:srgbClr val="cce7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4adad"/>
                </a:gs>
                <a:gs pos="50000">
                  <a:srgbClr val="009999"/>
                </a:gs>
                <a:gs pos="100000">
                  <a:srgbClr val="34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b7bfe"/>
                </a:gs>
                <a:gs pos="50000">
                  <a:srgbClr val="6666ff"/>
                </a:gs>
                <a:gs pos="100000">
                  <a:srgbClr val="7b7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756351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4f5e57">
                  <a:alpha val="0"/>
                </a:srgbClr>
              </a:gs>
              <a:gs pos="100000">
                <a:srgbClr val="acc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686749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576029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2f2f"/>
                  </a:gs>
                  <a:gs pos="100000">
                    <a:srgbClr val="00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100000">
                    <a:srgbClr val="66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1120" y="5149800"/>
            <a:ext cx="2559240" cy="2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1120" y="4194000"/>
            <a:ext cx="2417760" cy="2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2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矩形 16" descr=""/>
            <p:cNvPicPr/>
            <p:nvPr/>
          </p:nvPicPr>
          <p:blipFill>
            <a:blip r:embed="rId3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7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矩形 33" descr=""/>
            <p:cNvPicPr/>
            <p:nvPr/>
          </p:nvPicPr>
          <p:blipFill>
            <a:blip r:embed="rId8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9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