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A21B-67FD-476F-B822-D06E6918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5814-3B11-4CE7-8705-87481DBF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C4CD-7141-40C3-9231-FF2FAED8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CA85-7AE0-4CB0-B02D-737F3F67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DCDE-21E7-4E97-828C-24EE28C2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4883-396B-4370-A246-BF35A86E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5AF6-F5F8-4238-BA48-B466E67D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D47D-4204-437E-A26C-2A490EE9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03A4-AD6C-4F00-B90A-2A1142BB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2B26-F679-49A2-9A4E-102EA068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4A01-8E22-45D4-9479-93A0C1C9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387D-24B9-4B3B-9BD5-54C8CC1A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7904-4153-4EE2-9232-B85387F2DD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443376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357720" y="51926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中国情人节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87696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464076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3140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497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5"/>
          <p:cNvSpPr/>
          <p:nvPr/>
        </p:nvSpPr>
        <p:spPr>
          <a:xfrm>
            <a:off x="2357280" y="4473720"/>
            <a:ext cx="5214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乞巧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七月七日，一年一度的七夕就要来了，人们称这天为“乞巧节”或“少女节”、“女儿节”。七夕节是我国传统节日中最具有浪漫色彩的一个节日，也是过去姑娘最为重视的日子。中国的情人节，浪漫古典之最浓的节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8"/>
          <p:cNvSpPr/>
          <p:nvPr/>
        </p:nvSpPr>
        <p:spPr>
          <a:xfrm>
            <a:off x="618120" y="285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283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212000" y="5059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212000" y="3559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2836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7340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2132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31000" y="3357720"/>
            <a:ext cx="16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4213800" y="32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73404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3857760" y="3714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5696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6405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8056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5569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2783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33548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0695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9486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212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9"/>
          <p:cNvSpPr/>
          <p:nvPr/>
        </p:nvSpPr>
        <p:spPr>
          <a:xfrm>
            <a:off x="59266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19976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1926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485496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34261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27835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4854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59112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45691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27118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/>
          <p:cNvSpPr/>
          <p:nvPr/>
        </p:nvSpPr>
        <p:spPr>
          <a:xfrm>
            <a:off x="42120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57837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07-24T03:19:58Z</dcterms:modified>
  <cp:revision>52</cp:revision>
  <dc:subject/>
  <dc:title>幻灯片 1</dc:title>
</cp:coreProperties>
</file>