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4E91-FEE6-4EA4-869E-BDE3C0FA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BB65-94AD-41A7-93FD-96E5D06B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F668-5164-4748-8CCC-512BB285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7B3A-A919-4420-8A58-C850FE2A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CDDC-4F1B-407C-A6AE-5BC94CEE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9E51-94BC-4E03-9A03-67E819DF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445E-D266-4E52-A424-1E1F87AD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4CA5-E9BF-4C0F-AFA1-66C8D54D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E23-E242-404A-8A8C-A859A0D3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101-D56E-4A18-8DB9-17EC1018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99A-E6C0-43A9-9ACD-7BE5F8C0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C48-21E8-4B47-BC51-0138DF28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E845-6671-4236-9805-58E09267C3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4433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357720" y="51926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中国情人节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96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64076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3140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497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/>
          <p:cNvSpPr/>
          <p:nvPr/>
        </p:nvSpPr>
        <p:spPr>
          <a:xfrm>
            <a:off x="2357280" y="4473720"/>
            <a:ext cx="521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乞巧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月七日，一年一度的七夕就要来了，人们称这天为“乞巧节”或“少女节”、“女儿节”。七夕节是我国传统节日中最具有浪漫色彩的一个节日，也是过去姑娘最为重视的日子。中国的情人节，浪漫古典之最浓的节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618120" y="285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283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12000" y="5059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21200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2132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31000" y="3357720"/>
            <a:ext cx="16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421380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340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857760" y="3714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5696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640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8056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5569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2783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3548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0695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9486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59266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19976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1926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85496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34261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27835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854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5911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569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27118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42120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57837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07-24T03:19:58Z</dcterms:modified>
  <cp:revision>52</cp:revision>
  <dc:subject/>
  <dc:title>幻灯片 1</dc:title>
</cp:coreProperties>
</file>