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A6E6-E66D-4D3F-9C09-1AA5FE64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ADA1-7025-4835-A1E4-CA666CA6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68D6-A89C-4A4E-A64D-DC3596CB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A7D-A719-4B85-AB3E-F86A738F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1318-9163-4AB9-8351-13D2A937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44A9-1661-43BC-B8D9-647E7683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F9D4-34D7-43C1-9FB0-64C7B6F2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F5F0-8464-4DA2-8C91-DC0DCDCF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3AFB-8058-451E-BB8E-81368801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30F-3C62-4BAF-BF4D-2DC22E53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F8BF-A0CC-4029-9B61-12856006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3F1-C015-4543-8CDB-96880982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2A2A-3AB5-455E-AF55-B3DCE62068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651320" y="1214280"/>
            <a:ext cx="12776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1918800" y="3399120"/>
            <a:ext cx="9118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226600" y="1071720"/>
            <a:ext cx="91044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爽及其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14486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1928880" y="5500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6355080" y="5500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4283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214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2120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4283640" y="564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19260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62125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116280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3854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266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1997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137700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429000" y="2857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3854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3783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116280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214720" y="4500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3854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6069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57121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14976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12340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385776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421200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15199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3286080" y="4071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3569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3569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3569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13770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2286000" y="4643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6498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4140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54266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1568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13057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48549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385488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34977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4854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2-14T06:03:35Z</dcterms:modified>
  <cp:revision>29</cp:revision>
  <dc:subject/>
  <dc:title>幻灯片 1</dc:title>
</cp:coreProperties>
</file>