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22A-D075-4D74-882A-32F7E68A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885-F1BC-47AF-8FBA-76D68922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532-5537-4F21-A93B-F637A305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3BC-1E92-4D31-843D-B9DEC8FE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86B-1F78-41FB-8976-221B03E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C71-5C3F-427A-9C92-8A9065F0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040-6109-46B5-A49D-C839C319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611-3663-4EE7-8B2A-15CFBB41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2FE-2EE9-47BB-B85D-260BAA7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517-7E67-4112-8B26-F9951B09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F13-CC10-473E-BA75-E7770501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239-BF17-4BC5-8C40-A390ED71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68CA-8338-4D83-AE93-0DE9B465E3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046560" y="1500120"/>
            <a:ext cx="15210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345720" y="428364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81840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948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28600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39265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643040" y="28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283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926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926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283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97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2019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428920" y="5000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5640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640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948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1714680" y="4500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355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212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209160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7121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2568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9882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643120" y="3500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140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997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22024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640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712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1640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0T03:40:37Z</dcterms:modified>
  <cp:revision>33</cp:revision>
  <dc:subject/>
  <dc:title>幻灯片 1</dc:title>
</cp:coreProperties>
</file>