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ACB-C780-42CC-A743-5BE87D4D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A15-94D3-43B6-B715-BF3D56C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659-3BA6-44FC-A0AE-30940EB1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B0B-4E00-4D3B-B1CE-4019F04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602-C921-413B-BA19-8A91B205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2898-F53D-4B43-A821-397B39FF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995-535C-4DF6-883F-FA7CD2A2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18B-7255-4B4D-AEB3-BA1A1DA1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3E4-84CC-46BF-A427-E36CF2F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D56-AD00-4AF1-B7AF-01A39DC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4DC-E050-414A-B813-A14BACA5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542-0B98-4CD6-91D3-B07CD42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EFFE-BE8C-4CA5-A6D3-38B86C2EC8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93B-8DBC-47DC-A4DB-77D8E45A08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eng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26:16Z</dcterms:modified>
  <cp:revision>49</cp:revision>
  <dc:subject>12sc.taobao.com</dc:subject>
  <dc:title>PowerPoint 演示文稿</dc:title>
</cp:coreProperties>
</file>