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30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C59-F441-4E2A-9483-ECCF3E6D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E89-A9D6-4346-A81B-D2743D76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E74-8BE6-42A6-9923-64AD5A99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488-2250-421A-9BD6-DC1D61DE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D53-7F60-404A-AC10-5DB1AB4E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286-B01C-4DD1-978A-8A677430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315-B0D4-45D9-9B20-EA6EEC1A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F39-841C-4009-9BAF-9EAC1C76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A62-6839-4104-ACC4-08A71D36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FB3-AA23-4860-BD0F-20C73282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F67-D190-429A-A9EB-E053200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53F-1A5E-4352-9D42-5B23F93D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F5A9-9B64-46F0-B78F-160E8FA2286B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FD03-8388-4616-8499-F5883E7AFD1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wmf"/><Relationship Id="rId4" Type="http://schemas.openxmlformats.org/officeDocument/2006/relationships/image" Target="../media/image21.png"/><Relationship Id="rId5" Type="http://schemas.openxmlformats.org/officeDocument/2006/relationships/image" Target="../media/image4.wmf"/><Relationship Id="rId6" Type="http://schemas.openxmlformats.org/officeDocument/2006/relationships/image" Target="../media/image21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986-ED15-467A-AE29-E45C2C125F5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98DA-98A0-422A-AFD4-16F58507785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0F9-62FD-41D7-814D-B66482376BD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3612-80D9-45C6-B693-3415996CF8B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8100000"/>
                </a:gra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8100000"/>
              </a:gradFill>
              <a:latin typeface="黑体"/>
              <a:ea typeface="黑体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prstGeom prst="pi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5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6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9157-BA9D-4D42-B781-B19717A4E25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2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prstGeom prst="pie">
            <a:avLst/>
          </a:pr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A91C-D055-41B1-B2E0-78649E7ED32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2336-9D6A-45AF-AC4E-7C9F2A23F42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0782-5178-4F6D-960B-99717418B7F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prstGeom prst="pi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prstGeom prst="pie">
            <a:avLst/>
          </a:pr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prstGeom prst="pie">
            <a:avLst/>
          </a:pr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D29-DB55-49AC-9281-D8742FEF37E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5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7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9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862-6942-4BBC-9363-0FDBB2B1496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35BC-AF8A-4318-89EA-16C811EE25B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4AF6-670E-42FA-9ECB-81C7650D5D6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2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3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4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6A7B-729D-4BB8-BE07-537E183F2AF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5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7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B22-39F1-4D2A-A238-605A3770F1C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4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4E1A-CA60-411D-A22E-A126F8FCCCF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36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5050"/>
              </a:gs>
              <a:gs pos="100000">
                <a:srgbClr val="ff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6E40-BEC1-40D1-8DC2-1DA4B5ABFFC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prstGeom prst="pie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2DB9-A37E-47EB-A59E-8DF5A8F8015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2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6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8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CE82-9609-4459-8E94-7694D11F764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8AF9-50BC-41A5-9B1E-40D291C4C0B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9645-4C5E-481D-91FC-0C73842075C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C1CD-65D9-4101-9984-7C0ECFA2654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prstGeom prst="pie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prstGeom prst="pie">
                <a:avLst/>
              </a:pr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prstGeom prst="pie">
            <a:avLst/>
          </a:pr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4780-430A-43C1-A3C7-2407599CC2B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3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EB46-CA76-494E-83D2-706D91DC55C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D88-2927-4BA4-8100-C6C21349252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75C-503E-4492-B87E-7CF2BC193B2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3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prstGeom prst="pie">
            <a:avLst/>
          </a:pr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663C-9719-4A54-8B46-27712039337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2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3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4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5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6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7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TOM</cp:lastModifiedBy>
  <cp:lastPrinted>1899-12-30T00:00:00Z</cp:lastPrinted>
  <dcterms:modified xsi:type="dcterms:W3CDTF">2008-08-14T06:50:51Z</dcterms:modified>
  <cp:revision>2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