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426-30B0-41B6-B7BC-7CDF8325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721-0215-4585-87B6-D9A8C358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6A1-0FCA-47A8-B287-EBAE0383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4F8-40E2-4DBB-908C-9CDF0983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7E8-9AD3-4F27-A1FE-2B1EE042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C83-9A8E-476D-B7D7-237E88A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7E4-C527-473F-A94B-38981F41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47B-E206-45F7-A983-7546948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54A-F6D1-4C3A-91A7-3D58BCB5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18-28F0-47BB-9976-83E7C48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375-5D83-49B8-AB5B-D0FB07F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B1D-224D-401A-8036-59C93AB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0FC5-9412-41A0-AD2C-648F8E5F869B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807-274E-448B-93BA-A3BC5D30B94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image" Target="../media/image21.png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DA2-C301-4C9E-AA76-7588C6736C9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E78-52CF-496F-90B3-23153878C24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000-F700-4BD5-B150-C1FFE5615B1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1A51-64BD-4A90-9CA2-97F7B74AAEB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8100000"/>
                </a:gra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prstGeom prst="pi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6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455-8124-41D4-9D90-85332C4A4C3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2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prstGeom prst="pie">
            <a:avLst/>
          </a:pr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4737-4737-41E9-9290-A07F949F8AA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8D5-F733-4767-BD1D-15B163DBACB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A76-292A-454B-9AA6-B7D9337D9C6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prstGeom prst="pie">
            <a:avLst/>
          </a:pr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prstGeom prst="pie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38F-43F3-4BF7-B0D8-93F7C20F03B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5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9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2762-6490-4AE7-95EE-3E984AF2E8C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425-156E-4AF8-B477-61E7D3E2ED5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C06F-D6E4-4003-8D16-935F8756508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2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3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4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987-CC7E-4A9F-A4C2-8489AE79A28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5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C47-DC8E-487B-9FDD-42F0399DBA6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4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92D-FE05-47A3-8FB5-70B85798DCA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36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5050"/>
              </a:gs>
              <a:gs pos="100000">
                <a:srgbClr val="ff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F1E-812E-4B63-98FE-83777D25707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prstGeom prst="pie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E5A-BF88-4079-9145-9C60D17C1B7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6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8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0451-4E6A-42BB-BACC-A5DEA108D7F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FE1C-546D-4F74-8500-F478B2BA9CC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CD7-7FB6-46DB-B1BA-CBB125841D9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A81-D30E-4BC7-8485-29B7F870BF8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prstGeom prst="pie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prstGeom prst="pie">
                <a:avLst/>
              </a:pr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prstGeom prst="pie">
            <a:avLst/>
          </a:pr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82CB-D996-4913-9B86-47B65BF7574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F8C8-F595-4777-9169-EA9F4F99956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5B9B-3ADE-4AAE-82DD-EA0331F9692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6E23-FD8E-4691-A37E-5471A94A31E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3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prstGeom prst="pie">
            <a:avLst/>
          </a:pr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63F-5218-4E46-93B2-0F341B2F00F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2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3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4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5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6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7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TOM</cp:lastModifiedBy>
  <cp:lastPrinted>1899-12-30T00:00:00Z</cp:lastPrinted>
  <dcterms:modified xsi:type="dcterms:W3CDTF">2008-08-14T06:50:51Z</dcterms:modified>
  <cp:revision>2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