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4.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DA756-7DD2-49F5-9612-CEF38ACBC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2BEB-598E-4BC6-B45C-49F28E61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DFB20-15FD-4B07-9FB1-A1FAC7DC1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1261F-2A94-4E41-B379-513BBDFF7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91A8-F72F-44EB-AD98-78A2D73BC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B3849-6BF3-4601-8016-C7A4849B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72DFD-C487-40D9-99DA-846FBAE9E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FD32-CFBB-4C71-B473-4FEC0C3F6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2617-5BEB-45FE-A15D-A9B9A724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8F1E-0BE1-4F8A-8A61-2139BD16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085FA-15E9-4ACE-9D60-DC448765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1914-E815-4872-A3AA-57705F94C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9BB9-D8C9-44E9-BD07-DC610FA6E40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0"/>
            <a:ext cx="12192120" cy="6858000"/>
            <a:chOff x="0" y="0"/>
            <a:chExt cx="12192120" cy="6858000"/>
          </a:xfrm>
        </p:grpSpPr>
        <p:pic>
          <p:nvPicPr>
            <p:cNvPr id="81" name="矩形 6" descr=""/>
            <p:cNvPicPr/>
            <p:nvPr/>
          </p:nvPicPr>
          <p:blipFill>
            <a:blip r:embed="rId2"/>
            <a:stretch/>
          </p:blipFill>
          <p:spPr>
            <a:xfrm>
              <a:off x="0" y="0"/>
              <a:ext cx="12192120" cy="6858000"/>
            </a:xfrm>
            <a:prstGeom prst="rect">
              <a:avLst/>
            </a:prstGeom>
            <a:ln w="0">
              <a:noFill/>
            </a:ln>
          </p:spPr>
        </p:pic>
        <p:sp>
          <p:nvSpPr>
            <p:cNvPr id="82"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 name="内容占位符 4" descr=""/>
          <p:cNvPicPr/>
          <p:nvPr/>
        </p:nvPicPr>
        <p:blipFill>
          <a:blip r:embed="rId3"/>
          <a:stretch/>
        </p:blipFill>
        <p:spPr>
          <a:xfrm>
            <a:off x="442800" y="500040"/>
            <a:ext cx="749520" cy="73656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12192120" cy="6858000"/>
            <a:chOff x="0" y="0"/>
            <a:chExt cx="12192120" cy="6858000"/>
          </a:xfrm>
        </p:grpSpPr>
        <p:pic>
          <p:nvPicPr>
            <p:cNvPr id="123" name="矩形 6" descr=""/>
            <p:cNvPicPr/>
            <p:nvPr/>
          </p:nvPicPr>
          <p:blipFill>
            <a:blip r:embed="rId2"/>
            <a:stretch/>
          </p:blipFill>
          <p:spPr>
            <a:xfrm>
              <a:off x="0" y="0"/>
              <a:ext cx="12192120" cy="6858000"/>
            </a:xfrm>
            <a:prstGeom prst="rect">
              <a:avLst/>
            </a:prstGeom>
            <a:ln w="0">
              <a:noFill/>
            </a:ln>
          </p:spPr>
        </p:pic>
        <p:sp>
          <p:nvSpPr>
            <p:cNvPr id="124"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图片 7" descr=""/>
          <p:cNvPicPr/>
          <p:nvPr/>
        </p:nvPicPr>
        <p:blipFill>
          <a:blip r:embed="rId3"/>
          <a:srcRect l="-2998" t="-6353" r="0" b="0"/>
          <a:stretch/>
        </p:blipFill>
        <p:spPr>
          <a:xfrm>
            <a:off x="-336600" y="1127160"/>
            <a:ext cx="12528720" cy="573084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文本框 4"/>
          <p:cNvSpPr/>
          <p:nvPr/>
        </p:nvSpPr>
        <p:spPr>
          <a:xfrm>
            <a:off x="5987880" y="318780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595959"/>
                </a:solidFill>
                <a:latin typeface="微软雅黑"/>
                <a:ea typeface="微软雅黑"/>
              </a:rPr>
              <a:t>学生会招新</a:t>
            </a:r>
            <a:r>
              <a:rPr b="1" lang="en-US" sz="7200" spc="-1" strike="noStrike">
                <a:solidFill>
                  <a:srgbClr val="595959"/>
                </a:solidFill>
                <a:latin typeface="微软雅黑"/>
                <a:ea typeface="微软雅黑"/>
              </a:rPr>
              <a:t>PPT</a:t>
            </a:r>
            <a:endParaRPr b="0" lang="en-US" sz="7200" spc="-1" strike="noStrike">
              <a:solidFill>
                <a:srgbClr val="000000"/>
              </a:solidFill>
              <a:latin typeface="Calibri"/>
            </a:endParaRPr>
          </a:p>
        </p:txBody>
      </p:sp>
      <p:sp>
        <p:nvSpPr>
          <p:cNvPr id="165" name="文本框 6"/>
          <p:cNvSpPr/>
          <p:nvPr/>
        </p:nvSpPr>
        <p:spPr>
          <a:xfrm>
            <a:off x="5960160" y="316692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学生会招新</a:t>
            </a:r>
            <a:r>
              <a:rPr b="1" lang="en-US" sz="7200" spc="-1" strike="noStrike">
                <a:solidFill>
                  <a:srgbClr val="ffffff"/>
                </a:solidFill>
                <a:latin typeface="微软雅黑"/>
                <a:ea typeface="微软雅黑"/>
              </a:rPr>
              <a:t>PPT</a:t>
            </a:r>
            <a:endParaRPr b="0" lang="en-US" sz="7200" spc="-1" strike="noStrike">
              <a:solidFill>
                <a:srgbClr val="000000"/>
              </a:solidFill>
              <a:latin typeface="Calibri"/>
            </a:endParaRPr>
          </a:p>
        </p:txBody>
      </p:sp>
      <p:sp>
        <p:nvSpPr>
          <p:cNvPr id="166" name="文本框 7"/>
          <p:cNvSpPr/>
          <p:nvPr/>
        </p:nvSpPr>
        <p:spPr>
          <a:xfrm>
            <a:off x="5969160" y="4386240"/>
            <a:ext cx="497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适用于学生会</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团委</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社团招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招聘职位介绍</a:t>
            </a:r>
            <a:endParaRPr b="0" lang="en-US" sz="3600" spc="-1" strike="noStrike">
              <a:solidFill>
                <a:srgbClr val="000000"/>
              </a:solidFill>
              <a:latin typeface="Calibri Light"/>
            </a:endParaRPr>
          </a:p>
        </p:txBody>
      </p:sp>
      <p:sp>
        <p:nvSpPr>
          <p:cNvPr id="40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
          <p:cNvGrpSpPr/>
          <p:nvPr/>
        </p:nvGrpSpPr>
        <p:grpSpPr>
          <a:xfrm>
            <a:off x="6516720" y="1762200"/>
            <a:ext cx="4419720" cy="573120"/>
            <a:chOff x="6516720" y="1762200"/>
            <a:chExt cx="4419720" cy="573120"/>
          </a:xfrm>
        </p:grpSpPr>
        <p:pic>
          <p:nvPicPr>
            <p:cNvPr id="404" name="矩形 4" descr=""/>
            <p:cNvPicPr/>
            <p:nvPr/>
          </p:nvPicPr>
          <p:blipFill>
            <a:blip r:embed="rId1"/>
            <a:stretch/>
          </p:blipFill>
          <p:spPr>
            <a:xfrm>
              <a:off x="6516720" y="1762200"/>
              <a:ext cx="4419720" cy="573120"/>
            </a:xfrm>
            <a:prstGeom prst="rect">
              <a:avLst/>
            </a:prstGeom>
            <a:ln w="0">
              <a:noFill/>
            </a:ln>
          </p:spPr>
        </p:pic>
        <p:sp>
          <p:nvSpPr>
            <p:cNvPr id="405" name=""/>
            <p:cNvSpPr/>
            <p:nvPr/>
          </p:nvSpPr>
          <p:spPr>
            <a:xfrm>
              <a:off x="6624720" y="1836720"/>
              <a:ext cx="420192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职位描述</a:t>
              </a:r>
              <a:endParaRPr b="0" lang="en-US" sz="1800" spc="-1" strike="noStrike">
                <a:solidFill>
                  <a:srgbClr val="000000"/>
                </a:solidFill>
                <a:latin typeface="Calibri"/>
              </a:endParaRPr>
            </a:p>
          </p:txBody>
        </p:sp>
      </p:grpSp>
      <p:sp>
        <p:nvSpPr>
          <p:cNvPr id="406" name="矩形 5"/>
          <p:cNvSpPr/>
          <p:nvPr/>
        </p:nvSpPr>
        <p:spPr>
          <a:xfrm>
            <a:off x="963720" y="1996920"/>
            <a:ext cx="5300640" cy="3367080"/>
          </a:xfrm>
          <a:prstGeom prst="rect">
            <a:avLst/>
          </a:prstGeom>
          <a:blipFill rotWithShape="0">
            <a:blip r:embed="rId2"/>
            <a:srcRect/>
            <a:stretch/>
          </a:blipFill>
          <a:ln w="57240">
            <a:solidFill>
              <a:srgbClr val="7ebf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矩形 6"/>
          <p:cNvSpPr/>
          <p:nvPr/>
        </p:nvSpPr>
        <p:spPr>
          <a:xfrm>
            <a:off x="6613560" y="4030560"/>
            <a:ext cx="40654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添加主题描述文字单击</a:t>
            </a:r>
            <a:endParaRPr b="0" lang="en-US" sz="1600" spc="-1" strike="noStrike">
              <a:solidFill>
                <a:srgbClr val="000000"/>
              </a:solidFill>
              <a:latin typeface="Calibri"/>
            </a:endParaRPr>
          </a:p>
        </p:txBody>
      </p:sp>
      <p:pic>
        <p:nvPicPr>
          <p:cNvPr id="408" name="组合 8" descr=""/>
          <p:cNvPicPr/>
          <p:nvPr/>
        </p:nvPicPr>
        <p:blipFill>
          <a:blip r:embed="rId3"/>
          <a:stretch/>
        </p:blipFill>
        <p:spPr>
          <a:xfrm>
            <a:off x="6724800" y="2554200"/>
            <a:ext cx="334800" cy="457200"/>
          </a:xfrm>
          <a:prstGeom prst="rect">
            <a:avLst/>
          </a:prstGeom>
          <a:ln w="0">
            <a:noFill/>
          </a:ln>
        </p:spPr>
      </p:pic>
      <p:sp>
        <p:nvSpPr>
          <p:cNvPr id="409" name="矩形 9"/>
          <p:cNvSpPr/>
          <p:nvPr/>
        </p:nvSpPr>
        <p:spPr>
          <a:xfrm>
            <a:off x="7018200" y="23702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pic>
        <p:nvPicPr>
          <p:cNvPr id="410" name="组合 19" descr=""/>
          <p:cNvPicPr/>
          <p:nvPr/>
        </p:nvPicPr>
        <p:blipFill>
          <a:blip r:embed="rId4"/>
          <a:stretch/>
        </p:blipFill>
        <p:spPr>
          <a:xfrm>
            <a:off x="6724800" y="3243240"/>
            <a:ext cx="334800" cy="457200"/>
          </a:xfrm>
          <a:prstGeom prst="rect">
            <a:avLst/>
          </a:prstGeom>
          <a:ln w="0">
            <a:noFill/>
          </a:ln>
        </p:spPr>
      </p:pic>
      <p:sp>
        <p:nvSpPr>
          <p:cNvPr id="411" name="矩形 20"/>
          <p:cNvSpPr/>
          <p:nvPr/>
        </p:nvSpPr>
        <p:spPr>
          <a:xfrm>
            <a:off x="7018200" y="30560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现任部长介绍</a:t>
            </a:r>
            <a:endParaRPr b="0" lang="en-US" sz="3600" spc="-1" strike="noStrike">
              <a:solidFill>
                <a:srgbClr val="000000"/>
              </a:solidFill>
              <a:latin typeface="Calibri Light"/>
            </a:endParaRPr>
          </a:p>
        </p:txBody>
      </p:sp>
      <p:sp>
        <p:nvSpPr>
          <p:cNvPr id="413"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
          <p:cNvGrpSpPr/>
          <p:nvPr/>
        </p:nvGrpSpPr>
        <p:grpSpPr>
          <a:xfrm>
            <a:off x="6229440" y="1932120"/>
            <a:ext cx="4383000" cy="555480"/>
            <a:chOff x="6229440" y="1932120"/>
            <a:chExt cx="4383000" cy="555480"/>
          </a:xfrm>
        </p:grpSpPr>
        <p:pic>
          <p:nvPicPr>
            <p:cNvPr id="415" name="矩形 3" descr=""/>
            <p:cNvPicPr/>
            <p:nvPr/>
          </p:nvPicPr>
          <p:blipFill>
            <a:blip r:embed="rId1"/>
            <a:stretch/>
          </p:blipFill>
          <p:spPr>
            <a:xfrm>
              <a:off x="6229440" y="1932120"/>
              <a:ext cx="4383000" cy="555480"/>
            </a:xfrm>
            <a:prstGeom prst="rect">
              <a:avLst/>
            </a:prstGeom>
            <a:ln w="0">
              <a:noFill/>
            </a:ln>
          </p:spPr>
        </p:pic>
        <p:sp>
          <p:nvSpPr>
            <p:cNvPr id="416" name=""/>
            <p:cNvSpPr/>
            <p:nvPr/>
          </p:nvSpPr>
          <p:spPr>
            <a:xfrm>
              <a:off x="6342120" y="200664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17" name=""/>
          <p:cNvGrpSpPr/>
          <p:nvPr/>
        </p:nvGrpSpPr>
        <p:grpSpPr>
          <a:xfrm>
            <a:off x="6229440" y="4133880"/>
            <a:ext cx="4383000" cy="554040"/>
            <a:chOff x="6229440" y="4133880"/>
            <a:chExt cx="4383000" cy="554040"/>
          </a:xfrm>
        </p:grpSpPr>
        <p:pic>
          <p:nvPicPr>
            <p:cNvPr id="418" name="矩形 5" descr=""/>
            <p:cNvPicPr/>
            <p:nvPr/>
          </p:nvPicPr>
          <p:blipFill>
            <a:blip r:embed="rId2"/>
            <a:stretch/>
          </p:blipFill>
          <p:spPr>
            <a:xfrm>
              <a:off x="6229440" y="4133880"/>
              <a:ext cx="4383000" cy="554040"/>
            </a:xfrm>
            <a:prstGeom prst="rect">
              <a:avLst/>
            </a:prstGeom>
            <a:ln w="0">
              <a:noFill/>
            </a:ln>
          </p:spPr>
        </p:pic>
        <p:sp>
          <p:nvSpPr>
            <p:cNvPr id="419" name=""/>
            <p:cNvSpPr/>
            <p:nvPr/>
          </p:nvSpPr>
          <p:spPr>
            <a:xfrm>
              <a:off x="6342120" y="420372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20" name=""/>
          <p:cNvGrpSpPr/>
          <p:nvPr/>
        </p:nvGrpSpPr>
        <p:grpSpPr>
          <a:xfrm>
            <a:off x="1620720" y="1871640"/>
            <a:ext cx="3895560" cy="4052880"/>
            <a:chOff x="1620720" y="1871640"/>
            <a:chExt cx="3895560" cy="4052880"/>
          </a:xfrm>
        </p:grpSpPr>
        <p:pic>
          <p:nvPicPr>
            <p:cNvPr id="421" name="矩形 6" descr=""/>
            <p:cNvPicPr/>
            <p:nvPr/>
          </p:nvPicPr>
          <p:blipFill>
            <a:blip r:embed="rId3"/>
            <a:stretch/>
          </p:blipFill>
          <p:spPr>
            <a:xfrm>
              <a:off x="1620720" y="1871640"/>
              <a:ext cx="3895560" cy="4052880"/>
            </a:xfrm>
            <a:prstGeom prst="rect">
              <a:avLst/>
            </a:prstGeom>
            <a:ln w="0">
              <a:noFill/>
            </a:ln>
          </p:spPr>
        </p:pic>
        <p:sp>
          <p:nvSpPr>
            <p:cNvPr id="422" name=""/>
            <p:cNvSpPr/>
            <p:nvPr/>
          </p:nvSpPr>
          <p:spPr>
            <a:xfrm>
              <a:off x="1644480" y="1897200"/>
              <a:ext cx="3841920" cy="39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3" name="矩形 7"/>
          <p:cNvSpPr/>
          <p:nvPr/>
        </p:nvSpPr>
        <p:spPr>
          <a:xfrm>
            <a:off x="6289560" y="23828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
        <p:nvSpPr>
          <p:cNvPr id="424" name="矩形 8"/>
          <p:cNvSpPr/>
          <p:nvPr/>
        </p:nvSpPr>
        <p:spPr>
          <a:xfrm>
            <a:off x="6289560" y="46022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成员介绍</a:t>
            </a:r>
            <a:endParaRPr b="0" lang="en-US" sz="3600" spc="-1" strike="noStrike">
              <a:solidFill>
                <a:srgbClr val="000000"/>
              </a:solidFill>
              <a:latin typeface="Calibri Light"/>
            </a:endParaRPr>
          </a:p>
        </p:txBody>
      </p:sp>
      <p:sp>
        <p:nvSpPr>
          <p:cNvPr id="426"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3"/>
          <p:cNvSpPr/>
          <p:nvPr/>
        </p:nvSpPr>
        <p:spPr>
          <a:xfrm>
            <a:off x="1614600" y="1735200"/>
            <a:ext cx="1612800" cy="1868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矩形 5"/>
          <p:cNvSpPr/>
          <p:nvPr/>
        </p:nvSpPr>
        <p:spPr>
          <a:xfrm>
            <a:off x="1601640" y="3995640"/>
            <a:ext cx="1605240" cy="179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矩形 6"/>
          <p:cNvSpPr/>
          <p:nvPr/>
        </p:nvSpPr>
        <p:spPr>
          <a:xfrm>
            <a:off x="6489720" y="1709640"/>
            <a:ext cx="1647720" cy="18511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矩形 7"/>
          <p:cNvSpPr/>
          <p:nvPr/>
        </p:nvSpPr>
        <p:spPr>
          <a:xfrm>
            <a:off x="6489720" y="4002120"/>
            <a:ext cx="1635120" cy="183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
          <p:cNvGrpSpPr/>
          <p:nvPr/>
        </p:nvGrpSpPr>
        <p:grpSpPr>
          <a:xfrm>
            <a:off x="3289320" y="1684440"/>
            <a:ext cx="2836800" cy="1926360"/>
            <a:chOff x="3289320" y="1684440"/>
            <a:chExt cx="2836800" cy="1926360"/>
          </a:xfrm>
        </p:grpSpPr>
        <p:sp>
          <p:nvSpPr>
            <p:cNvPr id="432" name="文本框 9"/>
            <p:cNvSpPr/>
            <p:nvPr/>
          </p:nvSpPr>
          <p:spPr>
            <a:xfrm>
              <a:off x="358272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3" name="文本框 10"/>
            <p:cNvSpPr/>
            <p:nvPr/>
          </p:nvSpPr>
          <p:spPr>
            <a:xfrm>
              <a:off x="339516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4" name="矩形 11"/>
            <p:cNvSpPr/>
            <p:nvPr/>
          </p:nvSpPr>
          <p:spPr>
            <a:xfrm>
              <a:off x="328932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5" name=""/>
          <p:cNvGrpSpPr/>
          <p:nvPr/>
        </p:nvGrpSpPr>
        <p:grpSpPr>
          <a:xfrm>
            <a:off x="8186760" y="1684440"/>
            <a:ext cx="2836800" cy="1926360"/>
            <a:chOff x="8186760" y="1684440"/>
            <a:chExt cx="2836800" cy="1926360"/>
          </a:xfrm>
        </p:grpSpPr>
        <p:sp>
          <p:nvSpPr>
            <p:cNvPr id="436" name="文本框 13"/>
            <p:cNvSpPr/>
            <p:nvPr/>
          </p:nvSpPr>
          <p:spPr>
            <a:xfrm>
              <a:off x="848016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7" name="文本框 14"/>
            <p:cNvSpPr/>
            <p:nvPr/>
          </p:nvSpPr>
          <p:spPr>
            <a:xfrm>
              <a:off x="829260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8" name="矩形 15"/>
            <p:cNvSpPr/>
            <p:nvPr/>
          </p:nvSpPr>
          <p:spPr>
            <a:xfrm>
              <a:off x="818676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9" name=""/>
          <p:cNvGrpSpPr/>
          <p:nvPr/>
        </p:nvGrpSpPr>
        <p:grpSpPr>
          <a:xfrm>
            <a:off x="3289320" y="4027320"/>
            <a:ext cx="2836800" cy="1925640"/>
            <a:chOff x="3289320" y="4027320"/>
            <a:chExt cx="2836800" cy="1925640"/>
          </a:xfrm>
        </p:grpSpPr>
        <p:sp>
          <p:nvSpPr>
            <p:cNvPr id="440" name="文本框 17"/>
            <p:cNvSpPr/>
            <p:nvPr/>
          </p:nvSpPr>
          <p:spPr>
            <a:xfrm>
              <a:off x="358272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1" name="文本框 18"/>
            <p:cNvSpPr/>
            <p:nvPr/>
          </p:nvSpPr>
          <p:spPr>
            <a:xfrm>
              <a:off x="339516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2" name="矩形 19"/>
            <p:cNvSpPr/>
            <p:nvPr/>
          </p:nvSpPr>
          <p:spPr>
            <a:xfrm>
              <a:off x="328932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43" name=""/>
          <p:cNvGrpSpPr/>
          <p:nvPr/>
        </p:nvGrpSpPr>
        <p:grpSpPr>
          <a:xfrm>
            <a:off x="8186760" y="4027320"/>
            <a:ext cx="2836800" cy="1925640"/>
            <a:chOff x="8186760" y="4027320"/>
            <a:chExt cx="2836800" cy="1925640"/>
          </a:xfrm>
        </p:grpSpPr>
        <p:sp>
          <p:nvSpPr>
            <p:cNvPr id="444" name="文本框 21"/>
            <p:cNvSpPr/>
            <p:nvPr/>
          </p:nvSpPr>
          <p:spPr>
            <a:xfrm>
              <a:off x="848016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5" name="文本框 22"/>
            <p:cNvSpPr/>
            <p:nvPr/>
          </p:nvSpPr>
          <p:spPr>
            <a:xfrm>
              <a:off x="829260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6" name="矩形 23"/>
            <p:cNvSpPr/>
            <p:nvPr/>
          </p:nvSpPr>
          <p:spPr>
            <a:xfrm>
              <a:off x="818676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联系方式</a:t>
            </a:r>
            <a:endParaRPr b="0" lang="en-US" sz="3600" spc="-1" strike="noStrike">
              <a:solidFill>
                <a:srgbClr val="000000"/>
              </a:solidFill>
              <a:latin typeface="Calibri Light"/>
            </a:endParaRPr>
          </a:p>
        </p:txBody>
      </p:sp>
      <p:sp>
        <p:nvSpPr>
          <p:cNvPr id="44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对角圆角矩形 4"/>
          <p:cNvSpPr/>
          <p:nvPr/>
        </p:nvSpPr>
        <p:spPr>
          <a:xfrm>
            <a:off x="4549680" y="1782720"/>
            <a:ext cx="6229440" cy="3741840"/>
          </a:xfrm>
          <a:custGeom>
            <a:avLst/>
            <a:gdLst/>
            <a:ahLst/>
            <a:rect l="l" t="t" r="r" b="b"/>
            <a:pathLst>
              <a:path w="6229350" h="3741737">
                <a:moveTo>
                  <a:pt x="623635" y="0"/>
                </a:moveTo>
                <a:lnTo>
                  <a:pt x="6229350" y="0"/>
                </a:lnTo>
                <a:lnTo>
                  <a:pt x="6229350" y="0"/>
                </a:lnTo>
                <a:lnTo>
                  <a:pt x="6229350" y="3118102"/>
                </a:lnTo>
                <a:cubicBezTo>
                  <a:pt x="6229350" y="3462526"/>
                  <a:pt x="5950139" y="3741737"/>
                  <a:pt x="5605715" y="3741737"/>
                </a:cubicBezTo>
                <a:lnTo>
                  <a:pt x="0" y="3741737"/>
                </a:lnTo>
                <a:lnTo>
                  <a:pt x="0" y="3741737"/>
                </a:lnTo>
                <a:lnTo>
                  <a:pt x="0" y="623635"/>
                </a:lnTo>
                <a:cubicBezTo>
                  <a:pt x="0" y="279211"/>
                  <a:pt x="279211" y="0"/>
                  <a:pt x="623635" y="0"/>
                </a:cubicBezTo>
                <a:close/>
              </a:path>
            </a:pathLst>
          </a:custGeom>
          <a:solidFill>
            <a:srgbClr val="ffffff"/>
          </a:solidFill>
          <a:ln w="12600">
            <a:solidFill>
              <a:srgbClr val="f2f2f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50" name=""/>
          <p:cNvGrpSpPr/>
          <p:nvPr/>
        </p:nvGrpSpPr>
        <p:grpSpPr>
          <a:xfrm>
            <a:off x="5705640" y="2401920"/>
            <a:ext cx="3700080" cy="2587680"/>
            <a:chOff x="5705640" y="2401920"/>
            <a:chExt cx="3700080" cy="2587680"/>
          </a:xfrm>
        </p:grpSpPr>
        <p:pic>
          <p:nvPicPr>
            <p:cNvPr id="451" name="Picture 2" descr="D:\001PPT\103燕京公益\pic\16_110323113559_1.jpg"/>
            <p:cNvPicPr/>
            <p:nvPr/>
          </p:nvPicPr>
          <p:blipFill>
            <a:blip r:embed="rId1"/>
            <a:stretch/>
          </p:blipFill>
          <p:spPr>
            <a:xfrm>
              <a:off x="5705640" y="3054240"/>
              <a:ext cx="477360" cy="477720"/>
            </a:xfrm>
            <a:prstGeom prst="rect">
              <a:avLst/>
            </a:prstGeom>
            <a:ln w="0">
              <a:noFill/>
            </a:ln>
          </p:spPr>
        </p:pic>
        <p:pic>
          <p:nvPicPr>
            <p:cNvPr id="452" name="Picture 4" descr="D:\001PPT\103燕京公益\pic\MC900431587.PNG"/>
            <p:cNvPicPr/>
            <p:nvPr/>
          </p:nvPicPr>
          <p:blipFill>
            <a:blip r:embed="rId2"/>
            <a:stretch/>
          </p:blipFill>
          <p:spPr>
            <a:xfrm>
              <a:off x="5705640" y="2401920"/>
              <a:ext cx="452880" cy="453240"/>
            </a:xfrm>
            <a:prstGeom prst="rect">
              <a:avLst/>
            </a:prstGeom>
            <a:ln w="0">
              <a:noFill/>
            </a:ln>
          </p:spPr>
        </p:pic>
        <p:sp>
          <p:nvSpPr>
            <p:cNvPr id="453" name="TextBox 2"/>
            <p:cNvSpPr/>
            <p:nvPr/>
          </p:nvSpPr>
          <p:spPr>
            <a:xfrm>
              <a:off x="6877080" y="243540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Unicode MS"/>
                  <a:ea typeface="Arial Unicode MS"/>
                </a:rPr>
                <a:t>email@163.com</a:t>
              </a:r>
              <a:endParaRPr b="0" lang="en-US" sz="2400" spc="-1" strike="noStrike">
                <a:solidFill>
                  <a:srgbClr val="000000"/>
                </a:solidFill>
                <a:latin typeface="Calibri"/>
              </a:endParaRPr>
            </a:p>
          </p:txBody>
        </p:sp>
        <p:sp>
          <p:nvSpPr>
            <p:cNvPr id="454" name="矩形 11"/>
            <p:cNvSpPr/>
            <p:nvPr/>
          </p:nvSpPr>
          <p:spPr>
            <a:xfrm>
              <a:off x="7164720" y="3228840"/>
              <a:ext cx="22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sp>
          <p:nvSpPr>
            <p:cNvPr id="455" name="矩形 12"/>
            <p:cNvSpPr/>
            <p:nvPr/>
          </p:nvSpPr>
          <p:spPr>
            <a:xfrm>
              <a:off x="6930000" y="4503240"/>
              <a:ext cx="247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6-130-0000-0000</a:t>
              </a:r>
              <a:endParaRPr b="0" lang="en-US" sz="2000" spc="-1" strike="noStrike">
                <a:solidFill>
                  <a:srgbClr val="000000"/>
                </a:solidFill>
                <a:latin typeface="Calibri"/>
              </a:endParaRPr>
            </a:p>
          </p:txBody>
        </p:sp>
        <p:pic>
          <p:nvPicPr>
            <p:cNvPr id="456" name="图片 2" descr=""/>
            <p:cNvPicPr/>
            <p:nvPr/>
          </p:nvPicPr>
          <p:blipFill>
            <a:blip r:embed="rId3"/>
            <a:srcRect l="23236" t="7470" r="19722" b="2716"/>
            <a:stretch/>
          </p:blipFill>
          <p:spPr>
            <a:xfrm>
              <a:off x="5705640" y="4353480"/>
              <a:ext cx="502200" cy="636120"/>
            </a:xfrm>
            <a:prstGeom prst="rect">
              <a:avLst/>
            </a:prstGeom>
            <a:ln w="0">
              <a:noFill/>
            </a:ln>
          </p:spPr>
        </p:pic>
        <p:sp>
          <p:nvSpPr>
            <p:cNvPr id="457" name="文本框 14"/>
            <p:cNvSpPr/>
            <p:nvPr/>
          </p:nvSpPr>
          <p:spPr>
            <a:xfrm>
              <a:off x="6357960" y="2460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邮件：</a:t>
              </a:r>
              <a:endParaRPr b="0" lang="en-US" sz="2400" spc="-1" strike="noStrike">
                <a:solidFill>
                  <a:srgbClr val="000000"/>
                </a:solidFill>
                <a:latin typeface="Calibri"/>
              </a:endParaRPr>
            </a:p>
          </p:txBody>
        </p:sp>
        <p:sp>
          <p:nvSpPr>
            <p:cNvPr id="458" name="文本框 15"/>
            <p:cNvSpPr/>
            <p:nvPr/>
          </p:nvSpPr>
          <p:spPr>
            <a:xfrm>
              <a:off x="6357960" y="319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博：</a:t>
              </a:r>
              <a:endParaRPr b="0" lang="en-US" sz="2400" spc="-1" strike="noStrike">
                <a:solidFill>
                  <a:srgbClr val="000000"/>
                </a:solidFill>
                <a:latin typeface="Calibri"/>
              </a:endParaRPr>
            </a:p>
          </p:txBody>
        </p:sp>
        <p:sp>
          <p:nvSpPr>
            <p:cNvPr id="459" name="文本框 16"/>
            <p:cNvSpPr/>
            <p:nvPr/>
          </p:nvSpPr>
          <p:spPr>
            <a:xfrm>
              <a:off x="6306480" y="449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手机：</a:t>
              </a:r>
              <a:endParaRPr b="0" lang="en-US" sz="2400" spc="-1" strike="noStrike">
                <a:solidFill>
                  <a:srgbClr val="000000"/>
                </a:solidFill>
                <a:latin typeface="Calibri"/>
              </a:endParaRPr>
            </a:p>
          </p:txBody>
        </p:sp>
        <p:pic>
          <p:nvPicPr>
            <p:cNvPr id="460" name="图片 17" descr=""/>
            <p:cNvPicPr/>
            <p:nvPr/>
          </p:nvPicPr>
          <p:blipFill>
            <a:blip r:embed="rId4"/>
            <a:stretch/>
          </p:blipFill>
          <p:spPr>
            <a:xfrm>
              <a:off x="5705640" y="3731040"/>
              <a:ext cx="423000" cy="423000"/>
            </a:xfrm>
            <a:prstGeom prst="rect">
              <a:avLst/>
            </a:prstGeom>
            <a:ln w="0">
              <a:noFill/>
            </a:ln>
          </p:spPr>
        </p:pic>
        <p:sp>
          <p:nvSpPr>
            <p:cNvPr id="461" name="文本框 18"/>
            <p:cNvSpPr/>
            <p:nvPr/>
          </p:nvSpPr>
          <p:spPr>
            <a:xfrm>
              <a:off x="6345000" y="382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信：</a:t>
              </a:r>
              <a:endParaRPr b="0" lang="en-US" sz="2400" spc="-1" strike="noStrike">
                <a:solidFill>
                  <a:srgbClr val="000000"/>
                </a:solidFill>
                <a:latin typeface="Calibri"/>
              </a:endParaRPr>
            </a:p>
          </p:txBody>
        </p:sp>
        <p:sp>
          <p:nvSpPr>
            <p:cNvPr id="462" name="矩形 19"/>
            <p:cNvSpPr/>
            <p:nvPr/>
          </p:nvSpPr>
          <p:spPr>
            <a:xfrm>
              <a:off x="7159680" y="3847320"/>
              <a:ext cx="199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grpSp>
      <p:grpSp>
        <p:nvGrpSpPr>
          <p:cNvPr id="463" name=""/>
          <p:cNvGrpSpPr/>
          <p:nvPr/>
        </p:nvGrpSpPr>
        <p:grpSpPr>
          <a:xfrm>
            <a:off x="933480" y="2030400"/>
            <a:ext cx="3120840" cy="3363840"/>
            <a:chOff x="933480" y="2030400"/>
            <a:chExt cx="3120840" cy="3363840"/>
          </a:xfrm>
        </p:grpSpPr>
        <p:pic>
          <p:nvPicPr>
            <p:cNvPr id="464" name="矩形 23" descr=""/>
            <p:cNvPicPr/>
            <p:nvPr/>
          </p:nvPicPr>
          <p:blipFill>
            <a:blip r:embed="rId5"/>
            <a:stretch/>
          </p:blipFill>
          <p:spPr>
            <a:xfrm>
              <a:off x="933480" y="2030400"/>
              <a:ext cx="3120840" cy="3363840"/>
            </a:xfrm>
            <a:prstGeom prst="rect">
              <a:avLst/>
            </a:prstGeom>
            <a:ln w="0">
              <a:noFill/>
            </a:ln>
          </p:spPr>
        </p:pic>
        <p:sp>
          <p:nvSpPr>
            <p:cNvPr id="465" name=""/>
            <p:cNvSpPr/>
            <p:nvPr/>
          </p:nvSpPr>
          <p:spPr>
            <a:xfrm>
              <a:off x="1068120" y="2163600"/>
              <a:ext cx="284580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文本框 24"/>
          <p:cNvSpPr/>
          <p:nvPr/>
        </p:nvSpPr>
        <p:spPr>
          <a:xfrm>
            <a:off x="1609200" y="27176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二维码</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12"/>
          <p:cNvSpPr/>
          <p:nvPr/>
        </p:nvSpPr>
        <p:spPr>
          <a:xfrm>
            <a:off x="0" y="1765440"/>
            <a:ext cx="12192120" cy="2763720"/>
          </a:xfrm>
          <a:prstGeom prst="rect">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文本框 6"/>
          <p:cNvSpPr/>
          <p:nvPr/>
        </p:nvSpPr>
        <p:spPr>
          <a:xfrm>
            <a:off x="3579840" y="254088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595959"/>
                </a:solidFill>
                <a:latin typeface="微软雅黑"/>
                <a:ea typeface="微软雅黑"/>
              </a:rPr>
              <a:t>期待您的加入！</a:t>
            </a:r>
            <a:endParaRPr b="0" lang="en-US" sz="8800" spc="-1" strike="noStrike">
              <a:solidFill>
                <a:srgbClr val="000000"/>
              </a:solidFill>
              <a:latin typeface="Calibri"/>
            </a:endParaRPr>
          </a:p>
        </p:txBody>
      </p:sp>
      <p:sp>
        <p:nvSpPr>
          <p:cNvPr id="469" name="文本框 11"/>
          <p:cNvSpPr/>
          <p:nvPr/>
        </p:nvSpPr>
        <p:spPr>
          <a:xfrm>
            <a:off x="3562560" y="250776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期待您的加入！</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生会</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团委</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社团招新</a:t>
            </a:r>
            <a:r>
              <a:rPr b="1" lang="en-US" sz="3600" spc="-1" strike="noStrike">
                <a:solidFill>
                  <a:srgbClr val="ffffff"/>
                </a:solidFill>
                <a:latin typeface="微软雅黑"/>
                <a:ea typeface="微软雅黑"/>
              </a:rPr>
              <a:t>PPT( 13P</a:t>
            </a:r>
            <a:r>
              <a:rPr b="1" lang="zh-CN" sz="3600" spc="-1" strike="noStrike">
                <a:solidFill>
                  <a:srgbClr val="ffffff"/>
                </a:solidFill>
                <a:latin typeface="微软雅黑"/>
                <a:ea typeface="微软雅黑"/>
              </a:rPr>
              <a:t>）</a:t>
            </a:r>
            <a:endParaRPr b="0" lang="en-US" sz="3600" spc="-1" strike="noStrike">
              <a:solidFill>
                <a:srgbClr val="000000"/>
              </a:solidFill>
              <a:latin typeface="Calibri Light"/>
            </a:endParaRPr>
          </a:p>
        </p:txBody>
      </p:sp>
      <p:pic>
        <p:nvPicPr>
          <p:cNvPr id="168" name="图片 2" descr=""/>
          <p:cNvPicPr/>
          <p:nvPr/>
        </p:nvPicPr>
        <p:blipFill>
          <a:blip r:embed="rId1"/>
          <a:srcRect l="0" t="0" r="0" b="4128"/>
          <a:stretch/>
        </p:blipFill>
        <p:spPr>
          <a:xfrm>
            <a:off x="179280" y="1603440"/>
            <a:ext cx="11815920" cy="4773600"/>
          </a:xfrm>
          <a:prstGeom prst="rect">
            <a:avLst/>
          </a:prstGeom>
          <a:ln w="0">
            <a:noFill/>
          </a:ln>
        </p:spPr>
      </p:pic>
      <p:sp>
        <p:nvSpPr>
          <p:cNvPr id="169" name="矩形 10"/>
          <p:cNvSpPr/>
          <p:nvPr/>
        </p:nvSpPr>
        <p:spPr>
          <a:xfrm>
            <a:off x="7216920" y="4800600"/>
            <a:ext cx="4539960" cy="150192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椭圆 11"/>
          <p:cNvSpPr/>
          <p:nvPr/>
        </p:nvSpPr>
        <p:spPr>
          <a:xfrm>
            <a:off x="7831080" y="5511960"/>
            <a:ext cx="430200" cy="38232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椭圆 12"/>
          <p:cNvSpPr/>
          <p:nvPr/>
        </p:nvSpPr>
        <p:spPr>
          <a:xfrm>
            <a:off x="8889840" y="5511960"/>
            <a:ext cx="428760" cy="38232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椭圆 13"/>
          <p:cNvSpPr/>
          <p:nvPr/>
        </p:nvSpPr>
        <p:spPr>
          <a:xfrm>
            <a:off x="11004480" y="5511960"/>
            <a:ext cx="430200" cy="38232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椭圆 14"/>
          <p:cNvSpPr/>
          <p:nvPr/>
        </p:nvSpPr>
        <p:spPr>
          <a:xfrm>
            <a:off x="9947160" y="5511960"/>
            <a:ext cx="430200" cy="38232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
          <p:cNvGrpSpPr/>
          <p:nvPr/>
        </p:nvGrpSpPr>
        <p:grpSpPr>
          <a:xfrm>
            <a:off x="7480440" y="4896000"/>
            <a:ext cx="4419360" cy="571320"/>
            <a:chOff x="7480440" y="4896000"/>
            <a:chExt cx="4419360" cy="571320"/>
          </a:xfrm>
        </p:grpSpPr>
        <p:pic>
          <p:nvPicPr>
            <p:cNvPr id="175" name="矩形 19" descr=""/>
            <p:cNvPicPr/>
            <p:nvPr/>
          </p:nvPicPr>
          <p:blipFill>
            <a:blip r:embed="rId2"/>
            <a:stretch/>
          </p:blipFill>
          <p:spPr>
            <a:xfrm>
              <a:off x="7480440" y="4896000"/>
              <a:ext cx="4419360" cy="571320"/>
            </a:xfrm>
            <a:prstGeom prst="rect">
              <a:avLst/>
            </a:prstGeom>
            <a:ln w="0">
              <a:noFill/>
            </a:ln>
          </p:spPr>
        </p:pic>
        <p:sp>
          <p:nvSpPr>
            <p:cNvPr id="176" name=""/>
            <p:cNvSpPr/>
            <p:nvPr/>
          </p:nvSpPr>
          <p:spPr>
            <a:xfrm>
              <a:off x="7588080" y="4970160"/>
              <a:ext cx="420012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配色方案</a:t>
              </a:r>
              <a:r>
                <a:rPr b="1" lang="en-US" sz="1800" spc="-1" strike="noStrike">
                  <a:solidFill>
                    <a:srgbClr val="ffffff"/>
                  </a:solidFill>
                  <a:latin typeface="微软雅黑"/>
                  <a:ea typeface="微软雅黑"/>
                </a:rPr>
                <a:t>(RGB</a:t>
              </a:r>
              <a:r>
                <a:rPr b="1" lang="zh-CN" sz="1800" spc="-1" strike="noStrike">
                  <a:solidFill>
                    <a:srgbClr val="ffffff"/>
                  </a:solidFill>
                  <a:latin typeface="微软雅黑"/>
                  <a:ea typeface="微软雅黑"/>
                </a:rPr>
                <a:t>值</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grpSp>
      <p:sp>
        <p:nvSpPr>
          <p:cNvPr id="177" name="文本框 20"/>
          <p:cNvSpPr/>
          <p:nvPr/>
        </p:nvSpPr>
        <p:spPr>
          <a:xfrm>
            <a:off x="751428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7 232 16 </a:t>
            </a:r>
            <a:endParaRPr b="0" lang="en-US" sz="1100" spc="-1" strike="noStrike">
              <a:solidFill>
                <a:srgbClr val="000000"/>
              </a:solidFill>
              <a:latin typeface="Calibri"/>
            </a:endParaRPr>
          </a:p>
        </p:txBody>
      </p:sp>
      <p:sp>
        <p:nvSpPr>
          <p:cNvPr id="178" name="文本框 21"/>
          <p:cNvSpPr/>
          <p:nvPr/>
        </p:nvSpPr>
        <p:spPr>
          <a:xfrm>
            <a:off x="8671680" y="5959440"/>
            <a:ext cx="819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1 225 2</a:t>
            </a:r>
            <a:endParaRPr b="0" lang="en-US" sz="1100" spc="-1" strike="noStrike">
              <a:solidFill>
                <a:srgbClr val="000000"/>
              </a:solidFill>
              <a:latin typeface="Calibri"/>
            </a:endParaRPr>
          </a:p>
        </p:txBody>
      </p:sp>
      <p:sp>
        <p:nvSpPr>
          <p:cNvPr id="179" name="文本框 22"/>
          <p:cNvSpPr/>
          <p:nvPr/>
        </p:nvSpPr>
        <p:spPr>
          <a:xfrm>
            <a:off x="9676440" y="5959440"/>
            <a:ext cx="855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 178  51</a:t>
            </a:r>
            <a:endParaRPr b="0" lang="en-US" sz="1100" spc="-1" strike="noStrike">
              <a:solidFill>
                <a:srgbClr val="000000"/>
              </a:solidFill>
              <a:latin typeface="Calibri"/>
            </a:endParaRPr>
          </a:p>
        </p:txBody>
      </p:sp>
      <p:sp>
        <p:nvSpPr>
          <p:cNvPr id="180" name="文本框 23"/>
          <p:cNvSpPr/>
          <p:nvPr/>
        </p:nvSpPr>
        <p:spPr>
          <a:xfrm>
            <a:off x="1073376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3 189 38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Calibri Light"/>
            </a:endParaRPr>
          </a:p>
        </p:txBody>
      </p:sp>
      <p:sp>
        <p:nvSpPr>
          <p:cNvPr id="182" name="圆角矩形 2"/>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
          <p:cNvGrpSpPr/>
          <p:nvPr/>
        </p:nvGrpSpPr>
        <p:grpSpPr>
          <a:xfrm>
            <a:off x="876240" y="1585800"/>
            <a:ext cx="4105440" cy="1117800"/>
            <a:chOff x="876240" y="1585800"/>
            <a:chExt cx="4105440" cy="1117800"/>
          </a:xfrm>
        </p:grpSpPr>
        <p:sp>
          <p:nvSpPr>
            <p:cNvPr id="184" name="椭圆 4"/>
            <p:cNvSpPr/>
            <p:nvPr/>
          </p:nvSpPr>
          <p:spPr>
            <a:xfrm>
              <a:off x="87624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圆角矩形 5"/>
            <p:cNvSpPr/>
            <p:nvPr/>
          </p:nvSpPr>
          <p:spPr>
            <a:xfrm>
              <a:off x="1554120" y="1865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椭圆 6"/>
            <p:cNvSpPr/>
            <p:nvPr/>
          </p:nvSpPr>
          <p:spPr>
            <a:xfrm>
              <a:off x="955440" y="1665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
          <p:cNvGrpSpPr/>
          <p:nvPr/>
        </p:nvGrpSpPr>
        <p:grpSpPr>
          <a:xfrm>
            <a:off x="1236600" y="2782800"/>
            <a:ext cx="4105440" cy="1117800"/>
            <a:chOff x="1236600" y="2782800"/>
            <a:chExt cx="4105440" cy="1117800"/>
          </a:xfrm>
        </p:grpSpPr>
        <p:sp>
          <p:nvSpPr>
            <p:cNvPr id="188" name="椭圆 8"/>
            <p:cNvSpPr/>
            <p:nvPr/>
          </p:nvSpPr>
          <p:spPr>
            <a:xfrm>
              <a:off x="123660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圆角矩形 9"/>
            <p:cNvSpPr/>
            <p:nvPr/>
          </p:nvSpPr>
          <p:spPr>
            <a:xfrm>
              <a:off x="191448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椭圆 10"/>
            <p:cNvSpPr/>
            <p:nvPr/>
          </p:nvSpPr>
          <p:spPr>
            <a:xfrm>
              <a:off x="131580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
          <p:cNvGrpSpPr/>
          <p:nvPr/>
        </p:nvGrpSpPr>
        <p:grpSpPr>
          <a:xfrm>
            <a:off x="1596960" y="4021200"/>
            <a:ext cx="4103640" cy="1117440"/>
            <a:chOff x="1596960" y="4021200"/>
            <a:chExt cx="4103640" cy="1117440"/>
          </a:xfrm>
        </p:grpSpPr>
        <p:sp>
          <p:nvSpPr>
            <p:cNvPr id="192" name="椭圆 12"/>
            <p:cNvSpPr/>
            <p:nvPr/>
          </p:nvSpPr>
          <p:spPr>
            <a:xfrm>
              <a:off x="159696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圆角矩形 13"/>
            <p:cNvSpPr/>
            <p:nvPr/>
          </p:nvSpPr>
          <p:spPr>
            <a:xfrm>
              <a:off x="2274840" y="4300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14"/>
            <p:cNvSpPr/>
            <p:nvPr/>
          </p:nvSpPr>
          <p:spPr>
            <a:xfrm>
              <a:off x="1676160" y="4100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
          <p:cNvGrpSpPr/>
          <p:nvPr/>
        </p:nvGrpSpPr>
        <p:grpSpPr>
          <a:xfrm>
            <a:off x="1957320" y="5218200"/>
            <a:ext cx="4103640" cy="1117440"/>
            <a:chOff x="1957320" y="5218200"/>
            <a:chExt cx="4103640" cy="1117440"/>
          </a:xfrm>
        </p:grpSpPr>
        <p:sp>
          <p:nvSpPr>
            <p:cNvPr id="196" name="椭圆 16"/>
            <p:cNvSpPr/>
            <p:nvPr/>
          </p:nvSpPr>
          <p:spPr>
            <a:xfrm>
              <a:off x="195732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圆角矩形 17"/>
            <p:cNvSpPr/>
            <p:nvPr/>
          </p:nvSpPr>
          <p:spPr>
            <a:xfrm>
              <a:off x="2635200" y="5497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椭圆 18"/>
            <p:cNvSpPr/>
            <p:nvPr/>
          </p:nvSpPr>
          <p:spPr>
            <a:xfrm>
              <a:off x="2036520" y="5297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37"/>
          <p:cNvSpPr/>
          <p:nvPr/>
        </p:nvSpPr>
        <p:spPr>
          <a:xfrm>
            <a:off x="2057400" y="19605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XXX</a:t>
            </a:r>
            <a:r>
              <a:rPr b="1" lang="zh-CN" sz="1800" spc="-1" strike="noStrike">
                <a:solidFill>
                  <a:srgbClr val="595959"/>
                </a:solidFill>
                <a:latin typeface="微软雅黑"/>
                <a:ea typeface="微软雅黑"/>
              </a:rPr>
              <a:t>宗旨</a:t>
            </a:r>
            <a:endParaRPr b="0" lang="en-US" sz="1800" spc="-1" strike="noStrike">
              <a:solidFill>
                <a:srgbClr val="000000"/>
              </a:solidFill>
              <a:latin typeface="Calibri"/>
            </a:endParaRPr>
          </a:p>
        </p:txBody>
      </p:sp>
      <p:sp>
        <p:nvSpPr>
          <p:cNvPr id="200" name="TextBox 42"/>
          <p:cNvSpPr/>
          <p:nvPr/>
        </p:nvSpPr>
        <p:spPr>
          <a:xfrm>
            <a:off x="2708280" y="3157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加入我们你能得到</a:t>
            </a:r>
            <a:endParaRPr b="0" lang="en-US" sz="1800" spc="-1" strike="noStrike">
              <a:solidFill>
                <a:srgbClr val="000000"/>
              </a:solidFill>
              <a:latin typeface="Calibri"/>
            </a:endParaRPr>
          </a:p>
        </p:txBody>
      </p:sp>
      <p:sp>
        <p:nvSpPr>
          <p:cNvPr id="201" name="TextBox 43"/>
          <p:cNvSpPr/>
          <p:nvPr/>
        </p:nvSpPr>
        <p:spPr>
          <a:xfrm>
            <a:off x="299772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招聘职位介绍</a:t>
            </a:r>
            <a:endParaRPr b="0" lang="en-US" sz="1800" spc="-1" strike="noStrike">
              <a:solidFill>
                <a:srgbClr val="000000"/>
              </a:solidFill>
              <a:latin typeface="Calibri"/>
            </a:endParaRPr>
          </a:p>
        </p:txBody>
      </p:sp>
      <p:sp>
        <p:nvSpPr>
          <p:cNvPr id="202" name="TextBox 44"/>
          <p:cNvSpPr/>
          <p:nvPr/>
        </p:nvSpPr>
        <p:spPr>
          <a:xfrm>
            <a:off x="326448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成员介绍</a:t>
            </a:r>
            <a:endParaRPr b="0" lang="en-US" sz="1800" spc="-1" strike="noStrike">
              <a:solidFill>
                <a:srgbClr val="000000"/>
              </a:solidFill>
              <a:latin typeface="Calibri"/>
            </a:endParaRPr>
          </a:p>
        </p:txBody>
      </p:sp>
      <p:sp>
        <p:nvSpPr>
          <p:cNvPr id="203" name="TextBox 45"/>
          <p:cNvSpPr/>
          <p:nvPr/>
        </p:nvSpPr>
        <p:spPr>
          <a:xfrm>
            <a:off x="114120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1</a:t>
            </a:r>
            <a:endParaRPr b="0" lang="en-US" sz="3200" spc="-1" strike="noStrike">
              <a:solidFill>
                <a:srgbClr val="000000"/>
              </a:solidFill>
              <a:latin typeface="Calibri"/>
            </a:endParaRPr>
          </a:p>
        </p:txBody>
      </p:sp>
      <p:sp>
        <p:nvSpPr>
          <p:cNvPr id="204" name="TextBox 46"/>
          <p:cNvSpPr/>
          <p:nvPr/>
        </p:nvSpPr>
        <p:spPr>
          <a:xfrm>
            <a:off x="150156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3</a:t>
            </a:r>
            <a:endParaRPr b="0" lang="en-US" sz="3200" spc="-1" strike="noStrike">
              <a:solidFill>
                <a:srgbClr val="000000"/>
              </a:solidFill>
              <a:latin typeface="Calibri"/>
            </a:endParaRPr>
          </a:p>
        </p:txBody>
      </p:sp>
      <p:sp>
        <p:nvSpPr>
          <p:cNvPr id="205" name="TextBox 47"/>
          <p:cNvSpPr/>
          <p:nvPr/>
        </p:nvSpPr>
        <p:spPr>
          <a:xfrm>
            <a:off x="186120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5</a:t>
            </a:r>
            <a:endParaRPr b="0" lang="en-US" sz="3200" spc="-1" strike="noStrike">
              <a:solidFill>
                <a:srgbClr val="000000"/>
              </a:solidFill>
              <a:latin typeface="Calibri"/>
            </a:endParaRPr>
          </a:p>
        </p:txBody>
      </p:sp>
      <p:sp>
        <p:nvSpPr>
          <p:cNvPr id="206" name="TextBox 48"/>
          <p:cNvSpPr/>
          <p:nvPr/>
        </p:nvSpPr>
        <p:spPr>
          <a:xfrm>
            <a:off x="222084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7</a:t>
            </a:r>
            <a:endParaRPr b="0" lang="en-US" sz="3200" spc="-1" strike="noStrike">
              <a:solidFill>
                <a:srgbClr val="000000"/>
              </a:solidFill>
              <a:latin typeface="Calibri"/>
            </a:endParaRPr>
          </a:p>
        </p:txBody>
      </p:sp>
      <p:grpSp>
        <p:nvGrpSpPr>
          <p:cNvPr id="207" name=""/>
          <p:cNvGrpSpPr/>
          <p:nvPr/>
        </p:nvGrpSpPr>
        <p:grpSpPr>
          <a:xfrm>
            <a:off x="163440" y="-839880"/>
            <a:ext cx="3324240" cy="625680"/>
            <a:chOff x="163440" y="-839880"/>
            <a:chExt cx="3324240" cy="625680"/>
          </a:xfrm>
        </p:grpSpPr>
        <p:sp>
          <p:nvSpPr>
            <p:cNvPr id="208" name="椭圆 28"/>
            <p:cNvSpPr/>
            <p:nvPr/>
          </p:nvSpPr>
          <p:spPr>
            <a:xfrm>
              <a:off x="163440" y="-839880"/>
              <a:ext cx="704880" cy="62568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椭圆 29"/>
            <p:cNvSpPr/>
            <p:nvPr/>
          </p:nvSpPr>
          <p:spPr>
            <a:xfrm>
              <a:off x="1036440" y="-839880"/>
              <a:ext cx="704880" cy="62568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30"/>
            <p:cNvSpPr/>
            <p:nvPr/>
          </p:nvSpPr>
          <p:spPr>
            <a:xfrm>
              <a:off x="1909800" y="-839880"/>
              <a:ext cx="704880" cy="62568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椭圆 31"/>
            <p:cNvSpPr/>
            <p:nvPr/>
          </p:nvSpPr>
          <p:spPr>
            <a:xfrm>
              <a:off x="2782800" y="-839880"/>
              <a:ext cx="704880" cy="62568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2" name=""/>
          <p:cNvGrpSpPr/>
          <p:nvPr/>
        </p:nvGrpSpPr>
        <p:grpSpPr>
          <a:xfrm>
            <a:off x="6170760" y="1585800"/>
            <a:ext cx="4103640" cy="1117800"/>
            <a:chOff x="6170760" y="1585800"/>
            <a:chExt cx="4103640" cy="1117800"/>
          </a:xfrm>
        </p:grpSpPr>
        <p:sp>
          <p:nvSpPr>
            <p:cNvPr id="213" name="椭圆 33"/>
            <p:cNvSpPr/>
            <p:nvPr/>
          </p:nvSpPr>
          <p:spPr>
            <a:xfrm>
              <a:off x="617076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圆角矩形 34"/>
            <p:cNvSpPr/>
            <p:nvPr/>
          </p:nvSpPr>
          <p:spPr>
            <a:xfrm>
              <a:off x="6848640" y="18651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249960" y="1665000"/>
              <a:ext cx="95724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
          <p:cNvGrpSpPr/>
          <p:nvPr/>
        </p:nvGrpSpPr>
        <p:grpSpPr>
          <a:xfrm>
            <a:off x="6529320" y="2782800"/>
            <a:ext cx="4105440" cy="1117800"/>
            <a:chOff x="6529320" y="2782800"/>
            <a:chExt cx="4105440" cy="1117800"/>
          </a:xfrm>
        </p:grpSpPr>
        <p:sp>
          <p:nvSpPr>
            <p:cNvPr id="217" name="椭圆 37"/>
            <p:cNvSpPr/>
            <p:nvPr/>
          </p:nvSpPr>
          <p:spPr>
            <a:xfrm>
              <a:off x="652932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圆角矩形 38"/>
            <p:cNvSpPr/>
            <p:nvPr/>
          </p:nvSpPr>
          <p:spPr>
            <a:xfrm>
              <a:off x="720720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椭圆 39"/>
            <p:cNvSpPr/>
            <p:nvPr/>
          </p:nvSpPr>
          <p:spPr>
            <a:xfrm>
              <a:off x="660852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
          <p:cNvGrpSpPr/>
          <p:nvPr/>
        </p:nvGrpSpPr>
        <p:grpSpPr>
          <a:xfrm>
            <a:off x="6889680" y="4021200"/>
            <a:ext cx="4105440" cy="1117440"/>
            <a:chOff x="6889680" y="4021200"/>
            <a:chExt cx="4105440" cy="1117440"/>
          </a:xfrm>
        </p:grpSpPr>
        <p:sp>
          <p:nvSpPr>
            <p:cNvPr id="221" name="椭圆 41"/>
            <p:cNvSpPr/>
            <p:nvPr/>
          </p:nvSpPr>
          <p:spPr>
            <a:xfrm>
              <a:off x="688968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圆角矩形 42"/>
            <p:cNvSpPr/>
            <p:nvPr/>
          </p:nvSpPr>
          <p:spPr>
            <a:xfrm>
              <a:off x="7567560" y="4300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椭圆 43"/>
            <p:cNvSpPr/>
            <p:nvPr/>
          </p:nvSpPr>
          <p:spPr>
            <a:xfrm>
              <a:off x="6968880" y="4100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
          <p:cNvGrpSpPr/>
          <p:nvPr/>
        </p:nvGrpSpPr>
        <p:grpSpPr>
          <a:xfrm>
            <a:off x="7250040" y="5218200"/>
            <a:ext cx="4105440" cy="1117440"/>
            <a:chOff x="7250040" y="5218200"/>
            <a:chExt cx="4105440" cy="1117440"/>
          </a:xfrm>
        </p:grpSpPr>
        <p:sp>
          <p:nvSpPr>
            <p:cNvPr id="225" name="椭圆 45"/>
            <p:cNvSpPr/>
            <p:nvPr/>
          </p:nvSpPr>
          <p:spPr>
            <a:xfrm>
              <a:off x="725004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圆角矩形 46"/>
            <p:cNvSpPr/>
            <p:nvPr/>
          </p:nvSpPr>
          <p:spPr>
            <a:xfrm>
              <a:off x="7927920" y="5497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47"/>
            <p:cNvSpPr/>
            <p:nvPr/>
          </p:nvSpPr>
          <p:spPr>
            <a:xfrm>
              <a:off x="7329240" y="5297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37"/>
          <p:cNvSpPr/>
          <p:nvPr/>
        </p:nvSpPr>
        <p:spPr>
          <a:xfrm>
            <a:off x="7503480" y="19605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的团队</a:t>
            </a:r>
            <a:endParaRPr b="0" lang="en-US" sz="1800" spc="-1" strike="noStrike">
              <a:solidFill>
                <a:srgbClr val="000000"/>
              </a:solidFill>
              <a:latin typeface="Calibri"/>
            </a:endParaRPr>
          </a:p>
        </p:txBody>
      </p:sp>
      <p:sp>
        <p:nvSpPr>
          <p:cNvPr id="229" name="TextBox 42"/>
          <p:cNvSpPr/>
          <p:nvPr/>
        </p:nvSpPr>
        <p:spPr>
          <a:xfrm>
            <a:off x="7907760" y="3157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历届活动回顾</a:t>
            </a:r>
            <a:endParaRPr b="0" lang="en-US" sz="1800" spc="-1" strike="noStrike">
              <a:solidFill>
                <a:srgbClr val="000000"/>
              </a:solidFill>
              <a:latin typeface="Calibri"/>
            </a:endParaRPr>
          </a:p>
        </p:txBody>
      </p:sp>
      <p:sp>
        <p:nvSpPr>
          <p:cNvPr id="230" name="TextBox 43"/>
          <p:cNvSpPr/>
          <p:nvPr/>
        </p:nvSpPr>
        <p:spPr>
          <a:xfrm>
            <a:off x="829044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任部长介绍</a:t>
            </a:r>
            <a:endParaRPr b="0" lang="en-US" sz="1800" spc="-1" strike="noStrike">
              <a:solidFill>
                <a:srgbClr val="000000"/>
              </a:solidFill>
              <a:latin typeface="Calibri"/>
            </a:endParaRPr>
          </a:p>
        </p:txBody>
      </p:sp>
      <p:sp>
        <p:nvSpPr>
          <p:cNvPr id="231" name="TextBox 44"/>
          <p:cNvSpPr/>
          <p:nvPr/>
        </p:nvSpPr>
        <p:spPr>
          <a:xfrm>
            <a:off x="855720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联系方式</a:t>
            </a:r>
            <a:endParaRPr b="0" lang="en-US" sz="1800" spc="-1" strike="noStrike">
              <a:solidFill>
                <a:srgbClr val="000000"/>
              </a:solidFill>
              <a:latin typeface="Calibri"/>
            </a:endParaRPr>
          </a:p>
        </p:txBody>
      </p:sp>
      <p:sp>
        <p:nvSpPr>
          <p:cNvPr id="232" name="TextBox 45"/>
          <p:cNvSpPr/>
          <p:nvPr/>
        </p:nvSpPr>
        <p:spPr>
          <a:xfrm>
            <a:off x="643392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2</a:t>
            </a:r>
            <a:endParaRPr b="0" lang="en-US" sz="3200" spc="-1" strike="noStrike">
              <a:solidFill>
                <a:srgbClr val="000000"/>
              </a:solidFill>
              <a:latin typeface="Calibri"/>
            </a:endParaRPr>
          </a:p>
        </p:txBody>
      </p:sp>
      <p:sp>
        <p:nvSpPr>
          <p:cNvPr id="233" name="TextBox 46"/>
          <p:cNvSpPr/>
          <p:nvPr/>
        </p:nvSpPr>
        <p:spPr>
          <a:xfrm>
            <a:off x="679428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4</a:t>
            </a:r>
            <a:endParaRPr b="0" lang="en-US" sz="3200" spc="-1" strike="noStrike">
              <a:solidFill>
                <a:srgbClr val="000000"/>
              </a:solidFill>
              <a:latin typeface="Calibri"/>
            </a:endParaRPr>
          </a:p>
        </p:txBody>
      </p:sp>
      <p:sp>
        <p:nvSpPr>
          <p:cNvPr id="234" name="TextBox 47"/>
          <p:cNvSpPr/>
          <p:nvPr/>
        </p:nvSpPr>
        <p:spPr>
          <a:xfrm>
            <a:off x="715464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6</a:t>
            </a:r>
            <a:endParaRPr b="0" lang="en-US" sz="3200" spc="-1" strike="noStrike">
              <a:solidFill>
                <a:srgbClr val="000000"/>
              </a:solidFill>
              <a:latin typeface="Calibri"/>
            </a:endParaRPr>
          </a:p>
        </p:txBody>
      </p:sp>
      <p:sp>
        <p:nvSpPr>
          <p:cNvPr id="235" name="TextBox 48"/>
          <p:cNvSpPr/>
          <p:nvPr/>
        </p:nvSpPr>
        <p:spPr>
          <a:xfrm>
            <a:off x="751500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圆角矩形 41"/>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XXX</a:t>
            </a:r>
            <a:r>
              <a:rPr b="1" lang="zh-CN" sz="3600" spc="-1" strike="noStrike">
                <a:solidFill>
                  <a:srgbClr val="ffffff"/>
                </a:solidFill>
                <a:latin typeface="微软雅黑"/>
                <a:ea typeface="微软雅黑"/>
              </a:rPr>
              <a:t>宗旨</a:t>
            </a:r>
            <a:endParaRPr b="0" lang="en-US" sz="3600" spc="-1" strike="noStrike">
              <a:solidFill>
                <a:srgbClr val="000000"/>
              </a:solidFill>
              <a:latin typeface="Calibri Light"/>
            </a:endParaRPr>
          </a:p>
        </p:txBody>
      </p:sp>
      <p:grpSp>
        <p:nvGrpSpPr>
          <p:cNvPr id="238" name=""/>
          <p:cNvGrpSpPr/>
          <p:nvPr/>
        </p:nvGrpSpPr>
        <p:grpSpPr>
          <a:xfrm>
            <a:off x="6408720" y="2808360"/>
            <a:ext cx="2000160" cy="2000160"/>
            <a:chOff x="6408720" y="2808360"/>
            <a:chExt cx="2000160" cy="2000160"/>
          </a:xfrm>
        </p:grpSpPr>
        <p:grpSp>
          <p:nvGrpSpPr>
            <p:cNvPr id="239" name=""/>
            <p:cNvGrpSpPr/>
            <p:nvPr/>
          </p:nvGrpSpPr>
          <p:grpSpPr>
            <a:xfrm>
              <a:off x="6408720" y="2808360"/>
              <a:ext cx="2000160" cy="2000160"/>
              <a:chOff x="6408720" y="2808360"/>
              <a:chExt cx="2000160" cy="2000160"/>
            </a:xfrm>
          </p:grpSpPr>
          <p:pic>
            <p:nvPicPr>
              <p:cNvPr id="240" name="椭圆 3" descr=""/>
              <p:cNvPicPr/>
              <p:nvPr/>
            </p:nvPicPr>
            <p:blipFill>
              <a:blip r:embed="rId1"/>
              <a:stretch/>
            </p:blipFill>
            <p:spPr>
              <a:xfrm>
                <a:off x="6408720" y="2808360"/>
                <a:ext cx="2000160" cy="2000160"/>
              </a:xfrm>
              <a:prstGeom prst="rect">
                <a:avLst/>
              </a:prstGeom>
              <a:ln w="0">
                <a:noFill/>
              </a:ln>
            </p:spPr>
          </p:pic>
          <p:sp>
            <p:nvSpPr>
              <p:cNvPr id="241" name=""/>
              <p:cNvSpPr/>
              <p:nvPr/>
            </p:nvSpPr>
            <p:spPr>
              <a:xfrm>
                <a:off x="6779160" y="3175200"/>
                <a:ext cx="1257840" cy="12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5"/>
            <p:cNvSpPr/>
            <p:nvPr/>
          </p:nvSpPr>
          <p:spPr>
            <a:xfrm>
              <a:off x="6721920" y="3603960"/>
              <a:ext cx="13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宗旨</a:t>
              </a:r>
              <a:endParaRPr b="0" lang="en-US" sz="3200" spc="-1" strike="noStrike">
                <a:solidFill>
                  <a:srgbClr val="000000"/>
                </a:solidFill>
                <a:latin typeface="Calibri"/>
              </a:endParaRPr>
            </a:p>
          </p:txBody>
        </p:sp>
      </p:grpSp>
      <p:sp>
        <p:nvSpPr>
          <p:cNvPr id="243" name="TextBox 45"/>
          <p:cNvSpPr/>
          <p:nvPr/>
        </p:nvSpPr>
        <p:spPr>
          <a:xfrm>
            <a:off x="8323200" y="150480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4" name="TextBox 45"/>
          <p:cNvSpPr/>
          <p:nvPr/>
        </p:nvSpPr>
        <p:spPr>
          <a:xfrm>
            <a:off x="844380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5" name="TextBox 45"/>
          <p:cNvSpPr/>
          <p:nvPr/>
        </p:nvSpPr>
        <p:spPr>
          <a:xfrm>
            <a:off x="8323200" y="567072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6" name="TextBox 45"/>
          <p:cNvSpPr/>
          <p:nvPr/>
        </p:nvSpPr>
        <p:spPr>
          <a:xfrm>
            <a:off x="390996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7" name="直接连接符 42"/>
          <p:cNvSpPr/>
          <p:nvPr/>
        </p:nvSpPr>
        <p:spPr>
          <a:xfrm>
            <a:off x="7404120" y="214632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直接连接符 44"/>
          <p:cNvSpPr/>
          <p:nvPr/>
        </p:nvSpPr>
        <p:spPr>
          <a:xfrm>
            <a:off x="7404120" y="482760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45"/>
          <p:cNvSpPr/>
          <p:nvPr/>
        </p:nvSpPr>
        <p:spPr>
          <a:xfrm>
            <a:off x="836604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46"/>
          <p:cNvSpPr/>
          <p:nvPr/>
        </p:nvSpPr>
        <p:spPr>
          <a:xfrm>
            <a:off x="582300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1" name=""/>
          <p:cNvGrpSpPr/>
          <p:nvPr/>
        </p:nvGrpSpPr>
        <p:grpSpPr>
          <a:xfrm>
            <a:off x="6684480" y="1515960"/>
            <a:ext cx="1382760" cy="677880"/>
            <a:chOff x="6684480" y="1515960"/>
            <a:chExt cx="1382760" cy="677880"/>
          </a:xfrm>
        </p:grpSpPr>
        <p:sp>
          <p:nvSpPr>
            <p:cNvPr id="252" name="AutoShape 44"/>
            <p:cNvSpPr/>
            <p:nvPr/>
          </p:nvSpPr>
          <p:spPr>
            <a:xfrm flipH="1">
              <a:off x="6684120" y="15159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AutoShape 45"/>
            <p:cNvSpPr/>
            <p:nvPr/>
          </p:nvSpPr>
          <p:spPr>
            <a:xfrm flipH="1">
              <a:off x="6721200" y="15537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TextBox 101"/>
            <p:cNvSpPr/>
            <p:nvPr/>
          </p:nvSpPr>
          <p:spPr>
            <a:xfrm>
              <a:off x="6835680" y="16783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一</a:t>
              </a:r>
              <a:endParaRPr b="0" lang="en-US" sz="1600" spc="-1" strike="noStrike">
                <a:solidFill>
                  <a:srgbClr val="000000"/>
                </a:solidFill>
                <a:latin typeface="Calibri"/>
              </a:endParaRPr>
            </a:p>
          </p:txBody>
        </p:sp>
      </p:grpSp>
      <p:grpSp>
        <p:nvGrpSpPr>
          <p:cNvPr id="255" name=""/>
          <p:cNvGrpSpPr/>
          <p:nvPr/>
        </p:nvGrpSpPr>
        <p:grpSpPr>
          <a:xfrm>
            <a:off x="6684480" y="5622840"/>
            <a:ext cx="1382760" cy="677880"/>
            <a:chOff x="6684480" y="5622840"/>
            <a:chExt cx="1382760" cy="677880"/>
          </a:xfrm>
        </p:grpSpPr>
        <p:sp>
          <p:nvSpPr>
            <p:cNvPr id="256" name="AutoShape 44"/>
            <p:cNvSpPr/>
            <p:nvPr/>
          </p:nvSpPr>
          <p:spPr>
            <a:xfrm flipH="1">
              <a:off x="6684120" y="562284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AutoShape 45"/>
            <p:cNvSpPr/>
            <p:nvPr/>
          </p:nvSpPr>
          <p:spPr>
            <a:xfrm flipH="1">
              <a:off x="6721200" y="566064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101"/>
            <p:cNvSpPr/>
            <p:nvPr/>
          </p:nvSpPr>
          <p:spPr>
            <a:xfrm>
              <a:off x="6835680" y="578520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三</a:t>
              </a:r>
              <a:endParaRPr b="0" lang="en-US" sz="1600" spc="-1" strike="noStrike">
                <a:solidFill>
                  <a:srgbClr val="000000"/>
                </a:solidFill>
                <a:latin typeface="Calibri"/>
              </a:endParaRPr>
            </a:p>
          </p:txBody>
        </p:sp>
      </p:grpSp>
      <p:grpSp>
        <p:nvGrpSpPr>
          <p:cNvPr id="259" name=""/>
          <p:cNvGrpSpPr/>
          <p:nvPr/>
        </p:nvGrpSpPr>
        <p:grpSpPr>
          <a:xfrm>
            <a:off x="4403880" y="3467160"/>
            <a:ext cx="1382400" cy="677880"/>
            <a:chOff x="4403880" y="3467160"/>
            <a:chExt cx="1382400" cy="677880"/>
          </a:xfrm>
        </p:grpSpPr>
        <p:sp>
          <p:nvSpPr>
            <p:cNvPr id="260" name="AutoShape 44"/>
            <p:cNvSpPr/>
            <p:nvPr/>
          </p:nvSpPr>
          <p:spPr>
            <a:xfrm flipH="1">
              <a:off x="4403880" y="3467160"/>
              <a:ext cx="138240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45"/>
            <p:cNvSpPr/>
            <p:nvPr/>
          </p:nvSpPr>
          <p:spPr>
            <a:xfrm flipH="1">
              <a:off x="4453920" y="3504960"/>
              <a:ext cx="129996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01"/>
            <p:cNvSpPr/>
            <p:nvPr/>
          </p:nvSpPr>
          <p:spPr>
            <a:xfrm>
              <a:off x="456984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四</a:t>
              </a:r>
              <a:endParaRPr b="0" lang="en-US" sz="1600" spc="-1" strike="noStrike">
                <a:solidFill>
                  <a:srgbClr val="000000"/>
                </a:solidFill>
                <a:latin typeface="Calibri"/>
              </a:endParaRPr>
            </a:p>
          </p:txBody>
        </p:sp>
      </p:grpSp>
      <p:grpSp>
        <p:nvGrpSpPr>
          <p:cNvPr id="263" name=""/>
          <p:cNvGrpSpPr/>
          <p:nvPr/>
        </p:nvGrpSpPr>
        <p:grpSpPr>
          <a:xfrm>
            <a:off x="9059400" y="3467160"/>
            <a:ext cx="1382760" cy="677880"/>
            <a:chOff x="9059400" y="3467160"/>
            <a:chExt cx="1382760" cy="677880"/>
          </a:xfrm>
        </p:grpSpPr>
        <p:sp>
          <p:nvSpPr>
            <p:cNvPr id="264" name="AutoShape 44"/>
            <p:cNvSpPr/>
            <p:nvPr/>
          </p:nvSpPr>
          <p:spPr>
            <a:xfrm flipH="1">
              <a:off x="9059040" y="34671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AutoShape 45"/>
            <p:cNvSpPr/>
            <p:nvPr/>
          </p:nvSpPr>
          <p:spPr>
            <a:xfrm flipH="1">
              <a:off x="9096120" y="35049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101"/>
            <p:cNvSpPr/>
            <p:nvPr/>
          </p:nvSpPr>
          <p:spPr>
            <a:xfrm>
              <a:off x="921060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二</a:t>
              </a:r>
              <a:endParaRPr b="0" lang="en-US" sz="1600" spc="-1" strike="noStrike">
                <a:solidFill>
                  <a:srgbClr val="000000"/>
                </a:solidFill>
                <a:latin typeface="Calibri"/>
              </a:endParaRPr>
            </a:p>
          </p:txBody>
        </p:sp>
      </p:grpSp>
      <p:grpSp>
        <p:nvGrpSpPr>
          <p:cNvPr id="267" name=""/>
          <p:cNvGrpSpPr/>
          <p:nvPr/>
        </p:nvGrpSpPr>
        <p:grpSpPr>
          <a:xfrm>
            <a:off x="712800" y="2004840"/>
            <a:ext cx="3120840" cy="3365640"/>
            <a:chOff x="712800" y="2004840"/>
            <a:chExt cx="3120840" cy="3365640"/>
          </a:xfrm>
        </p:grpSpPr>
        <p:pic>
          <p:nvPicPr>
            <p:cNvPr id="268" name="矩形 9" descr=""/>
            <p:cNvPicPr/>
            <p:nvPr/>
          </p:nvPicPr>
          <p:blipFill>
            <a:blip r:embed="rId2"/>
            <a:stretch/>
          </p:blipFill>
          <p:spPr>
            <a:xfrm>
              <a:off x="712800" y="2004840"/>
              <a:ext cx="3120840" cy="3365640"/>
            </a:xfrm>
            <a:prstGeom prst="rect">
              <a:avLst/>
            </a:prstGeom>
            <a:ln w="0">
              <a:noFill/>
            </a:ln>
          </p:spPr>
        </p:pic>
        <p:sp>
          <p:nvSpPr>
            <p:cNvPr id="269" name=""/>
            <p:cNvSpPr/>
            <p:nvPr/>
          </p:nvSpPr>
          <p:spPr>
            <a:xfrm>
              <a:off x="848880" y="2138040"/>
              <a:ext cx="284616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文本框 10"/>
          <p:cNvSpPr/>
          <p:nvPr/>
        </p:nvSpPr>
        <p:spPr>
          <a:xfrm>
            <a:off x="1389960" y="26924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照片</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9"/>
          <p:cNvSpPr/>
          <p:nvPr/>
        </p:nvSpPr>
        <p:spPr>
          <a:xfrm>
            <a:off x="1073160" y="5113440"/>
            <a:ext cx="10045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单击添加主题描述文字单击添加主题描述文字单击添加主题描述文字单击添加主题描述文字单击添加主题描述文字单击添加主题描述文字单击添加主题描述文字单击添加主题描述文字</a:t>
            </a:r>
            <a:endParaRPr b="0" lang="en-US" sz="1800" spc="-1" strike="noStrike">
              <a:solidFill>
                <a:srgbClr val="000000"/>
              </a:solidFill>
              <a:latin typeface="Calibri"/>
            </a:endParaRPr>
          </a:p>
        </p:txBody>
      </p:sp>
      <p:grpSp>
        <p:nvGrpSpPr>
          <p:cNvPr id="274" name=""/>
          <p:cNvGrpSpPr/>
          <p:nvPr/>
        </p:nvGrpSpPr>
        <p:grpSpPr>
          <a:xfrm>
            <a:off x="3651120" y="1719360"/>
            <a:ext cx="4896000" cy="3346200"/>
            <a:chOff x="3651120" y="1719360"/>
            <a:chExt cx="4896000" cy="3346200"/>
          </a:xfrm>
        </p:grpSpPr>
        <p:pic>
          <p:nvPicPr>
            <p:cNvPr id="275" name="Freeform 16" descr=""/>
            <p:cNvPicPr/>
            <p:nvPr/>
          </p:nvPicPr>
          <p:blipFill>
            <a:blip r:embed="rId1"/>
            <a:stretch/>
          </p:blipFill>
          <p:spPr>
            <a:xfrm>
              <a:off x="3651120" y="1719360"/>
              <a:ext cx="4896000" cy="3346200"/>
            </a:xfrm>
            <a:prstGeom prst="rect">
              <a:avLst/>
            </a:prstGeom>
            <a:ln w="0">
              <a:noFill/>
            </a:ln>
          </p:spPr>
        </p:pic>
        <p:sp>
          <p:nvSpPr>
            <p:cNvPr id="276" name=""/>
            <p:cNvSpPr/>
            <p:nvPr/>
          </p:nvSpPr>
          <p:spPr>
            <a:xfrm>
              <a:off x="3805200" y="1809360"/>
              <a:ext cx="4581360" cy="31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2"/>
          <p:cNvSpPr/>
          <p:nvPr/>
        </p:nvSpPr>
        <p:spPr>
          <a:xfrm>
            <a:off x="4122720" y="2717640"/>
            <a:ext cx="3948120" cy="2524320"/>
          </a:xfrm>
          <a:custGeom>
            <a:avLst/>
            <a:gdLst/>
            <a:ahLst/>
            <a:rect l="l" t="t" r="r" b="b"/>
            <a:pathLst>
              <a:path w="1180" h="158">
                <a:moveTo>
                  <a:pt x="0" y="158"/>
                </a:moveTo>
                <a:lnTo>
                  <a:pt x="0" y="0"/>
                </a:lnTo>
                <a:lnTo>
                  <a:pt x="1180" y="0"/>
                </a:lnTo>
                <a:lnTo>
                  <a:pt x="1180" y="158"/>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0" name="Freeform 3"/>
          <p:cNvSpPr/>
          <p:nvPr/>
        </p:nvSpPr>
        <p:spPr>
          <a:xfrm>
            <a:off x="2151000" y="3770280"/>
            <a:ext cx="1971720" cy="15368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1" name="Freeform 4"/>
          <p:cNvSpPr/>
          <p:nvPr/>
        </p:nvSpPr>
        <p:spPr>
          <a:xfrm flipH="1">
            <a:off x="8070120" y="3770280"/>
            <a:ext cx="1973160" cy="14540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2" name="Line 5"/>
          <p:cNvSpPr/>
          <p:nvPr/>
        </p:nvSpPr>
        <p:spPr>
          <a:xfrm flipH="1">
            <a:off x="6091200" y="2498760"/>
            <a:ext cx="6480" cy="264492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AutoShape 8"/>
          <p:cNvSpPr/>
          <p:nvPr/>
        </p:nvSpPr>
        <p:spPr>
          <a:xfrm>
            <a:off x="5219640" y="1884240"/>
            <a:ext cx="1755720" cy="615960"/>
          </a:xfrm>
          <a:prstGeom prst="roundRect">
            <a:avLst>
              <a:gd name="adj" fmla="val 16667"/>
            </a:avLst>
          </a:prstGeom>
          <a:gradFill rotWithShape="0">
            <a:gsLst>
              <a:gs pos="0">
                <a:srgbClr val="77bc28"/>
              </a:gs>
              <a:gs pos="100000">
                <a:srgbClr val="44b233"/>
              </a:gs>
            </a:gsLst>
            <a:lin ang="5400000"/>
          </a:gradFill>
          <a:ln w="6480">
            <a:solidFill>
              <a:srgbClr val="70ad4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AutoShape 9"/>
          <p:cNvSpPr/>
          <p:nvPr/>
        </p:nvSpPr>
        <p:spPr>
          <a:xfrm>
            <a:off x="5264280" y="192888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AutoShape 10"/>
          <p:cNvSpPr/>
          <p:nvPr/>
        </p:nvSpPr>
        <p:spPr>
          <a:xfrm>
            <a:off x="5219640" y="2936880"/>
            <a:ext cx="175572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AutoShape 11"/>
          <p:cNvSpPr/>
          <p:nvPr/>
        </p:nvSpPr>
        <p:spPr>
          <a:xfrm>
            <a:off x="526428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AutoShape 12"/>
          <p:cNvSpPr/>
          <p:nvPr/>
        </p:nvSpPr>
        <p:spPr>
          <a:xfrm>
            <a:off x="719280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AutoShape 13"/>
          <p:cNvSpPr/>
          <p:nvPr/>
        </p:nvSpPr>
        <p:spPr>
          <a:xfrm>
            <a:off x="723744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AutoShape 14"/>
          <p:cNvSpPr/>
          <p:nvPr/>
        </p:nvSpPr>
        <p:spPr>
          <a:xfrm>
            <a:off x="324468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AutoShape 15"/>
          <p:cNvSpPr/>
          <p:nvPr/>
        </p:nvSpPr>
        <p:spPr>
          <a:xfrm>
            <a:off x="328932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AutoShape 16"/>
          <p:cNvSpPr/>
          <p:nvPr/>
        </p:nvSpPr>
        <p:spPr>
          <a:xfrm>
            <a:off x="324468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AutoShape 17"/>
          <p:cNvSpPr/>
          <p:nvPr/>
        </p:nvSpPr>
        <p:spPr>
          <a:xfrm>
            <a:off x="328932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AutoShape 18"/>
          <p:cNvSpPr/>
          <p:nvPr/>
        </p:nvSpPr>
        <p:spPr>
          <a:xfrm>
            <a:off x="521964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AutoShape 19"/>
          <p:cNvSpPr/>
          <p:nvPr/>
        </p:nvSpPr>
        <p:spPr>
          <a:xfrm>
            <a:off x="526428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AutoShape 20"/>
          <p:cNvSpPr/>
          <p:nvPr/>
        </p:nvSpPr>
        <p:spPr>
          <a:xfrm>
            <a:off x="127008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21"/>
          <p:cNvSpPr/>
          <p:nvPr/>
        </p:nvSpPr>
        <p:spPr>
          <a:xfrm>
            <a:off x="131436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utoShape 22"/>
          <p:cNvSpPr/>
          <p:nvPr/>
        </p:nvSpPr>
        <p:spPr>
          <a:xfrm>
            <a:off x="916776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utoShape 23"/>
          <p:cNvSpPr/>
          <p:nvPr/>
        </p:nvSpPr>
        <p:spPr>
          <a:xfrm>
            <a:off x="921240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AutoShape 24"/>
          <p:cNvSpPr/>
          <p:nvPr/>
        </p:nvSpPr>
        <p:spPr>
          <a:xfrm>
            <a:off x="719280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AutoShape 25"/>
          <p:cNvSpPr/>
          <p:nvPr/>
        </p:nvSpPr>
        <p:spPr>
          <a:xfrm>
            <a:off x="723744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AutoShape 26"/>
          <p:cNvSpPr/>
          <p:nvPr/>
        </p:nvSpPr>
        <p:spPr>
          <a:xfrm>
            <a:off x="324468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AutoShape 27"/>
          <p:cNvSpPr/>
          <p:nvPr/>
        </p:nvSpPr>
        <p:spPr>
          <a:xfrm>
            <a:off x="328932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AutoShape 28"/>
          <p:cNvSpPr/>
          <p:nvPr/>
        </p:nvSpPr>
        <p:spPr>
          <a:xfrm>
            <a:off x="521964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AutoShape 29"/>
          <p:cNvSpPr/>
          <p:nvPr/>
        </p:nvSpPr>
        <p:spPr>
          <a:xfrm>
            <a:off x="526428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AutoShape 30"/>
          <p:cNvSpPr/>
          <p:nvPr/>
        </p:nvSpPr>
        <p:spPr>
          <a:xfrm>
            <a:off x="127008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AutoShape 31"/>
          <p:cNvSpPr/>
          <p:nvPr/>
        </p:nvSpPr>
        <p:spPr>
          <a:xfrm>
            <a:off x="131436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AutoShape 32"/>
          <p:cNvSpPr/>
          <p:nvPr/>
        </p:nvSpPr>
        <p:spPr>
          <a:xfrm>
            <a:off x="916776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AutoShape 33"/>
          <p:cNvSpPr/>
          <p:nvPr/>
        </p:nvSpPr>
        <p:spPr>
          <a:xfrm>
            <a:off x="921240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AutoShape 34"/>
          <p:cNvSpPr/>
          <p:nvPr/>
        </p:nvSpPr>
        <p:spPr>
          <a:xfrm>
            <a:off x="719280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AutoShape 35"/>
          <p:cNvSpPr/>
          <p:nvPr/>
        </p:nvSpPr>
        <p:spPr>
          <a:xfrm>
            <a:off x="723744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 Box 48"/>
          <p:cNvSpPr/>
          <p:nvPr/>
        </p:nvSpPr>
        <p:spPr>
          <a:xfrm>
            <a:off x="3913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2" name="Text Box 49"/>
          <p:cNvSpPr/>
          <p:nvPr/>
        </p:nvSpPr>
        <p:spPr>
          <a:xfrm>
            <a:off x="390024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3" name="Text Box 50"/>
          <p:cNvSpPr/>
          <p:nvPr/>
        </p:nvSpPr>
        <p:spPr>
          <a:xfrm>
            <a:off x="1923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4" name="Text Box 51"/>
          <p:cNvSpPr/>
          <p:nvPr/>
        </p:nvSpPr>
        <p:spPr>
          <a:xfrm>
            <a:off x="78087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5" name="Text Box 52"/>
          <p:cNvSpPr/>
          <p:nvPr/>
        </p:nvSpPr>
        <p:spPr>
          <a:xfrm>
            <a:off x="58161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6" name="Text Box 53"/>
          <p:cNvSpPr/>
          <p:nvPr/>
        </p:nvSpPr>
        <p:spPr>
          <a:xfrm>
            <a:off x="5893920" y="19969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长</a:t>
            </a:r>
            <a:endParaRPr b="0" lang="en-US" sz="1600" spc="-1" strike="noStrike">
              <a:solidFill>
                <a:srgbClr val="000000"/>
              </a:solidFill>
              <a:latin typeface="Calibri"/>
            </a:endParaRPr>
          </a:p>
        </p:txBody>
      </p:sp>
      <p:sp>
        <p:nvSpPr>
          <p:cNvPr id="317" name="Text Box 54"/>
          <p:cNvSpPr/>
          <p:nvPr/>
        </p:nvSpPr>
        <p:spPr>
          <a:xfrm>
            <a:off x="38415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8" name="Text Box 55"/>
          <p:cNvSpPr/>
          <p:nvPr/>
        </p:nvSpPr>
        <p:spPr>
          <a:xfrm>
            <a:off x="785052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9" name="Text Box 56"/>
          <p:cNvSpPr/>
          <p:nvPr/>
        </p:nvSpPr>
        <p:spPr>
          <a:xfrm>
            <a:off x="98452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0" name="Text Box 57"/>
          <p:cNvSpPr/>
          <p:nvPr/>
        </p:nvSpPr>
        <p:spPr>
          <a:xfrm>
            <a:off x="19299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1" name="Text Box 58"/>
          <p:cNvSpPr/>
          <p:nvPr/>
        </p:nvSpPr>
        <p:spPr>
          <a:xfrm>
            <a:off x="5892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2" name="Text Box 59"/>
          <p:cNvSpPr/>
          <p:nvPr/>
        </p:nvSpPr>
        <p:spPr>
          <a:xfrm>
            <a:off x="7846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3" name="Text Box 60"/>
          <p:cNvSpPr/>
          <p:nvPr/>
        </p:nvSpPr>
        <p:spPr>
          <a:xfrm>
            <a:off x="58701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4" name="Text Box 61"/>
          <p:cNvSpPr/>
          <p:nvPr/>
        </p:nvSpPr>
        <p:spPr>
          <a:xfrm>
            <a:off x="983880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加入我们你能得到</a:t>
            </a:r>
            <a:endParaRPr b="0" lang="en-US" sz="3600" spc="-1" strike="noStrike">
              <a:solidFill>
                <a:srgbClr val="000000"/>
              </a:solidFill>
              <a:latin typeface="Calibri Light"/>
            </a:endParaRPr>
          </a:p>
        </p:txBody>
      </p:sp>
      <p:sp>
        <p:nvSpPr>
          <p:cNvPr id="326"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
          <p:cNvGrpSpPr/>
          <p:nvPr/>
        </p:nvGrpSpPr>
        <p:grpSpPr>
          <a:xfrm>
            <a:off x="1855800" y="2001960"/>
            <a:ext cx="2065320" cy="1179360"/>
            <a:chOff x="1855800" y="2001960"/>
            <a:chExt cx="2065320" cy="1179360"/>
          </a:xfrm>
        </p:grpSpPr>
        <p:sp>
          <p:nvSpPr>
            <p:cNvPr id="328" name="矩形 5"/>
            <p:cNvSpPr/>
            <p:nvPr/>
          </p:nvSpPr>
          <p:spPr>
            <a:xfrm>
              <a:off x="185580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29" name="文本框 6"/>
            <p:cNvSpPr/>
            <p:nvPr/>
          </p:nvSpPr>
          <p:spPr>
            <a:xfrm>
              <a:off x="2169720" y="2001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组织策划能力</a:t>
              </a:r>
              <a:endParaRPr b="0" lang="en-US" sz="2000" spc="-1" strike="noStrike">
                <a:solidFill>
                  <a:srgbClr val="000000"/>
                </a:solidFill>
                <a:latin typeface="Calibri"/>
              </a:endParaRPr>
            </a:p>
          </p:txBody>
        </p:sp>
      </p:grpSp>
      <p:grpSp>
        <p:nvGrpSpPr>
          <p:cNvPr id="330" name=""/>
          <p:cNvGrpSpPr/>
          <p:nvPr/>
        </p:nvGrpSpPr>
        <p:grpSpPr>
          <a:xfrm>
            <a:off x="5140440" y="2001960"/>
            <a:ext cx="2065320" cy="1179360"/>
            <a:chOff x="5140440" y="2001960"/>
            <a:chExt cx="2065320" cy="1179360"/>
          </a:xfrm>
        </p:grpSpPr>
        <p:sp>
          <p:nvSpPr>
            <p:cNvPr id="331" name="矩形 8"/>
            <p:cNvSpPr/>
            <p:nvPr/>
          </p:nvSpPr>
          <p:spPr>
            <a:xfrm>
              <a:off x="514044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2" name="文本框 9"/>
            <p:cNvSpPr/>
            <p:nvPr/>
          </p:nvSpPr>
          <p:spPr>
            <a:xfrm>
              <a:off x="5402160" y="20019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亲密的伙伴</a:t>
              </a:r>
              <a:endParaRPr b="0" lang="en-US" sz="2000" spc="-1" strike="noStrike">
                <a:solidFill>
                  <a:srgbClr val="000000"/>
                </a:solidFill>
                <a:latin typeface="Calibri"/>
              </a:endParaRPr>
            </a:p>
          </p:txBody>
        </p:sp>
      </p:grpSp>
      <p:grpSp>
        <p:nvGrpSpPr>
          <p:cNvPr id="333" name=""/>
          <p:cNvGrpSpPr/>
          <p:nvPr/>
        </p:nvGrpSpPr>
        <p:grpSpPr>
          <a:xfrm>
            <a:off x="8678880" y="2001960"/>
            <a:ext cx="2066760" cy="1179360"/>
            <a:chOff x="8678880" y="2001960"/>
            <a:chExt cx="2066760" cy="1179360"/>
          </a:xfrm>
        </p:grpSpPr>
        <p:sp>
          <p:nvSpPr>
            <p:cNvPr id="334" name="矩形 11"/>
            <p:cNvSpPr/>
            <p:nvPr/>
          </p:nvSpPr>
          <p:spPr>
            <a:xfrm>
              <a:off x="8678880" y="235728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5" name="文本框 12"/>
            <p:cNvSpPr/>
            <p:nvPr/>
          </p:nvSpPr>
          <p:spPr>
            <a:xfrm>
              <a:off x="8889120" y="2001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沟通能力</a:t>
              </a:r>
              <a:endParaRPr b="0" lang="en-US" sz="2000" spc="-1" strike="noStrike">
                <a:solidFill>
                  <a:srgbClr val="000000"/>
                </a:solidFill>
                <a:latin typeface="Calibri"/>
              </a:endParaRPr>
            </a:p>
          </p:txBody>
        </p:sp>
      </p:grpSp>
      <p:grpSp>
        <p:nvGrpSpPr>
          <p:cNvPr id="336" name=""/>
          <p:cNvGrpSpPr/>
          <p:nvPr/>
        </p:nvGrpSpPr>
        <p:grpSpPr>
          <a:xfrm>
            <a:off x="1855800" y="4295880"/>
            <a:ext cx="2065320" cy="1124280"/>
            <a:chOff x="1855800" y="4295880"/>
            <a:chExt cx="2065320" cy="1124280"/>
          </a:xfrm>
        </p:grpSpPr>
        <p:sp>
          <p:nvSpPr>
            <p:cNvPr id="337" name="矩形 14"/>
            <p:cNvSpPr/>
            <p:nvPr/>
          </p:nvSpPr>
          <p:spPr>
            <a:xfrm>
              <a:off x="185580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8" name="文本框 15"/>
            <p:cNvSpPr/>
            <p:nvPr/>
          </p:nvSpPr>
          <p:spPr>
            <a:xfrm>
              <a:off x="2117520" y="42958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业的培训</a:t>
              </a:r>
              <a:endParaRPr b="0" lang="en-US" sz="2000" spc="-1" strike="noStrike">
                <a:solidFill>
                  <a:srgbClr val="000000"/>
                </a:solidFill>
                <a:latin typeface="Calibri"/>
              </a:endParaRPr>
            </a:p>
          </p:txBody>
        </p:sp>
      </p:grpSp>
      <p:grpSp>
        <p:nvGrpSpPr>
          <p:cNvPr id="339" name=""/>
          <p:cNvGrpSpPr/>
          <p:nvPr/>
        </p:nvGrpSpPr>
        <p:grpSpPr>
          <a:xfrm>
            <a:off x="5140440" y="4295880"/>
            <a:ext cx="2065320" cy="1124280"/>
            <a:chOff x="5140440" y="4295880"/>
            <a:chExt cx="2065320" cy="1124280"/>
          </a:xfrm>
        </p:grpSpPr>
        <p:sp>
          <p:nvSpPr>
            <p:cNvPr id="340" name="矩形 17"/>
            <p:cNvSpPr/>
            <p:nvPr/>
          </p:nvSpPr>
          <p:spPr>
            <a:xfrm>
              <a:off x="514044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1" name="文本框 18"/>
            <p:cNvSpPr/>
            <p:nvPr/>
          </p:nvSpPr>
          <p:spPr>
            <a:xfrm>
              <a:off x="550620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难忘的大学经历</a:t>
              </a:r>
              <a:endParaRPr b="0" lang="en-US" sz="2000" spc="-1" strike="noStrike">
                <a:solidFill>
                  <a:srgbClr val="000000"/>
                </a:solidFill>
                <a:latin typeface="Calibri"/>
              </a:endParaRPr>
            </a:p>
          </p:txBody>
        </p:sp>
      </p:grpSp>
      <p:grpSp>
        <p:nvGrpSpPr>
          <p:cNvPr id="342" name=""/>
          <p:cNvGrpSpPr/>
          <p:nvPr/>
        </p:nvGrpSpPr>
        <p:grpSpPr>
          <a:xfrm>
            <a:off x="8678880" y="4295880"/>
            <a:ext cx="2066760" cy="1124280"/>
            <a:chOff x="8678880" y="4295880"/>
            <a:chExt cx="2066760" cy="1124280"/>
          </a:xfrm>
        </p:grpSpPr>
        <p:sp>
          <p:nvSpPr>
            <p:cNvPr id="343" name="矩形 20"/>
            <p:cNvSpPr/>
            <p:nvPr/>
          </p:nvSpPr>
          <p:spPr>
            <a:xfrm>
              <a:off x="8678880" y="459612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4" name="文本框 21"/>
            <p:cNvSpPr/>
            <p:nvPr/>
          </p:nvSpPr>
          <p:spPr>
            <a:xfrm>
              <a:off x="904536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团队的荣誉共享</a:t>
              </a:r>
              <a:endParaRPr b="0" lang="en-US" sz="2000" spc="-1" strike="noStrike">
                <a:solidFill>
                  <a:srgbClr val="000000"/>
                </a:solidFill>
                <a:latin typeface="Calibri"/>
              </a:endParaRPr>
            </a:p>
          </p:txBody>
        </p:sp>
      </p:grpSp>
      <p:sp>
        <p:nvSpPr>
          <p:cNvPr id="345" name="Freeform 58"/>
          <p:cNvSpPr/>
          <p:nvPr/>
        </p:nvSpPr>
        <p:spPr>
          <a:xfrm>
            <a:off x="1373040" y="1998720"/>
            <a:ext cx="493920" cy="563400"/>
          </a:xfrm>
          <a:custGeom>
            <a:avLst/>
            <a:gdLst/>
            <a:ahLst/>
            <a:rect l="l" t="t" r="r" b="b"/>
            <a:pathLst>
              <a:path w="71" h="81">
                <a:moveTo>
                  <a:pt x="14" y="4"/>
                </a:moveTo>
                <a:cubicBezTo>
                  <a:pt x="10" y="4"/>
                  <a:pt x="6" y="8"/>
                  <a:pt x="6" y="13"/>
                </a:cubicBezTo>
                <a:cubicBezTo>
                  <a:pt x="6" y="18"/>
                  <a:pt x="10" y="22"/>
                  <a:pt x="14" y="22"/>
                </a:cubicBezTo>
                <a:cubicBezTo>
                  <a:pt x="19" y="22"/>
                  <a:pt x="23" y="18"/>
                  <a:pt x="23" y="13"/>
                </a:cubicBezTo>
                <a:cubicBezTo>
                  <a:pt x="23" y="8"/>
                  <a:pt x="19" y="4"/>
                  <a:pt x="14" y="4"/>
                </a:cubicBezTo>
                <a:close/>
                <a:moveTo>
                  <a:pt x="40" y="23"/>
                </a:moveTo>
                <a:cubicBezTo>
                  <a:pt x="41" y="30"/>
                  <a:pt x="41" y="30"/>
                  <a:pt x="41" y="30"/>
                </a:cubicBezTo>
                <a:cubicBezTo>
                  <a:pt x="45" y="31"/>
                  <a:pt x="45" y="31"/>
                  <a:pt x="45" y="31"/>
                </a:cubicBezTo>
                <a:cubicBezTo>
                  <a:pt x="48" y="25"/>
                  <a:pt x="48" y="25"/>
                  <a:pt x="48" y="25"/>
                </a:cubicBezTo>
                <a:cubicBezTo>
                  <a:pt x="40" y="23"/>
                  <a:pt x="40" y="23"/>
                  <a:pt x="40" y="23"/>
                </a:cubicBezTo>
                <a:close/>
                <a:moveTo>
                  <a:pt x="53" y="26"/>
                </a:moveTo>
                <a:cubicBezTo>
                  <a:pt x="48" y="35"/>
                  <a:pt x="48" y="35"/>
                  <a:pt x="48" y="35"/>
                </a:cubicBezTo>
                <a:cubicBezTo>
                  <a:pt x="48" y="37"/>
                  <a:pt x="48" y="37"/>
                  <a:pt x="48" y="37"/>
                </a:cubicBezTo>
                <a:cubicBezTo>
                  <a:pt x="46" y="36"/>
                  <a:pt x="46" y="36"/>
                  <a:pt x="46" y="36"/>
                </a:cubicBezTo>
                <a:cubicBezTo>
                  <a:pt x="42" y="35"/>
                  <a:pt x="42" y="35"/>
                  <a:pt x="42" y="35"/>
                </a:cubicBezTo>
                <a:cubicBezTo>
                  <a:pt x="31" y="43"/>
                  <a:pt x="31" y="43"/>
                  <a:pt x="31" y="43"/>
                </a:cubicBezTo>
                <a:cubicBezTo>
                  <a:pt x="24" y="36"/>
                  <a:pt x="24" y="36"/>
                  <a:pt x="24" y="36"/>
                </a:cubicBezTo>
                <a:cubicBezTo>
                  <a:pt x="24" y="51"/>
                  <a:pt x="24" y="51"/>
                  <a:pt x="24" y="51"/>
                </a:cubicBezTo>
                <a:cubicBezTo>
                  <a:pt x="25" y="81"/>
                  <a:pt x="25" y="81"/>
                  <a:pt x="25" y="81"/>
                </a:cubicBezTo>
                <a:cubicBezTo>
                  <a:pt x="18" y="81"/>
                  <a:pt x="18" y="81"/>
                  <a:pt x="18" y="81"/>
                </a:cubicBezTo>
                <a:cubicBezTo>
                  <a:pt x="16" y="55"/>
                  <a:pt x="16" y="55"/>
                  <a:pt x="16" y="55"/>
                </a:cubicBezTo>
                <a:cubicBezTo>
                  <a:pt x="13" y="55"/>
                  <a:pt x="13" y="55"/>
                  <a:pt x="13" y="55"/>
                </a:cubicBezTo>
                <a:cubicBezTo>
                  <a:pt x="12" y="81"/>
                  <a:pt x="12" y="81"/>
                  <a:pt x="12" y="81"/>
                </a:cubicBezTo>
                <a:cubicBezTo>
                  <a:pt x="4" y="81"/>
                  <a:pt x="4" y="81"/>
                  <a:pt x="4" y="81"/>
                </a:cubicBezTo>
                <a:cubicBezTo>
                  <a:pt x="5" y="51"/>
                  <a:pt x="5" y="51"/>
                  <a:pt x="5" y="51"/>
                </a:cubicBezTo>
                <a:cubicBezTo>
                  <a:pt x="4" y="49"/>
                  <a:pt x="2" y="48"/>
                  <a:pt x="0" y="46"/>
                </a:cubicBezTo>
                <a:cubicBezTo>
                  <a:pt x="4" y="24"/>
                  <a:pt x="4" y="24"/>
                  <a:pt x="4" y="24"/>
                </a:cubicBezTo>
                <a:cubicBezTo>
                  <a:pt x="27" y="24"/>
                  <a:pt x="2" y="24"/>
                  <a:pt x="25" y="24"/>
                </a:cubicBezTo>
                <a:cubicBezTo>
                  <a:pt x="32" y="34"/>
                  <a:pt x="32" y="34"/>
                  <a:pt x="32" y="34"/>
                </a:cubicBezTo>
                <a:cubicBezTo>
                  <a:pt x="37" y="33"/>
                  <a:pt x="37" y="33"/>
                  <a:pt x="37" y="33"/>
                </a:cubicBezTo>
                <a:cubicBezTo>
                  <a:pt x="37" y="33"/>
                  <a:pt x="37" y="33"/>
                  <a:pt x="37" y="33"/>
                </a:cubicBezTo>
                <a:cubicBezTo>
                  <a:pt x="35" y="22"/>
                  <a:pt x="35" y="22"/>
                  <a:pt x="35" y="22"/>
                </a:cubicBezTo>
                <a:cubicBezTo>
                  <a:pt x="28" y="20"/>
                  <a:pt x="28" y="20"/>
                  <a:pt x="28" y="20"/>
                </a:cubicBezTo>
                <a:cubicBezTo>
                  <a:pt x="28" y="10"/>
                  <a:pt x="28" y="10"/>
                  <a:pt x="28" y="10"/>
                </a:cubicBezTo>
                <a:cubicBezTo>
                  <a:pt x="71" y="0"/>
                  <a:pt x="71" y="0"/>
                  <a:pt x="71" y="0"/>
                </a:cubicBezTo>
                <a:cubicBezTo>
                  <a:pt x="71" y="30"/>
                  <a:pt x="71" y="30"/>
                  <a:pt x="71" y="30"/>
                </a:cubicBezTo>
                <a:cubicBezTo>
                  <a:pt x="53" y="26"/>
                  <a:pt x="53" y="26"/>
                  <a:pt x="53" y="26"/>
                </a:cubicBezTo>
                <a:close/>
                <a:moveTo>
                  <a:pt x="31" y="12"/>
                </a:moveTo>
                <a:cubicBezTo>
                  <a:pt x="31" y="14"/>
                  <a:pt x="31" y="14"/>
                  <a:pt x="31" y="14"/>
                </a:cubicBezTo>
                <a:cubicBezTo>
                  <a:pt x="67" y="12"/>
                  <a:pt x="67" y="12"/>
                  <a:pt x="67" y="12"/>
                </a:cubicBezTo>
                <a:cubicBezTo>
                  <a:pt x="67" y="5"/>
                  <a:pt x="67" y="5"/>
                  <a:pt x="67" y="5"/>
                </a:cubicBezTo>
                <a:lnTo>
                  <a:pt x="31" y="12"/>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6"/>
          <p:cNvSpPr/>
          <p:nvPr/>
        </p:nvSpPr>
        <p:spPr>
          <a:xfrm>
            <a:off x="4478400" y="4278240"/>
            <a:ext cx="639720" cy="479520"/>
          </a:xfrm>
          <a:custGeom>
            <a:avLst/>
            <a:gdLst/>
            <a:ahLst/>
            <a:rect l="l" t="t" r="r" b="b"/>
            <a:pathLst>
              <a:path w="92" h="69">
                <a:moveTo>
                  <a:pt x="20" y="0"/>
                </a:moveTo>
                <a:cubicBezTo>
                  <a:pt x="26" y="0"/>
                  <a:pt x="31" y="2"/>
                  <a:pt x="34" y="6"/>
                </a:cubicBezTo>
                <a:cubicBezTo>
                  <a:pt x="38" y="9"/>
                  <a:pt x="40" y="14"/>
                  <a:pt x="40" y="20"/>
                </a:cubicBezTo>
                <a:cubicBezTo>
                  <a:pt x="30" y="20"/>
                  <a:pt x="30" y="20"/>
                  <a:pt x="30" y="20"/>
                </a:cubicBezTo>
                <a:cubicBezTo>
                  <a:pt x="30" y="17"/>
                  <a:pt x="29" y="15"/>
                  <a:pt x="27" y="13"/>
                </a:cubicBezTo>
                <a:cubicBezTo>
                  <a:pt x="25" y="12"/>
                  <a:pt x="23" y="11"/>
                  <a:pt x="20" y="11"/>
                </a:cubicBezTo>
                <a:cubicBezTo>
                  <a:pt x="18" y="11"/>
                  <a:pt x="15" y="12"/>
                  <a:pt x="13" y="13"/>
                </a:cubicBezTo>
                <a:cubicBezTo>
                  <a:pt x="12" y="15"/>
                  <a:pt x="10" y="18"/>
                  <a:pt x="10" y="20"/>
                </a:cubicBezTo>
                <a:cubicBezTo>
                  <a:pt x="10" y="23"/>
                  <a:pt x="12" y="25"/>
                  <a:pt x="13" y="27"/>
                </a:cubicBezTo>
                <a:cubicBezTo>
                  <a:pt x="15" y="29"/>
                  <a:pt x="17" y="30"/>
                  <a:pt x="19" y="30"/>
                </a:cubicBezTo>
                <a:cubicBezTo>
                  <a:pt x="19" y="34"/>
                  <a:pt x="19" y="34"/>
                  <a:pt x="19" y="34"/>
                </a:cubicBezTo>
                <a:cubicBezTo>
                  <a:pt x="23" y="34"/>
                  <a:pt x="23" y="34"/>
                  <a:pt x="23" y="34"/>
                </a:cubicBezTo>
                <a:cubicBezTo>
                  <a:pt x="23" y="28"/>
                  <a:pt x="23" y="28"/>
                  <a:pt x="23" y="28"/>
                </a:cubicBezTo>
                <a:cubicBezTo>
                  <a:pt x="27" y="24"/>
                  <a:pt x="27" y="24"/>
                  <a:pt x="27" y="24"/>
                </a:cubicBezTo>
                <a:cubicBezTo>
                  <a:pt x="52" y="24"/>
                  <a:pt x="52" y="24"/>
                  <a:pt x="52" y="24"/>
                </a:cubicBezTo>
                <a:cubicBezTo>
                  <a:pt x="58" y="29"/>
                  <a:pt x="58" y="29"/>
                  <a:pt x="58" y="29"/>
                </a:cubicBezTo>
                <a:cubicBezTo>
                  <a:pt x="58" y="34"/>
                  <a:pt x="58" y="34"/>
                  <a:pt x="58" y="34"/>
                </a:cubicBezTo>
                <a:cubicBezTo>
                  <a:pt x="61" y="34"/>
                  <a:pt x="61" y="34"/>
                  <a:pt x="61" y="34"/>
                </a:cubicBezTo>
                <a:cubicBezTo>
                  <a:pt x="61" y="30"/>
                  <a:pt x="61" y="30"/>
                  <a:pt x="61" y="30"/>
                </a:cubicBezTo>
                <a:cubicBezTo>
                  <a:pt x="62" y="30"/>
                  <a:pt x="62" y="30"/>
                  <a:pt x="62" y="30"/>
                </a:cubicBezTo>
                <a:cubicBezTo>
                  <a:pt x="65" y="30"/>
                  <a:pt x="67" y="29"/>
                  <a:pt x="69" y="27"/>
                </a:cubicBezTo>
                <a:cubicBezTo>
                  <a:pt x="70" y="25"/>
                  <a:pt x="72" y="23"/>
                  <a:pt x="72" y="20"/>
                </a:cubicBezTo>
                <a:cubicBezTo>
                  <a:pt x="72" y="18"/>
                  <a:pt x="70" y="15"/>
                  <a:pt x="69" y="13"/>
                </a:cubicBezTo>
                <a:cubicBezTo>
                  <a:pt x="67" y="12"/>
                  <a:pt x="65" y="11"/>
                  <a:pt x="62" y="11"/>
                </a:cubicBezTo>
                <a:cubicBezTo>
                  <a:pt x="59" y="11"/>
                  <a:pt x="57" y="12"/>
                  <a:pt x="55" y="13"/>
                </a:cubicBezTo>
                <a:cubicBezTo>
                  <a:pt x="53" y="15"/>
                  <a:pt x="52" y="17"/>
                  <a:pt x="52" y="20"/>
                </a:cubicBezTo>
                <a:cubicBezTo>
                  <a:pt x="42" y="20"/>
                  <a:pt x="42" y="20"/>
                  <a:pt x="42" y="20"/>
                </a:cubicBezTo>
                <a:cubicBezTo>
                  <a:pt x="42" y="14"/>
                  <a:pt x="44" y="9"/>
                  <a:pt x="48" y="6"/>
                </a:cubicBezTo>
                <a:cubicBezTo>
                  <a:pt x="51" y="2"/>
                  <a:pt x="56" y="0"/>
                  <a:pt x="62" y="0"/>
                </a:cubicBezTo>
                <a:cubicBezTo>
                  <a:pt x="67" y="0"/>
                  <a:pt x="72" y="2"/>
                  <a:pt x="76" y="6"/>
                </a:cubicBezTo>
                <a:cubicBezTo>
                  <a:pt x="80" y="10"/>
                  <a:pt x="82" y="15"/>
                  <a:pt x="82" y="20"/>
                </a:cubicBezTo>
                <a:cubicBezTo>
                  <a:pt x="82" y="26"/>
                  <a:pt x="80" y="31"/>
                  <a:pt x="76" y="35"/>
                </a:cubicBezTo>
                <a:cubicBezTo>
                  <a:pt x="74" y="36"/>
                  <a:pt x="72" y="38"/>
                  <a:pt x="70" y="39"/>
                </a:cubicBezTo>
                <a:cubicBezTo>
                  <a:pt x="70" y="39"/>
                  <a:pt x="70" y="40"/>
                  <a:pt x="70" y="40"/>
                </a:cubicBezTo>
                <a:cubicBezTo>
                  <a:pt x="70" y="46"/>
                  <a:pt x="70" y="46"/>
                  <a:pt x="70" y="46"/>
                </a:cubicBezTo>
                <a:cubicBezTo>
                  <a:pt x="80" y="46"/>
                  <a:pt x="80" y="46"/>
                  <a:pt x="80" y="46"/>
                </a:cubicBezTo>
                <a:cubicBezTo>
                  <a:pt x="80" y="59"/>
                  <a:pt x="80" y="59"/>
                  <a:pt x="80" y="59"/>
                </a:cubicBezTo>
                <a:cubicBezTo>
                  <a:pt x="70" y="59"/>
                  <a:pt x="70" y="59"/>
                  <a:pt x="70" y="59"/>
                </a:cubicBezTo>
                <a:cubicBezTo>
                  <a:pt x="70" y="63"/>
                  <a:pt x="70" y="63"/>
                  <a:pt x="70" y="63"/>
                </a:cubicBezTo>
                <a:cubicBezTo>
                  <a:pt x="70" y="66"/>
                  <a:pt x="67" y="69"/>
                  <a:pt x="64" y="69"/>
                </a:cubicBezTo>
                <a:cubicBezTo>
                  <a:pt x="17" y="69"/>
                  <a:pt x="17" y="69"/>
                  <a:pt x="17" y="69"/>
                </a:cubicBezTo>
                <a:cubicBezTo>
                  <a:pt x="14" y="69"/>
                  <a:pt x="11" y="66"/>
                  <a:pt x="11" y="63"/>
                </a:cubicBezTo>
                <a:cubicBezTo>
                  <a:pt x="11" y="48"/>
                  <a:pt x="11" y="48"/>
                  <a:pt x="11" y="48"/>
                </a:cubicBezTo>
                <a:cubicBezTo>
                  <a:pt x="7" y="48"/>
                  <a:pt x="7" y="48"/>
                  <a:pt x="7" y="48"/>
                </a:cubicBezTo>
                <a:cubicBezTo>
                  <a:pt x="7" y="42"/>
                  <a:pt x="7" y="42"/>
                  <a:pt x="7" y="42"/>
                </a:cubicBezTo>
                <a:cubicBezTo>
                  <a:pt x="11" y="42"/>
                  <a:pt x="11" y="42"/>
                  <a:pt x="11" y="42"/>
                </a:cubicBezTo>
                <a:cubicBezTo>
                  <a:pt x="11" y="40"/>
                  <a:pt x="11" y="40"/>
                  <a:pt x="11" y="40"/>
                </a:cubicBezTo>
                <a:cubicBezTo>
                  <a:pt x="11" y="40"/>
                  <a:pt x="11" y="39"/>
                  <a:pt x="11" y="38"/>
                </a:cubicBezTo>
                <a:cubicBezTo>
                  <a:pt x="9" y="37"/>
                  <a:pt x="7" y="36"/>
                  <a:pt x="6" y="35"/>
                </a:cubicBezTo>
                <a:cubicBezTo>
                  <a:pt x="2" y="31"/>
                  <a:pt x="0" y="26"/>
                  <a:pt x="0" y="20"/>
                </a:cubicBezTo>
                <a:cubicBezTo>
                  <a:pt x="0" y="15"/>
                  <a:pt x="2" y="10"/>
                  <a:pt x="6" y="6"/>
                </a:cubicBezTo>
                <a:cubicBezTo>
                  <a:pt x="10" y="2"/>
                  <a:pt x="15" y="0"/>
                  <a:pt x="20" y="0"/>
                </a:cubicBezTo>
                <a:close/>
                <a:moveTo>
                  <a:pt x="85" y="45"/>
                </a:moveTo>
                <a:cubicBezTo>
                  <a:pt x="85" y="45"/>
                  <a:pt x="85" y="45"/>
                  <a:pt x="85" y="45"/>
                </a:cubicBezTo>
                <a:cubicBezTo>
                  <a:pt x="82" y="45"/>
                  <a:pt x="82" y="45"/>
                  <a:pt x="82" y="45"/>
                </a:cubicBezTo>
                <a:cubicBezTo>
                  <a:pt x="82" y="59"/>
                  <a:pt x="82" y="59"/>
                  <a:pt x="82" y="59"/>
                </a:cubicBezTo>
                <a:cubicBezTo>
                  <a:pt x="85" y="59"/>
                  <a:pt x="85" y="59"/>
                  <a:pt x="85" y="59"/>
                </a:cubicBezTo>
                <a:cubicBezTo>
                  <a:pt x="92" y="63"/>
                  <a:pt x="92" y="63"/>
                  <a:pt x="92" y="63"/>
                </a:cubicBezTo>
                <a:cubicBezTo>
                  <a:pt x="92" y="42"/>
                  <a:pt x="92" y="42"/>
                  <a:pt x="92" y="42"/>
                </a:cubicBezTo>
                <a:cubicBezTo>
                  <a:pt x="85" y="45"/>
                  <a:pt x="85" y="45"/>
                  <a:pt x="85" y="45"/>
                </a:cubicBezTo>
                <a:close/>
                <a:moveTo>
                  <a:pt x="5" y="41"/>
                </a:moveTo>
                <a:cubicBezTo>
                  <a:pt x="0" y="38"/>
                  <a:pt x="0" y="38"/>
                  <a:pt x="0" y="38"/>
                </a:cubicBezTo>
                <a:cubicBezTo>
                  <a:pt x="0" y="51"/>
                  <a:pt x="0" y="51"/>
                  <a:pt x="0" y="51"/>
                </a:cubicBezTo>
                <a:cubicBezTo>
                  <a:pt x="5" y="48"/>
                  <a:pt x="5" y="48"/>
                  <a:pt x="5" y="48"/>
                </a:cubicBezTo>
                <a:lnTo>
                  <a:pt x="5" y="41"/>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22"/>
          <p:cNvSpPr/>
          <p:nvPr/>
        </p:nvSpPr>
        <p:spPr>
          <a:xfrm>
            <a:off x="8202600" y="4275000"/>
            <a:ext cx="446040" cy="487440"/>
          </a:xfrm>
          <a:custGeom>
            <a:avLst/>
            <a:gdLst/>
            <a:ahLst/>
            <a:rect l="l" t="t" r="r" b="b"/>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9"/>
          <p:cNvSpPr/>
          <p:nvPr/>
        </p:nvSpPr>
        <p:spPr>
          <a:xfrm>
            <a:off x="4481640" y="1998720"/>
            <a:ext cx="712800" cy="503280"/>
          </a:xfrm>
          <a:custGeom>
            <a:avLst/>
            <a:gdLst/>
            <a:ahLst/>
            <a:rect l="l" t="t" r="r" b="b"/>
            <a:pathLst>
              <a:path w="92" h="52">
                <a:moveTo>
                  <a:pt x="40" y="17"/>
                </a:moveTo>
                <a:cubicBezTo>
                  <a:pt x="41" y="17"/>
                  <a:pt x="42" y="18"/>
                  <a:pt x="42" y="19"/>
                </a:cubicBezTo>
                <a:cubicBezTo>
                  <a:pt x="42" y="20"/>
                  <a:pt x="41" y="21"/>
                  <a:pt x="40" y="21"/>
                </a:cubicBezTo>
                <a:cubicBezTo>
                  <a:pt x="39" y="21"/>
                  <a:pt x="38" y="20"/>
                  <a:pt x="38" y="19"/>
                </a:cubicBezTo>
                <a:cubicBezTo>
                  <a:pt x="38" y="18"/>
                  <a:pt x="39" y="17"/>
                  <a:pt x="40" y="17"/>
                </a:cubicBezTo>
                <a:close/>
                <a:moveTo>
                  <a:pt x="25" y="42"/>
                </a:moveTo>
                <a:cubicBezTo>
                  <a:pt x="25" y="42"/>
                  <a:pt x="25" y="42"/>
                  <a:pt x="25" y="42"/>
                </a:cubicBezTo>
                <a:cubicBezTo>
                  <a:pt x="25" y="43"/>
                  <a:pt x="25" y="44"/>
                  <a:pt x="25" y="44"/>
                </a:cubicBezTo>
                <a:cubicBezTo>
                  <a:pt x="25" y="44"/>
                  <a:pt x="25" y="44"/>
                  <a:pt x="25" y="44"/>
                </a:cubicBezTo>
                <a:cubicBezTo>
                  <a:pt x="2" y="44"/>
                  <a:pt x="2" y="44"/>
                  <a:pt x="2" y="44"/>
                </a:cubicBezTo>
                <a:cubicBezTo>
                  <a:pt x="0" y="46"/>
                  <a:pt x="0" y="49"/>
                  <a:pt x="0" y="52"/>
                </a:cubicBezTo>
                <a:cubicBezTo>
                  <a:pt x="25" y="52"/>
                  <a:pt x="25" y="52"/>
                  <a:pt x="25" y="52"/>
                </a:cubicBezTo>
                <a:cubicBezTo>
                  <a:pt x="65" y="52"/>
                  <a:pt x="65" y="52"/>
                  <a:pt x="65" y="52"/>
                </a:cubicBezTo>
                <a:cubicBezTo>
                  <a:pt x="90" y="52"/>
                  <a:pt x="90" y="52"/>
                  <a:pt x="90" y="52"/>
                </a:cubicBezTo>
                <a:cubicBezTo>
                  <a:pt x="92" y="49"/>
                  <a:pt x="92" y="46"/>
                  <a:pt x="90" y="43"/>
                </a:cubicBezTo>
                <a:cubicBezTo>
                  <a:pt x="83" y="40"/>
                  <a:pt x="83" y="40"/>
                  <a:pt x="83" y="40"/>
                </a:cubicBezTo>
                <a:cubicBezTo>
                  <a:pt x="81" y="49"/>
                  <a:pt x="69" y="47"/>
                  <a:pt x="69" y="40"/>
                </a:cubicBezTo>
                <a:cubicBezTo>
                  <a:pt x="64" y="41"/>
                  <a:pt x="64" y="41"/>
                  <a:pt x="64" y="41"/>
                </a:cubicBezTo>
                <a:cubicBezTo>
                  <a:pt x="64" y="41"/>
                  <a:pt x="64" y="41"/>
                  <a:pt x="64" y="41"/>
                </a:cubicBezTo>
                <a:cubicBezTo>
                  <a:pt x="64" y="40"/>
                  <a:pt x="64" y="39"/>
                  <a:pt x="63" y="38"/>
                </a:cubicBezTo>
                <a:cubicBezTo>
                  <a:pt x="63" y="37"/>
                  <a:pt x="63" y="37"/>
                  <a:pt x="62" y="37"/>
                </a:cubicBezTo>
                <a:cubicBezTo>
                  <a:pt x="62" y="36"/>
                  <a:pt x="62" y="36"/>
                  <a:pt x="62" y="36"/>
                </a:cubicBezTo>
                <a:cubicBezTo>
                  <a:pt x="62" y="36"/>
                  <a:pt x="62" y="36"/>
                  <a:pt x="62" y="36"/>
                </a:cubicBezTo>
                <a:cubicBezTo>
                  <a:pt x="53" y="34"/>
                  <a:pt x="53" y="34"/>
                  <a:pt x="53" y="34"/>
                </a:cubicBezTo>
                <a:cubicBezTo>
                  <a:pt x="51" y="35"/>
                  <a:pt x="51" y="35"/>
                  <a:pt x="51" y="35"/>
                </a:cubicBezTo>
                <a:cubicBezTo>
                  <a:pt x="51" y="37"/>
                  <a:pt x="51" y="37"/>
                  <a:pt x="51" y="37"/>
                </a:cubicBezTo>
                <a:cubicBezTo>
                  <a:pt x="54" y="37"/>
                  <a:pt x="54" y="37"/>
                  <a:pt x="54" y="37"/>
                </a:cubicBezTo>
                <a:cubicBezTo>
                  <a:pt x="54" y="37"/>
                  <a:pt x="54" y="37"/>
                  <a:pt x="54" y="37"/>
                </a:cubicBezTo>
                <a:cubicBezTo>
                  <a:pt x="60" y="39"/>
                  <a:pt x="60" y="39"/>
                  <a:pt x="60" y="39"/>
                </a:cubicBezTo>
                <a:cubicBezTo>
                  <a:pt x="62" y="40"/>
                  <a:pt x="62" y="42"/>
                  <a:pt x="62" y="44"/>
                </a:cubicBezTo>
                <a:cubicBezTo>
                  <a:pt x="63" y="46"/>
                  <a:pt x="63" y="48"/>
                  <a:pt x="62" y="49"/>
                </a:cubicBezTo>
                <a:cubicBezTo>
                  <a:pt x="48" y="49"/>
                  <a:pt x="48" y="49"/>
                  <a:pt x="48" y="49"/>
                </a:cubicBezTo>
                <a:cubicBezTo>
                  <a:pt x="49" y="49"/>
                  <a:pt x="49" y="49"/>
                  <a:pt x="49" y="49"/>
                </a:cubicBezTo>
                <a:cubicBezTo>
                  <a:pt x="47" y="39"/>
                  <a:pt x="47" y="39"/>
                  <a:pt x="47" y="39"/>
                </a:cubicBezTo>
                <a:cubicBezTo>
                  <a:pt x="48" y="38"/>
                  <a:pt x="48" y="38"/>
                  <a:pt x="48" y="38"/>
                </a:cubicBezTo>
                <a:cubicBezTo>
                  <a:pt x="47" y="36"/>
                  <a:pt x="47" y="36"/>
                  <a:pt x="47" y="36"/>
                </a:cubicBezTo>
                <a:cubicBezTo>
                  <a:pt x="46" y="36"/>
                  <a:pt x="46" y="36"/>
                  <a:pt x="46" y="36"/>
                </a:cubicBezTo>
                <a:cubicBezTo>
                  <a:pt x="45" y="36"/>
                  <a:pt x="45" y="36"/>
                  <a:pt x="45" y="36"/>
                </a:cubicBezTo>
                <a:cubicBezTo>
                  <a:pt x="43" y="36"/>
                  <a:pt x="43" y="36"/>
                  <a:pt x="43" y="36"/>
                </a:cubicBezTo>
                <a:cubicBezTo>
                  <a:pt x="43" y="38"/>
                  <a:pt x="43" y="38"/>
                  <a:pt x="43" y="38"/>
                </a:cubicBezTo>
                <a:cubicBezTo>
                  <a:pt x="44" y="39"/>
                  <a:pt x="44" y="39"/>
                  <a:pt x="44" y="39"/>
                </a:cubicBezTo>
                <a:cubicBezTo>
                  <a:pt x="42" y="49"/>
                  <a:pt x="42" y="49"/>
                  <a:pt x="42" y="49"/>
                </a:cubicBezTo>
                <a:cubicBezTo>
                  <a:pt x="42" y="49"/>
                  <a:pt x="42" y="49"/>
                  <a:pt x="42" y="49"/>
                </a:cubicBezTo>
                <a:cubicBezTo>
                  <a:pt x="28" y="49"/>
                  <a:pt x="28" y="49"/>
                  <a:pt x="28" y="49"/>
                </a:cubicBezTo>
                <a:cubicBezTo>
                  <a:pt x="27" y="47"/>
                  <a:pt x="27" y="45"/>
                  <a:pt x="28" y="43"/>
                </a:cubicBezTo>
                <a:cubicBezTo>
                  <a:pt x="28" y="41"/>
                  <a:pt x="29" y="40"/>
                  <a:pt x="30" y="39"/>
                </a:cubicBezTo>
                <a:cubicBezTo>
                  <a:pt x="36" y="37"/>
                  <a:pt x="36" y="37"/>
                  <a:pt x="36" y="37"/>
                </a:cubicBezTo>
                <a:cubicBezTo>
                  <a:pt x="39" y="37"/>
                  <a:pt x="39" y="37"/>
                  <a:pt x="39" y="37"/>
                </a:cubicBezTo>
                <a:cubicBezTo>
                  <a:pt x="39" y="35"/>
                  <a:pt x="39" y="35"/>
                  <a:pt x="39" y="35"/>
                </a:cubicBezTo>
                <a:cubicBezTo>
                  <a:pt x="37" y="34"/>
                  <a:pt x="37" y="34"/>
                  <a:pt x="37" y="34"/>
                </a:cubicBezTo>
                <a:cubicBezTo>
                  <a:pt x="29" y="36"/>
                  <a:pt x="29" y="36"/>
                  <a:pt x="29" y="36"/>
                </a:cubicBezTo>
                <a:cubicBezTo>
                  <a:pt x="29" y="36"/>
                  <a:pt x="29" y="36"/>
                  <a:pt x="29" y="36"/>
                </a:cubicBezTo>
                <a:cubicBezTo>
                  <a:pt x="31" y="24"/>
                  <a:pt x="29" y="11"/>
                  <a:pt x="14" y="11"/>
                </a:cubicBezTo>
                <a:cubicBezTo>
                  <a:pt x="6" y="12"/>
                  <a:pt x="2" y="17"/>
                  <a:pt x="1" y="23"/>
                </a:cubicBezTo>
                <a:cubicBezTo>
                  <a:pt x="0" y="29"/>
                  <a:pt x="1" y="37"/>
                  <a:pt x="2" y="43"/>
                </a:cubicBezTo>
                <a:cubicBezTo>
                  <a:pt x="5" y="41"/>
                  <a:pt x="8" y="40"/>
                  <a:pt x="12" y="40"/>
                </a:cubicBezTo>
                <a:cubicBezTo>
                  <a:pt x="12" y="37"/>
                  <a:pt x="12" y="37"/>
                  <a:pt x="12" y="37"/>
                </a:cubicBezTo>
                <a:cubicBezTo>
                  <a:pt x="9" y="36"/>
                  <a:pt x="7" y="32"/>
                  <a:pt x="7" y="28"/>
                </a:cubicBezTo>
                <a:cubicBezTo>
                  <a:pt x="7" y="22"/>
                  <a:pt x="7" y="22"/>
                  <a:pt x="7" y="22"/>
                </a:cubicBezTo>
                <a:cubicBezTo>
                  <a:pt x="17" y="22"/>
                  <a:pt x="17" y="22"/>
                  <a:pt x="17" y="22"/>
                </a:cubicBezTo>
                <a:cubicBezTo>
                  <a:pt x="17" y="19"/>
                  <a:pt x="17" y="19"/>
                  <a:pt x="17" y="19"/>
                </a:cubicBezTo>
                <a:cubicBezTo>
                  <a:pt x="19" y="21"/>
                  <a:pt x="19" y="21"/>
                  <a:pt x="19" y="21"/>
                </a:cubicBezTo>
                <a:cubicBezTo>
                  <a:pt x="19" y="21"/>
                  <a:pt x="19" y="17"/>
                  <a:pt x="19" y="17"/>
                </a:cubicBezTo>
                <a:cubicBezTo>
                  <a:pt x="19" y="18"/>
                  <a:pt x="21" y="20"/>
                  <a:pt x="21" y="22"/>
                </a:cubicBezTo>
                <a:cubicBezTo>
                  <a:pt x="24" y="22"/>
                  <a:pt x="24" y="22"/>
                  <a:pt x="24" y="22"/>
                </a:cubicBezTo>
                <a:cubicBezTo>
                  <a:pt x="24" y="28"/>
                  <a:pt x="24" y="28"/>
                  <a:pt x="24" y="28"/>
                </a:cubicBezTo>
                <a:cubicBezTo>
                  <a:pt x="24" y="32"/>
                  <a:pt x="21" y="36"/>
                  <a:pt x="18" y="37"/>
                </a:cubicBezTo>
                <a:cubicBezTo>
                  <a:pt x="18" y="39"/>
                  <a:pt x="18" y="39"/>
                  <a:pt x="18" y="39"/>
                </a:cubicBezTo>
                <a:cubicBezTo>
                  <a:pt x="21" y="40"/>
                  <a:pt x="23" y="41"/>
                  <a:pt x="25" y="41"/>
                </a:cubicBezTo>
                <a:cubicBezTo>
                  <a:pt x="25" y="42"/>
                  <a:pt x="25" y="42"/>
                  <a:pt x="25" y="42"/>
                </a:cubicBezTo>
                <a:close/>
                <a:moveTo>
                  <a:pt x="65" y="51"/>
                </a:moveTo>
                <a:cubicBezTo>
                  <a:pt x="65" y="51"/>
                  <a:pt x="65" y="51"/>
                  <a:pt x="65" y="51"/>
                </a:cubicBezTo>
                <a:cubicBezTo>
                  <a:pt x="65" y="51"/>
                  <a:pt x="65" y="51"/>
                  <a:pt x="65" y="51"/>
                </a:cubicBezTo>
                <a:close/>
                <a:moveTo>
                  <a:pt x="12" y="31"/>
                </a:moveTo>
                <a:cubicBezTo>
                  <a:pt x="18" y="31"/>
                  <a:pt x="18" y="31"/>
                  <a:pt x="18" y="31"/>
                </a:cubicBezTo>
                <a:cubicBezTo>
                  <a:pt x="18" y="35"/>
                  <a:pt x="12" y="35"/>
                  <a:pt x="12" y="31"/>
                </a:cubicBezTo>
                <a:close/>
                <a:moveTo>
                  <a:pt x="19" y="25"/>
                </a:moveTo>
                <a:cubicBezTo>
                  <a:pt x="19" y="25"/>
                  <a:pt x="20" y="26"/>
                  <a:pt x="20" y="27"/>
                </a:cubicBezTo>
                <a:cubicBezTo>
                  <a:pt x="20" y="28"/>
                  <a:pt x="19" y="28"/>
                  <a:pt x="19" y="28"/>
                </a:cubicBezTo>
                <a:cubicBezTo>
                  <a:pt x="18" y="28"/>
                  <a:pt x="17" y="28"/>
                  <a:pt x="17" y="27"/>
                </a:cubicBezTo>
                <a:cubicBezTo>
                  <a:pt x="17" y="26"/>
                  <a:pt x="18" y="25"/>
                  <a:pt x="19" y="25"/>
                </a:cubicBezTo>
                <a:close/>
                <a:moveTo>
                  <a:pt x="11" y="25"/>
                </a:moveTo>
                <a:cubicBezTo>
                  <a:pt x="12" y="25"/>
                  <a:pt x="13" y="26"/>
                  <a:pt x="13" y="27"/>
                </a:cubicBezTo>
                <a:cubicBezTo>
                  <a:pt x="13" y="28"/>
                  <a:pt x="12" y="28"/>
                  <a:pt x="11" y="28"/>
                </a:cubicBezTo>
                <a:cubicBezTo>
                  <a:pt x="11" y="28"/>
                  <a:pt x="10" y="28"/>
                  <a:pt x="10" y="27"/>
                </a:cubicBezTo>
                <a:cubicBezTo>
                  <a:pt x="10" y="26"/>
                  <a:pt x="11" y="25"/>
                  <a:pt x="11" y="25"/>
                </a:cubicBezTo>
                <a:close/>
                <a:moveTo>
                  <a:pt x="83" y="24"/>
                </a:moveTo>
                <a:cubicBezTo>
                  <a:pt x="83" y="24"/>
                  <a:pt x="84" y="25"/>
                  <a:pt x="84" y="26"/>
                </a:cubicBezTo>
                <a:cubicBezTo>
                  <a:pt x="84" y="29"/>
                  <a:pt x="83" y="32"/>
                  <a:pt x="81" y="34"/>
                </a:cubicBezTo>
                <a:cubicBezTo>
                  <a:pt x="80" y="36"/>
                  <a:pt x="78" y="37"/>
                  <a:pt x="76" y="37"/>
                </a:cubicBezTo>
                <a:cubicBezTo>
                  <a:pt x="74" y="37"/>
                  <a:pt x="72" y="36"/>
                  <a:pt x="70" y="34"/>
                </a:cubicBezTo>
                <a:cubicBezTo>
                  <a:pt x="69" y="32"/>
                  <a:pt x="68" y="29"/>
                  <a:pt x="68" y="26"/>
                </a:cubicBezTo>
                <a:cubicBezTo>
                  <a:pt x="68" y="26"/>
                  <a:pt x="68" y="25"/>
                  <a:pt x="68" y="25"/>
                </a:cubicBezTo>
                <a:cubicBezTo>
                  <a:pt x="70" y="25"/>
                  <a:pt x="73" y="24"/>
                  <a:pt x="75" y="22"/>
                </a:cubicBezTo>
                <a:cubicBezTo>
                  <a:pt x="75" y="22"/>
                  <a:pt x="75" y="22"/>
                  <a:pt x="76" y="22"/>
                </a:cubicBezTo>
                <a:cubicBezTo>
                  <a:pt x="76" y="23"/>
                  <a:pt x="76" y="23"/>
                  <a:pt x="77" y="23"/>
                </a:cubicBezTo>
                <a:cubicBezTo>
                  <a:pt x="79" y="24"/>
                  <a:pt x="82" y="24"/>
                  <a:pt x="83" y="24"/>
                </a:cubicBezTo>
                <a:close/>
                <a:moveTo>
                  <a:pt x="83" y="35"/>
                </a:moveTo>
                <a:cubicBezTo>
                  <a:pt x="83" y="35"/>
                  <a:pt x="83" y="35"/>
                  <a:pt x="83" y="35"/>
                </a:cubicBezTo>
                <a:cubicBezTo>
                  <a:pt x="81" y="37"/>
                  <a:pt x="79" y="39"/>
                  <a:pt x="76" y="39"/>
                </a:cubicBezTo>
                <a:cubicBezTo>
                  <a:pt x="73" y="39"/>
                  <a:pt x="70" y="37"/>
                  <a:pt x="69" y="35"/>
                </a:cubicBezTo>
                <a:cubicBezTo>
                  <a:pt x="69" y="35"/>
                  <a:pt x="68" y="35"/>
                  <a:pt x="68" y="35"/>
                </a:cubicBezTo>
                <a:cubicBezTo>
                  <a:pt x="62" y="35"/>
                  <a:pt x="62" y="35"/>
                  <a:pt x="62" y="35"/>
                </a:cubicBezTo>
                <a:cubicBezTo>
                  <a:pt x="60" y="30"/>
                  <a:pt x="60" y="22"/>
                  <a:pt x="63" y="17"/>
                </a:cubicBezTo>
                <a:cubicBezTo>
                  <a:pt x="66" y="13"/>
                  <a:pt x="71" y="10"/>
                  <a:pt x="76" y="10"/>
                </a:cubicBezTo>
                <a:cubicBezTo>
                  <a:pt x="81" y="10"/>
                  <a:pt x="87" y="13"/>
                  <a:pt x="89" y="18"/>
                </a:cubicBezTo>
                <a:cubicBezTo>
                  <a:pt x="92" y="23"/>
                  <a:pt x="92" y="30"/>
                  <a:pt x="90" y="35"/>
                </a:cubicBezTo>
                <a:cubicBezTo>
                  <a:pt x="83" y="35"/>
                  <a:pt x="83" y="35"/>
                  <a:pt x="83" y="35"/>
                </a:cubicBezTo>
                <a:close/>
                <a:moveTo>
                  <a:pt x="41" y="25"/>
                </a:moveTo>
                <a:cubicBezTo>
                  <a:pt x="44" y="25"/>
                  <a:pt x="46" y="25"/>
                  <a:pt x="49" y="25"/>
                </a:cubicBezTo>
                <a:cubicBezTo>
                  <a:pt x="49" y="29"/>
                  <a:pt x="41" y="29"/>
                  <a:pt x="41" y="25"/>
                </a:cubicBezTo>
                <a:close/>
                <a:moveTo>
                  <a:pt x="33" y="23"/>
                </a:moveTo>
                <a:cubicBezTo>
                  <a:pt x="34" y="26"/>
                  <a:pt x="35" y="28"/>
                  <a:pt x="36" y="30"/>
                </a:cubicBezTo>
                <a:cubicBezTo>
                  <a:pt x="39" y="33"/>
                  <a:pt x="42" y="34"/>
                  <a:pt x="45" y="34"/>
                </a:cubicBezTo>
                <a:cubicBezTo>
                  <a:pt x="45" y="34"/>
                  <a:pt x="45" y="34"/>
                  <a:pt x="45" y="34"/>
                </a:cubicBezTo>
                <a:cubicBezTo>
                  <a:pt x="48" y="34"/>
                  <a:pt x="52" y="33"/>
                  <a:pt x="54" y="30"/>
                </a:cubicBezTo>
                <a:cubicBezTo>
                  <a:pt x="55" y="28"/>
                  <a:pt x="56" y="26"/>
                  <a:pt x="57" y="23"/>
                </a:cubicBezTo>
                <a:cubicBezTo>
                  <a:pt x="59" y="7"/>
                  <a:pt x="59" y="7"/>
                  <a:pt x="59" y="7"/>
                </a:cubicBezTo>
                <a:cubicBezTo>
                  <a:pt x="56" y="1"/>
                  <a:pt x="35" y="0"/>
                  <a:pt x="31" y="7"/>
                </a:cubicBezTo>
                <a:cubicBezTo>
                  <a:pt x="33" y="23"/>
                  <a:pt x="33" y="23"/>
                  <a:pt x="33" y="23"/>
                </a:cubicBezTo>
                <a:close/>
                <a:moveTo>
                  <a:pt x="54" y="14"/>
                </a:moveTo>
                <a:cubicBezTo>
                  <a:pt x="54" y="14"/>
                  <a:pt x="53" y="14"/>
                  <a:pt x="52" y="14"/>
                </a:cubicBezTo>
                <a:cubicBezTo>
                  <a:pt x="51" y="11"/>
                  <a:pt x="51" y="11"/>
                  <a:pt x="51" y="11"/>
                </a:cubicBezTo>
                <a:cubicBezTo>
                  <a:pt x="49" y="14"/>
                  <a:pt x="49" y="14"/>
                  <a:pt x="49" y="14"/>
                </a:cubicBezTo>
                <a:cubicBezTo>
                  <a:pt x="46" y="15"/>
                  <a:pt x="43" y="16"/>
                  <a:pt x="37" y="13"/>
                </a:cubicBezTo>
                <a:cubicBezTo>
                  <a:pt x="36" y="13"/>
                  <a:pt x="36" y="13"/>
                  <a:pt x="36" y="13"/>
                </a:cubicBezTo>
                <a:cubicBezTo>
                  <a:pt x="36" y="20"/>
                  <a:pt x="36" y="20"/>
                  <a:pt x="36" y="20"/>
                </a:cubicBezTo>
                <a:cubicBezTo>
                  <a:pt x="36" y="23"/>
                  <a:pt x="37" y="26"/>
                  <a:pt x="39" y="28"/>
                </a:cubicBezTo>
                <a:cubicBezTo>
                  <a:pt x="40" y="30"/>
                  <a:pt x="43" y="32"/>
                  <a:pt x="45" y="32"/>
                </a:cubicBezTo>
                <a:cubicBezTo>
                  <a:pt x="45" y="32"/>
                  <a:pt x="45" y="32"/>
                  <a:pt x="45" y="32"/>
                </a:cubicBezTo>
                <a:cubicBezTo>
                  <a:pt x="48" y="32"/>
                  <a:pt x="50" y="30"/>
                  <a:pt x="52" y="28"/>
                </a:cubicBezTo>
                <a:cubicBezTo>
                  <a:pt x="53" y="26"/>
                  <a:pt x="54" y="23"/>
                  <a:pt x="54" y="20"/>
                </a:cubicBezTo>
                <a:cubicBezTo>
                  <a:pt x="54" y="14"/>
                  <a:pt x="54" y="14"/>
                  <a:pt x="54" y="14"/>
                </a:cubicBezTo>
                <a:close/>
                <a:moveTo>
                  <a:pt x="49" y="17"/>
                </a:moveTo>
                <a:cubicBezTo>
                  <a:pt x="50" y="17"/>
                  <a:pt x="51" y="18"/>
                  <a:pt x="51" y="19"/>
                </a:cubicBezTo>
                <a:cubicBezTo>
                  <a:pt x="51" y="20"/>
                  <a:pt x="50" y="21"/>
                  <a:pt x="49" y="21"/>
                </a:cubicBezTo>
                <a:cubicBezTo>
                  <a:pt x="48" y="21"/>
                  <a:pt x="47" y="20"/>
                  <a:pt x="47" y="19"/>
                </a:cubicBezTo>
                <a:cubicBezTo>
                  <a:pt x="47" y="18"/>
                  <a:pt x="48" y="17"/>
                  <a:pt x="49" y="1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52"/>
          <p:cNvSpPr/>
          <p:nvPr/>
        </p:nvSpPr>
        <p:spPr>
          <a:xfrm>
            <a:off x="8182080" y="1998720"/>
            <a:ext cx="473040" cy="534960"/>
          </a:xfrm>
          <a:custGeom>
            <a:avLst/>
            <a:gdLst/>
            <a:ahLst/>
            <a:rect l="l" t="t" r="r" b="b"/>
            <a:pathLst>
              <a:path w="68" h="77">
                <a:moveTo>
                  <a:pt x="34" y="14"/>
                </a:moveTo>
                <a:cubicBezTo>
                  <a:pt x="39" y="14"/>
                  <a:pt x="42" y="18"/>
                  <a:pt x="42" y="22"/>
                </a:cubicBezTo>
                <a:cubicBezTo>
                  <a:pt x="42" y="24"/>
                  <a:pt x="41" y="26"/>
                  <a:pt x="40" y="28"/>
                </a:cubicBezTo>
                <a:cubicBezTo>
                  <a:pt x="47" y="47"/>
                  <a:pt x="47" y="47"/>
                  <a:pt x="47" y="47"/>
                </a:cubicBezTo>
                <a:cubicBezTo>
                  <a:pt x="56" y="72"/>
                  <a:pt x="56" y="72"/>
                  <a:pt x="56" y="72"/>
                </a:cubicBezTo>
                <a:cubicBezTo>
                  <a:pt x="58" y="77"/>
                  <a:pt x="58" y="77"/>
                  <a:pt x="58" y="77"/>
                </a:cubicBezTo>
                <a:cubicBezTo>
                  <a:pt x="53" y="77"/>
                  <a:pt x="53" y="77"/>
                  <a:pt x="53" y="77"/>
                </a:cubicBezTo>
                <a:cubicBezTo>
                  <a:pt x="22" y="77"/>
                  <a:pt x="46" y="77"/>
                  <a:pt x="16" y="77"/>
                </a:cubicBezTo>
                <a:cubicBezTo>
                  <a:pt x="11" y="77"/>
                  <a:pt x="11" y="77"/>
                  <a:pt x="11" y="77"/>
                </a:cubicBezTo>
                <a:cubicBezTo>
                  <a:pt x="13" y="72"/>
                  <a:pt x="13" y="72"/>
                  <a:pt x="13" y="72"/>
                </a:cubicBezTo>
                <a:cubicBezTo>
                  <a:pt x="22" y="47"/>
                  <a:pt x="22" y="47"/>
                  <a:pt x="22" y="47"/>
                </a:cubicBezTo>
                <a:cubicBezTo>
                  <a:pt x="29" y="28"/>
                  <a:pt x="29" y="28"/>
                  <a:pt x="29" y="28"/>
                </a:cubicBezTo>
                <a:cubicBezTo>
                  <a:pt x="27" y="26"/>
                  <a:pt x="26" y="24"/>
                  <a:pt x="26" y="22"/>
                </a:cubicBezTo>
                <a:cubicBezTo>
                  <a:pt x="26" y="18"/>
                  <a:pt x="30" y="14"/>
                  <a:pt x="34" y="14"/>
                </a:cubicBezTo>
                <a:close/>
                <a:moveTo>
                  <a:pt x="36" y="37"/>
                </a:moveTo>
                <a:cubicBezTo>
                  <a:pt x="36" y="37"/>
                  <a:pt x="36" y="37"/>
                  <a:pt x="36" y="37"/>
                </a:cubicBezTo>
                <a:cubicBezTo>
                  <a:pt x="35" y="33"/>
                  <a:pt x="35" y="33"/>
                  <a:pt x="35" y="33"/>
                </a:cubicBezTo>
                <a:cubicBezTo>
                  <a:pt x="32" y="41"/>
                  <a:pt x="32" y="41"/>
                  <a:pt x="32" y="41"/>
                </a:cubicBezTo>
                <a:cubicBezTo>
                  <a:pt x="36" y="37"/>
                  <a:pt x="36" y="37"/>
                  <a:pt x="36" y="37"/>
                </a:cubicBezTo>
                <a:close/>
                <a:moveTo>
                  <a:pt x="37" y="41"/>
                </a:moveTo>
                <a:cubicBezTo>
                  <a:pt x="30" y="47"/>
                  <a:pt x="30" y="47"/>
                  <a:pt x="30" y="47"/>
                </a:cubicBezTo>
                <a:cubicBezTo>
                  <a:pt x="40" y="47"/>
                  <a:pt x="40" y="47"/>
                  <a:pt x="40" y="47"/>
                </a:cubicBezTo>
                <a:cubicBezTo>
                  <a:pt x="37" y="41"/>
                  <a:pt x="37" y="41"/>
                  <a:pt x="37" y="41"/>
                </a:cubicBezTo>
                <a:close/>
                <a:moveTo>
                  <a:pt x="41" y="52"/>
                </a:moveTo>
                <a:cubicBezTo>
                  <a:pt x="29" y="60"/>
                  <a:pt x="29" y="60"/>
                  <a:pt x="29" y="60"/>
                </a:cubicBezTo>
                <a:cubicBezTo>
                  <a:pt x="44" y="60"/>
                  <a:pt x="44" y="60"/>
                  <a:pt x="44" y="60"/>
                </a:cubicBezTo>
                <a:cubicBezTo>
                  <a:pt x="41" y="52"/>
                  <a:pt x="41" y="52"/>
                  <a:pt x="41" y="52"/>
                </a:cubicBezTo>
                <a:close/>
                <a:moveTo>
                  <a:pt x="46" y="64"/>
                </a:moveTo>
                <a:cubicBezTo>
                  <a:pt x="33" y="70"/>
                  <a:pt x="33" y="70"/>
                  <a:pt x="33" y="70"/>
                </a:cubicBezTo>
                <a:cubicBezTo>
                  <a:pt x="48" y="70"/>
                  <a:pt x="48" y="70"/>
                  <a:pt x="48" y="70"/>
                </a:cubicBezTo>
                <a:cubicBezTo>
                  <a:pt x="46" y="64"/>
                  <a:pt x="46" y="64"/>
                  <a:pt x="46" y="64"/>
                </a:cubicBezTo>
                <a:close/>
                <a:moveTo>
                  <a:pt x="24" y="70"/>
                </a:moveTo>
                <a:cubicBezTo>
                  <a:pt x="38" y="63"/>
                  <a:pt x="38" y="63"/>
                  <a:pt x="38" y="63"/>
                </a:cubicBezTo>
                <a:cubicBezTo>
                  <a:pt x="24" y="63"/>
                  <a:pt x="24" y="63"/>
                  <a:pt x="24" y="63"/>
                </a:cubicBezTo>
                <a:cubicBezTo>
                  <a:pt x="21" y="70"/>
                  <a:pt x="21" y="70"/>
                  <a:pt x="21" y="70"/>
                </a:cubicBezTo>
                <a:cubicBezTo>
                  <a:pt x="24" y="70"/>
                  <a:pt x="24" y="70"/>
                  <a:pt x="24" y="70"/>
                </a:cubicBezTo>
                <a:close/>
                <a:moveTo>
                  <a:pt x="26" y="57"/>
                </a:moveTo>
                <a:cubicBezTo>
                  <a:pt x="36" y="51"/>
                  <a:pt x="36" y="51"/>
                  <a:pt x="36" y="51"/>
                </a:cubicBezTo>
                <a:cubicBezTo>
                  <a:pt x="28" y="51"/>
                  <a:pt x="28" y="51"/>
                  <a:pt x="28" y="51"/>
                </a:cubicBezTo>
                <a:cubicBezTo>
                  <a:pt x="26" y="57"/>
                  <a:pt x="26" y="57"/>
                  <a:pt x="26" y="57"/>
                </a:cubicBezTo>
                <a:close/>
                <a:moveTo>
                  <a:pt x="60" y="0"/>
                </a:moveTo>
                <a:cubicBezTo>
                  <a:pt x="55" y="4"/>
                  <a:pt x="55" y="4"/>
                  <a:pt x="55" y="4"/>
                </a:cubicBezTo>
                <a:cubicBezTo>
                  <a:pt x="59" y="9"/>
                  <a:pt x="61" y="15"/>
                  <a:pt x="61" y="22"/>
                </a:cubicBezTo>
                <a:cubicBezTo>
                  <a:pt x="61" y="29"/>
                  <a:pt x="59" y="35"/>
                  <a:pt x="54" y="40"/>
                </a:cubicBezTo>
                <a:cubicBezTo>
                  <a:pt x="60" y="44"/>
                  <a:pt x="60" y="44"/>
                  <a:pt x="60" y="44"/>
                </a:cubicBezTo>
                <a:cubicBezTo>
                  <a:pt x="65" y="38"/>
                  <a:pt x="68" y="31"/>
                  <a:pt x="68" y="22"/>
                </a:cubicBezTo>
                <a:cubicBezTo>
                  <a:pt x="68" y="13"/>
                  <a:pt x="65" y="6"/>
                  <a:pt x="60" y="0"/>
                </a:cubicBezTo>
                <a:close/>
                <a:moveTo>
                  <a:pt x="9" y="44"/>
                </a:moveTo>
                <a:cubicBezTo>
                  <a:pt x="14" y="40"/>
                  <a:pt x="14" y="40"/>
                  <a:pt x="14" y="40"/>
                </a:cubicBezTo>
                <a:cubicBezTo>
                  <a:pt x="10" y="35"/>
                  <a:pt x="7" y="29"/>
                  <a:pt x="7" y="22"/>
                </a:cubicBezTo>
                <a:cubicBezTo>
                  <a:pt x="7" y="15"/>
                  <a:pt x="10" y="9"/>
                  <a:pt x="14" y="4"/>
                </a:cubicBezTo>
                <a:cubicBezTo>
                  <a:pt x="9" y="0"/>
                  <a:pt x="9" y="0"/>
                  <a:pt x="9" y="0"/>
                </a:cubicBezTo>
                <a:cubicBezTo>
                  <a:pt x="3" y="6"/>
                  <a:pt x="0" y="14"/>
                  <a:pt x="0" y="22"/>
                </a:cubicBezTo>
                <a:cubicBezTo>
                  <a:pt x="0" y="31"/>
                  <a:pt x="4" y="38"/>
                  <a:pt x="9" y="44"/>
                </a:cubicBezTo>
                <a:close/>
                <a:moveTo>
                  <a:pt x="50" y="8"/>
                </a:moveTo>
                <a:cubicBezTo>
                  <a:pt x="45" y="12"/>
                  <a:pt x="45" y="12"/>
                  <a:pt x="45" y="12"/>
                </a:cubicBezTo>
                <a:cubicBezTo>
                  <a:pt x="47" y="15"/>
                  <a:pt x="49" y="18"/>
                  <a:pt x="49" y="22"/>
                </a:cubicBezTo>
                <a:cubicBezTo>
                  <a:pt x="49" y="26"/>
                  <a:pt x="47" y="29"/>
                  <a:pt x="45" y="32"/>
                </a:cubicBezTo>
                <a:cubicBezTo>
                  <a:pt x="50" y="36"/>
                  <a:pt x="50" y="36"/>
                  <a:pt x="50" y="36"/>
                </a:cubicBezTo>
                <a:cubicBezTo>
                  <a:pt x="54" y="32"/>
                  <a:pt x="56" y="27"/>
                  <a:pt x="56" y="22"/>
                </a:cubicBezTo>
                <a:cubicBezTo>
                  <a:pt x="56" y="17"/>
                  <a:pt x="54" y="12"/>
                  <a:pt x="50" y="8"/>
                </a:cubicBezTo>
                <a:close/>
                <a:moveTo>
                  <a:pt x="19" y="36"/>
                </a:moveTo>
                <a:cubicBezTo>
                  <a:pt x="24" y="32"/>
                  <a:pt x="24" y="32"/>
                  <a:pt x="24" y="32"/>
                </a:cubicBezTo>
                <a:cubicBezTo>
                  <a:pt x="21" y="29"/>
                  <a:pt x="20" y="26"/>
                  <a:pt x="20" y="22"/>
                </a:cubicBezTo>
                <a:cubicBezTo>
                  <a:pt x="20" y="18"/>
                  <a:pt x="21" y="15"/>
                  <a:pt x="24" y="12"/>
                </a:cubicBezTo>
                <a:cubicBezTo>
                  <a:pt x="18" y="8"/>
                  <a:pt x="18" y="8"/>
                  <a:pt x="18" y="8"/>
                </a:cubicBezTo>
                <a:cubicBezTo>
                  <a:pt x="15" y="12"/>
                  <a:pt x="13" y="17"/>
                  <a:pt x="13" y="22"/>
                </a:cubicBezTo>
                <a:cubicBezTo>
                  <a:pt x="13" y="27"/>
                  <a:pt x="15" y="32"/>
                  <a:pt x="19" y="36"/>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38"/>
          <p:cNvSpPr/>
          <p:nvPr/>
        </p:nvSpPr>
        <p:spPr>
          <a:xfrm>
            <a:off x="1355760" y="4281480"/>
            <a:ext cx="501480" cy="473040"/>
          </a:xfrm>
          <a:custGeom>
            <a:avLst/>
            <a:gdLst/>
            <a:ahLst/>
            <a:rect l="l" t="t" r="r" b="b"/>
            <a:pathLst>
              <a:path w="72" h="68">
                <a:moveTo>
                  <a:pt x="0" y="37"/>
                </a:moveTo>
                <a:cubicBezTo>
                  <a:pt x="5" y="41"/>
                  <a:pt x="5" y="41"/>
                  <a:pt x="5" y="41"/>
                </a:cubicBezTo>
                <a:cubicBezTo>
                  <a:pt x="4" y="68"/>
                  <a:pt x="4" y="68"/>
                  <a:pt x="4" y="68"/>
                </a:cubicBezTo>
                <a:cubicBezTo>
                  <a:pt x="11" y="68"/>
                  <a:pt x="11" y="68"/>
                  <a:pt x="11" y="68"/>
                </a:cubicBezTo>
                <a:cubicBezTo>
                  <a:pt x="12" y="45"/>
                  <a:pt x="12" y="45"/>
                  <a:pt x="12" y="45"/>
                </a:cubicBezTo>
                <a:cubicBezTo>
                  <a:pt x="15" y="45"/>
                  <a:pt x="15" y="45"/>
                  <a:pt x="15" y="45"/>
                </a:cubicBezTo>
                <a:cubicBezTo>
                  <a:pt x="16" y="68"/>
                  <a:pt x="16" y="68"/>
                  <a:pt x="16" y="68"/>
                </a:cubicBezTo>
                <a:cubicBezTo>
                  <a:pt x="23" y="68"/>
                  <a:pt x="23" y="68"/>
                  <a:pt x="23" y="68"/>
                </a:cubicBezTo>
                <a:cubicBezTo>
                  <a:pt x="22" y="41"/>
                  <a:pt x="22" y="41"/>
                  <a:pt x="22" y="41"/>
                </a:cubicBezTo>
                <a:cubicBezTo>
                  <a:pt x="21" y="24"/>
                  <a:pt x="21" y="24"/>
                  <a:pt x="21" y="24"/>
                </a:cubicBezTo>
                <a:cubicBezTo>
                  <a:pt x="37" y="24"/>
                  <a:pt x="37" y="24"/>
                  <a:pt x="37" y="24"/>
                </a:cubicBezTo>
                <a:cubicBezTo>
                  <a:pt x="41" y="18"/>
                  <a:pt x="41" y="18"/>
                  <a:pt x="41" y="18"/>
                </a:cubicBezTo>
                <a:cubicBezTo>
                  <a:pt x="23" y="17"/>
                  <a:pt x="23" y="17"/>
                  <a:pt x="23" y="17"/>
                </a:cubicBezTo>
                <a:cubicBezTo>
                  <a:pt x="15" y="17"/>
                  <a:pt x="15" y="17"/>
                  <a:pt x="15" y="17"/>
                </a:cubicBezTo>
                <a:cubicBezTo>
                  <a:pt x="15" y="18"/>
                  <a:pt x="15" y="18"/>
                  <a:pt x="15" y="18"/>
                </a:cubicBezTo>
                <a:cubicBezTo>
                  <a:pt x="14" y="20"/>
                  <a:pt x="14" y="20"/>
                  <a:pt x="14" y="20"/>
                </a:cubicBezTo>
                <a:cubicBezTo>
                  <a:pt x="16" y="32"/>
                  <a:pt x="16" y="32"/>
                  <a:pt x="16" y="32"/>
                </a:cubicBezTo>
                <a:cubicBezTo>
                  <a:pt x="14" y="35"/>
                  <a:pt x="14" y="35"/>
                  <a:pt x="14" y="35"/>
                </a:cubicBezTo>
                <a:cubicBezTo>
                  <a:pt x="14" y="35"/>
                  <a:pt x="14" y="35"/>
                  <a:pt x="14" y="35"/>
                </a:cubicBezTo>
                <a:cubicBezTo>
                  <a:pt x="13" y="35"/>
                  <a:pt x="13" y="35"/>
                  <a:pt x="13" y="35"/>
                </a:cubicBezTo>
                <a:cubicBezTo>
                  <a:pt x="13" y="35"/>
                  <a:pt x="13" y="35"/>
                  <a:pt x="13" y="35"/>
                </a:cubicBezTo>
                <a:cubicBezTo>
                  <a:pt x="13" y="35"/>
                  <a:pt x="13" y="35"/>
                  <a:pt x="13" y="35"/>
                </a:cubicBezTo>
                <a:cubicBezTo>
                  <a:pt x="11" y="32"/>
                  <a:pt x="11" y="32"/>
                  <a:pt x="11" y="32"/>
                </a:cubicBezTo>
                <a:cubicBezTo>
                  <a:pt x="12" y="20"/>
                  <a:pt x="12" y="20"/>
                  <a:pt x="12" y="20"/>
                </a:cubicBezTo>
                <a:cubicBezTo>
                  <a:pt x="12" y="18"/>
                  <a:pt x="12" y="18"/>
                  <a:pt x="12" y="18"/>
                </a:cubicBezTo>
                <a:cubicBezTo>
                  <a:pt x="12" y="17"/>
                  <a:pt x="12" y="17"/>
                  <a:pt x="12" y="17"/>
                </a:cubicBezTo>
                <a:cubicBezTo>
                  <a:pt x="4" y="17"/>
                  <a:pt x="4" y="17"/>
                  <a:pt x="4" y="17"/>
                </a:cubicBezTo>
                <a:cubicBezTo>
                  <a:pt x="0" y="37"/>
                  <a:pt x="0" y="37"/>
                  <a:pt x="0" y="37"/>
                </a:cubicBezTo>
                <a:close/>
                <a:moveTo>
                  <a:pt x="14" y="0"/>
                </a:moveTo>
                <a:cubicBezTo>
                  <a:pt x="9" y="0"/>
                  <a:pt x="6" y="3"/>
                  <a:pt x="6" y="8"/>
                </a:cubicBezTo>
                <a:cubicBezTo>
                  <a:pt x="6" y="12"/>
                  <a:pt x="9" y="15"/>
                  <a:pt x="14" y="15"/>
                </a:cubicBezTo>
                <a:cubicBezTo>
                  <a:pt x="18" y="15"/>
                  <a:pt x="21" y="12"/>
                  <a:pt x="21" y="8"/>
                </a:cubicBezTo>
                <a:cubicBezTo>
                  <a:pt x="21" y="3"/>
                  <a:pt x="18" y="0"/>
                  <a:pt x="14" y="0"/>
                </a:cubicBezTo>
                <a:close/>
                <a:moveTo>
                  <a:pt x="31" y="33"/>
                </a:moveTo>
                <a:cubicBezTo>
                  <a:pt x="38" y="31"/>
                  <a:pt x="38" y="31"/>
                  <a:pt x="38" y="31"/>
                </a:cubicBezTo>
                <a:cubicBezTo>
                  <a:pt x="38" y="31"/>
                  <a:pt x="38" y="31"/>
                  <a:pt x="38" y="31"/>
                </a:cubicBezTo>
                <a:cubicBezTo>
                  <a:pt x="39" y="31"/>
                  <a:pt x="39" y="31"/>
                  <a:pt x="39" y="31"/>
                </a:cubicBezTo>
                <a:cubicBezTo>
                  <a:pt x="44" y="34"/>
                  <a:pt x="44" y="34"/>
                  <a:pt x="44" y="34"/>
                </a:cubicBezTo>
                <a:cubicBezTo>
                  <a:pt x="48" y="22"/>
                  <a:pt x="48" y="22"/>
                  <a:pt x="48" y="22"/>
                </a:cubicBezTo>
                <a:cubicBezTo>
                  <a:pt x="49" y="20"/>
                  <a:pt x="49" y="20"/>
                  <a:pt x="49" y="20"/>
                </a:cubicBezTo>
                <a:cubicBezTo>
                  <a:pt x="50" y="22"/>
                  <a:pt x="50" y="22"/>
                  <a:pt x="50" y="22"/>
                </a:cubicBezTo>
                <a:cubicBezTo>
                  <a:pt x="54" y="26"/>
                  <a:pt x="54" y="26"/>
                  <a:pt x="54" y="26"/>
                </a:cubicBezTo>
                <a:cubicBezTo>
                  <a:pt x="60" y="16"/>
                  <a:pt x="60" y="16"/>
                  <a:pt x="60" y="16"/>
                </a:cubicBezTo>
                <a:cubicBezTo>
                  <a:pt x="62" y="17"/>
                  <a:pt x="62" y="17"/>
                  <a:pt x="62" y="17"/>
                </a:cubicBezTo>
                <a:cubicBezTo>
                  <a:pt x="55" y="28"/>
                  <a:pt x="55" y="28"/>
                  <a:pt x="55" y="28"/>
                </a:cubicBezTo>
                <a:cubicBezTo>
                  <a:pt x="55" y="30"/>
                  <a:pt x="55" y="30"/>
                  <a:pt x="55" y="30"/>
                </a:cubicBezTo>
                <a:cubicBezTo>
                  <a:pt x="54" y="29"/>
                  <a:pt x="54" y="29"/>
                  <a:pt x="54" y="29"/>
                </a:cubicBezTo>
                <a:cubicBezTo>
                  <a:pt x="50" y="25"/>
                  <a:pt x="50" y="25"/>
                  <a:pt x="50" y="25"/>
                </a:cubicBezTo>
                <a:cubicBezTo>
                  <a:pt x="46" y="37"/>
                  <a:pt x="46" y="37"/>
                  <a:pt x="46" y="37"/>
                </a:cubicBezTo>
                <a:cubicBezTo>
                  <a:pt x="45" y="38"/>
                  <a:pt x="45" y="38"/>
                  <a:pt x="45" y="38"/>
                </a:cubicBezTo>
                <a:cubicBezTo>
                  <a:pt x="44" y="37"/>
                  <a:pt x="44" y="37"/>
                  <a:pt x="44" y="37"/>
                </a:cubicBezTo>
                <a:cubicBezTo>
                  <a:pt x="38" y="33"/>
                  <a:pt x="38" y="33"/>
                  <a:pt x="38" y="33"/>
                </a:cubicBezTo>
                <a:cubicBezTo>
                  <a:pt x="31" y="36"/>
                  <a:pt x="31" y="36"/>
                  <a:pt x="31" y="36"/>
                </a:cubicBezTo>
                <a:cubicBezTo>
                  <a:pt x="31" y="33"/>
                  <a:pt x="31" y="33"/>
                  <a:pt x="31" y="33"/>
                </a:cubicBezTo>
                <a:close/>
                <a:moveTo>
                  <a:pt x="32" y="64"/>
                </a:moveTo>
                <a:cubicBezTo>
                  <a:pt x="55" y="64"/>
                  <a:pt x="55" y="64"/>
                  <a:pt x="55" y="64"/>
                </a:cubicBezTo>
                <a:cubicBezTo>
                  <a:pt x="55" y="68"/>
                  <a:pt x="55" y="68"/>
                  <a:pt x="55" y="68"/>
                </a:cubicBezTo>
                <a:cubicBezTo>
                  <a:pt x="32" y="68"/>
                  <a:pt x="32" y="68"/>
                  <a:pt x="32" y="68"/>
                </a:cubicBezTo>
                <a:cubicBezTo>
                  <a:pt x="32" y="64"/>
                  <a:pt x="32" y="64"/>
                  <a:pt x="32" y="64"/>
                </a:cubicBezTo>
                <a:close/>
                <a:moveTo>
                  <a:pt x="47" y="50"/>
                </a:moveTo>
                <a:cubicBezTo>
                  <a:pt x="47" y="62"/>
                  <a:pt x="47" y="62"/>
                  <a:pt x="47" y="62"/>
                </a:cubicBezTo>
                <a:cubicBezTo>
                  <a:pt x="40" y="62"/>
                  <a:pt x="40" y="62"/>
                  <a:pt x="40" y="62"/>
                </a:cubicBezTo>
                <a:cubicBezTo>
                  <a:pt x="40" y="50"/>
                  <a:pt x="40" y="50"/>
                  <a:pt x="40" y="50"/>
                </a:cubicBezTo>
                <a:cubicBezTo>
                  <a:pt x="27" y="50"/>
                  <a:pt x="27" y="50"/>
                  <a:pt x="27" y="50"/>
                </a:cubicBezTo>
                <a:cubicBezTo>
                  <a:pt x="27" y="45"/>
                  <a:pt x="27" y="45"/>
                  <a:pt x="27" y="45"/>
                </a:cubicBezTo>
                <a:cubicBezTo>
                  <a:pt x="67" y="45"/>
                  <a:pt x="67" y="45"/>
                  <a:pt x="67" y="45"/>
                </a:cubicBezTo>
                <a:cubicBezTo>
                  <a:pt x="67" y="7"/>
                  <a:pt x="67" y="7"/>
                  <a:pt x="67" y="7"/>
                </a:cubicBezTo>
                <a:cubicBezTo>
                  <a:pt x="25" y="7"/>
                  <a:pt x="25" y="7"/>
                  <a:pt x="25" y="7"/>
                </a:cubicBezTo>
                <a:cubicBezTo>
                  <a:pt x="25" y="2"/>
                  <a:pt x="25" y="2"/>
                  <a:pt x="25" y="2"/>
                </a:cubicBezTo>
                <a:cubicBezTo>
                  <a:pt x="70" y="2"/>
                  <a:pt x="70" y="2"/>
                  <a:pt x="70" y="2"/>
                </a:cubicBezTo>
                <a:cubicBezTo>
                  <a:pt x="72" y="2"/>
                  <a:pt x="72" y="2"/>
                  <a:pt x="72" y="2"/>
                </a:cubicBezTo>
                <a:cubicBezTo>
                  <a:pt x="72" y="4"/>
                  <a:pt x="72" y="4"/>
                  <a:pt x="72" y="4"/>
                </a:cubicBezTo>
                <a:cubicBezTo>
                  <a:pt x="72" y="48"/>
                  <a:pt x="72" y="48"/>
                  <a:pt x="72" y="48"/>
                </a:cubicBezTo>
                <a:cubicBezTo>
                  <a:pt x="72" y="50"/>
                  <a:pt x="72" y="50"/>
                  <a:pt x="72" y="50"/>
                </a:cubicBezTo>
                <a:cubicBezTo>
                  <a:pt x="70" y="50"/>
                  <a:pt x="70" y="50"/>
                  <a:pt x="70" y="50"/>
                </a:cubicBezTo>
                <a:lnTo>
                  <a:pt x="47" y="50"/>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5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矩形 4"/>
          <p:cNvSpPr/>
          <p:nvPr/>
        </p:nvSpPr>
        <p:spPr>
          <a:xfrm>
            <a:off x="1231920" y="1787400"/>
            <a:ext cx="6761160" cy="40338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4" name=""/>
          <p:cNvGrpSpPr/>
          <p:nvPr/>
        </p:nvGrpSpPr>
        <p:grpSpPr>
          <a:xfrm>
            <a:off x="3613320" y="2959200"/>
            <a:ext cx="1942920" cy="1942920"/>
            <a:chOff x="3613320" y="2959200"/>
            <a:chExt cx="1942920" cy="1942920"/>
          </a:xfrm>
        </p:grpSpPr>
        <p:sp>
          <p:nvSpPr>
            <p:cNvPr id="355" name="椭圆 6"/>
            <p:cNvSpPr/>
            <p:nvPr/>
          </p:nvSpPr>
          <p:spPr>
            <a:xfrm>
              <a:off x="3613320" y="2959200"/>
              <a:ext cx="1942920" cy="1942920"/>
            </a:xfrm>
            <a:prstGeom prst="ellipse">
              <a:avLst/>
            </a:prstGeom>
            <a:solidFill>
              <a:srgbClr val="2abfa4">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等腰三角形 7"/>
            <p:cNvSpPr/>
            <p:nvPr/>
          </p:nvSpPr>
          <p:spPr>
            <a:xfrm rot="5400000">
              <a:off x="4171680" y="3592440"/>
              <a:ext cx="825480" cy="676080"/>
            </a:xfrm>
            <a:prstGeom prst="triangle">
              <a:avLst>
                <a:gd name="adj" fmla="val 50000"/>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
          <p:cNvGrpSpPr/>
          <p:nvPr/>
        </p:nvGrpSpPr>
        <p:grpSpPr>
          <a:xfrm>
            <a:off x="8435880" y="2011320"/>
            <a:ext cx="2400480" cy="2966400"/>
            <a:chOff x="8435880" y="2011320"/>
            <a:chExt cx="2400480" cy="2966400"/>
          </a:xfrm>
        </p:grpSpPr>
        <p:sp>
          <p:nvSpPr>
            <p:cNvPr id="358" name="文本框 9"/>
            <p:cNvSpPr/>
            <p:nvPr/>
          </p:nvSpPr>
          <p:spPr>
            <a:xfrm>
              <a:off x="8435880" y="2011320"/>
              <a:ext cx="2400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输入标题文字概括内容</a:t>
              </a:r>
              <a:endParaRPr b="0" lang="en-US" sz="2800" spc="-1" strike="noStrike">
                <a:solidFill>
                  <a:srgbClr val="000000"/>
                </a:solidFill>
                <a:latin typeface="Calibri"/>
              </a:endParaRPr>
            </a:p>
          </p:txBody>
        </p:sp>
        <p:sp>
          <p:nvSpPr>
            <p:cNvPr id="359" name="矩形 10"/>
            <p:cNvSpPr/>
            <p:nvPr/>
          </p:nvSpPr>
          <p:spPr>
            <a:xfrm>
              <a:off x="8520480" y="3058560"/>
              <a:ext cx="23158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主题描述文字单击</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61"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矩形 4"/>
          <p:cNvSpPr/>
          <p:nvPr/>
        </p:nvSpPr>
        <p:spPr>
          <a:xfrm>
            <a:off x="1314360" y="1558800"/>
            <a:ext cx="3872160" cy="2311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任意多边形 40"/>
          <p:cNvSpPr/>
          <p:nvPr/>
        </p:nvSpPr>
        <p:spPr>
          <a:xfrm flipH="1" flipV="1" rot="16200000">
            <a:off x="5124600" y="-507960"/>
            <a:ext cx="1981080" cy="11346120"/>
          </a:xfrm>
          <a:custGeom>
            <a:avLst/>
            <a:gdLst/>
            <a:ahLst/>
            <a:rect l="l" t="t" r="r" b="b"/>
            <a:pathLst>
              <a:path w="1981082" h="11345863">
                <a:moveTo>
                  <a:pt x="1819876" y="6411686"/>
                </a:moveTo>
                <a:lnTo>
                  <a:pt x="1830809" y="6416215"/>
                </a:lnTo>
                <a:lnTo>
                  <a:pt x="1906502" y="6416215"/>
                </a:lnTo>
                <a:lnTo>
                  <a:pt x="1917434" y="6411686"/>
                </a:lnTo>
                <a:lnTo>
                  <a:pt x="1819876" y="6411686"/>
                </a:lnTo>
                <a:close/>
                <a:moveTo>
                  <a:pt x="1811885" y="10851412"/>
                </a:moveTo>
                <a:cubicBezTo>
                  <a:pt x="1811885" y="10861863"/>
                  <a:pt x="1820358" y="10870336"/>
                  <a:pt x="1830809" y="10870336"/>
                </a:cubicBezTo>
                <a:lnTo>
                  <a:pt x="1906502" y="10870336"/>
                </a:lnTo>
                <a:cubicBezTo>
                  <a:pt x="1916953" y="10870336"/>
                  <a:pt x="1925425" y="10861863"/>
                  <a:pt x="1925425" y="10851412"/>
                </a:cubicBezTo>
                <a:lnTo>
                  <a:pt x="1925425" y="10775719"/>
                </a:lnTo>
                <a:cubicBezTo>
                  <a:pt x="1925425" y="10765268"/>
                  <a:pt x="1916953" y="10756796"/>
                  <a:pt x="1906502" y="10756796"/>
                </a:cubicBezTo>
                <a:lnTo>
                  <a:pt x="1830809" y="10756796"/>
                </a:lnTo>
                <a:cubicBezTo>
                  <a:pt x="1820358" y="10756796"/>
                  <a:pt x="1811885" y="10765268"/>
                  <a:pt x="1811885" y="10775719"/>
                </a:cubicBezTo>
                <a:lnTo>
                  <a:pt x="1811885" y="10851412"/>
                </a:lnTo>
                <a:close/>
                <a:moveTo>
                  <a:pt x="1811885" y="11085840"/>
                </a:moveTo>
                <a:cubicBezTo>
                  <a:pt x="1811885" y="11096291"/>
                  <a:pt x="1820358" y="11104763"/>
                  <a:pt x="1830809" y="11104763"/>
                </a:cubicBezTo>
                <a:lnTo>
                  <a:pt x="1906502" y="11104763"/>
                </a:lnTo>
                <a:cubicBezTo>
                  <a:pt x="1916953" y="11104763"/>
                  <a:pt x="1925425" y="11096291"/>
                  <a:pt x="1925425" y="11085840"/>
                </a:cubicBezTo>
                <a:lnTo>
                  <a:pt x="1925425" y="11010147"/>
                </a:lnTo>
                <a:cubicBezTo>
                  <a:pt x="1925425" y="10999696"/>
                  <a:pt x="1916953" y="10991223"/>
                  <a:pt x="1906502" y="10991223"/>
                </a:cubicBezTo>
                <a:lnTo>
                  <a:pt x="1830809" y="10991223"/>
                </a:lnTo>
                <a:cubicBezTo>
                  <a:pt x="1820358" y="10991223"/>
                  <a:pt x="1811885" y="10999696"/>
                  <a:pt x="1811885" y="11010147"/>
                </a:cubicBezTo>
                <a:lnTo>
                  <a:pt x="1811885" y="11085840"/>
                </a:lnTo>
                <a:close/>
                <a:moveTo>
                  <a:pt x="1811885" y="11320260"/>
                </a:moveTo>
                <a:cubicBezTo>
                  <a:pt x="1811885" y="11330711"/>
                  <a:pt x="1820358" y="11339184"/>
                  <a:pt x="1830809" y="11339184"/>
                </a:cubicBezTo>
                <a:lnTo>
                  <a:pt x="1906502" y="11339184"/>
                </a:lnTo>
                <a:cubicBezTo>
                  <a:pt x="1916953" y="11339184"/>
                  <a:pt x="1925425" y="11330711"/>
                  <a:pt x="1925425" y="11320260"/>
                </a:cubicBezTo>
                <a:lnTo>
                  <a:pt x="1925425" y="11244567"/>
                </a:lnTo>
                <a:cubicBezTo>
                  <a:pt x="1925425" y="11234116"/>
                  <a:pt x="1916953" y="11225644"/>
                  <a:pt x="1906502" y="11225644"/>
                </a:cubicBezTo>
                <a:lnTo>
                  <a:pt x="1830809" y="11225644"/>
                </a:lnTo>
                <a:cubicBezTo>
                  <a:pt x="1820358" y="11225644"/>
                  <a:pt x="1811885" y="11234116"/>
                  <a:pt x="1811885" y="11244567"/>
                </a:cubicBezTo>
                <a:lnTo>
                  <a:pt x="1811885" y="11320260"/>
                </a:lnTo>
                <a:close/>
                <a:moveTo>
                  <a:pt x="1811885" y="5225154"/>
                </a:moveTo>
                <a:lnTo>
                  <a:pt x="1813377" y="5228756"/>
                </a:lnTo>
                <a:lnTo>
                  <a:pt x="1823325" y="5232877"/>
                </a:lnTo>
                <a:lnTo>
                  <a:pt x="1899018" y="5232877"/>
                </a:lnTo>
                <a:cubicBezTo>
                  <a:pt x="1909469" y="5232877"/>
                  <a:pt x="1917941" y="5224404"/>
                  <a:pt x="1917941" y="5213953"/>
                </a:cubicBezTo>
                <a:lnTo>
                  <a:pt x="1917941" y="5138260"/>
                </a:lnTo>
                <a:lnTo>
                  <a:pt x="1916449" y="5134658"/>
                </a:lnTo>
                <a:lnTo>
                  <a:pt x="1906502" y="5130537"/>
                </a:lnTo>
                <a:lnTo>
                  <a:pt x="1830809" y="5130537"/>
                </a:lnTo>
                <a:cubicBezTo>
                  <a:pt x="1820358" y="5130537"/>
                  <a:pt x="1811885" y="5139010"/>
                  <a:pt x="1811885" y="5149461"/>
                </a:cubicBezTo>
                <a:lnTo>
                  <a:pt x="1811885" y="5225154"/>
                </a:lnTo>
                <a:close/>
                <a:moveTo>
                  <a:pt x="1811885" y="5459582"/>
                </a:moveTo>
                <a:lnTo>
                  <a:pt x="1813377" y="5463184"/>
                </a:lnTo>
                <a:lnTo>
                  <a:pt x="1823325" y="5467304"/>
                </a:lnTo>
                <a:lnTo>
                  <a:pt x="1899018" y="5467304"/>
                </a:lnTo>
                <a:cubicBezTo>
                  <a:pt x="1909469" y="5467304"/>
                  <a:pt x="1917941" y="5458832"/>
                  <a:pt x="1917941" y="5448380"/>
                </a:cubicBezTo>
                <a:lnTo>
                  <a:pt x="1917941" y="5372688"/>
                </a:lnTo>
                <a:lnTo>
                  <a:pt x="1916449" y="5369086"/>
                </a:lnTo>
                <a:lnTo>
                  <a:pt x="1906502" y="5364965"/>
                </a:lnTo>
                <a:lnTo>
                  <a:pt x="1830809" y="5364965"/>
                </a:lnTo>
                <a:cubicBezTo>
                  <a:pt x="1820358" y="5364965"/>
                  <a:pt x="1811885" y="5373438"/>
                  <a:pt x="1811885" y="5383889"/>
                </a:cubicBezTo>
                <a:lnTo>
                  <a:pt x="1811885" y="5459582"/>
                </a:lnTo>
                <a:close/>
                <a:moveTo>
                  <a:pt x="1811885" y="5694010"/>
                </a:moveTo>
                <a:lnTo>
                  <a:pt x="1813377" y="5697611"/>
                </a:lnTo>
                <a:lnTo>
                  <a:pt x="1823325" y="5701732"/>
                </a:lnTo>
                <a:lnTo>
                  <a:pt x="1899018" y="5701732"/>
                </a:lnTo>
                <a:cubicBezTo>
                  <a:pt x="1909469" y="5701732"/>
                  <a:pt x="1917941" y="5693259"/>
                  <a:pt x="1917941" y="5682808"/>
                </a:cubicBezTo>
                <a:lnTo>
                  <a:pt x="1917941" y="5607115"/>
                </a:lnTo>
                <a:lnTo>
                  <a:pt x="1916449" y="5603513"/>
                </a:lnTo>
                <a:lnTo>
                  <a:pt x="1906502" y="5599393"/>
                </a:lnTo>
                <a:lnTo>
                  <a:pt x="1830809" y="5599393"/>
                </a:lnTo>
                <a:cubicBezTo>
                  <a:pt x="1820358" y="5599393"/>
                  <a:pt x="1811885" y="5607865"/>
                  <a:pt x="1811885" y="5618316"/>
                </a:cubicBezTo>
                <a:lnTo>
                  <a:pt x="1811885" y="5694010"/>
                </a:lnTo>
                <a:close/>
                <a:moveTo>
                  <a:pt x="1811885" y="5928437"/>
                </a:moveTo>
                <a:lnTo>
                  <a:pt x="1813377" y="5932038"/>
                </a:lnTo>
                <a:lnTo>
                  <a:pt x="1823325" y="5936159"/>
                </a:lnTo>
                <a:lnTo>
                  <a:pt x="1899018" y="5936159"/>
                </a:lnTo>
                <a:cubicBezTo>
                  <a:pt x="1909469" y="5936159"/>
                  <a:pt x="1917941" y="5927687"/>
                  <a:pt x="1917941" y="5917236"/>
                </a:cubicBezTo>
                <a:lnTo>
                  <a:pt x="1917941" y="5841543"/>
                </a:lnTo>
                <a:lnTo>
                  <a:pt x="1916449" y="5837941"/>
                </a:lnTo>
                <a:lnTo>
                  <a:pt x="1906502" y="5833821"/>
                </a:lnTo>
                <a:lnTo>
                  <a:pt x="1830809" y="5833821"/>
                </a:lnTo>
                <a:cubicBezTo>
                  <a:pt x="1820358" y="5833821"/>
                  <a:pt x="1811885" y="5842293"/>
                  <a:pt x="1811885" y="5852744"/>
                </a:cubicBezTo>
                <a:lnTo>
                  <a:pt x="1811885" y="5928437"/>
                </a:lnTo>
                <a:close/>
                <a:moveTo>
                  <a:pt x="1811885" y="6162865"/>
                </a:moveTo>
                <a:lnTo>
                  <a:pt x="1813377" y="6166466"/>
                </a:lnTo>
                <a:lnTo>
                  <a:pt x="1823325" y="6170587"/>
                </a:lnTo>
                <a:lnTo>
                  <a:pt x="1899018" y="6170587"/>
                </a:lnTo>
                <a:cubicBezTo>
                  <a:pt x="1909469" y="6170587"/>
                  <a:pt x="1917941" y="6162114"/>
                  <a:pt x="1917941" y="6151663"/>
                </a:cubicBezTo>
                <a:lnTo>
                  <a:pt x="1917941" y="6075970"/>
                </a:lnTo>
                <a:lnTo>
                  <a:pt x="1916449" y="6072367"/>
                </a:lnTo>
                <a:lnTo>
                  <a:pt x="1906502" y="6068247"/>
                </a:lnTo>
                <a:lnTo>
                  <a:pt x="1830809" y="6068247"/>
                </a:lnTo>
                <a:cubicBezTo>
                  <a:pt x="1820358" y="6068247"/>
                  <a:pt x="1811885" y="6076720"/>
                  <a:pt x="1811885" y="6087171"/>
                </a:cubicBezTo>
                <a:lnTo>
                  <a:pt x="1811885" y="6162865"/>
                </a:lnTo>
                <a:close/>
                <a:moveTo>
                  <a:pt x="1811885" y="6397291"/>
                </a:moveTo>
                <a:lnTo>
                  <a:pt x="1813374" y="6400885"/>
                </a:lnTo>
                <a:lnTo>
                  <a:pt x="1823325" y="6405007"/>
                </a:lnTo>
                <a:lnTo>
                  <a:pt x="1899018" y="6405007"/>
                </a:lnTo>
                <a:cubicBezTo>
                  <a:pt x="1909469" y="6405007"/>
                  <a:pt x="1917941" y="6396535"/>
                  <a:pt x="1917941" y="6386084"/>
                </a:cubicBezTo>
                <a:lnTo>
                  <a:pt x="1917941" y="6310391"/>
                </a:lnTo>
                <a:lnTo>
                  <a:pt x="1916452" y="6306795"/>
                </a:lnTo>
                <a:lnTo>
                  <a:pt x="1906502" y="6302674"/>
                </a:lnTo>
                <a:lnTo>
                  <a:pt x="1830809" y="6302674"/>
                </a:lnTo>
                <a:cubicBezTo>
                  <a:pt x="1820358" y="6302674"/>
                  <a:pt x="1811885" y="6311147"/>
                  <a:pt x="1811885" y="6321598"/>
                </a:cubicBezTo>
                <a:lnTo>
                  <a:pt x="1811885" y="6397291"/>
                </a:lnTo>
                <a:close/>
                <a:moveTo>
                  <a:pt x="1811885" y="6631719"/>
                </a:moveTo>
                <a:cubicBezTo>
                  <a:pt x="1811885" y="6642170"/>
                  <a:pt x="1820358" y="6650642"/>
                  <a:pt x="1830809" y="6650642"/>
                </a:cubicBezTo>
                <a:lnTo>
                  <a:pt x="1906502" y="6650642"/>
                </a:lnTo>
                <a:cubicBezTo>
                  <a:pt x="1916953" y="6650642"/>
                  <a:pt x="1925425" y="6642170"/>
                  <a:pt x="1925425" y="6631719"/>
                </a:cubicBezTo>
                <a:lnTo>
                  <a:pt x="1925425" y="6556027"/>
                </a:lnTo>
                <a:cubicBezTo>
                  <a:pt x="1925425" y="6545575"/>
                  <a:pt x="1916953" y="6537103"/>
                  <a:pt x="1906502" y="6537103"/>
                </a:cubicBezTo>
                <a:lnTo>
                  <a:pt x="1906503" y="6537103"/>
                </a:lnTo>
                <a:lnTo>
                  <a:pt x="1906502" y="6537102"/>
                </a:lnTo>
                <a:lnTo>
                  <a:pt x="1830809" y="6537102"/>
                </a:lnTo>
                <a:lnTo>
                  <a:pt x="1830807" y="6537103"/>
                </a:lnTo>
                <a:lnTo>
                  <a:pt x="1830809" y="6537103"/>
                </a:lnTo>
                <a:cubicBezTo>
                  <a:pt x="1820358" y="6537103"/>
                  <a:pt x="1811885" y="6545575"/>
                  <a:pt x="1811885" y="6556027"/>
                </a:cubicBezTo>
                <a:lnTo>
                  <a:pt x="1811885" y="6631719"/>
                </a:lnTo>
                <a:close/>
                <a:moveTo>
                  <a:pt x="1811885" y="6866144"/>
                </a:moveTo>
                <a:cubicBezTo>
                  <a:pt x="1811885" y="6876595"/>
                  <a:pt x="1820358" y="6885068"/>
                  <a:pt x="1830809" y="6885068"/>
                </a:cubicBezTo>
                <a:lnTo>
                  <a:pt x="1906502" y="6885068"/>
                </a:lnTo>
                <a:cubicBezTo>
                  <a:pt x="1916953" y="6885068"/>
                  <a:pt x="1925425" y="6876595"/>
                  <a:pt x="1925425" y="6866144"/>
                </a:cubicBezTo>
                <a:lnTo>
                  <a:pt x="1925425" y="6790454"/>
                </a:lnTo>
                <a:cubicBezTo>
                  <a:pt x="1925425" y="6780003"/>
                  <a:pt x="1916953" y="6771530"/>
                  <a:pt x="1906502" y="6771530"/>
                </a:cubicBezTo>
                <a:lnTo>
                  <a:pt x="1830809" y="6771530"/>
                </a:lnTo>
                <a:cubicBezTo>
                  <a:pt x="1820358" y="6771530"/>
                  <a:pt x="1811885" y="6780003"/>
                  <a:pt x="1811885" y="6790454"/>
                </a:cubicBezTo>
                <a:lnTo>
                  <a:pt x="1811885" y="6866144"/>
                </a:lnTo>
                <a:close/>
                <a:moveTo>
                  <a:pt x="1811885" y="7100572"/>
                </a:moveTo>
                <a:cubicBezTo>
                  <a:pt x="1811885" y="7111023"/>
                  <a:pt x="1820358" y="7119496"/>
                  <a:pt x="1830809" y="7119496"/>
                </a:cubicBezTo>
                <a:lnTo>
                  <a:pt x="1906502" y="7119496"/>
                </a:lnTo>
                <a:cubicBezTo>
                  <a:pt x="1916953" y="7119496"/>
                  <a:pt x="1925425" y="7111023"/>
                  <a:pt x="1925425" y="7100572"/>
                </a:cubicBezTo>
                <a:lnTo>
                  <a:pt x="1925425" y="7024882"/>
                </a:lnTo>
                <a:cubicBezTo>
                  <a:pt x="1925425" y="7014430"/>
                  <a:pt x="1916953" y="7005958"/>
                  <a:pt x="1906502" y="7005958"/>
                </a:cubicBezTo>
                <a:lnTo>
                  <a:pt x="1830809" y="7005958"/>
                </a:lnTo>
                <a:cubicBezTo>
                  <a:pt x="1820358" y="7005958"/>
                  <a:pt x="1811885" y="7014430"/>
                  <a:pt x="1811885" y="7024882"/>
                </a:cubicBezTo>
                <a:lnTo>
                  <a:pt x="1811885" y="7100572"/>
                </a:lnTo>
                <a:close/>
                <a:moveTo>
                  <a:pt x="1811885" y="7334999"/>
                </a:moveTo>
                <a:cubicBezTo>
                  <a:pt x="1811885" y="7345451"/>
                  <a:pt x="1820358" y="7353923"/>
                  <a:pt x="1830809" y="7353923"/>
                </a:cubicBezTo>
                <a:lnTo>
                  <a:pt x="1906502" y="7353923"/>
                </a:lnTo>
                <a:cubicBezTo>
                  <a:pt x="1916953" y="7353923"/>
                  <a:pt x="1925425" y="7345451"/>
                  <a:pt x="1925425" y="7334999"/>
                </a:cubicBezTo>
                <a:lnTo>
                  <a:pt x="1925425" y="7259309"/>
                </a:lnTo>
                <a:cubicBezTo>
                  <a:pt x="1925425" y="7248858"/>
                  <a:pt x="1916953" y="7240386"/>
                  <a:pt x="1906502" y="7240386"/>
                </a:cubicBezTo>
                <a:lnTo>
                  <a:pt x="1830809" y="7240386"/>
                </a:lnTo>
                <a:cubicBezTo>
                  <a:pt x="1820358" y="7240386"/>
                  <a:pt x="1811885" y="7248858"/>
                  <a:pt x="1811885" y="7259309"/>
                </a:cubicBezTo>
                <a:lnTo>
                  <a:pt x="1811885" y="7334999"/>
                </a:lnTo>
                <a:close/>
                <a:moveTo>
                  <a:pt x="1811885" y="7569427"/>
                </a:moveTo>
                <a:cubicBezTo>
                  <a:pt x="1811885" y="7579878"/>
                  <a:pt x="1820358" y="7588351"/>
                  <a:pt x="1830809" y="7588351"/>
                </a:cubicBezTo>
                <a:lnTo>
                  <a:pt x="1906502" y="7588351"/>
                </a:lnTo>
                <a:cubicBezTo>
                  <a:pt x="1916953" y="7588351"/>
                  <a:pt x="1925425" y="7579878"/>
                  <a:pt x="1925425" y="7569427"/>
                </a:cubicBezTo>
                <a:lnTo>
                  <a:pt x="1925425" y="7493737"/>
                </a:lnTo>
                <a:cubicBezTo>
                  <a:pt x="1925425" y="7483286"/>
                  <a:pt x="1916953" y="7474813"/>
                  <a:pt x="1906502" y="7474813"/>
                </a:cubicBezTo>
                <a:lnTo>
                  <a:pt x="1830809" y="7474813"/>
                </a:lnTo>
                <a:cubicBezTo>
                  <a:pt x="1820358" y="7474813"/>
                  <a:pt x="1811885" y="7483286"/>
                  <a:pt x="1811885" y="7493737"/>
                </a:cubicBezTo>
                <a:lnTo>
                  <a:pt x="1811885" y="7569427"/>
                </a:lnTo>
                <a:close/>
                <a:moveTo>
                  <a:pt x="1811885" y="7803854"/>
                </a:moveTo>
                <a:cubicBezTo>
                  <a:pt x="1811885" y="7814306"/>
                  <a:pt x="1820358" y="7822778"/>
                  <a:pt x="1830809" y="7822778"/>
                </a:cubicBezTo>
                <a:lnTo>
                  <a:pt x="1906502" y="7822778"/>
                </a:lnTo>
                <a:cubicBezTo>
                  <a:pt x="1916953" y="7822778"/>
                  <a:pt x="1925425" y="7814306"/>
                  <a:pt x="1925425" y="7803854"/>
                </a:cubicBezTo>
                <a:lnTo>
                  <a:pt x="1925425" y="7728164"/>
                </a:lnTo>
                <a:cubicBezTo>
                  <a:pt x="1925425" y="7717713"/>
                  <a:pt x="1916953" y="7709240"/>
                  <a:pt x="1906502" y="7709240"/>
                </a:cubicBezTo>
                <a:lnTo>
                  <a:pt x="1830809" y="7709240"/>
                </a:lnTo>
                <a:cubicBezTo>
                  <a:pt x="1820358" y="7709240"/>
                  <a:pt x="1811885" y="7717713"/>
                  <a:pt x="1811885" y="7728164"/>
                </a:cubicBezTo>
                <a:lnTo>
                  <a:pt x="1811885" y="7803854"/>
                </a:lnTo>
                <a:close/>
                <a:moveTo>
                  <a:pt x="1811885" y="8038282"/>
                </a:moveTo>
                <a:cubicBezTo>
                  <a:pt x="1811885" y="8048733"/>
                  <a:pt x="1820358" y="8057205"/>
                  <a:pt x="1830809" y="8057205"/>
                </a:cubicBezTo>
                <a:lnTo>
                  <a:pt x="1906502" y="8057205"/>
                </a:lnTo>
                <a:cubicBezTo>
                  <a:pt x="1916953" y="8057205"/>
                  <a:pt x="1925425" y="8048733"/>
                  <a:pt x="1925425" y="8038282"/>
                </a:cubicBezTo>
                <a:lnTo>
                  <a:pt x="1925425" y="7962592"/>
                </a:lnTo>
                <a:cubicBezTo>
                  <a:pt x="1925425" y="7952141"/>
                  <a:pt x="1916953" y="7943669"/>
                  <a:pt x="1906502" y="7943669"/>
                </a:cubicBezTo>
                <a:lnTo>
                  <a:pt x="1830809" y="7943669"/>
                </a:lnTo>
                <a:cubicBezTo>
                  <a:pt x="1820358" y="7943669"/>
                  <a:pt x="1811885" y="7952141"/>
                  <a:pt x="1811885" y="7962592"/>
                </a:cubicBezTo>
                <a:lnTo>
                  <a:pt x="1811885" y="8038282"/>
                </a:lnTo>
                <a:close/>
                <a:moveTo>
                  <a:pt x="1811885" y="8272709"/>
                </a:moveTo>
                <a:cubicBezTo>
                  <a:pt x="1811885" y="8283161"/>
                  <a:pt x="1820358" y="8291633"/>
                  <a:pt x="1830809" y="8291633"/>
                </a:cubicBezTo>
                <a:lnTo>
                  <a:pt x="1906502" y="8291633"/>
                </a:lnTo>
                <a:cubicBezTo>
                  <a:pt x="1916953" y="8291633"/>
                  <a:pt x="1925425" y="8283161"/>
                  <a:pt x="1925425" y="8272709"/>
                </a:cubicBezTo>
                <a:lnTo>
                  <a:pt x="1925425" y="8197019"/>
                </a:lnTo>
                <a:cubicBezTo>
                  <a:pt x="1925425" y="8186568"/>
                  <a:pt x="1916953" y="8178095"/>
                  <a:pt x="1906502" y="8178095"/>
                </a:cubicBezTo>
                <a:lnTo>
                  <a:pt x="1830809" y="8178095"/>
                </a:lnTo>
                <a:cubicBezTo>
                  <a:pt x="1820358" y="8178095"/>
                  <a:pt x="1811885" y="8186568"/>
                  <a:pt x="1811885" y="8197019"/>
                </a:cubicBezTo>
                <a:lnTo>
                  <a:pt x="1811885" y="8272709"/>
                </a:lnTo>
                <a:close/>
                <a:moveTo>
                  <a:pt x="1811885" y="8507137"/>
                </a:moveTo>
                <a:cubicBezTo>
                  <a:pt x="1811885" y="8517588"/>
                  <a:pt x="1820358" y="8526060"/>
                  <a:pt x="1830809" y="8526060"/>
                </a:cubicBezTo>
                <a:lnTo>
                  <a:pt x="1906502" y="8526060"/>
                </a:lnTo>
                <a:cubicBezTo>
                  <a:pt x="1916953" y="8526060"/>
                  <a:pt x="1925425" y="8517588"/>
                  <a:pt x="1925425" y="8507137"/>
                </a:cubicBezTo>
                <a:lnTo>
                  <a:pt x="1925425" y="8431446"/>
                </a:lnTo>
                <a:cubicBezTo>
                  <a:pt x="1925425" y="8420995"/>
                  <a:pt x="1916953" y="8412521"/>
                  <a:pt x="1906502" y="8412521"/>
                </a:cubicBezTo>
                <a:lnTo>
                  <a:pt x="1830809" y="8412521"/>
                </a:lnTo>
                <a:cubicBezTo>
                  <a:pt x="1820358" y="8412521"/>
                  <a:pt x="1811885" y="8420995"/>
                  <a:pt x="1811885" y="8431446"/>
                </a:cubicBezTo>
                <a:lnTo>
                  <a:pt x="1811885" y="8507137"/>
                </a:lnTo>
                <a:close/>
                <a:moveTo>
                  <a:pt x="1811885" y="8741564"/>
                </a:moveTo>
                <a:cubicBezTo>
                  <a:pt x="1811885" y="8752015"/>
                  <a:pt x="1820358" y="8760488"/>
                  <a:pt x="1830809" y="8760488"/>
                </a:cubicBezTo>
                <a:lnTo>
                  <a:pt x="1906502" y="8760488"/>
                </a:lnTo>
                <a:cubicBezTo>
                  <a:pt x="1916953" y="8760488"/>
                  <a:pt x="1925425" y="8752015"/>
                  <a:pt x="1925425" y="8741564"/>
                </a:cubicBezTo>
                <a:lnTo>
                  <a:pt x="1925425" y="8665873"/>
                </a:lnTo>
                <a:cubicBezTo>
                  <a:pt x="1925425" y="8655422"/>
                  <a:pt x="1916953" y="8646950"/>
                  <a:pt x="1906502" y="8646950"/>
                </a:cubicBezTo>
                <a:lnTo>
                  <a:pt x="1830809" y="8646950"/>
                </a:lnTo>
                <a:cubicBezTo>
                  <a:pt x="1820358" y="8646950"/>
                  <a:pt x="1811885" y="8655422"/>
                  <a:pt x="1811885" y="8665873"/>
                </a:cubicBezTo>
                <a:lnTo>
                  <a:pt x="1811885" y="8741564"/>
                </a:lnTo>
                <a:close/>
                <a:moveTo>
                  <a:pt x="1811885" y="8975991"/>
                </a:moveTo>
                <a:cubicBezTo>
                  <a:pt x="1811885" y="8986443"/>
                  <a:pt x="1820358" y="8994915"/>
                  <a:pt x="1830809" y="8994915"/>
                </a:cubicBezTo>
                <a:lnTo>
                  <a:pt x="1906502" y="8994915"/>
                </a:lnTo>
                <a:cubicBezTo>
                  <a:pt x="1916953" y="8994915"/>
                  <a:pt x="1925425" y="8986443"/>
                  <a:pt x="1925425" y="8975991"/>
                </a:cubicBezTo>
                <a:lnTo>
                  <a:pt x="1925425" y="8900301"/>
                </a:lnTo>
                <a:cubicBezTo>
                  <a:pt x="1925425" y="8889849"/>
                  <a:pt x="1916953" y="8881376"/>
                  <a:pt x="1906502" y="8881376"/>
                </a:cubicBezTo>
                <a:lnTo>
                  <a:pt x="1830809" y="8881376"/>
                </a:lnTo>
                <a:cubicBezTo>
                  <a:pt x="1820358" y="8881376"/>
                  <a:pt x="1811885" y="8889849"/>
                  <a:pt x="1811885" y="8900301"/>
                </a:cubicBezTo>
                <a:lnTo>
                  <a:pt x="1811885" y="8975991"/>
                </a:lnTo>
                <a:close/>
                <a:moveTo>
                  <a:pt x="1811885" y="9210413"/>
                </a:moveTo>
                <a:cubicBezTo>
                  <a:pt x="1811885" y="9220863"/>
                  <a:pt x="1820358" y="9229336"/>
                  <a:pt x="1830809" y="9229336"/>
                </a:cubicBezTo>
                <a:lnTo>
                  <a:pt x="1906502" y="9229336"/>
                </a:lnTo>
                <a:cubicBezTo>
                  <a:pt x="1916953" y="9229336"/>
                  <a:pt x="1925425" y="9220863"/>
                  <a:pt x="1925425" y="9210413"/>
                </a:cubicBezTo>
                <a:lnTo>
                  <a:pt x="1925425" y="9134727"/>
                </a:lnTo>
                <a:cubicBezTo>
                  <a:pt x="1925425" y="9124275"/>
                  <a:pt x="1916953" y="9115803"/>
                  <a:pt x="1906502" y="9115803"/>
                </a:cubicBezTo>
                <a:lnTo>
                  <a:pt x="1830809" y="9115803"/>
                </a:lnTo>
                <a:cubicBezTo>
                  <a:pt x="1820358" y="9115803"/>
                  <a:pt x="1811885" y="9124275"/>
                  <a:pt x="1811885" y="9134727"/>
                </a:cubicBezTo>
                <a:lnTo>
                  <a:pt x="1811885" y="9210413"/>
                </a:lnTo>
                <a:close/>
                <a:moveTo>
                  <a:pt x="1811885" y="9444847"/>
                </a:moveTo>
                <a:cubicBezTo>
                  <a:pt x="1811885" y="9455298"/>
                  <a:pt x="1820358" y="9463770"/>
                  <a:pt x="1830809" y="9463770"/>
                </a:cubicBezTo>
                <a:lnTo>
                  <a:pt x="1906502" y="9463770"/>
                </a:lnTo>
                <a:cubicBezTo>
                  <a:pt x="1916953" y="9463770"/>
                  <a:pt x="1925425" y="9455298"/>
                  <a:pt x="1925425" y="9444847"/>
                </a:cubicBezTo>
                <a:lnTo>
                  <a:pt x="1925425" y="9369154"/>
                </a:lnTo>
                <a:cubicBezTo>
                  <a:pt x="1925425" y="9358703"/>
                  <a:pt x="1916953" y="9350231"/>
                  <a:pt x="1906502" y="9350231"/>
                </a:cubicBezTo>
                <a:lnTo>
                  <a:pt x="1830809" y="9350231"/>
                </a:lnTo>
                <a:cubicBezTo>
                  <a:pt x="1820358" y="9350231"/>
                  <a:pt x="1811885" y="9358703"/>
                  <a:pt x="1811885" y="9369154"/>
                </a:cubicBezTo>
                <a:lnTo>
                  <a:pt x="1811885" y="9444847"/>
                </a:lnTo>
                <a:close/>
                <a:moveTo>
                  <a:pt x="1811885" y="9679274"/>
                </a:moveTo>
                <a:cubicBezTo>
                  <a:pt x="1811885" y="9689726"/>
                  <a:pt x="1820358" y="9698198"/>
                  <a:pt x="1830809" y="9698198"/>
                </a:cubicBezTo>
                <a:lnTo>
                  <a:pt x="1906502" y="9698198"/>
                </a:lnTo>
                <a:cubicBezTo>
                  <a:pt x="1916953" y="9698198"/>
                  <a:pt x="1925425" y="9689726"/>
                  <a:pt x="1925425" y="9679274"/>
                </a:cubicBezTo>
                <a:lnTo>
                  <a:pt x="1925425" y="9603582"/>
                </a:lnTo>
                <a:cubicBezTo>
                  <a:pt x="1925425" y="9593130"/>
                  <a:pt x="1916953" y="9584658"/>
                  <a:pt x="1906502" y="9584658"/>
                </a:cubicBezTo>
                <a:lnTo>
                  <a:pt x="1830809" y="9584658"/>
                </a:lnTo>
                <a:cubicBezTo>
                  <a:pt x="1820358" y="9584658"/>
                  <a:pt x="1811885" y="9593130"/>
                  <a:pt x="1811885" y="9603582"/>
                </a:cubicBezTo>
                <a:lnTo>
                  <a:pt x="1811885" y="9679274"/>
                </a:lnTo>
                <a:close/>
                <a:moveTo>
                  <a:pt x="1811885" y="9913702"/>
                </a:moveTo>
                <a:cubicBezTo>
                  <a:pt x="1811885" y="9924153"/>
                  <a:pt x="1820358" y="9932626"/>
                  <a:pt x="1830809" y="9932626"/>
                </a:cubicBezTo>
                <a:lnTo>
                  <a:pt x="1906502" y="9932626"/>
                </a:lnTo>
                <a:cubicBezTo>
                  <a:pt x="1916953" y="9932626"/>
                  <a:pt x="1925425" y="9924153"/>
                  <a:pt x="1925425" y="9913702"/>
                </a:cubicBezTo>
                <a:lnTo>
                  <a:pt x="1925425" y="9838009"/>
                </a:lnTo>
                <a:cubicBezTo>
                  <a:pt x="1925425" y="9827558"/>
                  <a:pt x="1916953" y="9819085"/>
                  <a:pt x="1906502" y="9819085"/>
                </a:cubicBezTo>
                <a:lnTo>
                  <a:pt x="1830809" y="9819085"/>
                </a:lnTo>
                <a:cubicBezTo>
                  <a:pt x="1820358" y="9819085"/>
                  <a:pt x="1811885" y="9827558"/>
                  <a:pt x="1811885" y="9838009"/>
                </a:cubicBezTo>
                <a:lnTo>
                  <a:pt x="1811885" y="9913702"/>
                </a:lnTo>
                <a:close/>
                <a:moveTo>
                  <a:pt x="1811885" y="10148129"/>
                </a:moveTo>
                <a:cubicBezTo>
                  <a:pt x="1811885" y="10158581"/>
                  <a:pt x="1820358" y="10167053"/>
                  <a:pt x="1830809" y="10167053"/>
                </a:cubicBezTo>
                <a:lnTo>
                  <a:pt x="1906502" y="10167053"/>
                </a:lnTo>
                <a:cubicBezTo>
                  <a:pt x="1916953" y="10167053"/>
                  <a:pt x="1925425" y="10158581"/>
                  <a:pt x="1925425" y="10148129"/>
                </a:cubicBezTo>
                <a:lnTo>
                  <a:pt x="1925425" y="10072437"/>
                </a:lnTo>
                <a:cubicBezTo>
                  <a:pt x="1925425" y="10061985"/>
                  <a:pt x="1916953" y="10053513"/>
                  <a:pt x="1906502" y="10053513"/>
                </a:cubicBezTo>
                <a:lnTo>
                  <a:pt x="1830809" y="10053513"/>
                </a:lnTo>
                <a:cubicBezTo>
                  <a:pt x="1820358" y="10053513"/>
                  <a:pt x="1811885" y="10061985"/>
                  <a:pt x="1811885" y="10072437"/>
                </a:cubicBezTo>
                <a:lnTo>
                  <a:pt x="1811885" y="10148129"/>
                </a:lnTo>
                <a:close/>
                <a:moveTo>
                  <a:pt x="1811885" y="10382557"/>
                </a:moveTo>
                <a:cubicBezTo>
                  <a:pt x="1811885" y="10393008"/>
                  <a:pt x="1820358" y="10401481"/>
                  <a:pt x="1830809" y="10401481"/>
                </a:cubicBezTo>
                <a:lnTo>
                  <a:pt x="1906502" y="10401481"/>
                </a:lnTo>
                <a:cubicBezTo>
                  <a:pt x="1916953" y="10401481"/>
                  <a:pt x="1925425" y="10393008"/>
                  <a:pt x="1925425" y="10382557"/>
                </a:cubicBezTo>
                <a:lnTo>
                  <a:pt x="1925425" y="10306864"/>
                </a:lnTo>
                <a:cubicBezTo>
                  <a:pt x="1925425" y="10296413"/>
                  <a:pt x="1916953" y="10287940"/>
                  <a:pt x="1906502" y="10287940"/>
                </a:cubicBezTo>
                <a:lnTo>
                  <a:pt x="1830809" y="10287940"/>
                </a:lnTo>
                <a:cubicBezTo>
                  <a:pt x="1820358" y="10287940"/>
                  <a:pt x="1811885" y="10296413"/>
                  <a:pt x="1811885" y="10306864"/>
                </a:cubicBezTo>
                <a:lnTo>
                  <a:pt x="1811885" y="10382557"/>
                </a:lnTo>
                <a:close/>
                <a:moveTo>
                  <a:pt x="1811885" y="10616985"/>
                </a:moveTo>
                <a:cubicBezTo>
                  <a:pt x="1811885" y="10627436"/>
                  <a:pt x="1820358" y="10635908"/>
                  <a:pt x="1830809" y="10635908"/>
                </a:cubicBezTo>
                <a:lnTo>
                  <a:pt x="1906502" y="10635908"/>
                </a:lnTo>
                <a:cubicBezTo>
                  <a:pt x="1916953" y="10635908"/>
                  <a:pt x="1925425" y="10627436"/>
                  <a:pt x="1925425" y="10616985"/>
                </a:cubicBezTo>
                <a:lnTo>
                  <a:pt x="1925425" y="10541292"/>
                </a:lnTo>
                <a:cubicBezTo>
                  <a:pt x="1925425" y="10530840"/>
                  <a:pt x="1916953" y="10522368"/>
                  <a:pt x="1906502" y="10522368"/>
                </a:cubicBezTo>
                <a:lnTo>
                  <a:pt x="1830809" y="10522368"/>
                </a:lnTo>
                <a:cubicBezTo>
                  <a:pt x="1820358" y="10522368"/>
                  <a:pt x="1811885" y="10530840"/>
                  <a:pt x="1811885" y="10541292"/>
                </a:cubicBezTo>
                <a:lnTo>
                  <a:pt x="1811885" y="10616985"/>
                </a:lnTo>
                <a:close/>
                <a:moveTo>
                  <a:pt x="1804401" y="290977"/>
                </a:moveTo>
                <a:cubicBezTo>
                  <a:pt x="1804401" y="301429"/>
                  <a:pt x="1812874" y="309901"/>
                  <a:pt x="1823325" y="309901"/>
                </a:cubicBezTo>
                <a:lnTo>
                  <a:pt x="1899018" y="309901"/>
                </a:lnTo>
                <a:cubicBezTo>
                  <a:pt x="1909469" y="309901"/>
                  <a:pt x="1917941" y="301429"/>
                  <a:pt x="1917941" y="290977"/>
                </a:cubicBezTo>
                <a:lnTo>
                  <a:pt x="1917941" y="215284"/>
                </a:lnTo>
                <a:cubicBezTo>
                  <a:pt x="1917941" y="204833"/>
                  <a:pt x="1909469" y="196361"/>
                  <a:pt x="1899018" y="196361"/>
                </a:cubicBezTo>
                <a:lnTo>
                  <a:pt x="1823325" y="196361"/>
                </a:lnTo>
                <a:cubicBezTo>
                  <a:pt x="1812874" y="196361"/>
                  <a:pt x="1804401" y="204833"/>
                  <a:pt x="1804401" y="215284"/>
                </a:cubicBezTo>
                <a:lnTo>
                  <a:pt x="1804401" y="290977"/>
                </a:lnTo>
                <a:close/>
                <a:moveTo>
                  <a:pt x="1804401" y="525405"/>
                </a:moveTo>
                <a:cubicBezTo>
                  <a:pt x="1804401" y="535856"/>
                  <a:pt x="1812874" y="544329"/>
                  <a:pt x="1823325" y="544329"/>
                </a:cubicBezTo>
                <a:lnTo>
                  <a:pt x="1899018" y="544329"/>
                </a:lnTo>
                <a:cubicBezTo>
                  <a:pt x="1909469" y="544329"/>
                  <a:pt x="1917941" y="535856"/>
                  <a:pt x="1917941" y="525405"/>
                </a:cubicBezTo>
                <a:lnTo>
                  <a:pt x="1917941" y="449712"/>
                </a:lnTo>
                <a:cubicBezTo>
                  <a:pt x="1917941" y="439261"/>
                  <a:pt x="1909469" y="430788"/>
                  <a:pt x="1899018" y="430788"/>
                </a:cubicBezTo>
                <a:lnTo>
                  <a:pt x="1823325" y="430788"/>
                </a:lnTo>
                <a:cubicBezTo>
                  <a:pt x="1812874" y="430788"/>
                  <a:pt x="1804401" y="439261"/>
                  <a:pt x="1804401" y="449712"/>
                </a:cubicBezTo>
                <a:lnTo>
                  <a:pt x="1804401" y="525405"/>
                </a:lnTo>
                <a:close/>
                <a:moveTo>
                  <a:pt x="1804401" y="759833"/>
                </a:moveTo>
                <a:cubicBezTo>
                  <a:pt x="1804401" y="770284"/>
                  <a:pt x="1812874" y="778756"/>
                  <a:pt x="1823325" y="778756"/>
                </a:cubicBezTo>
                <a:lnTo>
                  <a:pt x="1899018" y="778756"/>
                </a:lnTo>
                <a:cubicBezTo>
                  <a:pt x="1909469" y="778756"/>
                  <a:pt x="1917941" y="770284"/>
                  <a:pt x="1917941" y="759833"/>
                </a:cubicBezTo>
                <a:lnTo>
                  <a:pt x="1917941" y="684140"/>
                </a:lnTo>
                <a:cubicBezTo>
                  <a:pt x="1917941" y="673688"/>
                  <a:pt x="1909469" y="665216"/>
                  <a:pt x="1899018" y="665216"/>
                </a:cubicBezTo>
                <a:lnTo>
                  <a:pt x="1823325" y="665216"/>
                </a:lnTo>
                <a:cubicBezTo>
                  <a:pt x="1812874" y="665216"/>
                  <a:pt x="1804401" y="673688"/>
                  <a:pt x="1804401" y="684140"/>
                </a:cubicBezTo>
                <a:lnTo>
                  <a:pt x="1804401" y="759833"/>
                </a:lnTo>
                <a:close/>
                <a:moveTo>
                  <a:pt x="1804401" y="994260"/>
                </a:moveTo>
                <a:cubicBezTo>
                  <a:pt x="1804401" y="1004710"/>
                  <a:pt x="1812874" y="1013184"/>
                  <a:pt x="1823325" y="1013184"/>
                </a:cubicBezTo>
                <a:lnTo>
                  <a:pt x="1899018" y="1013184"/>
                </a:lnTo>
                <a:cubicBezTo>
                  <a:pt x="1909469" y="1013184"/>
                  <a:pt x="1917941" y="1004710"/>
                  <a:pt x="1917941" y="994260"/>
                </a:cubicBezTo>
                <a:lnTo>
                  <a:pt x="1917941" y="918567"/>
                </a:lnTo>
                <a:cubicBezTo>
                  <a:pt x="1917941" y="908117"/>
                  <a:pt x="1909469" y="899644"/>
                  <a:pt x="1899018" y="899644"/>
                </a:cubicBezTo>
                <a:lnTo>
                  <a:pt x="1823325" y="899644"/>
                </a:lnTo>
                <a:cubicBezTo>
                  <a:pt x="1812874" y="899644"/>
                  <a:pt x="1804401" y="908117"/>
                  <a:pt x="1804401" y="918567"/>
                </a:cubicBezTo>
                <a:lnTo>
                  <a:pt x="1804401" y="994260"/>
                </a:lnTo>
                <a:close/>
                <a:moveTo>
                  <a:pt x="1804401" y="1228688"/>
                </a:moveTo>
                <a:cubicBezTo>
                  <a:pt x="1804401" y="1239139"/>
                  <a:pt x="1812874" y="1247612"/>
                  <a:pt x="1823325" y="1247612"/>
                </a:cubicBezTo>
                <a:lnTo>
                  <a:pt x="1899018" y="1247612"/>
                </a:lnTo>
                <a:cubicBezTo>
                  <a:pt x="1909469" y="1247612"/>
                  <a:pt x="1917941" y="1239139"/>
                  <a:pt x="1917941" y="1228688"/>
                </a:cubicBezTo>
                <a:lnTo>
                  <a:pt x="1917941" y="1152994"/>
                </a:lnTo>
                <a:cubicBezTo>
                  <a:pt x="1917941" y="1142543"/>
                  <a:pt x="1909469" y="1134070"/>
                  <a:pt x="1899018" y="1134070"/>
                </a:cubicBezTo>
                <a:lnTo>
                  <a:pt x="1823325" y="1134070"/>
                </a:lnTo>
                <a:cubicBezTo>
                  <a:pt x="1812874" y="1134070"/>
                  <a:pt x="1804401" y="1142543"/>
                  <a:pt x="1804401" y="1152994"/>
                </a:cubicBezTo>
                <a:lnTo>
                  <a:pt x="1804401" y="1228688"/>
                </a:lnTo>
                <a:close/>
                <a:moveTo>
                  <a:pt x="1804401" y="1463114"/>
                </a:moveTo>
                <a:cubicBezTo>
                  <a:pt x="1804401" y="1473566"/>
                  <a:pt x="1812874" y="1482038"/>
                  <a:pt x="1823325" y="1482038"/>
                </a:cubicBezTo>
                <a:lnTo>
                  <a:pt x="1899018" y="1482038"/>
                </a:lnTo>
                <a:cubicBezTo>
                  <a:pt x="1909469" y="1482038"/>
                  <a:pt x="1917941" y="1473566"/>
                  <a:pt x="1917941" y="1463114"/>
                </a:cubicBezTo>
                <a:lnTo>
                  <a:pt x="1917941" y="1387421"/>
                </a:lnTo>
                <a:cubicBezTo>
                  <a:pt x="1917941" y="1376970"/>
                  <a:pt x="1909469" y="1368497"/>
                  <a:pt x="1899018" y="1368497"/>
                </a:cubicBezTo>
                <a:lnTo>
                  <a:pt x="1823325" y="1368497"/>
                </a:lnTo>
                <a:cubicBezTo>
                  <a:pt x="1812874" y="1368497"/>
                  <a:pt x="1804401" y="1376970"/>
                  <a:pt x="1804401" y="1387421"/>
                </a:cubicBezTo>
                <a:lnTo>
                  <a:pt x="1804401" y="1463114"/>
                </a:lnTo>
                <a:close/>
                <a:moveTo>
                  <a:pt x="1804401" y="1697542"/>
                </a:moveTo>
                <a:cubicBezTo>
                  <a:pt x="1804401" y="1707993"/>
                  <a:pt x="1812874" y="1716466"/>
                  <a:pt x="1823325" y="1716466"/>
                </a:cubicBezTo>
                <a:lnTo>
                  <a:pt x="1899018" y="1716466"/>
                </a:lnTo>
                <a:cubicBezTo>
                  <a:pt x="1909469" y="1716466"/>
                  <a:pt x="1917941" y="1707993"/>
                  <a:pt x="1917941" y="1697542"/>
                </a:cubicBezTo>
                <a:lnTo>
                  <a:pt x="1917941" y="1621850"/>
                </a:lnTo>
                <a:cubicBezTo>
                  <a:pt x="1917941" y="1611399"/>
                  <a:pt x="1909469" y="1602926"/>
                  <a:pt x="1899018" y="1602926"/>
                </a:cubicBezTo>
                <a:lnTo>
                  <a:pt x="1899019" y="1602926"/>
                </a:lnTo>
                <a:lnTo>
                  <a:pt x="1899018" y="1602925"/>
                </a:lnTo>
                <a:lnTo>
                  <a:pt x="1823325" y="1602925"/>
                </a:lnTo>
                <a:lnTo>
                  <a:pt x="1823323" y="1602926"/>
                </a:lnTo>
                <a:lnTo>
                  <a:pt x="1823325" y="1602926"/>
                </a:lnTo>
                <a:cubicBezTo>
                  <a:pt x="1812874" y="1602926"/>
                  <a:pt x="1804401" y="1611399"/>
                  <a:pt x="1804401" y="1621850"/>
                </a:cubicBezTo>
                <a:lnTo>
                  <a:pt x="1804401" y="1697542"/>
                </a:lnTo>
                <a:close/>
                <a:moveTo>
                  <a:pt x="1804401" y="1931967"/>
                </a:moveTo>
                <a:cubicBezTo>
                  <a:pt x="1804401" y="1942419"/>
                  <a:pt x="1812874" y="1950891"/>
                  <a:pt x="1823325" y="1950891"/>
                </a:cubicBezTo>
                <a:lnTo>
                  <a:pt x="1899018" y="1950891"/>
                </a:lnTo>
                <a:cubicBezTo>
                  <a:pt x="1909469" y="1950891"/>
                  <a:pt x="1917941" y="1942419"/>
                  <a:pt x="1917941" y="1931967"/>
                </a:cubicBezTo>
                <a:lnTo>
                  <a:pt x="1917941" y="1856277"/>
                </a:lnTo>
                <a:cubicBezTo>
                  <a:pt x="1917941" y="1845826"/>
                  <a:pt x="1909469" y="1837354"/>
                  <a:pt x="1899018" y="1837354"/>
                </a:cubicBezTo>
                <a:lnTo>
                  <a:pt x="1823325" y="1837354"/>
                </a:lnTo>
                <a:cubicBezTo>
                  <a:pt x="1812874" y="1837354"/>
                  <a:pt x="1804401" y="1845826"/>
                  <a:pt x="1804401" y="1856277"/>
                </a:cubicBezTo>
                <a:lnTo>
                  <a:pt x="1804401" y="1931967"/>
                </a:lnTo>
                <a:close/>
                <a:moveTo>
                  <a:pt x="1804401" y="2166395"/>
                </a:moveTo>
                <a:cubicBezTo>
                  <a:pt x="1804401" y="2176846"/>
                  <a:pt x="1812874" y="2185319"/>
                  <a:pt x="1823325" y="2185319"/>
                </a:cubicBezTo>
                <a:lnTo>
                  <a:pt x="1899018" y="2185319"/>
                </a:lnTo>
                <a:cubicBezTo>
                  <a:pt x="1909469" y="2185319"/>
                  <a:pt x="1917941" y="2176846"/>
                  <a:pt x="1917941" y="2166395"/>
                </a:cubicBezTo>
                <a:lnTo>
                  <a:pt x="1917941" y="2090705"/>
                </a:lnTo>
                <a:cubicBezTo>
                  <a:pt x="1917941" y="2080254"/>
                  <a:pt x="1909469" y="2071781"/>
                  <a:pt x="1899018" y="2071781"/>
                </a:cubicBezTo>
                <a:lnTo>
                  <a:pt x="1823325" y="2071781"/>
                </a:lnTo>
                <a:cubicBezTo>
                  <a:pt x="1812874" y="2071781"/>
                  <a:pt x="1804401" y="2080254"/>
                  <a:pt x="1804401" y="2090705"/>
                </a:cubicBezTo>
                <a:lnTo>
                  <a:pt x="1804401" y="2166395"/>
                </a:lnTo>
                <a:close/>
                <a:moveTo>
                  <a:pt x="1804401" y="2400823"/>
                </a:moveTo>
                <a:cubicBezTo>
                  <a:pt x="1804401" y="2411274"/>
                  <a:pt x="1812874" y="2419746"/>
                  <a:pt x="1823325" y="2419746"/>
                </a:cubicBezTo>
                <a:lnTo>
                  <a:pt x="1899018" y="2419746"/>
                </a:lnTo>
                <a:cubicBezTo>
                  <a:pt x="1909469" y="2419746"/>
                  <a:pt x="1917941" y="2411274"/>
                  <a:pt x="1917941" y="2400823"/>
                </a:cubicBezTo>
                <a:lnTo>
                  <a:pt x="1917941" y="2325133"/>
                </a:lnTo>
                <a:cubicBezTo>
                  <a:pt x="1917941" y="2314681"/>
                  <a:pt x="1909469" y="2306209"/>
                  <a:pt x="1899018" y="2306209"/>
                </a:cubicBezTo>
                <a:lnTo>
                  <a:pt x="1823325" y="2306209"/>
                </a:lnTo>
                <a:cubicBezTo>
                  <a:pt x="1812874" y="2306209"/>
                  <a:pt x="1804401" y="2314681"/>
                  <a:pt x="1804401" y="2325133"/>
                </a:cubicBezTo>
                <a:lnTo>
                  <a:pt x="1804401" y="2400823"/>
                </a:lnTo>
                <a:close/>
                <a:moveTo>
                  <a:pt x="1804401" y="2635250"/>
                </a:moveTo>
                <a:cubicBezTo>
                  <a:pt x="1804401" y="2645701"/>
                  <a:pt x="1812874" y="2654174"/>
                  <a:pt x="1823325" y="2654174"/>
                </a:cubicBezTo>
                <a:lnTo>
                  <a:pt x="1899018" y="2654174"/>
                </a:lnTo>
                <a:cubicBezTo>
                  <a:pt x="1909469" y="2654174"/>
                  <a:pt x="1917941" y="2645701"/>
                  <a:pt x="1917941" y="2635250"/>
                </a:cubicBezTo>
                <a:lnTo>
                  <a:pt x="1917941" y="2559560"/>
                </a:lnTo>
                <a:cubicBezTo>
                  <a:pt x="1917941" y="2549109"/>
                  <a:pt x="1909469" y="2540636"/>
                  <a:pt x="1899018" y="2540636"/>
                </a:cubicBezTo>
                <a:lnTo>
                  <a:pt x="1823325" y="2540636"/>
                </a:lnTo>
                <a:cubicBezTo>
                  <a:pt x="1812874" y="2540636"/>
                  <a:pt x="1804401" y="2549109"/>
                  <a:pt x="1804401" y="2559560"/>
                </a:cubicBezTo>
                <a:lnTo>
                  <a:pt x="1804401" y="2635250"/>
                </a:lnTo>
                <a:close/>
                <a:moveTo>
                  <a:pt x="1804401" y="2869677"/>
                </a:moveTo>
                <a:cubicBezTo>
                  <a:pt x="1804401" y="2880129"/>
                  <a:pt x="1812874" y="2888601"/>
                  <a:pt x="1823325" y="2888601"/>
                </a:cubicBezTo>
                <a:lnTo>
                  <a:pt x="1899018" y="2888601"/>
                </a:lnTo>
                <a:cubicBezTo>
                  <a:pt x="1909469" y="2888601"/>
                  <a:pt x="1917941" y="2880129"/>
                  <a:pt x="1917941" y="2869677"/>
                </a:cubicBezTo>
                <a:lnTo>
                  <a:pt x="1917941" y="2793987"/>
                </a:lnTo>
                <a:cubicBezTo>
                  <a:pt x="1917941" y="2783536"/>
                  <a:pt x="1909469" y="2775064"/>
                  <a:pt x="1899018" y="2775064"/>
                </a:cubicBezTo>
                <a:lnTo>
                  <a:pt x="1823325" y="2775064"/>
                </a:lnTo>
                <a:cubicBezTo>
                  <a:pt x="1812874" y="2775064"/>
                  <a:pt x="1804401" y="2783536"/>
                  <a:pt x="1804401" y="2793987"/>
                </a:cubicBezTo>
                <a:lnTo>
                  <a:pt x="1804401" y="2869677"/>
                </a:lnTo>
                <a:close/>
                <a:moveTo>
                  <a:pt x="1804401" y="3104105"/>
                </a:moveTo>
                <a:cubicBezTo>
                  <a:pt x="1804401" y="3114557"/>
                  <a:pt x="1812874" y="3123029"/>
                  <a:pt x="1823325" y="3123029"/>
                </a:cubicBezTo>
                <a:lnTo>
                  <a:pt x="1899018" y="3123029"/>
                </a:lnTo>
                <a:cubicBezTo>
                  <a:pt x="1909469" y="3123029"/>
                  <a:pt x="1917941" y="3114557"/>
                  <a:pt x="1917941" y="3104105"/>
                </a:cubicBezTo>
                <a:lnTo>
                  <a:pt x="1917941" y="3028415"/>
                </a:lnTo>
                <a:cubicBezTo>
                  <a:pt x="1917941" y="3017965"/>
                  <a:pt x="1909469" y="3009492"/>
                  <a:pt x="1899018" y="3009492"/>
                </a:cubicBezTo>
                <a:lnTo>
                  <a:pt x="1823325" y="3009492"/>
                </a:lnTo>
                <a:cubicBezTo>
                  <a:pt x="1812874" y="3009492"/>
                  <a:pt x="1804401" y="3017965"/>
                  <a:pt x="1804401" y="3028415"/>
                </a:cubicBezTo>
                <a:lnTo>
                  <a:pt x="1804401" y="3104105"/>
                </a:lnTo>
                <a:close/>
                <a:moveTo>
                  <a:pt x="1804401" y="3338533"/>
                </a:moveTo>
                <a:cubicBezTo>
                  <a:pt x="1804401" y="3348984"/>
                  <a:pt x="1812874" y="3357457"/>
                  <a:pt x="1823325" y="3357457"/>
                </a:cubicBezTo>
                <a:lnTo>
                  <a:pt x="1899018" y="3357457"/>
                </a:lnTo>
                <a:cubicBezTo>
                  <a:pt x="1909469" y="3357457"/>
                  <a:pt x="1917941" y="3348984"/>
                  <a:pt x="1917941" y="3338533"/>
                </a:cubicBezTo>
                <a:lnTo>
                  <a:pt x="1917941" y="3262842"/>
                </a:lnTo>
                <a:cubicBezTo>
                  <a:pt x="1917941" y="3252391"/>
                  <a:pt x="1909469" y="3243918"/>
                  <a:pt x="1899018" y="3243918"/>
                </a:cubicBezTo>
                <a:lnTo>
                  <a:pt x="1823325" y="3243918"/>
                </a:lnTo>
                <a:cubicBezTo>
                  <a:pt x="1812874" y="3243918"/>
                  <a:pt x="1804401" y="3252391"/>
                  <a:pt x="1804401" y="3262842"/>
                </a:cubicBezTo>
                <a:lnTo>
                  <a:pt x="1804401" y="3338533"/>
                </a:lnTo>
                <a:close/>
                <a:moveTo>
                  <a:pt x="1804401" y="3572960"/>
                </a:moveTo>
                <a:cubicBezTo>
                  <a:pt x="1804401" y="3583411"/>
                  <a:pt x="1812874" y="3591884"/>
                  <a:pt x="1823325" y="3591884"/>
                </a:cubicBezTo>
                <a:lnTo>
                  <a:pt x="1899018" y="3591884"/>
                </a:lnTo>
                <a:cubicBezTo>
                  <a:pt x="1909469" y="3591884"/>
                  <a:pt x="1917941" y="3583411"/>
                  <a:pt x="1917941" y="3572960"/>
                </a:cubicBezTo>
                <a:lnTo>
                  <a:pt x="1917941" y="3497269"/>
                </a:lnTo>
                <a:cubicBezTo>
                  <a:pt x="1917941" y="3486818"/>
                  <a:pt x="1909469" y="3478345"/>
                  <a:pt x="1899018" y="3478345"/>
                </a:cubicBezTo>
                <a:lnTo>
                  <a:pt x="1823325" y="3478345"/>
                </a:lnTo>
                <a:cubicBezTo>
                  <a:pt x="1812874" y="3478345"/>
                  <a:pt x="1804401" y="3486818"/>
                  <a:pt x="1804401" y="3497269"/>
                </a:cubicBezTo>
                <a:lnTo>
                  <a:pt x="1804401" y="3572960"/>
                </a:lnTo>
                <a:close/>
                <a:moveTo>
                  <a:pt x="1804401" y="3807388"/>
                </a:moveTo>
                <a:cubicBezTo>
                  <a:pt x="1804401" y="3817839"/>
                  <a:pt x="1812874" y="3826311"/>
                  <a:pt x="1823325" y="3826311"/>
                </a:cubicBezTo>
                <a:lnTo>
                  <a:pt x="1899018" y="3826311"/>
                </a:lnTo>
                <a:cubicBezTo>
                  <a:pt x="1909469" y="3826311"/>
                  <a:pt x="1917941" y="3817839"/>
                  <a:pt x="1917941" y="3807388"/>
                </a:cubicBezTo>
                <a:lnTo>
                  <a:pt x="1917941" y="3731697"/>
                </a:lnTo>
                <a:cubicBezTo>
                  <a:pt x="1917941" y="3721246"/>
                  <a:pt x="1909469" y="3712773"/>
                  <a:pt x="1899018" y="3712773"/>
                </a:cubicBezTo>
                <a:lnTo>
                  <a:pt x="1823325" y="3712773"/>
                </a:lnTo>
                <a:cubicBezTo>
                  <a:pt x="1812874" y="3712773"/>
                  <a:pt x="1804401" y="3721246"/>
                  <a:pt x="1804401" y="3731697"/>
                </a:cubicBezTo>
                <a:lnTo>
                  <a:pt x="1804401" y="3807388"/>
                </a:lnTo>
                <a:close/>
                <a:moveTo>
                  <a:pt x="1804401" y="4041815"/>
                </a:moveTo>
                <a:cubicBezTo>
                  <a:pt x="1804401" y="4052266"/>
                  <a:pt x="1812874" y="4060739"/>
                  <a:pt x="1823325" y="4060739"/>
                </a:cubicBezTo>
                <a:lnTo>
                  <a:pt x="1899018" y="4060739"/>
                </a:lnTo>
                <a:cubicBezTo>
                  <a:pt x="1909469" y="4060739"/>
                  <a:pt x="1917941" y="4052266"/>
                  <a:pt x="1917941" y="4041815"/>
                </a:cubicBezTo>
                <a:lnTo>
                  <a:pt x="1917941" y="3966125"/>
                </a:lnTo>
                <a:cubicBezTo>
                  <a:pt x="1917941" y="3955672"/>
                  <a:pt x="1909469" y="3947199"/>
                  <a:pt x="1899018" y="3947199"/>
                </a:cubicBezTo>
                <a:lnTo>
                  <a:pt x="1823325" y="3947199"/>
                </a:lnTo>
                <a:cubicBezTo>
                  <a:pt x="1812874" y="3947199"/>
                  <a:pt x="1804401" y="3955672"/>
                  <a:pt x="1804401" y="3966125"/>
                </a:cubicBezTo>
                <a:lnTo>
                  <a:pt x="1804401" y="4041815"/>
                </a:lnTo>
                <a:close/>
                <a:moveTo>
                  <a:pt x="1804401" y="4276236"/>
                </a:moveTo>
                <a:cubicBezTo>
                  <a:pt x="1804401" y="4286687"/>
                  <a:pt x="1812874" y="4295159"/>
                  <a:pt x="1823325" y="4295159"/>
                </a:cubicBezTo>
                <a:lnTo>
                  <a:pt x="1899018" y="4295159"/>
                </a:lnTo>
                <a:cubicBezTo>
                  <a:pt x="1909469" y="4295159"/>
                  <a:pt x="1917941" y="4286687"/>
                  <a:pt x="1917941" y="4276236"/>
                </a:cubicBezTo>
                <a:lnTo>
                  <a:pt x="1917941" y="4200550"/>
                </a:lnTo>
                <a:cubicBezTo>
                  <a:pt x="1917941" y="4190099"/>
                  <a:pt x="1909469" y="4181626"/>
                  <a:pt x="1899018" y="4181626"/>
                </a:cubicBezTo>
                <a:lnTo>
                  <a:pt x="1823325" y="4181626"/>
                </a:lnTo>
                <a:cubicBezTo>
                  <a:pt x="1812874" y="4181626"/>
                  <a:pt x="1804401" y="4190099"/>
                  <a:pt x="1804401" y="4200550"/>
                </a:cubicBezTo>
                <a:lnTo>
                  <a:pt x="1804401" y="4276236"/>
                </a:lnTo>
                <a:close/>
                <a:moveTo>
                  <a:pt x="1804401" y="4510670"/>
                </a:moveTo>
                <a:cubicBezTo>
                  <a:pt x="1804401" y="4521121"/>
                  <a:pt x="1812874" y="4529594"/>
                  <a:pt x="1823325" y="4529594"/>
                </a:cubicBezTo>
                <a:lnTo>
                  <a:pt x="1899018" y="4529594"/>
                </a:lnTo>
                <a:cubicBezTo>
                  <a:pt x="1909469" y="4529594"/>
                  <a:pt x="1917941" y="4521121"/>
                  <a:pt x="1917941" y="4510670"/>
                </a:cubicBezTo>
                <a:lnTo>
                  <a:pt x="1917941" y="4434977"/>
                </a:lnTo>
                <a:cubicBezTo>
                  <a:pt x="1917941" y="4424526"/>
                  <a:pt x="1909469" y="4416054"/>
                  <a:pt x="1899018" y="4416054"/>
                </a:cubicBezTo>
                <a:lnTo>
                  <a:pt x="1823325" y="4416054"/>
                </a:lnTo>
                <a:cubicBezTo>
                  <a:pt x="1812874" y="4416054"/>
                  <a:pt x="1804401" y="4424526"/>
                  <a:pt x="1804401" y="4434977"/>
                </a:cubicBezTo>
                <a:lnTo>
                  <a:pt x="1804401" y="4510670"/>
                </a:lnTo>
                <a:close/>
                <a:moveTo>
                  <a:pt x="1804401" y="4745098"/>
                </a:moveTo>
                <a:cubicBezTo>
                  <a:pt x="1804401" y="4755549"/>
                  <a:pt x="1812874" y="4764022"/>
                  <a:pt x="1823325" y="4764022"/>
                </a:cubicBezTo>
                <a:lnTo>
                  <a:pt x="1899018" y="4764022"/>
                </a:lnTo>
                <a:cubicBezTo>
                  <a:pt x="1909469" y="4764022"/>
                  <a:pt x="1917941" y="4755549"/>
                  <a:pt x="1917941" y="4745098"/>
                </a:cubicBezTo>
                <a:lnTo>
                  <a:pt x="1917941" y="4669405"/>
                </a:lnTo>
                <a:cubicBezTo>
                  <a:pt x="1917941" y="4658954"/>
                  <a:pt x="1909469" y="4650481"/>
                  <a:pt x="1899018" y="4650481"/>
                </a:cubicBezTo>
                <a:lnTo>
                  <a:pt x="1823325" y="4650481"/>
                </a:lnTo>
                <a:cubicBezTo>
                  <a:pt x="1812874" y="4650481"/>
                  <a:pt x="1804401" y="4658954"/>
                  <a:pt x="1804401" y="4669405"/>
                </a:cubicBezTo>
                <a:lnTo>
                  <a:pt x="1804401" y="4745098"/>
                </a:lnTo>
                <a:close/>
                <a:moveTo>
                  <a:pt x="1804401" y="4934178"/>
                </a:moveTo>
                <a:lnTo>
                  <a:pt x="1811885" y="4934178"/>
                </a:lnTo>
                <a:lnTo>
                  <a:pt x="1811885" y="4990726"/>
                </a:lnTo>
                <a:lnTo>
                  <a:pt x="1813377" y="4994329"/>
                </a:lnTo>
                <a:lnTo>
                  <a:pt x="1823325" y="4998449"/>
                </a:lnTo>
                <a:lnTo>
                  <a:pt x="1899018" y="4998449"/>
                </a:lnTo>
                <a:cubicBezTo>
                  <a:pt x="1909469" y="4998449"/>
                  <a:pt x="1917941" y="4989977"/>
                  <a:pt x="1917941" y="4979525"/>
                </a:cubicBezTo>
                <a:lnTo>
                  <a:pt x="1917941" y="4903833"/>
                </a:lnTo>
                <a:cubicBezTo>
                  <a:pt x="1917941" y="4893381"/>
                  <a:pt x="1909469" y="4884909"/>
                  <a:pt x="1899018" y="4884909"/>
                </a:cubicBezTo>
                <a:lnTo>
                  <a:pt x="1823325" y="4884909"/>
                </a:lnTo>
                <a:cubicBezTo>
                  <a:pt x="1812874" y="4884909"/>
                  <a:pt x="1804401" y="4893381"/>
                  <a:pt x="1804401" y="4903833"/>
                </a:cubicBezTo>
                <a:lnTo>
                  <a:pt x="1804401" y="4934178"/>
                </a:lnTo>
                <a:close/>
                <a:moveTo>
                  <a:pt x="71132" y="6411686"/>
                </a:moveTo>
                <a:lnTo>
                  <a:pt x="82065" y="6416214"/>
                </a:lnTo>
                <a:lnTo>
                  <a:pt x="157758" y="6416214"/>
                </a:lnTo>
                <a:lnTo>
                  <a:pt x="168691" y="6411686"/>
                </a:lnTo>
                <a:lnTo>
                  <a:pt x="71132" y="6411686"/>
                </a:lnTo>
                <a:close/>
                <a:moveTo>
                  <a:pt x="63141" y="5225153"/>
                </a:moveTo>
                <a:lnTo>
                  <a:pt x="64633" y="5228755"/>
                </a:lnTo>
                <a:lnTo>
                  <a:pt x="74581" y="5232876"/>
                </a:lnTo>
                <a:lnTo>
                  <a:pt x="150274" y="5232876"/>
                </a:lnTo>
                <a:cubicBezTo>
                  <a:pt x="160725" y="5232876"/>
                  <a:pt x="169198" y="5224403"/>
                  <a:pt x="169198" y="5213952"/>
                </a:cubicBezTo>
                <a:lnTo>
                  <a:pt x="169198" y="5138259"/>
                </a:lnTo>
                <a:lnTo>
                  <a:pt x="167706" y="5134657"/>
                </a:lnTo>
                <a:lnTo>
                  <a:pt x="157758" y="5130537"/>
                </a:lnTo>
                <a:lnTo>
                  <a:pt x="82065" y="5130537"/>
                </a:lnTo>
                <a:cubicBezTo>
                  <a:pt x="71614" y="5130537"/>
                  <a:pt x="63141" y="5139009"/>
                  <a:pt x="63141" y="5149461"/>
                </a:cubicBezTo>
                <a:lnTo>
                  <a:pt x="63141" y="5225153"/>
                </a:lnTo>
                <a:close/>
                <a:moveTo>
                  <a:pt x="63141" y="5459581"/>
                </a:moveTo>
                <a:lnTo>
                  <a:pt x="64633" y="5463183"/>
                </a:lnTo>
                <a:lnTo>
                  <a:pt x="74581" y="5467303"/>
                </a:lnTo>
                <a:lnTo>
                  <a:pt x="150274" y="5467303"/>
                </a:lnTo>
                <a:cubicBezTo>
                  <a:pt x="160725" y="5467303"/>
                  <a:pt x="169198" y="5458831"/>
                  <a:pt x="169198" y="5448380"/>
                </a:cubicBezTo>
                <a:lnTo>
                  <a:pt x="169198" y="5372687"/>
                </a:lnTo>
                <a:lnTo>
                  <a:pt x="167706" y="5369085"/>
                </a:lnTo>
                <a:lnTo>
                  <a:pt x="157758" y="5364964"/>
                </a:lnTo>
                <a:lnTo>
                  <a:pt x="82065" y="5364964"/>
                </a:lnTo>
                <a:cubicBezTo>
                  <a:pt x="71614" y="5364964"/>
                  <a:pt x="63141" y="5373437"/>
                  <a:pt x="63141" y="5383888"/>
                </a:cubicBezTo>
                <a:lnTo>
                  <a:pt x="63141" y="5459581"/>
                </a:lnTo>
                <a:close/>
                <a:moveTo>
                  <a:pt x="63141" y="5694009"/>
                </a:moveTo>
                <a:lnTo>
                  <a:pt x="64633" y="5697611"/>
                </a:lnTo>
                <a:lnTo>
                  <a:pt x="74581" y="5701731"/>
                </a:lnTo>
                <a:lnTo>
                  <a:pt x="150274" y="5701731"/>
                </a:lnTo>
                <a:cubicBezTo>
                  <a:pt x="160725" y="5701731"/>
                  <a:pt x="169198" y="5693259"/>
                  <a:pt x="169198" y="5682807"/>
                </a:cubicBezTo>
                <a:lnTo>
                  <a:pt x="169198" y="5607115"/>
                </a:lnTo>
                <a:lnTo>
                  <a:pt x="167706" y="5603512"/>
                </a:lnTo>
                <a:lnTo>
                  <a:pt x="157758" y="5599392"/>
                </a:lnTo>
                <a:lnTo>
                  <a:pt x="82065" y="5599392"/>
                </a:lnTo>
                <a:cubicBezTo>
                  <a:pt x="71614" y="5599392"/>
                  <a:pt x="63141" y="5607864"/>
                  <a:pt x="63141" y="5618316"/>
                </a:cubicBezTo>
                <a:lnTo>
                  <a:pt x="63141" y="5694009"/>
                </a:lnTo>
                <a:close/>
                <a:moveTo>
                  <a:pt x="63141" y="5928436"/>
                </a:moveTo>
                <a:lnTo>
                  <a:pt x="64633" y="5932038"/>
                </a:lnTo>
                <a:lnTo>
                  <a:pt x="74581" y="5936159"/>
                </a:lnTo>
                <a:lnTo>
                  <a:pt x="150274" y="5936159"/>
                </a:lnTo>
                <a:cubicBezTo>
                  <a:pt x="160725" y="5936159"/>
                  <a:pt x="169198" y="5927686"/>
                  <a:pt x="169198" y="5917235"/>
                </a:cubicBezTo>
                <a:lnTo>
                  <a:pt x="169198" y="5841542"/>
                </a:lnTo>
                <a:lnTo>
                  <a:pt x="167706" y="5837941"/>
                </a:lnTo>
                <a:lnTo>
                  <a:pt x="157758" y="5833820"/>
                </a:lnTo>
                <a:lnTo>
                  <a:pt x="82065" y="5833820"/>
                </a:lnTo>
                <a:cubicBezTo>
                  <a:pt x="71614" y="5833820"/>
                  <a:pt x="63141" y="5842293"/>
                  <a:pt x="63141" y="5852743"/>
                </a:cubicBezTo>
                <a:lnTo>
                  <a:pt x="63141" y="5928436"/>
                </a:lnTo>
                <a:close/>
                <a:moveTo>
                  <a:pt x="63141" y="6162864"/>
                </a:moveTo>
                <a:lnTo>
                  <a:pt x="64633" y="6166465"/>
                </a:lnTo>
                <a:lnTo>
                  <a:pt x="74581" y="6170586"/>
                </a:lnTo>
                <a:lnTo>
                  <a:pt x="150274" y="6170586"/>
                </a:lnTo>
                <a:cubicBezTo>
                  <a:pt x="160725" y="6170586"/>
                  <a:pt x="169198" y="6162114"/>
                  <a:pt x="169198" y="6151662"/>
                </a:cubicBezTo>
                <a:lnTo>
                  <a:pt x="169198" y="6075970"/>
                </a:lnTo>
                <a:lnTo>
                  <a:pt x="167705" y="6072366"/>
                </a:lnTo>
                <a:lnTo>
                  <a:pt x="157758" y="6068246"/>
                </a:lnTo>
                <a:lnTo>
                  <a:pt x="82065" y="6068246"/>
                </a:lnTo>
                <a:cubicBezTo>
                  <a:pt x="71614" y="6068246"/>
                  <a:pt x="63141" y="6076719"/>
                  <a:pt x="63141" y="6087170"/>
                </a:cubicBezTo>
                <a:lnTo>
                  <a:pt x="63141" y="6162864"/>
                </a:lnTo>
                <a:close/>
                <a:moveTo>
                  <a:pt x="63141" y="6397290"/>
                </a:moveTo>
                <a:lnTo>
                  <a:pt x="64630" y="6400885"/>
                </a:lnTo>
                <a:lnTo>
                  <a:pt x="74581" y="6405007"/>
                </a:lnTo>
                <a:lnTo>
                  <a:pt x="150274" y="6405007"/>
                </a:lnTo>
                <a:cubicBezTo>
                  <a:pt x="160725" y="6405007"/>
                  <a:pt x="169198" y="6396534"/>
                  <a:pt x="169198" y="6386083"/>
                </a:cubicBezTo>
                <a:lnTo>
                  <a:pt x="169198" y="6310390"/>
                </a:lnTo>
                <a:lnTo>
                  <a:pt x="167709" y="6306795"/>
                </a:lnTo>
                <a:lnTo>
                  <a:pt x="157758" y="6302673"/>
                </a:lnTo>
                <a:lnTo>
                  <a:pt x="82065" y="6302673"/>
                </a:lnTo>
                <a:cubicBezTo>
                  <a:pt x="71614" y="6302673"/>
                  <a:pt x="63141" y="6311146"/>
                  <a:pt x="63141" y="6321598"/>
                </a:cubicBezTo>
                <a:lnTo>
                  <a:pt x="63141" y="6397290"/>
                </a:lnTo>
                <a:close/>
                <a:moveTo>
                  <a:pt x="63141" y="6631718"/>
                </a:moveTo>
                <a:cubicBezTo>
                  <a:pt x="63141" y="6642169"/>
                  <a:pt x="71614" y="6650642"/>
                  <a:pt x="82065" y="6650642"/>
                </a:cubicBezTo>
                <a:lnTo>
                  <a:pt x="157758" y="6650642"/>
                </a:lnTo>
                <a:cubicBezTo>
                  <a:pt x="168209" y="6650642"/>
                  <a:pt x="176682" y="6642169"/>
                  <a:pt x="176682" y="6631718"/>
                </a:cubicBezTo>
                <a:lnTo>
                  <a:pt x="176682" y="6556026"/>
                </a:lnTo>
                <a:cubicBezTo>
                  <a:pt x="176682" y="6545575"/>
                  <a:pt x="168209" y="6537102"/>
                  <a:pt x="157758" y="6537102"/>
                </a:cubicBezTo>
                <a:lnTo>
                  <a:pt x="157760" y="6537102"/>
                </a:lnTo>
                <a:lnTo>
                  <a:pt x="157758" y="6537101"/>
                </a:lnTo>
                <a:lnTo>
                  <a:pt x="82065" y="6537101"/>
                </a:lnTo>
                <a:lnTo>
                  <a:pt x="82064" y="6537102"/>
                </a:lnTo>
                <a:lnTo>
                  <a:pt x="82065" y="6537102"/>
                </a:lnTo>
                <a:cubicBezTo>
                  <a:pt x="71614" y="6537102"/>
                  <a:pt x="63141" y="6545575"/>
                  <a:pt x="63141" y="6556026"/>
                </a:cubicBezTo>
                <a:lnTo>
                  <a:pt x="63141" y="6631718"/>
                </a:lnTo>
                <a:close/>
                <a:moveTo>
                  <a:pt x="63141" y="6866143"/>
                </a:moveTo>
                <a:cubicBezTo>
                  <a:pt x="63141" y="6876595"/>
                  <a:pt x="71614" y="6885067"/>
                  <a:pt x="82065" y="6885067"/>
                </a:cubicBezTo>
                <a:lnTo>
                  <a:pt x="157758" y="6885067"/>
                </a:lnTo>
                <a:cubicBezTo>
                  <a:pt x="168209" y="6885067"/>
                  <a:pt x="176682" y="6876595"/>
                  <a:pt x="176682" y="6866143"/>
                </a:cubicBezTo>
                <a:lnTo>
                  <a:pt x="176682" y="6790453"/>
                </a:lnTo>
                <a:cubicBezTo>
                  <a:pt x="176682" y="6780002"/>
                  <a:pt x="168209" y="6771530"/>
                  <a:pt x="157758" y="6771530"/>
                </a:cubicBezTo>
                <a:lnTo>
                  <a:pt x="82065" y="6771530"/>
                </a:lnTo>
                <a:cubicBezTo>
                  <a:pt x="71614" y="6771530"/>
                  <a:pt x="63141" y="6780002"/>
                  <a:pt x="63141" y="6790453"/>
                </a:cubicBezTo>
                <a:lnTo>
                  <a:pt x="63141" y="6866143"/>
                </a:lnTo>
                <a:close/>
                <a:moveTo>
                  <a:pt x="63141" y="7100571"/>
                </a:moveTo>
                <a:cubicBezTo>
                  <a:pt x="63141" y="7111022"/>
                  <a:pt x="71614" y="7119495"/>
                  <a:pt x="82065" y="7119495"/>
                </a:cubicBezTo>
                <a:lnTo>
                  <a:pt x="157758" y="7119495"/>
                </a:lnTo>
                <a:cubicBezTo>
                  <a:pt x="168209" y="7119495"/>
                  <a:pt x="176682" y="7111022"/>
                  <a:pt x="176682" y="7100571"/>
                </a:cubicBezTo>
                <a:lnTo>
                  <a:pt x="176682" y="7024881"/>
                </a:lnTo>
                <a:cubicBezTo>
                  <a:pt x="176682" y="7014430"/>
                  <a:pt x="168209" y="7005957"/>
                  <a:pt x="157758" y="7005957"/>
                </a:cubicBezTo>
                <a:lnTo>
                  <a:pt x="82065" y="7005957"/>
                </a:lnTo>
                <a:cubicBezTo>
                  <a:pt x="71614" y="7005957"/>
                  <a:pt x="63141" y="7014430"/>
                  <a:pt x="63141" y="7024881"/>
                </a:cubicBezTo>
                <a:lnTo>
                  <a:pt x="63141" y="7100571"/>
                </a:lnTo>
                <a:close/>
                <a:moveTo>
                  <a:pt x="63141" y="7334999"/>
                </a:moveTo>
                <a:cubicBezTo>
                  <a:pt x="63141" y="7345450"/>
                  <a:pt x="71614" y="7353922"/>
                  <a:pt x="82065" y="7353922"/>
                </a:cubicBezTo>
                <a:lnTo>
                  <a:pt x="157758" y="7353922"/>
                </a:lnTo>
                <a:cubicBezTo>
                  <a:pt x="168209" y="7353922"/>
                  <a:pt x="176682" y="7345450"/>
                  <a:pt x="176682" y="7334999"/>
                </a:cubicBezTo>
                <a:lnTo>
                  <a:pt x="176682" y="7259309"/>
                </a:lnTo>
                <a:cubicBezTo>
                  <a:pt x="176682" y="7248857"/>
                  <a:pt x="168209" y="7240385"/>
                  <a:pt x="157758" y="7240385"/>
                </a:cubicBezTo>
                <a:lnTo>
                  <a:pt x="82065" y="7240385"/>
                </a:lnTo>
                <a:cubicBezTo>
                  <a:pt x="71614" y="7240385"/>
                  <a:pt x="63141" y="7248857"/>
                  <a:pt x="63141" y="7259309"/>
                </a:cubicBezTo>
                <a:lnTo>
                  <a:pt x="63141" y="7334999"/>
                </a:lnTo>
                <a:close/>
                <a:moveTo>
                  <a:pt x="63141" y="7569426"/>
                </a:moveTo>
                <a:cubicBezTo>
                  <a:pt x="63141" y="7579877"/>
                  <a:pt x="71614" y="7588350"/>
                  <a:pt x="82065" y="7588350"/>
                </a:cubicBezTo>
                <a:lnTo>
                  <a:pt x="157758" y="7588350"/>
                </a:lnTo>
                <a:cubicBezTo>
                  <a:pt x="168209" y="7588350"/>
                  <a:pt x="176682" y="7579877"/>
                  <a:pt x="176682" y="7569426"/>
                </a:cubicBezTo>
                <a:lnTo>
                  <a:pt x="176682" y="7493736"/>
                </a:lnTo>
                <a:cubicBezTo>
                  <a:pt x="176682" y="7483285"/>
                  <a:pt x="168209" y="7474812"/>
                  <a:pt x="157758" y="7474812"/>
                </a:cubicBezTo>
                <a:lnTo>
                  <a:pt x="82065" y="7474812"/>
                </a:lnTo>
                <a:cubicBezTo>
                  <a:pt x="71614" y="7474812"/>
                  <a:pt x="63141" y="7483285"/>
                  <a:pt x="63141" y="7493736"/>
                </a:cubicBezTo>
                <a:lnTo>
                  <a:pt x="63141" y="7569426"/>
                </a:lnTo>
                <a:close/>
                <a:moveTo>
                  <a:pt x="63141" y="7803854"/>
                </a:moveTo>
                <a:cubicBezTo>
                  <a:pt x="63141" y="7814305"/>
                  <a:pt x="71614" y="7822777"/>
                  <a:pt x="82065" y="7822777"/>
                </a:cubicBezTo>
                <a:lnTo>
                  <a:pt x="157758" y="7822777"/>
                </a:lnTo>
                <a:cubicBezTo>
                  <a:pt x="168209" y="7822777"/>
                  <a:pt x="176682" y="7814305"/>
                  <a:pt x="176682" y="7803854"/>
                </a:cubicBezTo>
                <a:lnTo>
                  <a:pt x="176682" y="7728164"/>
                </a:lnTo>
                <a:cubicBezTo>
                  <a:pt x="176682" y="7717712"/>
                  <a:pt x="168209" y="7709240"/>
                  <a:pt x="157758" y="7709240"/>
                </a:cubicBezTo>
                <a:lnTo>
                  <a:pt x="82065" y="7709240"/>
                </a:lnTo>
                <a:cubicBezTo>
                  <a:pt x="71614" y="7709240"/>
                  <a:pt x="63141" y="7717712"/>
                  <a:pt x="63141" y="7728164"/>
                </a:cubicBezTo>
                <a:lnTo>
                  <a:pt x="63141" y="7803854"/>
                </a:lnTo>
                <a:close/>
                <a:moveTo>
                  <a:pt x="63141" y="8038281"/>
                </a:moveTo>
                <a:cubicBezTo>
                  <a:pt x="63141" y="8048732"/>
                  <a:pt x="71614" y="8057205"/>
                  <a:pt x="82065" y="8057205"/>
                </a:cubicBezTo>
                <a:lnTo>
                  <a:pt x="157758" y="8057205"/>
                </a:lnTo>
                <a:cubicBezTo>
                  <a:pt x="168209" y="8057205"/>
                  <a:pt x="176682" y="8048732"/>
                  <a:pt x="176682" y="8038281"/>
                </a:cubicBezTo>
                <a:lnTo>
                  <a:pt x="176682" y="7962591"/>
                </a:lnTo>
                <a:cubicBezTo>
                  <a:pt x="176682" y="7952141"/>
                  <a:pt x="168209" y="7943668"/>
                  <a:pt x="157758" y="7943668"/>
                </a:cubicBezTo>
                <a:lnTo>
                  <a:pt x="82065" y="7943668"/>
                </a:lnTo>
                <a:cubicBezTo>
                  <a:pt x="71614" y="7943668"/>
                  <a:pt x="63141" y="7952141"/>
                  <a:pt x="63141" y="7962591"/>
                </a:cubicBezTo>
                <a:lnTo>
                  <a:pt x="63141" y="8038281"/>
                </a:lnTo>
                <a:close/>
                <a:moveTo>
                  <a:pt x="63141" y="8272709"/>
                </a:moveTo>
                <a:cubicBezTo>
                  <a:pt x="63141" y="8283160"/>
                  <a:pt x="71614" y="8291632"/>
                  <a:pt x="82065" y="8291632"/>
                </a:cubicBezTo>
                <a:lnTo>
                  <a:pt x="157758" y="8291632"/>
                </a:lnTo>
                <a:cubicBezTo>
                  <a:pt x="168209" y="8291632"/>
                  <a:pt x="176682" y="8283160"/>
                  <a:pt x="176682" y="8272709"/>
                </a:cubicBezTo>
                <a:lnTo>
                  <a:pt x="176682" y="8197018"/>
                </a:lnTo>
                <a:cubicBezTo>
                  <a:pt x="176682" y="8186567"/>
                  <a:pt x="168209" y="8178094"/>
                  <a:pt x="157758" y="8178094"/>
                </a:cubicBezTo>
                <a:lnTo>
                  <a:pt x="82065" y="8178094"/>
                </a:lnTo>
                <a:cubicBezTo>
                  <a:pt x="71614" y="8178094"/>
                  <a:pt x="63141" y="8186567"/>
                  <a:pt x="63141" y="8197018"/>
                </a:cubicBezTo>
                <a:lnTo>
                  <a:pt x="63141" y="8272709"/>
                </a:lnTo>
                <a:close/>
                <a:moveTo>
                  <a:pt x="63141" y="8507136"/>
                </a:moveTo>
                <a:cubicBezTo>
                  <a:pt x="63141" y="8517587"/>
                  <a:pt x="71614" y="8526059"/>
                  <a:pt x="82065" y="8526059"/>
                </a:cubicBezTo>
                <a:lnTo>
                  <a:pt x="157758" y="8526059"/>
                </a:lnTo>
                <a:cubicBezTo>
                  <a:pt x="168209" y="8526059"/>
                  <a:pt x="176682" y="8517587"/>
                  <a:pt x="176682" y="8507136"/>
                </a:cubicBezTo>
                <a:lnTo>
                  <a:pt x="176682" y="8431445"/>
                </a:lnTo>
                <a:cubicBezTo>
                  <a:pt x="176682" y="8420994"/>
                  <a:pt x="168209" y="8412521"/>
                  <a:pt x="157758" y="8412521"/>
                </a:cubicBezTo>
                <a:lnTo>
                  <a:pt x="82065" y="8412521"/>
                </a:lnTo>
                <a:cubicBezTo>
                  <a:pt x="71614" y="8412521"/>
                  <a:pt x="63141" y="8420994"/>
                  <a:pt x="63141" y="8431445"/>
                </a:cubicBezTo>
                <a:lnTo>
                  <a:pt x="63141" y="8507136"/>
                </a:lnTo>
                <a:close/>
                <a:moveTo>
                  <a:pt x="63141" y="8741563"/>
                </a:moveTo>
                <a:cubicBezTo>
                  <a:pt x="63141" y="8752015"/>
                  <a:pt x="71614" y="8760487"/>
                  <a:pt x="82065" y="8760487"/>
                </a:cubicBezTo>
                <a:lnTo>
                  <a:pt x="157758" y="8760487"/>
                </a:lnTo>
                <a:cubicBezTo>
                  <a:pt x="168209" y="8760487"/>
                  <a:pt x="176682" y="8752015"/>
                  <a:pt x="176682" y="8741563"/>
                </a:cubicBezTo>
                <a:lnTo>
                  <a:pt x="176682" y="8665873"/>
                </a:lnTo>
                <a:cubicBezTo>
                  <a:pt x="176682" y="8655421"/>
                  <a:pt x="168209" y="8646949"/>
                  <a:pt x="157758" y="8646949"/>
                </a:cubicBezTo>
                <a:lnTo>
                  <a:pt x="82065" y="8646949"/>
                </a:lnTo>
                <a:cubicBezTo>
                  <a:pt x="71614" y="8646949"/>
                  <a:pt x="63141" y="8655421"/>
                  <a:pt x="63141" y="8665873"/>
                </a:cubicBezTo>
                <a:lnTo>
                  <a:pt x="63141" y="8741563"/>
                </a:lnTo>
                <a:close/>
                <a:moveTo>
                  <a:pt x="63141" y="8975991"/>
                </a:moveTo>
                <a:cubicBezTo>
                  <a:pt x="63141" y="8986442"/>
                  <a:pt x="71614" y="8994915"/>
                  <a:pt x="82065" y="8994915"/>
                </a:cubicBezTo>
                <a:lnTo>
                  <a:pt x="157758" y="8994915"/>
                </a:lnTo>
                <a:cubicBezTo>
                  <a:pt x="168209" y="8994915"/>
                  <a:pt x="176682" y="8986442"/>
                  <a:pt x="176682" y="8975991"/>
                </a:cubicBezTo>
                <a:lnTo>
                  <a:pt x="176682" y="8900300"/>
                </a:lnTo>
                <a:cubicBezTo>
                  <a:pt x="176682" y="8889847"/>
                  <a:pt x="168209" y="8881375"/>
                  <a:pt x="157758" y="8881375"/>
                </a:cubicBezTo>
                <a:lnTo>
                  <a:pt x="82065" y="8881375"/>
                </a:lnTo>
                <a:cubicBezTo>
                  <a:pt x="71614" y="8881375"/>
                  <a:pt x="63141" y="8889847"/>
                  <a:pt x="63141" y="8900300"/>
                </a:cubicBezTo>
                <a:lnTo>
                  <a:pt x="63141" y="8975991"/>
                </a:lnTo>
                <a:close/>
                <a:moveTo>
                  <a:pt x="63141" y="9210411"/>
                </a:moveTo>
                <a:cubicBezTo>
                  <a:pt x="63141" y="9220863"/>
                  <a:pt x="71614" y="9229335"/>
                  <a:pt x="82065" y="9229335"/>
                </a:cubicBezTo>
                <a:lnTo>
                  <a:pt x="157758" y="9229335"/>
                </a:lnTo>
                <a:cubicBezTo>
                  <a:pt x="168209" y="9229335"/>
                  <a:pt x="176682" y="9220863"/>
                  <a:pt x="176682" y="9210411"/>
                </a:cubicBezTo>
                <a:lnTo>
                  <a:pt x="176682" y="9134726"/>
                </a:lnTo>
                <a:cubicBezTo>
                  <a:pt x="176682" y="9124275"/>
                  <a:pt x="168209" y="9115802"/>
                  <a:pt x="157758" y="9115802"/>
                </a:cubicBezTo>
                <a:lnTo>
                  <a:pt x="82065" y="9115802"/>
                </a:lnTo>
                <a:cubicBezTo>
                  <a:pt x="71614" y="9115802"/>
                  <a:pt x="63141" y="9124275"/>
                  <a:pt x="63141" y="9134726"/>
                </a:cubicBezTo>
                <a:lnTo>
                  <a:pt x="63141" y="9210411"/>
                </a:lnTo>
                <a:close/>
                <a:moveTo>
                  <a:pt x="63141" y="9444846"/>
                </a:moveTo>
                <a:cubicBezTo>
                  <a:pt x="63141" y="9455297"/>
                  <a:pt x="71614" y="9463770"/>
                  <a:pt x="82065" y="9463770"/>
                </a:cubicBezTo>
                <a:lnTo>
                  <a:pt x="157758" y="9463770"/>
                </a:lnTo>
                <a:cubicBezTo>
                  <a:pt x="168209" y="9463770"/>
                  <a:pt x="176682" y="9455297"/>
                  <a:pt x="176682" y="9444846"/>
                </a:cubicBezTo>
                <a:lnTo>
                  <a:pt x="176682" y="9369153"/>
                </a:lnTo>
                <a:cubicBezTo>
                  <a:pt x="176682" y="9358702"/>
                  <a:pt x="168209" y="9350230"/>
                  <a:pt x="157758" y="9350230"/>
                </a:cubicBezTo>
                <a:lnTo>
                  <a:pt x="82065" y="9350230"/>
                </a:lnTo>
                <a:cubicBezTo>
                  <a:pt x="71614" y="9350230"/>
                  <a:pt x="63141" y="9358702"/>
                  <a:pt x="63141" y="9369153"/>
                </a:cubicBezTo>
                <a:lnTo>
                  <a:pt x="63141" y="9444846"/>
                </a:lnTo>
                <a:close/>
                <a:moveTo>
                  <a:pt x="63141" y="9679274"/>
                </a:moveTo>
                <a:cubicBezTo>
                  <a:pt x="63141" y="9689725"/>
                  <a:pt x="71614" y="9698197"/>
                  <a:pt x="82065" y="9698197"/>
                </a:cubicBezTo>
                <a:lnTo>
                  <a:pt x="157758" y="9698197"/>
                </a:lnTo>
                <a:cubicBezTo>
                  <a:pt x="168209" y="9698197"/>
                  <a:pt x="176682" y="9689725"/>
                  <a:pt x="176682" y="9679274"/>
                </a:cubicBezTo>
                <a:lnTo>
                  <a:pt x="176682" y="9603581"/>
                </a:lnTo>
                <a:cubicBezTo>
                  <a:pt x="176682" y="9593130"/>
                  <a:pt x="168209" y="9584657"/>
                  <a:pt x="157758" y="9584657"/>
                </a:cubicBezTo>
                <a:lnTo>
                  <a:pt x="82065" y="9584657"/>
                </a:lnTo>
                <a:cubicBezTo>
                  <a:pt x="71614" y="9584657"/>
                  <a:pt x="63141" y="9593130"/>
                  <a:pt x="63141" y="9603581"/>
                </a:cubicBezTo>
                <a:lnTo>
                  <a:pt x="63141" y="9679274"/>
                </a:lnTo>
                <a:close/>
                <a:moveTo>
                  <a:pt x="63141" y="9913701"/>
                </a:moveTo>
                <a:cubicBezTo>
                  <a:pt x="63141" y="9924152"/>
                  <a:pt x="71614" y="9932625"/>
                  <a:pt x="82065" y="9932625"/>
                </a:cubicBezTo>
                <a:lnTo>
                  <a:pt x="157758" y="9932625"/>
                </a:lnTo>
                <a:cubicBezTo>
                  <a:pt x="168209" y="9932625"/>
                  <a:pt x="176682" y="9924152"/>
                  <a:pt x="176682" y="9913701"/>
                </a:cubicBezTo>
                <a:lnTo>
                  <a:pt x="176682" y="9838008"/>
                </a:lnTo>
                <a:cubicBezTo>
                  <a:pt x="176682" y="9827557"/>
                  <a:pt x="168209" y="9819085"/>
                  <a:pt x="157758" y="9819085"/>
                </a:cubicBezTo>
                <a:lnTo>
                  <a:pt x="82065" y="9819085"/>
                </a:lnTo>
                <a:cubicBezTo>
                  <a:pt x="71614" y="9819085"/>
                  <a:pt x="63141" y="9827557"/>
                  <a:pt x="63141" y="9838008"/>
                </a:cubicBezTo>
                <a:lnTo>
                  <a:pt x="63141" y="9913701"/>
                </a:lnTo>
                <a:close/>
                <a:moveTo>
                  <a:pt x="63141" y="10148129"/>
                </a:moveTo>
                <a:cubicBezTo>
                  <a:pt x="63141" y="10158580"/>
                  <a:pt x="71614" y="10167052"/>
                  <a:pt x="82065" y="10167052"/>
                </a:cubicBezTo>
                <a:lnTo>
                  <a:pt x="157758" y="10167052"/>
                </a:lnTo>
                <a:cubicBezTo>
                  <a:pt x="168209" y="10167052"/>
                  <a:pt x="176682" y="10158580"/>
                  <a:pt x="176682" y="10148129"/>
                </a:cubicBezTo>
                <a:lnTo>
                  <a:pt x="176682" y="10072436"/>
                </a:lnTo>
                <a:cubicBezTo>
                  <a:pt x="176682" y="10061985"/>
                  <a:pt x="168209" y="10053512"/>
                  <a:pt x="157758" y="10053512"/>
                </a:cubicBezTo>
                <a:lnTo>
                  <a:pt x="82065" y="10053512"/>
                </a:lnTo>
                <a:cubicBezTo>
                  <a:pt x="71614" y="10053512"/>
                  <a:pt x="63141" y="10061985"/>
                  <a:pt x="63141" y="10072436"/>
                </a:cubicBezTo>
                <a:lnTo>
                  <a:pt x="63141" y="10148129"/>
                </a:lnTo>
                <a:close/>
                <a:moveTo>
                  <a:pt x="63141" y="10382556"/>
                </a:moveTo>
                <a:cubicBezTo>
                  <a:pt x="63141" y="10393008"/>
                  <a:pt x="71614" y="10401480"/>
                  <a:pt x="82065" y="10401480"/>
                </a:cubicBezTo>
                <a:lnTo>
                  <a:pt x="157758" y="10401480"/>
                </a:lnTo>
                <a:cubicBezTo>
                  <a:pt x="168209" y="10401480"/>
                  <a:pt x="176682" y="10393008"/>
                  <a:pt x="176682" y="10382556"/>
                </a:cubicBezTo>
                <a:lnTo>
                  <a:pt x="176682" y="10306863"/>
                </a:lnTo>
                <a:cubicBezTo>
                  <a:pt x="176682" y="10296412"/>
                  <a:pt x="168209" y="10287940"/>
                  <a:pt x="157758" y="10287940"/>
                </a:cubicBezTo>
                <a:lnTo>
                  <a:pt x="82065" y="10287940"/>
                </a:lnTo>
                <a:cubicBezTo>
                  <a:pt x="71614" y="10287940"/>
                  <a:pt x="63141" y="10296412"/>
                  <a:pt x="63141" y="10306863"/>
                </a:cubicBezTo>
                <a:lnTo>
                  <a:pt x="63141" y="10382556"/>
                </a:lnTo>
                <a:close/>
                <a:moveTo>
                  <a:pt x="63141" y="10616984"/>
                </a:moveTo>
                <a:cubicBezTo>
                  <a:pt x="63141" y="10627435"/>
                  <a:pt x="71614" y="10635908"/>
                  <a:pt x="82065" y="10635908"/>
                </a:cubicBezTo>
                <a:lnTo>
                  <a:pt x="157758" y="10635908"/>
                </a:lnTo>
                <a:cubicBezTo>
                  <a:pt x="168209" y="10635908"/>
                  <a:pt x="176682" y="10627435"/>
                  <a:pt x="176682" y="10616984"/>
                </a:cubicBezTo>
                <a:lnTo>
                  <a:pt x="176682" y="10541291"/>
                </a:lnTo>
                <a:cubicBezTo>
                  <a:pt x="176682" y="10530840"/>
                  <a:pt x="168209" y="10522367"/>
                  <a:pt x="157758" y="10522367"/>
                </a:cubicBezTo>
                <a:lnTo>
                  <a:pt x="82065" y="10522367"/>
                </a:lnTo>
                <a:cubicBezTo>
                  <a:pt x="71614" y="10522367"/>
                  <a:pt x="63141" y="10530840"/>
                  <a:pt x="63141" y="10541291"/>
                </a:cubicBezTo>
                <a:lnTo>
                  <a:pt x="63141" y="10616984"/>
                </a:lnTo>
                <a:close/>
                <a:moveTo>
                  <a:pt x="63141" y="10851411"/>
                </a:moveTo>
                <a:cubicBezTo>
                  <a:pt x="63141" y="10861863"/>
                  <a:pt x="71614" y="10870335"/>
                  <a:pt x="82065" y="10870335"/>
                </a:cubicBezTo>
                <a:lnTo>
                  <a:pt x="157758" y="10870335"/>
                </a:lnTo>
                <a:cubicBezTo>
                  <a:pt x="168209" y="10870335"/>
                  <a:pt x="176682" y="10861863"/>
                  <a:pt x="176682" y="10851411"/>
                </a:cubicBezTo>
                <a:lnTo>
                  <a:pt x="176682" y="10775719"/>
                </a:lnTo>
                <a:cubicBezTo>
                  <a:pt x="176682" y="10765267"/>
                  <a:pt x="168209" y="10756795"/>
                  <a:pt x="157758" y="10756795"/>
                </a:cubicBezTo>
                <a:lnTo>
                  <a:pt x="82065" y="10756795"/>
                </a:lnTo>
                <a:cubicBezTo>
                  <a:pt x="71614" y="10756795"/>
                  <a:pt x="63141" y="10765267"/>
                  <a:pt x="63141" y="10775719"/>
                </a:cubicBezTo>
                <a:lnTo>
                  <a:pt x="63141" y="10851411"/>
                </a:lnTo>
                <a:close/>
                <a:moveTo>
                  <a:pt x="63141" y="11085839"/>
                </a:moveTo>
                <a:cubicBezTo>
                  <a:pt x="63141" y="11096290"/>
                  <a:pt x="71614" y="11104763"/>
                  <a:pt x="82065" y="11104763"/>
                </a:cubicBezTo>
                <a:lnTo>
                  <a:pt x="157758" y="11104763"/>
                </a:lnTo>
                <a:cubicBezTo>
                  <a:pt x="168209" y="11104763"/>
                  <a:pt x="176682" y="11096290"/>
                  <a:pt x="176682" y="11085839"/>
                </a:cubicBezTo>
                <a:lnTo>
                  <a:pt x="176682" y="11010146"/>
                </a:lnTo>
                <a:cubicBezTo>
                  <a:pt x="176682" y="10999695"/>
                  <a:pt x="168209" y="10991222"/>
                  <a:pt x="157758" y="10991222"/>
                </a:cubicBezTo>
                <a:lnTo>
                  <a:pt x="82065" y="10991222"/>
                </a:lnTo>
                <a:cubicBezTo>
                  <a:pt x="71614" y="10991222"/>
                  <a:pt x="63141" y="10999695"/>
                  <a:pt x="63141" y="11010146"/>
                </a:cubicBezTo>
                <a:lnTo>
                  <a:pt x="63141" y="11085839"/>
                </a:lnTo>
                <a:close/>
                <a:moveTo>
                  <a:pt x="63141" y="11320259"/>
                </a:moveTo>
                <a:cubicBezTo>
                  <a:pt x="63141" y="11330711"/>
                  <a:pt x="71614" y="11339183"/>
                  <a:pt x="82065" y="11339183"/>
                </a:cubicBezTo>
                <a:lnTo>
                  <a:pt x="157758" y="11339183"/>
                </a:lnTo>
                <a:cubicBezTo>
                  <a:pt x="168209" y="11339183"/>
                  <a:pt x="176682" y="11330711"/>
                  <a:pt x="176682" y="11320259"/>
                </a:cubicBezTo>
                <a:lnTo>
                  <a:pt x="176682" y="11244567"/>
                </a:lnTo>
                <a:cubicBezTo>
                  <a:pt x="176682" y="11234115"/>
                  <a:pt x="168209" y="11225643"/>
                  <a:pt x="157758" y="11225643"/>
                </a:cubicBezTo>
                <a:lnTo>
                  <a:pt x="82065" y="11225643"/>
                </a:lnTo>
                <a:cubicBezTo>
                  <a:pt x="71614" y="11225643"/>
                  <a:pt x="63141" y="11234115"/>
                  <a:pt x="63141" y="11244567"/>
                </a:cubicBezTo>
                <a:lnTo>
                  <a:pt x="63141" y="11320259"/>
                </a:lnTo>
                <a:close/>
                <a:moveTo>
                  <a:pt x="55657" y="290977"/>
                </a:moveTo>
                <a:cubicBezTo>
                  <a:pt x="55657" y="301428"/>
                  <a:pt x="64130" y="309900"/>
                  <a:pt x="74581" y="309900"/>
                </a:cubicBezTo>
                <a:lnTo>
                  <a:pt x="150274" y="309900"/>
                </a:lnTo>
                <a:cubicBezTo>
                  <a:pt x="160725" y="309900"/>
                  <a:pt x="169198" y="301428"/>
                  <a:pt x="169198" y="290977"/>
                </a:cubicBezTo>
                <a:lnTo>
                  <a:pt x="169198" y="215284"/>
                </a:lnTo>
                <a:cubicBezTo>
                  <a:pt x="169198" y="204833"/>
                  <a:pt x="160725" y="196360"/>
                  <a:pt x="150274" y="196360"/>
                </a:cubicBezTo>
                <a:lnTo>
                  <a:pt x="74581" y="196360"/>
                </a:lnTo>
                <a:cubicBezTo>
                  <a:pt x="64130" y="196360"/>
                  <a:pt x="55657" y="204833"/>
                  <a:pt x="55657" y="215284"/>
                </a:cubicBezTo>
                <a:lnTo>
                  <a:pt x="55657" y="290977"/>
                </a:lnTo>
                <a:close/>
                <a:moveTo>
                  <a:pt x="55657" y="525404"/>
                </a:moveTo>
                <a:cubicBezTo>
                  <a:pt x="55657" y="535855"/>
                  <a:pt x="64130" y="544328"/>
                  <a:pt x="74581" y="544328"/>
                </a:cubicBezTo>
                <a:lnTo>
                  <a:pt x="150274" y="544328"/>
                </a:lnTo>
                <a:cubicBezTo>
                  <a:pt x="160725" y="544328"/>
                  <a:pt x="169198" y="535855"/>
                  <a:pt x="169198" y="525404"/>
                </a:cubicBezTo>
                <a:lnTo>
                  <a:pt x="169198" y="449711"/>
                </a:lnTo>
                <a:cubicBezTo>
                  <a:pt x="169198" y="439260"/>
                  <a:pt x="160725" y="430788"/>
                  <a:pt x="150274" y="430788"/>
                </a:cubicBezTo>
                <a:lnTo>
                  <a:pt x="74581" y="430788"/>
                </a:lnTo>
                <a:cubicBezTo>
                  <a:pt x="64130" y="430788"/>
                  <a:pt x="55657" y="439260"/>
                  <a:pt x="55657" y="449711"/>
                </a:cubicBezTo>
                <a:lnTo>
                  <a:pt x="55657" y="525404"/>
                </a:lnTo>
                <a:close/>
                <a:moveTo>
                  <a:pt x="55657" y="759832"/>
                </a:moveTo>
                <a:cubicBezTo>
                  <a:pt x="55657" y="770283"/>
                  <a:pt x="64130" y="778755"/>
                  <a:pt x="74581" y="778755"/>
                </a:cubicBezTo>
                <a:lnTo>
                  <a:pt x="150274" y="778755"/>
                </a:lnTo>
                <a:cubicBezTo>
                  <a:pt x="160725" y="778755"/>
                  <a:pt x="169198" y="770283"/>
                  <a:pt x="169198" y="759832"/>
                </a:cubicBezTo>
                <a:lnTo>
                  <a:pt x="169198" y="684139"/>
                </a:lnTo>
                <a:cubicBezTo>
                  <a:pt x="169198" y="673688"/>
                  <a:pt x="160725" y="665215"/>
                  <a:pt x="150274" y="665215"/>
                </a:cubicBezTo>
                <a:lnTo>
                  <a:pt x="74581" y="665215"/>
                </a:lnTo>
                <a:cubicBezTo>
                  <a:pt x="64130" y="665215"/>
                  <a:pt x="55657" y="673688"/>
                  <a:pt x="55657" y="684139"/>
                </a:cubicBezTo>
                <a:lnTo>
                  <a:pt x="55657" y="759832"/>
                </a:lnTo>
                <a:close/>
                <a:moveTo>
                  <a:pt x="55657" y="994259"/>
                </a:moveTo>
                <a:cubicBezTo>
                  <a:pt x="55657" y="1004710"/>
                  <a:pt x="64130" y="1013184"/>
                  <a:pt x="74581" y="1013184"/>
                </a:cubicBezTo>
                <a:lnTo>
                  <a:pt x="150274" y="1013184"/>
                </a:lnTo>
                <a:cubicBezTo>
                  <a:pt x="160725" y="1013184"/>
                  <a:pt x="169198" y="1004710"/>
                  <a:pt x="169198" y="994259"/>
                </a:cubicBezTo>
                <a:lnTo>
                  <a:pt x="169198" y="918566"/>
                </a:lnTo>
                <a:cubicBezTo>
                  <a:pt x="169198" y="908116"/>
                  <a:pt x="160725" y="899643"/>
                  <a:pt x="150274" y="899643"/>
                </a:cubicBezTo>
                <a:lnTo>
                  <a:pt x="74581" y="899643"/>
                </a:lnTo>
                <a:cubicBezTo>
                  <a:pt x="64130" y="899643"/>
                  <a:pt x="55657" y="908116"/>
                  <a:pt x="55657" y="918566"/>
                </a:cubicBezTo>
                <a:lnTo>
                  <a:pt x="55657" y="994259"/>
                </a:lnTo>
                <a:close/>
                <a:moveTo>
                  <a:pt x="55657" y="1228687"/>
                </a:moveTo>
                <a:cubicBezTo>
                  <a:pt x="55657" y="1239138"/>
                  <a:pt x="64130" y="1247611"/>
                  <a:pt x="74581" y="1247611"/>
                </a:cubicBezTo>
                <a:lnTo>
                  <a:pt x="150274" y="1247611"/>
                </a:lnTo>
                <a:cubicBezTo>
                  <a:pt x="160725" y="1247611"/>
                  <a:pt x="169198" y="1239138"/>
                  <a:pt x="169198" y="1228687"/>
                </a:cubicBezTo>
                <a:lnTo>
                  <a:pt x="169198" y="1152993"/>
                </a:lnTo>
                <a:cubicBezTo>
                  <a:pt x="169198" y="1142542"/>
                  <a:pt x="160725" y="1134070"/>
                  <a:pt x="150274" y="1134070"/>
                </a:cubicBezTo>
                <a:lnTo>
                  <a:pt x="74581" y="1134070"/>
                </a:lnTo>
                <a:cubicBezTo>
                  <a:pt x="64130" y="1134070"/>
                  <a:pt x="55657" y="1142542"/>
                  <a:pt x="55657" y="1152993"/>
                </a:cubicBezTo>
                <a:lnTo>
                  <a:pt x="55657" y="1228687"/>
                </a:lnTo>
                <a:close/>
                <a:moveTo>
                  <a:pt x="55657" y="1463114"/>
                </a:moveTo>
                <a:cubicBezTo>
                  <a:pt x="55657" y="1473565"/>
                  <a:pt x="64130" y="1482037"/>
                  <a:pt x="74581" y="1482037"/>
                </a:cubicBezTo>
                <a:lnTo>
                  <a:pt x="150274" y="1482037"/>
                </a:lnTo>
                <a:cubicBezTo>
                  <a:pt x="160725" y="1482037"/>
                  <a:pt x="169198" y="1473565"/>
                  <a:pt x="169198" y="1463114"/>
                </a:cubicBezTo>
                <a:lnTo>
                  <a:pt x="169198" y="1387421"/>
                </a:lnTo>
                <a:cubicBezTo>
                  <a:pt x="169198" y="1376970"/>
                  <a:pt x="160725" y="1368496"/>
                  <a:pt x="150274" y="1368496"/>
                </a:cubicBezTo>
                <a:lnTo>
                  <a:pt x="74581" y="1368496"/>
                </a:lnTo>
                <a:cubicBezTo>
                  <a:pt x="64130" y="1368496"/>
                  <a:pt x="55657" y="1376970"/>
                  <a:pt x="55657" y="1387421"/>
                </a:cubicBezTo>
                <a:lnTo>
                  <a:pt x="55657" y="1463114"/>
                </a:lnTo>
                <a:close/>
                <a:moveTo>
                  <a:pt x="55657" y="1697541"/>
                </a:moveTo>
                <a:cubicBezTo>
                  <a:pt x="55657" y="1707993"/>
                  <a:pt x="64130" y="1716465"/>
                  <a:pt x="74581" y="1716465"/>
                </a:cubicBezTo>
                <a:lnTo>
                  <a:pt x="150274" y="1716465"/>
                </a:lnTo>
                <a:cubicBezTo>
                  <a:pt x="160725" y="1716465"/>
                  <a:pt x="169198" y="1707993"/>
                  <a:pt x="169198" y="1697541"/>
                </a:cubicBezTo>
                <a:lnTo>
                  <a:pt x="169198" y="1621849"/>
                </a:lnTo>
                <a:cubicBezTo>
                  <a:pt x="169198" y="1611398"/>
                  <a:pt x="160725" y="1602925"/>
                  <a:pt x="150274" y="1602925"/>
                </a:cubicBezTo>
                <a:lnTo>
                  <a:pt x="74581" y="1602925"/>
                </a:lnTo>
                <a:cubicBezTo>
                  <a:pt x="64130" y="1602925"/>
                  <a:pt x="55657" y="1611398"/>
                  <a:pt x="55657" y="1621849"/>
                </a:cubicBezTo>
                <a:lnTo>
                  <a:pt x="55657" y="1697541"/>
                </a:lnTo>
                <a:close/>
                <a:moveTo>
                  <a:pt x="55657" y="1931967"/>
                </a:moveTo>
                <a:cubicBezTo>
                  <a:pt x="55657" y="1942418"/>
                  <a:pt x="64130" y="1950890"/>
                  <a:pt x="74581" y="1950890"/>
                </a:cubicBezTo>
                <a:lnTo>
                  <a:pt x="150274" y="1950890"/>
                </a:lnTo>
                <a:cubicBezTo>
                  <a:pt x="160725" y="1950890"/>
                  <a:pt x="169198" y="1942418"/>
                  <a:pt x="169198" y="1931967"/>
                </a:cubicBezTo>
                <a:lnTo>
                  <a:pt x="169198" y="1856277"/>
                </a:lnTo>
                <a:cubicBezTo>
                  <a:pt x="169198" y="1845825"/>
                  <a:pt x="160725" y="1837353"/>
                  <a:pt x="150274" y="1837353"/>
                </a:cubicBezTo>
                <a:lnTo>
                  <a:pt x="74581" y="1837353"/>
                </a:lnTo>
                <a:cubicBezTo>
                  <a:pt x="64130" y="1837353"/>
                  <a:pt x="55657" y="1845825"/>
                  <a:pt x="55657" y="1856277"/>
                </a:cubicBezTo>
                <a:lnTo>
                  <a:pt x="55657" y="1931967"/>
                </a:lnTo>
                <a:close/>
                <a:moveTo>
                  <a:pt x="55657" y="2166394"/>
                </a:moveTo>
                <a:cubicBezTo>
                  <a:pt x="55657" y="2176845"/>
                  <a:pt x="64130" y="2185318"/>
                  <a:pt x="74581" y="2185318"/>
                </a:cubicBezTo>
                <a:lnTo>
                  <a:pt x="150274" y="2185318"/>
                </a:lnTo>
                <a:cubicBezTo>
                  <a:pt x="160725" y="2185318"/>
                  <a:pt x="169198" y="2176845"/>
                  <a:pt x="169198" y="2166394"/>
                </a:cubicBezTo>
                <a:lnTo>
                  <a:pt x="169198" y="2090704"/>
                </a:lnTo>
                <a:cubicBezTo>
                  <a:pt x="169198" y="2080253"/>
                  <a:pt x="160725" y="2071781"/>
                  <a:pt x="150274" y="2071781"/>
                </a:cubicBezTo>
                <a:lnTo>
                  <a:pt x="74581" y="2071781"/>
                </a:lnTo>
                <a:cubicBezTo>
                  <a:pt x="64130" y="2071781"/>
                  <a:pt x="55657" y="2080253"/>
                  <a:pt x="55657" y="2090704"/>
                </a:cubicBezTo>
                <a:lnTo>
                  <a:pt x="55657" y="2166394"/>
                </a:lnTo>
                <a:close/>
                <a:moveTo>
                  <a:pt x="55657" y="2400822"/>
                </a:moveTo>
                <a:cubicBezTo>
                  <a:pt x="55657" y="2411273"/>
                  <a:pt x="64130" y="2419745"/>
                  <a:pt x="74581" y="2419745"/>
                </a:cubicBezTo>
                <a:lnTo>
                  <a:pt x="150274" y="2419745"/>
                </a:lnTo>
                <a:cubicBezTo>
                  <a:pt x="160725" y="2419745"/>
                  <a:pt x="169198" y="2411273"/>
                  <a:pt x="169198" y="2400822"/>
                </a:cubicBezTo>
                <a:lnTo>
                  <a:pt x="169198" y="2325132"/>
                </a:lnTo>
                <a:cubicBezTo>
                  <a:pt x="169198" y="2314681"/>
                  <a:pt x="160725" y="2306208"/>
                  <a:pt x="150274" y="2306208"/>
                </a:cubicBezTo>
                <a:lnTo>
                  <a:pt x="74581" y="2306208"/>
                </a:lnTo>
                <a:cubicBezTo>
                  <a:pt x="64130" y="2306208"/>
                  <a:pt x="55657" y="2314681"/>
                  <a:pt x="55657" y="2325132"/>
                </a:cubicBezTo>
                <a:lnTo>
                  <a:pt x="55657" y="2400822"/>
                </a:lnTo>
                <a:close/>
                <a:moveTo>
                  <a:pt x="55657" y="2635249"/>
                </a:moveTo>
                <a:cubicBezTo>
                  <a:pt x="55657" y="2645701"/>
                  <a:pt x="64130" y="2654173"/>
                  <a:pt x="74581" y="2654173"/>
                </a:cubicBezTo>
                <a:lnTo>
                  <a:pt x="150274" y="2654173"/>
                </a:lnTo>
                <a:cubicBezTo>
                  <a:pt x="160725" y="2654173"/>
                  <a:pt x="169198" y="2645701"/>
                  <a:pt x="169198" y="2635249"/>
                </a:cubicBezTo>
                <a:lnTo>
                  <a:pt x="169198" y="2559559"/>
                </a:lnTo>
                <a:cubicBezTo>
                  <a:pt x="169198" y="2549108"/>
                  <a:pt x="160725" y="2540635"/>
                  <a:pt x="150274" y="2540635"/>
                </a:cubicBezTo>
                <a:lnTo>
                  <a:pt x="74581" y="2540635"/>
                </a:lnTo>
                <a:cubicBezTo>
                  <a:pt x="64130" y="2540635"/>
                  <a:pt x="55657" y="2549108"/>
                  <a:pt x="55657" y="2559559"/>
                </a:cubicBezTo>
                <a:lnTo>
                  <a:pt x="55657" y="2635249"/>
                </a:lnTo>
                <a:close/>
                <a:moveTo>
                  <a:pt x="55657" y="2869677"/>
                </a:moveTo>
                <a:cubicBezTo>
                  <a:pt x="55657" y="2880128"/>
                  <a:pt x="64130" y="2888601"/>
                  <a:pt x="74581" y="2888601"/>
                </a:cubicBezTo>
                <a:lnTo>
                  <a:pt x="150274" y="2888601"/>
                </a:lnTo>
                <a:cubicBezTo>
                  <a:pt x="160725" y="2888601"/>
                  <a:pt x="169198" y="2880128"/>
                  <a:pt x="169198" y="2869677"/>
                </a:cubicBezTo>
                <a:lnTo>
                  <a:pt x="169198" y="2793987"/>
                </a:lnTo>
                <a:cubicBezTo>
                  <a:pt x="169198" y="2783536"/>
                  <a:pt x="160725" y="2775063"/>
                  <a:pt x="150274" y="2775063"/>
                </a:cubicBezTo>
                <a:lnTo>
                  <a:pt x="74581" y="2775063"/>
                </a:lnTo>
                <a:cubicBezTo>
                  <a:pt x="64130" y="2775063"/>
                  <a:pt x="55657" y="2783536"/>
                  <a:pt x="55657" y="2793987"/>
                </a:cubicBezTo>
                <a:lnTo>
                  <a:pt x="55657" y="2869677"/>
                </a:lnTo>
                <a:close/>
                <a:moveTo>
                  <a:pt x="55657" y="3104105"/>
                </a:moveTo>
                <a:cubicBezTo>
                  <a:pt x="55657" y="3114556"/>
                  <a:pt x="64130" y="3123028"/>
                  <a:pt x="74581" y="3123028"/>
                </a:cubicBezTo>
                <a:lnTo>
                  <a:pt x="150274" y="3123028"/>
                </a:lnTo>
                <a:cubicBezTo>
                  <a:pt x="160725" y="3123028"/>
                  <a:pt x="169198" y="3114556"/>
                  <a:pt x="169198" y="3104105"/>
                </a:cubicBezTo>
                <a:lnTo>
                  <a:pt x="169198" y="3028415"/>
                </a:lnTo>
                <a:cubicBezTo>
                  <a:pt x="169198" y="3017964"/>
                  <a:pt x="160725" y="3009491"/>
                  <a:pt x="150274" y="3009491"/>
                </a:cubicBezTo>
                <a:lnTo>
                  <a:pt x="74581" y="3009491"/>
                </a:lnTo>
                <a:cubicBezTo>
                  <a:pt x="64130" y="3009491"/>
                  <a:pt x="55657" y="3017964"/>
                  <a:pt x="55657" y="3028415"/>
                </a:cubicBezTo>
                <a:lnTo>
                  <a:pt x="55657" y="3104105"/>
                </a:lnTo>
                <a:close/>
                <a:moveTo>
                  <a:pt x="55657" y="3338532"/>
                </a:moveTo>
                <a:cubicBezTo>
                  <a:pt x="55657" y="3348983"/>
                  <a:pt x="64130" y="3357456"/>
                  <a:pt x="74581" y="3357456"/>
                </a:cubicBezTo>
                <a:lnTo>
                  <a:pt x="150274" y="3357456"/>
                </a:lnTo>
                <a:cubicBezTo>
                  <a:pt x="160725" y="3357456"/>
                  <a:pt x="169198" y="3348983"/>
                  <a:pt x="169198" y="3338532"/>
                </a:cubicBezTo>
                <a:lnTo>
                  <a:pt x="169198" y="3262841"/>
                </a:lnTo>
                <a:cubicBezTo>
                  <a:pt x="169198" y="3252390"/>
                  <a:pt x="160725" y="3243917"/>
                  <a:pt x="150274" y="3243917"/>
                </a:cubicBezTo>
                <a:lnTo>
                  <a:pt x="74581" y="3243917"/>
                </a:lnTo>
                <a:cubicBezTo>
                  <a:pt x="64130" y="3243917"/>
                  <a:pt x="55657" y="3252390"/>
                  <a:pt x="55657" y="3262841"/>
                </a:cubicBezTo>
                <a:lnTo>
                  <a:pt x="55657" y="3338532"/>
                </a:lnTo>
                <a:close/>
                <a:moveTo>
                  <a:pt x="55657" y="3572959"/>
                </a:moveTo>
                <a:cubicBezTo>
                  <a:pt x="55657" y="3583411"/>
                  <a:pt x="64130" y="3591883"/>
                  <a:pt x="74581" y="3591883"/>
                </a:cubicBezTo>
                <a:lnTo>
                  <a:pt x="150274" y="3591883"/>
                </a:lnTo>
                <a:cubicBezTo>
                  <a:pt x="160725" y="3591883"/>
                  <a:pt x="169198" y="3583411"/>
                  <a:pt x="169198" y="3572959"/>
                </a:cubicBezTo>
                <a:lnTo>
                  <a:pt x="169198" y="3497269"/>
                </a:lnTo>
                <a:cubicBezTo>
                  <a:pt x="169198" y="3486817"/>
                  <a:pt x="160725" y="3478344"/>
                  <a:pt x="150274" y="3478344"/>
                </a:cubicBezTo>
                <a:lnTo>
                  <a:pt x="74581" y="3478344"/>
                </a:lnTo>
                <a:cubicBezTo>
                  <a:pt x="64130" y="3478344"/>
                  <a:pt x="55657" y="3486817"/>
                  <a:pt x="55657" y="3497269"/>
                </a:cubicBezTo>
                <a:lnTo>
                  <a:pt x="55657" y="3572959"/>
                </a:lnTo>
                <a:close/>
                <a:moveTo>
                  <a:pt x="55657" y="3807387"/>
                </a:moveTo>
                <a:cubicBezTo>
                  <a:pt x="55657" y="3817838"/>
                  <a:pt x="64130" y="3826311"/>
                  <a:pt x="74581" y="3826311"/>
                </a:cubicBezTo>
                <a:lnTo>
                  <a:pt x="150274" y="3826311"/>
                </a:lnTo>
                <a:cubicBezTo>
                  <a:pt x="160725" y="3826311"/>
                  <a:pt x="169198" y="3817838"/>
                  <a:pt x="169198" y="3807387"/>
                </a:cubicBezTo>
                <a:lnTo>
                  <a:pt x="169198" y="3731696"/>
                </a:lnTo>
                <a:cubicBezTo>
                  <a:pt x="169198" y="3721245"/>
                  <a:pt x="160725" y="3712773"/>
                  <a:pt x="150274" y="3712773"/>
                </a:cubicBezTo>
                <a:lnTo>
                  <a:pt x="74581" y="3712773"/>
                </a:lnTo>
                <a:cubicBezTo>
                  <a:pt x="64130" y="3712773"/>
                  <a:pt x="55657" y="3721245"/>
                  <a:pt x="55657" y="3731696"/>
                </a:cubicBezTo>
                <a:lnTo>
                  <a:pt x="55657" y="3807387"/>
                </a:lnTo>
                <a:close/>
                <a:moveTo>
                  <a:pt x="55657" y="4041815"/>
                </a:moveTo>
                <a:cubicBezTo>
                  <a:pt x="55657" y="4052266"/>
                  <a:pt x="64130" y="4060738"/>
                  <a:pt x="74581" y="4060738"/>
                </a:cubicBezTo>
                <a:lnTo>
                  <a:pt x="150274" y="4060738"/>
                </a:lnTo>
                <a:cubicBezTo>
                  <a:pt x="160725" y="4060738"/>
                  <a:pt x="169198" y="4052266"/>
                  <a:pt x="169198" y="4041815"/>
                </a:cubicBezTo>
                <a:lnTo>
                  <a:pt x="169198" y="3966124"/>
                </a:lnTo>
                <a:cubicBezTo>
                  <a:pt x="169198" y="3955671"/>
                  <a:pt x="160725" y="3947199"/>
                  <a:pt x="150274" y="3947199"/>
                </a:cubicBezTo>
                <a:lnTo>
                  <a:pt x="74581" y="3947199"/>
                </a:lnTo>
                <a:cubicBezTo>
                  <a:pt x="64130" y="3947199"/>
                  <a:pt x="55657" y="3955671"/>
                  <a:pt x="55657" y="3966124"/>
                </a:cubicBezTo>
                <a:lnTo>
                  <a:pt x="55657" y="4041815"/>
                </a:lnTo>
                <a:close/>
                <a:moveTo>
                  <a:pt x="55657" y="4276235"/>
                </a:moveTo>
                <a:cubicBezTo>
                  <a:pt x="55657" y="4286686"/>
                  <a:pt x="64130" y="4295159"/>
                  <a:pt x="74581" y="4295159"/>
                </a:cubicBezTo>
                <a:lnTo>
                  <a:pt x="150274" y="4295159"/>
                </a:lnTo>
                <a:cubicBezTo>
                  <a:pt x="160725" y="4295159"/>
                  <a:pt x="169198" y="4286686"/>
                  <a:pt x="169198" y="4276235"/>
                </a:cubicBezTo>
                <a:lnTo>
                  <a:pt x="169198" y="4200549"/>
                </a:lnTo>
                <a:cubicBezTo>
                  <a:pt x="169198" y="4190098"/>
                  <a:pt x="160725" y="4181626"/>
                  <a:pt x="150274" y="4181626"/>
                </a:cubicBezTo>
                <a:lnTo>
                  <a:pt x="74581" y="4181626"/>
                </a:lnTo>
                <a:cubicBezTo>
                  <a:pt x="64130" y="4181626"/>
                  <a:pt x="55657" y="4190098"/>
                  <a:pt x="55657" y="4200549"/>
                </a:cubicBezTo>
                <a:lnTo>
                  <a:pt x="55657" y="4276235"/>
                </a:lnTo>
                <a:close/>
                <a:moveTo>
                  <a:pt x="55657" y="4510670"/>
                </a:moveTo>
                <a:cubicBezTo>
                  <a:pt x="55657" y="4521121"/>
                  <a:pt x="64130" y="4529593"/>
                  <a:pt x="74581" y="4529593"/>
                </a:cubicBezTo>
                <a:lnTo>
                  <a:pt x="150274" y="4529593"/>
                </a:lnTo>
                <a:cubicBezTo>
                  <a:pt x="160725" y="4529593"/>
                  <a:pt x="169198" y="4521121"/>
                  <a:pt x="169198" y="4510670"/>
                </a:cubicBezTo>
                <a:lnTo>
                  <a:pt x="169198" y="4434977"/>
                </a:lnTo>
                <a:cubicBezTo>
                  <a:pt x="169198" y="4424526"/>
                  <a:pt x="160725" y="4416053"/>
                  <a:pt x="150274" y="4416053"/>
                </a:cubicBezTo>
                <a:lnTo>
                  <a:pt x="74581" y="4416053"/>
                </a:lnTo>
                <a:cubicBezTo>
                  <a:pt x="64130" y="4416053"/>
                  <a:pt x="55657" y="4424526"/>
                  <a:pt x="55657" y="4434977"/>
                </a:cubicBezTo>
                <a:lnTo>
                  <a:pt x="55657" y="4510670"/>
                </a:lnTo>
                <a:close/>
                <a:moveTo>
                  <a:pt x="55657" y="4745097"/>
                </a:moveTo>
                <a:cubicBezTo>
                  <a:pt x="55657" y="4755548"/>
                  <a:pt x="64130" y="4764021"/>
                  <a:pt x="74581" y="4764021"/>
                </a:cubicBezTo>
                <a:lnTo>
                  <a:pt x="150274" y="4764021"/>
                </a:lnTo>
                <a:cubicBezTo>
                  <a:pt x="160725" y="4764021"/>
                  <a:pt x="169198" y="4755548"/>
                  <a:pt x="169198" y="4745097"/>
                </a:cubicBezTo>
                <a:lnTo>
                  <a:pt x="169198" y="4669404"/>
                </a:lnTo>
                <a:cubicBezTo>
                  <a:pt x="169198" y="4658953"/>
                  <a:pt x="160725" y="4650481"/>
                  <a:pt x="150274" y="4650481"/>
                </a:cubicBezTo>
                <a:lnTo>
                  <a:pt x="74581" y="4650481"/>
                </a:lnTo>
                <a:cubicBezTo>
                  <a:pt x="64130" y="4650481"/>
                  <a:pt x="55657" y="4658953"/>
                  <a:pt x="55657" y="4669404"/>
                </a:cubicBezTo>
                <a:lnTo>
                  <a:pt x="55657" y="4745097"/>
                </a:lnTo>
                <a:close/>
                <a:moveTo>
                  <a:pt x="55657" y="4934178"/>
                </a:moveTo>
                <a:lnTo>
                  <a:pt x="63141" y="4934178"/>
                </a:lnTo>
                <a:lnTo>
                  <a:pt x="63141" y="4990726"/>
                </a:lnTo>
                <a:lnTo>
                  <a:pt x="64633" y="4994328"/>
                </a:lnTo>
                <a:lnTo>
                  <a:pt x="74581" y="4998448"/>
                </a:lnTo>
                <a:lnTo>
                  <a:pt x="150274" y="4998448"/>
                </a:lnTo>
                <a:cubicBezTo>
                  <a:pt x="160725" y="4998448"/>
                  <a:pt x="169198" y="4989976"/>
                  <a:pt x="169198" y="4979525"/>
                </a:cubicBezTo>
                <a:lnTo>
                  <a:pt x="169198" y="4903832"/>
                </a:lnTo>
                <a:cubicBezTo>
                  <a:pt x="169198" y="4893381"/>
                  <a:pt x="160725" y="4884908"/>
                  <a:pt x="150274" y="4884908"/>
                </a:cubicBezTo>
                <a:lnTo>
                  <a:pt x="74581" y="4884908"/>
                </a:lnTo>
                <a:cubicBezTo>
                  <a:pt x="64130" y="4884908"/>
                  <a:pt x="55657" y="4893381"/>
                  <a:pt x="55657" y="4903832"/>
                </a:cubicBezTo>
                <a:lnTo>
                  <a:pt x="55657" y="4934178"/>
                </a:lnTo>
                <a:close/>
                <a:moveTo>
                  <a:pt x="0" y="6411686"/>
                </a:moveTo>
                <a:lnTo>
                  <a:pt x="0" y="4301838"/>
                </a:lnTo>
                <a:lnTo>
                  <a:pt x="0" y="1602925"/>
                </a:lnTo>
                <a:lnTo>
                  <a:pt x="0" y="0"/>
                </a:lnTo>
                <a:lnTo>
                  <a:pt x="55657" y="0"/>
                </a:lnTo>
                <a:lnTo>
                  <a:pt x="55657" y="56549"/>
                </a:lnTo>
                <a:cubicBezTo>
                  <a:pt x="55657" y="67000"/>
                  <a:pt x="64130" y="75473"/>
                  <a:pt x="74581" y="75473"/>
                </a:cubicBezTo>
                <a:lnTo>
                  <a:pt x="150274" y="75473"/>
                </a:lnTo>
                <a:cubicBezTo>
                  <a:pt x="160725" y="75473"/>
                  <a:pt x="169198" y="67000"/>
                  <a:pt x="169198" y="56549"/>
                </a:cubicBezTo>
                <a:lnTo>
                  <a:pt x="169198" y="0"/>
                </a:lnTo>
                <a:lnTo>
                  <a:pt x="1804401" y="0"/>
                </a:lnTo>
                <a:lnTo>
                  <a:pt x="1804401" y="56550"/>
                </a:lnTo>
                <a:cubicBezTo>
                  <a:pt x="1804401" y="67001"/>
                  <a:pt x="1812874" y="75473"/>
                  <a:pt x="1823325" y="75473"/>
                </a:cubicBezTo>
                <a:lnTo>
                  <a:pt x="1899018" y="75473"/>
                </a:lnTo>
                <a:cubicBezTo>
                  <a:pt x="1909469" y="75473"/>
                  <a:pt x="1917941" y="67001"/>
                  <a:pt x="1917941" y="56550"/>
                </a:cubicBezTo>
                <a:lnTo>
                  <a:pt x="1917941" y="0"/>
                </a:lnTo>
                <a:lnTo>
                  <a:pt x="1973598" y="0"/>
                </a:lnTo>
                <a:lnTo>
                  <a:pt x="1973598" y="1602926"/>
                </a:lnTo>
                <a:lnTo>
                  <a:pt x="1973598" y="4301838"/>
                </a:lnTo>
                <a:lnTo>
                  <a:pt x="1973598" y="4934178"/>
                </a:lnTo>
                <a:lnTo>
                  <a:pt x="1981082" y="4934178"/>
                </a:lnTo>
                <a:lnTo>
                  <a:pt x="1981082" y="6537103"/>
                </a:lnTo>
                <a:lnTo>
                  <a:pt x="1981082" y="9236015"/>
                </a:lnTo>
                <a:lnTo>
                  <a:pt x="1981082" y="11345863"/>
                </a:lnTo>
                <a:lnTo>
                  <a:pt x="775553" y="11345863"/>
                </a:lnTo>
                <a:lnTo>
                  <a:pt x="752175" y="11345863"/>
                </a:lnTo>
                <a:lnTo>
                  <a:pt x="320383" y="11345863"/>
                </a:lnTo>
                <a:lnTo>
                  <a:pt x="320383" y="11345862"/>
                </a:lnTo>
                <a:lnTo>
                  <a:pt x="7484" y="11345862"/>
                </a:lnTo>
                <a:lnTo>
                  <a:pt x="7484" y="9236014"/>
                </a:lnTo>
                <a:lnTo>
                  <a:pt x="7484" y="6537102"/>
                </a:lnTo>
                <a:lnTo>
                  <a:pt x="7484" y="6411686"/>
                </a:lnTo>
                <a:lnTo>
                  <a:pt x="0" y="6411686"/>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64" name=""/>
          <p:cNvGrpSpPr/>
          <p:nvPr/>
        </p:nvGrpSpPr>
        <p:grpSpPr>
          <a:xfrm>
            <a:off x="10277640" y="4322880"/>
            <a:ext cx="1596960" cy="1681200"/>
            <a:chOff x="10277640" y="4322880"/>
            <a:chExt cx="1596960" cy="1681200"/>
          </a:xfrm>
        </p:grpSpPr>
        <p:pic>
          <p:nvPicPr>
            <p:cNvPr id="365" name="KSO_Img5" descr=""/>
            <p:cNvPicPr/>
            <p:nvPr/>
          </p:nvPicPr>
          <p:blipFill>
            <a:blip r:embed="rId2"/>
            <a:stretch/>
          </p:blipFill>
          <p:spPr>
            <a:xfrm>
              <a:off x="10277640" y="4322880"/>
              <a:ext cx="1596960" cy="1681200"/>
            </a:xfrm>
            <a:prstGeom prst="rect">
              <a:avLst/>
            </a:prstGeom>
            <a:ln w="0">
              <a:noFill/>
            </a:ln>
          </p:spPr>
        </p:pic>
        <p:sp>
          <p:nvSpPr>
            <p:cNvPr id="366" name=""/>
            <p:cNvSpPr/>
            <p:nvPr/>
          </p:nvSpPr>
          <p:spPr>
            <a:xfrm>
              <a:off x="10358640" y="4402080"/>
              <a:ext cx="14302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
          <p:cNvGrpSpPr/>
          <p:nvPr/>
        </p:nvGrpSpPr>
        <p:grpSpPr>
          <a:xfrm>
            <a:off x="8631360" y="4322880"/>
            <a:ext cx="1755720" cy="1681200"/>
            <a:chOff x="8631360" y="4322880"/>
            <a:chExt cx="1755720" cy="1681200"/>
          </a:xfrm>
        </p:grpSpPr>
        <p:pic>
          <p:nvPicPr>
            <p:cNvPr id="368" name="KSO_Img4" descr=""/>
            <p:cNvPicPr/>
            <p:nvPr/>
          </p:nvPicPr>
          <p:blipFill>
            <a:blip r:embed="rId3"/>
            <a:stretch/>
          </p:blipFill>
          <p:spPr>
            <a:xfrm>
              <a:off x="8631360" y="4322880"/>
              <a:ext cx="1755720" cy="1681200"/>
            </a:xfrm>
            <a:prstGeom prst="rect">
              <a:avLst/>
            </a:prstGeom>
            <a:ln w="0">
              <a:noFill/>
            </a:ln>
          </p:spPr>
        </p:pic>
        <p:sp>
          <p:nvSpPr>
            <p:cNvPr id="369" name=""/>
            <p:cNvSpPr/>
            <p:nvPr/>
          </p:nvSpPr>
          <p:spPr>
            <a:xfrm>
              <a:off x="8718840" y="4402080"/>
              <a:ext cx="15760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0" name=""/>
          <p:cNvGrpSpPr/>
          <p:nvPr/>
        </p:nvGrpSpPr>
        <p:grpSpPr>
          <a:xfrm>
            <a:off x="6991200" y="4322880"/>
            <a:ext cx="1755720" cy="1681200"/>
            <a:chOff x="6991200" y="4322880"/>
            <a:chExt cx="1755720" cy="1681200"/>
          </a:xfrm>
        </p:grpSpPr>
        <p:pic>
          <p:nvPicPr>
            <p:cNvPr id="371" name="KSO_Img3" descr=""/>
            <p:cNvPicPr/>
            <p:nvPr/>
          </p:nvPicPr>
          <p:blipFill>
            <a:blip r:embed="rId4"/>
            <a:stretch/>
          </p:blipFill>
          <p:spPr>
            <a:xfrm>
              <a:off x="6991200" y="4322880"/>
              <a:ext cx="1755720" cy="1681200"/>
            </a:xfrm>
            <a:prstGeom prst="rect">
              <a:avLst/>
            </a:prstGeom>
            <a:ln w="0">
              <a:noFill/>
            </a:ln>
          </p:spPr>
        </p:pic>
        <p:sp>
          <p:nvSpPr>
            <p:cNvPr id="372" name=""/>
            <p:cNvSpPr/>
            <p:nvPr/>
          </p:nvSpPr>
          <p:spPr>
            <a:xfrm>
              <a:off x="7080120" y="4402080"/>
              <a:ext cx="157320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3" name=""/>
          <p:cNvGrpSpPr/>
          <p:nvPr/>
        </p:nvGrpSpPr>
        <p:grpSpPr>
          <a:xfrm>
            <a:off x="5315040" y="4322880"/>
            <a:ext cx="1792080" cy="1681200"/>
            <a:chOff x="5315040" y="4322880"/>
            <a:chExt cx="1792080" cy="1681200"/>
          </a:xfrm>
        </p:grpSpPr>
        <p:pic>
          <p:nvPicPr>
            <p:cNvPr id="374" name="KSO_Img2" descr=""/>
            <p:cNvPicPr/>
            <p:nvPr/>
          </p:nvPicPr>
          <p:blipFill>
            <a:blip r:embed="rId5"/>
            <a:stretch/>
          </p:blipFill>
          <p:spPr>
            <a:xfrm>
              <a:off x="5315040" y="4322880"/>
              <a:ext cx="1792080" cy="1681200"/>
            </a:xfrm>
            <a:prstGeom prst="rect">
              <a:avLst/>
            </a:prstGeom>
            <a:ln w="0">
              <a:noFill/>
            </a:ln>
          </p:spPr>
        </p:pic>
        <p:sp>
          <p:nvSpPr>
            <p:cNvPr id="375" name=""/>
            <p:cNvSpPr/>
            <p:nvPr/>
          </p:nvSpPr>
          <p:spPr>
            <a:xfrm>
              <a:off x="5400360" y="4402080"/>
              <a:ext cx="161424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
          <p:cNvGrpSpPr/>
          <p:nvPr/>
        </p:nvGrpSpPr>
        <p:grpSpPr>
          <a:xfrm>
            <a:off x="3676680" y="4327560"/>
            <a:ext cx="1749240" cy="1689120"/>
            <a:chOff x="3676680" y="4327560"/>
            <a:chExt cx="1749240" cy="1689120"/>
          </a:xfrm>
        </p:grpSpPr>
        <p:pic>
          <p:nvPicPr>
            <p:cNvPr id="377" name="KSO_Img4" descr=""/>
            <p:cNvPicPr/>
            <p:nvPr/>
          </p:nvPicPr>
          <p:blipFill>
            <a:blip r:embed="rId6"/>
            <a:stretch/>
          </p:blipFill>
          <p:spPr>
            <a:xfrm>
              <a:off x="3676680" y="4327560"/>
              <a:ext cx="1749240" cy="1689120"/>
            </a:xfrm>
            <a:prstGeom prst="rect">
              <a:avLst/>
            </a:prstGeom>
            <a:ln w="0">
              <a:noFill/>
            </a:ln>
          </p:spPr>
        </p:pic>
        <p:sp>
          <p:nvSpPr>
            <p:cNvPr id="378" name=""/>
            <p:cNvSpPr/>
            <p:nvPr/>
          </p:nvSpPr>
          <p:spPr>
            <a:xfrm>
              <a:off x="3758760" y="4410000"/>
              <a:ext cx="157788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9" name=""/>
          <p:cNvGrpSpPr/>
          <p:nvPr/>
        </p:nvGrpSpPr>
        <p:grpSpPr>
          <a:xfrm>
            <a:off x="2036880" y="4327560"/>
            <a:ext cx="1749240" cy="1689120"/>
            <a:chOff x="2036880" y="4327560"/>
            <a:chExt cx="1749240" cy="1689120"/>
          </a:xfrm>
        </p:grpSpPr>
        <p:pic>
          <p:nvPicPr>
            <p:cNvPr id="380" name="KSO_Img3" descr=""/>
            <p:cNvPicPr/>
            <p:nvPr/>
          </p:nvPicPr>
          <p:blipFill>
            <a:blip r:embed="rId7"/>
            <a:stretch/>
          </p:blipFill>
          <p:spPr>
            <a:xfrm>
              <a:off x="2036880" y="4327560"/>
              <a:ext cx="1749240" cy="1689120"/>
            </a:xfrm>
            <a:prstGeom prst="rect">
              <a:avLst/>
            </a:prstGeom>
            <a:ln w="0">
              <a:noFill/>
            </a:ln>
          </p:spPr>
        </p:pic>
        <p:sp>
          <p:nvSpPr>
            <p:cNvPr id="381" name=""/>
            <p:cNvSpPr/>
            <p:nvPr/>
          </p:nvSpPr>
          <p:spPr>
            <a:xfrm>
              <a:off x="2122200" y="4410000"/>
              <a:ext cx="157284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
          <p:cNvGrpSpPr/>
          <p:nvPr/>
        </p:nvGrpSpPr>
        <p:grpSpPr>
          <a:xfrm>
            <a:off x="360360" y="4327560"/>
            <a:ext cx="1792440" cy="1689120"/>
            <a:chOff x="360360" y="4327560"/>
            <a:chExt cx="1792440" cy="1689120"/>
          </a:xfrm>
        </p:grpSpPr>
        <p:pic>
          <p:nvPicPr>
            <p:cNvPr id="383" name="KSO_Img2" descr=""/>
            <p:cNvPicPr/>
            <p:nvPr/>
          </p:nvPicPr>
          <p:blipFill>
            <a:blip r:embed="rId8"/>
            <a:stretch/>
          </p:blipFill>
          <p:spPr>
            <a:xfrm>
              <a:off x="360360" y="4327560"/>
              <a:ext cx="1792440" cy="1689120"/>
            </a:xfrm>
            <a:prstGeom prst="rect">
              <a:avLst/>
            </a:prstGeom>
            <a:ln w="0">
              <a:noFill/>
            </a:ln>
          </p:spPr>
        </p:pic>
        <p:sp>
          <p:nvSpPr>
            <p:cNvPr id="384" name=""/>
            <p:cNvSpPr/>
            <p:nvPr/>
          </p:nvSpPr>
          <p:spPr>
            <a:xfrm>
              <a:off x="442800" y="4410000"/>
              <a:ext cx="161460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
          <p:cNvGrpSpPr/>
          <p:nvPr/>
        </p:nvGrpSpPr>
        <p:grpSpPr>
          <a:xfrm>
            <a:off x="5248440" y="1427040"/>
            <a:ext cx="622080" cy="2554200"/>
            <a:chOff x="5248440" y="1427040"/>
            <a:chExt cx="622080" cy="2554200"/>
          </a:xfrm>
        </p:grpSpPr>
        <p:pic>
          <p:nvPicPr>
            <p:cNvPr id="386" name="矩形 2" descr=""/>
            <p:cNvPicPr/>
            <p:nvPr/>
          </p:nvPicPr>
          <p:blipFill>
            <a:blip r:embed="rId9"/>
            <a:stretch/>
          </p:blipFill>
          <p:spPr>
            <a:xfrm>
              <a:off x="5248440" y="1427040"/>
              <a:ext cx="622080" cy="2554200"/>
            </a:xfrm>
            <a:prstGeom prst="rect">
              <a:avLst/>
            </a:prstGeom>
            <a:ln w="0">
              <a:noFill/>
            </a:ln>
          </p:spPr>
        </p:pic>
        <p:sp>
          <p:nvSpPr>
            <p:cNvPr id="387" name=""/>
            <p:cNvSpPr/>
            <p:nvPr/>
          </p:nvSpPr>
          <p:spPr>
            <a:xfrm>
              <a:off x="5322600" y="1519200"/>
              <a:ext cx="472680" cy="236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8" name="文本框 41"/>
          <p:cNvSpPr/>
          <p:nvPr/>
        </p:nvSpPr>
        <p:spPr>
          <a:xfrm>
            <a:off x="4901400" y="1812960"/>
            <a:ext cx="911880" cy="174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89" name="矩形 42"/>
          <p:cNvSpPr/>
          <p:nvPr/>
        </p:nvSpPr>
        <p:spPr>
          <a:xfrm>
            <a:off x="6408720" y="1574640"/>
            <a:ext cx="3873600" cy="231156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0" name=""/>
          <p:cNvGrpSpPr/>
          <p:nvPr/>
        </p:nvGrpSpPr>
        <p:grpSpPr>
          <a:xfrm>
            <a:off x="10344240" y="1444680"/>
            <a:ext cx="622080" cy="2547720"/>
            <a:chOff x="10344240" y="1444680"/>
            <a:chExt cx="622080" cy="2547720"/>
          </a:xfrm>
        </p:grpSpPr>
        <p:pic>
          <p:nvPicPr>
            <p:cNvPr id="391" name="矩形 43" descr=""/>
            <p:cNvPicPr/>
            <p:nvPr/>
          </p:nvPicPr>
          <p:blipFill>
            <a:blip r:embed="rId11"/>
            <a:stretch/>
          </p:blipFill>
          <p:spPr>
            <a:xfrm>
              <a:off x="10344240" y="1444680"/>
              <a:ext cx="622080" cy="2547720"/>
            </a:xfrm>
            <a:prstGeom prst="rect">
              <a:avLst/>
            </a:prstGeom>
            <a:ln w="0">
              <a:noFill/>
            </a:ln>
          </p:spPr>
        </p:pic>
        <p:sp>
          <p:nvSpPr>
            <p:cNvPr id="392" name=""/>
            <p:cNvSpPr/>
            <p:nvPr/>
          </p:nvSpPr>
          <p:spPr>
            <a:xfrm>
              <a:off x="10416960" y="1534680"/>
              <a:ext cx="474120" cy="23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文本框 44"/>
          <p:cNvSpPr/>
          <p:nvPr/>
        </p:nvSpPr>
        <p:spPr>
          <a:xfrm>
            <a:off x="9995760" y="1828800"/>
            <a:ext cx="911880" cy="174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94" name="文本框 46"/>
          <p:cNvSpPr/>
          <p:nvPr/>
        </p:nvSpPr>
        <p:spPr>
          <a:xfrm>
            <a:off x="86940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5" name="文本框 53"/>
          <p:cNvSpPr/>
          <p:nvPr/>
        </p:nvSpPr>
        <p:spPr>
          <a:xfrm>
            <a:off x="25045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6" name="文本框 54"/>
          <p:cNvSpPr/>
          <p:nvPr/>
        </p:nvSpPr>
        <p:spPr>
          <a:xfrm>
            <a:off x="414036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7" name="文本框 55"/>
          <p:cNvSpPr/>
          <p:nvPr/>
        </p:nvSpPr>
        <p:spPr>
          <a:xfrm>
            <a:off x="57754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8" name="文本框 56"/>
          <p:cNvSpPr/>
          <p:nvPr/>
        </p:nvSpPr>
        <p:spPr>
          <a:xfrm>
            <a:off x="74113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9" name="文本框 57"/>
          <p:cNvSpPr/>
          <p:nvPr/>
        </p:nvSpPr>
        <p:spPr>
          <a:xfrm>
            <a:off x="904644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400" name="文本框 58"/>
          <p:cNvSpPr/>
          <p:nvPr/>
        </p:nvSpPr>
        <p:spPr>
          <a:xfrm>
            <a:off x="106822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3:54:13Z</dcterms:created>
  <dc:creator>liang eva</dc:creator>
  <dc:description/>
  <dc:language>en-US</dc:language>
  <cp:lastModifiedBy>liang eva</cp:lastModifiedBy>
  <dcterms:modified xsi:type="dcterms:W3CDTF">2014-09-09T08:18:56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