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64E-1B7B-4C21-83E8-1AFD581E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785-5A92-449D-9181-52D89205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504-7F27-44A5-BFFB-170B3F04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05A-06FC-4BDE-A203-5A896D6E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44BB5-8FAC-4479-8B34-AB381328E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FBE1E-3798-4F5F-97C5-E8A3165C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F256D-71D3-448F-9611-992BBFAB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3EFFF-CD7D-4E4E-999E-7F798D73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D6564-2F31-4CC8-A90D-420BA6FF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83854-C91A-4898-8C6D-FE3AEC63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9E10F-8166-4CF2-8D19-0A62CA65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744-08D7-4E86-9B2E-2DEF6F85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9558C-8E46-40BD-A57A-E7B914A6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4CE2A-864A-43CF-A93A-E67F631D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1697B-E1DD-44E2-88A8-48DAFDF9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F4DBB-9E69-43AA-A651-E95A8A30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9FFFA-90EF-491B-A610-3C49ED283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57C-A378-4E43-B6CF-33B042C3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FA4-8AB6-409D-9C43-C1B0C35F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38C-68C2-4F38-81F1-12E6EEEC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187-8D8F-4960-8312-EE81475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C66-F58B-46EA-828B-9076E654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713-77FC-46C2-BDDD-99E37500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1ED-94EA-4E3C-AFDB-C6B46D9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69BA-AE27-4332-8FF3-B7CE79626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9074-0003-4AD2-AE64-FE2609D865A1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71640"/>
            <a:ext cx="5829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26665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3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0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1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90720" y="197496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38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4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7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70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3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6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9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6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04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16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8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9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5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1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6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7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6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7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80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6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5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8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4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4"/>
          <p:cNvSpPr/>
          <p:nvPr/>
        </p:nvSpPr>
        <p:spPr>
          <a:xfrm>
            <a:off x="7812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5"/>
          <p:cNvSpPr/>
          <p:nvPr/>
        </p:nvSpPr>
        <p:spPr>
          <a:xfrm>
            <a:off x="27716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75308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679968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AutoShape 88"/>
          <p:cNvCxnSpPr>
            <a:stCxn id="516" idx="3"/>
            <a:endCxn id="517" idx="1"/>
          </p:cNvCxnSpPr>
          <p:nvPr/>
        </p:nvCxnSpPr>
        <p:spPr>
          <a:xfrm>
            <a:off x="1520640" y="196812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3511440" y="196812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5492520" y="1968120"/>
            <a:ext cx="121356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0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1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456840" y="1555920"/>
            <a:ext cx="7938360" cy="5225760"/>
            <a:chOff x="456840" y="1555920"/>
            <a:chExt cx="7938360" cy="5225760"/>
          </a:xfrm>
        </p:grpSpPr>
        <p:sp>
          <p:nvSpPr>
            <p:cNvPr id="151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afd"/>
                </a:gs>
                <a:gs pos="100000">
                  <a:srgbClr val="94cae8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8"/>
            <p:cNvSpPr/>
            <p:nvPr/>
          </p:nvSpPr>
          <p:spPr>
            <a:xfrm rot="20056200">
              <a:off x="441936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 rot="20056200">
              <a:off x="7314840" y="2971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 rot="20056200">
              <a:off x="2819160" y="5943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557c96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 rot="20056200">
              <a:off x="5562360" y="5257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9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0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3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76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81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7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94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95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2"/>
              <p:cNvSpPr/>
              <p:nvPr/>
            </p:nvSpPr>
            <p:spPr>
              <a:xfrm>
                <a:off x="4008960" y="329436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Puzzle4"/>
              <p:cNvSpPr/>
              <p:nvPr/>
            </p:nvSpPr>
            <p:spPr>
              <a:xfrm>
                <a:off x="2937960" y="32680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bedff1">
                  <a:alpha val="12156"/>
                </a:srgbClr>
              </a:gs>
              <a:gs pos="50000">
                <a:srgbClr val="94cae8"/>
              </a:gs>
              <a:gs pos="100000">
                <a:srgbClr val="bedff1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1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2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3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07:40Z</dcterms:created>
  <dc:creator>YLMF</dc:creator>
  <dc:description/>
  <dc:language>en-US</dc:language>
  <cp:lastModifiedBy>Administrator</cp:lastModifiedBy>
  <dcterms:modified xsi:type="dcterms:W3CDTF">2016-07-25T03:33:51Z</dcterms:modified>
  <cp:revision>2</cp:revision>
  <dc:subject/>
  <dc:title>PowerPoint Template</dc:title>
</cp:coreProperties>
</file>