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1A-84A2-419C-B078-29CE2AFA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91C-C816-4C1E-ADD8-3C4D107E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B8E-F975-400B-85B8-16BC5A79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82C-7C68-4E1A-967B-B54D037B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355-ECCE-4DED-9AFF-8D68BE9E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B04-A840-4280-80A7-43DB03B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615-9D12-4C11-8C4A-F4AC1DA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EF5-08A3-4E02-A6E9-825AF731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4BF-D6B5-4E66-87BD-A9E8DF37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868-D195-4850-AB78-E12A9BB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1E4-5578-4732-832E-5488A8C0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FBB-86CD-42DE-BB9D-8A4903B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64A-7163-4B20-A392-DDB6B98C97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69A6-534A-45CB-B610-E4BD152322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089520" y="29289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80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68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90520" y="33908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8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5340240" y="13478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151680" y="255420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9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8400" y="5160960"/>
            <a:ext cx="33480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6D4-6912-46A9-B5EA-EBF15E3490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8400" y="5160960"/>
            <a:ext cx="10400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5640" y="318600"/>
            <a:ext cx="35985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688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6880"/>
              <a:ext cx="46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09760" y="25686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 rot="2700000">
            <a:off x="6354000" y="540360"/>
            <a:ext cx="35989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9" name="椭圆​​ 24"/>
            <p:cNvSpPr/>
            <p:nvPr/>
          </p:nvSpPr>
          <p:spPr>
            <a:xfrm>
              <a:off x="142848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​​ 25"/>
            <p:cNvSpPr/>
            <p:nvPr/>
          </p:nvSpPr>
          <p:spPr>
            <a:xfrm>
              <a:off x="27129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​​ 26"/>
            <p:cNvSpPr/>
            <p:nvPr/>
          </p:nvSpPr>
          <p:spPr>
            <a:xfrm>
              <a:off x="1204920" y="-90288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2"/>
            <p:cNvSpPr/>
            <p:nvPr/>
          </p:nvSpPr>
          <p:spPr>
            <a:xfrm flipV="1">
              <a:off x="153828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3"/>
            <p:cNvSpPr/>
            <p:nvPr/>
          </p:nvSpPr>
          <p:spPr>
            <a:xfrm flipV="1">
              <a:off x="282276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071800" y="26575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-106200" y="534960"/>
            <a:ext cx="470664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2106720" y="23954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14"/>
          <p:cNvSpPr/>
          <p:nvPr/>
        </p:nvSpPr>
        <p:spPr>
          <a:xfrm>
            <a:off x="-147492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085840" y="22813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美乐辰旗舰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cp:keywords/>
  <dc:language>en-US</dc:language>
  <cp:lastModifiedBy>Administrator</cp:lastModifiedBy>
  <cp:lastPrinted>1899-12-30T00:00:00Z</cp:lastPrinted>
  <dcterms:modified xsi:type="dcterms:W3CDTF">2016-07-25T03:17:46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