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37.png" ContentType="image/pn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7A7-01B3-4517-B72C-F2D070E65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413D-3FA3-4251-A617-47E0EC9E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11B5E-BD14-4A26-A4BD-14567416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E941C-4821-4E13-B0CD-33F84CC4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94359-40FB-41D0-AD3E-1C92667A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EA114-1540-4309-BA91-B8E0E09E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5180D-23E4-4E43-BDDE-599CC0CC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028D9-1B2C-4936-B92A-713F3116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DECE1-78C5-43F3-8F22-FABDF4A6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9BC92-4DA8-40E5-A99E-41D00BDA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E9EAA-FD8B-4B07-8E4B-34FFA43C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482BF-7A2A-4AE2-912F-9DFEF2E1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583-9290-452E-801A-9CE0A68B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80875-0196-45DF-8F92-CD8442B8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7A8D9-45EE-45D2-9A4F-DA5DA5F3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25921-185C-4196-807A-E66532FB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1ADC5-BC6A-4196-B233-D87280B1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CE4D5-20BA-4D0B-8E84-2708018D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D4F4F-4A5E-4F08-8949-22A19AD8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FB610-29EA-43AB-814A-50EB867D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0891C-EA6B-49ED-85DA-B41D80FC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6C56E-B20C-4259-9688-1BB6AC37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7368F-80F9-4909-88D8-E0942660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2517-AFA8-4F1C-8793-AD0426F4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EF7CC-38EC-4561-B66A-47671F97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C4FCD-B723-4847-961E-2C6833FE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12AB2-DCF4-4B68-B482-95215F03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1B373-2EB8-47B1-99B7-E07DD305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38B8B-66F2-4989-B2EE-60373C9F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F2C72-7603-438B-A7C1-504D011C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F7166-B8A8-4CAD-AEB8-AB8178E1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4B59E-CAB7-4348-9885-1AD067A1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FB433-B3F3-41D8-978A-E22EE93C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C2996-D583-4850-8D49-5158958C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293F8-CF5F-4818-84D8-9C9224FE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BE77B-CAC5-4A98-9CBD-3FDC7C97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1B645-E7C1-4C6F-A1CB-D7124923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B6A25-EF3A-4E9F-BC47-D8BCB5C0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6AF21-E6BD-4D34-A323-84FCBC66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4D529-E40E-404F-BF6C-659D4042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8FB21-2603-4B16-AEC4-B7C9DF51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A4301-2942-4DE6-9B20-A4F0839A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79F1B-95D2-4DB5-901C-5678F9FD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E011AD-B439-43BF-9998-852F5445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F0EED-C473-4437-A6E7-27219684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8A895-B9F5-42CF-AC22-96E52DD3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5BF80-14C7-41F3-9C32-3DCB7211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F3153-3A7F-4013-8A83-5CC14189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C16AE-375C-467C-957C-C47D68AC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F0EC4-BB55-47FD-BA62-B29904F4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EABD2-E70E-450B-A323-8052A89A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2D532-DEED-4617-A338-3959ED59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44C7C-EB94-408F-8550-7A609B83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6AACB-591B-47FC-8F91-769AA438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D6DAC-47D8-4641-AF45-2FD04C65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5B4793-F451-4B38-B038-88D8F514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E24A2-F302-4DC7-B0A2-C90B8BD7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04878-608D-4B21-B3C0-7154AFC4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AAD26-F261-490B-911C-2A6B2692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5DA44-CDA5-4D60-AE1D-D39251B1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63E30-E113-4260-B6DD-1E0977BB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30A9-1A9B-40AC-A8C5-0BA1B3B5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E64-6C1D-45E3-B1A4-8EB91E7C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1C4D-6156-4617-BA3A-572FA28A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9BF9-D19E-46AE-88B7-35916F9E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B42F-3890-4B98-B285-D6223D8D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7183-432D-4B27-B8A0-61F590F8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D697-D711-4F4A-B583-A7E983F1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9077-FB29-41BF-B313-6043F771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39F4-4B20-40CA-BAC2-06566B03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D6A6-717C-4289-910E-6C68025D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7EEA-CCC7-432B-90A5-793748AB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7A3C-87E6-47D8-8B43-63C16310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B951-A3C6-4D4F-9DC8-E13778E9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550D-6AD0-48DB-8152-495949B7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997E-7DE1-47EC-8A1A-D87FA7C9A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FE58B-7E38-4CF8-B42B-3231344B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C16-8FC1-4244-B31D-0DFEC128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E7C08-F02E-4EC7-B343-6C4D76B5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1F9BB-7112-4C22-B917-B13A049E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04724-A6EB-4266-A23B-48B4F187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5C181-5F9C-4C5B-B304-F9DC9B13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14533-269A-4695-943C-7EAA92A4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5090D-636B-4F85-9A9D-DD92BF20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B356C-B52C-40B1-B405-15D3C66A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7860D-BB40-47F7-9EB4-35108053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C70C4-8CB3-44D8-B6BB-5531D9CB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031FD-6C71-4F42-922C-8729B7FC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E0BA-64BC-4322-B2FE-84086F93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8C852-503B-4B7C-BBE6-0B4702A0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F3F5B-85FE-4137-A6DC-F1C9F9FC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4424F-D537-4920-8FFE-A7F73020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086C4-4D49-4840-B32B-1E1FA64D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27751-3E1A-46FE-A7C2-8506274D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24A93-C0A1-43DC-80A4-991CC1E9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014DA-0E8F-483D-8ABC-B8B34011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DDA86-BB45-4748-B651-0C8B7570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94B89-0B81-4305-B371-B5EC906C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B2DD5-E8C1-4550-A35B-13E1B046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96E-9308-45C4-8C27-4F44D321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EC2CC-0104-41F9-A800-5607BF34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C50AC-0302-4BD6-9495-2928D468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DD696-13A4-4005-B92C-C2951582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F3C6B-59ED-4C3D-8B2B-EFF61AB7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2DD32-94DA-4CAA-962B-7156577A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45846-25FB-4C9E-BE03-FB21AA1B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CC1A8-6E21-4553-9925-E392C81A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7042E-E741-4C0D-8151-1EE2FCE2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6639F-2773-423E-89D8-4EC52DA7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17D41-D735-4C80-A61A-A72B840C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12FE-9CB3-4CE1-9CDF-0BA36026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58EAA-221E-47BB-8407-1D1292E4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6E7BD-EB11-4307-A90A-3DFA1ECD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A6955-8F76-4B20-AA18-7E992883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07E02-6A9D-4BE7-AC46-C9D612BF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63232-BC91-4D13-B668-CE9F0903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49833-AF2D-488B-91EB-F20311F7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79FFD-4681-43BB-A764-A60EE56D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76F0B-891A-4094-B5F8-FE911770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6ADA7-B363-4E73-AC6A-452EE1D7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AD8D8-4462-44CC-B6BB-3A5BB242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6AC-BDB0-4FA5-B121-18BAC695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10D7A-0FFD-4013-9918-CA1EDE7D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23912-2083-4871-8968-9DF937FD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C88AF-8F09-4349-B345-86DA98E6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757AF-D586-41EB-9155-2D55B038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7EF15-E5DC-4481-8E4C-4C64AA6E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76020-6238-4C37-AF18-A10A4598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EAF60-4996-482D-8897-0E58024E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0D65D-9005-42C7-A5F6-43883240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94A0C-4E28-4D07-AC4A-52FAAF75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76C81-2D23-4CA9-A0CC-77B89B8F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815C-E75A-48DC-B9BE-6F4F6073C0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550D-0004-4944-AB59-5DB7CAF0B48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64B6-3022-4A1C-A432-9F9C88950B8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5131-31E7-41BC-9A2F-4AF80EF7584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AE2A-A84C-41FE-934C-2659B9291A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92DC-F6C4-4B3F-A4D8-A92127181DE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B983-E081-4444-B4CF-A762B77B94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E8A1E-C5C6-4B1C-8534-359AEFF2F2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0C50-8BE7-485D-922F-30651CB588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2411-E0CC-47AD-A9E8-8E44A71D50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59A9-9C6A-464B-86EA-BB020790419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>
              <a:gd name="textAreaLeft" fmla="*/ 0 w 4977000"/>
              <a:gd name="textAreaRight" fmla="*/ 4977360 w 49770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"/>
          <p:cNvPicPr/>
          <p:nvPr/>
        </p:nvPicPr>
        <p:blipFill>
          <a:blip r:embed="rId2"/>
          <a:stretch/>
        </p:blipFill>
        <p:spPr>
          <a:xfrm>
            <a:off x="4649760" y="302904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" descr=""/>
          <p:cNvPicPr/>
          <p:nvPr/>
        </p:nvPicPr>
        <p:blipFill>
          <a:blip r:embed="rId3"/>
          <a:srcRect l="0" t="0" r="58180" b="0"/>
          <a:stretch/>
        </p:blipFill>
        <p:spPr>
          <a:xfrm>
            <a:off x="4738680" y="4175280"/>
            <a:ext cx="1522440" cy="2292120"/>
          </a:xfrm>
          <a:prstGeom prst="rect">
            <a:avLst/>
          </a:prstGeom>
          <a:ln w="0">
            <a:noFill/>
          </a:ln>
        </p:spPr>
      </p:pic>
      <p:sp>
        <p:nvSpPr>
          <p:cNvPr id="536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页脚占位符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2725560" y="2637000"/>
            <a:ext cx="2816280" cy="37922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" descr=""/>
          <p:cNvPicPr/>
          <p:nvPr/>
        </p:nvPicPr>
        <p:blipFill>
          <a:blip r:embed="rId2"/>
          <a:stretch/>
        </p:blipFill>
        <p:spPr>
          <a:xfrm>
            <a:off x="5173560" y="806400"/>
            <a:ext cx="1652760" cy="19321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" descr=""/>
          <p:cNvPicPr/>
          <p:nvPr/>
        </p:nvPicPr>
        <p:blipFill>
          <a:blip r:embed="rId3"/>
          <a:stretch/>
        </p:blipFill>
        <p:spPr>
          <a:xfrm>
            <a:off x="1644480" y="1789200"/>
            <a:ext cx="408240" cy="2919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"/>
          <p:cNvPicPr/>
          <p:nvPr/>
        </p:nvPicPr>
        <p:blipFill>
          <a:blip r:embed="rId4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607" name="矩形 23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矩形 24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矩形 25"/>
          <p:cNvSpPr/>
          <p:nvPr/>
        </p:nvSpPr>
        <p:spPr>
          <a:xfrm>
            <a:off x="835200" y="1773360"/>
            <a:ext cx="811080" cy="3236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矩形 26"/>
          <p:cNvSpPr/>
          <p:nvPr/>
        </p:nvSpPr>
        <p:spPr>
          <a:xfrm>
            <a:off x="2049480" y="1773360"/>
            <a:ext cx="811080" cy="323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27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28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29"/>
          <p:cNvSpPr/>
          <p:nvPr/>
        </p:nvSpPr>
        <p:spPr>
          <a:xfrm>
            <a:off x="1406160" y="17971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30"/>
          <p:cNvSpPr/>
          <p:nvPr/>
        </p:nvSpPr>
        <p:spPr>
          <a:xfrm>
            <a:off x="2025000" y="17971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5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616" name="页脚占位符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654200" y="1830240"/>
            <a:ext cx="407880" cy="2923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"/>
          <p:cNvPicPr/>
          <p:nvPr/>
        </p:nvPicPr>
        <p:blipFill>
          <a:blip r:embed="rId2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619" name="右箭头 33"/>
          <p:cNvSpPr/>
          <p:nvPr/>
        </p:nvSpPr>
        <p:spPr>
          <a:xfrm>
            <a:off x="2089080" y="4719600"/>
            <a:ext cx="520920" cy="1890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右箭头 34"/>
          <p:cNvSpPr/>
          <p:nvPr/>
        </p:nvSpPr>
        <p:spPr>
          <a:xfrm>
            <a:off x="4576680" y="4699080"/>
            <a:ext cx="520920" cy="1904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Group 6"/>
          <p:cNvGrpSpPr/>
          <p:nvPr/>
        </p:nvGrpSpPr>
        <p:grpSpPr>
          <a:xfrm>
            <a:off x="690480" y="3738600"/>
            <a:ext cx="1362240" cy="1892160"/>
            <a:chOff x="690480" y="3738600"/>
            <a:chExt cx="1362240" cy="1892160"/>
          </a:xfrm>
        </p:grpSpPr>
        <p:sp>
          <p:nvSpPr>
            <p:cNvPr id="622" name="椭圆 11"/>
            <p:cNvSpPr/>
            <p:nvPr/>
          </p:nvSpPr>
          <p:spPr>
            <a:xfrm>
              <a:off x="690480" y="521496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3" name="Picture 2" descr=""/>
            <p:cNvPicPr/>
            <p:nvPr/>
          </p:nvPicPr>
          <p:blipFill>
            <a:blip r:embed="rId3"/>
            <a:stretch/>
          </p:blipFill>
          <p:spPr>
            <a:xfrm>
              <a:off x="770760" y="3738600"/>
              <a:ext cx="1281960" cy="172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4" name="Group 9"/>
          <p:cNvGrpSpPr/>
          <p:nvPr/>
        </p:nvGrpSpPr>
        <p:grpSpPr>
          <a:xfrm>
            <a:off x="2868480" y="3241800"/>
            <a:ext cx="1851120" cy="2501640"/>
            <a:chOff x="2868480" y="3241800"/>
            <a:chExt cx="1851120" cy="2501640"/>
          </a:xfrm>
        </p:grpSpPr>
        <p:sp>
          <p:nvSpPr>
            <p:cNvPr id="625" name="椭圆 17"/>
            <p:cNvSpPr/>
            <p:nvPr/>
          </p:nvSpPr>
          <p:spPr>
            <a:xfrm>
              <a:off x="28684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6" name="Picture 4" descr=""/>
            <p:cNvPicPr/>
            <p:nvPr/>
          </p:nvPicPr>
          <p:blipFill>
            <a:blip r:embed="rId4"/>
            <a:stretch/>
          </p:blipFill>
          <p:spPr>
            <a:xfrm>
              <a:off x="2974320" y="3241800"/>
              <a:ext cx="1745280" cy="234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7" name="Group 12"/>
          <p:cNvGrpSpPr/>
          <p:nvPr/>
        </p:nvGrpSpPr>
        <p:grpSpPr>
          <a:xfrm>
            <a:off x="5156640" y="1452960"/>
            <a:ext cx="3873240" cy="4290480"/>
            <a:chOff x="5156640" y="1452960"/>
            <a:chExt cx="3873240" cy="4290480"/>
          </a:xfrm>
        </p:grpSpPr>
        <p:sp>
          <p:nvSpPr>
            <p:cNvPr id="628" name="椭圆 32"/>
            <p:cNvSpPr/>
            <p:nvPr/>
          </p:nvSpPr>
          <p:spPr>
            <a:xfrm>
              <a:off x="52912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9" name="Picture 4" descr=""/>
            <p:cNvPicPr/>
            <p:nvPr/>
          </p:nvPicPr>
          <p:blipFill>
            <a:blip r:embed="rId5"/>
            <a:stretch/>
          </p:blipFill>
          <p:spPr>
            <a:xfrm>
              <a:off x="5407560" y="3218040"/>
              <a:ext cx="174420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2" descr=""/>
            <p:cNvPicPr/>
            <p:nvPr/>
          </p:nvPicPr>
          <p:blipFill>
            <a:blip r:embed="rId6"/>
            <a:stretch/>
          </p:blipFill>
          <p:spPr>
            <a:xfrm rot="18427200">
              <a:off x="5590800" y="1621800"/>
              <a:ext cx="128268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2" descr=""/>
            <p:cNvPicPr/>
            <p:nvPr/>
          </p:nvPicPr>
          <p:blipFill>
            <a:blip r:embed="rId7"/>
            <a:stretch/>
          </p:blipFill>
          <p:spPr>
            <a:xfrm rot="3054600">
              <a:off x="7313400" y="2706840"/>
              <a:ext cx="128268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矩形 9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42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矩形 43"/>
          <p:cNvSpPr/>
          <p:nvPr/>
        </p:nvSpPr>
        <p:spPr>
          <a:xfrm>
            <a:off x="844560" y="1812960"/>
            <a:ext cx="811080" cy="3254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44"/>
          <p:cNvSpPr/>
          <p:nvPr/>
        </p:nvSpPr>
        <p:spPr>
          <a:xfrm>
            <a:off x="2058840" y="1812960"/>
            <a:ext cx="811440" cy="325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10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45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46"/>
          <p:cNvSpPr/>
          <p:nvPr/>
        </p:nvSpPr>
        <p:spPr>
          <a:xfrm>
            <a:off x="1415880" y="18367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47"/>
          <p:cNvSpPr/>
          <p:nvPr/>
        </p:nvSpPr>
        <p:spPr>
          <a:xfrm>
            <a:off x="2034360" y="18367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2" descr=""/>
          <p:cNvPicPr/>
          <p:nvPr/>
        </p:nvPicPr>
        <p:blipFill>
          <a:blip r:embed="rId8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641" name="页脚占位符 2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>
              <a:gd name="textAreaLeft" fmla="*/ 0 w 4977000"/>
              <a:gd name="textAreaRight" fmla="*/ 4977360 w 49770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"/>
          <p:cNvPicPr/>
          <p:nvPr/>
        </p:nvPicPr>
        <p:blipFill>
          <a:blip r:embed="rId2"/>
          <a:stretch/>
        </p:blipFill>
        <p:spPr>
          <a:xfrm>
            <a:off x="4649760" y="302904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"/>
          <p:cNvPicPr/>
          <p:nvPr/>
        </p:nvPicPr>
        <p:blipFill>
          <a:blip r:embed="rId3"/>
          <a:srcRect l="0" t="0" r="58180" b="0"/>
          <a:stretch/>
        </p:blipFill>
        <p:spPr>
          <a:xfrm>
            <a:off x="4738680" y="4175280"/>
            <a:ext cx="1522440" cy="2292120"/>
          </a:xfrm>
          <a:prstGeom prst="rect">
            <a:avLst/>
          </a:prstGeom>
          <a:ln w="0">
            <a:noFill/>
          </a:ln>
        </p:spPr>
      </p:pic>
      <p:sp>
        <p:nvSpPr>
          <p:cNvPr id="649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页脚占位符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1" descr=""/>
          <p:cNvPicPr/>
          <p:nvPr/>
        </p:nvPicPr>
        <p:blipFill>
          <a:blip r:embed="rId1"/>
          <a:srcRect l="9607" t="25379" r="3188" b="11018"/>
          <a:stretch/>
        </p:blipFill>
        <p:spPr>
          <a:xfrm>
            <a:off x="1763640" y="1268280"/>
            <a:ext cx="5545080" cy="498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200320" cy="646200"/>
          </a:xfrm>
          <a:prstGeom prst="rect">
            <a:avLst/>
          </a:prstGeom>
          <a:ln w="0">
            <a:noFill/>
          </a:ln>
        </p:spPr>
      </p:pic>
      <p:sp>
        <p:nvSpPr>
          <p:cNvPr id="54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矩形 15"/>
          <p:cNvSpPr/>
          <p:nvPr/>
        </p:nvSpPr>
        <p:spPr>
          <a:xfrm>
            <a:off x="971640" y="4995720"/>
            <a:ext cx="7416720" cy="1584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矩形 14"/>
          <p:cNvSpPr/>
          <p:nvPr/>
        </p:nvSpPr>
        <p:spPr>
          <a:xfrm>
            <a:off x="4846680" y="5848200"/>
            <a:ext cx="309564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矩形 13"/>
          <p:cNvSpPr/>
          <p:nvPr/>
        </p:nvSpPr>
        <p:spPr>
          <a:xfrm>
            <a:off x="1407960" y="5843520"/>
            <a:ext cx="309564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矩形 12"/>
          <p:cNvSpPr/>
          <p:nvPr/>
        </p:nvSpPr>
        <p:spPr>
          <a:xfrm>
            <a:off x="4846680" y="5197320"/>
            <a:ext cx="309564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矩形 11"/>
          <p:cNvSpPr/>
          <p:nvPr/>
        </p:nvSpPr>
        <p:spPr>
          <a:xfrm>
            <a:off x="1407960" y="5191200"/>
            <a:ext cx="309564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图片 9" descr=""/>
          <p:cNvPicPr/>
          <p:nvPr/>
        </p:nvPicPr>
        <p:blipFill>
          <a:blip r:embed="rId1"/>
          <a:srcRect l="39477" t="0" r="0" b="8170"/>
          <a:stretch/>
        </p:blipFill>
        <p:spPr>
          <a:xfrm>
            <a:off x="5276880" y="1319040"/>
            <a:ext cx="2679840" cy="256572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10" descr=""/>
          <p:cNvPicPr/>
          <p:nvPr/>
        </p:nvPicPr>
        <p:blipFill>
          <a:blip r:embed="rId2"/>
          <a:srcRect l="0" t="0" r="52754" b="0"/>
          <a:stretch/>
        </p:blipFill>
        <p:spPr>
          <a:xfrm>
            <a:off x="1527120" y="1538280"/>
            <a:ext cx="2152800" cy="21258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724200" cy="646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7" descr=""/>
          <p:cNvPicPr/>
          <p:nvPr/>
        </p:nvPicPr>
        <p:blipFill>
          <a:blip r:embed="rId4"/>
          <a:stretch/>
        </p:blipFill>
        <p:spPr>
          <a:xfrm>
            <a:off x="1717560" y="3876840"/>
            <a:ext cx="5707080" cy="549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2" descr=""/>
          <p:cNvPicPr/>
          <p:nvPr/>
        </p:nvPicPr>
        <p:blipFill>
          <a:blip r:embed="rId5"/>
          <a:stretch/>
        </p:blipFill>
        <p:spPr>
          <a:xfrm>
            <a:off x="2013120" y="5238720"/>
            <a:ext cx="5333760" cy="1219320"/>
          </a:xfrm>
          <a:prstGeom prst="rect">
            <a:avLst/>
          </a:prstGeom>
          <a:ln w="0">
            <a:noFill/>
          </a:ln>
        </p:spPr>
      </p:pic>
      <p:sp>
        <p:nvSpPr>
          <p:cNvPr id="553" name="页脚占位符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13"/>
          <p:cNvSpPr/>
          <p:nvPr/>
        </p:nvSpPr>
        <p:spPr>
          <a:xfrm>
            <a:off x="992160" y="3629160"/>
            <a:ext cx="3036960" cy="792000"/>
          </a:xfrm>
          <a:custGeom>
            <a:avLst/>
            <a:gdLst>
              <a:gd name="textAreaLeft" fmla="*/ 0 w 3036960"/>
              <a:gd name="textAreaRight" fmla="*/ 3037320 w 30369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3161918" h="791386">
                <a:moveTo>
                  <a:pt x="0" y="0"/>
                </a:moveTo>
                <a:lnTo>
                  <a:pt x="3161918" y="0"/>
                </a:lnTo>
                <a:lnTo>
                  <a:pt x="3161918" y="791386"/>
                </a:lnTo>
                <a:cubicBezTo>
                  <a:pt x="2345451" y="672633"/>
                  <a:pt x="1137100" y="625132"/>
                  <a:pt x="0" y="791386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1" descr=""/>
          <p:cNvPicPr/>
          <p:nvPr/>
        </p:nvPicPr>
        <p:blipFill>
          <a:blip r:embed="rId1"/>
          <a:stretch/>
        </p:blipFill>
        <p:spPr>
          <a:xfrm>
            <a:off x="930240" y="1538280"/>
            <a:ext cx="3160800" cy="2766960"/>
          </a:xfrm>
          <a:prstGeom prst="rect">
            <a:avLst/>
          </a:prstGeom>
          <a:ln w="0">
            <a:noFill/>
          </a:ln>
        </p:spPr>
      </p:pic>
      <p:sp>
        <p:nvSpPr>
          <p:cNvPr id="556" name="矩形 10"/>
          <p:cNvSpPr/>
          <p:nvPr/>
        </p:nvSpPr>
        <p:spPr>
          <a:xfrm>
            <a:off x="4487760" y="3782880"/>
            <a:ext cx="396108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矩形 7"/>
          <p:cNvSpPr/>
          <p:nvPr/>
        </p:nvSpPr>
        <p:spPr>
          <a:xfrm>
            <a:off x="4500720" y="1560600"/>
            <a:ext cx="395892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矩形 8"/>
          <p:cNvSpPr/>
          <p:nvPr/>
        </p:nvSpPr>
        <p:spPr>
          <a:xfrm>
            <a:off x="4487760" y="2235240"/>
            <a:ext cx="3961080" cy="744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矩形 9"/>
          <p:cNvSpPr/>
          <p:nvPr/>
        </p:nvSpPr>
        <p:spPr>
          <a:xfrm>
            <a:off x="4500720" y="3110040"/>
            <a:ext cx="395892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矩形 17"/>
          <p:cNvSpPr/>
          <p:nvPr/>
        </p:nvSpPr>
        <p:spPr>
          <a:xfrm>
            <a:off x="662040" y="5229360"/>
            <a:ext cx="7777080" cy="131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c,A.;Douce,T.B.;Ahuja,N.;Kotlyar,A.. AnticancerDrugs 2008, 19,14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ylor,A.M.;Goddard,W.A.;Keifer,G.E.;Tomalia,D.A. J.Am.Chem.Soc. 1989, 111,233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e,C.C.;MacKay,J.A.;Frechet,J.M.J.;Szoka,F.C..  Nat.Biotechnol. 2005, 23,151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oya,T.;Lee,J.;Park,K. Bioconj.Chem. 2004, 15,122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18"/>
          <p:cNvSpPr/>
          <p:nvPr/>
        </p:nvSpPr>
        <p:spPr>
          <a:xfrm>
            <a:off x="642240" y="4869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图片 20" descr=""/>
          <p:cNvPicPr/>
          <p:nvPr/>
        </p:nvPicPr>
        <p:blipFill>
          <a:blip r:embed="rId2"/>
          <a:srcRect l="62470" t="4676" r="25308" b="77239"/>
          <a:stretch/>
        </p:blipFill>
        <p:spPr>
          <a:xfrm>
            <a:off x="3679920" y="1474920"/>
            <a:ext cx="531720" cy="785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"/>
          <p:cNvPicPr/>
          <p:nvPr/>
        </p:nvPicPr>
        <p:blipFill>
          <a:blip r:embed="rId3"/>
          <a:stretch/>
        </p:blipFill>
        <p:spPr>
          <a:xfrm>
            <a:off x="687240" y="839880"/>
            <a:ext cx="6164280" cy="6462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7" descr=""/>
          <p:cNvPicPr/>
          <p:nvPr/>
        </p:nvPicPr>
        <p:blipFill>
          <a:blip r:embed="rId4"/>
          <a:stretch/>
        </p:blipFill>
        <p:spPr>
          <a:xfrm>
            <a:off x="4579920" y="1587600"/>
            <a:ext cx="1878120" cy="2773440"/>
          </a:xfrm>
          <a:prstGeom prst="rect">
            <a:avLst/>
          </a:prstGeom>
          <a:ln w="0">
            <a:noFill/>
          </a:ln>
        </p:spPr>
      </p:pic>
      <p:sp>
        <p:nvSpPr>
          <p:cNvPr id="565" name="页脚占位符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11"/>
          <p:cNvSpPr/>
          <p:nvPr/>
        </p:nvSpPr>
        <p:spPr>
          <a:xfrm>
            <a:off x="1116000" y="142560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矩形 12"/>
          <p:cNvSpPr/>
          <p:nvPr/>
        </p:nvSpPr>
        <p:spPr>
          <a:xfrm>
            <a:off x="1116000" y="21430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13"/>
          <p:cNvSpPr/>
          <p:nvPr/>
        </p:nvSpPr>
        <p:spPr>
          <a:xfrm>
            <a:off x="1116000" y="283068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矩形 14"/>
          <p:cNvSpPr/>
          <p:nvPr/>
        </p:nvSpPr>
        <p:spPr>
          <a:xfrm>
            <a:off x="1116000" y="34876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矩形 2"/>
          <p:cNvSpPr/>
          <p:nvPr/>
        </p:nvSpPr>
        <p:spPr>
          <a:xfrm>
            <a:off x="1921680" y="14986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矩形 3"/>
          <p:cNvSpPr/>
          <p:nvPr/>
        </p:nvSpPr>
        <p:spPr>
          <a:xfrm>
            <a:off x="1921680" y="22161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矩形 4"/>
          <p:cNvSpPr/>
          <p:nvPr/>
        </p:nvSpPr>
        <p:spPr>
          <a:xfrm>
            <a:off x="1921680" y="28638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矩形 5"/>
          <p:cNvSpPr/>
          <p:nvPr/>
        </p:nvSpPr>
        <p:spPr>
          <a:xfrm>
            <a:off x="1243080" y="3581280"/>
            <a:ext cx="66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矩形 6"/>
          <p:cNvSpPr/>
          <p:nvPr/>
        </p:nvSpPr>
        <p:spPr>
          <a:xfrm>
            <a:off x="765000" y="1440000"/>
            <a:ext cx="117720" cy="542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矩形 7"/>
          <p:cNvSpPr/>
          <p:nvPr/>
        </p:nvSpPr>
        <p:spPr>
          <a:xfrm>
            <a:off x="888840" y="1440000"/>
            <a:ext cx="117720" cy="542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矩形 8"/>
          <p:cNvSpPr/>
          <p:nvPr/>
        </p:nvSpPr>
        <p:spPr>
          <a:xfrm>
            <a:off x="880920" y="2135160"/>
            <a:ext cx="11772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矩形 9"/>
          <p:cNvSpPr/>
          <p:nvPr/>
        </p:nvSpPr>
        <p:spPr>
          <a:xfrm>
            <a:off x="880920" y="279072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矩形 10"/>
          <p:cNvSpPr/>
          <p:nvPr/>
        </p:nvSpPr>
        <p:spPr>
          <a:xfrm>
            <a:off x="865080" y="348768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15"/>
          <p:cNvSpPr/>
          <p:nvPr/>
        </p:nvSpPr>
        <p:spPr>
          <a:xfrm>
            <a:off x="458640" y="4878360"/>
            <a:ext cx="8229600" cy="1554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ncesco M. Veronese, Gianfranco Pasut. Drug Discovery Today, 2005, 10(21), 1451-1458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antinos M. Paleos, Dimitris Tsiourvas, Zili Sideratou, Leto Tziveleka. Current Topics in Medicinal Chemistry, 2008, 8, 1204-122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 Hui Corresponding, Fan Xiaodong, Cao Zhonglin. Polymer, 2005, 46(22), 9514-952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iaoqiangYang, JamisonJ. Grailer, Srikanth Pilla, Douglas A. Steeber, Shaoqin Gong. Bioconjugate Chem. 2010, 21, 496–50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16"/>
          <p:cNvSpPr/>
          <p:nvPr/>
        </p:nvSpPr>
        <p:spPr>
          <a:xfrm>
            <a:off x="437400" y="4518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5859720" cy="646200"/>
          </a:xfrm>
          <a:prstGeom prst="rect">
            <a:avLst/>
          </a:prstGeom>
          <a:ln w="0">
            <a:noFill/>
          </a:ln>
        </p:spPr>
      </p:pic>
      <p:sp>
        <p:nvSpPr>
          <p:cNvPr id="582" name="页脚占位符 1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图片 2" descr=""/>
          <p:cNvPicPr/>
          <p:nvPr/>
        </p:nvPicPr>
        <p:blipFill>
          <a:blip r:embed="rId1"/>
          <a:stretch/>
        </p:blipFill>
        <p:spPr>
          <a:xfrm>
            <a:off x="1701720" y="1268280"/>
            <a:ext cx="5770800" cy="471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601560" y="404640"/>
            <a:ext cx="2200320" cy="646200"/>
          </a:xfrm>
          <a:prstGeom prst="rect">
            <a:avLst/>
          </a:prstGeom>
          <a:ln w="0">
            <a:noFill/>
          </a:ln>
        </p:spPr>
      </p:pic>
      <p:sp>
        <p:nvSpPr>
          <p:cNvPr id="58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3" descr=""/>
          <p:cNvPicPr/>
          <p:nvPr/>
        </p:nvPicPr>
        <p:blipFill>
          <a:blip r:embed="rId1"/>
          <a:srcRect l="49940" t="18838" r="27042" b="60309"/>
          <a:stretch/>
        </p:blipFill>
        <p:spPr>
          <a:xfrm>
            <a:off x="1979640" y="1914480"/>
            <a:ext cx="1670040" cy="14446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981000" cy="6458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3"/>
          <a:stretch/>
        </p:blipFill>
        <p:spPr>
          <a:xfrm>
            <a:off x="1744560" y="2637000"/>
            <a:ext cx="5694480" cy="2292120"/>
          </a:xfrm>
          <a:prstGeom prst="rect">
            <a:avLst/>
          </a:prstGeom>
          <a:ln w="0">
            <a:noFill/>
          </a:ln>
        </p:spPr>
      </p:pic>
      <p:sp>
        <p:nvSpPr>
          <p:cNvPr id="58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3303720" cy="4078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"/>
          <p:cNvPicPr/>
          <p:nvPr/>
        </p:nvPicPr>
        <p:blipFill>
          <a:blip r:embed="rId2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592" name="页脚占位符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图片 10" descr=""/>
          <p:cNvPicPr/>
          <p:nvPr/>
        </p:nvPicPr>
        <p:blipFill>
          <a:blip r:embed="rId1"/>
          <a:stretch/>
        </p:blipFill>
        <p:spPr>
          <a:xfrm>
            <a:off x="2109960" y="4608360"/>
            <a:ext cx="1139760" cy="106056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29" descr=""/>
          <p:cNvPicPr/>
          <p:nvPr/>
        </p:nvPicPr>
        <p:blipFill>
          <a:blip r:embed="rId2"/>
          <a:stretch/>
        </p:blipFill>
        <p:spPr>
          <a:xfrm>
            <a:off x="3444840" y="3706920"/>
            <a:ext cx="1120680" cy="109044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35" descr=""/>
          <p:cNvPicPr/>
          <p:nvPr/>
        </p:nvPicPr>
        <p:blipFill>
          <a:blip r:embed="rId3"/>
          <a:stretch/>
        </p:blipFill>
        <p:spPr>
          <a:xfrm>
            <a:off x="2077920" y="2968560"/>
            <a:ext cx="1128960" cy="107964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41" descr=""/>
          <p:cNvPicPr/>
          <p:nvPr/>
        </p:nvPicPr>
        <p:blipFill>
          <a:blip r:embed="rId4"/>
          <a:stretch/>
        </p:blipFill>
        <p:spPr>
          <a:xfrm>
            <a:off x="5041800" y="3809880"/>
            <a:ext cx="1077840" cy="113364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47" descr=""/>
          <p:cNvPicPr/>
          <p:nvPr/>
        </p:nvPicPr>
        <p:blipFill>
          <a:blip r:embed="rId5"/>
          <a:stretch/>
        </p:blipFill>
        <p:spPr>
          <a:xfrm>
            <a:off x="2998800" y="1657440"/>
            <a:ext cx="1146240" cy="106668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53" descr=""/>
          <p:cNvPicPr/>
          <p:nvPr/>
        </p:nvPicPr>
        <p:blipFill>
          <a:blip r:embed="rId6"/>
          <a:stretch/>
        </p:blipFill>
        <p:spPr>
          <a:xfrm>
            <a:off x="4218120" y="762120"/>
            <a:ext cx="1139760" cy="107316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59" descr=""/>
          <p:cNvPicPr/>
          <p:nvPr/>
        </p:nvPicPr>
        <p:blipFill>
          <a:blip r:embed="rId7"/>
          <a:stretch/>
        </p:blipFill>
        <p:spPr>
          <a:xfrm>
            <a:off x="6345360" y="3078000"/>
            <a:ext cx="1128600" cy="107964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65" descr=""/>
          <p:cNvPicPr/>
          <p:nvPr/>
        </p:nvPicPr>
        <p:blipFill>
          <a:blip r:embed="rId8"/>
          <a:stretch/>
        </p:blipFill>
        <p:spPr>
          <a:xfrm>
            <a:off x="6357960" y="4632480"/>
            <a:ext cx="1066680" cy="11397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" descr=""/>
          <p:cNvPicPr/>
          <p:nvPr/>
        </p:nvPicPr>
        <p:blipFill>
          <a:blip r:embed="rId9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602" name="页脚占位符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8:50:05Z</dcterms:created>
  <dc:creator>LIU Tao</dc:creator>
  <dc:description/>
  <cp:keywords/>
  <dc:language>en-US</dc:language>
  <cp:lastModifiedBy>Administrator</cp:lastModifiedBy>
  <cp:lastPrinted>1899-12-30T00:00:00Z</cp:lastPrinted>
  <dcterms:modified xsi:type="dcterms:W3CDTF">2016-07-25T09:26:51Z</dcterms:modified>
  <cp:revision>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