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633-C0AA-4B7A-A853-D26A7830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0CF-8ECA-4364-A1FE-87192211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4F001-ECF8-4B6E-9FD3-FCB78B5B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E3D8B-EC08-40D7-A1FD-19902B86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F535F-8F99-4071-8CFB-E5318D9A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D257C-1540-4EE3-BAB5-F1B8DB99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1473E-F589-477A-A214-ECF9E821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1338B-8EF5-40BB-B549-9EAC2BB7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15335-A6FB-4DAD-8D57-8EE8ECB2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6C4FD-BB93-464D-997D-D6928182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7FF06-8061-49C6-9271-0F878D37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D56E2-9627-404E-A8F9-C9F56641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178-FDBF-430A-B7E7-6F42DB81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03358-B4FA-438C-8B88-91EA1F3E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BDD21-8661-4336-8B55-D23E009D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85239-D8CC-4A04-B8AD-C32BE48B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6FF96-5456-43F3-B923-415B4B20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B280D-8FB9-43AB-9AA9-458D3374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368A2-1A15-4339-9424-ABAE409A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920A4-D009-4A94-8FE0-32253DB7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A56BB-ED9A-4311-A3DA-211A7EB3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CAD4E-ABBC-43D7-9FE5-60C96E7C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924E8-3EE6-4421-B163-B13EBBB9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B8D-AB41-46BC-BE41-04807BF5C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3AB09-E1DE-4CE9-B0BA-3227B8C80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58A75-3DF6-4976-99A3-8644B519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591DD-71C6-4C09-AEE0-4AC37988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084A6-1E19-4748-AC09-92ACDF41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D7746-DB6A-4E84-B2D5-500D0F0E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2F203-05BA-4B2B-A338-A46D3AA0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5A2C6-2988-4F8B-820A-0C9F20C4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71982-E3E6-4EFE-A6D1-EF4D7AFC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69E5A-5316-4238-877C-179FBE02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E0758E-89C3-4AF0-AA5A-FF3D8EE0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73861-DCCE-4658-BD31-8B07B75B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0E399-B33C-488B-93CD-41B7475F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1B017-96DC-463D-AFFC-9AA597B3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903B5-3253-48FE-A867-DC1DA640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B9B66-BCF4-4A8F-9D40-E7C80A8B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DF4B0-BA48-4F51-A6FF-16E47DCF0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8B214-8F05-4983-A6B5-74493D05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D8333-3F52-400F-A9FC-E6C9546F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9D0F7-2EAE-4BD6-B061-519B925D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82E29-55E3-4654-A603-BDF870EC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BEE90-0DC4-42B1-8E21-C132BF9D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C9E9A-120B-44F8-84B1-46C00AD0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06116-0F52-4435-88A9-CB591A54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4EF39-957B-41EA-83A3-EFE3D5D4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4B0F3-E273-4C37-9EBC-E309E511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47315-07AF-46D6-A6C4-29558089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164A0-84E9-407F-9DE0-660CCAD2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01F23-BFD9-447D-B7D1-6F95C19E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4FE07-C779-4FD7-8309-1D00D377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DA75F-5363-46D6-A2BC-87C7EB07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BC1D4-25B8-46D0-A8E3-79E74A79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B6490-B3D0-42BD-9F7C-691BB3C3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825B2-0AD3-4BE6-A8EB-1982B2BD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2B6BB-9A12-4F58-9FAB-8CC5DF9D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A2234-B5B2-4403-8883-03E0858E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EDBDB-F851-45F8-9936-13986D41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95037-E969-4709-AA46-761C8191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6294-94F2-4078-905F-1F61417D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278-D4A0-419F-B008-4B3C1EBE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6FD6-D422-4A43-B5A3-BC388D05C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4BBB-E7F3-44D9-9072-F674AFA5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3C2F-6463-4FA8-B687-FD219977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7BC4-6DFD-459F-900C-D2875EA8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34C4-BA79-44DF-98C2-D6001CD0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A6F6-3164-47D9-A0D9-2A54691E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78D4-4339-4D77-A9A1-0F3E60A9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2F83-A785-4D97-9F6E-65FC20BE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09F9-FD69-47F3-84C5-25960A2F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BBA2-D860-4EA8-B4CF-0E61D98B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61EC-9B25-4ACA-9C6D-850C87AB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A2BC-66CC-465C-821A-6FBB1036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A3FC-324D-47F2-B521-519740D1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47B75-B731-4BB1-8490-1CD91CFF3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E8AB-E9E6-4864-9482-A0768DDE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3FF9-BC77-44BB-A9BB-2E85E263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B0ACE-A201-45C2-99A9-5010EFB2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0AC3-596F-4B07-9F88-855E02F7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F0E0B-0B4B-4A58-94DC-94FFE045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7C2E7-27DC-4B7E-8C8E-330483F3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B1E5C-B10C-411C-818A-2CD2AB55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1DA1-BD4A-441A-A5E2-34B43AFF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9905-8C7B-46CB-8BD7-5E5A456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1D69E-29A8-4082-BCA2-9E9786D5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5398-DE5E-4F73-A3AE-E4FDC0BF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D91-2382-40D8-B8CB-D90B9906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1ED2-4D3E-4183-A67F-51E70B7B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10B68-15C5-402C-8436-2B2B8F88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6E051-FD7B-40DF-8087-E48B9942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950CE-098C-4625-B392-031828AC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3CFCC-F85C-4AE3-98A7-2AAEF4F8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713A8-3802-46C7-BB4B-F6924D10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A1CAD-9E43-4E20-8517-9B38F5A5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F3D5-ED67-476A-B8A6-28DDC881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75B0E-2193-4CDF-AD9C-C96054D5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9B0D6-38F6-47A7-828A-6E00D762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A2B-B5B0-443F-826A-A3A9EE9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92574-C5EE-4B7C-A79D-E6F7A411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DEE8-59F6-4047-8489-8B200FC9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4DC6-FA32-4F10-AFE5-5CF689C71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12803-1D3C-4820-8438-8B3CF552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DABDD-75E6-4174-92FD-E2060CB2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E871D-C5CD-440F-BB66-DE2BFEA1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37783-1E67-4B67-A4C6-93063EFA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61AF5-6379-4E98-B19B-6C68DB20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834FC-B754-46DA-84C9-C0DB8264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0782E-35CF-4282-A4BD-A16713CB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763-62E9-4A41-B9D7-F6B351E5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D7D32-16E1-4D63-9F27-48458A9F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9993E-3692-482B-B5AC-7A38750B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4E6BB-95AA-440B-9D1E-E19E7CF4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40D23-5EE6-4BA3-9716-36C47B42A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F57C0-C0EE-4820-A1A0-109CE0D4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92AA7-237D-4C5F-B3C5-31E4F1D8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0243F-2CF1-4D73-8908-F9303D17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F61D-EFE3-4A53-A8FF-16C1327F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E133D-8678-4264-A7F9-1D9BAD2B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A6BA7-981D-4254-9AB2-86B037A5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E78A-3620-4C5F-9522-CCF5B952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0D60C-953C-4D06-8A41-E1FD52D6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8E9D0-2EAC-4881-8D36-6AC45D6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94911-0E7F-4C3F-91CE-D77F2B75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03000-416E-411C-BF25-F4910417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16F45-9E54-4807-B13B-885E55AC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CF99F-DE27-4176-9CCE-44B9AC89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59278-E471-4683-A709-CB03646F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6CDAF-89D0-4109-80E5-010E200B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E8EA9-88F6-4E0C-80B7-05B5CB3D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97500-D429-405C-882E-604D3773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F2A8-963A-4A07-80AB-B803C058488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86F2-ED03-4202-B2A7-6A8FF15762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ACDA-A29D-4D37-81C5-F7D05258A12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8974-B363-4097-911C-C8B2DD91A7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3672-53BA-4CB8-8EEA-FA7B001008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79200"/>
            <a:ext cx="820728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07BA-6D12-4560-A5DA-DB5601E95A8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4DAF-548D-467D-B33C-FCF06B377E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004C-312B-466F-BBC4-51E16354D71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2C5F-8383-4C55-973B-CACBE51096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F449-F585-4DAB-BC57-17835BA8CD9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3203-9A80-476F-B422-E7BDFD2233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536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2725560" y="2637000"/>
            <a:ext cx="2816280" cy="37922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2"/>
          <a:stretch/>
        </p:blipFill>
        <p:spPr>
          <a:xfrm>
            <a:off x="5173560" y="806400"/>
            <a:ext cx="1652760" cy="19321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" descr=""/>
          <p:cNvPicPr/>
          <p:nvPr/>
        </p:nvPicPr>
        <p:blipFill>
          <a:blip r:embed="rId3"/>
          <a:stretch/>
        </p:blipFill>
        <p:spPr>
          <a:xfrm>
            <a:off x="1644480" y="1789200"/>
            <a:ext cx="408240" cy="2919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2" descr=""/>
          <p:cNvPicPr/>
          <p:nvPr/>
        </p:nvPicPr>
        <p:blipFill>
          <a:blip r:embed="rId4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07" name="矩形 23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矩形 24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矩形 25"/>
          <p:cNvSpPr/>
          <p:nvPr/>
        </p:nvSpPr>
        <p:spPr>
          <a:xfrm>
            <a:off x="835200" y="1773360"/>
            <a:ext cx="811080" cy="3236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矩形 26"/>
          <p:cNvSpPr/>
          <p:nvPr/>
        </p:nvSpPr>
        <p:spPr>
          <a:xfrm>
            <a:off x="2049480" y="1773360"/>
            <a:ext cx="811080" cy="32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Box 27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28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Box 29"/>
          <p:cNvSpPr/>
          <p:nvPr/>
        </p:nvSpPr>
        <p:spPr>
          <a:xfrm>
            <a:off x="1406160" y="1797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30"/>
          <p:cNvSpPr/>
          <p:nvPr/>
        </p:nvSpPr>
        <p:spPr>
          <a:xfrm>
            <a:off x="2025000" y="17971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5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16" name="页脚占位符 1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654200" y="1830240"/>
            <a:ext cx="407880" cy="2923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1650960" y="1062000"/>
            <a:ext cx="407880" cy="291960"/>
          </a:xfrm>
          <a:prstGeom prst="rect">
            <a:avLst/>
          </a:prstGeom>
          <a:ln w="0">
            <a:noFill/>
          </a:ln>
        </p:spPr>
      </p:pic>
      <p:sp>
        <p:nvSpPr>
          <p:cNvPr id="619" name="右箭头 33"/>
          <p:cNvSpPr/>
          <p:nvPr/>
        </p:nvSpPr>
        <p:spPr>
          <a:xfrm>
            <a:off x="2089080" y="4719600"/>
            <a:ext cx="520920" cy="1890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右箭头 34"/>
          <p:cNvSpPr/>
          <p:nvPr/>
        </p:nvSpPr>
        <p:spPr>
          <a:xfrm>
            <a:off x="4576680" y="4699080"/>
            <a:ext cx="520920" cy="19044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oup 6"/>
          <p:cNvGrpSpPr/>
          <p:nvPr/>
        </p:nvGrpSpPr>
        <p:grpSpPr>
          <a:xfrm>
            <a:off x="690480" y="3738600"/>
            <a:ext cx="1362240" cy="1892160"/>
            <a:chOff x="690480" y="3738600"/>
            <a:chExt cx="1362240" cy="1892160"/>
          </a:xfrm>
        </p:grpSpPr>
        <p:sp>
          <p:nvSpPr>
            <p:cNvPr id="622" name="椭圆 11"/>
            <p:cNvSpPr/>
            <p:nvPr/>
          </p:nvSpPr>
          <p:spPr>
            <a:xfrm>
              <a:off x="690480" y="521496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3" name="Picture 2" descr=""/>
            <p:cNvPicPr/>
            <p:nvPr/>
          </p:nvPicPr>
          <p:blipFill>
            <a:blip r:embed="rId3"/>
            <a:stretch/>
          </p:blipFill>
          <p:spPr>
            <a:xfrm>
              <a:off x="770760" y="3738600"/>
              <a:ext cx="1281960" cy="1728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Group 9"/>
          <p:cNvGrpSpPr/>
          <p:nvPr/>
        </p:nvGrpSpPr>
        <p:grpSpPr>
          <a:xfrm>
            <a:off x="2868480" y="3241800"/>
            <a:ext cx="1851120" cy="2501640"/>
            <a:chOff x="2868480" y="3241800"/>
            <a:chExt cx="1851120" cy="2501640"/>
          </a:xfrm>
        </p:grpSpPr>
        <p:sp>
          <p:nvSpPr>
            <p:cNvPr id="625" name="椭圆 17"/>
            <p:cNvSpPr/>
            <p:nvPr/>
          </p:nvSpPr>
          <p:spPr>
            <a:xfrm>
              <a:off x="28684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6" name="Picture 4" descr=""/>
            <p:cNvPicPr/>
            <p:nvPr/>
          </p:nvPicPr>
          <p:blipFill>
            <a:blip r:embed="rId4"/>
            <a:stretch/>
          </p:blipFill>
          <p:spPr>
            <a:xfrm>
              <a:off x="2974320" y="3241800"/>
              <a:ext cx="1745280" cy="234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Group 12"/>
          <p:cNvGrpSpPr/>
          <p:nvPr/>
        </p:nvGrpSpPr>
        <p:grpSpPr>
          <a:xfrm>
            <a:off x="5156640" y="1452960"/>
            <a:ext cx="3873240" cy="4290480"/>
            <a:chOff x="5156640" y="1452960"/>
            <a:chExt cx="3873240" cy="4290480"/>
          </a:xfrm>
        </p:grpSpPr>
        <p:sp>
          <p:nvSpPr>
            <p:cNvPr id="628" name="椭圆 32"/>
            <p:cNvSpPr/>
            <p:nvPr/>
          </p:nvSpPr>
          <p:spPr>
            <a:xfrm>
              <a:off x="5291280" y="5327640"/>
              <a:ext cx="415800" cy="41580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9" name="Picture 4" descr=""/>
            <p:cNvPicPr/>
            <p:nvPr/>
          </p:nvPicPr>
          <p:blipFill>
            <a:blip r:embed="rId5"/>
            <a:stretch/>
          </p:blipFill>
          <p:spPr>
            <a:xfrm>
              <a:off x="5407560" y="3218040"/>
              <a:ext cx="1744200" cy="234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2" descr=""/>
            <p:cNvPicPr/>
            <p:nvPr/>
          </p:nvPicPr>
          <p:blipFill>
            <a:blip r:embed="rId6"/>
            <a:stretch/>
          </p:blipFill>
          <p:spPr>
            <a:xfrm rot="18427200">
              <a:off x="5590800" y="1621800"/>
              <a:ext cx="1282680" cy="17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2" descr=""/>
            <p:cNvPicPr/>
            <p:nvPr/>
          </p:nvPicPr>
          <p:blipFill>
            <a:blip r:embed="rId7"/>
            <a:stretch/>
          </p:blipFill>
          <p:spPr>
            <a:xfrm rot="3054600">
              <a:off x="7313400" y="2706840"/>
              <a:ext cx="1282680" cy="172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2" name="矩形 9"/>
          <p:cNvSpPr/>
          <p:nvPr/>
        </p:nvSpPr>
        <p:spPr>
          <a:xfrm>
            <a:off x="2057400" y="1042920"/>
            <a:ext cx="811080" cy="325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42"/>
          <p:cNvSpPr/>
          <p:nvPr/>
        </p:nvSpPr>
        <p:spPr>
          <a:xfrm>
            <a:off x="841320" y="1038240"/>
            <a:ext cx="811440" cy="324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矩形 43"/>
          <p:cNvSpPr/>
          <p:nvPr/>
        </p:nvSpPr>
        <p:spPr>
          <a:xfrm>
            <a:off x="844560" y="1812960"/>
            <a:ext cx="811080" cy="32544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44"/>
          <p:cNvSpPr/>
          <p:nvPr/>
        </p:nvSpPr>
        <p:spPr>
          <a:xfrm>
            <a:off x="2058840" y="1812960"/>
            <a:ext cx="811440" cy="3254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0"/>
          <p:cNvSpPr/>
          <p:nvPr/>
        </p:nvSpPr>
        <p:spPr>
          <a:xfrm>
            <a:off x="1415160" y="10620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45"/>
          <p:cNvSpPr/>
          <p:nvPr/>
        </p:nvSpPr>
        <p:spPr>
          <a:xfrm>
            <a:off x="2050920" y="106668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46"/>
          <p:cNvSpPr/>
          <p:nvPr/>
        </p:nvSpPr>
        <p:spPr>
          <a:xfrm>
            <a:off x="1415880" y="18367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47"/>
          <p:cNvSpPr/>
          <p:nvPr/>
        </p:nvSpPr>
        <p:spPr>
          <a:xfrm>
            <a:off x="2034360" y="18367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Impact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8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41" name="页脚占位符 2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19"/>
          <p:cNvSpPr/>
          <p:nvPr/>
        </p:nvSpPr>
        <p:spPr>
          <a:xfrm>
            <a:off x="4108320" y="2166840"/>
            <a:ext cx="4977000" cy="1579680"/>
          </a:xfrm>
          <a:custGeom>
            <a:avLst/>
            <a:gdLst>
              <a:gd name="textAreaLeft" fmla="*/ 0 w 4977000"/>
              <a:gd name="textAreaRight" fmla="*/ 4977360 w 497700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5148064" h="1578165">
                <a:moveTo>
                  <a:pt x="0" y="0"/>
                </a:moveTo>
                <a:lnTo>
                  <a:pt x="5148064" y="0"/>
                </a:lnTo>
                <a:lnTo>
                  <a:pt x="5100563" y="1411909"/>
                </a:lnTo>
                <a:cubicBezTo>
                  <a:pt x="3384542" y="1411909"/>
                  <a:pt x="1343404" y="1471286"/>
                  <a:pt x="0" y="1578165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矩形 5"/>
          <p:cNvSpPr/>
          <p:nvPr/>
        </p:nvSpPr>
        <p:spPr>
          <a:xfrm>
            <a:off x="3995640" y="2014560"/>
            <a:ext cx="5148360" cy="1577880"/>
          </a:xfrm>
          <a:prstGeom prst="rect">
            <a:avLst/>
          </a:prstGeom>
          <a:solidFill>
            <a:srgbClr val="cdd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矩形 6"/>
          <p:cNvSpPr/>
          <p:nvPr/>
        </p:nvSpPr>
        <p:spPr>
          <a:xfrm>
            <a:off x="4437000" y="1703520"/>
            <a:ext cx="2232000" cy="649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矩形 7"/>
          <p:cNvSpPr/>
          <p:nvPr/>
        </p:nvSpPr>
        <p:spPr>
          <a:xfrm>
            <a:off x="5096880" y="173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树枝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684360" y="2303640"/>
            <a:ext cx="2778120" cy="3743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"/>
          <p:cNvPicPr/>
          <p:nvPr/>
        </p:nvPicPr>
        <p:blipFill>
          <a:blip r:embed="rId2"/>
          <a:stretch/>
        </p:blipFill>
        <p:spPr>
          <a:xfrm>
            <a:off x="4649760" y="3029040"/>
            <a:ext cx="2249640" cy="6890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"/>
          <p:cNvPicPr/>
          <p:nvPr/>
        </p:nvPicPr>
        <p:blipFill>
          <a:blip r:embed="rId3"/>
          <a:srcRect l="0" t="0" r="58180" b="0"/>
          <a:stretch/>
        </p:blipFill>
        <p:spPr>
          <a:xfrm>
            <a:off x="4738680" y="4175280"/>
            <a:ext cx="1522440" cy="2292120"/>
          </a:xfrm>
          <a:prstGeom prst="rect">
            <a:avLst/>
          </a:prstGeom>
          <a:ln w="0">
            <a:noFill/>
          </a:ln>
        </p:spPr>
      </p:pic>
      <p:sp>
        <p:nvSpPr>
          <p:cNvPr id="649" name="椭圆 1"/>
          <p:cNvSpPr/>
          <p:nvPr/>
        </p:nvSpPr>
        <p:spPr>
          <a:xfrm>
            <a:off x="539640" y="260280"/>
            <a:ext cx="576360" cy="576360"/>
          </a:xfrm>
          <a:prstGeom prst="ellipse">
            <a:avLst/>
          </a:prstGeom>
          <a:noFill/>
          <a:ln w="93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2"/>
          <p:cNvSpPr/>
          <p:nvPr/>
        </p:nvSpPr>
        <p:spPr>
          <a:xfrm>
            <a:off x="496440" y="38088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4"/>
          <p:cNvSpPr/>
          <p:nvPr/>
        </p:nvSpPr>
        <p:spPr>
          <a:xfrm>
            <a:off x="5373000" y="24512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超粗黑简体"/>
                <a:ea typeface="方正超粗黑简体"/>
              </a:rPr>
              <a:t>在这里写答辩题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页脚占位符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图片 1" descr=""/>
          <p:cNvPicPr/>
          <p:nvPr/>
        </p:nvPicPr>
        <p:blipFill>
          <a:blip r:embed="rId1"/>
          <a:srcRect l="9607" t="25379" r="3188" b="11018"/>
          <a:stretch/>
        </p:blipFill>
        <p:spPr>
          <a:xfrm>
            <a:off x="1763640" y="1268280"/>
            <a:ext cx="5545080" cy="498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1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4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矩形 15"/>
          <p:cNvSpPr/>
          <p:nvPr/>
        </p:nvSpPr>
        <p:spPr>
          <a:xfrm>
            <a:off x="971640" y="4995720"/>
            <a:ext cx="7416720" cy="1584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14"/>
          <p:cNvSpPr/>
          <p:nvPr/>
        </p:nvSpPr>
        <p:spPr>
          <a:xfrm>
            <a:off x="4846680" y="5848200"/>
            <a:ext cx="309564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矩形 13"/>
          <p:cNvSpPr/>
          <p:nvPr/>
        </p:nvSpPr>
        <p:spPr>
          <a:xfrm>
            <a:off x="1407960" y="5843520"/>
            <a:ext cx="309564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矩形 12"/>
          <p:cNvSpPr/>
          <p:nvPr/>
        </p:nvSpPr>
        <p:spPr>
          <a:xfrm>
            <a:off x="4846680" y="5197320"/>
            <a:ext cx="309564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矩形 11"/>
          <p:cNvSpPr/>
          <p:nvPr/>
        </p:nvSpPr>
        <p:spPr>
          <a:xfrm>
            <a:off x="1407960" y="5191200"/>
            <a:ext cx="309564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图片 9" descr=""/>
          <p:cNvPicPr/>
          <p:nvPr/>
        </p:nvPicPr>
        <p:blipFill>
          <a:blip r:embed="rId1"/>
          <a:srcRect l="39477" t="0" r="0" b="8170"/>
          <a:stretch/>
        </p:blipFill>
        <p:spPr>
          <a:xfrm>
            <a:off x="5276880" y="1319040"/>
            <a:ext cx="2679840" cy="256572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10" descr=""/>
          <p:cNvPicPr/>
          <p:nvPr/>
        </p:nvPicPr>
        <p:blipFill>
          <a:blip r:embed="rId2"/>
          <a:srcRect l="0" t="0" r="52754" b="0"/>
          <a:stretch/>
        </p:blipFill>
        <p:spPr>
          <a:xfrm>
            <a:off x="1527120" y="1538280"/>
            <a:ext cx="2152800" cy="21258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3724200" cy="646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7" descr=""/>
          <p:cNvPicPr/>
          <p:nvPr/>
        </p:nvPicPr>
        <p:blipFill>
          <a:blip r:embed="rId4"/>
          <a:stretch/>
        </p:blipFill>
        <p:spPr>
          <a:xfrm>
            <a:off x="1717560" y="3876840"/>
            <a:ext cx="5707080" cy="549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2" descr=""/>
          <p:cNvPicPr/>
          <p:nvPr/>
        </p:nvPicPr>
        <p:blipFill>
          <a:blip r:embed="rId5"/>
          <a:stretch/>
        </p:blipFill>
        <p:spPr>
          <a:xfrm>
            <a:off x="2013120" y="5238720"/>
            <a:ext cx="5333760" cy="1219320"/>
          </a:xfrm>
          <a:prstGeom prst="rect">
            <a:avLst/>
          </a:prstGeom>
          <a:ln w="0">
            <a:noFill/>
          </a:ln>
        </p:spPr>
      </p:pic>
      <p:sp>
        <p:nvSpPr>
          <p:cNvPr id="553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13"/>
          <p:cNvSpPr/>
          <p:nvPr/>
        </p:nvSpPr>
        <p:spPr>
          <a:xfrm>
            <a:off x="992160" y="3629160"/>
            <a:ext cx="3036960" cy="792000"/>
          </a:xfrm>
          <a:custGeom>
            <a:avLst/>
            <a:gdLst>
              <a:gd name="textAreaLeft" fmla="*/ 0 w 3036960"/>
              <a:gd name="textAreaRight" fmla="*/ 3037320 w 30369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3161918" h="791386">
                <a:moveTo>
                  <a:pt x="0" y="0"/>
                </a:moveTo>
                <a:lnTo>
                  <a:pt x="3161918" y="0"/>
                </a:lnTo>
                <a:lnTo>
                  <a:pt x="3161918" y="791386"/>
                </a:lnTo>
                <a:cubicBezTo>
                  <a:pt x="2345451" y="672633"/>
                  <a:pt x="1137100" y="625132"/>
                  <a:pt x="0" y="791386"/>
                </a:cubicBez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图片 1" descr=""/>
          <p:cNvPicPr/>
          <p:nvPr/>
        </p:nvPicPr>
        <p:blipFill>
          <a:blip r:embed="rId1"/>
          <a:stretch/>
        </p:blipFill>
        <p:spPr>
          <a:xfrm>
            <a:off x="930240" y="1538280"/>
            <a:ext cx="3160800" cy="2766960"/>
          </a:xfrm>
          <a:prstGeom prst="rect">
            <a:avLst/>
          </a:prstGeom>
          <a:ln w="0">
            <a:noFill/>
          </a:ln>
        </p:spPr>
      </p:pic>
      <p:sp>
        <p:nvSpPr>
          <p:cNvPr id="556" name="矩形 10"/>
          <p:cNvSpPr/>
          <p:nvPr/>
        </p:nvSpPr>
        <p:spPr>
          <a:xfrm>
            <a:off x="4487760" y="3782880"/>
            <a:ext cx="396108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7"/>
          <p:cNvSpPr/>
          <p:nvPr/>
        </p:nvSpPr>
        <p:spPr>
          <a:xfrm>
            <a:off x="4500720" y="1560600"/>
            <a:ext cx="3958920" cy="5443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8"/>
          <p:cNvSpPr/>
          <p:nvPr/>
        </p:nvSpPr>
        <p:spPr>
          <a:xfrm>
            <a:off x="4487760" y="2235240"/>
            <a:ext cx="3961080" cy="744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9"/>
          <p:cNvSpPr/>
          <p:nvPr/>
        </p:nvSpPr>
        <p:spPr>
          <a:xfrm>
            <a:off x="4500720" y="3110040"/>
            <a:ext cx="3958920" cy="5428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17"/>
          <p:cNvSpPr/>
          <p:nvPr/>
        </p:nvSpPr>
        <p:spPr>
          <a:xfrm>
            <a:off x="662040" y="5229360"/>
            <a:ext cx="7777080" cy="131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,A.;Douce,T.B.;Ahuja,N.;Kotlyar,A.. AnticancerDrugs 2008, 19,143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ylor,A.M.;Goddard,W.A.;Keifer,G.E.;Tomalia,D.A. J.Am.Chem.Soc. 1989, 111,233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e,C.C.;MacKay,J.A.;Frechet,J.M.J.;Szoka,F.C..  Nat.Biotechnol. 2005, 23,1517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ya,T.;Lee,J.;Park,K. Bioconj.Chem. 2004, 15,122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18"/>
          <p:cNvSpPr/>
          <p:nvPr/>
        </p:nvSpPr>
        <p:spPr>
          <a:xfrm>
            <a:off x="642240" y="4869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图片 20" descr=""/>
          <p:cNvPicPr/>
          <p:nvPr/>
        </p:nvPicPr>
        <p:blipFill>
          <a:blip r:embed="rId2"/>
          <a:srcRect l="62470" t="4676" r="25308" b="77239"/>
          <a:stretch/>
        </p:blipFill>
        <p:spPr>
          <a:xfrm>
            <a:off x="3679920" y="1474920"/>
            <a:ext cx="531720" cy="785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3"/>
          <a:stretch/>
        </p:blipFill>
        <p:spPr>
          <a:xfrm>
            <a:off x="687240" y="839880"/>
            <a:ext cx="6164280" cy="6462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7" descr=""/>
          <p:cNvPicPr/>
          <p:nvPr/>
        </p:nvPicPr>
        <p:blipFill>
          <a:blip r:embed="rId4"/>
          <a:stretch/>
        </p:blipFill>
        <p:spPr>
          <a:xfrm>
            <a:off x="4579920" y="1587600"/>
            <a:ext cx="1878120" cy="2773440"/>
          </a:xfrm>
          <a:prstGeom prst="rect">
            <a:avLst/>
          </a:prstGeom>
          <a:ln w="0">
            <a:noFill/>
          </a:ln>
        </p:spPr>
      </p:pic>
      <p:sp>
        <p:nvSpPr>
          <p:cNvPr id="565" name="页脚占位符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矩形 11"/>
          <p:cNvSpPr/>
          <p:nvPr/>
        </p:nvSpPr>
        <p:spPr>
          <a:xfrm>
            <a:off x="1116000" y="142560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矩形 12"/>
          <p:cNvSpPr/>
          <p:nvPr/>
        </p:nvSpPr>
        <p:spPr>
          <a:xfrm>
            <a:off x="1116000" y="21430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3"/>
          <p:cNvSpPr/>
          <p:nvPr/>
        </p:nvSpPr>
        <p:spPr>
          <a:xfrm>
            <a:off x="1116000" y="2830680"/>
            <a:ext cx="7012080" cy="544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矩形 14"/>
          <p:cNvSpPr/>
          <p:nvPr/>
        </p:nvSpPr>
        <p:spPr>
          <a:xfrm>
            <a:off x="1116000" y="3487680"/>
            <a:ext cx="7012080" cy="54468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矩形 2"/>
          <p:cNvSpPr/>
          <p:nvPr/>
        </p:nvSpPr>
        <p:spPr>
          <a:xfrm>
            <a:off x="1921680" y="14986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矩形 3"/>
          <p:cNvSpPr/>
          <p:nvPr/>
        </p:nvSpPr>
        <p:spPr>
          <a:xfrm>
            <a:off x="1921680" y="22161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4"/>
          <p:cNvSpPr/>
          <p:nvPr/>
        </p:nvSpPr>
        <p:spPr>
          <a:xfrm>
            <a:off x="1921680" y="286380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矩形 5"/>
          <p:cNvSpPr/>
          <p:nvPr/>
        </p:nvSpPr>
        <p:spPr>
          <a:xfrm>
            <a:off x="1243080" y="3581280"/>
            <a:ext cx="66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此处添加文本，此处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矩形 6"/>
          <p:cNvSpPr/>
          <p:nvPr/>
        </p:nvSpPr>
        <p:spPr>
          <a:xfrm>
            <a:off x="765000" y="1440000"/>
            <a:ext cx="117720" cy="5428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矩形 7"/>
          <p:cNvSpPr/>
          <p:nvPr/>
        </p:nvSpPr>
        <p:spPr>
          <a:xfrm>
            <a:off x="888840" y="1440000"/>
            <a:ext cx="117720" cy="542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矩形 8"/>
          <p:cNvSpPr/>
          <p:nvPr/>
        </p:nvSpPr>
        <p:spPr>
          <a:xfrm>
            <a:off x="880920" y="2135160"/>
            <a:ext cx="117720" cy="544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9"/>
          <p:cNvSpPr/>
          <p:nvPr/>
        </p:nvSpPr>
        <p:spPr>
          <a:xfrm>
            <a:off x="880920" y="279072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矩形 10"/>
          <p:cNvSpPr/>
          <p:nvPr/>
        </p:nvSpPr>
        <p:spPr>
          <a:xfrm>
            <a:off x="865080" y="3487680"/>
            <a:ext cx="117720" cy="54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矩形 15"/>
          <p:cNvSpPr/>
          <p:nvPr/>
        </p:nvSpPr>
        <p:spPr>
          <a:xfrm>
            <a:off x="458640" y="4878360"/>
            <a:ext cx="8229600" cy="1554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esco M. Veronese, Gianfranco Pasut. Drug Discovery Today, 2005, 10(21), 1451-1458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inos M. Paleos, Dimitris Tsiourvas, Zili Sideratou, Leto Tziveleka. Current Topics in Medicinal Chemistry, 2008, 8, 1204-122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 Hui Corresponding, Fan Xiaodong, Cao Zhonglin. Polymer, 2005, 46(22), 9514-9522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iaoqiangYang, JamisonJ. Grailer, Srikanth Pilla, Douglas A. Steeber, Shaoqin Gong. Bioconjugate Chem. 2010, 21, 496–50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6"/>
          <p:cNvSpPr/>
          <p:nvPr/>
        </p:nvSpPr>
        <p:spPr>
          <a:xfrm>
            <a:off x="437400" y="45180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5859720" cy="646200"/>
          </a:xfrm>
          <a:prstGeom prst="rect">
            <a:avLst/>
          </a:prstGeom>
          <a:ln w="0">
            <a:noFill/>
          </a:ln>
        </p:spPr>
      </p:pic>
      <p:sp>
        <p:nvSpPr>
          <p:cNvPr id="582" name="页脚占位符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图片 2" descr=""/>
          <p:cNvPicPr/>
          <p:nvPr/>
        </p:nvPicPr>
        <p:blipFill>
          <a:blip r:embed="rId1"/>
          <a:stretch/>
        </p:blipFill>
        <p:spPr>
          <a:xfrm>
            <a:off x="1701720" y="1268280"/>
            <a:ext cx="5770800" cy="471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601560" y="404640"/>
            <a:ext cx="2200320" cy="646200"/>
          </a:xfrm>
          <a:prstGeom prst="rect">
            <a:avLst/>
          </a:prstGeom>
          <a:ln w="0">
            <a:noFill/>
          </a:ln>
        </p:spPr>
      </p:pic>
      <p:sp>
        <p:nvSpPr>
          <p:cNvPr id="58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"/>
          <p:cNvPicPr/>
          <p:nvPr/>
        </p:nvPicPr>
        <p:blipFill>
          <a:blip r:embed="rId1"/>
          <a:srcRect l="49940" t="18838" r="27042" b="60309"/>
          <a:stretch/>
        </p:blipFill>
        <p:spPr>
          <a:xfrm>
            <a:off x="1979640" y="1914480"/>
            <a:ext cx="1670040" cy="14446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"/>
          <p:cNvPicPr/>
          <p:nvPr/>
        </p:nvPicPr>
        <p:blipFill>
          <a:blip r:embed="rId2"/>
          <a:stretch/>
        </p:blipFill>
        <p:spPr>
          <a:xfrm>
            <a:off x="755640" y="692280"/>
            <a:ext cx="981000" cy="6458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3"/>
          <a:stretch/>
        </p:blipFill>
        <p:spPr>
          <a:xfrm>
            <a:off x="1744560" y="2637000"/>
            <a:ext cx="5694480" cy="2292120"/>
          </a:xfrm>
          <a:prstGeom prst="rect">
            <a:avLst/>
          </a:prstGeom>
          <a:ln w="0">
            <a:noFill/>
          </a:ln>
        </p:spPr>
      </p:pic>
      <p:sp>
        <p:nvSpPr>
          <p:cNvPr id="58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tretch/>
        </p:blipFill>
        <p:spPr>
          <a:xfrm>
            <a:off x="3132000" y="1268280"/>
            <a:ext cx="3303720" cy="4078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"/>
          <p:cNvPicPr/>
          <p:nvPr/>
        </p:nvPicPr>
        <p:blipFill>
          <a:blip r:embed="rId2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592" name="页脚占位符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图片 10" descr=""/>
          <p:cNvPicPr/>
          <p:nvPr/>
        </p:nvPicPr>
        <p:blipFill>
          <a:blip r:embed="rId1"/>
          <a:stretch/>
        </p:blipFill>
        <p:spPr>
          <a:xfrm>
            <a:off x="2109960" y="4608360"/>
            <a:ext cx="1139760" cy="106056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29" descr=""/>
          <p:cNvPicPr/>
          <p:nvPr/>
        </p:nvPicPr>
        <p:blipFill>
          <a:blip r:embed="rId2"/>
          <a:stretch/>
        </p:blipFill>
        <p:spPr>
          <a:xfrm>
            <a:off x="3444840" y="3706920"/>
            <a:ext cx="1120680" cy="10904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35" descr=""/>
          <p:cNvPicPr/>
          <p:nvPr/>
        </p:nvPicPr>
        <p:blipFill>
          <a:blip r:embed="rId3"/>
          <a:stretch/>
        </p:blipFill>
        <p:spPr>
          <a:xfrm>
            <a:off x="2077920" y="2968560"/>
            <a:ext cx="1128960" cy="107964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41" descr=""/>
          <p:cNvPicPr/>
          <p:nvPr/>
        </p:nvPicPr>
        <p:blipFill>
          <a:blip r:embed="rId4"/>
          <a:stretch/>
        </p:blipFill>
        <p:spPr>
          <a:xfrm>
            <a:off x="5041800" y="3809880"/>
            <a:ext cx="1077840" cy="113364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47" descr=""/>
          <p:cNvPicPr/>
          <p:nvPr/>
        </p:nvPicPr>
        <p:blipFill>
          <a:blip r:embed="rId5"/>
          <a:stretch/>
        </p:blipFill>
        <p:spPr>
          <a:xfrm>
            <a:off x="2998800" y="1657440"/>
            <a:ext cx="1146240" cy="106668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3" descr=""/>
          <p:cNvPicPr/>
          <p:nvPr/>
        </p:nvPicPr>
        <p:blipFill>
          <a:blip r:embed="rId6"/>
          <a:stretch/>
        </p:blipFill>
        <p:spPr>
          <a:xfrm>
            <a:off x="4218120" y="762120"/>
            <a:ext cx="1139760" cy="107316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59" descr=""/>
          <p:cNvPicPr/>
          <p:nvPr/>
        </p:nvPicPr>
        <p:blipFill>
          <a:blip r:embed="rId7"/>
          <a:stretch/>
        </p:blipFill>
        <p:spPr>
          <a:xfrm>
            <a:off x="6345360" y="3078000"/>
            <a:ext cx="1128600" cy="107964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65" descr=""/>
          <p:cNvPicPr/>
          <p:nvPr/>
        </p:nvPicPr>
        <p:blipFill>
          <a:blip r:embed="rId8"/>
          <a:stretch/>
        </p:blipFill>
        <p:spPr>
          <a:xfrm>
            <a:off x="6357960" y="4632480"/>
            <a:ext cx="1066680" cy="11397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"/>
          <p:cNvPicPr/>
          <p:nvPr/>
        </p:nvPicPr>
        <p:blipFill>
          <a:blip r:embed="rId9"/>
          <a:stretch/>
        </p:blipFill>
        <p:spPr>
          <a:xfrm>
            <a:off x="277920" y="189000"/>
            <a:ext cx="1590480" cy="646200"/>
          </a:xfrm>
          <a:prstGeom prst="rect">
            <a:avLst/>
          </a:prstGeom>
          <a:ln w="0">
            <a:noFill/>
          </a:ln>
        </p:spPr>
      </p:pic>
      <p:sp>
        <p:nvSpPr>
          <p:cNvPr id="602" name="页脚占位符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8:50:05Z</dcterms:created>
  <dc:creator>LIU Tao</dc:creator>
  <dc:description/>
  <cp:keywords/>
  <dc:language>en-US</dc:language>
  <cp:lastModifiedBy>Administrator</cp:lastModifiedBy>
  <cp:lastPrinted>1899-12-30T00:00:00Z</cp:lastPrinted>
  <dcterms:modified xsi:type="dcterms:W3CDTF">2016-07-25T09:26:51Z</dcterms:modified>
  <cp:revision>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