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CBB8-78EC-43C8-B97C-8A57B02A11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5FCD-DD60-44D9-BE23-43D9287B16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9638-25CA-4330-BEE8-A630FAC58B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BB7A-3F5B-4AA8-9279-B2CF8659B4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996F-442A-4625-B42B-7EB89FFF78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AD02-6DA2-4136-A2DD-815A017E89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1EE8-D25D-405A-95B6-C0C1FD5111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DB42-F1EE-4E33-B1DA-36B04E3414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5312-E2E1-4C9A-A4C9-8FB5DC5112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2B5B-CBA4-4B30-BB80-26B91178C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2328-E50C-4463-AB83-D2CEFDF293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9ECA-5A7A-4390-AA7E-AA86E84690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B684-4045-464D-A2B0-1CBC604016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CD3E-56FA-46ED-9833-3F253E08CC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0C4A-57E5-44BA-BB04-FEBC8F416E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F991-3A70-453C-8B3F-7636BA2F8E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1993-521C-4C60-A604-C997CF1441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41A-21D4-4618-ABFB-493FE695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FCB-2783-4761-A2A9-56C3A314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C1A-42D2-44CC-B1BA-6ABE6EEF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287-9418-416B-9EFE-7124AF7E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F91-C8E2-4D68-A24C-76AEF09F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4D9-F30A-44CC-A260-2138AC13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446-237B-4B95-8A56-CAD2759B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90B-57A6-4D1C-89E9-E6115A33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137-0930-44CA-A114-A040D8F4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70C-E237-4AED-A3EA-5283E220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474-D8D6-428E-AD53-3B1E290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386-7524-4EDC-9FA1-6208166F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akoa.taobao.com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iloveppt.org/forum.php?mod=forumdisplay&amp;fid=51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1CA3-0402-44E0-95E0-4E33F85410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395280" y="110952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1089000" y="1374840"/>
            <a:ext cx="9349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创整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4103640" y="1374840"/>
            <a:ext cx="9367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86868"/>
                </a:solidFill>
                <a:latin typeface="微软雅黑"/>
                <a:ea typeface="微软雅黑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7120080" y="1374840"/>
            <a:ext cx="934920" cy="936720"/>
          </a:xfrm>
          <a:prstGeom prst="ellipse">
            <a:avLst/>
          </a:prstGeom>
          <a:solidFill>
            <a:srgbClr val="e60000"/>
          </a:solidFill>
          <a:ln w="1260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395280" y="297180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84120" y="2523960"/>
            <a:ext cx="254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史上最新最全的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素材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3714840" y="252396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享受二年期的免费更新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6445080" y="25239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1000G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高精度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SD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创意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395280" y="4096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梵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帝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精品资源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395280" y="6078600"/>
            <a:ext cx="4680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更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素材集  请访问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http://wakoa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395280" y="580248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搜集整理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-  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旺旺：梵帝尼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QQ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56632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7"/>
          <p:cNvSpPr/>
          <p:nvPr/>
        </p:nvSpPr>
        <p:spPr>
          <a:xfrm>
            <a:off x="1655640" y="3840120"/>
            <a:ext cx="5832720" cy="72072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圆角矩形 18"/>
          <p:cNvGrpSpPr/>
          <p:nvPr/>
        </p:nvGrpSpPr>
        <p:grpSpPr>
          <a:xfrm>
            <a:off x="1773360" y="3986280"/>
            <a:ext cx="4383000" cy="549360"/>
            <a:chOff x="1773360" y="3986280"/>
            <a:chExt cx="4383000" cy="549360"/>
          </a:xfrm>
        </p:grpSpPr>
        <p:pic>
          <p:nvPicPr>
            <p:cNvPr id="54" name="圆角矩形 18" descr=""/>
            <p:cNvPicPr/>
            <p:nvPr/>
          </p:nvPicPr>
          <p:blipFill>
            <a:blip r:embed="rId3"/>
            <a:stretch/>
          </p:blipFill>
          <p:spPr>
            <a:xfrm>
              <a:off x="1773360" y="3986280"/>
              <a:ext cx="4383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98560" y="4013280"/>
              <a:ext cx="4330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6868"/>
                  </a:solidFill>
                  <a:latin typeface="微软雅黑"/>
                  <a:ea typeface="微软雅黑"/>
                </a:rPr>
                <a:t>http://wakoa.taobao.c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圆角矩形 19">
            <a:hlinkClick r:id="rId4"/>
          </p:cNvPr>
          <p:cNvSpPr/>
          <p:nvPr/>
        </p:nvSpPr>
        <p:spPr>
          <a:xfrm>
            <a:off x="6316560" y="3938760"/>
            <a:ext cx="1008000" cy="52380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f6bb00"/>
              </a:gs>
              <a:gs pos="100000">
                <a:srgbClr val="ffd243"/>
              </a:gs>
            </a:gsLst>
            <a:lin ang="16200000"/>
          </a:gradFill>
          <a:ln w="9360">
            <a:solidFill>
              <a:srgbClr val="ffd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86868"/>
                </a:solidFill>
                <a:latin typeface="微软雅黑"/>
                <a:ea typeface="微软雅黑"/>
              </a:rPr>
              <a:t>搜 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1655640" y="4586400"/>
            <a:ext cx="583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支持：梵帝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1"/>
          <p:cNvSpPr/>
          <p:nvPr/>
        </p:nvSpPr>
        <p:spPr>
          <a:xfrm>
            <a:off x="4071960" y="1357200"/>
            <a:ext cx="1000080" cy="100008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467735-lg"/>
          <p:cNvPicPr/>
          <p:nvPr/>
        </p:nvPicPr>
        <p:blipFill>
          <a:blip r:embed="rId1"/>
          <a:stretch/>
        </p:blipFill>
        <p:spPr>
          <a:xfrm>
            <a:off x="0" y="-1981080"/>
            <a:ext cx="9144000" cy="936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7279505-l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7358430-l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7557524-md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448920" cy="707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ooten0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art-017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6824447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5618023-lg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975600-lg"/>
          <p:cNvPicPr/>
          <p:nvPr/>
        </p:nvPicPr>
        <p:blipFill>
          <a:blip r:embed="rId1"/>
          <a:stretch/>
        </p:blipFill>
        <p:spPr>
          <a:xfrm>
            <a:off x="221148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6057225-lg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Pooten05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3944000-l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6643156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4647590-lg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45:37Z</dcterms:created>
  <dc:creator>Elldin Zeneli</dc:creator>
  <dc:description/>
  <dc:language>en-US</dc:language>
  <cp:lastModifiedBy>zjp888</cp:lastModifiedBy>
  <dcterms:modified xsi:type="dcterms:W3CDTF">2012-04-10T13:31:11Z</dcterms:modified>
  <cp:revision>5</cp:revision>
  <dc:subject/>
  <dc:title>Slide 1</dc:title>
</cp:coreProperties>
</file>