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5C18-AB17-4511-BADB-C292AE2CD0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5838-7DFB-4F42-B266-C8A0E7CA79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7B3B-FC2B-47F0-BAC9-8655C63179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9411-D7F3-4361-979E-EBD3F83AB1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474B-ECC1-4654-BBC3-925466A4AC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8C7-0231-4358-86CD-2CD272D65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5100-35EE-404A-AE9A-8209C656A3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5BA0-1522-4623-86B5-C7E84D224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E0D7-CBA0-4E0D-B15F-24A6DB2F59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5701-92D5-43C0-80A2-ECAC7A04D6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5A1D-D3D2-41A7-A56B-5F5CE792DA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48EA-248E-43C0-BDA3-E4AFC200AD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7CC-25A3-4924-BB33-D82F5B64AE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BC0E-43E3-4E52-926B-6DC6C6C34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C66-9C56-469B-8563-1F26DC01EA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5EBF-E5E3-4E51-A627-17B1D6C9A8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D5F3-A286-4C83-92F4-A931B582F5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F57-E170-4746-8849-68CB18B5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D83-58DD-4129-AA5D-52B7DEF0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BE9-6DFB-47A5-B528-BACD61AA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3C9-09FF-4E8A-8563-B33947F3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01C-5743-4CC8-9D61-4B6B5099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AF4-8D26-455F-BCEA-01715EE8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A49-3A32-43F4-A342-8BE8CF54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AD1-FCDC-4B62-B763-5D0B06C1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7A4-55D5-413C-81EC-8654E2BB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C53-E6C0-408E-BF76-8682103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B26-A0C8-4D88-B4A8-1262008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C2E-9B11-409C-9F0A-6A3E7118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akoa.taobao.com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iloveppt.org/forum.php?mod=forumdisplay&amp;fid=51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71FC-2A9F-4558-BD1F-CF0D1F3E9E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95280" y="110952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1089000" y="1374840"/>
            <a:ext cx="9349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创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103640" y="1374840"/>
            <a:ext cx="9367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120080" y="1374840"/>
            <a:ext cx="934920" cy="936720"/>
          </a:xfrm>
          <a:prstGeom prst="ellipse">
            <a:avLst/>
          </a:prstGeom>
          <a:solidFill>
            <a:srgbClr val="e60000"/>
          </a:solidFill>
          <a:ln w="1260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395280" y="297180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84120" y="2523960"/>
            <a:ext cx="25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史上最新最全的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素材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3714840" y="25239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享受二年期的免费更新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445080" y="25239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1000G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高精度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SD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创意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395280" y="4096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梵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帝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精品资源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395280" y="6078600"/>
            <a:ext cx="468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更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素材集  请访问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http://wakoa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395280" y="580248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搜集整理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-  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旺旺：梵帝尼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QQ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56632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7"/>
          <p:cNvSpPr/>
          <p:nvPr/>
        </p:nvSpPr>
        <p:spPr>
          <a:xfrm>
            <a:off x="1655640" y="3840120"/>
            <a:ext cx="5832720" cy="72072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圆角矩形 18"/>
          <p:cNvGrpSpPr/>
          <p:nvPr/>
        </p:nvGrpSpPr>
        <p:grpSpPr>
          <a:xfrm>
            <a:off x="1773360" y="3986280"/>
            <a:ext cx="4383000" cy="549360"/>
            <a:chOff x="1773360" y="3986280"/>
            <a:chExt cx="4383000" cy="549360"/>
          </a:xfrm>
        </p:grpSpPr>
        <p:pic>
          <p:nvPicPr>
            <p:cNvPr id="54" name="圆角矩形 18" descr=""/>
            <p:cNvPicPr/>
            <p:nvPr/>
          </p:nvPicPr>
          <p:blipFill>
            <a:blip r:embed="rId3"/>
            <a:stretch/>
          </p:blipFill>
          <p:spPr>
            <a:xfrm>
              <a:off x="1773360" y="3986280"/>
              <a:ext cx="4383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8560" y="4013280"/>
              <a:ext cx="433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6868"/>
                  </a:solidFill>
                  <a:latin typeface="微软雅黑"/>
                  <a:ea typeface="微软雅黑"/>
                </a:rPr>
                <a:t>http://wakoa.taobao.c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19">
            <a:hlinkClick r:id="rId4"/>
          </p:cNvPr>
          <p:cNvSpPr/>
          <p:nvPr/>
        </p:nvSpPr>
        <p:spPr>
          <a:xfrm>
            <a:off x="6316560" y="3938760"/>
            <a:ext cx="1008000" cy="52380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f6bb00"/>
              </a:gs>
              <a:gs pos="100000">
                <a:srgbClr val="ffd243"/>
              </a:gs>
            </a:gsLst>
            <a:lin ang="16200000"/>
          </a:gradFill>
          <a:ln w="9360">
            <a:solidFill>
              <a:srgbClr val="ffd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86868"/>
                </a:solidFill>
                <a:latin typeface="微软雅黑"/>
                <a:ea typeface="微软雅黑"/>
              </a:rPr>
              <a:t>搜 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1655640" y="4586400"/>
            <a:ext cx="583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支持：梵帝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1"/>
          <p:cNvSpPr/>
          <p:nvPr/>
        </p:nvSpPr>
        <p:spPr>
          <a:xfrm>
            <a:off x="4071960" y="1357200"/>
            <a:ext cx="1000080" cy="10000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467735-lg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936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7279505-l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7358430-l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7557524-md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448920" cy="707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oten0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art-01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6824447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618023-lg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975600-lg"/>
          <p:cNvPicPr/>
          <p:nvPr/>
        </p:nvPicPr>
        <p:blipFill>
          <a:blip r:embed="rId1"/>
          <a:stretch/>
        </p:blipFill>
        <p:spPr>
          <a:xfrm>
            <a:off x="221148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6057225-l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Pooten05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3944000-l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6643156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4647590-lg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45:37Z</dcterms:created>
  <dc:creator>Elldin Zeneli</dc:creator>
  <dc:description/>
  <dc:language>en-US</dc:language>
  <cp:lastModifiedBy>zjp888</cp:lastModifiedBy>
  <dcterms:modified xsi:type="dcterms:W3CDTF">2012-04-10T13:31:11Z</dcterms:modified>
  <cp:revision>5</cp:revision>
  <dc:subject/>
  <dc:title>Slide 1</dc:title>
</cp:coreProperties>
</file>