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7FA-9E43-4A0F-BF8D-DDBBDB83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EF7-C541-4801-BD09-3ACEFE6D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08A-2942-4F50-A023-AA97A6C1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6AC-AED1-423D-873B-E8910F1A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0F0A-0E64-432C-B750-F1FECC0F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443F-2B10-4CAF-963E-5C6D291E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2708-FF95-4042-BFF1-CB40CF37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75D0-EDEE-428A-B140-A472E8BD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3E3B-E21C-4EB2-9DD9-E4EDB314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BA3E-2523-4313-BA62-50B4767C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2B89-94A2-4986-960A-997335F7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C6FE-57AF-47DD-904E-AD412E72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67D0-96DB-48B4-A699-F59422CE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24F4-EFC9-4118-9E1D-47BA46C0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334F-CB8F-40CF-9B5B-DAF373C7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CE3C-7E7E-4AE6-AAED-25D28A62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7F06-4E16-42CC-9A26-6EC08A49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7D0-7E72-4751-91E4-B5C5AE7C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F92-2587-43A8-8D96-B9B7DE62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E25-E699-4F70-AEB1-74C23EF7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E44-9BF8-4536-AAA2-3235EA15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5E98-A581-4CD5-B1A4-0FF21236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A26-BB97-4AFE-BCF1-D80F4D47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70C-0E89-46C9-9F0E-1860445B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ee9de">
                  <a:alpha val="70196"/>
                </a:srgbClr>
              </a:gs>
              <a:gs pos="100000">
                <a:srgbClr val="fdfd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683C-AF20-43F0-8D4A-A6C4CC61FC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e9de"/>
              </a:gs>
              <a:gs pos="100000">
                <a:srgbClr val="fdf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D764-66E0-43EE-9979-4C9D3489A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18576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28600" y="454968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251280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6000" y="454968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487548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16520" y="454968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202440" y="26337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477800" y="26337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3803760" y="260820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608120" y="291312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8668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3372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216320" y="4021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1847880" y="40212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6564240" y="40212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001960" y="140976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3440" y="4871880"/>
            <a:ext cx="2143080" cy="103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53280" y="48704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69120" y="177156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2400" y="1747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8280" y="2003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 rot="5400000">
            <a:off x="3361320" y="203220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a8d02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79840" y="51577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9670200">
            <a:off x="2999160" y="48373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ffc319"/>
          </a:solidFill>
          <a:ln w="9360">
            <a:solidFill>
              <a:srgbClr val="80808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0760" y="517032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48400" y="20368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5971680" y="509940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29920" y="207648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ff7575"/>
          </a:solidFill>
          <a:ln w="9360">
            <a:solidFill>
              <a:srgbClr val="ff7575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38440" y="2039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40400" y="5210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98840" y="52038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49760" y="20811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0800" y="1793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00760" y="4906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3560" y="49449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34240" y="17938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111480" y="2271600"/>
            <a:ext cx="3051360" cy="3044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111480" y="2276640"/>
            <a:ext cx="3041640" cy="302076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ee9de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11480" y="2271600"/>
            <a:ext cx="3035880" cy="30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ff7575">
              <a:alpha val="70000"/>
            </a:srgbClr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3118320" y="2272320"/>
            <a:ext cx="304092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 rot="5400000">
            <a:off x="3112200" y="2265480"/>
            <a:ext cx="3050640" cy="30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a8d02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074400" y="3822480"/>
            <a:ext cx="1738440" cy="1637640"/>
            <a:chOff x="3074400" y="3822480"/>
            <a:chExt cx="1738440" cy="1637640"/>
          </a:xfrm>
        </p:grpSpPr>
        <p:sp>
          <p:nvSpPr>
            <p:cNvPr id="477" name=""/>
            <p:cNvSpPr/>
            <p:nvPr/>
          </p:nvSpPr>
          <p:spPr>
            <a:xfrm flipV="1" rot="19510800">
              <a:off x="3480840" y="378252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694800">
              <a:off x="3635640" y="3984120"/>
              <a:ext cx="340920" cy="15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399600">
              <a:off x="3746880" y="407916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 rot="17867400">
              <a:off x="3885480" y="418644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 rot="9670200">
            <a:off x="3115800" y="2269800"/>
            <a:ext cx="304056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gradFill rotWithShape="0">
            <a:gsLst>
              <a:gs pos="0">
                <a:srgbClr val="ffc319">
                  <a:alpha val="70196"/>
                </a:srgbClr>
              </a:gs>
              <a:gs pos="100000">
                <a:srgbClr val="75590b"/>
              </a:gs>
            </a:gsLst>
            <a:lin ang="173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84640"/>
            <a:ext cx="1035000" cy="1035000"/>
          </a:xfrm>
          <a:prstGeom prst="ellipse">
            <a:avLst/>
          </a:prstGeom>
          <a:solidFill>
            <a:srgbClr val="fee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4960" y="35607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40240" y="374004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64160" y="2684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64160" y="4646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418280" y="2278440"/>
            <a:ext cx="1680120" cy="1389240"/>
            <a:chOff x="4418280" y="2278440"/>
            <a:chExt cx="1680120" cy="1389240"/>
          </a:xfrm>
        </p:grpSpPr>
        <p:grpSp>
          <p:nvGrpSpPr>
            <p:cNvPr id="488" name=""/>
            <p:cNvGrpSpPr/>
            <p:nvPr/>
          </p:nvGrpSpPr>
          <p:grpSpPr>
            <a:xfrm>
              <a:off x="4785840" y="2278440"/>
              <a:ext cx="1312560" cy="1389240"/>
              <a:chOff x="4785840" y="2278440"/>
              <a:chExt cx="1312560" cy="1389240"/>
            </a:xfrm>
          </p:grpSpPr>
          <p:sp>
            <p:nvSpPr>
              <p:cNvPr id="489" name=""/>
              <p:cNvSpPr/>
              <p:nvPr/>
            </p:nvSpPr>
            <p:spPr>
              <a:xfrm flipV="1" rot="8983800">
                <a:off x="5535720" y="245772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 rot="8167800">
                <a:off x="5425560" y="2285640"/>
                <a:ext cx="27288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 rot="7872600">
                <a:off x="5342400" y="2202840"/>
                <a:ext cx="27288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7340400">
                <a:off x="5239800" y="2108160"/>
                <a:ext cx="27252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418280" y="2285280"/>
              <a:ext cx="1606320" cy="966960"/>
              <a:chOff x="4418280" y="2285280"/>
              <a:chExt cx="1606320" cy="966960"/>
            </a:xfrm>
          </p:grpSpPr>
          <p:sp>
            <p:nvSpPr>
              <p:cNvPr id="494" name=""/>
              <p:cNvSpPr/>
              <p:nvPr/>
            </p:nvSpPr>
            <p:spPr>
              <a:xfrm flipV="1" rot="7630800">
                <a:off x="5316120" y="216000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 rot="6814800">
                <a:off x="5148360" y="20430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6519600">
                <a:off x="5039280" y="19998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 rot="5987400">
                <a:off x="4908240" y="1952280"/>
                <a:ext cx="274320" cy="122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332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16200000">
            <a:off x="1733400" y="531108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936360" y="513000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2688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01600" y="2200320"/>
            <a:ext cx="6857640" cy="1493280"/>
            <a:chOff x="1101600" y="2200320"/>
            <a:chExt cx="6857640" cy="1493280"/>
          </a:xfrm>
        </p:grpSpPr>
        <p:sp>
          <p:nvSpPr>
            <p:cNvPr id="504" name=""/>
            <p:cNvSpPr/>
            <p:nvPr/>
          </p:nvSpPr>
          <p:spPr>
            <a:xfrm>
              <a:off x="1117440" y="2200320"/>
              <a:ext cx="682848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1600" y="225144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495440" y="2290680"/>
            <a:ext cx="1238400" cy="1265040"/>
            <a:chOff x="1495440" y="2290680"/>
            <a:chExt cx="1238400" cy="1265040"/>
          </a:xfrm>
        </p:grpSpPr>
        <p:sp>
          <p:nvSpPr>
            <p:cNvPr id="507" name=""/>
            <p:cNvSpPr/>
            <p:nvPr/>
          </p:nvSpPr>
          <p:spPr>
            <a:xfrm>
              <a:off x="1495440" y="2333160"/>
              <a:ext cx="1238400" cy="1222560"/>
            </a:xfrm>
            <a:prstGeom prst="ellipse">
              <a:avLst/>
            </a:prstGeom>
            <a:solidFill>
              <a:srgbClr val="5cb1fe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1"/>
            <a:stretch/>
          </p:blipFill>
          <p:spPr>
            <a:xfrm>
              <a:off x="1600560" y="22906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1764000" y="277956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95560" y="269388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921120" y="2266920"/>
            <a:ext cx="1238400" cy="1265040"/>
            <a:chOff x="3921120" y="2266920"/>
            <a:chExt cx="1238400" cy="1265040"/>
          </a:xfrm>
        </p:grpSpPr>
        <p:sp>
          <p:nvSpPr>
            <p:cNvPr id="512" name=""/>
            <p:cNvSpPr/>
            <p:nvPr/>
          </p:nvSpPr>
          <p:spPr>
            <a:xfrm>
              <a:off x="3921120" y="2309400"/>
              <a:ext cx="1238400" cy="1222560"/>
            </a:xfrm>
            <a:prstGeom prst="ellipse">
              <a:avLst/>
            </a:prstGeom>
            <a:solidFill>
              <a:srgbClr val="ff7575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4026240" y="22669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"/>
          <p:cNvSpPr/>
          <p:nvPr/>
        </p:nvSpPr>
        <p:spPr>
          <a:xfrm>
            <a:off x="41878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92720" y="270972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372360" y="2266920"/>
            <a:ext cx="1236600" cy="1265040"/>
            <a:chOff x="6372360" y="2266920"/>
            <a:chExt cx="1236600" cy="1265040"/>
          </a:xfrm>
        </p:grpSpPr>
        <p:sp>
          <p:nvSpPr>
            <p:cNvPr id="517" name=""/>
            <p:cNvSpPr/>
            <p:nvPr/>
          </p:nvSpPr>
          <p:spPr>
            <a:xfrm>
              <a:off x="6372360" y="2309400"/>
              <a:ext cx="1236600" cy="1222560"/>
            </a:xfrm>
            <a:prstGeom prst="ellipse">
              <a:avLst/>
            </a:prstGeom>
            <a:solidFill>
              <a:srgbClr val="ffc319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6477120" y="226692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66376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3368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 rot="16200000">
            <a:off x="4255560" y="513000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 rot="16200000">
            <a:off x="3376800" y="4881600"/>
            <a:ext cx="142740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45120" y="555156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 rot="16200000">
            <a:off x="6641640" y="491472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16200000">
            <a:off x="5753520" y="4637160"/>
            <a:ext cx="189540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4164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7540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03440" y="45482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43160" y="50054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4361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38840" y="486900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59520" y="390672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7800" y="44355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97000" y="148428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7412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28720" y="37260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75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944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175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4844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576600" y="372420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376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607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618948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76960" y="3743280"/>
            <a:ext cx="2000160" cy="4636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90160" y="3784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6580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378240" y="1771560"/>
            <a:ext cx="2382840" cy="538200"/>
            <a:chOff x="3378240" y="1771560"/>
            <a:chExt cx="2382840" cy="538200"/>
          </a:xfrm>
        </p:grpSpPr>
        <p:sp>
          <p:nvSpPr>
            <p:cNvPr id="549" name=""/>
            <p:cNvSpPr/>
            <p:nvPr/>
          </p:nvSpPr>
          <p:spPr>
            <a:xfrm>
              <a:off x="3378240" y="177156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06680" y="180180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ee9b0"/>
                </a:gs>
                <a:gs pos="100000">
                  <a:srgbClr val="ffc31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4876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05600" y="1771560"/>
            <a:ext cx="2384280" cy="538200"/>
            <a:chOff x="6105600" y="1771560"/>
            <a:chExt cx="2384280" cy="538200"/>
          </a:xfrm>
        </p:grpSpPr>
        <p:sp>
          <p:nvSpPr>
            <p:cNvPr id="553" name=""/>
            <p:cNvSpPr/>
            <p:nvPr/>
          </p:nvSpPr>
          <p:spPr>
            <a:xfrm>
              <a:off x="61056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58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0eeb6"/>
                </a:gs>
                <a:gs pos="100000">
                  <a:srgbClr val="a8d02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7828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5800" y="1771560"/>
            <a:ext cx="2384280" cy="538200"/>
            <a:chOff x="685800" y="1771560"/>
            <a:chExt cx="2384280" cy="538200"/>
          </a:xfrm>
        </p:grpSpPr>
        <p:sp>
          <p:nvSpPr>
            <p:cNvPr id="557" name=""/>
            <p:cNvSpPr/>
            <p:nvPr/>
          </p:nvSpPr>
          <p:spPr>
            <a:xfrm>
              <a:off x="6858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2a2a"/>
                </a:gs>
                <a:gs pos="50000">
                  <a:srgbClr val="ff7575"/>
                </a:gs>
                <a:gs pos="100000">
                  <a:srgbClr val="5b2a2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60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75">
                    <a:alpha val="90196"/>
                  </a:srgbClr>
                </a:gs>
                <a:gs pos="50000">
                  <a:srgbClr val="fecfcf"/>
                </a:gs>
                <a:gs pos="100000">
                  <a:srgbClr val="ff7575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5884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871560" y="23241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7575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384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2816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87480" y="304164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979880" y="308772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02280" y="3036960"/>
            <a:ext cx="625320" cy="2103480"/>
          </a:xfrm>
          <a:custGeom>
            <a:avLst/>
            <a:gdLst/>
            <a:ahLst/>
            <a:rect l="l" t="t" r="r" b="b"/>
            <a:pathLst>
              <a:path w="398" h="1542">
                <a:moveTo>
                  <a:pt x="229" y="318"/>
                </a:moveTo>
                <a:cubicBezTo>
                  <a:pt x="169" y="114"/>
                  <a:pt x="110" y="0"/>
                  <a:pt x="80" y="240"/>
                </a:cubicBezTo>
                <a:cubicBezTo>
                  <a:pt x="50" y="480"/>
                  <a:pt x="0" y="1379"/>
                  <a:pt x="10" y="1542"/>
                </a:cubicBezTo>
                <a:lnTo>
                  <a:pt x="362" y="1525"/>
                </a:lnTo>
                <a:cubicBezTo>
                  <a:pt x="398" y="1321"/>
                  <a:pt x="289" y="522"/>
                  <a:pt x="229" y="31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90720" y="443880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65240" y="451800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122480" y="457524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122480" y="457524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182e42">
                  <a:alpha val="90196"/>
                </a:srgbClr>
              </a:gs>
              <a:gs pos="50000">
                <a:srgbClr val="5cb1fe">
                  <a:alpha val="45098"/>
                </a:srgbClr>
              </a:gs>
              <a:gs pos="100000">
                <a:srgbClr val="182e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8328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21504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21504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b360a">
                  <a:alpha val="90196"/>
                </a:srgbClr>
              </a:gs>
              <a:gs pos="50000">
                <a:srgbClr val="a8d02a">
                  <a:alpha val="45098"/>
                </a:srgbClr>
              </a:gs>
              <a:gs pos="100000">
                <a:srgbClr val="2b360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320520" y="5586480"/>
            <a:ext cx="1310040" cy="522000"/>
            <a:chOff x="6320520" y="5586480"/>
            <a:chExt cx="1310040" cy="522000"/>
          </a:xfrm>
        </p:grpSpPr>
        <p:grpSp>
          <p:nvGrpSpPr>
            <p:cNvPr id="576" name=""/>
            <p:cNvGrpSpPr/>
            <p:nvPr/>
          </p:nvGrpSpPr>
          <p:grpSpPr>
            <a:xfrm>
              <a:off x="6549120" y="5586480"/>
              <a:ext cx="1081440" cy="491040"/>
              <a:chOff x="6549120" y="5586480"/>
              <a:chExt cx="1081440" cy="491040"/>
            </a:xfrm>
          </p:grpSpPr>
          <p:sp>
            <p:nvSpPr>
              <p:cNvPr id="577" name=""/>
              <p:cNvSpPr/>
              <p:nvPr/>
            </p:nvSpPr>
            <p:spPr>
              <a:xfrm flipH="1" flipV="1" rot="3964800">
                <a:off x="713844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 rot="4780200">
                <a:off x="701712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 rot="5076000">
                <a:off x="694188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 rot="5608200">
                <a:off x="685224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320520" y="5592600"/>
              <a:ext cx="1079640" cy="515880"/>
              <a:chOff x="6320520" y="5592600"/>
              <a:chExt cx="1079640" cy="515880"/>
            </a:xfrm>
          </p:grpSpPr>
          <p:sp>
            <p:nvSpPr>
              <p:cNvPr id="582" name=""/>
              <p:cNvSpPr/>
              <p:nvPr/>
            </p:nvSpPr>
            <p:spPr>
              <a:xfrm flipH="1" flipV="1" rot="5317800">
                <a:off x="690912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 rot="6133800">
                <a:off x="677916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 rot="6429000">
                <a:off x="670644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 rot="6961200">
                <a:off x="661968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361152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374328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74328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423306">
                  <a:alpha val="90196"/>
                </a:srgbClr>
              </a:gs>
              <a:gs pos="50000">
                <a:srgbClr val="ffc319">
                  <a:alpha val="45098"/>
                </a:srgbClr>
              </a:gs>
              <a:gs pos="100000">
                <a:srgbClr val="42330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848760" y="5586480"/>
            <a:ext cx="1310040" cy="522000"/>
            <a:chOff x="3848760" y="5586480"/>
            <a:chExt cx="1310040" cy="522000"/>
          </a:xfrm>
        </p:grpSpPr>
        <p:grpSp>
          <p:nvGrpSpPr>
            <p:cNvPr id="591" name=""/>
            <p:cNvGrpSpPr/>
            <p:nvPr/>
          </p:nvGrpSpPr>
          <p:grpSpPr>
            <a:xfrm>
              <a:off x="4077360" y="5586480"/>
              <a:ext cx="1081440" cy="491040"/>
              <a:chOff x="4077360" y="5586480"/>
              <a:chExt cx="1081440" cy="491040"/>
            </a:xfrm>
          </p:grpSpPr>
          <p:sp>
            <p:nvSpPr>
              <p:cNvPr id="592" name=""/>
              <p:cNvSpPr/>
              <p:nvPr/>
            </p:nvSpPr>
            <p:spPr>
              <a:xfrm flipH="1" flipV="1" rot="3964800">
                <a:off x="466668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 rot="4780200">
                <a:off x="454536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 rot="5076000">
                <a:off x="447012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 rot="5608200">
                <a:off x="438048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848760" y="5592600"/>
              <a:ext cx="1079640" cy="515880"/>
              <a:chOff x="3848760" y="5592600"/>
              <a:chExt cx="1079640" cy="515880"/>
            </a:xfrm>
          </p:grpSpPr>
          <p:sp>
            <p:nvSpPr>
              <p:cNvPr id="597" name=""/>
              <p:cNvSpPr/>
              <p:nvPr/>
            </p:nvSpPr>
            <p:spPr>
              <a:xfrm flipH="1" flipV="1" rot="5317800">
                <a:off x="443736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 rot="6133800">
                <a:off x="430740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 rot="6429000">
                <a:off x="423468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 rot="6961200">
                <a:off x="414792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38631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153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3960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33680" y="24480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216800" y="5586480"/>
            <a:ext cx="1310040" cy="522000"/>
            <a:chOff x="1216800" y="5586480"/>
            <a:chExt cx="1310040" cy="522000"/>
          </a:xfrm>
        </p:grpSpPr>
        <p:grpSp>
          <p:nvGrpSpPr>
            <p:cNvPr id="606" name=""/>
            <p:cNvGrpSpPr/>
            <p:nvPr/>
          </p:nvGrpSpPr>
          <p:grpSpPr>
            <a:xfrm>
              <a:off x="1445400" y="5586480"/>
              <a:ext cx="1081440" cy="491040"/>
              <a:chOff x="1445400" y="5586480"/>
              <a:chExt cx="1081440" cy="491040"/>
            </a:xfrm>
          </p:grpSpPr>
          <p:sp>
            <p:nvSpPr>
              <p:cNvPr id="607" name=""/>
              <p:cNvSpPr/>
              <p:nvPr/>
            </p:nvSpPr>
            <p:spPr>
              <a:xfrm flipH="1" flipV="1" rot="3964800">
                <a:off x="203472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4780200">
                <a:off x="191340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5076000">
                <a:off x="183816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 rot="5608200">
                <a:off x="174852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1216800" y="5592600"/>
              <a:ext cx="1079640" cy="515880"/>
              <a:chOff x="1216800" y="5592600"/>
              <a:chExt cx="1079640" cy="515880"/>
            </a:xfrm>
          </p:grpSpPr>
          <p:sp>
            <p:nvSpPr>
              <p:cNvPr id="612" name=""/>
              <p:cNvSpPr/>
              <p:nvPr/>
            </p:nvSpPr>
            <p:spPr>
              <a:xfrm flipH="1" flipV="1" rot="5317800">
                <a:off x="180540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 rot="6133800">
                <a:off x="167544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 rot="6429000">
                <a:off x="160272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 rot="6961200">
                <a:off x="151596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2286000" y="1495440"/>
            <a:ext cx="4266720" cy="617400"/>
            <a:chOff x="2286000" y="1495440"/>
            <a:chExt cx="4266720" cy="617400"/>
          </a:xfrm>
        </p:grpSpPr>
        <p:grpSp>
          <p:nvGrpSpPr>
            <p:cNvPr id="617" name=""/>
            <p:cNvGrpSpPr/>
            <p:nvPr/>
          </p:nvGrpSpPr>
          <p:grpSpPr>
            <a:xfrm>
              <a:off x="2286000" y="1495440"/>
              <a:ext cx="4266720" cy="617400"/>
              <a:chOff x="2286000" y="1495440"/>
              <a:chExt cx="4266720" cy="617400"/>
            </a:xfrm>
          </p:grpSpPr>
          <p:sp>
            <p:nvSpPr>
              <p:cNvPr id="618" name=""/>
              <p:cNvSpPr/>
              <p:nvPr/>
            </p:nvSpPr>
            <p:spPr>
              <a:xfrm>
                <a:off x="2286000" y="1495440"/>
                <a:ext cx="4266720" cy="61740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48640" y="154800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49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0000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2638440" y="169056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819080" y="861840"/>
            <a:ext cx="4983480" cy="3741840"/>
            <a:chOff x="1819080" y="861840"/>
            <a:chExt cx="4983480" cy="3741840"/>
          </a:xfrm>
        </p:grpSpPr>
        <p:sp>
          <p:nvSpPr>
            <p:cNvPr id="623" name=""/>
            <p:cNvSpPr/>
            <p:nvPr/>
          </p:nvSpPr>
          <p:spPr>
            <a:xfrm>
              <a:off x="285084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01600">
              <a:off x="235980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01600">
              <a:off x="239832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01600">
              <a:off x="2341440" y="1869840"/>
              <a:ext cx="3857400" cy="19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fea6a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20602200">
              <a:off x="2377800" y="1863360"/>
              <a:ext cx="3819600" cy="196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5cb1fe"/>
                </a:gs>
                <a:gs pos="100000">
                  <a:srgbClr val="3f7bb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01600">
              <a:off x="2344320" y="1874160"/>
              <a:ext cx="3845520" cy="189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88c12"/>
                </a:gs>
                <a:gs pos="100000">
                  <a:srgbClr val="ffc31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rot="20602200">
              <a:off x="2352600" y="1868400"/>
              <a:ext cx="3859560" cy="195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3535"/>
                </a:gs>
                <a:gs pos="100000">
                  <a:srgbClr val="ff757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0228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539200">
              <a:off x="2096280" y="1474560"/>
              <a:ext cx="4428720" cy="251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4d5f1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3304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601600">
              <a:off x="338724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5860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4920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580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97916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8372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7796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601600">
              <a:off x="345600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961240" y="150660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/>
          <p:nvPr/>
        </p:nvCxnSpPr>
        <p:spPr>
          <a:xfrm flipV="1" rot="10800000">
            <a:off x="576828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143000" y="2214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"/>
          <p:cNvCxnSpPr/>
          <p:nvPr/>
        </p:nvCxnSpPr>
        <p:spPr>
          <a:xfrm>
            <a:off x="2569680" y="233208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2570040" y="14479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/>
          <p:nvPr/>
        </p:nvCxnSpPr>
        <p:spPr>
          <a:xfrm>
            <a:off x="399888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6497640" y="34513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"/>
          <p:cNvCxnSpPr/>
          <p:nvPr/>
        </p:nvCxnSpPr>
        <p:spPr>
          <a:xfrm rot="10800000">
            <a:off x="596052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144792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"/>
          <p:cNvCxnSpPr>
            <a:stCxn id="649" idx="3"/>
          </p:cNvCxnSpPr>
          <p:nvPr/>
        </p:nvCxnSpPr>
        <p:spPr>
          <a:xfrm flipV="1">
            <a:off x="3276720" y="3938400"/>
            <a:ext cx="34344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51" name=""/>
          <p:cNvGrpSpPr/>
          <p:nvPr/>
        </p:nvGrpSpPr>
        <p:grpSpPr>
          <a:xfrm>
            <a:off x="1371600" y="4487400"/>
            <a:ext cx="6359400" cy="1708560"/>
            <a:chOff x="1371600" y="4487400"/>
            <a:chExt cx="6359400" cy="1708560"/>
          </a:xfrm>
        </p:grpSpPr>
        <p:grpSp>
          <p:nvGrpSpPr>
            <p:cNvPr id="652" name=""/>
            <p:cNvGrpSpPr/>
            <p:nvPr/>
          </p:nvGrpSpPr>
          <p:grpSpPr>
            <a:xfrm>
              <a:off x="1371600" y="4724280"/>
              <a:ext cx="6359400" cy="1471680"/>
              <a:chOff x="1371600" y="4724280"/>
              <a:chExt cx="6359400" cy="1471680"/>
            </a:xfrm>
          </p:grpSpPr>
          <p:sp>
            <p:nvSpPr>
              <p:cNvPr id="653" name=""/>
              <p:cNvSpPr/>
              <p:nvPr/>
            </p:nvSpPr>
            <p:spPr>
              <a:xfrm>
                <a:off x="13716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716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0532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36360" y="477360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970080" y="478296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7160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0532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960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1960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84720" y="477972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19600" y="525132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37160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502080" y="4487400"/>
              <a:ext cx="187200" cy="2062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5419440" y="4492440"/>
              <a:ext cx="190440" cy="2224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6200000">
            <a:off x="3292560" y="1553040"/>
            <a:ext cx="1907640" cy="50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3462120" y="1427400"/>
            <a:ext cx="1712520" cy="48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b9ddfd"/>
              </a:gs>
              <a:gs pos="100000">
                <a:srgbClr val="5cb1f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3378600" y="1540800"/>
            <a:ext cx="1755720" cy="47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2" y="20932"/>
                </a:moveTo>
                <a:arcTo wR="10800" hR="10800" stAng="6615024" swAng="18750034"/>
                <a:lnTo>
                  <a:pt x="10800" y="10800"/>
                </a:lnTo>
                <a:close/>
              </a:path>
              <a:path fill="none" w="21600" h="21600">
                <a:moveTo>
                  <a:pt x="7062" y="20932"/>
                </a:moveTo>
                <a:arcTo wR="10800" hR="10800" stAng="6615024" swAng="18750034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630760" y="3776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218040" y="3900600"/>
            <a:ext cx="125856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52680" y="2855880"/>
            <a:ext cx="5844240" cy="2289960"/>
            <a:chOff x="1552680" y="2855880"/>
            <a:chExt cx="5844240" cy="2289960"/>
          </a:xfrm>
        </p:grpSpPr>
        <p:sp>
          <p:nvSpPr>
            <p:cNvPr id="675" name=""/>
            <p:cNvSpPr/>
            <p:nvPr/>
          </p:nvSpPr>
          <p:spPr>
            <a:xfrm rot="16200000">
              <a:off x="3329640" y="1078560"/>
              <a:ext cx="2289960" cy="58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82630c"/>
                </a:gs>
                <a:gs pos="100000">
                  <a:srgbClr val="ffc3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54840" y="3227400"/>
              <a:ext cx="27756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 rot="16200000">
            <a:off x="3342240" y="873720"/>
            <a:ext cx="2291760" cy="58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6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0760" y="3187800"/>
            <a:ext cx="116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19560" y="41860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814720" y="51530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067280" y="509256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191000" y="40035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86440" y="3645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99840" y="510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14240" y="4749840"/>
            <a:ext cx="1514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87280" y="3720960"/>
            <a:ext cx="1694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371840" y="2197080"/>
            <a:ext cx="701640" cy="1295280"/>
            <a:chOff x="4371840" y="2197080"/>
            <a:chExt cx="701640" cy="1295280"/>
          </a:xfrm>
        </p:grpSpPr>
        <p:sp>
          <p:nvSpPr>
            <p:cNvPr id="688" name=""/>
            <p:cNvSpPr/>
            <p:nvPr/>
          </p:nvSpPr>
          <p:spPr>
            <a:xfrm>
              <a:off x="4371840" y="245016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579200" y="219708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33960" y="2197080"/>
            <a:ext cx="660240" cy="1314000"/>
            <a:chOff x="5133960" y="2197080"/>
            <a:chExt cx="660240" cy="1314000"/>
          </a:xfrm>
        </p:grpSpPr>
        <p:sp>
          <p:nvSpPr>
            <p:cNvPr id="691" name=""/>
            <p:cNvSpPr/>
            <p:nvPr/>
          </p:nvSpPr>
          <p:spPr>
            <a:xfrm>
              <a:off x="5133960" y="2426760"/>
              <a:ext cx="66024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29800" y="219708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82560" y="14922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65320" y="189216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80960" y="383544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16200000">
            <a:off x="2795760" y="2359080"/>
            <a:ext cx="1315440" cy="351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16200000">
            <a:off x="2904840" y="2287440"/>
            <a:ext cx="1196640" cy="33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9eaa4"/>
              </a:gs>
              <a:gs pos="100000">
                <a:srgbClr val="a8d02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2852640" y="2375280"/>
            <a:ext cx="1194840" cy="33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08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2844720" y="2364840"/>
            <a:ext cx="1226160" cy="333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41880" y="41148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75320" y="384984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38560" y="4230720"/>
            <a:ext cx="0" cy="16020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80000" y="4454640"/>
            <a:ext cx="0" cy="11268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734920" y="4014720"/>
            <a:ext cx="8794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2813400" y="2043360"/>
            <a:ext cx="1599120" cy="408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f5a81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43480" y="354492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6200000">
            <a:off x="2822400" y="1901880"/>
            <a:ext cx="1599840" cy="40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dde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64040" y="334656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"/>
          <p:cNvCxnSpPr>
            <a:endCxn id="709" idx="3"/>
          </p:cNvCxnSpPr>
          <p:nvPr/>
        </p:nvCxnSpPr>
        <p:spPr>
          <a:xfrm flipV="1" rot="10800000">
            <a:off x="3975840" y="277776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endCxn id="702" idx="3"/>
          </p:cNvCxnSpPr>
          <p:nvPr/>
        </p:nvCxnSpPr>
        <p:spPr>
          <a:xfrm rot="10800000">
            <a:off x="5139720" y="400140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3433680" y="42148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070680" y="2593800"/>
            <a:ext cx="1758960" cy="419400"/>
            <a:chOff x="6070680" y="2593800"/>
            <a:chExt cx="1758960" cy="419400"/>
          </a:xfrm>
        </p:grpSpPr>
        <p:sp>
          <p:nvSpPr>
            <p:cNvPr id="714" name=""/>
            <p:cNvSpPr/>
            <p:nvPr/>
          </p:nvSpPr>
          <p:spPr>
            <a:xfrm>
              <a:off x="6174360" y="283536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70680" y="259380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a5d3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070680" y="3941640"/>
            <a:ext cx="1758960" cy="419400"/>
            <a:chOff x="6070680" y="3941640"/>
            <a:chExt cx="1758960" cy="419400"/>
          </a:xfrm>
        </p:grpSpPr>
        <p:sp>
          <p:nvSpPr>
            <p:cNvPr id="717" name=""/>
            <p:cNvSpPr/>
            <p:nvPr/>
          </p:nvSpPr>
          <p:spPr>
            <a:xfrm>
              <a:off x="6174360" y="418320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70680" y="394164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3e7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357800" y="4827600"/>
            <a:ext cx="1758960" cy="418680"/>
            <a:chOff x="4357800" y="4827600"/>
            <a:chExt cx="1758960" cy="418680"/>
          </a:xfrm>
        </p:grpSpPr>
        <p:sp>
          <p:nvSpPr>
            <p:cNvPr id="720" name=""/>
            <p:cNvSpPr/>
            <p:nvPr/>
          </p:nvSpPr>
          <p:spPr>
            <a:xfrm>
              <a:off x="4461480" y="5068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57800" y="4827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fee29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452600" y="5037120"/>
            <a:ext cx="1758960" cy="418680"/>
            <a:chOff x="1452600" y="5037120"/>
            <a:chExt cx="1758960" cy="418680"/>
          </a:xfrm>
        </p:grpSpPr>
        <p:sp>
          <p:nvSpPr>
            <p:cNvPr id="723" name=""/>
            <p:cNvSpPr/>
            <p:nvPr/>
          </p:nvSpPr>
          <p:spPr>
            <a:xfrm>
              <a:off x="1556280" y="5278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52600" y="5037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7575"/>
                </a:gs>
                <a:gs pos="100000">
                  <a:srgbClr val="fe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5" name=""/>
          <p:cNvCxnSpPr>
            <a:stCxn id="721" idx="0"/>
            <a:endCxn id="701" idx="3"/>
          </p:cNvCxnSpPr>
          <p:nvPr/>
        </p:nvCxnSpPr>
        <p:spPr>
          <a:xfrm flipV="1" rot="16200000">
            <a:off x="4818240" y="4408200"/>
            <a:ext cx="561240" cy="27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724" idx="3"/>
            <a:endCxn id="712" idx="2"/>
          </p:cNvCxnSpPr>
          <p:nvPr/>
        </p:nvCxnSpPr>
        <p:spPr>
          <a:xfrm flipV="1">
            <a:off x="3211560" y="4519080"/>
            <a:ext cx="511920" cy="70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6334560" y="433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75600" y="299088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26360" y="525132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367360" y="2725560"/>
            <a:ext cx="863280" cy="1123200"/>
            <a:chOff x="2367360" y="2725560"/>
            <a:chExt cx="863280" cy="1123200"/>
          </a:xfrm>
        </p:grpSpPr>
        <p:grpSp>
          <p:nvGrpSpPr>
            <p:cNvPr id="731" name=""/>
            <p:cNvGrpSpPr/>
            <p:nvPr/>
          </p:nvGrpSpPr>
          <p:grpSpPr>
            <a:xfrm>
              <a:off x="2367360" y="2727720"/>
              <a:ext cx="858240" cy="1121040"/>
              <a:chOff x="2367360" y="2727720"/>
              <a:chExt cx="858240" cy="1121040"/>
            </a:xfrm>
          </p:grpSpPr>
          <p:sp>
            <p:nvSpPr>
              <p:cNvPr id="732" name=""/>
              <p:cNvSpPr/>
              <p:nvPr/>
            </p:nvSpPr>
            <p:spPr>
              <a:xfrm>
                <a:off x="2367360" y="316728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99200" y="2727720"/>
                <a:ext cx="41688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2372760" y="316332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40880" y="320688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04240" y="272556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46360" y="273348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586600" y="2730960"/>
              <a:ext cx="299160" cy="310680"/>
              <a:chOff x="2586600" y="2730960"/>
              <a:chExt cx="299160" cy="310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2594520" y="2730960"/>
                <a:ext cx="291240" cy="237240"/>
                <a:chOff x="2594520" y="2730960"/>
                <a:chExt cx="291240" cy="237240"/>
              </a:xfrm>
            </p:grpSpPr>
            <p:sp>
              <p:nvSpPr>
                <p:cNvPr id="740" name=""/>
                <p:cNvSpPr/>
                <p:nvPr/>
              </p:nvSpPr>
              <p:spPr>
                <a:xfrm flipH="1" rot="15040200">
                  <a:off x="2726640" y="27025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 rot="14224200">
                  <a:off x="2692800" y="27154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 rot="13928400">
                  <a:off x="2676600" y="273096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 rot="13396200">
                  <a:off x="2658240" y="27496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586600" y="2749320"/>
                <a:ext cx="235800" cy="292320"/>
                <a:chOff x="2586600" y="2749320"/>
                <a:chExt cx="235800" cy="292320"/>
              </a:xfrm>
            </p:grpSpPr>
            <p:sp>
              <p:nvSpPr>
                <p:cNvPr id="745" name=""/>
                <p:cNvSpPr/>
                <p:nvPr/>
              </p:nvSpPr>
              <p:spPr>
                <a:xfrm flipH="1" rot="13687200">
                  <a:off x="2670120" y="27442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 rot="12871200">
                  <a:off x="2644560" y="27691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 rot="12576000">
                  <a:off x="2635200" y="27896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rot="12043800">
                  <a:off x="2625840" y="281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2430720" y="3195360"/>
              <a:ext cx="372240" cy="449280"/>
              <a:chOff x="2430720" y="3195360"/>
              <a:chExt cx="372240" cy="44928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2430720" y="3195360"/>
                <a:ext cx="372240" cy="352080"/>
                <a:chOff x="2430720" y="3195360"/>
                <a:chExt cx="372240" cy="352080"/>
              </a:xfrm>
            </p:grpSpPr>
            <p:sp>
              <p:nvSpPr>
                <p:cNvPr id="751" name=""/>
                <p:cNvSpPr/>
                <p:nvPr/>
              </p:nvSpPr>
              <p:spPr>
                <a:xfrm flipH="1" rot="14424600">
                  <a:off x="2600640" y="31514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rot="13608600">
                  <a:off x="2556360" y="317952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rot="13313400">
                  <a:off x="2534760" y="32022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rot="12781200">
                  <a:off x="2511360" y="32306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2432880" y="3220200"/>
                <a:ext cx="266400" cy="424440"/>
                <a:chOff x="2432880" y="3220200"/>
                <a:chExt cx="266400" cy="42444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rot="13071600">
                  <a:off x="2525400" y="3212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rot="12256200">
                  <a:off x="2494800" y="325584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rot="11960400">
                  <a:off x="2484000" y="32850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rot="11428200">
                  <a:off x="2472480" y="331920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"/>
          <p:cNvSpPr/>
          <p:nvPr/>
        </p:nvSpPr>
        <p:spPr>
          <a:xfrm>
            <a:off x="1971000" y="3849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904400" y="2725560"/>
            <a:ext cx="864000" cy="1123200"/>
            <a:chOff x="1904400" y="2725560"/>
            <a:chExt cx="864000" cy="1123200"/>
          </a:xfrm>
        </p:grpSpPr>
        <p:grpSp>
          <p:nvGrpSpPr>
            <p:cNvPr id="762" name=""/>
            <p:cNvGrpSpPr/>
            <p:nvPr/>
          </p:nvGrpSpPr>
          <p:grpSpPr>
            <a:xfrm>
              <a:off x="1904400" y="2727720"/>
              <a:ext cx="859680" cy="1121040"/>
              <a:chOff x="1904400" y="2727720"/>
              <a:chExt cx="859680" cy="1121040"/>
            </a:xfrm>
          </p:grpSpPr>
          <p:sp>
            <p:nvSpPr>
              <p:cNvPr id="763" name=""/>
              <p:cNvSpPr/>
              <p:nvPr/>
            </p:nvSpPr>
            <p:spPr>
              <a:xfrm>
                <a:off x="1904400" y="316728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36600" y="2727720"/>
                <a:ext cx="41760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909440" y="316332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77920" y="320688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41280" y="272556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83760" y="273348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123640" y="2730960"/>
              <a:ext cx="300240" cy="311400"/>
              <a:chOff x="2123640" y="2730960"/>
              <a:chExt cx="300240" cy="31140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131560" y="2730960"/>
                <a:ext cx="292320" cy="237600"/>
                <a:chOff x="2131560" y="2730960"/>
                <a:chExt cx="292320" cy="237600"/>
              </a:xfrm>
            </p:grpSpPr>
            <p:sp>
              <p:nvSpPr>
                <p:cNvPr id="771" name=""/>
                <p:cNvSpPr/>
                <p:nvPr/>
              </p:nvSpPr>
              <p:spPr>
                <a:xfrm flipH="1" rot="15040200">
                  <a:off x="2264040" y="270180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rot="14224200">
                  <a:off x="2229480" y="27154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13928400">
                  <a:off x="2214000" y="27302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rot="13396200">
                  <a:off x="2194920" y="27496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123640" y="2749680"/>
                <a:ext cx="235800" cy="292680"/>
                <a:chOff x="2123640" y="2749680"/>
                <a:chExt cx="235800" cy="29268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rot="13687200">
                  <a:off x="2207520" y="274428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12871200">
                  <a:off x="218160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12576000">
                  <a:off x="2172240" y="278964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12043800">
                  <a:off x="2161800" y="2814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967400" y="3195360"/>
              <a:ext cx="372600" cy="450360"/>
              <a:chOff x="1967400" y="3195360"/>
              <a:chExt cx="372600" cy="45036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1967400" y="3195360"/>
                <a:ext cx="372600" cy="352800"/>
                <a:chOff x="1967400" y="3195360"/>
                <a:chExt cx="372600" cy="352800"/>
              </a:xfrm>
            </p:grpSpPr>
            <p:sp>
              <p:nvSpPr>
                <p:cNvPr id="782" name=""/>
                <p:cNvSpPr/>
                <p:nvPr/>
              </p:nvSpPr>
              <p:spPr>
                <a:xfrm flipH="1" rot="14424600">
                  <a:off x="2138040" y="31510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13608600">
                  <a:off x="2093400" y="317952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13313400">
                  <a:off x="2071080" y="32022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12781200">
                  <a:off x="2047680" y="323028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969200" y="3220200"/>
                <a:ext cx="266400" cy="425520"/>
                <a:chOff x="1969200" y="3220200"/>
                <a:chExt cx="266400" cy="425520"/>
              </a:xfrm>
            </p:grpSpPr>
            <p:sp>
              <p:nvSpPr>
                <p:cNvPr id="787" name=""/>
                <p:cNvSpPr/>
                <p:nvPr/>
              </p:nvSpPr>
              <p:spPr>
                <a:xfrm flipH="1" rot="13071600">
                  <a:off x="2061720" y="3212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12256200">
                  <a:off x="2031480" y="325548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11960400">
                  <a:off x="2020320" y="3285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11428200">
                  <a:off x="2009160" y="33202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1" name=""/>
          <p:cNvSpPr/>
          <p:nvPr/>
        </p:nvSpPr>
        <p:spPr>
          <a:xfrm>
            <a:off x="1744920" y="5456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135400" y="2570040"/>
            <a:ext cx="2713320" cy="7272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3f7bb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158920" y="24829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cc7fd"/>
              </a:gs>
              <a:gs pos="100000">
                <a:srgbClr val="5cb1fe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508040" y="2452680"/>
            <a:ext cx="1130400" cy="1123920"/>
            <a:chOff x="1508040" y="2452680"/>
            <a:chExt cx="1130400" cy="1123920"/>
          </a:xfrm>
        </p:grpSpPr>
        <p:grpSp>
          <p:nvGrpSpPr>
            <p:cNvPr id="795" name=""/>
            <p:cNvGrpSpPr/>
            <p:nvPr/>
          </p:nvGrpSpPr>
          <p:grpSpPr>
            <a:xfrm>
              <a:off x="1508040" y="2452680"/>
              <a:ext cx="1130400" cy="1123920"/>
              <a:chOff x="1508040" y="2452680"/>
              <a:chExt cx="1130400" cy="1123920"/>
            </a:xfrm>
          </p:grpSpPr>
          <p:sp>
            <p:nvSpPr>
              <p:cNvPr id="796" name=""/>
              <p:cNvSpPr/>
              <p:nvPr/>
            </p:nvSpPr>
            <p:spPr>
              <a:xfrm>
                <a:off x="1508040" y="24526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37920" y="24750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82200" y="25196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12080" y="25423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624680" y="25567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1641600" y="25761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2a5175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1593360" y="28242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30600" y="26510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98920" y="26416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35400" y="388620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74901d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58920" y="38005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1dd69"/>
              </a:gs>
              <a:gs pos="100000">
                <a:srgbClr val="a8d02a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508040" y="3770280"/>
            <a:ext cx="1130400" cy="1123920"/>
            <a:chOff x="1508040" y="3770280"/>
            <a:chExt cx="1130400" cy="1123920"/>
          </a:xfrm>
        </p:grpSpPr>
        <p:grpSp>
          <p:nvGrpSpPr>
            <p:cNvPr id="808" name=""/>
            <p:cNvGrpSpPr/>
            <p:nvPr/>
          </p:nvGrpSpPr>
          <p:grpSpPr>
            <a:xfrm>
              <a:off x="1508040" y="3770280"/>
              <a:ext cx="1130400" cy="1123920"/>
              <a:chOff x="1508040" y="3770280"/>
              <a:chExt cx="1130400" cy="1123920"/>
            </a:xfrm>
          </p:grpSpPr>
          <p:sp>
            <p:nvSpPr>
              <p:cNvPr id="809" name=""/>
              <p:cNvSpPr/>
              <p:nvPr/>
            </p:nvSpPr>
            <p:spPr>
              <a:xfrm>
                <a:off x="1508040" y="37702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537920" y="37926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582200" y="38372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612080" y="38599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24680" y="38743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1641600" y="38937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4d5f13"/>
                </a:gs>
                <a:gs pos="100000">
                  <a:srgbClr val="a8d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593360" y="4140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30600" y="39686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8920" y="39592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135400" y="5240160"/>
            <a:ext cx="2713320" cy="7290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9000"/>
              <a:gd name="textAreaBottom" fmla="*/ 729360 h 7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b18711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51544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d45d"/>
              </a:gs>
              <a:gs pos="100000">
                <a:srgbClr val="ffc31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508040" y="5124600"/>
            <a:ext cx="1130400" cy="1123920"/>
            <a:chOff x="1508040" y="5124600"/>
            <a:chExt cx="1130400" cy="1123920"/>
          </a:xfrm>
        </p:grpSpPr>
        <p:grpSp>
          <p:nvGrpSpPr>
            <p:cNvPr id="821" name=""/>
            <p:cNvGrpSpPr/>
            <p:nvPr/>
          </p:nvGrpSpPr>
          <p:grpSpPr>
            <a:xfrm>
              <a:off x="1508040" y="5124600"/>
              <a:ext cx="1130400" cy="1123920"/>
              <a:chOff x="1508040" y="5124600"/>
              <a:chExt cx="1130400" cy="1123920"/>
            </a:xfrm>
          </p:grpSpPr>
          <p:sp>
            <p:nvSpPr>
              <p:cNvPr id="822" name=""/>
              <p:cNvSpPr/>
              <p:nvPr/>
            </p:nvSpPr>
            <p:spPr>
              <a:xfrm>
                <a:off x="1508040" y="51246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37920" y="514692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82200" y="519156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612080" y="521424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24680" y="522864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1641600" y="524808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75590b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593360" y="54943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730600" y="532296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98920" y="531180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2560" y="15048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a51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d5f1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5590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100000">
                <a:srgbClr val="75353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14600" y="1806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75"/>
                </a:solidFill>
                <a:latin typeface="Arial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8d02a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V="1">
            <a:off x="1042920" y="5370480"/>
            <a:ext cx="3306960" cy="487440"/>
          </a:xfrm>
          <a:prstGeom prst="ellipse">
            <a:avLst/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11600" y="5343480"/>
            <a:ext cx="3305160" cy="486000"/>
          </a:xfrm>
          <a:prstGeom prst="ellipse">
            <a:avLst/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2320" y="325080"/>
            <a:ext cx="77644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7680" y="2422440"/>
            <a:ext cx="3106800" cy="3076560"/>
            <a:chOff x="1147680" y="2422440"/>
            <a:chExt cx="3106800" cy="3076560"/>
          </a:xfrm>
        </p:grpSpPr>
        <p:sp>
          <p:nvSpPr>
            <p:cNvPr id="145" name=""/>
            <p:cNvSpPr/>
            <p:nvPr/>
          </p:nvSpPr>
          <p:spPr>
            <a:xfrm>
              <a:off x="37576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92200" y="24224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2620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31543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7680" y="36878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7680" y="42210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7680" y="47545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273320" y="1303200"/>
            <a:ext cx="655308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68840" y="2417760"/>
            <a:ext cx="3191040" cy="3081240"/>
            <a:chOff x="4668840" y="2417760"/>
            <a:chExt cx="3191040" cy="3081240"/>
          </a:xfrm>
        </p:grpSpPr>
        <p:sp>
          <p:nvSpPr>
            <p:cNvPr id="154" name=""/>
            <p:cNvSpPr/>
            <p:nvPr/>
          </p:nvSpPr>
          <p:spPr>
            <a:xfrm>
              <a:off x="7399440" y="24177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68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8840" y="2625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8840" y="31590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68840" y="36925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42260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47592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009880" y="54291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75320" y="53895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960" y="1917720"/>
            <a:ext cx="737856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76840" y="24400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27440" y="227952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692800">
            <a:off x="845640" y="211284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c319"/>
              </a:gs>
              <a:gs pos="100000">
                <a:srgbClr val="fed155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892800">
            <a:off x="871920" y="21117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8907200">
            <a:off x="84312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5cb1fe"/>
              </a:gs>
              <a:gs pos="100000">
                <a:srgbClr val="86c4f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692800">
            <a:off x="87156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7575"/>
              </a:gs>
              <a:gs pos="100000">
                <a:srgbClr val="fe9898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18991800">
            <a:off x="917280" y="27000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2855400">
            <a:off x="2084040" y="27576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18739200">
            <a:off x="2107440" y="383616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28720" y="3767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8120" y="309708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8640" y="35560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8680" y="4086360"/>
            <a:ext cx="247680" cy="247680"/>
          </a:xfrm>
          <a:prstGeom prst="donut">
            <a:avLst>
              <a:gd name="adj" fmla="val 25000"/>
            </a:avLst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8680" y="4419720"/>
            <a:ext cx="247680" cy="247680"/>
          </a:xfrm>
          <a:prstGeom prst="donut">
            <a:avLst>
              <a:gd name="adj" fmla="val 25000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8680" y="4724280"/>
            <a:ext cx="247680" cy="247680"/>
          </a:xfrm>
          <a:prstGeom prst="donut">
            <a:avLst>
              <a:gd name="adj" fmla="val 25000"/>
            </a:avLst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8680" y="5029200"/>
            <a:ext cx="247680" cy="247680"/>
          </a:xfrm>
          <a:prstGeom prst="donut">
            <a:avLst>
              <a:gd name="adj" fmla="val 25000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2480" y="40449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62480" y="4381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62480" y="4695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62480" y="50007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69560" y="297036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562200" y="213048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21040" y="291456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6320" y="287640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4400" y="4675320"/>
            <a:ext cx="6138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914560" y="1547640"/>
            <a:ext cx="1171080" cy="1175400"/>
            <a:chOff x="2914560" y="1547640"/>
            <a:chExt cx="1171080" cy="1175400"/>
          </a:xfrm>
        </p:grpSpPr>
        <p:sp>
          <p:nvSpPr>
            <p:cNvPr id="209" name="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4" name="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3476880" y="2021400"/>
                  <a:ext cx="591120" cy="694080"/>
                  <a:chOff x="3476880" y="2021400"/>
                  <a:chExt cx="591120" cy="694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flipV="1" rot="2344200">
                    <a:off x="3760920" y="2107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flipV="1" rot="2640000">
                    <a:off x="3723840" y="2149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flipV="1" rot="3172200">
                    <a:off x="3678480" y="219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flipV="1" rot="3697200">
                    <a:off x="363708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5" name=""/>
            <p:cNvGrpSpPr/>
            <p:nvPr/>
          </p:nvGrpSpPr>
          <p:grpSpPr>
            <a:xfrm>
              <a:off x="3407760" y="2052720"/>
              <a:ext cx="677880" cy="618120"/>
              <a:chOff x="3407760" y="2052720"/>
              <a:chExt cx="677880" cy="6181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3564360" y="2052720"/>
                <a:ext cx="521280" cy="611280"/>
                <a:chOff x="3564360" y="2052720"/>
                <a:chExt cx="521280" cy="611280"/>
              </a:xfrm>
            </p:grpSpPr>
            <p:sp>
              <p:nvSpPr>
                <p:cNvPr id="227" name=""/>
                <p:cNvSpPr/>
                <p:nvPr/>
              </p:nvSpPr>
              <p:spPr>
                <a:xfrm flipH="1" flipV="1" rot="1528800">
                  <a:off x="3854160" y="20545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 rot="2344200">
                  <a:off x="3815280" y="212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2640000">
                  <a:off x="3782160" y="2165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 rot="3172200">
                  <a:off x="3741480" y="2207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407760" y="2220840"/>
                <a:ext cx="655200" cy="450000"/>
                <a:chOff x="3407760" y="2220840"/>
                <a:chExt cx="655200" cy="450000"/>
              </a:xfrm>
            </p:grpSpPr>
            <p:sp>
              <p:nvSpPr>
                <p:cNvPr id="232" name=""/>
                <p:cNvSpPr/>
                <p:nvPr/>
              </p:nvSpPr>
              <p:spPr>
                <a:xfrm flipH="1" flipV="1" rot="2881800">
                  <a:off x="3769200" y="2182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 rot="3697200">
                  <a:off x="3704400" y="223668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 rot="3993000">
                  <a:off x="3660120" y="225828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 rot="4525200">
                  <a:off x="3606480" y="2281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31993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830240" y="2830680"/>
            <a:ext cx="1171080" cy="1175400"/>
            <a:chOff x="1830240" y="2830680"/>
            <a:chExt cx="1171080" cy="1175400"/>
          </a:xfrm>
        </p:grpSpPr>
        <p:sp>
          <p:nvSpPr>
            <p:cNvPr id="238" name="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2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ff757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3" name="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2392560" y="3304440"/>
                  <a:ext cx="591120" cy="694080"/>
                  <a:chOff x="2392560" y="3304440"/>
                  <a:chExt cx="591120" cy="6940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flipV="1" rot="2344200">
                    <a:off x="2676600" y="3390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 rot="2640000">
                    <a:off x="2639520" y="3432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flipV="1" rot="3172200">
                    <a:off x="2594160" y="3479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 rot="3697200">
                    <a:off x="255276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4" name=""/>
            <p:cNvGrpSpPr/>
            <p:nvPr/>
          </p:nvGrpSpPr>
          <p:grpSpPr>
            <a:xfrm>
              <a:off x="2323440" y="3335760"/>
              <a:ext cx="677880" cy="618120"/>
              <a:chOff x="2323440" y="3335760"/>
              <a:chExt cx="677880" cy="6181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2480040" y="3335760"/>
                <a:ext cx="521280" cy="611280"/>
                <a:chOff x="2480040" y="3335760"/>
                <a:chExt cx="521280" cy="611280"/>
              </a:xfrm>
            </p:grpSpPr>
            <p:sp>
              <p:nvSpPr>
                <p:cNvPr id="256" name=""/>
                <p:cNvSpPr/>
                <p:nvPr/>
              </p:nvSpPr>
              <p:spPr>
                <a:xfrm flipH="1" flipV="1" rot="1528800">
                  <a:off x="2769840" y="333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2344200">
                  <a:off x="2730960" y="3411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2640000">
                  <a:off x="2697840" y="3448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 rot="3172200">
                  <a:off x="2657160" y="349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323440" y="3503880"/>
                <a:ext cx="655200" cy="450000"/>
                <a:chOff x="2323440" y="3503880"/>
                <a:chExt cx="655200" cy="45000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flipV="1" rot="2881800">
                  <a:off x="2684880" y="3465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3697200">
                  <a:off x="2620080" y="351972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3993000">
                  <a:off x="2575800" y="35413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 rot="4525200">
                  <a:off x="2522160" y="3564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21150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943360" y="5178600"/>
            <a:ext cx="1170360" cy="1175400"/>
            <a:chOff x="2943360" y="5178600"/>
            <a:chExt cx="1170360" cy="1175400"/>
          </a:xfrm>
        </p:grpSpPr>
        <p:sp>
          <p:nvSpPr>
            <p:cNvPr id="267" name="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2" name="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3505320" y="5652360"/>
                  <a:ext cx="591120" cy="694080"/>
                  <a:chOff x="3505320" y="5652360"/>
                  <a:chExt cx="591120" cy="6940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flipV="1" rot="2344200">
                    <a:off x="3789360" y="5738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 rot="2640000">
                    <a:off x="3752280" y="5780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flipV="1" rot="3172200">
                    <a:off x="3706920" y="5827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 rot="3697200">
                    <a:off x="366552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3435480" y="5683320"/>
              <a:ext cx="678240" cy="618120"/>
              <a:chOff x="3435480" y="5683320"/>
              <a:chExt cx="678240" cy="6181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3592440" y="5683320"/>
                <a:ext cx="521280" cy="611640"/>
                <a:chOff x="3592440" y="5683320"/>
                <a:chExt cx="521280" cy="611640"/>
              </a:xfrm>
            </p:grpSpPr>
            <p:sp>
              <p:nvSpPr>
                <p:cNvPr id="285" name=""/>
                <p:cNvSpPr/>
                <p:nvPr/>
              </p:nvSpPr>
              <p:spPr>
                <a:xfrm flipH="1" flipV="1" rot="1528800">
                  <a:off x="3881880" y="56851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 rot="2344200">
                  <a:off x="3843360" y="575964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2640000">
                  <a:off x="3810960" y="57960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 rot="3172200">
                  <a:off x="3770280" y="58377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435480" y="5851800"/>
                <a:ext cx="655200" cy="449640"/>
                <a:chOff x="3435480" y="5851800"/>
                <a:chExt cx="655200" cy="449640"/>
              </a:xfrm>
            </p:grpSpPr>
            <p:sp>
              <p:nvSpPr>
                <p:cNvPr id="290" name=""/>
                <p:cNvSpPr/>
                <p:nvPr/>
              </p:nvSpPr>
              <p:spPr>
                <a:xfrm flipH="1" flipV="1" rot="2881800">
                  <a:off x="3797640" y="5813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3697200">
                  <a:off x="3732840" y="58680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3993000">
                  <a:off x="3688920" y="5888160"/>
                  <a:ext cx="12456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 rot="4525200">
                  <a:off x="3634200" y="59119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2277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87960" y="3719520"/>
            <a:ext cx="1171080" cy="1175400"/>
            <a:chOff x="5187960" y="3719520"/>
            <a:chExt cx="1171080" cy="1175400"/>
          </a:xfrm>
        </p:grpSpPr>
        <p:sp>
          <p:nvSpPr>
            <p:cNvPr id="296" name="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2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0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1" name="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750280" y="4193280"/>
                  <a:ext cx="591120" cy="694080"/>
                  <a:chOff x="5750280" y="4193280"/>
                  <a:chExt cx="591120" cy="6940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flipV="1" rot="2344200">
                    <a:off x="6034320" y="4279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 rot="2640000">
                    <a:off x="5997240" y="4321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flipV="1" rot="3172200">
                    <a:off x="5951880" y="4368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flipV="1" rot="3697200">
                    <a:off x="591048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2" name=""/>
            <p:cNvGrpSpPr/>
            <p:nvPr/>
          </p:nvGrpSpPr>
          <p:grpSpPr>
            <a:xfrm>
              <a:off x="5681160" y="4224600"/>
              <a:ext cx="677880" cy="618120"/>
              <a:chOff x="5681160" y="4224600"/>
              <a:chExt cx="677880" cy="6181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837760" y="4224600"/>
                <a:ext cx="521280" cy="611280"/>
                <a:chOff x="5837760" y="4224600"/>
                <a:chExt cx="521280" cy="6112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 flipV="1" rot="1528800">
                  <a:off x="6127560" y="42264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2344200">
                  <a:off x="6088680" y="430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2640000">
                  <a:off x="6055560" y="4337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3172200">
                  <a:off x="6014880" y="43790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681160" y="4392720"/>
                <a:ext cx="655200" cy="450000"/>
                <a:chOff x="5681160" y="4392720"/>
                <a:chExt cx="655200" cy="450000"/>
              </a:xfrm>
            </p:grpSpPr>
            <p:sp>
              <p:nvSpPr>
                <p:cNvPr id="319" name=""/>
                <p:cNvSpPr/>
                <p:nvPr/>
              </p:nvSpPr>
              <p:spPr>
                <a:xfrm flipH="1" flipV="1" rot="2881800">
                  <a:off x="6042600" y="4354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3697200">
                  <a:off x="5977800" y="440856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3993000">
                  <a:off x="5933520" y="44301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 rot="4525200">
                  <a:off x="5879880" y="4453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54727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81480" y="1557360"/>
            <a:ext cx="1171080" cy="1175400"/>
            <a:chOff x="5181480" y="1557360"/>
            <a:chExt cx="1171080" cy="1175400"/>
          </a:xfrm>
        </p:grpSpPr>
        <p:sp>
          <p:nvSpPr>
            <p:cNvPr id="325" name="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3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9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0" name="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5743800" y="2031120"/>
                  <a:ext cx="591120" cy="694080"/>
                  <a:chOff x="5743800" y="2031120"/>
                  <a:chExt cx="591120" cy="6940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flipV="1" rot="2344200">
                    <a:off x="6027840" y="2117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 rot="2640000">
                    <a:off x="5990760" y="2158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flipV="1" rot="3172200">
                    <a:off x="5945400" y="2206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flipV="1" rot="3697200">
                    <a:off x="590400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1" name=""/>
            <p:cNvGrpSpPr/>
            <p:nvPr/>
          </p:nvGrpSpPr>
          <p:grpSpPr>
            <a:xfrm>
              <a:off x="5674680" y="2062440"/>
              <a:ext cx="677880" cy="618120"/>
              <a:chOff x="5674680" y="2062440"/>
              <a:chExt cx="677880" cy="6181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5831280" y="2062440"/>
                <a:ext cx="521280" cy="611280"/>
                <a:chOff x="5831280" y="2062440"/>
                <a:chExt cx="521280" cy="611280"/>
              </a:xfrm>
            </p:grpSpPr>
            <p:sp>
              <p:nvSpPr>
                <p:cNvPr id="343" name=""/>
                <p:cNvSpPr/>
                <p:nvPr/>
              </p:nvSpPr>
              <p:spPr>
                <a:xfrm flipH="1" flipV="1" rot="1528800">
                  <a:off x="6121080" y="20642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 rot="2344200">
                  <a:off x="6082200" y="2138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2640000">
                  <a:off x="6049080" y="21751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 rot="3172200">
                  <a:off x="6008400" y="2216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674680" y="2230560"/>
                <a:ext cx="655200" cy="450000"/>
                <a:chOff x="5674680" y="2230560"/>
                <a:chExt cx="655200" cy="4500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 flipV="1" rot="2881800">
                  <a:off x="6036120" y="2192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3697200">
                  <a:off x="5971320" y="22464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3993000">
                  <a:off x="5927040" y="22680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 rot="4525200">
                  <a:off x="5873400" y="2291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54662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54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4977000">
              <a:off x="4530960" y="3383640"/>
              <a:ext cx="569880" cy="5688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509000" y="3445920"/>
              <a:ext cx="225720" cy="500760"/>
              <a:chOff x="4509000" y="3445920"/>
              <a:chExt cx="225720" cy="50076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4515120" y="3538800"/>
                <a:ext cx="219600" cy="407880"/>
                <a:chOff x="4515120" y="3538800"/>
                <a:chExt cx="219600" cy="407880"/>
              </a:xfrm>
            </p:grpSpPr>
            <p:sp>
              <p:nvSpPr>
                <p:cNvPr id="358" name=""/>
                <p:cNvSpPr/>
                <p:nvPr/>
              </p:nvSpPr>
              <p:spPr>
                <a:xfrm flipH="1" flipV="1" rot="8941800">
                  <a:off x="4587480" y="364680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9757200">
                  <a:off x="4562640" y="36025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0053000">
                  <a:off x="4556160" y="357408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10585200">
                  <a:off x="4548600" y="3540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509000" y="3445920"/>
                <a:ext cx="169560" cy="423000"/>
                <a:chOff x="4509000" y="3445920"/>
                <a:chExt cx="169560" cy="423000"/>
              </a:xfrm>
            </p:grpSpPr>
            <p:sp>
              <p:nvSpPr>
                <p:cNvPr id="363" name=""/>
                <p:cNvSpPr/>
                <p:nvPr/>
              </p:nvSpPr>
              <p:spPr>
                <a:xfrm flipH="1" flipV="1" rot="10294800">
                  <a:off x="4550400" y="3562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11110200">
                  <a:off x="4545360" y="35121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1406000">
                  <a:off x="4550760" y="34833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11938200">
                  <a:off x="4555800" y="34495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 flipH="1" rot="1129200">
              <a:off x="449640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ff757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6520" y="5362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92320" y="1654200"/>
            <a:ext cx="575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4320" y="3344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7960" y="3421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06800" y="380196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69920" y="260028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98760" y="274644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82800" y="3105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85760" y="2454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92240" y="313992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69920" y="456264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c3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0680" y="466740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11600" y="5057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04840" y="435924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111320" y="50688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27040" y="14778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03320" y="222876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54d09"/>
              </a:gs>
              <a:gs pos="50000">
                <a:srgbClr val="ffc319"/>
              </a:gs>
              <a:gs pos="100000">
                <a:srgbClr val="654d0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76480" y="257796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2908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67200" y="322416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35640" y="3881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24600" y="3606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12880" y="1849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52840" y="1863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87840" y="18684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9800" y="1860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34040" y="18590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2960" y="2921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92320" y="341136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5160" y="3978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48000" y="4543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519732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08" idx="3"/>
            <a:endCxn id="418" idx="0"/>
          </p:cNvCxnSpPr>
          <p:nvPr/>
        </p:nvCxnSpPr>
        <p:spPr>
          <a:xfrm rot="5400000">
            <a:off x="1891440" y="2622240"/>
            <a:ext cx="204120" cy="394200"/>
          </a:xfrm>
          <a:prstGeom prst="bentConnector3">
            <a:avLst>
              <a:gd name="adj1" fmla="val 4964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4" name=""/>
          <p:cNvCxnSpPr>
            <a:stCxn id="409" idx="3"/>
            <a:endCxn id="419" idx="0"/>
          </p:cNvCxnSpPr>
          <p:nvPr/>
        </p:nvCxnSpPr>
        <p:spPr>
          <a:xfrm rot="5400000">
            <a:off x="2609280" y="290664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5" name=""/>
          <p:cNvCxnSpPr>
            <a:stCxn id="410" idx="3"/>
            <a:endCxn id="420" idx="0"/>
          </p:cNvCxnSpPr>
          <p:nvPr/>
        </p:nvCxnSpPr>
        <p:spPr>
          <a:xfrm rot="5400000">
            <a:off x="3529800" y="3362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6" name=""/>
          <p:cNvCxnSpPr>
            <a:stCxn id="412" idx="3"/>
            <a:endCxn id="421" idx="0"/>
          </p:cNvCxnSpPr>
          <p:nvPr/>
        </p:nvCxnSpPr>
        <p:spPr>
          <a:xfrm rot="5400000">
            <a:off x="4704480" y="3902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7" name=""/>
          <p:cNvCxnSpPr>
            <a:stCxn id="411" idx="3"/>
            <a:endCxn id="422" idx="0"/>
          </p:cNvCxnSpPr>
          <p:nvPr/>
        </p:nvCxnSpPr>
        <p:spPr>
          <a:xfrm rot="5400000">
            <a:off x="5747760" y="432720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28" name=""/>
          <p:cNvSpPr/>
          <p:nvPr/>
        </p:nvSpPr>
        <p:spPr>
          <a:xfrm>
            <a:off x="6335640" y="227340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24600" y="227160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7200" y="226836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82960" y="227484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76480" y="2276640"/>
            <a:ext cx="227160" cy="35856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/>
  <dc:description/>
  <dc:language>en-US</dc:language>
  <cp:lastModifiedBy>GZB</cp:lastModifiedBy>
  <dcterms:modified xsi:type="dcterms:W3CDTF">2014-09-06T15:05:05Z</dcterms:modified>
  <cp:revision>31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