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8A6-1CE6-4EAE-A101-0E827750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045-8313-4DC9-8851-6576A12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837-EC1D-4423-BD02-84C9D548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251-8396-4BFB-A2CB-1882D7D4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E251-D1F6-4919-9679-8DC27A68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8FF8-47ED-4E9E-9A5E-59AD05EA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D4BA-C7E7-44A0-9328-BD1CA48C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3A26-084A-40C9-924A-D5D0D98C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4758-31AD-4DAD-9F5F-09828EE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BE2F-3D60-45BE-A68D-B07A92B1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7D30-37BB-4F90-979D-9266C347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031-A25C-42A5-813E-F8FEC5A9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31AF-9FF5-410B-A397-145A940A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D95E-4625-46C8-BD8A-2E7BDCFE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D62D-5809-40C7-8F2E-71729814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F26D-D98D-44B4-BB3C-2D97F18B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C02D-7ECE-4E24-93A3-594D4CF5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1BC2-4683-4469-BBDD-30225050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CD23-DE93-45DB-9511-E238408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6850-ADB4-46DC-B8D0-449037C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99A2-ACE8-426E-B7CB-8C3270E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BF50-8EDC-4236-9089-0DD75161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11E-D3FF-4585-966C-A398CE84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4909-BDB0-4CD5-A200-50B9AE3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DADD-F9BE-495D-A905-44CB1C4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8FCE-F1FC-42A6-8310-B23EC6FF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3B69-0F0F-4497-BEE2-07008278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C5CE-1126-4F47-8B35-DC0909F6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0768-DCCE-43BA-BDFD-D10FA31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45CB-4A2B-4536-8FF6-2F4872E3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698F-3017-4DB8-872D-4CD1FD04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EF91-08A2-40C4-9C56-D35D5C24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0C8C-D210-4393-B67F-96CF99A0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AAA-B5A6-4B39-B79A-A13C6FE8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CAE3-EEFC-47C8-A4F4-FB13F136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A19A-40A7-4ADA-81E5-AD4F3BDD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5EF09-62FE-4B52-A90B-95DC8993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B6F2-7465-47B4-9524-CE6C569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5267-967B-41BE-87EF-0D2946C2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17BD-C1DE-4CCA-B4A9-4DFA3448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D808-1C88-4E3D-9AD2-424F21A9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D5898-62F9-4495-8543-807DDC11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C0DF-B415-4A81-9064-D864DE87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76A1-A4A6-4159-8EA3-39C67BE4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07A-C7B0-4D15-8168-5AE6A43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3479-DFE5-4F62-9721-CD48B83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67703-5364-476A-8607-957ABC7D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D8A7-CAE1-44C0-94BC-051C558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ACCD-A88A-44B2-B0DA-E81CBDB1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38F84-CC4B-4D2F-BB67-141D5A75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9471-0EF6-4C81-84B8-3D720363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D0710-5571-4E0B-893F-D4FFEFF0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6063-EDC0-4428-A31F-173A4A8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A2FC-020D-40F1-BF6C-63DE041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6F054-3A93-4F44-A45C-D75C38EA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281-C951-454B-A67F-4E0D6319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0E38B-2703-467C-A429-059898A9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71140-AC84-4D0F-9A86-1AE3A1F5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405A-2EA9-40DD-B6D0-F32C4281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516E-66A4-4355-A372-D2A0403F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BCE9-32C6-40BE-9618-C4C8C2A0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0EF66-7694-4B3A-A809-F01E560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F54E-0E46-49CD-8119-FB2ACAA3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E28D-EAE4-49C3-A76F-B42D457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626F-A4A6-40B8-B294-E1D4213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797BA-1155-4D5D-9F6F-95DE6C0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4CD-1174-4805-BE32-5AD0DDD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0CDB-3E9A-49A5-A8C3-F163E2D5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1AFE2-AD85-4A3F-9387-36C48B01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5ED6-8380-411D-A5A0-6BC480F3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72FB-B2ED-43A9-A23D-8D803E95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6C0B-5273-46E9-A464-99D43023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AB034-CE5C-480B-B93B-0BE52865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584DC-93DE-4A07-8C6D-266B88B9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CE46-D0A6-495E-B75C-89A13C8E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3ACA2-3D57-464D-AD8B-E585611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FEC18-ED1F-4DEE-BF26-FA9404E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555-F2E7-41AC-8276-A923FA79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1E12-4B25-4390-923C-11807161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9736-AB40-43F3-B236-3E0D6878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3954F-BEEC-4CFA-ADEC-6DC2F547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1D7E4-545F-456E-9EBD-606BDB57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B4D9-5342-4F0E-AAF9-7B18E8ED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4008B-937F-46F3-879B-4D89D06A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6B7F1-D2A8-4FBB-899E-6F1DAAE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1E994-65E3-456E-8110-42F657E9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12E93-85B8-4600-94A4-5E442B5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1C31-8F5D-49DC-A6FA-A8BCDCC1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317-D40E-4DF2-96B0-79E6627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1CF98-5CF2-4A78-A338-B05190FA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4EA37-5205-4591-92D6-4979034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9665-CC88-4B46-9D10-72154327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4B3C-512E-45B2-816E-79760E4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06B39-6BDB-491A-9B1B-EC7A68C2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AF8D-5A55-4EDD-8F33-0DB29929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5F081-1D93-4136-892E-8EE30D29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C67-D520-42E1-855C-7C80C8C0CA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2E4D-4AC2-4123-9E60-6DA0827F6F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8C1-C404-44CF-9F50-CC28FBF24E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2A09-AD8F-4C62-A5A4-8F115B333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4CE-5124-453B-8E51-B841684204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DCA2-CE35-477E-917D-9F7955ED9B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7189-720B-4AA0-887E-885954371D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B98-6025-4E00-9804-4D6A9E3D36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9520" y="-86508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6480" y="2585880"/>
            <a:ext cx="9144000" cy="3143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239760" y="13953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64960" y="1860480"/>
            <a:ext cx="81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生活及相关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3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5" descr="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3" name="组合 5" descr=""/>
          <p:cNvPicPr/>
          <p:nvPr/>
        </p:nvPicPr>
        <p:blipFill>
          <a:blip r:embed="rId2"/>
          <a:stretch/>
        </p:blipFill>
        <p:spPr>
          <a:xfrm>
            <a:off x="2209680" y="23493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4" name="组合 5" descr=""/>
          <p:cNvPicPr/>
          <p:nvPr/>
        </p:nvPicPr>
        <p:blipFill>
          <a:blip r:embed="rId3"/>
          <a:stretch/>
        </p:blipFill>
        <p:spPr>
          <a:xfrm>
            <a:off x="2209680" y="310212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组合 5" descr=""/>
          <p:cNvPicPr/>
          <p:nvPr/>
        </p:nvPicPr>
        <p:blipFill>
          <a:blip r:embed="rId4"/>
          <a:stretch/>
        </p:blipFill>
        <p:spPr>
          <a:xfrm>
            <a:off x="2209680" y="3855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C:\Documents and Settings\Administrator\桌面\新建文件夹 (2)\LOGO白副本.png"/>
          <p:cNvPicPr/>
          <p:nvPr/>
        </p:nvPicPr>
        <p:blipFill>
          <a:blip r:embed="rId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组合 5" descr=""/>
          <p:cNvPicPr/>
          <p:nvPr/>
        </p:nvPicPr>
        <p:blipFill>
          <a:blip r:embed="rId1"/>
          <a:stretch/>
        </p:blipFill>
        <p:spPr>
          <a:xfrm>
            <a:off x="2209680" y="2604960"/>
            <a:ext cx="4724640" cy="5605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5"/>
          <p:cNvGrpSpPr/>
          <p:nvPr/>
        </p:nvGrpSpPr>
        <p:grpSpPr>
          <a:xfrm>
            <a:off x="881640" y="2076840"/>
            <a:ext cx="7435800" cy="1224000"/>
            <a:chOff x="881640" y="2076840"/>
            <a:chExt cx="7435800" cy="1224000"/>
          </a:xfrm>
        </p:grpSpPr>
        <p:grpSp>
          <p:nvGrpSpPr>
            <p:cNvPr id="351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2" name="Text Box 11"/>
            <p:cNvSpPr/>
            <p:nvPr/>
          </p:nvSpPr>
          <p:spPr>
            <a:xfrm>
              <a:off x="881640" y="2076840"/>
              <a:ext cx="74358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和图表素材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制设计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能培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68"/>
          <p:cNvGrpSpPr/>
          <p:nvPr/>
        </p:nvGrpSpPr>
        <p:grpSpPr>
          <a:xfrm>
            <a:off x="3901680" y="2680200"/>
            <a:ext cx="1131840" cy="703800"/>
            <a:chOff x="3901680" y="2680200"/>
            <a:chExt cx="1131840" cy="703800"/>
          </a:xfrm>
        </p:grpSpPr>
        <p:grpSp>
          <p:nvGrpSpPr>
            <p:cNvPr id="356" name="组合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7" name="Text Box 18"/>
            <p:cNvSpPr/>
            <p:nvPr/>
          </p:nvSpPr>
          <p:spPr>
            <a:xfrm>
              <a:off x="3901680" y="2680200"/>
              <a:ext cx="113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67"/>
          <p:cNvGrpSpPr/>
          <p:nvPr/>
        </p:nvGrpSpPr>
        <p:grpSpPr>
          <a:xfrm>
            <a:off x="1781280" y="1357200"/>
            <a:ext cx="2777760" cy="1256040"/>
            <a:chOff x="1781280" y="1357200"/>
            <a:chExt cx="2777760" cy="1256040"/>
          </a:xfrm>
        </p:grpSpPr>
        <p:grpSp>
          <p:nvGrpSpPr>
            <p:cNvPr id="359" name="组合 8"/>
            <p:cNvGrpSpPr/>
            <p:nvPr/>
          </p:nvGrpSpPr>
          <p:grpSpPr>
            <a:xfrm>
              <a:off x="1781280" y="1357200"/>
              <a:ext cx="2777760" cy="1256040"/>
              <a:chOff x="1781280" y="1357200"/>
              <a:chExt cx="2777760" cy="1256040"/>
            </a:xfrm>
          </p:grpSpPr>
          <p:grpSp>
            <p:nvGrpSpPr>
              <p:cNvPr id="360" name="组合 76"/>
              <p:cNvGrpSpPr/>
              <p:nvPr/>
            </p:nvGrpSpPr>
            <p:grpSpPr>
              <a:xfrm>
                <a:off x="1781280" y="1357200"/>
                <a:ext cx="2777760" cy="1256040"/>
                <a:chOff x="1781280" y="1357200"/>
                <a:chExt cx="2777760" cy="1256040"/>
              </a:xfrm>
            </p:grpSpPr>
            <p:sp>
              <p:nvSpPr>
                <p:cNvPr id="361" name="AutoShape 73"/>
                <p:cNvSpPr/>
                <p:nvPr/>
              </p:nvSpPr>
              <p:spPr>
                <a:xfrm rot="2700000">
                  <a:off x="3568680" y="1503720"/>
                  <a:ext cx="750240" cy="98892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圆角矩形 14"/>
                <p:cNvSpPr/>
                <p:nvPr/>
              </p:nvSpPr>
              <p:spPr>
                <a:xfrm>
                  <a:off x="1781280" y="1357200"/>
                  <a:ext cx="1836720" cy="6843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组合 2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64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9"/>
          <p:cNvGrpSpPr/>
          <p:nvPr/>
        </p:nvGrpSpPr>
        <p:grpSpPr>
          <a:xfrm>
            <a:off x="4600440" y="1357200"/>
            <a:ext cx="2678400" cy="1338840"/>
            <a:chOff x="4600440" y="1357200"/>
            <a:chExt cx="2678400" cy="1338840"/>
          </a:xfrm>
        </p:grpSpPr>
        <p:grpSp>
          <p:nvGrpSpPr>
            <p:cNvPr id="367" name="组合 62"/>
            <p:cNvGrpSpPr/>
            <p:nvPr/>
          </p:nvGrpSpPr>
          <p:grpSpPr>
            <a:xfrm>
              <a:off x="4600440" y="1357200"/>
              <a:ext cx="2678400" cy="1338840"/>
              <a:chOff x="4600440" y="1357200"/>
              <a:chExt cx="2678400" cy="1338840"/>
            </a:xfrm>
          </p:grpSpPr>
          <p:grpSp>
            <p:nvGrpSpPr>
              <p:cNvPr id="368" name="组合 48"/>
              <p:cNvGrpSpPr/>
              <p:nvPr/>
            </p:nvGrpSpPr>
            <p:grpSpPr>
              <a:xfrm>
                <a:off x="4600440" y="1357200"/>
                <a:ext cx="2678400" cy="1338840"/>
                <a:chOff x="4600440" y="1357200"/>
                <a:chExt cx="2678400" cy="1338840"/>
              </a:xfrm>
            </p:grpSpPr>
            <p:grpSp>
              <p:nvGrpSpPr>
                <p:cNvPr id="369" name="组合 74"/>
                <p:cNvGrpSpPr/>
                <p:nvPr/>
              </p:nvGrpSpPr>
              <p:grpSpPr>
                <a:xfrm>
                  <a:off x="4600440" y="1357200"/>
                  <a:ext cx="2678400" cy="1338840"/>
                  <a:chOff x="4600440" y="1357200"/>
                  <a:chExt cx="2678400" cy="1338840"/>
                </a:xfrm>
              </p:grpSpPr>
              <p:sp>
                <p:nvSpPr>
                  <p:cNvPr id="370" name="AutoShape 67"/>
                  <p:cNvSpPr/>
                  <p:nvPr/>
                </p:nvSpPr>
                <p:spPr>
                  <a:xfrm flipH="1" rot="18900000">
                    <a:off x="4812840" y="1594080"/>
                    <a:ext cx="830880" cy="94644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圆角矩形 54"/>
                  <p:cNvSpPr/>
                  <p:nvPr/>
                </p:nvSpPr>
                <p:spPr>
                  <a:xfrm>
                    <a:off x="5518440" y="1357200"/>
                    <a:ext cx="1760400" cy="75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组合 4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7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7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7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7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7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98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组合 4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82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385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386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387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组合 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0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5"/>
          <p:cNvGrpSpPr/>
          <p:nvPr/>
        </p:nvGrpSpPr>
        <p:grpSpPr>
          <a:xfrm>
            <a:off x="1781280" y="3340800"/>
            <a:ext cx="2684160" cy="1282680"/>
            <a:chOff x="1781280" y="3340800"/>
            <a:chExt cx="2684160" cy="1282680"/>
          </a:xfrm>
        </p:grpSpPr>
        <p:grpSp>
          <p:nvGrpSpPr>
            <p:cNvPr id="393" name="组合 22"/>
            <p:cNvGrpSpPr/>
            <p:nvPr/>
          </p:nvGrpSpPr>
          <p:grpSpPr>
            <a:xfrm>
              <a:off x="1781280" y="3340800"/>
              <a:ext cx="2684160" cy="1282680"/>
              <a:chOff x="1781280" y="3340800"/>
              <a:chExt cx="2684160" cy="1282680"/>
            </a:xfrm>
          </p:grpSpPr>
          <p:grpSp>
            <p:nvGrpSpPr>
              <p:cNvPr id="394" name="组合 78"/>
              <p:cNvGrpSpPr/>
              <p:nvPr/>
            </p:nvGrpSpPr>
            <p:grpSpPr>
              <a:xfrm>
                <a:off x="1781280" y="3340800"/>
                <a:ext cx="2684160" cy="1282680"/>
                <a:chOff x="1781280" y="3340800"/>
                <a:chExt cx="2684160" cy="1282680"/>
              </a:xfrm>
            </p:grpSpPr>
            <p:sp>
              <p:nvSpPr>
                <p:cNvPr id="395" name="AutoShape 75"/>
                <p:cNvSpPr/>
                <p:nvPr/>
              </p:nvSpPr>
              <p:spPr>
                <a:xfrm rot="18900000">
                  <a:off x="3365280" y="3562200"/>
                  <a:ext cx="957600" cy="799920"/>
                </a:xfrm>
                <a:prstGeom prst="rightArrow">
                  <a:avLst>
                    <a:gd name="adj1" fmla="val 70398"/>
                    <a:gd name="adj2" fmla="val 60321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圆角矩形 31"/>
                <p:cNvSpPr/>
                <p:nvPr/>
              </p:nvSpPr>
              <p:spPr>
                <a:xfrm>
                  <a:off x="1781280" y="3893760"/>
                  <a:ext cx="1756080" cy="729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组合 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8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71"/>
          <p:cNvGrpSpPr/>
          <p:nvPr/>
        </p:nvGrpSpPr>
        <p:grpSpPr>
          <a:xfrm>
            <a:off x="4537800" y="3415680"/>
            <a:ext cx="2741040" cy="1203120"/>
            <a:chOff x="4537800" y="3415680"/>
            <a:chExt cx="2741040" cy="1203120"/>
          </a:xfrm>
        </p:grpSpPr>
        <p:grpSp>
          <p:nvGrpSpPr>
            <p:cNvPr id="401" name="组合 64"/>
            <p:cNvGrpSpPr/>
            <p:nvPr/>
          </p:nvGrpSpPr>
          <p:grpSpPr>
            <a:xfrm>
              <a:off x="4537800" y="3415680"/>
              <a:ext cx="2741040" cy="1203120"/>
              <a:chOff x="4537800" y="3415680"/>
              <a:chExt cx="2741040" cy="1203120"/>
            </a:xfrm>
          </p:grpSpPr>
          <p:grpSp>
            <p:nvGrpSpPr>
              <p:cNvPr id="402" name="组合 32"/>
              <p:cNvGrpSpPr/>
              <p:nvPr/>
            </p:nvGrpSpPr>
            <p:grpSpPr>
              <a:xfrm>
                <a:off x="4537800" y="3415680"/>
                <a:ext cx="2741040" cy="1203120"/>
                <a:chOff x="4537800" y="3415680"/>
                <a:chExt cx="2741040" cy="1203120"/>
              </a:xfrm>
            </p:grpSpPr>
            <p:grpSp>
              <p:nvGrpSpPr>
                <p:cNvPr id="403" name="组合 72"/>
                <p:cNvGrpSpPr/>
                <p:nvPr/>
              </p:nvGrpSpPr>
              <p:grpSpPr>
                <a:xfrm>
                  <a:off x="4537800" y="3415680"/>
                  <a:ext cx="2741040" cy="1203120"/>
                  <a:chOff x="4537800" y="3415680"/>
                  <a:chExt cx="2741040" cy="1203120"/>
                </a:xfrm>
              </p:grpSpPr>
              <p:sp>
                <p:nvSpPr>
                  <p:cNvPr id="404" name="AutoShape 69"/>
                  <p:cNvSpPr/>
                  <p:nvPr/>
                </p:nvSpPr>
                <p:spPr>
                  <a:xfrm flipH="1" rot="2700000">
                    <a:off x="4644720" y="3660840"/>
                    <a:ext cx="988560" cy="712800"/>
                  </a:xfrm>
                  <a:prstGeom prst="rightArrow">
                    <a:avLst>
                      <a:gd name="adj1" fmla="val 70398"/>
                      <a:gd name="adj2" fmla="val 69587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38"/>
                  <p:cNvSpPr/>
                  <p:nvPr/>
                </p:nvSpPr>
                <p:spPr>
                  <a:xfrm>
                    <a:off x="5442480" y="3956400"/>
                    <a:ext cx="1836360" cy="651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组合 3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407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12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13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23560" y="2507760"/>
                <a:ext cx="1440" cy="2015280"/>
                <a:chOff x="2923560" y="2507760"/>
                <a:chExt cx="1440" cy="2015280"/>
              </a:xfrm>
            </p:grpSpPr>
            <p:sp>
              <p:nvSpPr>
                <p:cNvPr id="417" name="Line 11"/>
                <p:cNvSpPr/>
                <p:nvPr/>
              </p:nvSpPr>
              <p:spPr>
                <a:xfrm>
                  <a:off x="292356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92356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584240" y="2507760"/>
                <a:ext cx="1440" cy="2015280"/>
                <a:chOff x="4584240" y="2507760"/>
                <a:chExt cx="1440" cy="2015280"/>
              </a:xfrm>
            </p:grpSpPr>
            <p:sp>
              <p:nvSpPr>
                <p:cNvPr id="420" name="Line 12"/>
                <p:cNvSpPr/>
                <p:nvPr/>
              </p:nvSpPr>
              <p:spPr>
                <a:xfrm>
                  <a:off x="458424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458424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34480" y="2507760"/>
                <a:ext cx="2880" cy="2015280"/>
                <a:chOff x="6234480" y="2507760"/>
                <a:chExt cx="2880" cy="2015280"/>
              </a:xfrm>
            </p:grpSpPr>
            <p:sp>
              <p:nvSpPr>
                <p:cNvPr id="423" name="Line 13"/>
                <p:cNvSpPr/>
                <p:nvPr/>
              </p:nvSpPr>
              <p:spPr>
                <a:xfrm>
                  <a:off x="6234480" y="2507760"/>
                  <a:ext cx="288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6234480" y="2507760"/>
                  <a:ext cx="288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24440" y="2092320"/>
                <a:ext cx="360" cy="2431080"/>
                <a:chOff x="1324440" y="2092320"/>
                <a:chExt cx="360" cy="2431080"/>
              </a:xfrm>
            </p:grpSpPr>
            <p:sp>
              <p:nvSpPr>
                <p:cNvPr id="446" name="Line 8"/>
                <p:cNvSpPr/>
                <p:nvPr/>
              </p:nvSpPr>
              <p:spPr>
                <a:xfrm>
                  <a:off x="1324440" y="2092320"/>
                  <a:ext cx="0" cy="243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24440" y="2092320"/>
                  <a:ext cx="360" cy="243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315440" y="4523040"/>
                <a:ext cx="6476040" cy="360"/>
                <a:chOff x="1315440" y="4523040"/>
                <a:chExt cx="6476040" cy="360"/>
              </a:xfrm>
            </p:grpSpPr>
            <p:sp>
              <p:nvSpPr>
                <p:cNvPr id="449" name="Line 8"/>
                <p:cNvSpPr/>
                <p:nvPr/>
              </p:nvSpPr>
              <p:spPr>
                <a:xfrm>
                  <a:off x="1315440" y="4523400"/>
                  <a:ext cx="64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4553280" y="1285200"/>
                  <a:ext cx="360" cy="64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4"/>
          <p:cNvGrpSpPr/>
          <p:nvPr/>
        </p:nvGrpSpPr>
        <p:grpSpPr>
          <a:xfrm>
            <a:off x="4114800" y="1289880"/>
            <a:ext cx="1095120" cy="398880"/>
            <a:chOff x="4114800" y="1289880"/>
            <a:chExt cx="1095120" cy="398880"/>
          </a:xfrm>
        </p:grpSpPr>
        <p:grpSp>
          <p:nvGrpSpPr>
            <p:cNvPr id="452" name="组合 5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3" name="Rectangle 13"/>
            <p:cNvSpPr/>
            <p:nvPr/>
          </p:nvSpPr>
          <p:spPr>
            <a:xfrm>
              <a:off x="4114800" y="1289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1"/>
          <p:cNvSpPr/>
          <p:nvPr/>
        </p:nvSpPr>
        <p:spPr>
          <a:xfrm>
            <a:off x="1625760" y="4487760"/>
            <a:ext cx="5849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1773360" y="1147680"/>
            <a:ext cx="5595840" cy="32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C:\Documents and Settings\Administrator\桌面\新建文件夹 (2)\LOGO白副本.png"/>
          <p:cNvPicPr/>
          <p:nvPr/>
        </p:nvPicPr>
        <p:blipFill>
          <a:blip r:embed="rId10"/>
          <a:stretch/>
        </p:blipFill>
        <p:spPr>
          <a:xfrm>
            <a:off x="290520" y="51721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57" dur="15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59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61" dur="1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63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65" dur="1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67" dur="1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69" dur="1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71" dur="1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73" dur="15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Administrator</cp:lastModifiedBy>
  <dcterms:modified xsi:type="dcterms:W3CDTF">2016-04-18T03:22:0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