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955-C466-4B61-BF1E-578FFE94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CBF-F053-44F3-ADAD-CBAAB6E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33D-A6F6-4BDD-B7E7-1F201E62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32C-7502-491E-B6DA-2DE818B6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4B6-3178-4083-B69B-F1F85051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E00-E2DB-486B-8A5F-256529DA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A27-52B4-47B8-88C8-0E0CC21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DAC-E249-4DB0-A385-AF9353D6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BEF-F122-4929-BFD5-448FDE97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44B-C86E-41B6-BF53-4BA1AFF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6F9-9899-4009-9E2D-AE7BF92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DDD-DE89-4951-9A9A-D326A1D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AA0-0CC4-4712-9186-4C6C75F01D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663480"/>
            <a:chOff x="2216160" y="3736800"/>
            <a:chExt cx="2440080" cy="66348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613800"/>
            <a:chOff x="2216160" y="2459160"/>
            <a:chExt cx="2440080" cy="61380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76588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605880"/>
            <a:chOff x="7489800" y="2465280"/>
            <a:chExt cx="2444760" cy="60588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76408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663120"/>
            <a:chOff x="7489800" y="3772080"/>
            <a:chExt cx="2444760" cy="66312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12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培训新闻微信公众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920"/>
            <a:chOff x="1839960" y="2960640"/>
            <a:chExt cx="8512200" cy="1303920"/>
          </a:xfrm>
        </p:grpSpPr>
        <p:sp>
          <p:nvSpPr>
            <p:cNvPr id="80" name="TextBox 4"/>
            <p:cNvSpPr/>
            <p:nvPr/>
          </p:nvSpPr>
          <p:spPr>
            <a:xfrm>
              <a:off x="509184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微信公众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56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1939320"/>
            <a:chOff x="1123920" y="2336760"/>
            <a:chExt cx="2049480" cy="19393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320"/>
              <a:ext cx="2049480" cy="680760"/>
              <a:chOff x="1123920" y="3595320"/>
              <a:chExt cx="2049480" cy="68076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1961640"/>
            <a:chOff x="3770280" y="2314440"/>
            <a:chExt cx="2049480" cy="196164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0960"/>
              <a:chOff x="4479480" y="2314440"/>
              <a:chExt cx="630720" cy="84096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36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48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680760"/>
              <a:chOff x="3770280" y="3595320"/>
              <a:chExt cx="2049480" cy="68076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1923120"/>
            <a:chOff x="6416640" y="2352600"/>
            <a:chExt cx="2049480" cy="192312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5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320"/>
              <a:ext cx="2049480" cy="680400"/>
              <a:chOff x="6416640" y="3595320"/>
              <a:chExt cx="2049480" cy="6804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864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1957680"/>
            <a:chOff x="9063000" y="2319480"/>
            <a:chExt cx="2048040" cy="1957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400"/>
              <a:ext cx="2048040" cy="680760"/>
              <a:chOff x="9063000" y="3596400"/>
              <a:chExt cx="2048040" cy="68076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70080"/>
                <a:ext cx="204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40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967320"/>
            <a:chOff x="552600" y="2166840"/>
            <a:chExt cx="2935080" cy="96732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80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7080"/>
              <a:ext cx="29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663840"/>
            <a:chOff x="2862360" y="1747800"/>
            <a:chExt cx="2658960" cy="66384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663840"/>
            <a:chOff x="2862360" y="3052800"/>
            <a:chExt cx="2658960" cy="66384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663840"/>
            <a:chOff x="2862360" y="4357800"/>
            <a:chExt cx="2658960" cy="66384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663840"/>
            <a:chOff x="7623000" y="1747800"/>
            <a:chExt cx="2659320" cy="66384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663840"/>
            <a:chOff x="7623000" y="3052800"/>
            <a:chExt cx="2659320" cy="66384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663840"/>
            <a:chOff x="7623000" y="4357800"/>
            <a:chExt cx="2659320" cy="66384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8320"/>
            <a:ext cx="2049480" cy="2890800"/>
            <a:chOff x="984240" y="1768320"/>
            <a:chExt cx="2049480" cy="289080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8320"/>
              <a:ext cx="1696320" cy="1766160"/>
              <a:chOff x="1179000" y="1768320"/>
              <a:chExt cx="1696320" cy="176616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16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8320"/>
            <a:ext cx="2049480" cy="2890800"/>
            <a:chOff x="3719520" y="1768320"/>
            <a:chExt cx="2049480" cy="289080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8320"/>
              <a:ext cx="1696320" cy="1766160"/>
              <a:chOff x="3877920" y="1768320"/>
              <a:chExt cx="1696320" cy="176616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2884680"/>
            <a:chOff x="6454800" y="1768320"/>
            <a:chExt cx="2049480" cy="2884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92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2906640"/>
            <a:chOff x="9113760" y="1752480"/>
            <a:chExt cx="2048040" cy="290664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6-05-07T08:41:2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