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7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84E-4FBC-4F65-B09F-A31BF2BB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650D-576C-426C-92F5-D4E28C84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5A15-F038-4F11-B863-8F4EC08F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749-2BF0-4DF2-97B4-29E9C87D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75C8-673A-4C92-9415-65A88999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745B-7524-486E-9D12-6753C4C9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7FB4-C761-4246-B9BA-8707CE3C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3826-F79F-49DA-80AC-04D110E7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03AF-78D2-43B8-BBD2-BBE5CEF9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0DF-B6A2-4004-AABE-CC1507A0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551-A3A8-453A-A523-FC7F8A8D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2EC4-663F-4712-9175-7E6F6A23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3BEC-AAD6-42A0-B72A-AE6D583DB99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custGeom>
            <a:avLst/>
            <a:gdLst/>
            <a:ahLst/>
            <a:rect l="l" t="t" r="r" b="b"/>
            <a:pathLst>
              <a:path w="202739" h="1446522">
                <a:moveTo>
                  <a:pt x="0" y="117051"/>
                </a:moveTo>
                <a:lnTo>
                  <a:pt x="202739" y="0"/>
                </a:lnTo>
                <a:lnTo>
                  <a:pt x="202739" y="1446522"/>
                </a:lnTo>
                <a:lnTo>
                  <a:pt x="0" y="1446522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custGeom>
            <a:avLst/>
            <a:gdLst/>
            <a:ahLst/>
            <a:rect l="l" t="t" r="r" b="b"/>
            <a:pathLst>
              <a:path w="45719" h="3121422">
                <a:moveTo>
                  <a:pt x="0" y="26396"/>
                </a:moveTo>
                <a:lnTo>
                  <a:pt x="45719" y="0"/>
                </a:lnTo>
                <a:lnTo>
                  <a:pt x="45719" y="3121422"/>
                </a:lnTo>
                <a:lnTo>
                  <a:pt x="0" y="3121422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custGeom>
            <a:avLst/>
            <a:gdLst/>
            <a:ahLst/>
            <a:rect l="l" t="t" r="r" b="b"/>
            <a:pathLst>
              <a:path w="45719" h="2219821">
                <a:moveTo>
                  <a:pt x="0" y="0"/>
                </a:moveTo>
                <a:lnTo>
                  <a:pt x="45719" y="0"/>
                </a:lnTo>
                <a:lnTo>
                  <a:pt x="45719" y="2193425"/>
                </a:lnTo>
                <a:lnTo>
                  <a:pt x="0" y="2219821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custGeom>
            <a:avLst/>
            <a:gdLst/>
            <a:ahLst/>
            <a:rect l="l" t="t" r="r" b="b"/>
            <a:pathLst>
              <a:path w="239049" h="581981">
                <a:moveTo>
                  <a:pt x="0" y="0"/>
                </a:moveTo>
                <a:lnTo>
                  <a:pt x="239049" y="0"/>
                </a:lnTo>
                <a:lnTo>
                  <a:pt x="239049" y="443965"/>
                </a:lnTo>
                <a:lnTo>
                  <a:pt x="0" y="58198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custGeom>
            <a:avLst/>
            <a:gdLst/>
            <a:ahLst/>
            <a:rect l="l" t="t" r="r" b="b"/>
            <a:pathLst>
              <a:path w="239049" h="2521176">
                <a:moveTo>
                  <a:pt x="0" y="0"/>
                </a:moveTo>
                <a:lnTo>
                  <a:pt x="239049" y="414046"/>
                </a:lnTo>
                <a:lnTo>
                  <a:pt x="239049" y="2521176"/>
                </a:lnTo>
                <a:lnTo>
                  <a:pt x="0" y="2521176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3255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093255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093255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093255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93255"/>
                </a:solidFill>
                <a:latin typeface="Impact"/>
                <a:ea typeface="宋体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689360" y="2333520"/>
            <a:ext cx="2824200" cy="360"/>
            <a:chOff x="4689360" y="2333520"/>
            <a:chExt cx="2824200" cy="360"/>
          </a:xfrm>
        </p:grpSpPr>
        <p:sp>
          <p:nvSpPr>
            <p:cNvPr id="52" name="直接连接符 11"/>
            <p:cNvSpPr/>
            <p:nvPr/>
          </p:nvSpPr>
          <p:spPr>
            <a:xfrm>
              <a:off x="4689360" y="2333520"/>
              <a:ext cx="2824200" cy="0"/>
            </a:xfrm>
            <a:prstGeom prst="line">
              <a:avLst/>
            </a:prstGeom>
            <a:ln w="1908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4689360" y="2333520"/>
              <a:ext cx="2824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342040" y="3932280"/>
            <a:ext cx="1476360" cy="1440"/>
            <a:chOff x="5342040" y="3932280"/>
            <a:chExt cx="1476360" cy="1440"/>
          </a:xfrm>
        </p:grpSpPr>
        <p:sp>
          <p:nvSpPr>
            <p:cNvPr id="55" name="直接连接符 37"/>
            <p:cNvSpPr/>
            <p:nvPr/>
          </p:nvSpPr>
          <p:spPr>
            <a:xfrm>
              <a:off x="5342040" y="3932280"/>
              <a:ext cx="1476360" cy="1440"/>
            </a:xfrm>
            <a:prstGeom prst="line">
              <a:avLst/>
            </a:prstGeom>
            <a:ln w="1908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5342040" y="3932280"/>
              <a:ext cx="1476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4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5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任意多边形 16"/>
          <p:cNvSpPr/>
          <p:nvPr/>
        </p:nvSpPr>
        <p:spPr>
          <a:xfrm rot="2796600">
            <a:off x="5012640" y="2391480"/>
            <a:ext cx="1143000" cy="1442880"/>
          </a:xfrm>
          <a:custGeom>
            <a:avLst/>
            <a:gdLst/>
            <a:ahLst/>
            <a:rect l="l" t="t" r="r" b="b"/>
            <a:pathLst>
              <a:path w="1997680" h="2524712">
                <a:moveTo>
                  <a:pt x="150246" y="824418"/>
                </a:move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97680" y="1009723"/>
                </a:lnTo>
                <a:lnTo>
                  <a:pt x="1690021" y="1335142"/>
                </a:lnTo>
                <a:lnTo>
                  <a:pt x="1691814" y="1336837"/>
                </a:lnTo>
                <a:lnTo>
                  <a:pt x="1666479" y="1369692"/>
                </a:lnTo>
                <a:cubicBezTo>
                  <a:pt x="1616466" y="1450265"/>
                  <a:pt x="1605036" y="1547518"/>
                  <a:pt x="1631465" y="1635569"/>
                </a:cubicBezTo>
                <a:lnTo>
                  <a:pt x="1633083" y="1639655"/>
                </a:lnTo>
                <a:lnTo>
                  <a:pt x="1632398" y="1639864"/>
                </a:lnTo>
                <a:lnTo>
                  <a:pt x="1770641" y="2093848"/>
                </a:lnTo>
                <a:lnTo>
                  <a:pt x="355698" y="2524712"/>
                </a:ln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17"/>
          <p:cNvSpPr/>
          <p:nvPr/>
        </p:nvSpPr>
        <p:spPr>
          <a:xfrm flipH="1" rot="18803400">
            <a:off x="6075000" y="2395800"/>
            <a:ext cx="1133640" cy="1443240"/>
          </a:xfrm>
          <a:custGeom>
            <a:avLst/>
            <a:gdLst/>
            <a:ahLst/>
            <a:rect l="l" t="t" r="r" b="b"/>
            <a:pathLst>
              <a:path w="1982833" h="2524712">
                <a:moveTo>
                  <a:pt x="929670" y="0"/>
                </a:move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lnTo>
                  <a:pt x="1699679" y="2115457"/>
                </a:lnTo>
                <a:lnTo>
                  <a:pt x="1566897" y="1679404"/>
                </a:lnTo>
                <a:lnTo>
                  <a:pt x="1567582" y="1679195"/>
                </a:lnTo>
                <a:lnTo>
                  <a:pt x="1565964" y="1675108"/>
                </a:lnTo>
                <a:cubicBezTo>
                  <a:pt x="1539535" y="1587058"/>
                  <a:pt x="1550964" y="1489806"/>
                  <a:pt x="1600977" y="1409232"/>
                </a:cubicBezTo>
                <a:lnTo>
                  <a:pt x="1626313" y="1376377"/>
                </a:lnTo>
                <a:lnTo>
                  <a:pt x="1624520" y="1374682"/>
                </a:lnTo>
                <a:lnTo>
                  <a:pt x="1982833" y="995685"/>
                </a:lnTo>
                <a:lnTo>
                  <a:pt x="1655649" y="686358"/>
                </a:lnTo>
                <a:lnTo>
                  <a:pt x="1280355" y="331546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custGeom>
            <a:avLst/>
            <a:gdLst/>
            <a:ahLst/>
            <a:rect l="l" t="t" r="r" b="b"/>
            <a:pathLst>
              <a:path w="1974521" h="2524712">
                <a:moveTo>
                  <a:pt x="355698" y="2524712"/>
                </a:move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74521" y="987827"/>
                </a:lnTo>
                <a:lnTo>
                  <a:pt x="1630161" y="1352065"/>
                </a:lnTo>
                <a:lnTo>
                  <a:pt x="1631954" y="1353760"/>
                </a:lnTo>
                <a:lnTo>
                  <a:pt x="1606619" y="1386615"/>
                </a:lnTo>
                <a:cubicBezTo>
                  <a:pt x="1556606" y="1467188"/>
                  <a:pt x="1545177" y="1564441"/>
                  <a:pt x="1571605" y="1652492"/>
                </a:cubicBezTo>
                <a:lnTo>
                  <a:pt x="1573223" y="1656578"/>
                </a:lnTo>
                <a:lnTo>
                  <a:pt x="1572538" y="1656786"/>
                </a:lnTo>
                <a:lnTo>
                  <a:pt x="1711144" y="2111965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任意多边形 19"/>
          <p:cNvSpPr/>
          <p:nvPr/>
        </p:nvSpPr>
        <p:spPr>
          <a:xfrm flipV="1" rot="811800">
            <a:off x="4406400" y="3468600"/>
            <a:ext cx="1144800" cy="1443240"/>
          </a:xfrm>
          <a:custGeom>
            <a:avLst/>
            <a:gdLst/>
            <a:ahLst/>
            <a:rect l="l" t="t" r="r" b="b"/>
            <a:pathLst>
              <a:path w="2003794" h="2524712">
                <a:moveTo>
                  <a:pt x="355698" y="2524712"/>
                </a:moveTo>
                <a:lnTo>
                  <a:pt x="1749448" y="2100302"/>
                </a:lnTo>
                <a:lnTo>
                  <a:pt x="1617702" y="1667654"/>
                </a:lnTo>
                <a:lnTo>
                  <a:pt x="1618387" y="1667445"/>
                </a:lnTo>
                <a:lnTo>
                  <a:pt x="1616769" y="1663359"/>
                </a:lnTo>
                <a:cubicBezTo>
                  <a:pt x="1590341" y="1575308"/>
                  <a:pt x="1601770" y="1478056"/>
                  <a:pt x="1651782" y="1397482"/>
                </a:cubicBezTo>
                <a:lnTo>
                  <a:pt x="1677117" y="1364628"/>
                </a:lnTo>
                <a:lnTo>
                  <a:pt x="1675325" y="1362932"/>
                </a:lnTo>
                <a:lnTo>
                  <a:pt x="2003794" y="1015502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任意多边形 20"/>
          <p:cNvSpPr/>
          <p:nvPr/>
        </p:nvSpPr>
        <p:spPr>
          <a:xfrm flipV="1" rot="18754800">
            <a:off x="5018040" y="4433040"/>
            <a:ext cx="1130040" cy="1441440"/>
          </a:xfrm>
          <a:custGeom>
            <a:avLst/>
            <a:gdLst/>
            <a:ahLst/>
            <a:rect l="l" t="t" r="r" b="b"/>
            <a:pathLst>
              <a:path w="1424028" h="1814500">
                <a:moveTo>
                  <a:pt x="1269105" y="1506080"/>
                </a:moveTo>
                <a:lnTo>
                  <a:pt x="1163632" y="1159707"/>
                </a:lnTo>
                <a:lnTo>
                  <a:pt x="1164125" y="1159558"/>
                </a:lnTo>
                <a:lnTo>
                  <a:pt x="1162960" y="1156613"/>
                </a:lnTo>
                <a:cubicBezTo>
                  <a:pt x="1143919" y="1093177"/>
                  <a:pt x="1152153" y="1023111"/>
                  <a:pt x="1188185" y="965063"/>
                </a:cubicBezTo>
                <a:lnTo>
                  <a:pt x="1206437" y="941392"/>
                </a:lnTo>
                <a:lnTo>
                  <a:pt x="1205146" y="940171"/>
                </a:lnTo>
                <a:lnTo>
                  <a:pt x="1424028" y="708654"/>
                </a:lnTo>
                <a:lnTo>
                  <a:pt x="1192812" y="490058"/>
                </a:lnTo>
                <a:lnTo>
                  <a:pt x="983249" y="291932"/>
                </a:lnTo>
                <a:lnTo>
                  <a:pt x="665595" y="0"/>
                </a:lnTo>
                <a:lnTo>
                  <a:pt x="108245" y="589524"/>
                </a:lnTo>
                <a:lnTo>
                  <a:pt x="110926" y="592059"/>
                </a:lnTo>
                <a:lnTo>
                  <a:pt x="73028" y="641205"/>
                </a:lnTo>
                <a:cubicBezTo>
                  <a:pt x="-1785" y="761733"/>
                  <a:pt x="-18881" y="907210"/>
                  <a:pt x="20653" y="1038922"/>
                </a:cubicBezTo>
                <a:lnTo>
                  <a:pt x="23073" y="1045035"/>
                </a:lnTo>
                <a:lnTo>
                  <a:pt x="22049" y="1045347"/>
                </a:lnTo>
                <a:lnTo>
                  <a:pt x="256263" y="181450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1"/>
          <p:cNvSpPr/>
          <p:nvPr/>
        </p:nvSpPr>
        <p:spPr>
          <a:xfrm flipH="1" flipV="1" rot="2845200">
            <a:off x="6091200" y="4433040"/>
            <a:ext cx="1130040" cy="1441440"/>
          </a:xfrm>
          <a:custGeom>
            <a:avLst/>
            <a:gdLst/>
            <a:ahLst/>
            <a:rect l="l" t="t" r="r" b="b"/>
            <a:pathLst>
              <a:path w="1424033" h="1818928">
                <a:moveTo>
                  <a:pt x="1240478" y="1519225"/>
                </a:moveTo>
                <a:lnTo>
                  <a:pt x="256263" y="1818928"/>
                </a:lnTo>
                <a:lnTo>
                  <a:pt x="22049" y="1049775"/>
                </a:lnTo>
                <a:lnTo>
                  <a:pt x="23073" y="1049464"/>
                </a:lnTo>
                <a:lnTo>
                  <a:pt x="20653" y="1043350"/>
                </a:lnTo>
                <a:cubicBezTo>
                  <a:pt x="-18881" y="911639"/>
                  <a:pt x="-1785" y="766161"/>
                  <a:pt x="73029" y="645633"/>
                </a:cubicBezTo>
                <a:lnTo>
                  <a:pt x="110926" y="596487"/>
                </a:lnTo>
                <a:lnTo>
                  <a:pt x="108245" y="593952"/>
                </a:lnTo>
                <a:lnTo>
                  <a:pt x="669780" y="0"/>
                </a:lnTo>
                <a:lnTo>
                  <a:pt x="922431" y="238862"/>
                </a:lnTo>
                <a:lnTo>
                  <a:pt x="1192812" y="494486"/>
                </a:lnTo>
                <a:lnTo>
                  <a:pt x="1424033" y="713088"/>
                </a:lnTo>
                <a:lnTo>
                  <a:pt x="1181487" y="969635"/>
                </a:lnTo>
                <a:lnTo>
                  <a:pt x="1182779" y="970857"/>
                </a:lnTo>
                <a:lnTo>
                  <a:pt x="1164527" y="994527"/>
                </a:lnTo>
                <a:cubicBezTo>
                  <a:pt x="1128494" y="1052576"/>
                  <a:pt x="1120260" y="1122642"/>
                  <a:pt x="1139301" y="1186078"/>
                </a:cubicBezTo>
                <a:lnTo>
                  <a:pt x="1140466" y="1189021"/>
                </a:lnTo>
                <a:lnTo>
                  <a:pt x="1139973" y="1189172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938160" y="3162240"/>
            <a:ext cx="1582920" cy="360"/>
            <a:chOff x="938160" y="3162240"/>
            <a:chExt cx="1582920" cy="360"/>
          </a:xfrm>
        </p:grpSpPr>
        <p:sp>
          <p:nvSpPr>
            <p:cNvPr id="268" name="直接连接符 28"/>
            <p:cNvSpPr/>
            <p:nvPr/>
          </p:nvSpPr>
          <p:spPr>
            <a:xfrm>
              <a:off x="938160" y="3162240"/>
              <a:ext cx="158292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938160" y="3162240"/>
              <a:ext cx="15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938160" y="4656240"/>
            <a:ext cx="1582920" cy="1440"/>
            <a:chOff x="938160" y="4656240"/>
            <a:chExt cx="1582920" cy="1440"/>
          </a:xfrm>
        </p:grpSpPr>
        <p:sp>
          <p:nvSpPr>
            <p:cNvPr id="272" name="直接连接符 30"/>
            <p:cNvSpPr/>
            <p:nvPr/>
          </p:nvSpPr>
          <p:spPr>
            <a:xfrm>
              <a:off x="938160" y="4656240"/>
              <a:ext cx="1582920" cy="144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938160" y="4656240"/>
              <a:ext cx="1582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38160" y="6148440"/>
            <a:ext cx="1582920" cy="360"/>
            <a:chOff x="938160" y="6148440"/>
            <a:chExt cx="1582920" cy="360"/>
          </a:xfrm>
        </p:grpSpPr>
        <p:sp>
          <p:nvSpPr>
            <p:cNvPr id="276" name="直接连接符 32"/>
            <p:cNvSpPr/>
            <p:nvPr/>
          </p:nvSpPr>
          <p:spPr>
            <a:xfrm>
              <a:off x="938160" y="6148440"/>
              <a:ext cx="158292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938160" y="6148440"/>
              <a:ext cx="15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845280" y="3153960"/>
            <a:ext cx="1584360" cy="360"/>
            <a:chOff x="9845280" y="3153960"/>
            <a:chExt cx="1584360" cy="360"/>
          </a:xfrm>
        </p:grpSpPr>
        <p:sp>
          <p:nvSpPr>
            <p:cNvPr id="280" name="直接连接符 34"/>
            <p:cNvSpPr/>
            <p:nvPr/>
          </p:nvSpPr>
          <p:spPr>
            <a:xfrm flipH="1">
              <a:off x="9845280" y="3154320"/>
              <a:ext cx="158436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 rot="10800000">
              <a:off x="9845280" y="3153960"/>
              <a:ext cx="15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9879120" y="4582800"/>
            <a:ext cx="1582560" cy="360"/>
            <a:chOff x="9879120" y="4582800"/>
            <a:chExt cx="1582560" cy="360"/>
          </a:xfrm>
        </p:grpSpPr>
        <p:sp>
          <p:nvSpPr>
            <p:cNvPr id="284" name="直接连接符 36"/>
            <p:cNvSpPr/>
            <p:nvPr/>
          </p:nvSpPr>
          <p:spPr>
            <a:xfrm flipH="1">
              <a:off x="9879120" y="4583160"/>
              <a:ext cx="158256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 rot="10800000">
              <a:off x="9879120" y="4582800"/>
              <a:ext cx="158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9879120" y="6076440"/>
            <a:ext cx="1582560" cy="360"/>
            <a:chOff x="9879120" y="6076440"/>
            <a:chExt cx="1582560" cy="360"/>
          </a:xfrm>
        </p:grpSpPr>
        <p:sp>
          <p:nvSpPr>
            <p:cNvPr id="288" name="直接连接符 38"/>
            <p:cNvSpPr/>
            <p:nvPr/>
          </p:nvSpPr>
          <p:spPr>
            <a:xfrm flipH="1">
              <a:off x="9879120" y="6076800"/>
              <a:ext cx="158256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 rot="10800000">
              <a:off x="9879120" y="6076440"/>
              <a:ext cx="158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69"/>
          <p:cNvGrpSpPr/>
          <p:nvPr/>
        </p:nvGrpSpPr>
        <p:grpSpPr>
          <a:xfrm>
            <a:off x="5330880" y="2860560"/>
            <a:ext cx="395280" cy="381240"/>
            <a:chOff x="5330880" y="2860560"/>
            <a:chExt cx="395280" cy="381240"/>
          </a:xfrm>
        </p:grpSpPr>
        <p:sp>
          <p:nvSpPr>
            <p:cNvPr id="292" name="Oval 131"/>
            <p:cNvSpPr/>
            <p:nvPr/>
          </p:nvSpPr>
          <p:spPr>
            <a:xfrm>
              <a:off x="5439600" y="2860560"/>
              <a:ext cx="177840" cy="1807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34"/>
            <p:cNvSpPr/>
            <p:nvPr/>
          </p:nvSpPr>
          <p:spPr>
            <a:xfrm>
              <a:off x="5330880" y="3069360"/>
              <a:ext cx="395280" cy="172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72"/>
          <p:cNvGrpSpPr/>
          <p:nvPr/>
        </p:nvGrpSpPr>
        <p:grpSpPr>
          <a:xfrm>
            <a:off x="4657680" y="3971880"/>
            <a:ext cx="533520" cy="405000"/>
            <a:chOff x="4657680" y="3971880"/>
            <a:chExt cx="533520" cy="405000"/>
          </a:xfrm>
        </p:grpSpPr>
        <p:sp>
          <p:nvSpPr>
            <p:cNvPr id="295" name="Freeform 20"/>
            <p:cNvSpPr/>
            <p:nvPr/>
          </p:nvSpPr>
          <p:spPr>
            <a:xfrm>
              <a:off x="4657680" y="4025880"/>
              <a:ext cx="353880" cy="35100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1"/>
            <p:cNvSpPr/>
            <p:nvPr/>
          </p:nvSpPr>
          <p:spPr>
            <a:xfrm>
              <a:off x="4982040" y="3971880"/>
              <a:ext cx="209160" cy="20916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75"/>
          <p:cNvGrpSpPr/>
          <p:nvPr/>
        </p:nvGrpSpPr>
        <p:grpSpPr>
          <a:xfrm>
            <a:off x="5365800" y="4973760"/>
            <a:ext cx="301680" cy="387360"/>
            <a:chOff x="5365800" y="4973760"/>
            <a:chExt cx="301680" cy="387360"/>
          </a:xfrm>
        </p:grpSpPr>
        <p:sp>
          <p:nvSpPr>
            <p:cNvPr id="298" name="Freeform 32"/>
            <p:cNvSpPr/>
            <p:nvPr/>
          </p:nvSpPr>
          <p:spPr>
            <a:xfrm>
              <a:off x="5477760" y="4973760"/>
              <a:ext cx="76320" cy="387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3"/>
            <p:cNvSpPr/>
            <p:nvPr/>
          </p:nvSpPr>
          <p:spPr>
            <a:xfrm>
              <a:off x="5365800" y="5210280"/>
              <a:ext cx="75600" cy="1508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4"/>
            <p:cNvSpPr/>
            <p:nvPr/>
          </p:nvSpPr>
          <p:spPr>
            <a:xfrm>
              <a:off x="5591160" y="5098320"/>
              <a:ext cx="76320" cy="2628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79"/>
          <p:cNvGrpSpPr/>
          <p:nvPr/>
        </p:nvGrpSpPr>
        <p:grpSpPr>
          <a:xfrm>
            <a:off x="6588000" y="2930400"/>
            <a:ext cx="346320" cy="343080"/>
            <a:chOff x="6588000" y="2930400"/>
            <a:chExt cx="346320" cy="343080"/>
          </a:xfrm>
        </p:grpSpPr>
        <p:sp>
          <p:nvSpPr>
            <p:cNvPr id="302" name="Freeform 136"/>
            <p:cNvSpPr/>
            <p:nvPr/>
          </p:nvSpPr>
          <p:spPr>
            <a:xfrm>
              <a:off x="6588000" y="3122640"/>
              <a:ext cx="346320" cy="150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37"/>
            <p:cNvSpPr/>
            <p:nvPr/>
          </p:nvSpPr>
          <p:spPr>
            <a:xfrm>
              <a:off x="6588000" y="2930400"/>
              <a:ext cx="346320" cy="1994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82"/>
          <p:cNvGrpSpPr/>
          <p:nvPr/>
        </p:nvGrpSpPr>
        <p:grpSpPr>
          <a:xfrm>
            <a:off x="7189920" y="4035600"/>
            <a:ext cx="357120" cy="341280"/>
            <a:chOff x="7189920" y="4035600"/>
            <a:chExt cx="357120" cy="341280"/>
          </a:xfrm>
        </p:grpSpPr>
        <p:sp>
          <p:nvSpPr>
            <p:cNvPr id="305" name="Freeform 25"/>
            <p:cNvSpPr/>
            <p:nvPr/>
          </p:nvSpPr>
          <p:spPr>
            <a:xfrm>
              <a:off x="7320600" y="4281120"/>
              <a:ext cx="95760" cy="957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任意多边形 84"/>
            <p:cNvSpPr/>
            <p:nvPr/>
          </p:nvSpPr>
          <p:spPr>
            <a:xfrm>
              <a:off x="7189920" y="4035600"/>
              <a:ext cx="357120" cy="25992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85"/>
          <p:cNvGrpSpPr/>
          <p:nvPr/>
        </p:nvGrpSpPr>
        <p:grpSpPr>
          <a:xfrm>
            <a:off x="6556320" y="4973760"/>
            <a:ext cx="387360" cy="438120"/>
            <a:chOff x="6556320" y="4973760"/>
            <a:chExt cx="387360" cy="438120"/>
          </a:xfrm>
        </p:grpSpPr>
        <p:sp>
          <p:nvSpPr>
            <p:cNvPr id="308" name="Freeform 148"/>
            <p:cNvSpPr/>
            <p:nvPr/>
          </p:nvSpPr>
          <p:spPr>
            <a:xfrm>
              <a:off x="6608880" y="4973760"/>
              <a:ext cx="334800" cy="43560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49"/>
            <p:cNvSpPr/>
            <p:nvPr/>
          </p:nvSpPr>
          <p:spPr>
            <a:xfrm>
              <a:off x="6556320" y="5194440"/>
              <a:ext cx="221040" cy="2174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50"/>
            <p:cNvSpPr/>
            <p:nvPr/>
          </p:nvSpPr>
          <p:spPr>
            <a:xfrm>
              <a:off x="6648840" y="5285520"/>
              <a:ext cx="35640" cy="3564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1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1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3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任意多边形 31"/>
          <p:cNvSpPr/>
          <p:nvPr/>
        </p:nvSpPr>
        <p:spPr>
          <a:xfrm flipH="1" rot="18300000">
            <a:off x="4899960" y="4522680"/>
            <a:ext cx="2028600" cy="2000160"/>
          </a:xfrm>
          <a:custGeom>
            <a:avLst/>
            <a:gdLst/>
            <a:ahLst/>
            <a:rect l="l" t="t" r="r" b="b"/>
            <a:pathLst>
              <a:path w="2028813" h="1999955">
                <a:moveTo>
                  <a:pt x="0" y="618119"/>
                </a:moveTo>
                <a:lnTo>
                  <a:pt x="961757" y="1291548"/>
                </a:lnTo>
                <a:lnTo>
                  <a:pt x="88909" y="1609239"/>
                </a:lnTo>
                <a:lnTo>
                  <a:pt x="92596" y="1616631"/>
                </a:lnTo>
                <a:lnTo>
                  <a:pt x="119305" y="1713106"/>
                </a:lnTo>
                <a:lnTo>
                  <a:pt x="1069756" y="1367170"/>
                </a:lnTo>
                <a:lnTo>
                  <a:pt x="1649069" y="1772810"/>
                </a:lnTo>
                <a:lnTo>
                  <a:pt x="1299175" y="1900161"/>
                </a:lnTo>
                <a:lnTo>
                  <a:pt x="1330554" y="1963075"/>
                </a:lnTo>
                <a:lnTo>
                  <a:pt x="1340764" y="1999955"/>
                </a:lnTo>
                <a:lnTo>
                  <a:pt x="1757069" y="1848432"/>
                </a:lnTo>
                <a:lnTo>
                  <a:pt x="1953154" y="1985732"/>
                </a:lnTo>
                <a:lnTo>
                  <a:pt x="2028813" y="1877680"/>
                </a:lnTo>
                <a:lnTo>
                  <a:pt x="1800388" y="1717735"/>
                </a:lnTo>
                <a:lnTo>
                  <a:pt x="1800387" y="1717735"/>
                </a:lnTo>
                <a:lnTo>
                  <a:pt x="1532796" y="1530366"/>
                </a:lnTo>
                <a:lnTo>
                  <a:pt x="1532796" y="1073597"/>
                </a:lnTo>
                <a:lnTo>
                  <a:pt x="1527153" y="1072953"/>
                </a:lnTo>
                <a:lnTo>
                  <a:pt x="1424797" y="1040179"/>
                </a:lnTo>
                <a:lnTo>
                  <a:pt x="1424797" y="1454744"/>
                </a:lnTo>
                <a:lnTo>
                  <a:pt x="786165" y="1007569"/>
                </a:lnTo>
                <a:lnTo>
                  <a:pt x="786165" y="13931"/>
                </a:lnTo>
                <a:lnTo>
                  <a:pt x="685985" y="2503"/>
                </a:lnTo>
                <a:lnTo>
                  <a:pt x="678165" y="0"/>
                </a:lnTo>
                <a:lnTo>
                  <a:pt x="678165" y="931947"/>
                </a:lnTo>
                <a:lnTo>
                  <a:pt x="75659" y="5100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图片 14" descr=""/>
          <p:cNvPicPr/>
          <p:nvPr/>
        </p:nvPicPr>
        <p:blipFill>
          <a:blip r:embed="rId2"/>
          <a:srcRect l="0" t="76802" r="0" b="0"/>
          <a:stretch/>
        </p:blipFill>
        <p:spPr>
          <a:xfrm flipH="1"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340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2334"/>
                </a:solidFill>
                <a:latin typeface="Impact"/>
                <a:ea typeface="宋体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2334"/>
                </a:solidFill>
                <a:latin typeface="Impact"/>
                <a:ea typeface="宋体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2334"/>
                </a:solidFill>
                <a:latin typeface="Impact"/>
                <a:ea typeface="宋体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2334"/>
                </a:solidFill>
                <a:latin typeface="Impact"/>
                <a:ea typeface="宋体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2334"/>
                </a:solidFill>
                <a:latin typeface="Impact"/>
                <a:ea typeface="宋体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257800" y="4052880"/>
            <a:ext cx="5904000" cy="360"/>
            <a:chOff x="5257800" y="4052880"/>
            <a:chExt cx="5904000" cy="360"/>
          </a:xfrm>
        </p:grpSpPr>
        <p:sp>
          <p:nvSpPr>
            <p:cNvPr id="354" name="直接连接符 21"/>
            <p:cNvSpPr/>
            <p:nvPr/>
          </p:nvSpPr>
          <p:spPr>
            <a:xfrm flipH="1">
              <a:off x="5257800" y="4052880"/>
              <a:ext cx="5904000" cy="0"/>
            </a:xfrm>
            <a:prstGeom prst="line">
              <a:avLst/>
            </a:prstGeom>
            <a:ln w="1260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 rot="5400000">
              <a:off x="8209440" y="1100880"/>
              <a:ext cx="36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  <a:ea typeface="宋体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6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6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六边形 10"/>
          <p:cNvSpPr/>
          <p:nvPr/>
        </p:nvSpPr>
        <p:spPr>
          <a:xfrm rot="5400000">
            <a:off x="4461840" y="2538360"/>
            <a:ext cx="3232440" cy="2203560"/>
          </a:xfrm>
          <a:prstGeom prst="hexagon">
            <a:avLst>
              <a:gd name="adj" fmla="val 25019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8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26"/>
          <p:cNvGrpSpPr/>
          <p:nvPr/>
        </p:nvGrpSpPr>
        <p:grpSpPr>
          <a:xfrm>
            <a:off x="5803920" y="2606760"/>
            <a:ext cx="587520" cy="563400"/>
            <a:chOff x="5803920" y="2606760"/>
            <a:chExt cx="587520" cy="563400"/>
          </a:xfrm>
        </p:grpSpPr>
        <p:sp>
          <p:nvSpPr>
            <p:cNvPr id="395" name="Oval 131"/>
            <p:cNvSpPr/>
            <p:nvPr/>
          </p:nvSpPr>
          <p:spPr>
            <a:xfrm>
              <a:off x="5965560" y="2606760"/>
              <a:ext cx="264240" cy="2671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34"/>
            <p:cNvSpPr/>
            <p:nvPr/>
          </p:nvSpPr>
          <p:spPr>
            <a:xfrm>
              <a:off x="5803920" y="2915280"/>
              <a:ext cx="587520" cy="25488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98" name="Freeform 20"/>
            <p:cNvSpPr/>
            <p:nvPr/>
          </p:nvSpPr>
          <p:spPr>
            <a:xfrm>
              <a:off x="4189320" y="3598200"/>
              <a:ext cx="523080" cy="5198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1"/>
            <p:cNvSpPr/>
            <p:nvPr/>
          </p:nvSpPr>
          <p:spPr>
            <a:xfrm>
              <a:off x="4669200" y="3517920"/>
              <a:ext cx="309240" cy="3096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32"/>
          <p:cNvGrpSpPr/>
          <p:nvPr/>
        </p:nvGrpSpPr>
        <p:grpSpPr>
          <a:xfrm>
            <a:off x="5856120" y="4340160"/>
            <a:ext cx="447840" cy="573120"/>
            <a:chOff x="5856120" y="4340160"/>
            <a:chExt cx="447840" cy="573120"/>
          </a:xfrm>
        </p:grpSpPr>
        <p:sp>
          <p:nvSpPr>
            <p:cNvPr id="401" name="Freeform 32"/>
            <p:cNvSpPr/>
            <p:nvPr/>
          </p:nvSpPr>
          <p:spPr>
            <a:xfrm>
              <a:off x="6022440" y="4340160"/>
              <a:ext cx="113400" cy="57312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3"/>
            <p:cNvSpPr/>
            <p:nvPr/>
          </p:nvSpPr>
          <p:spPr>
            <a:xfrm>
              <a:off x="5856120" y="4689720"/>
              <a:ext cx="112320" cy="22356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4"/>
            <p:cNvSpPr/>
            <p:nvPr/>
          </p:nvSpPr>
          <p:spPr>
            <a:xfrm>
              <a:off x="6190560" y="4524480"/>
              <a:ext cx="113400" cy="3888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405" name="Freeform 25"/>
            <p:cNvSpPr/>
            <p:nvPr/>
          </p:nvSpPr>
          <p:spPr>
            <a:xfrm>
              <a:off x="7566120" y="3967920"/>
              <a:ext cx="141840" cy="14220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任意多边形 38"/>
            <p:cNvSpPr/>
            <p:nvPr/>
          </p:nvSpPr>
          <p:spPr>
            <a:xfrm>
              <a:off x="7372440" y="3603600"/>
              <a:ext cx="528480" cy="38556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0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1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Freeform 5"/>
          <p:cNvSpPr/>
          <p:nvPr/>
        </p:nvSpPr>
        <p:spPr>
          <a:xfrm>
            <a:off x="3451320" y="3367080"/>
            <a:ext cx="2457360" cy="2486160"/>
          </a:xfrm>
          <a:custGeom>
            <a:avLst/>
            <a:gdLst/>
            <a:ahLst/>
            <a:rect l="l" t="t" r="r" b="b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6"/>
          <p:cNvSpPr/>
          <p:nvPr/>
        </p:nvSpPr>
        <p:spPr>
          <a:xfrm>
            <a:off x="1092240" y="2638440"/>
            <a:ext cx="2473200" cy="2484360"/>
          </a:xfrm>
          <a:custGeom>
            <a:avLst/>
            <a:gdLst/>
            <a:ahLst/>
            <a:rect l="l" t="t" r="r" b="b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7"/>
          <p:cNvSpPr/>
          <p:nvPr/>
        </p:nvSpPr>
        <p:spPr>
          <a:xfrm>
            <a:off x="5830920" y="2638440"/>
            <a:ext cx="2471760" cy="2484360"/>
          </a:xfrm>
          <a:custGeom>
            <a:avLst/>
            <a:gdLst/>
            <a:ahLst/>
            <a:rect l="l" t="t" r="r" b="b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8"/>
          <p:cNvSpPr/>
          <p:nvPr/>
        </p:nvSpPr>
        <p:spPr>
          <a:xfrm>
            <a:off x="8356680" y="3367080"/>
            <a:ext cx="2463840" cy="2486160"/>
          </a:xfrm>
          <a:custGeom>
            <a:avLst/>
            <a:gdLst/>
            <a:ahLst/>
            <a:rect l="l" t="t" r="r" b="b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568520" y="4405320"/>
            <a:ext cx="1517760" cy="360"/>
            <a:chOff x="1568520" y="4405320"/>
            <a:chExt cx="1517760" cy="360"/>
          </a:xfrm>
        </p:grpSpPr>
        <p:sp>
          <p:nvSpPr>
            <p:cNvPr id="419" name="直接连接符 36"/>
            <p:cNvSpPr/>
            <p:nvPr/>
          </p:nvSpPr>
          <p:spPr>
            <a:xfrm>
              <a:off x="1568520" y="4405320"/>
              <a:ext cx="1517760" cy="0"/>
            </a:xfrm>
            <a:prstGeom prst="line">
              <a:avLst/>
            </a:prstGeom>
            <a:ln w="6480">
              <a:solidFill>
                <a:srgbClr val="0737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1568520" y="4405320"/>
              <a:ext cx="1517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346800" y="4405320"/>
            <a:ext cx="1517760" cy="360"/>
            <a:chOff x="6346800" y="4405320"/>
            <a:chExt cx="1517760" cy="360"/>
          </a:xfrm>
        </p:grpSpPr>
        <p:sp>
          <p:nvSpPr>
            <p:cNvPr id="422" name="直接连接符 40"/>
            <p:cNvSpPr/>
            <p:nvPr/>
          </p:nvSpPr>
          <p:spPr>
            <a:xfrm>
              <a:off x="6346800" y="4405320"/>
              <a:ext cx="1517760" cy="0"/>
            </a:xfrm>
            <a:prstGeom prst="line">
              <a:avLst/>
            </a:prstGeom>
            <a:ln w="6480">
              <a:solidFill>
                <a:srgbClr val="0737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6346800" y="4405320"/>
              <a:ext cx="1517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898800" y="4191120"/>
            <a:ext cx="1517760" cy="360"/>
            <a:chOff x="3898800" y="4191120"/>
            <a:chExt cx="1517760" cy="360"/>
          </a:xfrm>
        </p:grpSpPr>
        <p:sp>
          <p:nvSpPr>
            <p:cNvPr id="425" name="直接连接符 44"/>
            <p:cNvSpPr/>
            <p:nvPr/>
          </p:nvSpPr>
          <p:spPr>
            <a:xfrm>
              <a:off x="3898800" y="4191120"/>
              <a:ext cx="1517760" cy="0"/>
            </a:xfrm>
            <a:prstGeom prst="line">
              <a:avLst/>
            </a:prstGeom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3898800" y="4191120"/>
              <a:ext cx="1517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8813880" y="4191120"/>
            <a:ext cx="1517400" cy="360"/>
            <a:chOff x="8813880" y="4191120"/>
            <a:chExt cx="1517400" cy="360"/>
          </a:xfrm>
        </p:grpSpPr>
        <p:sp>
          <p:nvSpPr>
            <p:cNvPr id="428" name="直接连接符 48"/>
            <p:cNvSpPr/>
            <p:nvPr/>
          </p:nvSpPr>
          <p:spPr>
            <a:xfrm>
              <a:off x="8813880" y="4191120"/>
              <a:ext cx="1517400" cy="0"/>
            </a:xfrm>
            <a:prstGeom prst="line">
              <a:avLst/>
            </a:prstGeom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8813880" y="4191120"/>
              <a:ext cx="151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5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5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435" name="Freeform 108"/>
            <p:cNvSpPr/>
            <p:nvPr/>
          </p:nvSpPr>
          <p:spPr>
            <a:xfrm>
              <a:off x="4486320" y="3736080"/>
              <a:ext cx="65520" cy="666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09"/>
            <p:cNvSpPr/>
            <p:nvPr/>
          </p:nvSpPr>
          <p:spPr>
            <a:xfrm>
              <a:off x="4633920" y="3692880"/>
              <a:ext cx="55800" cy="558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10"/>
            <p:cNvSpPr/>
            <p:nvPr/>
          </p:nvSpPr>
          <p:spPr>
            <a:xfrm>
              <a:off x="4501440" y="3752280"/>
              <a:ext cx="35280" cy="352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11"/>
            <p:cNvSpPr/>
            <p:nvPr/>
          </p:nvSpPr>
          <p:spPr>
            <a:xfrm>
              <a:off x="4605840" y="3665160"/>
              <a:ext cx="111960" cy="1119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12"/>
            <p:cNvSpPr/>
            <p:nvPr/>
          </p:nvSpPr>
          <p:spPr>
            <a:xfrm>
              <a:off x="4406760" y="3543480"/>
              <a:ext cx="463680" cy="5187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441" name="Freeform 148"/>
            <p:cNvSpPr/>
            <p:nvPr/>
          </p:nvSpPr>
          <p:spPr>
            <a:xfrm>
              <a:off x="9408600" y="3527280"/>
              <a:ext cx="383040" cy="49572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49"/>
            <p:cNvSpPr/>
            <p:nvPr/>
          </p:nvSpPr>
          <p:spPr>
            <a:xfrm>
              <a:off x="9348840" y="3778560"/>
              <a:ext cx="252360" cy="24732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30"/>
          <p:cNvGrpSpPr/>
          <p:nvPr/>
        </p:nvGrpSpPr>
        <p:grpSpPr>
          <a:xfrm>
            <a:off x="6864480" y="3776760"/>
            <a:ext cx="423720" cy="420480"/>
            <a:chOff x="6864480" y="3776760"/>
            <a:chExt cx="423720" cy="420480"/>
          </a:xfrm>
        </p:grpSpPr>
        <p:sp>
          <p:nvSpPr>
            <p:cNvPr id="445" name="Freeform 136"/>
            <p:cNvSpPr/>
            <p:nvPr/>
          </p:nvSpPr>
          <p:spPr>
            <a:xfrm>
              <a:off x="6864480" y="4012560"/>
              <a:ext cx="423720" cy="18468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7"/>
            <p:cNvSpPr/>
            <p:nvPr/>
          </p:nvSpPr>
          <p:spPr>
            <a:xfrm>
              <a:off x="6864480" y="3776760"/>
              <a:ext cx="423720" cy="2444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33"/>
          <p:cNvGrpSpPr/>
          <p:nvPr/>
        </p:nvGrpSpPr>
        <p:grpSpPr>
          <a:xfrm>
            <a:off x="2125800" y="3703680"/>
            <a:ext cx="442800" cy="476280"/>
            <a:chOff x="2125800" y="3703680"/>
            <a:chExt cx="442800" cy="476280"/>
          </a:xfrm>
        </p:grpSpPr>
        <p:sp>
          <p:nvSpPr>
            <p:cNvPr id="448" name="Freeform 154"/>
            <p:cNvSpPr/>
            <p:nvPr/>
          </p:nvSpPr>
          <p:spPr>
            <a:xfrm>
              <a:off x="2259720" y="4108320"/>
              <a:ext cx="47880" cy="442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55"/>
            <p:cNvSpPr/>
            <p:nvPr/>
          </p:nvSpPr>
          <p:spPr>
            <a:xfrm>
              <a:off x="2278440" y="4102200"/>
              <a:ext cx="8640" cy="30960"/>
            </a:xfrm>
            <a:prstGeom prst="rect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56"/>
            <p:cNvSpPr/>
            <p:nvPr/>
          </p:nvSpPr>
          <p:spPr>
            <a:xfrm>
              <a:off x="2162880" y="3780720"/>
              <a:ext cx="247680" cy="2473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57"/>
            <p:cNvSpPr/>
            <p:nvPr/>
          </p:nvSpPr>
          <p:spPr>
            <a:xfrm>
              <a:off x="2125800" y="3703680"/>
              <a:ext cx="321480" cy="47628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58"/>
            <p:cNvSpPr/>
            <p:nvPr/>
          </p:nvSpPr>
          <p:spPr>
            <a:xfrm>
              <a:off x="2387520" y="3896280"/>
              <a:ext cx="181080" cy="1807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5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6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4" name="图片 8" descr=""/>
          <p:cNvPicPr/>
          <p:nvPr/>
        </p:nvPicPr>
        <p:blipFill>
          <a:blip r:embed="rId2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465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19"/>
          <p:cNvGrpSpPr/>
          <p:nvPr/>
        </p:nvGrpSpPr>
        <p:grpSpPr>
          <a:xfrm>
            <a:off x="3890880" y="2320920"/>
            <a:ext cx="424080" cy="406440"/>
            <a:chOff x="3890880" y="2320920"/>
            <a:chExt cx="424080" cy="406440"/>
          </a:xfrm>
        </p:grpSpPr>
        <p:sp>
          <p:nvSpPr>
            <p:cNvPr id="476" name="Oval 131"/>
            <p:cNvSpPr/>
            <p:nvPr/>
          </p:nvSpPr>
          <p:spPr>
            <a:xfrm>
              <a:off x="4007520" y="2320920"/>
              <a:ext cx="190800" cy="19260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34"/>
            <p:cNvSpPr/>
            <p:nvPr/>
          </p:nvSpPr>
          <p:spPr>
            <a:xfrm>
              <a:off x="3890880" y="2543760"/>
              <a:ext cx="424080" cy="18360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22"/>
          <p:cNvGrpSpPr/>
          <p:nvPr/>
        </p:nvGrpSpPr>
        <p:grpSpPr>
          <a:xfrm>
            <a:off x="3797280" y="3932280"/>
            <a:ext cx="533520" cy="404640"/>
            <a:chOff x="3797280" y="3932280"/>
            <a:chExt cx="533520" cy="404640"/>
          </a:xfrm>
        </p:grpSpPr>
        <p:sp>
          <p:nvSpPr>
            <p:cNvPr id="479" name="Freeform 20"/>
            <p:cNvSpPr/>
            <p:nvPr/>
          </p:nvSpPr>
          <p:spPr>
            <a:xfrm>
              <a:off x="3797280" y="3986280"/>
              <a:ext cx="353880" cy="3506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1"/>
            <p:cNvSpPr/>
            <p:nvPr/>
          </p:nvSpPr>
          <p:spPr>
            <a:xfrm>
              <a:off x="4121640" y="3932280"/>
              <a:ext cx="209160" cy="2088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组合 25"/>
          <p:cNvGrpSpPr/>
          <p:nvPr/>
        </p:nvGrpSpPr>
        <p:grpSpPr>
          <a:xfrm>
            <a:off x="3924360" y="5486400"/>
            <a:ext cx="301680" cy="387360"/>
            <a:chOff x="3924360" y="5486400"/>
            <a:chExt cx="301680" cy="387360"/>
          </a:xfrm>
        </p:grpSpPr>
        <p:sp>
          <p:nvSpPr>
            <p:cNvPr id="482" name="Freeform 32"/>
            <p:cNvSpPr/>
            <p:nvPr/>
          </p:nvSpPr>
          <p:spPr>
            <a:xfrm>
              <a:off x="4036320" y="5486400"/>
              <a:ext cx="76320" cy="387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3"/>
            <p:cNvSpPr/>
            <p:nvPr/>
          </p:nvSpPr>
          <p:spPr>
            <a:xfrm>
              <a:off x="3924360" y="5722920"/>
              <a:ext cx="75600" cy="1508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4"/>
            <p:cNvSpPr/>
            <p:nvPr/>
          </p:nvSpPr>
          <p:spPr>
            <a:xfrm>
              <a:off x="4149720" y="5610960"/>
              <a:ext cx="76320" cy="2628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组合 35"/>
          <p:cNvGrpSpPr/>
          <p:nvPr/>
        </p:nvGrpSpPr>
        <p:grpSpPr>
          <a:xfrm>
            <a:off x="8007480" y="2384280"/>
            <a:ext cx="345960" cy="343080"/>
            <a:chOff x="8007480" y="2384280"/>
            <a:chExt cx="345960" cy="343080"/>
          </a:xfrm>
        </p:grpSpPr>
        <p:sp>
          <p:nvSpPr>
            <p:cNvPr id="492" name="Freeform 136"/>
            <p:cNvSpPr/>
            <p:nvPr/>
          </p:nvSpPr>
          <p:spPr>
            <a:xfrm>
              <a:off x="8007480" y="2576520"/>
              <a:ext cx="345960" cy="150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37"/>
            <p:cNvSpPr/>
            <p:nvPr/>
          </p:nvSpPr>
          <p:spPr>
            <a:xfrm>
              <a:off x="8007480" y="2384280"/>
              <a:ext cx="345960" cy="1994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组合 38"/>
          <p:cNvGrpSpPr/>
          <p:nvPr/>
        </p:nvGrpSpPr>
        <p:grpSpPr>
          <a:xfrm>
            <a:off x="7997760" y="3963960"/>
            <a:ext cx="355680" cy="341280"/>
            <a:chOff x="7997760" y="3963960"/>
            <a:chExt cx="355680" cy="341280"/>
          </a:xfrm>
        </p:grpSpPr>
        <p:sp>
          <p:nvSpPr>
            <p:cNvPr id="495" name="Freeform 25"/>
            <p:cNvSpPr/>
            <p:nvPr/>
          </p:nvSpPr>
          <p:spPr>
            <a:xfrm>
              <a:off x="8128080" y="4209480"/>
              <a:ext cx="95400" cy="957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任意多边形 40"/>
            <p:cNvSpPr/>
            <p:nvPr/>
          </p:nvSpPr>
          <p:spPr>
            <a:xfrm>
              <a:off x="7997760" y="3963960"/>
              <a:ext cx="355680" cy="25992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41"/>
          <p:cNvGrpSpPr/>
          <p:nvPr/>
        </p:nvGrpSpPr>
        <p:grpSpPr>
          <a:xfrm>
            <a:off x="7994520" y="5452920"/>
            <a:ext cx="387360" cy="438120"/>
            <a:chOff x="7994520" y="5452920"/>
            <a:chExt cx="387360" cy="438120"/>
          </a:xfrm>
        </p:grpSpPr>
        <p:sp>
          <p:nvSpPr>
            <p:cNvPr id="498" name="Freeform 148"/>
            <p:cNvSpPr/>
            <p:nvPr/>
          </p:nvSpPr>
          <p:spPr>
            <a:xfrm>
              <a:off x="8047080" y="5452920"/>
              <a:ext cx="334800" cy="43560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49"/>
            <p:cNvSpPr/>
            <p:nvPr/>
          </p:nvSpPr>
          <p:spPr>
            <a:xfrm>
              <a:off x="7994520" y="5673600"/>
              <a:ext cx="221040" cy="2174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50"/>
            <p:cNvSpPr/>
            <p:nvPr/>
          </p:nvSpPr>
          <p:spPr>
            <a:xfrm>
              <a:off x="8087040" y="5764680"/>
              <a:ext cx="35640" cy="3564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5257800" y="4052880"/>
            <a:ext cx="5904000" cy="360"/>
            <a:chOff x="5257800" y="4052880"/>
            <a:chExt cx="5904000" cy="360"/>
          </a:xfrm>
        </p:grpSpPr>
        <p:sp>
          <p:nvSpPr>
            <p:cNvPr id="508" name="直接连接符 21"/>
            <p:cNvSpPr/>
            <p:nvPr/>
          </p:nvSpPr>
          <p:spPr>
            <a:xfrm flipH="1">
              <a:off x="5257800" y="4052880"/>
              <a:ext cx="5904000" cy="0"/>
            </a:xfrm>
            <a:prstGeom prst="line">
              <a:avLst/>
            </a:prstGeom>
            <a:ln w="1260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 rot="5400000">
              <a:off x="8209440" y="1100880"/>
              <a:ext cx="36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  <a:ea typeface="宋体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1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1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任意多边形 8"/>
          <p:cNvSpPr/>
          <p:nvPr/>
        </p:nvSpPr>
        <p:spPr>
          <a:xfrm>
            <a:off x="3778200" y="3276720"/>
            <a:ext cx="1446120" cy="144936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任意多边形 9"/>
          <p:cNvSpPr/>
          <p:nvPr/>
        </p:nvSpPr>
        <p:spPr>
          <a:xfrm flipH="1">
            <a:off x="5224320" y="3276720"/>
            <a:ext cx="1447920" cy="144936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任意多边形 10"/>
          <p:cNvSpPr/>
          <p:nvPr/>
        </p:nvSpPr>
        <p:spPr>
          <a:xfrm flipV="1">
            <a:off x="3778200" y="4726080"/>
            <a:ext cx="1446120" cy="144936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11"/>
          <p:cNvSpPr/>
          <p:nvPr/>
        </p:nvSpPr>
        <p:spPr>
          <a:xfrm flipH="1" flipV="1">
            <a:off x="5224320" y="4726080"/>
            <a:ext cx="1447920" cy="144936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任意多边形 22"/>
          <p:cNvSpPr/>
          <p:nvPr/>
        </p:nvSpPr>
        <p:spPr>
          <a:xfrm flipH="1" rot="687600">
            <a:off x="7293600" y="2317320"/>
            <a:ext cx="1039680" cy="104184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任意多边形 23"/>
          <p:cNvSpPr/>
          <p:nvPr/>
        </p:nvSpPr>
        <p:spPr>
          <a:xfrm rot="687000">
            <a:off x="6275520" y="2111040"/>
            <a:ext cx="1039680" cy="104148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任意多边形 25"/>
          <p:cNvSpPr/>
          <p:nvPr/>
        </p:nvSpPr>
        <p:spPr>
          <a:xfrm flipV="1" rot="687600">
            <a:off x="6068520" y="3129840"/>
            <a:ext cx="1040040" cy="104148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534" name="Freeform 108"/>
            <p:cNvSpPr/>
            <p:nvPr/>
          </p:nvSpPr>
          <p:spPr>
            <a:xfrm>
              <a:off x="4543560" y="4057920"/>
              <a:ext cx="65520" cy="662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09"/>
            <p:cNvSpPr/>
            <p:nvPr/>
          </p:nvSpPr>
          <p:spPr>
            <a:xfrm>
              <a:off x="4691160" y="4014720"/>
              <a:ext cx="55800" cy="558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10"/>
            <p:cNvSpPr/>
            <p:nvPr/>
          </p:nvSpPr>
          <p:spPr>
            <a:xfrm>
              <a:off x="4558680" y="4073760"/>
              <a:ext cx="35280" cy="352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11"/>
            <p:cNvSpPr/>
            <p:nvPr/>
          </p:nvSpPr>
          <p:spPr>
            <a:xfrm>
              <a:off x="4663080" y="3987000"/>
              <a:ext cx="111960" cy="1116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12"/>
            <p:cNvSpPr/>
            <p:nvPr/>
          </p:nvSpPr>
          <p:spPr>
            <a:xfrm>
              <a:off x="4464000" y="3865680"/>
              <a:ext cx="463680" cy="51732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46"/>
          <p:cNvGrpSpPr/>
          <p:nvPr/>
        </p:nvGrpSpPr>
        <p:grpSpPr>
          <a:xfrm>
            <a:off x="4470480" y="5000760"/>
            <a:ext cx="441360" cy="500040"/>
            <a:chOff x="4470480" y="5000760"/>
            <a:chExt cx="441360" cy="500040"/>
          </a:xfrm>
        </p:grpSpPr>
        <p:sp>
          <p:nvSpPr>
            <p:cNvPr id="540" name="Freeform 148"/>
            <p:cNvSpPr/>
            <p:nvPr/>
          </p:nvSpPr>
          <p:spPr>
            <a:xfrm>
              <a:off x="4530240" y="5000760"/>
              <a:ext cx="381600" cy="49716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9"/>
            <p:cNvSpPr/>
            <p:nvPr/>
          </p:nvSpPr>
          <p:spPr>
            <a:xfrm>
              <a:off x="4470480" y="5252760"/>
              <a:ext cx="251640" cy="2480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50"/>
            <p:cNvSpPr/>
            <p:nvPr/>
          </p:nvSpPr>
          <p:spPr>
            <a:xfrm>
              <a:off x="4575960" y="5356440"/>
              <a:ext cx="40320" cy="4068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组合 50"/>
          <p:cNvGrpSpPr/>
          <p:nvPr/>
        </p:nvGrpSpPr>
        <p:grpSpPr>
          <a:xfrm>
            <a:off x="5587920" y="3914640"/>
            <a:ext cx="424080" cy="419400"/>
            <a:chOff x="5587920" y="3914640"/>
            <a:chExt cx="424080" cy="419400"/>
          </a:xfrm>
        </p:grpSpPr>
        <p:sp>
          <p:nvSpPr>
            <p:cNvPr id="544" name="Freeform 136"/>
            <p:cNvSpPr/>
            <p:nvPr/>
          </p:nvSpPr>
          <p:spPr>
            <a:xfrm>
              <a:off x="5587920" y="4149720"/>
              <a:ext cx="424080" cy="18432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37"/>
            <p:cNvSpPr/>
            <p:nvPr/>
          </p:nvSpPr>
          <p:spPr>
            <a:xfrm>
              <a:off x="5587920" y="3914640"/>
              <a:ext cx="424080" cy="2437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547" name="Freeform 154"/>
            <p:cNvSpPr/>
            <p:nvPr/>
          </p:nvSpPr>
          <p:spPr>
            <a:xfrm>
              <a:off x="5785560" y="5373360"/>
              <a:ext cx="47880" cy="442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56"/>
            <p:cNvSpPr/>
            <p:nvPr/>
          </p:nvSpPr>
          <p:spPr>
            <a:xfrm>
              <a:off x="5688720" y="5045760"/>
              <a:ext cx="247680" cy="2473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57"/>
            <p:cNvSpPr/>
            <p:nvPr/>
          </p:nvSpPr>
          <p:spPr>
            <a:xfrm>
              <a:off x="5651640" y="4968720"/>
              <a:ext cx="321480" cy="47628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58"/>
            <p:cNvSpPr/>
            <p:nvPr/>
          </p:nvSpPr>
          <p:spPr>
            <a:xfrm>
              <a:off x="5913360" y="5161320"/>
              <a:ext cx="181080" cy="1807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553" name="Freeform 108"/>
            <p:cNvSpPr/>
            <p:nvPr/>
          </p:nvSpPr>
          <p:spPr>
            <a:xfrm rot="1029600">
              <a:off x="6807600" y="2754360"/>
              <a:ext cx="54000" cy="547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09"/>
            <p:cNvSpPr/>
            <p:nvPr/>
          </p:nvSpPr>
          <p:spPr>
            <a:xfrm rot="1029600">
              <a:off x="6935760" y="2755800"/>
              <a:ext cx="46080" cy="460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10"/>
            <p:cNvSpPr/>
            <p:nvPr/>
          </p:nvSpPr>
          <p:spPr>
            <a:xfrm rot="1029600">
              <a:off x="6819840" y="2768040"/>
              <a:ext cx="29160" cy="291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1"/>
            <p:cNvSpPr/>
            <p:nvPr/>
          </p:nvSpPr>
          <p:spPr>
            <a:xfrm rot="1029600">
              <a:off x="6912360" y="2732760"/>
              <a:ext cx="92160" cy="921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12"/>
            <p:cNvSpPr/>
            <p:nvPr/>
          </p:nvSpPr>
          <p:spPr>
            <a:xfrm rot="1029600">
              <a:off x="6729480" y="2624040"/>
              <a:ext cx="382680" cy="4269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组合 65"/>
          <p:cNvGrpSpPr/>
          <p:nvPr/>
        </p:nvGrpSpPr>
        <p:grpSpPr>
          <a:xfrm>
            <a:off x="6522840" y="3314880"/>
            <a:ext cx="468720" cy="483480"/>
            <a:chOff x="6522840" y="3314880"/>
            <a:chExt cx="468720" cy="483480"/>
          </a:xfrm>
        </p:grpSpPr>
        <p:sp>
          <p:nvSpPr>
            <p:cNvPr id="559" name="Freeform 148"/>
            <p:cNvSpPr/>
            <p:nvPr/>
          </p:nvSpPr>
          <p:spPr>
            <a:xfrm rot="1029600">
              <a:off x="6623640" y="3351960"/>
              <a:ext cx="314280" cy="40896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49"/>
            <p:cNvSpPr/>
            <p:nvPr/>
          </p:nvSpPr>
          <p:spPr>
            <a:xfrm rot="1029600">
              <a:off x="6548040" y="3524400"/>
              <a:ext cx="207360" cy="20376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50"/>
            <p:cNvSpPr/>
            <p:nvPr/>
          </p:nvSpPr>
          <p:spPr>
            <a:xfrm rot="1029600">
              <a:off x="6634800" y="3609360"/>
              <a:ext cx="33120" cy="331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69"/>
          <p:cNvGrpSpPr/>
          <p:nvPr/>
        </p:nvGrpSpPr>
        <p:grpSpPr>
          <a:xfrm>
            <a:off x="7507080" y="2778480"/>
            <a:ext cx="437400" cy="434520"/>
            <a:chOff x="7507080" y="2778480"/>
            <a:chExt cx="437400" cy="434520"/>
          </a:xfrm>
        </p:grpSpPr>
        <p:sp>
          <p:nvSpPr>
            <p:cNvPr id="563" name="Freeform 136"/>
            <p:cNvSpPr/>
            <p:nvPr/>
          </p:nvSpPr>
          <p:spPr>
            <a:xfrm rot="1029600">
              <a:off x="7521480" y="3012120"/>
              <a:ext cx="350640" cy="15228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37"/>
            <p:cNvSpPr/>
            <p:nvPr/>
          </p:nvSpPr>
          <p:spPr>
            <a:xfrm rot="1029600">
              <a:off x="7571520" y="2825640"/>
              <a:ext cx="350640" cy="2012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566" name="Freeform 154"/>
            <p:cNvSpPr/>
            <p:nvPr/>
          </p:nvSpPr>
          <p:spPr>
            <a:xfrm rot="1029600">
              <a:off x="7492320" y="3848760"/>
              <a:ext cx="39240" cy="3636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56"/>
            <p:cNvSpPr/>
            <p:nvPr/>
          </p:nvSpPr>
          <p:spPr>
            <a:xfrm rot="1029600">
              <a:off x="7467840" y="3588120"/>
              <a:ext cx="203400" cy="20376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57"/>
            <p:cNvSpPr/>
            <p:nvPr/>
          </p:nvSpPr>
          <p:spPr>
            <a:xfrm rot="1029600">
              <a:off x="7428600" y="3523320"/>
              <a:ext cx="263880" cy="3920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58"/>
            <p:cNvSpPr/>
            <p:nvPr/>
          </p:nvSpPr>
          <p:spPr>
            <a:xfrm rot="1029600">
              <a:off x="7625520" y="3726720"/>
              <a:ext cx="148680" cy="1490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93255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reeform 265"/>
          <p:cNvSpPr/>
          <p:nvPr/>
        </p:nvSpPr>
        <p:spPr>
          <a:xfrm>
            <a:off x="4635360" y="2795760"/>
            <a:ext cx="1305000" cy="1604880"/>
          </a:xfrm>
          <a:custGeom>
            <a:avLst/>
            <a:gdLst/>
            <a:ahLst/>
            <a:rect l="l" t="t" r="r" b="b"/>
            <a:pathLst>
              <a:path w="312" h="385">
                <a:moveTo>
                  <a:pt x="169" y="193"/>
                </a:moveTo>
                <a:cubicBezTo>
                  <a:pt x="170" y="265"/>
                  <a:pt x="254" y="358"/>
                  <a:pt x="312" y="385"/>
                </a:cubicBezTo>
                <a:cubicBezTo>
                  <a:pt x="304" y="385"/>
                  <a:pt x="104" y="302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09"/>
                  <a:pt x="1" y="202"/>
                  <a:pt x="1" y="193"/>
                </a:cubicBezTo>
                <a:cubicBezTo>
                  <a:pt x="1" y="184"/>
                  <a:pt x="0" y="176"/>
                  <a:pt x="3" y="168"/>
                </a:cubicBezTo>
                <a:cubicBezTo>
                  <a:pt x="9" y="139"/>
                  <a:pt x="28" y="113"/>
                  <a:pt x="58" y="102"/>
                </a:cubicBezTo>
                <a:cubicBezTo>
                  <a:pt x="104" y="83"/>
                  <a:pt x="304" y="0"/>
                  <a:pt x="312" y="0"/>
                </a:cubicBezTo>
                <a:cubicBezTo>
                  <a:pt x="254" y="27"/>
                  <a:pt x="170" y="116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263"/>
          <p:cNvSpPr/>
          <p:nvPr/>
        </p:nvSpPr>
        <p:spPr>
          <a:xfrm>
            <a:off x="6307200" y="3851280"/>
            <a:ext cx="1299960" cy="1606680"/>
          </a:xfrm>
          <a:custGeom>
            <a:avLst/>
            <a:gdLst/>
            <a:ahLst/>
            <a:rect l="l" t="t" r="r" b="b"/>
            <a:pathLst>
              <a:path w="311" h="385">
                <a:moveTo>
                  <a:pt x="143" y="192"/>
                </a:moveTo>
                <a:cubicBezTo>
                  <a:pt x="142" y="120"/>
                  <a:pt x="58" y="27"/>
                  <a:pt x="0" y="0"/>
                </a:cubicBezTo>
                <a:cubicBezTo>
                  <a:pt x="7" y="0"/>
                  <a:pt x="208" y="83"/>
                  <a:pt x="254" y="101"/>
                </a:cubicBezTo>
                <a:cubicBezTo>
                  <a:pt x="283" y="113"/>
                  <a:pt x="303" y="139"/>
                  <a:pt x="309" y="168"/>
                </a:cubicBezTo>
                <a:cubicBezTo>
                  <a:pt x="311" y="175"/>
                  <a:pt x="311" y="183"/>
                  <a:pt x="311" y="192"/>
                </a:cubicBezTo>
                <a:cubicBezTo>
                  <a:pt x="311" y="201"/>
                  <a:pt x="311" y="209"/>
                  <a:pt x="309" y="217"/>
                </a:cubicBezTo>
                <a:cubicBezTo>
                  <a:pt x="303" y="246"/>
                  <a:pt x="283" y="271"/>
                  <a:pt x="254" y="283"/>
                </a:cubicBezTo>
                <a:cubicBezTo>
                  <a:pt x="208" y="302"/>
                  <a:pt x="7" y="385"/>
                  <a:pt x="0" y="385"/>
                </a:cubicBezTo>
                <a:cubicBezTo>
                  <a:pt x="58" y="358"/>
                  <a:pt x="142" y="269"/>
                  <a:pt x="143" y="192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266"/>
          <p:cNvSpPr/>
          <p:nvPr/>
        </p:nvSpPr>
        <p:spPr>
          <a:xfrm>
            <a:off x="4635360" y="4902120"/>
            <a:ext cx="1305000" cy="1609920"/>
          </a:xfrm>
          <a:custGeom>
            <a:avLst/>
            <a:gdLst/>
            <a:ahLst/>
            <a:rect l="l" t="t" r="r" b="b"/>
            <a:pathLst>
              <a:path w="312" h="386">
                <a:moveTo>
                  <a:pt x="169" y="193"/>
                </a:moveTo>
                <a:cubicBezTo>
                  <a:pt x="170" y="266"/>
                  <a:pt x="254" y="358"/>
                  <a:pt x="312" y="386"/>
                </a:cubicBezTo>
                <a:cubicBezTo>
                  <a:pt x="304" y="386"/>
                  <a:pt x="104" y="303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10"/>
                  <a:pt x="1" y="203"/>
                  <a:pt x="1" y="193"/>
                </a:cubicBezTo>
                <a:cubicBezTo>
                  <a:pt x="1" y="185"/>
                  <a:pt x="0" y="176"/>
                  <a:pt x="3" y="169"/>
                </a:cubicBezTo>
                <a:cubicBezTo>
                  <a:pt x="9" y="140"/>
                  <a:pt x="28" y="114"/>
                  <a:pt x="58" y="102"/>
                </a:cubicBezTo>
                <a:cubicBezTo>
                  <a:pt x="104" y="83"/>
                  <a:pt x="304" y="0"/>
                  <a:pt x="312" y="1"/>
                </a:cubicBezTo>
                <a:cubicBezTo>
                  <a:pt x="254" y="28"/>
                  <a:pt x="170" y="117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267"/>
          <p:cNvSpPr/>
          <p:nvPr/>
        </p:nvSpPr>
        <p:spPr>
          <a:xfrm>
            <a:off x="6307200" y="1739880"/>
            <a:ext cx="1299960" cy="1611360"/>
          </a:xfrm>
          <a:custGeom>
            <a:avLst/>
            <a:gdLst/>
            <a:ahLst/>
            <a:rect l="l" t="t" r="r" b="b"/>
            <a:pathLst>
              <a:path w="311" h="386">
                <a:moveTo>
                  <a:pt x="143" y="193"/>
                </a:moveTo>
                <a:cubicBezTo>
                  <a:pt x="142" y="120"/>
                  <a:pt x="58" y="28"/>
                  <a:pt x="0" y="0"/>
                </a:cubicBezTo>
                <a:cubicBezTo>
                  <a:pt x="7" y="0"/>
                  <a:pt x="208" y="83"/>
                  <a:pt x="254" y="102"/>
                </a:cubicBezTo>
                <a:cubicBezTo>
                  <a:pt x="283" y="114"/>
                  <a:pt x="303" y="140"/>
                  <a:pt x="309" y="169"/>
                </a:cubicBezTo>
                <a:cubicBezTo>
                  <a:pt x="311" y="176"/>
                  <a:pt x="311" y="183"/>
                  <a:pt x="311" y="193"/>
                </a:cubicBezTo>
                <a:cubicBezTo>
                  <a:pt x="311" y="201"/>
                  <a:pt x="311" y="210"/>
                  <a:pt x="309" y="217"/>
                </a:cubicBezTo>
                <a:cubicBezTo>
                  <a:pt x="303" y="246"/>
                  <a:pt x="283" y="272"/>
                  <a:pt x="254" y="284"/>
                </a:cubicBezTo>
                <a:cubicBezTo>
                  <a:pt x="208" y="303"/>
                  <a:pt x="7" y="386"/>
                  <a:pt x="0" y="385"/>
                </a:cubicBezTo>
                <a:cubicBezTo>
                  <a:pt x="58" y="358"/>
                  <a:pt x="142" y="269"/>
                  <a:pt x="143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7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8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任意多边形 8"/>
          <p:cNvSpPr/>
          <p:nvPr/>
        </p:nvSpPr>
        <p:spPr>
          <a:xfrm>
            <a:off x="1601640" y="32767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任意多边形 10"/>
          <p:cNvSpPr/>
          <p:nvPr/>
        </p:nvSpPr>
        <p:spPr>
          <a:xfrm>
            <a:off x="1585800" y="56275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任意多边形 13"/>
          <p:cNvSpPr/>
          <p:nvPr/>
        </p:nvSpPr>
        <p:spPr>
          <a:xfrm>
            <a:off x="7558200" y="444672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任意多边形 47"/>
          <p:cNvSpPr/>
          <p:nvPr/>
        </p:nvSpPr>
        <p:spPr>
          <a:xfrm>
            <a:off x="5810400" y="1724040"/>
            <a:ext cx="955440" cy="587520"/>
          </a:xfrm>
          <a:custGeom>
            <a:avLst/>
            <a:gdLst/>
            <a:ahLst/>
            <a:rect l="l" t="t" r="r" b="b"/>
            <a:pathLst>
              <a:path w="956472" h="588502">
                <a:moveTo>
                  <a:pt x="367535" y="414"/>
                </a:moveTo>
                <a:cubicBezTo>
                  <a:pt x="414525" y="-1542"/>
                  <a:pt x="459687" y="3413"/>
                  <a:pt x="498323" y="15928"/>
                </a:cubicBezTo>
                <a:lnTo>
                  <a:pt x="508117" y="19778"/>
                </a:lnTo>
                <a:lnTo>
                  <a:pt x="497633" y="16980"/>
                </a:lnTo>
                <a:cubicBezTo>
                  <a:pt x="618911" y="75378"/>
                  <a:pt x="767371" y="200518"/>
                  <a:pt x="886034" y="349121"/>
                </a:cubicBezTo>
                <a:lnTo>
                  <a:pt x="956472" y="447432"/>
                </a:lnTo>
                <a:lnTo>
                  <a:pt x="947460" y="449990"/>
                </a:lnTo>
                <a:cubicBezTo>
                  <a:pt x="670620" y="526992"/>
                  <a:pt x="284258" y="618253"/>
                  <a:pt x="185058" y="579141"/>
                </a:cubicBezTo>
                <a:cubicBezTo>
                  <a:pt x="34690" y="516562"/>
                  <a:pt x="-40494" y="341340"/>
                  <a:pt x="22159" y="186978"/>
                </a:cubicBezTo>
                <a:cubicBezTo>
                  <a:pt x="69149" y="74336"/>
                  <a:pt x="226565" y="6281"/>
                  <a:pt x="367535" y="41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任意多边形 43"/>
          <p:cNvSpPr/>
          <p:nvPr/>
        </p:nvSpPr>
        <p:spPr>
          <a:xfrm>
            <a:off x="5479920" y="5938920"/>
            <a:ext cx="959040" cy="588960"/>
          </a:xfrm>
          <a:custGeom>
            <a:avLst/>
            <a:gdLst/>
            <a:ahLst/>
            <a:rect l="l" t="t" r="r" b="b"/>
            <a:pathLst>
              <a:path w="958283" h="588461">
                <a:moveTo>
                  <a:pt x="682412" y="383"/>
                </a:moveTo>
                <a:cubicBezTo>
                  <a:pt x="722060" y="-1068"/>
                  <a:pt x="753387" y="1540"/>
                  <a:pt x="773227" y="9362"/>
                </a:cubicBezTo>
                <a:cubicBezTo>
                  <a:pt x="923594" y="71942"/>
                  <a:pt x="998778" y="247163"/>
                  <a:pt x="936125" y="397353"/>
                </a:cubicBezTo>
                <a:cubicBezTo>
                  <a:pt x="873472" y="551715"/>
                  <a:pt x="614506" y="622638"/>
                  <a:pt x="459961" y="572575"/>
                </a:cubicBezTo>
                <a:lnTo>
                  <a:pt x="455815" y="570945"/>
                </a:lnTo>
                <a:lnTo>
                  <a:pt x="364165" y="517308"/>
                </a:lnTo>
                <a:cubicBezTo>
                  <a:pt x="265785" y="450510"/>
                  <a:pt x="160136" y="352256"/>
                  <a:pt x="71230" y="240804"/>
                </a:cubicBezTo>
                <a:lnTo>
                  <a:pt x="0" y="141285"/>
                </a:lnTo>
                <a:lnTo>
                  <a:pt x="9805" y="138513"/>
                </a:lnTo>
                <a:cubicBezTo>
                  <a:pt x="232093" y="76912"/>
                  <a:pt x="523822" y="6185"/>
                  <a:pt x="682412" y="383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任意多边形 41"/>
          <p:cNvSpPr/>
          <p:nvPr/>
        </p:nvSpPr>
        <p:spPr>
          <a:xfrm>
            <a:off x="5477040" y="4884840"/>
            <a:ext cx="1295280" cy="588960"/>
          </a:xfrm>
          <a:custGeom>
            <a:avLst/>
            <a:gdLst/>
            <a:ahLst/>
            <a:rect l="l" t="t" r="r" b="b"/>
            <a:pathLst>
              <a:path w="1294816" h="589332">
                <a:moveTo>
                  <a:pt x="571291" y="494"/>
                </a:moveTo>
                <a:cubicBezTo>
                  <a:pt x="692429" y="-5765"/>
                  <a:pt x="942016" y="48480"/>
                  <a:pt x="1161841" y="105854"/>
                </a:cubicBezTo>
                <a:lnTo>
                  <a:pt x="1294816" y="142080"/>
                </a:lnTo>
                <a:lnTo>
                  <a:pt x="1218043" y="248659"/>
                </a:lnTo>
                <a:cubicBezTo>
                  <a:pt x="1129046" y="358932"/>
                  <a:pt x="1023287" y="454541"/>
                  <a:pt x="924807" y="519209"/>
                </a:cubicBezTo>
                <a:lnTo>
                  <a:pt x="832811" y="571170"/>
                </a:lnTo>
                <a:lnTo>
                  <a:pt x="830276" y="572149"/>
                </a:lnTo>
                <a:cubicBezTo>
                  <a:pt x="796859" y="580494"/>
                  <a:pt x="759264" y="588839"/>
                  <a:pt x="721670" y="588839"/>
                </a:cubicBezTo>
                <a:cubicBezTo>
                  <a:pt x="600532" y="595098"/>
                  <a:pt x="350945" y="540854"/>
                  <a:pt x="130598" y="483480"/>
                </a:cubicBezTo>
                <a:lnTo>
                  <a:pt x="0" y="448014"/>
                </a:lnTo>
                <a:lnTo>
                  <a:pt x="73896" y="345763"/>
                </a:lnTo>
                <a:cubicBezTo>
                  <a:pt x="192437" y="199246"/>
                  <a:pt x="340745" y="78278"/>
                  <a:pt x="461897" y="21966"/>
                </a:cubicBezTo>
                <a:lnTo>
                  <a:pt x="459978" y="22363"/>
                </a:lnTo>
                <a:lnTo>
                  <a:pt x="462684" y="21358"/>
                </a:lnTo>
                <a:cubicBezTo>
                  <a:pt x="496101" y="8840"/>
                  <a:pt x="529519" y="494"/>
                  <a:pt x="571291" y="49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任意多边形 37"/>
          <p:cNvSpPr/>
          <p:nvPr/>
        </p:nvSpPr>
        <p:spPr>
          <a:xfrm>
            <a:off x="5481720" y="3833640"/>
            <a:ext cx="1284120" cy="584280"/>
          </a:xfrm>
          <a:custGeom>
            <a:avLst/>
            <a:gdLst/>
            <a:ahLst/>
            <a:rect l="l" t="t" r="r" b="b"/>
            <a:pathLst>
              <a:path w="1283353" h="584886">
                <a:moveTo>
                  <a:pt x="704804" y="1085"/>
                </a:moveTo>
                <a:cubicBezTo>
                  <a:pt x="746576" y="-3085"/>
                  <a:pt x="788348" y="5254"/>
                  <a:pt x="825942" y="17763"/>
                </a:cubicBezTo>
                <a:lnTo>
                  <a:pt x="831874" y="19965"/>
                </a:lnTo>
                <a:lnTo>
                  <a:pt x="825308" y="18213"/>
                </a:lnTo>
                <a:cubicBezTo>
                  <a:pt x="946586" y="74523"/>
                  <a:pt x="1095046" y="199655"/>
                  <a:pt x="1213709" y="348250"/>
                </a:cubicBezTo>
                <a:lnTo>
                  <a:pt x="1283353" y="445420"/>
                </a:lnTo>
                <a:lnTo>
                  <a:pt x="1170039" y="476419"/>
                </a:lnTo>
                <a:cubicBezTo>
                  <a:pt x="955436" y="532708"/>
                  <a:pt x="708981" y="586913"/>
                  <a:pt x="579488" y="584828"/>
                </a:cubicBezTo>
                <a:cubicBezTo>
                  <a:pt x="537717" y="584828"/>
                  <a:pt x="495945" y="580658"/>
                  <a:pt x="458350" y="568149"/>
                </a:cubicBezTo>
                <a:lnTo>
                  <a:pt x="456445" y="567415"/>
                </a:lnTo>
                <a:lnTo>
                  <a:pt x="457564" y="567700"/>
                </a:lnTo>
                <a:cubicBezTo>
                  <a:pt x="336412" y="511391"/>
                  <a:pt x="188104" y="386258"/>
                  <a:pt x="69563" y="237664"/>
                </a:cubicBezTo>
                <a:lnTo>
                  <a:pt x="0" y="140506"/>
                </a:lnTo>
                <a:lnTo>
                  <a:pt x="113732" y="109494"/>
                </a:lnTo>
                <a:cubicBezTo>
                  <a:pt x="328857" y="53205"/>
                  <a:pt x="575311" y="-1000"/>
                  <a:pt x="704804" y="1085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任意多边形 45"/>
          <p:cNvSpPr/>
          <p:nvPr/>
        </p:nvSpPr>
        <p:spPr>
          <a:xfrm>
            <a:off x="5477040" y="2778120"/>
            <a:ext cx="1293480" cy="588960"/>
          </a:xfrm>
          <a:custGeom>
            <a:avLst/>
            <a:gdLst/>
            <a:ahLst/>
            <a:rect l="l" t="t" r="r" b="b"/>
            <a:pathLst>
              <a:path w="1293475" h="589382">
                <a:moveTo>
                  <a:pt x="584597" y="59"/>
                </a:moveTo>
                <a:cubicBezTo>
                  <a:pt x="714090" y="-2031"/>
                  <a:pt x="960545" y="52304"/>
                  <a:pt x="1175148" y="108729"/>
                </a:cubicBezTo>
                <a:lnTo>
                  <a:pt x="1293475" y="141176"/>
                </a:lnTo>
                <a:lnTo>
                  <a:pt x="1218817" y="244375"/>
                </a:lnTo>
                <a:cubicBezTo>
                  <a:pt x="1100154" y="390892"/>
                  <a:pt x="951694" y="511860"/>
                  <a:pt x="830416" y="568173"/>
                </a:cubicBezTo>
                <a:lnTo>
                  <a:pt x="833941" y="567409"/>
                </a:lnTo>
                <a:lnTo>
                  <a:pt x="831051" y="568484"/>
                </a:lnTo>
                <a:cubicBezTo>
                  <a:pt x="793457" y="581023"/>
                  <a:pt x="751685" y="589382"/>
                  <a:pt x="709913" y="589382"/>
                </a:cubicBezTo>
                <a:cubicBezTo>
                  <a:pt x="580420" y="589382"/>
                  <a:pt x="333966" y="534002"/>
                  <a:pt x="118841" y="477578"/>
                </a:cubicBezTo>
                <a:lnTo>
                  <a:pt x="0" y="445247"/>
                </a:lnTo>
                <a:lnTo>
                  <a:pt x="74672" y="341478"/>
                </a:lnTo>
                <a:cubicBezTo>
                  <a:pt x="193213" y="194448"/>
                  <a:pt x="341521" y="73487"/>
                  <a:pt x="462673" y="17177"/>
                </a:cubicBezTo>
                <a:lnTo>
                  <a:pt x="461942" y="17364"/>
                </a:lnTo>
                <a:lnTo>
                  <a:pt x="463459" y="16777"/>
                </a:lnTo>
                <a:cubicBezTo>
                  <a:pt x="501054" y="4238"/>
                  <a:pt x="542826" y="59"/>
                  <a:pt x="584597" y="59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任意多边形 24"/>
          <p:cNvSpPr/>
          <p:nvPr/>
        </p:nvSpPr>
        <p:spPr>
          <a:xfrm>
            <a:off x="7558200" y="236520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604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608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任意多边形 8"/>
          <p:cNvSpPr/>
          <p:nvPr/>
        </p:nvSpPr>
        <p:spPr>
          <a:xfrm>
            <a:off x="0" y="2028960"/>
            <a:ext cx="5946840" cy="4273560"/>
          </a:xfrm>
          <a:custGeom>
            <a:avLst/>
            <a:gdLst/>
            <a:ahLst/>
            <a:rect l="l" t="t" r="r" b="b"/>
            <a:pathLst>
              <a:path w="5956574" h="4274456">
                <a:moveTo>
                  <a:pt x="0" y="0"/>
                </a:moveTo>
                <a:lnTo>
                  <a:pt x="5956574" y="0"/>
                </a:lnTo>
                <a:lnTo>
                  <a:pt x="4807721" y="4274456"/>
                </a:lnTo>
                <a:lnTo>
                  <a:pt x="0" y="427445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9"/>
          <p:cNvSpPr/>
          <p:nvPr/>
        </p:nvSpPr>
        <p:spPr>
          <a:xfrm>
            <a:off x="4781520" y="2028960"/>
            <a:ext cx="7410600" cy="4273560"/>
          </a:xfrm>
          <a:custGeom>
            <a:avLst/>
            <a:gdLst/>
            <a:ahLst/>
            <a:rect l="l" t="t" r="r" b="b"/>
            <a:pathLst>
              <a:path w="7410388" h="4274456">
                <a:moveTo>
                  <a:pt x="1148853" y="0"/>
                </a:moveTo>
                <a:lnTo>
                  <a:pt x="7410388" y="0"/>
                </a:lnTo>
                <a:lnTo>
                  <a:pt x="7410388" y="4274456"/>
                </a:lnTo>
                <a:lnTo>
                  <a:pt x="0" y="4274456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617" name="Freeform 25"/>
            <p:cNvSpPr/>
            <p:nvPr/>
          </p:nvSpPr>
          <p:spPr>
            <a:xfrm>
              <a:off x="6765480" y="3278520"/>
              <a:ext cx="112680" cy="11232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 16"/>
            <p:cNvSpPr/>
            <p:nvPr/>
          </p:nvSpPr>
          <p:spPr>
            <a:xfrm>
              <a:off x="6611760" y="2990880"/>
              <a:ext cx="419400" cy="30456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620" name="Freeform 32"/>
            <p:cNvSpPr/>
            <p:nvPr/>
          </p:nvSpPr>
          <p:spPr>
            <a:xfrm>
              <a:off x="6774840" y="4768920"/>
              <a:ext cx="93600" cy="47304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33"/>
            <p:cNvSpPr/>
            <p:nvPr/>
          </p:nvSpPr>
          <p:spPr>
            <a:xfrm>
              <a:off x="6637320" y="5057640"/>
              <a:ext cx="92520" cy="18432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34"/>
            <p:cNvSpPr/>
            <p:nvPr/>
          </p:nvSpPr>
          <p:spPr>
            <a:xfrm>
              <a:off x="6913800" y="4920840"/>
              <a:ext cx="93600" cy="32112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624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628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任意多边形 11"/>
          <p:cNvSpPr/>
          <p:nvPr/>
        </p:nvSpPr>
        <p:spPr>
          <a:xfrm>
            <a:off x="1089000" y="3543480"/>
            <a:ext cx="2509920" cy="252360"/>
          </a:xfrm>
          <a:custGeom>
            <a:avLst/>
            <a:gdLst/>
            <a:ahLst/>
            <a:rect l="l" t="t" r="r" b="b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任意多边形 13"/>
          <p:cNvSpPr/>
          <p:nvPr/>
        </p:nvSpPr>
        <p:spPr>
          <a:xfrm>
            <a:off x="4851360" y="3543480"/>
            <a:ext cx="2509920" cy="252360"/>
          </a:xfrm>
          <a:custGeom>
            <a:avLst/>
            <a:gdLst/>
            <a:ahLst/>
            <a:rect l="l" t="t" r="r" b="b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任意多边形 15"/>
          <p:cNvSpPr/>
          <p:nvPr/>
        </p:nvSpPr>
        <p:spPr>
          <a:xfrm>
            <a:off x="8613720" y="3543480"/>
            <a:ext cx="2509920" cy="252360"/>
          </a:xfrm>
          <a:custGeom>
            <a:avLst/>
            <a:gdLst/>
            <a:ahLst/>
            <a:rect l="l" t="t" r="r" b="b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64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65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任意多边形 59"/>
          <p:cNvSpPr/>
          <p:nvPr/>
        </p:nvSpPr>
        <p:spPr>
          <a:xfrm>
            <a:off x="5584680" y="1800360"/>
            <a:ext cx="1038240" cy="998280"/>
          </a:xfrm>
          <a:custGeom>
            <a:avLst/>
            <a:gdLst/>
            <a:ahLst/>
            <a:rect l="l" t="t" r="r" b="b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任意多边形 60"/>
          <p:cNvSpPr/>
          <p:nvPr/>
        </p:nvSpPr>
        <p:spPr>
          <a:xfrm flipH="1" flipV="1">
            <a:off x="5584680" y="4881600"/>
            <a:ext cx="1038240" cy="998640"/>
          </a:xfrm>
          <a:custGeom>
            <a:avLst/>
            <a:gdLst/>
            <a:ahLst/>
            <a:rect l="l" t="t" r="r" b="b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任意多边形 85"/>
          <p:cNvSpPr/>
          <p:nvPr/>
        </p:nvSpPr>
        <p:spPr>
          <a:xfrm flipH="1">
            <a:off x="7085160" y="3297240"/>
            <a:ext cx="4022640" cy="1006560"/>
          </a:xfrm>
          <a:custGeom>
            <a:avLst/>
            <a:gdLst/>
            <a:ahLst/>
            <a:rect l="l" t="t" r="r" b="b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任意多边形 89"/>
          <p:cNvSpPr/>
          <p:nvPr/>
        </p:nvSpPr>
        <p:spPr>
          <a:xfrm>
            <a:off x="1082520" y="2298600"/>
            <a:ext cx="4040280" cy="1008000"/>
          </a:xfrm>
          <a:custGeom>
            <a:avLst/>
            <a:gdLst/>
            <a:ahLst/>
            <a:rect l="l" t="t" r="r" b="b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任意多边形 91"/>
          <p:cNvSpPr/>
          <p:nvPr/>
        </p:nvSpPr>
        <p:spPr>
          <a:xfrm>
            <a:off x="1082520" y="4330800"/>
            <a:ext cx="4040280" cy="1006200"/>
          </a:xfrm>
          <a:custGeom>
            <a:avLst/>
            <a:gdLst/>
            <a:ahLst/>
            <a:rect l="l" t="t" r="r" b="b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任意多边形 87"/>
          <p:cNvSpPr/>
          <p:nvPr/>
        </p:nvSpPr>
        <p:spPr>
          <a:xfrm flipH="1">
            <a:off x="7085160" y="5378400"/>
            <a:ext cx="4022640" cy="1006560"/>
          </a:xfrm>
          <a:custGeom>
            <a:avLst/>
            <a:gdLst/>
            <a:ahLst/>
            <a:rect l="l" t="t" r="r" b="b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任意多边形 86"/>
          <p:cNvSpPr/>
          <p:nvPr/>
        </p:nvSpPr>
        <p:spPr>
          <a:xfrm flipH="1">
            <a:off x="6622920" y="2803680"/>
            <a:ext cx="479520" cy="1500120"/>
          </a:xfrm>
          <a:custGeom>
            <a:avLst/>
            <a:gdLst/>
            <a:ahLst/>
            <a:rect l="l" t="t" r="r" b="b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任意多边形 88"/>
          <p:cNvSpPr/>
          <p:nvPr/>
        </p:nvSpPr>
        <p:spPr>
          <a:xfrm flipH="1">
            <a:off x="6622920" y="4886280"/>
            <a:ext cx="479520" cy="1500120"/>
          </a:xfrm>
          <a:custGeom>
            <a:avLst/>
            <a:gdLst/>
            <a:ahLst/>
            <a:rect l="l" t="t" r="r" b="b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任意多边形 90"/>
          <p:cNvSpPr/>
          <p:nvPr/>
        </p:nvSpPr>
        <p:spPr>
          <a:xfrm>
            <a:off x="5105520" y="1806480"/>
            <a:ext cx="479160" cy="1500120"/>
          </a:xfrm>
          <a:custGeom>
            <a:avLst/>
            <a:gdLst/>
            <a:ahLst/>
            <a:rect l="l" t="t" r="r" b="b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任意多边形 92"/>
          <p:cNvSpPr/>
          <p:nvPr/>
        </p:nvSpPr>
        <p:spPr>
          <a:xfrm>
            <a:off x="5105520" y="3838680"/>
            <a:ext cx="479160" cy="1498320"/>
          </a:xfrm>
          <a:custGeom>
            <a:avLst/>
            <a:gdLst/>
            <a:ahLst/>
            <a:rect l="l" t="t" r="r" b="b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669" name="Freeform 108"/>
            <p:cNvSpPr/>
            <p:nvPr/>
          </p:nvSpPr>
          <p:spPr>
            <a:xfrm>
              <a:off x="6001200" y="2290680"/>
              <a:ext cx="52920" cy="536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09"/>
            <p:cNvSpPr/>
            <p:nvPr/>
          </p:nvSpPr>
          <p:spPr>
            <a:xfrm>
              <a:off x="6120720" y="2255760"/>
              <a:ext cx="45000" cy="450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10"/>
            <p:cNvSpPr/>
            <p:nvPr/>
          </p:nvSpPr>
          <p:spPr>
            <a:xfrm>
              <a:off x="6013440" y="2303640"/>
              <a:ext cx="28440" cy="284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11"/>
            <p:cNvSpPr/>
            <p:nvPr/>
          </p:nvSpPr>
          <p:spPr>
            <a:xfrm>
              <a:off x="6098040" y="2233440"/>
              <a:ext cx="90360" cy="903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12"/>
            <p:cNvSpPr/>
            <p:nvPr/>
          </p:nvSpPr>
          <p:spPr>
            <a:xfrm>
              <a:off x="5937120" y="2135160"/>
              <a:ext cx="374760" cy="41904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组合 99"/>
          <p:cNvGrpSpPr/>
          <p:nvPr/>
        </p:nvGrpSpPr>
        <p:grpSpPr>
          <a:xfrm>
            <a:off x="5924520" y="5124600"/>
            <a:ext cx="358920" cy="403200"/>
            <a:chOff x="5924520" y="5124600"/>
            <a:chExt cx="358920" cy="403200"/>
          </a:xfrm>
        </p:grpSpPr>
        <p:sp>
          <p:nvSpPr>
            <p:cNvPr id="675" name="Freeform 148"/>
            <p:cNvSpPr/>
            <p:nvPr/>
          </p:nvSpPr>
          <p:spPr>
            <a:xfrm>
              <a:off x="5973120" y="5124600"/>
              <a:ext cx="310320" cy="40104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49"/>
            <p:cNvSpPr/>
            <p:nvPr/>
          </p:nvSpPr>
          <p:spPr>
            <a:xfrm>
              <a:off x="5924520" y="5328000"/>
              <a:ext cx="204480" cy="19980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50"/>
            <p:cNvSpPr/>
            <p:nvPr/>
          </p:nvSpPr>
          <p:spPr>
            <a:xfrm>
              <a:off x="6010200" y="5411520"/>
              <a:ext cx="32760" cy="3276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103"/>
          <p:cNvGrpSpPr/>
          <p:nvPr/>
        </p:nvGrpSpPr>
        <p:grpSpPr>
          <a:xfrm>
            <a:off x="5910120" y="3147840"/>
            <a:ext cx="344520" cy="339840"/>
            <a:chOff x="5910120" y="3147840"/>
            <a:chExt cx="344520" cy="339840"/>
          </a:xfrm>
        </p:grpSpPr>
        <p:sp>
          <p:nvSpPr>
            <p:cNvPr id="679" name="Freeform 136"/>
            <p:cNvSpPr/>
            <p:nvPr/>
          </p:nvSpPr>
          <p:spPr>
            <a:xfrm>
              <a:off x="5910120" y="3338280"/>
              <a:ext cx="344520" cy="1494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37"/>
            <p:cNvSpPr/>
            <p:nvPr/>
          </p:nvSpPr>
          <p:spPr>
            <a:xfrm>
              <a:off x="5910120" y="3147840"/>
              <a:ext cx="344520" cy="1976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682" name="Freeform 154"/>
            <p:cNvSpPr/>
            <p:nvPr/>
          </p:nvSpPr>
          <p:spPr>
            <a:xfrm>
              <a:off x="6060240" y="4509360"/>
              <a:ext cx="38880" cy="356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56"/>
            <p:cNvSpPr/>
            <p:nvPr/>
          </p:nvSpPr>
          <p:spPr>
            <a:xfrm>
              <a:off x="5981760" y="4243680"/>
              <a:ext cx="200520" cy="2005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57"/>
            <p:cNvSpPr/>
            <p:nvPr/>
          </p:nvSpPr>
          <p:spPr>
            <a:xfrm>
              <a:off x="5951520" y="4181400"/>
              <a:ext cx="260640" cy="38592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58"/>
            <p:cNvSpPr/>
            <p:nvPr/>
          </p:nvSpPr>
          <p:spPr>
            <a:xfrm>
              <a:off x="6163560" y="4337280"/>
              <a:ext cx="146520" cy="1465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257800" y="4052880"/>
            <a:ext cx="5904000" cy="360"/>
            <a:chOff x="5257800" y="4052880"/>
            <a:chExt cx="5904000" cy="360"/>
          </a:xfrm>
        </p:grpSpPr>
        <p:sp>
          <p:nvSpPr>
            <p:cNvPr id="69" name="直接连接符 21"/>
            <p:cNvSpPr/>
            <p:nvPr/>
          </p:nvSpPr>
          <p:spPr>
            <a:xfrm flipH="1">
              <a:off x="5257800" y="4052880"/>
              <a:ext cx="5904000" cy="0"/>
            </a:xfrm>
            <a:prstGeom prst="line">
              <a:avLst/>
            </a:prstGeom>
            <a:ln w="1260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 rot="5400000">
              <a:off x="8209440" y="1100880"/>
              <a:ext cx="36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  <a:ea typeface="宋体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6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80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15"/>
          <p:cNvSpPr/>
          <p:nvPr/>
        </p:nvSpPr>
        <p:spPr>
          <a:xfrm>
            <a:off x="1062000" y="2400480"/>
            <a:ext cx="4964040" cy="1677960"/>
          </a:xfrm>
          <a:custGeom>
            <a:avLst/>
            <a:gdLst/>
            <a:ahLst/>
            <a:rect l="l" t="t" r="r" b="b"/>
            <a:pathLst>
              <a:path w="4963098" h="1676733">
                <a:moveTo>
                  <a:pt x="4963098" y="0"/>
                </a:moveTo>
                <a:lnTo>
                  <a:pt x="4963098" y="529569"/>
                </a:lnTo>
                <a:lnTo>
                  <a:pt x="4904851" y="532510"/>
                </a:lnTo>
                <a:cubicBezTo>
                  <a:pt x="4334273" y="590456"/>
                  <a:pt x="3880663" y="1044066"/>
                  <a:pt x="3822718" y="1614644"/>
                </a:cubicBezTo>
                <a:lnTo>
                  <a:pt x="3819744" y="1673539"/>
                </a:lnTo>
                <a:lnTo>
                  <a:pt x="3461656" y="1673539"/>
                </a:lnTo>
                <a:lnTo>
                  <a:pt x="3461656" y="1676733"/>
                </a:lnTo>
                <a:lnTo>
                  <a:pt x="0" y="1676733"/>
                </a:lnTo>
                <a:lnTo>
                  <a:pt x="0" y="1210789"/>
                </a:lnTo>
                <a:lnTo>
                  <a:pt x="3317336" y="1210789"/>
                </a:lnTo>
                <a:lnTo>
                  <a:pt x="3397184" y="997304"/>
                </a:lnTo>
                <a:cubicBezTo>
                  <a:pt x="3653890" y="458266"/>
                  <a:pt x="4178296" y="71296"/>
                  <a:pt x="4798481" y="8312"/>
                </a:cubicBez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6"/>
          <p:cNvSpPr/>
          <p:nvPr/>
        </p:nvSpPr>
        <p:spPr>
          <a:xfrm flipV="1" rot="10800000">
            <a:off x="6171840" y="2403360"/>
            <a:ext cx="4946760" cy="1673280"/>
          </a:xfrm>
          <a:custGeom>
            <a:avLst/>
            <a:gdLst/>
            <a:ahLst/>
            <a:rect l="l" t="t" r="r" b="b"/>
            <a:pathLst>
              <a:path w="4946769" h="1673539">
                <a:moveTo>
                  <a:pt x="4946769" y="0"/>
                </a:moveTo>
                <a:lnTo>
                  <a:pt x="4782152" y="8312"/>
                </a:lnTo>
                <a:cubicBezTo>
                  <a:pt x="4161967" y="71296"/>
                  <a:pt x="3637561" y="458266"/>
                  <a:pt x="3380855" y="997304"/>
                </a:cubicBezTo>
                <a:lnTo>
                  <a:pt x="3303396" y="1204401"/>
                </a:lnTo>
                <a:lnTo>
                  <a:pt x="0" y="1204401"/>
                </a:lnTo>
                <a:lnTo>
                  <a:pt x="0" y="1670345"/>
                </a:lnTo>
                <a:lnTo>
                  <a:pt x="3215503" y="1670345"/>
                </a:lnTo>
                <a:lnTo>
                  <a:pt x="3215352" y="1673539"/>
                </a:lnTo>
                <a:lnTo>
                  <a:pt x="3803415" y="1673539"/>
                </a:lnTo>
                <a:lnTo>
                  <a:pt x="3806389" y="1614644"/>
                </a:lnTo>
                <a:cubicBezTo>
                  <a:pt x="3864334" y="1044066"/>
                  <a:pt x="4317944" y="590456"/>
                  <a:pt x="4888522" y="532510"/>
                </a:cubicBezTo>
                <a:lnTo>
                  <a:pt x="4946769" y="529569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17"/>
          <p:cNvSpPr/>
          <p:nvPr/>
        </p:nvSpPr>
        <p:spPr>
          <a:xfrm rot="10800000">
            <a:off x="6171840" y="4214880"/>
            <a:ext cx="4946760" cy="1676160"/>
          </a:xfrm>
          <a:custGeom>
            <a:avLst/>
            <a:gdLst/>
            <a:ahLst/>
            <a:rect l="l" t="t" r="r" b="b"/>
            <a:pathLst>
              <a:path w="4946769" h="1676733">
                <a:moveTo>
                  <a:pt x="3461656" y="1676733"/>
                </a:moveTo>
                <a:lnTo>
                  <a:pt x="0" y="1676733"/>
                </a:lnTo>
                <a:lnTo>
                  <a:pt x="0" y="1210789"/>
                </a:lnTo>
                <a:lnTo>
                  <a:pt x="3301007" y="1210789"/>
                </a:lnTo>
                <a:lnTo>
                  <a:pt x="3380855" y="997304"/>
                </a:lnTo>
                <a:cubicBezTo>
                  <a:pt x="3637561" y="458266"/>
                  <a:pt x="4161967" y="71296"/>
                  <a:pt x="4782152" y="8312"/>
                </a:cubicBezTo>
                <a:lnTo>
                  <a:pt x="4946769" y="0"/>
                </a:lnTo>
                <a:lnTo>
                  <a:pt x="4946769" y="529569"/>
                </a:lnTo>
                <a:lnTo>
                  <a:pt x="4888522" y="532510"/>
                </a:lnTo>
                <a:cubicBezTo>
                  <a:pt x="4317944" y="590456"/>
                  <a:pt x="3864334" y="1044066"/>
                  <a:pt x="3806389" y="1614644"/>
                </a:cubicBezTo>
                <a:lnTo>
                  <a:pt x="3803415" y="1673539"/>
                </a:lnTo>
                <a:lnTo>
                  <a:pt x="3461656" y="1673539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8"/>
          <p:cNvSpPr/>
          <p:nvPr/>
        </p:nvSpPr>
        <p:spPr>
          <a:xfrm flipV="1">
            <a:off x="1062000" y="4217400"/>
            <a:ext cx="4964040" cy="1672920"/>
          </a:xfrm>
          <a:custGeom>
            <a:avLst/>
            <a:gdLst/>
            <a:ahLst/>
            <a:rect l="l" t="t" r="r" b="b"/>
            <a:pathLst>
              <a:path w="4963097" h="1673539">
                <a:moveTo>
                  <a:pt x="3231680" y="1673539"/>
                </a:moveTo>
                <a:lnTo>
                  <a:pt x="3819743" y="1673539"/>
                </a:lnTo>
                <a:lnTo>
                  <a:pt x="3822717" y="1614644"/>
                </a:lnTo>
                <a:cubicBezTo>
                  <a:pt x="3880662" y="1044066"/>
                  <a:pt x="4334272" y="590456"/>
                  <a:pt x="4904850" y="532510"/>
                </a:cubicBezTo>
                <a:lnTo>
                  <a:pt x="4963097" y="529569"/>
                </a:lnTo>
                <a:lnTo>
                  <a:pt x="4963097" y="0"/>
                </a:lnTo>
                <a:lnTo>
                  <a:pt x="4798480" y="8312"/>
                </a:lnTo>
                <a:cubicBezTo>
                  <a:pt x="4178295" y="71296"/>
                  <a:pt x="3653889" y="458266"/>
                  <a:pt x="3397183" y="997304"/>
                </a:cubicBezTo>
                <a:lnTo>
                  <a:pt x="3319938" y="1203828"/>
                </a:lnTo>
                <a:lnTo>
                  <a:pt x="0" y="1203828"/>
                </a:lnTo>
                <a:lnTo>
                  <a:pt x="0" y="1669772"/>
                </a:lnTo>
                <a:lnTo>
                  <a:pt x="3231859" y="1669772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446c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446c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0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任意多边形 8"/>
          <p:cNvSpPr/>
          <p:nvPr/>
        </p:nvSpPr>
        <p:spPr>
          <a:xfrm flipH="1" rot="16193400">
            <a:off x="3788280" y="2846160"/>
            <a:ext cx="1617840" cy="388800"/>
          </a:xfrm>
          <a:custGeom>
            <a:avLst/>
            <a:gdLst/>
            <a:ahLst/>
            <a:rect l="l" t="t" r="r" b="b"/>
            <a:pathLst>
              <a:path w="1617335" h="387910">
                <a:moveTo>
                  <a:pt x="0" y="0"/>
                </a:moveTo>
                <a:lnTo>
                  <a:pt x="379358" y="387910"/>
                </a:lnTo>
                <a:lnTo>
                  <a:pt x="1617335" y="387910"/>
                </a:lnTo>
                <a:lnTo>
                  <a:pt x="1617335" y="385898"/>
                </a:lnTo>
                <a:lnTo>
                  <a:pt x="1231437" y="0"/>
                </a:lnTo>
                <a:close/>
              </a:path>
            </a:pathLst>
          </a:cu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9"/>
          <p:cNvSpPr/>
          <p:nvPr/>
        </p:nvSpPr>
        <p:spPr>
          <a:xfrm flipH="1" rot="16193400">
            <a:off x="4791240" y="2623680"/>
            <a:ext cx="1225800" cy="122544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105" name="Freeform 108"/>
            <p:cNvSpPr/>
            <p:nvPr/>
          </p:nvSpPr>
          <p:spPr>
            <a:xfrm>
              <a:off x="6616800" y="3178080"/>
              <a:ext cx="73440" cy="74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9"/>
            <p:cNvSpPr/>
            <p:nvPr/>
          </p:nvSpPr>
          <p:spPr>
            <a:xfrm>
              <a:off x="6782040" y="3129840"/>
              <a:ext cx="62640" cy="626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0"/>
            <p:cNvSpPr/>
            <p:nvPr/>
          </p:nvSpPr>
          <p:spPr>
            <a:xfrm>
              <a:off x="6633720" y="3196440"/>
              <a:ext cx="39600" cy="396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11"/>
            <p:cNvSpPr/>
            <p:nvPr/>
          </p:nvSpPr>
          <p:spPr>
            <a:xfrm>
              <a:off x="6750720" y="3098520"/>
              <a:ext cx="125280" cy="1252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12"/>
            <p:cNvSpPr/>
            <p:nvPr/>
          </p:nvSpPr>
          <p:spPr>
            <a:xfrm>
              <a:off x="6527880" y="2962440"/>
              <a:ext cx="519120" cy="58104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11" name="Freeform 136"/>
            <p:cNvSpPr/>
            <p:nvPr/>
          </p:nvSpPr>
          <p:spPr>
            <a:xfrm>
              <a:off x="5200560" y="4528440"/>
              <a:ext cx="476280" cy="2070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7"/>
            <p:cNvSpPr/>
            <p:nvPr/>
          </p:nvSpPr>
          <p:spPr>
            <a:xfrm>
              <a:off x="5200560" y="4264200"/>
              <a:ext cx="476280" cy="27396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14" name="Freeform 154"/>
            <p:cNvSpPr/>
            <p:nvPr/>
          </p:nvSpPr>
          <p:spPr>
            <a:xfrm>
              <a:off x="5337720" y="3450240"/>
              <a:ext cx="53640" cy="493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56"/>
            <p:cNvSpPr/>
            <p:nvPr/>
          </p:nvSpPr>
          <p:spPr>
            <a:xfrm>
              <a:off x="5229360" y="3083760"/>
              <a:ext cx="276840" cy="2768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7"/>
            <p:cNvSpPr/>
            <p:nvPr/>
          </p:nvSpPr>
          <p:spPr>
            <a:xfrm>
              <a:off x="5187960" y="2997360"/>
              <a:ext cx="359280" cy="53316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8"/>
            <p:cNvSpPr/>
            <p:nvPr/>
          </p:nvSpPr>
          <p:spPr>
            <a:xfrm>
              <a:off x="5481000" y="3212640"/>
              <a:ext cx="202320" cy="2023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20" name="Freeform 32"/>
            <p:cNvSpPr/>
            <p:nvPr/>
          </p:nvSpPr>
          <p:spPr>
            <a:xfrm>
              <a:off x="6718320" y="4222800"/>
              <a:ext cx="112680" cy="56844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3"/>
            <p:cNvSpPr/>
            <p:nvPr/>
          </p:nvSpPr>
          <p:spPr>
            <a:xfrm>
              <a:off x="6553080" y="4569840"/>
              <a:ext cx="111240" cy="22140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6885000" y="4405680"/>
              <a:ext cx="112680" cy="38556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任意多边形 29"/>
          <p:cNvSpPr/>
          <p:nvPr/>
        </p:nvSpPr>
        <p:spPr>
          <a:xfrm flipH="1" rot="16193400">
            <a:off x="5022720" y="1617480"/>
            <a:ext cx="389160" cy="1627200"/>
          </a:xfrm>
          <a:custGeom>
            <a:avLst/>
            <a:gdLst/>
            <a:ahLst/>
            <a:rect l="l" t="t" r="r" b="b"/>
            <a:pathLst>
              <a:path w="389043" h="1627020">
                <a:moveTo>
                  <a:pt x="0" y="1241122"/>
                </a:moveTo>
                <a:lnTo>
                  <a:pt x="385898" y="1627020"/>
                </a:lnTo>
                <a:lnTo>
                  <a:pt x="387909" y="1627020"/>
                </a:lnTo>
                <a:lnTo>
                  <a:pt x="387909" y="387910"/>
                </a:lnTo>
                <a:lnTo>
                  <a:pt x="389043" y="387910"/>
                </a:lnTo>
                <a:lnTo>
                  <a:pt x="9685" y="0"/>
                </a:lnTo>
                <a:lnTo>
                  <a:pt x="0" y="0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25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custGeom>
              <a:avLst/>
              <a:gdLst/>
              <a:ahLst/>
              <a:rect l="l" t="t" r="r" b="b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custGeom>
              <a:avLst/>
              <a:gdLst/>
              <a:ahLst/>
              <a:rect l="l" t="t" r="r" b="b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9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custGeom>
              <a:avLst/>
              <a:gdLst/>
              <a:ahLst/>
              <a:rect l="l" t="t" r="r" b="b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custGeom>
              <a:avLst/>
              <a:gdLst/>
              <a:ahLst/>
              <a:rect l="l" t="t" r="r" b="b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33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custGeom>
              <a:avLst/>
              <a:gdLst/>
              <a:ahLst/>
              <a:rect l="l" t="t" r="r" b="b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custGeom>
              <a:avLst/>
              <a:gdLst/>
              <a:ahLst/>
              <a:rect l="l" t="t" r="r" b="b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任意多边形 1"/>
          <p:cNvSpPr/>
          <p:nvPr/>
        </p:nvSpPr>
        <p:spPr>
          <a:xfrm>
            <a:off x="2936880" y="3524400"/>
            <a:ext cx="1833480" cy="1834920"/>
          </a:xfrm>
          <a:custGeom>
            <a:avLst/>
            <a:gdLst/>
            <a:ahLst/>
            <a:rect l="l" t="t" r="r" b="b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3"/>
          <p:cNvSpPr/>
          <p:nvPr/>
        </p:nvSpPr>
        <p:spPr>
          <a:xfrm>
            <a:off x="4325760" y="2438280"/>
            <a:ext cx="1833840" cy="1833840"/>
          </a:xfrm>
          <a:custGeom>
            <a:avLst/>
            <a:gdLst/>
            <a:ahLst/>
            <a:rect l="l" t="t" r="r" b="b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5"/>
          <p:cNvSpPr/>
          <p:nvPr/>
        </p:nvSpPr>
        <p:spPr>
          <a:xfrm>
            <a:off x="7139160" y="2451240"/>
            <a:ext cx="1834920" cy="1834920"/>
          </a:xfrm>
          <a:custGeom>
            <a:avLst/>
            <a:gdLst/>
            <a:ahLst/>
            <a:rect l="l" t="t" r="r" b="b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7"/>
          <p:cNvSpPr/>
          <p:nvPr/>
        </p:nvSpPr>
        <p:spPr>
          <a:xfrm>
            <a:off x="5738760" y="3538440"/>
            <a:ext cx="1833480" cy="1835280"/>
          </a:xfrm>
          <a:custGeom>
            <a:avLst/>
            <a:gdLst/>
            <a:ahLst/>
            <a:rect l="l" t="t" r="r" b="b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9" name="Freeform 108"/>
            <p:cNvSpPr/>
            <p:nvPr/>
          </p:nvSpPr>
          <p:spPr>
            <a:xfrm>
              <a:off x="6534360" y="4395960"/>
              <a:ext cx="62640" cy="637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9"/>
            <p:cNvSpPr/>
            <p:nvPr/>
          </p:nvSpPr>
          <p:spPr>
            <a:xfrm>
              <a:off x="6675480" y="4354920"/>
              <a:ext cx="5364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0"/>
            <p:cNvSpPr/>
            <p:nvPr/>
          </p:nvSpPr>
          <p:spPr>
            <a:xfrm>
              <a:off x="6548760" y="4411440"/>
              <a:ext cx="33840" cy="33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1"/>
            <p:cNvSpPr/>
            <p:nvPr/>
          </p:nvSpPr>
          <p:spPr>
            <a:xfrm>
              <a:off x="6648840" y="4327920"/>
              <a:ext cx="107280" cy="1069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2"/>
            <p:cNvSpPr/>
            <p:nvPr/>
          </p:nvSpPr>
          <p:spPr>
            <a:xfrm>
              <a:off x="6458040" y="4211640"/>
              <a:ext cx="444240" cy="49680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55" name="Freeform 136"/>
            <p:cNvSpPr/>
            <p:nvPr/>
          </p:nvSpPr>
          <p:spPr>
            <a:xfrm>
              <a:off x="5045040" y="3346560"/>
              <a:ext cx="406440" cy="177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37"/>
            <p:cNvSpPr/>
            <p:nvPr/>
          </p:nvSpPr>
          <p:spPr>
            <a:xfrm>
              <a:off x="5045040" y="3119400"/>
              <a:ext cx="406440" cy="2354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8" name="Freeform 154"/>
            <p:cNvSpPr/>
            <p:nvPr/>
          </p:nvSpPr>
          <p:spPr>
            <a:xfrm>
              <a:off x="8008920" y="3528360"/>
              <a:ext cx="46080" cy="424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56"/>
            <p:cNvSpPr/>
            <p:nvPr/>
          </p:nvSpPr>
          <p:spPr>
            <a:xfrm>
              <a:off x="7916040" y="3213720"/>
              <a:ext cx="237960" cy="2376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57"/>
            <p:cNvSpPr/>
            <p:nvPr/>
          </p:nvSpPr>
          <p:spPr>
            <a:xfrm>
              <a:off x="7880400" y="3139920"/>
              <a:ext cx="308880" cy="457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58"/>
            <p:cNvSpPr/>
            <p:nvPr/>
          </p:nvSpPr>
          <p:spPr>
            <a:xfrm>
              <a:off x="8132040" y="3324600"/>
              <a:ext cx="173880" cy="1735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64" name="Freeform 148"/>
            <p:cNvSpPr/>
            <p:nvPr/>
          </p:nvSpPr>
          <p:spPr>
            <a:xfrm>
              <a:off x="3680640" y="4187880"/>
              <a:ext cx="410400" cy="53316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9"/>
            <p:cNvSpPr/>
            <p:nvPr/>
          </p:nvSpPr>
          <p:spPr>
            <a:xfrm>
              <a:off x="3616200" y="4458240"/>
              <a:ext cx="270720" cy="2660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2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6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8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图片 8" descr=""/>
          <p:cNvPicPr/>
          <p:nvPr/>
        </p:nvPicPr>
        <p:blipFill>
          <a:blip r:embed="rId2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9" descr=""/>
          <p:cNvPicPr/>
          <p:nvPr/>
        </p:nvPicPr>
        <p:blipFill>
          <a:blip r:embed="rId3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7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257800" y="4052880"/>
            <a:ext cx="5904000" cy="360"/>
            <a:chOff x="5257800" y="4052880"/>
            <a:chExt cx="5904000" cy="360"/>
          </a:xfrm>
        </p:grpSpPr>
        <p:sp>
          <p:nvSpPr>
            <p:cNvPr id="202" name="直接连接符 21"/>
            <p:cNvSpPr/>
            <p:nvPr/>
          </p:nvSpPr>
          <p:spPr>
            <a:xfrm flipH="1">
              <a:off x="5257800" y="4052880"/>
              <a:ext cx="5904000" cy="0"/>
            </a:xfrm>
            <a:prstGeom prst="line">
              <a:avLst/>
            </a:prstGeom>
            <a:ln w="1260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 rot="5400000">
              <a:off x="8209440" y="1100880"/>
              <a:ext cx="36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  <a:ea typeface="宋体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1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任意多边形 8"/>
          <p:cNvSpPr/>
          <p:nvPr/>
        </p:nvSpPr>
        <p:spPr>
          <a:xfrm>
            <a:off x="1063800" y="2259000"/>
            <a:ext cx="300672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9"/>
          <p:cNvSpPr/>
          <p:nvPr/>
        </p:nvSpPr>
        <p:spPr>
          <a:xfrm>
            <a:off x="4595760" y="2259000"/>
            <a:ext cx="300672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10"/>
          <p:cNvSpPr/>
          <p:nvPr/>
        </p:nvSpPr>
        <p:spPr>
          <a:xfrm>
            <a:off x="8128080" y="2259000"/>
            <a:ext cx="300672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11"/>
          <p:cNvSpPr/>
          <p:nvPr/>
        </p:nvSpPr>
        <p:spPr>
          <a:xfrm>
            <a:off x="1243080" y="2259000"/>
            <a:ext cx="263988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12"/>
          <p:cNvSpPr/>
          <p:nvPr/>
        </p:nvSpPr>
        <p:spPr>
          <a:xfrm>
            <a:off x="4773600" y="2259000"/>
            <a:ext cx="263988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13"/>
          <p:cNvSpPr/>
          <p:nvPr/>
        </p:nvSpPr>
        <p:spPr>
          <a:xfrm>
            <a:off x="8319960" y="2259000"/>
            <a:ext cx="264024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14680" y="2906640"/>
            <a:ext cx="1820520" cy="360"/>
            <a:chOff x="1714680" y="2906640"/>
            <a:chExt cx="1820520" cy="360"/>
          </a:xfrm>
        </p:grpSpPr>
        <p:sp>
          <p:nvSpPr>
            <p:cNvPr id="222" name="直接连接符 14"/>
            <p:cNvSpPr/>
            <p:nvPr/>
          </p:nvSpPr>
          <p:spPr>
            <a:xfrm>
              <a:off x="1714680" y="2906640"/>
              <a:ext cx="1820520" cy="0"/>
            </a:xfrm>
            <a:prstGeom prst="line">
              <a:avLst/>
            </a:prstGeom>
            <a:ln w="22320">
              <a:solidFill>
                <a:srgbClr val="07375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1714680" y="2906640"/>
              <a:ext cx="1820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227560" y="2911320"/>
            <a:ext cx="1820880" cy="360"/>
            <a:chOff x="5227560" y="2911320"/>
            <a:chExt cx="1820880" cy="360"/>
          </a:xfrm>
        </p:grpSpPr>
        <p:sp>
          <p:nvSpPr>
            <p:cNvPr id="225" name="直接连接符 29"/>
            <p:cNvSpPr/>
            <p:nvPr/>
          </p:nvSpPr>
          <p:spPr>
            <a:xfrm>
              <a:off x="5227560" y="2911320"/>
              <a:ext cx="1820880" cy="0"/>
            </a:xfrm>
            <a:prstGeom prst="line">
              <a:avLst/>
            </a:prstGeom>
            <a:ln w="22320">
              <a:solidFill>
                <a:srgbClr val="07375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5227560" y="2911320"/>
              <a:ext cx="182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729640" y="2936880"/>
            <a:ext cx="1820880" cy="360"/>
            <a:chOff x="8729640" y="2936880"/>
            <a:chExt cx="1820880" cy="360"/>
          </a:xfrm>
        </p:grpSpPr>
        <p:sp>
          <p:nvSpPr>
            <p:cNvPr id="228" name="直接连接符 30"/>
            <p:cNvSpPr/>
            <p:nvPr/>
          </p:nvSpPr>
          <p:spPr>
            <a:xfrm>
              <a:off x="8729640" y="2936880"/>
              <a:ext cx="1820880" cy="0"/>
            </a:xfrm>
            <a:prstGeom prst="line">
              <a:avLst/>
            </a:prstGeom>
            <a:ln w="22320">
              <a:solidFill>
                <a:srgbClr val="07375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8729640" y="2936880"/>
              <a:ext cx="182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90"/>
          <p:cNvSpPr/>
          <p:nvPr/>
        </p:nvSpPr>
        <p:spPr>
          <a:xfrm>
            <a:off x="2427120" y="5708520"/>
            <a:ext cx="652680" cy="478080"/>
          </a:xfrm>
          <a:custGeom>
            <a:avLst/>
            <a:gdLst/>
            <a:ahLst/>
            <a:rect l="l" t="t" r="r" b="b"/>
            <a:pathLst>
              <a:path w="256" h="186">
                <a:moveTo>
                  <a:pt x="248" y="22"/>
                </a:moveTo>
                <a:cubicBezTo>
                  <a:pt x="228" y="22"/>
                  <a:pt x="228" y="22"/>
                  <a:pt x="228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20" y="13"/>
                  <a:pt x="188" y="0"/>
                  <a:pt x="159" y="0"/>
                </a:cubicBezTo>
                <a:cubicBezTo>
                  <a:pt x="146" y="0"/>
                  <a:pt x="136" y="3"/>
                  <a:pt x="128" y="9"/>
                </a:cubicBezTo>
                <a:cubicBezTo>
                  <a:pt x="120" y="3"/>
                  <a:pt x="109" y="0"/>
                  <a:pt x="96" y="0"/>
                </a:cubicBezTo>
                <a:cubicBezTo>
                  <a:pt x="68" y="0"/>
                  <a:pt x="36" y="13"/>
                  <a:pt x="34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22"/>
                  <a:pt x="27" y="22"/>
                  <a:pt x="27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30"/>
                </a:cubicBezTo>
                <a:cubicBezTo>
                  <a:pt x="0" y="178"/>
                  <a:pt x="0" y="178"/>
                  <a:pt x="0" y="178"/>
                </a:cubicBezTo>
                <a:cubicBezTo>
                  <a:pt x="0" y="182"/>
                  <a:pt x="4" y="186"/>
                  <a:pt x="8" y="186"/>
                </a:cubicBezTo>
                <a:cubicBezTo>
                  <a:pt x="248" y="186"/>
                  <a:pt x="248" y="186"/>
                  <a:pt x="248" y="186"/>
                </a:cubicBezTo>
                <a:cubicBezTo>
                  <a:pt x="252" y="186"/>
                  <a:pt x="256" y="182"/>
                  <a:pt x="256" y="178"/>
                </a:cubicBezTo>
                <a:cubicBezTo>
                  <a:pt x="256" y="30"/>
                  <a:pt x="256" y="30"/>
                  <a:pt x="256" y="30"/>
                </a:cubicBezTo>
                <a:cubicBezTo>
                  <a:pt x="256" y="25"/>
                  <a:pt x="252" y="22"/>
                  <a:pt x="248" y="22"/>
                </a:cubicBezTo>
                <a:close/>
                <a:moveTo>
                  <a:pt x="217" y="23"/>
                </a:moveTo>
                <a:cubicBezTo>
                  <a:pt x="217" y="141"/>
                  <a:pt x="217" y="141"/>
                  <a:pt x="217" y="141"/>
                </a:cubicBezTo>
                <a:cubicBezTo>
                  <a:pt x="201" y="135"/>
                  <a:pt x="157" y="122"/>
                  <a:pt x="133" y="136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40" y="13"/>
                  <a:pt x="149" y="11"/>
                  <a:pt x="159" y="11"/>
                </a:cubicBezTo>
                <a:cubicBezTo>
                  <a:pt x="186" y="11"/>
                  <a:pt x="217" y="23"/>
                  <a:pt x="217" y="23"/>
                </a:cubicBezTo>
                <a:close/>
                <a:moveTo>
                  <a:pt x="205" y="148"/>
                </a:moveTo>
                <a:cubicBezTo>
                  <a:pt x="135" y="148"/>
                  <a:pt x="135" y="148"/>
                  <a:pt x="135" y="148"/>
                </a:cubicBezTo>
                <a:cubicBezTo>
                  <a:pt x="148" y="135"/>
                  <a:pt x="183" y="141"/>
                  <a:pt x="205" y="148"/>
                </a:cubicBezTo>
                <a:close/>
                <a:moveTo>
                  <a:pt x="96" y="11"/>
                </a:moveTo>
                <a:cubicBezTo>
                  <a:pt x="106" y="11"/>
                  <a:pt x="116" y="13"/>
                  <a:pt x="122" y="18"/>
                </a:cubicBezTo>
                <a:cubicBezTo>
                  <a:pt x="122" y="136"/>
                  <a:pt x="122" y="136"/>
                  <a:pt x="122" y="136"/>
                </a:cubicBezTo>
                <a:cubicBezTo>
                  <a:pt x="99" y="122"/>
                  <a:pt x="55" y="135"/>
                  <a:pt x="38" y="141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3"/>
                  <a:pt x="70" y="11"/>
                  <a:pt x="96" y="11"/>
                </a:cubicBezTo>
                <a:close/>
                <a:moveTo>
                  <a:pt x="121" y="148"/>
                </a:moveTo>
                <a:cubicBezTo>
                  <a:pt x="50" y="148"/>
                  <a:pt x="50" y="148"/>
                  <a:pt x="50" y="148"/>
                </a:cubicBezTo>
                <a:cubicBezTo>
                  <a:pt x="73" y="141"/>
                  <a:pt x="107" y="135"/>
                  <a:pt x="121" y="148"/>
                </a:cubicBezTo>
                <a:close/>
                <a:moveTo>
                  <a:pt x="240" y="170"/>
                </a:moveTo>
                <a:cubicBezTo>
                  <a:pt x="16" y="170"/>
                  <a:pt x="16" y="170"/>
                  <a:pt x="16" y="170"/>
                </a:cubicBezTo>
                <a:cubicBezTo>
                  <a:pt x="16" y="38"/>
                  <a:pt x="16" y="38"/>
                  <a:pt x="16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148"/>
                  <a:pt x="27" y="148"/>
                  <a:pt x="27" y="148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38" y="159"/>
                  <a:pt x="38" y="159"/>
                  <a:pt x="38" y="159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217" y="159"/>
                  <a:pt x="217" y="159"/>
                  <a:pt x="217" y="159"/>
                </a:cubicBezTo>
                <a:cubicBezTo>
                  <a:pt x="228" y="159"/>
                  <a:pt x="228" y="159"/>
                  <a:pt x="228" y="159"/>
                </a:cubicBezTo>
                <a:cubicBezTo>
                  <a:pt x="228" y="148"/>
                  <a:pt x="228" y="148"/>
                  <a:pt x="228" y="148"/>
                </a:cubicBezTo>
                <a:cubicBezTo>
                  <a:pt x="228" y="38"/>
                  <a:pt x="228" y="38"/>
                  <a:pt x="228" y="38"/>
                </a:cubicBezTo>
                <a:cubicBezTo>
                  <a:pt x="240" y="38"/>
                  <a:pt x="240" y="38"/>
                  <a:pt x="240" y="38"/>
                </a:cubicBezTo>
                <a:lnTo>
                  <a:pt x="240" y="170"/>
                </a:ln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37"/>
          <p:cNvGrpSpPr/>
          <p:nvPr/>
        </p:nvGrpSpPr>
        <p:grpSpPr>
          <a:xfrm>
            <a:off x="6006960" y="2397240"/>
            <a:ext cx="325440" cy="320400"/>
            <a:chOff x="6006960" y="2397240"/>
            <a:chExt cx="325440" cy="320400"/>
          </a:xfrm>
        </p:grpSpPr>
        <p:sp>
          <p:nvSpPr>
            <p:cNvPr id="236" name="Freeform 136"/>
            <p:cNvSpPr/>
            <p:nvPr/>
          </p:nvSpPr>
          <p:spPr>
            <a:xfrm>
              <a:off x="6006960" y="2576880"/>
              <a:ext cx="325440" cy="1407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7"/>
            <p:cNvSpPr/>
            <p:nvPr/>
          </p:nvSpPr>
          <p:spPr>
            <a:xfrm>
              <a:off x="6006960" y="2397240"/>
              <a:ext cx="325440" cy="1861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40"/>
          <p:cNvGrpSpPr/>
          <p:nvPr/>
        </p:nvGrpSpPr>
        <p:grpSpPr>
          <a:xfrm>
            <a:off x="2554200" y="2397240"/>
            <a:ext cx="338400" cy="361800"/>
            <a:chOff x="2554200" y="2397240"/>
            <a:chExt cx="338400" cy="361800"/>
          </a:xfrm>
        </p:grpSpPr>
        <p:sp>
          <p:nvSpPr>
            <p:cNvPr id="239" name="Freeform 154"/>
            <p:cNvSpPr/>
            <p:nvPr/>
          </p:nvSpPr>
          <p:spPr>
            <a:xfrm>
              <a:off x="2656440" y="2704680"/>
              <a:ext cx="36360" cy="334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55"/>
            <p:cNvSpPr/>
            <p:nvPr/>
          </p:nvSpPr>
          <p:spPr>
            <a:xfrm>
              <a:off x="2670840" y="2700000"/>
              <a:ext cx="6480" cy="23400"/>
            </a:xfrm>
            <a:prstGeom prst="rect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56"/>
            <p:cNvSpPr/>
            <p:nvPr/>
          </p:nvSpPr>
          <p:spPr>
            <a:xfrm>
              <a:off x="2582640" y="2455560"/>
              <a:ext cx="189360" cy="1879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7"/>
            <p:cNvSpPr/>
            <p:nvPr/>
          </p:nvSpPr>
          <p:spPr>
            <a:xfrm>
              <a:off x="2554200" y="2397240"/>
              <a:ext cx="245520" cy="3618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8"/>
            <p:cNvSpPr/>
            <p:nvPr/>
          </p:nvSpPr>
          <p:spPr>
            <a:xfrm>
              <a:off x="2754360" y="2543400"/>
              <a:ext cx="138240" cy="1375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46"/>
          <p:cNvGrpSpPr/>
          <p:nvPr/>
        </p:nvGrpSpPr>
        <p:grpSpPr>
          <a:xfrm>
            <a:off x="9617040" y="2371680"/>
            <a:ext cx="303120" cy="387360"/>
            <a:chOff x="9617040" y="2371680"/>
            <a:chExt cx="303120" cy="387360"/>
          </a:xfrm>
        </p:grpSpPr>
        <p:sp>
          <p:nvSpPr>
            <p:cNvPr id="245" name="Freeform 32"/>
            <p:cNvSpPr/>
            <p:nvPr/>
          </p:nvSpPr>
          <p:spPr>
            <a:xfrm>
              <a:off x="9729720" y="2371680"/>
              <a:ext cx="76680" cy="387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3"/>
            <p:cNvSpPr/>
            <p:nvPr/>
          </p:nvSpPr>
          <p:spPr>
            <a:xfrm>
              <a:off x="9617040" y="2608200"/>
              <a:ext cx="75960" cy="1508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4"/>
            <p:cNvSpPr/>
            <p:nvPr/>
          </p:nvSpPr>
          <p:spPr>
            <a:xfrm>
              <a:off x="9843480" y="2496240"/>
              <a:ext cx="76680" cy="2628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dc:language>en-US</dc:language>
  <cp:lastModifiedBy>Administrator</cp:lastModifiedBy>
  <dcterms:modified xsi:type="dcterms:W3CDTF">2016-05-07T08:49:50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