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E8C-EAA6-4F33-A424-9D0329F7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8F8-F218-432B-9260-8BE135D0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8DF-4B0C-4CA6-85F4-8EC49E9C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671-4E50-4B95-B9E1-05A3B201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2C6-CE6F-4706-B1D1-2C8071A5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2C1-7C17-4E86-B2A3-D408B072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304-5405-4C63-8FBD-CA6BD4AA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9C5-BBFC-42F4-987A-B7BC709F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0F0-D796-4CF1-9320-0C4C7927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3A7-4613-4C8F-80AA-F46F9C9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A2D-DDB8-4DC0-8186-B17BD40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15E-2EA3-45F5-953D-FF26DC7E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D2F5-2FA1-4526-BDF3-0CE1133E1F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792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培训新闻》微信公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1142640"/>
            <a:chOff x="3135240" y="1770120"/>
            <a:chExt cx="7234200" cy="114264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44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1143000"/>
            <a:chOff x="3144960" y="4290840"/>
            <a:chExt cx="7234200" cy="114300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1090080"/>
            <a:chOff x="4879800" y="1809720"/>
            <a:chExt cx="2444760" cy="109008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1053720"/>
            <a:chOff x="8137440" y="3067200"/>
            <a:chExt cx="3332160" cy="105372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96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1053720"/>
              <a:chOff x="8841600" y="3067200"/>
              <a:chExt cx="2628000" cy="105372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600"/>
                <a:ext cx="2564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1053720"/>
            <a:chOff x="8177040" y="4402080"/>
            <a:chExt cx="3230640" cy="105372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1053720"/>
              <a:chOff x="8857080" y="4402080"/>
              <a:chExt cx="2550600" cy="105372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480"/>
                <a:ext cx="2487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6-05-07T08:41:1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