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412-C9E9-4741-AD86-6D03B51D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325-1F65-4FF0-8D6B-6BF13907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A16-4139-4227-ABF3-C1DE8B7B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2BA-07BE-436F-B1DF-1AB3FA5D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CA2-F7CC-4663-ADCB-4F60D12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7BC-F54B-4371-B68C-4AC61741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15A-70F0-4982-A95C-146ABD46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591-AFCD-433D-B3E6-22840857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54F-8AF4-48E4-BE1F-23DB04ED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995-FD41-497A-98E6-A30F9044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437-2B67-435F-A570-7627D604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61F-9549-40DA-B967-9BFA1170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DA4F-3B42-4A07-A187-ED271C2106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792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培训新闻》微信公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1142640"/>
            <a:chOff x="3135240" y="1770120"/>
            <a:chExt cx="7234200" cy="114264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44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1143000"/>
            <a:chOff x="3144960" y="4290840"/>
            <a:chExt cx="7234200" cy="114300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1090080"/>
            <a:chOff x="4879800" y="1809720"/>
            <a:chExt cx="2444760" cy="109008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1053720"/>
            <a:chOff x="8137440" y="3067200"/>
            <a:chExt cx="3332160" cy="105372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96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1053720"/>
              <a:chOff x="8841600" y="3067200"/>
              <a:chExt cx="2628000" cy="105372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600"/>
                <a:ext cx="2564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1053720"/>
            <a:chOff x="8177040" y="4402080"/>
            <a:chExt cx="3230640" cy="105372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1053720"/>
              <a:chOff x="8857080" y="4402080"/>
              <a:chExt cx="2550600" cy="105372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480"/>
                <a:ext cx="2487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6-05-07T08:41:1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