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FC1-DA11-4344-ACE7-4502F7C3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B15-304E-42BA-9349-F2232C05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D3D-D50A-440A-9DDF-41194807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6F5-2BA4-41F1-9985-E915BD7F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AE3-D902-4464-8C00-51A704AA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8A6-2326-418B-BD5A-BA59AA66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828-E772-43A5-8F87-3E1C2104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BD0-9EAA-402A-83CB-48EC27C4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E4C-5FA7-41BB-9972-89090CDC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D22-477D-42A9-97B2-7600C446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127-A324-45BB-B17D-54DE87F9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EC6-F2E8-4312-889A-73C8F76D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CF96-E3EE-47B0-8F56-DBEFAB20E13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8211-480C-4A19-B54F-390EA51A64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my</cp:lastModifiedBy>
  <dcterms:modified xsi:type="dcterms:W3CDTF">2015-11-24T06:47:24Z</dcterms:modified>
  <cp:revision>88</cp:revision>
  <dc:subject/>
  <dc:title>PowerPoint 演示文稿</dc:title>
</cp:coreProperties>
</file>