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E43-81C7-4900-B7E4-89F5833C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94D-8B93-4DA9-870B-EB4284B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243-CC7E-4395-84DB-40202615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6EF-77CA-4B38-9BD1-4DD6CCAE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D17-39C4-42DF-951A-BB000F8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C68-7D8A-4F69-8CC4-22CA703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D14-A68A-4A90-A60D-E053663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55F-0C7E-4141-95DC-63CE6A9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21A-1221-4366-A6A9-5DC600FE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5F8-4C01-4736-8EF7-8BCA2C6C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2D1-D5C1-4FA8-98B5-0D3B86D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2BC-5EE9-4046-8505-A4A7C3F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F11-1B4F-43BA-A949-9C95B96EB51F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66A9-75AB-41C8-A4FD-2EAB729BB3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image" Target="../media/image21.png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27FB-3004-4E74-A1D5-FFEA06FEFEF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610C-7309-45E4-AFE9-CCE1F6B4EF2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526-079E-4EA0-A5CA-2AC0FD505A4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4E4D-3051-4035-9DFA-90B6C445102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8100000"/>
                </a:gra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prstGeom prst="pi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6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AC4-4467-4331-9AF0-0853C75072D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2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prstGeom prst="pie">
            <a:avLst/>
          </a:pr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5D02-38BA-4B57-B318-B83BB7044B6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29A-7A88-4EA7-A2B0-94A080C293F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79F-E721-4B8A-A02A-612694654D6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prstGeom prst="pie">
            <a:avLst/>
          </a:pr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prstGeom prst="pie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457-C4C9-414C-8986-B6F58576C33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5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9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3B8-8D09-42E2-930D-D335A5DFC12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A34-5944-4973-8088-03EBD78D363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1D1-7302-46A5-9B3B-D38CC64996F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2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3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4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9BF-6763-4D03-8F09-2A6B897C62C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5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C2A-6122-4EB0-8349-B55E397D998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4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B9F-A67B-42F4-960E-15D5E5B78D7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36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5050"/>
              </a:gs>
              <a:gs pos="100000">
                <a:srgbClr val="ff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2B9-3F4A-4369-B387-A8B117F00C1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prstGeom prst="pie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F10-BE87-4467-BD8C-D0584D0FD44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6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8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375-4AF1-4207-8A4C-7E6DD797EB5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452B-9EF6-4E4A-A1C9-E0A45FDAB22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C206-D599-4207-9B6B-A7809EEC3BF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965-4562-43A5-8235-24557ED83C1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prstGeom prst="pie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prstGeom prst="pie">
                <a:avLst/>
              </a:pr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prstGeom prst="pie">
            <a:avLst/>
          </a:pr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0A77-7EE4-4E88-860D-D1472116244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091-FFDB-4EBA-B898-682E3AFA53F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786-4A34-45C7-9808-3D2DE389D49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5CC2-520A-4DC4-8B60-2EAE4F794F9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3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prstGeom prst="pie">
            <a:avLst/>
          </a:pr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394-F364-447D-A60F-97CB4FC2768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2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3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4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5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6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7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TOM</cp:lastModifiedBy>
  <cp:lastPrinted>1899-12-30T00:00:00Z</cp:lastPrinted>
  <dcterms:modified xsi:type="dcterms:W3CDTF">2008-08-14T06:52:04Z</dcterms:modified>
  <cp:revision>2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