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1D7-7A5F-416A-912E-3582BFE6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A2DE-7640-4277-A2CD-85C8216E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78BF-C48C-44A2-9594-DFEFDB09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DA4-5E0B-458B-AEEE-78F092F4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658B-9F32-4367-90FA-D54180C1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FD69-559F-421E-94B8-BDCA17FD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C176-EB14-4816-A533-849876B3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F218-3781-446F-978E-3B476B97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A4DC-1B20-4F43-965B-EFB704F3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A895-D3D2-40D8-B7A6-517B6B67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0F35-64CF-4925-B80A-7B7A5C5D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B779-5233-4CB6-B295-DECD876C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F6A3-8166-4DA4-9E5A-BD7008A8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41A5-E220-460A-B217-AD2878A4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1197-52E2-4B38-9584-B2DD7CFE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533C-F10C-40A4-AB81-007F0A24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3C79-326B-45E3-ACE2-2778820E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430C-EA45-4997-95DF-2A67A14E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EDB-22A0-45D6-9E40-CB680CD7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A44-E919-43DD-8B21-D166B4C7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3A5-DB02-471C-81BF-DFEA47AD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145-CF5A-4A40-9E37-19A09DDE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CE3-C407-4740-9D68-0A56F4C1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F28E-854A-4086-9A80-9FDD03EB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8D54-A19C-4C00-A7F1-481268868463}" type="slidenum"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E75A-D33F-44F8-B413-50D0D3645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40" y="1935000"/>
            <a:ext cx="914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720d"/>
                </a:solidFill>
                <a:latin typeface="Helvetica LT Black"/>
              </a:rPr>
              <a:t>Research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91000" y="4270320"/>
            <a:ext cx="196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41680" y="4078440"/>
            <a:ext cx="2060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af6f"/>
                </a:solidFill>
                <a:latin typeface="Arial"/>
              </a:rPr>
              <a:t>Office of W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62240" y="4365720"/>
            <a:ext cx="281952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af6f"/>
                </a:solidFill>
                <a:latin typeface="Arial"/>
              </a:rPr>
              <a:t>Professor Laura Amrkhoul,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443640" y="360360"/>
            <a:ext cx="2556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720d"/>
                </a:solidFill>
                <a:latin typeface="Helvetica LT Black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2200" y="1670040"/>
            <a:ext cx="3629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e46"/>
                </a:solidFill>
                <a:latin typeface="Arial"/>
              </a:rPr>
              <a:t>What is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e46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e46"/>
                </a:solidFill>
                <a:latin typeface="Arial"/>
              </a:rPr>
              <a:t>Research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e46"/>
                </a:solidFill>
                <a:latin typeface="Arial"/>
              </a:rPr>
              <a:t>The advantages of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e46"/>
                </a:solidFill>
                <a:latin typeface="Arial"/>
              </a:rPr>
              <a:t>The role of practice in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e46"/>
                </a:solidFill>
                <a:latin typeface="Arial"/>
              </a:rPr>
              <a:t>Ways of using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曲线 87"/>
          <p:cNvSpPr/>
          <p:nvPr/>
        </p:nvSpPr>
        <p:spPr>
          <a:xfrm>
            <a:off x="3406680" y="177336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曲线 87"/>
          <p:cNvSpPr/>
          <p:nvPr/>
        </p:nvSpPr>
        <p:spPr>
          <a:xfrm>
            <a:off x="3406680" y="232092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曲线 87"/>
          <p:cNvSpPr/>
          <p:nvPr/>
        </p:nvSpPr>
        <p:spPr>
          <a:xfrm>
            <a:off x="3406680" y="286704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曲线 87"/>
          <p:cNvSpPr/>
          <p:nvPr/>
        </p:nvSpPr>
        <p:spPr>
          <a:xfrm>
            <a:off x="3406680" y="342900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曲线 87"/>
          <p:cNvSpPr/>
          <p:nvPr/>
        </p:nvSpPr>
        <p:spPr>
          <a:xfrm>
            <a:off x="3406680" y="3962520"/>
            <a:ext cx="114480" cy="17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曲线 87"/>
          <p:cNvSpPr/>
          <p:nvPr/>
        </p:nvSpPr>
        <p:spPr>
          <a:xfrm>
            <a:off x="3406680" y="4514760"/>
            <a:ext cx="1144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130480" y="2492280"/>
            <a:ext cx="367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720d"/>
                </a:solidFill>
                <a:latin typeface="Arial"/>
              </a:rPr>
              <a:t>What i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79760" y="3413160"/>
            <a:ext cx="32464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44e46"/>
                </a:solidFill>
                <a:latin typeface="Arial"/>
              </a:rPr>
              <a:t>Research is an ORGANIZED and SYSTEMATIC way of FINDING ANSWERS to QUES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95640" y="716040"/>
            <a:ext cx="54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44e46"/>
                </a:solidFill>
                <a:latin typeface="Arial"/>
              </a:rPr>
              <a:t>The role of practice in resear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1670040"/>
            <a:ext cx="47800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44e46"/>
                </a:solidFill>
                <a:latin typeface="Arial"/>
              </a:rPr>
              <a:t>Practice-based projects are those which include as an integral part the production of an original artefact in addition to, or perhaps instead of, the production of a written thesis. (UKCGE, UK Council for Graduate Education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68520" y="3286080"/>
            <a:ext cx="4780080" cy="14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44e46"/>
                </a:solidFill>
                <a:latin typeface="Arial"/>
              </a:rPr>
              <a:t>Positioning of the resear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Context and position,  researcher, practitioner or both Translat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hypothesis into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Relationship between theory and pract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Practice to generate the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   </a:t>
            </a:r>
            <a:r>
              <a:rPr b="0" lang="zh-CN" sz="1200" spc="-1" strike="noStrike">
                <a:solidFill>
                  <a:srgbClr val="544e46"/>
                </a:solidFill>
                <a:latin typeface="Arial"/>
              </a:rPr>
              <a:t>Practice as a reflection or informed by the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曲线 87"/>
          <p:cNvSpPr/>
          <p:nvPr/>
        </p:nvSpPr>
        <p:spPr>
          <a:xfrm>
            <a:off x="2558880" y="3740040"/>
            <a:ext cx="6840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曲线 87"/>
          <p:cNvSpPr/>
          <p:nvPr/>
        </p:nvSpPr>
        <p:spPr>
          <a:xfrm>
            <a:off x="2556000" y="4086360"/>
            <a:ext cx="68040" cy="10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曲线 87"/>
          <p:cNvSpPr/>
          <p:nvPr/>
        </p:nvSpPr>
        <p:spPr>
          <a:xfrm>
            <a:off x="2556000" y="4290840"/>
            <a:ext cx="68040" cy="10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曲线 87"/>
          <p:cNvSpPr/>
          <p:nvPr/>
        </p:nvSpPr>
        <p:spPr>
          <a:xfrm>
            <a:off x="2556000" y="4505400"/>
            <a:ext cx="68040" cy="10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36" y="3757"/>
                </a:moveTo>
                <a:cubicBezTo>
                  <a:pt x="7106" y="5988"/>
                  <a:pt x="0" y="11334"/>
                  <a:pt x="0" y="14237"/>
                </a:cubicBezTo>
                <a:cubicBezTo>
                  <a:pt x="0" y="17139"/>
                  <a:pt x="5516" y="20622"/>
                  <a:pt x="8836" y="21111"/>
                </a:cubicBezTo>
                <a:cubicBezTo>
                  <a:pt x="12155" y="21600"/>
                  <a:pt x="18233" y="19186"/>
                  <a:pt x="19916" y="17139"/>
                </a:cubicBezTo>
                <a:cubicBezTo>
                  <a:pt x="21600" y="15092"/>
                  <a:pt x="20384" y="11548"/>
                  <a:pt x="18841" y="8829"/>
                </a:cubicBezTo>
                <a:cubicBezTo>
                  <a:pt x="17298" y="6110"/>
                  <a:pt x="12202" y="1710"/>
                  <a:pt x="10519" y="855"/>
                </a:cubicBezTo>
                <a:cubicBezTo>
                  <a:pt x="8836" y="0"/>
                  <a:pt x="10566" y="1527"/>
                  <a:pt x="8836" y="3757"/>
                </a:cubicBezTo>
                <a:close/>
              </a:path>
            </a:pathLst>
          </a:custGeom>
          <a:solidFill>
            <a:srgbClr val="544e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211640" y="3424320"/>
            <a:ext cx="3672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720d"/>
                </a:solidFill>
                <a:latin typeface="Arial"/>
              </a:rPr>
              <a:t>Research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4240" y="4240080"/>
            <a:ext cx="32464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544e46"/>
                </a:solidFill>
                <a:latin typeface="Arial"/>
              </a:rPr>
              <a:t>Selecting your Topic (Novel/Feasible/Useful/Definable outcomes/Gap in knowled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160" y="2798640"/>
            <a:ext cx="9142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720d"/>
                </a:solidFill>
                <a:latin typeface="Helvetica LT Black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sus</dc:creator>
  <dc:description/>
  <dc:language>en-US</dc:language>
  <cp:lastModifiedBy/>
  <dcterms:modified xsi:type="dcterms:W3CDTF">2014-09-06T14:54:2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