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352-C603-44D5-9234-ADF36CE6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574-EBAC-4837-9880-6CFBDFB2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A46-7E39-4A0B-965A-183DDB47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A7C-04E1-4F65-BA33-D95417DF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326-0A63-4BE5-A43C-B26C06A7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C20-E80C-455D-B259-A690819D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475-D2B6-4E38-AFEE-C64B51AF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423-C431-4FDD-82EC-E5FC3458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772-B0E8-4149-935D-C496F3D9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DB1-238E-4D3B-887F-393C063B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E3F-1CAF-47FA-92D8-8A138088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2A5-93BE-49F3-A95D-CAC24AD7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A6C2-F2EE-437A-A275-1F42223013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希言\新建文件夹\ppt-03.png"/>
          <p:cNvPicPr/>
          <p:nvPr/>
        </p:nvPicPr>
        <p:blipFill>
          <a:blip r:embed="rId2"/>
          <a:stretch/>
        </p:blipFill>
        <p:spPr>
          <a:xfrm>
            <a:off x="3940200" y="5710320"/>
            <a:ext cx="1384200" cy="47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F:\希言\新建文件夹\ppt-02.png"/>
          <p:cNvPicPr/>
          <p:nvPr/>
        </p:nvPicPr>
        <p:blipFill>
          <a:blip r:embed="rId3"/>
          <a:stretch/>
        </p:blipFill>
        <p:spPr>
          <a:xfrm>
            <a:off x="795240" y="1471680"/>
            <a:ext cx="7491600" cy="7984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3273480" y="2541600"/>
            <a:ext cx="250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松生活 自在设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希言\新建文件夹\ppt-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352520" y="1387440"/>
            <a:ext cx="2811600" cy="41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352520" y="2494080"/>
            <a:ext cx="2811600" cy="41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希言\新建文件夹\ppt2-11.png"/>
          <p:cNvPicPr/>
          <p:nvPr/>
        </p:nvPicPr>
        <p:blipFill>
          <a:blip r:embed="rId4"/>
          <a:stretch/>
        </p:blipFill>
        <p:spPr>
          <a:xfrm>
            <a:off x="1352520" y="3581280"/>
            <a:ext cx="2811600" cy="416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:\希言\新建文件夹\ppt2-11.png"/>
          <p:cNvPicPr/>
          <p:nvPr/>
        </p:nvPicPr>
        <p:blipFill>
          <a:blip r:embed="rId5"/>
          <a:stretch/>
        </p:blipFill>
        <p:spPr>
          <a:xfrm>
            <a:off x="1352520" y="4680000"/>
            <a:ext cx="281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希言\新建文件夹\ppt2-09.png"/>
          <p:cNvPicPr/>
          <p:nvPr/>
        </p:nvPicPr>
        <p:blipFill>
          <a:blip r:embed="rId2"/>
          <a:stretch/>
        </p:blipFill>
        <p:spPr>
          <a:xfrm>
            <a:off x="795240" y="1154160"/>
            <a:ext cx="313056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:\希言\新建文件夹\ppt-04.png"/>
          <p:cNvPicPr/>
          <p:nvPr/>
        </p:nvPicPr>
        <p:blipFill>
          <a:blip r:embed="rId3"/>
          <a:stretch/>
        </p:blipFill>
        <p:spPr>
          <a:xfrm>
            <a:off x="2840040" y="4857840"/>
            <a:ext cx="24462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F:\希言\新建文件夹\ppt-05.png"/>
          <p:cNvPicPr/>
          <p:nvPr/>
        </p:nvPicPr>
        <p:blipFill>
          <a:blip r:embed="rId2"/>
          <a:stretch/>
        </p:blipFill>
        <p:spPr>
          <a:xfrm>
            <a:off x="1166760" y="1589040"/>
            <a:ext cx="6286680" cy="1352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希言\新建文件夹\ppt2-13.png"/>
          <p:cNvPicPr/>
          <p:nvPr/>
        </p:nvPicPr>
        <p:blipFill>
          <a:blip r:embed="rId1"/>
          <a:stretch/>
        </p:blipFill>
        <p:spPr>
          <a:xfrm>
            <a:off x="0" y="1832040"/>
            <a:ext cx="9142560" cy="35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F:\希言\ppt2-12.png"/>
          <p:cNvPicPr/>
          <p:nvPr/>
        </p:nvPicPr>
        <p:blipFill>
          <a:blip r:embed="rId2"/>
          <a:stretch/>
        </p:blipFill>
        <p:spPr>
          <a:xfrm>
            <a:off x="2428920" y="2416320"/>
            <a:ext cx="4278240" cy="24256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143840" y="28584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   </a:t>
            </a:r>
            <a:r>
              <a:rPr b="1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方正集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5</a:t>
            </a: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周年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F:\希言\新建文件夹\ppt-10.png"/>
          <p:cNvPicPr/>
          <p:nvPr/>
        </p:nvPicPr>
        <p:blipFill>
          <a:blip r:embed="rId2"/>
          <a:stretch/>
        </p:blipFill>
        <p:spPr>
          <a:xfrm>
            <a:off x="1797120" y="797040"/>
            <a:ext cx="941400" cy="4929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:\希言\新建文件夹\ppt-06.png"/>
          <p:cNvPicPr/>
          <p:nvPr/>
        </p:nvPicPr>
        <p:blipFill>
          <a:blip r:embed="rId3"/>
          <a:stretch/>
        </p:blipFill>
        <p:spPr>
          <a:xfrm>
            <a:off x="2846520" y="4857840"/>
            <a:ext cx="4071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:\希言\新建文件夹\ppt-07.png"/>
          <p:cNvPicPr/>
          <p:nvPr/>
        </p:nvPicPr>
        <p:blipFill>
          <a:blip r:embed="rId3"/>
          <a:stretch/>
        </p:blipFill>
        <p:spPr>
          <a:xfrm>
            <a:off x="1171440" y="1571760"/>
            <a:ext cx="69008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希言\新建文件夹\ppt-08.png"/>
          <p:cNvPicPr/>
          <p:nvPr/>
        </p:nvPicPr>
        <p:blipFill>
          <a:blip r:embed="rId2"/>
          <a:stretch/>
        </p:blipFill>
        <p:spPr>
          <a:xfrm>
            <a:off x="2762280" y="2286000"/>
            <a:ext cx="3643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SUNNY-PC</cp:lastModifiedBy>
  <dcterms:modified xsi:type="dcterms:W3CDTF">2015-01-06T16:21:49Z</dcterms:modified>
  <cp:revision>1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