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F4946-E267-4DD8-908C-CAF76D97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6336D-1E55-4BA3-9A90-27E5B148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53EEE-AA4B-45A5-9545-69E27831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784B6-BF09-4291-B9CE-7286522A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BD96D-C280-4D71-96C9-B6CCEDB3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02474-5CBC-489E-AF1F-D2764064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091B3-B59A-4F9C-B829-30F07B52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47702-8C61-48C8-8DA8-D359A91B6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22050-52F3-4AC9-9534-BA3AD3ED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C9D4D-D71B-4FC2-B105-2BC17B45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D5E57-FADD-403B-B160-CFE93A78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B45D55-E03B-4E0C-9A0F-2D74E2E0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1DF25-C9F2-4B05-8BF6-A909E666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9EBBA-E326-42AB-B4A0-A6A376B4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BFDE1-B364-4FC5-B16A-D4A622C0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9A09D-D6BC-4DC1-BBB1-CBF0D8F9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871E1-0461-44C9-8CBA-A3D4D6CB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0662A-213A-4CBB-9B44-49555222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989B3-B32D-4DF5-ACCA-891D9B93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91091-C525-4BFF-86C4-2FB682D5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AC2AC-BDC7-44A6-B09C-F7E61F000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EE98A-42ED-496B-89D1-733CE27D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B5397-4569-4D8F-BF3F-E87B807D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2D6BAE-C2EF-45D3-9A50-EAB95E45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FB7CD-C529-4244-BBDA-2C935B03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8731F-C0F3-443A-AAC4-4826FCFF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3801B-C0E9-497C-8CEB-97AAF7E5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A5A11C-E040-44AE-93F1-9BA51625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59FA1-028C-42D1-82A3-55180E02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8BA0E-897B-47E9-BB1B-A6BBBC3A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0CCF-B0BE-447A-B6C4-9E342278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18ACE-4F35-416D-807B-B53DE83B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B3782-5925-4384-A9A7-6C9C4C80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2B63A8-A9B8-429A-B0E8-9DBEBDA21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4911B-FAE5-4F88-B7AF-B1310DA3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7C7C2-2422-47C2-8058-22985FA8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F320D-67CB-402A-A300-8C07C245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6CCD6-BF09-471A-A79D-2477DD42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95C39-D7C0-4102-A592-171C091E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DD43B-B364-4E63-96AF-8B809505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F3BE1-E884-40EE-8657-5357512C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8EE3-46AF-43DC-8FA8-064A2171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DC22D-DE49-405D-91AC-86AA10A9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08268-67CF-40B8-8C2A-71A930A8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4CB48-B426-4EE2-9F24-03E8D609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9010B-F2F4-4A19-BADD-D6A61476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E6E7B-BB17-457C-B4EE-6E0D8371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4AC5-4160-45D2-9F2C-3B1D25FF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EB9E-C5EF-49CA-87A2-9C7B3499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448A-01A0-4143-B4F8-0263C903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F346-5326-4179-95F7-99691B98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874D-FCF6-4EC4-9365-933B80E9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094B-BF88-4AB9-8D95-6C64E13B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65B1-FA6E-4C6A-9D6F-2927FE98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00BD-9647-45E4-B5DD-A89F1B00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D9A4-D427-47E7-9765-D537505C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C668-BC66-435A-A091-B158361BF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F852-D993-47A5-AAFC-75C19906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E208-9DE2-4BE1-845D-C22D39E8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5BB0-5E98-454C-9755-E27078ED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443D-6D9D-4DD5-A680-9C7D3AF9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9D40-91E0-4968-AA9A-21D2039A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6D53-D7BA-4DE9-98DA-7A06D912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BF77-E409-4D4F-A28D-3A0EA157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206F-6639-4224-A048-120F1A59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6520-DB28-427E-BCDA-53BFF84A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648D-7C7C-4736-9FF5-24C5DBE5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815C-2EF3-4867-88D1-59321B0D3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6427-9A97-43A8-A0CB-7CBDB671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F04D8-FC18-42F9-B741-2EEE35BC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2447F-B1C0-4D34-AC4E-168814E6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B13D3-B715-4F7D-B008-C090AFE8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60BDA-5B62-40F6-BB8B-6677F1AC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A07ED-A862-428E-A970-2861FF81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0055C-F8E9-4C9B-A177-D6E91133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2F0F0-7AF9-42F5-B6F7-23531BBC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1BE1B-6CFB-48B3-BBA1-477EA560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777C6-E8A9-412F-A6F6-46A79437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DE1BA-847C-4BEA-9C2E-2F014C9E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A5973-F2CF-41CB-B9AD-4E0B8DC0B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602C0-702F-4844-BE4D-48345979A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C3E70-8A84-4867-9E0E-158DDD649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53A32-8A46-4117-905B-79D9333A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6BBBB-0521-47D0-B4F2-E9DD5AE1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A7689-EB0B-49B1-81E8-287F7EA0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DC596-EE96-477A-8825-41822318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08352-E482-48F3-B03C-671AF12D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E1F9C-B69B-4D05-B5F5-1B67979E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CFCB1-17F5-4BA9-8580-35275C31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57B69-60A2-4C51-99C7-32D0CCEE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5A16D-47C4-4169-B7E4-8524FEAB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8F524-D2F9-4A7D-883F-5BD2762FD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0413D-3C0C-4D52-9D89-DF4E3B6F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31FB6-1EAB-4A3D-A17E-C48049AAC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80139-208B-48FD-9E19-582B8DDA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8C564-D0FE-4CE7-9CA3-6E81354E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3BFA1-3449-42A0-9380-DDB73F2E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B1CD3-BF99-4839-835B-4D9013B1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DD229-04CC-41FF-A01A-54BD2CCF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3159A-8121-4E9F-BCCA-B7CD65AA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AEDEA-FF6B-428D-8DE1-E9322D0F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ABDDB-13B1-4A11-8FE8-0D962B78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5A30E-F753-423A-91F9-E05F3A7C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DC75D-1177-4436-A10D-3D10868E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6CBBF-6DE6-4E58-9209-12C0B5FE6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0BD54-1B39-4CE6-96AB-24A5338A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D50DF-C071-4B3A-BDBC-B48DC432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1FE59-C5E8-4170-8E25-C569677F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3F520-A0EF-4BAE-BE7E-2C98D70E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86D9C-47C6-4163-930B-E6B560C0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6EBDE-B14D-4D1B-91AC-FFB0CBB1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FE155-94D3-4C3B-92E5-230298BE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118E5-2D9F-475B-AD46-5D819952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F5C64-CAE3-42D1-AE83-2429F695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71564-9B98-428C-9CA0-CF08125E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85F24-80FC-4AD8-95FB-70475D1D2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04D43-40BC-400B-AD0F-E89FFB753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B1EA4-ACC9-459A-82B1-D1E99709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29C90-5FB7-4803-926E-22B2E9F8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E8B01-244A-42E3-97CD-25B0A74C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170CE-6192-48E7-9AF1-73D69AC3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D2D92-ED29-4676-B349-497A01C3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31F8D-1931-4837-AB96-8155A131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274C8-2BB5-4220-81F7-437CFF29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32FD0-54A9-4D30-ACCB-FC68FD73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AF5CD-0743-4013-819D-0EF3AB75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BA793-AF8A-44DD-A585-70AFF0C0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25021-EB82-4A4D-BC86-62B0E985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2E051-28DB-4D4C-8020-D1A61D7C6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CE9BA-A1F8-44DB-A17F-481D7147B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8291B-CBA5-47BB-A113-10604352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61FE3-0B1B-41A8-A1C0-EB7A448C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blipFill rotWithShape="0">
            <a:blip r:embed="rId2">
              <a:alphaModFix amt="5000"/>
            </a:blip>
            <a:srcRect/>
            <a:stretch/>
          </a:blip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blipFill rotWithShape="0">
            <a:blip r:embed="rId2">
              <a:alphaModFix amt="5000"/>
            </a:blip>
            <a:srcRect/>
            <a:stretch/>
          </a:blip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5BA1-2543-4E07-A66F-045E1DE7810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blipFill rotWithShape="0">
            <a:blip r:embed="rId2">
              <a:alphaModFix amt="5000"/>
            </a:blip>
            <a:srcRect/>
            <a:stretch/>
          </a:blip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AD4F-E42D-4373-AAE0-070E1A416FE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blipFill rotWithShape="0">
            <a:blip r:embed="rId2">
              <a:alphaModFix amt="5000"/>
            </a:blip>
            <a:srcRect/>
            <a:stretch/>
          </a:blip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D4E7-5B8A-448E-B0FF-B4A0B787ECD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blipFill rotWithShape="0">
            <a:blip r:embed="rId2">
              <a:alphaModFix amt="5000"/>
            </a:blip>
            <a:srcRect/>
            <a:stretch/>
          </a:blip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D929-CBF0-4CCF-B35E-56C9440BD63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blipFill rotWithShape="0">
            <a:blip r:embed="rId2">
              <a:alphaModFix amt="5000"/>
            </a:blip>
            <a:srcRect/>
            <a:stretch/>
          </a:blip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530E-347A-4BD1-A498-A0E41BBDF3E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blipFill rotWithShape="0">
            <a:blip r:embed="rId2">
              <a:alphaModFix amt="5000"/>
            </a:blip>
            <a:srcRect/>
            <a:stretch/>
          </a:blip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D007-7079-40C6-849A-92523B46CD0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blipFill rotWithShape="0">
            <a:blip r:embed="rId2">
              <a:alphaModFix amt="5000"/>
            </a:blip>
            <a:srcRect/>
            <a:stretch/>
          </a:blip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D2DC-6730-4873-A09F-97A24C44C70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blipFill rotWithShape="0">
            <a:blip r:embed="rId2">
              <a:alphaModFix amt="5000"/>
            </a:blip>
            <a:srcRect/>
            <a:stretch/>
          </a:blip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8666-9DEF-4036-86AF-53C2D0BD861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blipFill rotWithShape="0">
            <a:blip r:embed="rId2">
              <a:alphaModFix amt="5000"/>
            </a:blip>
            <a:srcRect/>
            <a:stretch/>
          </a:blip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CFA1-5BDD-4AAF-8EEF-EAF20F95C97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blipFill rotWithShape="0">
            <a:blip r:embed="rId2">
              <a:alphaModFix amt="5000"/>
            </a:blip>
            <a:srcRect/>
            <a:stretch/>
          </a:blip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2F2F-DBF5-41E5-A00D-A83A2837501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blipFill rotWithShape="0">
            <a:blip r:embed="rId2">
              <a:alphaModFix amt="5000"/>
            </a:blip>
            <a:srcRect/>
            <a:stretch/>
          </a:blip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D2F0-91A0-479D-A32A-C68D6B6CA28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2"/>
          <p:cNvGrpSpPr/>
          <p:nvPr/>
        </p:nvGrpSpPr>
        <p:grpSpPr>
          <a:xfrm>
            <a:off x="3154320" y="4041720"/>
            <a:ext cx="6087960" cy="998640"/>
            <a:chOff x="3154320" y="4041720"/>
            <a:chExt cx="6087960" cy="998640"/>
          </a:xfrm>
        </p:grpSpPr>
        <p:sp>
          <p:nvSpPr>
            <p:cNvPr id="480" name="矩形 10"/>
            <p:cNvSpPr/>
            <p:nvPr/>
          </p:nvSpPr>
          <p:spPr>
            <a:xfrm>
              <a:off x="4693320" y="4041720"/>
              <a:ext cx="1470240" cy="99864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19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矩形 10"/>
            <p:cNvSpPr/>
            <p:nvPr/>
          </p:nvSpPr>
          <p:spPr>
            <a:xfrm>
              <a:off x="6232680" y="4041720"/>
              <a:ext cx="1470240" cy="99864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矩形 10"/>
            <p:cNvSpPr/>
            <p:nvPr/>
          </p:nvSpPr>
          <p:spPr>
            <a:xfrm>
              <a:off x="7772040" y="4041720"/>
              <a:ext cx="1470240" cy="99864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e6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矩形 10"/>
            <p:cNvSpPr/>
            <p:nvPr/>
          </p:nvSpPr>
          <p:spPr>
            <a:xfrm>
              <a:off x="3154320" y="4041720"/>
              <a:ext cx="1470240" cy="99864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4b1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4" name="文本框 13"/>
          <p:cNvSpPr/>
          <p:nvPr/>
        </p:nvSpPr>
        <p:spPr>
          <a:xfrm>
            <a:off x="3384720" y="2664000"/>
            <a:ext cx="57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404040"/>
                </a:solidFill>
                <a:latin typeface="微软雅黑"/>
                <a:ea typeface="微软雅黑"/>
              </a:rPr>
              <a:t>活动总结报告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直接连接符 16"/>
          <p:cNvSpPr/>
          <p:nvPr/>
        </p:nvSpPr>
        <p:spPr>
          <a:xfrm>
            <a:off x="3154320" y="3962520"/>
            <a:ext cx="6087960" cy="0"/>
          </a:xfrm>
          <a:prstGeom prst="line">
            <a:avLst/>
          </a:prstGeom>
          <a:ln w="19080">
            <a:solidFill>
              <a:srgbClr val="bf9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直接连接符 17"/>
          <p:cNvSpPr/>
          <p:nvPr/>
        </p:nvSpPr>
        <p:spPr>
          <a:xfrm>
            <a:off x="3406680" y="2546280"/>
            <a:ext cx="5516640" cy="0"/>
          </a:xfrm>
          <a:prstGeom prst="line">
            <a:avLst/>
          </a:prstGeom>
          <a:ln w="19080">
            <a:solidFill>
              <a:srgbClr val="bf9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7" name="Group 10"/>
          <p:cNvGrpSpPr/>
          <p:nvPr/>
        </p:nvGrpSpPr>
        <p:grpSpPr>
          <a:xfrm>
            <a:off x="3889440" y="1430280"/>
            <a:ext cx="4549680" cy="998640"/>
            <a:chOff x="3889440" y="1430280"/>
            <a:chExt cx="4549680" cy="998640"/>
          </a:xfrm>
        </p:grpSpPr>
        <p:sp>
          <p:nvSpPr>
            <p:cNvPr id="488" name="矩形 10"/>
            <p:cNvSpPr/>
            <p:nvPr/>
          </p:nvSpPr>
          <p:spPr>
            <a:xfrm rot="10800000">
              <a:off x="6968520" y="1429920"/>
              <a:ext cx="1470600" cy="99864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19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矩形 10"/>
            <p:cNvSpPr/>
            <p:nvPr/>
          </p:nvSpPr>
          <p:spPr>
            <a:xfrm rot="10800000">
              <a:off x="5429160" y="1429920"/>
              <a:ext cx="1470600" cy="99864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矩形 10"/>
            <p:cNvSpPr/>
            <p:nvPr/>
          </p:nvSpPr>
          <p:spPr>
            <a:xfrm rot="10800000">
              <a:off x="3889440" y="1429920"/>
              <a:ext cx="1470600" cy="99864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e6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1" name="文本框 19"/>
          <p:cNvSpPr/>
          <p:nvPr/>
        </p:nvSpPr>
        <p:spPr>
          <a:xfrm>
            <a:off x="5145120" y="5118120"/>
            <a:ext cx="38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汇报人：哎呀小小草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文本框 21"/>
          <p:cNvSpPr/>
          <p:nvPr/>
        </p:nvSpPr>
        <p:spPr>
          <a:xfrm>
            <a:off x="5532480" y="5486400"/>
            <a:ext cx="14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18.10.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任意多边形 30"/>
          <p:cNvSpPr/>
          <p:nvPr/>
        </p:nvSpPr>
        <p:spPr>
          <a:xfrm>
            <a:off x="0" y="0"/>
            <a:ext cx="1181160" cy="1090440"/>
          </a:xfrm>
          <a:custGeom>
            <a:avLst/>
            <a:gdLst/>
            <a:ahLst/>
            <a:rect l="l" t="t" r="r" b="b"/>
            <a:pathLst>
              <a:path w="1181686" h="1090247">
                <a:moveTo>
                  <a:pt x="0" y="0"/>
                </a:moveTo>
                <a:lnTo>
                  <a:pt x="1168923" y="0"/>
                </a:lnTo>
                <a:lnTo>
                  <a:pt x="1181686" y="126610"/>
                </a:lnTo>
                <a:cubicBezTo>
                  <a:pt x="1181686" y="658812"/>
                  <a:pt x="750251" y="1090247"/>
                  <a:pt x="218049" y="1090247"/>
                </a:cubicBezTo>
                <a:cubicBezTo>
                  <a:pt x="151524" y="1090247"/>
                  <a:pt x="86573" y="1083506"/>
                  <a:pt x="23843" y="1070669"/>
                </a:cubicBezTo>
                <a:lnTo>
                  <a:pt x="0" y="1063268"/>
                </a:lnTo>
                <a:lnTo>
                  <a:pt x="0" y="0"/>
                </a:lnTo>
                <a:close/>
              </a:path>
            </a:pathLst>
          </a:custGeom>
          <a:solidFill>
            <a:srgbClr val="ffc00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任意多边形 31"/>
          <p:cNvSpPr/>
          <p:nvPr/>
        </p:nvSpPr>
        <p:spPr>
          <a:xfrm>
            <a:off x="0" y="0"/>
            <a:ext cx="1371600" cy="1266840"/>
          </a:xfrm>
          <a:custGeom>
            <a:avLst/>
            <a:gdLst/>
            <a:ahLst/>
            <a:rect l="l" t="t" r="r" b="b"/>
            <a:pathLst>
              <a:path w="1181686" h="1090247">
                <a:moveTo>
                  <a:pt x="0" y="0"/>
                </a:moveTo>
                <a:lnTo>
                  <a:pt x="1168923" y="0"/>
                </a:lnTo>
                <a:lnTo>
                  <a:pt x="1181686" y="126610"/>
                </a:lnTo>
                <a:cubicBezTo>
                  <a:pt x="1181686" y="658812"/>
                  <a:pt x="750251" y="1090247"/>
                  <a:pt x="218049" y="1090247"/>
                </a:cubicBezTo>
                <a:cubicBezTo>
                  <a:pt x="151524" y="1090247"/>
                  <a:pt x="86573" y="1083506"/>
                  <a:pt x="23843" y="1070669"/>
                </a:cubicBezTo>
                <a:lnTo>
                  <a:pt x="0" y="1063268"/>
                </a:lnTo>
                <a:lnTo>
                  <a:pt x="0" y="0"/>
                </a:lnTo>
                <a:close/>
              </a:path>
            </a:pathLst>
          </a:custGeom>
          <a:solidFill>
            <a:srgbClr val="ffc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5" name="Group 18"/>
          <p:cNvGrpSpPr/>
          <p:nvPr/>
        </p:nvGrpSpPr>
        <p:grpSpPr>
          <a:xfrm>
            <a:off x="10820520" y="5590800"/>
            <a:ext cx="1371600" cy="1266840"/>
            <a:chOff x="10820520" y="5590800"/>
            <a:chExt cx="1371600" cy="1266840"/>
          </a:xfrm>
        </p:grpSpPr>
        <p:sp>
          <p:nvSpPr>
            <p:cNvPr id="496" name="任意多边形 32"/>
            <p:cNvSpPr/>
            <p:nvPr/>
          </p:nvSpPr>
          <p:spPr>
            <a:xfrm rot="10800000">
              <a:off x="11010960" y="5766480"/>
              <a:ext cx="1181160" cy="1091160"/>
            </a:xfrm>
            <a:custGeom>
              <a:avLst/>
              <a:gdLst/>
              <a:ahLst/>
              <a:rect l="l" t="t" r="r" b="b"/>
              <a:pathLst>
                <a:path w="1181686" h="1090247">
                  <a:moveTo>
                    <a:pt x="0" y="0"/>
                  </a:moveTo>
                  <a:lnTo>
                    <a:pt x="1168923" y="0"/>
                  </a:lnTo>
                  <a:lnTo>
                    <a:pt x="1181686" y="126610"/>
                  </a:lnTo>
                  <a:cubicBezTo>
                    <a:pt x="1181686" y="658812"/>
                    <a:pt x="750251" y="1090247"/>
                    <a:pt x="218049" y="1090247"/>
                  </a:cubicBezTo>
                  <a:cubicBezTo>
                    <a:pt x="151524" y="1090247"/>
                    <a:pt x="86573" y="1083506"/>
                    <a:pt x="23843" y="1070669"/>
                  </a:cubicBezTo>
                  <a:lnTo>
                    <a:pt x="0" y="1063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任意多边形 33"/>
            <p:cNvSpPr/>
            <p:nvPr/>
          </p:nvSpPr>
          <p:spPr>
            <a:xfrm rot="10800000">
              <a:off x="10820520" y="5590800"/>
              <a:ext cx="1371600" cy="1266840"/>
            </a:xfrm>
            <a:custGeom>
              <a:avLst/>
              <a:gdLst/>
              <a:ahLst/>
              <a:rect l="l" t="t" r="r" b="b"/>
              <a:pathLst>
                <a:path w="1181686" h="1090247">
                  <a:moveTo>
                    <a:pt x="0" y="0"/>
                  </a:moveTo>
                  <a:lnTo>
                    <a:pt x="1168923" y="0"/>
                  </a:lnTo>
                  <a:lnTo>
                    <a:pt x="1181686" y="126610"/>
                  </a:lnTo>
                  <a:cubicBezTo>
                    <a:pt x="1181686" y="658812"/>
                    <a:pt x="750251" y="1090247"/>
                    <a:pt x="218049" y="1090247"/>
                  </a:cubicBezTo>
                  <a:cubicBezTo>
                    <a:pt x="151524" y="1090247"/>
                    <a:pt x="86573" y="1083506"/>
                    <a:pt x="23843" y="1070669"/>
                  </a:cubicBezTo>
                  <a:lnTo>
                    <a:pt x="0" y="1063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8" name="文本框 35"/>
          <p:cNvSpPr/>
          <p:nvPr/>
        </p:nvSpPr>
        <p:spPr>
          <a:xfrm>
            <a:off x="11153880" y="62247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文本框 36"/>
          <p:cNvSpPr/>
          <p:nvPr/>
        </p:nvSpPr>
        <p:spPr>
          <a:xfrm>
            <a:off x="68400" y="276120"/>
            <a:ext cx="10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994200" y="4041720"/>
            <a:ext cx="4548240" cy="998640"/>
            <a:chOff x="3994200" y="4041720"/>
            <a:chExt cx="4548240" cy="998640"/>
          </a:xfrm>
        </p:grpSpPr>
        <p:sp>
          <p:nvSpPr>
            <p:cNvPr id="678" name="矩形 10"/>
            <p:cNvSpPr/>
            <p:nvPr/>
          </p:nvSpPr>
          <p:spPr>
            <a:xfrm>
              <a:off x="5533200" y="4041720"/>
              <a:ext cx="1470240" cy="99864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19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矩形 10"/>
            <p:cNvSpPr/>
            <p:nvPr/>
          </p:nvSpPr>
          <p:spPr>
            <a:xfrm>
              <a:off x="7072200" y="4041720"/>
              <a:ext cx="1470240" cy="99864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矩形 10"/>
            <p:cNvSpPr/>
            <p:nvPr/>
          </p:nvSpPr>
          <p:spPr>
            <a:xfrm>
              <a:off x="3994200" y="4041720"/>
              <a:ext cx="1470240" cy="99864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4b1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1" name="文本框 13"/>
          <p:cNvSpPr/>
          <p:nvPr/>
        </p:nvSpPr>
        <p:spPr>
          <a:xfrm>
            <a:off x="4264200" y="2664000"/>
            <a:ext cx="393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404040"/>
                </a:solidFill>
                <a:latin typeface="微软雅黑"/>
                <a:ea typeface="微软雅黑"/>
              </a:rPr>
              <a:t>谢谢观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直接连接符 16"/>
          <p:cNvSpPr/>
          <p:nvPr/>
        </p:nvSpPr>
        <p:spPr>
          <a:xfrm>
            <a:off x="3743280" y="3962520"/>
            <a:ext cx="5048280" cy="0"/>
          </a:xfrm>
          <a:prstGeom prst="line">
            <a:avLst/>
          </a:prstGeom>
          <a:ln w="19080">
            <a:solidFill>
              <a:srgbClr val="bf9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直接连接符 17"/>
          <p:cNvSpPr/>
          <p:nvPr/>
        </p:nvSpPr>
        <p:spPr>
          <a:xfrm>
            <a:off x="4411800" y="2546280"/>
            <a:ext cx="3660480" cy="0"/>
          </a:xfrm>
          <a:prstGeom prst="line">
            <a:avLst/>
          </a:prstGeom>
          <a:ln w="19080">
            <a:solidFill>
              <a:srgbClr val="bf9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4" name="Group 9"/>
          <p:cNvGrpSpPr/>
          <p:nvPr/>
        </p:nvGrpSpPr>
        <p:grpSpPr>
          <a:xfrm>
            <a:off x="4729320" y="1430280"/>
            <a:ext cx="3008160" cy="998640"/>
            <a:chOff x="4729320" y="1430280"/>
            <a:chExt cx="3008160" cy="998640"/>
          </a:xfrm>
        </p:grpSpPr>
        <p:sp>
          <p:nvSpPr>
            <p:cNvPr id="685" name="矩形 10"/>
            <p:cNvSpPr/>
            <p:nvPr/>
          </p:nvSpPr>
          <p:spPr>
            <a:xfrm rot="10800000">
              <a:off x="6267960" y="1429920"/>
              <a:ext cx="1469520" cy="99864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矩形 10"/>
            <p:cNvSpPr/>
            <p:nvPr/>
          </p:nvSpPr>
          <p:spPr>
            <a:xfrm rot="10800000">
              <a:off x="4729320" y="1429920"/>
              <a:ext cx="1469520" cy="99864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e6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7" name="文本框 19"/>
          <p:cNvSpPr/>
          <p:nvPr/>
        </p:nvSpPr>
        <p:spPr>
          <a:xfrm>
            <a:off x="5288040" y="5106960"/>
            <a:ext cx="30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汇报人：哎呀小小草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文本框 21"/>
          <p:cNvSpPr/>
          <p:nvPr/>
        </p:nvSpPr>
        <p:spPr>
          <a:xfrm>
            <a:off x="5600880" y="54864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18.10.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任意多边形 30"/>
          <p:cNvSpPr/>
          <p:nvPr/>
        </p:nvSpPr>
        <p:spPr>
          <a:xfrm>
            <a:off x="0" y="0"/>
            <a:ext cx="1181160" cy="1090440"/>
          </a:xfrm>
          <a:custGeom>
            <a:avLst/>
            <a:gdLst/>
            <a:ahLst/>
            <a:rect l="l" t="t" r="r" b="b"/>
            <a:pathLst>
              <a:path w="1181686" h="1090247">
                <a:moveTo>
                  <a:pt x="0" y="0"/>
                </a:moveTo>
                <a:lnTo>
                  <a:pt x="1168923" y="0"/>
                </a:lnTo>
                <a:lnTo>
                  <a:pt x="1181686" y="126610"/>
                </a:lnTo>
                <a:cubicBezTo>
                  <a:pt x="1181686" y="658812"/>
                  <a:pt x="750251" y="1090247"/>
                  <a:pt x="218049" y="1090247"/>
                </a:cubicBezTo>
                <a:cubicBezTo>
                  <a:pt x="151524" y="1090247"/>
                  <a:pt x="86573" y="1083506"/>
                  <a:pt x="23843" y="1070669"/>
                </a:cubicBezTo>
                <a:lnTo>
                  <a:pt x="0" y="1063268"/>
                </a:lnTo>
                <a:lnTo>
                  <a:pt x="0" y="0"/>
                </a:lnTo>
                <a:close/>
              </a:path>
            </a:pathLst>
          </a:custGeom>
          <a:solidFill>
            <a:srgbClr val="ffc00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任意多边形 31"/>
          <p:cNvSpPr/>
          <p:nvPr/>
        </p:nvSpPr>
        <p:spPr>
          <a:xfrm>
            <a:off x="0" y="0"/>
            <a:ext cx="1371600" cy="1266840"/>
          </a:xfrm>
          <a:custGeom>
            <a:avLst/>
            <a:gdLst/>
            <a:ahLst/>
            <a:rect l="l" t="t" r="r" b="b"/>
            <a:pathLst>
              <a:path w="1181686" h="1090247">
                <a:moveTo>
                  <a:pt x="0" y="0"/>
                </a:moveTo>
                <a:lnTo>
                  <a:pt x="1168923" y="0"/>
                </a:lnTo>
                <a:lnTo>
                  <a:pt x="1181686" y="126610"/>
                </a:lnTo>
                <a:cubicBezTo>
                  <a:pt x="1181686" y="658812"/>
                  <a:pt x="750251" y="1090247"/>
                  <a:pt x="218049" y="1090247"/>
                </a:cubicBezTo>
                <a:cubicBezTo>
                  <a:pt x="151524" y="1090247"/>
                  <a:pt x="86573" y="1083506"/>
                  <a:pt x="23843" y="1070669"/>
                </a:cubicBezTo>
                <a:lnTo>
                  <a:pt x="0" y="1063268"/>
                </a:lnTo>
                <a:lnTo>
                  <a:pt x="0" y="0"/>
                </a:lnTo>
                <a:close/>
              </a:path>
            </a:pathLst>
          </a:custGeom>
          <a:solidFill>
            <a:srgbClr val="ffc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1" name="Group 16"/>
          <p:cNvGrpSpPr/>
          <p:nvPr/>
        </p:nvGrpSpPr>
        <p:grpSpPr>
          <a:xfrm>
            <a:off x="10820520" y="5590800"/>
            <a:ext cx="1371600" cy="1266840"/>
            <a:chOff x="10820520" y="5590800"/>
            <a:chExt cx="1371600" cy="1266840"/>
          </a:xfrm>
        </p:grpSpPr>
        <p:sp>
          <p:nvSpPr>
            <p:cNvPr id="692" name="任意多边形 32"/>
            <p:cNvSpPr/>
            <p:nvPr/>
          </p:nvSpPr>
          <p:spPr>
            <a:xfrm rot="10800000">
              <a:off x="11010960" y="5766480"/>
              <a:ext cx="1181160" cy="1091160"/>
            </a:xfrm>
            <a:custGeom>
              <a:avLst/>
              <a:gdLst/>
              <a:ahLst/>
              <a:rect l="l" t="t" r="r" b="b"/>
              <a:pathLst>
                <a:path w="1181686" h="1090247">
                  <a:moveTo>
                    <a:pt x="0" y="0"/>
                  </a:moveTo>
                  <a:lnTo>
                    <a:pt x="1168923" y="0"/>
                  </a:lnTo>
                  <a:lnTo>
                    <a:pt x="1181686" y="126610"/>
                  </a:lnTo>
                  <a:cubicBezTo>
                    <a:pt x="1181686" y="658812"/>
                    <a:pt x="750251" y="1090247"/>
                    <a:pt x="218049" y="1090247"/>
                  </a:cubicBezTo>
                  <a:cubicBezTo>
                    <a:pt x="151524" y="1090247"/>
                    <a:pt x="86573" y="1083506"/>
                    <a:pt x="23843" y="1070669"/>
                  </a:cubicBezTo>
                  <a:lnTo>
                    <a:pt x="0" y="1063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任意多边形 33"/>
            <p:cNvSpPr/>
            <p:nvPr/>
          </p:nvSpPr>
          <p:spPr>
            <a:xfrm rot="10800000">
              <a:off x="10820520" y="5590800"/>
              <a:ext cx="1371600" cy="1266840"/>
            </a:xfrm>
            <a:custGeom>
              <a:avLst/>
              <a:gdLst/>
              <a:ahLst/>
              <a:rect l="l" t="t" r="r" b="b"/>
              <a:pathLst>
                <a:path w="1181686" h="1090247">
                  <a:moveTo>
                    <a:pt x="0" y="0"/>
                  </a:moveTo>
                  <a:lnTo>
                    <a:pt x="1168923" y="0"/>
                  </a:lnTo>
                  <a:lnTo>
                    <a:pt x="1181686" y="126610"/>
                  </a:lnTo>
                  <a:cubicBezTo>
                    <a:pt x="1181686" y="658812"/>
                    <a:pt x="750251" y="1090247"/>
                    <a:pt x="218049" y="1090247"/>
                  </a:cubicBezTo>
                  <a:cubicBezTo>
                    <a:pt x="151524" y="1090247"/>
                    <a:pt x="86573" y="1083506"/>
                    <a:pt x="23843" y="1070669"/>
                  </a:cubicBezTo>
                  <a:lnTo>
                    <a:pt x="0" y="1063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4" name="文本框 35"/>
          <p:cNvSpPr/>
          <p:nvPr/>
        </p:nvSpPr>
        <p:spPr>
          <a:xfrm>
            <a:off x="11153880" y="62247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文本框 36"/>
          <p:cNvSpPr/>
          <p:nvPr/>
        </p:nvSpPr>
        <p:spPr>
          <a:xfrm>
            <a:off x="68400" y="276120"/>
            <a:ext cx="10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矩形 10"/>
          <p:cNvSpPr/>
          <p:nvPr/>
        </p:nvSpPr>
        <p:spPr>
          <a:xfrm>
            <a:off x="2197080" y="0"/>
            <a:ext cx="1469880" cy="998640"/>
          </a:xfrm>
          <a:custGeom>
            <a:avLst/>
            <a:gdLst/>
            <a:ahLst/>
            <a:rect l="l" t="t" r="r" b="b"/>
            <a:pathLst>
              <a:path w="1665778" h="1284332">
                <a:moveTo>
                  <a:pt x="0" y="62"/>
                </a:moveTo>
                <a:cubicBezTo>
                  <a:pt x="-455" y="6860"/>
                  <a:pt x="1110519" y="62"/>
                  <a:pt x="1665778" y="62"/>
                </a:cubicBezTo>
                <a:lnTo>
                  <a:pt x="1655504" y="811720"/>
                </a:lnTo>
                <a:lnTo>
                  <a:pt x="823297" y="1284332"/>
                </a:lnTo>
                <a:lnTo>
                  <a:pt x="1365" y="811720"/>
                </a:lnTo>
                <a:cubicBezTo>
                  <a:pt x="910" y="541167"/>
                  <a:pt x="455" y="-6736"/>
                  <a:pt x="0" y="62"/>
                </a:cubicBezTo>
                <a:close/>
              </a:path>
            </a:pathLst>
          </a:custGeom>
          <a:solidFill>
            <a:srgbClr val="f19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矩形 10"/>
          <p:cNvSpPr/>
          <p:nvPr/>
        </p:nvSpPr>
        <p:spPr>
          <a:xfrm>
            <a:off x="3735360" y="0"/>
            <a:ext cx="1471680" cy="998640"/>
          </a:xfrm>
          <a:custGeom>
            <a:avLst/>
            <a:gdLst/>
            <a:ahLst/>
            <a:rect l="l" t="t" r="r" b="b"/>
            <a:pathLst>
              <a:path w="1665778" h="1284332">
                <a:moveTo>
                  <a:pt x="0" y="62"/>
                </a:moveTo>
                <a:cubicBezTo>
                  <a:pt x="-455" y="6860"/>
                  <a:pt x="1110519" y="62"/>
                  <a:pt x="1665778" y="62"/>
                </a:cubicBezTo>
                <a:lnTo>
                  <a:pt x="1655504" y="811720"/>
                </a:lnTo>
                <a:lnTo>
                  <a:pt x="823297" y="1284332"/>
                </a:lnTo>
                <a:lnTo>
                  <a:pt x="1365" y="811720"/>
                </a:lnTo>
                <a:cubicBezTo>
                  <a:pt x="910" y="541167"/>
                  <a:pt x="455" y="-6736"/>
                  <a:pt x="0" y="62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矩形 10"/>
          <p:cNvSpPr/>
          <p:nvPr/>
        </p:nvSpPr>
        <p:spPr>
          <a:xfrm>
            <a:off x="5275440" y="0"/>
            <a:ext cx="1469880" cy="998640"/>
          </a:xfrm>
          <a:custGeom>
            <a:avLst/>
            <a:gdLst/>
            <a:ahLst/>
            <a:rect l="l" t="t" r="r" b="b"/>
            <a:pathLst>
              <a:path w="1665778" h="1284332">
                <a:moveTo>
                  <a:pt x="0" y="62"/>
                </a:moveTo>
                <a:cubicBezTo>
                  <a:pt x="-455" y="6860"/>
                  <a:pt x="1110519" y="62"/>
                  <a:pt x="1665778" y="62"/>
                </a:cubicBezTo>
                <a:lnTo>
                  <a:pt x="1655504" y="811720"/>
                </a:lnTo>
                <a:lnTo>
                  <a:pt x="823297" y="1284332"/>
                </a:lnTo>
                <a:lnTo>
                  <a:pt x="1365" y="811720"/>
                </a:lnTo>
                <a:cubicBezTo>
                  <a:pt x="910" y="541167"/>
                  <a:pt x="455" y="-6736"/>
                  <a:pt x="0" y="62"/>
                </a:cubicBezTo>
                <a:close/>
              </a:path>
            </a:pathLst>
          </a:custGeom>
          <a:solidFill>
            <a:srgbClr val="e6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3" name="Group 5"/>
          <p:cNvGrpSpPr/>
          <p:nvPr/>
        </p:nvGrpSpPr>
        <p:grpSpPr>
          <a:xfrm>
            <a:off x="655560" y="0"/>
            <a:ext cx="1471680" cy="1657440"/>
            <a:chOff x="655560" y="0"/>
            <a:chExt cx="1471680" cy="1657440"/>
          </a:xfrm>
        </p:grpSpPr>
        <p:sp>
          <p:nvSpPr>
            <p:cNvPr id="504" name="矩形 10"/>
            <p:cNvSpPr/>
            <p:nvPr/>
          </p:nvSpPr>
          <p:spPr>
            <a:xfrm>
              <a:off x="655560" y="658440"/>
              <a:ext cx="1470960" cy="99900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4b1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矩形 10"/>
            <p:cNvSpPr/>
            <p:nvPr/>
          </p:nvSpPr>
          <p:spPr>
            <a:xfrm>
              <a:off x="655560" y="0"/>
              <a:ext cx="1471680" cy="1158120"/>
            </a:xfrm>
            <a:custGeom>
              <a:avLst/>
              <a:gdLst/>
              <a:ahLst/>
              <a:rect l="l" t="t" r="r" b="b"/>
              <a:pathLst>
                <a:path w="1666644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cubicBezTo>
                    <a:pt x="1666067" y="266981"/>
                    <a:pt x="1666355" y="533899"/>
                    <a:pt x="1666644" y="800818"/>
                  </a:cubicBez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4b1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6" name="矩形 2"/>
          <p:cNvSpPr/>
          <p:nvPr/>
        </p:nvSpPr>
        <p:spPr>
          <a:xfrm>
            <a:off x="6815160" y="0"/>
            <a:ext cx="4933800" cy="658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文本框 8"/>
          <p:cNvSpPr/>
          <p:nvPr/>
        </p:nvSpPr>
        <p:spPr>
          <a:xfrm>
            <a:off x="806400" y="38160"/>
            <a:ext cx="11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文本框 94"/>
          <p:cNvSpPr/>
          <p:nvPr/>
        </p:nvSpPr>
        <p:spPr>
          <a:xfrm flipH="1">
            <a:off x="726480" y="579600"/>
            <a:ext cx="132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文本框 11"/>
          <p:cNvSpPr/>
          <p:nvPr/>
        </p:nvSpPr>
        <p:spPr>
          <a:xfrm>
            <a:off x="8021520" y="128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这是个可长可短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0" name="Group 12"/>
          <p:cNvGrpSpPr/>
          <p:nvPr/>
        </p:nvGrpSpPr>
        <p:grpSpPr>
          <a:xfrm>
            <a:off x="10820520" y="5590800"/>
            <a:ext cx="1371600" cy="1266840"/>
            <a:chOff x="10820520" y="5590800"/>
            <a:chExt cx="1371600" cy="1266840"/>
          </a:xfrm>
        </p:grpSpPr>
        <p:sp>
          <p:nvSpPr>
            <p:cNvPr id="511" name="任意多边形 13"/>
            <p:cNvSpPr/>
            <p:nvPr/>
          </p:nvSpPr>
          <p:spPr>
            <a:xfrm rot="10800000">
              <a:off x="11010960" y="5766480"/>
              <a:ext cx="1181160" cy="1091160"/>
            </a:xfrm>
            <a:custGeom>
              <a:avLst/>
              <a:gdLst/>
              <a:ahLst/>
              <a:rect l="l" t="t" r="r" b="b"/>
              <a:pathLst>
                <a:path w="1181686" h="1090247">
                  <a:moveTo>
                    <a:pt x="0" y="0"/>
                  </a:moveTo>
                  <a:lnTo>
                    <a:pt x="1168923" y="0"/>
                  </a:lnTo>
                  <a:lnTo>
                    <a:pt x="1181686" y="126610"/>
                  </a:lnTo>
                  <a:cubicBezTo>
                    <a:pt x="1181686" y="658812"/>
                    <a:pt x="750251" y="1090247"/>
                    <a:pt x="218049" y="1090247"/>
                  </a:cubicBezTo>
                  <a:cubicBezTo>
                    <a:pt x="151524" y="1090247"/>
                    <a:pt x="86573" y="1083506"/>
                    <a:pt x="23843" y="1070669"/>
                  </a:cubicBezTo>
                  <a:lnTo>
                    <a:pt x="0" y="1063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任意多边形 14"/>
            <p:cNvSpPr/>
            <p:nvPr/>
          </p:nvSpPr>
          <p:spPr>
            <a:xfrm rot="10800000">
              <a:off x="10820520" y="5590800"/>
              <a:ext cx="1371600" cy="1266840"/>
            </a:xfrm>
            <a:custGeom>
              <a:avLst/>
              <a:gdLst/>
              <a:ahLst/>
              <a:rect l="l" t="t" r="r" b="b"/>
              <a:pathLst>
                <a:path w="1181686" h="1090247">
                  <a:moveTo>
                    <a:pt x="0" y="0"/>
                  </a:moveTo>
                  <a:lnTo>
                    <a:pt x="1168923" y="0"/>
                  </a:lnTo>
                  <a:lnTo>
                    <a:pt x="1181686" y="126610"/>
                  </a:lnTo>
                  <a:cubicBezTo>
                    <a:pt x="1181686" y="658812"/>
                    <a:pt x="750251" y="1090247"/>
                    <a:pt x="218049" y="1090247"/>
                  </a:cubicBezTo>
                  <a:cubicBezTo>
                    <a:pt x="151524" y="1090247"/>
                    <a:pt x="86573" y="1083506"/>
                    <a:pt x="23843" y="1070669"/>
                  </a:cubicBezTo>
                  <a:lnTo>
                    <a:pt x="0" y="1063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3" name="文本框 15"/>
          <p:cNvSpPr/>
          <p:nvPr/>
        </p:nvSpPr>
        <p:spPr>
          <a:xfrm>
            <a:off x="11153880" y="62247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文本框 16"/>
          <p:cNvSpPr/>
          <p:nvPr/>
        </p:nvSpPr>
        <p:spPr>
          <a:xfrm>
            <a:off x="2355840" y="34920"/>
            <a:ext cx="11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文本框 17"/>
          <p:cNvSpPr/>
          <p:nvPr/>
        </p:nvSpPr>
        <p:spPr>
          <a:xfrm>
            <a:off x="3913200" y="31680"/>
            <a:ext cx="11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文本框 18"/>
          <p:cNvSpPr/>
          <p:nvPr/>
        </p:nvSpPr>
        <p:spPr>
          <a:xfrm>
            <a:off x="5473800" y="34920"/>
            <a:ext cx="11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矩形 9"/>
          <p:cNvSpPr/>
          <p:nvPr/>
        </p:nvSpPr>
        <p:spPr>
          <a:xfrm>
            <a:off x="1371600" y="1841400"/>
            <a:ext cx="9639360" cy="3621240"/>
          </a:xfrm>
          <a:custGeom>
            <a:avLst/>
            <a:gdLst/>
            <a:ahLst/>
            <a:rect l="l" t="t" r="r" b="b"/>
            <a:pathLst>
              <a:path w="9638713" h="3620718">
                <a:moveTo>
                  <a:pt x="0" y="378823"/>
                </a:moveTo>
                <a:lnTo>
                  <a:pt x="1018904" y="0"/>
                </a:lnTo>
                <a:lnTo>
                  <a:pt x="9638713" y="0"/>
                </a:lnTo>
                <a:lnTo>
                  <a:pt x="9638713" y="3620718"/>
                </a:lnTo>
                <a:lnTo>
                  <a:pt x="13063" y="3620718"/>
                </a:lnTo>
                <a:cubicBezTo>
                  <a:pt x="8709" y="2540086"/>
                  <a:pt x="4354" y="1459455"/>
                  <a:pt x="0" y="378823"/>
                </a:cubicBezTo>
                <a:close/>
              </a:path>
            </a:pathLst>
          </a:custGeom>
          <a:solidFill>
            <a:srgbClr val="f4b18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矩形 20"/>
          <p:cNvSpPr/>
          <p:nvPr/>
        </p:nvSpPr>
        <p:spPr>
          <a:xfrm>
            <a:off x="2106720" y="2381400"/>
            <a:ext cx="844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等腰三角形 21"/>
          <p:cNvSpPr/>
          <p:nvPr/>
        </p:nvSpPr>
        <p:spPr>
          <a:xfrm rot="9585000">
            <a:off x="1418760" y="2022480"/>
            <a:ext cx="1121040" cy="479520"/>
          </a:xfrm>
          <a:prstGeom prst="triangle">
            <a:avLst>
              <a:gd name="adj" fmla="val 100000"/>
            </a:avLst>
          </a:prstGeom>
          <a:solidFill>
            <a:srgbClr val="f19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10820520" y="5590800"/>
            <a:ext cx="1371600" cy="1266840"/>
            <a:chOff x="10820520" y="5590800"/>
            <a:chExt cx="1371600" cy="1266840"/>
          </a:xfrm>
        </p:grpSpPr>
        <p:sp>
          <p:nvSpPr>
            <p:cNvPr id="521" name="任意多边形 14"/>
            <p:cNvSpPr/>
            <p:nvPr/>
          </p:nvSpPr>
          <p:spPr>
            <a:xfrm rot="10800000">
              <a:off x="11010960" y="5766480"/>
              <a:ext cx="1181160" cy="1091160"/>
            </a:xfrm>
            <a:custGeom>
              <a:avLst/>
              <a:gdLst/>
              <a:ahLst/>
              <a:rect l="l" t="t" r="r" b="b"/>
              <a:pathLst>
                <a:path w="1181686" h="1090247">
                  <a:moveTo>
                    <a:pt x="0" y="0"/>
                  </a:moveTo>
                  <a:lnTo>
                    <a:pt x="1168923" y="0"/>
                  </a:lnTo>
                  <a:lnTo>
                    <a:pt x="1181686" y="126610"/>
                  </a:lnTo>
                  <a:cubicBezTo>
                    <a:pt x="1181686" y="658812"/>
                    <a:pt x="750251" y="1090247"/>
                    <a:pt x="218049" y="1090247"/>
                  </a:cubicBezTo>
                  <a:cubicBezTo>
                    <a:pt x="151524" y="1090247"/>
                    <a:pt x="86573" y="1083506"/>
                    <a:pt x="23843" y="1070669"/>
                  </a:cubicBezTo>
                  <a:lnTo>
                    <a:pt x="0" y="1063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任意多边形 15"/>
            <p:cNvSpPr/>
            <p:nvPr/>
          </p:nvSpPr>
          <p:spPr>
            <a:xfrm rot="10800000">
              <a:off x="10820520" y="5590800"/>
              <a:ext cx="1371600" cy="1266840"/>
            </a:xfrm>
            <a:custGeom>
              <a:avLst/>
              <a:gdLst/>
              <a:ahLst/>
              <a:rect l="l" t="t" r="r" b="b"/>
              <a:pathLst>
                <a:path w="1181686" h="1090247">
                  <a:moveTo>
                    <a:pt x="0" y="0"/>
                  </a:moveTo>
                  <a:lnTo>
                    <a:pt x="1168923" y="0"/>
                  </a:lnTo>
                  <a:lnTo>
                    <a:pt x="1181686" y="126610"/>
                  </a:lnTo>
                  <a:cubicBezTo>
                    <a:pt x="1181686" y="658812"/>
                    <a:pt x="750251" y="1090247"/>
                    <a:pt x="218049" y="1090247"/>
                  </a:cubicBezTo>
                  <a:cubicBezTo>
                    <a:pt x="151524" y="1090247"/>
                    <a:pt x="86573" y="1083506"/>
                    <a:pt x="23843" y="1070669"/>
                  </a:cubicBezTo>
                  <a:lnTo>
                    <a:pt x="0" y="1063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3" name="文本框 16"/>
          <p:cNvSpPr/>
          <p:nvPr/>
        </p:nvSpPr>
        <p:spPr>
          <a:xfrm>
            <a:off x="11153880" y="62247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4" name="Group 6"/>
          <p:cNvGrpSpPr/>
          <p:nvPr/>
        </p:nvGrpSpPr>
        <p:grpSpPr>
          <a:xfrm>
            <a:off x="3424320" y="2082960"/>
            <a:ext cx="5277960" cy="2371320"/>
            <a:chOff x="3424320" y="2082960"/>
            <a:chExt cx="5277960" cy="2371320"/>
          </a:xfrm>
        </p:grpSpPr>
        <p:sp>
          <p:nvSpPr>
            <p:cNvPr id="525" name="矩形 10"/>
            <p:cNvSpPr/>
            <p:nvPr/>
          </p:nvSpPr>
          <p:spPr>
            <a:xfrm>
              <a:off x="5580360" y="2082960"/>
              <a:ext cx="2059560" cy="140004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19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矩形 10"/>
            <p:cNvSpPr/>
            <p:nvPr/>
          </p:nvSpPr>
          <p:spPr>
            <a:xfrm rot="10800000">
              <a:off x="6642720" y="3054240"/>
              <a:ext cx="2059560" cy="140004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矩形 10"/>
            <p:cNvSpPr/>
            <p:nvPr/>
          </p:nvSpPr>
          <p:spPr>
            <a:xfrm>
              <a:off x="3424320" y="2082960"/>
              <a:ext cx="2059560" cy="140004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4b1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矩形 10"/>
            <p:cNvSpPr/>
            <p:nvPr/>
          </p:nvSpPr>
          <p:spPr>
            <a:xfrm rot="10800000">
              <a:off x="4485960" y="3054240"/>
              <a:ext cx="2059560" cy="140004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e6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9" name="任意多边形 30"/>
          <p:cNvSpPr/>
          <p:nvPr/>
        </p:nvSpPr>
        <p:spPr>
          <a:xfrm>
            <a:off x="0" y="0"/>
            <a:ext cx="1181160" cy="1090440"/>
          </a:xfrm>
          <a:custGeom>
            <a:avLst/>
            <a:gdLst/>
            <a:ahLst/>
            <a:rect l="l" t="t" r="r" b="b"/>
            <a:pathLst>
              <a:path w="1181686" h="1090247">
                <a:moveTo>
                  <a:pt x="0" y="0"/>
                </a:moveTo>
                <a:lnTo>
                  <a:pt x="1168923" y="0"/>
                </a:lnTo>
                <a:lnTo>
                  <a:pt x="1181686" y="126610"/>
                </a:lnTo>
                <a:cubicBezTo>
                  <a:pt x="1181686" y="658812"/>
                  <a:pt x="750251" y="1090247"/>
                  <a:pt x="218049" y="1090247"/>
                </a:cubicBezTo>
                <a:cubicBezTo>
                  <a:pt x="151524" y="1090247"/>
                  <a:pt x="86573" y="1083506"/>
                  <a:pt x="23843" y="1070669"/>
                </a:cubicBezTo>
                <a:lnTo>
                  <a:pt x="0" y="1063268"/>
                </a:lnTo>
                <a:lnTo>
                  <a:pt x="0" y="0"/>
                </a:lnTo>
                <a:close/>
              </a:path>
            </a:pathLst>
          </a:custGeom>
          <a:solidFill>
            <a:srgbClr val="ffc00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任意多边形 31"/>
          <p:cNvSpPr/>
          <p:nvPr/>
        </p:nvSpPr>
        <p:spPr>
          <a:xfrm>
            <a:off x="0" y="0"/>
            <a:ext cx="1371600" cy="1266840"/>
          </a:xfrm>
          <a:custGeom>
            <a:avLst/>
            <a:gdLst/>
            <a:ahLst/>
            <a:rect l="l" t="t" r="r" b="b"/>
            <a:pathLst>
              <a:path w="1181686" h="1090247">
                <a:moveTo>
                  <a:pt x="0" y="0"/>
                </a:moveTo>
                <a:lnTo>
                  <a:pt x="1168923" y="0"/>
                </a:lnTo>
                <a:lnTo>
                  <a:pt x="1181686" y="126610"/>
                </a:lnTo>
                <a:cubicBezTo>
                  <a:pt x="1181686" y="658812"/>
                  <a:pt x="750251" y="1090247"/>
                  <a:pt x="218049" y="1090247"/>
                </a:cubicBezTo>
                <a:cubicBezTo>
                  <a:pt x="151524" y="1090247"/>
                  <a:pt x="86573" y="1083506"/>
                  <a:pt x="23843" y="1070669"/>
                </a:cubicBezTo>
                <a:lnTo>
                  <a:pt x="0" y="1063268"/>
                </a:lnTo>
                <a:lnTo>
                  <a:pt x="0" y="0"/>
                </a:lnTo>
                <a:close/>
              </a:path>
            </a:pathLst>
          </a:custGeom>
          <a:solidFill>
            <a:srgbClr val="ffc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文本框 32"/>
          <p:cNvSpPr/>
          <p:nvPr/>
        </p:nvSpPr>
        <p:spPr>
          <a:xfrm>
            <a:off x="68400" y="276120"/>
            <a:ext cx="10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文本框 4"/>
          <p:cNvSpPr/>
          <p:nvPr/>
        </p:nvSpPr>
        <p:spPr>
          <a:xfrm>
            <a:off x="4067280" y="1944720"/>
            <a:ext cx="97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roadway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文本框 21"/>
          <p:cNvSpPr/>
          <p:nvPr/>
        </p:nvSpPr>
        <p:spPr>
          <a:xfrm>
            <a:off x="6056280" y="1944720"/>
            <a:ext cx="97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roadway"/>
              </a:rPr>
              <a:t>w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文本框 33"/>
          <p:cNvSpPr/>
          <p:nvPr/>
        </p:nvSpPr>
        <p:spPr>
          <a:xfrm>
            <a:off x="4976640" y="3114720"/>
            <a:ext cx="97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roadway"/>
              </a:rPr>
              <a:t>O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文本框 34"/>
          <p:cNvSpPr/>
          <p:nvPr/>
        </p:nvSpPr>
        <p:spPr>
          <a:xfrm>
            <a:off x="7202520" y="3114720"/>
            <a:ext cx="97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roadway"/>
              </a:rPr>
              <a:t>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6" name="Group 18"/>
          <p:cNvGrpSpPr/>
          <p:nvPr/>
        </p:nvGrpSpPr>
        <p:grpSpPr>
          <a:xfrm>
            <a:off x="3164040" y="1528920"/>
            <a:ext cx="1322280" cy="554040"/>
            <a:chOff x="3164040" y="1528920"/>
            <a:chExt cx="1322280" cy="554040"/>
          </a:xfrm>
        </p:grpSpPr>
        <p:sp>
          <p:nvSpPr>
            <p:cNvPr id="537" name="直接连接符 6"/>
            <p:cNvSpPr/>
            <p:nvPr/>
          </p:nvSpPr>
          <p:spPr>
            <a:xfrm>
              <a:off x="3164040" y="1528920"/>
              <a:ext cx="1322280" cy="0"/>
            </a:xfrm>
            <a:prstGeom prst="line">
              <a:avLst/>
            </a:prstGeom>
            <a:ln w="28440">
              <a:solidFill>
                <a:srgbClr val="76717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直接连接符 8"/>
            <p:cNvSpPr/>
            <p:nvPr/>
          </p:nvSpPr>
          <p:spPr>
            <a:xfrm>
              <a:off x="4486320" y="1528920"/>
              <a:ext cx="0" cy="554040"/>
            </a:xfrm>
            <a:prstGeom prst="line">
              <a:avLst/>
            </a:prstGeom>
            <a:ln w="28440">
              <a:solidFill>
                <a:srgbClr val="76717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9" name="文本框 49"/>
          <p:cNvSpPr/>
          <p:nvPr/>
        </p:nvSpPr>
        <p:spPr>
          <a:xfrm flipH="1">
            <a:off x="1197720" y="1268280"/>
            <a:ext cx="21193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名称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0" name="Group 22"/>
          <p:cNvGrpSpPr/>
          <p:nvPr/>
        </p:nvGrpSpPr>
        <p:grpSpPr>
          <a:xfrm>
            <a:off x="6668640" y="1528920"/>
            <a:ext cx="1376280" cy="554040"/>
            <a:chOff x="6668640" y="1528920"/>
            <a:chExt cx="1376280" cy="554040"/>
          </a:xfrm>
        </p:grpSpPr>
        <p:sp>
          <p:nvSpPr>
            <p:cNvPr id="541" name="直接连接符 37"/>
            <p:cNvSpPr/>
            <p:nvPr/>
          </p:nvSpPr>
          <p:spPr>
            <a:xfrm flipH="1">
              <a:off x="6668640" y="1528920"/>
              <a:ext cx="1376280" cy="0"/>
            </a:xfrm>
            <a:prstGeom prst="line">
              <a:avLst/>
            </a:prstGeom>
            <a:ln w="28440">
              <a:solidFill>
                <a:srgbClr val="76717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直接连接符 38"/>
            <p:cNvSpPr/>
            <p:nvPr/>
          </p:nvSpPr>
          <p:spPr>
            <a:xfrm>
              <a:off x="6668640" y="1528920"/>
              <a:ext cx="0" cy="554040"/>
            </a:xfrm>
            <a:prstGeom prst="line">
              <a:avLst/>
            </a:prstGeom>
            <a:ln w="28440">
              <a:solidFill>
                <a:srgbClr val="76717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3" name="文本框 49"/>
          <p:cNvSpPr/>
          <p:nvPr/>
        </p:nvSpPr>
        <p:spPr>
          <a:xfrm>
            <a:off x="7927920" y="1268280"/>
            <a:ext cx="21193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名称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文本框 49"/>
          <p:cNvSpPr/>
          <p:nvPr/>
        </p:nvSpPr>
        <p:spPr>
          <a:xfrm flipH="1">
            <a:off x="2083680" y="4791240"/>
            <a:ext cx="21193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名称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5" name="Group 27"/>
          <p:cNvGrpSpPr/>
          <p:nvPr/>
        </p:nvGrpSpPr>
        <p:grpSpPr>
          <a:xfrm>
            <a:off x="4067280" y="4514400"/>
            <a:ext cx="1415880" cy="554040"/>
            <a:chOff x="4067280" y="4514400"/>
            <a:chExt cx="1415880" cy="554040"/>
          </a:xfrm>
        </p:grpSpPr>
        <p:sp>
          <p:nvSpPr>
            <p:cNvPr id="546" name="直接连接符 42"/>
            <p:cNvSpPr/>
            <p:nvPr/>
          </p:nvSpPr>
          <p:spPr>
            <a:xfrm>
              <a:off x="4067280" y="5068440"/>
              <a:ext cx="1415880" cy="0"/>
            </a:xfrm>
            <a:prstGeom prst="line">
              <a:avLst/>
            </a:prstGeom>
            <a:ln w="28440">
              <a:solidFill>
                <a:srgbClr val="76717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直接连接符 43"/>
            <p:cNvSpPr/>
            <p:nvPr/>
          </p:nvSpPr>
          <p:spPr>
            <a:xfrm flipV="1">
              <a:off x="5483160" y="4514400"/>
              <a:ext cx="0" cy="554040"/>
            </a:xfrm>
            <a:prstGeom prst="line">
              <a:avLst/>
            </a:prstGeom>
            <a:ln w="28440">
              <a:solidFill>
                <a:srgbClr val="76717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8" name="文本框 49"/>
          <p:cNvSpPr/>
          <p:nvPr/>
        </p:nvSpPr>
        <p:spPr>
          <a:xfrm>
            <a:off x="8796240" y="4794120"/>
            <a:ext cx="21193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名称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9" name="Group 31"/>
          <p:cNvGrpSpPr/>
          <p:nvPr/>
        </p:nvGrpSpPr>
        <p:grpSpPr>
          <a:xfrm>
            <a:off x="7640280" y="4514400"/>
            <a:ext cx="1346040" cy="554040"/>
            <a:chOff x="7640280" y="4514400"/>
            <a:chExt cx="1346040" cy="554040"/>
          </a:xfrm>
        </p:grpSpPr>
        <p:sp>
          <p:nvSpPr>
            <p:cNvPr id="550" name="直接连接符 46"/>
            <p:cNvSpPr/>
            <p:nvPr/>
          </p:nvSpPr>
          <p:spPr>
            <a:xfrm flipH="1">
              <a:off x="7640280" y="5068440"/>
              <a:ext cx="1346040" cy="0"/>
            </a:xfrm>
            <a:prstGeom prst="line">
              <a:avLst/>
            </a:prstGeom>
            <a:ln w="28440">
              <a:solidFill>
                <a:srgbClr val="76717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直接连接符 47"/>
            <p:cNvSpPr/>
            <p:nvPr/>
          </p:nvSpPr>
          <p:spPr>
            <a:xfrm flipV="1">
              <a:off x="7640280" y="4514400"/>
              <a:ext cx="0" cy="554040"/>
            </a:xfrm>
            <a:prstGeom prst="line">
              <a:avLst/>
            </a:prstGeom>
            <a:ln w="28440">
              <a:solidFill>
                <a:srgbClr val="76717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2"/>
          <p:cNvGrpSpPr/>
          <p:nvPr/>
        </p:nvGrpSpPr>
        <p:grpSpPr>
          <a:xfrm>
            <a:off x="10820520" y="5590800"/>
            <a:ext cx="1371600" cy="1266840"/>
            <a:chOff x="10820520" y="5590800"/>
            <a:chExt cx="1371600" cy="1266840"/>
          </a:xfrm>
        </p:grpSpPr>
        <p:sp>
          <p:nvSpPr>
            <p:cNvPr id="553" name="任意多边形 14"/>
            <p:cNvSpPr/>
            <p:nvPr/>
          </p:nvSpPr>
          <p:spPr>
            <a:xfrm rot="10800000">
              <a:off x="11010960" y="5766480"/>
              <a:ext cx="1181160" cy="1091160"/>
            </a:xfrm>
            <a:custGeom>
              <a:avLst/>
              <a:gdLst/>
              <a:ahLst/>
              <a:rect l="l" t="t" r="r" b="b"/>
              <a:pathLst>
                <a:path w="1181686" h="1090247">
                  <a:moveTo>
                    <a:pt x="0" y="0"/>
                  </a:moveTo>
                  <a:lnTo>
                    <a:pt x="1168923" y="0"/>
                  </a:lnTo>
                  <a:lnTo>
                    <a:pt x="1181686" y="126610"/>
                  </a:lnTo>
                  <a:cubicBezTo>
                    <a:pt x="1181686" y="658812"/>
                    <a:pt x="750251" y="1090247"/>
                    <a:pt x="218049" y="1090247"/>
                  </a:cubicBezTo>
                  <a:cubicBezTo>
                    <a:pt x="151524" y="1090247"/>
                    <a:pt x="86573" y="1083506"/>
                    <a:pt x="23843" y="1070669"/>
                  </a:cubicBezTo>
                  <a:lnTo>
                    <a:pt x="0" y="1063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任意多边形 15"/>
            <p:cNvSpPr/>
            <p:nvPr/>
          </p:nvSpPr>
          <p:spPr>
            <a:xfrm rot="10800000">
              <a:off x="10820520" y="5590800"/>
              <a:ext cx="1371600" cy="1266840"/>
            </a:xfrm>
            <a:custGeom>
              <a:avLst/>
              <a:gdLst/>
              <a:ahLst/>
              <a:rect l="l" t="t" r="r" b="b"/>
              <a:pathLst>
                <a:path w="1181686" h="1090247">
                  <a:moveTo>
                    <a:pt x="0" y="0"/>
                  </a:moveTo>
                  <a:lnTo>
                    <a:pt x="1168923" y="0"/>
                  </a:lnTo>
                  <a:lnTo>
                    <a:pt x="1181686" y="126610"/>
                  </a:lnTo>
                  <a:cubicBezTo>
                    <a:pt x="1181686" y="658812"/>
                    <a:pt x="750251" y="1090247"/>
                    <a:pt x="218049" y="1090247"/>
                  </a:cubicBezTo>
                  <a:cubicBezTo>
                    <a:pt x="151524" y="1090247"/>
                    <a:pt x="86573" y="1083506"/>
                    <a:pt x="23843" y="1070669"/>
                  </a:cubicBezTo>
                  <a:lnTo>
                    <a:pt x="0" y="1063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5" name="文本框 16"/>
          <p:cNvSpPr/>
          <p:nvPr/>
        </p:nvSpPr>
        <p:spPr>
          <a:xfrm>
            <a:off x="11153880" y="62247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任意多边形 30"/>
          <p:cNvSpPr/>
          <p:nvPr/>
        </p:nvSpPr>
        <p:spPr>
          <a:xfrm>
            <a:off x="0" y="0"/>
            <a:ext cx="1181160" cy="1090440"/>
          </a:xfrm>
          <a:custGeom>
            <a:avLst/>
            <a:gdLst/>
            <a:ahLst/>
            <a:rect l="l" t="t" r="r" b="b"/>
            <a:pathLst>
              <a:path w="1181686" h="1090247">
                <a:moveTo>
                  <a:pt x="0" y="0"/>
                </a:moveTo>
                <a:lnTo>
                  <a:pt x="1168923" y="0"/>
                </a:lnTo>
                <a:lnTo>
                  <a:pt x="1181686" y="126610"/>
                </a:lnTo>
                <a:cubicBezTo>
                  <a:pt x="1181686" y="658812"/>
                  <a:pt x="750251" y="1090247"/>
                  <a:pt x="218049" y="1090247"/>
                </a:cubicBezTo>
                <a:cubicBezTo>
                  <a:pt x="151524" y="1090247"/>
                  <a:pt x="86573" y="1083506"/>
                  <a:pt x="23843" y="1070669"/>
                </a:cubicBezTo>
                <a:lnTo>
                  <a:pt x="0" y="1063268"/>
                </a:lnTo>
                <a:lnTo>
                  <a:pt x="0" y="0"/>
                </a:lnTo>
                <a:close/>
              </a:path>
            </a:pathLst>
          </a:custGeom>
          <a:solidFill>
            <a:srgbClr val="ffc00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任意多边形 31"/>
          <p:cNvSpPr/>
          <p:nvPr/>
        </p:nvSpPr>
        <p:spPr>
          <a:xfrm>
            <a:off x="0" y="0"/>
            <a:ext cx="1371600" cy="1266840"/>
          </a:xfrm>
          <a:custGeom>
            <a:avLst/>
            <a:gdLst/>
            <a:ahLst/>
            <a:rect l="l" t="t" r="r" b="b"/>
            <a:pathLst>
              <a:path w="1181686" h="1090247">
                <a:moveTo>
                  <a:pt x="0" y="0"/>
                </a:moveTo>
                <a:lnTo>
                  <a:pt x="1168923" y="0"/>
                </a:lnTo>
                <a:lnTo>
                  <a:pt x="1181686" y="126610"/>
                </a:lnTo>
                <a:cubicBezTo>
                  <a:pt x="1181686" y="658812"/>
                  <a:pt x="750251" y="1090247"/>
                  <a:pt x="218049" y="1090247"/>
                </a:cubicBezTo>
                <a:cubicBezTo>
                  <a:pt x="151524" y="1090247"/>
                  <a:pt x="86573" y="1083506"/>
                  <a:pt x="23843" y="1070669"/>
                </a:cubicBezTo>
                <a:lnTo>
                  <a:pt x="0" y="1063268"/>
                </a:lnTo>
                <a:lnTo>
                  <a:pt x="0" y="0"/>
                </a:lnTo>
                <a:close/>
              </a:path>
            </a:pathLst>
          </a:custGeom>
          <a:solidFill>
            <a:srgbClr val="ffc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文本框 32"/>
          <p:cNvSpPr/>
          <p:nvPr/>
        </p:nvSpPr>
        <p:spPr>
          <a:xfrm>
            <a:off x="68400" y="276120"/>
            <a:ext cx="10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文本框 49"/>
          <p:cNvSpPr/>
          <p:nvPr/>
        </p:nvSpPr>
        <p:spPr>
          <a:xfrm flipH="1">
            <a:off x="1853640" y="4255920"/>
            <a:ext cx="21193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名称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文本框 49"/>
          <p:cNvSpPr/>
          <p:nvPr/>
        </p:nvSpPr>
        <p:spPr>
          <a:xfrm>
            <a:off x="3951360" y="1074600"/>
            <a:ext cx="21193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名称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文本框 49"/>
          <p:cNvSpPr/>
          <p:nvPr/>
        </p:nvSpPr>
        <p:spPr>
          <a:xfrm flipH="1">
            <a:off x="6260400" y="4260960"/>
            <a:ext cx="21193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名称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文本框 49"/>
          <p:cNvSpPr/>
          <p:nvPr/>
        </p:nvSpPr>
        <p:spPr>
          <a:xfrm>
            <a:off x="8277120" y="1071720"/>
            <a:ext cx="21193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名称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3" name="Group 13"/>
          <p:cNvGrpSpPr/>
          <p:nvPr/>
        </p:nvGrpSpPr>
        <p:grpSpPr>
          <a:xfrm>
            <a:off x="1890720" y="2722680"/>
            <a:ext cx="2060640" cy="1400040"/>
            <a:chOff x="1890720" y="2722680"/>
            <a:chExt cx="2060640" cy="1400040"/>
          </a:xfrm>
        </p:grpSpPr>
        <p:sp>
          <p:nvSpPr>
            <p:cNvPr id="564" name="矩形 10"/>
            <p:cNvSpPr/>
            <p:nvPr/>
          </p:nvSpPr>
          <p:spPr>
            <a:xfrm>
              <a:off x="1890720" y="2722680"/>
              <a:ext cx="2060640" cy="140004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4b1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331"/>
            <p:cNvSpPr/>
            <p:nvPr/>
          </p:nvSpPr>
          <p:spPr>
            <a:xfrm>
              <a:off x="2557080" y="2917080"/>
              <a:ext cx="792720" cy="777600"/>
            </a:xfrm>
            <a:custGeom>
              <a:avLst/>
              <a:gdLst/>
              <a:ahLst/>
              <a:rect l="l" t="t" r="r" b="b"/>
              <a:pathLst>
                <a:path w="88" h="86">
                  <a:moveTo>
                    <a:pt x="39" y="46"/>
                  </a:moveTo>
                  <a:cubicBezTo>
                    <a:pt x="79" y="46"/>
                    <a:pt x="79" y="46"/>
                    <a:pt x="79" y="46"/>
                  </a:cubicBezTo>
                  <a:cubicBezTo>
                    <a:pt x="79" y="68"/>
                    <a:pt x="61" y="86"/>
                    <a:pt x="39" y="86"/>
                  </a:cubicBezTo>
                  <a:cubicBezTo>
                    <a:pt x="18" y="86"/>
                    <a:pt x="0" y="68"/>
                    <a:pt x="0" y="46"/>
                  </a:cubicBezTo>
                  <a:cubicBezTo>
                    <a:pt x="0" y="25"/>
                    <a:pt x="18" y="7"/>
                    <a:pt x="39" y="7"/>
                  </a:cubicBezTo>
                  <a:lnTo>
                    <a:pt x="39" y="46"/>
                  </a:lnTo>
                  <a:close/>
                  <a:moveTo>
                    <a:pt x="48" y="40"/>
                  </a:moveTo>
                  <a:cubicBezTo>
                    <a:pt x="88" y="40"/>
                    <a:pt x="88" y="40"/>
                    <a:pt x="88" y="40"/>
                  </a:cubicBezTo>
                  <a:cubicBezTo>
                    <a:pt x="88" y="18"/>
                    <a:pt x="70" y="0"/>
                    <a:pt x="48" y="0"/>
                  </a:cubicBezTo>
                  <a:lnTo>
                    <a:pt x="48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6" name="Group 16"/>
          <p:cNvGrpSpPr/>
          <p:nvPr/>
        </p:nvGrpSpPr>
        <p:grpSpPr>
          <a:xfrm>
            <a:off x="6216480" y="2722680"/>
            <a:ext cx="2060640" cy="1400040"/>
            <a:chOff x="6216480" y="2722680"/>
            <a:chExt cx="2060640" cy="1400040"/>
          </a:xfrm>
        </p:grpSpPr>
        <p:sp>
          <p:nvSpPr>
            <p:cNvPr id="567" name="矩形 10"/>
            <p:cNvSpPr/>
            <p:nvPr/>
          </p:nvSpPr>
          <p:spPr>
            <a:xfrm>
              <a:off x="6216480" y="2722680"/>
              <a:ext cx="2060640" cy="140004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19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346"/>
            <p:cNvSpPr/>
            <p:nvPr/>
          </p:nvSpPr>
          <p:spPr>
            <a:xfrm>
              <a:off x="6874560" y="3066120"/>
              <a:ext cx="810720" cy="462960"/>
            </a:xfrm>
            <a:custGeom>
              <a:avLst/>
              <a:gdLst/>
              <a:ahLst/>
              <a:rect l="l" t="t" r="r" b="b"/>
              <a:pathLst>
                <a:path w="319" h="198">
                  <a:moveTo>
                    <a:pt x="0" y="122"/>
                  </a:moveTo>
                  <a:lnTo>
                    <a:pt x="50" y="122"/>
                  </a:lnTo>
                  <a:lnTo>
                    <a:pt x="50" y="198"/>
                  </a:lnTo>
                  <a:lnTo>
                    <a:pt x="0" y="198"/>
                  </a:lnTo>
                  <a:lnTo>
                    <a:pt x="0" y="122"/>
                  </a:lnTo>
                  <a:close/>
                  <a:moveTo>
                    <a:pt x="69" y="198"/>
                  </a:moveTo>
                  <a:lnTo>
                    <a:pt x="119" y="198"/>
                  </a:lnTo>
                  <a:lnTo>
                    <a:pt x="119" y="28"/>
                  </a:lnTo>
                  <a:lnTo>
                    <a:pt x="69" y="28"/>
                  </a:lnTo>
                  <a:lnTo>
                    <a:pt x="69" y="198"/>
                  </a:lnTo>
                  <a:close/>
                  <a:moveTo>
                    <a:pt x="135" y="198"/>
                  </a:moveTo>
                  <a:lnTo>
                    <a:pt x="185" y="198"/>
                  </a:lnTo>
                  <a:lnTo>
                    <a:pt x="185" y="59"/>
                  </a:lnTo>
                  <a:lnTo>
                    <a:pt x="135" y="59"/>
                  </a:lnTo>
                  <a:lnTo>
                    <a:pt x="135" y="198"/>
                  </a:lnTo>
                  <a:close/>
                  <a:moveTo>
                    <a:pt x="201" y="198"/>
                  </a:moveTo>
                  <a:lnTo>
                    <a:pt x="251" y="198"/>
                  </a:lnTo>
                  <a:lnTo>
                    <a:pt x="251" y="151"/>
                  </a:lnTo>
                  <a:lnTo>
                    <a:pt x="201" y="151"/>
                  </a:lnTo>
                  <a:lnTo>
                    <a:pt x="201" y="198"/>
                  </a:lnTo>
                  <a:close/>
                  <a:moveTo>
                    <a:pt x="270" y="198"/>
                  </a:moveTo>
                  <a:lnTo>
                    <a:pt x="319" y="198"/>
                  </a:lnTo>
                  <a:lnTo>
                    <a:pt x="319" y="0"/>
                  </a:lnTo>
                  <a:lnTo>
                    <a:pt x="270" y="0"/>
                  </a:lnTo>
                  <a:lnTo>
                    <a:pt x="270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9" name="Group 19"/>
          <p:cNvGrpSpPr/>
          <p:nvPr/>
        </p:nvGrpSpPr>
        <p:grpSpPr>
          <a:xfrm>
            <a:off x="4054320" y="2217240"/>
            <a:ext cx="2059200" cy="1398600"/>
            <a:chOff x="4054320" y="2217240"/>
            <a:chExt cx="2059200" cy="1398600"/>
          </a:xfrm>
        </p:grpSpPr>
        <p:sp>
          <p:nvSpPr>
            <p:cNvPr id="570" name="矩形 10"/>
            <p:cNvSpPr/>
            <p:nvPr/>
          </p:nvSpPr>
          <p:spPr>
            <a:xfrm rot="10800000">
              <a:off x="4054320" y="2217240"/>
              <a:ext cx="2059200" cy="139860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e6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1" name="Group 11" descr=""/>
            <p:cNvPicPr/>
            <p:nvPr/>
          </p:nvPicPr>
          <p:blipFill>
            <a:blip r:embed="rId2"/>
            <a:stretch/>
          </p:blipFill>
          <p:spPr>
            <a:xfrm>
              <a:off x="4724280" y="2645640"/>
              <a:ext cx="658080" cy="76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2" name="Group 22"/>
          <p:cNvGrpSpPr/>
          <p:nvPr/>
        </p:nvGrpSpPr>
        <p:grpSpPr>
          <a:xfrm>
            <a:off x="8380440" y="2217240"/>
            <a:ext cx="2060640" cy="1398600"/>
            <a:chOff x="8380440" y="2217240"/>
            <a:chExt cx="2060640" cy="1398600"/>
          </a:xfrm>
        </p:grpSpPr>
        <p:sp>
          <p:nvSpPr>
            <p:cNvPr id="573" name="矩形 10"/>
            <p:cNvSpPr/>
            <p:nvPr/>
          </p:nvSpPr>
          <p:spPr>
            <a:xfrm rot="10800000">
              <a:off x="8380440" y="2217240"/>
              <a:ext cx="2060640" cy="139860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198"/>
            <p:cNvSpPr/>
            <p:nvPr/>
          </p:nvSpPr>
          <p:spPr>
            <a:xfrm>
              <a:off x="9095400" y="2760480"/>
              <a:ext cx="630720" cy="630720"/>
            </a:xfrm>
            <a:custGeom>
              <a:avLst/>
              <a:gdLst/>
              <a:ahLst/>
              <a:rect l="l" t="t" r="r" b="b"/>
              <a:pathLst>
                <a:path w="1166" h="1167">
                  <a:moveTo>
                    <a:pt x="749" y="0"/>
                  </a:moveTo>
                  <a:cubicBezTo>
                    <a:pt x="518" y="0"/>
                    <a:pt x="331" y="187"/>
                    <a:pt x="331" y="417"/>
                  </a:cubicBezTo>
                  <a:cubicBezTo>
                    <a:pt x="331" y="492"/>
                    <a:pt x="351" y="562"/>
                    <a:pt x="385" y="622"/>
                  </a:cubicBezTo>
                  <a:cubicBezTo>
                    <a:pt x="44" y="963"/>
                    <a:pt x="44" y="963"/>
                    <a:pt x="44" y="963"/>
                  </a:cubicBezTo>
                  <a:cubicBezTo>
                    <a:pt x="0" y="1007"/>
                    <a:pt x="0" y="1079"/>
                    <a:pt x="44" y="1123"/>
                  </a:cubicBezTo>
                  <a:cubicBezTo>
                    <a:pt x="88" y="1167"/>
                    <a:pt x="160" y="1167"/>
                    <a:pt x="204" y="1123"/>
                  </a:cubicBezTo>
                  <a:cubicBezTo>
                    <a:pt x="545" y="782"/>
                    <a:pt x="545" y="782"/>
                    <a:pt x="545" y="782"/>
                  </a:cubicBezTo>
                  <a:cubicBezTo>
                    <a:pt x="605" y="815"/>
                    <a:pt x="675" y="835"/>
                    <a:pt x="749" y="835"/>
                  </a:cubicBezTo>
                  <a:cubicBezTo>
                    <a:pt x="979" y="835"/>
                    <a:pt x="1166" y="648"/>
                    <a:pt x="1166" y="417"/>
                  </a:cubicBezTo>
                  <a:cubicBezTo>
                    <a:pt x="1166" y="187"/>
                    <a:pt x="979" y="0"/>
                    <a:pt x="749" y="0"/>
                  </a:cubicBezTo>
                  <a:close/>
                  <a:moveTo>
                    <a:pt x="749" y="672"/>
                  </a:moveTo>
                  <a:cubicBezTo>
                    <a:pt x="608" y="672"/>
                    <a:pt x="495" y="558"/>
                    <a:pt x="495" y="417"/>
                  </a:cubicBezTo>
                  <a:cubicBezTo>
                    <a:pt x="495" y="277"/>
                    <a:pt x="608" y="163"/>
                    <a:pt x="749" y="163"/>
                  </a:cubicBezTo>
                  <a:cubicBezTo>
                    <a:pt x="889" y="163"/>
                    <a:pt x="1003" y="277"/>
                    <a:pt x="1003" y="417"/>
                  </a:cubicBezTo>
                  <a:cubicBezTo>
                    <a:pt x="1003" y="558"/>
                    <a:pt x="889" y="672"/>
                    <a:pt x="749" y="6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"/>
          <p:cNvGrpSpPr/>
          <p:nvPr/>
        </p:nvGrpSpPr>
        <p:grpSpPr>
          <a:xfrm>
            <a:off x="10820520" y="5590800"/>
            <a:ext cx="1371600" cy="1266840"/>
            <a:chOff x="10820520" y="5590800"/>
            <a:chExt cx="1371600" cy="1266840"/>
          </a:xfrm>
        </p:grpSpPr>
        <p:sp>
          <p:nvSpPr>
            <p:cNvPr id="576" name="任意多边形 14"/>
            <p:cNvSpPr/>
            <p:nvPr/>
          </p:nvSpPr>
          <p:spPr>
            <a:xfrm rot="10800000">
              <a:off x="11010960" y="5766480"/>
              <a:ext cx="1181160" cy="1091160"/>
            </a:xfrm>
            <a:custGeom>
              <a:avLst/>
              <a:gdLst/>
              <a:ahLst/>
              <a:rect l="l" t="t" r="r" b="b"/>
              <a:pathLst>
                <a:path w="1181686" h="1090247">
                  <a:moveTo>
                    <a:pt x="0" y="0"/>
                  </a:moveTo>
                  <a:lnTo>
                    <a:pt x="1168923" y="0"/>
                  </a:lnTo>
                  <a:lnTo>
                    <a:pt x="1181686" y="126610"/>
                  </a:lnTo>
                  <a:cubicBezTo>
                    <a:pt x="1181686" y="658812"/>
                    <a:pt x="750251" y="1090247"/>
                    <a:pt x="218049" y="1090247"/>
                  </a:cubicBezTo>
                  <a:cubicBezTo>
                    <a:pt x="151524" y="1090247"/>
                    <a:pt x="86573" y="1083506"/>
                    <a:pt x="23843" y="1070669"/>
                  </a:cubicBezTo>
                  <a:lnTo>
                    <a:pt x="0" y="1063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任意多边形 15"/>
            <p:cNvSpPr/>
            <p:nvPr/>
          </p:nvSpPr>
          <p:spPr>
            <a:xfrm rot="10800000">
              <a:off x="10820520" y="5590800"/>
              <a:ext cx="1371600" cy="1266840"/>
            </a:xfrm>
            <a:custGeom>
              <a:avLst/>
              <a:gdLst/>
              <a:ahLst/>
              <a:rect l="l" t="t" r="r" b="b"/>
              <a:pathLst>
                <a:path w="1181686" h="1090247">
                  <a:moveTo>
                    <a:pt x="0" y="0"/>
                  </a:moveTo>
                  <a:lnTo>
                    <a:pt x="1168923" y="0"/>
                  </a:lnTo>
                  <a:lnTo>
                    <a:pt x="1181686" y="126610"/>
                  </a:lnTo>
                  <a:cubicBezTo>
                    <a:pt x="1181686" y="658812"/>
                    <a:pt x="750251" y="1090247"/>
                    <a:pt x="218049" y="1090247"/>
                  </a:cubicBezTo>
                  <a:cubicBezTo>
                    <a:pt x="151524" y="1090247"/>
                    <a:pt x="86573" y="1083506"/>
                    <a:pt x="23843" y="1070669"/>
                  </a:cubicBezTo>
                  <a:lnTo>
                    <a:pt x="0" y="1063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8" name="文本框 16"/>
          <p:cNvSpPr/>
          <p:nvPr/>
        </p:nvSpPr>
        <p:spPr>
          <a:xfrm>
            <a:off x="11153880" y="62247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任意多边形 30"/>
          <p:cNvSpPr/>
          <p:nvPr/>
        </p:nvSpPr>
        <p:spPr>
          <a:xfrm>
            <a:off x="0" y="0"/>
            <a:ext cx="1181160" cy="1090440"/>
          </a:xfrm>
          <a:custGeom>
            <a:avLst/>
            <a:gdLst/>
            <a:ahLst/>
            <a:rect l="l" t="t" r="r" b="b"/>
            <a:pathLst>
              <a:path w="1181686" h="1090247">
                <a:moveTo>
                  <a:pt x="0" y="0"/>
                </a:moveTo>
                <a:lnTo>
                  <a:pt x="1168923" y="0"/>
                </a:lnTo>
                <a:lnTo>
                  <a:pt x="1181686" y="126610"/>
                </a:lnTo>
                <a:cubicBezTo>
                  <a:pt x="1181686" y="658812"/>
                  <a:pt x="750251" y="1090247"/>
                  <a:pt x="218049" y="1090247"/>
                </a:cubicBezTo>
                <a:cubicBezTo>
                  <a:pt x="151524" y="1090247"/>
                  <a:pt x="86573" y="1083506"/>
                  <a:pt x="23843" y="1070669"/>
                </a:cubicBezTo>
                <a:lnTo>
                  <a:pt x="0" y="1063268"/>
                </a:lnTo>
                <a:lnTo>
                  <a:pt x="0" y="0"/>
                </a:lnTo>
                <a:close/>
              </a:path>
            </a:pathLst>
          </a:custGeom>
          <a:solidFill>
            <a:srgbClr val="ffc00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任意多边形 31"/>
          <p:cNvSpPr/>
          <p:nvPr/>
        </p:nvSpPr>
        <p:spPr>
          <a:xfrm>
            <a:off x="0" y="0"/>
            <a:ext cx="1371600" cy="1266840"/>
          </a:xfrm>
          <a:custGeom>
            <a:avLst/>
            <a:gdLst/>
            <a:ahLst/>
            <a:rect l="l" t="t" r="r" b="b"/>
            <a:pathLst>
              <a:path w="1181686" h="1090247">
                <a:moveTo>
                  <a:pt x="0" y="0"/>
                </a:moveTo>
                <a:lnTo>
                  <a:pt x="1168923" y="0"/>
                </a:lnTo>
                <a:lnTo>
                  <a:pt x="1181686" y="126610"/>
                </a:lnTo>
                <a:cubicBezTo>
                  <a:pt x="1181686" y="658812"/>
                  <a:pt x="750251" y="1090247"/>
                  <a:pt x="218049" y="1090247"/>
                </a:cubicBezTo>
                <a:cubicBezTo>
                  <a:pt x="151524" y="1090247"/>
                  <a:pt x="86573" y="1083506"/>
                  <a:pt x="23843" y="1070669"/>
                </a:cubicBezTo>
                <a:lnTo>
                  <a:pt x="0" y="1063268"/>
                </a:lnTo>
                <a:lnTo>
                  <a:pt x="0" y="0"/>
                </a:lnTo>
                <a:close/>
              </a:path>
            </a:pathLst>
          </a:custGeom>
          <a:solidFill>
            <a:srgbClr val="ffc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文本框 32"/>
          <p:cNvSpPr/>
          <p:nvPr/>
        </p:nvSpPr>
        <p:spPr>
          <a:xfrm>
            <a:off x="0" y="206280"/>
            <a:ext cx="10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文本框 49"/>
          <p:cNvSpPr/>
          <p:nvPr/>
        </p:nvSpPr>
        <p:spPr>
          <a:xfrm flipH="1">
            <a:off x="2785320" y="998640"/>
            <a:ext cx="21193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名称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文本框 49"/>
          <p:cNvSpPr/>
          <p:nvPr/>
        </p:nvSpPr>
        <p:spPr>
          <a:xfrm>
            <a:off x="7709040" y="977760"/>
            <a:ext cx="21193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名称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文本框 49"/>
          <p:cNvSpPr/>
          <p:nvPr/>
        </p:nvSpPr>
        <p:spPr>
          <a:xfrm flipH="1">
            <a:off x="7554240" y="4694400"/>
            <a:ext cx="21193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名称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文本框 49"/>
          <p:cNvSpPr/>
          <p:nvPr/>
        </p:nvSpPr>
        <p:spPr>
          <a:xfrm>
            <a:off x="3173400" y="4719600"/>
            <a:ext cx="21193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名称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6" name="Group 13"/>
          <p:cNvGrpSpPr/>
          <p:nvPr/>
        </p:nvGrpSpPr>
        <p:grpSpPr>
          <a:xfrm>
            <a:off x="4245120" y="3346560"/>
            <a:ext cx="2058840" cy="1400040"/>
            <a:chOff x="4245120" y="3346560"/>
            <a:chExt cx="2058840" cy="1400040"/>
          </a:xfrm>
        </p:grpSpPr>
        <p:sp>
          <p:nvSpPr>
            <p:cNvPr id="587" name="矩形 10"/>
            <p:cNvSpPr/>
            <p:nvPr/>
          </p:nvSpPr>
          <p:spPr>
            <a:xfrm>
              <a:off x="4245120" y="3346560"/>
              <a:ext cx="2058840" cy="140004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4b1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331"/>
            <p:cNvSpPr/>
            <p:nvPr/>
          </p:nvSpPr>
          <p:spPr>
            <a:xfrm>
              <a:off x="4910760" y="3540960"/>
              <a:ext cx="792000" cy="777600"/>
            </a:xfrm>
            <a:custGeom>
              <a:avLst/>
              <a:gdLst/>
              <a:ahLst/>
              <a:rect l="l" t="t" r="r" b="b"/>
              <a:pathLst>
                <a:path w="88" h="86">
                  <a:moveTo>
                    <a:pt x="39" y="46"/>
                  </a:moveTo>
                  <a:cubicBezTo>
                    <a:pt x="79" y="46"/>
                    <a:pt x="79" y="46"/>
                    <a:pt x="79" y="46"/>
                  </a:cubicBezTo>
                  <a:cubicBezTo>
                    <a:pt x="79" y="68"/>
                    <a:pt x="61" y="86"/>
                    <a:pt x="39" y="86"/>
                  </a:cubicBezTo>
                  <a:cubicBezTo>
                    <a:pt x="18" y="86"/>
                    <a:pt x="0" y="68"/>
                    <a:pt x="0" y="46"/>
                  </a:cubicBezTo>
                  <a:cubicBezTo>
                    <a:pt x="0" y="25"/>
                    <a:pt x="18" y="7"/>
                    <a:pt x="39" y="7"/>
                  </a:cubicBezTo>
                  <a:lnTo>
                    <a:pt x="39" y="46"/>
                  </a:lnTo>
                  <a:close/>
                  <a:moveTo>
                    <a:pt x="48" y="40"/>
                  </a:moveTo>
                  <a:cubicBezTo>
                    <a:pt x="88" y="40"/>
                    <a:pt x="88" y="40"/>
                    <a:pt x="88" y="40"/>
                  </a:cubicBezTo>
                  <a:cubicBezTo>
                    <a:pt x="88" y="18"/>
                    <a:pt x="70" y="0"/>
                    <a:pt x="48" y="0"/>
                  </a:cubicBezTo>
                  <a:lnTo>
                    <a:pt x="48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9" name="Group 16"/>
          <p:cNvGrpSpPr/>
          <p:nvPr/>
        </p:nvGrpSpPr>
        <p:grpSpPr>
          <a:xfrm>
            <a:off x="6364440" y="3346560"/>
            <a:ext cx="2058840" cy="1400040"/>
            <a:chOff x="6364440" y="3346560"/>
            <a:chExt cx="2058840" cy="1400040"/>
          </a:xfrm>
        </p:grpSpPr>
        <p:sp>
          <p:nvSpPr>
            <p:cNvPr id="590" name="矩形 10"/>
            <p:cNvSpPr/>
            <p:nvPr/>
          </p:nvSpPr>
          <p:spPr>
            <a:xfrm>
              <a:off x="6364440" y="3346560"/>
              <a:ext cx="2058840" cy="140004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19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346"/>
            <p:cNvSpPr/>
            <p:nvPr/>
          </p:nvSpPr>
          <p:spPr>
            <a:xfrm>
              <a:off x="7021800" y="3690000"/>
              <a:ext cx="810000" cy="462960"/>
            </a:xfrm>
            <a:custGeom>
              <a:avLst/>
              <a:gdLst/>
              <a:ahLst/>
              <a:rect l="l" t="t" r="r" b="b"/>
              <a:pathLst>
                <a:path w="319" h="198">
                  <a:moveTo>
                    <a:pt x="0" y="122"/>
                  </a:moveTo>
                  <a:lnTo>
                    <a:pt x="50" y="122"/>
                  </a:lnTo>
                  <a:lnTo>
                    <a:pt x="50" y="198"/>
                  </a:lnTo>
                  <a:lnTo>
                    <a:pt x="0" y="198"/>
                  </a:lnTo>
                  <a:lnTo>
                    <a:pt x="0" y="122"/>
                  </a:lnTo>
                  <a:close/>
                  <a:moveTo>
                    <a:pt x="69" y="198"/>
                  </a:moveTo>
                  <a:lnTo>
                    <a:pt x="119" y="198"/>
                  </a:lnTo>
                  <a:lnTo>
                    <a:pt x="119" y="28"/>
                  </a:lnTo>
                  <a:lnTo>
                    <a:pt x="69" y="28"/>
                  </a:lnTo>
                  <a:lnTo>
                    <a:pt x="69" y="198"/>
                  </a:lnTo>
                  <a:close/>
                  <a:moveTo>
                    <a:pt x="135" y="198"/>
                  </a:moveTo>
                  <a:lnTo>
                    <a:pt x="185" y="198"/>
                  </a:lnTo>
                  <a:lnTo>
                    <a:pt x="185" y="59"/>
                  </a:lnTo>
                  <a:lnTo>
                    <a:pt x="135" y="59"/>
                  </a:lnTo>
                  <a:lnTo>
                    <a:pt x="135" y="198"/>
                  </a:lnTo>
                  <a:close/>
                  <a:moveTo>
                    <a:pt x="201" y="198"/>
                  </a:moveTo>
                  <a:lnTo>
                    <a:pt x="251" y="198"/>
                  </a:lnTo>
                  <a:lnTo>
                    <a:pt x="251" y="151"/>
                  </a:lnTo>
                  <a:lnTo>
                    <a:pt x="201" y="151"/>
                  </a:lnTo>
                  <a:lnTo>
                    <a:pt x="201" y="198"/>
                  </a:lnTo>
                  <a:close/>
                  <a:moveTo>
                    <a:pt x="270" y="198"/>
                  </a:moveTo>
                  <a:lnTo>
                    <a:pt x="319" y="198"/>
                  </a:lnTo>
                  <a:lnTo>
                    <a:pt x="319" y="0"/>
                  </a:lnTo>
                  <a:lnTo>
                    <a:pt x="270" y="0"/>
                  </a:lnTo>
                  <a:lnTo>
                    <a:pt x="270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2" name="Group 19"/>
          <p:cNvGrpSpPr/>
          <p:nvPr/>
        </p:nvGrpSpPr>
        <p:grpSpPr>
          <a:xfrm>
            <a:off x="4236840" y="1879200"/>
            <a:ext cx="2060280" cy="1400040"/>
            <a:chOff x="4236840" y="1879200"/>
            <a:chExt cx="2060280" cy="1400040"/>
          </a:xfrm>
        </p:grpSpPr>
        <p:sp>
          <p:nvSpPr>
            <p:cNvPr id="593" name="矩形 10"/>
            <p:cNvSpPr/>
            <p:nvPr/>
          </p:nvSpPr>
          <p:spPr>
            <a:xfrm rot="10800000">
              <a:off x="4236840" y="1879200"/>
              <a:ext cx="2060280" cy="140004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e6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94" name="Group 11" descr=""/>
            <p:cNvPicPr/>
            <p:nvPr/>
          </p:nvPicPr>
          <p:blipFill>
            <a:blip r:embed="rId2"/>
            <a:stretch/>
          </p:blipFill>
          <p:spPr>
            <a:xfrm>
              <a:off x="4907520" y="2310120"/>
              <a:ext cx="658440" cy="76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5" name="Group 22"/>
          <p:cNvGrpSpPr/>
          <p:nvPr/>
        </p:nvGrpSpPr>
        <p:grpSpPr>
          <a:xfrm>
            <a:off x="6364080" y="1871280"/>
            <a:ext cx="2058840" cy="1398600"/>
            <a:chOff x="6364080" y="1871280"/>
            <a:chExt cx="2058840" cy="1398600"/>
          </a:xfrm>
        </p:grpSpPr>
        <p:sp>
          <p:nvSpPr>
            <p:cNvPr id="596" name="矩形 10"/>
            <p:cNvSpPr/>
            <p:nvPr/>
          </p:nvSpPr>
          <p:spPr>
            <a:xfrm rot="10800000">
              <a:off x="6364080" y="1871280"/>
              <a:ext cx="2058840" cy="139860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198"/>
            <p:cNvSpPr/>
            <p:nvPr/>
          </p:nvSpPr>
          <p:spPr>
            <a:xfrm>
              <a:off x="7078680" y="2414520"/>
              <a:ext cx="630360" cy="630720"/>
            </a:xfrm>
            <a:custGeom>
              <a:avLst/>
              <a:gdLst/>
              <a:ahLst/>
              <a:rect l="l" t="t" r="r" b="b"/>
              <a:pathLst>
                <a:path w="1166" h="1167">
                  <a:moveTo>
                    <a:pt x="749" y="0"/>
                  </a:moveTo>
                  <a:cubicBezTo>
                    <a:pt x="518" y="0"/>
                    <a:pt x="331" y="187"/>
                    <a:pt x="331" y="417"/>
                  </a:cubicBezTo>
                  <a:cubicBezTo>
                    <a:pt x="331" y="492"/>
                    <a:pt x="351" y="562"/>
                    <a:pt x="385" y="622"/>
                  </a:cubicBezTo>
                  <a:cubicBezTo>
                    <a:pt x="44" y="963"/>
                    <a:pt x="44" y="963"/>
                    <a:pt x="44" y="963"/>
                  </a:cubicBezTo>
                  <a:cubicBezTo>
                    <a:pt x="0" y="1007"/>
                    <a:pt x="0" y="1079"/>
                    <a:pt x="44" y="1123"/>
                  </a:cubicBezTo>
                  <a:cubicBezTo>
                    <a:pt x="88" y="1167"/>
                    <a:pt x="160" y="1167"/>
                    <a:pt x="204" y="1123"/>
                  </a:cubicBezTo>
                  <a:cubicBezTo>
                    <a:pt x="545" y="782"/>
                    <a:pt x="545" y="782"/>
                    <a:pt x="545" y="782"/>
                  </a:cubicBezTo>
                  <a:cubicBezTo>
                    <a:pt x="605" y="815"/>
                    <a:pt x="675" y="835"/>
                    <a:pt x="749" y="835"/>
                  </a:cubicBezTo>
                  <a:cubicBezTo>
                    <a:pt x="979" y="835"/>
                    <a:pt x="1166" y="648"/>
                    <a:pt x="1166" y="417"/>
                  </a:cubicBezTo>
                  <a:cubicBezTo>
                    <a:pt x="1166" y="187"/>
                    <a:pt x="979" y="0"/>
                    <a:pt x="749" y="0"/>
                  </a:cubicBezTo>
                  <a:close/>
                  <a:moveTo>
                    <a:pt x="749" y="672"/>
                  </a:moveTo>
                  <a:cubicBezTo>
                    <a:pt x="608" y="672"/>
                    <a:pt x="495" y="558"/>
                    <a:pt x="495" y="417"/>
                  </a:cubicBezTo>
                  <a:cubicBezTo>
                    <a:pt x="495" y="277"/>
                    <a:pt x="608" y="163"/>
                    <a:pt x="749" y="163"/>
                  </a:cubicBezTo>
                  <a:cubicBezTo>
                    <a:pt x="889" y="163"/>
                    <a:pt x="1003" y="277"/>
                    <a:pt x="1003" y="417"/>
                  </a:cubicBezTo>
                  <a:cubicBezTo>
                    <a:pt x="1003" y="558"/>
                    <a:pt x="889" y="672"/>
                    <a:pt x="749" y="6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2"/>
          <p:cNvGrpSpPr/>
          <p:nvPr/>
        </p:nvGrpSpPr>
        <p:grpSpPr>
          <a:xfrm>
            <a:off x="10820520" y="5590800"/>
            <a:ext cx="1371600" cy="1266840"/>
            <a:chOff x="10820520" y="5590800"/>
            <a:chExt cx="1371600" cy="1266840"/>
          </a:xfrm>
        </p:grpSpPr>
        <p:sp>
          <p:nvSpPr>
            <p:cNvPr id="599" name="任意多边形 14"/>
            <p:cNvSpPr/>
            <p:nvPr/>
          </p:nvSpPr>
          <p:spPr>
            <a:xfrm rot="10800000">
              <a:off x="11010960" y="5766480"/>
              <a:ext cx="1181160" cy="1091160"/>
            </a:xfrm>
            <a:custGeom>
              <a:avLst/>
              <a:gdLst/>
              <a:ahLst/>
              <a:rect l="l" t="t" r="r" b="b"/>
              <a:pathLst>
                <a:path w="1181686" h="1090247">
                  <a:moveTo>
                    <a:pt x="0" y="0"/>
                  </a:moveTo>
                  <a:lnTo>
                    <a:pt x="1168923" y="0"/>
                  </a:lnTo>
                  <a:lnTo>
                    <a:pt x="1181686" y="126610"/>
                  </a:lnTo>
                  <a:cubicBezTo>
                    <a:pt x="1181686" y="658812"/>
                    <a:pt x="750251" y="1090247"/>
                    <a:pt x="218049" y="1090247"/>
                  </a:cubicBezTo>
                  <a:cubicBezTo>
                    <a:pt x="151524" y="1090247"/>
                    <a:pt x="86573" y="1083506"/>
                    <a:pt x="23843" y="1070669"/>
                  </a:cubicBezTo>
                  <a:lnTo>
                    <a:pt x="0" y="1063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任意多边形 15"/>
            <p:cNvSpPr/>
            <p:nvPr/>
          </p:nvSpPr>
          <p:spPr>
            <a:xfrm rot="10800000">
              <a:off x="10820520" y="5590800"/>
              <a:ext cx="1371600" cy="1266840"/>
            </a:xfrm>
            <a:custGeom>
              <a:avLst/>
              <a:gdLst/>
              <a:ahLst/>
              <a:rect l="l" t="t" r="r" b="b"/>
              <a:pathLst>
                <a:path w="1181686" h="1090247">
                  <a:moveTo>
                    <a:pt x="0" y="0"/>
                  </a:moveTo>
                  <a:lnTo>
                    <a:pt x="1168923" y="0"/>
                  </a:lnTo>
                  <a:lnTo>
                    <a:pt x="1181686" y="126610"/>
                  </a:lnTo>
                  <a:cubicBezTo>
                    <a:pt x="1181686" y="658812"/>
                    <a:pt x="750251" y="1090247"/>
                    <a:pt x="218049" y="1090247"/>
                  </a:cubicBezTo>
                  <a:cubicBezTo>
                    <a:pt x="151524" y="1090247"/>
                    <a:pt x="86573" y="1083506"/>
                    <a:pt x="23843" y="1070669"/>
                  </a:cubicBezTo>
                  <a:lnTo>
                    <a:pt x="0" y="1063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1" name="文本框 16"/>
          <p:cNvSpPr/>
          <p:nvPr/>
        </p:nvSpPr>
        <p:spPr>
          <a:xfrm>
            <a:off x="11153880" y="62247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任意多边形 30"/>
          <p:cNvSpPr/>
          <p:nvPr/>
        </p:nvSpPr>
        <p:spPr>
          <a:xfrm>
            <a:off x="0" y="0"/>
            <a:ext cx="1181160" cy="1090440"/>
          </a:xfrm>
          <a:custGeom>
            <a:avLst/>
            <a:gdLst/>
            <a:ahLst/>
            <a:rect l="l" t="t" r="r" b="b"/>
            <a:pathLst>
              <a:path w="1181686" h="1090247">
                <a:moveTo>
                  <a:pt x="0" y="0"/>
                </a:moveTo>
                <a:lnTo>
                  <a:pt x="1168923" y="0"/>
                </a:lnTo>
                <a:lnTo>
                  <a:pt x="1181686" y="126610"/>
                </a:lnTo>
                <a:cubicBezTo>
                  <a:pt x="1181686" y="658812"/>
                  <a:pt x="750251" y="1090247"/>
                  <a:pt x="218049" y="1090247"/>
                </a:cubicBezTo>
                <a:cubicBezTo>
                  <a:pt x="151524" y="1090247"/>
                  <a:pt x="86573" y="1083506"/>
                  <a:pt x="23843" y="1070669"/>
                </a:cubicBezTo>
                <a:lnTo>
                  <a:pt x="0" y="1063268"/>
                </a:lnTo>
                <a:lnTo>
                  <a:pt x="0" y="0"/>
                </a:lnTo>
                <a:close/>
              </a:path>
            </a:pathLst>
          </a:custGeom>
          <a:solidFill>
            <a:srgbClr val="ffc00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任意多边形 31"/>
          <p:cNvSpPr/>
          <p:nvPr/>
        </p:nvSpPr>
        <p:spPr>
          <a:xfrm>
            <a:off x="0" y="0"/>
            <a:ext cx="1371600" cy="1266840"/>
          </a:xfrm>
          <a:custGeom>
            <a:avLst/>
            <a:gdLst/>
            <a:ahLst/>
            <a:rect l="l" t="t" r="r" b="b"/>
            <a:pathLst>
              <a:path w="1181686" h="1090247">
                <a:moveTo>
                  <a:pt x="0" y="0"/>
                </a:moveTo>
                <a:lnTo>
                  <a:pt x="1168923" y="0"/>
                </a:lnTo>
                <a:lnTo>
                  <a:pt x="1181686" y="126610"/>
                </a:lnTo>
                <a:cubicBezTo>
                  <a:pt x="1181686" y="658812"/>
                  <a:pt x="750251" y="1090247"/>
                  <a:pt x="218049" y="1090247"/>
                </a:cubicBezTo>
                <a:cubicBezTo>
                  <a:pt x="151524" y="1090247"/>
                  <a:pt x="86573" y="1083506"/>
                  <a:pt x="23843" y="1070669"/>
                </a:cubicBezTo>
                <a:lnTo>
                  <a:pt x="0" y="1063268"/>
                </a:lnTo>
                <a:lnTo>
                  <a:pt x="0" y="0"/>
                </a:lnTo>
                <a:close/>
              </a:path>
            </a:pathLst>
          </a:custGeom>
          <a:solidFill>
            <a:srgbClr val="ffc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文本框 32"/>
          <p:cNvSpPr/>
          <p:nvPr/>
        </p:nvSpPr>
        <p:spPr>
          <a:xfrm>
            <a:off x="0" y="206280"/>
            <a:ext cx="10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文本框 49"/>
          <p:cNvSpPr/>
          <p:nvPr/>
        </p:nvSpPr>
        <p:spPr>
          <a:xfrm flipH="1">
            <a:off x="1677240" y="1123920"/>
            <a:ext cx="21193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名称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矩形 12"/>
          <p:cNvSpPr/>
          <p:nvPr/>
        </p:nvSpPr>
        <p:spPr>
          <a:xfrm>
            <a:off x="1704960" y="2324160"/>
            <a:ext cx="2092320" cy="3627360"/>
          </a:xfrm>
          <a:prstGeom prst="rect">
            <a:avLst/>
          </a:prstGeom>
          <a:solidFill>
            <a:srgbClr val="c091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7" name="Group 11"/>
          <p:cNvGrpSpPr/>
          <p:nvPr/>
        </p:nvGrpSpPr>
        <p:grpSpPr>
          <a:xfrm>
            <a:off x="1860480" y="2514600"/>
            <a:ext cx="1762200" cy="3191040"/>
            <a:chOff x="1860480" y="2514600"/>
            <a:chExt cx="1762200" cy="3191040"/>
          </a:xfrm>
        </p:grpSpPr>
        <p:grpSp>
          <p:nvGrpSpPr>
            <p:cNvPr id="608" name="Group 12"/>
            <p:cNvGrpSpPr/>
            <p:nvPr/>
          </p:nvGrpSpPr>
          <p:grpSpPr>
            <a:xfrm>
              <a:off x="1860480" y="2514600"/>
              <a:ext cx="1762200" cy="3191040"/>
              <a:chOff x="1860480" y="2514600"/>
              <a:chExt cx="1762200" cy="3191040"/>
            </a:xfrm>
          </p:grpSpPr>
          <p:sp>
            <p:nvSpPr>
              <p:cNvPr id="609" name="矩形 17"/>
              <p:cNvSpPr/>
              <p:nvPr/>
            </p:nvSpPr>
            <p:spPr>
              <a:xfrm>
                <a:off x="1860480" y="2514600"/>
                <a:ext cx="1762200" cy="3191040"/>
              </a:xfrm>
              <a:prstGeom prst="rect">
                <a:avLst/>
              </a:prstGeom>
              <a:solidFill>
                <a:srgbClr val="ffffff">
                  <a:alpha val="2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0" name="任意多边形 18"/>
              <p:cNvSpPr/>
              <p:nvPr/>
            </p:nvSpPr>
            <p:spPr>
              <a:xfrm>
                <a:off x="1860480" y="2514600"/>
                <a:ext cx="1744920" cy="2771640"/>
              </a:xfrm>
              <a:custGeom>
                <a:avLst/>
                <a:gdLst/>
                <a:ahLst/>
                <a:rect l="l" t="t" r="r" b="b"/>
                <a:pathLst>
                  <a:path w="2026818" h="3225460">
                    <a:moveTo>
                      <a:pt x="0" y="0"/>
                    </a:moveTo>
                    <a:lnTo>
                      <a:pt x="2026818" y="0"/>
                    </a:lnTo>
                    <a:lnTo>
                      <a:pt x="2026818" y="2709925"/>
                    </a:lnTo>
                    <a:lnTo>
                      <a:pt x="1542512" y="1538483"/>
                    </a:lnTo>
                    <a:lnTo>
                      <a:pt x="1302954" y="2117928"/>
                    </a:lnTo>
                    <a:lnTo>
                      <a:pt x="1038220" y="1407854"/>
                    </a:lnTo>
                    <a:lnTo>
                      <a:pt x="682591" y="2361727"/>
                    </a:lnTo>
                    <a:lnTo>
                      <a:pt x="512044" y="1930369"/>
                    </a:lnTo>
                    <a:lnTo>
                      <a:pt x="0" y="32254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1" name="椭圆 15"/>
            <p:cNvSpPr/>
            <p:nvPr/>
          </p:nvSpPr>
          <p:spPr>
            <a:xfrm>
              <a:off x="2241000" y="3158640"/>
              <a:ext cx="363960" cy="363600"/>
            </a:xfrm>
            <a:prstGeom prst="ellipse">
              <a:avLst/>
            </a:prstGeom>
            <a:solidFill>
              <a:srgbClr val="c091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椭圆 16"/>
            <p:cNvSpPr/>
            <p:nvPr/>
          </p:nvSpPr>
          <p:spPr>
            <a:xfrm>
              <a:off x="2793240" y="3376440"/>
              <a:ext cx="244080" cy="244080"/>
            </a:xfrm>
            <a:prstGeom prst="ellipse">
              <a:avLst/>
            </a:prstGeom>
            <a:solidFill>
              <a:srgbClr val="c091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3" name="Text Box 14"/>
          <p:cNvSpPr/>
          <p:nvPr/>
        </p:nvSpPr>
        <p:spPr>
          <a:xfrm>
            <a:off x="2171880" y="2687760"/>
            <a:ext cx="11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59d1c"/>
                </a:solidFill>
                <a:latin typeface="Calibri"/>
                <a:ea typeface="微软雅黑"/>
              </a:rPr>
              <a:t>图片位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矩形 9"/>
          <p:cNvSpPr/>
          <p:nvPr/>
        </p:nvSpPr>
        <p:spPr>
          <a:xfrm>
            <a:off x="4003560" y="1090440"/>
            <a:ext cx="6604200" cy="4861080"/>
          </a:xfrm>
          <a:custGeom>
            <a:avLst/>
            <a:gdLst/>
            <a:ahLst/>
            <a:rect l="l" t="t" r="r" b="b"/>
            <a:pathLst>
              <a:path w="9638713" h="3620718">
                <a:moveTo>
                  <a:pt x="0" y="378823"/>
                </a:moveTo>
                <a:lnTo>
                  <a:pt x="1018904" y="0"/>
                </a:lnTo>
                <a:lnTo>
                  <a:pt x="9638713" y="0"/>
                </a:lnTo>
                <a:lnTo>
                  <a:pt x="9638713" y="3620718"/>
                </a:lnTo>
                <a:lnTo>
                  <a:pt x="13063" y="3620718"/>
                </a:lnTo>
                <a:cubicBezTo>
                  <a:pt x="8709" y="2540086"/>
                  <a:pt x="4354" y="1459455"/>
                  <a:pt x="0" y="378823"/>
                </a:cubicBezTo>
                <a:close/>
              </a:path>
            </a:pathLst>
          </a:custGeom>
          <a:solidFill>
            <a:srgbClr val="f19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矩形 46"/>
          <p:cNvSpPr/>
          <p:nvPr/>
        </p:nvSpPr>
        <p:spPr>
          <a:xfrm>
            <a:off x="4538520" y="1913040"/>
            <a:ext cx="5691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等腰三角形 47"/>
          <p:cNvSpPr/>
          <p:nvPr/>
        </p:nvSpPr>
        <p:spPr>
          <a:xfrm rot="8619000">
            <a:off x="4010760" y="1312560"/>
            <a:ext cx="892440" cy="328680"/>
          </a:xfrm>
          <a:prstGeom prst="triangle">
            <a:avLst>
              <a:gd name="adj" fmla="val 10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矩形 10"/>
          <p:cNvSpPr/>
          <p:nvPr/>
        </p:nvSpPr>
        <p:spPr>
          <a:xfrm>
            <a:off x="3735360" y="0"/>
            <a:ext cx="1471680" cy="998640"/>
          </a:xfrm>
          <a:custGeom>
            <a:avLst/>
            <a:gdLst/>
            <a:ahLst/>
            <a:rect l="l" t="t" r="r" b="b"/>
            <a:pathLst>
              <a:path w="1665778" h="1284332">
                <a:moveTo>
                  <a:pt x="0" y="62"/>
                </a:moveTo>
                <a:cubicBezTo>
                  <a:pt x="-455" y="6860"/>
                  <a:pt x="1110519" y="62"/>
                  <a:pt x="1665778" y="62"/>
                </a:cubicBezTo>
                <a:lnTo>
                  <a:pt x="1655504" y="811720"/>
                </a:lnTo>
                <a:lnTo>
                  <a:pt x="823297" y="1284332"/>
                </a:lnTo>
                <a:lnTo>
                  <a:pt x="1365" y="811720"/>
                </a:lnTo>
                <a:cubicBezTo>
                  <a:pt x="910" y="541167"/>
                  <a:pt x="455" y="-6736"/>
                  <a:pt x="0" y="62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矩形 10"/>
          <p:cNvSpPr/>
          <p:nvPr/>
        </p:nvSpPr>
        <p:spPr>
          <a:xfrm>
            <a:off x="5275440" y="0"/>
            <a:ext cx="1469880" cy="998640"/>
          </a:xfrm>
          <a:custGeom>
            <a:avLst/>
            <a:gdLst/>
            <a:ahLst/>
            <a:rect l="l" t="t" r="r" b="b"/>
            <a:pathLst>
              <a:path w="1665778" h="1284332">
                <a:moveTo>
                  <a:pt x="0" y="62"/>
                </a:moveTo>
                <a:cubicBezTo>
                  <a:pt x="-455" y="6860"/>
                  <a:pt x="1110519" y="62"/>
                  <a:pt x="1665778" y="62"/>
                </a:cubicBezTo>
                <a:lnTo>
                  <a:pt x="1655504" y="811720"/>
                </a:lnTo>
                <a:lnTo>
                  <a:pt x="823297" y="1284332"/>
                </a:lnTo>
                <a:lnTo>
                  <a:pt x="1365" y="811720"/>
                </a:lnTo>
                <a:cubicBezTo>
                  <a:pt x="910" y="541167"/>
                  <a:pt x="455" y="-6736"/>
                  <a:pt x="0" y="62"/>
                </a:cubicBezTo>
                <a:close/>
              </a:path>
            </a:pathLst>
          </a:custGeom>
          <a:solidFill>
            <a:srgbClr val="e6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矩形 10"/>
          <p:cNvSpPr/>
          <p:nvPr/>
        </p:nvSpPr>
        <p:spPr>
          <a:xfrm>
            <a:off x="657360" y="0"/>
            <a:ext cx="1469880" cy="998640"/>
          </a:xfrm>
          <a:custGeom>
            <a:avLst/>
            <a:gdLst/>
            <a:ahLst/>
            <a:rect l="l" t="t" r="r" b="b"/>
            <a:pathLst>
              <a:path w="1665778" h="1284332">
                <a:moveTo>
                  <a:pt x="0" y="62"/>
                </a:moveTo>
                <a:cubicBezTo>
                  <a:pt x="-455" y="6860"/>
                  <a:pt x="1110519" y="62"/>
                  <a:pt x="1665778" y="62"/>
                </a:cubicBezTo>
                <a:lnTo>
                  <a:pt x="1655504" y="811720"/>
                </a:lnTo>
                <a:lnTo>
                  <a:pt x="823297" y="1284332"/>
                </a:lnTo>
                <a:lnTo>
                  <a:pt x="1365" y="811720"/>
                </a:lnTo>
                <a:cubicBezTo>
                  <a:pt x="910" y="541167"/>
                  <a:pt x="455" y="-6736"/>
                  <a:pt x="0" y="62"/>
                </a:cubicBezTo>
                <a:close/>
              </a:path>
            </a:pathLst>
          </a:custGeom>
          <a:solidFill>
            <a:srgbClr val="f4b1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0" name="Group 5"/>
          <p:cNvGrpSpPr/>
          <p:nvPr/>
        </p:nvGrpSpPr>
        <p:grpSpPr>
          <a:xfrm>
            <a:off x="2197080" y="0"/>
            <a:ext cx="1471680" cy="1628640"/>
            <a:chOff x="2197080" y="0"/>
            <a:chExt cx="1471680" cy="1628640"/>
          </a:xfrm>
        </p:grpSpPr>
        <p:sp>
          <p:nvSpPr>
            <p:cNvPr id="621" name="矩形 10"/>
            <p:cNvSpPr/>
            <p:nvPr/>
          </p:nvSpPr>
          <p:spPr>
            <a:xfrm>
              <a:off x="2197080" y="629280"/>
              <a:ext cx="1470960" cy="99936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19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矩形 10"/>
            <p:cNvSpPr/>
            <p:nvPr/>
          </p:nvSpPr>
          <p:spPr>
            <a:xfrm>
              <a:off x="2197080" y="0"/>
              <a:ext cx="1471680" cy="999360"/>
            </a:xfrm>
            <a:custGeom>
              <a:avLst/>
              <a:gdLst/>
              <a:ahLst/>
              <a:rect l="l" t="t" r="r" b="b"/>
              <a:pathLst>
                <a:path w="1666644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cubicBezTo>
                    <a:pt x="1666067" y="270615"/>
                    <a:pt x="1666355" y="541167"/>
                    <a:pt x="1666644" y="811720"/>
                  </a:cubicBez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19c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3" name="矩形 9"/>
          <p:cNvSpPr/>
          <p:nvPr/>
        </p:nvSpPr>
        <p:spPr>
          <a:xfrm>
            <a:off x="6815160" y="0"/>
            <a:ext cx="4933800" cy="658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文本框 10"/>
          <p:cNvSpPr/>
          <p:nvPr/>
        </p:nvSpPr>
        <p:spPr>
          <a:xfrm>
            <a:off x="2344680" y="38160"/>
            <a:ext cx="11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文本框 94"/>
          <p:cNvSpPr/>
          <p:nvPr/>
        </p:nvSpPr>
        <p:spPr>
          <a:xfrm flipH="1">
            <a:off x="2266200" y="579600"/>
            <a:ext cx="132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6" name="Group 11"/>
          <p:cNvGrpSpPr/>
          <p:nvPr/>
        </p:nvGrpSpPr>
        <p:grpSpPr>
          <a:xfrm>
            <a:off x="10820520" y="5590800"/>
            <a:ext cx="1371600" cy="1266840"/>
            <a:chOff x="10820520" y="5590800"/>
            <a:chExt cx="1371600" cy="1266840"/>
          </a:xfrm>
        </p:grpSpPr>
        <p:sp>
          <p:nvSpPr>
            <p:cNvPr id="627" name="任意多边形 14"/>
            <p:cNvSpPr/>
            <p:nvPr/>
          </p:nvSpPr>
          <p:spPr>
            <a:xfrm rot="10800000">
              <a:off x="11010960" y="5766480"/>
              <a:ext cx="1181160" cy="1091160"/>
            </a:xfrm>
            <a:custGeom>
              <a:avLst/>
              <a:gdLst/>
              <a:ahLst/>
              <a:rect l="l" t="t" r="r" b="b"/>
              <a:pathLst>
                <a:path w="1181686" h="1090247">
                  <a:moveTo>
                    <a:pt x="0" y="0"/>
                  </a:moveTo>
                  <a:lnTo>
                    <a:pt x="1168923" y="0"/>
                  </a:lnTo>
                  <a:lnTo>
                    <a:pt x="1181686" y="126610"/>
                  </a:lnTo>
                  <a:cubicBezTo>
                    <a:pt x="1181686" y="658812"/>
                    <a:pt x="750251" y="1090247"/>
                    <a:pt x="218049" y="1090247"/>
                  </a:cubicBezTo>
                  <a:cubicBezTo>
                    <a:pt x="151524" y="1090247"/>
                    <a:pt x="86573" y="1083506"/>
                    <a:pt x="23843" y="1070669"/>
                  </a:cubicBezTo>
                  <a:lnTo>
                    <a:pt x="0" y="1063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任意多边形 15"/>
            <p:cNvSpPr/>
            <p:nvPr/>
          </p:nvSpPr>
          <p:spPr>
            <a:xfrm rot="10800000">
              <a:off x="10820520" y="5590800"/>
              <a:ext cx="1371600" cy="1266840"/>
            </a:xfrm>
            <a:custGeom>
              <a:avLst/>
              <a:gdLst/>
              <a:ahLst/>
              <a:rect l="l" t="t" r="r" b="b"/>
              <a:pathLst>
                <a:path w="1181686" h="1090247">
                  <a:moveTo>
                    <a:pt x="0" y="0"/>
                  </a:moveTo>
                  <a:lnTo>
                    <a:pt x="1168923" y="0"/>
                  </a:lnTo>
                  <a:lnTo>
                    <a:pt x="1181686" y="126610"/>
                  </a:lnTo>
                  <a:cubicBezTo>
                    <a:pt x="1181686" y="658812"/>
                    <a:pt x="750251" y="1090247"/>
                    <a:pt x="218049" y="1090247"/>
                  </a:cubicBezTo>
                  <a:cubicBezTo>
                    <a:pt x="151524" y="1090247"/>
                    <a:pt x="86573" y="1083506"/>
                    <a:pt x="23843" y="1070669"/>
                  </a:cubicBezTo>
                  <a:lnTo>
                    <a:pt x="0" y="1063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9" name="文本框 16"/>
          <p:cNvSpPr/>
          <p:nvPr/>
        </p:nvSpPr>
        <p:spPr>
          <a:xfrm>
            <a:off x="11153880" y="62247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文本框 17"/>
          <p:cNvSpPr/>
          <p:nvPr/>
        </p:nvSpPr>
        <p:spPr>
          <a:xfrm>
            <a:off x="800280" y="3492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文本框 18"/>
          <p:cNvSpPr/>
          <p:nvPr/>
        </p:nvSpPr>
        <p:spPr>
          <a:xfrm>
            <a:off x="3913200" y="31680"/>
            <a:ext cx="11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文本框 19"/>
          <p:cNvSpPr/>
          <p:nvPr/>
        </p:nvSpPr>
        <p:spPr>
          <a:xfrm>
            <a:off x="5473800" y="34920"/>
            <a:ext cx="11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文本框 20"/>
          <p:cNvSpPr/>
          <p:nvPr/>
        </p:nvSpPr>
        <p:spPr>
          <a:xfrm>
            <a:off x="8021520" y="128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这是个可长可短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矩形 9"/>
          <p:cNvSpPr/>
          <p:nvPr/>
        </p:nvSpPr>
        <p:spPr>
          <a:xfrm>
            <a:off x="1371600" y="1841400"/>
            <a:ext cx="9639360" cy="3621240"/>
          </a:xfrm>
          <a:custGeom>
            <a:avLst/>
            <a:gdLst/>
            <a:ahLst/>
            <a:rect l="l" t="t" r="r" b="b"/>
            <a:pathLst>
              <a:path w="9638713" h="3620718">
                <a:moveTo>
                  <a:pt x="0" y="378823"/>
                </a:moveTo>
                <a:lnTo>
                  <a:pt x="1018904" y="0"/>
                </a:lnTo>
                <a:lnTo>
                  <a:pt x="9638713" y="0"/>
                </a:lnTo>
                <a:lnTo>
                  <a:pt x="9638713" y="3620718"/>
                </a:lnTo>
                <a:lnTo>
                  <a:pt x="13063" y="3620718"/>
                </a:lnTo>
                <a:cubicBezTo>
                  <a:pt x="8709" y="2540086"/>
                  <a:pt x="4354" y="1459455"/>
                  <a:pt x="0" y="378823"/>
                </a:cubicBezTo>
                <a:close/>
              </a:path>
            </a:pathLst>
          </a:custGeom>
          <a:solidFill>
            <a:srgbClr val="f19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矩形 22"/>
          <p:cNvSpPr/>
          <p:nvPr/>
        </p:nvSpPr>
        <p:spPr>
          <a:xfrm>
            <a:off x="2106720" y="2381400"/>
            <a:ext cx="844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等腰三角形 23"/>
          <p:cNvSpPr/>
          <p:nvPr/>
        </p:nvSpPr>
        <p:spPr>
          <a:xfrm rot="9585000">
            <a:off x="1418760" y="2022480"/>
            <a:ext cx="1121040" cy="479520"/>
          </a:xfrm>
          <a:prstGeom prst="triangle">
            <a:avLst>
              <a:gd name="adj" fmla="val 10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矩形 10"/>
          <p:cNvSpPr/>
          <p:nvPr/>
        </p:nvSpPr>
        <p:spPr>
          <a:xfrm>
            <a:off x="2197080" y="0"/>
            <a:ext cx="1469880" cy="998640"/>
          </a:xfrm>
          <a:custGeom>
            <a:avLst/>
            <a:gdLst/>
            <a:ahLst/>
            <a:rect l="l" t="t" r="r" b="b"/>
            <a:pathLst>
              <a:path w="1665778" h="1284332">
                <a:moveTo>
                  <a:pt x="0" y="62"/>
                </a:moveTo>
                <a:cubicBezTo>
                  <a:pt x="-455" y="6860"/>
                  <a:pt x="1110519" y="62"/>
                  <a:pt x="1665778" y="62"/>
                </a:cubicBezTo>
                <a:lnTo>
                  <a:pt x="1655504" y="811720"/>
                </a:lnTo>
                <a:lnTo>
                  <a:pt x="823297" y="1284332"/>
                </a:lnTo>
                <a:lnTo>
                  <a:pt x="1365" y="811720"/>
                </a:lnTo>
                <a:cubicBezTo>
                  <a:pt x="910" y="541167"/>
                  <a:pt x="455" y="-6736"/>
                  <a:pt x="0" y="62"/>
                </a:cubicBezTo>
                <a:close/>
              </a:path>
            </a:pathLst>
          </a:custGeom>
          <a:solidFill>
            <a:srgbClr val="f19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矩形 10"/>
          <p:cNvSpPr/>
          <p:nvPr/>
        </p:nvSpPr>
        <p:spPr>
          <a:xfrm>
            <a:off x="5275440" y="0"/>
            <a:ext cx="1469880" cy="998640"/>
          </a:xfrm>
          <a:custGeom>
            <a:avLst/>
            <a:gdLst/>
            <a:ahLst/>
            <a:rect l="l" t="t" r="r" b="b"/>
            <a:pathLst>
              <a:path w="1665778" h="1284332">
                <a:moveTo>
                  <a:pt x="0" y="62"/>
                </a:moveTo>
                <a:cubicBezTo>
                  <a:pt x="-455" y="6860"/>
                  <a:pt x="1110519" y="62"/>
                  <a:pt x="1665778" y="62"/>
                </a:cubicBezTo>
                <a:lnTo>
                  <a:pt x="1655504" y="811720"/>
                </a:lnTo>
                <a:lnTo>
                  <a:pt x="823297" y="1284332"/>
                </a:lnTo>
                <a:lnTo>
                  <a:pt x="1365" y="811720"/>
                </a:lnTo>
                <a:cubicBezTo>
                  <a:pt x="910" y="541167"/>
                  <a:pt x="455" y="-6736"/>
                  <a:pt x="0" y="62"/>
                </a:cubicBezTo>
                <a:close/>
              </a:path>
            </a:pathLst>
          </a:custGeom>
          <a:solidFill>
            <a:srgbClr val="e6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矩形 10"/>
          <p:cNvSpPr/>
          <p:nvPr/>
        </p:nvSpPr>
        <p:spPr>
          <a:xfrm>
            <a:off x="657360" y="0"/>
            <a:ext cx="1469880" cy="998640"/>
          </a:xfrm>
          <a:custGeom>
            <a:avLst/>
            <a:gdLst/>
            <a:ahLst/>
            <a:rect l="l" t="t" r="r" b="b"/>
            <a:pathLst>
              <a:path w="1665778" h="1284332">
                <a:moveTo>
                  <a:pt x="0" y="62"/>
                </a:moveTo>
                <a:cubicBezTo>
                  <a:pt x="-455" y="6860"/>
                  <a:pt x="1110519" y="62"/>
                  <a:pt x="1665778" y="62"/>
                </a:cubicBezTo>
                <a:lnTo>
                  <a:pt x="1655504" y="811720"/>
                </a:lnTo>
                <a:lnTo>
                  <a:pt x="823297" y="1284332"/>
                </a:lnTo>
                <a:lnTo>
                  <a:pt x="1365" y="811720"/>
                </a:lnTo>
                <a:cubicBezTo>
                  <a:pt x="910" y="541167"/>
                  <a:pt x="455" y="-6736"/>
                  <a:pt x="0" y="62"/>
                </a:cubicBezTo>
                <a:close/>
              </a:path>
            </a:pathLst>
          </a:custGeom>
          <a:solidFill>
            <a:srgbClr val="f4b1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0" name="Group 5"/>
          <p:cNvGrpSpPr/>
          <p:nvPr/>
        </p:nvGrpSpPr>
        <p:grpSpPr>
          <a:xfrm>
            <a:off x="3735360" y="0"/>
            <a:ext cx="1471680" cy="1619280"/>
            <a:chOff x="3735360" y="0"/>
            <a:chExt cx="1471680" cy="1619280"/>
          </a:xfrm>
        </p:grpSpPr>
        <p:sp>
          <p:nvSpPr>
            <p:cNvPr id="641" name="矩形 10"/>
            <p:cNvSpPr/>
            <p:nvPr/>
          </p:nvSpPr>
          <p:spPr>
            <a:xfrm>
              <a:off x="3735360" y="0"/>
              <a:ext cx="1471680" cy="99972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矩形 10"/>
            <p:cNvSpPr/>
            <p:nvPr/>
          </p:nvSpPr>
          <p:spPr>
            <a:xfrm>
              <a:off x="3735360" y="619560"/>
              <a:ext cx="1471680" cy="99972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3" name="矩形 9"/>
          <p:cNvSpPr/>
          <p:nvPr/>
        </p:nvSpPr>
        <p:spPr>
          <a:xfrm>
            <a:off x="6815160" y="0"/>
            <a:ext cx="4933800" cy="658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文本框 10"/>
          <p:cNvSpPr/>
          <p:nvPr/>
        </p:nvSpPr>
        <p:spPr>
          <a:xfrm>
            <a:off x="3886200" y="38160"/>
            <a:ext cx="11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文本框 94"/>
          <p:cNvSpPr/>
          <p:nvPr/>
        </p:nvSpPr>
        <p:spPr>
          <a:xfrm flipH="1">
            <a:off x="3807000" y="579600"/>
            <a:ext cx="132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6" name="Group 11"/>
          <p:cNvGrpSpPr/>
          <p:nvPr/>
        </p:nvGrpSpPr>
        <p:grpSpPr>
          <a:xfrm>
            <a:off x="10820520" y="5590800"/>
            <a:ext cx="1371600" cy="1266840"/>
            <a:chOff x="10820520" y="5590800"/>
            <a:chExt cx="1371600" cy="1266840"/>
          </a:xfrm>
        </p:grpSpPr>
        <p:sp>
          <p:nvSpPr>
            <p:cNvPr id="647" name="任意多边形 14"/>
            <p:cNvSpPr/>
            <p:nvPr/>
          </p:nvSpPr>
          <p:spPr>
            <a:xfrm rot="10800000">
              <a:off x="11010960" y="5766480"/>
              <a:ext cx="1181160" cy="1091160"/>
            </a:xfrm>
            <a:custGeom>
              <a:avLst/>
              <a:gdLst/>
              <a:ahLst/>
              <a:rect l="l" t="t" r="r" b="b"/>
              <a:pathLst>
                <a:path w="1181686" h="1090247">
                  <a:moveTo>
                    <a:pt x="0" y="0"/>
                  </a:moveTo>
                  <a:lnTo>
                    <a:pt x="1168923" y="0"/>
                  </a:lnTo>
                  <a:lnTo>
                    <a:pt x="1181686" y="126610"/>
                  </a:lnTo>
                  <a:cubicBezTo>
                    <a:pt x="1181686" y="658812"/>
                    <a:pt x="750251" y="1090247"/>
                    <a:pt x="218049" y="1090247"/>
                  </a:cubicBezTo>
                  <a:cubicBezTo>
                    <a:pt x="151524" y="1090247"/>
                    <a:pt x="86573" y="1083506"/>
                    <a:pt x="23843" y="1070669"/>
                  </a:cubicBezTo>
                  <a:lnTo>
                    <a:pt x="0" y="1063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任意多边形 15"/>
            <p:cNvSpPr/>
            <p:nvPr/>
          </p:nvSpPr>
          <p:spPr>
            <a:xfrm rot="10800000">
              <a:off x="10820520" y="5590800"/>
              <a:ext cx="1371600" cy="1266840"/>
            </a:xfrm>
            <a:custGeom>
              <a:avLst/>
              <a:gdLst/>
              <a:ahLst/>
              <a:rect l="l" t="t" r="r" b="b"/>
              <a:pathLst>
                <a:path w="1181686" h="1090247">
                  <a:moveTo>
                    <a:pt x="0" y="0"/>
                  </a:moveTo>
                  <a:lnTo>
                    <a:pt x="1168923" y="0"/>
                  </a:lnTo>
                  <a:lnTo>
                    <a:pt x="1181686" y="126610"/>
                  </a:lnTo>
                  <a:cubicBezTo>
                    <a:pt x="1181686" y="658812"/>
                    <a:pt x="750251" y="1090247"/>
                    <a:pt x="218049" y="1090247"/>
                  </a:cubicBezTo>
                  <a:cubicBezTo>
                    <a:pt x="151524" y="1090247"/>
                    <a:pt x="86573" y="1083506"/>
                    <a:pt x="23843" y="1070669"/>
                  </a:cubicBezTo>
                  <a:lnTo>
                    <a:pt x="0" y="1063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9" name="文本框 16"/>
          <p:cNvSpPr/>
          <p:nvPr/>
        </p:nvSpPr>
        <p:spPr>
          <a:xfrm>
            <a:off x="11153880" y="62247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文本框 17"/>
          <p:cNvSpPr/>
          <p:nvPr/>
        </p:nvSpPr>
        <p:spPr>
          <a:xfrm>
            <a:off x="2344680" y="38160"/>
            <a:ext cx="11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文本框 18"/>
          <p:cNvSpPr/>
          <p:nvPr/>
        </p:nvSpPr>
        <p:spPr>
          <a:xfrm>
            <a:off x="800280" y="3492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文本框 20"/>
          <p:cNvSpPr/>
          <p:nvPr/>
        </p:nvSpPr>
        <p:spPr>
          <a:xfrm>
            <a:off x="5473800" y="34920"/>
            <a:ext cx="11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文本框 21"/>
          <p:cNvSpPr/>
          <p:nvPr/>
        </p:nvSpPr>
        <p:spPr>
          <a:xfrm>
            <a:off x="8021520" y="128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这是个可长可短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矩形 9"/>
          <p:cNvSpPr/>
          <p:nvPr/>
        </p:nvSpPr>
        <p:spPr>
          <a:xfrm>
            <a:off x="1371600" y="1841400"/>
            <a:ext cx="9639360" cy="3621240"/>
          </a:xfrm>
          <a:custGeom>
            <a:avLst/>
            <a:gdLst/>
            <a:ahLst/>
            <a:rect l="l" t="t" r="r" b="b"/>
            <a:pathLst>
              <a:path w="9638713" h="3620718">
                <a:moveTo>
                  <a:pt x="0" y="378823"/>
                </a:moveTo>
                <a:lnTo>
                  <a:pt x="1018904" y="0"/>
                </a:lnTo>
                <a:lnTo>
                  <a:pt x="9638713" y="0"/>
                </a:lnTo>
                <a:lnTo>
                  <a:pt x="9638713" y="3620718"/>
                </a:lnTo>
                <a:lnTo>
                  <a:pt x="13063" y="3620718"/>
                </a:lnTo>
                <a:cubicBezTo>
                  <a:pt x="8709" y="2540086"/>
                  <a:pt x="4354" y="1459455"/>
                  <a:pt x="0" y="378823"/>
                </a:cubicBezTo>
                <a:close/>
              </a:path>
            </a:pathLst>
          </a:custGeom>
          <a:solidFill>
            <a:srgbClr val="ffc7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矩形 22"/>
          <p:cNvSpPr/>
          <p:nvPr/>
        </p:nvSpPr>
        <p:spPr>
          <a:xfrm>
            <a:off x="2106720" y="2381400"/>
            <a:ext cx="844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等腰三角形 23"/>
          <p:cNvSpPr/>
          <p:nvPr/>
        </p:nvSpPr>
        <p:spPr>
          <a:xfrm rot="9585000">
            <a:off x="1418760" y="2022480"/>
            <a:ext cx="1121040" cy="479520"/>
          </a:xfrm>
          <a:prstGeom prst="triangle">
            <a:avLst>
              <a:gd name="adj" fmla="val 100000"/>
            </a:avLst>
          </a:prstGeom>
          <a:solidFill>
            <a:srgbClr val="e6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矩形 10"/>
          <p:cNvSpPr/>
          <p:nvPr/>
        </p:nvSpPr>
        <p:spPr>
          <a:xfrm>
            <a:off x="2197080" y="0"/>
            <a:ext cx="1469880" cy="998640"/>
          </a:xfrm>
          <a:custGeom>
            <a:avLst/>
            <a:gdLst/>
            <a:ahLst/>
            <a:rect l="l" t="t" r="r" b="b"/>
            <a:pathLst>
              <a:path w="1665778" h="1284332">
                <a:moveTo>
                  <a:pt x="0" y="62"/>
                </a:moveTo>
                <a:cubicBezTo>
                  <a:pt x="-455" y="6860"/>
                  <a:pt x="1110519" y="62"/>
                  <a:pt x="1665778" y="62"/>
                </a:cubicBezTo>
                <a:lnTo>
                  <a:pt x="1655504" y="811720"/>
                </a:lnTo>
                <a:lnTo>
                  <a:pt x="823297" y="1284332"/>
                </a:lnTo>
                <a:lnTo>
                  <a:pt x="1365" y="811720"/>
                </a:lnTo>
                <a:cubicBezTo>
                  <a:pt x="910" y="541167"/>
                  <a:pt x="455" y="-6736"/>
                  <a:pt x="0" y="62"/>
                </a:cubicBezTo>
                <a:close/>
              </a:path>
            </a:pathLst>
          </a:custGeom>
          <a:solidFill>
            <a:srgbClr val="f19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矩形 10"/>
          <p:cNvSpPr/>
          <p:nvPr/>
        </p:nvSpPr>
        <p:spPr>
          <a:xfrm>
            <a:off x="3735360" y="0"/>
            <a:ext cx="1471680" cy="998640"/>
          </a:xfrm>
          <a:custGeom>
            <a:avLst/>
            <a:gdLst/>
            <a:ahLst/>
            <a:rect l="l" t="t" r="r" b="b"/>
            <a:pathLst>
              <a:path w="1665778" h="1284332">
                <a:moveTo>
                  <a:pt x="0" y="62"/>
                </a:moveTo>
                <a:cubicBezTo>
                  <a:pt x="-455" y="6860"/>
                  <a:pt x="1110519" y="62"/>
                  <a:pt x="1665778" y="62"/>
                </a:cubicBezTo>
                <a:lnTo>
                  <a:pt x="1655504" y="811720"/>
                </a:lnTo>
                <a:lnTo>
                  <a:pt x="823297" y="1284332"/>
                </a:lnTo>
                <a:lnTo>
                  <a:pt x="1365" y="811720"/>
                </a:lnTo>
                <a:cubicBezTo>
                  <a:pt x="910" y="541167"/>
                  <a:pt x="455" y="-6736"/>
                  <a:pt x="0" y="62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矩形 10"/>
          <p:cNvSpPr/>
          <p:nvPr/>
        </p:nvSpPr>
        <p:spPr>
          <a:xfrm>
            <a:off x="657360" y="0"/>
            <a:ext cx="1469880" cy="998640"/>
          </a:xfrm>
          <a:custGeom>
            <a:avLst/>
            <a:gdLst/>
            <a:ahLst/>
            <a:rect l="l" t="t" r="r" b="b"/>
            <a:pathLst>
              <a:path w="1665778" h="1284332">
                <a:moveTo>
                  <a:pt x="0" y="62"/>
                </a:moveTo>
                <a:cubicBezTo>
                  <a:pt x="-455" y="6860"/>
                  <a:pt x="1110519" y="62"/>
                  <a:pt x="1665778" y="62"/>
                </a:cubicBezTo>
                <a:lnTo>
                  <a:pt x="1655504" y="811720"/>
                </a:lnTo>
                <a:lnTo>
                  <a:pt x="823297" y="1284332"/>
                </a:lnTo>
                <a:lnTo>
                  <a:pt x="1365" y="811720"/>
                </a:lnTo>
                <a:cubicBezTo>
                  <a:pt x="910" y="541167"/>
                  <a:pt x="455" y="-6736"/>
                  <a:pt x="0" y="62"/>
                </a:cubicBezTo>
                <a:close/>
              </a:path>
            </a:pathLst>
          </a:custGeom>
          <a:solidFill>
            <a:srgbClr val="f4b1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0" name="Group 5"/>
          <p:cNvGrpSpPr/>
          <p:nvPr/>
        </p:nvGrpSpPr>
        <p:grpSpPr>
          <a:xfrm>
            <a:off x="5275440" y="0"/>
            <a:ext cx="1469880" cy="1628640"/>
            <a:chOff x="5275440" y="0"/>
            <a:chExt cx="1469880" cy="1628640"/>
          </a:xfrm>
        </p:grpSpPr>
        <p:sp>
          <p:nvSpPr>
            <p:cNvPr id="661" name="矩形 10"/>
            <p:cNvSpPr/>
            <p:nvPr/>
          </p:nvSpPr>
          <p:spPr>
            <a:xfrm>
              <a:off x="5275440" y="0"/>
              <a:ext cx="1469880" cy="99936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e6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矩形 10"/>
            <p:cNvSpPr/>
            <p:nvPr/>
          </p:nvSpPr>
          <p:spPr>
            <a:xfrm>
              <a:off x="5275440" y="629280"/>
              <a:ext cx="1469880" cy="999360"/>
            </a:xfrm>
            <a:custGeom>
              <a:avLst/>
              <a:gdLst/>
              <a:ahLst/>
              <a:rect l="l" t="t" r="r" b="b"/>
              <a:pathLst>
                <a:path w="1665778" h="1284332">
                  <a:moveTo>
                    <a:pt x="0" y="62"/>
                  </a:moveTo>
                  <a:cubicBezTo>
                    <a:pt x="-455" y="6860"/>
                    <a:pt x="1110519" y="62"/>
                    <a:pt x="1665778" y="62"/>
                  </a:cubicBezTo>
                  <a:lnTo>
                    <a:pt x="1655504" y="811720"/>
                  </a:lnTo>
                  <a:lnTo>
                    <a:pt x="823297" y="1284332"/>
                  </a:lnTo>
                  <a:lnTo>
                    <a:pt x="1365" y="811720"/>
                  </a:lnTo>
                  <a:cubicBezTo>
                    <a:pt x="910" y="541167"/>
                    <a:pt x="455" y="-6736"/>
                    <a:pt x="0" y="62"/>
                  </a:cubicBezTo>
                  <a:close/>
                </a:path>
              </a:pathLst>
            </a:custGeom>
            <a:solidFill>
              <a:srgbClr val="e6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3" name="矩形 9"/>
          <p:cNvSpPr/>
          <p:nvPr/>
        </p:nvSpPr>
        <p:spPr>
          <a:xfrm>
            <a:off x="6815160" y="0"/>
            <a:ext cx="4933800" cy="658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文本框 10"/>
          <p:cNvSpPr/>
          <p:nvPr/>
        </p:nvSpPr>
        <p:spPr>
          <a:xfrm>
            <a:off x="5451480" y="38160"/>
            <a:ext cx="11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文本框 94"/>
          <p:cNvSpPr/>
          <p:nvPr/>
        </p:nvSpPr>
        <p:spPr>
          <a:xfrm flipH="1">
            <a:off x="5372280" y="579600"/>
            <a:ext cx="132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6" name="Group 11"/>
          <p:cNvGrpSpPr/>
          <p:nvPr/>
        </p:nvGrpSpPr>
        <p:grpSpPr>
          <a:xfrm>
            <a:off x="10820520" y="5590800"/>
            <a:ext cx="1371600" cy="1266840"/>
            <a:chOff x="10820520" y="5590800"/>
            <a:chExt cx="1371600" cy="1266840"/>
          </a:xfrm>
        </p:grpSpPr>
        <p:sp>
          <p:nvSpPr>
            <p:cNvPr id="667" name="任意多边形 14"/>
            <p:cNvSpPr/>
            <p:nvPr/>
          </p:nvSpPr>
          <p:spPr>
            <a:xfrm rot="10800000">
              <a:off x="11010960" y="5766480"/>
              <a:ext cx="1181160" cy="1091160"/>
            </a:xfrm>
            <a:custGeom>
              <a:avLst/>
              <a:gdLst/>
              <a:ahLst/>
              <a:rect l="l" t="t" r="r" b="b"/>
              <a:pathLst>
                <a:path w="1181686" h="1090247">
                  <a:moveTo>
                    <a:pt x="0" y="0"/>
                  </a:moveTo>
                  <a:lnTo>
                    <a:pt x="1168923" y="0"/>
                  </a:lnTo>
                  <a:lnTo>
                    <a:pt x="1181686" y="126610"/>
                  </a:lnTo>
                  <a:cubicBezTo>
                    <a:pt x="1181686" y="658812"/>
                    <a:pt x="750251" y="1090247"/>
                    <a:pt x="218049" y="1090247"/>
                  </a:cubicBezTo>
                  <a:cubicBezTo>
                    <a:pt x="151524" y="1090247"/>
                    <a:pt x="86573" y="1083506"/>
                    <a:pt x="23843" y="1070669"/>
                  </a:cubicBezTo>
                  <a:lnTo>
                    <a:pt x="0" y="1063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任意多边形 15"/>
            <p:cNvSpPr/>
            <p:nvPr/>
          </p:nvSpPr>
          <p:spPr>
            <a:xfrm rot="10800000">
              <a:off x="10820520" y="5590800"/>
              <a:ext cx="1371600" cy="1266840"/>
            </a:xfrm>
            <a:custGeom>
              <a:avLst/>
              <a:gdLst/>
              <a:ahLst/>
              <a:rect l="l" t="t" r="r" b="b"/>
              <a:pathLst>
                <a:path w="1181686" h="1090247">
                  <a:moveTo>
                    <a:pt x="0" y="0"/>
                  </a:moveTo>
                  <a:lnTo>
                    <a:pt x="1168923" y="0"/>
                  </a:lnTo>
                  <a:lnTo>
                    <a:pt x="1181686" y="126610"/>
                  </a:lnTo>
                  <a:cubicBezTo>
                    <a:pt x="1181686" y="658812"/>
                    <a:pt x="750251" y="1090247"/>
                    <a:pt x="218049" y="1090247"/>
                  </a:cubicBezTo>
                  <a:cubicBezTo>
                    <a:pt x="151524" y="1090247"/>
                    <a:pt x="86573" y="1083506"/>
                    <a:pt x="23843" y="1070669"/>
                  </a:cubicBezTo>
                  <a:lnTo>
                    <a:pt x="0" y="10632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9" name="文本框 16"/>
          <p:cNvSpPr/>
          <p:nvPr/>
        </p:nvSpPr>
        <p:spPr>
          <a:xfrm>
            <a:off x="11153880" y="622476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文本框 17"/>
          <p:cNvSpPr/>
          <p:nvPr/>
        </p:nvSpPr>
        <p:spPr>
          <a:xfrm>
            <a:off x="2344680" y="38160"/>
            <a:ext cx="11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文本框 18"/>
          <p:cNvSpPr/>
          <p:nvPr/>
        </p:nvSpPr>
        <p:spPr>
          <a:xfrm>
            <a:off x="800280" y="3492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文本框 19"/>
          <p:cNvSpPr/>
          <p:nvPr/>
        </p:nvSpPr>
        <p:spPr>
          <a:xfrm>
            <a:off x="3913200" y="31680"/>
            <a:ext cx="11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文本框 21"/>
          <p:cNvSpPr/>
          <p:nvPr/>
        </p:nvSpPr>
        <p:spPr>
          <a:xfrm>
            <a:off x="8021520" y="128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这是个可长可短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矩形 9"/>
          <p:cNvSpPr/>
          <p:nvPr/>
        </p:nvSpPr>
        <p:spPr>
          <a:xfrm>
            <a:off x="1371600" y="1841400"/>
            <a:ext cx="9639360" cy="3621240"/>
          </a:xfrm>
          <a:custGeom>
            <a:avLst/>
            <a:gdLst/>
            <a:ahLst/>
            <a:rect l="l" t="t" r="r" b="b"/>
            <a:pathLst>
              <a:path w="9638713" h="3620718">
                <a:moveTo>
                  <a:pt x="0" y="378823"/>
                </a:moveTo>
                <a:lnTo>
                  <a:pt x="1018904" y="0"/>
                </a:lnTo>
                <a:lnTo>
                  <a:pt x="9638713" y="0"/>
                </a:lnTo>
                <a:lnTo>
                  <a:pt x="9638713" y="3620718"/>
                </a:lnTo>
                <a:lnTo>
                  <a:pt x="13063" y="3620718"/>
                </a:lnTo>
                <a:cubicBezTo>
                  <a:pt x="8709" y="2540086"/>
                  <a:pt x="4354" y="1459455"/>
                  <a:pt x="0" y="378823"/>
                </a:cubicBezTo>
                <a:close/>
              </a:path>
            </a:pathLst>
          </a:custGeom>
          <a:solidFill>
            <a:srgbClr val="fa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矩形 22"/>
          <p:cNvSpPr/>
          <p:nvPr/>
        </p:nvSpPr>
        <p:spPr>
          <a:xfrm>
            <a:off x="2106720" y="2381400"/>
            <a:ext cx="844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等腰三角形 23"/>
          <p:cNvSpPr/>
          <p:nvPr/>
        </p:nvSpPr>
        <p:spPr>
          <a:xfrm rot="9585000">
            <a:off x="1418760" y="2022480"/>
            <a:ext cx="1121040" cy="479520"/>
          </a:xfrm>
          <a:prstGeom prst="triangle">
            <a:avLst>
              <a:gd name="adj" fmla="val 100000"/>
            </a:avLst>
          </a:prstGeom>
          <a:solidFill>
            <a:srgbClr val="e6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5T08:54:16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0:28Z</dcterms:modified>
  <cp:revision>23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