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wmf" ContentType="image/x-wmf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1ADE-49E3-4204-B5AC-C08661F0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4D8D-06AE-44E0-AA3E-A83CE19A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5B0-4FDA-4FAF-A474-BA43E6F5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3D4-A99C-4FE8-8D1C-9304D381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BA4-D45F-4758-B143-B3382CAB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D0D7-263A-4047-BEB9-8EB8A066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033-E18A-470F-979A-BCCB07D1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A46-788B-4C63-AFB7-A6FCFF29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1A9-EDBE-486B-BBDD-3246915F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25EC-E0B0-4FF5-A9E5-240DBBDA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79E1-0B1E-4946-B19A-BB08A12B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6740-7997-491C-8719-050D392F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1786-69C4-4CF0-9DB3-8DC4DA35819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3EDF-5554-4E0F-93D9-A0CEBB709D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23"/>
          <p:cNvSpPr/>
          <p:nvPr/>
        </p:nvSpPr>
        <p:spPr>
          <a:xfrm flipV="1" rot="1800000">
            <a:off x="4090680" y="3508560"/>
            <a:ext cx="2027160" cy="4133520"/>
          </a:xfrm>
          <a:custGeom>
            <a:avLst/>
            <a:gdLst/>
            <a:ahLst/>
            <a:rect l="l" t="t" r="r" b="b"/>
            <a:pathLst>
              <a:path w="2026880" h="4133980">
                <a:moveTo>
                  <a:pt x="0" y="4133980"/>
                </a:moveTo>
                <a:lnTo>
                  <a:pt x="2026880" y="2963760"/>
                </a:lnTo>
                <a:lnTo>
                  <a:pt x="2026880" y="1170220"/>
                </a:lnTo>
                <a:lnTo>
                  <a:pt x="0" y="0"/>
                </a:lnTo>
                <a:lnTo>
                  <a:pt x="0" y="4133980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27"/>
          <p:cNvSpPr/>
          <p:nvPr/>
        </p:nvSpPr>
        <p:spPr>
          <a:xfrm>
            <a:off x="3095640" y="0"/>
            <a:ext cx="9096480" cy="6858000"/>
          </a:xfrm>
          <a:custGeom>
            <a:avLst/>
            <a:gdLst/>
            <a:ahLst/>
            <a:rect l="l" t="t" r="r" b="b"/>
            <a:pathLst>
              <a:path w="9095751" h="6858000">
                <a:moveTo>
                  <a:pt x="0" y="0"/>
                </a:moveTo>
                <a:lnTo>
                  <a:pt x="9095751" y="0"/>
                </a:lnTo>
                <a:lnTo>
                  <a:pt x="9095751" y="6858000"/>
                </a:lnTo>
                <a:lnTo>
                  <a:pt x="3959468" y="685800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1"/>
          <p:cNvSpPr/>
          <p:nvPr/>
        </p:nvSpPr>
        <p:spPr>
          <a:xfrm rot="19800000">
            <a:off x="4560840" y="-934920"/>
            <a:ext cx="2027160" cy="6399000"/>
          </a:xfrm>
          <a:custGeom>
            <a:avLst/>
            <a:gdLst/>
            <a:ahLst/>
            <a:rect l="l" t="t" r="r" b="b"/>
            <a:pathLst>
              <a:path w="2026880" h="6399694">
                <a:moveTo>
                  <a:pt x="0" y="0"/>
                </a:moveTo>
                <a:lnTo>
                  <a:pt x="2026880" y="1170220"/>
                </a:lnTo>
                <a:lnTo>
                  <a:pt x="2026880" y="5229474"/>
                </a:lnTo>
                <a:lnTo>
                  <a:pt x="0" y="6399694"/>
                </a:lnTo>
                <a:lnTo>
                  <a:pt x="0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4"/>
          <p:cNvSpPr/>
          <p:nvPr/>
        </p:nvSpPr>
        <p:spPr>
          <a:xfrm>
            <a:off x="212760" y="2847960"/>
            <a:ext cx="481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2731"/>
                </a:solidFill>
                <a:latin typeface="方正姚体"/>
                <a:ea typeface="方正姚体"/>
              </a:rPr>
              <a:t>POWERPOINT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2731"/>
                </a:solidFill>
                <a:latin typeface="方正姚体"/>
                <a:ea typeface="方正姚体"/>
              </a:rPr>
              <a:t>   </a:t>
            </a:r>
            <a:r>
              <a:rPr b="1" lang="en-US" sz="4400" spc="-1" strike="noStrike">
                <a:solidFill>
                  <a:srgbClr val="202731"/>
                </a:solidFill>
                <a:latin typeface="方正姚体"/>
                <a:ea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5"/>
          <p:cNvSpPr/>
          <p:nvPr/>
        </p:nvSpPr>
        <p:spPr>
          <a:xfrm>
            <a:off x="8700480" y="4851360"/>
            <a:ext cx="27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Impact"/>
              </a:rPr>
              <a:t>20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44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48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任意多边形 21"/>
          <p:cNvSpPr/>
          <p:nvPr/>
        </p:nvSpPr>
        <p:spPr>
          <a:xfrm flipH="1" flipV="1">
            <a:off x="4605480" y="3048840"/>
            <a:ext cx="7586640" cy="2551320"/>
          </a:xfrm>
          <a:custGeom>
            <a:avLst/>
            <a:gdLst/>
            <a:ahLst/>
            <a:rect l="l" t="t" r="r" b="b"/>
            <a:pathLst>
              <a:path w="7587038" h="2063432">
                <a:moveTo>
                  <a:pt x="5523606" y="2063432"/>
                </a:moveTo>
                <a:lnTo>
                  <a:pt x="0" y="2063432"/>
                </a:lnTo>
                <a:lnTo>
                  <a:pt x="0" y="0"/>
                </a:lnTo>
                <a:lnTo>
                  <a:pt x="7587038" y="0"/>
                </a:lnTo>
                <a:lnTo>
                  <a:pt x="5523606" y="2063432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5"/>
          <p:cNvSpPr/>
          <p:nvPr/>
        </p:nvSpPr>
        <p:spPr>
          <a:xfrm flipH="1" flipV="1">
            <a:off x="6791400" y="1992240"/>
            <a:ext cx="5400720" cy="905040"/>
          </a:xfrm>
          <a:custGeom>
            <a:avLst/>
            <a:gdLst/>
            <a:ahLst/>
            <a:rect l="l" t="t" r="r" b="b"/>
            <a:pathLst>
              <a:path w="5400319" h="731845">
                <a:moveTo>
                  <a:pt x="4668474" y="731845"/>
                </a:moveTo>
                <a:lnTo>
                  <a:pt x="0" y="731845"/>
                </a:lnTo>
                <a:lnTo>
                  <a:pt x="0" y="0"/>
                </a:lnTo>
                <a:lnTo>
                  <a:pt x="5400319" y="0"/>
                </a:lnTo>
                <a:lnTo>
                  <a:pt x="4668474" y="731845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27"/>
          <p:cNvSpPr/>
          <p:nvPr/>
        </p:nvSpPr>
        <p:spPr>
          <a:xfrm>
            <a:off x="0" y="1992240"/>
            <a:ext cx="7586640" cy="3608640"/>
          </a:xfrm>
          <a:custGeom>
            <a:avLst/>
            <a:gdLst/>
            <a:ahLst/>
            <a:rect l="l" t="t" r="r" b="b"/>
            <a:pathLst>
              <a:path w="7587038" h="2918564">
                <a:moveTo>
                  <a:pt x="0" y="0"/>
                </a:moveTo>
                <a:lnTo>
                  <a:pt x="7587038" y="0"/>
                </a:lnTo>
                <a:lnTo>
                  <a:pt x="4668474" y="2918564"/>
                </a:lnTo>
                <a:lnTo>
                  <a:pt x="0" y="291856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8"/>
          <p:cNvSpPr/>
          <p:nvPr/>
        </p:nvSpPr>
        <p:spPr>
          <a:xfrm>
            <a:off x="7186680" y="2189160"/>
            <a:ext cx="489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c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29"/>
          <p:cNvSpPr/>
          <p:nvPr/>
        </p:nvSpPr>
        <p:spPr>
          <a:xfrm>
            <a:off x="6343560" y="3506760"/>
            <a:ext cx="58377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you to the  center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  you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enter of the  narrative thought  Click here to ad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narrative thought 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here to add  you to the  center of the  nar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58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62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六边形 1"/>
          <p:cNvSpPr/>
          <p:nvPr/>
        </p:nvSpPr>
        <p:spPr>
          <a:xfrm rot="10800000">
            <a:off x="5213160" y="2608200"/>
            <a:ext cx="1795320" cy="15480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六边形 21"/>
          <p:cNvSpPr/>
          <p:nvPr/>
        </p:nvSpPr>
        <p:spPr>
          <a:xfrm rot="10800000">
            <a:off x="6671880" y="3395520"/>
            <a:ext cx="1795320" cy="15480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六边形 25"/>
          <p:cNvSpPr/>
          <p:nvPr/>
        </p:nvSpPr>
        <p:spPr>
          <a:xfrm rot="10800000">
            <a:off x="5206680" y="4209840"/>
            <a:ext cx="1795320" cy="15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六边形 27"/>
          <p:cNvSpPr/>
          <p:nvPr/>
        </p:nvSpPr>
        <p:spPr>
          <a:xfrm rot="10800000">
            <a:off x="3747960" y="3395520"/>
            <a:ext cx="1795680" cy="154800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28"/>
          <p:cNvGrpSpPr/>
          <p:nvPr/>
        </p:nvGrpSpPr>
        <p:grpSpPr>
          <a:xfrm>
            <a:off x="7358040" y="3838680"/>
            <a:ext cx="503280" cy="568080"/>
            <a:chOff x="7358040" y="3838680"/>
            <a:chExt cx="503280" cy="568080"/>
          </a:xfrm>
        </p:grpSpPr>
        <p:sp>
          <p:nvSpPr>
            <p:cNvPr id="270" name="Freeform 148"/>
            <p:cNvSpPr/>
            <p:nvPr/>
          </p:nvSpPr>
          <p:spPr>
            <a:xfrm>
              <a:off x="7426080" y="3838680"/>
              <a:ext cx="435240" cy="56484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9"/>
            <p:cNvSpPr/>
            <p:nvPr/>
          </p:nvSpPr>
          <p:spPr>
            <a:xfrm>
              <a:off x="7358040" y="4124880"/>
              <a:ext cx="286920" cy="28188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50"/>
            <p:cNvSpPr/>
            <p:nvPr/>
          </p:nvSpPr>
          <p:spPr>
            <a:xfrm>
              <a:off x="7478280" y="4242960"/>
              <a:ext cx="46080" cy="4608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33"/>
          <p:cNvGrpSpPr/>
          <p:nvPr/>
        </p:nvGrpSpPr>
        <p:grpSpPr>
          <a:xfrm>
            <a:off x="5897520" y="4707000"/>
            <a:ext cx="471600" cy="527040"/>
            <a:chOff x="5897520" y="4707000"/>
            <a:chExt cx="471600" cy="527040"/>
          </a:xfrm>
        </p:grpSpPr>
        <p:sp>
          <p:nvSpPr>
            <p:cNvPr id="274" name="Freeform 108"/>
            <p:cNvSpPr/>
            <p:nvPr/>
          </p:nvSpPr>
          <p:spPr>
            <a:xfrm>
              <a:off x="5978520" y="4902840"/>
              <a:ext cx="66600" cy="676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9"/>
            <p:cNvSpPr/>
            <p:nvPr/>
          </p:nvSpPr>
          <p:spPr>
            <a:xfrm>
              <a:off x="6128280" y="4858920"/>
              <a:ext cx="56880" cy="568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0"/>
            <p:cNvSpPr/>
            <p:nvPr/>
          </p:nvSpPr>
          <p:spPr>
            <a:xfrm>
              <a:off x="5993640" y="4919040"/>
              <a:ext cx="36000" cy="360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11"/>
            <p:cNvSpPr/>
            <p:nvPr/>
          </p:nvSpPr>
          <p:spPr>
            <a:xfrm>
              <a:off x="6099840" y="4830480"/>
              <a:ext cx="113760" cy="1137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12"/>
            <p:cNvSpPr/>
            <p:nvPr/>
          </p:nvSpPr>
          <p:spPr>
            <a:xfrm>
              <a:off x="5897520" y="4707000"/>
              <a:ext cx="471600" cy="52704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39"/>
          <p:cNvGrpSpPr/>
          <p:nvPr/>
        </p:nvGrpSpPr>
        <p:grpSpPr>
          <a:xfrm>
            <a:off x="5880240" y="3137040"/>
            <a:ext cx="468000" cy="463320"/>
            <a:chOff x="5880240" y="3137040"/>
            <a:chExt cx="468000" cy="463320"/>
          </a:xfrm>
        </p:grpSpPr>
        <p:sp>
          <p:nvSpPr>
            <p:cNvPr id="280" name="Freeform 136"/>
            <p:cNvSpPr/>
            <p:nvPr/>
          </p:nvSpPr>
          <p:spPr>
            <a:xfrm>
              <a:off x="5880240" y="3396600"/>
              <a:ext cx="468000" cy="2037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7"/>
            <p:cNvSpPr/>
            <p:nvPr/>
          </p:nvSpPr>
          <p:spPr>
            <a:xfrm>
              <a:off x="5880240" y="3137040"/>
              <a:ext cx="468000" cy="26928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42"/>
          <p:cNvGrpSpPr/>
          <p:nvPr/>
        </p:nvGrpSpPr>
        <p:grpSpPr>
          <a:xfrm>
            <a:off x="4406760" y="3882960"/>
            <a:ext cx="484200" cy="520920"/>
            <a:chOff x="4406760" y="3882960"/>
            <a:chExt cx="484200" cy="520920"/>
          </a:xfrm>
        </p:grpSpPr>
        <p:sp>
          <p:nvSpPr>
            <p:cNvPr id="283" name="Freeform 154"/>
            <p:cNvSpPr/>
            <p:nvPr/>
          </p:nvSpPr>
          <p:spPr>
            <a:xfrm>
              <a:off x="4553280" y="4325400"/>
              <a:ext cx="52200" cy="482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55"/>
            <p:cNvSpPr/>
            <p:nvPr/>
          </p:nvSpPr>
          <p:spPr>
            <a:xfrm>
              <a:off x="4573440" y="4318560"/>
              <a:ext cx="9360" cy="338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56"/>
            <p:cNvSpPr/>
            <p:nvPr/>
          </p:nvSpPr>
          <p:spPr>
            <a:xfrm>
              <a:off x="4447440" y="3967200"/>
              <a:ext cx="270720" cy="2707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57"/>
            <p:cNvSpPr/>
            <p:nvPr/>
          </p:nvSpPr>
          <p:spPr>
            <a:xfrm>
              <a:off x="4406760" y="3882960"/>
              <a:ext cx="351360" cy="52092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58"/>
            <p:cNvSpPr/>
            <p:nvPr/>
          </p:nvSpPr>
          <p:spPr>
            <a:xfrm>
              <a:off x="4692960" y="4093560"/>
              <a:ext cx="198000" cy="1980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文本框 49"/>
          <p:cNvSpPr/>
          <p:nvPr/>
        </p:nvSpPr>
        <p:spPr>
          <a:xfrm>
            <a:off x="1459800" y="2282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50"/>
          <p:cNvSpPr/>
          <p:nvPr/>
        </p:nvSpPr>
        <p:spPr>
          <a:xfrm>
            <a:off x="1470960" y="5261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51"/>
          <p:cNvSpPr/>
          <p:nvPr/>
        </p:nvSpPr>
        <p:spPr>
          <a:xfrm>
            <a:off x="8303400" y="236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52"/>
          <p:cNvSpPr/>
          <p:nvPr/>
        </p:nvSpPr>
        <p:spPr>
          <a:xfrm>
            <a:off x="8314560" y="5342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94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98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1"/>
          <p:cNvSpPr/>
          <p:nvPr/>
        </p:nvSpPr>
        <p:spPr>
          <a:xfrm rot="2700000">
            <a:off x="2507760" y="2480760"/>
            <a:ext cx="1509840" cy="1509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21"/>
          <p:cNvSpPr/>
          <p:nvPr/>
        </p:nvSpPr>
        <p:spPr>
          <a:xfrm rot="2700000">
            <a:off x="1387080" y="3600000"/>
            <a:ext cx="1509840" cy="1509840"/>
          </a:xfrm>
          <a:prstGeom prst="rect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7"/>
          <p:cNvSpPr/>
          <p:nvPr/>
        </p:nvSpPr>
        <p:spPr>
          <a:xfrm rot="2700000">
            <a:off x="4762800" y="2466720"/>
            <a:ext cx="1509480" cy="1509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8"/>
          <p:cNvSpPr/>
          <p:nvPr/>
        </p:nvSpPr>
        <p:spPr>
          <a:xfrm rot="2700000">
            <a:off x="3643560" y="3585960"/>
            <a:ext cx="1509480" cy="1509840"/>
          </a:xfrm>
          <a:prstGeom prst="rect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 rot="2700000">
            <a:off x="7023240" y="2434680"/>
            <a:ext cx="1509840" cy="1508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1"/>
          <p:cNvSpPr/>
          <p:nvPr/>
        </p:nvSpPr>
        <p:spPr>
          <a:xfrm rot="2700000">
            <a:off x="5904000" y="3553920"/>
            <a:ext cx="1508400" cy="1509480"/>
          </a:xfrm>
          <a:prstGeom prst="rect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34"/>
          <p:cNvSpPr/>
          <p:nvPr/>
        </p:nvSpPr>
        <p:spPr>
          <a:xfrm rot="2700000">
            <a:off x="9294480" y="2424240"/>
            <a:ext cx="1508040" cy="1508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35"/>
          <p:cNvSpPr/>
          <p:nvPr/>
        </p:nvSpPr>
        <p:spPr>
          <a:xfrm rot="2700000">
            <a:off x="8173800" y="3544920"/>
            <a:ext cx="1508040" cy="1508040"/>
          </a:xfrm>
          <a:prstGeom prst="rect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36"/>
          <p:cNvSpPr/>
          <p:nvPr/>
        </p:nvSpPr>
        <p:spPr>
          <a:xfrm>
            <a:off x="1037160" y="40640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37"/>
          <p:cNvSpPr/>
          <p:nvPr/>
        </p:nvSpPr>
        <p:spPr>
          <a:xfrm>
            <a:off x="3331080" y="40496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38"/>
          <p:cNvSpPr/>
          <p:nvPr/>
        </p:nvSpPr>
        <p:spPr>
          <a:xfrm>
            <a:off x="5553000" y="40496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39"/>
          <p:cNvSpPr/>
          <p:nvPr/>
        </p:nvSpPr>
        <p:spPr>
          <a:xfrm>
            <a:off x="7839720" y="40496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315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319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任意多边形 21"/>
          <p:cNvSpPr/>
          <p:nvPr/>
        </p:nvSpPr>
        <p:spPr>
          <a:xfrm>
            <a:off x="1108080" y="2187720"/>
            <a:ext cx="3335400" cy="1680840"/>
          </a:xfrm>
          <a:custGeom>
            <a:avLst/>
            <a:gdLst/>
            <a:ahLst/>
            <a:rect l="l" t="t" r="r" b="b"/>
            <a:pathLst>
              <a:path w="3335906" h="1680131">
                <a:moveTo>
                  <a:pt x="1667953" y="0"/>
                </a:moveTo>
                <a:cubicBezTo>
                  <a:pt x="2589139" y="0"/>
                  <a:pt x="3335906" y="746768"/>
                  <a:pt x="3335906" y="1667953"/>
                </a:cubicBezTo>
                <a:lnTo>
                  <a:pt x="3334679" y="1680131"/>
                </a:lnTo>
                <a:lnTo>
                  <a:pt x="3216580" y="1680131"/>
                </a:lnTo>
                <a:lnTo>
                  <a:pt x="3217328" y="1672709"/>
                </a:lnTo>
                <a:cubicBezTo>
                  <a:pt x="3217328" y="817013"/>
                  <a:pt x="2523649" y="123333"/>
                  <a:pt x="1667953" y="123333"/>
                </a:cubicBezTo>
                <a:cubicBezTo>
                  <a:pt x="812258" y="123333"/>
                  <a:pt x="118578" y="817013"/>
                  <a:pt x="118578" y="1672709"/>
                </a:cubicBezTo>
                <a:lnTo>
                  <a:pt x="119326" y="1680131"/>
                </a:lnTo>
                <a:lnTo>
                  <a:pt x="1228" y="1680131"/>
                </a:lnTo>
                <a:lnTo>
                  <a:pt x="0" y="1667953"/>
                </a:lnTo>
                <a:cubicBezTo>
                  <a:pt x="0" y="746768"/>
                  <a:pt x="746768" y="0"/>
                  <a:pt x="1667953" y="0"/>
                </a:cubicBez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任意多边形 25"/>
          <p:cNvSpPr/>
          <p:nvPr/>
        </p:nvSpPr>
        <p:spPr>
          <a:xfrm>
            <a:off x="1336680" y="2422440"/>
            <a:ext cx="2897280" cy="1449360"/>
          </a:xfrm>
          <a:custGeom>
            <a:avLst/>
            <a:gdLst/>
            <a:ahLst/>
            <a:rect l="l" t="t" r="r" b="b"/>
            <a:pathLst>
              <a:path w="2823004" h="1412983">
                <a:moveTo>
                  <a:pt x="1411502" y="0"/>
                </a:moveTo>
                <a:cubicBezTo>
                  <a:pt x="2191053" y="0"/>
                  <a:pt x="2823004" y="631951"/>
                  <a:pt x="2823004" y="1411502"/>
                </a:cubicBezTo>
                <a:lnTo>
                  <a:pt x="2822929" y="1412983"/>
                </a:lnTo>
                <a:lnTo>
                  <a:pt x="75" y="1412983"/>
                </a:lnTo>
                <a:lnTo>
                  <a:pt x="0" y="1411502"/>
                </a:lnTo>
                <a:cubicBezTo>
                  <a:pt x="0" y="631951"/>
                  <a:pt x="631951" y="0"/>
                  <a:pt x="1411502" y="0"/>
                </a:cubicBez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任意多边形 27"/>
          <p:cNvSpPr/>
          <p:nvPr/>
        </p:nvSpPr>
        <p:spPr>
          <a:xfrm flipV="1">
            <a:off x="4330800" y="3868560"/>
            <a:ext cx="3335400" cy="1679760"/>
          </a:xfrm>
          <a:custGeom>
            <a:avLst/>
            <a:gdLst/>
            <a:ahLst/>
            <a:rect l="l" t="t" r="r" b="b"/>
            <a:pathLst>
              <a:path w="3335906" h="1680131">
                <a:moveTo>
                  <a:pt x="1667953" y="0"/>
                </a:moveTo>
                <a:cubicBezTo>
                  <a:pt x="2589139" y="0"/>
                  <a:pt x="3335906" y="746768"/>
                  <a:pt x="3335906" y="1667953"/>
                </a:cubicBezTo>
                <a:lnTo>
                  <a:pt x="3334679" y="1680131"/>
                </a:lnTo>
                <a:lnTo>
                  <a:pt x="3216580" y="1680131"/>
                </a:lnTo>
                <a:lnTo>
                  <a:pt x="3217328" y="1672709"/>
                </a:lnTo>
                <a:cubicBezTo>
                  <a:pt x="3217328" y="817013"/>
                  <a:pt x="2523649" y="123333"/>
                  <a:pt x="1667953" y="123333"/>
                </a:cubicBezTo>
                <a:cubicBezTo>
                  <a:pt x="812258" y="123333"/>
                  <a:pt x="118578" y="817013"/>
                  <a:pt x="118578" y="1672709"/>
                </a:cubicBezTo>
                <a:lnTo>
                  <a:pt x="119326" y="1680131"/>
                </a:lnTo>
                <a:lnTo>
                  <a:pt x="1228" y="1680131"/>
                </a:lnTo>
                <a:lnTo>
                  <a:pt x="0" y="1667953"/>
                </a:lnTo>
                <a:cubicBezTo>
                  <a:pt x="0" y="746768"/>
                  <a:pt x="746768" y="0"/>
                  <a:pt x="1667953" y="0"/>
                </a:cubicBez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28"/>
          <p:cNvSpPr/>
          <p:nvPr/>
        </p:nvSpPr>
        <p:spPr>
          <a:xfrm>
            <a:off x="7553160" y="2187720"/>
            <a:ext cx="3335400" cy="1680840"/>
          </a:xfrm>
          <a:custGeom>
            <a:avLst/>
            <a:gdLst/>
            <a:ahLst/>
            <a:rect l="l" t="t" r="r" b="b"/>
            <a:pathLst>
              <a:path w="3335906" h="1680131">
                <a:moveTo>
                  <a:pt x="1667953" y="0"/>
                </a:moveTo>
                <a:cubicBezTo>
                  <a:pt x="2589139" y="0"/>
                  <a:pt x="3335906" y="746768"/>
                  <a:pt x="3335906" y="1667953"/>
                </a:cubicBezTo>
                <a:lnTo>
                  <a:pt x="3334679" y="1680131"/>
                </a:lnTo>
                <a:lnTo>
                  <a:pt x="3216580" y="1680131"/>
                </a:lnTo>
                <a:lnTo>
                  <a:pt x="3217328" y="1672709"/>
                </a:lnTo>
                <a:cubicBezTo>
                  <a:pt x="3217328" y="817013"/>
                  <a:pt x="2523649" y="123333"/>
                  <a:pt x="1667953" y="123333"/>
                </a:cubicBezTo>
                <a:cubicBezTo>
                  <a:pt x="812258" y="123333"/>
                  <a:pt x="118578" y="817013"/>
                  <a:pt x="118578" y="1672709"/>
                </a:cubicBezTo>
                <a:lnTo>
                  <a:pt x="119326" y="1680131"/>
                </a:lnTo>
                <a:lnTo>
                  <a:pt x="1228" y="1680131"/>
                </a:lnTo>
                <a:lnTo>
                  <a:pt x="0" y="1667953"/>
                </a:lnTo>
                <a:cubicBezTo>
                  <a:pt x="0" y="746768"/>
                  <a:pt x="746768" y="0"/>
                  <a:pt x="1667953" y="0"/>
                </a:cubicBez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29"/>
          <p:cNvSpPr/>
          <p:nvPr/>
        </p:nvSpPr>
        <p:spPr>
          <a:xfrm>
            <a:off x="7778880" y="2406600"/>
            <a:ext cx="2896920" cy="1449360"/>
          </a:xfrm>
          <a:custGeom>
            <a:avLst/>
            <a:gdLst/>
            <a:ahLst/>
            <a:rect l="l" t="t" r="r" b="b"/>
            <a:pathLst>
              <a:path w="2823004" h="1412983">
                <a:moveTo>
                  <a:pt x="1411502" y="0"/>
                </a:moveTo>
                <a:cubicBezTo>
                  <a:pt x="2191053" y="0"/>
                  <a:pt x="2823004" y="631951"/>
                  <a:pt x="2823004" y="1411502"/>
                </a:cubicBezTo>
                <a:lnTo>
                  <a:pt x="2822929" y="1412983"/>
                </a:lnTo>
                <a:lnTo>
                  <a:pt x="75" y="1412983"/>
                </a:lnTo>
                <a:lnTo>
                  <a:pt x="0" y="1411502"/>
                </a:lnTo>
                <a:cubicBezTo>
                  <a:pt x="0" y="631951"/>
                  <a:pt x="631951" y="0"/>
                  <a:pt x="1411502" y="0"/>
                </a:cubicBez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任意多边形 30"/>
          <p:cNvSpPr/>
          <p:nvPr/>
        </p:nvSpPr>
        <p:spPr>
          <a:xfrm flipV="1">
            <a:off x="4549680" y="3875040"/>
            <a:ext cx="2897280" cy="1449360"/>
          </a:xfrm>
          <a:custGeom>
            <a:avLst/>
            <a:gdLst/>
            <a:ahLst/>
            <a:rect l="l" t="t" r="r" b="b"/>
            <a:pathLst>
              <a:path w="2823004" h="1412983">
                <a:moveTo>
                  <a:pt x="1411502" y="0"/>
                </a:moveTo>
                <a:cubicBezTo>
                  <a:pt x="2191053" y="0"/>
                  <a:pt x="2823004" y="631951"/>
                  <a:pt x="2823004" y="1411502"/>
                </a:cubicBezTo>
                <a:lnTo>
                  <a:pt x="2822929" y="1412983"/>
                </a:lnTo>
                <a:lnTo>
                  <a:pt x="75" y="1412983"/>
                </a:lnTo>
                <a:lnTo>
                  <a:pt x="0" y="1411502"/>
                </a:lnTo>
                <a:cubicBezTo>
                  <a:pt x="0" y="631951"/>
                  <a:pt x="631951" y="0"/>
                  <a:pt x="1411502" y="0"/>
                </a:cubicBez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31"/>
          <p:cNvSpPr/>
          <p:nvPr/>
        </p:nvSpPr>
        <p:spPr>
          <a:xfrm>
            <a:off x="1926000" y="3106800"/>
            <a:ext cx="149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3,6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33"/>
          <p:cNvSpPr/>
          <p:nvPr/>
        </p:nvSpPr>
        <p:spPr>
          <a:xfrm>
            <a:off x="5304960" y="4494240"/>
            <a:ext cx="12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7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34"/>
          <p:cNvSpPr/>
          <p:nvPr/>
        </p:nvSpPr>
        <p:spPr>
          <a:xfrm>
            <a:off x="8268120" y="3073320"/>
            <a:ext cx="163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3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35"/>
          <p:cNvSpPr/>
          <p:nvPr/>
        </p:nvSpPr>
        <p:spPr>
          <a:xfrm>
            <a:off x="4235400" y="2341440"/>
            <a:ext cx="340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36"/>
          <p:cNvSpPr/>
          <p:nvPr/>
        </p:nvSpPr>
        <p:spPr>
          <a:xfrm>
            <a:off x="1002240" y="4064040"/>
            <a:ext cx="340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37"/>
          <p:cNvSpPr/>
          <p:nvPr/>
        </p:nvSpPr>
        <p:spPr>
          <a:xfrm>
            <a:off x="7542720" y="4064040"/>
            <a:ext cx="340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38"/>
          <p:cNvGrpSpPr/>
          <p:nvPr/>
        </p:nvGrpSpPr>
        <p:grpSpPr>
          <a:xfrm>
            <a:off x="5802480" y="4011480"/>
            <a:ext cx="490320" cy="557280"/>
            <a:chOff x="5802480" y="4011480"/>
            <a:chExt cx="490320" cy="557280"/>
          </a:xfrm>
        </p:grpSpPr>
        <p:sp>
          <p:nvSpPr>
            <p:cNvPr id="335" name="Freeform 148"/>
            <p:cNvSpPr/>
            <p:nvPr/>
          </p:nvSpPr>
          <p:spPr>
            <a:xfrm>
              <a:off x="5868720" y="4011480"/>
              <a:ext cx="424080" cy="55404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49"/>
            <p:cNvSpPr/>
            <p:nvPr/>
          </p:nvSpPr>
          <p:spPr>
            <a:xfrm>
              <a:off x="5802480" y="4292280"/>
              <a:ext cx="279720" cy="27648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50"/>
            <p:cNvSpPr/>
            <p:nvPr/>
          </p:nvSpPr>
          <p:spPr>
            <a:xfrm>
              <a:off x="5919480" y="4407840"/>
              <a:ext cx="45000" cy="4500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42"/>
          <p:cNvGrpSpPr/>
          <p:nvPr/>
        </p:nvGrpSpPr>
        <p:grpSpPr>
          <a:xfrm>
            <a:off x="2597040" y="2619360"/>
            <a:ext cx="460440" cy="514440"/>
            <a:chOff x="2597040" y="2619360"/>
            <a:chExt cx="460440" cy="514440"/>
          </a:xfrm>
        </p:grpSpPr>
        <p:sp>
          <p:nvSpPr>
            <p:cNvPr id="339" name="Freeform 108"/>
            <p:cNvSpPr/>
            <p:nvPr/>
          </p:nvSpPr>
          <p:spPr>
            <a:xfrm>
              <a:off x="2675880" y="2810520"/>
              <a:ext cx="65160" cy="658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09"/>
            <p:cNvSpPr/>
            <p:nvPr/>
          </p:nvSpPr>
          <p:spPr>
            <a:xfrm>
              <a:off x="2822400" y="2767680"/>
              <a:ext cx="55440" cy="554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10"/>
            <p:cNvSpPr/>
            <p:nvPr/>
          </p:nvSpPr>
          <p:spPr>
            <a:xfrm>
              <a:off x="2691000" y="2826360"/>
              <a:ext cx="35280" cy="349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11"/>
            <p:cNvSpPr/>
            <p:nvPr/>
          </p:nvSpPr>
          <p:spPr>
            <a:xfrm>
              <a:off x="2794680" y="2739960"/>
              <a:ext cx="110880" cy="1108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12"/>
            <p:cNvSpPr/>
            <p:nvPr/>
          </p:nvSpPr>
          <p:spPr>
            <a:xfrm>
              <a:off x="2597040" y="2619360"/>
              <a:ext cx="460440" cy="51444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48"/>
          <p:cNvGrpSpPr/>
          <p:nvPr/>
        </p:nvGrpSpPr>
        <p:grpSpPr>
          <a:xfrm>
            <a:off x="8996400" y="2625840"/>
            <a:ext cx="399960" cy="393480"/>
            <a:chOff x="8996400" y="2625840"/>
            <a:chExt cx="399960" cy="393480"/>
          </a:xfrm>
        </p:grpSpPr>
        <p:sp>
          <p:nvSpPr>
            <p:cNvPr id="345" name="Freeform 136"/>
            <p:cNvSpPr/>
            <p:nvPr/>
          </p:nvSpPr>
          <p:spPr>
            <a:xfrm>
              <a:off x="8996400" y="2846520"/>
              <a:ext cx="399960" cy="1728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7"/>
            <p:cNvSpPr/>
            <p:nvPr/>
          </p:nvSpPr>
          <p:spPr>
            <a:xfrm>
              <a:off x="8996400" y="2625840"/>
              <a:ext cx="399960" cy="2286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349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353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任意多边形 30"/>
          <p:cNvSpPr/>
          <p:nvPr/>
        </p:nvSpPr>
        <p:spPr>
          <a:xfrm>
            <a:off x="4172040" y="2259000"/>
            <a:ext cx="3384360" cy="833400"/>
          </a:xfrm>
          <a:custGeom>
            <a:avLst/>
            <a:gdLst/>
            <a:ahLst/>
            <a:rect l="l" t="t" r="r" b="b"/>
            <a:pathLst>
              <a:path w="3384545" h="833717">
                <a:moveTo>
                  <a:pt x="481347" y="0"/>
                </a:moveTo>
                <a:lnTo>
                  <a:pt x="2967687" y="0"/>
                </a:lnTo>
                <a:lnTo>
                  <a:pt x="3384545" y="416859"/>
                </a:lnTo>
                <a:lnTo>
                  <a:pt x="2967687" y="833717"/>
                </a:lnTo>
                <a:lnTo>
                  <a:pt x="0" y="833717"/>
                </a:lnTo>
                <a:lnTo>
                  <a:pt x="481347" y="0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33"/>
          <p:cNvSpPr/>
          <p:nvPr/>
        </p:nvSpPr>
        <p:spPr>
          <a:xfrm>
            <a:off x="3691080" y="3092400"/>
            <a:ext cx="3377880" cy="835200"/>
          </a:xfrm>
          <a:custGeom>
            <a:avLst/>
            <a:gdLst/>
            <a:ahLst/>
            <a:rect l="l" t="t" r="r" b="b"/>
            <a:pathLst>
              <a:path w="3378000" h="833717">
                <a:moveTo>
                  <a:pt x="481347" y="0"/>
                </a:moveTo>
                <a:lnTo>
                  <a:pt x="2961142" y="0"/>
                </a:lnTo>
                <a:lnTo>
                  <a:pt x="3378000" y="416859"/>
                </a:lnTo>
                <a:lnTo>
                  <a:pt x="2961142" y="833717"/>
                </a:lnTo>
                <a:lnTo>
                  <a:pt x="0" y="833717"/>
                </a:lnTo>
                <a:lnTo>
                  <a:pt x="481347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35"/>
          <p:cNvSpPr/>
          <p:nvPr/>
        </p:nvSpPr>
        <p:spPr>
          <a:xfrm>
            <a:off x="3209760" y="3927600"/>
            <a:ext cx="3403800" cy="833400"/>
          </a:xfrm>
          <a:custGeom>
            <a:avLst/>
            <a:gdLst/>
            <a:ahLst/>
            <a:rect l="l" t="t" r="r" b="b"/>
            <a:pathLst>
              <a:path w="3403756" h="833717">
                <a:moveTo>
                  <a:pt x="481346" y="0"/>
                </a:moveTo>
                <a:lnTo>
                  <a:pt x="2986898" y="0"/>
                </a:lnTo>
                <a:lnTo>
                  <a:pt x="3403756" y="416859"/>
                </a:lnTo>
                <a:lnTo>
                  <a:pt x="2986898" y="833717"/>
                </a:lnTo>
                <a:lnTo>
                  <a:pt x="0" y="833717"/>
                </a:lnTo>
                <a:lnTo>
                  <a:pt x="481346" y="0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37"/>
          <p:cNvSpPr/>
          <p:nvPr/>
        </p:nvSpPr>
        <p:spPr>
          <a:xfrm>
            <a:off x="2738520" y="4753080"/>
            <a:ext cx="3430440" cy="833400"/>
          </a:xfrm>
          <a:custGeom>
            <a:avLst/>
            <a:gdLst/>
            <a:ahLst/>
            <a:rect l="l" t="t" r="r" b="b"/>
            <a:pathLst>
              <a:path w="3430800" h="833717">
                <a:moveTo>
                  <a:pt x="481347" y="0"/>
                </a:moveTo>
                <a:lnTo>
                  <a:pt x="3013942" y="0"/>
                </a:lnTo>
                <a:lnTo>
                  <a:pt x="3430800" y="416859"/>
                </a:lnTo>
                <a:lnTo>
                  <a:pt x="3013942" y="833717"/>
                </a:lnTo>
                <a:lnTo>
                  <a:pt x="0" y="833717"/>
                </a:lnTo>
                <a:lnTo>
                  <a:pt x="481347" y="0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38"/>
          <p:cNvSpPr/>
          <p:nvPr/>
        </p:nvSpPr>
        <p:spPr>
          <a:xfrm>
            <a:off x="896400" y="249228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7200" spc="-1" strike="noStrike">
                <a:solidFill>
                  <a:srgbClr val="00a1d8"/>
                </a:solidFill>
                <a:latin typeface="方正姚体"/>
              </a:rPr>
              <a:t>83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39"/>
          <p:cNvSpPr/>
          <p:nvPr/>
        </p:nvSpPr>
        <p:spPr>
          <a:xfrm>
            <a:off x="341280" y="374976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40"/>
          <p:cNvSpPr/>
          <p:nvPr/>
        </p:nvSpPr>
        <p:spPr>
          <a:xfrm>
            <a:off x="4447800" y="24447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41"/>
          <p:cNvSpPr/>
          <p:nvPr/>
        </p:nvSpPr>
        <p:spPr>
          <a:xfrm>
            <a:off x="3992400" y="32925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42"/>
          <p:cNvSpPr/>
          <p:nvPr/>
        </p:nvSpPr>
        <p:spPr>
          <a:xfrm>
            <a:off x="3539160" y="410544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43"/>
          <p:cNvSpPr/>
          <p:nvPr/>
        </p:nvSpPr>
        <p:spPr>
          <a:xfrm>
            <a:off x="3069360" y="49197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44"/>
          <p:cNvGrpSpPr/>
          <p:nvPr/>
        </p:nvGrpSpPr>
        <p:grpSpPr>
          <a:xfrm>
            <a:off x="6827760" y="2465280"/>
            <a:ext cx="333360" cy="376200"/>
            <a:chOff x="6827760" y="2465280"/>
            <a:chExt cx="333360" cy="376200"/>
          </a:xfrm>
        </p:grpSpPr>
        <p:sp>
          <p:nvSpPr>
            <p:cNvPr id="367" name="Freeform 148"/>
            <p:cNvSpPr/>
            <p:nvPr/>
          </p:nvSpPr>
          <p:spPr>
            <a:xfrm>
              <a:off x="6872760" y="2465280"/>
              <a:ext cx="288360" cy="37404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49"/>
            <p:cNvSpPr/>
            <p:nvPr/>
          </p:nvSpPr>
          <p:spPr>
            <a:xfrm>
              <a:off x="6827760" y="2655000"/>
              <a:ext cx="190080" cy="18648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50"/>
            <p:cNvSpPr/>
            <p:nvPr/>
          </p:nvSpPr>
          <p:spPr>
            <a:xfrm>
              <a:off x="6907320" y="2733120"/>
              <a:ext cx="30600" cy="3060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48"/>
          <p:cNvGrpSpPr/>
          <p:nvPr/>
        </p:nvGrpSpPr>
        <p:grpSpPr>
          <a:xfrm>
            <a:off x="5529240" y="5003640"/>
            <a:ext cx="312840" cy="351000"/>
            <a:chOff x="5529240" y="5003640"/>
            <a:chExt cx="312840" cy="351000"/>
          </a:xfrm>
        </p:grpSpPr>
        <p:sp>
          <p:nvSpPr>
            <p:cNvPr id="371" name="Freeform 108"/>
            <p:cNvSpPr/>
            <p:nvPr/>
          </p:nvSpPr>
          <p:spPr>
            <a:xfrm>
              <a:off x="5582880" y="5133960"/>
              <a:ext cx="44280" cy="450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09"/>
            <p:cNvSpPr/>
            <p:nvPr/>
          </p:nvSpPr>
          <p:spPr>
            <a:xfrm>
              <a:off x="5682240" y="5104800"/>
              <a:ext cx="37440" cy="378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0"/>
            <p:cNvSpPr/>
            <p:nvPr/>
          </p:nvSpPr>
          <p:spPr>
            <a:xfrm>
              <a:off x="5592960" y="5144760"/>
              <a:ext cx="2376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1"/>
            <p:cNvSpPr/>
            <p:nvPr/>
          </p:nvSpPr>
          <p:spPr>
            <a:xfrm>
              <a:off x="5663520" y="5085720"/>
              <a:ext cx="75240" cy="756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12"/>
            <p:cNvSpPr/>
            <p:nvPr/>
          </p:nvSpPr>
          <p:spPr>
            <a:xfrm>
              <a:off x="5529240" y="5003640"/>
              <a:ext cx="312840" cy="35100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54"/>
          <p:cNvGrpSpPr/>
          <p:nvPr/>
        </p:nvGrpSpPr>
        <p:grpSpPr>
          <a:xfrm>
            <a:off x="5978520" y="4208400"/>
            <a:ext cx="271440" cy="268200"/>
            <a:chOff x="5978520" y="4208400"/>
            <a:chExt cx="271440" cy="268200"/>
          </a:xfrm>
        </p:grpSpPr>
        <p:sp>
          <p:nvSpPr>
            <p:cNvPr id="377" name="Freeform 136"/>
            <p:cNvSpPr/>
            <p:nvPr/>
          </p:nvSpPr>
          <p:spPr>
            <a:xfrm>
              <a:off x="5978520" y="4358880"/>
              <a:ext cx="271440" cy="11772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7"/>
            <p:cNvSpPr/>
            <p:nvPr/>
          </p:nvSpPr>
          <p:spPr>
            <a:xfrm>
              <a:off x="5978520" y="4208400"/>
              <a:ext cx="271440" cy="15588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57"/>
          <p:cNvGrpSpPr/>
          <p:nvPr/>
        </p:nvGrpSpPr>
        <p:grpSpPr>
          <a:xfrm>
            <a:off x="6369120" y="3346560"/>
            <a:ext cx="320760" cy="344520"/>
            <a:chOff x="6369120" y="3346560"/>
            <a:chExt cx="320760" cy="344520"/>
          </a:xfrm>
        </p:grpSpPr>
        <p:sp>
          <p:nvSpPr>
            <p:cNvPr id="380" name="Freeform 154"/>
            <p:cNvSpPr/>
            <p:nvPr/>
          </p:nvSpPr>
          <p:spPr>
            <a:xfrm>
              <a:off x="6465960" y="3639240"/>
              <a:ext cx="34560" cy="320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55"/>
            <p:cNvSpPr/>
            <p:nvPr/>
          </p:nvSpPr>
          <p:spPr>
            <a:xfrm>
              <a:off x="6479640" y="3634920"/>
              <a:ext cx="6120" cy="223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56"/>
            <p:cNvSpPr/>
            <p:nvPr/>
          </p:nvSpPr>
          <p:spPr>
            <a:xfrm>
              <a:off x="6396120" y="3402360"/>
              <a:ext cx="179280" cy="1789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7"/>
            <p:cNvSpPr/>
            <p:nvPr/>
          </p:nvSpPr>
          <p:spPr>
            <a:xfrm>
              <a:off x="6369120" y="3346560"/>
              <a:ext cx="232920" cy="34452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58"/>
            <p:cNvSpPr/>
            <p:nvPr/>
          </p:nvSpPr>
          <p:spPr>
            <a:xfrm>
              <a:off x="6558840" y="3485880"/>
              <a:ext cx="131040" cy="13068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文本框 63"/>
          <p:cNvSpPr/>
          <p:nvPr/>
        </p:nvSpPr>
        <p:spPr>
          <a:xfrm>
            <a:off x="7446600" y="241452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64"/>
          <p:cNvSpPr/>
          <p:nvPr/>
        </p:nvSpPr>
        <p:spPr>
          <a:xfrm>
            <a:off x="6982920" y="326556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65"/>
          <p:cNvSpPr/>
          <p:nvPr/>
        </p:nvSpPr>
        <p:spPr>
          <a:xfrm>
            <a:off x="6551280" y="407664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66"/>
          <p:cNvSpPr/>
          <p:nvPr/>
        </p:nvSpPr>
        <p:spPr>
          <a:xfrm>
            <a:off x="6105960" y="492912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391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395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任意多边形 21"/>
          <p:cNvSpPr/>
          <p:nvPr/>
        </p:nvSpPr>
        <p:spPr>
          <a:xfrm rot="19800000">
            <a:off x="3495240" y="2287080"/>
            <a:ext cx="1171800" cy="5214960"/>
          </a:xfrm>
          <a:custGeom>
            <a:avLst/>
            <a:gdLst/>
            <a:ahLst/>
            <a:rect l="l" t="t" r="r" b="b"/>
            <a:pathLst>
              <a:path w="1170373" h="5214450">
                <a:moveTo>
                  <a:pt x="1170373" y="675715"/>
                </a:moveTo>
                <a:lnTo>
                  <a:pt x="0" y="0"/>
                </a:lnTo>
                <a:lnTo>
                  <a:pt x="0" y="4538735"/>
                </a:lnTo>
                <a:lnTo>
                  <a:pt x="1170373" y="5214450"/>
                </a:lnTo>
                <a:lnTo>
                  <a:pt x="1170373" y="675715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任意多边形 25"/>
          <p:cNvSpPr/>
          <p:nvPr/>
        </p:nvSpPr>
        <p:spPr>
          <a:xfrm flipH="1" rot="1800000">
            <a:off x="1213920" y="2287440"/>
            <a:ext cx="1170000" cy="5214960"/>
          </a:xfrm>
          <a:custGeom>
            <a:avLst/>
            <a:gdLst/>
            <a:ahLst/>
            <a:rect l="l" t="t" r="r" b="b"/>
            <a:pathLst>
              <a:path w="1170373" h="5214450">
                <a:moveTo>
                  <a:pt x="1170373" y="675715"/>
                </a:moveTo>
                <a:lnTo>
                  <a:pt x="0" y="0"/>
                </a:lnTo>
                <a:lnTo>
                  <a:pt x="0" y="4538735"/>
                </a:lnTo>
                <a:lnTo>
                  <a:pt x="1170373" y="5214450"/>
                </a:lnTo>
                <a:lnTo>
                  <a:pt x="1170373" y="675715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片 38" descr=""/>
          <p:cNvPicPr/>
          <p:nvPr/>
        </p:nvPicPr>
        <p:blipFill>
          <a:blip r:embed="rId1"/>
          <a:srcRect l="10241" t="3702" r="10959" b="15458"/>
          <a:stretch/>
        </p:blipFill>
        <p:spPr>
          <a:xfrm>
            <a:off x="1968480" y="1650960"/>
            <a:ext cx="1996920" cy="3962520"/>
          </a:xfrm>
          <a:prstGeom prst="rect">
            <a:avLst/>
          </a:prstGeom>
          <a:ln w="0">
            <a:noFill/>
          </a:ln>
        </p:spPr>
      </p:pic>
      <p:sp>
        <p:nvSpPr>
          <p:cNvPr id="401" name="矩形 39"/>
          <p:cNvSpPr/>
          <p:nvPr/>
        </p:nvSpPr>
        <p:spPr>
          <a:xfrm>
            <a:off x="2184480" y="2290680"/>
            <a:ext cx="1601640" cy="2792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40"/>
          <p:cNvSpPr/>
          <p:nvPr/>
        </p:nvSpPr>
        <p:spPr>
          <a:xfrm>
            <a:off x="5869800" y="2290680"/>
            <a:ext cx="550692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en-US" sz="2400" spc="-1" strike="noStrike">
                <a:solidFill>
                  <a:srgbClr val="00a1d8"/>
                </a:solidFill>
                <a:latin typeface="方正姚体"/>
                <a:ea typeface="方正姚体"/>
              </a:rPr>
              <a:t>MORE  THEN 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ought  Click here to add  you 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ought  Click here to add  you 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405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409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直接连接符 21"/>
          <p:cNvSpPr/>
          <p:nvPr/>
        </p:nvSpPr>
        <p:spPr>
          <a:xfrm flipH="1">
            <a:off x="3398400" y="4078440"/>
            <a:ext cx="492120" cy="468000"/>
          </a:xfrm>
          <a:prstGeom prst="line">
            <a:avLst/>
          </a:prstGeom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25"/>
          <p:cNvSpPr/>
          <p:nvPr/>
        </p:nvSpPr>
        <p:spPr>
          <a:xfrm>
            <a:off x="6019920" y="3951360"/>
            <a:ext cx="603000" cy="325440"/>
          </a:xfrm>
          <a:prstGeom prst="line">
            <a:avLst/>
          </a:prstGeom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27"/>
          <p:cNvSpPr/>
          <p:nvPr/>
        </p:nvSpPr>
        <p:spPr>
          <a:xfrm flipV="1">
            <a:off x="8121600" y="4387680"/>
            <a:ext cx="696960" cy="1121040"/>
          </a:xfrm>
          <a:prstGeom prst="line">
            <a:avLst/>
          </a:prstGeom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28"/>
          <p:cNvSpPr/>
          <p:nvPr/>
        </p:nvSpPr>
        <p:spPr>
          <a:xfrm>
            <a:off x="3886200" y="2314440"/>
            <a:ext cx="2155680" cy="215424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29"/>
          <p:cNvSpPr/>
          <p:nvPr/>
        </p:nvSpPr>
        <p:spPr>
          <a:xfrm>
            <a:off x="8798040" y="3157560"/>
            <a:ext cx="1376280" cy="137628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30"/>
          <p:cNvSpPr/>
          <p:nvPr/>
        </p:nvSpPr>
        <p:spPr>
          <a:xfrm>
            <a:off x="3252960" y="4470480"/>
            <a:ext cx="252360" cy="25092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椭圆 31"/>
          <p:cNvSpPr/>
          <p:nvPr/>
        </p:nvSpPr>
        <p:spPr>
          <a:xfrm>
            <a:off x="2509920" y="5800680"/>
            <a:ext cx="252360" cy="25236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椭圆 33"/>
          <p:cNvSpPr/>
          <p:nvPr/>
        </p:nvSpPr>
        <p:spPr>
          <a:xfrm>
            <a:off x="3854520" y="3862440"/>
            <a:ext cx="250920" cy="25236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椭圆 34"/>
          <p:cNvSpPr/>
          <p:nvPr/>
        </p:nvSpPr>
        <p:spPr>
          <a:xfrm>
            <a:off x="5869080" y="3825720"/>
            <a:ext cx="252360" cy="25272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椭圆 35"/>
          <p:cNvSpPr/>
          <p:nvPr/>
        </p:nvSpPr>
        <p:spPr>
          <a:xfrm>
            <a:off x="6585120" y="4241880"/>
            <a:ext cx="252360" cy="25092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椭圆 36"/>
          <p:cNvSpPr/>
          <p:nvPr/>
        </p:nvSpPr>
        <p:spPr>
          <a:xfrm>
            <a:off x="7980480" y="5289480"/>
            <a:ext cx="252360" cy="25236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椭圆 37"/>
          <p:cNvSpPr/>
          <p:nvPr/>
        </p:nvSpPr>
        <p:spPr>
          <a:xfrm>
            <a:off x="8764560" y="4205160"/>
            <a:ext cx="252360" cy="25272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38"/>
          <p:cNvSpPr/>
          <p:nvPr/>
        </p:nvSpPr>
        <p:spPr>
          <a:xfrm>
            <a:off x="10049040" y="3390840"/>
            <a:ext cx="252360" cy="25236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39"/>
          <p:cNvSpPr/>
          <p:nvPr/>
        </p:nvSpPr>
        <p:spPr>
          <a:xfrm>
            <a:off x="6518160" y="4078440"/>
            <a:ext cx="1712880" cy="171288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40"/>
          <p:cNvSpPr/>
          <p:nvPr/>
        </p:nvSpPr>
        <p:spPr>
          <a:xfrm>
            <a:off x="2211480" y="4470480"/>
            <a:ext cx="1496880" cy="149688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组合 41"/>
          <p:cNvGrpSpPr/>
          <p:nvPr/>
        </p:nvGrpSpPr>
        <p:grpSpPr>
          <a:xfrm>
            <a:off x="7086600" y="4651200"/>
            <a:ext cx="574560" cy="568440"/>
            <a:chOff x="7086600" y="4651200"/>
            <a:chExt cx="574560" cy="568440"/>
          </a:xfrm>
        </p:grpSpPr>
        <p:sp>
          <p:nvSpPr>
            <p:cNvPr id="428" name="Freeform 136"/>
            <p:cNvSpPr/>
            <p:nvPr/>
          </p:nvSpPr>
          <p:spPr>
            <a:xfrm>
              <a:off x="7086600" y="4969800"/>
              <a:ext cx="574560" cy="249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37"/>
            <p:cNvSpPr/>
            <p:nvPr/>
          </p:nvSpPr>
          <p:spPr>
            <a:xfrm>
              <a:off x="7086600" y="4651200"/>
              <a:ext cx="574560" cy="33048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44"/>
          <p:cNvGrpSpPr/>
          <p:nvPr/>
        </p:nvGrpSpPr>
        <p:grpSpPr>
          <a:xfrm>
            <a:off x="4683240" y="3027240"/>
            <a:ext cx="672840" cy="723960"/>
            <a:chOff x="4683240" y="3027240"/>
            <a:chExt cx="672840" cy="723960"/>
          </a:xfrm>
        </p:grpSpPr>
        <p:sp>
          <p:nvSpPr>
            <p:cNvPr id="431" name="Freeform 154"/>
            <p:cNvSpPr/>
            <p:nvPr/>
          </p:nvSpPr>
          <p:spPr>
            <a:xfrm>
              <a:off x="4886640" y="3642120"/>
              <a:ext cx="72720" cy="673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55"/>
            <p:cNvSpPr/>
            <p:nvPr/>
          </p:nvSpPr>
          <p:spPr>
            <a:xfrm>
              <a:off x="4915080" y="3632760"/>
              <a:ext cx="13320" cy="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56"/>
            <p:cNvSpPr/>
            <p:nvPr/>
          </p:nvSpPr>
          <p:spPr>
            <a:xfrm>
              <a:off x="4739760" y="3144240"/>
              <a:ext cx="376200" cy="3762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57"/>
            <p:cNvSpPr/>
            <p:nvPr/>
          </p:nvSpPr>
          <p:spPr>
            <a:xfrm>
              <a:off x="4683240" y="3027240"/>
              <a:ext cx="488160" cy="72396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58"/>
            <p:cNvSpPr/>
            <p:nvPr/>
          </p:nvSpPr>
          <p:spPr>
            <a:xfrm>
              <a:off x="5081040" y="3319920"/>
              <a:ext cx="275040" cy="2750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组合 50"/>
          <p:cNvGrpSpPr/>
          <p:nvPr/>
        </p:nvGrpSpPr>
        <p:grpSpPr>
          <a:xfrm>
            <a:off x="2701800" y="4967280"/>
            <a:ext cx="516240" cy="495360"/>
            <a:chOff x="2701800" y="4967280"/>
            <a:chExt cx="516240" cy="495360"/>
          </a:xfrm>
        </p:grpSpPr>
        <p:sp>
          <p:nvSpPr>
            <p:cNvPr id="437" name="Oval 131"/>
            <p:cNvSpPr/>
            <p:nvPr/>
          </p:nvSpPr>
          <p:spPr>
            <a:xfrm>
              <a:off x="2843640" y="4967280"/>
              <a:ext cx="232200" cy="23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34"/>
            <p:cNvSpPr/>
            <p:nvPr/>
          </p:nvSpPr>
          <p:spPr>
            <a:xfrm>
              <a:off x="2701800" y="5238720"/>
              <a:ext cx="516240" cy="22392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53"/>
          <p:cNvGrpSpPr/>
          <p:nvPr/>
        </p:nvGrpSpPr>
        <p:grpSpPr>
          <a:xfrm>
            <a:off x="9275760" y="3562200"/>
            <a:ext cx="468360" cy="528840"/>
            <a:chOff x="9275760" y="3562200"/>
            <a:chExt cx="468360" cy="528840"/>
          </a:xfrm>
        </p:grpSpPr>
        <p:sp>
          <p:nvSpPr>
            <p:cNvPr id="440" name="Freeform 148"/>
            <p:cNvSpPr/>
            <p:nvPr/>
          </p:nvSpPr>
          <p:spPr>
            <a:xfrm>
              <a:off x="9339120" y="3562200"/>
              <a:ext cx="405000" cy="52596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49"/>
            <p:cNvSpPr/>
            <p:nvPr/>
          </p:nvSpPr>
          <p:spPr>
            <a:xfrm>
              <a:off x="9275760" y="3828600"/>
              <a:ext cx="267120" cy="262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50"/>
            <p:cNvSpPr/>
            <p:nvPr/>
          </p:nvSpPr>
          <p:spPr>
            <a:xfrm>
              <a:off x="9387720" y="3938400"/>
              <a:ext cx="428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文本框 57"/>
          <p:cNvSpPr/>
          <p:nvPr/>
        </p:nvSpPr>
        <p:spPr>
          <a:xfrm>
            <a:off x="3327480" y="148896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58"/>
          <p:cNvSpPr/>
          <p:nvPr/>
        </p:nvSpPr>
        <p:spPr>
          <a:xfrm>
            <a:off x="576360" y="357660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59"/>
          <p:cNvSpPr/>
          <p:nvPr/>
        </p:nvSpPr>
        <p:spPr>
          <a:xfrm>
            <a:off x="5900760" y="580068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60"/>
          <p:cNvSpPr/>
          <p:nvPr/>
        </p:nvSpPr>
        <p:spPr>
          <a:xfrm>
            <a:off x="9040680" y="45529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449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453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任意多边形 21"/>
          <p:cNvSpPr/>
          <p:nvPr/>
        </p:nvSpPr>
        <p:spPr>
          <a:xfrm>
            <a:off x="4721400" y="2035080"/>
            <a:ext cx="1374480" cy="1677960"/>
          </a:xfrm>
          <a:custGeom>
            <a:avLst/>
            <a:gdLst/>
            <a:ahLst/>
            <a:rect l="l" t="t" r="r" b="b"/>
            <a:pathLst>
              <a:path w="1214904" h="2048025">
                <a:moveTo>
                  <a:pt x="0" y="0"/>
                </a:moveTo>
                <a:lnTo>
                  <a:pt x="1214904" y="1372484"/>
                </a:lnTo>
                <a:lnTo>
                  <a:pt x="1214904" y="1455115"/>
                </a:lnTo>
                <a:lnTo>
                  <a:pt x="1214904" y="1965394"/>
                </a:lnTo>
                <a:lnTo>
                  <a:pt x="1214904" y="2048025"/>
                </a:lnTo>
                <a:lnTo>
                  <a:pt x="0" y="1146305"/>
                </a:lnTo>
                <a:lnTo>
                  <a:pt x="0" y="1063674"/>
                </a:lnTo>
                <a:lnTo>
                  <a:pt x="0" y="82631"/>
                </a:lnTo>
                <a:lnTo>
                  <a:pt x="0" y="0"/>
                </a:lnTo>
                <a:close/>
              </a:path>
            </a:pathLst>
          </a:custGeom>
          <a:solidFill>
            <a:srgbClr val="151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25"/>
          <p:cNvSpPr/>
          <p:nvPr/>
        </p:nvSpPr>
        <p:spPr>
          <a:xfrm flipV="1">
            <a:off x="4721400" y="3803040"/>
            <a:ext cx="1374480" cy="1778040"/>
          </a:xfrm>
          <a:custGeom>
            <a:avLst/>
            <a:gdLst/>
            <a:ahLst/>
            <a:rect l="l" t="t" r="r" b="b"/>
            <a:pathLst>
              <a:path w="1214906" h="2169441">
                <a:moveTo>
                  <a:pt x="1214904" y="2169441"/>
                </a:moveTo>
                <a:lnTo>
                  <a:pt x="1214904" y="1965393"/>
                </a:lnTo>
                <a:lnTo>
                  <a:pt x="1214906" y="1965394"/>
                </a:lnTo>
                <a:lnTo>
                  <a:pt x="1214906" y="1372484"/>
                </a:lnTo>
                <a:lnTo>
                  <a:pt x="2" y="0"/>
                </a:lnTo>
                <a:lnTo>
                  <a:pt x="2" y="204050"/>
                </a:lnTo>
                <a:lnTo>
                  <a:pt x="0" y="204047"/>
                </a:lnTo>
                <a:lnTo>
                  <a:pt x="0" y="1267721"/>
                </a:lnTo>
                <a:lnTo>
                  <a:pt x="1214904" y="2169441"/>
                </a:lnTo>
                <a:close/>
              </a:path>
            </a:pathLst>
          </a:custGeom>
          <a:solidFill>
            <a:srgbClr val="302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27"/>
          <p:cNvSpPr/>
          <p:nvPr/>
        </p:nvSpPr>
        <p:spPr>
          <a:xfrm>
            <a:off x="0" y="2028960"/>
            <a:ext cx="4721400" cy="892080"/>
          </a:xfrm>
          <a:prstGeom prst="rect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8"/>
          <p:cNvSpPr/>
          <p:nvPr/>
        </p:nvSpPr>
        <p:spPr>
          <a:xfrm>
            <a:off x="0" y="2921040"/>
            <a:ext cx="4721400" cy="892080"/>
          </a:xfrm>
          <a:prstGeom prst="rect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任意多边形 29"/>
          <p:cNvSpPr/>
          <p:nvPr/>
        </p:nvSpPr>
        <p:spPr>
          <a:xfrm>
            <a:off x="4721400" y="2921040"/>
            <a:ext cx="1374480" cy="892080"/>
          </a:xfrm>
          <a:custGeom>
            <a:avLst/>
            <a:gdLst/>
            <a:ahLst/>
            <a:rect l="l" t="t" r="r" b="b"/>
            <a:pathLst>
              <a:path w="859824" h="675510">
                <a:moveTo>
                  <a:pt x="0" y="0"/>
                </a:moveTo>
                <a:lnTo>
                  <a:pt x="859824" y="421199"/>
                </a:lnTo>
                <a:lnTo>
                  <a:pt x="859824" y="675510"/>
                </a:lnTo>
                <a:lnTo>
                  <a:pt x="0" y="675510"/>
                </a:lnTo>
                <a:lnTo>
                  <a:pt x="0" y="0"/>
                </a:lnTo>
                <a:close/>
              </a:path>
            </a:pathLst>
          </a:custGeom>
          <a:solidFill>
            <a:srgbClr val="008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30"/>
          <p:cNvSpPr/>
          <p:nvPr/>
        </p:nvSpPr>
        <p:spPr>
          <a:xfrm flipV="1">
            <a:off x="0" y="4695840"/>
            <a:ext cx="4721400" cy="892080"/>
          </a:xfrm>
          <a:prstGeom prst="rect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31"/>
          <p:cNvSpPr/>
          <p:nvPr/>
        </p:nvSpPr>
        <p:spPr>
          <a:xfrm flipV="1">
            <a:off x="0" y="3803760"/>
            <a:ext cx="4721400" cy="892080"/>
          </a:xfrm>
          <a:prstGeom prst="rect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任意多边形 33"/>
          <p:cNvSpPr/>
          <p:nvPr/>
        </p:nvSpPr>
        <p:spPr>
          <a:xfrm flipV="1">
            <a:off x="4721400" y="3803760"/>
            <a:ext cx="1374480" cy="890640"/>
          </a:xfrm>
          <a:custGeom>
            <a:avLst/>
            <a:gdLst/>
            <a:ahLst/>
            <a:rect l="l" t="t" r="r" b="b"/>
            <a:pathLst>
              <a:path w="859824" h="675510">
                <a:moveTo>
                  <a:pt x="0" y="0"/>
                </a:moveTo>
                <a:lnTo>
                  <a:pt x="859824" y="421199"/>
                </a:lnTo>
                <a:lnTo>
                  <a:pt x="859824" y="675510"/>
                </a:lnTo>
                <a:lnTo>
                  <a:pt x="0" y="675510"/>
                </a:lnTo>
                <a:lnTo>
                  <a:pt x="0" y="0"/>
                </a:lnTo>
                <a:close/>
              </a:path>
            </a:pathLst>
          </a:custGeom>
          <a:solidFill>
            <a:srgbClr val="8592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任意多边形 34"/>
          <p:cNvSpPr/>
          <p:nvPr/>
        </p:nvSpPr>
        <p:spPr>
          <a:xfrm>
            <a:off x="6095880" y="3165480"/>
            <a:ext cx="6096240" cy="307800"/>
          </a:xfrm>
          <a:custGeom>
            <a:avLst/>
            <a:gdLst/>
            <a:ahLst/>
            <a:rect l="l" t="t" r="r" b="b"/>
            <a:pathLst>
              <a:path w="6095998" h="308220">
                <a:moveTo>
                  <a:pt x="0" y="0"/>
                </a:moveTo>
                <a:lnTo>
                  <a:pt x="6095998" y="0"/>
                </a:lnTo>
                <a:lnTo>
                  <a:pt x="6095998" y="308220"/>
                </a:lnTo>
                <a:lnTo>
                  <a:pt x="0" y="308220"/>
                </a:lnTo>
                <a:lnTo>
                  <a:pt x="0" y="0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任意多边形 35"/>
          <p:cNvSpPr/>
          <p:nvPr/>
        </p:nvSpPr>
        <p:spPr>
          <a:xfrm>
            <a:off x="6095880" y="3471840"/>
            <a:ext cx="6096240" cy="325440"/>
          </a:xfrm>
          <a:custGeom>
            <a:avLst/>
            <a:gdLst/>
            <a:ahLst/>
            <a:rect l="l" t="t" r="r" b="b"/>
            <a:pathLst>
              <a:path w="6096001" h="325464">
                <a:moveTo>
                  <a:pt x="0" y="0"/>
                </a:moveTo>
                <a:lnTo>
                  <a:pt x="6096001" y="0"/>
                </a:lnTo>
                <a:lnTo>
                  <a:pt x="6096001" y="325464"/>
                </a:lnTo>
                <a:lnTo>
                  <a:pt x="0" y="325464"/>
                </a:lnTo>
                <a:lnTo>
                  <a:pt x="0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任意多边形 36"/>
          <p:cNvSpPr/>
          <p:nvPr/>
        </p:nvSpPr>
        <p:spPr>
          <a:xfrm>
            <a:off x="6095880" y="3797280"/>
            <a:ext cx="6096240" cy="345960"/>
          </a:xfrm>
          <a:custGeom>
            <a:avLst/>
            <a:gdLst/>
            <a:ahLst/>
            <a:rect l="l" t="t" r="r" b="b"/>
            <a:pathLst>
              <a:path w="6095998" h="344546">
                <a:moveTo>
                  <a:pt x="0" y="0"/>
                </a:moveTo>
                <a:lnTo>
                  <a:pt x="6095998" y="0"/>
                </a:lnTo>
                <a:lnTo>
                  <a:pt x="6095998" y="344546"/>
                </a:lnTo>
                <a:lnTo>
                  <a:pt x="0" y="344546"/>
                </a:lnTo>
                <a:lnTo>
                  <a:pt x="0" y="0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任意多边形 37"/>
          <p:cNvSpPr/>
          <p:nvPr/>
        </p:nvSpPr>
        <p:spPr>
          <a:xfrm>
            <a:off x="6095880" y="4133880"/>
            <a:ext cx="6096240" cy="324000"/>
          </a:xfrm>
          <a:custGeom>
            <a:avLst/>
            <a:gdLst/>
            <a:ahLst/>
            <a:rect l="l" t="t" r="r" b="b"/>
            <a:pathLst>
              <a:path w="6096001" h="324108">
                <a:moveTo>
                  <a:pt x="0" y="0"/>
                </a:moveTo>
                <a:lnTo>
                  <a:pt x="6096001" y="0"/>
                </a:lnTo>
                <a:lnTo>
                  <a:pt x="6096001" y="324108"/>
                </a:lnTo>
                <a:lnTo>
                  <a:pt x="0" y="324108"/>
                </a:lnTo>
                <a:lnTo>
                  <a:pt x="0" y="0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椭圆 38"/>
          <p:cNvSpPr/>
          <p:nvPr/>
        </p:nvSpPr>
        <p:spPr>
          <a:xfrm>
            <a:off x="7281720" y="2776680"/>
            <a:ext cx="2071800" cy="2071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39"/>
          <p:cNvSpPr/>
          <p:nvPr/>
        </p:nvSpPr>
        <p:spPr>
          <a:xfrm>
            <a:off x="922320" y="397188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40"/>
          <p:cNvSpPr/>
          <p:nvPr/>
        </p:nvSpPr>
        <p:spPr>
          <a:xfrm>
            <a:off x="922320" y="217800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41"/>
          <p:cNvSpPr/>
          <p:nvPr/>
        </p:nvSpPr>
        <p:spPr>
          <a:xfrm>
            <a:off x="930240" y="308124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42"/>
          <p:cNvSpPr/>
          <p:nvPr/>
        </p:nvSpPr>
        <p:spPr>
          <a:xfrm>
            <a:off x="922320" y="486108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43"/>
          <p:cNvGrpSpPr/>
          <p:nvPr/>
        </p:nvGrpSpPr>
        <p:grpSpPr>
          <a:xfrm>
            <a:off x="351000" y="4881600"/>
            <a:ext cx="479160" cy="541440"/>
            <a:chOff x="351000" y="4881600"/>
            <a:chExt cx="479160" cy="541440"/>
          </a:xfrm>
        </p:grpSpPr>
        <p:sp>
          <p:nvSpPr>
            <p:cNvPr id="474" name="Freeform 148"/>
            <p:cNvSpPr/>
            <p:nvPr/>
          </p:nvSpPr>
          <p:spPr>
            <a:xfrm>
              <a:off x="415800" y="4881600"/>
              <a:ext cx="414360" cy="53820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9"/>
            <p:cNvSpPr/>
            <p:nvPr/>
          </p:nvSpPr>
          <p:spPr>
            <a:xfrm>
              <a:off x="351000" y="5154480"/>
              <a:ext cx="273240" cy="26856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50"/>
            <p:cNvSpPr/>
            <p:nvPr/>
          </p:nvSpPr>
          <p:spPr>
            <a:xfrm>
              <a:off x="465480" y="5266800"/>
              <a:ext cx="43920" cy="4392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组合 47"/>
          <p:cNvGrpSpPr/>
          <p:nvPr/>
        </p:nvGrpSpPr>
        <p:grpSpPr>
          <a:xfrm>
            <a:off x="380880" y="3130560"/>
            <a:ext cx="447840" cy="501480"/>
            <a:chOff x="380880" y="3130560"/>
            <a:chExt cx="447840" cy="501480"/>
          </a:xfrm>
        </p:grpSpPr>
        <p:sp>
          <p:nvSpPr>
            <p:cNvPr id="478" name="Freeform 108"/>
            <p:cNvSpPr/>
            <p:nvPr/>
          </p:nvSpPr>
          <p:spPr>
            <a:xfrm>
              <a:off x="457560" y="3316680"/>
              <a:ext cx="63360" cy="644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09"/>
            <p:cNvSpPr/>
            <p:nvPr/>
          </p:nvSpPr>
          <p:spPr>
            <a:xfrm>
              <a:off x="600120" y="3275280"/>
              <a:ext cx="54000" cy="540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10"/>
            <p:cNvSpPr/>
            <p:nvPr/>
          </p:nvSpPr>
          <p:spPr>
            <a:xfrm>
              <a:off x="472320" y="3332520"/>
              <a:ext cx="34200" cy="342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11"/>
            <p:cNvSpPr/>
            <p:nvPr/>
          </p:nvSpPr>
          <p:spPr>
            <a:xfrm>
              <a:off x="573120" y="3247920"/>
              <a:ext cx="108000" cy="1080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12"/>
            <p:cNvSpPr/>
            <p:nvPr/>
          </p:nvSpPr>
          <p:spPr>
            <a:xfrm>
              <a:off x="380880" y="3130560"/>
              <a:ext cx="447840" cy="50148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组合 53"/>
          <p:cNvGrpSpPr/>
          <p:nvPr/>
        </p:nvGrpSpPr>
        <p:grpSpPr>
          <a:xfrm>
            <a:off x="380880" y="4087800"/>
            <a:ext cx="389160" cy="384120"/>
            <a:chOff x="380880" y="4087800"/>
            <a:chExt cx="389160" cy="384120"/>
          </a:xfrm>
        </p:grpSpPr>
        <p:sp>
          <p:nvSpPr>
            <p:cNvPr id="484" name="Freeform 136"/>
            <p:cNvSpPr/>
            <p:nvPr/>
          </p:nvSpPr>
          <p:spPr>
            <a:xfrm>
              <a:off x="380880" y="4303080"/>
              <a:ext cx="389160" cy="168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7"/>
            <p:cNvSpPr/>
            <p:nvPr/>
          </p:nvSpPr>
          <p:spPr>
            <a:xfrm>
              <a:off x="380880" y="4087800"/>
              <a:ext cx="389160" cy="2232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组合 56"/>
          <p:cNvGrpSpPr/>
          <p:nvPr/>
        </p:nvGrpSpPr>
        <p:grpSpPr>
          <a:xfrm>
            <a:off x="380880" y="2254320"/>
            <a:ext cx="460440" cy="495360"/>
            <a:chOff x="380880" y="2254320"/>
            <a:chExt cx="460440" cy="495360"/>
          </a:xfrm>
        </p:grpSpPr>
        <p:sp>
          <p:nvSpPr>
            <p:cNvPr id="487" name="Freeform 154"/>
            <p:cNvSpPr/>
            <p:nvPr/>
          </p:nvSpPr>
          <p:spPr>
            <a:xfrm>
              <a:off x="520200" y="2675160"/>
              <a:ext cx="49680" cy="460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55"/>
            <p:cNvSpPr/>
            <p:nvPr/>
          </p:nvSpPr>
          <p:spPr>
            <a:xfrm>
              <a:off x="539640" y="2668680"/>
              <a:ext cx="9000" cy="320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56"/>
            <p:cNvSpPr/>
            <p:nvPr/>
          </p:nvSpPr>
          <p:spPr>
            <a:xfrm>
              <a:off x="419400" y="2334600"/>
              <a:ext cx="257400" cy="2574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7"/>
            <p:cNvSpPr/>
            <p:nvPr/>
          </p:nvSpPr>
          <p:spPr>
            <a:xfrm>
              <a:off x="380880" y="2254320"/>
              <a:ext cx="334080" cy="49536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58"/>
            <p:cNvSpPr/>
            <p:nvPr/>
          </p:nvSpPr>
          <p:spPr>
            <a:xfrm>
              <a:off x="653040" y="2454480"/>
              <a:ext cx="188280" cy="18828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494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498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1" name="Object 11"/>
          <p:cNvGraphicFramePr/>
          <p:nvPr/>
        </p:nvGraphicFramePr>
        <p:xfrm>
          <a:off x="2698920" y="1077840"/>
          <a:ext cx="13282560" cy="55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8920" y="1077840"/>
                    <a:ext cx="1328256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等腰三角形 21"/>
          <p:cNvSpPr/>
          <p:nvPr/>
        </p:nvSpPr>
        <p:spPr>
          <a:xfrm>
            <a:off x="1200240" y="5410080"/>
            <a:ext cx="422280" cy="486000"/>
          </a:xfrm>
          <a:prstGeom prst="triangle">
            <a:avLst>
              <a:gd name="adj" fmla="val 5000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56"/>
          <p:cNvSpPr/>
          <p:nvPr/>
        </p:nvSpPr>
        <p:spPr>
          <a:xfrm>
            <a:off x="1659240" y="5321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等腰三角形 25"/>
          <p:cNvSpPr/>
          <p:nvPr/>
        </p:nvSpPr>
        <p:spPr>
          <a:xfrm>
            <a:off x="8072280" y="5450040"/>
            <a:ext cx="443160" cy="528480"/>
          </a:xfrm>
          <a:prstGeom prst="triangle">
            <a:avLst>
              <a:gd name="adj" fmla="val 50000"/>
            </a:avLst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等腰三角形 29"/>
          <p:cNvSpPr/>
          <p:nvPr/>
        </p:nvSpPr>
        <p:spPr>
          <a:xfrm flipV="1" rot="10860000">
            <a:off x="4632480" y="5476320"/>
            <a:ext cx="442800" cy="528120"/>
          </a:xfrm>
          <a:prstGeom prst="triangle">
            <a:avLst>
              <a:gd name="adj" fmla="val 5000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56"/>
          <p:cNvSpPr/>
          <p:nvPr/>
        </p:nvSpPr>
        <p:spPr>
          <a:xfrm>
            <a:off x="5112720" y="53244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56"/>
          <p:cNvSpPr/>
          <p:nvPr/>
        </p:nvSpPr>
        <p:spPr>
          <a:xfrm>
            <a:off x="8465760" y="53658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511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515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等腰三角形 21"/>
          <p:cNvSpPr/>
          <p:nvPr/>
        </p:nvSpPr>
        <p:spPr>
          <a:xfrm>
            <a:off x="1817640" y="3102120"/>
            <a:ext cx="2521080" cy="2173320"/>
          </a:xfrm>
          <a:prstGeom prst="triangle">
            <a:avLst>
              <a:gd name="adj" fmla="val 5000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等腰三角形 25"/>
          <p:cNvSpPr/>
          <p:nvPr/>
        </p:nvSpPr>
        <p:spPr>
          <a:xfrm>
            <a:off x="4846680" y="3094200"/>
            <a:ext cx="2521080" cy="2172960"/>
          </a:xfrm>
          <a:prstGeom prst="triangle">
            <a:avLst>
              <a:gd name="adj" fmla="val 50000"/>
            </a:avLst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等腰三角形 27"/>
          <p:cNvSpPr/>
          <p:nvPr/>
        </p:nvSpPr>
        <p:spPr>
          <a:xfrm>
            <a:off x="7907400" y="3094200"/>
            <a:ext cx="2520720" cy="2172960"/>
          </a:xfrm>
          <a:prstGeom prst="triangle">
            <a:avLst>
              <a:gd name="adj" fmla="val 5000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等腰三角形 28"/>
          <p:cNvSpPr/>
          <p:nvPr/>
        </p:nvSpPr>
        <p:spPr>
          <a:xfrm flipV="1">
            <a:off x="6378480" y="3109320"/>
            <a:ext cx="2521080" cy="2173320"/>
          </a:xfrm>
          <a:prstGeom prst="triangle">
            <a:avLst>
              <a:gd name="adj" fmla="val 5000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等腰三角形 29"/>
          <p:cNvSpPr/>
          <p:nvPr/>
        </p:nvSpPr>
        <p:spPr>
          <a:xfrm flipV="1">
            <a:off x="3336840" y="3086280"/>
            <a:ext cx="2521080" cy="2172960"/>
          </a:xfrm>
          <a:prstGeom prst="triangle">
            <a:avLst>
              <a:gd name="adj" fmla="val 5000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30"/>
          <p:cNvGrpSpPr/>
          <p:nvPr/>
        </p:nvGrpSpPr>
        <p:grpSpPr>
          <a:xfrm>
            <a:off x="7440480" y="3409920"/>
            <a:ext cx="555840" cy="622440"/>
            <a:chOff x="7440480" y="3409920"/>
            <a:chExt cx="555840" cy="622440"/>
          </a:xfrm>
        </p:grpSpPr>
        <p:sp>
          <p:nvSpPr>
            <p:cNvPr id="524" name="Freeform 108"/>
            <p:cNvSpPr/>
            <p:nvPr/>
          </p:nvSpPr>
          <p:spPr>
            <a:xfrm>
              <a:off x="7535880" y="3641040"/>
              <a:ext cx="78480" cy="799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9"/>
            <p:cNvSpPr/>
            <p:nvPr/>
          </p:nvSpPr>
          <p:spPr>
            <a:xfrm>
              <a:off x="7712640" y="3589200"/>
              <a:ext cx="66960" cy="66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0"/>
            <p:cNvSpPr/>
            <p:nvPr/>
          </p:nvSpPr>
          <p:spPr>
            <a:xfrm>
              <a:off x="7553880" y="3660480"/>
              <a:ext cx="42480" cy="42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1"/>
            <p:cNvSpPr/>
            <p:nvPr/>
          </p:nvSpPr>
          <p:spPr>
            <a:xfrm>
              <a:off x="7679160" y="3555720"/>
              <a:ext cx="133920" cy="1342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2"/>
            <p:cNvSpPr/>
            <p:nvPr/>
          </p:nvSpPr>
          <p:spPr>
            <a:xfrm>
              <a:off x="7440480" y="3409920"/>
              <a:ext cx="555840" cy="62244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组合 37"/>
          <p:cNvGrpSpPr/>
          <p:nvPr/>
        </p:nvGrpSpPr>
        <p:grpSpPr>
          <a:xfrm>
            <a:off x="8845560" y="4218120"/>
            <a:ext cx="593640" cy="671400"/>
            <a:chOff x="8845560" y="4218120"/>
            <a:chExt cx="593640" cy="671400"/>
          </a:xfrm>
        </p:grpSpPr>
        <p:sp>
          <p:nvSpPr>
            <p:cNvPr id="530" name="Freeform 148"/>
            <p:cNvSpPr/>
            <p:nvPr/>
          </p:nvSpPr>
          <p:spPr>
            <a:xfrm>
              <a:off x="8925840" y="4218120"/>
              <a:ext cx="513360" cy="66744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49"/>
            <p:cNvSpPr/>
            <p:nvPr/>
          </p:nvSpPr>
          <p:spPr>
            <a:xfrm>
              <a:off x="8845560" y="4556520"/>
              <a:ext cx="338400" cy="33300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150"/>
            <p:cNvSpPr/>
            <p:nvPr/>
          </p:nvSpPr>
          <p:spPr>
            <a:xfrm>
              <a:off x="8987400" y="4695840"/>
              <a:ext cx="54360" cy="54360"/>
            </a:xfrm>
            <a:prstGeom prst="ellips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41"/>
          <p:cNvGrpSpPr/>
          <p:nvPr/>
        </p:nvGrpSpPr>
        <p:grpSpPr>
          <a:xfrm>
            <a:off x="2766960" y="4338720"/>
            <a:ext cx="571680" cy="546120"/>
            <a:chOff x="2766960" y="4338720"/>
            <a:chExt cx="571680" cy="546120"/>
          </a:xfrm>
        </p:grpSpPr>
        <p:sp>
          <p:nvSpPr>
            <p:cNvPr id="534" name="Freeform 25"/>
            <p:cNvSpPr/>
            <p:nvPr/>
          </p:nvSpPr>
          <p:spPr>
            <a:xfrm>
              <a:off x="2976480" y="4731480"/>
              <a:ext cx="153720" cy="1533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任意多边形 43"/>
            <p:cNvSpPr/>
            <p:nvPr/>
          </p:nvSpPr>
          <p:spPr>
            <a:xfrm>
              <a:off x="2766960" y="4338720"/>
              <a:ext cx="571680" cy="4158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44"/>
          <p:cNvGrpSpPr/>
          <p:nvPr/>
        </p:nvGrpSpPr>
        <p:grpSpPr>
          <a:xfrm>
            <a:off x="5843520" y="4262400"/>
            <a:ext cx="569880" cy="612720"/>
            <a:chOff x="5843520" y="4262400"/>
            <a:chExt cx="569880" cy="612720"/>
          </a:xfrm>
        </p:grpSpPr>
        <p:sp>
          <p:nvSpPr>
            <p:cNvPr id="537" name="Freeform 154"/>
            <p:cNvSpPr/>
            <p:nvPr/>
          </p:nvSpPr>
          <p:spPr>
            <a:xfrm>
              <a:off x="6015960" y="4782960"/>
              <a:ext cx="61560" cy="568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55"/>
            <p:cNvSpPr/>
            <p:nvPr/>
          </p:nvSpPr>
          <p:spPr>
            <a:xfrm>
              <a:off x="6039720" y="4774680"/>
              <a:ext cx="11160" cy="3960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56"/>
            <p:cNvSpPr/>
            <p:nvPr/>
          </p:nvSpPr>
          <p:spPr>
            <a:xfrm>
              <a:off x="5891400" y="4361400"/>
              <a:ext cx="318600" cy="3182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57"/>
            <p:cNvSpPr/>
            <p:nvPr/>
          </p:nvSpPr>
          <p:spPr>
            <a:xfrm>
              <a:off x="5843520" y="4262400"/>
              <a:ext cx="413640" cy="61272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58"/>
            <p:cNvSpPr/>
            <p:nvPr/>
          </p:nvSpPr>
          <p:spPr>
            <a:xfrm>
              <a:off x="6180480" y="4510080"/>
              <a:ext cx="232920" cy="2325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50"/>
          <p:cNvGrpSpPr/>
          <p:nvPr/>
        </p:nvGrpSpPr>
        <p:grpSpPr>
          <a:xfrm>
            <a:off x="4280040" y="3409920"/>
            <a:ext cx="492120" cy="631800"/>
            <a:chOff x="4280040" y="3409920"/>
            <a:chExt cx="492120" cy="631800"/>
          </a:xfrm>
        </p:grpSpPr>
        <p:sp>
          <p:nvSpPr>
            <p:cNvPr id="543" name="Freeform 32"/>
            <p:cNvSpPr/>
            <p:nvPr/>
          </p:nvSpPr>
          <p:spPr>
            <a:xfrm>
              <a:off x="4462920" y="3409920"/>
              <a:ext cx="124560" cy="63180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3"/>
            <p:cNvSpPr/>
            <p:nvPr/>
          </p:nvSpPr>
          <p:spPr>
            <a:xfrm>
              <a:off x="4280040" y="3795480"/>
              <a:ext cx="123120" cy="2462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4"/>
            <p:cNvSpPr/>
            <p:nvPr/>
          </p:nvSpPr>
          <p:spPr>
            <a:xfrm>
              <a:off x="4647600" y="3612960"/>
              <a:ext cx="124560" cy="42876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文本框 54"/>
          <p:cNvSpPr/>
          <p:nvPr/>
        </p:nvSpPr>
        <p:spPr>
          <a:xfrm>
            <a:off x="3245760" y="22147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55"/>
          <p:cNvSpPr/>
          <p:nvPr/>
        </p:nvSpPr>
        <p:spPr>
          <a:xfrm>
            <a:off x="6095520" y="22194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56"/>
          <p:cNvSpPr/>
          <p:nvPr/>
        </p:nvSpPr>
        <p:spPr>
          <a:xfrm>
            <a:off x="1576440" y="558468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57"/>
          <p:cNvSpPr/>
          <p:nvPr/>
        </p:nvSpPr>
        <p:spPr>
          <a:xfrm>
            <a:off x="4679280" y="5591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58"/>
          <p:cNvSpPr/>
          <p:nvPr/>
        </p:nvSpPr>
        <p:spPr>
          <a:xfrm>
            <a:off x="7681320" y="55818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34"/>
          <p:cNvSpPr/>
          <p:nvPr/>
        </p:nvSpPr>
        <p:spPr>
          <a:xfrm flipH="1">
            <a:off x="0" y="0"/>
            <a:ext cx="122284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3"/>
          <p:cNvSpPr/>
          <p:nvPr/>
        </p:nvSpPr>
        <p:spPr>
          <a:xfrm>
            <a:off x="1041480" y="1295280"/>
            <a:ext cx="3616200" cy="4300560"/>
          </a:xfrm>
          <a:prstGeom prst="rect">
            <a:avLst/>
          </a:prstGeom>
          <a:solidFill>
            <a:srgbClr val="0c0c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"/>
          <p:cNvGrpSpPr/>
          <p:nvPr/>
        </p:nvGrpSpPr>
        <p:grpSpPr>
          <a:xfrm>
            <a:off x="5224680" y="-1010520"/>
            <a:ext cx="7005960" cy="8885520"/>
            <a:chOff x="5224680" y="-1010520"/>
            <a:chExt cx="7005960" cy="8885520"/>
          </a:xfrm>
        </p:grpSpPr>
        <p:sp>
          <p:nvSpPr>
            <p:cNvPr id="49" name="任意多边形 24"/>
            <p:cNvSpPr/>
            <p:nvPr/>
          </p:nvSpPr>
          <p:spPr>
            <a:xfrm rot="19800000">
              <a:off x="10113480" y="3326760"/>
              <a:ext cx="1170000" cy="4102200"/>
            </a:xfrm>
            <a:custGeom>
              <a:avLst/>
              <a:gdLst/>
              <a:ahLst/>
              <a:rect l="l" t="t" r="r" b="b"/>
              <a:pathLst>
                <a:path w="1170373" h="4101661">
                  <a:moveTo>
                    <a:pt x="1170373" y="675715"/>
                  </a:moveTo>
                  <a:lnTo>
                    <a:pt x="0" y="0"/>
                  </a:lnTo>
                  <a:lnTo>
                    <a:pt x="0" y="3425946"/>
                  </a:lnTo>
                  <a:lnTo>
                    <a:pt x="1170373" y="4101661"/>
                  </a:lnTo>
                  <a:lnTo>
                    <a:pt x="1170373" y="675715"/>
                  </a:ln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0"/>
            <p:cNvSpPr/>
            <p:nvPr/>
          </p:nvSpPr>
          <p:spPr>
            <a:xfrm rot="19800000">
              <a:off x="7848720" y="-1112400"/>
              <a:ext cx="2026800" cy="9090000"/>
            </a:xfrm>
            <a:custGeom>
              <a:avLst/>
              <a:gdLst/>
              <a:ahLst/>
              <a:rect l="l" t="t" r="r" b="b"/>
              <a:pathLst>
                <a:path w="2026880" h="9089156">
                  <a:moveTo>
                    <a:pt x="0" y="0"/>
                  </a:moveTo>
                  <a:lnTo>
                    <a:pt x="2026880" y="1170220"/>
                  </a:lnTo>
                  <a:lnTo>
                    <a:pt x="2026880" y="9089156"/>
                  </a:lnTo>
                  <a:lnTo>
                    <a:pt x="0" y="79189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26"/>
            <p:cNvSpPr/>
            <p:nvPr/>
          </p:nvSpPr>
          <p:spPr>
            <a:xfrm rot="19800000">
              <a:off x="7394400" y="2718000"/>
              <a:ext cx="1170000" cy="4753800"/>
            </a:xfrm>
            <a:custGeom>
              <a:avLst/>
              <a:gdLst/>
              <a:ahLst/>
              <a:rect l="l" t="t" r="r" b="b"/>
              <a:pathLst>
                <a:path w="1170373" h="4753805">
                  <a:moveTo>
                    <a:pt x="1170373" y="675715"/>
                  </a:moveTo>
                  <a:lnTo>
                    <a:pt x="0" y="0"/>
                  </a:lnTo>
                  <a:lnTo>
                    <a:pt x="0" y="4078090"/>
                  </a:lnTo>
                  <a:lnTo>
                    <a:pt x="1170373" y="4753805"/>
                  </a:lnTo>
                  <a:lnTo>
                    <a:pt x="1170373" y="675715"/>
                  </a:lnTo>
                  <a:close/>
                </a:path>
              </a:pathLst>
            </a:cu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28"/>
            <p:cNvSpPr/>
            <p:nvPr/>
          </p:nvSpPr>
          <p:spPr>
            <a:xfrm rot="19800000">
              <a:off x="6449760" y="2288520"/>
              <a:ext cx="1170000" cy="5214960"/>
            </a:xfrm>
            <a:custGeom>
              <a:avLst/>
              <a:gdLst/>
              <a:ahLst/>
              <a:rect l="l" t="t" r="r" b="b"/>
              <a:pathLst>
                <a:path w="1170373" h="5214450">
                  <a:moveTo>
                    <a:pt x="1170373" y="675715"/>
                  </a:moveTo>
                  <a:lnTo>
                    <a:pt x="0" y="0"/>
                  </a:lnTo>
                  <a:lnTo>
                    <a:pt x="0" y="4538735"/>
                  </a:lnTo>
                  <a:lnTo>
                    <a:pt x="1170373" y="5214450"/>
                  </a:lnTo>
                  <a:lnTo>
                    <a:pt x="1170373" y="675715"/>
                  </a:lnTo>
                  <a:close/>
                </a:path>
              </a:pathLst>
            </a:cu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文本框 14"/>
            <p:cNvSpPr/>
            <p:nvPr/>
          </p:nvSpPr>
          <p:spPr>
            <a:xfrm flipH="1" rot="3550200">
              <a:off x="6373080" y="2834280"/>
              <a:ext cx="510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CONCENT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文本框 29"/>
          <p:cNvSpPr/>
          <p:nvPr/>
        </p:nvSpPr>
        <p:spPr>
          <a:xfrm>
            <a:off x="1613160" y="154620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  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0"/>
          <p:cNvSpPr/>
          <p:nvPr/>
        </p:nvSpPr>
        <p:spPr>
          <a:xfrm>
            <a:off x="1459440" y="266076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1"/>
          <p:cNvSpPr/>
          <p:nvPr/>
        </p:nvSpPr>
        <p:spPr>
          <a:xfrm>
            <a:off x="1303560" y="3746520"/>
            <a:ext cx="31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2"/>
          <p:cNvSpPr/>
          <p:nvPr/>
        </p:nvSpPr>
        <p:spPr>
          <a:xfrm>
            <a:off x="1675440" y="482112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553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557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任意多边形 21"/>
          <p:cNvSpPr/>
          <p:nvPr/>
        </p:nvSpPr>
        <p:spPr>
          <a:xfrm>
            <a:off x="0" y="3332160"/>
            <a:ext cx="5388120" cy="1012680"/>
          </a:xfrm>
          <a:custGeom>
            <a:avLst/>
            <a:gdLst/>
            <a:ahLst/>
            <a:rect l="l" t="t" r="r" b="b"/>
            <a:pathLst>
              <a:path w="5388429" h="1012510">
                <a:moveTo>
                  <a:pt x="5295902" y="0"/>
                </a:moveTo>
                <a:lnTo>
                  <a:pt x="5388429" y="0"/>
                </a:lnTo>
                <a:lnTo>
                  <a:pt x="5388429" y="663958"/>
                </a:lnTo>
                <a:cubicBezTo>
                  <a:pt x="5388429" y="856458"/>
                  <a:pt x="5232377" y="1012510"/>
                  <a:pt x="5039877" y="1012510"/>
                </a:cubicBezTo>
                <a:lnTo>
                  <a:pt x="0" y="1012510"/>
                </a:lnTo>
                <a:lnTo>
                  <a:pt x="0" y="908130"/>
                </a:lnTo>
                <a:lnTo>
                  <a:pt x="4947350" y="908130"/>
                </a:lnTo>
                <a:cubicBezTo>
                  <a:pt x="5139850" y="908130"/>
                  <a:pt x="5295902" y="752078"/>
                  <a:pt x="5295902" y="559578"/>
                </a:cubicBezTo>
                <a:lnTo>
                  <a:pt x="5295902" y="0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椭圆 25"/>
          <p:cNvSpPr/>
          <p:nvPr/>
        </p:nvSpPr>
        <p:spPr>
          <a:xfrm>
            <a:off x="4762440" y="2179800"/>
            <a:ext cx="1152720" cy="115236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椭圆 27"/>
          <p:cNvSpPr/>
          <p:nvPr/>
        </p:nvSpPr>
        <p:spPr>
          <a:xfrm>
            <a:off x="3753000" y="2908440"/>
            <a:ext cx="1150920" cy="115236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椭圆 30"/>
          <p:cNvSpPr/>
          <p:nvPr/>
        </p:nvSpPr>
        <p:spPr>
          <a:xfrm>
            <a:off x="7304040" y="2908440"/>
            <a:ext cx="1150920" cy="115236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椭圆 31"/>
          <p:cNvSpPr/>
          <p:nvPr/>
        </p:nvSpPr>
        <p:spPr>
          <a:xfrm>
            <a:off x="6292800" y="2179800"/>
            <a:ext cx="1152720" cy="115236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任意多边形 33"/>
          <p:cNvSpPr/>
          <p:nvPr/>
        </p:nvSpPr>
        <p:spPr>
          <a:xfrm>
            <a:off x="0" y="4060800"/>
            <a:ext cx="4413240" cy="1012680"/>
          </a:xfrm>
          <a:custGeom>
            <a:avLst/>
            <a:gdLst/>
            <a:ahLst/>
            <a:rect l="l" t="t" r="r" b="b"/>
            <a:pathLst>
              <a:path w="4414157" h="1012510">
                <a:moveTo>
                  <a:pt x="4321630" y="0"/>
                </a:moveTo>
                <a:lnTo>
                  <a:pt x="4414157" y="0"/>
                </a:lnTo>
                <a:lnTo>
                  <a:pt x="4414157" y="663958"/>
                </a:lnTo>
                <a:cubicBezTo>
                  <a:pt x="4414157" y="856458"/>
                  <a:pt x="4258105" y="1012510"/>
                  <a:pt x="4065605" y="1012510"/>
                </a:cubicBezTo>
                <a:lnTo>
                  <a:pt x="0" y="1012510"/>
                </a:lnTo>
                <a:lnTo>
                  <a:pt x="0" y="908130"/>
                </a:lnTo>
                <a:lnTo>
                  <a:pt x="3973078" y="908130"/>
                </a:lnTo>
                <a:cubicBezTo>
                  <a:pt x="4165578" y="908130"/>
                  <a:pt x="4321630" y="752078"/>
                  <a:pt x="4321630" y="559578"/>
                </a:cubicBezTo>
                <a:lnTo>
                  <a:pt x="4321630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35"/>
          <p:cNvSpPr/>
          <p:nvPr/>
        </p:nvSpPr>
        <p:spPr>
          <a:xfrm flipH="1">
            <a:off x="6819120" y="3316320"/>
            <a:ext cx="5388120" cy="1012680"/>
          </a:xfrm>
          <a:custGeom>
            <a:avLst/>
            <a:gdLst/>
            <a:ahLst/>
            <a:rect l="l" t="t" r="r" b="b"/>
            <a:pathLst>
              <a:path w="5388429" h="1012510">
                <a:moveTo>
                  <a:pt x="5295902" y="0"/>
                </a:moveTo>
                <a:lnTo>
                  <a:pt x="5388429" y="0"/>
                </a:lnTo>
                <a:lnTo>
                  <a:pt x="5388429" y="663958"/>
                </a:lnTo>
                <a:cubicBezTo>
                  <a:pt x="5388429" y="856458"/>
                  <a:pt x="5232377" y="1012510"/>
                  <a:pt x="5039877" y="1012510"/>
                </a:cubicBezTo>
                <a:lnTo>
                  <a:pt x="0" y="1012510"/>
                </a:lnTo>
                <a:lnTo>
                  <a:pt x="0" y="908130"/>
                </a:lnTo>
                <a:lnTo>
                  <a:pt x="4947350" y="908130"/>
                </a:lnTo>
                <a:cubicBezTo>
                  <a:pt x="5139850" y="908130"/>
                  <a:pt x="5295902" y="752078"/>
                  <a:pt x="5295902" y="559578"/>
                </a:cubicBezTo>
                <a:lnTo>
                  <a:pt x="5295902" y="0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任意多边形 36"/>
          <p:cNvSpPr/>
          <p:nvPr/>
        </p:nvSpPr>
        <p:spPr>
          <a:xfrm flipH="1">
            <a:off x="7794000" y="4044960"/>
            <a:ext cx="4414680" cy="1012680"/>
          </a:xfrm>
          <a:custGeom>
            <a:avLst/>
            <a:gdLst/>
            <a:ahLst/>
            <a:rect l="l" t="t" r="r" b="b"/>
            <a:pathLst>
              <a:path w="4415098" h="1012510">
                <a:moveTo>
                  <a:pt x="4415098" y="0"/>
                </a:moveTo>
                <a:lnTo>
                  <a:pt x="4322571" y="0"/>
                </a:lnTo>
                <a:lnTo>
                  <a:pt x="4322571" y="559578"/>
                </a:lnTo>
                <a:cubicBezTo>
                  <a:pt x="4322571" y="752078"/>
                  <a:pt x="4166519" y="908130"/>
                  <a:pt x="3974019" y="908130"/>
                </a:cubicBezTo>
                <a:lnTo>
                  <a:pt x="0" y="908130"/>
                </a:lnTo>
                <a:lnTo>
                  <a:pt x="0" y="1012510"/>
                </a:lnTo>
                <a:lnTo>
                  <a:pt x="4066546" y="1012510"/>
                </a:lnTo>
                <a:cubicBezTo>
                  <a:pt x="4259046" y="1012510"/>
                  <a:pt x="4415098" y="856458"/>
                  <a:pt x="4415098" y="663958"/>
                </a:cubicBezTo>
                <a:lnTo>
                  <a:pt x="4415098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组合 38"/>
          <p:cNvGrpSpPr/>
          <p:nvPr/>
        </p:nvGrpSpPr>
        <p:grpSpPr>
          <a:xfrm>
            <a:off x="4057560" y="3119400"/>
            <a:ext cx="573120" cy="600120"/>
            <a:chOff x="4057560" y="3119400"/>
            <a:chExt cx="573120" cy="600120"/>
          </a:xfrm>
        </p:grpSpPr>
        <p:sp>
          <p:nvSpPr>
            <p:cNvPr id="569" name="Freeform 11"/>
            <p:cNvSpPr/>
            <p:nvPr/>
          </p:nvSpPr>
          <p:spPr>
            <a:xfrm>
              <a:off x="4226040" y="3435840"/>
              <a:ext cx="114120" cy="1130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2"/>
            <p:cNvSpPr/>
            <p:nvPr/>
          </p:nvSpPr>
          <p:spPr>
            <a:xfrm>
              <a:off x="4057560" y="3267360"/>
              <a:ext cx="452880" cy="4521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3"/>
            <p:cNvSpPr/>
            <p:nvPr/>
          </p:nvSpPr>
          <p:spPr>
            <a:xfrm>
              <a:off x="4282560" y="3404520"/>
              <a:ext cx="85320" cy="878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4"/>
            <p:cNvSpPr/>
            <p:nvPr/>
          </p:nvSpPr>
          <p:spPr>
            <a:xfrm>
              <a:off x="4336920" y="3233520"/>
              <a:ext cx="185400" cy="195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5"/>
            <p:cNvSpPr/>
            <p:nvPr/>
          </p:nvSpPr>
          <p:spPr>
            <a:xfrm>
              <a:off x="4491000" y="3190320"/>
              <a:ext cx="73440" cy="7668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6"/>
            <p:cNvSpPr/>
            <p:nvPr/>
          </p:nvSpPr>
          <p:spPr>
            <a:xfrm>
              <a:off x="4522320" y="3153960"/>
              <a:ext cx="77040" cy="792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7"/>
            <p:cNvSpPr/>
            <p:nvPr/>
          </p:nvSpPr>
          <p:spPr>
            <a:xfrm>
              <a:off x="4140360" y="3352680"/>
              <a:ext cx="284040" cy="2815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8"/>
            <p:cNvSpPr/>
            <p:nvPr/>
          </p:nvSpPr>
          <p:spPr>
            <a:xfrm>
              <a:off x="4556160" y="3119400"/>
              <a:ext cx="74520" cy="7668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组合 47"/>
          <p:cNvGrpSpPr/>
          <p:nvPr/>
        </p:nvGrpSpPr>
        <p:grpSpPr>
          <a:xfrm>
            <a:off x="5146560" y="2482920"/>
            <a:ext cx="454320" cy="506520"/>
            <a:chOff x="5146560" y="2482920"/>
            <a:chExt cx="454320" cy="506520"/>
          </a:xfrm>
        </p:grpSpPr>
        <p:sp>
          <p:nvSpPr>
            <p:cNvPr id="578" name="Freeform 108"/>
            <p:cNvSpPr/>
            <p:nvPr/>
          </p:nvSpPr>
          <p:spPr>
            <a:xfrm>
              <a:off x="5224320" y="2670840"/>
              <a:ext cx="64080" cy="65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09"/>
            <p:cNvSpPr/>
            <p:nvPr/>
          </p:nvSpPr>
          <p:spPr>
            <a:xfrm>
              <a:off x="5369040" y="2629080"/>
              <a:ext cx="54720" cy="543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0"/>
            <p:cNvSpPr/>
            <p:nvPr/>
          </p:nvSpPr>
          <p:spPr>
            <a:xfrm>
              <a:off x="5239080" y="2686680"/>
              <a:ext cx="34560" cy="345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11"/>
            <p:cNvSpPr/>
            <p:nvPr/>
          </p:nvSpPr>
          <p:spPr>
            <a:xfrm>
              <a:off x="5341680" y="2601720"/>
              <a:ext cx="109440" cy="1090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12"/>
            <p:cNvSpPr/>
            <p:nvPr/>
          </p:nvSpPr>
          <p:spPr>
            <a:xfrm>
              <a:off x="5146560" y="2482920"/>
              <a:ext cx="454320" cy="50652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组合 53"/>
          <p:cNvGrpSpPr/>
          <p:nvPr/>
        </p:nvGrpSpPr>
        <p:grpSpPr>
          <a:xfrm>
            <a:off x="7645320" y="3200400"/>
            <a:ext cx="449280" cy="507960"/>
            <a:chOff x="7645320" y="3200400"/>
            <a:chExt cx="449280" cy="507960"/>
          </a:xfrm>
        </p:grpSpPr>
        <p:sp>
          <p:nvSpPr>
            <p:cNvPr id="584" name="Freeform 148"/>
            <p:cNvSpPr/>
            <p:nvPr/>
          </p:nvSpPr>
          <p:spPr>
            <a:xfrm>
              <a:off x="7706160" y="3200400"/>
              <a:ext cx="388440" cy="50508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49"/>
            <p:cNvSpPr/>
            <p:nvPr/>
          </p:nvSpPr>
          <p:spPr>
            <a:xfrm>
              <a:off x="7645320" y="3456360"/>
              <a:ext cx="256320" cy="25200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50"/>
            <p:cNvSpPr/>
            <p:nvPr/>
          </p:nvSpPr>
          <p:spPr>
            <a:xfrm>
              <a:off x="7752600" y="3561840"/>
              <a:ext cx="4104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组合 57"/>
          <p:cNvGrpSpPr/>
          <p:nvPr/>
        </p:nvGrpSpPr>
        <p:grpSpPr>
          <a:xfrm>
            <a:off x="6629400" y="2533680"/>
            <a:ext cx="431640" cy="426960"/>
            <a:chOff x="6629400" y="2533680"/>
            <a:chExt cx="431640" cy="426960"/>
          </a:xfrm>
        </p:grpSpPr>
        <p:sp>
          <p:nvSpPr>
            <p:cNvPr id="588" name="Freeform 136"/>
            <p:cNvSpPr/>
            <p:nvPr/>
          </p:nvSpPr>
          <p:spPr>
            <a:xfrm>
              <a:off x="6629400" y="2773080"/>
              <a:ext cx="431640" cy="1875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37"/>
            <p:cNvSpPr/>
            <p:nvPr/>
          </p:nvSpPr>
          <p:spPr>
            <a:xfrm>
              <a:off x="6629400" y="2533680"/>
              <a:ext cx="431640" cy="2480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文本框 69"/>
          <p:cNvSpPr/>
          <p:nvPr/>
        </p:nvSpPr>
        <p:spPr>
          <a:xfrm>
            <a:off x="2111400" y="179388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70"/>
          <p:cNvSpPr/>
          <p:nvPr/>
        </p:nvSpPr>
        <p:spPr>
          <a:xfrm>
            <a:off x="7223040" y="180036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71"/>
          <p:cNvSpPr/>
          <p:nvPr/>
        </p:nvSpPr>
        <p:spPr>
          <a:xfrm>
            <a:off x="8334360" y="263700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72"/>
          <p:cNvSpPr/>
          <p:nvPr/>
        </p:nvSpPr>
        <p:spPr>
          <a:xfrm>
            <a:off x="941400" y="26431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73"/>
          <p:cNvSpPr/>
          <p:nvPr/>
        </p:nvSpPr>
        <p:spPr>
          <a:xfrm>
            <a:off x="3083760" y="50450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74"/>
          <p:cNvSpPr/>
          <p:nvPr/>
        </p:nvSpPr>
        <p:spPr>
          <a:xfrm>
            <a:off x="6176880" y="500220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椭圆 28"/>
          <p:cNvSpPr/>
          <p:nvPr/>
        </p:nvSpPr>
        <p:spPr>
          <a:xfrm>
            <a:off x="2598840" y="3648240"/>
            <a:ext cx="1152360" cy="115236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椭圆 29"/>
          <p:cNvSpPr/>
          <p:nvPr/>
        </p:nvSpPr>
        <p:spPr>
          <a:xfrm>
            <a:off x="8454960" y="3665520"/>
            <a:ext cx="1152720" cy="115092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任意多边形 34"/>
          <p:cNvSpPr/>
          <p:nvPr/>
        </p:nvSpPr>
        <p:spPr>
          <a:xfrm>
            <a:off x="0" y="4791240"/>
            <a:ext cx="3241800" cy="1012680"/>
          </a:xfrm>
          <a:custGeom>
            <a:avLst/>
            <a:gdLst/>
            <a:ahLst/>
            <a:rect l="l" t="t" r="r" b="b"/>
            <a:pathLst>
              <a:path w="3241762" h="1012510">
                <a:moveTo>
                  <a:pt x="3149235" y="0"/>
                </a:moveTo>
                <a:lnTo>
                  <a:pt x="3241762" y="0"/>
                </a:lnTo>
                <a:lnTo>
                  <a:pt x="3241762" y="663958"/>
                </a:lnTo>
                <a:cubicBezTo>
                  <a:pt x="3241762" y="856458"/>
                  <a:pt x="3085710" y="1012510"/>
                  <a:pt x="2893210" y="1012510"/>
                </a:cubicBezTo>
                <a:lnTo>
                  <a:pt x="0" y="1012510"/>
                </a:lnTo>
                <a:lnTo>
                  <a:pt x="0" y="908130"/>
                </a:lnTo>
                <a:lnTo>
                  <a:pt x="2800683" y="908130"/>
                </a:lnTo>
                <a:cubicBezTo>
                  <a:pt x="2993183" y="908130"/>
                  <a:pt x="3149235" y="752078"/>
                  <a:pt x="3149235" y="559578"/>
                </a:cubicBezTo>
                <a:lnTo>
                  <a:pt x="3149235" y="0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任意多边形 37"/>
          <p:cNvSpPr/>
          <p:nvPr/>
        </p:nvSpPr>
        <p:spPr>
          <a:xfrm flipH="1">
            <a:off x="8965440" y="4791240"/>
            <a:ext cx="3243240" cy="1012680"/>
          </a:xfrm>
          <a:custGeom>
            <a:avLst/>
            <a:gdLst/>
            <a:ahLst/>
            <a:rect l="l" t="t" r="r" b="b"/>
            <a:pathLst>
              <a:path w="3242703" h="1012510">
                <a:moveTo>
                  <a:pt x="3242703" y="0"/>
                </a:moveTo>
                <a:lnTo>
                  <a:pt x="3150176" y="0"/>
                </a:lnTo>
                <a:lnTo>
                  <a:pt x="3150176" y="559578"/>
                </a:lnTo>
                <a:cubicBezTo>
                  <a:pt x="3150176" y="752078"/>
                  <a:pt x="2994124" y="908130"/>
                  <a:pt x="2801624" y="908130"/>
                </a:cubicBezTo>
                <a:lnTo>
                  <a:pt x="0" y="908130"/>
                </a:lnTo>
                <a:lnTo>
                  <a:pt x="0" y="1012510"/>
                </a:lnTo>
                <a:lnTo>
                  <a:pt x="2894151" y="1012510"/>
                </a:lnTo>
                <a:cubicBezTo>
                  <a:pt x="3086651" y="1012510"/>
                  <a:pt x="3242703" y="856458"/>
                  <a:pt x="3242703" y="663958"/>
                </a:cubicBezTo>
                <a:lnTo>
                  <a:pt x="3242703" y="0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组合 60"/>
          <p:cNvGrpSpPr/>
          <p:nvPr/>
        </p:nvGrpSpPr>
        <p:grpSpPr>
          <a:xfrm>
            <a:off x="8854920" y="3987720"/>
            <a:ext cx="451080" cy="486000"/>
            <a:chOff x="8854920" y="3987720"/>
            <a:chExt cx="451080" cy="486000"/>
          </a:xfrm>
        </p:grpSpPr>
        <p:sp>
          <p:nvSpPr>
            <p:cNvPr id="601" name="Freeform 154"/>
            <p:cNvSpPr/>
            <p:nvPr/>
          </p:nvSpPr>
          <p:spPr>
            <a:xfrm>
              <a:off x="8991360" y="4400640"/>
              <a:ext cx="48600" cy="4500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155"/>
            <p:cNvSpPr/>
            <p:nvPr/>
          </p:nvSpPr>
          <p:spPr>
            <a:xfrm>
              <a:off x="9010440" y="4394160"/>
              <a:ext cx="900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56"/>
            <p:cNvSpPr/>
            <p:nvPr/>
          </p:nvSpPr>
          <p:spPr>
            <a:xfrm>
              <a:off x="8892720" y="4066200"/>
              <a:ext cx="252360" cy="25236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57"/>
            <p:cNvSpPr/>
            <p:nvPr/>
          </p:nvSpPr>
          <p:spPr>
            <a:xfrm>
              <a:off x="8854920" y="3987720"/>
              <a:ext cx="327240" cy="4860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58"/>
            <p:cNvSpPr/>
            <p:nvPr/>
          </p:nvSpPr>
          <p:spPr>
            <a:xfrm>
              <a:off x="9121680" y="4183920"/>
              <a:ext cx="184320" cy="18468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组合 66"/>
          <p:cNvGrpSpPr/>
          <p:nvPr/>
        </p:nvGrpSpPr>
        <p:grpSpPr>
          <a:xfrm>
            <a:off x="2919240" y="3948120"/>
            <a:ext cx="500400" cy="480960"/>
            <a:chOff x="2919240" y="3948120"/>
            <a:chExt cx="500400" cy="480960"/>
          </a:xfrm>
        </p:grpSpPr>
        <p:sp>
          <p:nvSpPr>
            <p:cNvPr id="607" name="Oval 131"/>
            <p:cNvSpPr/>
            <p:nvPr/>
          </p:nvSpPr>
          <p:spPr>
            <a:xfrm>
              <a:off x="3056760" y="3948120"/>
              <a:ext cx="225000" cy="227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34"/>
            <p:cNvSpPr/>
            <p:nvPr/>
          </p:nvSpPr>
          <p:spPr>
            <a:xfrm>
              <a:off x="2919240" y="4211640"/>
              <a:ext cx="500400" cy="217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任意多边形 33"/>
          <p:cNvSpPr/>
          <p:nvPr/>
        </p:nvSpPr>
        <p:spPr>
          <a:xfrm flipH="1" rot="1800000">
            <a:off x="6377760" y="1072800"/>
            <a:ext cx="1635120" cy="6645240"/>
          </a:xfrm>
          <a:custGeom>
            <a:avLst/>
            <a:gdLst/>
            <a:ahLst/>
            <a:rect l="l" t="t" r="r" b="b"/>
            <a:pathLst>
              <a:path w="1170373" h="4753805">
                <a:moveTo>
                  <a:pt x="1170373" y="675715"/>
                </a:moveTo>
                <a:lnTo>
                  <a:pt x="0" y="0"/>
                </a:lnTo>
                <a:lnTo>
                  <a:pt x="0" y="4078090"/>
                </a:lnTo>
                <a:lnTo>
                  <a:pt x="1170373" y="4753805"/>
                </a:lnTo>
                <a:lnTo>
                  <a:pt x="1170373" y="675715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27"/>
          <p:cNvSpPr/>
          <p:nvPr/>
        </p:nvSpPr>
        <p:spPr>
          <a:xfrm flipH="1" rot="1800000">
            <a:off x="3376440" y="-1112760"/>
            <a:ext cx="2027520" cy="9090000"/>
          </a:xfrm>
          <a:custGeom>
            <a:avLst/>
            <a:gdLst/>
            <a:ahLst/>
            <a:rect l="l" t="t" r="r" b="b"/>
            <a:pathLst>
              <a:path w="2026880" h="9089156">
                <a:moveTo>
                  <a:pt x="0" y="0"/>
                </a:moveTo>
                <a:lnTo>
                  <a:pt x="2026880" y="1170220"/>
                </a:lnTo>
                <a:lnTo>
                  <a:pt x="2026880" y="9089156"/>
                </a:lnTo>
                <a:lnTo>
                  <a:pt x="0" y="7918936"/>
                </a:lnTo>
                <a:lnTo>
                  <a:pt x="0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29"/>
          <p:cNvSpPr/>
          <p:nvPr/>
        </p:nvSpPr>
        <p:spPr>
          <a:xfrm flipH="1" rot="1800000">
            <a:off x="7461000" y="2287440"/>
            <a:ext cx="1170000" cy="5214960"/>
          </a:xfrm>
          <a:custGeom>
            <a:avLst/>
            <a:gdLst/>
            <a:ahLst/>
            <a:rect l="l" t="t" r="r" b="b"/>
            <a:pathLst>
              <a:path w="1170373" h="5214450">
                <a:moveTo>
                  <a:pt x="1170373" y="675715"/>
                </a:moveTo>
                <a:lnTo>
                  <a:pt x="0" y="0"/>
                </a:lnTo>
                <a:lnTo>
                  <a:pt x="0" y="4538735"/>
                </a:lnTo>
                <a:lnTo>
                  <a:pt x="1170373" y="5214450"/>
                </a:lnTo>
                <a:lnTo>
                  <a:pt x="1170373" y="675715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31"/>
          <p:cNvSpPr/>
          <p:nvPr/>
        </p:nvSpPr>
        <p:spPr>
          <a:xfrm flipH="1" rot="1800000">
            <a:off x="5166360" y="-1112040"/>
            <a:ext cx="2027160" cy="9090000"/>
          </a:xfrm>
          <a:custGeom>
            <a:avLst/>
            <a:gdLst/>
            <a:ahLst/>
            <a:rect l="l" t="t" r="r" b="b"/>
            <a:pathLst>
              <a:path w="2026880" h="9089156">
                <a:moveTo>
                  <a:pt x="0" y="0"/>
                </a:moveTo>
                <a:lnTo>
                  <a:pt x="2026880" y="1170220"/>
                </a:lnTo>
                <a:lnTo>
                  <a:pt x="2026880" y="9089156"/>
                </a:lnTo>
                <a:lnTo>
                  <a:pt x="0" y="7918936"/>
                </a:lnTo>
                <a:lnTo>
                  <a:pt x="0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25"/>
          <p:cNvSpPr/>
          <p:nvPr/>
        </p:nvSpPr>
        <p:spPr>
          <a:xfrm flipH="1" rot="1800000">
            <a:off x="1645920" y="3312720"/>
            <a:ext cx="1170000" cy="4100400"/>
          </a:xfrm>
          <a:custGeom>
            <a:avLst/>
            <a:gdLst/>
            <a:ahLst/>
            <a:rect l="l" t="t" r="r" b="b"/>
            <a:pathLst>
              <a:path w="1170373" h="4101661">
                <a:moveTo>
                  <a:pt x="1170373" y="675715"/>
                </a:moveTo>
                <a:lnTo>
                  <a:pt x="0" y="0"/>
                </a:lnTo>
                <a:lnTo>
                  <a:pt x="0" y="3425946"/>
                </a:lnTo>
                <a:lnTo>
                  <a:pt x="1170373" y="4101661"/>
                </a:lnTo>
                <a:lnTo>
                  <a:pt x="1170373" y="675715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34"/>
          <p:cNvSpPr/>
          <p:nvPr/>
        </p:nvSpPr>
        <p:spPr>
          <a:xfrm>
            <a:off x="3216960" y="2955960"/>
            <a:ext cx="603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ANK    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22"/>
          <p:cNvSpPr/>
          <p:nvPr/>
        </p:nvSpPr>
        <p:spPr>
          <a:xfrm>
            <a:off x="0" y="969840"/>
            <a:ext cx="1328760" cy="4059360"/>
          </a:xfrm>
          <a:prstGeom prst="rect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平行四边形 17"/>
          <p:cNvSpPr/>
          <p:nvPr/>
        </p:nvSpPr>
        <p:spPr>
          <a:xfrm flipH="1">
            <a:off x="1644480" y="4264200"/>
            <a:ext cx="4835520" cy="2593800"/>
          </a:xfrm>
          <a:prstGeom prst="parallelogram">
            <a:avLst>
              <a:gd name="adj" fmla="val 56359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16"/>
          <p:cNvSpPr/>
          <p:nvPr/>
        </p:nvSpPr>
        <p:spPr>
          <a:xfrm>
            <a:off x="0" y="0"/>
            <a:ext cx="8834400" cy="6858000"/>
          </a:xfrm>
          <a:custGeom>
            <a:avLst/>
            <a:gdLst/>
            <a:ahLst/>
            <a:rect l="l" t="t" r="r" b="b"/>
            <a:pathLst>
              <a:path w="8834718" h="6858000">
                <a:moveTo>
                  <a:pt x="2682171" y="0"/>
                </a:moveTo>
                <a:lnTo>
                  <a:pt x="8834718" y="0"/>
                </a:lnTo>
                <a:lnTo>
                  <a:pt x="4969206" y="6858000"/>
                </a:lnTo>
                <a:lnTo>
                  <a:pt x="0" y="6858000"/>
                </a:lnTo>
                <a:lnTo>
                  <a:pt x="0" y="4758575"/>
                </a:lnTo>
                <a:lnTo>
                  <a:pt x="2682171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平行四边形 18"/>
          <p:cNvSpPr/>
          <p:nvPr/>
        </p:nvSpPr>
        <p:spPr>
          <a:xfrm>
            <a:off x="644400" y="0"/>
            <a:ext cx="3462480" cy="2593800"/>
          </a:xfrm>
          <a:prstGeom prst="parallelogram">
            <a:avLst>
              <a:gd name="adj" fmla="val 56356"/>
            </a:avLst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平行四边形 19"/>
          <p:cNvSpPr/>
          <p:nvPr/>
        </p:nvSpPr>
        <p:spPr>
          <a:xfrm>
            <a:off x="0" y="353880"/>
            <a:ext cx="2379600" cy="2592360"/>
          </a:xfrm>
          <a:prstGeom prst="parallelogram">
            <a:avLst>
              <a:gd name="adj" fmla="val 56361"/>
            </a:avLst>
          </a:prstGeom>
          <a:solidFill>
            <a:srgbClr val="d6d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21"/>
          <p:cNvSpPr/>
          <p:nvPr/>
        </p:nvSpPr>
        <p:spPr>
          <a:xfrm flipH="1">
            <a:off x="0" y="0"/>
            <a:ext cx="4424400" cy="2946240"/>
          </a:xfrm>
          <a:custGeom>
            <a:avLst/>
            <a:gdLst/>
            <a:ahLst/>
            <a:rect l="l" t="t" r="r" b="b"/>
            <a:pathLst>
              <a:path w="4424081" h="2946082">
                <a:moveTo>
                  <a:pt x="4424081" y="0"/>
                </a:moveTo>
                <a:lnTo>
                  <a:pt x="1660559" y="0"/>
                </a:lnTo>
                <a:lnTo>
                  <a:pt x="0" y="2946082"/>
                </a:lnTo>
                <a:lnTo>
                  <a:pt x="3382087" y="2946082"/>
                </a:lnTo>
                <a:lnTo>
                  <a:pt x="4424081" y="1097428"/>
                </a:lnTo>
                <a:lnTo>
                  <a:pt x="4424081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3"/>
          <p:cNvSpPr/>
          <p:nvPr/>
        </p:nvSpPr>
        <p:spPr>
          <a:xfrm>
            <a:off x="1094760" y="5745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4"/>
          <p:cNvSpPr/>
          <p:nvPr/>
        </p:nvSpPr>
        <p:spPr>
          <a:xfrm>
            <a:off x="7085160" y="37609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5"/>
          <p:cNvSpPr/>
          <p:nvPr/>
        </p:nvSpPr>
        <p:spPr>
          <a:xfrm>
            <a:off x="6665040" y="414648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平行四边形 30"/>
          <p:cNvSpPr/>
          <p:nvPr/>
        </p:nvSpPr>
        <p:spPr>
          <a:xfrm flipH="1" rot="3819600">
            <a:off x="3643200" y="2646360"/>
            <a:ext cx="3463920" cy="2593800"/>
          </a:xfrm>
          <a:prstGeom prst="parallelogram">
            <a:avLst>
              <a:gd name="adj" fmla="val 5638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平行四边形 29"/>
          <p:cNvSpPr/>
          <p:nvPr/>
        </p:nvSpPr>
        <p:spPr>
          <a:xfrm flipH="1">
            <a:off x="2898000" y="2954160"/>
            <a:ext cx="3460680" cy="2594160"/>
          </a:xfrm>
          <a:prstGeom prst="parallelogram">
            <a:avLst>
              <a:gd name="adj" fmla="val 56319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8"/>
          <p:cNvSpPr/>
          <p:nvPr/>
        </p:nvSpPr>
        <p:spPr>
          <a:xfrm>
            <a:off x="-15840" y="-15840"/>
            <a:ext cx="5057640" cy="1200240"/>
          </a:xfrm>
          <a:prstGeom prst="rect">
            <a:avLst/>
          </a:prstGeom>
          <a:solidFill>
            <a:srgbClr val="d6d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角三角形 2"/>
          <p:cNvSpPr/>
          <p:nvPr/>
        </p:nvSpPr>
        <p:spPr>
          <a:xfrm>
            <a:off x="-15840" y="1587600"/>
            <a:ext cx="2857320" cy="5054400"/>
          </a:xfrm>
          <a:prstGeom prst="rtTriangle">
            <a:avLst/>
          </a:prstGeom>
          <a:solidFill>
            <a:srgbClr val="d6d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平行四边形 18"/>
          <p:cNvSpPr/>
          <p:nvPr/>
        </p:nvSpPr>
        <p:spPr>
          <a:xfrm flipH="1">
            <a:off x="2898000" y="-7920"/>
            <a:ext cx="3460680" cy="2593800"/>
          </a:xfrm>
          <a:prstGeom prst="parallelogram">
            <a:avLst>
              <a:gd name="adj" fmla="val 56327"/>
            </a:avLst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27"/>
          <p:cNvSpPr/>
          <p:nvPr/>
        </p:nvSpPr>
        <p:spPr>
          <a:xfrm flipH="1">
            <a:off x="-16560" y="1082520"/>
            <a:ext cx="5753160" cy="3262320"/>
          </a:xfrm>
          <a:custGeom>
            <a:avLst/>
            <a:gdLst/>
            <a:ahLst/>
            <a:rect l="l" t="t" r="r" b="b"/>
            <a:pathLst>
              <a:path w="5752284" h="3261887">
                <a:moveTo>
                  <a:pt x="5752284" y="0"/>
                </a:moveTo>
                <a:lnTo>
                  <a:pt x="1838563" y="0"/>
                </a:lnTo>
                <a:lnTo>
                  <a:pt x="0" y="3261887"/>
                </a:lnTo>
                <a:lnTo>
                  <a:pt x="4243005" y="3261887"/>
                </a:lnTo>
                <a:lnTo>
                  <a:pt x="5752284" y="584199"/>
                </a:lnTo>
                <a:lnTo>
                  <a:pt x="5752284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20"/>
          <p:cNvSpPr/>
          <p:nvPr/>
        </p:nvSpPr>
        <p:spPr>
          <a:xfrm>
            <a:off x="365040" y="-7920"/>
            <a:ext cx="8836200" cy="5560920"/>
          </a:xfrm>
          <a:custGeom>
            <a:avLst/>
            <a:gdLst/>
            <a:ahLst/>
            <a:rect l="l" t="t" r="r" b="b"/>
            <a:pathLst>
              <a:path w="8834718" h="5561423">
                <a:moveTo>
                  <a:pt x="3926874" y="0"/>
                </a:moveTo>
                <a:lnTo>
                  <a:pt x="8834718" y="0"/>
                </a:lnTo>
                <a:lnTo>
                  <a:pt x="4969206" y="5561423"/>
                </a:lnTo>
                <a:lnTo>
                  <a:pt x="0" y="5561423"/>
                </a:lnTo>
                <a:lnTo>
                  <a:pt x="0" y="5561422"/>
                </a:lnTo>
                <a:lnTo>
                  <a:pt x="61363" y="5561422"/>
                </a:lnTo>
                <a:lnTo>
                  <a:pt x="3926874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4"/>
          <p:cNvSpPr/>
          <p:nvPr/>
        </p:nvSpPr>
        <p:spPr>
          <a:xfrm>
            <a:off x="7083360" y="32511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5"/>
          <p:cNvSpPr/>
          <p:nvPr/>
        </p:nvSpPr>
        <p:spPr>
          <a:xfrm>
            <a:off x="6663960" y="363708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1"/>
          <p:cNvSpPr/>
          <p:nvPr/>
        </p:nvSpPr>
        <p:spPr>
          <a:xfrm>
            <a:off x="-87840" y="1386000"/>
            <a:ext cx="30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方正姚体"/>
              </a:rPr>
              <a:t>ABOUT  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79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83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任意多边形 33"/>
          <p:cNvSpPr/>
          <p:nvPr/>
        </p:nvSpPr>
        <p:spPr>
          <a:xfrm rot="10800000">
            <a:off x="1762200" y="2460240"/>
            <a:ext cx="2448000" cy="2647800"/>
          </a:xfrm>
          <a:custGeom>
            <a:avLst/>
            <a:gdLst/>
            <a:ahLst/>
            <a:rect l="l" t="t" r="r" b="b"/>
            <a:pathLst>
              <a:path w="2836097" h="3067706">
                <a:moveTo>
                  <a:pt x="2682494" y="3067706"/>
                </a:moveTo>
                <a:lnTo>
                  <a:pt x="876045" y="3067706"/>
                </a:lnTo>
                <a:lnTo>
                  <a:pt x="0" y="1533853"/>
                </a:lnTo>
                <a:lnTo>
                  <a:pt x="876045" y="0"/>
                </a:lnTo>
                <a:lnTo>
                  <a:pt x="2682494" y="0"/>
                </a:lnTo>
                <a:lnTo>
                  <a:pt x="2836097" y="268941"/>
                </a:lnTo>
                <a:lnTo>
                  <a:pt x="1473384" y="268941"/>
                </a:lnTo>
                <a:lnTo>
                  <a:pt x="747356" y="1540132"/>
                </a:lnTo>
                <a:lnTo>
                  <a:pt x="1473384" y="2811322"/>
                </a:lnTo>
                <a:lnTo>
                  <a:pt x="2828925" y="2811322"/>
                </a:lnTo>
                <a:lnTo>
                  <a:pt x="2682494" y="3067706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34"/>
          <p:cNvSpPr/>
          <p:nvPr/>
        </p:nvSpPr>
        <p:spPr>
          <a:xfrm rot="10800000">
            <a:off x="5283360" y="2460240"/>
            <a:ext cx="2449440" cy="2647800"/>
          </a:xfrm>
          <a:custGeom>
            <a:avLst/>
            <a:gdLst/>
            <a:ahLst/>
            <a:rect l="l" t="t" r="r" b="b"/>
            <a:pathLst>
              <a:path w="2836097" h="3067706">
                <a:moveTo>
                  <a:pt x="2682494" y="3067706"/>
                </a:moveTo>
                <a:lnTo>
                  <a:pt x="876045" y="3067706"/>
                </a:lnTo>
                <a:lnTo>
                  <a:pt x="0" y="1533853"/>
                </a:lnTo>
                <a:lnTo>
                  <a:pt x="876045" y="0"/>
                </a:lnTo>
                <a:lnTo>
                  <a:pt x="2682494" y="0"/>
                </a:lnTo>
                <a:lnTo>
                  <a:pt x="2836097" y="268941"/>
                </a:lnTo>
                <a:lnTo>
                  <a:pt x="1473384" y="268941"/>
                </a:lnTo>
                <a:lnTo>
                  <a:pt x="747356" y="1540132"/>
                </a:lnTo>
                <a:lnTo>
                  <a:pt x="1473384" y="2811322"/>
                </a:lnTo>
                <a:lnTo>
                  <a:pt x="2828925" y="2811322"/>
                </a:lnTo>
                <a:lnTo>
                  <a:pt x="2682494" y="3067706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35"/>
          <p:cNvSpPr/>
          <p:nvPr/>
        </p:nvSpPr>
        <p:spPr>
          <a:xfrm rot="10800000">
            <a:off x="8805960" y="2460240"/>
            <a:ext cx="2449440" cy="2647800"/>
          </a:xfrm>
          <a:custGeom>
            <a:avLst/>
            <a:gdLst/>
            <a:ahLst/>
            <a:rect l="l" t="t" r="r" b="b"/>
            <a:pathLst>
              <a:path w="2836097" h="3067706">
                <a:moveTo>
                  <a:pt x="2682494" y="3067706"/>
                </a:moveTo>
                <a:lnTo>
                  <a:pt x="876045" y="3067706"/>
                </a:lnTo>
                <a:lnTo>
                  <a:pt x="0" y="1533853"/>
                </a:lnTo>
                <a:lnTo>
                  <a:pt x="876045" y="0"/>
                </a:lnTo>
                <a:lnTo>
                  <a:pt x="2682494" y="0"/>
                </a:lnTo>
                <a:lnTo>
                  <a:pt x="2836097" y="268941"/>
                </a:lnTo>
                <a:lnTo>
                  <a:pt x="1473384" y="268941"/>
                </a:lnTo>
                <a:lnTo>
                  <a:pt x="747356" y="1540132"/>
                </a:lnTo>
                <a:lnTo>
                  <a:pt x="1473384" y="2811322"/>
                </a:lnTo>
                <a:lnTo>
                  <a:pt x="2828925" y="2811322"/>
                </a:lnTo>
                <a:lnTo>
                  <a:pt x="2682494" y="3067706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6"/>
          <p:cNvSpPr/>
          <p:nvPr/>
        </p:nvSpPr>
        <p:spPr>
          <a:xfrm>
            <a:off x="3511800" y="34862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7"/>
          <p:cNvSpPr/>
          <p:nvPr/>
        </p:nvSpPr>
        <p:spPr>
          <a:xfrm>
            <a:off x="7037280" y="34862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e40"/>
                </a:solidFill>
                <a:latin typeface="Impact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8"/>
          <p:cNvSpPr/>
          <p:nvPr/>
        </p:nvSpPr>
        <p:spPr>
          <a:xfrm>
            <a:off x="10576440" y="35020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39"/>
          <p:cNvSpPr/>
          <p:nvPr/>
        </p:nvSpPr>
        <p:spPr>
          <a:xfrm>
            <a:off x="1063080" y="3301920"/>
            <a:ext cx="25063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40"/>
          <p:cNvSpPr/>
          <p:nvPr/>
        </p:nvSpPr>
        <p:spPr>
          <a:xfrm>
            <a:off x="4586400" y="3301920"/>
            <a:ext cx="25063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41"/>
          <p:cNvSpPr/>
          <p:nvPr/>
        </p:nvSpPr>
        <p:spPr>
          <a:xfrm>
            <a:off x="8120160" y="3314880"/>
            <a:ext cx="25063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97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101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4"/>
          <p:cNvGrpSpPr/>
          <p:nvPr/>
        </p:nvGrpSpPr>
        <p:grpSpPr>
          <a:xfrm>
            <a:off x="3048120" y="2725560"/>
            <a:ext cx="3387600" cy="1994040"/>
            <a:chOff x="3048120" y="2725560"/>
            <a:chExt cx="3387600" cy="1994040"/>
          </a:xfrm>
        </p:grpSpPr>
        <p:sp>
          <p:nvSpPr>
            <p:cNvPr id="105" name="矩形 17"/>
            <p:cNvSpPr/>
            <p:nvPr/>
          </p:nvSpPr>
          <p:spPr>
            <a:xfrm>
              <a:off x="3048120" y="2725560"/>
              <a:ext cx="3047760" cy="199404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等腰三角形 19"/>
            <p:cNvSpPr/>
            <p:nvPr/>
          </p:nvSpPr>
          <p:spPr>
            <a:xfrm rot="5400000">
              <a:off x="6006960" y="3110400"/>
              <a:ext cx="504000" cy="353520"/>
            </a:xfrm>
            <a:prstGeom prst="triangle">
              <a:avLst>
                <a:gd name="adj" fmla="val 50000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20"/>
          <p:cNvGrpSpPr/>
          <p:nvPr/>
        </p:nvGrpSpPr>
        <p:grpSpPr>
          <a:xfrm>
            <a:off x="0" y="2725560"/>
            <a:ext cx="3398760" cy="1994040"/>
            <a:chOff x="0" y="2725560"/>
            <a:chExt cx="3398760" cy="1994040"/>
          </a:xfrm>
        </p:grpSpPr>
        <p:sp>
          <p:nvSpPr>
            <p:cNvPr id="108" name="矩形 21"/>
            <p:cNvSpPr/>
            <p:nvPr/>
          </p:nvSpPr>
          <p:spPr>
            <a:xfrm>
              <a:off x="0" y="2725560"/>
              <a:ext cx="3047760" cy="1994040"/>
            </a:xfrm>
            <a:prstGeom prst="rect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等腰三角形 25"/>
            <p:cNvSpPr/>
            <p:nvPr/>
          </p:nvSpPr>
          <p:spPr>
            <a:xfrm rot="5400000">
              <a:off x="2970000" y="3967920"/>
              <a:ext cx="504000" cy="353520"/>
            </a:xfrm>
            <a:prstGeom prst="triangle">
              <a:avLst>
                <a:gd name="adj" fmla="val 50000"/>
              </a:avLst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27"/>
          <p:cNvSpPr/>
          <p:nvPr/>
        </p:nvSpPr>
        <p:spPr>
          <a:xfrm>
            <a:off x="9144000" y="2725560"/>
            <a:ext cx="3048120" cy="1994040"/>
          </a:xfrm>
          <a:prstGeom prst="rect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28"/>
          <p:cNvSpPr/>
          <p:nvPr/>
        </p:nvSpPr>
        <p:spPr>
          <a:xfrm>
            <a:off x="947880" y="2135160"/>
            <a:ext cx="1152360" cy="1152720"/>
          </a:xfrm>
          <a:prstGeom prst="ellipse">
            <a:avLst/>
          </a:prstGeom>
          <a:solidFill>
            <a:srgbClr val="fafafb"/>
          </a:solidFill>
          <a:ln w="38160">
            <a:solidFill>
              <a:srgbClr val="2027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9"/>
          <p:cNvGrpSpPr/>
          <p:nvPr/>
        </p:nvGrpSpPr>
        <p:grpSpPr>
          <a:xfrm>
            <a:off x="6095880" y="2725560"/>
            <a:ext cx="3402000" cy="1994040"/>
            <a:chOff x="6095880" y="2725560"/>
            <a:chExt cx="3402000" cy="1994040"/>
          </a:xfrm>
        </p:grpSpPr>
        <p:sp>
          <p:nvSpPr>
            <p:cNvPr id="113" name="矩形 30"/>
            <p:cNvSpPr/>
            <p:nvPr/>
          </p:nvSpPr>
          <p:spPr>
            <a:xfrm>
              <a:off x="6095880" y="2725560"/>
              <a:ext cx="3048480" cy="1994040"/>
            </a:xfrm>
            <a:prstGeom prst="rect">
              <a:avLst/>
            </a:pr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等腰三角形 31"/>
            <p:cNvSpPr/>
            <p:nvPr/>
          </p:nvSpPr>
          <p:spPr>
            <a:xfrm rot="5400000">
              <a:off x="9069120" y="3967920"/>
              <a:ext cx="504000" cy="353520"/>
            </a:xfrm>
            <a:prstGeom prst="triangle">
              <a:avLst>
                <a:gd name="adj" fmla="val 50000"/>
              </a:avLst>
            </a:pr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椭圆 33"/>
          <p:cNvSpPr/>
          <p:nvPr/>
        </p:nvSpPr>
        <p:spPr>
          <a:xfrm>
            <a:off x="7043760" y="2149560"/>
            <a:ext cx="1152360" cy="1152360"/>
          </a:xfrm>
          <a:prstGeom prst="ellipse">
            <a:avLst/>
          </a:prstGeom>
          <a:solidFill>
            <a:srgbClr val="fafafb"/>
          </a:solidFill>
          <a:ln w="38160">
            <a:solidFill>
              <a:srgbClr val="a6afb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34"/>
          <p:cNvSpPr/>
          <p:nvPr/>
        </p:nvSpPr>
        <p:spPr>
          <a:xfrm>
            <a:off x="3984480" y="4143240"/>
            <a:ext cx="1152720" cy="1150920"/>
          </a:xfrm>
          <a:prstGeom prst="ellipse">
            <a:avLst/>
          </a:prstGeom>
          <a:solidFill>
            <a:srgbClr val="fafafb"/>
          </a:solidFill>
          <a:ln w="41400">
            <a:solidFill>
              <a:srgbClr val="00a1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35"/>
          <p:cNvSpPr/>
          <p:nvPr/>
        </p:nvSpPr>
        <p:spPr>
          <a:xfrm>
            <a:off x="10102680" y="4143240"/>
            <a:ext cx="1152720" cy="1152720"/>
          </a:xfrm>
          <a:prstGeom prst="ellipse">
            <a:avLst/>
          </a:prstGeom>
          <a:solidFill>
            <a:srgbClr val="fafafb"/>
          </a:solidFill>
          <a:ln w="41400">
            <a:solidFill>
              <a:srgbClr val="3f3e4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6"/>
          <p:cNvGrpSpPr/>
          <p:nvPr/>
        </p:nvGrpSpPr>
        <p:grpSpPr>
          <a:xfrm>
            <a:off x="4330800" y="4394160"/>
            <a:ext cx="573120" cy="600120"/>
            <a:chOff x="4330800" y="4394160"/>
            <a:chExt cx="573120" cy="600120"/>
          </a:xfrm>
        </p:grpSpPr>
        <p:sp>
          <p:nvSpPr>
            <p:cNvPr id="119" name="Freeform 11"/>
            <p:cNvSpPr/>
            <p:nvPr/>
          </p:nvSpPr>
          <p:spPr>
            <a:xfrm>
              <a:off x="4499280" y="4710600"/>
              <a:ext cx="114120" cy="1130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4330800" y="4542120"/>
              <a:ext cx="452880" cy="4521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4555800" y="4679280"/>
              <a:ext cx="85320" cy="878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4610160" y="4508280"/>
              <a:ext cx="185400" cy="195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4764240" y="4465080"/>
              <a:ext cx="73440" cy="7668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4795560" y="4428720"/>
              <a:ext cx="77040" cy="792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4413600" y="4627440"/>
              <a:ext cx="284040" cy="2815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4829400" y="4394160"/>
              <a:ext cx="74520" cy="7668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45"/>
          <p:cNvGrpSpPr/>
          <p:nvPr/>
        </p:nvGrpSpPr>
        <p:grpSpPr>
          <a:xfrm>
            <a:off x="1306440" y="2457360"/>
            <a:ext cx="452520" cy="507960"/>
            <a:chOff x="1306440" y="2457360"/>
            <a:chExt cx="452520" cy="507960"/>
          </a:xfrm>
        </p:grpSpPr>
        <p:sp>
          <p:nvSpPr>
            <p:cNvPr id="128" name="Freeform 108"/>
            <p:cNvSpPr/>
            <p:nvPr/>
          </p:nvSpPr>
          <p:spPr>
            <a:xfrm>
              <a:off x="1383840" y="2646000"/>
              <a:ext cx="64080" cy="65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9"/>
            <p:cNvSpPr/>
            <p:nvPr/>
          </p:nvSpPr>
          <p:spPr>
            <a:xfrm>
              <a:off x="1527840" y="2603880"/>
              <a:ext cx="54360" cy="547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10"/>
            <p:cNvSpPr/>
            <p:nvPr/>
          </p:nvSpPr>
          <p:spPr>
            <a:xfrm>
              <a:off x="1398600" y="2661840"/>
              <a:ext cx="34560" cy="345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11"/>
            <p:cNvSpPr/>
            <p:nvPr/>
          </p:nvSpPr>
          <p:spPr>
            <a:xfrm>
              <a:off x="1500480" y="2576520"/>
              <a:ext cx="109080" cy="109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2"/>
            <p:cNvSpPr/>
            <p:nvPr/>
          </p:nvSpPr>
          <p:spPr>
            <a:xfrm>
              <a:off x="1306440" y="2457360"/>
              <a:ext cx="452520" cy="5079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51"/>
          <p:cNvGrpSpPr/>
          <p:nvPr/>
        </p:nvGrpSpPr>
        <p:grpSpPr>
          <a:xfrm>
            <a:off x="7412040" y="2496960"/>
            <a:ext cx="431640" cy="428760"/>
            <a:chOff x="7412040" y="2496960"/>
            <a:chExt cx="431640" cy="428760"/>
          </a:xfrm>
        </p:grpSpPr>
        <p:sp>
          <p:nvSpPr>
            <p:cNvPr id="134" name="Freeform 136"/>
            <p:cNvSpPr/>
            <p:nvPr/>
          </p:nvSpPr>
          <p:spPr>
            <a:xfrm>
              <a:off x="7412040" y="2737440"/>
              <a:ext cx="431640" cy="1882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7412040" y="2496960"/>
              <a:ext cx="431640" cy="2491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54"/>
          <p:cNvGrpSpPr/>
          <p:nvPr/>
        </p:nvGrpSpPr>
        <p:grpSpPr>
          <a:xfrm>
            <a:off x="10506240" y="4476600"/>
            <a:ext cx="450720" cy="484200"/>
            <a:chOff x="10506240" y="4476600"/>
            <a:chExt cx="450720" cy="484200"/>
          </a:xfrm>
        </p:grpSpPr>
        <p:sp>
          <p:nvSpPr>
            <p:cNvPr id="137" name="Freeform 154"/>
            <p:cNvSpPr/>
            <p:nvPr/>
          </p:nvSpPr>
          <p:spPr>
            <a:xfrm>
              <a:off x="10642680" y="4887720"/>
              <a:ext cx="48600" cy="4500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55"/>
            <p:cNvSpPr/>
            <p:nvPr/>
          </p:nvSpPr>
          <p:spPr>
            <a:xfrm>
              <a:off x="10661400" y="4881600"/>
              <a:ext cx="9000" cy="31320"/>
            </a:xfrm>
            <a:prstGeom prst="rect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56"/>
            <p:cNvSpPr/>
            <p:nvPr/>
          </p:nvSpPr>
          <p:spPr>
            <a:xfrm>
              <a:off x="10544040" y="4555080"/>
              <a:ext cx="252000" cy="2516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57"/>
            <p:cNvSpPr/>
            <p:nvPr/>
          </p:nvSpPr>
          <p:spPr>
            <a:xfrm>
              <a:off x="10506240" y="4476600"/>
              <a:ext cx="326880" cy="484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8"/>
            <p:cNvSpPr/>
            <p:nvPr/>
          </p:nvSpPr>
          <p:spPr>
            <a:xfrm>
              <a:off x="10772640" y="4672080"/>
              <a:ext cx="184320" cy="1839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文本框 60"/>
          <p:cNvSpPr/>
          <p:nvPr/>
        </p:nvSpPr>
        <p:spPr>
          <a:xfrm>
            <a:off x="-92880" y="34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61"/>
          <p:cNvSpPr/>
          <p:nvPr/>
        </p:nvSpPr>
        <p:spPr>
          <a:xfrm>
            <a:off x="2955240" y="29354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62"/>
          <p:cNvSpPr/>
          <p:nvPr/>
        </p:nvSpPr>
        <p:spPr>
          <a:xfrm>
            <a:off x="6061680" y="3433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63"/>
          <p:cNvSpPr/>
          <p:nvPr/>
        </p:nvSpPr>
        <p:spPr>
          <a:xfrm>
            <a:off x="9065520" y="29433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148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152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21"/>
          <p:cNvSpPr/>
          <p:nvPr/>
        </p:nvSpPr>
        <p:spPr>
          <a:xfrm>
            <a:off x="1393920" y="2106720"/>
            <a:ext cx="1939680" cy="1938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5"/>
          <p:cNvSpPr/>
          <p:nvPr/>
        </p:nvSpPr>
        <p:spPr>
          <a:xfrm>
            <a:off x="3424320" y="2106720"/>
            <a:ext cx="1939680" cy="1938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7"/>
          <p:cNvSpPr/>
          <p:nvPr/>
        </p:nvSpPr>
        <p:spPr>
          <a:xfrm>
            <a:off x="1393920" y="4151160"/>
            <a:ext cx="1939680" cy="1940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8"/>
          <p:cNvSpPr/>
          <p:nvPr/>
        </p:nvSpPr>
        <p:spPr>
          <a:xfrm>
            <a:off x="3424320" y="4151160"/>
            <a:ext cx="7361280" cy="1940040"/>
          </a:xfrm>
          <a:prstGeom prst="rect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9"/>
          <p:cNvSpPr/>
          <p:nvPr/>
        </p:nvSpPr>
        <p:spPr>
          <a:xfrm>
            <a:off x="3560400" y="4395960"/>
            <a:ext cx="694584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0"/>
          <p:cNvSpPr/>
          <p:nvPr/>
        </p:nvSpPr>
        <p:spPr>
          <a:xfrm>
            <a:off x="5669280" y="2557440"/>
            <a:ext cx="4568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1d8"/>
                </a:solidFill>
                <a:latin typeface="方正姚体"/>
                <a:ea typeface="方正姚体"/>
              </a:rPr>
              <a:t>Click here </a:t>
            </a:r>
            <a:r>
              <a:rPr b="1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</a:t>
            </a:r>
            <a:r>
              <a:rPr b="1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your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163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167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椭圆 21"/>
          <p:cNvSpPr/>
          <p:nvPr/>
        </p:nvSpPr>
        <p:spPr>
          <a:xfrm>
            <a:off x="938160" y="2384280"/>
            <a:ext cx="2027160" cy="202752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5"/>
          <p:cNvSpPr/>
          <p:nvPr/>
        </p:nvSpPr>
        <p:spPr>
          <a:xfrm>
            <a:off x="3727440" y="2384280"/>
            <a:ext cx="2028960" cy="202752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27"/>
          <p:cNvSpPr/>
          <p:nvPr/>
        </p:nvSpPr>
        <p:spPr>
          <a:xfrm>
            <a:off x="6518160" y="2384280"/>
            <a:ext cx="2027520" cy="202752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28"/>
          <p:cNvSpPr/>
          <p:nvPr/>
        </p:nvSpPr>
        <p:spPr>
          <a:xfrm>
            <a:off x="9307440" y="2384280"/>
            <a:ext cx="2027160" cy="202752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29"/>
          <p:cNvSpPr/>
          <p:nvPr/>
        </p:nvSpPr>
        <p:spPr>
          <a:xfrm>
            <a:off x="3022200" y="28576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0"/>
          <p:cNvSpPr/>
          <p:nvPr/>
        </p:nvSpPr>
        <p:spPr>
          <a:xfrm>
            <a:off x="5799600" y="28893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1"/>
          <p:cNvSpPr/>
          <p:nvPr/>
        </p:nvSpPr>
        <p:spPr>
          <a:xfrm>
            <a:off x="8587080" y="28576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33"/>
          <p:cNvGrpSpPr/>
          <p:nvPr/>
        </p:nvGrpSpPr>
        <p:grpSpPr>
          <a:xfrm>
            <a:off x="7194600" y="2954160"/>
            <a:ext cx="638280" cy="721080"/>
            <a:chOff x="7194600" y="2954160"/>
            <a:chExt cx="638280" cy="721080"/>
          </a:xfrm>
        </p:grpSpPr>
        <p:sp>
          <p:nvSpPr>
            <p:cNvPr id="178" name="Freeform 148"/>
            <p:cNvSpPr/>
            <p:nvPr/>
          </p:nvSpPr>
          <p:spPr>
            <a:xfrm>
              <a:off x="7281000" y="2954160"/>
              <a:ext cx="551880" cy="71676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9"/>
            <p:cNvSpPr/>
            <p:nvPr/>
          </p:nvSpPr>
          <p:spPr>
            <a:xfrm>
              <a:off x="7194600" y="3317760"/>
              <a:ext cx="363960" cy="35748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50"/>
            <p:cNvSpPr/>
            <p:nvPr/>
          </p:nvSpPr>
          <p:spPr>
            <a:xfrm>
              <a:off x="7347240" y="3467160"/>
              <a:ext cx="58680" cy="5832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37"/>
          <p:cNvGrpSpPr/>
          <p:nvPr/>
        </p:nvGrpSpPr>
        <p:grpSpPr>
          <a:xfrm>
            <a:off x="4460760" y="3013200"/>
            <a:ext cx="596880" cy="668160"/>
            <a:chOff x="4460760" y="3013200"/>
            <a:chExt cx="596880" cy="668160"/>
          </a:xfrm>
        </p:grpSpPr>
        <p:sp>
          <p:nvSpPr>
            <p:cNvPr id="182" name="Freeform 108"/>
            <p:cNvSpPr/>
            <p:nvPr/>
          </p:nvSpPr>
          <p:spPr>
            <a:xfrm>
              <a:off x="4563000" y="3261240"/>
              <a:ext cx="84240" cy="856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9"/>
            <p:cNvSpPr/>
            <p:nvPr/>
          </p:nvSpPr>
          <p:spPr>
            <a:xfrm>
              <a:off x="4753080" y="3205800"/>
              <a:ext cx="72000" cy="720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10"/>
            <p:cNvSpPr/>
            <p:nvPr/>
          </p:nvSpPr>
          <p:spPr>
            <a:xfrm>
              <a:off x="4582440" y="3282120"/>
              <a:ext cx="45720" cy="457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1"/>
            <p:cNvSpPr/>
            <p:nvPr/>
          </p:nvSpPr>
          <p:spPr>
            <a:xfrm>
              <a:off x="4717080" y="3169800"/>
              <a:ext cx="144000" cy="1440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2"/>
            <p:cNvSpPr/>
            <p:nvPr/>
          </p:nvSpPr>
          <p:spPr>
            <a:xfrm>
              <a:off x="4460760" y="3013200"/>
              <a:ext cx="596880" cy="6681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43"/>
          <p:cNvGrpSpPr/>
          <p:nvPr/>
        </p:nvGrpSpPr>
        <p:grpSpPr>
          <a:xfrm>
            <a:off x="10061640" y="3044880"/>
            <a:ext cx="517320" cy="511200"/>
            <a:chOff x="10061640" y="3044880"/>
            <a:chExt cx="517320" cy="511200"/>
          </a:xfrm>
        </p:grpSpPr>
        <p:sp>
          <p:nvSpPr>
            <p:cNvPr id="188" name="Freeform 136"/>
            <p:cNvSpPr/>
            <p:nvPr/>
          </p:nvSpPr>
          <p:spPr>
            <a:xfrm>
              <a:off x="10061640" y="3331440"/>
              <a:ext cx="517320" cy="2246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37"/>
            <p:cNvSpPr/>
            <p:nvPr/>
          </p:nvSpPr>
          <p:spPr>
            <a:xfrm>
              <a:off x="10061640" y="3044880"/>
              <a:ext cx="517320" cy="2970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46"/>
          <p:cNvGrpSpPr/>
          <p:nvPr/>
        </p:nvGrpSpPr>
        <p:grpSpPr>
          <a:xfrm>
            <a:off x="1719360" y="3021120"/>
            <a:ext cx="614160" cy="660240"/>
            <a:chOff x="1719360" y="3021120"/>
            <a:chExt cx="614160" cy="660240"/>
          </a:xfrm>
        </p:grpSpPr>
        <p:sp>
          <p:nvSpPr>
            <p:cNvPr id="191" name="Freeform 154"/>
            <p:cNvSpPr/>
            <p:nvPr/>
          </p:nvSpPr>
          <p:spPr>
            <a:xfrm>
              <a:off x="1905120" y="3582000"/>
              <a:ext cx="66240" cy="6120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55"/>
            <p:cNvSpPr/>
            <p:nvPr/>
          </p:nvSpPr>
          <p:spPr>
            <a:xfrm>
              <a:off x="1931040" y="3573360"/>
              <a:ext cx="12240" cy="428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6"/>
            <p:cNvSpPr/>
            <p:nvPr/>
          </p:nvSpPr>
          <p:spPr>
            <a:xfrm>
              <a:off x="1770840" y="3128040"/>
              <a:ext cx="343440" cy="34308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7"/>
            <p:cNvSpPr/>
            <p:nvPr/>
          </p:nvSpPr>
          <p:spPr>
            <a:xfrm>
              <a:off x="1719360" y="3021120"/>
              <a:ext cx="445680" cy="6602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8"/>
            <p:cNvSpPr/>
            <p:nvPr/>
          </p:nvSpPr>
          <p:spPr>
            <a:xfrm>
              <a:off x="2082600" y="3287880"/>
              <a:ext cx="250920" cy="2509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文本框 52"/>
          <p:cNvSpPr/>
          <p:nvPr/>
        </p:nvSpPr>
        <p:spPr>
          <a:xfrm>
            <a:off x="765720" y="451332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53"/>
          <p:cNvSpPr/>
          <p:nvPr/>
        </p:nvSpPr>
        <p:spPr>
          <a:xfrm>
            <a:off x="3493080" y="448776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54"/>
          <p:cNvSpPr/>
          <p:nvPr/>
        </p:nvSpPr>
        <p:spPr>
          <a:xfrm>
            <a:off x="6271200" y="450540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55"/>
          <p:cNvSpPr/>
          <p:nvPr/>
        </p:nvSpPr>
        <p:spPr>
          <a:xfrm>
            <a:off x="9060480" y="450540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02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06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任意多边形 25"/>
          <p:cNvSpPr/>
          <p:nvPr/>
        </p:nvSpPr>
        <p:spPr>
          <a:xfrm>
            <a:off x="2790720" y="3295800"/>
            <a:ext cx="1549440" cy="1541160"/>
          </a:xfrm>
          <a:custGeom>
            <a:avLst/>
            <a:gdLst/>
            <a:ahLst/>
            <a:rect l="l" t="t" r="r" b="b"/>
            <a:pathLst>
              <a:path w="971638" h="965868">
                <a:moveTo>
                  <a:pt x="411874" y="965868"/>
                </a:moveTo>
                <a:lnTo>
                  <a:pt x="119823" y="673817"/>
                </a:lnTo>
                <a:cubicBezTo>
                  <a:pt x="-253355" y="247329"/>
                  <a:pt x="333067" y="-220881"/>
                  <a:pt x="679588" y="114052"/>
                </a:cubicBezTo>
                <a:lnTo>
                  <a:pt x="971638" y="406102"/>
                </a:lnTo>
                <a:lnTo>
                  <a:pt x="411874" y="965868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27"/>
          <p:cNvSpPr/>
          <p:nvPr/>
        </p:nvSpPr>
        <p:spPr>
          <a:xfrm>
            <a:off x="3579840" y="4083120"/>
            <a:ext cx="1779480" cy="1536480"/>
          </a:xfrm>
          <a:custGeom>
            <a:avLst/>
            <a:gdLst/>
            <a:ahLst/>
            <a:rect l="l" t="t" r="r" b="b"/>
            <a:pathLst>
              <a:path w="1116054" h="963129">
                <a:moveTo>
                  <a:pt x="566719" y="0"/>
                </a:moveTo>
                <a:lnTo>
                  <a:pt x="0" y="563242"/>
                </a:lnTo>
                <a:lnTo>
                  <a:pt x="312912" y="862247"/>
                </a:lnTo>
                <a:cubicBezTo>
                  <a:pt x="492547" y="1017544"/>
                  <a:pt x="686090" y="978141"/>
                  <a:pt x="820526" y="848340"/>
                </a:cubicBezTo>
                <a:lnTo>
                  <a:pt x="1116054" y="552812"/>
                </a:lnTo>
                <a:lnTo>
                  <a:pt x="566719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28"/>
          <p:cNvSpPr/>
          <p:nvPr/>
        </p:nvSpPr>
        <p:spPr>
          <a:xfrm flipV="1">
            <a:off x="4587840" y="3355920"/>
            <a:ext cx="1781280" cy="1535040"/>
          </a:xfrm>
          <a:custGeom>
            <a:avLst/>
            <a:gdLst/>
            <a:ahLst/>
            <a:rect l="l" t="t" r="r" b="b"/>
            <a:pathLst>
              <a:path w="1116054" h="963129">
                <a:moveTo>
                  <a:pt x="566719" y="0"/>
                </a:moveTo>
                <a:lnTo>
                  <a:pt x="0" y="563242"/>
                </a:lnTo>
                <a:lnTo>
                  <a:pt x="312912" y="862247"/>
                </a:lnTo>
                <a:cubicBezTo>
                  <a:pt x="492547" y="1017544"/>
                  <a:pt x="686090" y="978141"/>
                  <a:pt x="820526" y="848340"/>
                </a:cubicBezTo>
                <a:lnTo>
                  <a:pt x="1116054" y="552812"/>
                </a:lnTo>
                <a:lnTo>
                  <a:pt x="566719" y="0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29"/>
          <p:cNvSpPr/>
          <p:nvPr/>
        </p:nvSpPr>
        <p:spPr>
          <a:xfrm>
            <a:off x="5626080" y="4083120"/>
            <a:ext cx="1779480" cy="1536480"/>
          </a:xfrm>
          <a:custGeom>
            <a:avLst/>
            <a:gdLst/>
            <a:ahLst/>
            <a:rect l="l" t="t" r="r" b="b"/>
            <a:pathLst>
              <a:path w="1116054" h="963129">
                <a:moveTo>
                  <a:pt x="566719" y="0"/>
                </a:moveTo>
                <a:lnTo>
                  <a:pt x="0" y="563242"/>
                </a:lnTo>
                <a:lnTo>
                  <a:pt x="312912" y="862247"/>
                </a:lnTo>
                <a:cubicBezTo>
                  <a:pt x="492547" y="1017544"/>
                  <a:pt x="686090" y="978141"/>
                  <a:pt x="820526" y="848340"/>
                </a:cubicBezTo>
                <a:lnTo>
                  <a:pt x="1116054" y="552812"/>
                </a:lnTo>
                <a:lnTo>
                  <a:pt x="566719" y="0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30"/>
          <p:cNvSpPr/>
          <p:nvPr/>
        </p:nvSpPr>
        <p:spPr>
          <a:xfrm>
            <a:off x="6680160" y="2401920"/>
            <a:ext cx="2435400" cy="2428920"/>
          </a:xfrm>
          <a:custGeom>
            <a:avLst/>
            <a:gdLst/>
            <a:ahLst/>
            <a:rect l="l" t="t" r="r" b="b"/>
            <a:pathLst>
              <a:path w="1526318" h="1522842">
                <a:moveTo>
                  <a:pt x="0" y="973506"/>
                </a:moveTo>
                <a:lnTo>
                  <a:pt x="688409" y="274667"/>
                </a:lnTo>
                <a:lnTo>
                  <a:pt x="486753" y="274668"/>
                </a:lnTo>
                <a:cubicBezTo>
                  <a:pt x="322184" y="273509"/>
                  <a:pt x="321025" y="1159"/>
                  <a:pt x="483276" y="0"/>
                </a:cubicBezTo>
                <a:lnTo>
                  <a:pt x="1387246" y="0"/>
                </a:lnTo>
                <a:cubicBezTo>
                  <a:pt x="1461417" y="1158"/>
                  <a:pt x="1525160" y="61424"/>
                  <a:pt x="1526318" y="139072"/>
                </a:cubicBezTo>
                <a:lnTo>
                  <a:pt x="1526318" y="990890"/>
                </a:lnTo>
                <a:cubicBezTo>
                  <a:pt x="1525159" y="1234266"/>
                  <a:pt x="1252810" y="1216882"/>
                  <a:pt x="1251651" y="990890"/>
                </a:cubicBezTo>
                <a:lnTo>
                  <a:pt x="1255128" y="813573"/>
                </a:lnTo>
                <a:lnTo>
                  <a:pt x="556290" y="1522842"/>
                </a:lnTo>
                <a:lnTo>
                  <a:pt x="0" y="973506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36"/>
          <p:cNvSpPr/>
          <p:nvPr/>
        </p:nvSpPr>
        <p:spPr>
          <a:xfrm rot="18900000">
            <a:off x="6996240" y="335916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37"/>
          <p:cNvGrpSpPr/>
          <p:nvPr/>
        </p:nvGrpSpPr>
        <p:grpSpPr>
          <a:xfrm>
            <a:off x="9497520" y="2533680"/>
            <a:ext cx="1473480" cy="1060560"/>
            <a:chOff x="9497520" y="2533680"/>
            <a:chExt cx="1473480" cy="1060560"/>
          </a:xfrm>
        </p:grpSpPr>
        <p:sp>
          <p:nvSpPr>
            <p:cNvPr id="216" name="Freeform 223"/>
            <p:cNvSpPr/>
            <p:nvPr/>
          </p:nvSpPr>
          <p:spPr>
            <a:xfrm flipH="1">
              <a:off x="10370520" y="3036240"/>
              <a:ext cx="600480" cy="53244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4" y="27"/>
                  </a:moveTo>
                  <a:cubicBezTo>
                    <a:pt x="25" y="6"/>
                    <a:pt x="25" y="6"/>
                    <a:pt x="25" y="6"/>
                  </a:cubicBezTo>
                  <a:cubicBezTo>
                    <a:pt x="31" y="0"/>
                    <a:pt x="40" y="9"/>
                    <a:pt x="34" y="15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74" y="26"/>
                    <a:pt x="74" y="39"/>
                    <a:pt x="64" y="39"/>
                  </a:cubicBezTo>
                  <a:cubicBezTo>
                    <a:pt x="23" y="39"/>
                    <a:pt x="23" y="39"/>
                    <a:pt x="23" y="39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40" y="56"/>
                    <a:pt x="31" y="65"/>
                    <a:pt x="25" y="59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1" y="35"/>
                    <a:pt x="0" y="30"/>
                    <a:pt x="4" y="27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24"/>
            <p:cNvSpPr/>
            <p:nvPr/>
          </p:nvSpPr>
          <p:spPr>
            <a:xfrm flipH="1">
              <a:off x="10306800" y="2533680"/>
              <a:ext cx="191520" cy="195840"/>
            </a:xfrm>
            <a:prstGeom prst="ellips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5"/>
            <p:cNvSpPr/>
            <p:nvPr/>
          </p:nvSpPr>
          <p:spPr>
            <a:xfrm flipH="1">
              <a:off x="9497520" y="2652840"/>
              <a:ext cx="1149840" cy="941400"/>
            </a:xfrm>
            <a:custGeom>
              <a:avLst/>
              <a:gdLst/>
              <a:ahLst/>
              <a:rect l="l" t="t" r="r" b="b"/>
              <a:pathLst>
                <a:path w="141" h="115">
                  <a:moveTo>
                    <a:pt x="135" y="60"/>
                  </a:moveTo>
                  <a:cubicBezTo>
                    <a:pt x="134" y="60"/>
                    <a:pt x="133" y="60"/>
                    <a:pt x="133" y="60"/>
                  </a:cubicBezTo>
                  <a:cubicBezTo>
                    <a:pt x="105" y="60"/>
                    <a:pt x="105" y="60"/>
                    <a:pt x="105" y="60"/>
                  </a:cubicBezTo>
                  <a:cubicBezTo>
                    <a:pt x="64" y="12"/>
                    <a:pt x="64" y="12"/>
                    <a:pt x="64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4" y="35"/>
                    <a:pt x="96" y="36"/>
                    <a:pt x="98" y="36"/>
                  </a:cubicBezTo>
                  <a:cubicBezTo>
                    <a:pt x="101" y="36"/>
                    <a:pt x="104" y="33"/>
                    <a:pt x="104" y="30"/>
                  </a:cubicBezTo>
                  <a:cubicBezTo>
                    <a:pt x="104" y="28"/>
                    <a:pt x="103" y="26"/>
                    <a:pt x="102" y="25"/>
                  </a:cubicBezTo>
                  <a:cubicBezTo>
                    <a:pt x="82" y="2"/>
                    <a:pt x="82" y="2"/>
                    <a:pt x="82" y="2"/>
                  </a:cubicBezTo>
                  <a:cubicBezTo>
                    <a:pt x="81" y="1"/>
                    <a:pt x="79" y="0"/>
                    <a:pt x="77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8" y="0"/>
                    <a:pt x="29" y="14"/>
                    <a:pt x="28" y="15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5" y="32"/>
                    <a:pt x="3" y="33"/>
                    <a:pt x="2" y="34"/>
                  </a:cubicBezTo>
                  <a:cubicBezTo>
                    <a:pt x="0" y="36"/>
                    <a:pt x="0" y="40"/>
                    <a:pt x="2" y="43"/>
                  </a:cubicBezTo>
                  <a:cubicBezTo>
                    <a:pt x="3" y="44"/>
                    <a:pt x="5" y="44"/>
                    <a:pt x="6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40" y="44"/>
                    <a:pt x="40" y="38"/>
                    <a:pt x="40" y="38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41" y="59"/>
                    <a:pt x="41" y="59"/>
                    <a:pt x="41" y="59"/>
                  </a:cubicBezTo>
                  <a:cubicBezTo>
                    <a:pt x="41" y="59"/>
                    <a:pt x="38" y="62"/>
                    <a:pt x="40" y="69"/>
                  </a:cubicBezTo>
                  <a:cubicBezTo>
                    <a:pt x="49" y="109"/>
                    <a:pt x="49" y="109"/>
                    <a:pt x="49" y="109"/>
                  </a:cubicBezTo>
                  <a:cubicBezTo>
                    <a:pt x="50" y="113"/>
                    <a:pt x="53" y="115"/>
                    <a:pt x="57" y="115"/>
                  </a:cubicBezTo>
                  <a:cubicBezTo>
                    <a:pt x="61" y="115"/>
                    <a:pt x="64" y="112"/>
                    <a:pt x="64" y="108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57" y="72"/>
                    <a:pt x="57" y="72"/>
                    <a:pt x="57" y="72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4" y="75"/>
                    <a:pt x="101" y="75"/>
                  </a:cubicBezTo>
                  <a:cubicBezTo>
                    <a:pt x="133" y="75"/>
                    <a:pt x="133" y="75"/>
                    <a:pt x="133" y="75"/>
                  </a:cubicBezTo>
                  <a:cubicBezTo>
                    <a:pt x="136" y="75"/>
                    <a:pt x="140" y="73"/>
                    <a:pt x="141" y="69"/>
                  </a:cubicBezTo>
                  <a:cubicBezTo>
                    <a:pt x="141" y="65"/>
                    <a:pt x="139" y="61"/>
                    <a:pt x="135" y="60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43"/>
          <p:cNvGrpSpPr/>
          <p:nvPr/>
        </p:nvGrpSpPr>
        <p:grpSpPr>
          <a:xfrm>
            <a:off x="5272200" y="3689280"/>
            <a:ext cx="471240" cy="533520"/>
            <a:chOff x="5272200" y="3689280"/>
            <a:chExt cx="471240" cy="533520"/>
          </a:xfrm>
        </p:grpSpPr>
        <p:sp>
          <p:nvSpPr>
            <p:cNvPr id="220" name="Freeform 148"/>
            <p:cNvSpPr/>
            <p:nvPr/>
          </p:nvSpPr>
          <p:spPr>
            <a:xfrm>
              <a:off x="5335920" y="3689280"/>
              <a:ext cx="407520" cy="53028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9"/>
            <p:cNvSpPr/>
            <p:nvPr/>
          </p:nvSpPr>
          <p:spPr>
            <a:xfrm>
              <a:off x="5272200" y="3958200"/>
              <a:ext cx="268560" cy="26460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50"/>
            <p:cNvSpPr/>
            <p:nvPr/>
          </p:nvSpPr>
          <p:spPr>
            <a:xfrm>
              <a:off x="5384880" y="4068720"/>
              <a:ext cx="43200" cy="4320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47"/>
          <p:cNvGrpSpPr/>
          <p:nvPr/>
        </p:nvGrpSpPr>
        <p:grpSpPr>
          <a:xfrm>
            <a:off x="4273560" y="4707000"/>
            <a:ext cx="441360" cy="493560"/>
            <a:chOff x="4273560" y="4707000"/>
            <a:chExt cx="441360" cy="493560"/>
          </a:xfrm>
        </p:grpSpPr>
        <p:sp>
          <p:nvSpPr>
            <p:cNvPr id="224" name="Freeform 108"/>
            <p:cNvSpPr/>
            <p:nvPr/>
          </p:nvSpPr>
          <p:spPr>
            <a:xfrm>
              <a:off x="4349160" y="4890240"/>
              <a:ext cx="62280" cy="633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9"/>
            <p:cNvSpPr/>
            <p:nvPr/>
          </p:nvSpPr>
          <p:spPr>
            <a:xfrm>
              <a:off x="4489560" y="484920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0"/>
            <p:cNvSpPr/>
            <p:nvPr/>
          </p:nvSpPr>
          <p:spPr>
            <a:xfrm>
              <a:off x="4363560" y="4905720"/>
              <a:ext cx="33480" cy="33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1"/>
            <p:cNvSpPr/>
            <p:nvPr/>
          </p:nvSpPr>
          <p:spPr>
            <a:xfrm>
              <a:off x="4462920" y="4822560"/>
              <a:ext cx="106560" cy="1065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12"/>
            <p:cNvSpPr/>
            <p:nvPr/>
          </p:nvSpPr>
          <p:spPr>
            <a:xfrm>
              <a:off x="4273560" y="4707000"/>
              <a:ext cx="441360" cy="4935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53"/>
          <p:cNvGrpSpPr/>
          <p:nvPr/>
        </p:nvGrpSpPr>
        <p:grpSpPr>
          <a:xfrm>
            <a:off x="6334200" y="4740120"/>
            <a:ext cx="382680" cy="378000"/>
            <a:chOff x="6334200" y="4740120"/>
            <a:chExt cx="382680" cy="378000"/>
          </a:xfrm>
        </p:grpSpPr>
        <p:sp>
          <p:nvSpPr>
            <p:cNvPr id="230" name="Freeform 136"/>
            <p:cNvSpPr/>
            <p:nvPr/>
          </p:nvSpPr>
          <p:spPr>
            <a:xfrm>
              <a:off x="6334200" y="4951800"/>
              <a:ext cx="382680" cy="16632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37"/>
            <p:cNvSpPr/>
            <p:nvPr/>
          </p:nvSpPr>
          <p:spPr>
            <a:xfrm>
              <a:off x="6334200" y="4740120"/>
              <a:ext cx="382680" cy="2196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56"/>
          <p:cNvGrpSpPr/>
          <p:nvPr/>
        </p:nvGrpSpPr>
        <p:grpSpPr>
          <a:xfrm>
            <a:off x="3227400" y="3710160"/>
            <a:ext cx="453960" cy="488880"/>
            <a:chOff x="3227400" y="3710160"/>
            <a:chExt cx="453960" cy="488880"/>
          </a:xfrm>
        </p:grpSpPr>
        <p:sp>
          <p:nvSpPr>
            <p:cNvPr id="233" name="Freeform 154"/>
            <p:cNvSpPr/>
            <p:nvPr/>
          </p:nvSpPr>
          <p:spPr>
            <a:xfrm>
              <a:off x="3364560" y="4125600"/>
              <a:ext cx="48960" cy="4536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55"/>
            <p:cNvSpPr/>
            <p:nvPr/>
          </p:nvSpPr>
          <p:spPr>
            <a:xfrm>
              <a:off x="3383640" y="4119120"/>
              <a:ext cx="9000" cy="3168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56"/>
            <p:cNvSpPr/>
            <p:nvPr/>
          </p:nvSpPr>
          <p:spPr>
            <a:xfrm>
              <a:off x="3265560" y="3789360"/>
              <a:ext cx="253800" cy="25416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57"/>
            <p:cNvSpPr/>
            <p:nvPr/>
          </p:nvSpPr>
          <p:spPr>
            <a:xfrm>
              <a:off x="3227400" y="3710160"/>
              <a:ext cx="329400" cy="48888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58"/>
            <p:cNvSpPr/>
            <p:nvPr/>
          </p:nvSpPr>
          <p:spPr>
            <a:xfrm>
              <a:off x="3495960" y="3907800"/>
              <a:ext cx="185400" cy="1857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文本框 62"/>
          <p:cNvSpPr/>
          <p:nvPr/>
        </p:nvSpPr>
        <p:spPr>
          <a:xfrm>
            <a:off x="4084560" y="21686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3"/>
          <p:cNvSpPr/>
          <p:nvPr/>
        </p:nvSpPr>
        <p:spPr>
          <a:xfrm>
            <a:off x="2009520" y="57308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64"/>
          <p:cNvSpPr/>
          <p:nvPr/>
        </p:nvSpPr>
        <p:spPr>
          <a:xfrm>
            <a:off x="6388920" y="57038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65"/>
          <p:cNvSpPr/>
          <p:nvPr/>
        </p:nvSpPr>
        <p:spPr>
          <a:xfrm>
            <a:off x="619200" y="21686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22:18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0:23Z</dcterms:modified>
  <cp:revision>126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