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02945-AB8C-44EC-B0D0-9B411F4F1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8FFF-192E-4B32-BAB4-D2A768490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57C76-B118-4854-875E-4161E4A75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B9474-714C-443E-BBFA-9C74C5293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B39F-FBC6-4FD9-93BF-0BB57223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709FA-A707-49DD-AD89-0907ACE9C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56F28-E792-408B-B98B-BE682A3CF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FC3C1-1569-4A60-9F49-A6A55EDA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8F003-E52C-4D29-87B1-308B70F4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5BB2B-E316-42C8-A44F-6677BF3A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FEC14-6458-4C4F-A7C0-575DC8117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9A386-7EF7-4D8C-82C7-9B8490001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4CEE-2CFF-48F8-B6A1-273A2BBA361E}" type="datetime">
              <a:rPr b="0" lang="zh-CN" sz="2100" spc="-1" strike="noStrike">
                <a:solidFill>
                  <a:srgbClr val="8d8d8d"/>
                </a:solidFill>
                <a:latin typeface="Arial"/>
              </a:rPr>
              <a:t>26/7/28</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AADD-4908-4F8A-84A7-35CE6E3AEB76}"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