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68EA-B449-4625-9EE1-84CF0955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3A5-5B86-4747-BA2F-86602ED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C61-3F0F-482A-ACA2-153A82D8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654D-26B7-4165-9423-780F643C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369-589F-4638-A8E9-095995A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662B-0715-47D1-AB88-0AFF47B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FF3-DD45-4DE4-B92B-8662AAF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7C5-C5A6-4D6E-BF02-F5A1DD40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6E2-4E8F-44B5-9806-17858554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34C9-3599-4BB4-97C5-8D40E4E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4CB5-59C8-4251-923E-CE9CD99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276-5B65-4798-ABED-450C6BF1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0B47-E6EC-4482-AC1D-D809E04E11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28800" y="4773600"/>
            <a:ext cx="10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071960" y="47736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7286760" y="4773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C:\Documents and Settings\meihu\桌面\新建文件夹 (2)\ppt\0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meihu\桌面\新建文件夹 (2)\ppt\01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meihu\桌面\新建文件夹 (2)\ppt\017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meihu\桌面\新建文件夹 (2)\ppt\018.jpg"/>
          <p:cNvPicPr/>
          <p:nvPr/>
        </p:nvPicPr>
        <p:blipFill>
          <a:blip r:embed="rId1"/>
          <a:stretch/>
        </p:blipFill>
        <p:spPr>
          <a:xfrm>
            <a:off x="15840" y="-7920"/>
            <a:ext cx="12192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Documents and Settings\meihu\桌面\新建文件夹 (2)\ppt\019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meihu\桌面\新建文件夹 (2)\ppt\02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26:1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