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6BAE-2347-43F5-8616-DFC28C68D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BB32-35E6-412F-8559-4E1054C54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DE27-1C93-4617-9F84-5D3E7CB77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94BD-BCE9-420D-94F5-DDB7E6285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8699-1CF7-42BC-94AC-8611E921C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D55D-15E6-4AA1-B4E5-BFCFD8B7E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7FF5-2EB1-481A-A0F8-E9E2EF322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EF7B-658E-407E-B90C-93281F5C2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4CB8-D411-4CD5-8370-E4F2ABBAF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3D8C-F371-4A8A-B350-A1B7B9569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AD23-105E-4A3B-8EAD-56D09C2D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61B9-2557-45C8-9772-8C103515C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6B6AE-9B72-4C74-B4E1-3AA4B7651BA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封面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928800" y="4773600"/>
            <a:ext cx="106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imp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矩形 5"/>
          <p:cNvSpPr/>
          <p:nvPr/>
        </p:nvSpPr>
        <p:spPr>
          <a:xfrm>
            <a:off x="4071960" y="4773600"/>
            <a:ext cx="13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owerf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矩形 6"/>
          <p:cNvSpPr/>
          <p:nvPr/>
        </p:nvSpPr>
        <p:spPr>
          <a:xfrm>
            <a:off x="7286760" y="477360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7" descr="C:\Documents and Settings\meihu\桌面\新建文件夹 (2)\ppt\015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目录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C:\Documents and Settings\meihu\桌面\新建文件夹 (2)\ppt\016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C:\Documents and Settings\meihu\桌面\新建文件夹 (2)\ppt\017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过渡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C:\Documents and Settings\meihu\桌面\新建文件夹 (2)\ppt\018.jpg"/>
          <p:cNvPicPr/>
          <p:nvPr/>
        </p:nvPicPr>
        <p:blipFill>
          <a:blip r:embed="rId1"/>
          <a:stretch/>
        </p:blipFill>
        <p:spPr>
          <a:xfrm>
            <a:off x="15840" y="-7920"/>
            <a:ext cx="1219212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内容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5" descr="C:\Documents and Settings\meihu\桌面\新建文件夹 (2)\ppt\019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Documents and Settings\meihu\桌面\新建文件夹 (2)\ppt\020.jp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zuazua W</dc:creator>
  <dc:description/>
  <dc:language>en-US</dc:language>
  <cp:lastModifiedBy>SUNNY-PC</cp:lastModifiedBy>
  <dcterms:modified xsi:type="dcterms:W3CDTF">2014-07-19T07:26:10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