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84866-0DC3-467F-B44E-2B292540D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85EC-38BC-4064-91E5-DDF4CA5F2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D0671-7351-45B8-97CD-3668EBF80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13F21-7111-484E-8368-CA07A8420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E9F6B-693A-40C6-B913-3DCC73BAD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D3E76-7FEB-4B9E-B057-622290508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863B-6D77-4ADD-8A44-998ECB470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76F02-E901-4E33-ABFE-3EEA72DB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3623-D4A4-4BD8-8CD7-343C02CA1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20D8F-E3DF-4AE4-8B9B-C6DBE7FE9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21F2A-718F-464F-BD8C-DF1C9B3F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8B05-4959-4FE0-A4FF-9D76C245D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D97D-1B3E-411D-8EAF-68BB23517BA6}" type="datetime">
              <a:rPr b="0" lang="zh-CN" sz="1200" spc="-1" strike="noStrike">
                <a:solidFill>
                  <a:srgbClr val="ffffff"/>
                </a:solidFill>
                <a:latin typeface="Arial"/>
              </a:rPr>
              <a:t>26/7/29</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4F18-0926-432D-8BC2-B8A81C0CB72F}"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D1C5-0735-48A3-9778-E44BBD6F5DA1}"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231" name="图片 1" descr=""/>
          <p:cNvPicPr/>
          <p:nvPr/>
        </p:nvPicPr>
        <p:blipFill>
          <a:blip r:embed="rId1"/>
          <a:srcRect l="14932" t="4520" r="17717" b="135"/>
          <a:stretch/>
        </p:blipFill>
        <p:spPr>
          <a:xfrm>
            <a:off x="0" y="0"/>
            <a:ext cx="6294600" cy="6858000"/>
          </a:xfrm>
          <a:prstGeom prst="rect">
            <a:avLst/>
          </a:prstGeom>
          <a:ln w="0">
            <a:noFill/>
          </a:ln>
        </p:spPr>
      </p:pic>
      <p:sp>
        <p:nvSpPr>
          <p:cNvPr id="23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0</a:t>
            </a:r>
            <a:endParaRPr b="0" lang="en-US" sz="2800" spc="-1" strike="noStrike">
              <a:solidFill>
                <a:srgbClr val="ffffff"/>
              </a:solidFill>
              <a:latin typeface="Arial"/>
            </a:endParaRPr>
          </a:p>
        </p:txBody>
      </p:sp>
      <p:sp>
        <p:nvSpPr>
          <p:cNvPr id="233"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4" name="组合 5"/>
          <p:cNvGrpSpPr/>
          <p:nvPr/>
        </p:nvGrpSpPr>
        <p:grpSpPr>
          <a:xfrm>
            <a:off x="1401840" y="1876320"/>
            <a:ext cx="3103560" cy="3105360"/>
            <a:chOff x="1401840" y="1876320"/>
            <a:chExt cx="3103560" cy="3105360"/>
          </a:xfrm>
        </p:grpSpPr>
        <p:sp>
          <p:nvSpPr>
            <p:cNvPr id="235"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组合 7"/>
            <p:cNvGrpSpPr/>
            <p:nvPr/>
          </p:nvGrpSpPr>
          <p:grpSpPr>
            <a:xfrm>
              <a:off x="2597760" y="2692440"/>
              <a:ext cx="813600" cy="1308240"/>
              <a:chOff x="2597760" y="2692440"/>
              <a:chExt cx="813600" cy="1308240"/>
            </a:xfrm>
          </p:grpSpPr>
          <p:grpSp>
            <p:nvGrpSpPr>
              <p:cNvPr id="237" name="组合 8"/>
              <p:cNvGrpSpPr/>
              <p:nvPr/>
            </p:nvGrpSpPr>
            <p:grpSpPr>
              <a:xfrm>
                <a:off x="2597760" y="2692440"/>
                <a:ext cx="813600" cy="814320"/>
                <a:chOff x="2597760" y="2692440"/>
                <a:chExt cx="813600" cy="814320"/>
              </a:xfrm>
            </p:grpSpPr>
            <p:sp>
              <p:nvSpPr>
                <p:cNvPr id="238" name="同心圆 18"/>
                <p:cNvSpPr/>
                <p:nvPr/>
              </p:nvSpPr>
              <p:spPr>
                <a:xfrm>
                  <a:off x="2597760" y="2692440"/>
                  <a:ext cx="813600" cy="814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组合 9"/>
              <p:cNvGrpSpPr/>
              <p:nvPr/>
            </p:nvGrpSpPr>
            <p:grpSpPr>
              <a:xfrm>
                <a:off x="2673000" y="3259080"/>
                <a:ext cx="662040" cy="741600"/>
                <a:chOff x="2673000" y="3259080"/>
                <a:chExt cx="662040" cy="741600"/>
              </a:xfrm>
            </p:grpSpPr>
            <p:sp>
              <p:nvSpPr>
                <p:cNvPr id="240"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48"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49"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1"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2"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右箭头 1"/>
          <p:cNvSpPr/>
          <p:nvPr/>
        </p:nvSpPr>
        <p:spPr>
          <a:xfrm>
            <a:off x="704880" y="2117880"/>
            <a:ext cx="10764720" cy="1271520"/>
          </a:xfrm>
          <a:prstGeom prst="rightArrow">
            <a:avLst>
              <a:gd name="adj1" fmla="val 50000"/>
              <a:gd name="adj2" fmla="val 49973"/>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1</a:t>
            </a:r>
            <a:endParaRPr b="0" lang="en-US" sz="2800" spc="-1" strike="noStrike">
              <a:solidFill>
                <a:srgbClr val="ffffff"/>
              </a:solidFill>
              <a:latin typeface="Arial"/>
            </a:endParaRPr>
          </a:p>
        </p:txBody>
      </p:sp>
      <p:sp>
        <p:nvSpPr>
          <p:cNvPr id="258"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5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1"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1</a:t>
            </a:r>
            <a:endParaRPr b="0" lang="en-US" sz="3600" spc="-1" strike="noStrike">
              <a:solidFill>
                <a:srgbClr val="ffffff"/>
              </a:solidFill>
              <a:latin typeface="Arial"/>
            </a:endParaRPr>
          </a:p>
        </p:txBody>
      </p:sp>
      <p:sp>
        <p:nvSpPr>
          <p:cNvPr id="262"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2</a:t>
            </a:r>
            <a:endParaRPr b="0" lang="en-US" sz="3600" spc="-1" strike="noStrike">
              <a:solidFill>
                <a:srgbClr val="ffffff"/>
              </a:solidFill>
              <a:latin typeface="Arial"/>
            </a:endParaRPr>
          </a:p>
        </p:txBody>
      </p:sp>
      <p:sp>
        <p:nvSpPr>
          <p:cNvPr id="263"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3</a:t>
            </a:r>
            <a:endParaRPr b="0" lang="en-US" sz="3600" spc="-1" strike="noStrike">
              <a:solidFill>
                <a:srgbClr val="ffffff"/>
              </a:solidFill>
              <a:latin typeface="Arial"/>
            </a:endParaRPr>
          </a:p>
        </p:txBody>
      </p:sp>
      <p:sp>
        <p:nvSpPr>
          <p:cNvPr id="264"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5"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6"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7"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8"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9"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0"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1"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2"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右箭头 1"/>
          <p:cNvSpPr/>
          <p:nvPr/>
        </p:nvSpPr>
        <p:spPr>
          <a:xfrm>
            <a:off x="417600" y="2792520"/>
            <a:ext cx="10763280" cy="1271520"/>
          </a:xfrm>
          <a:prstGeom prst="rightArrow">
            <a:avLst>
              <a:gd name="adj1" fmla="val 50000"/>
              <a:gd name="adj2" fmla="val 49966"/>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2</a:t>
            </a:r>
            <a:endParaRPr b="0" lang="en-US" sz="2800" spc="-1" strike="noStrike">
              <a:solidFill>
                <a:srgbClr val="ffffff"/>
              </a:solidFill>
              <a:latin typeface="Arial"/>
            </a:endParaRPr>
          </a:p>
        </p:txBody>
      </p:sp>
      <p:sp>
        <p:nvSpPr>
          <p:cNvPr id="280"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1"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3"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4"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5"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6"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7"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8"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9"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2"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3"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1</a:t>
            </a:r>
            <a:endParaRPr b="0" lang="en-US" sz="2800" spc="-1" strike="noStrike">
              <a:solidFill>
                <a:srgbClr val="ffffff"/>
              </a:solidFill>
              <a:latin typeface="Arial"/>
            </a:endParaRPr>
          </a:p>
        </p:txBody>
      </p:sp>
      <p:sp>
        <p:nvSpPr>
          <p:cNvPr id="294"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5"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2</a:t>
            </a:r>
            <a:endParaRPr b="0" lang="en-US" sz="2800" spc="-1" strike="noStrike">
              <a:solidFill>
                <a:srgbClr val="ffffff"/>
              </a:solidFill>
              <a:latin typeface="Arial"/>
            </a:endParaRPr>
          </a:p>
        </p:txBody>
      </p:sp>
      <p:sp>
        <p:nvSpPr>
          <p:cNvPr id="296"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7"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3</a:t>
            </a:r>
            <a:endParaRPr b="0" lang="en-US" sz="2800" spc="-1" strike="noStrike">
              <a:solidFill>
                <a:srgbClr val="ffffff"/>
              </a:solidFill>
              <a:latin typeface="Arial"/>
            </a:endParaRPr>
          </a:p>
        </p:txBody>
      </p:sp>
      <p:sp>
        <p:nvSpPr>
          <p:cNvPr id="298"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9"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4</a:t>
            </a:r>
            <a:endParaRPr b="0" lang="en-US" sz="2800" spc="-1" strike="noStrike">
              <a:solidFill>
                <a:srgbClr val="ffffff"/>
              </a:solidFill>
              <a:latin typeface="Arial"/>
            </a:endParaRPr>
          </a:p>
        </p:txBody>
      </p:sp>
      <p:sp>
        <p:nvSpPr>
          <p:cNvPr id="300"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1"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5</a:t>
            </a:r>
            <a:endParaRPr b="0" lang="en-US" sz="2800" spc="-1" strike="noStrike">
              <a:solidFill>
                <a:srgbClr val="ffffff"/>
              </a:solidFill>
              <a:latin typeface="Arial"/>
            </a:endParaRPr>
          </a:p>
        </p:txBody>
      </p:sp>
      <p:sp>
        <p:nvSpPr>
          <p:cNvPr id="302"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任意多边形 1"/>
          <p:cNvSpPr/>
          <p:nvPr/>
        </p:nvSpPr>
        <p:spPr>
          <a:xfrm>
            <a:off x="5610240" y="3457440"/>
            <a:ext cx="2344680" cy="1897200"/>
          </a:xfrm>
          <a:custGeom>
            <a:avLst/>
            <a:gdLst/>
            <a:ahLst/>
            <a:rect l="l" t="t" r="r" b="b"/>
            <a:pathLst>
              <a:path w="2344740" h="1897191">
                <a:moveTo>
                  <a:pt x="1603525" y="0"/>
                </a:moveTo>
                <a:lnTo>
                  <a:pt x="1982539" y="298241"/>
                </a:lnTo>
                <a:lnTo>
                  <a:pt x="2344740" y="13231"/>
                </a:lnTo>
                <a:lnTo>
                  <a:pt x="2318884" y="186271"/>
                </a:lnTo>
                <a:cubicBezTo>
                  <a:pt x="2158138" y="997670"/>
                  <a:pt x="1477110" y="1621891"/>
                  <a:pt x="637987" y="1696749"/>
                </a:cubicBezTo>
                <a:lnTo>
                  <a:pt x="480686" y="1703732"/>
                </a:lnTo>
                <a:lnTo>
                  <a:pt x="480686" y="1897191"/>
                </a:lnTo>
                <a:lnTo>
                  <a:pt x="0" y="1286320"/>
                </a:lnTo>
                <a:lnTo>
                  <a:pt x="480686" y="675449"/>
                </a:lnTo>
                <a:lnTo>
                  <a:pt x="480686" y="967982"/>
                </a:lnTo>
                <a:lnTo>
                  <a:pt x="571762" y="963939"/>
                </a:lnTo>
                <a:cubicBezTo>
                  <a:pt x="1083661" y="918272"/>
                  <a:pt x="1499115" y="537472"/>
                  <a:pt x="1597177" y="42486"/>
                </a:cubicBezTo>
                <a:lnTo>
                  <a:pt x="1603525"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任意多边形 2"/>
          <p:cNvSpPr/>
          <p:nvPr/>
        </p:nvSpPr>
        <p:spPr>
          <a:xfrm>
            <a:off x="6261120" y="1409760"/>
            <a:ext cx="1946160" cy="2357280"/>
          </a:xfrm>
          <a:custGeom>
            <a:avLst/>
            <a:gdLst/>
            <a:ahLst/>
            <a:rect l="l" t="t" r="r" b="b"/>
            <a:pathLst>
              <a:path w="1946318" h="2358384">
                <a:moveTo>
                  <a:pt x="0" y="0"/>
                </a:moveTo>
                <a:lnTo>
                  <a:pt x="13978" y="706"/>
                </a:lnTo>
                <a:cubicBezTo>
                  <a:pt x="965374" y="97326"/>
                  <a:pt x="1707803" y="900810"/>
                  <a:pt x="1707803" y="1877698"/>
                </a:cubicBezTo>
                <a:lnTo>
                  <a:pt x="1946318" y="1877698"/>
                </a:lnTo>
                <a:lnTo>
                  <a:pt x="1335447" y="2358384"/>
                </a:lnTo>
                <a:lnTo>
                  <a:pt x="724576" y="1877698"/>
                </a:lnTo>
                <a:lnTo>
                  <a:pt x="972053" y="1877698"/>
                </a:lnTo>
                <a:cubicBezTo>
                  <a:pt x="972053" y="1356251"/>
                  <a:pt x="625293" y="915792"/>
                  <a:pt x="149787" y="774339"/>
                </a:cubicBezTo>
                <a:lnTo>
                  <a:pt x="53065" y="750429"/>
                </a:lnTo>
                <a:lnTo>
                  <a:pt x="321783" y="408933"/>
                </a:lnTo>
                <a:lnTo>
                  <a:pt x="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任意多边形 4"/>
          <p:cNvSpPr/>
          <p:nvPr/>
        </p:nvSpPr>
        <p:spPr>
          <a:xfrm>
            <a:off x="4197240" y="1204920"/>
            <a:ext cx="237960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任意多边形 5"/>
          <p:cNvSpPr/>
          <p:nvPr/>
        </p:nvSpPr>
        <p:spPr>
          <a:xfrm rot="16200000">
            <a:off x="3751200" y="2957400"/>
            <a:ext cx="237816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ffcd00"/>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3</a:t>
            </a:r>
            <a:endParaRPr b="0" lang="en-US" sz="2800" spc="-1" strike="noStrike">
              <a:solidFill>
                <a:srgbClr val="ffffff"/>
              </a:solidFill>
              <a:latin typeface="Arial"/>
            </a:endParaRPr>
          </a:p>
        </p:txBody>
      </p:sp>
      <p:sp>
        <p:nvSpPr>
          <p:cNvPr id="308"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0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1"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2"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3"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4"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5"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6"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7"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8"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9"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1</a:t>
            </a:r>
            <a:endParaRPr b="0" lang="en-US" sz="2800" spc="-1" strike="noStrike">
              <a:solidFill>
                <a:srgbClr val="ffffff"/>
              </a:solidFill>
              <a:latin typeface="Arial"/>
            </a:endParaRPr>
          </a:p>
        </p:txBody>
      </p:sp>
      <p:sp>
        <p:nvSpPr>
          <p:cNvPr id="320"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2</a:t>
            </a:r>
            <a:endParaRPr b="0" lang="en-US" sz="2800" spc="-1" strike="noStrike">
              <a:solidFill>
                <a:srgbClr val="ffffff"/>
              </a:solidFill>
              <a:latin typeface="Arial"/>
            </a:endParaRPr>
          </a:p>
        </p:txBody>
      </p:sp>
      <p:sp>
        <p:nvSpPr>
          <p:cNvPr id="321"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3</a:t>
            </a:r>
            <a:endParaRPr b="0" lang="en-US" sz="2800" spc="-1" strike="noStrike">
              <a:solidFill>
                <a:srgbClr val="ffffff"/>
              </a:solidFill>
              <a:latin typeface="Arial"/>
            </a:endParaRPr>
          </a:p>
        </p:txBody>
      </p:sp>
      <p:sp>
        <p:nvSpPr>
          <p:cNvPr id="322"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23" name="任意多边形 1"/>
          <p:cNvSpPr/>
          <p:nvPr/>
        </p:nvSpPr>
        <p:spPr>
          <a:xfrm rot="3925800">
            <a:off x="2271240" y="1419120"/>
            <a:ext cx="3457440" cy="3800520"/>
          </a:xfrm>
          <a:custGeom>
            <a:avLst/>
            <a:gdLst/>
            <a:ahLst/>
            <a:rect l="l" t="t" r="r" b="b"/>
            <a:pathLst>
              <a:path w="3458025" h="3800566">
                <a:moveTo>
                  <a:pt x="156885" y="1352912"/>
                </a:moveTo>
                <a:cubicBezTo>
                  <a:pt x="380138" y="864515"/>
                  <a:pt x="802322" y="529936"/>
                  <a:pt x="1283532" y="401301"/>
                </a:cubicBezTo>
                <a:lnTo>
                  <a:pt x="1376226" y="381221"/>
                </a:lnTo>
                <a:lnTo>
                  <a:pt x="1567950" y="0"/>
                </a:lnTo>
                <a:lnTo>
                  <a:pt x="1740962" y="344016"/>
                </a:lnTo>
                <a:lnTo>
                  <a:pt x="1779236" y="343244"/>
                </a:lnTo>
                <a:cubicBezTo>
                  <a:pt x="2003688" y="349667"/>
                  <a:pt x="2230588" y="400202"/>
                  <a:pt x="2447654" y="499426"/>
                </a:cubicBezTo>
                <a:cubicBezTo>
                  <a:pt x="3315916" y="896321"/>
                  <a:pt x="3698035" y="1921933"/>
                  <a:pt x="3301140" y="2790195"/>
                </a:cubicBezTo>
                <a:cubicBezTo>
                  <a:pt x="2904245" y="3658457"/>
                  <a:pt x="1878633" y="4040576"/>
                  <a:pt x="1010371" y="3643681"/>
                </a:cubicBezTo>
                <a:cubicBezTo>
                  <a:pt x="142109" y="3246786"/>
                  <a:pt x="-240010" y="2221174"/>
                  <a:pt x="156885" y="13529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4</a:t>
            </a:r>
            <a:endParaRPr b="0" lang="en-US" sz="2800" spc="-1" strike="noStrike">
              <a:solidFill>
                <a:srgbClr val="ffffff"/>
              </a:solidFill>
              <a:latin typeface="Arial"/>
            </a:endParaRPr>
          </a:p>
        </p:txBody>
      </p:sp>
      <p:sp>
        <p:nvSpPr>
          <p:cNvPr id="325"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26"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28"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29"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30"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1"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图片 1" descr=""/>
          <p:cNvPicPr/>
          <p:nvPr/>
        </p:nvPicPr>
        <p:blipFill>
          <a:blip r:embed="rId1"/>
          <a:srcRect l="-122" t="23524" r="124" b="3222"/>
          <a:stretch/>
        </p:blipFill>
        <p:spPr>
          <a:xfrm>
            <a:off x="0" y="0"/>
            <a:ext cx="12192120" cy="6873840"/>
          </a:xfrm>
          <a:prstGeom prst="rect">
            <a:avLst/>
          </a:prstGeom>
          <a:ln w="0">
            <a:noFill/>
          </a:ln>
        </p:spPr>
      </p:pic>
      <p:sp>
        <p:nvSpPr>
          <p:cNvPr id="333"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5</a:t>
            </a:r>
            <a:endParaRPr b="0" lang="en-US" sz="2800" spc="-1" strike="noStrike">
              <a:solidFill>
                <a:srgbClr val="ffffff"/>
              </a:solidFill>
              <a:latin typeface="Arial"/>
            </a:endParaRPr>
          </a:p>
        </p:txBody>
      </p:sp>
      <p:sp>
        <p:nvSpPr>
          <p:cNvPr id="337"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38"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40" name="组合 4"/>
          <p:cNvGrpSpPr/>
          <p:nvPr/>
        </p:nvGrpSpPr>
        <p:grpSpPr>
          <a:xfrm>
            <a:off x="5313240" y="608040"/>
            <a:ext cx="6315120" cy="5210280"/>
            <a:chOff x="5313240" y="608040"/>
            <a:chExt cx="6315120" cy="5210280"/>
          </a:xfrm>
        </p:grpSpPr>
        <p:sp>
          <p:nvSpPr>
            <p:cNvPr id="341"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任意多边形 22"/>
            <p:cNvSpPr/>
            <p:nvPr/>
          </p:nvSpPr>
          <p:spPr>
            <a:xfrm>
              <a:off x="7468560" y="5004360"/>
              <a:ext cx="2004480" cy="813960"/>
            </a:xfrm>
            <a:custGeom>
              <a:avLst/>
              <a:gdLst/>
              <a:ahLst/>
              <a:rect l="l" t="t" r="r" b="b"/>
              <a:pathLst>
                <a:path w="2004164" h="814191">
                  <a:moveTo>
                    <a:pt x="313151" y="0"/>
                  </a:moveTo>
                  <a:cubicBezTo>
                    <a:pt x="296450" y="492691"/>
                    <a:pt x="342379" y="546969"/>
                    <a:pt x="0" y="801665"/>
                  </a:cubicBezTo>
                  <a:lnTo>
                    <a:pt x="2004164" y="814191"/>
                  </a:lnTo>
                  <a:cubicBezTo>
                    <a:pt x="1703540" y="601249"/>
                    <a:pt x="1691014" y="425885"/>
                    <a:pt x="1703540" y="0"/>
                  </a:cubicBezTo>
                  <a:lnTo>
                    <a:pt x="313151" y="0"/>
                  </a:lnTo>
                  <a:close/>
                </a:path>
              </a:pathLst>
            </a:custGeom>
            <a:solidFill>
              <a:srgbClr val="ffffff"/>
            </a:solidFill>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47"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48"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49"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0"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1" name="任意多边形 28"/>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组合 29"/>
          <p:cNvGrpSpPr/>
          <p:nvPr/>
        </p:nvGrpSpPr>
        <p:grpSpPr>
          <a:xfrm>
            <a:off x="1325520" y="2990880"/>
            <a:ext cx="590760" cy="396720"/>
            <a:chOff x="1325520" y="2990880"/>
            <a:chExt cx="590760" cy="396720"/>
          </a:xfrm>
        </p:grpSpPr>
        <p:sp>
          <p:nvSpPr>
            <p:cNvPr id="353" name="任意多边形 30"/>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5" name="组合 32"/>
          <p:cNvGrpSpPr/>
          <p:nvPr/>
        </p:nvGrpSpPr>
        <p:grpSpPr>
          <a:xfrm>
            <a:off x="2271600" y="2959200"/>
            <a:ext cx="268560" cy="431640"/>
            <a:chOff x="2271600" y="2959200"/>
            <a:chExt cx="268560" cy="431640"/>
          </a:xfrm>
        </p:grpSpPr>
        <p:grpSp>
          <p:nvGrpSpPr>
            <p:cNvPr id="356" name="组合 33"/>
            <p:cNvGrpSpPr/>
            <p:nvPr/>
          </p:nvGrpSpPr>
          <p:grpSpPr>
            <a:xfrm>
              <a:off x="2271600" y="2959200"/>
              <a:ext cx="268560" cy="268560"/>
              <a:chOff x="2271600" y="2959200"/>
              <a:chExt cx="268560" cy="268560"/>
            </a:xfrm>
          </p:grpSpPr>
          <p:sp>
            <p:nvSpPr>
              <p:cNvPr id="357" name="同心圆 43"/>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8" name="组合 34"/>
            <p:cNvGrpSpPr/>
            <p:nvPr/>
          </p:nvGrpSpPr>
          <p:grpSpPr>
            <a:xfrm>
              <a:off x="2296080" y="3146040"/>
              <a:ext cx="218520" cy="244800"/>
              <a:chOff x="2296080" y="3146040"/>
              <a:chExt cx="218520" cy="244800"/>
            </a:xfrm>
          </p:grpSpPr>
          <p:sp>
            <p:nvSpPr>
              <p:cNvPr id="359"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4"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5"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6"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67"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68" name="组合 7"/>
          <p:cNvGrpSpPr/>
          <p:nvPr/>
        </p:nvGrpSpPr>
        <p:grpSpPr>
          <a:xfrm>
            <a:off x="8291880" y="2019240"/>
            <a:ext cx="358200" cy="354240"/>
            <a:chOff x="8291880" y="2019240"/>
            <a:chExt cx="358200" cy="354240"/>
          </a:xfrm>
        </p:grpSpPr>
        <p:sp>
          <p:nvSpPr>
            <p:cNvPr id="369"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4"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E15B-0E24-4C59-BF23-CA6FCCB7FAD5}"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376" name="图片 1" descr=""/>
          <p:cNvPicPr/>
          <p:nvPr/>
        </p:nvPicPr>
        <p:blipFill>
          <a:blip r:embed="rId1"/>
          <a:srcRect l="-122" t="23524" r="124" b="3222"/>
          <a:stretch/>
        </p:blipFill>
        <p:spPr>
          <a:xfrm>
            <a:off x="0" y="0"/>
            <a:ext cx="12192120" cy="6873840"/>
          </a:xfrm>
          <a:prstGeom prst="rect">
            <a:avLst/>
          </a:prstGeom>
          <a:ln w="0">
            <a:noFill/>
          </a:ln>
        </p:spPr>
      </p:pic>
      <p:sp>
        <p:nvSpPr>
          <p:cNvPr id="377"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6</a:t>
            </a:r>
            <a:endParaRPr b="0" lang="en-US" sz="2800" spc="-1" strike="noStrike">
              <a:solidFill>
                <a:srgbClr val="ffffff"/>
              </a:solidFill>
              <a:latin typeface="Arial"/>
            </a:endParaRPr>
          </a:p>
        </p:txBody>
      </p:sp>
      <p:sp>
        <p:nvSpPr>
          <p:cNvPr id="38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82" name="组合 33"/>
          <p:cNvGrpSpPr/>
          <p:nvPr/>
        </p:nvGrpSpPr>
        <p:grpSpPr>
          <a:xfrm>
            <a:off x="5818320" y="660240"/>
            <a:ext cx="2307960" cy="4950000"/>
            <a:chOff x="5818320" y="660240"/>
            <a:chExt cx="2307960" cy="4950000"/>
          </a:xfrm>
        </p:grpSpPr>
        <p:sp>
          <p:nvSpPr>
            <p:cNvPr id="383"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9" name="组合 40"/>
          <p:cNvGrpSpPr/>
          <p:nvPr/>
        </p:nvGrpSpPr>
        <p:grpSpPr>
          <a:xfrm>
            <a:off x="9220320" y="660240"/>
            <a:ext cx="2307960" cy="4950000"/>
            <a:chOff x="9220320" y="660240"/>
            <a:chExt cx="2307960" cy="4950000"/>
          </a:xfrm>
        </p:grpSpPr>
        <p:sp>
          <p:nvSpPr>
            <p:cNvPr id="390"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组合 19"/>
          <p:cNvGrpSpPr/>
          <p:nvPr/>
        </p:nvGrpSpPr>
        <p:grpSpPr>
          <a:xfrm>
            <a:off x="7483320" y="396720"/>
            <a:ext cx="2428920" cy="5212080"/>
            <a:chOff x="7483320" y="396720"/>
            <a:chExt cx="2428920" cy="5212080"/>
          </a:xfrm>
        </p:grpSpPr>
        <p:sp>
          <p:nvSpPr>
            <p:cNvPr id="397"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3" name="组合 30"/>
          <p:cNvGrpSpPr/>
          <p:nvPr/>
        </p:nvGrpSpPr>
        <p:grpSpPr>
          <a:xfrm>
            <a:off x="8576280" y="2379600"/>
            <a:ext cx="258840" cy="258120"/>
            <a:chOff x="8576280" y="2379600"/>
            <a:chExt cx="258840" cy="258120"/>
          </a:xfrm>
        </p:grpSpPr>
        <p:sp>
          <p:nvSpPr>
            <p:cNvPr id="404"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9"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0" name="组合 51"/>
          <p:cNvGrpSpPr/>
          <p:nvPr/>
        </p:nvGrpSpPr>
        <p:grpSpPr>
          <a:xfrm>
            <a:off x="6649560" y="2846520"/>
            <a:ext cx="258480" cy="258120"/>
            <a:chOff x="6649560" y="2846520"/>
            <a:chExt cx="258480" cy="258120"/>
          </a:xfrm>
        </p:grpSpPr>
        <p:sp>
          <p:nvSpPr>
            <p:cNvPr id="411"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6"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7" name="组合 58"/>
          <p:cNvGrpSpPr/>
          <p:nvPr/>
        </p:nvGrpSpPr>
        <p:grpSpPr>
          <a:xfrm>
            <a:off x="10454400" y="2846520"/>
            <a:ext cx="258840" cy="258120"/>
            <a:chOff x="10454400" y="2846520"/>
            <a:chExt cx="258840" cy="258120"/>
          </a:xfrm>
        </p:grpSpPr>
        <p:sp>
          <p:nvSpPr>
            <p:cNvPr id="418"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3"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24"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25"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27"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28"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29"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0"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1" name="任意多边形 72"/>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2" name="组合 73"/>
          <p:cNvGrpSpPr/>
          <p:nvPr/>
        </p:nvGrpSpPr>
        <p:grpSpPr>
          <a:xfrm>
            <a:off x="1325520" y="2990880"/>
            <a:ext cx="590760" cy="396720"/>
            <a:chOff x="1325520" y="2990880"/>
            <a:chExt cx="590760" cy="396720"/>
          </a:xfrm>
        </p:grpSpPr>
        <p:sp>
          <p:nvSpPr>
            <p:cNvPr id="433" name="任意多边形 74"/>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5" name="组合 76"/>
          <p:cNvGrpSpPr/>
          <p:nvPr/>
        </p:nvGrpSpPr>
        <p:grpSpPr>
          <a:xfrm>
            <a:off x="2271600" y="2959200"/>
            <a:ext cx="268560" cy="431640"/>
            <a:chOff x="2271600" y="2959200"/>
            <a:chExt cx="268560" cy="431640"/>
          </a:xfrm>
        </p:grpSpPr>
        <p:grpSp>
          <p:nvGrpSpPr>
            <p:cNvPr id="436" name="组合 77"/>
            <p:cNvGrpSpPr/>
            <p:nvPr/>
          </p:nvGrpSpPr>
          <p:grpSpPr>
            <a:xfrm>
              <a:off x="2271600" y="2959200"/>
              <a:ext cx="268560" cy="268560"/>
              <a:chOff x="2271600" y="2959200"/>
              <a:chExt cx="268560" cy="268560"/>
            </a:xfrm>
          </p:grpSpPr>
          <p:sp>
            <p:nvSpPr>
              <p:cNvPr id="437" name="同心圆 87"/>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8" name="组合 78"/>
            <p:cNvGrpSpPr/>
            <p:nvPr/>
          </p:nvGrpSpPr>
          <p:grpSpPr>
            <a:xfrm>
              <a:off x="2296080" y="3146040"/>
              <a:ext cx="218520" cy="244800"/>
              <a:chOff x="2296080" y="3146040"/>
              <a:chExt cx="218520" cy="244800"/>
            </a:xfrm>
          </p:grpSpPr>
          <p:sp>
            <p:nvSpPr>
              <p:cNvPr id="439"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5"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6"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47"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CC9B-890C-4CF4-AE9E-1C28F1975B4B}"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449" name="图表 1" descr=""/>
          <p:cNvPicPr/>
          <p:nvPr/>
        </p:nvPicPr>
        <p:blipFill>
          <a:blip r:embed="rId1"/>
          <a:stretch/>
        </p:blipFill>
        <p:spPr>
          <a:xfrm>
            <a:off x="1089000" y="1152360"/>
            <a:ext cx="3168720" cy="2111400"/>
          </a:xfrm>
          <a:prstGeom prst="rect">
            <a:avLst/>
          </a:prstGeom>
          <a:ln w="0">
            <a:noFill/>
          </a:ln>
        </p:spPr>
      </p:pic>
      <p:pic>
        <p:nvPicPr>
          <p:cNvPr id="450" name="图表 2" descr=""/>
          <p:cNvPicPr/>
          <p:nvPr/>
        </p:nvPicPr>
        <p:blipFill>
          <a:blip r:embed="rId2"/>
          <a:stretch/>
        </p:blipFill>
        <p:spPr>
          <a:xfrm>
            <a:off x="4511520" y="1152360"/>
            <a:ext cx="3168720" cy="2111400"/>
          </a:xfrm>
          <a:prstGeom prst="rect">
            <a:avLst/>
          </a:prstGeom>
          <a:ln w="0">
            <a:noFill/>
          </a:ln>
        </p:spPr>
      </p:pic>
      <p:pic>
        <p:nvPicPr>
          <p:cNvPr id="451" name="图表 3" descr=""/>
          <p:cNvPicPr/>
          <p:nvPr/>
        </p:nvPicPr>
        <p:blipFill>
          <a:blip r:embed="rId3"/>
          <a:stretch/>
        </p:blipFill>
        <p:spPr>
          <a:xfrm>
            <a:off x="7934400" y="1152360"/>
            <a:ext cx="3168720" cy="2111400"/>
          </a:xfrm>
          <a:prstGeom prst="rect">
            <a:avLst/>
          </a:prstGeom>
          <a:ln w="0">
            <a:noFill/>
          </a:ln>
        </p:spPr>
      </p:pic>
      <p:sp>
        <p:nvSpPr>
          <p:cNvPr id="452"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7</a:t>
            </a:r>
            <a:endParaRPr b="0" lang="en-US" sz="2800" spc="-1" strike="noStrike">
              <a:solidFill>
                <a:srgbClr val="ffffff"/>
              </a:solidFill>
              <a:latin typeface="Arial"/>
            </a:endParaRPr>
          </a:p>
        </p:txBody>
      </p:sp>
      <p:sp>
        <p:nvSpPr>
          <p:cNvPr id="453"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54"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56"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57" name="圆角矩形 9"/>
          <p:cNvSpPr/>
          <p:nvPr/>
        </p:nvSpPr>
        <p:spPr>
          <a:xfrm flipV="1">
            <a:off x="1481040" y="4295160"/>
            <a:ext cx="241164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59"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60" name="圆角矩形 14"/>
          <p:cNvSpPr/>
          <p:nvPr/>
        </p:nvSpPr>
        <p:spPr>
          <a:xfrm flipV="1">
            <a:off x="498960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62"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63" name="圆角矩形 18"/>
          <p:cNvSpPr/>
          <p:nvPr/>
        </p:nvSpPr>
        <p:spPr>
          <a:xfrm flipV="1">
            <a:off x="848844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图表 1" descr=""/>
          <p:cNvPicPr/>
          <p:nvPr/>
        </p:nvPicPr>
        <p:blipFill>
          <a:blip r:embed="rId1"/>
          <a:stretch/>
        </p:blipFill>
        <p:spPr>
          <a:xfrm>
            <a:off x="3225960" y="1515960"/>
            <a:ext cx="5738760" cy="3826080"/>
          </a:xfrm>
          <a:prstGeom prst="rect">
            <a:avLst/>
          </a:prstGeom>
          <a:ln w="0">
            <a:noFill/>
          </a:ln>
        </p:spPr>
      </p:pic>
      <p:sp>
        <p:nvSpPr>
          <p:cNvPr id="466"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8</a:t>
            </a:r>
            <a:endParaRPr b="0" lang="en-US" sz="2800" spc="-1" strike="noStrike">
              <a:solidFill>
                <a:srgbClr val="ffffff"/>
              </a:solidFill>
              <a:latin typeface="Arial"/>
            </a:endParaRPr>
          </a:p>
        </p:txBody>
      </p:sp>
      <p:sp>
        <p:nvSpPr>
          <p:cNvPr id="467"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69"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0"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1"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2"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74"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75"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图表 1" descr=""/>
          <p:cNvPicPr/>
          <p:nvPr/>
        </p:nvPicPr>
        <p:blipFill>
          <a:blip r:embed="rId1"/>
          <a:stretch/>
        </p:blipFill>
        <p:spPr>
          <a:xfrm>
            <a:off x="603360" y="933480"/>
            <a:ext cx="10671120" cy="4978440"/>
          </a:xfrm>
          <a:prstGeom prst="rect">
            <a:avLst/>
          </a:prstGeom>
          <a:ln w="0">
            <a:noFill/>
          </a:ln>
        </p:spPr>
      </p:pic>
      <p:sp>
        <p:nvSpPr>
          <p:cNvPr id="477"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9</a:t>
            </a:r>
            <a:endParaRPr b="0" lang="en-US" sz="2800" spc="-1" strike="noStrike">
              <a:solidFill>
                <a:srgbClr val="ffffff"/>
              </a:solidFill>
              <a:latin typeface="Arial"/>
            </a:endParaRPr>
          </a:p>
        </p:txBody>
      </p:sp>
      <p:sp>
        <p:nvSpPr>
          <p:cNvPr id="478"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79"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1"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82"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图片 1" descr=""/>
          <p:cNvPicPr/>
          <p:nvPr/>
        </p:nvPicPr>
        <p:blipFill>
          <a:blip r:embed="rId1"/>
          <a:srcRect l="-122" t="23524" r="124" b="3222"/>
          <a:stretch/>
        </p:blipFill>
        <p:spPr>
          <a:xfrm>
            <a:off x="0" y="0"/>
            <a:ext cx="12192120" cy="6873840"/>
          </a:xfrm>
          <a:prstGeom prst="rect">
            <a:avLst/>
          </a:prstGeom>
          <a:ln w="0">
            <a:noFill/>
          </a:ln>
        </p:spPr>
      </p:pic>
      <p:sp>
        <p:nvSpPr>
          <p:cNvPr id="484"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486"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8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a:t>
            </a:r>
            <a:endParaRPr b="0" lang="en-US" sz="2800" spc="-1" strike="noStrike">
              <a:solidFill>
                <a:srgbClr val="ffffff"/>
              </a:solidFill>
              <a:latin typeface="Arial"/>
            </a:endParaRPr>
          </a:p>
        </p:txBody>
      </p:sp>
      <p:sp>
        <p:nvSpPr>
          <p:cNvPr id="490"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491"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492"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493"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494"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495"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496"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497" name="文本框 19"/>
          <p:cNvSpPr/>
          <p:nvPr/>
        </p:nvSpPr>
        <p:spPr>
          <a:xfrm>
            <a:off x="396720" y="423396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
        <p:nvSpPr>
          <p:cNvPr id="498"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CFBC-8CD4-4DCA-9519-9EE87F8D145A}"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93"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5</a:t>
            </a:r>
            <a:endParaRPr b="0" lang="en-US" sz="2800" spc="-1" strike="noStrike">
              <a:solidFill>
                <a:srgbClr val="ffffff"/>
              </a:solidFill>
              <a:latin typeface="Arial"/>
            </a:endParaRPr>
          </a:p>
        </p:txBody>
      </p:sp>
      <p:sp>
        <p:nvSpPr>
          <p:cNvPr id="95"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6"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8"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2"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3"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4"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6"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7"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8"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10"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1"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6</a:t>
            </a:r>
            <a:endParaRPr b="0" lang="en-US" sz="2800" spc="-1" strike="noStrike">
              <a:solidFill>
                <a:srgbClr val="ffffff"/>
              </a:solidFill>
              <a:latin typeface="Arial"/>
            </a:endParaRPr>
          </a:p>
        </p:txBody>
      </p:sp>
      <p:sp>
        <p:nvSpPr>
          <p:cNvPr id="114"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6"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8"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9"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4"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7"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0"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3"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7</a:t>
            </a:r>
            <a:endParaRPr b="0" lang="en-US" sz="2800" spc="-1" strike="noStrike">
              <a:solidFill>
                <a:srgbClr val="ffffff"/>
              </a:solidFill>
              <a:latin typeface="Arial"/>
            </a:endParaRPr>
          </a:p>
        </p:txBody>
      </p:sp>
      <p:sp>
        <p:nvSpPr>
          <p:cNvPr id="134"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5"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7"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40"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1" name="图片 1" descr=""/>
          <p:cNvPicPr/>
          <p:nvPr/>
        </p:nvPicPr>
        <p:blipFill>
          <a:blip r:embed="rId1"/>
          <a:srcRect l="-122" t="23524" r="124" b="3222"/>
          <a:stretch/>
        </p:blipFill>
        <p:spPr>
          <a:xfrm>
            <a:off x="0" y="0"/>
            <a:ext cx="12192120" cy="6873840"/>
          </a:xfrm>
          <a:prstGeom prst="rect">
            <a:avLst/>
          </a:prstGeom>
          <a:ln w="0">
            <a:noFill/>
          </a:ln>
        </p:spPr>
      </p:pic>
      <p:sp>
        <p:nvSpPr>
          <p:cNvPr id="142"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sp>
        <p:nvSpPr>
          <p:cNvPr id="145"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8</a:t>
            </a:r>
            <a:endParaRPr b="0" lang="en-US" sz="2800" spc="-1" strike="noStrike">
              <a:solidFill>
                <a:srgbClr val="ffffff"/>
              </a:solidFill>
              <a:latin typeface="Arial"/>
            </a:endParaRPr>
          </a:p>
        </p:txBody>
      </p:sp>
      <p:sp>
        <p:nvSpPr>
          <p:cNvPr id="149"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50"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2" name="任意多边形 12"/>
          <p:cNvSpPr/>
          <p:nvPr/>
        </p:nvSpPr>
        <p:spPr>
          <a:xfrm>
            <a:off x="2013120" y="2190600"/>
            <a:ext cx="447480" cy="88596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组合 4"/>
          <p:cNvGrpSpPr/>
          <p:nvPr/>
        </p:nvGrpSpPr>
        <p:grpSpPr>
          <a:xfrm>
            <a:off x="5584680" y="2279520"/>
            <a:ext cx="1022400" cy="708120"/>
            <a:chOff x="5584680" y="2279520"/>
            <a:chExt cx="1022400" cy="708120"/>
          </a:xfrm>
        </p:grpSpPr>
        <p:sp>
          <p:nvSpPr>
            <p:cNvPr id="154" name="任意多边形 13"/>
            <p:cNvSpPr/>
            <p:nvPr/>
          </p:nvSpPr>
          <p:spPr>
            <a:xfrm>
              <a:off x="5629320" y="2279520"/>
              <a:ext cx="933120" cy="59652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 name="组合 6"/>
          <p:cNvGrpSpPr/>
          <p:nvPr/>
        </p:nvGrpSpPr>
        <p:grpSpPr>
          <a:xfrm>
            <a:off x="9713880" y="2133720"/>
            <a:ext cx="552600" cy="888840"/>
            <a:chOff x="9713880" y="2133720"/>
            <a:chExt cx="552600" cy="888840"/>
          </a:xfrm>
        </p:grpSpPr>
        <p:grpSp>
          <p:nvGrpSpPr>
            <p:cNvPr id="157" name="组合 19"/>
            <p:cNvGrpSpPr/>
            <p:nvPr/>
          </p:nvGrpSpPr>
          <p:grpSpPr>
            <a:xfrm>
              <a:off x="9713880" y="2133720"/>
              <a:ext cx="552600" cy="553320"/>
              <a:chOff x="9713880" y="2133720"/>
              <a:chExt cx="552600" cy="553320"/>
            </a:xfrm>
          </p:grpSpPr>
          <p:sp>
            <p:nvSpPr>
              <p:cNvPr id="158" name="同心圆 20"/>
              <p:cNvSpPr/>
              <p:nvPr/>
            </p:nvSpPr>
            <p:spPr>
              <a:xfrm>
                <a:off x="9713880" y="2133720"/>
                <a:ext cx="552600" cy="553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组合 23"/>
            <p:cNvGrpSpPr/>
            <p:nvPr/>
          </p:nvGrpSpPr>
          <p:grpSpPr>
            <a:xfrm>
              <a:off x="9765360" y="2518560"/>
              <a:ext cx="449640" cy="504000"/>
              <a:chOff x="9765360" y="2518560"/>
              <a:chExt cx="449640" cy="504000"/>
            </a:xfrm>
          </p:grpSpPr>
          <p:sp>
            <p:nvSpPr>
              <p:cNvPr id="160"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8"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69"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0"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1"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5"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1DD0-7356-4D73-A23E-F8BB3D3C753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5928480" y="2914200"/>
                  <a:ext cx="330120" cy="330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组合 23"/>
              <p:cNvGrpSpPr/>
              <p:nvPr/>
            </p:nvGrpSpPr>
            <p:grpSpPr>
              <a:xfrm>
                <a:off x="5958720" y="3144240"/>
                <a:ext cx="268920" cy="300960"/>
                <a:chOff x="5958720" y="3144240"/>
                <a:chExt cx="268920" cy="300960"/>
              </a:xfrm>
            </p:grpSpPr>
            <p:sp>
              <p:nvSpPr>
                <p:cNvPr id="196"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4" name="组合 43"/>
          <p:cNvGrpSpPr/>
          <p:nvPr/>
        </p:nvGrpSpPr>
        <p:grpSpPr>
          <a:xfrm>
            <a:off x="7854840" y="2583000"/>
            <a:ext cx="1258920" cy="1260360"/>
            <a:chOff x="7854840" y="2583000"/>
            <a:chExt cx="1258920" cy="1260360"/>
          </a:xfrm>
        </p:grpSpPr>
        <p:sp>
          <p:nvSpPr>
            <p:cNvPr id="205"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圆角矩形 3"/>
            <p:cNvSpPr/>
            <p:nvPr/>
          </p:nvSpPr>
          <p:spPr>
            <a:xfrm>
              <a:off x="8208000" y="2947680"/>
              <a:ext cx="552240" cy="531000"/>
            </a:xfrm>
            <a:custGeom>
              <a:avLst/>
              <a:gdLst/>
              <a:ahLst/>
              <a:rect l="l" t="t" r="r" b="b"/>
              <a:pathLst>
                <a:path w="616226" h="591791">
                  <a:moveTo>
                    <a:pt x="0" y="155713"/>
                  </a:moveTo>
                  <a:cubicBezTo>
                    <a:pt x="0" y="69715"/>
                    <a:pt x="69715" y="0"/>
                    <a:pt x="155713" y="0"/>
                  </a:cubicBezTo>
                  <a:lnTo>
                    <a:pt x="460513" y="0"/>
                  </a:lnTo>
                  <a:cubicBezTo>
                    <a:pt x="546511" y="0"/>
                    <a:pt x="616226" y="69715"/>
                    <a:pt x="616226" y="155713"/>
                  </a:cubicBezTo>
                  <a:lnTo>
                    <a:pt x="616226" y="301487"/>
                  </a:lnTo>
                  <a:cubicBezTo>
                    <a:pt x="616226" y="387485"/>
                    <a:pt x="546511" y="457200"/>
                    <a:pt x="460513" y="457200"/>
                  </a:cubicBezTo>
                  <a:cubicBezTo>
                    <a:pt x="415942" y="505584"/>
                    <a:pt x="442033" y="487206"/>
                    <a:pt x="348802" y="591791"/>
                  </a:cubicBezTo>
                  <a:cubicBezTo>
                    <a:pt x="379396" y="472539"/>
                    <a:pt x="390509" y="478493"/>
                    <a:pt x="358327" y="456061"/>
                  </a:cubicBezTo>
                  <a:lnTo>
                    <a:pt x="155713" y="457200"/>
                  </a:lnTo>
                  <a:cubicBezTo>
                    <a:pt x="69715" y="457200"/>
                    <a:pt x="0" y="387485"/>
                    <a:pt x="0" y="301487"/>
                  </a:cubicBezTo>
                  <a:lnTo>
                    <a:pt x="0" y="155713"/>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组合 42"/>
          <p:cNvGrpSpPr/>
          <p:nvPr/>
        </p:nvGrpSpPr>
        <p:grpSpPr>
          <a:xfrm>
            <a:off x="10264680" y="2583000"/>
            <a:ext cx="1260720" cy="1260360"/>
            <a:chOff x="10264680" y="2583000"/>
            <a:chExt cx="1260720" cy="1260360"/>
          </a:xfrm>
        </p:grpSpPr>
        <p:sp>
          <p:nvSpPr>
            <p:cNvPr id="208"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组合 41"/>
            <p:cNvGrpSpPr/>
            <p:nvPr/>
          </p:nvGrpSpPr>
          <p:grpSpPr>
            <a:xfrm>
              <a:off x="10592640" y="2994480"/>
              <a:ext cx="604800" cy="437040"/>
              <a:chOff x="10592640" y="2994480"/>
              <a:chExt cx="604800" cy="437040"/>
            </a:xfrm>
          </p:grpSpPr>
          <p:sp>
            <p:nvSpPr>
              <p:cNvPr id="210" name="任意多边形 39"/>
              <p:cNvSpPr/>
              <p:nvPr/>
            </p:nvSpPr>
            <p:spPr>
              <a:xfrm>
                <a:off x="10592640" y="3031920"/>
                <a:ext cx="604800" cy="399600"/>
              </a:xfrm>
              <a:custGeom>
                <a:avLst/>
                <a:gdLst/>
                <a:ahLst/>
                <a:rect l="l" t="t" r="r" b="b"/>
                <a:pathLst>
                  <a:path w="735496" h="486168">
                    <a:moveTo>
                      <a:pt x="706070" y="0"/>
                    </a:moveTo>
                    <a:lnTo>
                      <a:pt x="726277" y="8370"/>
                    </a:lnTo>
                    <a:cubicBezTo>
                      <a:pt x="731973" y="14066"/>
                      <a:pt x="735496" y="21935"/>
                      <a:pt x="735496" y="30627"/>
                    </a:cubicBezTo>
                    <a:lnTo>
                      <a:pt x="735496" y="454692"/>
                    </a:lnTo>
                    <a:cubicBezTo>
                      <a:pt x="735496" y="472076"/>
                      <a:pt x="721404" y="486168"/>
                      <a:pt x="704020" y="486168"/>
                    </a:cubicBezTo>
                    <a:lnTo>
                      <a:pt x="31476" y="486168"/>
                    </a:lnTo>
                    <a:cubicBezTo>
                      <a:pt x="14092" y="486168"/>
                      <a:pt x="0" y="472076"/>
                      <a:pt x="0" y="454692"/>
                    </a:cubicBezTo>
                    <a:lnTo>
                      <a:pt x="0" y="30627"/>
                    </a:lnTo>
                    <a:cubicBezTo>
                      <a:pt x="0" y="21935"/>
                      <a:pt x="3523" y="14066"/>
                      <a:pt x="9219" y="8370"/>
                    </a:cubicBezTo>
                    <a:lnTo>
                      <a:pt x="29425" y="1"/>
                    </a:lnTo>
                    <a:lnTo>
                      <a:pt x="367747" y="338323"/>
                    </a:lnTo>
                    <a:lnTo>
                      <a:pt x="706070"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任意多边形 40"/>
              <p:cNvSpPr/>
              <p:nvPr/>
            </p:nvSpPr>
            <p:spPr>
              <a:xfrm>
                <a:off x="10620720" y="2994480"/>
                <a:ext cx="551880" cy="278640"/>
              </a:xfrm>
              <a:custGeom>
                <a:avLst/>
                <a:gdLst/>
                <a:ahLst/>
                <a:rect l="l" t="t" r="r" b="b"/>
                <a:pathLst>
                  <a:path w="671126" h="339171">
                    <a:moveTo>
                      <a:pt x="17422" y="0"/>
                    </a:moveTo>
                    <a:lnTo>
                      <a:pt x="671126" y="0"/>
                    </a:lnTo>
                    <a:lnTo>
                      <a:pt x="331955" y="339171"/>
                    </a:lnTo>
                    <a:lnTo>
                      <a:pt x="0" y="7216"/>
                    </a:lnTo>
                    <a:lnTo>
                      <a:pt x="17422"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2"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3"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5"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6"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18"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19"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1"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2"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4"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5"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7"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28"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哎呀小小草</dc:creator>
  <dc:description>https://800sucai.taobao.com</dc:description>
  <cp:keywords>https://800sucai.taobao.com</cp:keywords>
  <dc:language>en-US</dc:language>
  <cp:lastModifiedBy>Administrator</cp:lastModifiedBy>
  <dcterms:modified xsi:type="dcterms:W3CDTF">2016-09-09T03:19:15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