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32A-0DC6-4F3E-A2DC-96D20118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CF3-6CA6-4B65-B0BE-A0BB024B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69BCD-EDD8-48CF-87AD-05B64E12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BD23D-4C46-435A-900A-0E177C9D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10A74-6EEA-4657-95A6-55413A06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14DA0-E897-46C0-83B2-B816179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0B0D2-F703-4B22-9307-FEB398F8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BE025-77A4-4A9A-8B13-838603CC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B2F6B-5D39-4E4D-AA6D-4841BEA3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34888-8714-469F-BE12-896DFE40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8A73E-6850-4E73-A409-35680A77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03054-B656-4C5F-9D8B-D5F7D71E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AFF-1357-42C3-8EE4-5859F4DD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AF283-4586-4BEE-BEDF-4A0E081A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FFAF4-9FB1-4E27-BDC8-7D72CEED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D289A-8C79-400C-B843-876B4883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FCF69-0560-480D-B6BD-D66BF842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36ED0-8C7B-41F6-B373-666B7353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FFB3E-0259-4057-92F3-CDCA9540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FB298-8644-4F0A-A63A-E6750F96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14004-E864-4D45-9033-3C24D0BB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7D416-487E-493A-A655-A218F8CA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E8631-986E-4789-9111-9DA5DC61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F5C-412F-4F6B-BAFB-A0D88A55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8A2AD-17BC-47A7-A7DD-CC454F1A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34F00-92B7-45F1-A864-35420A07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9ADA4-1216-4458-8A28-32526003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56C9A-18D3-4C57-A65E-D569D99C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76E6C-7BB2-4B15-9B0E-2F39EA5E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032C7-170C-4544-B634-F0F7C455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A302B-FB47-443B-9939-C8DC7C63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41E5D-5D03-4E3D-B282-08BF4919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E4E6A-72C7-4FB6-872A-1D0E285A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18564-0954-49E4-ACC3-5EC1D5C9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4491-6CBC-4A37-838E-A8703F44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DE4AD-63D8-4DC5-AA0B-CDB36E9C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1627D-5792-4DF4-81BC-9D8F32F9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E2834-2490-4841-B6DA-CC8FEEEE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7B953-98B0-4439-901B-2C0223D8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565FF-74BB-4893-9645-A83E58EF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14A5E-3EA0-440F-A047-36FBA371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E8AAC-753D-4429-A0C3-6C5B0B4C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4311A-A588-4AA6-847C-A7AFED8A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30360-E6B8-42A6-AA4C-2371D6BD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2EC54-4220-40AC-BF3D-5E55399D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1BF5-EFF8-4A62-B676-E69284A6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8B900-1AC6-48D3-973C-C802A20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88BD4-8D5E-48E0-82A7-6C23BAB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844BF-9A2A-4FE3-BD61-44BC7879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E6802-895E-428E-AD95-88163E85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7E898-4789-41BA-AA6A-24A62406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3C750-ABDF-4493-8A6D-831623FE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C6A2F-EC04-4781-9972-A7DE5548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D812B-E680-4B1A-BA4E-F70D4981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543BB-92F4-4A34-8410-126550FC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2B36A-7BCE-491E-A4A3-702C8018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5060-1A3B-4184-A91A-5DE8B48D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79806-35F4-47E6-8229-8F099BEC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AF32C-A19F-4007-860A-3A07D1D3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C34FC-04DE-4DC3-AF6D-6D2F3F7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03A3B-A22C-440F-A908-8F09BAEB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77D0E-3BB2-40BD-988E-4646F22F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41281-F5DF-441E-856C-F072E368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CC046-60F3-439F-8080-BD8899BD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4218-4FB6-4A67-AA9B-5BF7628E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8F30-3E07-4E48-AC2A-D102A4F4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86B2-8474-4AFB-90D8-A65C4293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81D4-69B8-449B-8659-8B898CCE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8B2-22B8-4232-B173-140FD529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7B90-0138-4C9D-A88A-1B828A9C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E286-71D9-4960-A81A-3A6EB98E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FD9D-9AB9-4095-9106-8F4E59EE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7FD0-1C66-48B1-9B27-3DD6B400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BA8F-84CA-4796-A42A-9C0E63DE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AAE0-F06E-4799-970C-BF17645A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6C56-B7A7-4C1E-B035-D3835D5C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C06A-347E-4350-9C68-8C25D60E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2C5D-3031-4B6E-95E2-CE094DA0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0B25-5CB9-40CF-8E90-03A7E713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FF1-C4DB-4644-8F1D-88802D3C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7BD6B-718E-4118-9C8C-246FB4FF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916C-BCBB-4F44-B248-76D9D45A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1062-8C74-44F9-9CAD-4406A9EA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FCF9-D995-427F-ABA4-9FAE7C23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CAD3A-77B5-4BF6-86EA-D89E1A8A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8798-93AB-4314-AD2C-02B5311B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B9E3-84F5-44B1-AC3B-70FAAF01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85DF5-0018-4B0B-B177-C757A107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1692-A95B-499F-9B35-7E7D02D7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54BB9-2F57-4B81-9E74-820F3EEC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6C1-4489-4E65-AAA5-D489B493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F60F4-0257-4F38-857F-9A206D08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95D36-E30B-4D0D-A8A4-847CE8C7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D6744-8077-4950-89B6-D84CBC1F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BE68-460D-4A38-8656-43A0B59E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3AA4D-27D9-4F93-BA8A-BD4A57EF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C876-4175-42C6-BFBF-20CA261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F16F-BD53-4B6C-BC47-5F88A4F6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2341F-8B51-4F2B-9F1F-E6A9E0EF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57EB-E6BE-4C5B-9F1B-4A1EADFF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64EA-BD18-48E8-891A-8FF066FF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CF4-7B44-438D-86CB-B8CDF594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CB75-9714-47F6-97C7-58C7E2A9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AB1C-1AF9-4690-938D-79CACB15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DB9F9-2E80-4214-A1E4-DFCA60D2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22DB2-0F8A-4587-B960-4C20DB81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4C169-FC31-4EB7-B34C-58590E4D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31BDA-98AF-4882-951B-7CCC6046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E0CB1-1F54-41F8-A304-48CE1747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67993-D7DE-4F98-80EB-DDC2D843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BC844-64CE-4D8E-8685-3C4D4C38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22AD4-5B22-45E1-84EF-E7C6E8D2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C8C-7C09-41B4-BB21-D499D105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27832-756A-4DE9-B1AC-B59BBBC0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0034E-4E76-4A83-A0BC-D795270C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70808-89F7-463A-A916-923AC7BE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460FF-470F-4206-9854-A9D5367C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6925B-0362-4625-9EF5-5489393E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29378-7F65-4F41-8105-516CBB53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58BB2-35D4-4185-ACF4-FE5784B5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9EB0C-0E35-47F1-BDE5-ACE802D7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A5203-9C57-43B9-BF75-043511F6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620BA-E369-4E3D-88C6-B5976A98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F6D-CE7F-412C-9B45-538753F7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EB5C9-6F7F-479D-BAE5-3B5C85C0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3321C-ECDC-48DA-8B7E-3148F048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60C96-F97C-42CC-9E9C-15773416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5B4EC-180E-437D-9E0D-8D8951EF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D09AE-9C3B-40DE-9A1B-56083BF3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481B0-46A8-4A7B-BD3F-6450A41D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B8998-29FB-418B-906B-C1BDC431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4F459-594E-43E5-9744-F4729E9C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AC88B-F10A-4452-A7FB-BB43C74C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2BE88-190E-4898-9935-D5325462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98D-7A0F-49F6-895B-D927E55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757C2-5343-4D3D-B506-A49374F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91C5-77AD-412D-9483-FE49E47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4B4FB-277C-4A60-96D1-ABECD493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719D-36A6-428E-AD85-8C1BBCBE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F102E-8E6B-4831-8051-4BED977D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C42D6-0BFB-4C89-A7E3-6B128D8D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34649-EC34-4BD4-8DA7-038AD7A7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25A6C-9522-4069-87A2-2E8C2A23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DB063-C92E-42D7-AB4D-83D2680B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A35F4-1FA1-487E-99B8-CA0771E0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CD0-24BF-4B22-B0BC-DD092C6B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9DEB3-A327-4521-878D-684F1E34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1A89D-D9E4-43AD-9E22-656BBAD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8DDA5-0514-47FF-B4CC-D4FFB38F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19D00-B93B-49C6-9AF0-E227825E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206AF-4381-43C9-8A73-72D7956B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B32CE-1F62-4B13-B3F4-A637F864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70837-0D91-4ED4-9CBE-0A795990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38CAF-19C8-4987-B5FB-2492497B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38DB0-5A4B-4CBA-B1B7-EEFB5A83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B9116-3EA5-4304-A239-B21DC5DF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2A09-96F2-4979-8032-413DD1F9F43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E89B-CB6D-4456-9D68-7B52B7717C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738B-D74A-45BF-AFA3-9E03A5B69F6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F136-CE4E-4DC1-9659-00AA00EA54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3B98-09C6-4DBA-A256-0D0C89D42DC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BB18-A790-4C4F-A01E-3B47261D6B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7C70-DCA1-4A34-B103-5804D309BC9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98BC-1CF1-4FC4-8DC8-4AC8064ACE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7E22-BC7C-4492-AB52-6380AE7A81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BEAE-7CC9-4271-B50E-FFC17F0C88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9E61-85AB-4B30-951E-0370D75B2D3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16DC-A655-4085-B47B-1DE6B4D3DB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E584-58F0-419E-83C6-9D4074AB329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EB0A-716A-4FD2-A7CC-2318189643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18E1-B242-4041-8A1C-BD288082FC3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2114-6D5E-4720-8C4E-C9D2562D2F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CFE8-1180-422C-B5BA-20F9131D5E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6096-524F-48A8-B9D0-A35B5EF99B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9118-4BAE-4BB0-BD0F-C04759FC2E7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D98A-4E1F-45AF-B9AC-A1F28647D5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5384-8B81-424C-961C-F54FAC5ECB2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506A-A5E2-4228-AF43-11D123C7B7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443D-84F4-4B73-B1B9-E240762C1F8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B4CE-FD73-4BDB-9D20-D2E14C2120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7D39-E715-4BD9-B663-A9ECE17AA43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703D-3387-4C42-A93B-BC5B24929C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微软雅黑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微软雅黑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prstGeom prst="pie">
            <a:avLst/>
          </a:pr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prstGeom prst="pie">
            <a:avLst/>
          </a:pr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6-03-08T15:53:51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