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97E-DB6D-4605-95F7-2C272AA4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75A-1C88-4BBD-918C-648D6C0E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E84B7-E7C2-404C-992E-EC4CD278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BC770-4068-44CA-99F4-B5CC5104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FD1BB-F6AD-4057-B04D-6C6CDC52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2C2D0-8C29-42E6-9A43-5D899F12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55456-8774-4D3B-B859-61952BDA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59EC9-49FC-4500-889F-5FA7E447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7B9AC-50CB-450C-8C04-A68EF1FB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DDF34-A557-4509-B839-00DDD582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5F324-3F44-4E3D-9B0D-16C0C0F6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BE23F-ABD1-4DC9-ABDE-EC54B413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584-A48F-4357-9B7A-1F223C95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62526-952C-44DD-A21A-32838183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7DD59-4C30-4E70-9BA4-09835DD9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B6E40-3191-4810-A13A-C56B0A0E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37B36-A24E-49A7-95E7-26BD6B2F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87057-401B-48EF-BDDB-E7B4985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C0833-DF69-46E2-BF03-BF2E76B6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7B3A8-8C1D-4F09-BD87-757894A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35863-5AC4-43C6-80E3-DC919FA8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381DB-9C40-40C3-8F7B-DE7A33D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8E9EE-125C-471B-89D5-8B110987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092-1FDA-4769-8C6E-D06C7127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C17AC-1436-4EDF-AA2F-48CEECD4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77858-67DF-4E11-9F6F-B9FA37C2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82570-F78B-4EDC-BB5B-280CB661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49962-BE03-43AE-BAC9-9C0F7627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69978-4AED-4F3C-80A8-84725B9F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60E39-EF9E-440D-AC36-03642032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C46B4-EC98-4756-871E-E5C90798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0AFA4-DC55-42A3-94E9-76795A37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82B62-BD73-4BA3-8DBB-971E519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3A498-A1CB-4555-9023-4321B50F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2AAE-E656-4D9B-B3C0-B5160F4D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8BC1D-CA50-414A-9D2A-695A0A6F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A75D2-DA66-4D29-9A51-DD237EC2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DAF03-7BC3-4FB4-915B-7BED55DB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77AF8-7DD2-477D-A6C6-FB95BEB6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54589-AC28-46DB-84C7-3003299D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081BC-9862-4E1D-8331-DDAAD1D5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7A3EF-C26A-482D-AD5E-68FA0743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33596-960D-4C62-9710-9444F67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23219-1947-405E-A887-C903135E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56EF4-B792-47A2-B2BE-180605C2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44D9-FC26-45B4-9024-4982BC3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D6D6D-33A2-47E4-8CCD-FD006E1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DA054-89EE-451F-9CE7-8E848DB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CBFDA-DE99-4F9E-9465-25F34EE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FF9E0-FF58-4500-A0A2-FAC318D9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67226-064D-49FB-9514-146432B2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283BB-AD35-4BF5-B52D-920EC05A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16301-0A6E-41F6-92AB-E16BB938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B1EA0-3828-416F-AA14-58B303B9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CED56-2AE8-4D25-ABEA-C5500D12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36041E-BD4B-4A8F-9F8D-1EE63B78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EA97-CF72-4CFA-97F4-5F7F6903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3D10B-E711-43B5-9F49-C13DF555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2279C-0530-4215-8D3F-70FB4BF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92653-F6C7-4DB2-B7F5-B714ACD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127A4-5AE4-4FE8-8DEA-4F58AC8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B6641-1A51-44DC-B247-217F1430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9B1AF-A20C-44D4-A9E7-08272B3B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95B3F-BA01-4255-838A-26633F70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1666-8BBC-4825-8B54-9332AFC7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1520-ADD1-4F00-9818-C48A2A7F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3839-B773-49EB-A2DB-84256BBD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6D13-F38F-4BC8-89BC-8E99866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7F9-400E-483E-B5E1-68777452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58C7-26E8-42BD-88E6-246B306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1EF8-2548-4662-AE22-651CBD1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83E6-50A2-4A7C-B82B-8393C620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1E6C-8B3E-484E-9680-4505CCC9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379C-A1F3-4B63-9D3B-D420F272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88D2-8B10-42ED-905B-DA7CD643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FA09-3F7D-46C8-88AB-0632443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CE3E-324E-4736-B0B5-D2ED3FD6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BE0F-65B3-4A8C-88C6-A2FBF03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9916-B69E-4407-8459-2F09BE8D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C53-D7B4-4715-8BF4-26C03D40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CE57-E8BC-41AD-8B02-6CAB29E2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EE36-745B-454F-899A-4FE0577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24AA-C405-4185-ABB4-A4AAF11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2954-E05E-4922-B97A-BFB74539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8E82-FA3E-4E8F-818D-47AA0C8A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7715-9DFC-4DE5-A10B-4ACE1F8B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4802-14EC-49EF-A108-AEA84825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CD04-F56C-4902-9517-C900FD92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CB50-D18D-47DB-B4D1-5EE043BD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BBDF-FF06-453F-970E-AA911811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6EF-CC30-41C3-BF68-9B51C44C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BD74-8604-4A1F-83D7-F2723687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9AFA-541F-4AA9-AB65-EED6D509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472B-A647-4670-BE3F-0F958B69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F1A69-D6A7-4787-9488-C433583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40412-25E4-4FE9-BDA2-56A7C9FE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F30C-2401-4466-B14D-93E6680D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BD0B-740E-4ECE-8C4F-0E27589D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00CC7-81D3-49FC-8376-EFE43038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F965-7892-46F4-8714-BD464378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F7C7-8F60-48D6-9674-5AF4A603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EA5-3297-4F8F-9CB4-DC1B40C1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53D9C-E978-4FE8-94CD-129763C7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98A99-8F63-4F55-86AA-573DCA7E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AC1E-13A2-483C-93CE-A581811F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A3220-A981-4699-94CA-D53049F1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B0142-4DBB-43B7-8521-5DA123B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9F698-404C-45A3-86E3-C472B48D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8028-0F48-4C1E-BFB7-BF7747C0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17DF9-108D-41BC-BFDF-2F837A6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39DC0-F115-48B6-B132-3D778686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0D92A-C4DE-4D0F-9A1A-DA3EBC1F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DCB-FC34-448A-89AD-85D53689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FD05-3600-492F-A617-CE084D49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AA644-AD55-4ED8-A584-3C3A585A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56A7-6A9F-4A3C-B22E-ADCFC7C6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FB552-9B5E-46DD-98B6-D4C8E881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9ADC6-83A8-487E-A961-16E6B3BB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3079-98C4-4B14-8B1E-EA6D0621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35576-4479-4A13-8C9B-2C2425C8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801A4-9659-4791-AD8E-6E9925C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67A6-F75C-48DC-AA49-15750CC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FE0D4-AC45-404C-ABB3-59EA8B2D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81C-BC13-47B2-BCC6-7E26709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8A9D9-92A1-4DE0-BEAF-382B00BD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BD7BE-5ECE-45E1-BC95-33BFE7BB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A4BAF-B8A7-444D-A1DC-61688049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F6C13-CCB4-42F6-B42A-AEE64E77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94D42-5234-4990-BAB6-15335CCB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7FCA8-41A7-4835-B021-2BF986D0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64458-F91A-42BE-9871-BFB78DCE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55F5-7BDA-4DC3-83E7-17A1860C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D8F44-AC4B-4945-AACE-9DB8E690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EBF1C-768F-4917-8A9E-676F0CA5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698-E333-47ED-A184-C2C8B831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EA034-07F1-426F-92EF-B4110841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B7655-2445-493D-9051-9C39144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8B8B2-E20C-4ACD-A240-9734D531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1AD0A-AE8C-4C49-808A-F4CF662C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6A2EF-3366-4BFB-94E1-53DF0827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C3DEC-8526-4E1E-AF4C-3F926D72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A9D9A-D058-4B67-BE84-E26A0865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2B033-D633-41B8-9706-45B8DE7F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5968C-E766-4F1E-8CC4-592412D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F2907-7DFA-449F-BF03-8E63AEBE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EA3-B9FC-45A4-8B44-F8035891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D13D3-EA14-41F5-87F1-9B39755B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9B83D-F01C-4C0D-B2B6-22B09C9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90CED-180D-4209-95C0-96E7694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D11F-AC24-4168-8D0F-008FAC54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EA6E0-8728-4CB4-BA39-9EC5674F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2103C-EC2E-405E-9A90-D6DBCE71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686C8-566A-4890-8BEC-31B2EC47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E9A81-218A-4F4D-BEE2-13846751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4DE5B-B46A-46B3-AA0C-EC343906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55961-B32C-4A24-9942-DE48F200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C40D-2BAD-468F-826F-84DDE12C099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AE5A-1158-4EA4-8128-6D97077CDB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80C6-F568-4CC8-8221-40628E6E59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317-A40B-4073-9CBC-F969E58E46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A623-DC36-409E-9767-2489DD1D2E2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A8C0-B60B-451F-893E-2E6F646D70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515B-4DC9-423B-B5B2-19B75DF580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B358-1D83-4B09-A4BA-CCF1E58DC98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1EB2-5378-4ACD-BAFF-07B39535BB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03FE-0EE8-4E11-8827-8C77CA28DB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5E25-03C4-47F6-BBCC-B86A341EE18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BBCB-ACED-48EB-AF5A-D6C88687A6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372D-6B80-4193-B834-DCF31B5AA4E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AD9F-E26B-4026-BB24-962E995114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B5FD-0E42-4F84-B668-BD6CC029009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3152-5B86-44A7-ACA4-53E3635EAE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31D-939A-48E9-89EC-C98869C3B0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8739-6292-4897-8ACD-912D135137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2F56-2EFE-46C5-B73E-867A673C6E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58CB-61D7-4273-AEDF-66FC97CEF5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628E-2254-40C0-B8E3-DCC1807D387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CA21-94BD-498F-AB5B-A6555E012A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4DB7-F7A5-4681-A3DA-E2A3CCA0B5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F3C5-50ED-4EE9-8CFE-155187DCCE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339F-39CD-4142-B3CB-F31C791485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92AC-BAC8-4EF7-86B1-1B583DE8E2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微软雅黑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微软雅黑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prstGeom prst="pie">
            <a:avLst/>
          </a:pr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prstGeom prst="pie">
            <a:avLst/>
          </a:pr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prstGeom prst="pi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6-03-08T15:53:51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