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734-5A8B-4BAC-B6C8-C7ABD700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7E9-9B0D-4BE7-85F5-D010C366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401-426B-4313-8032-93919EC6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C27-AB0A-4BFD-BCE6-F0DBC226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CF0-764C-4E96-A6C1-EE33C22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2B2E-FA8F-4461-B5DC-12DA083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EF00-3DEB-4197-B4C9-1693723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908B-B755-4F35-88D5-2095BB2E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56B2-AD34-477E-9CE6-314512B2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1CC7-DD6E-4BED-B71A-9CB0F93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8D1-B3C1-4C2A-AF2F-BE0C86D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D64-449F-4421-ADDE-7B483977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D15-C9D6-4722-8711-23F0F4A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91A9-D76F-406D-95AF-E33FF583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E689-C2DD-4486-B4CA-F33051A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D135-458B-49BC-AD16-E778E910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DEA4-2B6F-4A0A-B397-F8C865A2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3794-7155-4419-A1E1-3EF5E114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402B-EE66-496C-BB53-0F36F3A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961E-4C4D-4BD3-8F0E-C69D27F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1BA4-101B-4496-BAD1-96962229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8BEC-0153-4F50-92E9-069D668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B76-2040-4844-B4F8-F684311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8F90-1288-4AF8-8E28-9A4B7CB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110E-65B4-4BB1-8789-9ADEA88B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9F49-FEC8-42C9-9011-6FB6844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10FE-F73D-43FF-938E-D80ACE5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6F9E-6511-4B37-A9F2-B695320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F5EA-143D-4096-BEFE-BD6F80F7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865B-259C-4CE0-836D-78EC2686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0E5-AACB-4C5C-A72B-8A74D56D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4E7-1EAE-4710-B2C0-B16D9441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968-F487-42D1-8591-893FDCA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F9C-52A5-4720-82A2-A0264EF3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986-9CC2-4B6D-B11D-863FB30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44E-25C3-4E5A-803A-D17E5A7D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E6D-F98C-4EC3-B573-2BAC6D5F8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CAA3-C367-4029-976A-859CEB34E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369-67B2-43D8-9771-565BEBA0B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af67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e3789"/>
                </a:gs>
                <a:gs pos="50000">
                  <a:srgbClr val="af67ff"/>
                </a:gs>
                <a:gs pos="100000">
                  <a:srgbClr val="5e37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e4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08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717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c1c71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e3789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090e2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dbffe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947b1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e4"/>
                </a:gs>
                <a:gs pos="100000">
                  <a:srgbClr val="3333cc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12187"/>
                </a:gs>
                <a:gs pos="100000">
                  <a:srgbClr val="3333cc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b9dfe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9e9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dedfe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4e9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cedfe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3cbfe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tretch/>
          </p:blipFill>
          <p:spPr>
            <a:xfrm>
              <a:off x="1100160" y="1905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00160" y="1905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1942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233360" y="3166200"/>
              <a:ext cx="1647720" cy="656640"/>
              <a:chOff x="1233360" y="3166200"/>
              <a:chExt cx="1647720" cy="65664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1521000" y="3166200"/>
                <a:ext cx="1360080" cy="616680"/>
                <a:chOff x="1521000" y="3166200"/>
                <a:chExt cx="1360080" cy="61668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flipV="1" rot="3964800">
                  <a:off x="2262600" y="297936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 rot="4780200">
                  <a:off x="2109600" y="3039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 rot="5076000">
                  <a:off x="2015640" y="3052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 rot="5608200">
                  <a:off x="1903680" y="3064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233360" y="3175200"/>
                <a:ext cx="1358640" cy="647640"/>
                <a:chOff x="1233360" y="3175200"/>
                <a:chExt cx="1358640" cy="6476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 flipV="1" rot="5317800">
                  <a:off x="1975680" y="3064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 rot="6133800">
                  <a:off x="1811160" y="3063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 flipV="1" rot="6429000">
                  <a:off x="1719000" y="3038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 flipV="1" rot="6961200">
                  <a:off x="1610280" y="3004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3" name=""/>
          <p:cNvGrpSpPr/>
          <p:nvPr/>
        </p:nvGrpSpPr>
        <p:grpSpPr>
          <a:xfrm>
            <a:off x="1147680" y="4260960"/>
            <a:ext cx="1879200" cy="1917720"/>
            <a:chOff x="1147680" y="4260960"/>
            <a:chExt cx="1879200" cy="1917720"/>
          </a:xfrm>
        </p:grpSpPr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1147680" y="426096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147680" y="426096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41360" y="429804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280880" y="5522040"/>
              <a:ext cx="1647720" cy="656640"/>
              <a:chOff x="1280880" y="5522040"/>
              <a:chExt cx="1647720" cy="65664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568520" y="5522040"/>
                <a:ext cx="1360080" cy="616680"/>
                <a:chOff x="1568520" y="5522040"/>
                <a:chExt cx="1360080" cy="61668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3964800">
                  <a:off x="2310120" y="53352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flipH="1" flipV="1" rot="4780200">
                  <a:off x="2157120" y="539568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 rot="5076000">
                  <a:off x="2063160" y="54082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 flipV="1" rot="5608200">
                  <a:off x="1951200" y="54205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1280880" y="5531040"/>
                <a:ext cx="1358640" cy="647640"/>
                <a:chOff x="1280880" y="5531040"/>
                <a:chExt cx="1358640" cy="647640"/>
              </a:xfrm>
            </p:grpSpPr>
            <p:sp>
              <p:nvSpPr>
                <p:cNvPr id="564" name=""/>
                <p:cNvSpPr/>
                <p:nvPr/>
              </p:nvSpPr>
              <p:spPr>
                <a:xfrm flipH="1" flipV="1" rot="5317800">
                  <a:off x="2023200" y="542052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 rot="6133800">
                  <a:off x="1858680" y="54190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flipV="1" rot="6429000">
                  <a:off x="1766520" y="539388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 flipV="1" rot="6961200">
                  <a:off x="1657800" y="5360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69" name="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a7d1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3" name="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a7d1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" descr=""/>
            <p:cNvPicPr/>
            <p:nvPr/>
          </p:nvPicPr>
          <p:blipFill>
            <a:blip r:embed="rId4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77" name="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f54d1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87" name="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1" name="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5" name="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392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599" name="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06" name="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0" name="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a6a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37" name="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1" name="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4" name="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7da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3e0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5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56" name="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0" name="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4" name="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68" name="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5b6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1" name="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2" name="Puzzle3"/>
              <p:cNvSpPr/>
              <p:nvPr/>
            </p:nvSpPr>
            <p:spPr>
              <a:xfrm>
                <a:off x="4549320" y="175248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6081a1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Puzzle2"/>
              <p:cNvSpPr/>
              <p:nvPr/>
            </p:nvSpPr>
            <p:spPr>
              <a:xfrm>
                <a:off x="4043880" y="344664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e6e6fe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Puzzle4"/>
              <p:cNvSpPr/>
              <p:nvPr/>
            </p:nvSpPr>
            <p:spPr>
              <a:xfrm>
                <a:off x="2971080" y="342036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9595e3"/>
                  </a:gs>
                  <a:gs pos="100000">
                    <a:srgbClr val="3333cc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Puzzle1"/>
              <p:cNvSpPr/>
              <p:nvPr/>
            </p:nvSpPr>
            <p:spPr>
              <a:xfrm>
                <a:off x="2397240" y="245592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502f75"/>
                  </a:gs>
                  <a:gs pos="100000">
                    <a:srgbClr val="af67ff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2abfe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3acfe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2abfe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d1a42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d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18" name="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19" name="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4" name="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29" name="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0" name="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5" name="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0" name="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1" name="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46" name="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0" name="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7e2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542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0" name="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1" name="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66" name="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7b4fe"/>
              </a:gs>
              <a:gs pos="100000">
                <a:srgbClr val="af67ff">
                  <a:alpha val="8039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98" name="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4" name="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07" name="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0" name="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a6a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dddfe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3d8fe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868d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8bfe"/>
              </a:gs>
              <a:gs pos="50000">
                <a:srgbClr val="af67ff"/>
              </a:gs>
              <a:gs pos="100000">
                <a:srgbClr val="c18b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7d7fe"/>
              </a:gs>
              <a:gs pos="50000">
                <a:srgbClr val="ccccff"/>
              </a:gs>
              <a:gs pos="100000">
                <a:srgbClr val="d7d7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ec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4" name="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5"/>
                </a:gs>
                <a:gs pos="50000">
                  <a:srgbClr val="ccccff"/>
                </a:gs>
                <a:gs pos="100000">
                  <a:srgbClr val="5e5e7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4" name="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2" name="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1" name="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3" name="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9f9fe">
                  <a:alpha val="80392"/>
                </a:srgbClr>
              </a:gs>
              <a:gs pos="100000">
                <a:srgbClr val="cccc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4cdfe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93040" y="28764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178160" y="4083120"/>
            <a:ext cx="14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787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05eea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cbbe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fe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33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b1b6d"/>
                </a:gs>
                <a:gs pos="50000">
                  <a:srgbClr val="3333cc"/>
                </a:gs>
                <a:gs pos="100000">
                  <a:srgbClr val="1b1b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becfe"/>
                </a:gs>
                <a:gs pos="100000">
                  <a:srgbClr val="99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9b9ec"/>
                </a:gs>
                <a:gs pos="100000">
                  <a:srgbClr val="3333cc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95b"/>
                </a:gs>
                <a:gs pos="50000">
                  <a:srgbClr val="ccccff"/>
                </a:gs>
                <a:gs pos="100000">
                  <a:srgbClr val="49495b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cecfe"/>
                </a:gs>
                <a:gs pos="100000">
                  <a:srgbClr val="ccccf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prstGeom prst="pie">
            <a:avLst/>
          </a:prstGeom>
          <a:gradFill rotWithShape="0">
            <a:gsLst>
              <a:gs pos="0">
                <a:srgbClr val="61398e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cda2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d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846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prstGeom prst="pie">
            <a:avLst/>
          </a:prstGeom>
          <a:gradFill rotWithShape="0">
            <a:gsLst>
              <a:gs pos="0">
                <a:srgbClr val="4f2f74"/>
              </a:gs>
              <a:gs pos="100000">
                <a:srgbClr val="af67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bbb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586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prstGeom prst="pi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bddd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7343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prstGeom prst="pie">
            <a:avLst/>
          </a:prstGeom>
          <a:gradFill rotWithShape="0">
            <a:gsLst>
              <a:gs pos="0">
                <a:srgbClr val="af67ff"/>
              </a:gs>
              <a:gs pos="100000">
                <a:srgbClr val="d8b6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a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5fe"/>
                </a:gs>
                <a:gs pos="50000">
                  <a:srgbClr val="99ccff">
                    <a:alpha val="0"/>
                  </a:srgbClr>
                </a:gs>
                <a:gs pos="100000">
                  <a:srgbClr val="cc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d8d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e5fe"/>
                </a:gs>
                <a:gs pos="50000">
                  <a:srgbClr val="ccccff">
                    <a:alpha val="0"/>
                  </a:srgbClr>
                </a:gs>
                <a:gs pos="100000">
                  <a:srgbClr val="e5e5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323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b9be5"/>
                </a:gs>
                <a:gs pos="50000">
                  <a:srgbClr val="3333cc">
                    <a:alpha val="0"/>
                  </a:srgbClr>
                </a:gs>
                <a:gs pos="100000">
                  <a:srgbClr val="9b9b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4-12T07:34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