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7.wmf" ContentType="image/x-wmf"/>
  <Override PartName="/ppt/media/image8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51A-E2E4-4D9D-9DFB-2B245F97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88C-0090-44A5-B97F-90D4BA41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C6F-28B2-4F9E-9BD5-00D26205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360-14C5-4A3B-9581-FC44C141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9577-19B3-4662-9AE9-7C1FE9EB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8EA7-A836-42EE-B4CE-7EE9639A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0885-EB3D-484F-8662-41D6BC80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D604-AD6C-408D-9963-39493C0D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B3C5-B622-4374-A2E4-EB929E5F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3113-79DE-4663-A564-F178D0D6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30E2-0CFC-4BFB-AC32-1EC4E10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CFB-B860-4854-BAD9-9E78F1D6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91B8-FC57-4FDC-B9E7-CACEE49E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C2FB-00C3-4F8A-81BD-8DE9119D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5B4C-57AF-4654-A55D-16EA0B3D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3168-6B24-47F6-ACA3-A0528CF6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026F-E1FB-4732-9A7D-CD56A72F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47F7-E9EA-4304-BB8B-339E4E8F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54EF7-7242-4325-B239-B16060F1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AAFDB-79E6-474F-BA98-AD8BA179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B938-AE79-41CF-B870-CB71EA57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3307-3E70-471D-B081-DD261569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EAF-39F4-4256-90B9-AFCDC0D5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DAD2-9927-4471-A00A-1A318B19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1C5B-EBE1-4D55-AD97-7A1CA9EC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8DE0-7099-4CCD-92E5-A8A1AEF7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B63D-F1BD-41F6-91F5-B73F61FA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EFE5D-480D-4F04-8107-87F0F6DF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0D11-2B16-4359-9D6D-02C8EB99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3641-1C3B-4C5F-B75D-98910C2C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6E3-6B9A-4BF9-A599-2A701332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1A1-B2F5-4C75-A292-5D452270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8C7-6122-4194-BEFA-836B7843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8AA-2AF1-4527-BC01-11B52AD1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089-8121-4952-8918-8178D3F7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466-7528-44A5-9AE0-EF79BFF5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F428-AC3B-4845-A818-755811913E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B5D7-7660-4962-A359-A708FB8CB7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7AE0-583B-4713-ADA0-F80EF288F1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76720" y="4572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教育主题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owerpoint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模板</a:t>
            </a:r>
            <a:br>
              <a:rPr sz="2800"/>
            </a:b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演讲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会议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报告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总结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通用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06" name="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33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b1b6d"/>
                </a:gs>
                <a:gs pos="50000">
                  <a:srgbClr val="3333cc"/>
                </a:gs>
                <a:gs pos="100000">
                  <a:srgbClr val="1b1b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f67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f67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e3789"/>
                </a:gs>
                <a:gs pos="50000">
                  <a:srgbClr val="af67ff"/>
                </a:gs>
                <a:gs pos="100000">
                  <a:srgbClr val="5e37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0"/>
                  </a:srgbClr>
                </a:gs>
                <a:gs pos="100000">
                  <a:srgbClr val="6e4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19" name="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26d89"/>
                </a:gs>
                <a:gs pos="50000">
                  <a:srgbClr val="99ccff"/>
                </a:gs>
                <a:gs pos="100000">
                  <a:srgbClr val="52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608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29" name="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34" name="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449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45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455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45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461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46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c1c71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466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46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c1c71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471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47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477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47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984637"/>
                <a:lnTo>
                  <a:pt x="31" y="9983"/>
                </a:lnTo>
                <a:arcTo wR="10800" hR="10800" stAng="-10539777" swAng="8984637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9090e2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484" name="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dbffe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7947b1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487" name="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e4"/>
                </a:gs>
                <a:gs pos="100000">
                  <a:srgbClr val="3333cc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12187"/>
                </a:gs>
                <a:gs pos="100000">
                  <a:srgbClr val="3333cc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732136"/>
                <a:lnTo>
                  <a:pt x="120" y="9195"/>
                </a:lnTo>
                <a:arcTo wR="10800" hR="10800" stAng="-10287276" swAng="8732136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cb9dfe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9e9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dedfe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523" name="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11320" y="473976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4e9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0120" y="303768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cedfe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3" name="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3cbfe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3cbfe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539" name="" descr="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1233360" y="3166200"/>
              <a:ext cx="1647720" cy="656640"/>
              <a:chOff x="1233360" y="3166200"/>
              <a:chExt cx="1647720" cy="65664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1521000" y="3166200"/>
                <a:ext cx="1360080" cy="616680"/>
                <a:chOff x="1521000" y="3166200"/>
                <a:chExt cx="1360080" cy="616680"/>
              </a:xfrm>
            </p:grpSpPr>
            <p:sp>
              <p:nvSpPr>
                <p:cNvPr id="544" name=""/>
                <p:cNvSpPr/>
                <p:nvPr/>
              </p:nvSpPr>
              <p:spPr>
                <a:xfrm flipH="1" flipV="1" rot="3964800">
                  <a:off x="2262600" y="297936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549" name="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3" name="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554" name="" descr="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280880" y="5522040"/>
              <a:ext cx="1647720" cy="656640"/>
              <a:chOff x="1280880" y="5522040"/>
              <a:chExt cx="1647720" cy="65664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1568520" y="5522040"/>
                <a:ext cx="1360080" cy="616680"/>
                <a:chOff x="1568520" y="5522040"/>
                <a:chExt cx="1360080" cy="616680"/>
              </a:xfrm>
            </p:grpSpPr>
            <p:sp>
              <p:nvSpPr>
                <p:cNvPr id="559" name=""/>
                <p:cNvSpPr/>
                <p:nvPr/>
              </p:nvSpPr>
              <p:spPr>
                <a:xfrm flipH="1" flipV="1" rot="3964800">
                  <a:off x="2310120" y="53352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564" name="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8" name="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69" name="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7a7d1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73" name="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da7d1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" descr="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77" name="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f54d1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587" name="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591" name="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595" name="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599" name="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606" name="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610" name="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a6a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637" name="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a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5fe"/>
                </a:gs>
                <a:gs pos="50000">
                  <a:srgbClr val="99ccff">
                    <a:alpha val="0"/>
                  </a:srgbClr>
                </a:gs>
                <a:gs pos="100000">
                  <a:srgbClr val="cc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641" name="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d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e"/>
                </a:gs>
                <a:gs pos="50000">
                  <a:srgbClr val="ccccff">
                    <a:alpha val="0"/>
                  </a:srgbClr>
                </a:gs>
                <a:gs pos="100000">
                  <a:srgbClr val="e5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644" name="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9be5"/>
                </a:gs>
                <a:gs pos="50000">
                  <a:srgbClr val="3333cc">
                    <a:alpha val="0"/>
                  </a:srgbClr>
                </a:gs>
                <a:gs pos="100000">
                  <a:srgbClr val="9b9b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b7da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c3e0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655" name="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656" name="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660" name="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664" name="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668" name="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5b6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81" name="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82" name="Puzzle3"/>
              <p:cNvSpPr/>
              <p:nvPr/>
            </p:nvSpPr>
            <p:spPr>
              <a:xfrm>
                <a:off x="4549320" y="175248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6081a1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Puzzle2"/>
              <p:cNvSpPr/>
              <p:nvPr/>
            </p:nvSpPr>
            <p:spPr>
              <a:xfrm>
                <a:off x="4043880" y="344664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e6e6fe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Puzzle4"/>
              <p:cNvSpPr/>
              <p:nvPr/>
            </p:nvSpPr>
            <p:spPr>
              <a:xfrm>
                <a:off x="2971080" y="342036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9595e3"/>
                  </a:gs>
                  <a:gs pos="100000">
                    <a:srgbClr val="3333cc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Puzzle1"/>
              <p:cNvSpPr/>
              <p:nvPr/>
            </p:nvSpPr>
            <p:spPr>
              <a:xfrm>
                <a:off x="2397240" y="245592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502f75"/>
                  </a:gs>
                  <a:gs pos="100000">
                    <a:srgbClr val="af67ff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af67ff">
                  <a:alpha val="50196"/>
                </a:srgbClr>
              </a:gs>
              <a:gs pos="100000">
                <a:srgbClr val="d2abfe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c7e2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d3acfe"/>
              </a:gs>
              <a:gs pos="100000">
                <a:srgbClr val="af67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2abfe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123920" y="3032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542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67120" y="25290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d1a42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d1a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888080" y="204156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718" name="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719" name="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724" name="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729" name="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730" name="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35" name="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40" name="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41" name="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46" name="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0" name="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c7e2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542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23000" y="1547640"/>
            <a:ext cx="898560" cy="3956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60" name="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61" name="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66" name="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0" name="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7b4fe"/>
              </a:gs>
              <a:gs pos="100000">
                <a:srgbClr val="af67ff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9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798" name="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804" name="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807" name="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810" name="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a6a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0f0f0f"/>
              </a:gs>
              <a:gs pos="50000">
                <a:srgbClr val="ffffff"/>
              </a:gs>
              <a:gs pos="100000">
                <a:srgbClr val="0f0f0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dddfe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3d8fe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868d8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8bfe"/>
              </a:gs>
              <a:gs pos="50000">
                <a:srgbClr val="af67ff"/>
              </a:gs>
              <a:gs pos="100000">
                <a:srgbClr val="c18b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7d7fe"/>
              </a:gs>
              <a:gs pos="50000">
                <a:srgbClr val="ccccff"/>
              </a:gs>
              <a:gs pos="100000">
                <a:srgbClr val="d7d7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dec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844" name=""/>
            <p:cNvSpPr/>
            <p:nvPr/>
          </p:nvSpPr>
          <p:spPr>
            <a:xfrm rot="16200000">
              <a:off x="3879720" y="32475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6200000">
              <a:off x="3196800" y="208188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6200000">
              <a:off x="324144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6200000">
              <a:off x="2523960" y="32515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6200000">
              <a:off x="1843560" y="20829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184140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6200000">
              <a:off x="1170000" y="32479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54" name="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62" name="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1" name="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73" name="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9f9fe">
                  <a:alpha val="80392"/>
                </a:srgbClr>
              </a:gs>
              <a:gs pos="100000">
                <a:srgbClr val="cccc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4cdfe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93040" y="28764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178160" y="4083120"/>
            <a:ext cx="14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787a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4" name="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6" name="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9" name="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1" name="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4" name="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05eea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6" name="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9" name="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cbbea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1" name="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66" name="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33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b1b6d"/>
                </a:gs>
                <a:gs pos="50000">
                  <a:srgbClr val="3333cc"/>
                </a:gs>
                <a:gs pos="100000">
                  <a:srgbClr val="1b1b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191" name="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1560" y="38815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208" name="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becfe"/>
                </a:gs>
                <a:gs pos="100000">
                  <a:srgbClr val="99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212" name="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9b9ec"/>
                </a:gs>
                <a:gs pos="100000">
                  <a:srgbClr val="3333cc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216" name="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495b"/>
                </a:gs>
                <a:gs pos="50000">
                  <a:srgbClr val="ccccff"/>
                </a:gs>
                <a:gs pos="100000">
                  <a:srgbClr val="49495b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cecfe"/>
                </a:gs>
                <a:gs pos="100000">
                  <a:srgbClr val="cc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1"/>
          <p:cNvSpPr/>
          <p:nvPr/>
        </p:nvSpPr>
        <p:spPr>
          <a:xfrm>
            <a:off x="7221600" y="4630680"/>
            <a:ext cx="895320" cy="123516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2"/>
          <p:cNvSpPr/>
          <p:nvPr/>
        </p:nvSpPr>
        <p:spPr>
          <a:xfrm>
            <a:off x="3443400" y="4630680"/>
            <a:ext cx="4173480" cy="525600"/>
          </a:xfrm>
          <a:prstGeom prst="pie">
            <a:avLst/>
          </a:prstGeom>
          <a:gradFill rotWithShape="0">
            <a:gsLst>
              <a:gs pos="0">
                <a:srgbClr val="61398e"/>
              </a:gs>
              <a:gs pos="100000">
                <a:srgbClr val="af6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3"/>
          <p:cNvSpPr/>
          <p:nvPr/>
        </p:nvSpPr>
        <p:spPr>
          <a:xfrm>
            <a:off x="3036960" y="5154480"/>
            <a:ext cx="4608360" cy="7128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cda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252" name="Freeform 74"/>
            <p:cNvSpPr/>
            <p:nvPr/>
          </p:nvSpPr>
          <p:spPr>
            <a:xfrm>
              <a:off x="6753240" y="3930480"/>
              <a:ext cx="792000" cy="11192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3917880" y="3930480"/>
              <a:ext cx="3135240" cy="393840"/>
            </a:xfrm>
            <a:prstGeom prst="pi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3521160" y="4324320"/>
              <a:ext cx="3639960" cy="7254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d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Freeform 77"/>
          <p:cNvSpPr/>
          <p:nvPr/>
        </p:nvSpPr>
        <p:spPr>
          <a:xfrm>
            <a:off x="6284880" y="3238560"/>
            <a:ext cx="693720" cy="97308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846a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8"/>
          <p:cNvSpPr/>
          <p:nvPr/>
        </p:nvSpPr>
        <p:spPr>
          <a:xfrm>
            <a:off x="4389480" y="3238560"/>
            <a:ext cx="2093760" cy="263520"/>
          </a:xfrm>
          <a:prstGeom prst="pie">
            <a:avLst/>
          </a:prstGeom>
          <a:gradFill rotWithShape="0">
            <a:gsLst>
              <a:gs pos="0">
                <a:srgbClr val="4f2f74"/>
              </a:gs>
              <a:gs pos="100000">
                <a:srgbClr val="af6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9"/>
          <p:cNvSpPr/>
          <p:nvPr/>
        </p:nvSpPr>
        <p:spPr>
          <a:xfrm>
            <a:off x="3986280" y="3500280"/>
            <a:ext cx="2708280" cy="71136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dbbb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259" name="Freeform 80"/>
            <p:cNvSpPr/>
            <p:nvPr/>
          </p:nvSpPr>
          <p:spPr>
            <a:xfrm>
              <a:off x="5811840" y="2536920"/>
              <a:ext cx="596880" cy="8460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1"/>
            <p:cNvSpPr/>
            <p:nvPr/>
          </p:nvSpPr>
          <p:spPr>
            <a:xfrm>
              <a:off x="4869000" y="2536920"/>
              <a:ext cx="1044360" cy="126720"/>
            </a:xfrm>
            <a:prstGeom prst="pi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2"/>
            <p:cNvSpPr/>
            <p:nvPr/>
          </p:nvSpPr>
          <p:spPr>
            <a:xfrm>
              <a:off x="4457880" y="2662200"/>
              <a:ext cx="1763640" cy="72072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ddd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reeform 83"/>
          <p:cNvSpPr/>
          <p:nvPr/>
        </p:nvSpPr>
        <p:spPr>
          <a:xfrm>
            <a:off x="5335560" y="1836720"/>
            <a:ext cx="504720" cy="71604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343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84"/>
          <p:cNvSpPr/>
          <p:nvPr/>
        </p:nvSpPr>
        <p:spPr>
          <a:xfrm>
            <a:off x="4925880" y="1836720"/>
            <a:ext cx="819360" cy="71604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d8b6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71" name="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72" name="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" name="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4" name="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358" name="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2" name=""/>
              <p:cNvCxnSpPr>
                <a:stCxn id="358" idx="3"/>
                <a:endCxn id="359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3" name=""/>
              <p:cNvCxnSpPr>
                <a:stCxn id="359" idx="3"/>
                <a:endCxn id="360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4" name="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wheel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69" name="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74" name="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78" name="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89" name="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a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5fe"/>
                </a:gs>
                <a:gs pos="50000">
                  <a:srgbClr val="99ccff">
                    <a:alpha val="0"/>
                  </a:srgbClr>
                </a:gs>
                <a:gs pos="100000">
                  <a:srgbClr val="cc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93" name="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d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e"/>
                </a:gs>
                <a:gs pos="50000">
                  <a:srgbClr val="ccccff">
                    <a:alpha val="0"/>
                  </a:srgbClr>
                </a:gs>
                <a:gs pos="100000">
                  <a:srgbClr val="e5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96" name="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9be5"/>
                </a:gs>
                <a:gs pos="50000">
                  <a:srgbClr val="3333cc">
                    <a:alpha val="0"/>
                  </a:srgbClr>
                </a:gs>
                <a:gs pos="100000">
                  <a:srgbClr val="9b9b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系统</cp:lastModifiedBy>
  <dcterms:modified xsi:type="dcterms:W3CDTF">2010-04-12T07:34:2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