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E69E-9D4D-4288-B97A-81C0F5A235CF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9CA6-2DC2-425E-80B6-60AD2736FC9C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-155520" y="0"/>
            <a:ext cx="1098360" cy="6192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36360" y="0"/>
            <a:ext cx="1800" cy="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4891-A519-4B00-840D-2619AD5A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2C55-E436-43FA-9497-1B14E189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7451-856F-47DB-8E64-48D300FD1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BC83-9B35-4B03-B65D-0E60E55A1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4D1B-F9A2-4CC9-A551-FF60D0A2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FDF5-7792-4A4F-9CEE-140A4A4F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EFD6-31A5-45C3-8AC1-8FD37E6F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C58E-07C8-433F-B7B8-40685EBA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2F02-65F3-49E2-B619-B2D83275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BAAB-32D2-42D4-AF1B-DBF3AD4B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C8EC-BAFC-4858-A57F-4EBD0DF9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6D04-A62F-4B93-847D-BE724195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8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CFBA-175B-4B19-8F6F-5746F3CB545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91DA-785F-4ACE-ABE2-03ED20C38B6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6"/>
          <p:cNvSpPr/>
          <p:nvPr/>
        </p:nvSpPr>
        <p:spPr>
          <a:xfrm>
            <a:off x="2168640" y="4022640"/>
            <a:ext cx="7673760" cy="2343240"/>
          </a:xfrm>
          <a:custGeom>
            <a:avLst/>
            <a:gdLst>
              <a:gd name="textAreaLeft" fmla="*/ 0 w 7673760"/>
              <a:gd name="textAreaRight" fmla="*/ 7674120 w 7673760"/>
              <a:gd name="textAreaTop" fmla="*/ 0 h 2343240"/>
              <a:gd name="textAreaBottom" fmla="*/ 2343240 h 2343240"/>
            </a:gdLst>
            <a:ahLst/>
            <a:rect l="textAreaLeft" t="textAreaTop" r="textAreaRight" b="textAreaBottom"/>
            <a:pathLst>
              <a:path w="1329" h="405">
                <a:moveTo>
                  <a:pt x="0" y="392"/>
                </a:moveTo>
                <a:cubicBezTo>
                  <a:pt x="548" y="38"/>
                  <a:pt x="548" y="38"/>
                  <a:pt x="548" y="38"/>
                </a:cubicBezTo>
                <a:cubicBezTo>
                  <a:pt x="605" y="1"/>
                  <a:pt x="679" y="0"/>
                  <a:pt x="737" y="34"/>
                </a:cubicBezTo>
                <a:cubicBezTo>
                  <a:pt x="1329" y="405"/>
                  <a:pt x="1329" y="405"/>
                  <a:pt x="1329" y="405"/>
                </a:cubicBezTo>
                <a:lnTo>
                  <a:pt x="0" y="392"/>
                </a:lnTo>
                <a:close/>
              </a:path>
            </a:pathLst>
          </a:custGeom>
          <a:solidFill>
            <a:srgbClr val="6bd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7"/>
          <p:cNvSpPr/>
          <p:nvPr/>
        </p:nvSpPr>
        <p:spPr>
          <a:xfrm>
            <a:off x="4276800" y="5127480"/>
            <a:ext cx="276120" cy="1140120"/>
          </a:xfrm>
          <a:custGeom>
            <a:avLst/>
            <a:gdLst>
              <a:gd name="textAreaLeft" fmla="*/ 0 w 276120"/>
              <a:gd name="textAreaRight" fmla="*/ 276480 w 276120"/>
              <a:gd name="textAreaTop" fmla="*/ 0 h 1140120"/>
              <a:gd name="textAreaBottom" fmla="*/ 1140120 h 1140120"/>
            </a:gdLst>
            <a:ahLst/>
            <a:rect l="textAreaLeft" t="textAreaTop" r="textAreaRight" b="textAreaBottom"/>
            <a:pathLst>
              <a:path w="48" h="197">
                <a:moveTo>
                  <a:pt x="48" y="197"/>
                </a:moveTo>
                <a:cubicBezTo>
                  <a:pt x="0" y="197"/>
                  <a:pt x="0" y="197"/>
                  <a:pt x="0" y="19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8"/>
                  <a:pt x="7" y="0"/>
                  <a:pt x="16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41" y="0"/>
                  <a:pt x="48" y="8"/>
                  <a:pt x="48" y="16"/>
                </a:cubicBezTo>
                <a:lnTo>
                  <a:pt x="48" y="197"/>
                </a:ln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8"/>
          <p:cNvSpPr/>
          <p:nvPr/>
        </p:nvSpPr>
        <p:spPr>
          <a:xfrm>
            <a:off x="3733920" y="4370400"/>
            <a:ext cx="5097240" cy="2349360"/>
          </a:xfrm>
          <a:custGeom>
            <a:avLst/>
            <a:gdLst>
              <a:gd name="textAreaLeft" fmla="*/ 0 w 5097240"/>
              <a:gd name="textAreaRight" fmla="*/ 5097600 w 5097240"/>
              <a:gd name="textAreaTop" fmla="*/ 0 h 2349360"/>
              <a:gd name="textAreaBottom" fmla="*/ 2349720 h 2349360"/>
            </a:gdLst>
            <a:ahLst/>
            <a:rect l="textAreaLeft" t="textAreaTop" r="textAreaRight" b="textAreaBottom"/>
            <a:pathLst>
              <a:path w="883" h="406">
                <a:moveTo>
                  <a:pt x="0" y="398"/>
                </a:moveTo>
                <a:cubicBezTo>
                  <a:pt x="883" y="406"/>
                  <a:pt x="883" y="406"/>
                  <a:pt x="883" y="406"/>
                </a:cubicBezTo>
                <a:cubicBezTo>
                  <a:pt x="255" y="35"/>
                  <a:pt x="255" y="35"/>
                  <a:pt x="255" y="35"/>
                </a:cubicBezTo>
                <a:cubicBezTo>
                  <a:pt x="196" y="0"/>
                  <a:pt x="123" y="2"/>
                  <a:pt x="65" y="39"/>
                </a:cubicBezTo>
                <a:cubicBezTo>
                  <a:pt x="0" y="81"/>
                  <a:pt x="0" y="81"/>
                  <a:pt x="0" y="81"/>
                </a:cubicBezTo>
                <a:lnTo>
                  <a:pt x="0" y="398"/>
                </a:lnTo>
                <a:close/>
              </a:path>
            </a:pathLst>
          </a:custGeom>
          <a:solidFill>
            <a:srgbClr val="00a7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9"/>
          <p:cNvSpPr/>
          <p:nvPr/>
        </p:nvSpPr>
        <p:spPr>
          <a:xfrm>
            <a:off x="2151000" y="3514680"/>
            <a:ext cx="2113200" cy="3048120"/>
          </a:xfrm>
          <a:custGeom>
            <a:avLst/>
            <a:gdLst/>
            <a:ahLst/>
            <a:rect l="l" t="t" r="r" b="b"/>
            <a:pathLst>
              <a:path w="366" h="527">
                <a:moveTo>
                  <a:pt x="283" y="117"/>
                </a:moveTo>
                <a:cubicBezTo>
                  <a:pt x="283" y="96"/>
                  <a:pt x="283" y="96"/>
                  <a:pt x="283" y="96"/>
                </a:cubicBezTo>
                <a:cubicBezTo>
                  <a:pt x="283" y="43"/>
                  <a:pt x="240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134" y="0"/>
                  <a:pt x="92" y="43"/>
                  <a:pt x="92" y="96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75" y="182"/>
                  <a:pt x="75" y="182"/>
                  <a:pt x="75" y="182"/>
                </a:cubicBezTo>
                <a:cubicBezTo>
                  <a:pt x="34" y="182"/>
                  <a:pt x="0" y="216"/>
                  <a:pt x="0" y="257"/>
                </a:cubicBezTo>
                <a:cubicBezTo>
                  <a:pt x="0" y="527"/>
                  <a:pt x="0" y="527"/>
                  <a:pt x="0" y="527"/>
                </a:cubicBezTo>
                <a:cubicBezTo>
                  <a:pt x="154" y="527"/>
                  <a:pt x="154" y="527"/>
                  <a:pt x="154" y="527"/>
                </a:cubicBezTo>
                <a:cubicBezTo>
                  <a:pt x="154" y="490"/>
                  <a:pt x="154" y="490"/>
                  <a:pt x="154" y="490"/>
                </a:cubicBezTo>
                <a:cubicBezTo>
                  <a:pt x="242" y="490"/>
                  <a:pt x="242" y="490"/>
                  <a:pt x="242" y="490"/>
                </a:cubicBezTo>
                <a:cubicBezTo>
                  <a:pt x="242" y="485"/>
                  <a:pt x="242" y="485"/>
                  <a:pt x="242" y="485"/>
                </a:cubicBezTo>
                <a:cubicBezTo>
                  <a:pt x="366" y="485"/>
                  <a:pt x="366" y="485"/>
                  <a:pt x="366" y="485"/>
                </a:cubicBezTo>
                <a:cubicBezTo>
                  <a:pt x="366" y="200"/>
                  <a:pt x="366" y="200"/>
                  <a:pt x="366" y="200"/>
                </a:cubicBezTo>
                <a:cubicBezTo>
                  <a:pt x="366" y="154"/>
                  <a:pt x="328" y="117"/>
                  <a:pt x="283" y="117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4038480" y="5908680"/>
            <a:ext cx="723960" cy="474480"/>
          </a:xfrm>
          <a:prstGeom prst="rect">
            <a:avLst/>
          </a:prstGeom>
          <a:solidFill>
            <a:srgbClr val="2a77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1"/>
          <p:cNvSpPr/>
          <p:nvPr/>
        </p:nvSpPr>
        <p:spPr>
          <a:xfrm>
            <a:off x="4552920" y="4711680"/>
            <a:ext cx="693720" cy="1555920"/>
          </a:xfrm>
          <a:custGeom>
            <a:avLst/>
            <a:gdLst>
              <a:gd name="textAreaLeft" fmla="*/ 0 w 693720"/>
              <a:gd name="textAreaRight" fmla="*/ 694080 w 693720"/>
              <a:gd name="textAreaTop" fmla="*/ 0 h 1555920"/>
              <a:gd name="textAreaBottom" fmla="*/ 1556280 h 1555920"/>
            </a:gdLst>
            <a:ahLst/>
            <a:rect l="textAreaLeft" t="textAreaTop" r="textAreaRight" b="textAreaBottom"/>
            <a:pathLst>
              <a:path w="120" h="269">
                <a:moveTo>
                  <a:pt x="100" y="269"/>
                </a:moveTo>
                <a:cubicBezTo>
                  <a:pt x="20" y="269"/>
                  <a:pt x="20" y="269"/>
                  <a:pt x="20" y="269"/>
                </a:cubicBezTo>
                <a:cubicBezTo>
                  <a:pt x="9" y="269"/>
                  <a:pt x="0" y="260"/>
                  <a:pt x="0" y="249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27"/>
                  <a:pt x="27" y="0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93" y="0"/>
                  <a:pt x="120" y="27"/>
                  <a:pt x="120" y="60"/>
                </a:cubicBezTo>
                <a:cubicBezTo>
                  <a:pt x="120" y="249"/>
                  <a:pt x="120" y="249"/>
                  <a:pt x="120" y="249"/>
                </a:cubicBezTo>
                <a:cubicBezTo>
                  <a:pt x="120" y="260"/>
                  <a:pt x="111" y="269"/>
                  <a:pt x="100" y="269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2"/>
          <p:cNvSpPr/>
          <p:nvPr/>
        </p:nvSpPr>
        <p:spPr>
          <a:xfrm>
            <a:off x="3652920" y="4527720"/>
            <a:ext cx="207720" cy="906120"/>
          </a:xfrm>
          <a:custGeom>
            <a:avLst/>
            <a:gdLst>
              <a:gd name="textAreaLeft" fmla="*/ 0 w 207720"/>
              <a:gd name="textAreaRight" fmla="*/ 208080 w 207720"/>
              <a:gd name="textAreaTop" fmla="*/ 0 h 906120"/>
              <a:gd name="textAreaBottom" fmla="*/ 906480 h 906120"/>
            </a:gdLst>
            <a:ahLst/>
            <a:rect l="textAreaLeft" t="textAreaTop" r="textAreaRight" b="textAreaBottom"/>
            <a:pathLst>
              <a:path w="36" h="157">
                <a:moveTo>
                  <a:pt x="36" y="157"/>
                </a:moveTo>
                <a:cubicBezTo>
                  <a:pt x="0" y="157"/>
                  <a:pt x="0" y="157"/>
                  <a:pt x="0" y="157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8"/>
                  <a:pt x="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8" y="0"/>
                  <a:pt x="36" y="8"/>
                  <a:pt x="36" y="18"/>
                </a:cubicBezTo>
                <a:lnTo>
                  <a:pt x="36" y="157"/>
                </a:ln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3"/>
          <p:cNvSpPr/>
          <p:nvPr/>
        </p:nvSpPr>
        <p:spPr>
          <a:xfrm>
            <a:off x="3024360" y="3960720"/>
            <a:ext cx="368280" cy="1166760"/>
          </a:xfrm>
          <a:custGeom>
            <a:avLst/>
            <a:gdLst>
              <a:gd name="textAreaLeft" fmla="*/ 0 w 368280"/>
              <a:gd name="textAreaRight" fmla="*/ 368640 w 368280"/>
              <a:gd name="textAreaTop" fmla="*/ 0 h 1166760"/>
              <a:gd name="textAreaBottom" fmla="*/ 1167120 h 1166760"/>
            </a:gdLst>
            <a:ahLst/>
            <a:rect l="textAreaLeft" t="textAreaTop" r="textAreaRight" b="textAreaBottom"/>
            <a:pathLst>
              <a:path w="64" h="202">
                <a:moveTo>
                  <a:pt x="32" y="202"/>
                </a:moveTo>
                <a:cubicBezTo>
                  <a:pt x="32" y="202"/>
                  <a:pt x="32" y="202"/>
                  <a:pt x="32" y="202"/>
                </a:cubicBezTo>
                <a:cubicBezTo>
                  <a:pt x="15" y="202"/>
                  <a:pt x="0" y="188"/>
                  <a:pt x="0" y="17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14"/>
                  <a:pt x="15" y="0"/>
                  <a:pt x="32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49" y="0"/>
                  <a:pt x="64" y="14"/>
                  <a:pt x="64" y="31"/>
                </a:cubicBezTo>
                <a:cubicBezTo>
                  <a:pt x="64" y="171"/>
                  <a:pt x="64" y="171"/>
                  <a:pt x="64" y="171"/>
                </a:cubicBezTo>
                <a:cubicBezTo>
                  <a:pt x="64" y="188"/>
                  <a:pt x="49" y="202"/>
                  <a:pt x="32" y="202"/>
                </a:cubicBez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4"/>
          <p:cNvSpPr/>
          <p:nvPr/>
        </p:nvSpPr>
        <p:spPr>
          <a:xfrm>
            <a:off x="2394000" y="4937040"/>
            <a:ext cx="520560" cy="1330560"/>
          </a:xfrm>
          <a:custGeom>
            <a:avLst/>
            <a:gdLst>
              <a:gd name="textAreaLeft" fmla="*/ 0 w 520560"/>
              <a:gd name="textAreaRight" fmla="*/ 520920 w 520560"/>
              <a:gd name="textAreaTop" fmla="*/ 0 h 1330560"/>
              <a:gd name="textAreaBottom" fmla="*/ 1330920 h 1330560"/>
            </a:gdLst>
            <a:ahLst/>
            <a:rect l="textAreaLeft" t="textAreaTop" r="textAreaRight" b="textAreaBottom"/>
            <a:pathLst>
              <a:path w="90" h="230">
                <a:moveTo>
                  <a:pt x="90" y="230"/>
                </a:moveTo>
                <a:cubicBezTo>
                  <a:pt x="0" y="230"/>
                  <a:pt x="0" y="230"/>
                  <a:pt x="0" y="23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18"/>
                  <a:pt x="17" y="0"/>
                  <a:pt x="39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73" y="0"/>
                  <a:pt x="90" y="18"/>
                  <a:pt x="90" y="39"/>
                </a:cubicBezTo>
                <a:lnTo>
                  <a:pt x="90" y="230"/>
                </a:ln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5"/>
          <p:cNvSpPr/>
          <p:nvPr/>
        </p:nvSpPr>
        <p:spPr>
          <a:xfrm>
            <a:off x="4986360" y="3432240"/>
            <a:ext cx="4821120" cy="3200400"/>
          </a:xfrm>
          <a:custGeom>
            <a:avLst/>
            <a:gdLst>
              <a:gd name="textAreaLeft" fmla="*/ 0 w 4821120"/>
              <a:gd name="textAreaRight" fmla="*/ 4821480 w 482112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835" h="553">
                <a:moveTo>
                  <a:pt x="777" y="374"/>
                </a:moveTo>
                <a:cubicBezTo>
                  <a:pt x="684" y="374"/>
                  <a:pt x="684" y="374"/>
                  <a:pt x="684" y="374"/>
                </a:cubicBezTo>
                <a:cubicBezTo>
                  <a:pt x="684" y="323"/>
                  <a:pt x="684" y="323"/>
                  <a:pt x="684" y="323"/>
                </a:cubicBezTo>
                <a:cubicBezTo>
                  <a:pt x="684" y="277"/>
                  <a:pt x="647" y="240"/>
                  <a:pt x="601" y="240"/>
                </a:cubicBezTo>
                <a:cubicBezTo>
                  <a:pt x="493" y="240"/>
                  <a:pt x="493" y="240"/>
                  <a:pt x="493" y="240"/>
                </a:cubicBezTo>
                <a:cubicBezTo>
                  <a:pt x="493" y="183"/>
                  <a:pt x="493" y="183"/>
                  <a:pt x="493" y="183"/>
                </a:cubicBezTo>
                <a:cubicBezTo>
                  <a:pt x="493" y="153"/>
                  <a:pt x="469" y="129"/>
                  <a:pt x="440" y="129"/>
                </a:cubicBezTo>
                <a:cubicBezTo>
                  <a:pt x="435" y="129"/>
                  <a:pt x="435" y="129"/>
                  <a:pt x="435" y="129"/>
                </a:cubicBezTo>
                <a:cubicBezTo>
                  <a:pt x="435" y="92"/>
                  <a:pt x="435" y="92"/>
                  <a:pt x="435" y="92"/>
                </a:cubicBezTo>
                <a:cubicBezTo>
                  <a:pt x="435" y="45"/>
                  <a:pt x="398" y="5"/>
                  <a:pt x="351" y="2"/>
                </a:cubicBezTo>
                <a:cubicBezTo>
                  <a:pt x="301" y="0"/>
                  <a:pt x="260" y="40"/>
                  <a:pt x="260" y="90"/>
                </a:cubicBezTo>
                <a:cubicBezTo>
                  <a:pt x="260" y="98"/>
                  <a:pt x="260" y="98"/>
                  <a:pt x="260" y="98"/>
                </a:cubicBezTo>
                <a:cubicBezTo>
                  <a:pt x="257" y="98"/>
                  <a:pt x="257" y="98"/>
                  <a:pt x="257" y="98"/>
                </a:cubicBezTo>
                <a:cubicBezTo>
                  <a:pt x="217" y="98"/>
                  <a:pt x="185" y="130"/>
                  <a:pt x="185" y="170"/>
                </a:cubicBezTo>
                <a:cubicBezTo>
                  <a:pt x="185" y="214"/>
                  <a:pt x="185" y="214"/>
                  <a:pt x="185" y="214"/>
                </a:cubicBezTo>
                <a:cubicBezTo>
                  <a:pt x="162" y="214"/>
                  <a:pt x="162" y="214"/>
                  <a:pt x="162" y="214"/>
                </a:cubicBezTo>
                <a:cubicBezTo>
                  <a:pt x="128" y="214"/>
                  <a:pt x="100" y="242"/>
                  <a:pt x="100" y="275"/>
                </a:cubicBezTo>
                <a:cubicBezTo>
                  <a:pt x="100" y="324"/>
                  <a:pt x="100" y="324"/>
                  <a:pt x="100" y="324"/>
                </a:cubicBezTo>
                <a:cubicBezTo>
                  <a:pt x="58" y="324"/>
                  <a:pt x="58" y="324"/>
                  <a:pt x="58" y="324"/>
                </a:cubicBezTo>
                <a:cubicBezTo>
                  <a:pt x="26" y="324"/>
                  <a:pt x="0" y="349"/>
                  <a:pt x="0" y="381"/>
                </a:cubicBezTo>
                <a:cubicBezTo>
                  <a:pt x="0" y="502"/>
                  <a:pt x="0" y="502"/>
                  <a:pt x="0" y="502"/>
                </a:cubicBezTo>
                <a:cubicBezTo>
                  <a:pt x="124" y="502"/>
                  <a:pt x="124" y="502"/>
                  <a:pt x="124" y="502"/>
                </a:cubicBezTo>
                <a:cubicBezTo>
                  <a:pt x="124" y="498"/>
                  <a:pt x="124" y="498"/>
                  <a:pt x="124" y="498"/>
                </a:cubicBezTo>
                <a:cubicBezTo>
                  <a:pt x="185" y="498"/>
                  <a:pt x="185" y="498"/>
                  <a:pt x="185" y="498"/>
                </a:cubicBezTo>
                <a:cubicBezTo>
                  <a:pt x="185" y="524"/>
                  <a:pt x="185" y="524"/>
                  <a:pt x="185" y="524"/>
                </a:cubicBezTo>
                <a:cubicBezTo>
                  <a:pt x="300" y="524"/>
                  <a:pt x="300" y="524"/>
                  <a:pt x="300" y="524"/>
                </a:cubicBezTo>
                <a:cubicBezTo>
                  <a:pt x="300" y="512"/>
                  <a:pt x="300" y="512"/>
                  <a:pt x="300" y="512"/>
                </a:cubicBezTo>
                <a:cubicBezTo>
                  <a:pt x="435" y="512"/>
                  <a:pt x="435" y="512"/>
                  <a:pt x="435" y="512"/>
                </a:cubicBezTo>
                <a:cubicBezTo>
                  <a:pt x="435" y="490"/>
                  <a:pt x="435" y="490"/>
                  <a:pt x="435" y="490"/>
                </a:cubicBezTo>
                <a:cubicBezTo>
                  <a:pt x="470" y="490"/>
                  <a:pt x="470" y="490"/>
                  <a:pt x="470" y="490"/>
                </a:cubicBezTo>
                <a:cubicBezTo>
                  <a:pt x="470" y="527"/>
                  <a:pt x="470" y="527"/>
                  <a:pt x="470" y="527"/>
                </a:cubicBezTo>
                <a:cubicBezTo>
                  <a:pt x="646" y="527"/>
                  <a:pt x="646" y="527"/>
                  <a:pt x="646" y="527"/>
                </a:cubicBezTo>
                <a:cubicBezTo>
                  <a:pt x="646" y="553"/>
                  <a:pt x="646" y="553"/>
                  <a:pt x="646" y="553"/>
                </a:cubicBezTo>
                <a:cubicBezTo>
                  <a:pt x="835" y="553"/>
                  <a:pt x="835" y="553"/>
                  <a:pt x="835" y="553"/>
                </a:cubicBezTo>
                <a:cubicBezTo>
                  <a:pt x="835" y="433"/>
                  <a:pt x="835" y="433"/>
                  <a:pt x="835" y="433"/>
                </a:cubicBezTo>
                <a:cubicBezTo>
                  <a:pt x="835" y="401"/>
                  <a:pt x="809" y="374"/>
                  <a:pt x="777" y="374"/>
                </a:cubicBez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6"/>
          <p:cNvSpPr/>
          <p:nvPr/>
        </p:nvSpPr>
        <p:spPr>
          <a:xfrm>
            <a:off x="7007400" y="3444840"/>
            <a:ext cx="2800080" cy="3036960"/>
          </a:xfrm>
          <a:custGeom>
            <a:avLst/>
            <a:gdLst>
              <a:gd name="textAreaLeft" fmla="*/ 0 w 2800080"/>
              <a:gd name="textAreaRight" fmla="*/ 2800440 w 2800080"/>
              <a:gd name="textAreaTop" fmla="*/ 0 h 3036960"/>
              <a:gd name="textAreaBottom" fmla="*/ 3037320 h 3036960"/>
            </a:gdLst>
            <a:ahLst/>
            <a:rect l="textAreaLeft" t="textAreaTop" r="textAreaRight" b="textAreaBottom"/>
            <a:pathLst>
              <a:path w="485" h="525">
                <a:moveTo>
                  <a:pt x="427" y="372"/>
                </a:moveTo>
                <a:cubicBezTo>
                  <a:pt x="334" y="372"/>
                  <a:pt x="334" y="372"/>
                  <a:pt x="334" y="372"/>
                </a:cubicBezTo>
                <a:cubicBezTo>
                  <a:pt x="334" y="321"/>
                  <a:pt x="334" y="321"/>
                  <a:pt x="334" y="321"/>
                </a:cubicBezTo>
                <a:cubicBezTo>
                  <a:pt x="334" y="275"/>
                  <a:pt x="297" y="238"/>
                  <a:pt x="251" y="238"/>
                </a:cubicBezTo>
                <a:cubicBezTo>
                  <a:pt x="143" y="238"/>
                  <a:pt x="143" y="238"/>
                  <a:pt x="143" y="238"/>
                </a:cubicBezTo>
                <a:cubicBezTo>
                  <a:pt x="143" y="181"/>
                  <a:pt x="143" y="181"/>
                  <a:pt x="143" y="181"/>
                </a:cubicBezTo>
                <a:cubicBezTo>
                  <a:pt x="143" y="151"/>
                  <a:pt x="119" y="127"/>
                  <a:pt x="90" y="127"/>
                </a:cubicBezTo>
                <a:cubicBezTo>
                  <a:pt x="85" y="127"/>
                  <a:pt x="85" y="127"/>
                  <a:pt x="85" y="127"/>
                </a:cubicBezTo>
                <a:cubicBezTo>
                  <a:pt x="85" y="90"/>
                  <a:pt x="85" y="90"/>
                  <a:pt x="85" y="90"/>
                </a:cubicBezTo>
                <a:cubicBezTo>
                  <a:pt x="85" y="43"/>
                  <a:pt x="48" y="3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510"/>
                  <a:pt x="0" y="510"/>
                  <a:pt x="0" y="510"/>
                </a:cubicBezTo>
                <a:cubicBezTo>
                  <a:pt x="85" y="510"/>
                  <a:pt x="85" y="510"/>
                  <a:pt x="85" y="510"/>
                </a:cubicBezTo>
                <a:cubicBezTo>
                  <a:pt x="85" y="488"/>
                  <a:pt x="85" y="488"/>
                  <a:pt x="85" y="488"/>
                </a:cubicBezTo>
                <a:cubicBezTo>
                  <a:pt x="120" y="488"/>
                  <a:pt x="120" y="488"/>
                  <a:pt x="120" y="488"/>
                </a:cubicBezTo>
                <a:cubicBezTo>
                  <a:pt x="120" y="525"/>
                  <a:pt x="120" y="525"/>
                  <a:pt x="120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485" y="525"/>
                  <a:pt x="485" y="525"/>
                  <a:pt x="485" y="525"/>
                </a:cubicBezTo>
                <a:cubicBezTo>
                  <a:pt x="485" y="431"/>
                  <a:pt x="485" y="431"/>
                  <a:pt x="485" y="431"/>
                </a:cubicBezTo>
                <a:cubicBezTo>
                  <a:pt x="485" y="399"/>
                  <a:pt x="459" y="372"/>
                  <a:pt x="427" y="372"/>
                </a:cubicBezTo>
                <a:close/>
              </a:path>
            </a:pathLst>
          </a:custGeom>
          <a:solidFill>
            <a:srgbClr val="46b3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7"/>
          <p:cNvSpPr/>
          <p:nvPr/>
        </p:nvSpPr>
        <p:spPr>
          <a:xfrm>
            <a:off x="5557680" y="4591080"/>
            <a:ext cx="514440" cy="1249200"/>
          </a:xfrm>
          <a:custGeom>
            <a:avLst/>
            <a:gdLst>
              <a:gd name="textAreaLeft" fmla="*/ 0 w 514440"/>
              <a:gd name="textAreaRight" fmla="*/ 514800 w 514440"/>
              <a:gd name="textAreaTop" fmla="*/ 0 h 1249200"/>
              <a:gd name="textAreaBottom" fmla="*/ 1249200 h 1249200"/>
            </a:gdLst>
            <a:ahLst/>
            <a:rect l="textAreaLeft" t="textAreaTop" r="textAreaRight" b="textAreaBottom"/>
            <a:pathLst>
              <a:path w="89" h="216">
                <a:moveTo>
                  <a:pt x="89" y="0"/>
                </a:moveTo>
                <a:cubicBezTo>
                  <a:pt x="88" y="0"/>
                  <a:pt x="87" y="0"/>
                  <a:pt x="86" y="0"/>
                </a:cubicBezTo>
                <a:cubicBezTo>
                  <a:pt x="86" y="14"/>
                  <a:pt x="86" y="14"/>
                  <a:pt x="86" y="14"/>
                </a:cubicBezTo>
                <a:cubicBezTo>
                  <a:pt x="63" y="14"/>
                  <a:pt x="63" y="14"/>
                  <a:pt x="63" y="14"/>
                </a:cubicBezTo>
                <a:cubicBezTo>
                  <a:pt x="45" y="14"/>
                  <a:pt x="29" y="21"/>
                  <a:pt x="18" y="33"/>
                </a:cubicBezTo>
                <a:cubicBezTo>
                  <a:pt x="11" y="42"/>
                  <a:pt x="5" y="53"/>
                  <a:pt x="2" y="65"/>
                </a:cubicBezTo>
                <a:cubicBezTo>
                  <a:pt x="2" y="68"/>
                  <a:pt x="1" y="72"/>
                  <a:pt x="1" y="75"/>
                </a:cubicBezTo>
                <a:cubicBezTo>
                  <a:pt x="1" y="124"/>
                  <a:pt x="1" y="124"/>
                  <a:pt x="1" y="124"/>
                </a:cubicBezTo>
                <a:cubicBezTo>
                  <a:pt x="0" y="124"/>
                  <a:pt x="0" y="124"/>
                  <a:pt x="0" y="124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8"/>
          <p:cNvSpPr/>
          <p:nvPr/>
        </p:nvSpPr>
        <p:spPr>
          <a:xfrm>
            <a:off x="6054840" y="3930480"/>
            <a:ext cx="519120" cy="1249560"/>
          </a:xfrm>
          <a:custGeom>
            <a:avLst/>
            <a:gdLst>
              <a:gd name="textAreaLeft" fmla="*/ 0 w 519120"/>
              <a:gd name="textAreaRight" fmla="*/ 519480 w 519120"/>
              <a:gd name="textAreaTop" fmla="*/ 0 h 1249560"/>
              <a:gd name="textAreaBottom" fmla="*/ 1249560 h 1249560"/>
            </a:gdLst>
            <a:ahLst/>
            <a:rect l="textAreaLeft" t="textAreaTop" r="textAreaRight" b="textAreaBottom"/>
            <a:pathLst>
              <a:path w="90" h="216">
                <a:moveTo>
                  <a:pt x="89" y="0"/>
                </a:moveTo>
                <a:cubicBezTo>
                  <a:pt x="84" y="0"/>
                  <a:pt x="90" y="3"/>
                  <a:pt x="85" y="3"/>
                </a:cubicBezTo>
                <a:cubicBezTo>
                  <a:pt x="85" y="4"/>
                  <a:pt x="86" y="9"/>
                  <a:pt x="86" y="10"/>
                </a:cubicBezTo>
                <a:cubicBezTo>
                  <a:pt x="73" y="12"/>
                  <a:pt x="73" y="12"/>
                  <a:pt x="73" y="12"/>
                </a:cubicBezTo>
                <a:cubicBezTo>
                  <a:pt x="70" y="12"/>
                  <a:pt x="70" y="12"/>
                  <a:pt x="70" y="12"/>
                </a:cubicBezTo>
                <a:cubicBezTo>
                  <a:pt x="47" y="12"/>
                  <a:pt x="26" y="23"/>
                  <a:pt x="13" y="41"/>
                </a:cubicBezTo>
                <a:cubicBezTo>
                  <a:pt x="6" y="52"/>
                  <a:pt x="1" y="65"/>
                  <a:pt x="0" y="79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c5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9"/>
          <p:cNvSpPr/>
          <p:nvPr/>
        </p:nvSpPr>
        <p:spPr>
          <a:xfrm>
            <a:off x="6486480" y="3438360"/>
            <a:ext cx="520920" cy="1257480"/>
          </a:xfrm>
          <a:custGeom>
            <a:avLst/>
            <a:gdLst>
              <a:gd name="textAreaLeft" fmla="*/ 0 w 520920"/>
              <a:gd name="textAreaRight" fmla="*/ 521280 w 520920"/>
              <a:gd name="textAreaTop" fmla="*/ 0 h 1257480"/>
              <a:gd name="textAreaBottom" fmla="*/ 1257840 h 1257480"/>
            </a:gdLst>
            <a:ahLst/>
            <a:rect l="textAreaLeft" t="textAreaTop" r="textAreaRight" b="textAreaBottom"/>
            <a:pathLst>
              <a:path w="90" h="217">
                <a:moveTo>
                  <a:pt x="90" y="1"/>
                </a:moveTo>
                <a:cubicBezTo>
                  <a:pt x="43" y="0"/>
                  <a:pt x="5" y="35"/>
                  <a:pt x="0" y="80"/>
                </a:cubicBezTo>
                <a:cubicBezTo>
                  <a:pt x="0" y="217"/>
                  <a:pt x="0" y="217"/>
                  <a:pt x="0" y="217"/>
                </a:cubicBezTo>
                <a:cubicBezTo>
                  <a:pt x="90" y="217"/>
                  <a:pt x="90" y="217"/>
                  <a:pt x="90" y="217"/>
                </a:cubicBezTo>
                <a:lnTo>
                  <a:pt x="90" y="1"/>
                </a:lnTo>
                <a:close/>
              </a:path>
            </a:pathLst>
          </a:custGeom>
          <a:solidFill>
            <a:srgbClr val="9cd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0"/>
          <p:cNvSpPr/>
          <p:nvPr/>
        </p:nvSpPr>
        <p:spPr>
          <a:xfrm>
            <a:off x="5373720" y="4208400"/>
            <a:ext cx="3678120" cy="2424240"/>
          </a:xfrm>
          <a:custGeom>
            <a:avLst/>
            <a:gdLst>
              <a:gd name="textAreaLeft" fmla="*/ 0 w 3678120"/>
              <a:gd name="textAreaRight" fmla="*/ 3678480 w 3678120"/>
              <a:gd name="textAreaTop" fmla="*/ 0 h 2424240"/>
              <a:gd name="textAreaBottom" fmla="*/ 2424600 h 2424240"/>
            </a:gdLst>
            <a:ahLst/>
            <a:rect l="textAreaLeft" t="textAreaTop" r="textAreaRight" b="textAreaBottom"/>
            <a:pathLst>
              <a:path w="637" h="419">
                <a:moveTo>
                  <a:pt x="593" y="284"/>
                </a:moveTo>
                <a:cubicBezTo>
                  <a:pt x="522" y="284"/>
                  <a:pt x="522" y="284"/>
                  <a:pt x="522" y="284"/>
                </a:cubicBezTo>
                <a:cubicBezTo>
                  <a:pt x="522" y="245"/>
                  <a:pt x="522" y="245"/>
                  <a:pt x="522" y="245"/>
                </a:cubicBezTo>
                <a:cubicBezTo>
                  <a:pt x="522" y="210"/>
                  <a:pt x="494" y="182"/>
                  <a:pt x="459" y="182"/>
                </a:cubicBezTo>
                <a:cubicBezTo>
                  <a:pt x="378" y="182"/>
                  <a:pt x="378" y="182"/>
                  <a:pt x="378" y="182"/>
                </a:cubicBezTo>
                <a:cubicBezTo>
                  <a:pt x="378" y="138"/>
                  <a:pt x="378" y="138"/>
                  <a:pt x="378" y="138"/>
                </a:cubicBezTo>
                <a:cubicBezTo>
                  <a:pt x="378" y="116"/>
                  <a:pt x="359" y="98"/>
                  <a:pt x="337" y="98"/>
                </a:cubicBezTo>
                <a:cubicBezTo>
                  <a:pt x="333" y="98"/>
                  <a:pt x="333" y="98"/>
                  <a:pt x="333" y="98"/>
                </a:cubicBezTo>
                <a:cubicBezTo>
                  <a:pt x="333" y="70"/>
                  <a:pt x="333" y="70"/>
                  <a:pt x="333" y="70"/>
                </a:cubicBezTo>
                <a:cubicBezTo>
                  <a:pt x="333" y="34"/>
                  <a:pt x="306" y="3"/>
                  <a:pt x="270" y="2"/>
                </a:cubicBezTo>
                <a:cubicBezTo>
                  <a:pt x="232" y="0"/>
                  <a:pt x="201" y="30"/>
                  <a:pt x="201" y="68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168" y="74"/>
                  <a:pt x="144" y="98"/>
                  <a:pt x="144" y="128"/>
                </a:cubicBezTo>
                <a:cubicBezTo>
                  <a:pt x="144" y="162"/>
                  <a:pt x="144" y="162"/>
                  <a:pt x="144" y="162"/>
                </a:cubicBezTo>
                <a:cubicBezTo>
                  <a:pt x="126" y="162"/>
                  <a:pt x="126" y="162"/>
                  <a:pt x="126" y="162"/>
                </a:cubicBezTo>
                <a:cubicBezTo>
                  <a:pt x="101" y="162"/>
                  <a:pt x="80" y="183"/>
                  <a:pt x="80" y="209"/>
                </a:cubicBezTo>
                <a:cubicBezTo>
                  <a:pt x="80" y="245"/>
                  <a:pt x="80" y="245"/>
                  <a:pt x="80" y="245"/>
                </a:cubicBezTo>
                <a:cubicBezTo>
                  <a:pt x="47" y="245"/>
                  <a:pt x="47" y="245"/>
                  <a:pt x="47" y="245"/>
                </a:cubicBezTo>
                <a:cubicBezTo>
                  <a:pt x="23" y="245"/>
                  <a:pt x="4" y="264"/>
                  <a:pt x="0" y="289"/>
                </a:cubicBezTo>
                <a:cubicBezTo>
                  <a:pt x="0" y="380"/>
                  <a:pt x="0" y="380"/>
                  <a:pt x="0" y="380"/>
                </a:cubicBezTo>
                <a:cubicBezTo>
                  <a:pt x="98" y="380"/>
                  <a:pt x="98" y="380"/>
                  <a:pt x="98" y="380"/>
                </a:cubicBezTo>
                <a:cubicBezTo>
                  <a:pt x="98" y="377"/>
                  <a:pt x="98" y="377"/>
                  <a:pt x="98" y="377"/>
                </a:cubicBezTo>
                <a:cubicBezTo>
                  <a:pt x="144" y="377"/>
                  <a:pt x="144" y="377"/>
                  <a:pt x="144" y="377"/>
                </a:cubicBezTo>
                <a:cubicBezTo>
                  <a:pt x="144" y="397"/>
                  <a:pt x="144" y="397"/>
                  <a:pt x="144" y="397"/>
                </a:cubicBezTo>
                <a:cubicBezTo>
                  <a:pt x="231" y="397"/>
                  <a:pt x="231" y="397"/>
                  <a:pt x="231" y="397"/>
                </a:cubicBezTo>
                <a:cubicBezTo>
                  <a:pt x="231" y="388"/>
                  <a:pt x="231" y="388"/>
                  <a:pt x="231" y="388"/>
                </a:cubicBezTo>
                <a:cubicBezTo>
                  <a:pt x="333" y="388"/>
                  <a:pt x="333" y="388"/>
                  <a:pt x="333" y="388"/>
                </a:cubicBezTo>
                <a:cubicBezTo>
                  <a:pt x="333" y="371"/>
                  <a:pt x="333" y="371"/>
                  <a:pt x="333" y="371"/>
                </a:cubicBezTo>
                <a:cubicBezTo>
                  <a:pt x="360" y="371"/>
                  <a:pt x="360" y="371"/>
                  <a:pt x="360" y="371"/>
                </a:cubicBezTo>
                <a:cubicBezTo>
                  <a:pt x="360" y="399"/>
                  <a:pt x="360" y="399"/>
                  <a:pt x="360" y="399"/>
                </a:cubicBezTo>
                <a:cubicBezTo>
                  <a:pt x="494" y="399"/>
                  <a:pt x="494" y="399"/>
                  <a:pt x="494" y="399"/>
                </a:cubicBezTo>
                <a:cubicBezTo>
                  <a:pt x="494" y="419"/>
                  <a:pt x="494" y="419"/>
                  <a:pt x="494" y="419"/>
                </a:cubicBezTo>
                <a:cubicBezTo>
                  <a:pt x="637" y="419"/>
                  <a:pt x="637" y="419"/>
                  <a:pt x="637" y="419"/>
                </a:cubicBezTo>
                <a:cubicBezTo>
                  <a:pt x="637" y="328"/>
                  <a:pt x="637" y="328"/>
                  <a:pt x="637" y="328"/>
                </a:cubicBezTo>
                <a:cubicBezTo>
                  <a:pt x="637" y="303"/>
                  <a:pt x="617" y="284"/>
                  <a:pt x="593" y="284"/>
                </a:cubicBezTo>
                <a:close/>
              </a:path>
            </a:pathLst>
          </a:custGeom>
          <a:solidFill>
            <a:srgbClr val="8db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1"/>
          <p:cNvSpPr/>
          <p:nvPr/>
        </p:nvSpPr>
        <p:spPr>
          <a:xfrm>
            <a:off x="6902280" y="4214880"/>
            <a:ext cx="2149560" cy="212256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2122560"/>
              <a:gd name="textAreaBottom" fmla="*/ 2122920 h 2122560"/>
            </a:gdLst>
            <a:ahLst/>
            <a:rect l="textAreaLeft" t="textAreaTop" r="textAreaRight" b="textAreaBottom"/>
            <a:pathLst>
              <a:path w="372" h="367">
                <a:moveTo>
                  <a:pt x="328" y="283"/>
                </a:moveTo>
                <a:cubicBezTo>
                  <a:pt x="257" y="283"/>
                  <a:pt x="257" y="283"/>
                  <a:pt x="257" y="283"/>
                </a:cubicBezTo>
                <a:cubicBezTo>
                  <a:pt x="257" y="244"/>
                  <a:pt x="257" y="244"/>
                  <a:pt x="257" y="244"/>
                </a:cubicBezTo>
                <a:cubicBezTo>
                  <a:pt x="257" y="209"/>
                  <a:pt x="229" y="181"/>
                  <a:pt x="194" y="181"/>
                </a:cubicBezTo>
                <a:cubicBezTo>
                  <a:pt x="113" y="181"/>
                  <a:pt x="113" y="181"/>
                  <a:pt x="113" y="181"/>
                </a:cubicBezTo>
                <a:cubicBezTo>
                  <a:pt x="113" y="137"/>
                  <a:pt x="113" y="137"/>
                  <a:pt x="113" y="137"/>
                </a:cubicBezTo>
                <a:cubicBezTo>
                  <a:pt x="113" y="115"/>
                  <a:pt x="94" y="97"/>
                  <a:pt x="72" y="97"/>
                </a:cubicBezTo>
                <a:cubicBezTo>
                  <a:pt x="68" y="97"/>
                  <a:pt x="68" y="97"/>
                  <a:pt x="68" y="9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3"/>
                  <a:pt x="41" y="2"/>
                  <a:pt x="5" y="1"/>
                </a:cubicBezTo>
                <a:cubicBezTo>
                  <a:pt x="3" y="0"/>
                  <a:pt x="2" y="1"/>
                  <a:pt x="0" y="1"/>
                </a:cubicBezTo>
                <a:cubicBezTo>
                  <a:pt x="0" y="367"/>
                  <a:pt x="0" y="367"/>
                  <a:pt x="0" y="367"/>
                </a:cubicBezTo>
                <a:cubicBezTo>
                  <a:pt x="372" y="367"/>
                  <a:pt x="372" y="367"/>
                  <a:pt x="372" y="367"/>
                </a:cubicBezTo>
                <a:cubicBezTo>
                  <a:pt x="372" y="327"/>
                  <a:pt x="372" y="327"/>
                  <a:pt x="372" y="327"/>
                </a:cubicBezTo>
                <a:cubicBezTo>
                  <a:pt x="372" y="302"/>
                  <a:pt x="352" y="283"/>
                  <a:pt x="328" y="283"/>
                </a:cubicBezTo>
                <a:close/>
              </a:path>
            </a:pathLst>
          </a:custGeom>
          <a:solidFill>
            <a:srgbClr val="5693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2"/>
          <p:cNvSpPr/>
          <p:nvPr/>
        </p:nvSpPr>
        <p:spPr>
          <a:xfrm>
            <a:off x="5934240" y="4897440"/>
            <a:ext cx="2614320" cy="1735200"/>
          </a:xfrm>
          <a:custGeom>
            <a:avLst/>
            <a:gdLst>
              <a:gd name="textAreaLeft" fmla="*/ 0 w 2614320"/>
              <a:gd name="textAreaRight" fmla="*/ 2614680 w 2614320"/>
              <a:gd name="textAreaTop" fmla="*/ 0 h 1735200"/>
              <a:gd name="textAreaBottom" fmla="*/ 1735560 h 1735200"/>
            </a:gdLst>
            <a:ahLst/>
            <a:rect l="textAreaLeft" t="textAreaTop" r="textAreaRight" b="textAreaBottom"/>
            <a:pathLst>
              <a:path w="453" h="300">
                <a:moveTo>
                  <a:pt x="421" y="203"/>
                </a:moveTo>
                <a:cubicBezTo>
                  <a:pt x="371" y="203"/>
                  <a:pt x="371" y="203"/>
                  <a:pt x="371" y="203"/>
                </a:cubicBezTo>
                <a:cubicBezTo>
                  <a:pt x="371" y="175"/>
                  <a:pt x="371" y="175"/>
                  <a:pt x="371" y="175"/>
                </a:cubicBezTo>
                <a:cubicBezTo>
                  <a:pt x="371" y="150"/>
                  <a:pt x="351" y="130"/>
                  <a:pt x="326" y="130"/>
                </a:cubicBezTo>
                <a:cubicBezTo>
                  <a:pt x="268" y="130"/>
                  <a:pt x="268" y="130"/>
                  <a:pt x="268" y="130"/>
                </a:cubicBezTo>
                <a:cubicBezTo>
                  <a:pt x="268" y="99"/>
                  <a:pt x="268" y="99"/>
                  <a:pt x="268" y="99"/>
                </a:cubicBezTo>
                <a:cubicBezTo>
                  <a:pt x="268" y="83"/>
                  <a:pt x="255" y="70"/>
                  <a:pt x="239" y="70"/>
                </a:cubicBezTo>
                <a:cubicBezTo>
                  <a:pt x="236" y="70"/>
                  <a:pt x="236" y="70"/>
                  <a:pt x="236" y="70"/>
                </a:cubicBezTo>
                <a:cubicBezTo>
                  <a:pt x="236" y="50"/>
                  <a:pt x="236" y="50"/>
                  <a:pt x="236" y="50"/>
                </a:cubicBezTo>
                <a:cubicBezTo>
                  <a:pt x="236" y="24"/>
                  <a:pt x="216" y="2"/>
                  <a:pt x="191" y="1"/>
                </a:cubicBezTo>
                <a:cubicBezTo>
                  <a:pt x="163" y="0"/>
                  <a:pt x="141" y="22"/>
                  <a:pt x="141" y="48"/>
                </a:cubicBezTo>
                <a:cubicBezTo>
                  <a:pt x="141" y="53"/>
                  <a:pt x="141" y="53"/>
                  <a:pt x="141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18" y="53"/>
                  <a:pt x="100" y="70"/>
                  <a:pt x="100" y="92"/>
                </a:cubicBezTo>
                <a:cubicBezTo>
                  <a:pt x="100" y="116"/>
                  <a:pt x="100" y="116"/>
                  <a:pt x="100" y="116"/>
                </a:cubicBezTo>
                <a:cubicBezTo>
                  <a:pt x="88" y="116"/>
                  <a:pt x="88" y="116"/>
                  <a:pt x="88" y="116"/>
                </a:cubicBezTo>
                <a:cubicBezTo>
                  <a:pt x="69" y="116"/>
                  <a:pt x="54" y="131"/>
                  <a:pt x="54" y="149"/>
                </a:cubicBezTo>
                <a:cubicBezTo>
                  <a:pt x="54" y="175"/>
                  <a:pt x="54" y="175"/>
                  <a:pt x="54" y="175"/>
                </a:cubicBezTo>
                <a:cubicBezTo>
                  <a:pt x="31" y="175"/>
                  <a:pt x="31" y="175"/>
                  <a:pt x="31" y="175"/>
                </a:cubicBezTo>
                <a:cubicBezTo>
                  <a:pt x="14" y="175"/>
                  <a:pt x="0" y="189"/>
                  <a:pt x="0" y="207"/>
                </a:cubicBezTo>
                <a:cubicBezTo>
                  <a:pt x="0" y="272"/>
                  <a:pt x="0" y="272"/>
                  <a:pt x="0" y="272"/>
                </a:cubicBezTo>
                <a:cubicBezTo>
                  <a:pt x="67" y="272"/>
                  <a:pt x="67" y="272"/>
                  <a:pt x="67" y="272"/>
                </a:cubicBezTo>
                <a:cubicBezTo>
                  <a:pt x="67" y="270"/>
                  <a:pt x="67" y="270"/>
                  <a:pt x="67" y="270"/>
                </a:cubicBezTo>
                <a:cubicBezTo>
                  <a:pt x="100" y="270"/>
                  <a:pt x="100" y="270"/>
                  <a:pt x="100" y="270"/>
                </a:cubicBezTo>
                <a:cubicBezTo>
                  <a:pt x="100" y="284"/>
                  <a:pt x="100" y="284"/>
                  <a:pt x="100" y="284"/>
                </a:cubicBezTo>
                <a:cubicBezTo>
                  <a:pt x="163" y="284"/>
                  <a:pt x="163" y="284"/>
                  <a:pt x="163" y="284"/>
                </a:cubicBezTo>
                <a:cubicBezTo>
                  <a:pt x="163" y="278"/>
                  <a:pt x="163" y="278"/>
                  <a:pt x="163" y="278"/>
                </a:cubicBezTo>
                <a:cubicBezTo>
                  <a:pt x="236" y="278"/>
                  <a:pt x="236" y="278"/>
                  <a:pt x="236" y="278"/>
                </a:cubicBezTo>
                <a:cubicBezTo>
                  <a:pt x="236" y="265"/>
                  <a:pt x="236" y="265"/>
                  <a:pt x="236" y="265"/>
                </a:cubicBezTo>
                <a:cubicBezTo>
                  <a:pt x="255" y="265"/>
                  <a:pt x="255" y="265"/>
                  <a:pt x="255" y="265"/>
                </a:cubicBezTo>
                <a:cubicBezTo>
                  <a:pt x="255" y="286"/>
                  <a:pt x="255" y="286"/>
                  <a:pt x="255" y="286"/>
                </a:cubicBezTo>
                <a:cubicBezTo>
                  <a:pt x="351" y="286"/>
                  <a:pt x="351" y="286"/>
                  <a:pt x="351" y="286"/>
                </a:cubicBezTo>
                <a:cubicBezTo>
                  <a:pt x="351" y="300"/>
                  <a:pt x="351" y="300"/>
                  <a:pt x="351" y="300"/>
                </a:cubicBezTo>
                <a:cubicBezTo>
                  <a:pt x="453" y="300"/>
                  <a:pt x="453" y="300"/>
                  <a:pt x="453" y="300"/>
                </a:cubicBezTo>
                <a:cubicBezTo>
                  <a:pt x="453" y="235"/>
                  <a:pt x="453" y="235"/>
                  <a:pt x="453" y="235"/>
                </a:cubicBezTo>
                <a:cubicBezTo>
                  <a:pt x="453" y="217"/>
                  <a:pt x="439" y="203"/>
                  <a:pt x="421" y="203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3"/>
          <p:cNvSpPr/>
          <p:nvPr/>
        </p:nvSpPr>
        <p:spPr>
          <a:xfrm>
            <a:off x="2705040" y="5632560"/>
            <a:ext cx="85680" cy="635040"/>
          </a:xfrm>
          <a:prstGeom prst="rect">
            <a:avLst/>
          </a:pr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4"/>
          <p:cNvSpPr/>
          <p:nvPr/>
        </p:nvSpPr>
        <p:spPr>
          <a:xfrm>
            <a:off x="2682720" y="5765760"/>
            <a:ext cx="133560" cy="68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5"/>
          <p:cNvSpPr/>
          <p:nvPr/>
        </p:nvSpPr>
        <p:spPr>
          <a:xfrm>
            <a:off x="2682720" y="5956200"/>
            <a:ext cx="133560" cy="6984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2682720" y="6118200"/>
            <a:ext cx="133560" cy="68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7"/>
          <p:cNvSpPr/>
          <p:nvPr/>
        </p:nvSpPr>
        <p:spPr>
          <a:xfrm>
            <a:off x="2803680" y="5481720"/>
            <a:ext cx="392040" cy="191880"/>
          </a:xfrm>
          <a:custGeom>
            <a:avLst/>
            <a:gdLst>
              <a:gd name="textAreaLeft" fmla="*/ 0 w 392040"/>
              <a:gd name="textAreaRight" fmla="*/ 392400 w 3920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68" h="33">
                <a:moveTo>
                  <a:pt x="34" y="0"/>
                </a:moveTo>
                <a:cubicBezTo>
                  <a:pt x="53" y="0"/>
                  <a:pt x="68" y="15"/>
                  <a:pt x="68" y="33"/>
                </a:cubicBezTo>
                <a:cubicBezTo>
                  <a:pt x="57" y="33"/>
                  <a:pt x="57" y="33"/>
                  <a:pt x="57" y="33"/>
                </a:cubicBezTo>
                <a:cubicBezTo>
                  <a:pt x="52" y="24"/>
                  <a:pt x="52" y="24"/>
                  <a:pt x="52" y="24"/>
                </a:cubicBezTo>
                <a:cubicBezTo>
                  <a:pt x="46" y="33"/>
                  <a:pt x="46" y="33"/>
                  <a:pt x="46" y="33"/>
                </a:cubicBezTo>
                <a:cubicBezTo>
                  <a:pt x="39" y="33"/>
                  <a:pt x="39" y="33"/>
                  <a:pt x="39" y="33"/>
                </a:cubicBezTo>
                <a:cubicBezTo>
                  <a:pt x="34" y="24"/>
                  <a:pt x="34" y="24"/>
                  <a:pt x="34" y="24"/>
                </a:cubicBezTo>
                <a:cubicBezTo>
                  <a:pt x="28" y="33"/>
                  <a:pt x="28" y="33"/>
                  <a:pt x="28" y="33"/>
                </a:cubicBezTo>
                <a:cubicBezTo>
                  <a:pt x="21" y="33"/>
                  <a:pt x="21" y="33"/>
                  <a:pt x="21" y="33"/>
                </a:cubicBezTo>
                <a:cubicBezTo>
                  <a:pt x="15" y="24"/>
                  <a:pt x="15" y="24"/>
                  <a:pt x="15" y="24"/>
                </a:cubicBezTo>
                <a:cubicBezTo>
                  <a:pt x="10" y="33"/>
                  <a:pt x="10" y="33"/>
                  <a:pt x="10" y="33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15"/>
                  <a:pt x="15" y="0"/>
                  <a:pt x="34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8"/>
          <p:cNvSpPr/>
          <p:nvPr/>
        </p:nvSpPr>
        <p:spPr>
          <a:xfrm>
            <a:off x="2301840" y="5481720"/>
            <a:ext cx="392040" cy="191880"/>
          </a:xfrm>
          <a:custGeom>
            <a:avLst/>
            <a:gdLst>
              <a:gd name="textAreaLeft" fmla="*/ 0 w 392040"/>
              <a:gd name="textAreaRight" fmla="*/ 392400 w 3920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68" h="33">
                <a:moveTo>
                  <a:pt x="34" y="0"/>
                </a:moveTo>
                <a:cubicBezTo>
                  <a:pt x="53" y="0"/>
                  <a:pt x="68" y="15"/>
                  <a:pt x="68" y="33"/>
                </a:cubicBezTo>
                <a:cubicBezTo>
                  <a:pt x="57" y="33"/>
                  <a:pt x="57" y="33"/>
                  <a:pt x="57" y="33"/>
                </a:cubicBezTo>
                <a:cubicBezTo>
                  <a:pt x="52" y="24"/>
                  <a:pt x="52" y="24"/>
                  <a:pt x="52" y="24"/>
                </a:cubicBezTo>
                <a:cubicBezTo>
                  <a:pt x="46" y="33"/>
                  <a:pt x="46" y="33"/>
                  <a:pt x="46" y="33"/>
                </a:cubicBezTo>
                <a:cubicBezTo>
                  <a:pt x="39" y="33"/>
                  <a:pt x="39" y="33"/>
                  <a:pt x="39" y="33"/>
                </a:cubicBezTo>
                <a:cubicBezTo>
                  <a:pt x="34" y="24"/>
                  <a:pt x="34" y="24"/>
                  <a:pt x="34" y="24"/>
                </a:cubicBezTo>
                <a:cubicBezTo>
                  <a:pt x="28" y="33"/>
                  <a:pt x="28" y="33"/>
                  <a:pt x="28" y="33"/>
                </a:cubicBezTo>
                <a:cubicBezTo>
                  <a:pt x="21" y="33"/>
                  <a:pt x="21" y="33"/>
                  <a:pt x="21" y="33"/>
                </a:cubicBezTo>
                <a:cubicBezTo>
                  <a:pt x="15" y="24"/>
                  <a:pt x="15" y="24"/>
                  <a:pt x="15" y="24"/>
                </a:cubicBezTo>
                <a:cubicBezTo>
                  <a:pt x="10" y="33"/>
                  <a:pt x="10" y="33"/>
                  <a:pt x="10" y="33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15"/>
                  <a:pt x="15" y="0"/>
                  <a:pt x="34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9"/>
          <p:cNvSpPr/>
          <p:nvPr/>
        </p:nvSpPr>
        <p:spPr>
          <a:xfrm>
            <a:off x="2475000" y="5284800"/>
            <a:ext cx="328680" cy="382680"/>
          </a:xfrm>
          <a:custGeom>
            <a:avLst/>
            <a:gdLst>
              <a:gd name="textAreaLeft" fmla="*/ 0 w 328680"/>
              <a:gd name="textAreaRight" fmla="*/ 329040 w 32868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57" h="66">
                <a:moveTo>
                  <a:pt x="47" y="20"/>
                </a:moveTo>
                <a:cubicBezTo>
                  <a:pt x="57" y="35"/>
                  <a:pt x="53" y="56"/>
                  <a:pt x="38" y="66"/>
                </a:cubicBezTo>
                <a:cubicBezTo>
                  <a:pt x="32" y="58"/>
                  <a:pt x="32" y="58"/>
                  <a:pt x="32" y="58"/>
                </a:cubicBezTo>
                <a:cubicBezTo>
                  <a:pt x="37" y="48"/>
                  <a:pt x="37" y="48"/>
                  <a:pt x="37" y="48"/>
                </a:cubicBezTo>
                <a:cubicBezTo>
                  <a:pt x="25" y="49"/>
                  <a:pt x="25" y="49"/>
                  <a:pt x="25" y="49"/>
                </a:cubicBezTo>
                <a:cubicBezTo>
                  <a:pt x="22" y="43"/>
                  <a:pt x="22" y="43"/>
                  <a:pt x="22" y="43"/>
                </a:cubicBezTo>
                <a:cubicBezTo>
                  <a:pt x="27" y="33"/>
                  <a:pt x="27" y="33"/>
                  <a:pt x="27" y="33"/>
                </a:cubicBezTo>
                <a:cubicBezTo>
                  <a:pt x="16" y="34"/>
                  <a:pt x="16" y="34"/>
                  <a:pt x="16" y="34"/>
                </a:cubicBezTo>
                <a:cubicBezTo>
                  <a:pt x="11" y="28"/>
                  <a:pt x="11" y="28"/>
                  <a:pt x="11" y="28"/>
                </a:cubicBezTo>
                <a:cubicBezTo>
                  <a:pt x="16" y="18"/>
                  <a:pt x="16" y="18"/>
                  <a:pt x="16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0" y="11"/>
                  <a:pt x="0" y="11"/>
                  <a:pt x="0" y="11"/>
                </a:cubicBezTo>
                <a:cubicBezTo>
                  <a:pt x="15" y="0"/>
                  <a:pt x="36" y="4"/>
                  <a:pt x="47" y="20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0"/>
          <p:cNvSpPr/>
          <p:nvPr/>
        </p:nvSpPr>
        <p:spPr>
          <a:xfrm>
            <a:off x="2698920" y="5284800"/>
            <a:ext cx="334800" cy="382680"/>
          </a:xfrm>
          <a:custGeom>
            <a:avLst/>
            <a:gdLst>
              <a:gd name="textAreaLeft" fmla="*/ 0 w 334800"/>
              <a:gd name="textAreaRight" fmla="*/ 335160 w 33480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58" h="66">
                <a:moveTo>
                  <a:pt x="11" y="20"/>
                </a:moveTo>
                <a:cubicBezTo>
                  <a:pt x="0" y="35"/>
                  <a:pt x="4" y="56"/>
                  <a:pt x="20" y="66"/>
                </a:cubicBezTo>
                <a:cubicBezTo>
                  <a:pt x="26" y="58"/>
                  <a:pt x="26" y="58"/>
                  <a:pt x="26" y="58"/>
                </a:cubicBezTo>
                <a:cubicBezTo>
                  <a:pt x="21" y="48"/>
                  <a:pt x="21" y="48"/>
                  <a:pt x="21" y="48"/>
                </a:cubicBezTo>
                <a:cubicBezTo>
                  <a:pt x="32" y="49"/>
                  <a:pt x="32" y="49"/>
                  <a:pt x="32" y="49"/>
                </a:cubicBezTo>
                <a:cubicBezTo>
                  <a:pt x="36" y="43"/>
                  <a:pt x="36" y="43"/>
                  <a:pt x="36" y="43"/>
                </a:cubicBezTo>
                <a:cubicBezTo>
                  <a:pt x="31" y="33"/>
                  <a:pt x="31" y="33"/>
                  <a:pt x="31" y="33"/>
                </a:cubicBezTo>
                <a:cubicBezTo>
                  <a:pt x="42" y="34"/>
                  <a:pt x="42" y="34"/>
                  <a:pt x="42" y="34"/>
                </a:cubicBezTo>
                <a:cubicBezTo>
                  <a:pt x="46" y="28"/>
                  <a:pt x="46" y="28"/>
                  <a:pt x="46" y="28"/>
                </a:cubicBezTo>
                <a:cubicBezTo>
                  <a:pt x="41" y="18"/>
                  <a:pt x="41" y="18"/>
                  <a:pt x="41" y="18"/>
                </a:cubicBezTo>
                <a:cubicBezTo>
                  <a:pt x="52" y="18"/>
                  <a:pt x="52" y="18"/>
                  <a:pt x="52" y="18"/>
                </a:cubicBezTo>
                <a:cubicBezTo>
                  <a:pt x="58" y="11"/>
                  <a:pt x="58" y="11"/>
                  <a:pt x="58" y="11"/>
                </a:cubicBezTo>
                <a:cubicBezTo>
                  <a:pt x="42" y="0"/>
                  <a:pt x="21" y="4"/>
                  <a:pt x="11" y="20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31"/>
          <p:cNvSpPr/>
          <p:nvPr/>
        </p:nvSpPr>
        <p:spPr>
          <a:xfrm>
            <a:off x="2746440" y="5602320"/>
            <a:ext cx="120600" cy="12204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32"/>
          <p:cNvSpPr/>
          <p:nvPr/>
        </p:nvSpPr>
        <p:spPr>
          <a:xfrm>
            <a:off x="2619360" y="5602320"/>
            <a:ext cx="127080" cy="12204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3"/>
          <p:cNvSpPr/>
          <p:nvPr/>
        </p:nvSpPr>
        <p:spPr>
          <a:xfrm>
            <a:off x="2687760" y="5538960"/>
            <a:ext cx="122040" cy="122040"/>
          </a:xfrm>
          <a:prstGeom prst="ellipse">
            <a:avLst/>
          </a:prstGeom>
          <a:solidFill>
            <a:srgbClr val="b06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4"/>
          <p:cNvSpPr/>
          <p:nvPr/>
        </p:nvSpPr>
        <p:spPr>
          <a:xfrm>
            <a:off x="7007400" y="4903920"/>
            <a:ext cx="1542960" cy="1728720"/>
          </a:xfrm>
          <a:custGeom>
            <a:avLst/>
            <a:gdLst>
              <a:gd name="textAreaLeft" fmla="*/ 0 w 1542960"/>
              <a:gd name="textAreaRight" fmla="*/ 1543320 w 154296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267" h="299">
                <a:moveTo>
                  <a:pt x="235" y="202"/>
                </a:moveTo>
                <a:cubicBezTo>
                  <a:pt x="185" y="202"/>
                  <a:pt x="185" y="202"/>
                  <a:pt x="185" y="202"/>
                </a:cubicBezTo>
                <a:cubicBezTo>
                  <a:pt x="185" y="174"/>
                  <a:pt x="185" y="174"/>
                  <a:pt x="185" y="174"/>
                </a:cubicBezTo>
                <a:cubicBezTo>
                  <a:pt x="185" y="149"/>
                  <a:pt x="165" y="129"/>
                  <a:pt x="140" y="129"/>
                </a:cubicBezTo>
                <a:cubicBezTo>
                  <a:pt x="82" y="129"/>
                  <a:pt x="82" y="129"/>
                  <a:pt x="82" y="129"/>
                </a:cubicBezTo>
                <a:cubicBezTo>
                  <a:pt x="82" y="98"/>
                  <a:pt x="82" y="98"/>
                  <a:pt x="82" y="98"/>
                </a:cubicBezTo>
                <a:cubicBezTo>
                  <a:pt x="82" y="82"/>
                  <a:pt x="69" y="69"/>
                  <a:pt x="53" y="69"/>
                </a:cubicBezTo>
                <a:cubicBezTo>
                  <a:pt x="50" y="69"/>
                  <a:pt x="50" y="69"/>
                  <a:pt x="50" y="69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23"/>
                  <a:pt x="30" y="1"/>
                  <a:pt x="5" y="0"/>
                </a:cubicBezTo>
                <a:cubicBezTo>
                  <a:pt x="3" y="0"/>
                  <a:pt x="1" y="0"/>
                  <a:pt x="0" y="0"/>
                </a:cubicBezTo>
                <a:cubicBezTo>
                  <a:pt x="0" y="277"/>
                  <a:pt x="0" y="277"/>
                  <a:pt x="0" y="277"/>
                </a:cubicBezTo>
                <a:cubicBezTo>
                  <a:pt x="50" y="277"/>
                  <a:pt x="50" y="277"/>
                  <a:pt x="50" y="277"/>
                </a:cubicBezTo>
                <a:cubicBezTo>
                  <a:pt x="50" y="264"/>
                  <a:pt x="50" y="264"/>
                  <a:pt x="50" y="264"/>
                </a:cubicBezTo>
                <a:cubicBezTo>
                  <a:pt x="69" y="264"/>
                  <a:pt x="69" y="264"/>
                  <a:pt x="69" y="264"/>
                </a:cubicBezTo>
                <a:cubicBezTo>
                  <a:pt x="69" y="285"/>
                  <a:pt x="69" y="285"/>
                  <a:pt x="69" y="285"/>
                </a:cubicBezTo>
                <a:cubicBezTo>
                  <a:pt x="165" y="285"/>
                  <a:pt x="165" y="285"/>
                  <a:pt x="165" y="285"/>
                </a:cubicBezTo>
                <a:cubicBezTo>
                  <a:pt x="165" y="299"/>
                  <a:pt x="165" y="299"/>
                  <a:pt x="165" y="299"/>
                </a:cubicBezTo>
                <a:cubicBezTo>
                  <a:pt x="267" y="299"/>
                  <a:pt x="267" y="299"/>
                  <a:pt x="267" y="299"/>
                </a:cubicBezTo>
                <a:cubicBezTo>
                  <a:pt x="267" y="234"/>
                  <a:pt x="267" y="234"/>
                  <a:pt x="267" y="234"/>
                </a:cubicBezTo>
                <a:cubicBezTo>
                  <a:pt x="267" y="216"/>
                  <a:pt x="253" y="202"/>
                  <a:pt x="235" y="202"/>
                </a:cubicBezTo>
                <a:close/>
              </a:path>
            </a:pathLst>
          </a:custGeom>
          <a:solidFill>
            <a:srgbClr val="4866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5"/>
          <p:cNvSpPr/>
          <p:nvPr/>
        </p:nvSpPr>
        <p:spPr>
          <a:xfrm>
            <a:off x="3456000" y="5527800"/>
            <a:ext cx="1165320" cy="57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6"/>
          <p:cNvSpPr/>
          <p:nvPr/>
        </p:nvSpPr>
        <p:spPr>
          <a:xfrm>
            <a:off x="3780000" y="5510160"/>
            <a:ext cx="519120" cy="515880"/>
          </a:xfrm>
          <a:custGeom>
            <a:avLst/>
            <a:gdLst>
              <a:gd name="textAreaLeft" fmla="*/ 0 w 519120"/>
              <a:gd name="textAreaRight" fmla="*/ 519120 w 51912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353" h="351">
                <a:moveTo>
                  <a:pt x="353" y="0"/>
                </a:moveTo>
                <a:lnTo>
                  <a:pt x="0" y="351"/>
                </a:lnTo>
                <a:lnTo>
                  <a:pt x="353" y="351"/>
                </a:lnTo>
                <a:lnTo>
                  <a:pt x="353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7"/>
          <p:cNvSpPr/>
          <p:nvPr/>
        </p:nvSpPr>
        <p:spPr>
          <a:xfrm>
            <a:off x="3930480" y="5781600"/>
            <a:ext cx="173160" cy="17460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8"/>
          <p:cNvSpPr/>
          <p:nvPr/>
        </p:nvSpPr>
        <p:spPr>
          <a:xfrm>
            <a:off x="3652920" y="5753160"/>
            <a:ext cx="190440" cy="352440"/>
          </a:xfrm>
          <a:prstGeom prst="rect">
            <a:avLst/>
          </a:pr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9"/>
          <p:cNvSpPr/>
          <p:nvPr/>
        </p:nvSpPr>
        <p:spPr>
          <a:xfrm>
            <a:off x="2948040" y="6216480"/>
            <a:ext cx="166680" cy="5112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0"/>
          <p:cNvSpPr/>
          <p:nvPr/>
        </p:nvSpPr>
        <p:spPr>
          <a:xfrm>
            <a:off x="3035160" y="6168960"/>
            <a:ext cx="166680" cy="4752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1"/>
          <p:cNvSpPr/>
          <p:nvPr/>
        </p:nvSpPr>
        <p:spPr>
          <a:xfrm>
            <a:off x="3114720" y="6118200"/>
            <a:ext cx="168120" cy="5076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2"/>
          <p:cNvSpPr/>
          <p:nvPr/>
        </p:nvSpPr>
        <p:spPr>
          <a:xfrm>
            <a:off x="3201840" y="6070680"/>
            <a:ext cx="166680" cy="5220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3"/>
          <p:cNvSpPr/>
          <p:nvPr/>
        </p:nvSpPr>
        <p:spPr>
          <a:xfrm>
            <a:off x="3282840" y="6026040"/>
            <a:ext cx="173160" cy="4464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4"/>
          <p:cNvSpPr/>
          <p:nvPr/>
        </p:nvSpPr>
        <p:spPr>
          <a:xfrm>
            <a:off x="3456000" y="6041880"/>
            <a:ext cx="127080" cy="225720"/>
          </a:xfrm>
          <a:prstGeom prst="rect">
            <a:avLst/>
          </a:pr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5"/>
          <p:cNvSpPr/>
          <p:nvPr/>
        </p:nvSpPr>
        <p:spPr>
          <a:xfrm>
            <a:off x="3963960" y="6041880"/>
            <a:ext cx="150840" cy="225720"/>
          </a:xfrm>
          <a:prstGeom prst="rect">
            <a:avLst/>
          </a:pr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6"/>
          <p:cNvSpPr/>
          <p:nvPr/>
        </p:nvSpPr>
        <p:spPr>
          <a:xfrm>
            <a:off x="4483080" y="6041880"/>
            <a:ext cx="138240" cy="225720"/>
          </a:xfrm>
          <a:prstGeom prst="rect">
            <a:avLst/>
          </a:pr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7"/>
          <p:cNvSpPr/>
          <p:nvPr/>
        </p:nvSpPr>
        <p:spPr>
          <a:xfrm>
            <a:off x="4449600" y="6210360"/>
            <a:ext cx="173160" cy="57240"/>
          </a:xfrm>
          <a:prstGeom prst="rect">
            <a:avLst/>
          </a:prstGeom>
          <a:solidFill>
            <a:srgbClr val="62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8"/>
          <p:cNvSpPr/>
          <p:nvPr/>
        </p:nvSpPr>
        <p:spPr>
          <a:xfrm>
            <a:off x="3941640" y="6210360"/>
            <a:ext cx="189000" cy="57240"/>
          </a:xfrm>
          <a:prstGeom prst="rect">
            <a:avLst/>
          </a:prstGeom>
          <a:solidFill>
            <a:srgbClr val="62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9"/>
          <p:cNvSpPr/>
          <p:nvPr/>
        </p:nvSpPr>
        <p:spPr>
          <a:xfrm>
            <a:off x="3422520" y="6210360"/>
            <a:ext cx="195480" cy="57240"/>
          </a:xfrm>
          <a:prstGeom prst="rect">
            <a:avLst/>
          </a:prstGeom>
          <a:solidFill>
            <a:srgbClr val="62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0"/>
          <p:cNvSpPr/>
          <p:nvPr/>
        </p:nvSpPr>
        <p:spPr>
          <a:xfrm>
            <a:off x="4218120" y="5724360"/>
            <a:ext cx="404640" cy="9864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1"/>
          <p:cNvSpPr/>
          <p:nvPr/>
        </p:nvSpPr>
        <p:spPr>
          <a:xfrm>
            <a:off x="4218120" y="5915160"/>
            <a:ext cx="404640" cy="9180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2"/>
          <p:cNvSpPr/>
          <p:nvPr/>
        </p:nvSpPr>
        <p:spPr>
          <a:xfrm>
            <a:off x="4218120" y="5823000"/>
            <a:ext cx="404640" cy="9216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3"/>
          <p:cNvSpPr/>
          <p:nvPr/>
        </p:nvSpPr>
        <p:spPr>
          <a:xfrm>
            <a:off x="4218120" y="5632560"/>
            <a:ext cx="404640" cy="9180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4"/>
          <p:cNvSpPr/>
          <p:nvPr/>
        </p:nvSpPr>
        <p:spPr>
          <a:xfrm>
            <a:off x="4218120" y="6006960"/>
            <a:ext cx="404640" cy="9864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5"/>
          <p:cNvSpPr/>
          <p:nvPr/>
        </p:nvSpPr>
        <p:spPr>
          <a:xfrm>
            <a:off x="3456000" y="6026040"/>
            <a:ext cx="762120" cy="7956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56"/>
          <p:cNvSpPr/>
          <p:nvPr/>
        </p:nvSpPr>
        <p:spPr>
          <a:xfrm>
            <a:off x="3013200" y="5834160"/>
            <a:ext cx="1204920" cy="26676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821" h="181">
                <a:moveTo>
                  <a:pt x="15" y="181"/>
                </a:moveTo>
                <a:lnTo>
                  <a:pt x="0" y="153"/>
                </a:lnTo>
                <a:lnTo>
                  <a:pt x="294" y="0"/>
                </a:lnTo>
                <a:lnTo>
                  <a:pt x="821" y="0"/>
                </a:lnTo>
                <a:lnTo>
                  <a:pt x="821" y="31"/>
                </a:lnTo>
                <a:lnTo>
                  <a:pt x="302" y="31"/>
                </a:lnTo>
                <a:lnTo>
                  <a:pt x="15" y="181"/>
                </a:lnTo>
                <a:close/>
              </a:path>
            </a:pathLst>
          </a:cu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7"/>
          <p:cNvSpPr/>
          <p:nvPr/>
        </p:nvSpPr>
        <p:spPr>
          <a:xfrm>
            <a:off x="3537000" y="5857920"/>
            <a:ext cx="47520" cy="16812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8"/>
          <p:cNvSpPr/>
          <p:nvPr/>
        </p:nvSpPr>
        <p:spPr>
          <a:xfrm>
            <a:off x="3994200" y="5857920"/>
            <a:ext cx="44280" cy="16812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59"/>
          <p:cNvSpPr/>
          <p:nvPr/>
        </p:nvSpPr>
        <p:spPr>
          <a:xfrm>
            <a:off x="3149640" y="4533840"/>
            <a:ext cx="1773360" cy="119052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1190520"/>
              <a:gd name="textAreaBottom" fmla="*/ 1190880 h 1190520"/>
            </a:gdLst>
            <a:ahLst/>
            <a:rect l="textAreaLeft" t="textAreaTop" r="textAreaRight" b="textAreaBottom"/>
            <a:pathLst>
              <a:path w="1207" h="811">
                <a:moveTo>
                  <a:pt x="0" y="756"/>
                </a:moveTo>
                <a:lnTo>
                  <a:pt x="71" y="811"/>
                </a:lnTo>
                <a:lnTo>
                  <a:pt x="138" y="756"/>
                </a:lnTo>
                <a:lnTo>
                  <a:pt x="204" y="811"/>
                </a:lnTo>
                <a:lnTo>
                  <a:pt x="271" y="756"/>
                </a:lnTo>
                <a:lnTo>
                  <a:pt x="338" y="811"/>
                </a:lnTo>
                <a:lnTo>
                  <a:pt x="405" y="756"/>
                </a:lnTo>
                <a:lnTo>
                  <a:pt x="472" y="811"/>
                </a:lnTo>
                <a:lnTo>
                  <a:pt x="535" y="756"/>
                </a:lnTo>
                <a:lnTo>
                  <a:pt x="601" y="811"/>
                </a:lnTo>
                <a:lnTo>
                  <a:pt x="668" y="756"/>
                </a:lnTo>
                <a:lnTo>
                  <a:pt x="735" y="811"/>
                </a:lnTo>
                <a:lnTo>
                  <a:pt x="802" y="756"/>
                </a:lnTo>
                <a:lnTo>
                  <a:pt x="869" y="811"/>
                </a:lnTo>
                <a:lnTo>
                  <a:pt x="936" y="756"/>
                </a:lnTo>
                <a:lnTo>
                  <a:pt x="1002" y="811"/>
                </a:lnTo>
                <a:lnTo>
                  <a:pt x="1069" y="756"/>
                </a:lnTo>
                <a:lnTo>
                  <a:pt x="1132" y="811"/>
                </a:lnTo>
                <a:lnTo>
                  <a:pt x="1207" y="756"/>
                </a:lnTo>
                <a:lnTo>
                  <a:pt x="601" y="0"/>
                </a:lnTo>
                <a:lnTo>
                  <a:pt x="0" y="756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60"/>
          <p:cNvSpPr/>
          <p:nvPr/>
        </p:nvSpPr>
        <p:spPr>
          <a:xfrm>
            <a:off x="3341520" y="4533840"/>
            <a:ext cx="1390680" cy="93672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947" h="638">
                <a:moveTo>
                  <a:pt x="0" y="594"/>
                </a:moveTo>
                <a:lnTo>
                  <a:pt x="55" y="638"/>
                </a:lnTo>
                <a:lnTo>
                  <a:pt x="106" y="594"/>
                </a:lnTo>
                <a:lnTo>
                  <a:pt x="161" y="638"/>
                </a:lnTo>
                <a:lnTo>
                  <a:pt x="212" y="594"/>
                </a:lnTo>
                <a:lnTo>
                  <a:pt x="263" y="638"/>
                </a:lnTo>
                <a:lnTo>
                  <a:pt x="314" y="594"/>
                </a:lnTo>
                <a:lnTo>
                  <a:pt x="369" y="638"/>
                </a:lnTo>
                <a:lnTo>
                  <a:pt x="420" y="594"/>
                </a:lnTo>
                <a:lnTo>
                  <a:pt x="471" y="638"/>
                </a:lnTo>
                <a:lnTo>
                  <a:pt x="527" y="594"/>
                </a:lnTo>
                <a:lnTo>
                  <a:pt x="578" y="638"/>
                </a:lnTo>
                <a:lnTo>
                  <a:pt x="629" y="594"/>
                </a:lnTo>
                <a:lnTo>
                  <a:pt x="680" y="638"/>
                </a:lnTo>
                <a:lnTo>
                  <a:pt x="735" y="594"/>
                </a:lnTo>
                <a:lnTo>
                  <a:pt x="786" y="638"/>
                </a:lnTo>
                <a:lnTo>
                  <a:pt x="837" y="594"/>
                </a:lnTo>
                <a:lnTo>
                  <a:pt x="892" y="638"/>
                </a:lnTo>
                <a:lnTo>
                  <a:pt x="947" y="594"/>
                </a:lnTo>
                <a:lnTo>
                  <a:pt x="471" y="0"/>
                </a:lnTo>
                <a:lnTo>
                  <a:pt x="0" y="594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61"/>
          <p:cNvSpPr/>
          <p:nvPr/>
        </p:nvSpPr>
        <p:spPr>
          <a:xfrm>
            <a:off x="3530520" y="4533840"/>
            <a:ext cx="1006560" cy="674640"/>
          </a:xfrm>
          <a:custGeom>
            <a:avLst/>
            <a:gdLst>
              <a:gd name="textAreaLeft" fmla="*/ 0 w 1006560"/>
              <a:gd name="textAreaRight" fmla="*/ 1006920 w 10065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685" h="460">
                <a:moveTo>
                  <a:pt x="0" y="429"/>
                </a:moveTo>
                <a:lnTo>
                  <a:pt x="44" y="460"/>
                </a:lnTo>
                <a:lnTo>
                  <a:pt x="79" y="429"/>
                </a:lnTo>
                <a:lnTo>
                  <a:pt x="118" y="460"/>
                </a:lnTo>
                <a:lnTo>
                  <a:pt x="154" y="429"/>
                </a:lnTo>
                <a:lnTo>
                  <a:pt x="193" y="460"/>
                </a:lnTo>
                <a:lnTo>
                  <a:pt x="232" y="429"/>
                </a:lnTo>
                <a:lnTo>
                  <a:pt x="268" y="460"/>
                </a:lnTo>
                <a:lnTo>
                  <a:pt x="307" y="429"/>
                </a:lnTo>
                <a:lnTo>
                  <a:pt x="342" y="460"/>
                </a:lnTo>
                <a:lnTo>
                  <a:pt x="382" y="429"/>
                </a:lnTo>
                <a:lnTo>
                  <a:pt x="417" y="460"/>
                </a:lnTo>
                <a:lnTo>
                  <a:pt x="456" y="429"/>
                </a:lnTo>
                <a:lnTo>
                  <a:pt x="496" y="460"/>
                </a:lnTo>
                <a:lnTo>
                  <a:pt x="531" y="429"/>
                </a:lnTo>
                <a:lnTo>
                  <a:pt x="570" y="460"/>
                </a:lnTo>
                <a:lnTo>
                  <a:pt x="606" y="429"/>
                </a:lnTo>
                <a:lnTo>
                  <a:pt x="645" y="460"/>
                </a:lnTo>
                <a:lnTo>
                  <a:pt x="685" y="429"/>
                </a:lnTo>
                <a:lnTo>
                  <a:pt x="342" y="0"/>
                </a:lnTo>
                <a:lnTo>
                  <a:pt x="0" y="429"/>
                </a:lnTo>
                <a:close/>
              </a:path>
            </a:pathLst>
          </a:custGeom>
          <a:solidFill>
            <a:srgbClr val="ff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62"/>
          <p:cNvSpPr/>
          <p:nvPr/>
        </p:nvSpPr>
        <p:spPr>
          <a:xfrm>
            <a:off x="4032360" y="4533840"/>
            <a:ext cx="890640" cy="1190520"/>
          </a:xfrm>
          <a:custGeom>
            <a:avLst/>
            <a:gdLst>
              <a:gd name="textAreaLeft" fmla="*/ 0 w 890640"/>
              <a:gd name="textAreaRight" fmla="*/ 891000 w 890640"/>
              <a:gd name="textAreaTop" fmla="*/ 0 h 1190520"/>
              <a:gd name="textAreaBottom" fmla="*/ 1190880 h 1190520"/>
            </a:gdLst>
            <a:ahLst/>
            <a:rect l="textAreaLeft" t="textAreaTop" r="textAreaRight" b="textAreaBottom"/>
            <a:pathLst>
              <a:path w="606" h="811">
                <a:moveTo>
                  <a:pt x="0" y="0"/>
                </a:moveTo>
                <a:lnTo>
                  <a:pt x="0" y="811"/>
                </a:lnTo>
                <a:lnTo>
                  <a:pt x="67" y="756"/>
                </a:lnTo>
                <a:lnTo>
                  <a:pt x="134" y="811"/>
                </a:lnTo>
                <a:lnTo>
                  <a:pt x="201" y="756"/>
                </a:lnTo>
                <a:lnTo>
                  <a:pt x="268" y="811"/>
                </a:lnTo>
                <a:lnTo>
                  <a:pt x="335" y="756"/>
                </a:lnTo>
                <a:lnTo>
                  <a:pt x="401" y="811"/>
                </a:lnTo>
                <a:lnTo>
                  <a:pt x="468" y="756"/>
                </a:lnTo>
                <a:lnTo>
                  <a:pt x="531" y="811"/>
                </a:lnTo>
                <a:lnTo>
                  <a:pt x="606" y="75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a8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63"/>
          <p:cNvSpPr/>
          <p:nvPr/>
        </p:nvSpPr>
        <p:spPr>
          <a:xfrm>
            <a:off x="4032360" y="4533840"/>
            <a:ext cx="699840" cy="936720"/>
          </a:xfrm>
          <a:custGeom>
            <a:avLst/>
            <a:gdLst>
              <a:gd name="textAreaLeft" fmla="*/ 0 w 699840"/>
              <a:gd name="textAreaRight" fmla="*/ 699840 w 6998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476" h="638">
                <a:moveTo>
                  <a:pt x="0" y="0"/>
                </a:moveTo>
                <a:lnTo>
                  <a:pt x="0" y="638"/>
                </a:lnTo>
                <a:lnTo>
                  <a:pt x="56" y="594"/>
                </a:lnTo>
                <a:lnTo>
                  <a:pt x="107" y="638"/>
                </a:lnTo>
                <a:lnTo>
                  <a:pt x="158" y="594"/>
                </a:lnTo>
                <a:lnTo>
                  <a:pt x="209" y="638"/>
                </a:lnTo>
                <a:lnTo>
                  <a:pt x="264" y="594"/>
                </a:lnTo>
                <a:lnTo>
                  <a:pt x="315" y="638"/>
                </a:lnTo>
                <a:lnTo>
                  <a:pt x="366" y="594"/>
                </a:lnTo>
                <a:lnTo>
                  <a:pt x="421" y="638"/>
                </a:lnTo>
                <a:lnTo>
                  <a:pt x="476" y="59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64"/>
          <p:cNvSpPr/>
          <p:nvPr/>
        </p:nvSpPr>
        <p:spPr>
          <a:xfrm>
            <a:off x="4032360" y="4533840"/>
            <a:ext cx="504720" cy="674640"/>
          </a:xfrm>
          <a:custGeom>
            <a:avLst/>
            <a:gdLst>
              <a:gd name="textAreaLeft" fmla="*/ 0 w 504720"/>
              <a:gd name="textAreaRight" fmla="*/ 505080 w 5047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343" h="460">
                <a:moveTo>
                  <a:pt x="0" y="0"/>
                </a:moveTo>
                <a:lnTo>
                  <a:pt x="0" y="460"/>
                </a:lnTo>
                <a:lnTo>
                  <a:pt x="40" y="429"/>
                </a:lnTo>
                <a:lnTo>
                  <a:pt x="75" y="460"/>
                </a:lnTo>
                <a:lnTo>
                  <a:pt x="114" y="429"/>
                </a:lnTo>
                <a:lnTo>
                  <a:pt x="154" y="460"/>
                </a:lnTo>
                <a:lnTo>
                  <a:pt x="189" y="429"/>
                </a:lnTo>
                <a:lnTo>
                  <a:pt x="228" y="460"/>
                </a:lnTo>
                <a:lnTo>
                  <a:pt x="264" y="429"/>
                </a:lnTo>
                <a:lnTo>
                  <a:pt x="303" y="460"/>
                </a:lnTo>
                <a:lnTo>
                  <a:pt x="343" y="42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5"/>
          <p:cNvSpPr/>
          <p:nvPr/>
        </p:nvSpPr>
        <p:spPr>
          <a:xfrm>
            <a:off x="4552920" y="5765760"/>
            <a:ext cx="820800" cy="692280"/>
          </a:xfrm>
          <a:prstGeom prst="rect">
            <a:avLst/>
          </a:pr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66"/>
          <p:cNvSpPr/>
          <p:nvPr/>
        </p:nvSpPr>
        <p:spPr>
          <a:xfrm>
            <a:off x="4552920" y="5891040"/>
            <a:ext cx="820800" cy="260640"/>
          </a:xfrm>
          <a:custGeom>
            <a:avLst/>
            <a:gdLst>
              <a:gd name="textAreaLeft" fmla="*/ 0 w 820800"/>
              <a:gd name="textAreaRight" fmla="*/ 821160 w 820800"/>
              <a:gd name="textAreaTop" fmla="*/ 0 h 260640"/>
              <a:gd name="textAreaBottom" fmla="*/ 261000 h 260640"/>
            </a:gdLst>
            <a:ahLst/>
            <a:rect l="textAreaLeft" t="textAreaTop" r="textAreaRight" b="textAreaBottom"/>
            <a:pathLst>
              <a:path w="559" h="177">
                <a:moveTo>
                  <a:pt x="295" y="142"/>
                </a:moveTo>
                <a:lnTo>
                  <a:pt x="295" y="0"/>
                </a:lnTo>
                <a:lnTo>
                  <a:pt x="260" y="0"/>
                </a:lnTo>
                <a:lnTo>
                  <a:pt x="260" y="142"/>
                </a:lnTo>
                <a:lnTo>
                  <a:pt x="0" y="142"/>
                </a:lnTo>
                <a:lnTo>
                  <a:pt x="0" y="177"/>
                </a:lnTo>
                <a:lnTo>
                  <a:pt x="559" y="177"/>
                </a:lnTo>
                <a:lnTo>
                  <a:pt x="559" y="142"/>
                </a:lnTo>
                <a:lnTo>
                  <a:pt x="295" y="142"/>
                </a:lnTo>
                <a:close/>
              </a:path>
            </a:pathLst>
          </a:custGeom>
          <a:solidFill>
            <a:srgbClr val="b06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67"/>
          <p:cNvSpPr/>
          <p:nvPr/>
        </p:nvSpPr>
        <p:spPr>
          <a:xfrm>
            <a:off x="4373640" y="5181480"/>
            <a:ext cx="1177920" cy="784440"/>
          </a:xfrm>
          <a:custGeom>
            <a:avLst/>
            <a:gdLst>
              <a:gd name="textAreaLeft" fmla="*/ 0 w 1177920"/>
              <a:gd name="textAreaRight" fmla="*/ 1178280 w 1177920"/>
              <a:gd name="textAreaTop" fmla="*/ 0 h 784440"/>
              <a:gd name="textAreaBottom" fmla="*/ 784800 h 784440"/>
            </a:gdLst>
            <a:ahLst/>
            <a:rect l="textAreaLeft" t="textAreaTop" r="textAreaRight" b="textAreaBottom"/>
            <a:pathLst>
              <a:path w="802" h="535">
                <a:moveTo>
                  <a:pt x="0" y="500"/>
                </a:moveTo>
                <a:lnTo>
                  <a:pt x="52" y="535"/>
                </a:lnTo>
                <a:lnTo>
                  <a:pt x="95" y="500"/>
                </a:lnTo>
                <a:lnTo>
                  <a:pt x="138" y="535"/>
                </a:lnTo>
                <a:lnTo>
                  <a:pt x="181" y="500"/>
                </a:lnTo>
                <a:lnTo>
                  <a:pt x="225" y="535"/>
                </a:lnTo>
                <a:lnTo>
                  <a:pt x="268" y="500"/>
                </a:lnTo>
                <a:lnTo>
                  <a:pt x="315" y="535"/>
                </a:lnTo>
                <a:lnTo>
                  <a:pt x="358" y="500"/>
                </a:lnTo>
                <a:lnTo>
                  <a:pt x="401" y="535"/>
                </a:lnTo>
                <a:lnTo>
                  <a:pt x="445" y="500"/>
                </a:lnTo>
                <a:lnTo>
                  <a:pt x="488" y="535"/>
                </a:lnTo>
                <a:lnTo>
                  <a:pt x="535" y="500"/>
                </a:lnTo>
                <a:lnTo>
                  <a:pt x="578" y="535"/>
                </a:lnTo>
                <a:lnTo>
                  <a:pt x="622" y="500"/>
                </a:lnTo>
                <a:lnTo>
                  <a:pt x="665" y="535"/>
                </a:lnTo>
                <a:lnTo>
                  <a:pt x="708" y="500"/>
                </a:lnTo>
                <a:lnTo>
                  <a:pt x="755" y="535"/>
                </a:lnTo>
                <a:lnTo>
                  <a:pt x="802" y="500"/>
                </a:lnTo>
                <a:lnTo>
                  <a:pt x="401" y="0"/>
                </a:lnTo>
                <a:lnTo>
                  <a:pt x="0" y="500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68"/>
          <p:cNvSpPr/>
          <p:nvPr/>
        </p:nvSpPr>
        <p:spPr>
          <a:xfrm>
            <a:off x="4502160" y="5181480"/>
            <a:ext cx="923760" cy="617760"/>
          </a:xfrm>
          <a:custGeom>
            <a:avLst/>
            <a:gdLst/>
            <a:ahLst/>
            <a:rect l="l" t="t" r="r" b="b"/>
            <a:pathLst>
              <a:path w="629" h="421">
                <a:moveTo>
                  <a:pt x="0" y="394"/>
                </a:moveTo>
                <a:lnTo>
                  <a:pt x="39" y="421"/>
                </a:lnTo>
                <a:lnTo>
                  <a:pt x="71" y="394"/>
                </a:lnTo>
                <a:lnTo>
                  <a:pt x="106" y="421"/>
                </a:lnTo>
                <a:lnTo>
                  <a:pt x="141" y="394"/>
                </a:lnTo>
                <a:lnTo>
                  <a:pt x="177" y="421"/>
                </a:lnTo>
                <a:lnTo>
                  <a:pt x="212" y="394"/>
                </a:lnTo>
                <a:lnTo>
                  <a:pt x="244" y="421"/>
                </a:lnTo>
                <a:lnTo>
                  <a:pt x="279" y="394"/>
                </a:lnTo>
                <a:lnTo>
                  <a:pt x="314" y="421"/>
                </a:lnTo>
                <a:lnTo>
                  <a:pt x="350" y="394"/>
                </a:lnTo>
                <a:lnTo>
                  <a:pt x="385" y="421"/>
                </a:lnTo>
                <a:lnTo>
                  <a:pt x="417" y="394"/>
                </a:lnTo>
                <a:lnTo>
                  <a:pt x="452" y="421"/>
                </a:lnTo>
                <a:lnTo>
                  <a:pt x="487" y="394"/>
                </a:lnTo>
                <a:lnTo>
                  <a:pt x="523" y="421"/>
                </a:lnTo>
                <a:lnTo>
                  <a:pt x="558" y="394"/>
                </a:lnTo>
                <a:lnTo>
                  <a:pt x="590" y="421"/>
                </a:lnTo>
                <a:lnTo>
                  <a:pt x="629" y="390"/>
                </a:lnTo>
                <a:lnTo>
                  <a:pt x="314" y="0"/>
                </a:lnTo>
                <a:lnTo>
                  <a:pt x="0" y="394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69"/>
          <p:cNvSpPr/>
          <p:nvPr/>
        </p:nvSpPr>
        <p:spPr>
          <a:xfrm>
            <a:off x="4627440" y="5181480"/>
            <a:ext cx="669960" cy="444600"/>
          </a:xfrm>
          <a:custGeom>
            <a:avLst/>
            <a:gdLst>
              <a:gd name="textAreaLeft" fmla="*/ 0 w 669960"/>
              <a:gd name="textAreaRight" fmla="*/ 669960 w 66996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456" h="303">
                <a:moveTo>
                  <a:pt x="0" y="283"/>
                </a:moveTo>
                <a:lnTo>
                  <a:pt x="28" y="303"/>
                </a:lnTo>
                <a:lnTo>
                  <a:pt x="55" y="283"/>
                </a:lnTo>
                <a:lnTo>
                  <a:pt x="79" y="303"/>
                </a:lnTo>
                <a:lnTo>
                  <a:pt x="103" y="283"/>
                </a:lnTo>
                <a:lnTo>
                  <a:pt x="130" y="303"/>
                </a:lnTo>
                <a:lnTo>
                  <a:pt x="154" y="283"/>
                </a:lnTo>
                <a:lnTo>
                  <a:pt x="177" y="303"/>
                </a:lnTo>
                <a:lnTo>
                  <a:pt x="205" y="283"/>
                </a:lnTo>
                <a:lnTo>
                  <a:pt x="228" y="303"/>
                </a:lnTo>
                <a:lnTo>
                  <a:pt x="252" y="283"/>
                </a:lnTo>
                <a:lnTo>
                  <a:pt x="280" y="303"/>
                </a:lnTo>
                <a:lnTo>
                  <a:pt x="303" y="283"/>
                </a:lnTo>
                <a:lnTo>
                  <a:pt x="327" y="303"/>
                </a:lnTo>
                <a:lnTo>
                  <a:pt x="354" y="283"/>
                </a:lnTo>
                <a:lnTo>
                  <a:pt x="378" y="303"/>
                </a:lnTo>
                <a:lnTo>
                  <a:pt x="401" y="283"/>
                </a:lnTo>
                <a:lnTo>
                  <a:pt x="429" y="303"/>
                </a:lnTo>
                <a:lnTo>
                  <a:pt x="456" y="283"/>
                </a:lnTo>
                <a:lnTo>
                  <a:pt x="228" y="0"/>
                </a:lnTo>
                <a:lnTo>
                  <a:pt x="0" y="283"/>
                </a:lnTo>
                <a:close/>
              </a:path>
            </a:pathLst>
          </a:cu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0"/>
          <p:cNvSpPr/>
          <p:nvPr/>
        </p:nvSpPr>
        <p:spPr>
          <a:xfrm>
            <a:off x="4552920" y="6151680"/>
            <a:ext cx="82080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1"/>
          <p:cNvSpPr/>
          <p:nvPr/>
        </p:nvSpPr>
        <p:spPr>
          <a:xfrm>
            <a:off x="4708440" y="5989680"/>
            <a:ext cx="8568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2"/>
          <p:cNvSpPr/>
          <p:nvPr/>
        </p:nvSpPr>
        <p:spPr>
          <a:xfrm>
            <a:off x="5114880" y="5989680"/>
            <a:ext cx="8568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73"/>
          <p:cNvSpPr/>
          <p:nvPr/>
        </p:nvSpPr>
        <p:spPr>
          <a:xfrm>
            <a:off x="2076480" y="6267600"/>
            <a:ext cx="8042400" cy="3999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393" h="69">
                <a:moveTo>
                  <a:pt x="1366" y="0"/>
                </a:moveTo>
                <a:cubicBezTo>
                  <a:pt x="28" y="0"/>
                  <a:pt x="28" y="0"/>
                  <a:pt x="28" y="0"/>
                </a:cubicBezTo>
                <a:cubicBezTo>
                  <a:pt x="13" y="0"/>
                  <a:pt x="0" y="12"/>
                  <a:pt x="0" y="27"/>
                </a:cubicBezTo>
                <a:cubicBezTo>
                  <a:pt x="0" y="69"/>
                  <a:pt x="0" y="69"/>
                  <a:pt x="0" y="69"/>
                </a:cubicBezTo>
                <a:cubicBezTo>
                  <a:pt x="1393" y="69"/>
                  <a:pt x="1393" y="69"/>
                  <a:pt x="1393" y="69"/>
                </a:cubicBezTo>
                <a:cubicBezTo>
                  <a:pt x="1393" y="27"/>
                  <a:pt x="1393" y="27"/>
                  <a:pt x="1393" y="27"/>
                </a:cubicBezTo>
                <a:cubicBezTo>
                  <a:pt x="1393" y="12"/>
                  <a:pt x="1381" y="0"/>
                  <a:pt x="1366" y="0"/>
                </a:cubicBezTo>
                <a:close/>
              </a:path>
            </a:pathLst>
          </a:custGeom>
          <a:solidFill>
            <a:srgbClr val="00c2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74"/>
          <p:cNvSpPr/>
          <p:nvPr/>
        </p:nvSpPr>
        <p:spPr>
          <a:xfrm>
            <a:off x="9547200" y="4527720"/>
            <a:ext cx="138240" cy="726840"/>
          </a:xfrm>
          <a:custGeom>
            <a:avLst/>
            <a:gdLst>
              <a:gd name="textAreaLeft" fmla="*/ 0 w 138240"/>
              <a:gd name="textAreaRight" fmla="*/ 138600 w 138240"/>
              <a:gd name="textAreaTop" fmla="*/ 0 h 726840"/>
              <a:gd name="textAreaBottom" fmla="*/ 726840 h 726840"/>
            </a:gdLst>
            <a:ahLst/>
            <a:rect l="textAreaLeft" t="textAreaTop" r="textAreaRight" b="textAreaBottom"/>
            <a:pathLst>
              <a:path w="94" h="496">
                <a:moveTo>
                  <a:pt x="0" y="496"/>
                </a:moveTo>
                <a:lnTo>
                  <a:pt x="94" y="409"/>
                </a:lnTo>
                <a:lnTo>
                  <a:pt x="94" y="0"/>
                </a:lnTo>
                <a:lnTo>
                  <a:pt x="4" y="0"/>
                </a:lnTo>
                <a:lnTo>
                  <a:pt x="0" y="496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75"/>
          <p:cNvSpPr/>
          <p:nvPr/>
        </p:nvSpPr>
        <p:spPr>
          <a:xfrm>
            <a:off x="8369280" y="4178160"/>
            <a:ext cx="295200" cy="1417680"/>
          </a:xfrm>
          <a:custGeom>
            <a:avLst/>
            <a:gdLst>
              <a:gd name="textAreaLeft" fmla="*/ 0 w 295200"/>
              <a:gd name="textAreaRight" fmla="*/ 295560 w 295200"/>
              <a:gd name="textAreaTop" fmla="*/ 0 h 1417680"/>
              <a:gd name="textAreaBottom" fmla="*/ 1417680 h 1417680"/>
            </a:gdLst>
            <a:ahLst/>
            <a:rect l="textAreaLeft" t="textAreaTop" r="textAreaRight" b="textAreaBottom"/>
            <a:pathLst>
              <a:path w="200" h="965">
                <a:moveTo>
                  <a:pt x="200" y="965"/>
                </a:moveTo>
                <a:lnTo>
                  <a:pt x="0" y="792"/>
                </a:lnTo>
                <a:lnTo>
                  <a:pt x="0" y="0"/>
                </a:lnTo>
                <a:lnTo>
                  <a:pt x="200" y="0"/>
                </a:lnTo>
                <a:lnTo>
                  <a:pt x="200" y="965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76"/>
          <p:cNvSpPr/>
          <p:nvPr/>
        </p:nvSpPr>
        <p:spPr>
          <a:xfrm>
            <a:off x="8734320" y="4757760"/>
            <a:ext cx="374760" cy="1771560"/>
          </a:xfrm>
          <a:custGeom>
            <a:avLst/>
            <a:gdLst>
              <a:gd name="textAreaLeft" fmla="*/ 0 w 374760"/>
              <a:gd name="textAreaRight" fmla="*/ 375120 w 374760"/>
              <a:gd name="textAreaTop" fmla="*/ 0 h 1771560"/>
              <a:gd name="textAreaBottom" fmla="*/ 1771920 h 1771560"/>
            </a:gdLst>
            <a:ahLst/>
            <a:rect l="textAreaLeft" t="textAreaTop" r="textAreaRight" b="textAreaBottom"/>
            <a:pathLst>
              <a:path w="255" h="1206">
                <a:moveTo>
                  <a:pt x="255" y="0"/>
                </a:moveTo>
                <a:lnTo>
                  <a:pt x="0" y="0"/>
                </a:lnTo>
                <a:lnTo>
                  <a:pt x="3" y="890"/>
                </a:lnTo>
                <a:lnTo>
                  <a:pt x="78" y="969"/>
                </a:lnTo>
                <a:lnTo>
                  <a:pt x="78" y="1206"/>
                </a:lnTo>
                <a:lnTo>
                  <a:pt x="255" y="1206"/>
                </a:lnTo>
                <a:lnTo>
                  <a:pt x="255" y="1146"/>
                </a:lnTo>
                <a:lnTo>
                  <a:pt x="255" y="1146"/>
                </a:lnTo>
                <a:lnTo>
                  <a:pt x="255" y="0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77"/>
          <p:cNvSpPr/>
          <p:nvPr/>
        </p:nvSpPr>
        <p:spPr>
          <a:xfrm>
            <a:off x="9102600" y="4127400"/>
            <a:ext cx="451080" cy="2401920"/>
          </a:xfrm>
          <a:custGeom>
            <a:avLst/>
            <a:gdLst>
              <a:gd name="textAreaLeft" fmla="*/ 0 w 451080"/>
              <a:gd name="textAreaRight" fmla="*/ 451440 w 451080"/>
              <a:gd name="textAreaTop" fmla="*/ 0 h 2401920"/>
              <a:gd name="textAreaBottom" fmla="*/ 2402280 h 2401920"/>
            </a:gdLst>
            <a:ahLst/>
            <a:rect l="textAreaLeft" t="textAreaTop" r="textAreaRight" b="textAreaBottom"/>
            <a:pathLst>
              <a:path w="307" h="1635">
                <a:moveTo>
                  <a:pt x="4" y="1635"/>
                </a:moveTo>
                <a:lnTo>
                  <a:pt x="134" y="1635"/>
                </a:lnTo>
                <a:lnTo>
                  <a:pt x="303" y="1473"/>
                </a:lnTo>
                <a:lnTo>
                  <a:pt x="307" y="0"/>
                </a:lnTo>
                <a:lnTo>
                  <a:pt x="0" y="0"/>
                </a:lnTo>
                <a:lnTo>
                  <a:pt x="4" y="1635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78"/>
          <p:cNvSpPr/>
          <p:nvPr/>
        </p:nvSpPr>
        <p:spPr>
          <a:xfrm>
            <a:off x="8555040" y="4578480"/>
            <a:ext cx="293760" cy="1380960"/>
          </a:xfrm>
          <a:custGeom>
            <a:avLst/>
            <a:gdLst>
              <a:gd name="textAreaLeft" fmla="*/ 0 w 293760"/>
              <a:gd name="textAreaRight" fmla="*/ 294120 w 29376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w="200" h="941">
                <a:moveTo>
                  <a:pt x="200" y="941"/>
                </a:moveTo>
                <a:lnTo>
                  <a:pt x="0" y="764"/>
                </a:lnTo>
                <a:lnTo>
                  <a:pt x="0" y="0"/>
                </a:lnTo>
                <a:lnTo>
                  <a:pt x="200" y="0"/>
                </a:lnTo>
                <a:lnTo>
                  <a:pt x="200" y="94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79"/>
          <p:cNvSpPr/>
          <p:nvPr/>
        </p:nvSpPr>
        <p:spPr>
          <a:xfrm>
            <a:off x="8734320" y="4289400"/>
            <a:ext cx="374760" cy="1682640"/>
          </a:xfrm>
          <a:custGeom>
            <a:avLst/>
            <a:gdLst>
              <a:gd name="textAreaLeft" fmla="*/ 0 w 374760"/>
              <a:gd name="textAreaRight" fmla="*/ 375120 w 37476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255" h="1146">
                <a:moveTo>
                  <a:pt x="255" y="1146"/>
                </a:moveTo>
                <a:lnTo>
                  <a:pt x="3" y="890"/>
                </a:lnTo>
                <a:lnTo>
                  <a:pt x="0" y="0"/>
                </a:lnTo>
                <a:lnTo>
                  <a:pt x="255" y="0"/>
                </a:lnTo>
                <a:lnTo>
                  <a:pt x="255" y="1146"/>
                </a:lnTo>
                <a:close/>
              </a:path>
            </a:pathLst>
          </a:custGeom>
          <a:solidFill>
            <a:srgbClr val="8b6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80"/>
          <p:cNvSpPr/>
          <p:nvPr/>
        </p:nvSpPr>
        <p:spPr>
          <a:xfrm>
            <a:off x="9109080" y="4289400"/>
            <a:ext cx="295200" cy="1892160"/>
          </a:xfrm>
          <a:custGeom>
            <a:avLst/>
            <a:gdLst>
              <a:gd name="textAreaLeft" fmla="*/ 0 w 295200"/>
              <a:gd name="textAreaRight" fmla="*/ 295560 w 29520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201" h="1288">
                <a:moveTo>
                  <a:pt x="0" y="1288"/>
                </a:moveTo>
                <a:lnTo>
                  <a:pt x="201" y="1115"/>
                </a:lnTo>
                <a:lnTo>
                  <a:pt x="201" y="0"/>
                </a:lnTo>
                <a:lnTo>
                  <a:pt x="0" y="0"/>
                </a:lnTo>
                <a:lnTo>
                  <a:pt x="0" y="1288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81"/>
          <p:cNvSpPr/>
          <p:nvPr/>
        </p:nvSpPr>
        <p:spPr>
          <a:xfrm>
            <a:off x="8947080" y="4289400"/>
            <a:ext cx="162000" cy="1347840"/>
          </a:xfrm>
          <a:custGeom>
            <a:avLst/>
            <a:gdLst>
              <a:gd name="textAreaLeft" fmla="*/ 0 w 162000"/>
              <a:gd name="textAreaRight" fmla="*/ 162000 w 162000"/>
              <a:gd name="textAreaTop" fmla="*/ 0 h 1347840"/>
              <a:gd name="textAreaBottom" fmla="*/ 1348200 h 1347840"/>
            </a:gdLst>
            <a:ahLst/>
            <a:rect l="textAreaLeft" t="textAreaTop" r="textAreaRight" b="textAreaBottom"/>
            <a:pathLst>
              <a:path w="110" h="918">
                <a:moveTo>
                  <a:pt x="110" y="918"/>
                </a:moveTo>
                <a:lnTo>
                  <a:pt x="0" y="796"/>
                </a:lnTo>
                <a:lnTo>
                  <a:pt x="0" y="0"/>
                </a:lnTo>
                <a:lnTo>
                  <a:pt x="110" y="0"/>
                </a:lnTo>
                <a:lnTo>
                  <a:pt x="110" y="918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82"/>
          <p:cNvSpPr/>
          <p:nvPr/>
        </p:nvSpPr>
        <p:spPr>
          <a:xfrm>
            <a:off x="9109080" y="4289400"/>
            <a:ext cx="214200" cy="1515960"/>
          </a:xfrm>
          <a:custGeom>
            <a:avLst/>
            <a:gdLst>
              <a:gd name="textAreaLeft" fmla="*/ 0 w 214200"/>
              <a:gd name="textAreaRight" fmla="*/ 214560 w 21420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46" h="1032">
                <a:moveTo>
                  <a:pt x="0" y="1032"/>
                </a:moveTo>
                <a:lnTo>
                  <a:pt x="142" y="890"/>
                </a:lnTo>
                <a:lnTo>
                  <a:pt x="146" y="0"/>
                </a:lnTo>
                <a:lnTo>
                  <a:pt x="0" y="0"/>
                </a:lnTo>
                <a:lnTo>
                  <a:pt x="0" y="1032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83"/>
          <p:cNvSpPr/>
          <p:nvPr/>
        </p:nvSpPr>
        <p:spPr>
          <a:xfrm>
            <a:off x="8121600" y="3375000"/>
            <a:ext cx="1638360" cy="1389240"/>
          </a:xfrm>
          <a:custGeom>
            <a:avLst/>
            <a:gdLst>
              <a:gd name="textAreaLeft" fmla="*/ 0 w 1638360"/>
              <a:gd name="textAreaRight" fmla="*/ 1638720 w 1638360"/>
              <a:gd name="textAreaTop" fmla="*/ 0 h 1389240"/>
              <a:gd name="textAreaBottom" fmla="*/ 1389240 h 1389240"/>
            </a:gdLst>
            <a:ahLst/>
            <a:rect l="textAreaLeft" t="textAreaTop" r="textAreaRight" b="textAreaBottom"/>
            <a:pathLst>
              <a:path w="284" h="240">
                <a:moveTo>
                  <a:pt x="284" y="97"/>
                </a:moveTo>
                <a:cubicBezTo>
                  <a:pt x="284" y="75"/>
                  <a:pt x="266" y="58"/>
                  <a:pt x="245" y="58"/>
                </a:cubicBezTo>
                <a:cubicBezTo>
                  <a:pt x="234" y="58"/>
                  <a:pt x="224" y="62"/>
                  <a:pt x="217" y="69"/>
                </a:cubicBezTo>
                <a:cubicBezTo>
                  <a:pt x="216" y="68"/>
                  <a:pt x="214" y="67"/>
                  <a:pt x="212" y="66"/>
                </a:cubicBezTo>
                <a:cubicBezTo>
                  <a:pt x="212" y="65"/>
                  <a:pt x="213" y="64"/>
                  <a:pt x="213" y="62"/>
                </a:cubicBezTo>
                <a:cubicBezTo>
                  <a:pt x="213" y="46"/>
                  <a:pt x="200" y="34"/>
                  <a:pt x="184" y="34"/>
                </a:cubicBezTo>
                <a:cubicBezTo>
                  <a:pt x="181" y="34"/>
                  <a:pt x="178" y="34"/>
                  <a:pt x="176" y="35"/>
                </a:cubicBezTo>
                <a:cubicBezTo>
                  <a:pt x="176" y="35"/>
                  <a:pt x="176" y="34"/>
                  <a:pt x="176" y="34"/>
                </a:cubicBezTo>
                <a:cubicBezTo>
                  <a:pt x="176" y="15"/>
                  <a:pt x="161" y="0"/>
                  <a:pt x="142" y="0"/>
                </a:cubicBezTo>
                <a:cubicBezTo>
                  <a:pt x="124" y="0"/>
                  <a:pt x="109" y="15"/>
                  <a:pt x="109" y="34"/>
                </a:cubicBezTo>
                <a:cubicBezTo>
                  <a:pt x="109" y="42"/>
                  <a:pt x="112" y="49"/>
                  <a:pt x="117" y="55"/>
                </a:cubicBezTo>
                <a:cubicBezTo>
                  <a:pt x="111" y="50"/>
                  <a:pt x="105" y="47"/>
                  <a:pt x="97" y="47"/>
                </a:cubicBezTo>
                <a:cubicBezTo>
                  <a:pt x="80" y="47"/>
                  <a:pt x="67" y="61"/>
                  <a:pt x="67" y="77"/>
                </a:cubicBezTo>
                <a:cubicBezTo>
                  <a:pt x="67" y="83"/>
                  <a:pt x="68" y="87"/>
                  <a:pt x="71" y="91"/>
                </a:cubicBezTo>
                <a:cubicBezTo>
                  <a:pt x="68" y="92"/>
                  <a:pt x="65" y="93"/>
                  <a:pt x="63" y="94"/>
                </a:cubicBezTo>
                <a:cubicBezTo>
                  <a:pt x="57" y="84"/>
                  <a:pt x="46" y="77"/>
                  <a:pt x="34" y="77"/>
                </a:cubicBezTo>
                <a:cubicBezTo>
                  <a:pt x="15" y="77"/>
                  <a:pt x="0" y="92"/>
                  <a:pt x="0" y="111"/>
                </a:cubicBezTo>
                <a:cubicBezTo>
                  <a:pt x="0" y="125"/>
                  <a:pt x="10" y="138"/>
                  <a:pt x="23" y="142"/>
                </a:cubicBezTo>
                <a:cubicBezTo>
                  <a:pt x="12" y="147"/>
                  <a:pt x="4" y="157"/>
                  <a:pt x="4" y="170"/>
                </a:cubicBezTo>
                <a:cubicBezTo>
                  <a:pt x="4" y="186"/>
                  <a:pt x="17" y="199"/>
                  <a:pt x="34" y="199"/>
                </a:cubicBezTo>
                <a:cubicBezTo>
                  <a:pt x="43" y="199"/>
                  <a:pt x="51" y="195"/>
                  <a:pt x="57" y="188"/>
                </a:cubicBezTo>
                <a:cubicBezTo>
                  <a:pt x="60" y="193"/>
                  <a:pt x="66" y="196"/>
                  <a:pt x="73" y="196"/>
                </a:cubicBezTo>
                <a:cubicBezTo>
                  <a:pt x="73" y="220"/>
                  <a:pt x="73" y="220"/>
                  <a:pt x="73" y="220"/>
                </a:cubicBezTo>
                <a:cubicBezTo>
                  <a:pt x="73" y="231"/>
                  <a:pt x="82" y="240"/>
                  <a:pt x="92" y="240"/>
                </a:cubicBezTo>
                <a:cubicBezTo>
                  <a:pt x="103" y="240"/>
                  <a:pt x="112" y="231"/>
                  <a:pt x="112" y="220"/>
                </a:cubicBezTo>
                <a:cubicBezTo>
                  <a:pt x="112" y="196"/>
                  <a:pt x="112" y="196"/>
                  <a:pt x="112" y="196"/>
                </a:cubicBezTo>
                <a:cubicBezTo>
                  <a:pt x="113" y="196"/>
                  <a:pt x="113" y="196"/>
                  <a:pt x="114" y="196"/>
                </a:cubicBezTo>
                <a:cubicBezTo>
                  <a:pt x="115" y="196"/>
                  <a:pt x="116" y="196"/>
                  <a:pt x="117" y="196"/>
                </a:cubicBezTo>
                <a:cubicBezTo>
                  <a:pt x="119" y="207"/>
                  <a:pt x="128" y="214"/>
                  <a:pt x="139" y="214"/>
                </a:cubicBezTo>
                <a:cubicBezTo>
                  <a:pt x="151" y="214"/>
                  <a:pt x="161" y="205"/>
                  <a:pt x="161" y="193"/>
                </a:cubicBezTo>
                <a:cubicBezTo>
                  <a:pt x="161" y="193"/>
                  <a:pt x="162" y="193"/>
                  <a:pt x="162" y="193"/>
                </a:cubicBezTo>
                <a:cubicBezTo>
                  <a:pt x="162" y="205"/>
                  <a:pt x="172" y="214"/>
                  <a:pt x="184" y="214"/>
                </a:cubicBezTo>
                <a:cubicBezTo>
                  <a:pt x="195" y="214"/>
                  <a:pt x="205" y="206"/>
                  <a:pt x="206" y="195"/>
                </a:cubicBezTo>
                <a:cubicBezTo>
                  <a:pt x="209" y="196"/>
                  <a:pt x="211" y="196"/>
                  <a:pt x="214" y="196"/>
                </a:cubicBezTo>
                <a:cubicBezTo>
                  <a:pt x="240" y="196"/>
                  <a:pt x="262" y="174"/>
                  <a:pt x="262" y="148"/>
                </a:cubicBezTo>
                <a:cubicBezTo>
                  <a:pt x="262" y="143"/>
                  <a:pt x="261" y="138"/>
                  <a:pt x="260" y="133"/>
                </a:cubicBezTo>
                <a:cubicBezTo>
                  <a:pt x="274" y="127"/>
                  <a:pt x="284" y="113"/>
                  <a:pt x="284" y="97"/>
                </a:cubicBezTo>
                <a:close/>
              </a:path>
            </a:pathLst>
          </a:custGeom>
          <a:solidFill>
            <a:srgbClr val="00b9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84"/>
          <p:cNvSpPr/>
          <p:nvPr/>
        </p:nvSpPr>
        <p:spPr>
          <a:xfrm>
            <a:off x="8664480" y="3375000"/>
            <a:ext cx="1096920" cy="1389240"/>
          </a:xfrm>
          <a:custGeom>
            <a:avLst/>
            <a:gdLst/>
            <a:ahLst/>
            <a:rect l="l" t="t" r="r" b="b"/>
            <a:pathLst>
              <a:path w="190" h="240">
                <a:moveTo>
                  <a:pt x="151" y="58"/>
                </a:moveTo>
                <a:cubicBezTo>
                  <a:pt x="140" y="58"/>
                  <a:pt x="130" y="62"/>
                  <a:pt x="123" y="69"/>
                </a:cubicBezTo>
                <a:cubicBezTo>
                  <a:pt x="122" y="68"/>
                  <a:pt x="120" y="67"/>
                  <a:pt x="118" y="66"/>
                </a:cubicBezTo>
                <a:cubicBezTo>
                  <a:pt x="118" y="65"/>
                  <a:pt x="119" y="64"/>
                  <a:pt x="119" y="62"/>
                </a:cubicBezTo>
                <a:cubicBezTo>
                  <a:pt x="119" y="46"/>
                  <a:pt x="106" y="34"/>
                  <a:pt x="90" y="34"/>
                </a:cubicBezTo>
                <a:cubicBezTo>
                  <a:pt x="87" y="34"/>
                  <a:pt x="84" y="34"/>
                  <a:pt x="82" y="35"/>
                </a:cubicBezTo>
                <a:cubicBezTo>
                  <a:pt x="82" y="35"/>
                  <a:pt x="82" y="34"/>
                  <a:pt x="82" y="34"/>
                </a:cubicBezTo>
                <a:cubicBezTo>
                  <a:pt x="82" y="15"/>
                  <a:pt x="67" y="0"/>
                  <a:pt x="48" y="0"/>
                </a:cubicBezTo>
                <a:cubicBezTo>
                  <a:pt x="30" y="0"/>
                  <a:pt x="15" y="15"/>
                  <a:pt x="15" y="34"/>
                </a:cubicBezTo>
                <a:cubicBezTo>
                  <a:pt x="15" y="42"/>
                  <a:pt x="18" y="49"/>
                  <a:pt x="23" y="55"/>
                </a:cubicBezTo>
                <a:cubicBezTo>
                  <a:pt x="17" y="50"/>
                  <a:pt x="11" y="47"/>
                  <a:pt x="3" y="47"/>
                </a:cubicBezTo>
                <a:cubicBezTo>
                  <a:pt x="2" y="47"/>
                  <a:pt x="1" y="48"/>
                  <a:pt x="0" y="48"/>
                </a:cubicBezTo>
                <a:cubicBezTo>
                  <a:pt x="0" y="240"/>
                  <a:pt x="0" y="240"/>
                  <a:pt x="0" y="240"/>
                </a:cubicBezTo>
                <a:cubicBezTo>
                  <a:pt x="10" y="240"/>
                  <a:pt x="18" y="231"/>
                  <a:pt x="18" y="220"/>
                </a:cubicBezTo>
                <a:cubicBezTo>
                  <a:pt x="18" y="196"/>
                  <a:pt x="18" y="196"/>
                  <a:pt x="18" y="196"/>
                </a:cubicBezTo>
                <a:cubicBezTo>
                  <a:pt x="19" y="196"/>
                  <a:pt x="19" y="196"/>
                  <a:pt x="20" y="196"/>
                </a:cubicBezTo>
                <a:cubicBezTo>
                  <a:pt x="21" y="196"/>
                  <a:pt x="22" y="196"/>
                  <a:pt x="23" y="196"/>
                </a:cubicBezTo>
                <a:cubicBezTo>
                  <a:pt x="25" y="207"/>
                  <a:pt x="34" y="214"/>
                  <a:pt x="45" y="214"/>
                </a:cubicBezTo>
                <a:cubicBezTo>
                  <a:pt x="57" y="214"/>
                  <a:pt x="67" y="205"/>
                  <a:pt x="67" y="193"/>
                </a:cubicBezTo>
                <a:cubicBezTo>
                  <a:pt x="67" y="193"/>
                  <a:pt x="68" y="193"/>
                  <a:pt x="68" y="193"/>
                </a:cubicBezTo>
                <a:cubicBezTo>
                  <a:pt x="68" y="205"/>
                  <a:pt x="78" y="214"/>
                  <a:pt x="90" y="214"/>
                </a:cubicBezTo>
                <a:cubicBezTo>
                  <a:pt x="101" y="214"/>
                  <a:pt x="111" y="206"/>
                  <a:pt x="112" y="195"/>
                </a:cubicBezTo>
                <a:cubicBezTo>
                  <a:pt x="115" y="196"/>
                  <a:pt x="117" y="196"/>
                  <a:pt x="120" y="196"/>
                </a:cubicBezTo>
                <a:cubicBezTo>
                  <a:pt x="146" y="196"/>
                  <a:pt x="168" y="174"/>
                  <a:pt x="168" y="148"/>
                </a:cubicBezTo>
                <a:cubicBezTo>
                  <a:pt x="168" y="143"/>
                  <a:pt x="167" y="138"/>
                  <a:pt x="166" y="133"/>
                </a:cubicBezTo>
                <a:cubicBezTo>
                  <a:pt x="180" y="127"/>
                  <a:pt x="190" y="113"/>
                  <a:pt x="190" y="97"/>
                </a:cubicBezTo>
                <a:cubicBezTo>
                  <a:pt x="190" y="75"/>
                  <a:pt x="172" y="58"/>
                  <a:pt x="151" y="58"/>
                </a:cubicBezTo>
                <a:close/>
              </a:path>
            </a:pathLst>
          </a:custGeom>
          <a:solidFill>
            <a:srgbClr val="009a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85"/>
          <p:cNvSpPr/>
          <p:nvPr/>
        </p:nvSpPr>
        <p:spPr>
          <a:xfrm>
            <a:off x="9236160" y="3578400"/>
            <a:ext cx="525240" cy="1023840"/>
          </a:xfrm>
          <a:custGeom>
            <a:avLst/>
            <a:gdLst>
              <a:gd name="textAreaLeft" fmla="*/ 0 w 525240"/>
              <a:gd name="textAreaRight" fmla="*/ 525600 w 52524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91" h="177">
                <a:moveTo>
                  <a:pt x="52" y="23"/>
                </a:moveTo>
                <a:cubicBezTo>
                  <a:pt x="41" y="23"/>
                  <a:pt x="31" y="27"/>
                  <a:pt x="24" y="34"/>
                </a:cubicBezTo>
                <a:cubicBezTo>
                  <a:pt x="23" y="33"/>
                  <a:pt x="21" y="32"/>
                  <a:pt x="19" y="31"/>
                </a:cubicBezTo>
                <a:cubicBezTo>
                  <a:pt x="19" y="30"/>
                  <a:pt x="20" y="29"/>
                  <a:pt x="20" y="27"/>
                </a:cubicBezTo>
                <a:cubicBezTo>
                  <a:pt x="20" y="14"/>
                  <a:pt x="11" y="4"/>
                  <a:pt x="0" y="0"/>
                </a:cubicBezTo>
                <a:cubicBezTo>
                  <a:pt x="0" y="177"/>
                  <a:pt x="0" y="177"/>
                  <a:pt x="0" y="177"/>
                </a:cubicBezTo>
                <a:cubicBezTo>
                  <a:pt x="7" y="174"/>
                  <a:pt x="12" y="168"/>
                  <a:pt x="13" y="160"/>
                </a:cubicBezTo>
                <a:cubicBezTo>
                  <a:pt x="16" y="161"/>
                  <a:pt x="18" y="161"/>
                  <a:pt x="21" y="161"/>
                </a:cubicBezTo>
                <a:cubicBezTo>
                  <a:pt x="47" y="161"/>
                  <a:pt x="69" y="139"/>
                  <a:pt x="69" y="113"/>
                </a:cubicBezTo>
                <a:cubicBezTo>
                  <a:pt x="69" y="108"/>
                  <a:pt x="68" y="103"/>
                  <a:pt x="67" y="98"/>
                </a:cubicBezTo>
                <a:cubicBezTo>
                  <a:pt x="81" y="92"/>
                  <a:pt x="91" y="78"/>
                  <a:pt x="91" y="62"/>
                </a:cubicBezTo>
                <a:cubicBezTo>
                  <a:pt x="91" y="40"/>
                  <a:pt x="73" y="23"/>
                  <a:pt x="52" y="23"/>
                </a:cubicBezTo>
                <a:close/>
              </a:path>
            </a:pathLst>
          </a:cu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86"/>
          <p:cNvSpPr/>
          <p:nvPr/>
        </p:nvSpPr>
        <p:spPr>
          <a:xfrm>
            <a:off x="9312120" y="4202280"/>
            <a:ext cx="530280" cy="561960"/>
          </a:xfrm>
          <a:custGeom>
            <a:avLst/>
            <a:gdLst>
              <a:gd name="textAreaLeft" fmla="*/ 0 w 530280"/>
              <a:gd name="textAreaRight" fmla="*/ 530640 w 53028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92" h="97">
                <a:moveTo>
                  <a:pt x="63" y="12"/>
                </a:moveTo>
                <a:cubicBezTo>
                  <a:pt x="57" y="12"/>
                  <a:pt x="51" y="13"/>
                  <a:pt x="47" y="16"/>
                </a:cubicBezTo>
                <a:cubicBezTo>
                  <a:pt x="44" y="7"/>
                  <a:pt x="35" y="0"/>
                  <a:pt x="24" y="0"/>
                </a:cubicBezTo>
                <a:cubicBezTo>
                  <a:pt x="10" y="0"/>
                  <a:pt x="0" y="11"/>
                  <a:pt x="0" y="24"/>
                </a:cubicBezTo>
                <a:cubicBezTo>
                  <a:pt x="0" y="35"/>
                  <a:pt x="7" y="45"/>
                  <a:pt x="17" y="47"/>
                </a:cubicBezTo>
                <a:cubicBezTo>
                  <a:pt x="11" y="53"/>
                  <a:pt x="7" y="60"/>
                  <a:pt x="7" y="69"/>
                </a:cubicBezTo>
                <a:cubicBezTo>
                  <a:pt x="7" y="85"/>
                  <a:pt x="19" y="97"/>
                  <a:pt x="35" y="97"/>
                </a:cubicBezTo>
                <a:cubicBezTo>
                  <a:pt x="49" y="97"/>
                  <a:pt x="62" y="86"/>
                  <a:pt x="62" y="71"/>
                </a:cubicBezTo>
                <a:cubicBezTo>
                  <a:pt x="62" y="71"/>
                  <a:pt x="63" y="71"/>
                  <a:pt x="63" y="71"/>
                </a:cubicBezTo>
                <a:cubicBezTo>
                  <a:pt x="79" y="71"/>
                  <a:pt x="92" y="58"/>
                  <a:pt x="92" y="41"/>
                </a:cubicBezTo>
                <a:cubicBezTo>
                  <a:pt x="92" y="25"/>
                  <a:pt x="79" y="12"/>
                  <a:pt x="63" y="12"/>
                </a:cubicBezTo>
                <a:close/>
              </a:path>
            </a:pathLst>
          </a:cu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87"/>
          <p:cNvSpPr/>
          <p:nvPr/>
        </p:nvSpPr>
        <p:spPr>
          <a:xfrm>
            <a:off x="9894960" y="4243320"/>
            <a:ext cx="155520" cy="150840"/>
          </a:xfrm>
          <a:prstGeom prst="ellipse">
            <a:avLst/>
          </a:pr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88"/>
          <p:cNvSpPr/>
          <p:nvPr/>
        </p:nvSpPr>
        <p:spPr>
          <a:xfrm>
            <a:off x="8618400" y="4849920"/>
            <a:ext cx="173160" cy="1792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89"/>
          <p:cNvSpPr/>
          <p:nvPr/>
        </p:nvSpPr>
        <p:spPr>
          <a:xfrm>
            <a:off x="8172360" y="3594240"/>
            <a:ext cx="144720" cy="1396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90"/>
          <p:cNvSpPr/>
          <p:nvPr/>
        </p:nvSpPr>
        <p:spPr>
          <a:xfrm>
            <a:off x="8883720" y="3733920"/>
            <a:ext cx="168120" cy="16812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91"/>
          <p:cNvSpPr/>
          <p:nvPr/>
        </p:nvSpPr>
        <p:spPr>
          <a:xfrm>
            <a:off x="8791560" y="3987720"/>
            <a:ext cx="392040" cy="38916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92"/>
          <p:cNvSpPr/>
          <p:nvPr/>
        </p:nvSpPr>
        <p:spPr>
          <a:xfrm>
            <a:off x="7342200" y="5648400"/>
            <a:ext cx="98280" cy="301680"/>
          </a:xfrm>
          <a:custGeom>
            <a:avLst/>
            <a:gdLst>
              <a:gd name="textAreaLeft" fmla="*/ 0 w 98280"/>
              <a:gd name="textAreaRight" fmla="*/ 98640 w 9828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67" h="205">
                <a:moveTo>
                  <a:pt x="67" y="205"/>
                </a:moveTo>
                <a:lnTo>
                  <a:pt x="0" y="153"/>
                </a:lnTo>
                <a:lnTo>
                  <a:pt x="0" y="51"/>
                </a:lnTo>
                <a:lnTo>
                  <a:pt x="67" y="0"/>
                </a:lnTo>
                <a:lnTo>
                  <a:pt x="67" y="205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93"/>
          <p:cNvSpPr/>
          <p:nvPr/>
        </p:nvSpPr>
        <p:spPr>
          <a:xfrm>
            <a:off x="7434360" y="5208480"/>
            <a:ext cx="347400" cy="1638360"/>
          </a:xfrm>
          <a:custGeom>
            <a:avLst/>
            <a:gdLst>
              <a:gd name="textAreaLeft" fmla="*/ 0 w 347400"/>
              <a:gd name="textAreaRight" fmla="*/ 347760 w 34740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236" h="1115">
                <a:moveTo>
                  <a:pt x="236" y="863"/>
                </a:moveTo>
                <a:lnTo>
                  <a:pt x="232" y="0"/>
                </a:lnTo>
                <a:lnTo>
                  <a:pt x="0" y="0"/>
                </a:lnTo>
                <a:lnTo>
                  <a:pt x="0" y="631"/>
                </a:lnTo>
                <a:lnTo>
                  <a:pt x="94" y="709"/>
                </a:lnTo>
                <a:lnTo>
                  <a:pt x="94" y="1115"/>
                </a:lnTo>
                <a:lnTo>
                  <a:pt x="236" y="1115"/>
                </a:lnTo>
                <a:lnTo>
                  <a:pt x="236" y="863"/>
                </a:lnTo>
                <a:lnTo>
                  <a:pt x="236" y="863"/>
                </a:lnTo>
                <a:close/>
              </a:path>
            </a:pathLst>
          </a:custGeom>
          <a:solidFill>
            <a:srgbClr val="9b7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94"/>
          <p:cNvSpPr/>
          <p:nvPr/>
        </p:nvSpPr>
        <p:spPr>
          <a:xfrm>
            <a:off x="7775640" y="5208480"/>
            <a:ext cx="352440" cy="1211400"/>
          </a:xfrm>
          <a:custGeom>
            <a:avLst/>
            <a:gdLst/>
            <a:ahLst/>
            <a:rect l="l" t="t" r="r" b="b"/>
            <a:pathLst>
              <a:path w="240" h="824">
                <a:moveTo>
                  <a:pt x="0" y="824"/>
                </a:moveTo>
                <a:lnTo>
                  <a:pt x="236" y="583"/>
                </a:lnTo>
                <a:lnTo>
                  <a:pt x="240" y="0"/>
                </a:lnTo>
                <a:lnTo>
                  <a:pt x="4" y="0"/>
                </a:lnTo>
                <a:lnTo>
                  <a:pt x="0" y="824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95"/>
          <p:cNvSpPr/>
          <p:nvPr/>
        </p:nvSpPr>
        <p:spPr>
          <a:xfrm>
            <a:off x="7775640" y="5208480"/>
            <a:ext cx="212760" cy="933480"/>
          </a:xfrm>
          <a:custGeom>
            <a:avLst/>
            <a:gdLst>
              <a:gd name="textAreaLeft" fmla="*/ 0 w 212760"/>
              <a:gd name="textAreaRight" fmla="*/ 213120 w 21276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145" h="635">
                <a:moveTo>
                  <a:pt x="145" y="509"/>
                </a:moveTo>
                <a:lnTo>
                  <a:pt x="145" y="0"/>
                </a:lnTo>
                <a:lnTo>
                  <a:pt x="0" y="0"/>
                </a:lnTo>
                <a:lnTo>
                  <a:pt x="4" y="635"/>
                </a:lnTo>
                <a:lnTo>
                  <a:pt x="145" y="509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96"/>
          <p:cNvSpPr/>
          <p:nvPr/>
        </p:nvSpPr>
        <p:spPr>
          <a:xfrm>
            <a:off x="7602480" y="5208480"/>
            <a:ext cx="179280" cy="868320"/>
          </a:xfrm>
          <a:custGeom>
            <a:avLst/>
            <a:gdLst>
              <a:gd name="textAreaLeft" fmla="*/ 0 w 179280"/>
              <a:gd name="textAreaRight" fmla="*/ 179640 w 17928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22" h="591">
                <a:moveTo>
                  <a:pt x="122" y="591"/>
                </a:moveTo>
                <a:lnTo>
                  <a:pt x="4" y="477"/>
                </a:lnTo>
                <a:lnTo>
                  <a:pt x="0" y="0"/>
                </a:lnTo>
                <a:lnTo>
                  <a:pt x="118" y="0"/>
                </a:lnTo>
                <a:lnTo>
                  <a:pt x="122" y="59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97"/>
          <p:cNvSpPr/>
          <p:nvPr/>
        </p:nvSpPr>
        <p:spPr>
          <a:xfrm>
            <a:off x="7527960" y="5208480"/>
            <a:ext cx="253800" cy="642960"/>
          </a:xfrm>
          <a:custGeom>
            <a:avLst/>
            <a:gdLst>
              <a:gd name="textAreaLeft" fmla="*/ 0 w 253800"/>
              <a:gd name="textAreaRight" fmla="*/ 254160 w 2538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73" h="438">
                <a:moveTo>
                  <a:pt x="169" y="438"/>
                </a:moveTo>
                <a:lnTo>
                  <a:pt x="0" y="280"/>
                </a:lnTo>
                <a:lnTo>
                  <a:pt x="0" y="0"/>
                </a:lnTo>
                <a:lnTo>
                  <a:pt x="173" y="0"/>
                </a:lnTo>
                <a:lnTo>
                  <a:pt x="169" y="438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98"/>
          <p:cNvSpPr/>
          <p:nvPr/>
        </p:nvSpPr>
        <p:spPr>
          <a:xfrm>
            <a:off x="7781760" y="5602320"/>
            <a:ext cx="86040" cy="369720"/>
          </a:xfrm>
          <a:custGeom>
            <a:avLst/>
            <a:gdLst>
              <a:gd name="textAreaLeft" fmla="*/ 0 w 86040"/>
              <a:gd name="textAreaRight" fmla="*/ 86400 w 8604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59" h="252">
                <a:moveTo>
                  <a:pt x="0" y="252"/>
                </a:moveTo>
                <a:lnTo>
                  <a:pt x="59" y="201"/>
                </a:lnTo>
                <a:lnTo>
                  <a:pt x="59" y="55"/>
                </a:lnTo>
                <a:lnTo>
                  <a:pt x="0" y="0"/>
                </a:lnTo>
                <a:lnTo>
                  <a:pt x="0" y="252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99"/>
          <p:cNvSpPr/>
          <p:nvPr/>
        </p:nvSpPr>
        <p:spPr>
          <a:xfrm>
            <a:off x="8283600" y="5551560"/>
            <a:ext cx="201600" cy="2016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00"/>
          <p:cNvSpPr/>
          <p:nvPr/>
        </p:nvSpPr>
        <p:spPr>
          <a:xfrm>
            <a:off x="6788160" y="4429080"/>
            <a:ext cx="230040" cy="2304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01"/>
          <p:cNvSpPr/>
          <p:nvPr/>
        </p:nvSpPr>
        <p:spPr>
          <a:xfrm>
            <a:off x="2076480" y="6383160"/>
            <a:ext cx="8042400" cy="3765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560"/>
              <a:gd name="textAreaBottom" fmla="*/ 376920 h 376560"/>
            </a:gdLst>
            <a:ahLst/>
            <a:rect l="textAreaLeft" t="textAreaTop" r="textAreaRight" b="textAreaBottom"/>
            <a:pathLst>
              <a:path w="1393" h="65">
                <a:moveTo>
                  <a:pt x="1393" y="23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3"/>
                  <a:pt x="0" y="23"/>
                  <a:pt x="0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20" y="23"/>
                  <a:pt x="20" y="0"/>
                  <a:pt x="37" y="0"/>
                </a:cubicBezTo>
                <a:cubicBezTo>
                  <a:pt x="55" y="0"/>
                  <a:pt x="55" y="23"/>
                  <a:pt x="72" y="23"/>
                </a:cubicBezTo>
                <a:cubicBezTo>
                  <a:pt x="89" y="23"/>
                  <a:pt x="89" y="0"/>
                  <a:pt x="107" y="0"/>
                </a:cubicBezTo>
                <a:cubicBezTo>
                  <a:pt x="124" y="0"/>
                  <a:pt x="124" y="23"/>
                  <a:pt x="141" y="23"/>
                </a:cubicBezTo>
                <a:cubicBezTo>
                  <a:pt x="159" y="23"/>
                  <a:pt x="159" y="0"/>
                  <a:pt x="176" y="0"/>
                </a:cubicBezTo>
                <a:cubicBezTo>
                  <a:pt x="194" y="0"/>
                  <a:pt x="194" y="23"/>
                  <a:pt x="211" y="23"/>
                </a:cubicBezTo>
                <a:cubicBezTo>
                  <a:pt x="228" y="23"/>
                  <a:pt x="228" y="0"/>
                  <a:pt x="246" y="0"/>
                </a:cubicBezTo>
                <a:cubicBezTo>
                  <a:pt x="263" y="0"/>
                  <a:pt x="263" y="23"/>
                  <a:pt x="280" y="23"/>
                </a:cubicBezTo>
                <a:cubicBezTo>
                  <a:pt x="298" y="23"/>
                  <a:pt x="298" y="0"/>
                  <a:pt x="315" y="0"/>
                </a:cubicBezTo>
                <a:cubicBezTo>
                  <a:pt x="333" y="0"/>
                  <a:pt x="333" y="23"/>
                  <a:pt x="350" y="23"/>
                </a:cubicBezTo>
                <a:cubicBezTo>
                  <a:pt x="367" y="23"/>
                  <a:pt x="367" y="0"/>
                  <a:pt x="385" y="0"/>
                </a:cubicBezTo>
                <a:cubicBezTo>
                  <a:pt x="402" y="0"/>
                  <a:pt x="402" y="23"/>
                  <a:pt x="419" y="23"/>
                </a:cubicBezTo>
                <a:cubicBezTo>
                  <a:pt x="437" y="23"/>
                  <a:pt x="437" y="0"/>
                  <a:pt x="454" y="0"/>
                </a:cubicBezTo>
                <a:cubicBezTo>
                  <a:pt x="472" y="0"/>
                  <a:pt x="472" y="23"/>
                  <a:pt x="489" y="23"/>
                </a:cubicBezTo>
                <a:cubicBezTo>
                  <a:pt x="506" y="23"/>
                  <a:pt x="506" y="0"/>
                  <a:pt x="524" y="0"/>
                </a:cubicBezTo>
                <a:cubicBezTo>
                  <a:pt x="541" y="0"/>
                  <a:pt x="541" y="23"/>
                  <a:pt x="558" y="23"/>
                </a:cubicBezTo>
                <a:cubicBezTo>
                  <a:pt x="576" y="23"/>
                  <a:pt x="576" y="0"/>
                  <a:pt x="593" y="0"/>
                </a:cubicBezTo>
                <a:cubicBezTo>
                  <a:pt x="611" y="0"/>
                  <a:pt x="611" y="23"/>
                  <a:pt x="628" y="23"/>
                </a:cubicBezTo>
                <a:cubicBezTo>
                  <a:pt x="645" y="23"/>
                  <a:pt x="645" y="0"/>
                  <a:pt x="663" y="0"/>
                </a:cubicBezTo>
                <a:cubicBezTo>
                  <a:pt x="680" y="0"/>
                  <a:pt x="680" y="23"/>
                  <a:pt x="698" y="23"/>
                </a:cubicBezTo>
                <a:cubicBezTo>
                  <a:pt x="715" y="23"/>
                  <a:pt x="715" y="0"/>
                  <a:pt x="732" y="0"/>
                </a:cubicBezTo>
                <a:cubicBezTo>
                  <a:pt x="750" y="0"/>
                  <a:pt x="750" y="23"/>
                  <a:pt x="767" y="23"/>
                </a:cubicBezTo>
                <a:cubicBezTo>
                  <a:pt x="784" y="23"/>
                  <a:pt x="784" y="0"/>
                  <a:pt x="802" y="0"/>
                </a:cubicBezTo>
                <a:cubicBezTo>
                  <a:pt x="819" y="0"/>
                  <a:pt x="819" y="23"/>
                  <a:pt x="837" y="23"/>
                </a:cubicBezTo>
                <a:cubicBezTo>
                  <a:pt x="854" y="23"/>
                  <a:pt x="854" y="0"/>
                  <a:pt x="871" y="0"/>
                </a:cubicBezTo>
                <a:cubicBezTo>
                  <a:pt x="889" y="0"/>
                  <a:pt x="889" y="23"/>
                  <a:pt x="906" y="23"/>
                </a:cubicBezTo>
                <a:cubicBezTo>
                  <a:pt x="924" y="23"/>
                  <a:pt x="924" y="0"/>
                  <a:pt x="941" y="0"/>
                </a:cubicBezTo>
                <a:cubicBezTo>
                  <a:pt x="958" y="0"/>
                  <a:pt x="958" y="23"/>
                  <a:pt x="976" y="23"/>
                </a:cubicBezTo>
                <a:cubicBezTo>
                  <a:pt x="993" y="23"/>
                  <a:pt x="993" y="0"/>
                  <a:pt x="1011" y="0"/>
                </a:cubicBezTo>
                <a:cubicBezTo>
                  <a:pt x="1028" y="0"/>
                  <a:pt x="1028" y="23"/>
                  <a:pt x="1045" y="23"/>
                </a:cubicBezTo>
                <a:cubicBezTo>
                  <a:pt x="1063" y="23"/>
                  <a:pt x="1063" y="0"/>
                  <a:pt x="1080" y="0"/>
                </a:cubicBezTo>
                <a:cubicBezTo>
                  <a:pt x="1097" y="0"/>
                  <a:pt x="1097" y="23"/>
                  <a:pt x="1115" y="23"/>
                </a:cubicBezTo>
                <a:cubicBezTo>
                  <a:pt x="1132" y="23"/>
                  <a:pt x="1132" y="0"/>
                  <a:pt x="1150" y="0"/>
                </a:cubicBezTo>
                <a:cubicBezTo>
                  <a:pt x="1167" y="0"/>
                  <a:pt x="1167" y="23"/>
                  <a:pt x="1184" y="23"/>
                </a:cubicBezTo>
                <a:cubicBezTo>
                  <a:pt x="1202" y="23"/>
                  <a:pt x="1202" y="0"/>
                  <a:pt x="1219" y="0"/>
                </a:cubicBezTo>
                <a:cubicBezTo>
                  <a:pt x="1237" y="0"/>
                  <a:pt x="1237" y="23"/>
                  <a:pt x="1254" y="23"/>
                </a:cubicBezTo>
                <a:cubicBezTo>
                  <a:pt x="1271" y="23"/>
                  <a:pt x="1271" y="0"/>
                  <a:pt x="1289" y="0"/>
                </a:cubicBezTo>
                <a:cubicBezTo>
                  <a:pt x="1306" y="0"/>
                  <a:pt x="1306" y="23"/>
                  <a:pt x="1324" y="23"/>
                </a:cubicBezTo>
                <a:cubicBezTo>
                  <a:pt x="1341" y="23"/>
                  <a:pt x="1341" y="0"/>
                  <a:pt x="1358" y="0"/>
                </a:cubicBezTo>
                <a:cubicBezTo>
                  <a:pt x="1376" y="0"/>
                  <a:pt x="1376" y="23"/>
                  <a:pt x="1393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02"/>
          <p:cNvSpPr/>
          <p:nvPr/>
        </p:nvSpPr>
        <p:spPr>
          <a:xfrm>
            <a:off x="2076480" y="6481800"/>
            <a:ext cx="8042400" cy="37620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1393" h="65">
                <a:moveTo>
                  <a:pt x="1393" y="22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2"/>
                  <a:pt x="0" y="22"/>
                  <a:pt x="0" y="22"/>
                </a:cubicBezTo>
                <a:cubicBezTo>
                  <a:pt x="2" y="22"/>
                  <a:pt x="2" y="22"/>
                  <a:pt x="2" y="22"/>
                </a:cubicBezTo>
                <a:cubicBezTo>
                  <a:pt x="20" y="22"/>
                  <a:pt x="20" y="0"/>
                  <a:pt x="37" y="0"/>
                </a:cubicBezTo>
                <a:cubicBezTo>
                  <a:pt x="55" y="0"/>
                  <a:pt x="55" y="22"/>
                  <a:pt x="72" y="22"/>
                </a:cubicBezTo>
                <a:cubicBezTo>
                  <a:pt x="89" y="22"/>
                  <a:pt x="89" y="0"/>
                  <a:pt x="107" y="0"/>
                </a:cubicBezTo>
                <a:cubicBezTo>
                  <a:pt x="124" y="0"/>
                  <a:pt x="124" y="22"/>
                  <a:pt x="141" y="22"/>
                </a:cubicBezTo>
                <a:cubicBezTo>
                  <a:pt x="159" y="22"/>
                  <a:pt x="159" y="0"/>
                  <a:pt x="176" y="0"/>
                </a:cubicBezTo>
                <a:cubicBezTo>
                  <a:pt x="194" y="0"/>
                  <a:pt x="194" y="22"/>
                  <a:pt x="211" y="22"/>
                </a:cubicBezTo>
                <a:cubicBezTo>
                  <a:pt x="228" y="22"/>
                  <a:pt x="228" y="0"/>
                  <a:pt x="246" y="0"/>
                </a:cubicBezTo>
                <a:cubicBezTo>
                  <a:pt x="263" y="0"/>
                  <a:pt x="263" y="22"/>
                  <a:pt x="280" y="22"/>
                </a:cubicBezTo>
                <a:cubicBezTo>
                  <a:pt x="298" y="22"/>
                  <a:pt x="298" y="0"/>
                  <a:pt x="315" y="0"/>
                </a:cubicBezTo>
                <a:cubicBezTo>
                  <a:pt x="333" y="0"/>
                  <a:pt x="333" y="22"/>
                  <a:pt x="350" y="22"/>
                </a:cubicBezTo>
                <a:cubicBezTo>
                  <a:pt x="367" y="22"/>
                  <a:pt x="367" y="0"/>
                  <a:pt x="385" y="0"/>
                </a:cubicBezTo>
                <a:cubicBezTo>
                  <a:pt x="402" y="0"/>
                  <a:pt x="402" y="22"/>
                  <a:pt x="419" y="22"/>
                </a:cubicBezTo>
                <a:cubicBezTo>
                  <a:pt x="437" y="22"/>
                  <a:pt x="437" y="0"/>
                  <a:pt x="454" y="0"/>
                </a:cubicBezTo>
                <a:cubicBezTo>
                  <a:pt x="472" y="0"/>
                  <a:pt x="472" y="22"/>
                  <a:pt x="489" y="22"/>
                </a:cubicBezTo>
                <a:cubicBezTo>
                  <a:pt x="506" y="22"/>
                  <a:pt x="506" y="0"/>
                  <a:pt x="524" y="0"/>
                </a:cubicBezTo>
                <a:cubicBezTo>
                  <a:pt x="541" y="0"/>
                  <a:pt x="541" y="22"/>
                  <a:pt x="558" y="22"/>
                </a:cubicBezTo>
                <a:cubicBezTo>
                  <a:pt x="576" y="22"/>
                  <a:pt x="576" y="0"/>
                  <a:pt x="593" y="0"/>
                </a:cubicBezTo>
                <a:cubicBezTo>
                  <a:pt x="611" y="0"/>
                  <a:pt x="611" y="22"/>
                  <a:pt x="628" y="22"/>
                </a:cubicBezTo>
                <a:cubicBezTo>
                  <a:pt x="645" y="22"/>
                  <a:pt x="645" y="0"/>
                  <a:pt x="663" y="0"/>
                </a:cubicBezTo>
                <a:cubicBezTo>
                  <a:pt x="680" y="0"/>
                  <a:pt x="680" y="22"/>
                  <a:pt x="698" y="22"/>
                </a:cubicBezTo>
                <a:cubicBezTo>
                  <a:pt x="715" y="22"/>
                  <a:pt x="715" y="0"/>
                  <a:pt x="732" y="0"/>
                </a:cubicBezTo>
                <a:cubicBezTo>
                  <a:pt x="750" y="0"/>
                  <a:pt x="750" y="22"/>
                  <a:pt x="767" y="22"/>
                </a:cubicBezTo>
                <a:cubicBezTo>
                  <a:pt x="784" y="22"/>
                  <a:pt x="784" y="0"/>
                  <a:pt x="802" y="0"/>
                </a:cubicBezTo>
                <a:cubicBezTo>
                  <a:pt x="819" y="0"/>
                  <a:pt x="819" y="22"/>
                  <a:pt x="837" y="22"/>
                </a:cubicBezTo>
                <a:cubicBezTo>
                  <a:pt x="854" y="22"/>
                  <a:pt x="854" y="0"/>
                  <a:pt x="871" y="0"/>
                </a:cubicBezTo>
                <a:cubicBezTo>
                  <a:pt x="889" y="0"/>
                  <a:pt x="889" y="22"/>
                  <a:pt x="906" y="22"/>
                </a:cubicBezTo>
                <a:cubicBezTo>
                  <a:pt x="924" y="22"/>
                  <a:pt x="924" y="0"/>
                  <a:pt x="941" y="0"/>
                </a:cubicBezTo>
                <a:cubicBezTo>
                  <a:pt x="958" y="0"/>
                  <a:pt x="958" y="22"/>
                  <a:pt x="976" y="22"/>
                </a:cubicBezTo>
                <a:cubicBezTo>
                  <a:pt x="993" y="22"/>
                  <a:pt x="993" y="0"/>
                  <a:pt x="1011" y="0"/>
                </a:cubicBezTo>
                <a:cubicBezTo>
                  <a:pt x="1028" y="0"/>
                  <a:pt x="1028" y="22"/>
                  <a:pt x="1045" y="22"/>
                </a:cubicBezTo>
                <a:cubicBezTo>
                  <a:pt x="1063" y="22"/>
                  <a:pt x="1063" y="0"/>
                  <a:pt x="1080" y="0"/>
                </a:cubicBezTo>
                <a:cubicBezTo>
                  <a:pt x="1097" y="0"/>
                  <a:pt x="1097" y="22"/>
                  <a:pt x="1115" y="22"/>
                </a:cubicBezTo>
                <a:cubicBezTo>
                  <a:pt x="1132" y="22"/>
                  <a:pt x="1132" y="0"/>
                  <a:pt x="1150" y="0"/>
                </a:cubicBezTo>
                <a:cubicBezTo>
                  <a:pt x="1167" y="0"/>
                  <a:pt x="1167" y="22"/>
                  <a:pt x="1184" y="22"/>
                </a:cubicBezTo>
                <a:cubicBezTo>
                  <a:pt x="1202" y="22"/>
                  <a:pt x="1202" y="0"/>
                  <a:pt x="1219" y="0"/>
                </a:cubicBezTo>
                <a:cubicBezTo>
                  <a:pt x="1237" y="0"/>
                  <a:pt x="1237" y="22"/>
                  <a:pt x="1254" y="22"/>
                </a:cubicBezTo>
                <a:cubicBezTo>
                  <a:pt x="1271" y="22"/>
                  <a:pt x="1271" y="0"/>
                  <a:pt x="1289" y="0"/>
                </a:cubicBezTo>
                <a:cubicBezTo>
                  <a:pt x="1306" y="0"/>
                  <a:pt x="1306" y="22"/>
                  <a:pt x="1324" y="22"/>
                </a:cubicBezTo>
                <a:cubicBezTo>
                  <a:pt x="1341" y="22"/>
                  <a:pt x="1341" y="0"/>
                  <a:pt x="1358" y="0"/>
                </a:cubicBezTo>
                <a:cubicBezTo>
                  <a:pt x="1376" y="0"/>
                  <a:pt x="1376" y="22"/>
                  <a:pt x="1393" y="22"/>
                </a:cubicBezTo>
                <a:close/>
              </a:path>
            </a:pathLst>
          </a:custGeom>
          <a:solidFill>
            <a:srgbClr val="39a1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03"/>
          <p:cNvSpPr/>
          <p:nvPr/>
        </p:nvSpPr>
        <p:spPr>
          <a:xfrm>
            <a:off x="2076480" y="6654960"/>
            <a:ext cx="8042400" cy="20304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393" h="35">
                <a:moveTo>
                  <a:pt x="1358" y="0"/>
                </a:moveTo>
                <a:cubicBezTo>
                  <a:pt x="1341" y="0"/>
                  <a:pt x="1341" y="22"/>
                  <a:pt x="1324" y="22"/>
                </a:cubicBezTo>
                <a:cubicBezTo>
                  <a:pt x="1306" y="22"/>
                  <a:pt x="1306" y="0"/>
                  <a:pt x="1289" y="0"/>
                </a:cubicBezTo>
                <a:cubicBezTo>
                  <a:pt x="1271" y="0"/>
                  <a:pt x="1271" y="22"/>
                  <a:pt x="1254" y="22"/>
                </a:cubicBezTo>
                <a:cubicBezTo>
                  <a:pt x="1237" y="22"/>
                  <a:pt x="1237" y="0"/>
                  <a:pt x="1219" y="0"/>
                </a:cubicBezTo>
                <a:cubicBezTo>
                  <a:pt x="1202" y="0"/>
                  <a:pt x="1202" y="22"/>
                  <a:pt x="1184" y="22"/>
                </a:cubicBezTo>
                <a:cubicBezTo>
                  <a:pt x="1167" y="22"/>
                  <a:pt x="1167" y="0"/>
                  <a:pt x="1150" y="0"/>
                </a:cubicBezTo>
                <a:cubicBezTo>
                  <a:pt x="1132" y="0"/>
                  <a:pt x="1132" y="22"/>
                  <a:pt x="1115" y="22"/>
                </a:cubicBezTo>
                <a:cubicBezTo>
                  <a:pt x="1097" y="22"/>
                  <a:pt x="1097" y="0"/>
                  <a:pt x="1080" y="0"/>
                </a:cubicBezTo>
                <a:cubicBezTo>
                  <a:pt x="1063" y="0"/>
                  <a:pt x="1063" y="22"/>
                  <a:pt x="1045" y="22"/>
                </a:cubicBezTo>
                <a:cubicBezTo>
                  <a:pt x="1028" y="22"/>
                  <a:pt x="1028" y="0"/>
                  <a:pt x="1011" y="0"/>
                </a:cubicBezTo>
                <a:cubicBezTo>
                  <a:pt x="993" y="0"/>
                  <a:pt x="993" y="22"/>
                  <a:pt x="976" y="22"/>
                </a:cubicBezTo>
                <a:cubicBezTo>
                  <a:pt x="958" y="22"/>
                  <a:pt x="958" y="0"/>
                  <a:pt x="941" y="0"/>
                </a:cubicBezTo>
                <a:cubicBezTo>
                  <a:pt x="924" y="0"/>
                  <a:pt x="924" y="22"/>
                  <a:pt x="906" y="22"/>
                </a:cubicBezTo>
                <a:cubicBezTo>
                  <a:pt x="889" y="22"/>
                  <a:pt x="889" y="0"/>
                  <a:pt x="871" y="0"/>
                </a:cubicBezTo>
                <a:cubicBezTo>
                  <a:pt x="854" y="0"/>
                  <a:pt x="854" y="22"/>
                  <a:pt x="837" y="22"/>
                </a:cubicBezTo>
                <a:cubicBezTo>
                  <a:pt x="819" y="22"/>
                  <a:pt x="819" y="0"/>
                  <a:pt x="802" y="0"/>
                </a:cubicBezTo>
                <a:cubicBezTo>
                  <a:pt x="784" y="0"/>
                  <a:pt x="784" y="22"/>
                  <a:pt x="767" y="22"/>
                </a:cubicBezTo>
                <a:cubicBezTo>
                  <a:pt x="750" y="22"/>
                  <a:pt x="750" y="0"/>
                  <a:pt x="732" y="0"/>
                </a:cubicBezTo>
                <a:cubicBezTo>
                  <a:pt x="715" y="0"/>
                  <a:pt x="715" y="22"/>
                  <a:pt x="698" y="22"/>
                </a:cubicBezTo>
                <a:cubicBezTo>
                  <a:pt x="680" y="22"/>
                  <a:pt x="680" y="0"/>
                  <a:pt x="663" y="0"/>
                </a:cubicBezTo>
                <a:cubicBezTo>
                  <a:pt x="645" y="0"/>
                  <a:pt x="645" y="22"/>
                  <a:pt x="628" y="22"/>
                </a:cubicBezTo>
                <a:cubicBezTo>
                  <a:pt x="611" y="22"/>
                  <a:pt x="611" y="0"/>
                  <a:pt x="593" y="0"/>
                </a:cubicBezTo>
                <a:cubicBezTo>
                  <a:pt x="576" y="0"/>
                  <a:pt x="576" y="22"/>
                  <a:pt x="558" y="22"/>
                </a:cubicBezTo>
                <a:cubicBezTo>
                  <a:pt x="541" y="22"/>
                  <a:pt x="541" y="0"/>
                  <a:pt x="524" y="0"/>
                </a:cubicBezTo>
                <a:cubicBezTo>
                  <a:pt x="506" y="0"/>
                  <a:pt x="506" y="22"/>
                  <a:pt x="489" y="22"/>
                </a:cubicBezTo>
                <a:cubicBezTo>
                  <a:pt x="472" y="22"/>
                  <a:pt x="472" y="0"/>
                  <a:pt x="454" y="0"/>
                </a:cubicBezTo>
                <a:cubicBezTo>
                  <a:pt x="437" y="0"/>
                  <a:pt x="437" y="22"/>
                  <a:pt x="419" y="22"/>
                </a:cubicBezTo>
                <a:cubicBezTo>
                  <a:pt x="402" y="22"/>
                  <a:pt x="402" y="0"/>
                  <a:pt x="385" y="0"/>
                </a:cubicBezTo>
                <a:cubicBezTo>
                  <a:pt x="367" y="0"/>
                  <a:pt x="367" y="22"/>
                  <a:pt x="350" y="22"/>
                </a:cubicBezTo>
                <a:cubicBezTo>
                  <a:pt x="333" y="22"/>
                  <a:pt x="333" y="0"/>
                  <a:pt x="315" y="0"/>
                </a:cubicBezTo>
                <a:cubicBezTo>
                  <a:pt x="298" y="0"/>
                  <a:pt x="298" y="22"/>
                  <a:pt x="280" y="22"/>
                </a:cubicBezTo>
                <a:cubicBezTo>
                  <a:pt x="263" y="22"/>
                  <a:pt x="263" y="0"/>
                  <a:pt x="246" y="0"/>
                </a:cubicBezTo>
                <a:cubicBezTo>
                  <a:pt x="228" y="0"/>
                  <a:pt x="228" y="22"/>
                  <a:pt x="211" y="22"/>
                </a:cubicBezTo>
                <a:cubicBezTo>
                  <a:pt x="194" y="22"/>
                  <a:pt x="194" y="0"/>
                  <a:pt x="176" y="0"/>
                </a:cubicBezTo>
                <a:cubicBezTo>
                  <a:pt x="159" y="0"/>
                  <a:pt x="159" y="22"/>
                  <a:pt x="141" y="22"/>
                </a:cubicBezTo>
                <a:cubicBezTo>
                  <a:pt x="124" y="22"/>
                  <a:pt x="124" y="0"/>
                  <a:pt x="107" y="0"/>
                </a:cubicBezTo>
                <a:cubicBezTo>
                  <a:pt x="89" y="0"/>
                  <a:pt x="89" y="22"/>
                  <a:pt x="72" y="22"/>
                </a:cubicBezTo>
                <a:cubicBezTo>
                  <a:pt x="55" y="22"/>
                  <a:pt x="55" y="0"/>
                  <a:pt x="37" y="0"/>
                </a:cubicBezTo>
                <a:cubicBezTo>
                  <a:pt x="20" y="0"/>
                  <a:pt x="20" y="22"/>
                  <a:pt x="2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5"/>
                  <a:pt x="0" y="35"/>
                  <a:pt x="0" y="35"/>
                </a:cubicBezTo>
                <a:cubicBezTo>
                  <a:pt x="1393" y="35"/>
                  <a:pt x="1393" y="35"/>
                  <a:pt x="1393" y="35"/>
                </a:cubicBezTo>
                <a:cubicBezTo>
                  <a:pt x="1393" y="22"/>
                  <a:pt x="1393" y="22"/>
                  <a:pt x="1393" y="22"/>
                </a:cubicBezTo>
                <a:cubicBezTo>
                  <a:pt x="1376" y="22"/>
                  <a:pt x="1376" y="0"/>
                  <a:pt x="1358" y="0"/>
                </a:cubicBezTo>
                <a:close/>
              </a:path>
            </a:pathLst>
          </a:custGeom>
          <a:solidFill>
            <a:srgbClr val="005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04"/>
          <p:cNvSpPr/>
          <p:nvPr/>
        </p:nvSpPr>
        <p:spPr>
          <a:xfrm>
            <a:off x="7331040" y="428940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05"/>
          <p:cNvSpPr/>
          <p:nvPr/>
        </p:nvSpPr>
        <p:spPr>
          <a:xfrm>
            <a:off x="6400800" y="483228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06"/>
          <p:cNvSpPr/>
          <p:nvPr/>
        </p:nvSpPr>
        <p:spPr>
          <a:xfrm>
            <a:off x="6072120" y="5291280"/>
            <a:ext cx="208080" cy="1029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07"/>
          <p:cNvSpPr/>
          <p:nvPr/>
        </p:nvSpPr>
        <p:spPr>
          <a:xfrm>
            <a:off x="6632640" y="5527800"/>
            <a:ext cx="183960" cy="91800"/>
          </a:xfrm>
          <a:custGeom>
            <a:avLst/>
            <a:gdLst>
              <a:gd name="textAreaLeft" fmla="*/ 0 w 183960"/>
              <a:gd name="textAreaRight" fmla="*/ 184320 w 18396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4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08"/>
          <p:cNvSpPr/>
          <p:nvPr/>
        </p:nvSpPr>
        <p:spPr>
          <a:xfrm>
            <a:off x="6926400" y="5280120"/>
            <a:ext cx="185760" cy="92160"/>
          </a:xfrm>
          <a:custGeom>
            <a:avLst/>
            <a:gdLst>
              <a:gd name="textAreaLeft" fmla="*/ 0 w 185760"/>
              <a:gd name="textAreaRight" fmla="*/ 186120 w 1857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09"/>
          <p:cNvSpPr/>
          <p:nvPr/>
        </p:nvSpPr>
        <p:spPr>
          <a:xfrm>
            <a:off x="6926400" y="5689440"/>
            <a:ext cx="185760" cy="92160"/>
          </a:xfrm>
          <a:custGeom>
            <a:avLst/>
            <a:gdLst>
              <a:gd name="textAreaLeft" fmla="*/ 0 w 185760"/>
              <a:gd name="textAreaRight" fmla="*/ 186120 w 1857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0"/>
          <p:cNvSpPr/>
          <p:nvPr/>
        </p:nvSpPr>
        <p:spPr>
          <a:xfrm>
            <a:off x="6908760" y="3733920"/>
            <a:ext cx="196920" cy="98280"/>
          </a:xfrm>
          <a:custGeom>
            <a:avLst/>
            <a:gdLst>
              <a:gd name="textAreaLeft" fmla="*/ 0 w 196920"/>
              <a:gd name="textAreaRight" fmla="*/ 197280 w 19692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34" h="17">
                <a:moveTo>
                  <a:pt x="17" y="0"/>
                </a:moveTo>
                <a:cubicBezTo>
                  <a:pt x="7" y="0"/>
                  <a:pt x="0" y="8"/>
                  <a:pt x="0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8"/>
                  <a:pt x="26" y="0"/>
                  <a:pt x="17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11"/>
          <p:cNvSpPr/>
          <p:nvPr/>
        </p:nvSpPr>
        <p:spPr>
          <a:xfrm>
            <a:off x="6175440" y="5965920"/>
            <a:ext cx="69840" cy="163440"/>
          </a:xfrm>
          <a:custGeom>
            <a:avLst/>
            <a:gdLst>
              <a:gd name="textAreaLeft" fmla="*/ 0 w 69840"/>
              <a:gd name="textAreaRight" fmla="*/ 70200 w 698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2"/>
          <p:cNvSpPr/>
          <p:nvPr/>
        </p:nvSpPr>
        <p:spPr>
          <a:xfrm>
            <a:off x="6210360" y="6094440"/>
            <a:ext cx="39600" cy="6840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13"/>
          <p:cNvSpPr/>
          <p:nvPr/>
        </p:nvSpPr>
        <p:spPr>
          <a:xfrm>
            <a:off x="5610240" y="6002280"/>
            <a:ext cx="162000" cy="98640"/>
          </a:xfrm>
          <a:custGeom>
            <a:avLst/>
            <a:gdLst>
              <a:gd name="textAreaLeft" fmla="*/ 0 w 162000"/>
              <a:gd name="textAreaRight" fmla="*/ 162360 w 16200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8" h="17">
                <a:moveTo>
                  <a:pt x="4" y="13"/>
                </a:moveTo>
                <a:cubicBezTo>
                  <a:pt x="3" y="13"/>
                  <a:pt x="2" y="13"/>
                  <a:pt x="0" y="13"/>
                </a:cubicBezTo>
                <a:cubicBezTo>
                  <a:pt x="3" y="15"/>
                  <a:pt x="7" y="17"/>
                  <a:pt x="11" y="17"/>
                </a:cubicBezTo>
                <a:cubicBezTo>
                  <a:pt x="20" y="17"/>
                  <a:pt x="28" y="9"/>
                  <a:pt x="28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14"/>
          <p:cNvSpPr/>
          <p:nvPr/>
        </p:nvSpPr>
        <p:spPr>
          <a:xfrm>
            <a:off x="6026040" y="6041880"/>
            <a:ext cx="81000" cy="2192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5"/>
          <p:cNvSpPr/>
          <p:nvPr/>
        </p:nvSpPr>
        <p:spPr>
          <a:xfrm>
            <a:off x="5800680" y="5989680"/>
            <a:ext cx="79560" cy="2714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16"/>
          <p:cNvSpPr/>
          <p:nvPr/>
        </p:nvSpPr>
        <p:spPr>
          <a:xfrm>
            <a:off x="5864400" y="5891040"/>
            <a:ext cx="323640" cy="370080"/>
          </a:xfrm>
          <a:custGeom>
            <a:avLst/>
            <a:gdLst>
              <a:gd name="textAreaLeft" fmla="*/ 0 w 323640"/>
              <a:gd name="textAreaRight" fmla="*/ 324000 w 32364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6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2" y="34"/>
                </a:cubicBezTo>
                <a:cubicBezTo>
                  <a:pt x="35" y="34"/>
                  <a:pt x="35" y="34"/>
                  <a:pt x="35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6" y="34"/>
                  <a:pt x="56" y="34"/>
                  <a:pt x="56" y="34"/>
                </a:cubicBezTo>
                <a:cubicBezTo>
                  <a:pt x="56" y="26"/>
                  <a:pt x="56" y="26"/>
                  <a:pt x="56" y="26"/>
                </a:cubicBezTo>
                <a:cubicBezTo>
                  <a:pt x="56" y="17"/>
                  <a:pt x="56" y="17"/>
                  <a:pt x="56" y="17"/>
                </a:cubicBezTo>
                <a:cubicBezTo>
                  <a:pt x="56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117"/>
          <p:cNvSpPr/>
          <p:nvPr/>
        </p:nvSpPr>
        <p:spPr>
          <a:xfrm>
            <a:off x="5864400" y="6105600"/>
            <a:ext cx="74520" cy="87120"/>
          </a:xfrm>
          <a:custGeom>
            <a:avLst/>
            <a:gdLst>
              <a:gd name="textAreaLeft" fmla="*/ 0 w 74520"/>
              <a:gd name="textAreaRight" fmla="*/ 74880 w 7452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3" h="15">
                <a:moveTo>
                  <a:pt x="13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3" y="15"/>
                  <a:pt x="13" y="15"/>
                  <a:pt x="13" y="15"/>
                </a:cubicBezTo>
                <a:lnTo>
                  <a:pt x="13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18"/>
          <p:cNvSpPr/>
          <p:nvPr/>
        </p:nvSpPr>
        <p:spPr>
          <a:xfrm>
            <a:off x="586440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19"/>
          <p:cNvSpPr/>
          <p:nvPr/>
        </p:nvSpPr>
        <p:spPr>
          <a:xfrm>
            <a:off x="5684760" y="5694480"/>
            <a:ext cx="138240" cy="284040"/>
          </a:xfrm>
          <a:custGeom>
            <a:avLst/>
            <a:gdLst>
              <a:gd name="textAreaLeft" fmla="*/ 0 w 138240"/>
              <a:gd name="textAreaRight" fmla="*/ 138600 w 1382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5730840" y="5816520"/>
            <a:ext cx="168480" cy="365040"/>
          </a:xfrm>
          <a:custGeom>
            <a:avLst/>
            <a:gdLst>
              <a:gd name="textAreaLeft" fmla="*/ 0 w 168480"/>
              <a:gd name="textAreaRight" fmla="*/ 168840 w 16848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9" h="63">
                <a:moveTo>
                  <a:pt x="29" y="23"/>
                </a:moveTo>
                <a:cubicBezTo>
                  <a:pt x="29" y="6"/>
                  <a:pt x="29" y="6"/>
                  <a:pt x="29" y="6"/>
                </a:cubicBezTo>
                <a:cubicBezTo>
                  <a:pt x="29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3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4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5" y="32"/>
                  <a:pt x="29" y="28"/>
                  <a:pt x="29" y="23"/>
                </a:cubicBez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21"/>
          <p:cNvSpPr/>
          <p:nvPr/>
        </p:nvSpPr>
        <p:spPr>
          <a:xfrm>
            <a:off x="5846760" y="5694480"/>
            <a:ext cx="138240" cy="284040"/>
          </a:xfrm>
          <a:custGeom>
            <a:avLst/>
            <a:gdLst>
              <a:gd name="textAreaLeft" fmla="*/ 0 w 138240"/>
              <a:gd name="textAreaRight" fmla="*/ 138600 w 1382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22"/>
          <p:cNvSpPr/>
          <p:nvPr/>
        </p:nvSpPr>
        <p:spPr>
          <a:xfrm>
            <a:off x="5789520" y="5897520"/>
            <a:ext cx="2880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123"/>
          <p:cNvSpPr/>
          <p:nvPr/>
        </p:nvSpPr>
        <p:spPr>
          <a:xfrm>
            <a:off x="5684760" y="6002280"/>
            <a:ext cx="155520" cy="98640"/>
          </a:xfrm>
          <a:custGeom>
            <a:avLst/>
            <a:gdLst>
              <a:gd name="textAreaLeft" fmla="*/ 0 w 155520"/>
              <a:gd name="textAreaRight" fmla="*/ 155880 w 1555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3" y="13"/>
                </a:moveTo>
                <a:cubicBezTo>
                  <a:pt x="2" y="13"/>
                  <a:pt x="1" y="13"/>
                  <a:pt x="0" y="13"/>
                </a:cubicBezTo>
                <a:cubicBezTo>
                  <a:pt x="2" y="15"/>
                  <a:pt x="6" y="17"/>
                  <a:pt x="10" y="17"/>
                </a:cubicBezTo>
                <a:cubicBezTo>
                  <a:pt x="19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7"/>
                  <a:pt x="11" y="13"/>
                  <a:pt x="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4"/>
          <p:cNvSpPr/>
          <p:nvPr/>
        </p:nvSpPr>
        <p:spPr>
          <a:xfrm>
            <a:off x="6932520" y="6094440"/>
            <a:ext cx="39960" cy="6840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25"/>
          <p:cNvSpPr/>
          <p:nvPr/>
        </p:nvSpPr>
        <p:spPr>
          <a:xfrm>
            <a:off x="6891480" y="5965920"/>
            <a:ext cx="69840" cy="163440"/>
          </a:xfrm>
          <a:custGeom>
            <a:avLst/>
            <a:gdLst>
              <a:gd name="textAreaLeft" fmla="*/ 0 w 69840"/>
              <a:gd name="textAreaRight" fmla="*/ 70200 w 698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26"/>
          <p:cNvSpPr/>
          <p:nvPr/>
        </p:nvSpPr>
        <p:spPr>
          <a:xfrm>
            <a:off x="6330960" y="6002280"/>
            <a:ext cx="155520" cy="98640"/>
          </a:xfrm>
          <a:custGeom>
            <a:avLst/>
            <a:gdLst>
              <a:gd name="textAreaLeft" fmla="*/ 0 w 155520"/>
              <a:gd name="textAreaRight" fmla="*/ 155880 w 1555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27"/>
          <p:cNvSpPr/>
          <p:nvPr/>
        </p:nvSpPr>
        <p:spPr>
          <a:xfrm>
            <a:off x="6746760" y="6041880"/>
            <a:ext cx="81000" cy="2192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28"/>
          <p:cNvSpPr/>
          <p:nvPr/>
        </p:nvSpPr>
        <p:spPr>
          <a:xfrm>
            <a:off x="6516720" y="5989680"/>
            <a:ext cx="85680" cy="2714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29"/>
          <p:cNvSpPr/>
          <p:nvPr/>
        </p:nvSpPr>
        <p:spPr>
          <a:xfrm>
            <a:off x="6585120" y="5891040"/>
            <a:ext cx="317160" cy="370080"/>
          </a:xfrm>
          <a:custGeom>
            <a:avLst/>
            <a:gdLst>
              <a:gd name="textAreaLeft" fmla="*/ 0 w 317160"/>
              <a:gd name="textAreaRight" fmla="*/ 317160 w 31716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5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1" y="34"/>
                </a:cubicBezTo>
                <a:cubicBezTo>
                  <a:pt x="34" y="34"/>
                  <a:pt x="34" y="34"/>
                  <a:pt x="34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5" y="64"/>
                  <a:pt x="55" y="64"/>
                  <a:pt x="55" y="64"/>
                </a:cubicBezTo>
                <a:cubicBezTo>
                  <a:pt x="55" y="34"/>
                  <a:pt x="55" y="34"/>
                  <a:pt x="55" y="34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17"/>
                  <a:pt x="55" y="17"/>
                  <a:pt x="55" y="17"/>
                </a:cubicBezTo>
                <a:cubicBezTo>
                  <a:pt x="55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30"/>
          <p:cNvSpPr/>
          <p:nvPr/>
        </p:nvSpPr>
        <p:spPr>
          <a:xfrm>
            <a:off x="6585120" y="6105600"/>
            <a:ext cx="69840" cy="87120"/>
          </a:xfrm>
          <a:custGeom>
            <a:avLst/>
            <a:gdLst>
              <a:gd name="textAreaLeft" fmla="*/ 0 w 69840"/>
              <a:gd name="textAreaRight" fmla="*/ 70200 w 6984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2" h="15">
                <a:moveTo>
                  <a:pt x="1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2" y="15"/>
                  <a:pt x="12" y="15"/>
                  <a:pt x="12" y="15"/>
                </a:cubicBezTo>
                <a:lnTo>
                  <a:pt x="12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31"/>
          <p:cNvSpPr/>
          <p:nvPr/>
        </p:nvSpPr>
        <p:spPr>
          <a:xfrm>
            <a:off x="6585120" y="5891040"/>
            <a:ext cx="75960" cy="122400"/>
          </a:xfrm>
          <a:custGeom>
            <a:avLst/>
            <a:gdLst>
              <a:gd name="textAreaLeft" fmla="*/ 0 w 75960"/>
              <a:gd name="textAreaRight" fmla="*/ 76320 w 7596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32"/>
          <p:cNvSpPr/>
          <p:nvPr/>
        </p:nvSpPr>
        <p:spPr>
          <a:xfrm>
            <a:off x="6400800" y="5694480"/>
            <a:ext cx="146160" cy="284040"/>
          </a:xfrm>
          <a:custGeom>
            <a:avLst/>
            <a:gdLst>
              <a:gd name="textAreaLeft" fmla="*/ 0 w 146160"/>
              <a:gd name="textAreaRight" fmla="*/ 146520 w 146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33"/>
          <p:cNvSpPr/>
          <p:nvPr/>
        </p:nvSpPr>
        <p:spPr>
          <a:xfrm>
            <a:off x="6448320" y="5816520"/>
            <a:ext cx="173160" cy="365040"/>
          </a:xfrm>
          <a:custGeom>
            <a:avLst/>
            <a:gdLst>
              <a:gd name="textAreaLeft" fmla="*/ 0 w 173160"/>
              <a:gd name="textAreaRight" fmla="*/ 173520 w 1731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30" h="63">
                <a:moveTo>
                  <a:pt x="30" y="23"/>
                </a:moveTo>
                <a:cubicBezTo>
                  <a:pt x="30" y="6"/>
                  <a:pt x="30" y="6"/>
                  <a:pt x="30" y="6"/>
                </a:cubicBezTo>
                <a:cubicBezTo>
                  <a:pt x="30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4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5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6" y="32"/>
                  <a:pt x="30" y="28"/>
                  <a:pt x="30" y="23"/>
                </a:cubicBez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34"/>
          <p:cNvSpPr/>
          <p:nvPr/>
        </p:nvSpPr>
        <p:spPr>
          <a:xfrm>
            <a:off x="6562800" y="5694480"/>
            <a:ext cx="144360" cy="284040"/>
          </a:xfrm>
          <a:custGeom>
            <a:avLst/>
            <a:gdLst>
              <a:gd name="textAreaLeft" fmla="*/ 0 w 144360"/>
              <a:gd name="textAreaRight" fmla="*/ 144360 w 1443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35"/>
          <p:cNvSpPr/>
          <p:nvPr/>
        </p:nvSpPr>
        <p:spPr>
          <a:xfrm>
            <a:off x="6510240" y="5897520"/>
            <a:ext cx="2376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36"/>
          <p:cNvSpPr/>
          <p:nvPr/>
        </p:nvSpPr>
        <p:spPr>
          <a:xfrm>
            <a:off x="6400800" y="6002280"/>
            <a:ext cx="155520" cy="98640"/>
          </a:xfrm>
          <a:custGeom>
            <a:avLst/>
            <a:gdLst>
              <a:gd name="textAreaLeft" fmla="*/ 0 w 155520"/>
              <a:gd name="textAreaRight" fmla="*/ 155880 w 1555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37"/>
          <p:cNvSpPr/>
          <p:nvPr/>
        </p:nvSpPr>
        <p:spPr>
          <a:xfrm>
            <a:off x="9074160" y="2398680"/>
            <a:ext cx="650880" cy="654120"/>
          </a:xfrm>
          <a:custGeom>
            <a:avLst/>
            <a:gdLst/>
            <a:ahLst/>
            <a:rect l="l" t="t" r="r" b="b"/>
            <a:pathLst>
              <a:path w="113" h="113">
                <a:moveTo>
                  <a:pt x="57" y="113"/>
                </a:moveTo>
                <a:cubicBezTo>
                  <a:pt x="26" y="113"/>
                  <a:pt x="0" y="88"/>
                  <a:pt x="0" y="57"/>
                </a:cubicBezTo>
                <a:cubicBezTo>
                  <a:pt x="0" y="26"/>
                  <a:pt x="26" y="0"/>
                  <a:pt x="57" y="0"/>
                </a:cubicBezTo>
                <a:cubicBezTo>
                  <a:pt x="88" y="0"/>
                  <a:pt x="113" y="26"/>
                  <a:pt x="113" y="57"/>
                </a:cubicBezTo>
                <a:cubicBezTo>
                  <a:pt x="113" y="88"/>
                  <a:pt x="88" y="113"/>
                  <a:pt x="57" y="113"/>
                </a:cubicBezTo>
                <a:close/>
                <a:moveTo>
                  <a:pt x="57" y="12"/>
                </a:moveTo>
                <a:cubicBezTo>
                  <a:pt x="32" y="12"/>
                  <a:pt x="12" y="32"/>
                  <a:pt x="12" y="57"/>
                </a:cubicBezTo>
                <a:cubicBezTo>
                  <a:pt x="12" y="81"/>
                  <a:pt x="32" y="101"/>
                  <a:pt x="57" y="101"/>
                </a:cubicBezTo>
                <a:cubicBezTo>
                  <a:pt x="81" y="101"/>
                  <a:pt x="101" y="81"/>
                  <a:pt x="101" y="57"/>
                </a:cubicBezTo>
                <a:cubicBezTo>
                  <a:pt x="101" y="32"/>
                  <a:pt x="81" y="12"/>
                  <a:pt x="57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38"/>
          <p:cNvSpPr/>
          <p:nvPr/>
        </p:nvSpPr>
        <p:spPr>
          <a:xfrm>
            <a:off x="9223200" y="2544840"/>
            <a:ext cx="365400" cy="363600"/>
          </a:xfrm>
          <a:prstGeom prst="ellipse">
            <a:avLst/>
          </a:prstGeom>
          <a:solidFill>
            <a:srgbClr val="fbb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39"/>
          <p:cNvSpPr/>
          <p:nvPr/>
        </p:nvSpPr>
        <p:spPr>
          <a:xfrm>
            <a:off x="3740040" y="3098880"/>
            <a:ext cx="1136880" cy="554040"/>
          </a:xfrm>
          <a:custGeom>
            <a:avLst/>
            <a:gdLst>
              <a:gd name="textAreaLeft" fmla="*/ 0 w 1136880"/>
              <a:gd name="textAreaRight" fmla="*/ 1137240 w 113688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97" h="96">
                <a:moveTo>
                  <a:pt x="180" y="63"/>
                </a:moveTo>
                <a:cubicBezTo>
                  <a:pt x="178" y="63"/>
                  <a:pt x="176" y="64"/>
                  <a:pt x="174" y="64"/>
                </a:cubicBezTo>
                <a:cubicBezTo>
                  <a:pt x="173" y="50"/>
                  <a:pt x="161" y="40"/>
                  <a:pt x="147" y="40"/>
                </a:cubicBezTo>
                <a:cubicBezTo>
                  <a:pt x="145" y="40"/>
                  <a:pt x="142" y="40"/>
                  <a:pt x="140" y="41"/>
                </a:cubicBezTo>
                <a:cubicBezTo>
                  <a:pt x="140" y="41"/>
                  <a:pt x="140" y="40"/>
                  <a:pt x="140" y="40"/>
                </a:cubicBezTo>
                <a:cubicBezTo>
                  <a:pt x="139" y="18"/>
                  <a:pt x="121" y="0"/>
                  <a:pt x="99" y="1"/>
                </a:cubicBezTo>
                <a:cubicBezTo>
                  <a:pt x="77" y="1"/>
                  <a:pt x="59" y="19"/>
                  <a:pt x="60" y="41"/>
                </a:cubicBezTo>
                <a:cubicBezTo>
                  <a:pt x="60" y="42"/>
                  <a:pt x="60" y="43"/>
                  <a:pt x="60" y="44"/>
                </a:cubicBezTo>
                <a:cubicBezTo>
                  <a:pt x="56" y="42"/>
                  <a:pt x="52" y="41"/>
                  <a:pt x="47" y="42"/>
                </a:cubicBezTo>
                <a:cubicBezTo>
                  <a:pt x="34" y="42"/>
                  <a:pt x="23" y="52"/>
                  <a:pt x="21" y="65"/>
                </a:cubicBezTo>
                <a:cubicBezTo>
                  <a:pt x="20" y="64"/>
                  <a:pt x="18" y="64"/>
                  <a:pt x="16" y="64"/>
                </a:cubicBezTo>
                <a:cubicBezTo>
                  <a:pt x="7" y="64"/>
                  <a:pt x="0" y="72"/>
                  <a:pt x="0" y="80"/>
                </a:cubicBezTo>
                <a:cubicBezTo>
                  <a:pt x="0" y="89"/>
                  <a:pt x="8" y="96"/>
                  <a:pt x="16" y="96"/>
                </a:cubicBezTo>
                <a:cubicBezTo>
                  <a:pt x="22" y="96"/>
                  <a:pt x="174" y="95"/>
                  <a:pt x="181" y="95"/>
                </a:cubicBezTo>
                <a:cubicBezTo>
                  <a:pt x="190" y="95"/>
                  <a:pt x="197" y="88"/>
                  <a:pt x="197" y="79"/>
                </a:cubicBezTo>
                <a:cubicBezTo>
                  <a:pt x="196" y="70"/>
                  <a:pt x="189" y="63"/>
                  <a:pt x="180" y="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40"/>
          <p:cNvSpPr/>
          <p:nvPr/>
        </p:nvSpPr>
        <p:spPr>
          <a:xfrm>
            <a:off x="4316400" y="3317760"/>
            <a:ext cx="1138320" cy="554040"/>
          </a:xfrm>
          <a:custGeom>
            <a:avLst/>
            <a:gdLst>
              <a:gd name="textAreaLeft" fmla="*/ 0 w 1138320"/>
              <a:gd name="textAreaRight" fmla="*/ 1138680 w 113832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97" h="96">
                <a:moveTo>
                  <a:pt x="180" y="64"/>
                </a:moveTo>
                <a:cubicBezTo>
                  <a:pt x="178" y="64"/>
                  <a:pt x="176" y="64"/>
                  <a:pt x="175" y="65"/>
                </a:cubicBezTo>
                <a:cubicBezTo>
                  <a:pt x="173" y="51"/>
                  <a:pt x="162" y="40"/>
                  <a:pt x="147" y="40"/>
                </a:cubicBezTo>
                <a:cubicBezTo>
                  <a:pt x="145" y="40"/>
                  <a:pt x="142" y="40"/>
                  <a:pt x="140" y="41"/>
                </a:cubicBezTo>
                <a:cubicBezTo>
                  <a:pt x="140" y="41"/>
                  <a:pt x="140" y="40"/>
                  <a:pt x="140" y="40"/>
                </a:cubicBezTo>
                <a:cubicBezTo>
                  <a:pt x="140" y="18"/>
                  <a:pt x="122" y="0"/>
                  <a:pt x="100" y="1"/>
                </a:cubicBezTo>
                <a:cubicBezTo>
                  <a:pt x="78" y="1"/>
                  <a:pt x="60" y="19"/>
                  <a:pt x="60" y="41"/>
                </a:cubicBezTo>
                <a:cubicBezTo>
                  <a:pt x="60" y="42"/>
                  <a:pt x="60" y="43"/>
                  <a:pt x="60" y="44"/>
                </a:cubicBezTo>
                <a:cubicBezTo>
                  <a:pt x="56" y="42"/>
                  <a:pt x="52" y="41"/>
                  <a:pt x="48" y="41"/>
                </a:cubicBezTo>
                <a:cubicBezTo>
                  <a:pt x="34" y="41"/>
                  <a:pt x="23" y="51"/>
                  <a:pt x="21" y="64"/>
                </a:cubicBezTo>
                <a:cubicBezTo>
                  <a:pt x="20" y="64"/>
                  <a:pt x="18" y="63"/>
                  <a:pt x="16" y="63"/>
                </a:cubicBezTo>
                <a:cubicBezTo>
                  <a:pt x="7" y="63"/>
                  <a:pt x="0" y="71"/>
                  <a:pt x="0" y="79"/>
                </a:cubicBezTo>
                <a:cubicBezTo>
                  <a:pt x="0" y="88"/>
                  <a:pt x="7" y="95"/>
                  <a:pt x="16" y="95"/>
                </a:cubicBezTo>
                <a:cubicBezTo>
                  <a:pt x="22" y="95"/>
                  <a:pt x="174" y="96"/>
                  <a:pt x="181" y="96"/>
                </a:cubicBezTo>
                <a:cubicBezTo>
                  <a:pt x="189" y="95"/>
                  <a:pt x="197" y="88"/>
                  <a:pt x="196" y="79"/>
                </a:cubicBezTo>
                <a:cubicBezTo>
                  <a:pt x="196" y="71"/>
                  <a:pt x="189" y="64"/>
                  <a:pt x="180" y="64"/>
                </a:cubicBezTo>
                <a:close/>
              </a:path>
            </a:pathLst>
          </a:custGeom>
          <a:solidFill>
            <a:srgbClr val="7cd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41"/>
          <p:cNvSpPr/>
          <p:nvPr/>
        </p:nvSpPr>
        <p:spPr>
          <a:xfrm>
            <a:off x="5857920" y="3219480"/>
            <a:ext cx="571320" cy="317520"/>
          </a:xfrm>
          <a:custGeom>
            <a:avLst/>
            <a:gdLst>
              <a:gd name="textAreaLeft" fmla="*/ 0 w 571320"/>
              <a:gd name="textAreaRight" fmla="*/ 571680 w 57132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99" h="55">
                <a:moveTo>
                  <a:pt x="82" y="21"/>
                </a:moveTo>
                <a:cubicBezTo>
                  <a:pt x="80" y="21"/>
                  <a:pt x="78" y="21"/>
                  <a:pt x="77" y="22"/>
                </a:cubicBezTo>
                <a:cubicBezTo>
                  <a:pt x="74" y="9"/>
                  <a:pt x="63" y="0"/>
                  <a:pt x="49" y="0"/>
                </a:cubicBezTo>
                <a:cubicBezTo>
                  <a:pt x="36" y="0"/>
                  <a:pt x="25" y="9"/>
                  <a:pt x="22" y="21"/>
                </a:cubicBezTo>
                <a:cubicBezTo>
                  <a:pt x="21" y="21"/>
                  <a:pt x="19" y="21"/>
                  <a:pt x="18" y="21"/>
                </a:cubicBezTo>
                <a:cubicBezTo>
                  <a:pt x="8" y="21"/>
                  <a:pt x="0" y="29"/>
                  <a:pt x="0" y="38"/>
                </a:cubicBezTo>
                <a:cubicBezTo>
                  <a:pt x="0" y="48"/>
                  <a:pt x="8" y="55"/>
                  <a:pt x="18" y="55"/>
                </a:cubicBezTo>
                <a:cubicBezTo>
                  <a:pt x="23" y="55"/>
                  <a:pt x="76" y="55"/>
                  <a:pt x="82" y="55"/>
                </a:cubicBezTo>
                <a:cubicBezTo>
                  <a:pt x="92" y="55"/>
                  <a:pt x="99" y="48"/>
                  <a:pt x="99" y="38"/>
                </a:cubicBezTo>
                <a:cubicBezTo>
                  <a:pt x="99" y="29"/>
                  <a:pt x="92" y="21"/>
                  <a:pt x="8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42"/>
          <p:cNvSpPr/>
          <p:nvPr/>
        </p:nvSpPr>
        <p:spPr>
          <a:xfrm>
            <a:off x="5194440" y="3033720"/>
            <a:ext cx="374400" cy="208080"/>
          </a:xfrm>
          <a:custGeom>
            <a:avLst/>
            <a:gdLst>
              <a:gd name="textAreaLeft" fmla="*/ 0 w 374400"/>
              <a:gd name="textAreaRight" fmla="*/ 374760 w 37440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65" h="36">
                <a:moveTo>
                  <a:pt x="54" y="14"/>
                </a:moveTo>
                <a:cubicBezTo>
                  <a:pt x="53" y="14"/>
                  <a:pt x="52" y="14"/>
                  <a:pt x="51" y="14"/>
                </a:cubicBezTo>
                <a:cubicBezTo>
                  <a:pt x="49" y="6"/>
                  <a:pt x="41" y="0"/>
                  <a:pt x="33" y="0"/>
                </a:cubicBezTo>
                <a:cubicBezTo>
                  <a:pt x="24" y="0"/>
                  <a:pt x="16" y="6"/>
                  <a:pt x="15" y="14"/>
                </a:cubicBezTo>
                <a:cubicBezTo>
                  <a:pt x="14" y="14"/>
                  <a:pt x="13" y="14"/>
                  <a:pt x="12" y="14"/>
                </a:cubicBezTo>
                <a:cubicBezTo>
                  <a:pt x="5" y="14"/>
                  <a:pt x="0" y="19"/>
                  <a:pt x="0" y="25"/>
                </a:cubicBezTo>
                <a:cubicBezTo>
                  <a:pt x="0" y="31"/>
                  <a:pt x="5" y="36"/>
                  <a:pt x="12" y="36"/>
                </a:cubicBezTo>
                <a:cubicBezTo>
                  <a:pt x="15" y="36"/>
                  <a:pt x="50" y="36"/>
                  <a:pt x="54" y="36"/>
                </a:cubicBezTo>
                <a:cubicBezTo>
                  <a:pt x="60" y="36"/>
                  <a:pt x="65" y="31"/>
                  <a:pt x="65" y="25"/>
                </a:cubicBezTo>
                <a:cubicBezTo>
                  <a:pt x="65" y="19"/>
                  <a:pt x="60" y="14"/>
                  <a:pt x="54" y="14"/>
                </a:cubicBezTo>
                <a:close/>
              </a:path>
            </a:pathLst>
          </a:custGeom>
          <a:solidFill>
            <a:srgbClr val="29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3"/>
          <p:cNvSpPr/>
          <p:nvPr/>
        </p:nvSpPr>
        <p:spPr>
          <a:xfrm>
            <a:off x="2400480" y="5904000"/>
            <a:ext cx="61560" cy="369720"/>
          </a:xfrm>
          <a:prstGeom prst="rect">
            <a:avLst/>
          </a:pr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44"/>
          <p:cNvSpPr/>
          <p:nvPr/>
        </p:nvSpPr>
        <p:spPr>
          <a:xfrm>
            <a:off x="2382840" y="5978520"/>
            <a:ext cx="98280" cy="41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45"/>
          <p:cNvSpPr/>
          <p:nvPr/>
        </p:nvSpPr>
        <p:spPr>
          <a:xfrm>
            <a:off x="2382840" y="6083280"/>
            <a:ext cx="98280" cy="41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46"/>
          <p:cNvSpPr/>
          <p:nvPr/>
        </p:nvSpPr>
        <p:spPr>
          <a:xfrm>
            <a:off x="2382840" y="6175440"/>
            <a:ext cx="98280" cy="4104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47"/>
          <p:cNvSpPr/>
          <p:nvPr/>
        </p:nvSpPr>
        <p:spPr>
          <a:xfrm>
            <a:off x="2463840" y="5810400"/>
            <a:ext cx="230040" cy="117360"/>
          </a:xfrm>
          <a:custGeom>
            <a:avLst/>
            <a:gdLst>
              <a:gd name="textAreaLeft" fmla="*/ 0 w 230040"/>
              <a:gd name="textAreaRight" fmla="*/ 230400 w 23004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40" h="20">
                <a:moveTo>
                  <a:pt x="20" y="0"/>
                </a:moveTo>
                <a:cubicBezTo>
                  <a:pt x="31" y="0"/>
                  <a:pt x="40" y="9"/>
                  <a:pt x="40" y="20"/>
                </a:cubicBezTo>
                <a:cubicBezTo>
                  <a:pt x="34" y="20"/>
                  <a:pt x="34" y="20"/>
                  <a:pt x="34" y="20"/>
                </a:cubicBezTo>
                <a:cubicBezTo>
                  <a:pt x="30" y="14"/>
                  <a:pt x="30" y="14"/>
                  <a:pt x="30" y="14"/>
                </a:cubicBezTo>
                <a:cubicBezTo>
                  <a:pt x="27" y="20"/>
                  <a:pt x="27" y="20"/>
                  <a:pt x="27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0" y="14"/>
                  <a:pt x="20" y="14"/>
                  <a:pt x="20" y="14"/>
                </a:cubicBezTo>
                <a:cubicBezTo>
                  <a:pt x="17" y="20"/>
                  <a:pt x="17" y="20"/>
                  <a:pt x="17" y="20"/>
                </a:cubicBezTo>
                <a:cubicBezTo>
                  <a:pt x="12" y="20"/>
                  <a:pt x="12" y="20"/>
                  <a:pt x="12" y="20"/>
                </a:cubicBezTo>
                <a:cubicBezTo>
                  <a:pt x="9" y="14"/>
                  <a:pt x="9" y="14"/>
                  <a:pt x="9" y="14"/>
                </a:cubicBezTo>
                <a:cubicBezTo>
                  <a:pt x="6" y="20"/>
                  <a:pt x="6" y="20"/>
                  <a:pt x="6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9"/>
                  <a:pt x="9" y="0"/>
                  <a:pt x="20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48"/>
          <p:cNvSpPr/>
          <p:nvPr/>
        </p:nvSpPr>
        <p:spPr>
          <a:xfrm>
            <a:off x="2168640" y="5810400"/>
            <a:ext cx="231840" cy="117360"/>
          </a:xfrm>
          <a:custGeom>
            <a:avLst/>
            <a:gdLst>
              <a:gd name="textAreaLeft" fmla="*/ 0 w 231840"/>
              <a:gd name="textAreaRight" fmla="*/ 232200 w 23184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40" h="20">
                <a:moveTo>
                  <a:pt x="20" y="0"/>
                </a:moveTo>
                <a:cubicBezTo>
                  <a:pt x="31" y="0"/>
                  <a:pt x="40" y="9"/>
                  <a:pt x="40" y="20"/>
                </a:cubicBezTo>
                <a:cubicBezTo>
                  <a:pt x="33" y="20"/>
                  <a:pt x="33" y="20"/>
                  <a:pt x="33" y="20"/>
                </a:cubicBezTo>
                <a:cubicBezTo>
                  <a:pt x="30" y="14"/>
                  <a:pt x="30" y="14"/>
                  <a:pt x="30" y="14"/>
                </a:cubicBezTo>
                <a:cubicBezTo>
                  <a:pt x="27" y="20"/>
                  <a:pt x="27" y="20"/>
                  <a:pt x="27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0" y="14"/>
                  <a:pt x="20" y="14"/>
                  <a:pt x="20" y="14"/>
                </a:cubicBezTo>
                <a:cubicBezTo>
                  <a:pt x="16" y="20"/>
                  <a:pt x="16" y="20"/>
                  <a:pt x="16" y="20"/>
                </a:cubicBezTo>
                <a:cubicBezTo>
                  <a:pt x="12" y="20"/>
                  <a:pt x="12" y="20"/>
                  <a:pt x="12" y="20"/>
                </a:cubicBezTo>
                <a:cubicBezTo>
                  <a:pt x="9" y="14"/>
                  <a:pt x="9" y="14"/>
                  <a:pt x="9" y="14"/>
                </a:cubicBezTo>
                <a:cubicBezTo>
                  <a:pt x="5" y="20"/>
                  <a:pt x="5" y="20"/>
                  <a:pt x="5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9"/>
                  <a:pt x="9" y="0"/>
                  <a:pt x="20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149"/>
          <p:cNvSpPr/>
          <p:nvPr/>
        </p:nvSpPr>
        <p:spPr>
          <a:xfrm>
            <a:off x="2266920" y="5694480"/>
            <a:ext cx="196920" cy="226800"/>
          </a:xfrm>
          <a:custGeom>
            <a:avLst/>
            <a:gdLst>
              <a:gd name="textAreaLeft" fmla="*/ 0 w 196920"/>
              <a:gd name="textAreaRight" fmla="*/ 197280 w 19692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34" h="39">
                <a:moveTo>
                  <a:pt x="28" y="12"/>
                </a:moveTo>
                <a:cubicBezTo>
                  <a:pt x="34" y="21"/>
                  <a:pt x="32" y="33"/>
                  <a:pt x="23" y="39"/>
                </a:cubicBezTo>
                <a:cubicBezTo>
                  <a:pt x="19" y="34"/>
                  <a:pt x="19" y="34"/>
                  <a:pt x="19" y="34"/>
                </a:cubicBezTo>
                <a:cubicBezTo>
                  <a:pt x="22" y="28"/>
                  <a:pt x="22" y="28"/>
                  <a:pt x="22" y="28"/>
                </a:cubicBezTo>
                <a:cubicBezTo>
                  <a:pt x="15" y="29"/>
                  <a:pt x="15" y="29"/>
                  <a:pt x="15" y="29"/>
                </a:cubicBezTo>
                <a:cubicBezTo>
                  <a:pt x="13" y="26"/>
                  <a:pt x="13" y="26"/>
                  <a:pt x="13" y="26"/>
                </a:cubicBezTo>
                <a:cubicBezTo>
                  <a:pt x="16" y="20"/>
                  <a:pt x="16" y="20"/>
                  <a:pt x="16" y="20"/>
                </a:cubicBezTo>
                <a:cubicBezTo>
                  <a:pt x="10" y="20"/>
                  <a:pt x="10" y="20"/>
                  <a:pt x="10" y="20"/>
                </a:cubicBezTo>
                <a:cubicBezTo>
                  <a:pt x="7" y="16"/>
                  <a:pt x="7" y="16"/>
                  <a:pt x="7" y="16"/>
                </a:cubicBezTo>
                <a:cubicBezTo>
                  <a:pt x="10" y="11"/>
                  <a:pt x="10" y="11"/>
                  <a:pt x="10" y="11"/>
                </a:cubicBezTo>
                <a:cubicBezTo>
                  <a:pt x="3" y="11"/>
                  <a:pt x="3" y="11"/>
                  <a:pt x="3" y="11"/>
                </a:cubicBezTo>
                <a:cubicBezTo>
                  <a:pt x="0" y="6"/>
                  <a:pt x="0" y="6"/>
                  <a:pt x="0" y="6"/>
                </a:cubicBezTo>
                <a:cubicBezTo>
                  <a:pt x="9" y="0"/>
                  <a:pt x="22" y="3"/>
                  <a:pt x="28" y="12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50"/>
          <p:cNvSpPr/>
          <p:nvPr/>
        </p:nvSpPr>
        <p:spPr>
          <a:xfrm>
            <a:off x="2406600" y="5694480"/>
            <a:ext cx="190440" cy="226800"/>
          </a:xfrm>
          <a:custGeom>
            <a:avLst/>
            <a:gdLst>
              <a:gd name="textAreaLeft" fmla="*/ 0 w 190440"/>
              <a:gd name="textAreaRight" fmla="*/ 190800 w 1904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33" h="39">
                <a:moveTo>
                  <a:pt x="6" y="12"/>
                </a:moveTo>
                <a:cubicBezTo>
                  <a:pt x="0" y="21"/>
                  <a:pt x="2" y="33"/>
                  <a:pt x="11" y="39"/>
                </a:cubicBezTo>
                <a:cubicBezTo>
                  <a:pt x="14" y="34"/>
                  <a:pt x="14" y="34"/>
                  <a:pt x="14" y="34"/>
                </a:cubicBezTo>
                <a:cubicBezTo>
                  <a:pt x="12" y="28"/>
                  <a:pt x="12" y="28"/>
                  <a:pt x="12" y="28"/>
                </a:cubicBezTo>
                <a:cubicBezTo>
                  <a:pt x="18" y="29"/>
                  <a:pt x="18" y="29"/>
                  <a:pt x="18" y="29"/>
                </a:cubicBezTo>
                <a:cubicBezTo>
                  <a:pt x="20" y="26"/>
                  <a:pt x="20" y="26"/>
                  <a:pt x="20" y="26"/>
                </a:cubicBezTo>
                <a:cubicBezTo>
                  <a:pt x="18" y="20"/>
                  <a:pt x="18" y="20"/>
                  <a:pt x="18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7" y="16"/>
                  <a:pt x="27" y="16"/>
                  <a:pt x="27" y="16"/>
                </a:cubicBezTo>
                <a:cubicBezTo>
                  <a:pt x="24" y="11"/>
                  <a:pt x="24" y="11"/>
                  <a:pt x="24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33" y="6"/>
                  <a:pt x="33" y="6"/>
                  <a:pt x="33" y="6"/>
                </a:cubicBezTo>
                <a:cubicBezTo>
                  <a:pt x="24" y="0"/>
                  <a:pt x="12" y="3"/>
                  <a:pt x="6" y="12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51"/>
          <p:cNvSpPr/>
          <p:nvPr/>
        </p:nvSpPr>
        <p:spPr>
          <a:xfrm>
            <a:off x="2428920" y="5880240"/>
            <a:ext cx="69840" cy="7596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52"/>
          <p:cNvSpPr/>
          <p:nvPr/>
        </p:nvSpPr>
        <p:spPr>
          <a:xfrm>
            <a:off x="2352600" y="5880240"/>
            <a:ext cx="76320" cy="7596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53"/>
          <p:cNvSpPr/>
          <p:nvPr/>
        </p:nvSpPr>
        <p:spPr>
          <a:xfrm>
            <a:off x="2394000" y="5845320"/>
            <a:ext cx="74520" cy="75960"/>
          </a:xfrm>
          <a:prstGeom prst="ellipse">
            <a:avLst/>
          </a:prstGeom>
          <a:solidFill>
            <a:srgbClr val="b06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54"/>
          <p:cNvSpPr/>
          <p:nvPr/>
        </p:nvSpPr>
        <p:spPr>
          <a:xfrm>
            <a:off x="4962600" y="5181480"/>
            <a:ext cx="588960" cy="784440"/>
          </a:xfrm>
          <a:custGeom>
            <a:avLst/>
            <a:gdLst>
              <a:gd name="textAreaLeft" fmla="*/ 0 w 588960"/>
              <a:gd name="textAreaRight" fmla="*/ 589320 w 588960"/>
              <a:gd name="textAreaTop" fmla="*/ 0 h 784440"/>
              <a:gd name="textAreaBottom" fmla="*/ 784800 h 784440"/>
            </a:gdLst>
            <a:ahLst/>
            <a:rect l="textAreaLeft" t="textAreaTop" r="textAreaRight" b="textAreaBottom"/>
            <a:pathLst>
              <a:path w="401" h="535">
                <a:moveTo>
                  <a:pt x="0" y="0"/>
                </a:moveTo>
                <a:lnTo>
                  <a:pt x="0" y="535"/>
                </a:lnTo>
                <a:lnTo>
                  <a:pt x="44" y="500"/>
                </a:lnTo>
                <a:lnTo>
                  <a:pt x="87" y="535"/>
                </a:lnTo>
                <a:lnTo>
                  <a:pt x="134" y="500"/>
                </a:lnTo>
                <a:lnTo>
                  <a:pt x="177" y="535"/>
                </a:lnTo>
                <a:lnTo>
                  <a:pt x="221" y="500"/>
                </a:lnTo>
                <a:lnTo>
                  <a:pt x="264" y="535"/>
                </a:lnTo>
                <a:lnTo>
                  <a:pt x="307" y="500"/>
                </a:lnTo>
                <a:lnTo>
                  <a:pt x="354" y="535"/>
                </a:lnTo>
                <a:lnTo>
                  <a:pt x="401" y="5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55"/>
          <p:cNvSpPr/>
          <p:nvPr/>
        </p:nvSpPr>
        <p:spPr>
          <a:xfrm>
            <a:off x="4962600" y="5181480"/>
            <a:ext cx="463320" cy="617760"/>
          </a:xfrm>
          <a:custGeom>
            <a:avLst/>
            <a:gdLst>
              <a:gd name="textAreaLeft" fmla="*/ 0 w 463320"/>
              <a:gd name="textAreaRight" fmla="*/ 463680 w 463320"/>
              <a:gd name="textAreaTop" fmla="*/ 0 h 617760"/>
              <a:gd name="textAreaBottom" fmla="*/ 617760 h 617760"/>
            </a:gdLst>
            <a:ahLst/>
            <a:rect l="textAreaLeft" t="textAreaTop" r="textAreaRight" b="textAreaBottom"/>
            <a:pathLst>
              <a:path w="315" h="421">
                <a:moveTo>
                  <a:pt x="0" y="0"/>
                </a:moveTo>
                <a:lnTo>
                  <a:pt x="0" y="421"/>
                </a:lnTo>
                <a:lnTo>
                  <a:pt x="36" y="394"/>
                </a:lnTo>
                <a:lnTo>
                  <a:pt x="71" y="421"/>
                </a:lnTo>
                <a:lnTo>
                  <a:pt x="103" y="394"/>
                </a:lnTo>
                <a:lnTo>
                  <a:pt x="138" y="421"/>
                </a:lnTo>
                <a:lnTo>
                  <a:pt x="173" y="394"/>
                </a:lnTo>
                <a:lnTo>
                  <a:pt x="209" y="421"/>
                </a:lnTo>
                <a:lnTo>
                  <a:pt x="244" y="394"/>
                </a:lnTo>
                <a:lnTo>
                  <a:pt x="276" y="421"/>
                </a:lnTo>
                <a:lnTo>
                  <a:pt x="315" y="39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e8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56"/>
          <p:cNvSpPr/>
          <p:nvPr/>
        </p:nvSpPr>
        <p:spPr>
          <a:xfrm>
            <a:off x="4962600" y="5181480"/>
            <a:ext cx="334800" cy="444600"/>
          </a:xfrm>
          <a:custGeom>
            <a:avLst/>
            <a:gdLst>
              <a:gd name="textAreaLeft" fmla="*/ 0 w 334800"/>
              <a:gd name="textAreaRight" fmla="*/ 334800 w 33480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228" h="303">
                <a:moveTo>
                  <a:pt x="0" y="0"/>
                </a:moveTo>
                <a:lnTo>
                  <a:pt x="0" y="303"/>
                </a:lnTo>
                <a:lnTo>
                  <a:pt x="24" y="283"/>
                </a:lnTo>
                <a:lnTo>
                  <a:pt x="52" y="303"/>
                </a:lnTo>
                <a:lnTo>
                  <a:pt x="75" y="283"/>
                </a:lnTo>
                <a:lnTo>
                  <a:pt x="99" y="303"/>
                </a:lnTo>
                <a:lnTo>
                  <a:pt x="126" y="283"/>
                </a:lnTo>
                <a:lnTo>
                  <a:pt x="150" y="303"/>
                </a:lnTo>
                <a:lnTo>
                  <a:pt x="173" y="283"/>
                </a:lnTo>
                <a:lnTo>
                  <a:pt x="201" y="303"/>
                </a:lnTo>
                <a:lnTo>
                  <a:pt x="228" y="28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8b3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57"/>
          <p:cNvSpPr/>
          <p:nvPr/>
        </p:nvSpPr>
        <p:spPr>
          <a:xfrm>
            <a:off x="3352680" y="5300640"/>
            <a:ext cx="74880" cy="109440"/>
          </a:xfrm>
          <a:custGeom>
            <a:avLst/>
            <a:gdLst>
              <a:gd name="textAreaLeft" fmla="*/ 0 w 74880"/>
              <a:gd name="textAreaRight" fmla="*/ 74880 w 7488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51" h="75">
                <a:moveTo>
                  <a:pt x="51" y="63"/>
                </a:moveTo>
                <a:lnTo>
                  <a:pt x="35" y="75"/>
                </a:lnTo>
                <a:lnTo>
                  <a:pt x="0" y="12"/>
                </a:lnTo>
                <a:lnTo>
                  <a:pt x="15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58"/>
          <p:cNvSpPr/>
          <p:nvPr/>
        </p:nvSpPr>
        <p:spPr>
          <a:xfrm>
            <a:off x="3456000" y="5181480"/>
            <a:ext cx="74520" cy="103320"/>
          </a:xfrm>
          <a:custGeom>
            <a:avLst/>
            <a:gdLst>
              <a:gd name="textAreaLeft" fmla="*/ 0 w 74520"/>
              <a:gd name="textAreaRight" fmla="*/ 74880 w 7452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51" h="71">
                <a:moveTo>
                  <a:pt x="51" y="63"/>
                </a:moveTo>
                <a:lnTo>
                  <a:pt x="40" y="71"/>
                </a:lnTo>
                <a:lnTo>
                  <a:pt x="0" y="8"/>
                </a:lnTo>
                <a:lnTo>
                  <a:pt x="16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59"/>
          <p:cNvSpPr/>
          <p:nvPr/>
        </p:nvSpPr>
        <p:spPr>
          <a:xfrm>
            <a:off x="3416400" y="5214960"/>
            <a:ext cx="109440" cy="58680"/>
          </a:xfrm>
          <a:custGeom>
            <a:avLst/>
            <a:gdLst>
              <a:gd name="textAreaLeft" fmla="*/ 0 w 109440"/>
              <a:gd name="textAreaRight" fmla="*/ 109800 w 1094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75" h="40">
                <a:moveTo>
                  <a:pt x="75" y="24"/>
                </a:moveTo>
                <a:lnTo>
                  <a:pt x="67" y="40"/>
                </a:lnTo>
                <a:lnTo>
                  <a:pt x="0" y="16"/>
                </a:lnTo>
                <a:lnTo>
                  <a:pt x="4" y="0"/>
                </a:lnTo>
                <a:lnTo>
                  <a:pt x="75" y="24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60"/>
          <p:cNvSpPr/>
          <p:nvPr/>
        </p:nvSpPr>
        <p:spPr>
          <a:xfrm>
            <a:off x="3774960" y="4764240"/>
            <a:ext cx="74880" cy="102960"/>
          </a:xfrm>
          <a:custGeom>
            <a:avLst/>
            <a:gdLst>
              <a:gd name="textAreaLeft" fmla="*/ 0 w 74880"/>
              <a:gd name="textAreaRight" fmla="*/ 74880 w 7488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51" h="71">
                <a:moveTo>
                  <a:pt x="51" y="63"/>
                </a:moveTo>
                <a:lnTo>
                  <a:pt x="39" y="71"/>
                </a:lnTo>
                <a:lnTo>
                  <a:pt x="0" y="8"/>
                </a:lnTo>
                <a:lnTo>
                  <a:pt x="15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61"/>
          <p:cNvSpPr/>
          <p:nvPr/>
        </p:nvSpPr>
        <p:spPr>
          <a:xfrm>
            <a:off x="3589200" y="5011560"/>
            <a:ext cx="81000" cy="109800"/>
          </a:xfrm>
          <a:custGeom>
            <a:avLst/>
            <a:gdLst>
              <a:gd name="textAreaLeft" fmla="*/ 0 w 81000"/>
              <a:gd name="textAreaRight" fmla="*/ 81360 w 810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55" h="75">
                <a:moveTo>
                  <a:pt x="55" y="64"/>
                </a:moveTo>
                <a:lnTo>
                  <a:pt x="39" y="75"/>
                </a:lnTo>
                <a:lnTo>
                  <a:pt x="0" y="8"/>
                </a:lnTo>
                <a:lnTo>
                  <a:pt x="15" y="0"/>
                </a:lnTo>
                <a:lnTo>
                  <a:pt x="55" y="64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62"/>
          <p:cNvSpPr/>
          <p:nvPr/>
        </p:nvSpPr>
        <p:spPr>
          <a:xfrm>
            <a:off x="3924360" y="4554360"/>
            <a:ext cx="81000" cy="105120"/>
          </a:xfrm>
          <a:custGeom>
            <a:avLst/>
            <a:gdLst>
              <a:gd name="textAreaLeft" fmla="*/ 0 w 81000"/>
              <a:gd name="textAreaRight" fmla="*/ 81360 w 81000"/>
              <a:gd name="textAreaTop" fmla="*/ 0 h 105120"/>
              <a:gd name="textAreaBottom" fmla="*/ 105480 h 105120"/>
            </a:gdLst>
            <a:ahLst/>
            <a:rect l="textAreaLeft" t="textAreaTop" r="textAreaRight" b="textAreaBottom"/>
            <a:pathLst>
              <a:path w="55" h="71">
                <a:moveTo>
                  <a:pt x="55" y="63"/>
                </a:moveTo>
                <a:lnTo>
                  <a:pt x="39" y="71"/>
                </a:lnTo>
                <a:lnTo>
                  <a:pt x="0" y="8"/>
                </a:lnTo>
                <a:lnTo>
                  <a:pt x="16" y="0"/>
                </a:lnTo>
                <a:lnTo>
                  <a:pt x="55" y="63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63"/>
          <p:cNvSpPr/>
          <p:nvPr/>
        </p:nvSpPr>
        <p:spPr>
          <a:xfrm>
            <a:off x="3876840" y="4635360"/>
            <a:ext cx="80640" cy="111240"/>
          </a:xfrm>
          <a:custGeom>
            <a:avLst/>
            <a:gdLst>
              <a:gd name="textAreaLeft" fmla="*/ 0 w 80640"/>
              <a:gd name="textAreaRight" fmla="*/ 81000 w 8064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55" h="75">
                <a:moveTo>
                  <a:pt x="55" y="67"/>
                </a:moveTo>
                <a:lnTo>
                  <a:pt x="40" y="75"/>
                </a:lnTo>
                <a:lnTo>
                  <a:pt x="0" y="12"/>
                </a:lnTo>
                <a:lnTo>
                  <a:pt x="16" y="0"/>
                </a:lnTo>
                <a:lnTo>
                  <a:pt x="55" y="67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64"/>
          <p:cNvSpPr/>
          <p:nvPr/>
        </p:nvSpPr>
        <p:spPr>
          <a:xfrm>
            <a:off x="3838680" y="4676760"/>
            <a:ext cx="109440" cy="57240"/>
          </a:xfrm>
          <a:custGeom>
            <a:avLst/>
            <a:gdLst>
              <a:gd name="textAreaLeft" fmla="*/ 0 w 109440"/>
              <a:gd name="textAreaRight" fmla="*/ 109800 w 1094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75" h="39">
                <a:moveTo>
                  <a:pt x="75" y="24"/>
                </a:moveTo>
                <a:lnTo>
                  <a:pt x="71" y="39"/>
                </a:lnTo>
                <a:lnTo>
                  <a:pt x="0" y="16"/>
                </a:lnTo>
                <a:lnTo>
                  <a:pt x="4" y="0"/>
                </a:lnTo>
                <a:lnTo>
                  <a:pt x="75" y="24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165"/>
          <p:cNvSpPr/>
          <p:nvPr/>
        </p:nvSpPr>
        <p:spPr>
          <a:xfrm>
            <a:off x="3629160" y="4965840"/>
            <a:ext cx="74520" cy="104760"/>
          </a:xfrm>
          <a:custGeom>
            <a:avLst/>
            <a:gdLst>
              <a:gd name="textAreaLeft" fmla="*/ 0 w 74520"/>
              <a:gd name="textAreaRight" fmla="*/ 74880 w 7452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51" h="71">
                <a:moveTo>
                  <a:pt x="51" y="63"/>
                </a:moveTo>
                <a:lnTo>
                  <a:pt x="36" y="71"/>
                </a:lnTo>
                <a:lnTo>
                  <a:pt x="0" y="8"/>
                </a:lnTo>
                <a:lnTo>
                  <a:pt x="16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66"/>
          <p:cNvSpPr/>
          <p:nvPr/>
        </p:nvSpPr>
        <p:spPr>
          <a:xfrm>
            <a:off x="3693960" y="4873680"/>
            <a:ext cx="108000" cy="63360"/>
          </a:xfrm>
          <a:custGeom>
            <a:avLst/>
            <a:gdLst>
              <a:gd name="textAreaLeft" fmla="*/ 0 w 108000"/>
              <a:gd name="textAreaRight" fmla="*/ 108360 w 10800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4" h="43">
                <a:moveTo>
                  <a:pt x="74" y="28"/>
                </a:moveTo>
                <a:lnTo>
                  <a:pt x="66" y="43"/>
                </a:lnTo>
                <a:lnTo>
                  <a:pt x="0" y="20"/>
                </a:lnTo>
                <a:lnTo>
                  <a:pt x="3" y="0"/>
                </a:lnTo>
                <a:lnTo>
                  <a:pt x="74" y="28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67"/>
          <p:cNvSpPr/>
          <p:nvPr/>
        </p:nvSpPr>
        <p:spPr>
          <a:xfrm>
            <a:off x="3230640" y="5470560"/>
            <a:ext cx="81000" cy="103320"/>
          </a:xfrm>
          <a:custGeom>
            <a:avLst/>
            <a:gdLst>
              <a:gd name="textAreaLeft" fmla="*/ 0 w 81000"/>
              <a:gd name="textAreaRight" fmla="*/ 81360 w 8100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55" h="71">
                <a:moveTo>
                  <a:pt x="55" y="63"/>
                </a:moveTo>
                <a:lnTo>
                  <a:pt x="39" y="71"/>
                </a:lnTo>
                <a:lnTo>
                  <a:pt x="0" y="8"/>
                </a:lnTo>
                <a:lnTo>
                  <a:pt x="16" y="0"/>
                </a:lnTo>
                <a:lnTo>
                  <a:pt x="55" y="63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68"/>
          <p:cNvSpPr/>
          <p:nvPr/>
        </p:nvSpPr>
        <p:spPr>
          <a:xfrm>
            <a:off x="3254400" y="5423040"/>
            <a:ext cx="108000" cy="58680"/>
          </a:xfrm>
          <a:custGeom>
            <a:avLst/>
            <a:gdLst>
              <a:gd name="textAreaLeft" fmla="*/ 0 w 108000"/>
              <a:gd name="textAreaRight" fmla="*/ 108360 w 1080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74" h="40">
                <a:moveTo>
                  <a:pt x="74" y="24"/>
                </a:moveTo>
                <a:lnTo>
                  <a:pt x="71" y="40"/>
                </a:lnTo>
                <a:lnTo>
                  <a:pt x="0" y="16"/>
                </a:lnTo>
                <a:lnTo>
                  <a:pt x="8" y="0"/>
                </a:lnTo>
                <a:lnTo>
                  <a:pt x="74" y="24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169"/>
          <p:cNvSpPr/>
          <p:nvPr/>
        </p:nvSpPr>
        <p:spPr>
          <a:xfrm>
            <a:off x="3149640" y="5580000"/>
            <a:ext cx="111240" cy="57240"/>
          </a:xfrm>
          <a:custGeom>
            <a:avLst/>
            <a:gdLst>
              <a:gd name="textAreaLeft" fmla="*/ 0 w 111240"/>
              <a:gd name="textAreaRight" fmla="*/ 111600 w 1112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75" h="39">
                <a:moveTo>
                  <a:pt x="75" y="23"/>
                </a:moveTo>
                <a:lnTo>
                  <a:pt x="71" y="39"/>
                </a:lnTo>
                <a:lnTo>
                  <a:pt x="0" y="15"/>
                </a:lnTo>
                <a:lnTo>
                  <a:pt x="4" y="0"/>
                </a:lnTo>
                <a:lnTo>
                  <a:pt x="75" y="23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70"/>
          <p:cNvSpPr/>
          <p:nvPr/>
        </p:nvSpPr>
        <p:spPr>
          <a:xfrm>
            <a:off x="4664160" y="5300640"/>
            <a:ext cx="74520" cy="109440"/>
          </a:xfrm>
          <a:custGeom>
            <a:avLst/>
            <a:gdLst>
              <a:gd name="textAreaLeft" fmla="*/ 0 w 74520"/>
              <a:gd name="textAreaRight" fmla="*/ 74880 w 745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51" h="75">
                <a:moveTo>
                  <a:pt x="0" y="63"/>
                </a:moveTo>
                <a:lnTo>
                  <a:pt x="16" y="75"/>
                </a:lnTo>
                <a:lnTo>
                  <a:pt x="51" y="12"/>
                </a:lnTo>
                <a:lnTo>
                  <a:pt x="35" y="0"/>
                </a:lnTo>
                <a:lnTo>
                  <a:pt x="0" y="63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71"/>
          <p:cNvSpPr/>
          <p:nvPr/>
        </p:nvSpPr>
        <p:spPr>
          <a:xfrm>
            <a:off x="4559400" y="5181480"/>
            <a:ext cx="74520" cy="103320"/>
          </a:xfrm>
          <a:custGeom>
            <a:avLst/>
            <a:gdLst>
              <a:gd name="textAreaLeft" fmla="*/ 0 w 74520"/>
              <a:gd name="textAreaRight" fmla="*/ 74880 w 7452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2" y="71"/>
                </a:lnTo>
                <a:lnTo>
                  <a:pt x="51" y="8"/>
                </a:lnTo>
                <a:lnTo>
                  <a:pt x="36" y="0"/>
                </a:lnTo>
                <a:lnTo>
                  <a:pt x="0" y="63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72"/>
          <p:cNvSpPr/>
          <p:nvPr/>
        </p:nvSpPr>
        <p:spPr>
          <a:xfrm>
            <a:off x="4565520" y="5214960"/>
            <a:ext cx="115920" cy="58680"/>
          </a:xfrm>
          <a:custGeom>
            <a:avLst/>
            <a:gdLst>
              <a:gd name="textAreaLeft" fmla="*/ 0 w 115920"/>
              <a:gd name="textAreaRight" fmla="*/ 115920 w 11592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79" h="40">
                <a:moveTo>
                  <a:pt x="0" y="24"/>
                </a:moveTo>
                <a:lnTo>
                  <a:pt x="8" y="40"/>
                </a:lnTo>
                <a:lnTo>
                  <a:pt x="79" y="16"/>
                </a:lnTo>
                <a:lnTo>
                  <a:pt x="71" y="0"/>
                </a:lnTo>
                <a:lnTo>
                  <a:pt x="0" y="24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73"/>
          <p:cNvSpPr/>
          <p:nvPr/>
        </p:nvSpPr>
        <p:spPr>
          <a:xfrm>
            <a:off x="4241880" y="4764240"/>
            <a:ext cx="74520" cy="102960"/>
          </a:xfrm>
          <a:custGeom>
            <a:avLst/>
            <a:gdLst>
              <a:gd name="textAreaLeft" fmla="*/ 0 w 74520"/>
              <a:gd name="textAreaRight" fmla="*/ 74880 w 74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2" y="71"/>
                </a:lnTo>
                <a:lnTo>
                  <a:pt x="51" y="8"/>
                </a:lnTo>
                <a:lnTo>
                  <a:pt x="35" y="0"/>
                </a:lnTo>
                <a:lnTo>
                  <a:pt x="0" y="63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74"/>
          <p:cNvSpPr/>
          <p:nvPr/>
        </p:nvSpPr>
        <p:spPr>
          <a:xfrm>
            <a:off x="4421160" y="5011560"/>
            <a:ext cx="81000" cy="109800"/>
          </a:xfrm>
          <a:custGeom>
            <a:avLst/>
            <a:gdLst>
              <a:gd name="textAreaLeft" fmla="*/ 0 w 81000"/>
              <a:gd name="textAreaRight" fmla="*/ 81360 w 810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55" h="75">
                <a:moveTo>
                  <a:pt x="0" y="64"/>
                </a:moveTo>
                <a:lnTo>
                  <a:pt x="16" y="75"/>
                </a:lnTo>
                <a:lnTo>
                  <a:pt x="55" y="8"/>
                </a:lnTo>
                <a:lnTo>
                  <a:pt x="39" y="0"/>
                </a:lnTo>
                <a:lnTo>
                  <a:pt x="0" y="64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175"/>
          <p:cNvSpPr/>
          <p:nvPr/>
        </p:nvSpPr>
        <p:spPr>
          <a:xfrm>
            <a:off x="4092480" y="4554360"/>
            <a:ext cx="74880" cy="105120"/>
          </a:xfrm>
          <a:custGeom>
            <a:avLst/>
            <a:gdLst>
              <a:gd name="textAreaLeft" fmla="*/ 0 w 74880"/>
              <a:gd name="textAreaRight" fmla="*/ 74880 w 74880"/>
              <a:gd name="textAreaTop" fmla="*/ 0 h 105120"/>
              <a:gd name="textAreaBottom" fmla="*/ 105480 h 10512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2" y="71"/>
                </a:lnTo>
                <a:lnTo>
                  <a:pt x="51" y="8"/>
                </a:lnTo>
                <a:lnTo>
                  <a:pt x="35" y="0"/>
                </a:lnTo>
                <a:lnTo>
                  <a:pt x="0" y="63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76"/>
          <p:cNvSpPr/>
          <p:nvPr/>
        </p:nvSpPr>
        <p:spPr>
          <a:xfrm>
            <a:off x="4130640" y="4635360"/>
            <a:ext cx="81000" cy="111240"/>
          </a:xfrm>
          <a:custGeom>
            <a:avLst/>
            <a:gdLst>
              <a:gd name="textAreaLeft" fmla="*/ 0 w 81000"/>
              <a:gd name="textAreaRight" fmla="*/ 81360 w 810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55" h="75">
                <a:moveTo>
                  <a:pt x="0" y="67"/>
                </a:moveTo>
                <a:lnTo>
                  <a:pt x="16" y="75"/>
                </a:lnTo>
                <a:lnTo>
                  <a:pt x="55" y="12"/>
                </a:lnTo>
                <a:lnTo>
                  <a:pt x="40" y="0"/>
                </a:lnTo>
                <a:lnTo>
                  <a:pt x="0" y="67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77"/>
          <p:cNvSpPr/>
          <p:nvPr/>
        </p:nvSpPr>
        <p:spPr>
          <a:xfrm>
            <a:off x="4143240" y="4676760"/>
            <a:ext cx="109800" cy="57240"/>
          </a:xfrm>
          <a:custGeom>
            <a:avLst/>
            <a:gdLst>
              <a:gd name="textAreaLeft" fmla="*/ 0 w 109800"/>
              <a:gd name="textAreaRight" fmla="*/ 110160 w 1098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75" h="39">
                <a:moveTo>
                  <a:pt x="0" y="24"/>
                </a:moveTo>
                <a:lnTo>
                  <a:pt x="8" y="39"/>
                </a:lnTo>
                <a:lnTo>
                  <a:pt x="75" y="16"/>
                </a:lnTo>
                <a:lnTo>
                  <a:pt x="71" y="0"/>
                </a:lnTo>
                <a:lnTo>
                  <a:pt x="0" y="24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78"/>
          <p:cNvSpPr/>
          <p:nvPr/>
        </p:nvSpPr>
        <p:spPr>
          <a:xfrm>
            <a:off x="4384800" y="4965840"/>
            <a:ext cx="75960" cy="104760"/>
          </a:xfrm>
          <a:custGeom>
            <a:avLst/>
            <a:gdLst>
              <a:gd name="textAreaLeft" fmla="*/ 0 w 75960"/>
              <a:gd name="textAreaRight" fmla="*/ 76320 w 759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6" y="71"/>
                </a:lnTo>
                <a:lnTo>
                  <a:pt x="51" y="8"/>
                </a:lnTo>
                <a:lnTo>
                  <a:pt x="36" y="0"/>
                </a:lnTo>
                <a:lnTo>
                  <a:pt x="0" y="63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179"/>
          <p:cNvSpPr/>
          <p:nvPr/>
        </p:nvSpPr>
        <p:spPr>
          <a:xfrm>
            <a:off x="4286160" y="4873680"/>
            <a:ext cx="111240" cy="63360"/>
          </a:xfrm>
          <a:custGeom>
            <a:avLst/>
            <a:gdLst>
              <a:gd name="textAreaLeft" fmla="*/ 0 w 111240"/>
              <a:gd name="textAreaRight" fmla="*/ 111600 w 11124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5" h="43">
                <a:moveTo>
                  <a:pt x="0" y="28"/>
                </a:moveTo>
                <a:lnTo>
                  <a:pt x="8" y="43"/>
                </a:lnTo>
                <a:lnTo>
                  <a:pt x="75" y="20"/>
                </a:lnTo>
                <a:lnTo>
                  <a:pt x="71" y="0"/>
                </a:lnTo>
                <a:lnTo>
                  <a:pt x="0" y="28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80"/>
          <p:cNvSpPr/>
          <p:nvPr/>
        </p:nvSpPr>
        <p:spPr>
          <a:xfrm>
            <a:off x="4195800" y="5035680"/>
            <a:ext cx="96840" cy="98280"/>
          </a:xfrm>
          <a:custGeom>
            <a:avLst/>
            <a:gdLst>
              <a:gd name="textAreaLeft" fmla="*/ 0 w 96840"/>
              <a:gd name="textAreaRight" fmla="*/ 97200 w 9684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66" h="67">
                <a:moveTo>
                  <a:pt x="66" y="16"/>
                </a:moveTo>
                <a:lnTo>
                  <a:pt x="15" y="67"/>
                </a:lnTo>
                <a:lnTo>
                  <a:pt x="0" y="55"/>
                </a:lnTo>
                <a:lnTo>
                  <a:pt x="51" y="0"/>
                </a:lnTo>
                <a:lnTo>
                  <a:pt x="66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81"/>
          <p:cNvSpPr/>
          <p:nvPr/>
        </p:nvSpPr>
        <p:spPr>
          <a:xfrm>
            <a:off x="4086360" y="5035680"/>
            <a:ext cx="104760" cy="98280"/>
          </a:xfrm>
          <a:custGeom>
            <a:avLst/>
            <a:gdLst>
              <a:gd name="textAreaLeft" fmla="*/ 0 w 104760"/>
              <a:gd name="textAreaRight" fmla="*/ 105120 w 1047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71" h="67">
                <a:moveTo>
                  <a:pt x="71" y="16"/>
                </a:moveTo>
                <a:lnTo>
                  <a:pt x="16" y="67"/>
                </a:lnTo>
                <a:lnTo>
                  <a:pt x="0" y="55"/>
                </a:lnTo>
                <a:lnTo>
                  <a:pt x="55" y="0"/>
                </a:lnTo>
                <a:lnTo>
                  <a:pt x="71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82"/>
          <p:cNvSpPr/>
          <p:nvPr/>
        </p:nvSpPr>
        <p:spPr>
          <a:xfrm>
            <a:off x="4322880" y="5035680"/>
            <a:ext cx="102960" cy="98280"/>
          </a:xfrm>
          <a:custGeom>
            <a:avLst/>
            <a:gdLst>
              <a:gd name="textAreaLeft" fmla="*/ 0 w 102960"/>
              <a:gd name="textAreaRight" fmla="*/ 103320 w 1029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71" h="67">
                <a:moveTo>
                  <a:pt x="71" y="16"/>
                </a:moveTo>
                <a:lnTo>
                  <a:pt x="16" y="67"/>
                </a:lnTo>
                <a:lnTo>
                  <a:pt x="0" y="55"/>
                </a:lnTo>
                <a:lnTo>
                  <a:pt x="55" y="0"/>
                </a:lnTo>
                <a:lnTo>
                  <a:pt x="71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83"/>
          <p:cNvSpPr/>
          <p:nvPr/>
        </p:nvSpPr>
        <p:spPr>
          <a:xfrm>
            <a:off x="4137120" y="4781520"/>
            <a:ext cx="98280" cy="104760"/>
          </a:xfrm>
          <a:custGeom>
            <a:avLst/>
            <a:gdLst>
              <a:gd name="textAreaLeft" fmla="*/ 0 w 98280"/>
              <a:gd name="textAreaRight" fmla="*/ 98640 w 982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67" h="71">
                <a:moveTo>
                  <a:pt x="67" y="16"/>
                </a:moveTo>
                <a:lnTo>
                  <a:pt x="16" y="71"/>
                </a:lnTo>
                <a:lnTo>
                  <a:pt x="0" y="55"/>
                </a:lnTo>
                <a:lnTo>
                  <a:pt x="51" y="0"/>
                </a:lnTo>
                <a:lnTo>
                  <a:pt x="67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84"/>
          <p:cNvSpPr/>
          <p:nvPr/>
        </p:nvSpPr>
        <p:spPr>
          <a:xfrm>
            <a:off x="4051440" y="4694400"/>
            <a:ext cx="102960" cy="98280"/>
          </a:xfrm>
          <a:custGeom>
            <a:avLst/>
            <a:gdLst>
              <a:gd name="textAreaLeft" fmla="*/ 0 w 102960"/>
              <a:gd name="textAreaRight" fmla="*/ 103320 w 1029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71" h="67">
                <a:moveTo>
                  <a:pt x="71" y="16"/>
                </a:moveTo>
                <a:lnTo>
                  <a:pt x="16" y="67"/>
                </a:lnTo>
                <a:lnTo>
                  <a:pt x="0" y="55"/>
                </a:lnTo>
                <a:lnTo>
                  <a:pt x="55" y="0"/>
                </a:lnTo>
                <a:lnTo>
                  <a:pt x="71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85"/>
          <p:cNvSpPr/>
          <p:nvPr/>
        </p:nvSpPr>
        <p:spPr>
          <a:xfrm>
            <a:off x="4103640" y="4903920"/>
            <a:ext cx="103320" cy="102960"/>
          </a:xfrm>
          <a:custGeom>
            <a:avLst/>
            <a:gdLst>
              <a:gd name="textAreaLeft" fmla="*/ 0 w 103320"/>
              <a:gd name="textAreaRight" fmla="*/ 103680 w 1033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70" h="71">
                <a:moveTo>
                  <a:pt x="15" y="0"/>
                </a:moveTo>
                <a:lnTo>
                  <a:pt x="70" y="55"/>
                </a:lnTo>
                <a:lnTo>
                  <a:pt x="55" y="71"/>
                </a:lnTo>
                <a:lnTo>
                  <a:pt x="0" y="15"/>
                </a:lnTo>
                <a:lnTo>
                  <a:pt x="15" y="0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86"/>
          <p:cNvSpPr/>
          <p:nvPr/>
        </p:nvSpPr>
        <p:spPr>
          <a:xfrm>
            <a:off x="4229280" y="4890960"/>
            <a:ext cx="98280" cy="104760"/>
          </a:xfrm>
          <a:custGeom>
            <a:avLst/>
            <a:gdLst>
              <a:gd name="textAreaLeft" fmla="*/ 0 w 98280"/>
              <a:gd name="textAreaRight" fmla="*/ 98640 w 982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67" h="71">
                <a:moveTo>
                  <a:pt x="12" y="0"/>
                </a:moveTo>
                <a:lnTo>
                  <a:pt x="67" y="55"/>
                </a:lnTo>
                <a:lnTo>
                  <a:pt x="51" y="71"/>
                </a:lnTo>
                <a:lnTo>
                  <a:pt x="0" y="16"/>
                </a:lnTo>
                <a:lnTo>
                  <a:pt x="12" y="0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87"/>
          <p:cNvSpPr/>
          <p:nvPr/>
        </p:nvSpPr>
        <p:spPr>
          <a:xfrm>
            <a:off x="8005680" y="3033720"/>
            <a:ext cx="565200" cy="324000"/>
          </a:xfrm>
          <a:custGeom>
            <a:avLst/>
            <a:gdLst>
              <a:gd name="textAreaLeft" fmla="*/ 0 w 565200"/>
              <a:gd name="textAreaRight" fmla="*/ 565560 w 56520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98" h="56">
                <a:moveTo>
                  <a:pt x="81" y="21"/>
                </a:moveTo>
                <a:cubicBezTo>
                  <a:pt x="79" y="21"/>
                  <a:pt x="78" y="21"/>
                  <a:pt x="76" y="22"/>
                </a:cubicBezTo>
                <a:cubicBezTo>
                  <a:pt x="73" y="9"/>
                  <a:pt x="62" y="0"/>
                  <a:pt x="49" y="0"/>
                </a:cubicBezTo>
                <a:cubicBezTo>
                  <a:pt x="35" y="0"/>
                  <a:pt x="24" y="9"/>
                  <a:pt x="21" y="22"/>
                </a:cubicBezTo>
                <a:cubicBezTo>
                  <a:pt x="20" y="21"/>
                  <a:pt x="18" y="21"/>
                  <a:pt x="17" y="21"/>
                </a:cubicBezTo>
                <a:cubicBezTo>
                  <a:pt x="7" y="21"/>
                  <a:pt x="0" y="29"/>
                  <a:pt x="0" y="38"/>
                </a:cubicBezTo>
                <a:cubicBezTo>
                  <a:pt x="0" y="48"/>
                  <a:pt x="7" y="56"/>
                  <a:pt x="17" y="56"/>
                </a:cubicBezTo>
                <a:cubicBezTo>
                  <a:pt x="22" y="56"/>
                  <a:pt x="75" y="56"/>
                  <a:pt x="81" y="56"/>
                </a:cubicBezTo>
                <a:cubicBezTo>
                  <a:pt x="91" y="56"/>
                  <a:pt x="98" y="48"/>
                  <a:pt x="98" y="38"/>
                </a:cubicBezTo>
                <a:cubicBezTo>
                  <a:pt x="98" y="29"/>
                  <a:pt x="91" y="21"/>
                  <a:pt x="81" y="21"/>
                </a:cubicBezTo>
                <a:close/>
              </a:path>
            </a:pathLst>
          </a:custGeom>
          <a:solidFill>
            <a:srgbClr val="64d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88"/>
          <p:cNvSpPr/>
          <p:nvPr/>
        </p:nvSpPr>
        <p:spPr>
          <a:xfrm>
            <a:off x="7267680" y="4444920"/>
            <a:ext cx="965160" cy="990720"/>
          </a:xfrm>
          <a:custGeom>
            <a:avLst/>
            <a:gdLst>
              <a:gd name="textAreaLeft" fmla="*/ 0 w 965160"/>
              <a:gd name="textAreaRight" fmla="*/ 965520 w 9651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167" h="171">
                <a:moveTo>
                  <a:pt x="156" y="106"/>
                </a:moveTo>
                <a:cubicBezTo>
                  <a:pt x="158" y="101"/>
                  <a:pt x="160" y="95"/>
                  <a:pt x="160" y="90"/>
                </a:cubicBezTo>
                <a:cubicBezTo>
                  <a:pt x="160" y="70"/>
                  <a:pt x="144" y="54"/>
                  <a:pt x="124" y="54"/>
                </a:cubicBezTo>
                <a:cubicBezTo>
                  <a:pt x="122" y="54"/>
                  <a:pt x="120" y="54"/>
                  <a:pt x="118" y="54"/>
                </a:cubicBezTo>
                <a:cubicBezTo>
                  <a:pt x="118" y="54"/>
                  <a:pt x="118" y="54"/>
                  <a:pt x="118" y="54"/>
                </a:cubicBezTo>
                <a:cubicBezTo>
                  <a:pt x="128" y="50"/>
                  <a:pt x="135" y="40"/>
                  <a:pt x="135" y="28"/>
                </a:cubicBezTo>
                <a:cubicBezTo>
                  <a:pt x="135" y="12"/>
                  <a:pt x="122" y="0"/>
                  <a:pt x="106" y="0"/>
                </a:cubicBezTo>
                <a:cubicBezTo>
                  <a:pt x="90" y="0"/>
                  <a:pt x="78" y="12"/>
                  <a:pt x="78" y="28"/>
                </a:cubicBezTo>
                <a:cubicBezTo>
                  <a:pt x="78" y="31"/>
                  <a:pt x="78" y="33"/>
                  <a:pt x="79" y="36"/>
                </a:cubicBezTo>
                <a:cubicBezTo>
                  <a:pt x="69" y="37"/>
                  <a:pt x="61" y="42"/>
                  <a:pt x="55" y="48"/>
                </a:cubicBezTo>
                <a:cubicBezTo>
                  <a:pt x="49" y="43"/>
                  <a:pt x="42" y="40"/>
                  <a:pt x="34" y="40"/>
                </a:cubicBezTo>
                <a:cubicBezTo>
                  <a:pt x="15" y="40"/>
                  <a:pt x="0" y="55"/>
                  <a:pt x="0" y="74"/>
                </a:cubicBezTo>
                <a:cubicBezTo>
                  <a:pt x="0" y="85"/>
                  <a:pt x="6" y="95"/>
                  <a:pt x="15" y="101"/>
                </a:cubicBezTo>
                <a:cubicBezTo>
                  <a:pt x="13" y="105"/>
                  <a:pt x="12" y="110"/>
                  <a:pt x="12" y="115"/>
                </a:cubicBezTo>
                <a:cubicBezTo>
                  <a:pt x="12" y="133"/>
                  <a:pt x="26" y="148"/>
                  <a:pt x="44" y="148"/>
                </a:cubicBezTo>
                <a:cubicBezTo>
                  <a:pt x="50" y="148"/>
                  <a:pt x="56" y="146"/>
                  <a:pt x="60" y="144"/>
                </a:cubicBezTo>
                <a:cubicBezTo>
                  <a:pt x="66" y="160"/>
                  <a:pt x="81" y="171"/>
                  <a:pt x="99" y="171"/>
                </a:cubicBezTo>
                <a:cubicBezTo>
                  <a:pt x="115" y="171"/>
                  <a:pt x="128" y="162"/>
                  <a:pt x="135" y="149"/>
                </a:cubicBezTo>
                <a:cubicBezTo>
                  <a:pt x="137" y="149"/>
                  <a:pt x="140" y="150"/>
                  <a:pt x="142" y="150"/>
                </a:cubicBezTo>
                <a:cubicBezTo>
                  <a:pt x="156" y="150"/>
                  <a:pt x="167" y="139"/>
                  <a:pt x="167" y="126"/>
                </a:cubicBezTo>
                <a:cubicBezTo>
                  <a:pt x="167" y="117"/>
                  <a:pt x="162" y="110"/>
                  <a:pt x="156" y="106"/>
                </a:cubicBezTo>
                <a:close/>
              </a:path>
            </a:pathLst>
          </a:custGeom>
          <a:solidFill>
            <a:srgbClr val="0dd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89"/>
          <p:cNvSpPr/>
          <p:nvPr/>
        </p:nvSpPr>
        <p:spPr>
          <a:xfrm>
            <a:off x="7781760" y="4444920"/>
            <a:ext cx="451080" cy="990720"/>
          </a:xfrm>
          <a:custGeom>
            <a:avLst/>
            <a:gdLst>
              <a:gd name="textAreaLeft" fmla="*/ 0 w 451080"/>
              <a:gd name="textAreaRight" fmla="*/ 451440 w 4510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78" h="171">
                <a:moveTo>
                  <a:pt x="67" y="106"/>
                </a:moveTo>
                <a:cubicBezTo>
                  <a:pt x="69" y="101"/>
                  <a:pt x="71" y="95"/>
                  <a:pt x="71" y="90"/>
                </a:cubicBezTo>
                <a:cubicBezTo>
                  <a:pt x="71" y="70"/>
                  <a:pt x="55" y="54"/>
                  <a:pt x="35" y="54"/>
                </a:cubicBezTo>
                <a:cubicBezTo>
                  <a:pt x="33" y="54"/>
                  <a:pt x="31" y="54"/>
                  <a:pt x="29" y="54"/>
                </a:cubicBezTo>
                <a:cubicBezTo>
                  <a:pt x="29" y="54"/>
                  <a:pt x="29" y="54"/>
                  <a:pt x="29" y="54"/>
                </a:cubicBezTo>
                <a:cubicBezTo>
                  <a:pt x="39" y="50"/>
                  <a:pt x="46" y="40"/>
                  <a:pt x="46" y="28"/>
                </a:cubicBezTo>
                <a:cubicBezTo>
                  <a:pt x="46" y="12"/>
                  <a:pt x="33" y="0"/>
                  <a:pt x="17" y="0"/>
                </a:cubicBezTo>
                <a:cubicBezTo>
                  <a:pt x="11" y="0"/>
                  <a:pt x="4" y="2"/>
                  <a:pt x="0" y="6"/>
                </a:cubicBezTo>
                <a:cubicBezTo>
                  <a:pt x="0" y="170"/>
                  <a:pt x="0" y="170"/>
                  <a:pt x="0" y="170"/>
                </a:cubicBezTo>
                <a:cubicBezTo>
                  <a:pt x="3" y="171"/>
                  <a:pt x="6" y="171"/>
                  <a:pt x="10" y="171"/>
                </a:cubicBezTo>
                <a:cubicBezTo>
                  <a:pt x="26" y="171"/>
                  <a:pt x="39" y="162"/>
                  <a:pt x="46" y="149"/>
                </a:cubicBezTo>
                <a:cubicBezTo>
                  <a:pt x="48" y="149"/>
                  <a:pt x="51" y="150"/>
                  <a:pt x="53" y="150"/>
                </a:cubicBezTo>
                <a:cubicBezTo>
                  <a:pt x="67" y="150"/>
                  <a:pt x="78" y="139"/>
                  <a:pt x="78" y="126"/>
                </a:cubicBezTo>
                <a:cubicBezTo>
                  <a:pt x="78" y="117"/>
                  <a:pt x="73" y="110"/>
                  <a:pt x="67" y="106"/>
                </a:cubicBezTo>
                <a:close/>
              </a:path>
            </a:pathLst>
          </a:custGeom>
          <a:solidFill>
            <a:srgbClr val="0d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90"/>
          <p:cNvSpPr/>
          <p:nvPr/>
        </p:nvSpPr>
        <p:spPr>
          <a:xfrm>
            <a:off x="7664400" y="5000760"/>
            <a:ext cx="227160" cy="23148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91"/>
          <p:cNvSpPr/>
          <p:nvPr/>
        </p:nvSpPr>
        <p:spPr>
          <a:xfrm>
            <a:off x="7718400" y="4788000"/>
            <a:ext cx="131760" cy="127080"/>
          </a:xfrm>
          <a:prstGeom prst="ellipse">
            <a:avLst/>
          </a:prstGeom>
          <a:solidFill>
            <a:srgbClr val="76f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194"/>
          <p:cNvSpPr/>
          <p:nvPr/>
        </p:nvSpPr>
        <p:spPr>
          <a:xfrm>
            <a:off x="2952360" y="1185840"/>
            <a:ext cx="629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a79d"/>
                </a:solidFill>
                <a:latin typeface="微软雅黑"/>
                <a:ea typeface="微软雅黑"/>
              </a:rPr>
              <a:t>扁平化旅游主题卡通</a:t>
            </a:r>
            <a:r>
              <a:rPr b="1" lang="en-US" sz="5400" spc="-1" strike="noStrike">
                <a:solidFill>
                  <a:srgbClr val="00a79d"/>
                </a:solidFill>
                <a:latin typeface="微软雅黑"/>
                <a:ea typeface="微软雅黑"/>
              </a:rPr>
              <a:t>PPT</a:t>
            </a:r>
            <a:r>
              <a:rPr b="1" lang="zh-CN" sz="5400" spc="-1" strike="noStrike">
                <a:solidFill>
                  <a:srgbClr val="00a79d"/>
                </a:solidFill>
                <a:latin typeface="微软雅黑"/>
                <a:ea typeface="微软雅黑"/>
              </a:rPr>
              <a:t>模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195"/>
          <p:cNvSpPr/>
          <p:nvPr/>
        </p:nvSpPr>
        <p:spPr>
          <a:xfrm>
            <a:off x="3388320" y="2073240"/>
            <a:ext cx="53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 CONSECTET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8"/>
          <p:cNvSpPr/>
          <p:nvPr/>
        </p:nvSpPr>
        <p:spPr>
          <a:xfrm>
            <a:off x="4299840" y="2475000"/>
            <a:ext cx="138744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人：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9"/>
          <p:cNvSpPr/>
          <p:nvPr/>
        </p:nvSpPr>
        <p:spPr>
          <a:xfrm>
            <a:off x="6459120" y="2475000"/>
            <a:ext cx="129600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：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198"/>
          <p:cNvSpPr/>
          <p:nvPr/>
        </p:nvSpPr>
        <p:spPr>
          <a:xfrm>
            <a:off x="1681200" y="2073240"/>
            <a:ext cx="8859960" cy="1800"/>
          </a:xfrm>
          <a:prstGeom prst="line">
            <a:avLst/>
          </a:prstGeom>
          <a:ln w="6480">
            <a:solidFill>
              <a:srgbClr val="00a79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矩形 7"/>
          <p:cNvSpPr/>
          <p:nvPr/>
        </p:nvSpPr>
        <p:spPr>
          <a:xfrm>
            <a:off x="-15840" y="2022480"/>
            <a:ext cx="12244320" cy="42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图片 3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503360"/>
            <a:ext cx="3030480" cy="2019240"/>
          </a:xfrm>
          <a:prstGeom prst="rect">
            <a:avLst/>
          </a:prstGeom>
          <a:ln w="0">
            <a:noFill/>
          </a:ln>
        </p:spPr>
      </p:pic>
      <p:pic>
        <p:nvPicPr>
          <p:cNvPr id="623" name="图片 41" descr=""/>
          <p:cNvPicPr/>
          <p:nvPr/>
        </p:nvPicPr>
        <p:blipFill>
          <a:blip r:embed="rId2">
            <a:grayscl/>
          </a:blip>
          <a:srcRect l="0" t="0" r="0" b="5684"/>
          <a:stretch/>
        </p:blipFill>
        <p:spPr>
          <a:xfrm>
            <a:off x="9009000" y="1515960"/>
            <a:ext cx="3219480" cy="2148120"/>
          </a:xfrm>
          <a:prstGeom prst="rect">
            <a:avLst/>
          </a:prstGeom>
          <a:ln w="0">
            <a:noFill/>
          </a:ln>
        </p:spPr>
      </p:pic>
      <p:pic>
        <p:nvPicPr>
          <p:cNvPr id="624" name="图片 42" descr=""/>
          <p:cNvPicPr/>
          <p:nvPr/>
        </p:nvPicPr>
        <p:blipFill>
          <a:blip r:embed="rId3">
            <a:grayscl/>
          </a:blip>
          <a:srcRect l="-419" t="35692" r="424" b="15690"/>
          <a:stretch/>
        </p:blipFill>
        <p:spPr>
          <a:xfrm>
            <a:off x="2995560" y="1512720"/>
            <a:ext cx="3132360" cy="2138400"/>
          </a:xfrm>
          <a:prstGeom prst="rect">
            <a:avLst/>
          </a:prstGeom>
          <a:ln w="0">
            <a:noFill/>
          </a:ln>
        </p:spPr>
      </p:pic>
      <p:pic>
        <p:nvPicPr>
          <p:cNvPr id="625" name="图片 40" descr=""/>
          <p:cNvPicPr/>
          <p:nvPr/>
        </p:nvPicPr>
        <p:blipFill>
          <a:blip r:embed="rId4">
            <a:grayscl/>
          </a:blip>
          <a:srcRect l="0" t="0" r="3087" b="0"/>
          <a:stretch/>
        </p:blipFill>
        <p:spPr>
          <a:xfrm>
            <a:off x="6107040" y="1525680"/>
            <a:ext cx="2986200" cy="2052720"/>
          </a:xfrm>
          <a:prstGeom prst="rect">
            <a:avLst/>
          </a:prstGeom>
          <a:ln w="0">
            <a:noFill/>
          </a:ln>
        </p:spPr>
      </p:pic>
      <p:sp>
        <p:nvSpPr>
          <p:cNvPr id="626" name="矩形 13"/>
          <p:cNvSpPr/>
          <p:nvPr/>
        </p:nvSpPr>
        <p:spPr>
          <a:xfrm>
            <a:off x="-15840" y="3511440"/>
            <a:ext cx="3112920" cy="182520"/>
          </a:xfrm>
          <a:prstGeom prst="rect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14"/>
          <p:cNvSpPr/>
          <p:nvPr/>
        </p:nvSpPr>
        <p:spPr>
          <a:xfrm>
            <a:off x="6103800" y="3511440"/>
            <a:ext cx="3113280" cy="182520"/>
          </a:xfrm>
          <a:prstGeom prst="rect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15"/>
          <p:cNvSpPr/>
          <p:nvPr/>
        </p:nvSpPr>
        <p:spPr>
          <a:xfrm>
            <a:off x="9105840" y="3511440"/>
            <a:ext cx="3113280" cy="182520"/>
          </a:xfrm>
          <a:prstGeom prst="rect">
            <a:avLst/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16"/>
          <p:cNvSpPr/>
          <p:nvPr/>
        </p:nvSpPr>
        <p:spPr>
          <a:xfrm>
            <a:off x="3014640" y="3511440"/>
            <a:ext cx="3081240" cy="182520"/>
          </a:xfrm>
          <a:prstGeom prst="rect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矩形 43"/>
          <p:cNvSpPr/>
          <p:nvPr/>
        </p:nvSpPr>
        <p:spPr>
          <a:xfrm>
            <a:off x="98064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5be"/>
                </a:solidFill>
                <a:latin typeface="微软雅黑"/>
                <a:ea typeface="微软雅黑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44"/>
          <p:cNvSpPr/>
          <p:nvPr/>
        </p:nvSpPr>
        <p:spPr>
          <a:xfrm>
            <a:off x="411732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45"/>
          <p:cNvSpPr/>
          <p:nvPr/>
        </p:nvSpPr>
        <p:spPr>
          <a:xfrm>
            <a:off x="723996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矩形 46"/>
          <p:cNvSpPr/>
          <p:nvPr/>
        </p:nvSpPr>
        <p:spPr>
          <a:xfrm>
            <a:off x="10180080" y="3841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47"/>
          <p:cNvSpPr/>
          <p:nvPr/>
        </p:nvSpPr>
        <p:spPr>
          <a:xfrm>
            <a:off x="77940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95be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矩形 48"/>
          <p:cNvSpPr/>
          <p:nvPr/>
        </p:nvSpPr>
        <p:spPr>
          <a:xfrm>
            <a:off x="38185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51"/>
          <p:cNvSpPr/>
          <p:nvPr/>
        </p:nvSpPr>
        <p:spPr>
          <a:xfrm>
            <a:off x="696024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矩形 52"/>
          <p:cNvSpPr/>
          <p:nvPr/>
        </p:nvSpPr>
        <p:spPr>
          <a:xfrm>
            <a:off x="100177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54"/>
          <p:cNvSpPr/>
          <p:nvPr/>
        </p:nvSpPr>
        <p:spPr>
          <a:xfrm>
            <a:off x="16344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矩形 54"/>
          <p:cNvSpPr/>
          <p:nvPr/>
        </p:nvSpPr>
        <p:spPr>
          <a:xfrm>
            <a:off x="3203640" y="4821120"/>
            <a:ext cx="25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54"/>
          <p:cNvSpPr/>
          <p:nvPr/>
        </p:nvSpPr>
        <p:spPr>
          <a:xfrm>
            <a:off x="640548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54"/>
          <p:cNvSpPr/>
          <p:nvPr/>
        </p:nvSpPr>
        <p:spPr>
          <a:xfrm>
            <a:off x="9363240" y="4821120"/>
            <a:ext cx="25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图片 2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22520" y="1017720"/>
            <a:ext cx="8942400" cy="3403440"/>
          </a:xfrm>
          <a:prstGeom prst="rect">
            <a:avLst/>
          </a:prstGeom>
          <a:ln w="0">
            <a:noFill/>
          </a:ln>
        </p:spPr>
      </p:pic>
      <p:sp>
        <p:nvSpPr>
          <p:cNvPr id="645" name="矩形 117"/>
          <p:cNvSpPr/>
          <p:nvPr/>
        </p:nvSpPr>
        <p:spPr>
          <a:xfrm>
            <a:off x="2200320" y="4603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4e4e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124"/>
          <p:cNvSpPr/>
          <p:nvPr/>
        </p:nvSpPr>
        <p:spPr>
          <a:xfrm>
            <a:off x="1824120" y="5116680"/>
            <a:ext cx="854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直接连接符 29"/>
          <p:cNvSpPr/>
          <p:nvPr/>
        </p:nvSpPr>
        <p:spPr>
          <a:xfrm>
            <a:off x="1873080" y="5079960"/>
            <a:ext cx="1882800" cy="0"/>
          </a:xfrm>
          <a:prstGeom prst="line">
            <a:avLst/>
          </a:prstGeom>
          <a:ln w="6480">
            <a:solidFill>
              <a:srgbClr val="4e4e4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任意多边形 20"/>
          <p:cNvSpPr/>
          <p:nvPr/>
        </p:nvSpPr>
        <p:spPr>
          <a:xfrm>
            <a:off x="753588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任意多边形 18"/>
          <p:cNvSpPr/>
          <p:nvPr/>
        </p:nvSpPr>
        <p:spPr>
          <a:xfrm>
            <a:off x="5016600" y="2654280"/>
            <a:ext cx="216036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任意多边形 9"/>
          <p:cNvSpPr/>
          <p:nvPr/>
        </p:nvSpPr>
        <p:spPr>
          <a:xfrm>
            <a:off x="249552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117"/>
          <p:cNvSpPr/>
          <p:nvPr/>
        </p:nvSpPr>
        <p:spPr>
          <a:xfrm>
            <a:off x="5091840" y="1225440"/>
            <a:ext cx="2009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4e4e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124"/>
          <p:cNvSpPr/>
          <p:nvPr/>
        </p:nvSpPr>
        <p:spPr>
          <a:xfrm>
            <a:off x="2863800" y="1731960"/>
            <a:ext cx="64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15"/>
          <p:cNvSpPr/>
          <p:nvPr/>
        </p:nvSpPr>
        <p:spPr>
          <a:xfrm>
            <a:off x="2604960" y="2762280"/>
            <a:ext cx="1946520" cy="2343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16"/>
          <p:cNvSpPr/>
          <p:nvPr/>
        </p:nvSpPr>
        <p:spPr>
          <a:xfrm>
            <a:off x="5124600" y="2762280"/>
            <a:ext cx="1946160" cy="2343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矩形 17"/>
          <p:cNvSpPr/>
          <p:nvPr/>
        </p:nvSpPr>
        <p:spPr>
          <a:xfrm>
            <a:off x="7643880" y="2762280"/>
            <a:ext cx="1946160" cy="2343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Freeform 11"/>
          <p:cNvSpPr/>
          <p:nvPr/>
        </p:nvSpPr>
        <p:spPr>
          <a:xfrm>
            <a:off x="6321600" y="4711680"/>
            <a:ext cx="691920" cy="1555920"/>
          </a:xfrm>
          <a:custGeom>
            <a:avLst/>
            <a:gdLst>
              <a:gd name="textAreaLeft" fmla="*/ 0 w 691920"/>
              <a:gd name="textAreaRight" fmla="*/ 691920 w 691920"/>
              <a:gd name="textAreaTop" fmla="*/ 0 h 1555920"/>
              <a:gd name="textAreaBottom" fmla="*/ 1556280 h 1555920"/>
            </a:gdLst>
            <a:ahLst/>
            <a:rect l="textAreaLeft" t="textAreaTop" r="textAreaRight" b="textAreaBottom"/>
            <a:pathLst>
              <a:path w="120" h="269">
                <a:moveTo>
                  <a:pt x="100" y="269"/>
                </a:moveTo>
                <a:cubicBezTo>
                  <a:pt x="20" y="269"/>
                  <a:pt x="20" y="269"/>
                  <a:pt x="20" y="269"/>
                </a:cubicBezTo>
                <a:cubicBezTo>
                  <a:pt x="9" y="269"/>
                  <a:pt x="0" y="260"/>
                  <a:pt x="0" y="249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27"/>
                  <a:pt x="27" y="0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93" y="0"/>
                  <a:pt x="120" y="27"/>
                  <a:pt x="120" y="60"/>
                </a:cubicBezTo>
                <a:cubicBezTo>
                  <a:pt x="120" y="249"/>
                  <a:pt x="120" y="249"/>
                  <a:pt x="120" y="249"/>
                </a:cubicBezTo>
                <a:cubicBezTo>
                  <a:pt x="120" y="260"/>
                  <a:pt x="111" y="269"/>
                  <a:pt x="100" y="269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15"/>
          <p:cNvSpPr/>
          <p:nvPr/>
        </p:nvSpPr>
        <p:spPr>
          <a:xfrm>
            <a:off x="6753240" y="3432240"/>
            <a:ext cx="4822920" cy="3200400"/>
          </a:xfrm>
          <a:custGeom>
            <a:avLst/>
            <a:gdLst>
              <a:gd name="textAreaLeft" fmla="*/ 0 w 4822920"/>
              <a:gd name="textAreaRight" fmla="*/ 4823280 w 482292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835" h="553">
                <a:moveTo>
                  <a:pt x="777" y="374"/>
                </a:moveTo>
                <a:cubicBezTo>
                  <a:pt x="684" y="374"/>
                  <a:pt x="684" y="374"/>
                  <a:pt x="684" y="374"/>
                </a:cubicBezTo>
                <a:cubicBezTo>
                  <a:pt x="684" y="323"/>
                  <a:pt x="684" y="323"/>
                  <a:pt x="684" y="323"/>
                </a:cubicBezTo>
                <a:cubicBezTo>
                  <a:pt x="684" y="277"/>
                  <a:pt x="647" y="240"/>
                  <a:pt x="601" y="240"/>
                </a:cubicBezTo>
                <a:cubicBezTo>
                  <a:pt x="493" y="240"/>
                  <a:pt x="493" y="240"/>
                  <a:pt x="493" y="240"/>
                </a:cubicBezTo>
                <a:cubicBezTo>
                  <a:pt x="493" y="183"/>
                  <a:pt x="493" y="183"/>
                  <a:pt x="493" y="183"/>
                </a:cubicBezTo>
                <a:cubicBezTo>
                  <a:pt x="493" y="153"/>
                  <a:pt x="469" y="129"/>
                  <a:pt x="440" y="129"/>
                </a:cubicBezTo>
                <a:cubicBezTo>
                  <a:pt x="435" y="129"/>
                  <a:pt x="435" y="129"/>
                  <a:pt x="435" y="129"/>
                </a:cubicBezTo>
                <a:cubicBezTo>
                  <a:pt x="435" y="92"/>
                  <a:pt x="435" y="92"/>
                  <a:pt x="435" y="92"/>
                </a:cubicBezTo>
                <a:cubicBezTo>
                  <a:pt x="435" y="45"/>
                  <a:pt x="398" y="5"/>
                  <a:pt x="351" y="2"/>
                </a:cubicBezTo>
                <a:cubicBezTo>
                  <a:pt x="301" y="0"/>
                  <a:pt x="260" y="40"/>
                  <a:pt x="260" y="90"/>
                </a:cubicBezTo>
                <a:cubicBezTo>
                  <a:pt x="260" y="98"/>
                  <a:pt x="260" y="98"/>
                  <a:pt x="260" y="98"/>
                </a:cubicBezTo>
                <a:cubicBezTo>
                  <a:pt x="257" y="98"/>
                  <a:pt x="257" y="98"/>
                  <a:pt x="257" y="98"/>
                </a:cubicBezTo>
                <a:cubicBezTo>
                  <a:pt x="217" y="98"/>
                  <a:pt x="185" y="130"/>
                  <a:pt x="185" y="170"/>
                </a:cubicBezTo>
                <a:cubicBezTo>
                  <a:pt x="185" y="214"/>
                  <a:pt x="185" y="214"/>
                  <a:pt x="185" y="214"/>
                </a:cubicBezTo>
                <a:cubicBezTo>
                  <a:pt x="162" y="214"/>
                  <a:pt x="162" y="214"/>
                  <a:pt x="162" y="214"/>
                </a:cubicBezTo>
                <a:cubicBezTo>
                  <a:pt x="128" y="214"/>
                  <a:pt x="100" y="242"/>
                  <a:pt x="100" y="275"/>
                </a:cubicBezTo>
                <a:cubicBezTo>
                  <a:pt x="100" y="324"/>
                  <a:pt x="100" y="324"/>
                  <a:pt x="100" y="324"/>
                </a:cubicBezTo>
                <a:cubicBezTo>
                  <a:pt x="58" y="324"/>
                  <a:pt x="58" y="324"/>
                  <a:pt x="58" y="324"/>
                </a:cubicBezTo>
                <a:cubicBezTo>
                  <a:pt x="26" y="324"/>
                  <a:pt x="0" y="349"/>
                  <a:pt x="0" y="381"/>
                </a:cubicBezTo>
                <a:cubicBezTo>
                  <a:pt x="0" y="502"/>
                  <a:pt x="0" y="502"/>
                  <a:pt x="0" y="502"/>
                </a:cubicBezTo>
                <a:cubicBezTo>
                  <a:pt x="124" y="502"/>
                  <a:pt x="124" y="502"/>
                  <a:pt x="124" y="502"/>
                </a:cubicBezTo>
                <a:cubicBezTo>
                  <a:pt x="124" y="498"/>
                  <a:pt x="124" y="498"/>
                  <a:pt x="124" y="498"/>
                </a:cubicBezTo>
                <a:cubicBezTo>
                  <a:pt x="185" y="498"/>
                  <a:pt x="185" y="498"/>
                  <a:pt x="185" y="498"/>
                </a:cubicBezTo>
                <a:cubicBezTo>
                  <a:pt x="185" y="524"/>
                  <a:pt x="185" y="524"/>
                  <a:pt x="185" y="524"/>
                </a:cubicBezTo>
                <a:cubicBezTo>
                  <a:pt x="300" y="524"/>
                  <a:pt x="300" y="524"/>
                  <a:pt x="300" y="524"/>
                </a:cubicBezTo>
                <a:cubicBezTo>
                  <a:pt x="300" y="512"/>
                  <a:pt x="300" y="512"/>
                  <a:pt x="300" y="512"/>
                </a:cubicBezTo>
                <a:cubicBezTo>
                  <a:pt x="435" y="512"/>
                  <a:pt x="435" y="512"/>
                  <a:pt x="435" y="512"/>
                </a:cubicBezTo>
                <a:cubicBezTo>
                  <a:pt x="435" y="490"/>
                  <a:pt x="435" y="490"/>
                  <a:pt x="435" y="490"/>
                </a:cubicBezTo>
                <a:cubicBezTo>
                  <a:pt x="470" y="490"/>
                  <a:pt x="470" y="490"/>
                  <a:pt x="470" y="490"/>
                </a:cubicBezTo>
                <a:cubicBezTo>
                  <a:pt x="470" y="527"/>
                  <a:pt x="470" y="527"/>
                  <a:pt x="470" y="527"/>
                </a:cubicBezTo>
                <a:cubicBezTo>
                  <a:pt x="646" y="527"/>
                  <a:pt x="646" y="527"/>
                  <a:pt x="646" y="527"/>
                </a:cubicBezTo>
                <a:cubicBezTo>
                  <a:pt x="646" y="553"/>
                  <a:pt x="646" y="553"/>
                  <a:pt x="646" y="553"/>
                </a:cubicBezTo>
                <a:cubicBezTo>
                  <a:pt x="835" y="553"/>
                  <a:pt x="835" y="553"/>
                  <a:pt x="835" y="553"/>
                </a:cubicBezTo>
                <a:cubicBezTo>
                  <a:pt x="835" y="433"/>
                  <a:pt x="835" y="433"/>
                  <a:pt x="835" y="433"/>
                </a:cubicBezTo>
                <a:cubicBezTo>
                  <a:pt x="835" y="401"/>
                  <a:pt x="809" y="374"/>
                  <a:pt x="777" y="374"/>
                </a:cubicBez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16"/>
          <p:cNvSpPr/>
          <p:nvPr/>
        </p:nvSpPr>
        <p:spPr>
          <a:xfrm>
            <a:off x="8775720" y="3444840"/>
            <a:ext cx="2800440" cy="3036960"/>
          </a:xfrm>
          <a:custGeom>
            <a:avLst/>
            <a:gdLst>
              <a:gd name="textAreaLeft" fmla="*/ 0 w 2800440"/>
              <a:gd name="textAreaRight" fmla="*/ 2800800 w 2800440"/>
              <a:gd name="textAreaTop" fmla="*/ 0 h 3036960"/>
              <a:gd name="textAreaBottom" fmla="*/ 3037320 h 3036960"/>
            </a:gdLst>
            <a:ahLst/>
            <a:rect l="textAreaLeft" t="textAreaTop" r="textAreaRight" b="textAreaBottom"/>
            <a:pathLst>
              <a:path w="485" h="525">
                <a:moveTo>
                  <a:pt x="427" y="372"/>
                </a:moveTo>
                <a:cubicBezTo>
                  <a:pt x="334" y="372"/>
                  <a:pt x="334" y="372"/>
                  <a:pt x="334" y="372"/>
                </a:cubicBezTo>
                <a:cubicBezTo>
                  <a:pt x="334" y="321"/>
                  <a:pt x="334" y="321"/>
                  <a:pt x="334" y="321"/>
                </a:cubicBezTo>
                <a:cubicBezTo>
                  <a:pt x="334" y="275"/>
                  <a:pt x="297" y="238"/>
                  <a:pt x="251" y="238"/>
                </a:cubicBezTo>
                <a:cubicBezTo>
                  <a:pt x="143" y="238"/>
                  <a:pt x="143" y="238"/>
                  <a:pt x="143" y="238"/>
                </a:cubicBezTo>
                <a:cubicBezTo>
                  <a:pt x="143" y="181"/>
                  <a:pt x="143" y="181"/>
                  <a:pt x="143" y="181"/>
                </a:cubicBezTo>
                <a:cubicBezTo>
                  <a:pt x="143" y="151"/>
                  <a:pt x="119" y="127"/>
                  <a:pt x="90" y="127"/>
                </a:cubicBezTo>
                <a:cubicBezTo>
                  <a:pt x="85" y="127"/>
                  <a:pt x="85" y="127"/>
                  <a:pt x="85" y="127"/>
                </a:cubicBezTo>
                <a:cubicBezTo>
                  <a:pt x="85" y="90"/>
                  <a:pt x="85" y="90"/>
                  <a:pt x="85" y="90"/>
                </a:cubicBezTo>
                <a:cubicBezTo>
                  <a:pt x="85" y="43"/>
                  <a:pt x="48" y="3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510"/>
                  <a:pt x="0" y="510"/>
                  <a:pt x="0" y="510"/>
                </a:cubicBezTo>
                <a:cubicBezTo>
                  <a:pt x="85" y="510"/>
                  <a:pt x="85" y="510"/>
                  <a:pt x="85" y="510"/>
                </a:cubicBezTo>
                <a:cubicBezTo>
                  <a:pt x="85" y="488"/>
                  <a:pt x="85" y="488"/>
                  <a:pt x="85" y="488"/>
                </a:cubicBezTo>
                <a:cubicBezTo>
                  <a:pt x="120" y="488"/>
                  <a:pt x="120" y="488"/>
                  <a:pt x="120" y="488"/>
                </a:cubicBezTo>
                <a:cubicBezTo>
                  <a:pt x="120" y="525"/>
                  <a:pt x="120" y="525"/>
                  <a:pt x="120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485" y="525"/>
                  <a:pt x="485" y="525"/>
                  <a:pt x="485" y="525"/>
                </a:cubicBezTo>
                <a:cubicBezTo>
                  <a:pt x="485" y="431"/>
                  <a:pt x="485" y="431"/>
                  <a:pt x="485" y="431"/>
                </a:cubicBezTo>
                <a:cubicBezTo>
                  <a:pt x="485" y="399"/>
                  <a:pt x="459" y="372"/>
                  <a:pt x="427" y="372"/>
                </a:cubicBezTo>
                <a:close/>
              </a:path>
            </a:pathLst>
          </a:custGeom>
          <a:solidFill>
            <a:srgbClr val="46b3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17"/>
          <p:cNvSpPr/>
          <p:nvPr/>
        </p:nvSpPr>
        <p:spPr>
          <a:xfrm>
            <a:off x="7324560" y="4591080"/>
            <a:ext cx="514440" cy="1249200"/>
          </a:xfrm>
          <a:custGeom>
            <a:avLst/>
            <a:gdLst>
              <a:gd name="textAreaLeft" fmla="*/ 0 w 514440"/>
              <a:gd name="textAreaRight" fmla="*/ 514800 w 514440"/>
              <a:gd name="textAreaTop" fmla="*/ 0 h 1249200"/>
              <a:gd name="textAreaBottom" fmla="*/ 1249200 h 1249200"/>
            </a:gdLst>
            <a:ahLst/>
            <a:rect l="textAreaLeft" t="textAreaTop" r="textAreaRight" b="textAreaBottom"/>
            <a:pathLst>
              <a:path w="89" h="216">
                <a:moveTo>
                  <a:pt x="89" y="0"/>
                </a:moveTo>
                <a:cubicBezTo>
                  <a:pt x="88" y="0"/>
                  <a:pt x="87" y="0"/>
                  <a:pt x="86" y="0"/>
                </a:cubicBezTo>
                <a:cubicBezTo>
                  <a:pt x="86" y="14"/>
                  <a:pt x="86" y="14"/>
                  <a:pt x="86" y="14"/>
                </a:cubicBezTo>
                <a:cubicBezTo>
                  <a:pt x="63" y="14"/>
                  <a:pt x="63" y="14"/>
                  <a:pt x="63" y="14"/>
                </a:cubicBezTo>
                <a:cubicBezTo>
                  <a:pt x="45" y="14"/>
                  <a:pt x="29" y="21"/>
                  <a:pt x="18" y="33"/>
                </a:cubicBezTo>
                <a:cubicBezTo>
                  <a:pt x="11" y="42"/>
                  <a:pt x="5" y="53"/>
                  <a:pt x="2" y="65"/>
                </a:cubicBezTo>
                <a:cubicBezTo>
                  <a:pt x="2" y="68"/>
                  <a:pt x="1" y="72"/>
                  <a:pt x="1" y="75"/>
                </a:cubicBezTo>
                <a:cubicBezTo>
                  <a:pt x="1" y="124"/>
                  <a:pt x="1" y="124"/>
                  <a:pt x="1" y="124"/>
                </a:cubicBezTo>
                <a:cubicBezTo>
                  <a:pt x="0" y="124"/>
                  <a:pt x="0" y="124"/>
                  <a:pt x="0" y="124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18"/>
          <p:cNvSpPr/>
          <p:nvPr/>
        </p:nvSpPr>
        <p:spPr>
          <a:xfrm>
            <a:off x="7821720" y="3930480"/>
            <a:ext cx="520560" cy="1249560"/>
          </a:xfrm>
          <a:custGeom>
            <a:avLst/>
            <a:gdLst>
              <a:gd name="textAreaLeft" fmla="*/ 0 w 520560"/>
              <a:gd name="textAreaRight" fmla="*/ 520920 w 520560"/>
              <a:gd name="textAreaTop" fmla="*/ 0 h 1249560"/>
              <a:gd name="textAreaBottom" fmla="*/ 1249560 h 1249560"/>
            </a:gdLst>
            <a:ahLst/>
            <a:rect l="textAreaLeft" t="textAreaTop" r="textAreaRight" b="textAreaBottom"/>
            <a:pathLst>
              <a:path w="90" h="216">
                <a:moveTo>
                  <a:pt x="89" y="0"/>
                </a:moveTo>
                <a:cubicBezTo>
                  <a:pt x="84" y="0"/>
                  <a:pt x="90" y="3"/>
                  <a:pt x="85" y="3"/>
                </a:cubicBezTo>
                <a:cubicBezTo>
                  <a:pt x="85" y="4"/>
                  <a:pt x="86" y="9"/>
                  <a:pt x="86" y="10"/>
                </a:cubicBezTo>
                <a:cubicBezTo>
                  <a:pt x="73" y="12"/>
                  <a:pt x="73" y="12"/>
                  <a:pt x="73" y="12"/>
                </a:cubicBezTo>
                <a:cubicBezTo>
                  <a:pt x="70" y="12"/>
                  <a:pt x="70" y="12"/>
                  <a:pt x="70" y="12"/>
                </a:cubicBezTo>
                <a:cubicBezTo>
                  <a:pt x="47" y="12"/>
                  <a:pt x="26" y="23"/>
                  <a:pt x="13" y="41"/>
                </a:cubicBezTo>
                <a:cubicBezTo>
                  <a:pt x="6" y="52"/>
                  <a:pt x="1" y="65"/>
                  <a:pt x="0" y="79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c5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19"/>
          <p:cNvSpPr/>
          <p:nvPr/>
        </p:nvSpPr>
        <p:spPr>
          <a:xfrm>
            <a:off x="8255160" y="3438360"/>
            <a:ext cx="520560" cy="1257480"/>
          </a:xfrm>
          <a:custGeom>
            <a:avLst/>
            <a:gdLst>
              <a:gd name="textAreaLeft" fmla="*/ 0 w 520560"/>
              <a:gd name="textAreaRight" fmla="*/ 520920 w 520560"/>
              <a:gd name="textAreaTop" fmla="*/ 0 h 1257480"/>
              <a:gd name="textAreaBottom" fmla="*/ 1257840 h 1257480"/>
            </a:gdLst>
            <a:ahLst/>
            <a:rect l="textAreaLeft" t="textAreaTop" r="textAreaRight" b="textAreaBottom"/>
            <a:pathLst>
              <a:path w="90" h="217">
                <a:moveTo>
                  <a:pt x="90" y="1"/>
                </a:moveTo>
                <a:cubicBezTo>
                  <a:pt x="43" y="0"/>
                  <a:pt x="5" y="35"/>
                  <a:pt x="0" y="80"/>
                </a:cubicBezTo>
                <a:cubicBezTo>
                  <a:pt x="0" y="217"/>
                  <a:pt x="0" y="217"/>
                  <a:pt x="0" y="217"/>
                </a:cubicBezTo>
                <a:cubicBezTo>
                  <a:pt x="90" y="217"/>
                  <a:pt x="90" y="217"/>
                  <a:pt x="90" y="217"/>
                </a:cubicBezTo>
                <a:lnTo>
                  <a:pt x="90" y="1"/>
                </a:lnTo>
                <a:close/>
              </a:path>
            </a:pathLst>
          </a:custGeom>
          <a:solidFill>
            <a:srgbClr val="9cd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20"/>
          <p:cNvSpPr/>
          <p:nvPr/>
        </p:nvSpPr>
        <p:spPr>
          <a:xfrm>
            <a:off x="7142040" y="4208400"/>
            <a:ext cx="3678480" cy="2424240"/>
          </a:xfrm>
          <a:custGeom>
            <a:avLst/>
            <a:gdLst>
              <a:gd name="textAreaLeft" fmla="*/ 0 w 3678480"/>
              <a:gd name="textAreaRight" fmla="*/ 3678840 w 3678480"/>
              <a:gd name="textAreaTop" fmla="*/ 0 h 2424240"/>
              <a:gd name="textAreaBottom" fmla="*/ 2424600 h 2424240"/>
            </a:gdLst>
            <a:ahLst/>
            <a:rect l="textAreaLeft" t="textAreaTop" r="textAreaRight" b="textAreaBottom"/>
            <a:pathLst>
              <a:path w="637" h="419">
                <a:moveTo>
                  <a:pt x="593" y="284"/>
                </a:moveTo>
                <a:cubicBezTo>
                  <a:pt x="522" y="284"/>
                  <a:pt x="522" y="284"/>
                  <a:pt x="522" y="284"/>
                </a:cubicBezTo>
                <a:cubicBezTo>
                  <a:pt x="522" y="245"/>
                  <a:pt x="522" y="245"/>
                  <a:pt x="522" y="245"/>
                </a:cubicBezTo>
                <a:cubicBezTo>
                  <a:pt x="522" y="210"/>
                  <a:pt x="494" y="182"/>
                  <a:pt x="459" y="182"/>
                </a:cubicBezTo>
                <a:cubicBezTo>
                  <a:pt x="378" y="182"/>
                  <a:pt x="378" y="182"/>
                  <a:pt x="378" y="182"/>
                </a:cubicBezTo>
                <a:cubicBezTo>
                  <a:pt x="378" y="138"/>
                  <a:pt x="378" y="138"/>
                  <a:pt x="378" y="138"/>
                </a:cubicBezTo>
                <a:cubicBezTo>
                  <a:pt x="378" y="116"/>
                  <a:pt x="359" y="98"/>
                  <a:pt x="337" y="98"/>
                </a:cubicBezTo>
                <a:cubicBezTo>
                  <a:pt x="333" y="98"/>
                  <a:pt x="333" y="98"/>
                  <a:pt x="333" y="98"/>
                </a:cubicBezTo>
                <a:cubicBezTo>
                  <a:pt x="333" y="70"/>
                  <a:pt x="333" y="70"/>
                  <a:pt x="333" y="70"/>
                </a:cubicBezTo>
                <a:cubicBezTo>
                  <a:pt x="333" y="34"/>
                  <a:pt x="306" y="3"/>
                  <a:pt x="270" y="2"/>
                </a:cubicBezTo>
                <a:cubicBezTo>
                  <a:pt x="232" y="0"/>
                  <a:pt x="201" y="30"/>
                  <a:pt x="201" y="68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168" y="74"/>
                  <a:pt x="144" y="98"/>
                  <a:pt x="144" y="128"/>
                </a:cubicBezTo>
                <a:cubicBezTo>
                  <a:pt x="144" y="162"/>
                  <a:pt x="144" y="162"/>
                  <a:pt x="144" y="162"/>
                </a:cubicBezTo>
                <a:cubicBezTo>
                  <a:pt x="126" y="162"/>
                  <a:pt x="126" y="162"/>
                  <a:pt x="126" y="162"/>
                </a:cubicBezTo>
                <a:cubicBezTo>
                  <a:pt x="101" y="162"/>
                  <a:pt x="80" y="183"/>
                  <a:pt x="80" y="209"/>
                </a:cubicBezTo>
                <a:cubicBezTo>
                  <a:pt x="80" y="245"/>
                  <a:pt x="80" y="245"/>
                  <a:pt x="80" y="245"/>
                </a:cubicBezTo>
                <a:cubicBezTo>
                  <a:pt x="47" y="245"/>
                  <a:pt x="47" y="245"/>
                  <a:pt x="47" y="245"/>
                </a:cubicBezTo>
                <a:cubicBezTo>
                  <a:pt x="23" y="245"/>
                  <a:pt x="4" y="264"/>
                  <a:pt x="0" y="289"/>
                </a:cubicBezTo>
                <a:cubicBezTo>
                  <a:pt x="0" y="380"/>
                  <a:pt x="0" y="380"/>
                  <a:pt x="0" y="380"/>
                </a:cubicBezTo>
                <a:cubicBezTo>
                  <a:pt x="98" y="380"/>
                  <a:pt x="98" y="380"/>
                  <a:pt x="98" y="380"/>
                </a:cubicBezTo>
                <a:cubicBezTo>
                  <a:pt x="98" y="377"/>
                  <a:pt x="98" y="377"/>
                  <a:pt x="98" y="377"/>
                </a:cubicBezTo>
                <a:cubicBezTo>
                  <a:pt x="144" y="377"/>
                  <a:pt x="144" y="377"/>
                  <a:pt x="144" y="377"/>
                </a:cubicBezTo>
                <a:cubicBezTo>
                  <a:pt x="144" y="397"/>
                  <a:pt x="144" y="397"/>
                  <a:pt x="144" y="397"/>
                </a:cubicBezTo>
                <a:cubicBezTo>
                  <a:pt x="231" y="397"/>
                  <a:pt x="231" y="397"/>
                  <a:pt x="231" y="397"/>
                </a:cubicBezTo>
                <a:cubicBezTo>
                  <a:pt x="231" y="388"/>
                  <a:pt x="231" y="388"/>
                  <a:pt x="231" y="388"/>
                </a:cubicBezTo>
                <a:cubicBezTo>
                  <a:pt x="333" y="388"/>
                  <a:pt x="333" y="388"/>
                  <a:pt x="333" y="388"/>
                </a:cubicBezTo>
                <a:cubicBezTo>
                  <a:pt x="333" y="371"/>
                  <a:pt x="333" y="371"/>
                  <a:pt x="333" y="371"/>
                </a:cubicBezTo>
                <a:cubicBezTo>
                  <a:pt x="360" y="371"/>
                  <a:pt x="360" y="371"/>
                  <a:pt x="360" y="371"/>
                </a:cubicBezTo>
                <a:cubicBezTo>
                  <a:pt x="360" y="399"/>
                  <a:pt x="360" y="399"/>
                  <a:pt x="360" y="399"/>
                </a:cubicBezTo>
                <a:cubicBezTo>
                  <a:pt x="494" y="399"/>
                  <a:pt x="494" y="399"/>
                  <a:pt x="494" y="399"/>
                </a:cubicBezTo>
                <a:cubicBezTo>
                  <a:pt x="494" y="419"/>
                  <a:pt x="494" y="419"/>
                  <a:pt x="494" y="419"/>
                </a:cubicBezTo>
                <a:cubicBezTo>
                  <a:pt x="637" y="419"/>
                  <a:pt x="637" y="419"/>
                  <a:pt x="637" y="419"/>
                </a:cubicBezTo>
                <a:cubicBezTo>
                  <a:pt x="637" y="328"/>
                  <a:pt x="637" y="328"/>
                  <a:pt x="637" y="328"/>
                </a:cubicBezTo>
                <a:cubicBezTo>
                  <a:pt x="637" y="303"/>
                  <a:pt x="617" y="284"/>
                  <a:pt x="593" y="284"/>
                </a:cubicBezTo>
                <a:close/>
              </a:path>
            </a:pathLst>
          </a:custGeom>
          <a:solidFill>
            <a:srgbClr val="8db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21"/>
          <p:cNvSpPr/>
          <p:nvPr/>
        </p:nvSpPr>
        <p:spPr>
          <a:xfrm>
            <a:off x="8670960" y="4214880"/>
            <a:ext cx="2149560" cy="212256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2122560"/>
              <a:gd name="textAreaBottom" fmla="*/ 2122920 h 2122560"/>
            </a:gdLst>
            <a:ahLst/>
            <a:rect l="textAreaLeft" t="textAreaTop" r="textAreaRight" b="textAreaBottom"/>
            <a:pathLst>
              <a:path w="372" h="367">
                <a:moveTo>
                  <a:pt x="328" y="283"/>
                </a:moveTo>
                <a:cubicBezTo>
                  <a:pt x="257" y="283"/>
                  <a:pt x="257" y="283"/>
                  <a:pt x="257" y="283"/>
                </a:cubicBezTo>
                <a:cubicBezTo>
                  <a:pt x="257" y="244"/>
                  <a:pt x="257" y="244"/>
                  <a:pt x="257" y="244"/>
                </a:cubicBezTo>
                <a:cubicBezTo>
                  <a:pt x="257" y="209"/>
                  <a:pt x="229" y="181"/>
                  <a:pt x="194" y="181"/>
                </a:cubicBezTo>
                <a:cubicBezTo>
                  <a:pt x="113" y="181"/>
                  <a:pt x="113" y="181"/>
                  <a:pt x="113" y="181"/>
                </a:cubicBezTo>
                <a:cubicBezTo>
                  <a:pt x="113" y="137"/>
                  <a:pt x="113" y="137"/>
                  <a:pt x="113" y="137"/>
                </a:cubicBezTo>
                <a:cubicBezTo>
                  <a:pt x="113" y="115"/>
                  <a:pt x="94" y="97"/>
                  <a:pt x="72" y="97"/>
                </a:cubicBezTo>
                <a:cubicBezTo>
                  <a:pt x="68" y="97"/>
                  <a:pt x="68" y="97"/>
                  <a:pt x="68" y="9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3"/>
                  <a:pt x="41" y="2"/>
                  <a:pt x="5" y="1"/>
                </a:cubicBezTo>
                <a:cubicBezTo>
                  <a:pt x="3" y="0"/>
                  <a:pt x="2" y="1"/>
                  <a:pt x="0" y="1"/>
                </a:cubicBezTo>
                <a:cubicBezTo>
                  <a:pt x="0" y="367"/>
                  <a:pt x="0" y="367"/>
                  <a:pt x="0" y="367"/>
                </a:cubicBezTo>
                <a:cubicBezTo>
                  <a:pt x="372" y="367"/>
                  <a:pt x="372" y="367"/>
                  <a:pt x="372" y="367"/>
                </a:cubicBezTo>
                <a:cubicBezTo>
                  <a:pt x="372" y="327"/>
                  <a:pt x="372" y="327"/>
                  <a:pt x="372" y="327"/>
                </a:cubicBezTo>
                <a:cubicBezTo>
                  <a:pt x="372" y="302"/>
                  <a:pt x="352" y="283"/>
                  <a:pt x="328" y="283"/>
                </a:cubicBezTo>
                <a:close/>
              </a:path>
            </a:pathLst>
          </a:custGeom>
          <a:solidFill>
            <a:srgbClr val="5693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22"/>
          <p:cNvSpPr/>
          <p:nvPr/>
        </p:nvSpPr>
        <p:spPr>
          <a:xfrm>
            <a:off x="7701120" y="4897440"/>
            <a:ext cx="2616120" cy="1735200"/>
          </a:xfrm>
          <a:custGeom>
            <a:avLst/>
            <a:gdLst>
              <a:gd name="textAreaLeft" fmla="*/ 0 w 2616120"/>
              <a:gd name="textAreaRight" fmla="*/ 2616480 w 2616120"/>
              <a:gd name="textAreaTop" fmla="*/ 0 h 1735200"/>
              <a:gd name="textAreaBottom" fmla="*/ 1735560 h 1735200"/>
            </a:gdLst>
            <a:ahLst/>
            <a:rect l="textAreaLeft" t="textAreaTop" r="textAreaRight" b="textAreaBottom"/>
            <a:pathLst>
              <a:path w="453" h="300">
                <a:moveTo>
                  <a:pt x="421" y="203"/>
                </a:moveTo>
                <a:cubicBezTo>
                  <a:pt x="371" y="203"/>
                  <a:pt x="371" y="203"/>
                  <a:pt x="371" y="203"/>
                </a:cubicBezTo>
                <a:cubicBezTo>
                  <a:pt x="371" y="175"/>
                  <a:pt x="371" y="175"/>
                  <a:pt x="371" y="175"/>
                </a:cubicBezTo>
                <a:cubicBezTo>
                  <a:pt x="371" y="150"/>
                  <a:pt x="351" y="130"/>
                  <a:pt x="326" y="130"/>
                </a:cubicBezTo>
                <a:cubicBezTo>
                  <a:pt x="268" y="130"/>
                  <a:pt x="268" y="130"/>
                  <a:pt x="268" y="130"/>
                </a:cubicBezTo>
                <a:cubicBezTo>
                  <a:pt x="268" y="99"/>
                  <a:pt x="268" y="99"/>
                  <a:pt x="268" y="99"/>
                </a:cubicBezTo>
                <a:cubicBezTo>
                  <a:pt x="268" y="83"/>
                  <a:pt x="255" y="70"/>
                  <a:pt x="239" y="70"/>
                </a:cubicBezTo>
                <a:cubicBezTo>
                  <a:pt x="236" y="70"/>
                  <a:pt x="236" y="70"/>
                  <a:pt x="236" y="70"/>
                </a:cubicBezTo>
                <a:cubicBezTo>
                  <a:pt x="236" y="50"/>
                  <a:pt x="236" y="50"/>
                  <a:pt x="236" y="50"/>
                </a:cubicBezTo>
                <a:cubicBezTo>
                  <a:pt x="236" y="24"/>
                  <a:pt x="216" y="2"/>
                  <a:pt x="191" y="1"/>
                </a:cubicBezTo>
                <a:cubicBezTo>
                  <a:pt x="163" y="0"/>
                  <a:pt x="141" y="22"/>
                  <a:pt x="141" y="48"/>
                </a:cubicBezTo>
                <a:cubicBezTo>
                  <a:pt x="141" y="53"/>
                  <a:pt x="141" y="53"/>
                  <a:pt x="141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18" y="53"/>
                  <a:pt x="100" y="70"/>
                  <a:pt x="100" y="92"/>
                </a:cubicBezTo>
                <a:cubicBezTo>
                  <a:pt x="100" y="116"/>
                  <a:pt x="100" y="116"/>
                  <a:pt x="100" y="116"/>
                </a:cubicBezTo>
                <a:cubicBezTo>
                  <a:pt x="88" y="116"/>
                  <a:pt x="88" y="116"/>
                  <a:pt x="88" y="116"/>
                </a:cubicBezTo>
                <a:cubicBezTo>
                  <a:pt x="69" y="116"/>
                  <a:pt x="54" y="131"/>
                  <a:pt x="54" y="149"/>
                </a:cubicBezTo>
                <a:cubicBezTo>
                  <a:pt x="54" y="175"/>
                  <a:pt x="54" y="175"/>
                  <a:pt x="54" y="175"/>
                </a:cubicBezTo>
                <a:cubicBezTo>
                  <a:pt x="31" y="175"/>
                  <a:pt x="31" y="175"/>
                  <a:pt x="31" y="175"/>
                </a:cubicBezTo>
                <a:cubicBezTo>
                  <a:pt x="14" y="175"/>
                  <a:pt x="0" y="189"/>
                  <a:pt x="0" y="207"/>
                </a:cubicBezTo>
                <a:cubicBezTo>
                  <a:pt x="0" y="272"/>
                  <a:pt x="0" y="272"/>
                  <a:pt x="0" y="272"/>
                </a:cubicBezTo>
                <a:cubicBezTo>
                  <a:pt x="67" y="272"/>
                  <a:pt x="67" y="272"/>
                  <a:pt x="67" y="272"/>
                </a:cubicBezTo>
                <a:cubicBezTo>
                  <a:pt x="67" y="270"/>
                  <a:pt x="67" y="270"/>
                  <a:pt x="67" y="270"/>
                </a:cubicBezTo>
                <a:cubicBezTo>
                  <a:pt x="100" y="270"/>
                  <a:pt x="100" y="270"/>
                  <a:pt x="100" y="270"/>
                </a:cubicBezTo>
                <a:cubicBezTo>
                  <a:pt x="100" y="284"/>
                  <a:pt x="100" y="284"/>
                  <a:pt x="100" y="284"/>
                </a:cubicBezTo>
                <a:cubicBezTo>
                  <a:pt x="163" y="284"/>
                  <a:pt x="163" y="284"/>
                  <a:pt x="163" y="284"/>
                </a:cubicBezTo>
                <a:cubicBezTo>
                  <a:pt x="163" y="278"/>
                  <a:pt x="163" y="278"/>
                  <a:pt x="163" y="278"/>
                </a:cubicBezTo>
                <a:cubicBezTo>
                  <a:pt x="236" y="278"/>
                  <a:pt x="236" y="278"/>
                  <a:pt x="236" y="278"/>
                </a:cubicBezTo>
                <a:cubicBezTo>
                  <a:pt x="236" y="265"/>
                  <a:pt x="236" y="265"/>
                  <a:pt x="236" y="265"/>
                </a:cubicBezTo>
                <a:cubicBezTo>
                  <a:pt x="255" y="265"/>
                  <a:pt x="255" y="265"/>
                  <a:pt x="255" y="265"/>
                </a:cubicBezTo>
                <a:cubicBezTo>
                  <a:pt x="255" y="286"/>
                  <a:pt x="255" y="286"/>
                  <a:pt x="255" y="286"/>
                </a:cubicBezTo>
                <a:cubicBezTo>
                  <a:pt x="351" y="286"/>
                  <a:pt x="351" y="286"/>
                  <a:pt x="351" y="286"/>
                </a:cubicBezTo>
                <a:cubicBezTo>
                  <a:pt x="351" y="300"/>
                  <a:pt x="351" y="300"/>
                  <a:pt x="351" y="300"/>
                </a:cubicBezTo>
                <a:cubicBezTo>
                  <a:pt x="453" y="300"/>
                  <a:pt x="453" y="300"/>
                  <a:pt x="453" y="300"/>
                </a:cubicBezTo>
                <a:cubicBezTo>
                  <a:pt x="453" y="235"/>
                  <a:pt x="453" y="235"/>
                  <a:pt x="453" y="235"/>
                </a:cubicBezTo>
                <a:cubicBezTo>
                  <a:pt x="453" y="217"/>
                  <a:pt x="439" y="203"/>
                  <a:pt x="421" y="203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reeform 34"/>
          <p:cNvSpPr/>
          <p:nvPr/>
        </p:nvSpPr>
        <p:spPr>
          <a:xfrm>
            <a:off x="8775720" y="4903920"/>
            <a:ext cx="1541520" cy="1728720"/>
          </a:xfrm>
          <a:custGeom>
            <a:avLst/>
            <a:gdLst>
              <a:gd name="textAreaLeft" fmla="*/ 0 w 1541520"/>
              <a:gd name="textAreaRight" fmla="*/ 1541880 w 154152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267" h="299">
                <a:moveTo>
                  <a:pt x="235" y="202"/>
                </a:moveTo>
                <a:cubicBezTo>
                  <a:pt x="185" y="202"/>
                  <a:pt x="185" y="202"/>
                  <a:pt x="185" y="202"/>
                </a:cubicBezTo>
                <a:cubicBezTo>
                  <a:pt x="185" y="174"/>
                  <a:pt x="185" y="174"/>
                  <a:pt x="185" y="174"/>
                </a:cubicBezTo>
                <a:cubicBezTo>
                  <a:pt x="185" y="149"/>
                  <a:pt x="165" y="129"/>
                  <a:pt x="140" y="129"/>
                </a:cubicBezTo>
                <a:cubicBezTo>
                  <a:pt x="82" y="129"/>
                  <a:pt x="82" y="129"/>
                  <a:pt x="82" y="129"/>
                </a:cubicBezTo>
                <a:cubicBezTo>
                  <a:pt x="82" y="98"/>
                  <a:pt x="82" y="98"/>
                  <a:pt x="82" y="98"/>
                </a:cubicBezTo>
                <a:cubicBezTo>
                  <a:pt x="82" y="82"/>
                  <a:pt x="69" y="69"/>
                  <a:pt x="53" y="69"/>
                </a:cubicBezTo>
                <a:cubicBezTo>
                  <a:pt x="50" y="69"/>
                  <a:pt x="50" y="69"/>
                  <a:pt x="50" y="69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23"/>
                  <a:pt x="30" y="1"/>
                  <a:pt x="5" y="0"/>
                </a:cubicBezTo>
                <a:cubicBezTo>
                  <a:pt x="3" y="0"/>
                  <a:pt x="1" y="0"/>
                  <a:pt x="0" y="0"/>
                </a:cubicBezTo>
                <a:cubicBezTo>
                  <a:pt x="0" y="277"/>
                  <a:pt x="0" y="277"/>
                  <a:pt x="0" y="277"/>
                </a:cubicBezTo>
                <a:cubicBezTo>
                  <a:pt x="50" y="277"/>
                  <a:pt x="50" y="277"/>
                  <a:pt x="50" y="277"/>
                </a:cubicBezTo>
                <a:cubicBezTo>
                  <a:pt x="50" y="264"/>
                  <a:pt x="50" y="264"/>
                  <a:pt x="50" y="264"/>
                </a:cubicBezTo>
                <a:cubicBezTo>
                  <a:pt x="69" y="264"/>
                  <a:pt x="69" y="264"/>
                  <a:pt x="69" y="264"/>
                </a:cubicBezTo>
                <a:cubicBezTo>
                  <a:pt x="69" y="285"/>
                  <a:pt x="69" y="285"/>
                  <a:pt x="69" y="285"/>
                </a:cubicBezTo>
                <a:cubicBezTo>
                  <a:pt x="165" y="285"/>
                  <a:pt x="165" y="285"/>
                  <a:pt x="165" y="285"/>
                </a:cubicBezTo>
                <a:cubicBezTo>
                  <a:pt x="165" y="299"/>
                  <a:pt x="165" y="299"/>
                  <a:pt x="165" y="299"/>
                </a:cubicBezTo>
                <a:cubicBezTo>
                  <a:pt x="267" y="299"/>
                  <a:pt x="267" y="299"/>
                  <a:pt x="267" y="299"/>
                </a:cubicBezTo>
                <a:cubicBezTo>
                  <a:pt x="267" y="234"/>
                  <a:pt x="267" y="234"/>
                  <a:pt x="267" y="234"/>
                </a:cubicBezTo>
                <a:cubicBezTo>
                  <a:pt x="267" y="216"/>
                  <a:pt x="253" y="202"/>
                  <a:pt x="235" y="202"/>
                </a:cubicBezTo>
                <a:close/>
              </a:path>
            </a:pathLst>
          </a:custGeom>
          <a:solidFill>
            <a:srgbClr val="4866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reeform 74"/>
          <p:cNvSpPr/>
          <p:nvPr/>
        </p:nvSpPr>
        <p:spPr>
          <a:xfrm>
            <a:off x="11315880" y="4527720"/>
            <a:ext cx="137880" cy="726840"/>
          </a:xfrm>
          <a:custGeom>
            <a:avLst/>
            <a:gdLst/>
            <a:ahLst/>
            <a:rect l="l" t="t" r="r" b="b"/>
            <a:pathLst>
              <a:path w="94" h="496">
                <a:moveTo>
                  <a:pt x="0" y="496"/>
                </a:moveTo>
                <a:lnTo>
                  <a:pt x="94" y="409"/>
                </a:lnTo>
                <a:lnTo>
                  <a:pt x="94" y="0"/>
                </a:lnTo>
                <a:lnTo>
                  <a:pt x="4" y="0"/>
                </a:lnTo>
                <a:lnTo>
                  <a:pt x="0" y="496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75"/>
          <p:cNvSpPr/>
          <p:nvPr/>
        </p:nvSpPr>
        <p:spPr>
          <a:xfrm>
            <a:off x="10137600" y="4178160"/>
            <a:ext cx="293760" cy="1417680"/>
          </a:xfrm>
          <a:custGeom>
            <a:avLst/>
            <a:gdLst>
              <a:gd name="textAreaLeft" fmla="*/ 0 w 293760"/>
              <a:gd name="textAreaRight" fmla="*/ 294120 w 293760"/>
              <a:gd name="textAreaTop" fmla="*/ 0 h 1417680"/>
              <a:gd name="textAreaBottom" fmla="*/ 1417680 h 1417680"/>
            </a:gdLst>
            <a:ahLst/>
            <a:rect l="textAreaLeft" t="textAreaTop" r="textAreaRight" b="textAreaBottom"/>
            <a:pathLst>
              <a:path w="200" h="965">
                <a:moveTo>
                  <a:pt x="200" y="965"/>
                </a:moveTo>
                <a:lnTo>
                  <a:pt x="0" y="792"/>
                </a:lnTo>
                <a:lnTo>
                  <a:pt x="0" y="0"/>
                </a:lnTo>
                <a:lnTo>
                  <a:pt x="200" y="0"/>
                </a:lnTo>
                <a:lnTo>
                  <a:pt x="200" y="965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reeform 76"/>
          <p:cNvSpPr/>
          <p:nvPr/>
        </p:nvSpPr>
        <p:spPr>
          <a:xfrm>
            <a:off x="10503000" y="4757760"/>
            <a:ext cx="374400" cy="1771560"/>
          </a:xfrm>
          <a:custGeom>
            <a:avLst/>
            <a:gdLst>
              <a:gd name="textAreaLeft" fmla="*/ 0 w 374400"/>
              <a:gd name="textAreaRight" fmla="*/ 374760 w 374400"/>
              <a:gd name="textAreaTop" fmla="*/ 0 h 1771560"/>
              <a:gd name="textAreaBottom" fmla="*/ 1771920 h 1771560"/>
            </a:gdLst>
            <a:ahLst/>
            <a:rect l="textAreaLeft" t="textAreaTop" r="textAreaRight" b="textAreaBottom"/>
            <a:pathLst>
              <a:path w="255" h="1206">
                <a:moveTo>
                  <a:pt x="255" y="0"/>
                </a:moveTo>
                <a:lnTo>
                  <a:pt x="0" y="0"/>
                </a:lnTo>
                <a:lnTo>
                  <a:pt x="3" y="890"/>
                </a:lnTo>
                <a:lnTo>
                  <a:pt x="78" y="969"/>
                </a:lnTo>
                <a:lnTo>
                  <a:pt x="78" y="1206"/>
                </a:lnTo>
                <a:lnTo>
                  <a:pt x="255" y="1206"/>
                </a:lnTo>
                <a:lnTo>
                  <a:pt x="255" y="1146"/>
                </a:lnTo>
                <a:lnTo>
                  <a:pt x="255" y="1146"/>
                </a:lnTo>
                <a:lnTo>
                  <a:pt x="255" y="0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77"/>
          <p:cNvSpPr/>
          <p:nvPr/>
        </p:nvSpPr>
        <p:spPr>
          <a:xfrm>
            <a:off x="10871280" y="4127400"/>
            <a:ext cx="450720" cy="2401920"/>
          </a:xfrm>
          <a:custGeom>
            <a:avLst/>
            <a:gdLst>
              <a:gd name="textAreaLeft" fmla="*/ 0 w 450720"/>
              <a:gd name="textAreaRight" fmla="*/ 450720 w 450720"/>
              <a:gd name="textAreaTop" fmla="*/ 0 h 2401920"/>
              <a:gd name="textAreaBottom" fmla="*/ 2402280 h 2401920"/>
            </a:gdLst>
            <a:ahLst/>
            <a:rect l="textAreaLeft" t="textAreaTop" r="textAreaRight" b="textAreaBottom"/>
            <a:pathLst>
              <a:path w="307" h="1635">
                <a:moveTo>
                  <a:pt x="4" y="1635"/>
                </a:moveTo>
                <a:lnTo>
                  <a:pt x="134" y="1635"/>
                </a:lnTo>
                <a:lnTo>
                  <a:pt x="303" y="1473"/>
                </a:lnTo>
                <a:lnTo>
                  <a:pt x="307" y="0"/>
                </a:lnTo>
                <a:lnTo>
                  <a:pt x="0" y="0"/>
                </a:lnTo>
                <a:lnTo>
                  <a:pt x="4" y="1635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78"/>
          <p:cNvSpPr/>
          <p:nvPr/>
        </p:nvSpPr>
        <p:spPr>
          <a:xfrm>
            <a:off x="10323360" y="4578480"/>
            <a:ext cx="293760" cy="1380960"/>
          </a:xfrm>
          <a:custGeom>
            <a:avLst/>
            <a:gdLst>
              <a:gd name="textAreaLeft" fmla="*/ 0 w 293760"/>
              <a:gd name="textAreaRight" fmla="*/ 294120 w 29376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w="200" h="941">
                <a:moveTo>
                  <a:pt x="200" y="941"/>
                </a:moveTo>
                <a:lnTo>
                  <a:pt x="0" y="764"/>
                </a:lnTo>
                <a:lnTo>
                  <a:pt x="0" y="0"/>
                </a:lnTo>
                <a:lnTo>
                  <a:pt x="200" y="0"/>
                </a:lnTo>
                <a:lnTo>
                  <a:pt x="200" y="94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79"/>
          <p:cNvSpPr/>
          <p:nvPr/>
        </p:nvSpPr>
        <p:spPr>
          <a:xfrm>
            <a:off x="10503000" y="4289400"/>
            <a:ext cx="374400" cy="1682640"/>
          </a:xfrm>
          <a:custGeom>
            <a:avLst/>
            <a:gdLst>
              <a:gd name="textAreaLeft" fmla="*/ 0 w 374400"/>
              <a:gd name="textAreaRight" fmla="*/ 374760 w 3744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255" h="1146">
                <a:moveTo>
                  <a:pt x="255" y="1146"/>
                </a:moveTo>
                <a:lnTo>
                  <a:pt x="3" y="890"/>
                </a:lnTo>
                <a:lnTo>
                  <a:pt x="0" y="0"/>
                </a:lnTo>
                <a:lnTo>
                  <a:pt x="255" y="0"/>
                </a:lnTo>
                <a:lnTo>
                  <a:pt x="255" y="1146"/>
                </a:lnTo>
                <a:close/>
              </a:path>
            </a:pathLst>
          </a:custGeom>
          <a:solidFill>
            <a:srgbClr val="8b6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80"/>
          <p:cNvSpPr/>
          <p:nvPr/>
        </p:nvSpPr>
        <p:spPr>
          <a:xfrm>
            <a:off x="10877400" y="4289400"/>
            <a:ext cx="295560" cy="1892160"/>
          </a:xfrm>
          <a:custGeom>
            <a:avLst/>
            <a:gdLst>
              <a:gd name="textAreaLeft" fmla="*/ 0 w 295560"/>
              <a:gd name="textAreaRight" fmla="*/ 295920 w 29556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201" h="1288">
                <a:moveTo>
                  <a:pt x="0" y="1288"/>
                </a:moveTo>
                <a:lnTo>
                  <a:pt x="201" y="1115"/>
                </a:lnTo>
                <a:lnTo>
                  <a:pt x="201" y="0"/>
                </a:lnTo>
                <a:lnTo>
                  <a:pt x="0" y="0"/>
                </a:lnTo>
                <a:lnTo>
                  <a:pt x="0" y="1288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81"/>
          <p:cNvSpPr/>
          <p:nvPr/>
        </p:nvSpPr>
        <p:spPr>
          <a:xfrm>
            <a:off x="10715760" y="4289400"/>
            <a:ext cx="160200" cy="1347840"/>
          </a:xfrm>
          <a:custGeom>
            <a:avLst/>
            <a:gdLst>
              <a:gd name="textAreaLeft" fmla="*/ 0 w 160200"/>
              <a:gd name="textAreaRight" fmla="*/ 160560 w 160200"/>
              <a:gd name="textAreaTop" fmla="*/ 0 h 1347840"/>
              <a:gd name="textAreaBottom" fmla="*/ 1348200 h 1347840"/>
            </a:gdLst>
            <a:ahLst/>
            <a:rect l="textAreaLeft" t="textAreaTop" r="textAreaRight" b="textAreaBottom"/>
            <a:pathLst>
              <a:path w="110" h="918">
                <a:moveTo>
                  <a:pt x="110" y="918"/>
                </a:moveTo>
                <a:lnTo>
                  <a:pt x="0" y="796"/>
                </a:lnTo>
                <a:lnTo>
                  <a:pt x="0" y="0"/>
                </a:lnTo>
                <a:lnTo>
                  <a:pt x="110" y="0"/>
                </a:lnTo>
                <a:lnTo>
                  <a:pt x="110" y="918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82"/>
          <p:cNvSpPr/>
          <p:nvPr/>
        </p:nvSpPr>
        <p:spPr>
          <a:xfrm>
            <a:off x="10877400" y="4289400"/>
            <a:ext cx="214560" cy="1515960"/>
          </a:xfrm>
          <a:custGeom>
            <a:avLst/>
            <a:gdLst>
              <a:gd name="textAreaLeft" fmla="*/ 0 w 214560"/>
              <a:gd name="textAreaRight" fmla="*/ 214920 w 21456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46" h="1032">
                <a:moveTo>
                  <a:pt x="0" y="1032"/>
                </a:moveTo>
                <a:lnTo>
                  <a:pt x="142" y="890"/>
                </a:lnTo>
                <a:lnTo>
                  <a:pt x="146" y="0"/>
                </a:lnTo>
                <a:lnTo>
                  <a:pt x="0" y="0"/>
                </a:lnTo>
                <a:lnTo>
                  <a:pt x="0" y="1032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83"/>
          <p:cNvSpPr/>
          <p:nvPr/>
        </p:nvSpPr>
        <p:spPr>
          <a:xfrm>
            <a:off x="9890280" y="3375000"/>
            <a:ext cx="1638000" cy="1389240"/>
          </a:xfrm>
          <a:custGeom>
            <a:avLst/>
            <a:gdLst>
              <a:gd name="textAreaLeft" fmla="*/ 0 w 1638000"/>
              <a:gd name="textAreaRight" fmla="*/ 1638360 w 1638000"/>
              <a:gd name="textAreaTop" fmla="*/ 0 h 1389240"/>
              <a:gd name="textAreaBottom" fmla="*/ 1389240 h 1389240"/>
            </a:gdLst>
            <a:ahLst/>
            <a:rect l="textAreaLeft" t="textAreaTop" r="textAreaRight" b="textAreaBottom"/>
            <a:pathLst>
              <a:path w="284" h="240">
                <a:moveTo>
                  <a:pt x="284" y="97"/>
                </a:moveTo>
                <a:cubicBezTo>
                  <a:pt x="284" y="75"/>
                  <a:pt x="266" y="58"/>
                  <a:pt x="245" y="58"/>
                </a:cubicBezTo>
                <a:cubicBezTo>
                  <a:pt x="234" y="58"/>
                  <a:pt x="224" y="62"/>
                  <a:pt x="217" y="69"/>
                </a:cubicBezTo>
                <a:cubicBezTo>
                  <a:pt x="216" y="68"/>
                  <a:pt x="214" y="67"/>
                  <a:pt x="212" y="66"/>
                </a:cubicBezTo>
                <a:cubicBezTo>
                  <a:pt x="212" y="65"/>
                  <a:pt x="213" y="64"/>
                  <a:pt x="213" y="62"/>
                </a:cubicBezTo>
                <a:cubicBezTo>
                  <a:pt x="213" y="46"/>
                  <a:pt x="200" y="34"/>
                  <a:pt x="184" y="34"/>
                </a:cubicBezTo>
                <a:cubicBezTo>
                  <a:pt x="181" y="34"/>
                  <a:pt x="178" y="34"/>
                  <a:pt x="176" y="35"/>
                </a:cubicBezTo>
                <a:cubicBezTo>
                  <a:pt x="176" y="35"/>
                  <a:pt x="176" y="34"/>
                  <a:pt x="176" y="34"/>
                </a:cubicBezTo>
                <a:cubicBezTo>
                  <a:pt x="176" y="15"/>
                  <a:pt x="161" y="0"/>
                  <a:pt x="142" y="0"/>
                </a:cubicBezTo>
                <a:cubicBezTo>
                  <a:pt x="124" y="0"/>
                  <a:pt x="109" y="15"/>
                  <a:pt x="109" y="34"/>
                </a:cubicBezTo>
                <a:cubicBezTo>
                  <a:pt x="109" y="42"/>
                  <a:pt x="112" y="49"/>
                  <a:pt x="117" y="55"/>
                </a:cubicBezTo>
                <a:cubicBezTo>
                  <a:pt x="111" y="50"/>
                  <a:pt x="105" y="47"/>
                  <a:pt x="97" y="47"/>
                </a:cubicBezTo>
                <a:cubicBezTo>
                  <a:pt x="80" y="47"/>
                  <a:pt x="67" y="61"/>
                  <a:pt x="67" y="77"/>
                </a:cubicBezTo>
                <a:cubicBezTo>
                  <a:pt x="67" y="83"/>
                  <a:pt x="68" y="87"/>
                  <a:pt x="71" y="91"/>
                </a:cubicBezTo>
                <a:cubicBezTo>
                  <a:pt x="68" y="92"/>
                  <a:pt x="65" y="93"/>
                  <a:pt x="63" y="94"/>
                </a:cubicBezTo>
                <a:cubicBezTo>
                  <a:pt x="57" y="84"/>
                  <a:pt x="46" y="77"/>
                  <a:pt x="34" y="77"/>
                </a:cubicBezTo>
                <a:cubicBezTo>
                  <a:pt x="15" y="77"/>
                  <a:pt x="0" y="92"/>
                  <a:pt x="0" y="111"/>
                </a:cubicBezTo>
                <a:cubicBezTo>
                  <a:pt x="0" y="125"/>
                  <a:pt x="10" y="138"/>
                  <a:pt x="23" y="142"/>
                </a:cubicBezTo>
                <a:cubicBezTo>
                  <a:pt x="12" y="147"/>
                  <a:pt x="4" y="157"/>
                  <a:pt x="4" y="170"/>
                </a:cubicBezTo>
                <a:cubicBezTo>
                  <a:pt x="4" y="186"/>
                  <a:pt x="17" y="199"/>
                  <a:pt x="34" y="199"/>
                </a:cubicBezTo>
                <a:cubicBezTo>
                  <a:pt x="43" y="199"/>
                  <a:pt x="51" y="195"/>
                  <a:pt x="57" y="188"/>
                </a:cubicBezTo>
                <a:cubicBezTo>
                  <a:pt x="60" y="193"/>
                  <a:pt x="66" y="196"/>
                  <a:pt x="73" y="196"/>
                </a:cubicBezTo>
                <a:cubicBezTo>
                  <a:pt x="73" y="220"/>
                  <a:pt x="73" y="220"/>
                  <a:pt x="73" y="220"/>
                </a:cubicBezTo>
                <a:cubicBezTo>
                  <a:pt x="73" y="231"/>
                  <a:pt x="82" y="240"/>
                  <a:pt x="92" y="240"/>
                </a:cubicBezTo>
                <a:cubicBezTo>
                  <a:pt x="103" y="240"/>
                  <a:pt x="112" y="231"/>
                  <a:pt x="112" y="220"/>
                </a:cubicBezTo>
                <a:cubicBezTo>
                  <a:pt x="112" y="196"/>
                  <a:pt x="112" y="196"/>
                  <a:pt x="112" y="196"/>
                </a:cubicBezTo>
                <a:cubicBezTo>
                  <a:pt x="113" y="196"/>
                  <a:pt x="113" y="196"/>
                  <a:pt x="114" y="196"/>
                </a:cubicBezTo>
                <a:cubicBezTo>
                  <a:pt x="115" y="196"/>
                  <a:pt x="116" y="196"/>
                  <a:pt x="117" y="196"/>
                </a:cubicBezTo>
                <a:cubicBezTo>
                  <a:pt x="119" y="207"/>
                  <a:pt x="128" y="214"/>
                  <a:pt x="139" y="214"/>
                </a:cubicBezTo>
                <a:cubicBezTo>
                  <a:pt x="151" y="214"/>
                  <a:pt x="161" y="205"/>
                  <a:pt x="161" y="193"/>
                </a:cubicBezTo>
                <a:cubicBezTo>
                  <a:pt x="161" y="193"/>
                  <a:pt x="162" y="193"/>
                  <a:pt x="162" y="193"/>
                </a:cubicBezTo>
                <a:cubicBezTo>
                  <a:pt x="162" y="205"/>
                  <a:pt x="172" y="214"/>
                  <a:pt x="184" y="214"/>
                </a:cubicBezTo>
                <a:cubicBezTo>
                  <a:pt x="195" y="214"/>
                  <a:pt x="205" y="206"/>
                  <a:pt x="206" y="195"/>
                </a:cubicBezTo>
                <a:cubicBezTo>
                  <a:pt x="209" y="196"/>
                  <a:pt x="211" y="196"/>
                  <a:pt x="214" y="196"/>
                </a:cubicBezTo>
                <a:cubicBezTo>
                  <a:pt x="240" y="196"/>
                  <a:pt x="262" y="174"/>
                  <a:pt x="262" y="148"/>
                </a:cubicBezTo>
                <a:cubicBezTo>
                  <a:pt x="262" y="143"/>
                  <a:pt x="261" y="138"/>
                  <a:pt x="260" y="133"/>
                </a:cubicBezTo>
                <a:cubicBezTo>
                  <a:pt x="274" y="127"/>
                  <a:pt x="284" y="113"/>
                  <a:pt x="284" y="97"/>
                </a:cubicBezTo>
                <a:close/>
              </a:path>
            </a:pathLst>
          </a:custGeom>
          <a:solidFill>
            <a:srgbClr val="00b9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84"/>
          <p:cNvSpPr/>
          <p:nvPr/>
        </p:nvSpPr>
        <p:spPr>
          <a:xfrm>
            <a:off x="10431360" y="3375000"/>
            <a:ext cx="1096920" cy="1389240"/>
          </a:xfrm>
          <a:custGeom>
            <a:avLst/>
            <a:gdLst/>
            <a:ahLst/>
            <a:rect l="l" t="t" r="r" b="b"/>
            <a:pathLst>
              <a:path w="190" h="240">
                <a:moveTo>
                  <a:pt x="151" y="58"/>
                </a:moveTo>
                <a:cubicBezTo>
                  <a:pt x="140" y="58"/>
                  <a:pt x="130" y="62"/>
                  <a:pt x="123" y="69"/>
                </a:cubicBezTo>
                <a:cubicBezTo>
                  <a:pt x="122" y="68"/>
                  <a:pt x="120" y="67"/>
                  <a:pt x="118" y="66"/>
                </a:cubicBezTo>
                <a:cubicBezTo>
                  <a:pt x="118" y="65"/>
                  <a:pt x="119" y="64"/>
                  <a:pt x="119" y="62"/>
                </a:cubicBezTo>
                <a:cubicBezTo>
                  <a:pt x="119" y="46"/>
                  <a:pt x="106" y="34"/>
                  <a:pt x="90" y="34"/>
                </a:cubicBezTo>
                <a:cubicBezTo>
                  <a:pt x="87" y="34"/>
                  <a:pt x="84" y="34"/>
                  <a:pt x="82" y="35"/>
                </a:cubicBezTo>
                <a:cubicBezTo>
                  <a:pt x="82" y="35"/>
                  <a:pt x="82" y="34"/>
                  <a:pt x="82" y="34"/>
                </a:cubicBezTo>
                <a:cubicBezTo>
                  <a:pt x="82" y="15"/>
                  <a:pt x="67" y="0"/>
                  <a:pt x="48" y="0"/>
                </a:cubicBezTo>
                <a:cubicBezTo>
                  <a:pt x="30" y="0"/>
                  <a:pt x="15" y="15"/>
                  <a:pt x="15" y="34"/>
                </a:cubicBezTo>
                <a:cubicBezTo>
                  <a:pt x="15" y="42"/>
                  <a:pt x="18" y="49"/>
                  <a:pt x="23" y="55"/>
                </a:cubicBezTo>
                <a:cubicBezTo>
                  <a:pt x="17" y="50"/>
                  <a:pt x="11" y="47"/>
                  <a:pt x="3" y="47"/>
                </a:cubicBezTo>
                <a:cubicBezTo>
                  <a:pt x="2" y="47"/>
                  <a:pt x="1" y="48"/>
                  <a:pt x="0" y="48"/>
                </a:cubicBezTo>
                <a:cubicBezTo>
                  <a:pt x="0" y="240"/>
                  <a:pt x="0" y="240"/>
                  <a:pt x="0" y="240"/>
                </a:cubicBezTo>
                <a:cubicBezTo>
                  <a:pt x="10" y="240"/>
                  <a:pt x="18" y="231"/>
                  <a:pt x="18" y="220"/>
                </a:cubicBezTo>
                <a:cubicBezTo>
                  <a:pt x="18" y="196"/>
                  <a:pt x="18" y="196"/>
                  <a:pt x="18" y="196"/>
                </a:cubicBezTo>
                <a:cubicBezTo>
                  <a:pt x="19" y="196"/>
                  <a:pt x="19" y="196"/>
                  <a:pt x="20" y="196"/>
                </a:cubicBezTo>
                <a:cubicBezTo>
                  <a:pt x="21" y="196"/>
                  <a:pt x="22" y="196"/>
                  <a:pt x="23" y="196"/>
                </a:cubicBezTo>
                <a:cubicBezTo>
                  <a:pt x="25" y="207"/>
                  <a:pt x="34" y="214"/>
                  <a:pt x="45" y="214"/>
                </a:cubicBezTo>
                <a:cubicBezTo>
                  <a:pt x="57" y="214"/>
                  <a:pt x="67" y="205"/>
                  <a:pt x="67" y="193"/>
                </a:cubicBezTo>
                <a:cubicBezTo>
                  <a:pt x="67" y="193"/>
                  <a:pt x="68" y="193"/>
                  <a:pt x="68" y="193"/>
                </a:cubicBezTo>
                <a:cubicBezTo>
                  <a:pt x="68" y="205"/>
                  <a:pt x="78" y="214"/>
                  <a:pt x="90" y="214"/>
                </a:cubicBezTo>
                <a:cubicBezTo>
                  <a:pt x="101" y="214"/>
                  <a:pt x="111" y="206"/>
                  <a:pt x="112" y="195"/>
                </a:cubicBezTo>
                <a:cubicBezTo>
                  <a:pt x="115" y="196"/>
                  <a:pt x="117" y="196"/>
                  <a:pt x="120" y="196"/>
                </a:cubicBezTo>
                <a:cubicBezTo>
                  <a:pt x="146" y="196"/>
                  <a:pt x="168" y="174"/>
                  <a:pt x="168" y="148"/>
                </a:cubicBezTo>
                <a:cubicBezTo>
                  <a:pt x="168" y="143"/>
                  <a:pt x="167" y="138"/>
                  <a:pt x="166" y="133"/>
                </a:cubicBezTo>
                <a:cubicBezTo>
                  <a:pt x="180" y="127"/>
                  <a:pt x="190" y="113"/>
                  <a:pt x="190" y="97"/>
                </a:cubicBezTo>
                <a:cubicBezTo>
                  <a:pt x="190" y="75"/>
                  <a:pt x="172" y="58"/>
                  <a:pt x="151" y="58"/>
                </a:cubicBezTo>
                <a:close/>
              </a:path>
            </a:pathLst>
          </a:custGeom>
          <a:solidFill>
            <a:srgbClr val="009a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85"/>
          <p:cNvSpPr/>
          <p:nvPr/>
        </p:nvSpPr>
        <p:spPr>
          <a:xfrm>
            <a:off x="11004480" y="3578400"/>
            <a:ext cx="523800" cy="1023840"/>
          </a:xfrm>
          <a:custGeom>
            <a:avLst/>
            <a:gdLst>
              <a:gd name="textAreaLeft" fmla="*/ 0 w 523800"/>
              <a:gd name="textAreaRight" fmla="*/ 524160 w 52380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91" h="177">
                <a:moveTo>
                  <a:pt x="52" y="23"/>
                </a:moveTo>
                <a:cubicBezTo>
                  <a:pt x="41" y="23"/>
                  <a:pt x="31" y="27"/>
                  <a:pt x="24" y="34"/>
                </a:cubicBezTo>
                <a:cubicBezTo>
                  <a:pt x="23" y="33"/>
                  <a:pt x="21" y="32"/>
                  <a:pt x="19" y="31"/>
                </a:cubicBezTo>
                <a:cubicBezTo>
                  <a:pt x="19" y="30"/>
                  <a:pt x="20" y="29"/>
                  <a:pt x="20" y="27"/>
                </a:cubicBezTo>
                <a:cubicBezTo>
                  <a:pt x="20" y="14"/>
                  <a:pt x="11" y="4"/>
                  <a:pt x="0" y="0"/>
                </a:cubicBezTo>
                <a:cubicBezTo>
                  <a:pt x="0" y="177"/>
                  <a:pt x="0" y="177"/>
                  <a:pt x="0" y="177"/>
                </a:cubicBezTo>
                <a:cubicBezTo>
                  <a:pt x="7" y="174"/>
                  <a:pt x="12" y="168"/>
                  <a:pt x="13" y="160"/>
                </a:cubicBezTo>
                <a:cubicBezTo>
                  <a:pt x="16" y="161"/>
                  <a:pt x="18" y="161"/>
                  <a:pt x="21" y="161"/>
                </a:cubicBezTo>
                <a:cubicBezTo>
                  <a:pt x="47" y="161"/>
                  <a:pt x="69" y="139"/>
                  <a:pt x="69" y="113"/>
                </a:cubicBezTo>
                <a:cubicBezTo>
                  <a:pt x="69" y="108"/>
                  <a:pt x="68" y="103"/>
                  <a:pt x="67" y="98"/>
                </a:cubicBezTo>
                <a:cubicBezTo>
                  <a:pt x="81" y="92"/>
                  <a:pt x="91" y="78"/>
                  <a:pt x="91" y="62"/>
                </a:cubicBezTo>
                <a:cubicBezTo>
                  <a:pt x="91" y="40"/>
                  <a:pt x="73" y="23"/>
                  <a:pt x="52" y="23"/>
                </a:cubicBezTo>
                <a:close/>
              </a:path>
            </a:pathLst>
          </a:cu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86"/>
          <p:cNvSpPr/>
          <p:nvPr/>
        </p:nvSpPr>
        <p:spPr>
          <a:xfrm>
            <a:off x="11079000" y="4202280"/>
            <a:ext cx="530280" cy="561960"/>
          </a:xfrm>
          <a:custGeom>
            <a:avLst/>
            <a:gdLst>
              <a:gd name="textAreaLeft" fmla="*/ 0 w 530280"/>
              <a:gd name="textAreaRight" fmla="*/ 530640 w 53028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92" h="97">
                <a:moveTo>
                  <a:pt x="63" y="12"/>
                </a:moveTo>
                <a:cubicBezTo>
                  <a:pt x="57" y="12"/>
                  <a:pt x="51" y="13"/>
                  <a:pt x="47" y="16"/>
                </a:cubicBezTo>
                <a:cubicBezTo>
                  <a:pt x="44" y="7"/>
                  <a:pt x="35" y="0"/>
                  <a:pt x="24" y="0"/>
                </a:cubicBezTo>
                <a:cubicBezTo>
                  <a:pt x="10" y="0"/>
                  <a:pt x="0" y="11"/>
                  <a:pt x="0" y="24"/>
                </a:cubicBezTo>
                <a:cubicBezTo>
                  <a:pt x="0" y="35"/>
                  <a:pt x="7" y="45"/>
                  <a:pt x="17" y="47"/>
                </a:cubicBezTo>
                <a:cubicBezTo>
                  <a:pt x="11" y="53"/>
                  <a:pt x="7" y="60"/>
                  <a:pt x="7" y="69"/>
                </a:cubicBezTo>
                <a:cubicBezTo>
                  <a:pt x="7" y="85"/>
                  <a:pt x="19" y="97"/>
                  <a:pt x="35" y="97"/>
                </a:cubicBezTo>
                <a:cubicBezTo>
                  <a:pt x="49" y="97"/>
                  <a:pt x="62" y="86"/>
                  <a:pt x="62" y="71"/>
                </a:cubicBezTo>
                <a:cubicBezTo>
                  <a:pt x="62" y="71"/>
                  <a:pt x="63" y="71"/>
                  <a:pt x="63" y="71"/>
                </a:cubicBezTo>
                <a:cubicBezTo>
                  <a:pt x="79" y="71"/>
                  <a:pt x="92" y="58"/>
                  <a:pt x="92" y="41"/>
                </a:cubicBezTo>
                <a:cubicBezTo>
                  <a:pt x="92" y="25"/>
                  <a:pt x="79" y="12"/>
                  <a:pt x="63" y="12"/>
                </a:cubicBezTo>
                <a:close/>
              </a:path>
            </a:pathLst>
          </a:cu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87"/>
          <p:cNvSpPr/>
          <p:nvPr/>
        </p:nvSpPr>
        <p:spPr>
          <a:xfrm>
            <a:off x="11661840" y="4243320"/>
            <a:ext cx="155520" cy="150840"/>
          </a:xfrm>
          <a:prstGeom prst="ellipse">
            <a:avLst/>
          </a:pr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val 88"/>
          <p:cNvSpPr/>
          <p:nvPr/>
        </p:nvSpPr>
        <p:spPr>
          <a:xfrm>
            <a:off x="10385280" y="4849920"/>
            <a:ext cx="174600" cy="1792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val 89"/>
          <p:cNvSpPr/>
          <p:nvPr/>
        </p:nvSpPr>
        <p:spPr>
          <a:xfrm>
            <a:off x="9941040" y="3594240"/>
            <a:ext cx="144360" cy="1396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90"/>
          <p:cNvSpPr/>
          <p:nvPr/>
        </p:nvSpPr>
        <p:spPr>
          <a:xfrm>
            <a:off x="10652040" y="3733920"/>
            <a:ext cx="168480" cy="16812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91"/>
          <p:cNvSpPr/>
          <p:nvPr/>
        </p:nvSpPr>
        <p:spPr>
          <a:xfrm>
            <a:off x="10559880" y="3987720"/>
            <a:ext cx="392400" cy="38916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92"/>
          <p:cNvSpPr/>
          <p:nvPr/>
        </p:nvSpPr>
        <p:spPr>
          <a:xfrm>
            <a:off x="9109080" y="5648400"/>
            <a:ext cx="98280" cy="301680"/>
          </a:xfrm>
          <a:custGeom>
            <a:avLst/>
            <a:gdLst>
              <a:gd name="textAreaLeft" fmla="*/ 0 w 98280"/>
              <a:gd name="textAreaRight" fmla="*/ 98640 w 9828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67" h="205">
                <a:moveTo>
                  <a:pt x="67" y="205"/>
                </a:moveTo>
                <a:lnTo>
                  <a:pt x="0" y="153"/>
                </a:lnTo>
                <a:lnTo>
                  <a:pt x="0" y="51"/>
                </a:lnTo>
                <a:lnTo>
                  <a:pt x="67" y="0"/>
                </a:lnTo>
                <a:lnTo>
                  <a:pt x="67" y="205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93"/>
          <p:cNvSpPr/>
          <p:nvPr/>
        </p:nvSpPr>
        <p:spPr>
          <a:xfrm>
            <a:off x="9202680" y="5208480"/>
            <a:ext cx="345960" cy="1638360"/>
          </a:xfrm>
          <a:custGeom>
            <a:avLst/>
            <a:gdLst>
              <a:gd name="textAreaLeft" fmla="*/ 0 w 345960"/>
              <a:gd name="textAreaRight" fmla="*/ 346320 w 34596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236" h="1115">
                <a:moveTo>
                  <a:pt x="236" y="863"/>
                </a:moveTo>
                <a:lnTo>
                  <a:pt x="232" y="0"/>
                </a:lnTo>
                <a:lnTo>
                  <a:pt x="0" y="0"/>
                </a:lnTo>
                <a:lnTo>
                  <a:pt x="0" y="631"/>
                </a:lnTo>
                <a:lnTo>
                  <a:pt x="94" y="709"/>
                </a:lnTo>
                <a:lnTo>
                  <a:pt x="94" y="1115"/>
                </a:lnTo>
                <a:lnTo>
                  <a:pt x="236" y="1115"/>
                </a:lnTo>
                <a:lnTo>
                  <a:pt x="236" y="863"/>
                </a:lnTo>
                <a:lnTo>
                  <a:pt x="236" y="863"/>
                </a:lnTo>
                <a:close/>
              </a:path>
            </a:pathLst>
          </a:custGeom>
          <a:solidFill>
            <a:srgbClr val="9b7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94"/>
          <p:cNvSpPr/>
          <p:nvPr/>
        </p:nvSpPr>
        <p:spPr>
          <a:xfrm>
            <a:off x="9543960" y="5208480"/>
            <a:ext cx="352440" cy="1211400"/>
          </a:xfrm>
          <a:custGeom>
            <a:avLst/>
            <a:gdLst/>
            <a:ahLst/>
            <a:rect l="l" t="t" r="r" b="b"/>
            <a:pathLst>
              <a:path w="240" h="824">
                <a:moveTo>
                  <a:pt x="0" y="824"/>
                </a:moveTo>
                <a:lnTo>
                  <a:pt x="236" y="583"/>
                </a:lnTo>
                <a:lnTo>
                  <a:pt x="240" y="0"/>
                </a:lnTo>
                <a:lnTo>
                  <a:pt x="4" y="0"/>
                </a:lnTo>
                <a:lnTo>
                  <a:pt x="0" y="824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95"/>
          <p:cNvSpPr/>
          <p:nvPr/>
        </p:nvSpPr>
        <p:spPr>
          <a:xfrm>
            <a:off x="9543960" y="5208480"/>
            <a:ext cx="212760" cy="933480"/>
          </a:xfrm>
          <a:custGeom>
            <a:avLst/>
            <a:gdLst>
              <a:gd name="textAreaLeft" fmla="*/ 0 w 212760"/>
              <a:gd name="textAreaRight" fmla="*/ 213120 w 21276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145" h="635">
                <a:moveTo>
                  <a:pt x="145" y="509"/>
                </a:moveTo>
                <a:lnTo>
                  <a:pt x="145" y="0"/>
                </a:lnTo>
                <a:lnTo>
                  <a:pt x="0" y="0"/>
                </a:lnTo>
                <a:lnTo>
                  <a:pt x="4" y="635"/>
                </a:lnTo>
                <a:lnTo>
                  <a:pt x="145" y="509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96"/>
          <p:cNvSpPr/>
          <p:nvPr/>
        </p:nvSpPr>
        <p:spPr>
          <a:xfrm>
            <a:off x="9369360" y="5208480"/>
            <a:ext cx="179280" cy="868320"/>
          </a:xfrm>
          <a:custGeom>
            <a:avLst/>
            <a:gdLst>
              <a:gd name="textAreaLeft" fmla="*/ 0 w 179280"/>
              <a:gd name="textAreaRight" fmla="*/ 179640 w 17928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22" h="591">
                <a:moveTo>
                  <a:pt x="122" y="591"/>
                </a:moveTo>
                <a:lnTo>
                  <a:pt x="4" y="477"/>
                </a:lnTo>
                <a:lnTo>
                  <a:pt x="0" y="0"/>
                </a:lnTo>
                <a:lnTo>
                  <a:pt x="118" y="0"/>
                </a:lnTo>
                <a:lnTo>
                  <a:pt x="122" y="59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97"/>
          <p:cNvSpPr/>
          <p:nvPr/>
        </p:nvSpPr>
        <p:spPr>
          <a:xfrm>
            <a:off x="9294840" y="5208480"/>
            <a:ext cx="253800" cy="642960"/>
          </a:xfrm>
          <a:custGeom>
            <a:avLst/>
            <a:gdLst>
              <a:gd name="textAreaLeft" fmla="*/ 0 w 253800"/>
              <a:gd name="textAreaRight" fmla="*/ 254160 w 2538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73" h="438">
                <a:moveTo>
                  <a:pt x="169" y="438"/>
                </a:moveTo>
                <a:lnTo>
                  <a:pt x="0" y="280"/>
                </a:lnTo>
                <a:lnTo>
                  <a:pt x="0" y="0"/>
                </a:lnTo>
                <a:lnTo>
                  <a:pt x="173" y="0"/>
                </a:lnTo>
                <a:lnTo>
                  <a:pt x="169" y="438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98"/>
          <p:cNvSpPr/>
          <p:nvPr/>
        </p:nvSpPr>
        <p:spPr>
          <a:xfrm>
            <a:off x="9548640" y="5602320"/>
            <a:ext cx="87480" cy="369720"/>
          </a:xfrm>
          <a:custGeom>
            <a:avLst/>
            <a:gdLst>
              <a:gd name="textAreaLeft" fmla="*/ 0 w 87480"/>
              <a:gd name="textAreaRight" fmla="*/ 87480 w 8748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59" h="252">
                <a:moveTo>
                  <a:pt x="0" y="252"/>
                </a:moveTo>
                <a:lnTo>
                  <a:pt x="59" y="201"/>
                </a:lnTo>
                <a:lnTo>
                  <a:pt x="59" y="55"/>
                </a:lnTo>
                <a:lnTo>
                  <a:pt x="0" y="0"/>
                </a:lnTo>
                <a:lnTo>
                  <a:pt x="0" y="252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Oval 99"/>
          <p:cNvSpPr/>
          <p:nvPr/>
        </p:nvSpPr>
        <p:spPr>
          <a:xfrm>
            <a:off x="10051920" y="5551560"/>
            <a:ext cx="200160" cy="2016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100"/>
          <p:cNvSpPr/>
          <p:nvPr/>
        </p:nvSpPr>
        <p:spPr>
          <a:xfrm>
            <a:off x="8556480" y="4429080"/>
            <a:ext cx="230400" cy="2304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104"/>
          <p:cNvSpPr/>
          <p:nvPr/>
        </p:nvSpPr>
        <p:spPr>
          <a:xfrm>
            <a:off x="9097920" y="428940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105"/>
          <p:cNvSpPr/>
          <p:nvPr/>
        </p:nvSpPr>
        <p:spPr>
          <a:xfrm>
            <a:off x="8169120" y="483228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106"/>
          <p:cNvSpPr/>
          <p:nvPr/>
        </p:nvSpPr>
        <p:spPr>
          <a:xfrm>
            <a:off x="7839000" y="5291280"/>
            <a:ext cx="209520" cy="102960"/>
          </a:xfrm>
          <a:custGeom>
            <a:avLst/>
            <a:gdLst>
              <a:gd name="textAreaLeft" fmla="*/ 0 w 209520"/>
              <a:gd name="textAreaRight" fmla="*/ 209880 w 209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107"/>
          <p:cNvSpPr/>
          <p:nvPr/>
        </p:nvSpPr>
        <p:spPr>
          <a:xfrm>
            <a:off x="8400960" y="5527800"/>
            <a:ext cx="182520" cy="91800"/>
          </a:xfrm>
          <a:custGeom>
            <a:avLst/>
            <a:gdLst>
              <a:gd name="textAreaLeft" fmla="*/ 0 w 182520"/>
              <a:gd name="textAreaRight" fmla="*/ 182880 w 1825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4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108"/>
          <p:cNvSpPr/>
          <p:nvPr/>
        </p:nvSpPr>
        <p:spPr>
          <a:xfrm>
            <a:off x="8694720" y="528012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109"/>
          <p:cNvSpPr/>
          <p:nvPr/>
        </p:nvSpPr>
        <p:spPr>
          <a:xfrm>
            <a:off x="8694720" y="568944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110"/>
          <p:cNvSpPr/>
          <p:nvPr/>
        </p:nvSpPr>
        <p:spPr>
          <a:xfrm>
            <a:off x="8677440" y="3733920"/>
            <a:ext cx="196560" cy="98280"/>
          </a:xfrm>
          <a:custGeom>
            <a:avLst/>
            <a:gdLst>
              <a:gd name="textAreaLeft" fmla="*/ 0 w 196560"/>
              <a:gd name="textAreaRight" fmla="*/ 196920 w 1965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34" h="17">
                <a:moveTo>
                  <a:pt x="17" y="0"/>
                </a:moveTo>
                <a:cubicBezTo>
                  <a:pt x="7" y="0"/>
                  <a:pt x="0" y="8"/>
                  <a:pt x="0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8"/>
                  <a:pt x="26" y="0"/>
                  <a:pt x="17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111"/>
          <p:cNvSpPr/>
          <p:nvPr/>
        </p:nvSpPr>
        <p:spPr>
          <a:xfrm>
            <a:off x="7943760" y="5965920"/>
            <a:ext cx="69840" cy="163440"/>
          </a:xfrm>
          <a:custGeom>
            <a:avLst/>
            <a:gdLst>
              <a:gd name="textAreaLeft" fmla="*/ 0 w 69840"/>
              <a:gd name="textAreaRight" fmla="*/ 70200 w 698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112"/>
          <p:cNvSpPr/>
          <p:nvPr/>
        </p:nvSpPr>
        <p:spPr>
          <a:xfrm>
            <a:off x="7978680" y="6094440"/>
            <a:ext cx="39960" cy="6840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113"/>
          <p:cNvSpPr/>
          <p:nvPr/>
        </p:nvSpPr>
        <p:spPr>
          <a:xfrm>
            <a:off x="7378560" y="6002280"/>
            <a:ext cx="160560" cy="98640"/>
          </a:xfrm>
          <a:custGeom>
            <a:avLst/>
            <a:gdLst>
              <a:gd name="textAreaLeft" fmla="*/ 0 w 160560"/>
              <a:gd name="textAreaRight" fmla="*/ 160920 w 1605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8" h="17">
                <a:moveTo>
                  <a:pt x="4" y="13"/>
                </a:moveTo>
                <a:cubicBezTo>
                  <a:pt x="3" y="13"/>
                  <a:pt x="2" y="13"/>
                  <a:pt x="0" y="13"/>
                </a:cubicBezTo>
                <a:cubicBezTo>
                  <a:pt x="3" y="15"/>
                  <a:pt x="7" y="17"/>
                  <a:pt x="11" y="17"/>
                </a:cubicBezTo>
                <a:cubicBezTo>
                  <a:pt x="20" y="17"/>
                  <a:pt x="28" y="9"/>
                  <a:pt x="28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14"/>
          <p:cNvSpPr/>
          <p:nvPr/>
        </p:nvSpPr>
        <p:spPr>
          <a:xfrm>
            <a:off x="7794720" y="6041880"/>
            <a:ext cx="79200" cy="2192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115"/>
          <p:cNvSpPr/>
          <p:nvPr/>
        </p:nvSpPr>
        <p:spPr>
          <a:xfrm>
            <a:off x="7567560" y="5989680"/>
            <a:ext cx="81000" cy="2714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116"/>
          <p:cNvSpPr/>
          <p:nvPr/>
        </p:nvSpPr>
        <p:spPr>
          <a:xfrm>
            <a:off x="7632720" y="5891040"/>
            <a:ext cx="322200" cy="370080"/>
          </a:xfrm>
          <a:custGeom>
            <a:avLst/>
            <a:gdLst>
              <a:gd name="textAreaLeft" fmla="*/ 0 w 322200"/>
              <a:gd name="textAreaRight" fmla="*/ 322560 w 32220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6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2" y="34"/>
                </a:cubicBezTo>
                <a:cubicBezTo>
                  <a:pt x="35" y="34"/>
                  <a:pt x="35" y="34"/>
                  <a:pt x="35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6" y="34"/>
                  <a:pt x="56" y="34"/>
                  <a:pt x="56" y="34"/>
                </a:cubicBezTo>
                <a:cubicBezTo>
                  <a:pt x="56" y="26"/>
                  <a:pt x="56" y="26"/>
                  <a:pt x="56" y="26"/>
                </a:cubicBezTo>
                <a:cubicBezTo>
                  <a:pt x="56" y="17"/>
                  <a:pt x="56" y="17"/>
                  <a:pt x="56" y="17"/>
                </a:cubicBezTo>
                <a:cubicBezTo>
                  <a:pt x="56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117"/>
          <p:cNvSpPr/>
          <p:nvPr/>
        </p:nvSpPr>
        <p:spPr>
          <a:xfrm>
            <a:off x="7632720" y="6105600"/>
            <a:ext cx="74520" cy="87120"/>
          </a:xfrm>
          <a:custGeom>
            <a:avLst/>
            <a:gdLst>
              <a:gd name="textAreaLeft" fmla="*/ 0 w 74520"/>
              <a:gd name="textAreaRight" fmla="*/ 74880 w 7452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3" h="15">
                <a:moveTo>
                  <a:pt x="13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3" y="15"/>
                  <a:pt x="13" y="15"/>
                  <a:pt x="13" y="15"/>
                </a:cubicBezTo>
                <a:lnTo>
                  <a:pt x="13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118"/>
          <p:cNvSpPr/>
          <p:nvPr/>
        </p:nvSpPr>
        <p:spPr>
          <a:xfrm>
            <a:off x="763272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119"/>
          <p:cNvSpPr/>
          <p:nvPr/>
        </p:nvSpPr>
        <p:spPr>
          <a:xfrm>
            <a:off x="7453440" y="5694480"/>
            <a:ext cx="137880" cy="284040"/>
          </a:xfrm>
          <a:custGeom>
            <a:avLst/>
            <a:gdLst>
              <a:gd name="textAreaLeft" fmla="*/ 0 w 137880"/>
              <a:gd name="textAreaRight" fmla="*/ 138240 w 13788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120"/>
          <p:cNvSpPr/>
          <p:nvPr/>
        </p:nvSpPr>
        <p:spPr>
          <a:xfrm>
            <a:off x="7499520" y="5816520"/>
            <a:ext cx="166680" cy="365040"/>
          </a:xfrm>
          <a:custGeom>
            <a:avLst/>
            <a:gdLst>
              <a:gd name="textAreaLeft" fmla="*/ 0 w 166680"/>
              <a:gd name="textAreaRight" fmla="*/ 167040 w 16668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9" h="63">
                <a:moveTo>
                  <a:pt x="29" y="23"/>
                </a:moveTo>
                <a:cubicBezTo>
                  <a:pt x="29" y="6"/>
                  <a:pt x="29" y="6"/>
                  <a:pt x="29" y="6"/>
                </a:cubicBezTo>
                <a:cubicBezTo>
                  <a:pt x="29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3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4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5" y="32"/>
                  <a:pt x="29" y="28"/>
                  <a:pt x="29" y="23"/>
                </a:cubicBez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121"/>
          <p:cNvSpPr/>
          <p:nvPr/>
        </p:nvSpPr>
        <p:spPr>
          <a:xfrm>
            <a:off x="7615080" y="5694480"/>
            <a:ext cx="138240" cy="284040"/>
          </a:xfrm>
          <a:custGeom>
            <a:avLst/>
            <a:gdLst>
              <a:gd name="textAreaLeft" fmla="*/ 0 w 138240"/>
              <a:gd name="textAreaRight" fmla="*/ 138600 w 1382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val 122"/>
          <p:cNvSpPr/>
          <p:nvPr/>
        </p:nvSpPr>
        <p:spPr>
          <a:xfrm>
            <a:off x="7558200" y="5897520"/>
            <a:ext cx="2700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23"/>
          <p:cNvSpPr/>
          <p:nvPr/>
        </p:nvSpPr>
        <p:spPr>
          <a:xfrm>
            <a:off x="7453440" y="6002280"/>
            <a:ext cx="155520" cy="98640"/>
          </a:xfrm>
          <a:custGeom>
            <a:avLst/>
            <a:gdLst>
              <a:gd name="textAreaLeft" fmla="*/ 0 w 155520"/>
              <a:gd name="textAreaRight" fmla="*/ 155880 w 1555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3" y="13"/>
                </a:moveTo>
                <a:cubicBezTo>
                  <a:pt x="2" y="13"/>
                  <a:pt x="1" y="13"/>
                  <a:pt x="0" y="13"/>
                </a:cubicBezTo>
                <a:cubicBezTo>
                  <a:pt x="2" y="15"/>
                  <a:pt x="6" y="17"/>
                  <a:pt x="10" y="17"/>
                </a:cubicBezTo>
                <a:cubicBezTo>
                  <a:pt x="19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7"/>
                  <a:pt x="11" y="13"/>
                  <a:pt x="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124"/>
          <p:cNvSpPr/>
          <p:nvPr/>
        </p:nvSpPr>
        <p:spPr>
          <a:xfrm>
            <a:off x="8699400" y="6094440"/>
            <a:ext cx="39960" cy="6840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125"/>
          <p:cNvSpPr/>
          <p:nvPr/>
        </p:nvSpPr>
        <p:spPr>
          <a:xfrm>
            <a:off x="8658360" y="5965920"/>
            <a:ext cx="71280" cy="163440"/>
          </a:xfrm>
          <a:custGeom>
            <a:avLst/>
            <a:gdLst>
              <a:gd name="textAreaLeft" fmla="*/ 0 w 71280"/>
              <a:gd name="textAreaRight" fmla="*/ 71640 w 712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126"/>
          <p:cNvSpPr/>
          <p:nvPr/>
        </p:nvSpPr>
        <p:spPr>
          <a:xfrm>
            <a:off x="809928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27"/>
          <p:cNvSpPr/>
          <p:nvPr/>
        </p:nvSpPr>
        <p:spPr>
          <a:xfrm>
            <a:off x="8515440" y="6041880"/>
            <a:ext cx="81000" cy="2192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28"/>
          <p:cNvSpPr/>
          <p:nvPr/>
        </p:nvSpPr>
        <p:spPr>
          <a:xfrm>
            <a:off x="8283600" y="5989680"/>
            <a:ext cx="87120" cy="2714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129"/>
          <p:cNvSpPr/>
          <p:nvPr/>
        </p:nvSpPr>
        <p:spPr>
          <a:xfrm>
            <a:off x="8353440" y="5891040"/>
            <a:ext cx="317520" cy="370080"/>
          </a:xfrm>
          <a:custGeom>
            <a:avLst/>
            <a:gdLst>
              <a:gd name="textAreaLeft" fmla="*/ 0 w 317520"/>
              <a:gd name="textAreaRight" fmla="*/ 317880 w 31752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5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1" y="34"/>
                </a:cubicBezTo>
                <a:cubicBezTo>
                  <a:pt x="34" y="34"/>
                  <a:pt x="34" y="34"/>
                  <a:pt x="34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5" y="64"/>
                  <a:pt x="55" y="64"/>
                  <a:pt x="55" y="64"/>
                </a:cubicBezTo>
                <a:cubicBezTo>
                  <a:pt x="55" y="34"/>
                  <a:pt x="55" y="34"/>
                  <a:pt x="55" y="34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17"/>
                  <a:pt x="55" y="17"/>
                  <a:pt x="55" y="17"/>
                </a:cubicBezTo>
                <a:cubicBezTo>
                  <a:pt x="55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130"/>
          <p:cNvSpPr/>
          <p:nvPr/>
        </p:nvSpPr>
        <p:spPr>
          <a:xfrm>
            <a:off x="8353440" y="6105600"/>
            <a:ext cx="69840" cy="87120"/>
          </a:xfrm>
          <a:custGeom>
            <a:avLst/>
            <a:gdLst>
              <a:gd name="textAreaLeft" fmla="*/ 0 w 69840"/>
              <a:gd name="textAreaRight" fmla="*/ 70200 w 6984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2" h="15">
                <a:moveTo>
                  <a:pt x="1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2" y="15"/>
                  <a:pt x="12" y="15"/>
                  <a:pt x="12" y="15"/>
                </a:cubicBezTo>
                <a:lnTo>
                  <a:pt x="12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131"/>
          <p:cNvSpPr/>
          <p:nvPr/>
        </p:nvSpPr>
        <p:spPr>
          <a:xfrm>
            <a:off x="835344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132"/>
          <p:cNvSpPr/>
          <p:nvPr/>
        </p:nvSpPr>
        <p:spPr>
          <a:xfrm>
            <a:off x="8169120" y="5694480"/>
            <a:ext cx="144720" cy="284040"/>
          </a:xfrm>
          <a:custGeom>
            <a:avLst/>
            <a:gdLst>
              <a:gd name="textAreaLeft" fmla="*/ 0 w 144720"/>
              <a:gd name="textAreaRight" fmla="*/ 145080 w 1447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133"/>
          <p:cNvSpPr/>
          <p:nvPr/>
        </p:nvSpPr>
        <p:spPr>
          <a:xfrm>
            <a:off x="8215200" y="5816520"/>
            <a:ext cx="173160" cy="365040"/>
          </a:xfrm>
          <a:custGeom>
            <a:avLst/>
            <a:gdLst>
              <a:gd name="textAreaLeft" fmla="*/ 0 w 173160"/>
              <a:gd name="textAreaRight" fmla="*/ 173520 w 1731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30" h="63">
                <a:moveTo>
                  <a:pt x="30" y="23"/>
                </a:moveTo>
                <a:cubicBezTo>
                  <a:pt x="30" y="6"/>
                  <a:pt x="30" y="6"/>
                  <a:pt x="30" y="6"/>
                </a:cubicBezTo>
                <a:cubicBezTo>
                  <a:pt x="30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4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5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6" y="32"/>
                  <a:pt x="30" y="28"/>
                  <a:pt x="30" y="23"/>
                </a:cubicBez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134"/>
          <p:cNvSpPr/>
          <p:nvPr/>
        </p:nvSpPr>
        <p:spPr>
          <a:xfrm>
            <a:off x="8329680" y="5694480"/>
            <a:ext cx="146160" cy="284040"/>
          </a:xfrm>
          <a:custGeom>
            <a:avLst/>
            <a:gdLst>
              <a:gd name="textAreaLeft" fmla="*/ 0 w 146160"/>
              <a:gd name="textAreaRight" fmla="*/ 146520 w 146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135"/>
          <p:cNvSpPr/>
          <p:nvPr/>
        </p:nvSpPr>
        <p:spPr>
          <a:xfrm>
            <a:off x="8278920" y="5897520"/>
            <a:ext cx="2376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136"/>
          <p:cNvSpPr/>
          <p:nvPr/>
        </p:nvSpPr>
        <p:spPr>
          <a:xfrm>
            <a:off x="816912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141"/>
          <p:cNvSpPr/>
          <p:nvPr/>
        </p:nvSpPr>
        <p:spPr>
          <a:xfrm>
            <a:off x="7626240" y="3219480"/>
            <a:ext cx="571680" cy="317520"/>
          </a:xfrm>
          <a:custGeom>
            <a:avLst/>
            <a:gdLst>
              <a:gd name="textAreaLeft" fmla="*/ 0 w 571680"/>
              <a:gd name="textAreaRight" fmla="*/ 572040 w 57168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99" h="55">
                <a:moveTo>
                  <a:pt x="82" y="21"/>
                </a:moveTo>
                <a:cubicBezTo>
                  <a:pt x="80" y="21"/>
                  <a:pt x="78" y="21"/>
                  <a:pt x="77" y="22"/>
                </a:cubicBezTo>
                <a:cubicBezTo>
                  <a:pt x="74" y="9"/>
                  <a:pt x="63" y="0"/>
                  <a:pt x="49" y="0"/>
                </a:cubicBezTo>
                <a:cubicBezTo>
                  <a:pt x="36" y="0"/>
                  <a:pt x="25" y="9"/>
                  <a:pt x="22" y="21"/>
                </a:cubicBezTo>
                <a:cubicBezTo>
                  <a:pt x="21" y="21"/>
                  <a:pt x="19" y="21"/>
                  <a:pt x="18" y="21"/>
                </a:cubicBezTo>
                <a:cubicBezTo>
                  <a:pt x="8" y="21"/>
                  <a:pt x="0" y="29"/>
                  <a:pt x="0" y="38"/>
                </a:cubicBezTo>
                <a:cubicBezTo>
                  <a:pt x="0" y="48"/>
                  <a:pt x="8" y="55"/>
                  <a:pt x="18" y="55"/>
                </a:cubicBezTo>
                <a:cubicBezTo>
                  <a:pt x="23" y="55"/>
                  <a:pt x="76" y="55"/>
                  <a:pt x="82" y="55"/>
                </a:cubicBezTo>
                <a:cubicBezTo>
                  <a:pt x="92" y="55"/>
                  <a:pt x="99" y="48"/>
                  <a:pt x="99" y="38"/>
                </a:cubicBezTo>
                <a:cubicBezTo>
                  <a:pt x="99" y="29"/>
                  <a:pt x="92" y="21"/>
                  <a:pt x="8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142"/>
          <p:cNvSpPr/>
          <p:nvPr/>
        </p:nvSpPr>
        <p:spPr>
          <a:xfrm>
            <a:off x="9118440" y="2924280"/>
            <a:ext cx="374760" cy="207720"/>
          </a:xfrm>
          <a:custGeom>
            <a:avLst/>
            <a:gdLst>
              <a:gd name="textAreaLeft" fmla="*/ 0 w 374760"/>
              <a:gd name="textAreaRight" fmla="*/ 375120 w 37476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65" h="36">
                <a:moveTo>
                  <a:pt x="54" y="14"/>
                </a:moveTo>
                <a:cubicBezTo>
                  <a:pt x="53" y="14"/>
                  <a:pt x="52" y="14"/>
                  <a:pt x="51" y="14"/>
                </a:cubicBezTo>
                <a:cubicBezTo>
                  <a:pt x="49" y="6"/>
                  <a:pt x="41" y="0"/>
                  <a:pt x="33" y="0"/>
                </a:cubicBezTo>
                <a:cubicBezTo>
                  <a:pt x="24" y="0"/>
                  <a:pt x="16" y="6"/>
                  <a:pt x="15" y="14"/>
                </a:cubicBezTo>
                <a:cubicBezTo>
                  <a:pt x="14" y="14"/>
                  <a:pt x="13" y="14"/>
                  <a:pt x="12" y="14"/>
                </a:cubicBezTo>
                <a:cubicBezTo>
                  <a:pt x="5" y="14"/>
                  <a:pt x="0" y="19"/>
                  <a:pt x="0" y="25"/>
                </a:cubicBezTo>
                <a:cubicBezTo>
                  <a:pt x="0" y="31"/>
                  <a:pt x="5" y="36"/>
                  <a:pt x="12" y="36"/>
                </a:cubicBezTo>
                <a:cubicBezTo>
                  <a:pt x="15" y="36"/>
                  <a:pt x="50" y="36"/>
                  <a:pt x="54" y="36"/>
                </a:cubicBezTo>
                <a:cubicBezTo>
                  <a:pt x="60" y="36"/>
                  <a:pt x="65" y="31"/>
                  <a:pt x="65" y="25"/>
                </a:cubicBezTo>
                <a:cubicBezTo>
                  <a:pt x="65" y="19"/>
                  <a:pt x="60" y="14"/>
                  <a:pt x="54" y="14"/>
                </a:cubicBezTo>
                <a:close/>
              </a:path>
            </a:pathLst>
          </a:custGeom>
          <a:solidFill>
            <a:srgbClr val="29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187"/>
          <p:cNvSpPr/>
          <p:nvPr/>
        </p:nvSpPr>
        <p:spPr>
          <a:xfrm>
            <a:off x="9774360" y="3033720"/>
            <a:ext cx="565200" cy="324000"/>
          </a:xfrm>
          <a:custGeom>
            <a:avLst/>
            <a:gdLst>
              <a:gd name="textAreaLeft" fmla="*/ 0 w 565200"/>
              <a:gd name="textAreaRight" fmla="*/ 565560 w 56520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98" h="56">
                <a:moveTo>
                  <a:pt x="81" y="21"/>
                </a:moveTo>
                <a:cubicBezTo>
                  <a:pt x="79" y="21"/>
                  <a:pt x="78" y="21"/>
                  <a:pt x="76" y="22"/>
                </a:cubicBezTo>
                <a:cubicBezTo>
                  <a:pt x="73" y="9"/>
                  <a:pt x="62" y="0"/>
                  <a:pt x="49" y="0"/>
                </a:cubicBezTo>
                <a:cubicBezTo>
                  <a:pt x="35" y="0"/>
                  <a:pt x="24" y="9"/>
                  <a:pt x="21" y="22"/>
                </a:cubicBezTo>
                <a:cubicBezTo>
                  <a:pt x="20" y="21"/>
                  <a:pt x="18" y="21"/>
                  <a:pt x="17" y="21"/>
                </a:cubicBezTo>
                <a:cubicBezTo>
                  <a:pt x="7" y="21"/>
                  <a:pt x="0" y="29"/>
                  <a:pt x="0" y="38"/>
                </a:cubicBezTo>
                <a:cubicBezTo>
                  <a:pt x="0" y="48"/>
                  <a:pt x="7" y="56"/>
                  <a:pt x="17" y="56"/>
                </a:cubicBezTo>
                <a:cubicBezTo>
                  <a:pt x="22" y="56"/>
                  <a:pt x="75" y="56"/>
                  <a:pt x="81" y="56"/>
                </a:cubicBezTo>
                <a:cubicBezTo>
                  <a:pt x="91" y="56"/>
                  <a:pt x="98" y="48"/>
                  <a:pt x="98" y="38"/>
                </a:cubicBezTo>
                <a:cubicBezTo>
                  <a:pt x="98" y="29"/>
                  <a:pt x="91" y="21"/>
                  <a:pt x="81" y="21"/>
                </a:cubicBezTo>
                <a:close/>
              </a:path>
            </a:pathLst>
          </a:custGeom>
          <a:solidFill>
            <a:srgbClr val="64d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188"/>
          <p:cNvSpPr/>
          <p:nvPr/>
        </p:nvSpPr>
        <p:spPr>
          <a:xfrm>
            <a:off x="9034560" y="4444920"/>
            <a:ext cx="965160" cy="990720"/>
          </a:xfrm>
          <a:custGeom>
            <a:avLst/>
            <a:gdLst>
              <a:gd name="textAreaLeft" fmla="*/ 0 w 965160"/>
              <a:gd name="textAreaRight" fmla="*/ 965520 w 9651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167" h="171">
                <a:moveTo>
                  <a:pt x="156" y="106"/>
                </a:moveTo>
                <a:cubicBezTo>
                  <a:pt x="158" y="101"/>
                  <a:pt x="160" y="95"/>
                  <a:pt x="160" y="90"/>
                </a:cubicBezTo>
                <a:cubicBezTo>
                  <a:pt x="160" y="70"/>
                  <a:pt x="144" y="54"/>
                  <a:pt x="124" y="54"/>
                </a:cubicBezTo>
                <a:cubicBezTo>
                  <a:pt x="122" y="54"/>
                  <a:pt x="120" y="54"/>
                  <a:pt x="118" y="54"/>
                </a:cubicBezTo>
                <a:cubicBezTo>
                  <a:pt x="118" y="54"/>
                  <a:pt x="118" y="54"/>
                  <a:pt x="118" y="54"/>
                </a:cubicBezTo>
                <a:cubicBezTo>
                  <a:pt x="128" y="50"/>
                  <a:pt x="135" y="40"/>
                  <a:pt x="135" y="28"/>
                </a:cubicBezTo>
                <a:cubicBezTo>
                  <a:pt x="135" y="12"/>
                  <a:pt x="122" y="0"/>
                  <a:pt x="106" y="0"/>
                </a:cubicBezTo>
                <a:cubicBezTo>
                  <a:pt x="90" y="0"/>
                  <a:pt x="78" y="12"/>
                  <a:pt x="78" y="28"/>
                </a:cubicBezTo>
                <a:cubicBezTo>
                  <a:pt x="78" y="31"/>
                  <a:pt x="78" y="33"/>
                  <a:pt x="79" y="36"/>
                </a:cubicBezTo>
                <a:cubicBezTo>
                  <a:pt x="69" y="37"/>
                  <a:pt x="61" y="42"/>
                  <a:pt x="55" y="48"/>
                </a:cubicBezTo>
                <a:cubicBezTo>
                  <a:pt x="49" y="43"/>
                  <a:pt x="42" y="40"/>
                  <a:pt x="34" y="40"/>
                </a:cubicBezTo>
                <a:cubicBezTo>
                  <a:pt x="15" y="40"/>
                  <a:pt x="0" y="55"/>
                  <a:pt x="0" y="74"/>
                </a:cubicBezTo>
                <a:cubicBezTo>
                  <a:pt x="0" y="85"/>
                  <a:pt x="6" y="95"/>
                  <a:pt x="15" y="101"/>
                </a:cubicBezTo>
                <a:cubicBezTo>
                  <a:pt x="13" y="105"/>
                  <a:pt x="12" y="110"/>
                  <a:pt x="12" y="115"/>
                </a:cubicBezTo>
                <a:cubicBezTo>
                  <a:pt x="12" y="133"/>
                  <a:pt x="26" y="148"/>
                  <a:pt x="44" y="148"/>
                </a:cubicBezTo>
                <a:cubicBezTo>
                  <a:pt x="50" y="148"/>
                  <a:pt x="56" y="146"/>
                  <a:pt x="60" y="144"/>
                </a:cubicBezTo>
                <a:cubicBezTo>
                  <a:pt x="66" y="160"/>
                  <a:pt x="81" y="171"/>
                  <a:pt x="99" y="171"/>
                </a:cubicBezTo>
                <a:cubicBezTo>
                  <a:pt x="115" y="171"/>
                  <a:pt x="128" y="162"/>
                  <a:pt x="135" y="149"/>
                </a:cubicBezTo>
                <a:cubicBezTo>
                  <a:pt x="137" y="149"/>
                  <a:pt x="140" y="150"/>
                  <a:pt x="142" y="150"/>
                </a:cubicBezTo>
                <a:cubicBezTo>
                  <a:pt x="156" y="150"/>
                  <a:pt x="167" y="139"/>
                  <a:pt x="167" y="126"/>
                </a:cubicBezTo>
                <a:cubicBezTo>
                  <a:pt x="167" y="117"/>
                  <a:pt x="162" y="110"/>
                  <a:pt x="156" y="106"/>
                </a:cubicBezTo>
                <a:close/>
              </a:path>
            </a:pathLst>
          </a:custGeom>
          <a:solidFill>
            <a:srgbClr val="0dd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189"/>
          <p:cNvSpPr/>
          <p:nvPr/>
        </p:nvSpPr>
        <p:spPr>
          <a:xfrm>
            <a:off x="9548640" y="4444920"/>
            <a:ext cx="451080" cy="990720"/>
          </a:xfrm>
          <a:custGeom>
            <a:avLst/>
            <a:gdLst>
              <a:gd name="textAreaLeft" fmla="*/ 0 w 451080"/>
              <a:gd name="textAreaRight" fmla="*/ 451440 w 4510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78" h="171">
                <a:moveTo>
                  <a:pt x="67" y="106"/>
                </a:moveTo>
                <a:cubicBezTo>
                  <a:pt x="69" y="101"/>
                  <a:pt x="71" y="95"/>
                  <a:pt x="71" y="90"/>
                </a:cubicBezTo>
                <a:cubicBezTo>
                  <a:pt x="71" y="70"/>
                  <a:pt x="55" y="54"/>
                  <a:pt x="35" y="54"/>
                </a:cubicBezTo>
                <a:cubicBezTo>
                  <a:pt x="33" y="54"/>
                  <a:pt x="31" y="54"/>
                  <a:pt x="29" y="54"/>
                </a:cubicBezTo>
                <a:cubicBezTo>
                  <a:pt x="29" y="54"/>
                  <a:pt x="29" y="54"/>
                  <a:pt x="29" y="54"/>
                </a:cubicBezTo>
                <a:cubicBezTo>
                  <a:pt x="39" y="50"/>
                  <a:pt x="46" y="40"/>
                  <a:pt x="46" y="28"/>
                </a:cubicBezTo>
                <a:cubicBezTo>
                  <a:pt x="46" y="12"/>
                  <a:pt x="33" y="0"/>
                  <a:pt x="17" y="0"/>
                </a:cubicBezTo>
                <a:cubicBezTo>
                  <a:pt x="11" y="0"/>
                  <a:pt x="4" y="2"/>
                  <a:pt x="0" y="6"/>
                </a:cubicBezTo>
                <a:cubicBezTo>
                  <a:pt x="0" y="170"/>
                  <a:pt x="0" y="170"/>
                  <a:pt x="0" y="170"/>
                </a:cubicBezTo>
                <a:cubicBezTo>
                  <a:pt x="3" y="171"/>
                  <a:pt x="6" y="171"/>
                  <a:pt x="10" y="171"/>
                </a:cubicBezTo>
                <a:cubicBezTo>
                  <a:pt x="26" y="171"/>
                  <a:pt x="39" y="162"/>
                  <a:pt x="46" y="149"/>
                </a:cubicBezTo>
                <a:cubicBezTo>
                  <a:pt x="48" y="149"/>
                  <a:pt x="51" y="150"/>
                  <a:pt x="53" y="150"/>
                </a:cubicBezTo>
                <a:cubicBezTo>
                  <a:pt x="67" y="150"/>
                  <a:pt x="78" y="139"/>
                  <a:pt x="78" y="126"/>
                </a:cubicBezTo>
                <a:cubicBezTo>
                  <a:pt x="78" y="117"/>
                  <a:pt x="73" y="110"/>
                  <a:pt x="67" y="106"/>
                </a:cubicBezTo>
                <a:close/>
              </a:path>
            </a:pathLst>
          </a:custGeom>
          <a:solidFill>
            <a:srgbClr val="0d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190"/>
          <p:cNvSpPr/>
          <p:nvPr/>
        </p:nvSpPr>
        <p:spPr>
          <a:xfrm>
            <a:off x="9433080" y="5000760"/>
            <a:ext cx="225360" cy="23148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191"/>
          <p:cNvSpPr/>
          <p:nvPr/>
        </p:nvSpPr>
        <p:spPr>
          <a:xfrm>
            <a:off x="9485280" y="4788000"/>
            <a:ext cx="131760" cy="127080"/>
          </a:xfrm>
          <a:prstGeom prst="ellipse">
            <a:avLst/>
          </a:prstGeom>
          <a:solidFill>
            <a:srgbClr val="76f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73"/>
          <p:cNvSpPr/>
          <p:nvPr/>
        </p:nvSpPr>
        <p:spPr>
          <a:xfrm>
            <a:off x="3886200" y="6267600"/>
            <a:ext cx="8042400" cy="3999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393" h="69">
                <a:moveTo>
                  <a:pt x="1366" y="0"/>
                </a:moveTo>
                <a:cubicBezTo>
                  <a:pt x="28" y="0"/>
                  <a:pt x="28" y="0"/>
                  <a:pt x="28" y="0"/>
                </a:cubicBezTo>
                <a:cubicBezTo>
                  <a:pt x="13" y="0"/>
                  <a:pt x="0" y="12"/>
                  <a:pt x="0" y="27"/>
                </a:cubicBezTo>
                <a:cubicBezTo>
                  <a:pt x="0" y="69"/>
                  <a:pt x="0" y="69"/>
                  <a:pt x="0" y="69"/>
                </a:cubicBezTo>
                <a:cubicBezTo>
                  <a:pt x="1393" y="69"/>
                  <a:pt x="1393" y="69"/>
                  <a:pt x="1393" y="69"/>
                </a:cubicBezTo>
                <a:cubicBezTo>
                  <a:pt x="1393" y="27"/>
                  <a:pt x="1393" y="27"/>
                  <a:pt x="1393" y="27"/>
                </a:cubicBezTo>
                <a:cubicBezTo>
                  <a:pt x="1393" y="12"/>
                  <a:pt x="1381" y="0"/>
                  <a:pt x="1366" y="0"/>
                </a:cubicBezTo>
                <a:close/>
              </a:path>
            </a:pathLst>
          </a:custGeom>
          <a:solidFill>
            <a:srgbClr val="00c2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101"/>
          <p:cNvSpPr/>
          <p:nvPr/>
        </p:nvSpPr>
        <p:spPr>
          <a:xfrm>
            <a:off x="3886200" y="6383160"/>
            <a:ext cx="8042400" cy="3765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560"/>
              <a:gd name="textAreaBottom" fmla="*/ 376920 h 376560"/>
            </a:gdLst>
            <a:ahLst/>
            <a:rect l="textAreaLeft" t="textAreaTop" r="textAreaRight" b="textAreaBottom"/>
            <a:pathLst>
              <a:path w="1393" h="65">
                <a:moveTo>
                  <a:pt x="1393" y="23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3"/>
                  <a:pt x="0" y="23"/>
                  <a:pt x="0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20" y="23"/>
                  <a:pt x="20" y="0"/>
                  <a:pt x="37" y="0"/>
                </a:cubicBezTo>
                <a:cubicBezTo>
                  <a:pt x="55" y="0"/>
                  <a:pt x="55" y="23"/>
                  <a:pt x="72" y="23"/>
                </a:cubicBezTo>
                <a:cubicBezTo>
                  <a:pt x="89" y="23"/>
                  <a:pt x="89" y="0"/>
                  <a:pt x="107" y="0"/>
                </a:cubicBezTo>
                <a:cubicBezTo>
                  <a:pt x="124" y="0"/>
                  <a:pt x="124" y="23"/>
                  <a:pt x="141" y="23"/>
                </a:cubicBezTo>
                <a:cubicBezTo>
                  <a:pt x="159" y="23"/>
                  <a:pt x="159" y="0"/>
                  <a:pt x="176" y="0"/>
                </a:cubicBezTo>
                <a:cubicBezTo>
                  <a:pt x="194" y="0"/>
                  <a:pt x="194" y="23"/>
                  <a:pt x="211" y="23"/>
                </a:cubicBezTo>
                <a:cubicBezTo>
                  <a:pt x="228" y="23"/>
                  <a:pt x="228" y="0"/>
                  <a:pt x="246" y="0"/>
                </a:cubicBezTo>
                <a:cubicBezTo>
                  <a:pt x="263" y="0"/>
                  <a:pt x="263" y="23"/>
                  <a:pt x="280" y="23"/>
                </a:cubicBezTo>
                <a:cubicBezTo>
                  <a:pt x="298" y="23"/>
                  <a:pt x="298" y="0"/>
                  <a:pt x="315" y="0"/>
                </a:cubicBezTo>
                <a:cubicBezTo>
                  <a:pt x="333" y="0"/>
                  <a:pt x="333" y="23"/>
                  <a:pt x="350" y="23"/>
                </a:cubicBezTo>
                <a:cubicBezTo>
                  <a:pt x="367" y="23"/>
                  <a:pt x="367" y="0"/>
                  <a:pt x="385" y="0"/>
                </a:cubicBezTo>
                <a:cubicBezTo>
                  <a:pt x="402" y="0"/>
                  <a:pt x="402" y="23"/>
                  <a:pt x="419" y="23"/>
                </a:cubicBezTo>
                <a:cubicBezTo>
                  <a:pt x="437" y="23"/>
                  <a:pt x="437" y="0"/>
                  <a:pt x="454" y="0"/>
                </a:cubicBezTo>
                <a:cubicBezTo>
                  <a:pt x="472" y="0"/>
                  <a:pt x="472" y="23"/>
                  <a:pt x="489" y="23"/>
                </a:cubicBezTo>
                <a:cubicBezTo>
                  <a:pt x="506" y="23"/>
                  <a:pt x="506" y="0"/>
                  <a:pt x="524" y="0"/>
                </a:cubicBezTo>
                <a:cubicBezTo>
                  <a:pt x="541" y="0"/>
                  <a:pt x="541" y="23"/>
                  <a:pt x="558" y="23"/>
                </a:cubicBezTo>
                <a:cubicBezTo>
                  <a:pt x="576" y="23"/>
                  <a:pt x="576" y="0"/>
                  <a:pt x="593" y="0"/>
                </a:cubicBezTo>
                <a:cubicBezTo>
                  <a:pt x="611" y="0"/>
                  <a:pt x="611" y="23"/>
                  <a:pt x="628" y="23"/>
                </a:cubicBezTo>
                <a:cubicBezTo>
                  <a:pt x="645" y="23"/>
                  <a:pt x="645" y="0"/>
                  <a:pt x="663" y="0"/>
                </a:cubicBezTo>
                <a:cubicBezTo>
                  <a:pt x="680" y="0"/>
                  <a:pt x="680" y="23"/>
                  <a:pt x="698" y="23"/>
                </a:cubicBezTo>
                <a:cubicBezTo>
                  <a:pt x="715" y="23"/>
                  <a:pt x="715" y="0"/>
                  <a:pt x="732" y="0"/>
                </a:cubicBezTo>
                <a:cubicBezTo>
                  <a:pt x="750" y="0"/>
                  <a:pt x="750" y="23"/>
                  <a:pt x="767" y="23"/>
                </a:cubicBezTo>
                <a:cubicBezTo>
                  <a:pt x="784" y="23"/>
                  <a:pt x="784" y="0"/>
                  <a:pt x="802" y="0"/>
                </a:cubicBezTo>
                <a:cubicBezTo>
                  <a:pt x="819" y="0"/>
                  <a:pt x="819" y="23"/>
                  <a:pt x="837" y="23"/>
                </a:cubicBezTo>
                <a:cubicBezTo>
                  <a:pt x="854" y="23"/>
                  <a:pt x="854" y="0"/>
                  <a:pt x="871" y="0"/>
                </a:cubicBezTo>
                <a:cubicBezTo>
                  <a:pt x="889" y="0"/>
                  <a:pt x="889" y="23"/>
                  <a:pt x="906" y="23"/>
                </a:cubicBezTo>
                <a:cubicBezTo>
                  <a:pt x="924" y="23"/>
                  <a:pt x="924" y="0"/>
                  <a:pt x="941" y="0"/>
                </a:cubicBezTo>
                <a:cubicBezTo>
                  <a:pt x="958" y="0"/>
                  <a:pt x="958" y="23"/>
                  <a:pt x="976" y="23"/>
                </a:cubicBezTo>
                <a:cubicBezTo>
                  <a:pt x="993" y="23"/>
                  <a:pt x="993" y="0"/>
                  <a:pt x="1011" y="0"/>
                </a:cubicBezTo>
                <a:cubicBezTo>
                  <a:pt x="1028" y="0"/>
                  <a:pt x="1028" y="23"/>
                  <a:pt x="1045" y="23"/>
                </a:cubicBezTo>
                <a:cubicBezTo>
                  <a:pt x="1063" y="23"/>
                  <a:pt x="1063" y="0"/>
                  <a:pt x="1080" y="0"/>
                </a:cubicBezTo>
                <a:cubicBezTo>
                  <a:pt x="1097" y="0"/>
                  <a:pt x="1097" y="23"/>
                  <a:pt x="1115" y="23"/>
                </a:cubicBezTo>
                <a:cubicBezTo>
                  <a:pt x="1132" y="23"/>
                  <a:pt x="1132" y="0"/>
                  <a:pt x="1150" y="0"/>
                </a:cubicBezTo>
                <a:cubicBezTo>
                  <a:pt x="1167" y="0"/>
                  <a:pt x="1167" y="23"/>
                  <a:pt x="1184" y="23"/>
                </a:cubicBezTo>
                <a:cubicBezTo>
                  <a:pt x="1202" y="23"/>
                  <a:pt x="1202" y="0"/>
                  <a:pt x="1219" y="0"/>
                </a:cubicBezTo>
                <a:cubicBezTo>
                  <a:pt x="1237" y="0"/>
                  <a:pt x="1237" y="23"/>
                  <a:pt x="1254" y="23"/>
                </a:cubicBezTo>
                <a:cubicBezTo>
                  <a:pt x="1271" y="23"/>
                  <a:pt x="1271" y="0"/>
                  <a:pt x="1289" y="0"/>
                </a:cubicBezTo>
                <a:cubicBezTo>
                  <a:pt x="1306" y="0"/>
                  <a:pt x="1306" y="23"/>
                  <a:pt x="1324" y="23"/>
                </a:cubicBezTo>
                <a:cubicBezTo>
                  <a:pt x="1341" y="23"/>
                  <a:pt x="1341" y="0"/>
                  <a:pt x="1358" y="0"/>
                </a:cubicBezTo>
                <a:cubicBezTo>
                  <a:pt x="1376" y="0"/>
                  <a:pt x="1376" y="23"/>
                  <a:pt x="1393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02"/>
          <p:cNvSpPr/>
          <p:nvPr/>
        </p:nvSpPr>
        <p:spPr>
          <a:xfrm>
            <a:off x="3886200" y="6481800"/>
            <a:ext cx="8042400" cy="37620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1393" h="65">
                <a:moveTo>
                  <a:pt x="1393" y="22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2"/>
                  <a:pt x="0" y="22"/>
                  <a:pt x="0" y="22"/>
                </a:cubicBezTo>
                <a:cubicBezTo>
                  <a:pt x="2" y="22"/>
                  <a:pt x="2" y="22"/>
                  <a:pt x="2" y="22"/>
                </a:cubicBezTo>
                <a:cubicBezTo>
                  <a:pt x="20" y="22"/>
                  <a:pt x="20" y="0"/>
                  <a:pt x="37" y="0"/>
                </a:cubicBezTo>
                <a:cubicBezTo>
                  <a:pt x="55" y="0"/>
                  <a:pt x="55" y="22"/>
                  <a:pt x="72" y="22"/>
                </a:cubicBezTo>
                <a:cubicBezTo>
                  <a:pt x="89" y="22"/>
                  <a:pt x="89" y="0"/>
                  <a:pt x="107" y="0"/>
                </a:cubicBezTo>
                <a:cubicBezTo>
                  <a:pt x="124" y="0"/>
                  <a:pt x="124" y="22"/>
                  <a:pt x="141" y="22"/>
                </a:cubicBezTo>
                <a:cubicBezTo>
                  <a:pt x="159" y="22"/>
                  <a:pt x="159" y="0"/>
                  <a:pt x="176" y="0"/>
                </a:cubicBezTo>
                <a:cubicBezTo>
                  <a:pt x="194" y="0"/>
                  <a:pt x="194" y="22"/>
                  <a:pt x="211" y="22"/>
                </a:cubicBezTo>
                <a:cubicBezTo>
                  <a:pt x="228" y="22"/>
                  <a:pt x="228" y="0"/>
                  <a:pt x="246" y="0"/>
                </a:cubicBezTo>
                <a:cubicBezTo>
                  <a:pt x="263" y="0"/>
                  <a:pt x="263" y="22"/>
                  <a:pt x="280" y="22"/>
                </a:cubicBezTo>
                <a:cubicBezTo>
                  <a:pt x="298" y="22"/>
                  <a:pt x="298" y="0"/>
                  <a:pt x="315" y="0"/>
                </a:cubicBezTo>
                <a:cubicBezTo>
                  <a:pt x="333" y="0"/>
                  <a:pt x="333" y="22"/>
                  <a:pt x="350" y="22"/>
                </a:cubicBezTo>
                <a:cubicBezTo>
                  <a:pt x="367" y="22"/>
                  <a:pt x="367" y="0"/>
                  <a:pt x="385" y="0"/>
                </a:cubicBezTo>
                <a:cubicBezTo>
                  <a:pt x="402" y="0"/>
                  <a:pt x="402" y="22"/>
                  <a:pt x="419" y="22"/>
                </a:cubicBezTo>
                <a:cubicBezTo>
                  <a:pt x="437" y="22"/>
                  <a:pt x="437" y="0"/>
                  <a:pt x="454" y="0"/>
                </a:cubicBezTo>
                <a:cubicBezTo>
                  <a:pt x="472" y="0"/>
                  <a:pt x="472" y="22"/>
                  <a:pt x="489" y="22"/>
                </a:cubicBezTo>
                <a:cubicBezTo>
                  <a:pt x="506" y="22"/>
                  <a:pt x="506" y="0"/>
                  <a:pt x="524" y="0"/>
                </a:cubicBezTo>
                <a:cubicBezTo>
                  <a:pt x="541" y="0"/>
                  <a:pt x="541" y="22"/>
                  <a:pt x="558" y="22"/>
                </a:cubicBezTo>
                <a:cubicBezTo>
                  <a:pt x="576" y="22"/>
                  <a:pt x="576" y="0"/>
                  <a:pt x="593" y="0"/>
                </a:cubicBezTo>
                <a:cubicBezTo>
                  <a:pt x="611" y="0"/>
                  <a:pt x="611" y="22"/>
                  <a:pt x="628" y="22"/>
                </a:cubicBezTo>
                <a:cubicBezTo>
                  <a:pt x="645" y="22"/>
                  <a:pt x="645" y="0"/>
                  <a:pt x="663" y="0"/>
                </a:cubicBezTo>
                <a:cubicBezTo>
                  <a:pt x="680" y="0"/>
                  <a:pt x="680" y="22"/>
                  <a:pt x="698" y="22"/>
                </a:cubicBezTo>
                <a:cubicBezTo>
                  <a:pt x="715" y="22"/>
                  <a:pt x="715" y="0"/>
                  <a:pt x="732" y="0"/>
                </a:cubicBezTo>
                <a:cubicBezTo>
                  <a:pt x="750" y="0"/>
                  <a:pt x="750" y="22"/>
                  <a:pt x="767" y="22"/>
                </a:cubicBezTo>
                <a:cubicBezTo>
                  <a:pt x="784" y="22"/>
                  <a:pt x="784" y="0"/>
                  <a:pt x="802" y="0"/>
                </a:cubicBezTo>
                <a:cubicBezTo>
                  <a:pt x="819" y="0"/>
                  <a:pt x="819" y="22"/>
                  <a:pt x="837" y="22"/>
                </a:cubicBezTo>
                <a:cubicBezTo>
                  <a:pt x="854" y="22"/>
                  <a:pt x="854" y="0"/>
                  <a:pt x="871" y="0"/>
                </a:cubicBezTo>
                <a:cubicBezTo>
                  <a:pt x="889" y="0"/>
                  <a:pt x="889" y="22"/>
                  <a:pt x="906" y="22"/>
                </a:cubicBezTo>
                <a:cubicBezTo>
                  <a:pt x="924" y="22"/>
                  <a:pt x="924" y="0"/>
                  <a:pt x="941" y="0"/>
                </a:cubicBezTo>
                <a:cubicBezTo>
                  <a:pt x="958" y="0"/>
                  <a:pt x="958" y="22"/>
                  <a:pt x="976" y="22"/>
                </a:cubicBezTo>
                <a:cubicBezTo>
                  <a:pt x="993" y="22"/>
                  <a:pt x="993" y="0"/>
                  <a:pt x="1011" y="0"/>
                </a:cubicBezTo>
                <a:cubicBezTo>
                  <a:pt x="1028" y="0"/>
                  <a:pt x="1028" y="22"/>
                  <a:pt x="1045" y="22"/>
                </a:cubicBezTo>
                <a:cubicBezTo>
                  <a:pt x="1063" y="22"/>
                  <a:pt x="1063" y="0"/>
                  <a:pt x="1080" y="0"/>
                </a:cubicBezTo>
                <a:cubicBezTo>
                  <a:pt x="1097" y="0"/>
                  <a:pt x="1097" y="22"/>
                  <a:pt x="1115" y="22"/>
                </a:cubicBezTo>
                <a:cubicBezTo>
                  <a:pt x="1132" y="22"/>
                  <a:pt x="1132" y="0"/>
                  <a:pt x="1150" y="0"/>
                </a:cubicBezTo>
                <a:cubicBezTo>
                  <a:pt x="1167" y="0"/>
                  <a:pt x="1167" y="22"/>
                  <a:pt x="1184" y="22"/>
                </a:cubicBezTo>
                <a:cubicBezTo>
                  <a:pt x="1202" y="22"/>
                  <a:pt x="1202" y="0"/>
                  <a:pt x="1219" y="0"/>
                </a:cubicBezTo>
                <a:cubicBezTo>
                  <a:pt x="1237" y="0"/>
                  <a:pt x="1237" y="22"/>
                  <a:pt x="1254" y="22"/>
                </a:cubicBezTo>
                <a:cubicBezTo>
                  <a:pt x="1271" y="22"/>
                  <a:pt x="1271" y="0"/>
                  <a:pt x="1289" y="0"/>
                </a:cubicBezTo>
                <a:cubicBezTo>
                  <a:pt x="1306" y="0"/>
                  <a:pt x="1306" y="22"/>
                  <a:pt x="1324" y="22"/>
                </a:cubicBezTo>
                <a:cubicBezTo>
                  <a:pt x="1341" y="22"/>
                  <a:pt x="1341" y="0"/>
                  <a:pt x="1358" y="0"/>
                </a:cubicBezTo>
                <a:cubicBezTo>
                  <a:pt x="1376" y="0"/>
                  <a:pt x="1376" y="22"/>
                  <a:pt x="1393" y="22"/>
                </a:cubicBezTo>
                <a:close/>
              </a:path>
            </a:pathLst>
          </a:custGeom>
          <a:solidFill>
            <a:srgbClr val="39a1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103"/>
          <p:cNvSpPr/>
          <p:nvPr/>
        </p:nvSpPr>
        <p:spPr>
          <a:xfrm>
            <a:off x="3886200" y="6654960"/>
            <a:ext cx="8042400" cy="20304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393" h="35">
                <a:moveTo>
                  <a:pt x="1358" y="0"/>
                </a:moveTo>
                <a:cubicBezTo>
                  <a:pt x="1341" y="0"/>
                  <a:pt x="1341" y="22"/>
                  <a:pt x="1324" y="22"/>
                </a:cubicBezTo>
                <a:cubicBezTo>
                  <a:pt x="1306" y="22"/>
                  <a:pt x="1306" y="0"/>
                  <a:pt x="1289" y="0"/>
                </a:cubicBezTo>
                <a:cubicBezTo>
                  <a:pt x="1271" y="0"/>
                  <a:pt x="1271" y="22"/>
                  <a:pt x="1254" y="22"/>
                </a:cubicBezTo>
                <a:cubicBezTo>
                  <a:pt x="1237" y="22"/>
                  <a:pt x="1237" y="0"/>
                  <a:pt x="1219" y="0"/>
                </a:cubicBezTo>
                <a:cubicBezTo>
                  <a:pt x="1202" y="0"/>
                  <a:pt x="1202" y="22"/>
                  <a:pt x="1184" y="22"/>
                </a:cubicBezTo>
                <a:cubicBezTo>
                  <a:pt x="1167" y="22"/>
                  <a:pt x="1167" y="0"/>
                  <a:pt x="1150" y="0"/>
                </a:cubicBezTo>
                <a:cubicBezTo>
                  <a:pt x="1132" y="0"/>
                  <a:pt x="1132" y="22"/>
                  <a:pt x="1115" y="22"/>
                </a:cubicBezTo>
                <a:cubicBezTo>
                  <a:pt x="1097" y="22"/>
                  <a:pt x="1097" y="0"/>
                  <a:pt x="1080" y="0"/>
                </a:cubicBezTo>
                <a:cubicBezTo>
                  <a:pt x="1063" y="0"/>
                  <a:pt x="1063" y="22"/>
                  <a:pt x="1045" y="22"/>
                </a:cubicBezTo>
                <a:cubicBezTo>
                  <a:pt x="1028" y="22"/>
                  <a:pt x="1028" y="0"/>
                  <a:pt x="1011" y="0"/>
                </a:cubicBezTo>
                <a:cubicBezTo>
                  <a:pt x="993" y="0"/>
                  <a:pt x="993" y="22"/>
                  <a:pt x="976" y="22"/>
                </a:cubicBezTo>
                <a:cubicBezTo>
                  <a:pt x="958" y="22"/>
                  <a:pt x="958" y="0"/>
                  <a:pt x="941" y="0"/>
                </a:cubicBezTo>
                <a:cubicBezTo>
                  <a:pt x="924" y="0"/>
                  <a:pt x="924" y="22"/>
                  <a:pt x="906" y="22"/>
                </a:cubicBezTo>
                <a:cubicBezTo>
                  <a:pt x="889" y="22"/>
                  <a:pt x="889" y="0"/>
                  <a:pt x="871" y="0"/>
                </a:cubicBezTo>
                <a:cubicBezTo>
                  <a:pt x="854" y="0"/>
                  <a:pt x="854" y="22"/>
                  <a:pt x="837" y="22"/>
                </a:cubicBezTo>
                <a:cubicBezTo>
                  <a:pt x="819" y="22"/>
                  <a:pt x="819" y="0"/>
                  <a:pt x="802" y="0"/>
                </a:cubicBezTo>
                <a:cubicBezTo>
                  <a:pt x="784" y="0"/>
                  <a:pt x="784" y="22"/>
                  <a:pt x="767" y="22"/>
                </a:cubicBezTo>
                <a:cubicBezTo>
                  <a:pt x="750" y="22"/>
                  <a:pt x="750" y="0"/>
                  <a:pt x="732" y="0"/>
                </a:cubicBezTo>
                <a:cubicBezTo>
                  <a:pt x="715" y="0"/>
                  <a:pt x="715" y="22"/>
                  <a:pt x="698" y="22"/>
                </a:cubicBezTo>
                <a:cubicBezTo>
                  <a:pt x="680" y="22"/>
                  <a:pt x="680" y="0"/>
                  <a:pt x="663" y="0"/>
                </a:cubicBezTo>
                <a:cubicBezTo>
                  <a:pt x="645" y="0"/>
                  <a:pt x="645" y="22"/>
                  <a:pt x="628" y="22"/>
                </a:cubicBezTo>
                <a:cubicBezTo>
                  <a:pt x="611" y="22"/>
                  <a:pt x="611" y="0"/>
                  <a:pt x="593" y="0"/>
                </a:cubicBezTo>
                <a:cubicBezTo>
                  <a:pt x="576" y="0"/>
                  <a:pt x="576" y="22"/>
                  <a:pt x="558" y="22"/>
                </a:cubicBezTo>
                <a:cubicBezTo>
                  <a:pt x="541" y="22"/>
                  <a:pt x="541" y="0"/>
                  <a:pt x="524" y="0"/>
                </a:cubicBezTo>
                <a:cubicBezTo>
                  <a:pt x="506" y="0"/>
                  <a:pt x="506" y="22"/>
                  <a:pt x="489" y="22"/>
                </a:cubicBezTo>
                <a:cubicBezTo>
                  <a:pt x="472" y="22"/>
                  <a:pt x="472" y="0"/>
                  <a:pt x="454" y="0"/>
                </a:cubicBezTo>
                <a:cubicBezTo>
                  <a:pt x="437" y="0"/>
                  <a:pt x="437" y="22"/>
                  <a:pt x="419" y="22"/>
                </a:cubicBezTo>
                <a:cubicBezTo>
                  <a:pt x="402" y="22"/>
                  <a:pt x="402" y="0"/>
                  <a:pt x="385" y="0"/>
                </a:cubicBezTo>
                <a:cubicBezTo>
                  <a:pt x="367" y="0"/>
                  <a:pt x="367" y="22"/>
                  <a:pt x="350" y="22"/>
                </a:cubicBezTo>
                <a:cubicBezTo>
                  <a:pt x="333" y="22"/>
                  <a:pt x="333" y="0"/>
                  <a:pt x="315" y="0"/>
                </a:cubicBezTo>
                <a:cubicBezTo>
                  <a:pt x="298" y="0"/>
                  <a:pt x="298" y="22"/>
                  <a:pt x="280" y="22"/>
                </a:cubicBezTo>
                <a:cubicBezTo>
                  <a:pt x="263" y="22"/>
                  <a:pt x="263" y="0"/>
                  <a:pt x="246" y="0"/>
                </a:cubicBezTo>
                <a:cubicBezTo>
                  <a:pt x="228" y="0"/>
                  <a:pt x="228" y="22"/>
                  <a:pt x="211" y="22"/>
                </a:cubicBezTo>
                <a:cubicBezTo>
                  <a:pt x="194" y="22"/>
                  <a:pt x="194" y="0"/>
                  <a:pt x="176" y="0"/>
                </a:cubicBezTo>
                <a:cubicBezTo>
                  <a:pt x="159" y="0"/>
                  <a:pt x="159" y="22"/>
                  <a:pt x="141" y="22"/>
                </a:cubicBezTo>
                <a:cubicBezTo>
                  <a:pt x="124" y="22"/>
                  <a:pt x="124" y="0"/>
                  <a:pt x="107" y="0"/>
                </a:cubicBezTo>
                <a:cubicBezTo>
                  <a:pt x="89" y="0"/>
                  <a:pt x="89" y="22"/>
                  <a:pt x="72" y="22"/>
                </a:cubicBezTo>
                <a:cubicBezTo>
                  <a:pt x="55" y="22"/>
                  <a:pt x="55" y="0"/>
                  <a:pt x="37" y="0"/>
                </a:cubicBezTo>
                <a:cubicBezTo>
                  <a:pt x="20" y="0"/>
                  <a:pt x="20" y="22"/>
                  <a:pt x="2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5"/>
                  <a:pt x="0" y="35"/>
                  <a:pt x="0" y="35"/>
                </a:cubicBezTo>
                <a:cubicBezTo>
                  <a:pt x="1393" y="35"/>
                  <a:pt x="1393" y="35"/>
                  <a:pt x="1393" y="35"/>
                </a:cubicBezTo>
                <a:cubicBezTo>
                  <a:pt x="1393" y="22"/>
                  <a:pt x="1393" y="22"/>
                  <a:pt x="1393" y="22"/>
                </a:cubicBezTo>
                <a:cubicBezTo>
                  <a:pt x="1376" y="22"/>
                  <a:pt x="1376" y="0"/>
                  <a:pt x="1358" y="0"/>
                </a:cubicBezTo>
                <a:close/>
              </a:path>
            </a:pathLst>
          </a:custGeom>
          <a:solidFill>
            <a:srgbClr val="005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MH_Number_1"/>
          <p:cNvSpPr/>
          <p:nvPr/>
        </p:nvSpPr>
        <p:spPr>
          <a:xfrm flipH="1">
            <a:off x="480960" y="1498680"/>
            <a:ext cx="2610000" cy="2608200"/>
          </a:xfrm>
          <a:prstGeom prst="roundRect">
            <a:avLst>
              <a:gd name="adj" fmla="val 16667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MH_Entry_1"/>
          <p:cNvSpPr/>
          <p:nvPr/>
        </p:nvSpPr>
        <p:spPr>
          <a:xfrm flipH="1">
            <a:off x="3368520" y="1498680"/>
            <a:ext cx="6353280" cy="965160"/>
          </a:xfrm>
          <a:prstGeom prst="roundRect">
            <a:avLst>
              <a:gd name="adj" fmla="val 16667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文本框 108"/>
          <p:cNvSpPr/>
          <p:nvPr/>
        </p:nvSpPr>
        <p:spPr>
          <a:xfrm>
            <a:off x="3992040" y="27273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f17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ffbf17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文本框 109"/>
          <p:cNvSpPr/>
          <p:nvPr/>
        </p:nvSpPr>
        <p:spPr>
          <a:xfrm>
            <a:off x="3992040" y="32529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f17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ffbf17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文本框 110"/>
          <p:cNvSpPr/>
          <p:nvPr/>
        </p:nvSpPr>
        <p:spPr>
          <a:xfrm>
            <a:off x="3992040" y="373680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f17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ffbf17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任意多边形 28"/>
          <p:cNvSpPr/>
          <p:nvPr/>
        </p:nvSpPr>
        <p:spPr>
          <a:xfrm>
            <a:off x="4670280" y="1996920"/>
            <a:ext cx="1425600" cy="1427400"/>
          </a:xfrm>
          <a:prstGeom prst="pie">
            <a:avLst/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任意多边形 32"/>
          <p:cNvSpPr/>
          <p:nvPr/>
        </p:nvSpPr>
        <p:spPr>
          <a:xfrm>
            <a:off x="6095880" y="1996920"/>
            <a:ext cx="1427400" cy="1427400"/>
          </a:xfrm>
          <a:prstGeom prst="pie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任意多边形 37"/>
          <p:cNvSpPr/>
          <p:nvPr/>
        </p:nvSpPr>
        <p:spPr>
          <a:xfrm>
            <a:off x="4670280" y="3424320"/>
            <a:ext cx="1425600" cy="1427040"/>
          </a:xfrm>
          <a:prstGeom prst="pie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任意多边形 40"/>
          <p:cNvSpPr/>
          <p:nvPr/>
        </p:nvSpPr>
        <p:spPr>
          <a:xfrm>
            <a:off x="6095880" y="3424320"/>
            <a:ext cx="1427400" cy="1427040"/>
          </a:xfrm>
          <a:prstGeom prst="pie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文本框 41"/>
          <p:cNvSpPr/>
          <p:nvPr/>
        </p:nvSpPr>
        <p:spPr>
          <a:xfrm>
            <a:off x="2195640" y="199692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优势包括有利的竞争态势；充足的财政来源；良好的企业形象；产品质量；成本优势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文本框 42"/>
          <p:cNvSpPr/>
          <p:nvPr/>
        </p:nvSpPr>
        <p:spPr>
          <a:xfrm>
            <a:off x="2195640" y="404820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机会包括新产品；新市场；新需求；外国市场壁垒解除；竞争对手失误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文本框 43"/>
          <p:cNvSpPr/>
          <p:nvPr/>
        </p:nvSpPr>
        <p:spPr>
          <a:xfrm>
            <a:off x="7635960" y="199692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劣势包括设备老化；管理混乱；资金短缺；经营不善；产品积压；竞争力差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44"/>
          <p:cNvSpPr/>
          <p:nvPr/>
        </p:nvSpPr>
        <p:spPr>
          <a:xfrm>
            <a:off x="7635960" y="381168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威胁包括新的竞争对手；替代产品增多；市场紧缩；行业政策变化；经济衰退；客户偏好改变；突发事件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Freeform 52"/>
          <p:cNvSpPr/>
          <p:nvPr/>
        </p:nvSpPr>
        <p:spPr>
          <a:xfrm>
            <a:off x="2870280" y="3666960"/>
            <a:ext cx="465120" cy="498600"/>
          </a:xfrm>
          <a:custGeom>
            <a:avLst/>
            <a:gdLst>
              <a:gd name="textAreaLeft" fmla="*/ 0 w 465120"/>
              <a:gd name="textAreaRight" fmla="*/ 465480 w 46512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42"/>
          <p:cNvSpPr/>
          <p:nvPr/>
        </p:nvSpPr>
        <p:spPr>
          <a:xfrm>
            <a:off x="4264200" y="3917880"/>
            <a:ext cx="504720" cy="434880"/>
          </a:xfrm>
          <a:custGeom>
            <a:avLst/>
            <a:gdLst>
              <a:gd name="textAreaLeft" fmla="*/ 0 w 504720"/>
              <a:gd name="textAreaRight" fmla="*/ 505080 w 50472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73" h="63">
                <a:moveTo>
                  <a:pt x="73" y="47"/>
                </a:moveTo>
                <a:cubicBezTo>
                  <a:pt x="73" y="50"/>
                  <a:pt x="70" y="53"/>
                  <a:pt x="67" y="53"/>
                </a:cubicBezTo>
                <a:cubicBezTo>
                  <a:pt x="46" y="53"/>
                  <a:pt x="46" y="53"/>
                  <a:pt x="46" y="53"/>
                </a:cubicBezTo>
                <a:cubicBezTo>
                  <a:pt x="46" y="56"/>
                  <a:pt x="48" y="59"/>
                  <a:pt x="48" y="60"/>
                </a:cubicBezTo>
                <a:cubicBezTo>
                  <a:pt x="48" y="62"/>
                  <a:pt x="47" y="63"/>
                  <a:pt x="46" y="63"/>
                </a:cubicBezTo>
                <a:cubicBezTo>
                  <a:pt x="26" y="63"/>
                  <a:pt x="26" y="63"/>
                  <a:pt x="26" y="63"/>
                </a:cubicBezTo>
                <a:cubicBezTo>
                  <a:pt x="25" y="63"/>
                  <a:pt x="24" y="62"/>
                  <a:pt x="24" y="60"/>
                </a:cubicBezTo>
                <a:cubicBezTo>
                  <a:pt x="24" y="59"/>
                  <a:pt x="26" y="56"/>
                  <a:pt x="26" y="53"/>
                </a:cubicBezTo>
                <a:cubicBezTo>
                  <a:pt x="6" y="53"/>
                  <a:pt x="6" y="53"/>
                  <a:pt x="6" y="53"/>
                </a:cubicBezTo>
                <a:cubicBezTo>
                  <a:pt x="2" y="53"/>
                  <a:pt x="0" y="50"/>
                  <a:pt x="0" y="47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2" y="0"/>
                  <a:pt x="6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70" y="0"/>
                  <a:pt x="73" y="2"/>
                  <a:pt x="73" y="6"/>
                </a:cubicBezTo>
                <a:lnTo>
                  <a:pt x="73" y="47"/>
                </a:lnTo>
                <a:close/>
                <a:moveTo>
                  <a:pt x="68" y="6"/>
                </a:moveTo>
                <a:cubicBezTo>
                  <a:pt x="68" y="5"/>
                  <a:pt x="67" y="5"/>
                  <a:pt x="67" y="5"/>
                </a:cubicBezTo>
                <a:cubicBezTo>
                  <a:pt x="6" y="5"/>
                  <a:pt x="6" y="5"/>
                  <a:pt x="6" y="5"/>
                </a:cubicBezTo>
                <a:cubicBezTo>
                  <a:pt x="5" y="5"/>
                  <a:pt x="5" y="5"/>
                  <a:pt x="5" y="6"/>
                </a:cubicBezTo>
                <a:cubicBezTo>
                  <a:pt x="5" y="37"/>
                  <a:pt x="5" y="37"/>
                  <a:pt x="5" y="37"/>
                </a:cubicBezTo>
                <a:cubicBezTo>
                  <a:pt x="5" y="38"/>
                  <a:pt x="5" y="39"/>
                  <a:pt x="6" y="39"/>
                </a:cubicBezTo>
                <a:cubicBezTo>
                  <a:pt x="67" y="39"/>
                  <a:pt x="67" y="39"/>
                  <a:pt x="67" y="39"/>
                </a:cubicBezTo>
                <a:cubicBezTo>
                  <a:pt x="67" y="39"/>
                  <a:pt x="68" y="38"/>
                  <a:pt x="68" y="37"/>
                </a:cubicBezTo>
                <a:lnTo>
                  <a:pt x="68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178"/>
          <p:cNvSpPr/>
          <p:nvPr/>
        </p:nvSpPr>
        <p:spPr>
          <a:xfrm>
            <a:off x="4035600" y="2581200"/>
            <a:ext cx="504720" cy="381240"/>
          </a:xfrm>
          <a:custGeom>
            <a:avLst/>
            <a:gdLst>
              <a:gd name="textAreaLeft" fmla="*/ 0 w 504720"/>
              <a:gd name="textAreaRight" fmla="*/ 505080 w 5047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86"/>
          <p:cNvSpPr/>
          <p:nvPr/>
        </p:nvSpPr>
        <p:spPr>
          <a:xfrm>
            <a:off x="2930400" y="2505240"/>
            <a:ext cx="346320" cy="581040"/>
          </a:xfrm>
          <a:custGeom>
            <a:avLst/>
            <a:gdLst>
              <a:gd name="textAreaLeft" fmla="*/ 0 w 346320"/>
              <a:gd name="textAreaRight" fmla="*/ 346320 w 34632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9" h="49">
                <a:moveTo>
                  <a:pt x="29" y="44"/>
                </a:moveTo>
                <a:cubicBezTo>
                  <a:pt x="29" y="47"/>
                  <a:pt x="27" y="49"/>
                  <a:pt x="24" y="49"/>
                </a:cubicBezTo>
                <a:cubicBezTo>
                  <a:pt x="5" y="49"/>
                  <a:pt x="5" y="49"/>
                  <a:pt x="5" y="49"/>
                </a:cubicBezTo>
                <a:cubicBezTo>
                  <a:pt x="2" y="49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3"/>
                  <a:pt x="2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9" y="3"/>
                  <a:pt x="29" y="5"/>
                </a:cubicBezTo>
                <a:lnTo>
                  <a:pt x="29" y="44"/>
                </a:lnTo>
                <a:close/>
                <a:moveTo>
                  <a:pt x="25" y="11"/>
                </a:moveTo>
                <a:cubicBezTo>
                  <a:pt x="25" y="11"/>
                  <a:pt x="25" y="10"/>
                  <a:pt x="24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4" y="10"/>
                  <a:pt x="3" y="11"/>
                  <a:pt x="3" y="11"/>
                </a:cubicBezTo>
                <a:cubicBezTo>
                  <a:pt x="3" y="38"/>
                  <a:pt x="3" y="38"/>
                  <a:pt x="3" y="38"/>
                </a:cubicBezTo>
                <a:cubicBezTo>
                  <a:pt x="3" y="39"/>
                  <a:pt x="4" y="39"/>
                  <a:pt x="5" y="39"/>
                </a:cubicBezTo>
                <a:cubicBezTo>
                  <a:pt x="24" y="39"/>
                  <a:pt x="24" y="39"/>
                  <a:pt x="24" y="39"/>
                </a:cubicBezTo>
                <a:cubicBezTo>
                  <a:pt x="25" y="39"/>
                  <a:pt x="25" y="39"/>
                  <a:pt x="25" y="38"/>
                </a:cubicBezTo>
                <a:lnTo>
                  <a:pt x="25" y="11"/>
                </a:lnTo>
                <a:close/>
                <a:moveTo>
                  <a:pt x="17" y="5"/>
                </a:moveTo>
                <a:cubicBezTo>
                  <a:pt x="11" y="5"/>
                  <a:pt x="11" y="5"/>
                  <a:pt x="11" y="5"/>
                </a:cubicBezTo>
                <a:cubicBezTo>
                  <a:pt x="11" y="5"/>
                  <a:pt x="11" y="6"/>
                  <a:pt x="11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8" y="6"/>
                  <a:pt x="18" y="5"/>
                  <a:pt x="17" y="5"/>
                </a:cubicBezTo>
                <a:close/>
                <a:moveTo>
                  <a:pt x="14" y="41"/>
                </a:moveTo>
                <a:cubicBezTo>
                  <a:pt x="13" y="41"/>
                  <a:pt x="11" y="42"/>
                  <a:pt x="11" y="44"/>
                </a:cubicBezTo>
                <a:cubicBezTo>
                  <a:pt x="11" y="46"/>
                  <a:pt x="13" y="47"/>
                  <a:pt x="14" y="47"/>
                </a:cubicBezTo>
                <a:cubicBezTo>
                  <a:pt x="16" y="47"/>
                  <a:pt x="17" y="46"/>
                  <a:pt x="17" y="44"/>
                </a:cubicBezTo>
                <a:cubicBezTo>
                  <a:pt x="17" y="42"/>
                  <a:pt x="16" y="41"/>
                  <a:pt x="1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ounded Rectangle 72"/>
          <p:cNvSpPr/>
          <p:nvPr/>
        </p:nvSpPr>
        <p:spPr>
          <a:xfrm>
            <a:off x="5759280" y="1306440"/>
            <a:ext cx="1389240" cy="378000"/>
          </a:xfrm>
          <a:prstGeom prst="roundRect">
            <a:avLst>
              <a:gd name="adj" fmla="val 21106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文本框 12"/>
          <p:cNvSpPr/>
          <p:nvPr/>
        </p:nvSpPr>
        <p:spPr>
          <a:xfrm>
            <a:off x="5759280" y="169056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ounded Rectangle 72"/>
          <p:cNvSpPr/>
          <p:nvPr/>
        </p:nvSpPr>
        <p:spPr>
          <a:xfrm>
            <a:off x="7974000" y="1306440"/>
            <a:ext cx="1390680" cy="378000"/>
          </a:xfrm>
          <a:prstGeom prst="roundRect">
            <a:avLst>
              <a:gd name="adj" fmla="val 21106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文本框 16"/>
          <p:cNvSpPr/>
          <p:nvPr/>
        </p:nvSpPr>
        <p:spPr>
          <a:xfrm>
            <a:off x="7920000" y="169056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ounded Rectangle 72"/>
          <p:cNvSpPr/>
          <p:nvPr/>
        </p:nvSpPr>
        <p:spPr>
          <a:xfrm>
            <a:off x="5759280" y="3768840"/>
            <a:ext cx="1389240" cy="377640"/>
          </a:xfrm>
          <a:prstGeom prst="roundRect">
            <a:avLst>
              <a:gd name="adj" fmla="val 21106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文本框 20"/>
          <p:cNvSpPr/>
          <p:nvPr/>
        </p:nvSpPr>
        <p:spPr>
          <a:xfrm>
            <a:off x="5759280" y="415620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ounded Rectangle 72"/>
          <p:cNvSpPr/>
          <p:nvPr/>
        </p:nvSpPr>
        <p:spPr>
          <a:xfrm>
            <a:off x="7974000" y="3768840"/>
            <a:ext cx="1390680" cy="377640"/>
          </a:xfrm>
          <a:prstGeom prst="roundRect">
            <a:avLst>
              <a:gd name="adj" fmla="val 21106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文本框 24"/>
          <p:cNvSpPr/>
          <p:nvPr/>
        </p:nvSpPr>
        <p:spPr>
          <a:xfrm>
            <a:off x="7920000" y="415620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菱形 3"/>
          <p:cNvSpPr/>
          <p:nvPr/>
        </p:nvSpPr>
        <p:spPr>
          <a:xfrm>
            <a:off x="2060640" y="2008080"/>
            <a:ext cx="1366920" cy="1365480"/>
          </a:xfrm>
          <a:prstGeom prst="diamond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菱形 4"/>
          <p:cNvSpPr/>
          <p:nvPr/>
        </p:nvSpPr>
        <p:spPr>
          <a:xfrm>
            <a:off x="3568680" y="2008080"/>
            <a:ext cx="1365120" cy="1365480"/>
          </a:xfrm>
          <a:prstGeom prst="diamond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菱形 5"/>
          <p:cNvSpPr/>
          <p:nvPr/>
        </p:nvSpPr>
        <p:spPr>
          <a:xfrm>
            <a:off x="5075280" y="1670040"/>
            <a:ext cx="2041560" cy="2041560"/>
          </a:xfrm>
          <a:prstGeom prst="diamond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菱形 6"/>
          <p:cNvSpPr/>
          <p:nvPr/>
        </p:nvSpPr>
        <p:spPr>
          <a:xfrm>
            <a:off x="7257960" y="2008080"/>
            <a:ext cx="1365480" cy="1365480"/>
          </a:xfrm>
          <a:prstGeom prst="diamond">
            <a:avLst/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菱形 7"/>
          <p:cNvSpPr/>
          <p:nvPr/>
        </p:nvSpPr>
        <p:spPr>
          <a:xfrm>
            <a:off x="8764560" y="2008080"/>
            <a:ext cx="1366920" cy="1365480"/>
          </a:xfrm>
          <a:prstGeom prst="diamond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菱形 8"/>
          <p:cNvSpPr/>
          <p:nvPr/>
        </p:nvSpPr>
        <p:spPr>
          <a:xfrm>
            <a:off x="3236760" y="2854440"/>
            <a:ext cx="52092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菱形 9"/>
          <p:cNvSpPr/>
          <p:nvPr/>
        </p:nvSpPr>
        <p:spPr>
          <a:xfrm>
            <a:off x="4729320" y="200808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菱形 10"/>
          <p:cNvSpPr/>
          <p:nvPr/>
        </p:nvSpPr>
        <p:spPr>
          <a:xfrm>
            <a:off x="6931080" y="2851200"/>
            <a:ext cx="52056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菱形 11"/>
          <p:cNvSpPr/>
          <p:nvPr/>
        </p:nvSpPr>
        <p:spPr>
          <a:xfrm>
            <a:off x="8434440" y="202392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文本框 85"/>
          <p:cNvSpPr/>
          <p:nvPr/>
        </p:nvSpPr>
        <p:spPr>
          <a:xfrm>
            <a:off x="5288040" y="383868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文本框 86"/>
          <p:cNvSpPr/>
          <p:nvPr/>
        </p:nvSpPr>
        <p:spPr>
          <a:xfrm>
            <a:off x="3530520" y="35402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文本框 87"/>
          <p:cNvSpPr/>
          <p:nvPr/>
        </p:nvSpPr>
        <p:spPr>
          <a:xfrm>
            <a:off x="201780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文本框 88"/>
          <p:cNvSpPr/>
          <p:nvPr/>
        </p:nvSpPr>
        <p:spPr>
          <a:xfrm>
            <a:off x="873288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文本框 89"/>
          <p:cNvSpPr/>
          <p:nvPr/>
        </p:nvSpPr>
        <p:spPr>
          <a:xfrm>
            <a:off x="7221600" y="354024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KSO_Shape"/>
          <p:cNvSpPr/>
          <p:nvPr/>
        </p:nvSpPr>
        <p:spPr>
          <a:xfrm>
            <a:off x="2490840" y="2392200"/>
            <a:ext cx="590400" cy="535320"/>
          </a:xfrm>
          <a:custGeom>
            <a:avLst/>
            <a:gdLst>
              <a:gd name="textAreaLeft" fmla="*/ 0 w 590400"/>
              <a:gd name="textAreaRight" fmla="*/ 590760 w 590400"/>
              <a:gd name="textAreaTop" fmla="*/ 0 h 535320"/>
              <a:gd name="textAreaBottom" fmla="*/ 535680 h 535320"/>
            </a:gdLst>
            <a:ahLst/>
            <a:rect l="textAreaLeft" t="textAreaTop" r="textAreaRight" b="textAreaBottom"/>
            <a:pathLst>
              <a:path w="2395538" h="2170112">
                <a:moveTo>
                  <a:pt x="940433" y="595312"/>
                </a:moveTo>
                <a:lnTo>
                  <a:pt x="1643062" y="1217102"/>
                </a:lnTo>
                <a:lnTo>
                  <a:pt x="1643062" y="2170112"/>
                </a:lnTo>
                <a:lnTo>
                  <a:pt x="1433735" y="2170112"/>
                </a:lnTo>
                <a:lnTo>
                  <a:pt x="1159290" y="2170112"/>
                </a:lnTo>
                <a:lnTo>
                  <a:pt x="1159290" y="1557214"/>
                </a:lnTo>
                <a:lnTo>
                  <a:pt x="726341" y="1557214"/>
                </a:lnTo>
                <a:lnTo>
                  <a:pt x="726341" y="2170112"/>
                </a:lnTo>
                <a:lnTo>
                  <a:pt x="612307" y="2170112"/>
                </a:lnTo>
                <a:lnTo>
                  <a:pt x="242887" y="2170112"/>
                </a:lnTo>
                <a:lnTo>
                  <a:pt x="242887" y="1655658"/>
                </a:lnTo>
                <a:lnTo>
                  <a:pt x="242887" y="1217102"/>
                </a:lnTo>
                <a:lnTo>
                  <a:pt x="940433" y="595312"/>
                </a:lnTo>
                <a:close/>
                <a:moveTo>
                  <a:pt x="942657" y="284162"/>
                </a:moveTo>
                <a:lnTo>
                  <a:pt x="1252855" y="559975"/>
                </a:lnTo>
                <a:lnTo>
                  <a:pt x="1441768" y="728510"/>
                </a:lnTo>
                <a:lnTo>
                  <a:pt x="1865630" y="1106523"/>
                </a:lnTo>
                <a:lnTo>
                  <a:pt x="1870393" y="1110966"/>
                </a:lnTo>
                <a:lnTo>
                  <a:pt x="1874520" y="1115727"/>
                </a:lnTo>
                <a:lnTo>
                  <a:pt x="1878013" y="1121123"/>
                </a:lnTo>
                <a:lnTo>
                  <a:pt x="1880553" y="1126519"/>
                </a:lnTo>
                <a:lnTo>
                  <a:pt x="1882775" y="1132232"/>
                </a:lnTo>
                <a:lnTo>
                  <a:pt x="1884680" y="1137627"/>
                </a:lnTo>
                <a:lnTo>
                  <a:pt x="1885633" y="1143658"/>
                </a:lnTo>
                <a:lnTo>
                  <a:pt x="1885950" y="1149053"/>
                </a:lnTo>
                <a:lnTo>
                  <a:pt x="1885633" y="1155084"/>
                </a:lnTo>
                <a:lnTo>
                  <a:pt x="1884680" y="1160797"/>
                </a:lnTo>
                <a:lnTo>
                  <a:pt x="1882775" y="1166510"/>
                </a:lnTo>
                <a:lnTo>
                  <a:pt x="1880553" y="1171906"/>
                </a:lnTo>
                <a:lnTo>
                  <a:pt x="1878013" y="1177619"/>
                </a:lnTo>
                <a:lnTo>
                  <a:pt x="1874520" y="1182697"/>
                </a:lnTo>
                <a:lnTo>
                  <a:pt x="1870393" y="1187775"/>
                </a:lnTo>
                <a:lnTo>
                  <a:pt x="1865630" y="1192219"/>
                </a:lnTo>
                <a:lnTo>
                  <a:pt x="1860550" y="1196345"/>
                </a:lnTo>
                <a:lnTo>
                  <a:pt x="1855153" y="1200153"/>
                </a:lnTo>
                <a:lnTo>
                  <a:pt x="1849438" y="1203010"/>
                </a:lnTo>
                <a:lnTo>
                  <a:pt x="1843405" y="1205549"/>
                </a:lnTo>
                <a:lnTo>
                  <a:pt x="1836738" y="1207453"/>
                </a:lnTo>
                <a:lnTo>
                  <a:pt x="1830705" y="1208723"/>
                </a:lnTo>
                <a:lnTo>
                  <a:pt x="1824038" y="1209358"/>
                </a:lnTo>
                <a:lnTo>
                  <a:pt x="1817688" y="1209675"/>
                </a:lnTo>
                <a:lnTo>
                  <a:pt x="1811020" y="1209358"/>
                </a:lnTo>
                <a:lnTo>
                  <a:pt x="1804670" y="1208723"/>
                </a:lnTo>
                <a:lnTo>
                  <a:pt x="1798320" y="1207453"/>
                </a:lnTo>
                <a:lnTo>
                  <a:pt x="1792288" y="1205549"/>
                </a:lnTo>
                <a:lnTo>
                  <a:pt x="1785938" y="1203010"/>
                </a:lnTo>
                <a:lnTo>
                  <a:pt x="1780223" y="1200153"/>
                </a:lnTo>
                <a:lnTo>
                  <a:pt x="1774825" y="1196345"/>
                </a:lnTo>
                <a:lnTo>
                  <a:pt x="1769745" y="1192219"/>
                </a:lnTo>
                <a:lnTo>
                  <a:pt x="942657" y="455553"/>
                </a:lnTo>
                <a:lnTo>
                  <a:pt x="116205" y="1192219"/>
                </a:lnTo>
                <a:lnTo>
                  <a:pt x="111125" y="1196345"/>
                </a:lnTo>
                <a:lnTo>
                  <a:pt x="105410" y="1200153"/>
                </a:lnTo>
                <a:lnTo>
                  <a:pt x="99695" y="1203010"/>
                </a:lnTo>
                <a:lnTo>
                  <a:pt x="93662" y="1205549"/>
                </a:lnTo>
                <a:lnTo>
                  <a:pt x="87630" y="1207136"/>
                </a:lnTo>
                <a:lnTo>
                  <a:pt x="80962" y="1208723"/>
                </a:lnTo>
                <a:lnTo>
                  <a:pt x="74930" y="1209358"/>
                </a:lnTo>
                <a:lnTo>
                  <a:pt x="68262" y="1209675"/>
                </a:lnTo>
                <a:lnTo>
                  <a:pt x="61277" y="1209358"/>
                </a:lnTo>
                <a:lnTo>
                  <a:pt x="55245" y="1208723"/>
                </a:lnTo>
                <a:lnTo>
                  <a:pt x="48577" y="1207136"/>
                </a:lnTo>
                <a:lnTo>
                  <a:pt x="42545" y="1205549"/>
                </a:lnTo>
                <a:lnTo>
                  <a:pt x="36195" y="1203010"/>
                </a:lnTo>
                <a:lnTo>
                  <a:pt x="30797" y="1200153"/>
                </a:lnTo>
                <a:lnTo>
                  <a:pt x="25082" y="1196345"/>
                </a:lnTo>
                <a:lnTo>
                  <a:pt x="20002" y="1192219"/>
                </a:lnTo>
                <a:lnTo>
                  <a:pt x="15240" y="1187775"/>
                </a:lnTo>
                <a:lnTo>
                  <a:pt x="11112" y="1182697"/>
                </a:lnTo>
                <a:lnTo>
                  <a:pt x="7937" y="1177619"/>
                </a:lnTo>
                <a:lnTo>
                  <a:pt x="5080" y="1171906"/>
                </a:lnTo>
                <a:lnTo>
                  <a:pt x="2540" y="1166510"/>
                </a:lnTo>
                <a:lnTo>
                  <a:pt x="1270" y="1160797"/>
                </a:lnTo>
                <a:lnTo>
                  <a:pt x="317" y="1155084"/>
                </a:lnTo>
                <a:lnTo>
                  <a:pt x="0" y="1149053"/>
                </a:lnTo>
                <a:lnTo>
                  <a:pt x="317" y="1143658"/>
                </a:lnTo>
                <a:lnTo>
                  <a:pt x="1270" y="1137627"/>
                </a:lnTo>
                <a:lnTo>
                  <a:pt x="2540" y="1131914"/>
                </a:lnTo>
                <a:lnTo>
                  <a:pt x="5080" y="1126201"/>
                </a:lnTo>
                <a:lnTo>
                  <a:pt x="7937" y="1121123"/>
                </a:lnTo>
                <a:lnTo>
                  <a:pt x="11112" y="1115727"/>
                </a:lnTo>
                <a:lnTo>
                  <a:pt x="15240" y="1110966"/>
                </a:lnTo>
                <a:lnTo>
                  <a:pt x="20002" y="1106523"/>
                </a:lnTo>
                <a:lnTo>
                  <a:pt x="942657" y="284162"/>
                </a:lnTo>
                <a:close/>
                <a:moveTo>
                  <a:pt x="1910075" y="217487"/>
                </a:moveTo>
                <a:lnTo>
                  <a:pt x="1929430" y="217487"/>
                </a:lnTo>
                <a:lnTo>
                  <a:pt x="1948785" y="218121"/>
                </a:lnTo>
                <a:lnTo>
                  <a:pt x="1968140" y="219388"/>
                </a:lnTo>
                <a:lnTo>
                  <a:pt x="1986860" y="220973"/>
                </a:lnTo>
                <a:lnTo>
                  <a:pt x="2005898" y="222874"/>
                </a:lnTo>
                <a:lnTo>
                  <a:pt x="2024301" y="225726"/>
                </a:lnTo>
                <a:lnTo>
                  <a:pt x="2043022" y="228578"/>
                </a:lnTo>
                <a:lnTo>
                  <a:pt x="2061425" y="231747"/>
                </a:lnTo>
                <a:lnTo>
                  <a:pt x="2079193" y="235550"/>
                </a:lnTo>
                <a:lnTo>
                  <a:pt x="2097279" y="239669"/>
                </a:lnTo>
                <a:lnTo>
                  <a:pt x="2114413" y="243789"/>
                </a:lnTo>
                <a:lnTo>
                  <a:pt x="2131865" y="248542"/>
                </a:lnTo>
                <a:lnTo>
                  <a:pt x="2148364" y="252979"/>
                </a:lnTo>
                <a:lnTo>
                  <a:pt x="2164546" y="258049"/>
                </a:lnTo>
                <a:lnTo>
                  <a:pt x="2181046" y="263119"/>
                </a:lnTo>
                <a:lnTo>
                  <a:pt x="2196593" y="268189"/>
                </a:lnTo>
                <a:lnTo>
                  <a:pt x="2211506" y="273893"/>
                </a:lnTo>
                <a:lnTo>
                  <a:pt x="2226419" y="278963"/>
                </a:lnTo>
                <a:lnTo>
                  <a:pt x="2240697" y="284667"/>
                </a:lnTo>
                <a:lnTo>
                  <a:pt x="2267668" y="295758"/>
                </a:lnTo>
                <a:lnTo>
                  <a:pt x="2292734" y="306216"/>
                </a:lnTo>
                <a:lnTo>
                  <a:pt x="2315579" y="316673"/>
                </a:lnTo>
                <a:lnTo>
                  <a:pt x="2335886" y="326496"/>
                </a:lnTo>
                <a:lnTo>
                  <a:pt x="2353338" y="335686"/>
                </a:lnTo>
                <a:lnTo>
                  <a:pt x="2368251" y="343608"/>
                </a:lnTo>
                <a:lnTo>
                  <a:pt x="2379991" y="349946"/>
                </a:lnTo>
                <a:lnTo>
                  <a:pt x="2388557" y="355016"/>
                </a:lnTo>
                <a:lnTo>
                  <a:pt x="2395538" y="359136"/>
                </a:lnTo>
                <a:lnTo>
                  <a:pt x="2386971" y="360403"/>
                </a:lnTo>
                <a:lnTo>
                  <a:pt x="2378721" y="361988"/>
                </a:lnTo>
                <a:lnTo>
                  <a:pt x="2370154" y="363572"/>
                </a:lnTo>
                <a:lnTo>
                  <a:pt x="2361587" y="365791"/>
                </a:lnTo>
                <a:lnTo>
                  <a:pt x="2353020" y="368009"/>
                </a:lnTo>
                <a:lnTo>
                  <a:pt x="2345088" y="370544"/>
                </a:lnTo>
                <a:lnTo>
                  <a:pt x="2336521" y="373079"/>
                </a:lnTo>
                <a:lnTo>
                  <a:pt x="2328271" y="375614"/>
                </a:lnTo>
                <a:lnTo>
                  <a:pt x="2320656" y="379100"/>
                </a:lnTo>
                <a:lnTo>
                  <a:pt x="2312406" y="382269"/>
                </a:lnTo>
                <a:lnTo>
                  <a:pt x="2304157" y="385755"/>
                </a:lnTo>
                <a:lnTo>
                  <a:pt x="2296541" y="389557"/>
                </a:lnTo>
                <a:lnTo>
                  <a:pt x="2280677" y="397162"/>
                </a:lnTo>
                <a:lnTo>
                  <a:pt x="2265446" y="405718"/>
                </a:lnTo>
                <a:lnTo>
                  <a:pt x="2250533" y="415225"/>
                </a:lnTo>
                <a:lnTo>
                  <a:pt x="2235303" y="425049"/>
                </a:lnTo>
                <a:lnTo>
                  <a:pt x="2220708" y="435189"/>
                </a:lnTo>
                <a:lnTo>
                  <a:pt x="2206429" y="446280"/>
                </a:lnTo>
                <a:lnTo>
                  <a:pt x="2192468" y="457688"/>
                </a:lnTo>
                <a:lnTo>
                  <a:pt x="2178825" y="469730"/>
                </a:lnTo>
                <a:lnTo>
                  <a:pt x="2164863" y="482088"/>
                </a:lnTo>
                <a:lnTo>
                  <a:pt x="2151854" y="495081"/>
                </a:lnTo>
                <a:lnTo>
                  <a:pt x="2138845" y="508390"/>
                </a:lnTo>
                <a:lnTo>
                  <a:pt x="2126153" y="521699"/>
                </a:lnTo>
                <a:lnTo>
                  <a:pt x="2113779" y="535325"/>
                </a:lnTo>
                <a:lnTo>
                  <a:pt x="2101721" y="549268"/>
                </a:lnTo>
                <a:lnTo>
                  <a:pt x="2089664" y="563528"/>
                </a:lnTo>
                <a:lnTo>
                  <a:pt x="2078242" y="578105"/>
                </a:lnTo>
                <a:lnTo>
                  <a:pt x="2066819" y="592682"/>
                </a:lnTo>
                <a:lnTo>
                  <a:pt x="2055714" y="607259"/>
                </a:lnTo>
                <a:lnTo>
                  <a:pt x="2044926" y="621519"/>
                </a:lnTo>
                <a:lnTo>
                  <a:pt x="2034455" y="636413"/>
                </a:lnTo>
                <a:lnTo>
                  <a:pt x="2024301" y="650989"/>
                </a:lnTo>
                <a:lnTo>
                  <a:pt x="2014782" y="665566"/>
                </a:lnTo>
                <a:lnTo>
                  <a:pt x="1995745" y="694403"/>
                </a:lnTo>
                <a:lnTo>
                  <a:pt x="1977976" y="722289"/>
                </a:lnTo>
                <a:lnTo>
                  <a:pt x="1972582" y="730845"/>
                </a:lnTo>
                <a:lnTo>
                  <a:pt x="1966553" y="739084"/>
                </a:lnTo>
                <a:lnTo>
                  <a:pt x="1960525" y="747006"/>
                </a:lnTo>
                <a:lnTo>
                  <a:pt x="1954179" y="755245"/>
                </a:lnTo>
                <a:lnTo>
                  <a:pt x="1947833" y="762534"/>
                </a:lnTo>
                <a:lnTo>
                  <a:pt x="1940852" y="770139"/>
                </a:lnTo>
                <a:lnTo>
                  <a:pt x="1933872" y="777111"/>
                </a:lnTo>
                <a:lnTo>
                  <a:pt x="1926257" y="784082"/>
                </a:lnTo>
                <a:lnTo>
                  <a:pt x="1918642" y="790737"/>
                </a:lnTo>
                <a:lnTo>
                  <a:pt x="1911027" y="797075"/>
                </a:lnTo>
                <a:lnTo>
                  <a:pt x="1902777" y="803412"/>
                </a:lnTo>
                <a:lnTo>
                  <a:pt x="1894527" y="809116"/>
                </a:lnTo>
                <a:lnTo>
                  <a:pt x="1886277" y="815137"/>
                </a:lnTo>
                <a:lnTo>
                  <a:pt x="1877710" y="820524"/>
                </a:lnTo>
                <a:lnTo>
                  <a:pt x="1868826" y="825911"/>
                </a:lnTo>
                <a:lnTo>
                  <a:pt x="1859625" y="830665"/>
                </a:lnTo>
                <a:lnTo>
                  <a:pt x="1850740" y="835735"/>
                </a:lnTo>
                <a:lnTo>
                  <a:pt x="1841539" y="839854"/>
                </a:lnTo>
                <a:lnTo>
                  <a:pt x="1832020" y="843974"/>
                </a:lnTo>
                <a:lnTo>
                  <a:pt x="1822501" y="848410"/>
                </a:lnTo>
                <a:lnTo>
                  <a:pt x="1812665" y="851896"/>
                </a:lnTo>
                <a:lnTo>
                  <a:pt x="1803146" y="855065"/>
                </a:lnTo>
                <a:lnTo>
                  <a:pt x="1793310" y="858551"/>
                </a:lnTo>
                <a:lnTo>
                  <a:pt x="1783473" y="861403"/>
                </a:lnTo>
                <a:lnTo>
                  <a:pt x="1773320" y="863938"/>
                </a:lnTo>
                <a:lnTo>
                  <a:pt x="1763166" y="866156"/>
                </a:lnTo>
                <a:lnTo>
                  <a:pt x="1753013" y="868374"/>
                </a:lnTo>
                <a:lnTo>
                  <a:pt x="1742542" y="870276"/>
                </a:lnTo>
                <a:lnTo>
                  <a:pt x="1732706" y="871860"/>
                </a:lnTo>
                <a:lnTo>
                  <a:pt x="1722235" y="873128"/>
                </a:lnTo>
                <a:lnTo>
                  <a:pt x="1711764" y="874078"/>
                </a:lnTo>
                <a:lnTo>
                  <a:pt x="1701611" y="874712"/>
                </a:lnTo>
                <a:lnTo>
                  <a:pt x="1548674" y="738450"/>
                </a:lnTo>
                <a:lnTo>
                  <a:pt x="1558510" y="722923"/>
                </a:lnTo>
                <a:lnTo>
                  <a:pt x="1568664" y="707079"/>
                </a:lnTo>
                <a:lnTo>
                  <a:pt x="1578500" y="691234"/>
                </a:lnTo>
                <a:lnTo>
                  <a:pt x="1589288" y="676024"/>
                </a:lnTo>
                <a:lnTo>
                  <a:pt x="1605470" y="653841"/>
                </a:lnTo>
                <a:lnTo>
                  <a:pt x="1622287" y="631976"/>
                </a:lnTo>
                <a:lnTo>
                  <a:pt x="1630854" y="621202"/>
                </a:lnTo>
                <a:lnTo>
                  <a:pt x="1639738" y="610745"/>
                </a:lnTo>
                <a:lnTo>
                  <a:pt x="1648305" y="600604"/>
                </a:lnTo>
                <a:lnTo>
                  <a:pt x="1657507" y="590147"/>
                </a:lnTo>
                <a:lnTo>
                  <a:pt x="1667026" y="580007"/>
                </a:lnTo>
                <a:lnTo>
                  <a:pt x="1676545" y="569866"/>
                </a:lnTo>
                <a:lnTo>
                  <a:pt x="1686063" y="560043"/>
                </a:lnTo>
                <a:lnTo>
                  <a:pt x="1695582" y="550219"/>
                </a:lnTo>
                <a:lnTo>
                  <a:pt x="1705418" y="540396"/>
                </a:lnTo>
                <a:lnTo>
                  <a:pt x="1715572" y="531523"/>
                </a:lnTo>
                <a:lnTo>
                  <a:pt x="1726043" y="522016"/>
                </a:lnTo>
                <a:lnTo>
                  <a:pt x="1736514" y="513143"/>
                </a:lnTo>
                <a:lnTo>
                  <a:pt x="1746984" y="503954"/>
                </a:lnTo>
                <a:lnTo>
                  <a:pt x="1757772" y="495714"/>
                </a:lnTo>
                <a:lnTo>
                  <a:pt x="1768878" y="487158"/>
                </a:lnTo>
                <a:lnTo>
                  <a:pt x="1779983" y="478919"/>
                </a:lnTo>
                <a:lnTo>
                  <a:pt x="1791089" y="470680"/>
                </a:lnTo>
                <a:lnTo>
                  <a:pt x="1802194" y="463075"/>
                </a:lnTo>
                <a:lnTo>
                  <a:pt x="1813934" y="455470"/>
                </a:lnTo>
                <a:lnTo>
                  <a:pt x="1825674" y="448498"/>
                </a:lnTo>
                <a:lnTo>
                  <a:pt x="1838048" y="441210"/>
                </a:lnTo>
                <a:lnTo>
                  <a:pt x="1850106" y="434238"/>
                </a:lnTo>
                <a:lnTo>
                  <a:pt x="1862163" y="427901"/>
                </a:lnTo>
                <a:lnTo>
                  <a:pt x="1874537" y="421563"/>
                </a:lnTo>
                <a:lnTo>
                  <a:pt x="1887229" y="415859"/>
                </a:lnTo>
                <a:lnTo>
                  <a:pt x="1899921" y="409838"/>
                </a:lnTo>
                <a:lnTo>
                  <a:pt x="1912613" y="404451"/>
                </a:lnTo>
                <a:lnTo>
                  <a:pt x="1925622" y="399381"/>
                </a:lnTo>
                <a:lnTo>
                  <a:pt x="1938631" y="394627"/>
                </a:lnTo>
                <a:lnTo>
                  <a:pt x="1951958" y="390191"/>
                </a:lnTo>
                <a:lnTo>
                  <a:pt x="1965284" y="385755"/>
                </a:lnTo>
                <a:lnTo>
                  <a:pt x="1978928" y="382269"/>
                </a:lnTo>
                <a:lnTo>
                  <a:pt x="1992572" y="378783"/>
                </a:lnTo>
                <a:lnTo>
                  <a:pt x="2006215" y="375297"/>
                </a:lnTo>
                <a:lnTo>
                  <a:pt x="2019859" y="372445"/>
                </a:lnTo>
                <a:lnTo>
                  <a:pt x="2033820" y="369910"/>
                </a:lnTo>
                <a:lnTo>
                  <a:pt x="2047781" y="368009"/>
                </a:lnTo>
                <a:lnTo>
                  <a:pt x="2062059" y="366107"/>
                </a:lnTo>
                <a:lnTo>
                  <a:pt x="2076021" y="364206"/>
                </a:lnTo>
                <a:lnTo>
                  <a:pt x="2089981" y="362938"/>
                </a:lnTo>
                <a:lnTo>
                  <a:pt x="2104260" y="362305"/>
                </a:lnTo>
                <a:lnTo>
                  <a:pt x="2118538" y="361671"/>
                </a:lnTo>
                <a:lnTo>
                  <a:pt x="2132817" y="361354"/>
                </a:lnTo>
                <a:lnTo>
                  <a:pt x="2147095" y="361671"/>
                </a:lnTo>
                <a:lnTo>
                  <a:pt x="2133134" y="359770"/>
                </a:lnTo>
                <a:lnTo>
                  <a:pt x="2118538" y="358502"/>
                </a:lnTo>
                <a:lnTo>
                  <a:pt x="2104260" y="357235"/>
                </a:lnTo>
                <a:lnTo>
                  <a:pt x="2089981" y="356601"/>
                </a:lnTo>
                <a:lnTo>
                  <a:pt x="2075703" y="355967"/>
                </a:lnTo>
                <a:lnTo>
                  <a:pt x="2061425" y="355967"/>
                </a:lnTo>
                <a:lnTo>
                  <a:pt x="2046829" y="355967"/>
                </a:lnTo>
                <a:lnTo>
                  <a:pt x="2032234" y="356601"/>
                </a:lnTo>
                <a:lnTo>
                  <a:pt x="2017955" y="357552"/>
                </a:lnTo>
                <a:lnTo>
                  <a:pt x="2003677" y="358819"/>
                </a:lnTo>
                <a:lnTo>
                  <a:pt x="1989081" y="360403"/>
                </a:lnTo>
                <a:lnTo>
                  <a:pt x="1974803" y="362305"/>
                </a:lnTo>
                <a:lnTo>
                  <a:pt x="1960525" y="364523"/>
                </a:lnTo>
                <a:lnTo>
                  <a:pt x="1946246" y="367375"/>
                </a:lnTo>
                <a:lnTo>
                  <a:pt x="1931968" y="370227"/>
                </a:lnTo>
                <a:lnTo>
                  <a:pt x="1917373" y="373713"/>
                </a:lnTo>
                <a:lnTo>
                  <a:pt x="1903411" y="377515"/>
                </a:lnTo>
                <a:lnTo>
                  <a:pt x="1889450" y="381318"/>
                </a:lnTo>
                <a:lnTo>
                  <a:pt x="1875489" y="385755"/>
                </a:lnTo>
                <a:lnTo>
                  <a:pt x="1861528" y="390508"/>
                </a:lnTo>
                <a:lnTo>
                  <a:pt x="1847567" y="395578"/>
                </a:lnTo>
                <a:lnTo>
                  <a:pt x="1833924" y="400965"/>
                </a:lnTo>
                <a:lnTo>
                  <a:pt x="1820280" y="406669"/>
                </a:lnTo>
                <a:lnTo>
                  <a:pt x="1806953" y="412690"/>
                </a:lnTo>
                <a:lnTo>
                  <a:pt x="1793627" y="418711"/>
                </a:lnTo>
                <a:lnTo>
                  <a:pt x="1780618" y="425366"/>
                </a:lnTo>
                <a:lnTo>
                  <a:pt x="1766974" y="432020"/>
                </a:lnTo>
                <a:lnTo>
                  <a:pt x="1754282" y="438992"/>
                </a:lnTo>
                <a:lnTo>
                  <a:pt x="1741273" y="446280"/>
                </a:lnTo>
                <a:lnTo>
                  <a:pt x="1728898" y="453885"/>
                </a:lnTo>
                <a:lnTo>
                  <a:pt x="1716207" y="461808"/>
                </a:lnTo>
                <a:lnTo>
                  <a:pt x="1703832" y="469730"/>
                </a:lnTo>
                <a:lnTo>
                  <a:pt x="1691775" y="478286"/>
                </a:lnTo>
                <a:lnTo>
                  <a:pt x="1679717" y="486842"/>
                </a:lnTo>
                <a:lnTo>
                  <a:pt x="1667660" y="495398"/>
                </a:lnTo>
                <a:lnTo>
                  <a:pt x="1655920" y="504270"/>
                </a:lnTo>
                <a:lnTo>
                  <a:pt x="1644180" y="513460"/>
                </a:lnTo>
                <a:lnTo>
                  <a:pt x="1632758" y="522967"/>
                </a:lnTo>
                <a:lnTo>
                  <a:pt x="1621335" y="532473"/>
                </a:lnTo>
                <a:lnTo>
                  <a:pt x="1610230" y="542297"/>
                </a:lnTo>
                <a:lnTo>
                  <a:pt x="1599124" y="551804"/>
                </a:lnTo>
                <a:lnTo>
                  <a:pt x="1588336" y="561944"/>
                </a:lnTo>
                <a:lnTo>
                  <a:pt x="1577548" y="572084"/>
                </a:lnTo>
                <a:lnTo>
                  <a:pt x="1566760" y="582542"/>
                </a:lnTo>
                <a:lnTo>
                  <a:pt x="1556606" y="592999"/>
                </a:lnTo>
                <a:lnTo>
                  <a:pt x="1546136" y="603773"/>
                </a:lnTo>
                <a:lnTo>
                  <a:pt x="1535982" y="614547"/>
                </a:lnTo>
                <a:lnTo>
                  <a:pt x="1526146" y="625638"/>
                </a:lnTo>
                <a:lnTo>
                  <a:pt x="1514406" y="638631"/>
                </a:lnTo>
                <a:lnTo>
                  <a:pt x="1503301" y="651623"/>
                </a:lnTo>
                <a:lnTo>
                  <a:pt x="1492195" y="664932"/>
                </a:lnTo>
                <a:lnTo>
                  <a:pt x="1481407" y="678559"/>
                </a:lnTo>
                <a:lnTo>
                  <a:pt x="1406525" y="612012"/>
                </a:lnTo>
                <a:lnTo>
                  <a:pt x="1407160" y="604407"/>
                </a:lnTo>
                <a:lnTo>
                  <a:pt x="1408112" y="596802"/>
                </a:lnTo>
                <a:lnTo>
                  <a:pt x="1409381" y="589196"/>
                </a:lnTo>
                <a:lnTo>
                  <a:pt x="1410967" y="581274"/>
                </a:lnTo>
                <a:lnTo>
                  <a:pt x="1412554" y="573352"/>
                </a:lnTo>
                <a:lnTo>
                  <a:pt x="1415092" y="565430"/>
                </a:lnTo>
                <a:lnTo>
                  <a:pt x="1417313" y="557191"/>
                </a:lnTo>
                <a:lnTo>
                  <a:pt x="1420169" y="548952"/>
                </a:lnTo>
                <a:lnTo>
                  <a:pt x="1423025" y="540396"/>
                </a:lnTo>
                <a:lnTo>
                  <a:pt x="1426198" y="532157"/>
                </a:lnTo>
                <a:lnTo>
                  <a:pt x="1430322" y="523601"/>
                </a:lnTo>
                <a:lnTo>
                  <a:pt x="1434130" y="514728"/>
                </a:lnTo>
                <a:lnTo>
                  <a:pt x="1438572" y="505855"/>
                </a:lnTo>
                <a:lnTo>
                  <a:pt x="1443332" y="497299"/>
                </a:lnTo>
                <a:lnTo>
                  <a:pt x="1448408" y="488109"/>
                </a:lnTo>
                <a:lnTo>
                  <a:pt x="1453802" y="478919"/>
                </a:lnTo>
                <a:lnTo>
                  <a:pt x="1461100" y="467195"/>
                </a:lnTo>
                <a:lnTo>
                  <a:pt x="1469033" y="455787"/>
                </a:lnTo>
                <a:lnTo>
                  <a:pt x="1476648" y="444696"/>
                </a:lnTo>
                <a:lnTo>
                  <a:pt x="1484263" y="433921"/>
                </a:lnTo>
                <a:lnTo>
                  <a:pt x="1492195" y="423464"/>
                </a:lnTo>
                <a:lnTo>
                  <a:pt x="1500128" y="413641"/>
                </a:lnTo>
                <a:lnTo>
                  <a:pt x="1508060" y="403817"/>
                </a:lnTo>
                <a:lnTo>
                  <a:pt x="1516310" y="393994"/>
                </a:lnTo>
                <a:lnTo>
                  <a:pt x="1524877" y="384804"/>
                </a:lnTo>
                <a:lnTo>
                  <a:pt x="1533127" y="375614"/>
                </a:lnTo>
                <a:lnTo>
                  <a:pt x="1541376" y="367375"/>
                </a:lnTo>
                <a:lnTo>
                  <a:pt x="1549943" y="358819"/>
                </a:lnTo>
                <a:lnTo>
                  <a:pt x="1558828" y="350580"/>
                </a:lnTo>
                <a:lnTo>
                  <a:pt x="1567077" y="342975"/>
                </a:lnTo>
                <a:lnTo>
                  <a:pt x="1575962" y="335369"/>
                </a:lnTo>
                <a:lnTo>
                  <a:pt x="1584846" y="328081"/>
                </a:lnTo>
                <a:lnTo>
                  <a:pt x="1594047" y="321109"/>
                </a:lnTo>
                <a:lnTo>
                  <a:pt x="1602932" y="314455"/>
                </a:lnTo>
                <a:lnTo>
                  <a:pt x="1611816" y="308117"/>
                </a:lnTo>
                <a:lnTo>
                  <a:pt x="1621018" y="301779"/>
                </a:lnTo>
                <a:lnTo>
                  <a:pt x="1630219" y="296075"/>
                </a:lnTo>
                <a:lnTo>
                  <a:pt x="1639421" y="290054"/>
                </a:lnTo>
                <a:lnTo>
                  <a:pt x="1648622" y="284667"/>
                </a:lnTo>
                <a:lnTo>
                  <a:pt x="1657824" y="279280"/>
                </a:lnTo>
                <a:lnTo>
                  <a:pt x="1667343" y="274527"/>
                </a:lnTo>
                <a:lnTo>
                  <a:pt x="1676862" y="269457"/>
                </a:lnTo>
                <a:lnTo>
                  <a:pt x="1686381" y="265337"/>
                </a:lnTo>
                <a:lnTo>
                  <a:pt x="1695582" y="261218"/>
                </a:lnTo>
                <a:lnTo>
                  <a:pt x="1705101" y="256781"/>
                </a:lnTo>
                <a:lnTo>
                  <a:pt x="1714937" y="252979"/>
                </a:lnTo>
                <a:lnTo>
                  <a:pt x="1724456" y="249493"/>
                </a:lnTo>
                <a:lnTo>
                  <a:pt x="1734292" y="246007"/>
                </a:lnTo>
                <a:lnTo>
                  <a:pt x="1743494" y="242838"/>
                </a:lnTo>
                <a:lnTo>
                  <a:pt x="1753330" y="239986"/>
                </a:lnTo>
                <a:lnTo>
                  <a:pt x="1763166" y="237134"/>
                </a:lnTo>
                <a:lnTo>
                  <a:pt x="1773003" y="234599"/>
                </a:lnTo>
                <a:lnTo>
                  <a:pt x="1792675" y="230163"/>
                </a:lnTo>
                <a:lnTo>
                  <a:pt x="1812030" y="226360"/>
                </a:lnTo>
                <a:lnTo>
                  <a:pt x="1831702" y="222874"/>
                </a:lnTo>
                <a:lnTo>
                  <a:pt x="1851375" y="220656"/>
                </a:lnTo>
                <a:lnTo>
                  <a:pt x="1870730" y="219072"/>
                </a:lnTo>
                <a:lnTo>
                  <a:pt x="1890402" y="217804"/>
                </a:lnTo>
                <a:lnTo>
                  <a:pt x="1910075" y="217487"/>
                </a:lnTo>
                <a:close/>
                <a:moveTo>
                  <a:pt x="1112837" y="0"/>
                </a:moveTo>
                <a:lnTo>
                  <a:pt x="1116656" y="634"/>
                </a:lnTo>
                <a:lnTo>
                  <a:pt x="1128112" y="2854"/>
                </a:lnTo>
                <a:lnTo>
                  <a:pt x="1146570" y="6660"/>
                </a:lnTo>
                <a:lnTo>
                  <a:pt x="1157708" y="9197"/>
                </a:lnTo>
                <a:lnTo>
                  <a:pt x="1170119" y="12369"/>
                </a:lnTo>
                <a:lnTo>
                  <a:pt x="1183485" y="16175"/>
                </a:lnTo>
                <a:lnTo>
                  <a:pt x="1198124" y="20298"/>
                </a:lnTo>
                <a:lnTo>
                  <a:pt x="1213399" y="25372"/>
                </a:lnTo>
                <a:lnTo>
                  <a:pt x="1229629" y="30763"/>
                </a:lnTo>
                <a:lnTo>
                  <a:pt x="1246495" y="37106"/>
                </a:lnTo>
                <a:lnTo>
                  <a:pt x="1263998" y="43767"/>
                </a:lnTo>
                <a:lnTo>
                  <a:pt x="1281501" y="51378"/>
                </a:lnTo>
                <a:lnTo>
                  <a:pt x="1299640" y="59307"/>
                </a:lnTo>
                <a:lnTo>
                  <a:pt x="1317780" y="68504"/>
                </a:lnTo>
                <a:lnTo>
                  <a:pt x="1336237" y="78653"/>
                </a:lnTo>
                <a:lnTo>
                  <a:pt x="1345148" y="84045"/>
                </a:lnTo>
                <a:lnTo>
                  <a:pt x="1354058" y="89436"/>
                </a:lnTo>
                <a:lnTo>
                  <a:pt x="1363287" y="95462"/>
                </a:lnTo>
                <a:lnTo>
                  <a:pt x="1372198" y="101171"/>
                </a:lnTo>
                <a:lnTo>
                  <a:pt x="1381108" y="107514"/>
                </a:lnTo>
                <a:lnTo>
                  <a:pt x="1389701" y="113540"/>
                </a:lnTo>
                <a:lnTo>
                  <a:pt x="1398293" y="120517"/>
                </a:lnTo>
                <a:lnTo>
                  <a:pt x="1406886" y="127177"/>
                </a:lnTo>
                <a:lnTo>
                  <a:pt x="1415160" y="134471"/>
                </a:lnTo>
                <a:lnTo>
                  <a:pt x="1423116" y="141449"/>
                </a:lnTo>
                <a:lnTo>
                  <a:pt x="1431390" y="149377"/>
                </a:lnTo>
                <a:lnTo>
                  <a:pt x="1439346" y="157306"/>
                </a:lnTo>
                <a:lnTo>
                  <a:pt x="1446665" y="165552"/>
                </a:lnTo>
                <a:lnTo>
                  <a:pt x="1454303" y="173798"/>
                </a:lnTo>
                <a:lnTo>
                  <a:pt x="1461304" y="182361"/>
                </a:lnTo>
                <a:lnTo>
                  <a:pt x="1468305" y="191241"/>
                </a:lnTo>
                <a:lnTo>
                  <a:pt x="1474988" y="200756"/>
                </a:lnTo>
                <a:lnTo>
                  <a:pt x="1481034" y="209953"/>
                </a:lnTo>
                <a:lnTo>
                  <a:pt x="1487399" y="219785"/>
                </a:lnTo>
                <a:lnTo>
                  <a:pt x="1492809" y="229616"/>
                </a:lnTo>
                <a:lnTo>
                  <a:pt x="1498537" y="240082"/>
                </a:lnTo>
                <a:lnTo>
                  <a:pt x="1503311" y="250865"/>
                </a:lnTo>
                <a:lnTo>
                  <a:pt x="1508084" y="261648"/>
                </a:lnTo>
                <a:lnTo>
                  <a:pt x="1512540" y="273066"/>
                </a:lnTo>
                <a:lnTo>
                  <a:pt x="1516358" y="284483"/>
                </a:lnTo>
                <a:lnTo>
                  <a:pt x="1519859" y="296218"/>
                </a:lnTo>
                <a:lnTo>
                  <a:pt x="1523041" y="308269"/>
                </a:lnTo>
                <a:lnTo>
                  <a:pt x="1525587" y="320955"/>
                </a:lnTo>
                <a:lnTo>
                  <a:pt x="1512540" y="333641"/>
                </a:lnTo>
                <a:lnTo>
                  <a:pt x="1499492" y="346645"/>
                </a:lnTo>
                <a:lnTo>
                  <a:pt x="1486763" y="360599"/>
                </a:lnTo>
                <a:lnTo>
                  <a:pt x="1474351" y="374554"/>
                </a:lnTo>
                <a:lnTo>
                  <a:pt x="1462259" y="389777"/>
                </a:lnTo>
                <a:lnTo>
                  <a:pt x="1450484" y="405000"/>
                </a:lnTo>
                <a:lnTo>
                  <a:pt x="1439027" y="420540"/>
                </a:lnTo>
                <a:lnTo>
                  <a:pt x="1427889" y="437032"/>
                </a:lnTo>
                <a:lnTo>
                  <a:pt x="1426616" y="424346"/>
                </a:lnTo>
                <a:lnTo>
                  <a:pt x="1424389" y="411343"/>
                </a:lnTo>
                <a:lnTo>
                  <a:pt x="1422479" y="398340"/>
                </a:lnTo>
                <a:lnTo>
                  <a:pt x="1420252" y="385654"/>
                </a:lnTo>
                <a:lnTo>
                  <a:pt x="1417706" y="373285"/>
                </a:lnTo>
                <a:lnTo>
                  <a:pt x="1414842" y="360599"/>
                </a:lnTo>
                <a:lnTo>
                  <a:pt x="1411341" y="348230"/>
                </a:lnTo>
                <a:lnTo>
                  <a:pt x="1408159" y="335544"/>
                </a:lnTo>
                <a:lnTo>
                  <a:pt x="1402112" y="317467"/>
                </a:lnTo>
                <a:lnTo>
                  <a:pt x="1396065" y="299706"/>
                </a:lnTo>
                <a:lnTo>
                  <a:pt x="1388746" y="281946"/>
                </a:lnTo>
                <a:lnTo>
                  <a:pt x="1384927" y="273700"/>
                </a:lnTo>
                <a:lnTo>
                  <a:pt x="1381108" y="265137"/>
                </a:lnTo>
                <a:lnTo>
                  <a:pt x="1376653" y="256574"/>
                </a:lnTo>
                <a:lnTo>
                  <a:pt x="1372516" y="248328"/>
                </a:lnTo>
                <a:lnTo>
                  <a:pt x="1368061" y="240082"/>
                </a:lnTo>
                <a:lnTo>
                  <a:pt x="1363287" y="231836"/>
                </a:lnTo>
                <a:lnTo>
                  <a:pt x="1358514" y="223591"/>
                </a:lnTo>
                <a:lnTo>
                  <a:pt x="1353104" y="215979"/>
                </a:lnTo>
                <a:lnTo>
                  <a:pt x="1348012" y="208050"/>
                </a:lnTo>
                <a:lnTo>
                  <a:pt x="1342284" y="200121"/>
                </a:lnTo>
                <a:lnTo>
                  <a:pt x="1336874" y="192827"/>
                </a:lnTo>
                <a:lnTo>
                  <a:pt x="1330827" y="185215"/>
                </a:lnTo>
                <a:lnTo>
                  <a:pt x="1325099" y="178238"/>
                </a:lnTo>
                <a:lnTo>
                  <a:pt x="1319053" y="171261"/>
                </a:lnTo>
                <a:lnTo>
                  <a:pt x="1312688" y="164284"/>
                </a:lnTo>
                <a:lnTo>
                  <a:pt x="1306323" y="157623"/>
                </a:lnTo>
                <a:lnTo>
                  <a:pt x="1299640" y="150963"/>
                </a:lnTo>
                <a:lnTo>
                  <a:pt x="1292957" y="144620"/>
                </a:lnTo>
                <a:lnTo>
                  <a:pt x="1286274" y="138277"/>
                </a:lnTo>
                <a:lnTo>
                  <a:pt x="1278955" y="132251"/>
                </a:lnTo>
                <a:lnTo>
                  <a:pt x="1271636" y="126225"/>
                </a:lnTo>
                <a:lnTo>
                  <a:pt x="1264635" y="120834"/>
                </a:lnTo>
                <a:lnTo>
                  <a:pt x="1257315" y="115125"/>
                </a:lnTo>
                <a:lnTo>
                  <a:pt x="1249996" y="110051"/>
                </a:lnTo>
                <a:lnTo>
                  <a:pt x="1242040" y="104659"/>
                </a:lnTo>
                <a:lnTo>
                  <a:pt x="1234402" y="99902"/>
                </a:lnTo>
                <a:lnTo>
                  <a:pt x="1241403" y="105611"/>
                </a:lnTo>
                <a:lnTo>
                  <a:pt x="1248086" y="111637"/>
                </a:lnTo>
                <a:lnTo>
                  <a:pt x="1255088" y="117663"/>
                </a:lnTo>
                <a:lnTo>
                  <a:pt x="1262089" y="124006"/>
                </a:lnTo>
                <a:lnTo>
                  <a:pt x="1268135" y="130666"/>
                </a:lnTo>
                <a:lnTo>
                  <a:pt x="1274818" y="137009"/>
                </a:lnTo>
                <a:lnTo>
                  <a:pt x="1280546" y="143986"/>
                </a:lnTo>
                <a:lnTo>
                  <a:pt x="1286911" y="150646"/>
                </a:lnTo>
                <a:lnTo>
                  <a:pt x="1292321" y="157623"/>
                </a:lnTo>
                <a:lnTo>
                  <a:pt x="1298367" y="164601"/>
                </a:lnTo>
                <a:lnTo>
                  <a:pt x="1303459" y="171895"/>
                </a:lnTo>
                <a:lnTo>
                  <a:pt x="1308869" y="179190"/>
                </a:lnTo>
                <a:lnTo>
                  <a:pt x="1313961" y="186484"/>
                </a:lnTo>
                <a:lnTo>
                  <a:pt x="1318734" y="194095"/>
                </a:lnTo>
                <a:lnTo>
                  <a:pt x="1323508" y="202024"/>
                </a:lnTo>
                <a:lnTo>
                  <a:pt x="1327963" y="209636"/>
                </a:lnTo>
                <a:lnTo>
                  <a:pt x="1332418" y="217565"/>
                </a:lnTo>
                <a:lnTo>
                  <a:pt x="1336237" y="225493"/>
                </a:lnTo>
                <a:lnTo>
                  <a:pt x="1340056" y="233422"/>
                </a:lnTo>
                <a:lnTo>
                  <a:pt x="1344193" y="241668"/>
                </a:lnTo>
                <a:lnTo>
                  <a:pt x="1347376" y="249914"/>
                </a:lnTo>
                <a:lnTo>
                  <a:pt x="1350558" y="257843"/>
                </a:lnTo>
                <a:lnTo>
                  <a:pt x="1356923" y="274969"/>
                </a:lnTo>
                <a:lnTo>
                  <a:pt x="1362333" y="291778"/>
                </a:lnTo>
                <a:lnTo>
                  <a:pt x="1366788" y="308904"/>
                </a:lnTo>
                <a:lnTo>
                  <a:pt x="1370925" y="326030"/>
                </a:lnTo>
                <a:lnTo>
                  <a:pt x="1374107" y="343790"/>
                </a:lnTo>
                <a:lnTo>
                  <a:pt x="1376653" y="360916"/>
                </a:lnTo>
                <a:lnTo>
                  <a:pt x="1378562" y="378677"/>
                </a:lnTo>
                <a:lnTo>
                  <a:pt x="1380472" y="396120"/>
                </a:lnTo>
                <a:lnTo>
                  <a:pt x="1381108" y="413880"/>
                </a:lnTo>
                <a:lnTo>
                  <a:pt x="1381427" y="431641"/>
                </a:lnTo>
                <a:lnTo>
                  <a:pt x="1381108" y="449401"/>
                </a:lnTo>
                <a:lnTo>
                  <a:pt x="1380472" y="466844"/>
                </a:lnTo>
                <a:lnTo>
                  <a:pt x="1378881" y="484605"/>
                </a:lnTo>
                <a:lnTo>
                  <a:pt x="1377290" y="502048"/>
                </a:lnTo>
                <a:lnTo>
                  <a:pt x="1375380" y="519491"/>
                </a:lnTo>
                <a:lnTo>
                  <a:pt x="1372516" y="536934"/>
                </a:lnTo>
                <a:lnTo>
                  <a:pt x="1369652" y="554378"/>
                </a:lnTo>
                <a:lnTo>
                  <a:pt x="1367106" y="564843"/>
                </a:lnTo>
                <a:lnTo>
                  <a:pt x="1364878" y="574675"/>
                </a:lnTo>
                <a:lnTo>
                  <a:pt x="1334646" y="547717"/>
                </a:lnTo>
                <a:lnTo>
                  <a:pt x="1168210" y="399609"/>
                </a:lnTo>
                <a:lnTo>
                  <a:pt x="1166618" y="387557"/>
                </a:lnTo>
                <a:lnTo>
                  <a:pt x="1166300" y="375188"/>
                </a:lnTo>
                <a:lnTo>
                  <a:pt x="1166618" y="369479"/>
                </a:lnTo>
                <a:lnTo>
                  <a:pt x="1166937" y="363136"/>
                </a:lnTo>
                <a:lnTo>
                  <a:pt x="1167573" y="357110"/>
                </a:lnTo>
                <a:lnTo>
                  <a:pt x="1168528" y="350767"/>
                </a:lnTo>
                <a:lnTo>
                  <a:pt x="1171074" y="330153"/>
                </a:lnTo>
                <a:lnTo>
                  <a:pt x="1173620" y="308269"/>
                </a:lnTo>
                <a:lnTo>
                  <a:pt x="1175847" y="285435"/>
                </a:lnTo>
                <a:lnTo>
                  <a:pt x="1177438" y="262283"/>
                </a:lnTo>
                <a:lnTo>
                  <a:pt x="1178393" y="238814"/>
                </a:lnTo>
                <a:lnTo>
                  <a:pt x="1178711" y="227079"/>
                </a:lnTo>
                <a:lnTo>
                  <a:pt x="1178711" y="215027"/>
                </a:lnTo>
                <a:lnTo>
                  <a:pt x="1178393" y="203293"/>
                </a:lnTo>
                <a:lnTo>
                  <a:pt x="1178075" y="191241"/>
                </a:lnTo>
                <a:lnTo>
                  <a:pt x="1177438" y="179507"/>
                </a:lnTo>
                <a:lnTo>
                  <a:pt x="1176484" y="167772"/>
                </a:lnTo>
                <a:lnTo>
                  <a:pt x="1175211" y="155720"/>
                </a:lnTo>
                <a:lnTo>
                  <a:pt x="1173938" y="144303"/>
                </a:lnTo>
                <a:lnTo>
                  <a:pt x="1172028" y="132568"/>
                </a:lnTo>
                <a:lnTo>
                  <a:pt x="1169801" y="121151"/>
                </a:lnTo>
                <a:lnTo>
                  <a:pt x="1167573" y="109734"/>
                </a:lnTo>
                <a:lnTo>
                  <a:pt x="1164391" y="98633"/>
                </a:lnTo>
                <a:lnTo>
                  <a:pt x="1161208" y="87533"/>
                </a:lnTo>
                <a:lnTo>
                  <a:pt x="1157708" y="76750"/>
                </a:lnTo>
                <a:lnTo>
                  <a:pt x="1153571" y="66284"/>
                </a:lnTo>
                <a:lnTo>
                  <a:pt x="1149115" y="55818"/>
                </a:lnTo>
                <a:lnTo>
                  <a:pt x="1144342" y="45670"/>
                </a:lnTo>
                <a:lnTo>
                  <a:pt x="1138932" y="35838"/>
                </a:lnTo>
                <a:lnTo>
                  <a:pt x="1133204" y="26641"/>
                </a:lnTo>
                <a:lnTo>
                  <a:pt x="1126839" y="17443"/>
                </a:lnTo>
                <a:lnTo>
                  <a:pt x="1119838" y="8563"/>
                </a:lnTo>
                <a:lnTo>
                  <a:pt x="11128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KSO_Shape"/>
          <p:cNvSpPr/>
          <p:nvPr/>
        </p:nvSpPr>
        <p:spPr>
          <a:xfrm>
            <a:off x="4059360" y="2428920"/>
            <a:ext cx="384120" cy="523800"/>
          </a:xfrm>
          <a:custGeom>
            <a:avLst/>
            <a:gdLst>
              <a:gd name="textAreaLeft" fmla="*/ 0 w 384120"/>
              <a:gd name="textAreaRight" fmla="*/ 384480 w 384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1122363" h="1531938">
                <a:moveTo>
                  <a:pt x="600075" y="1019175"/>
                </a:moveTo>
                <a:lnTo>
                  <a:pt x="608240" y="1022344"/>
                </a:lnTo>
                <a:lnTo>
                  <a:pt x="615950" y="1025965"/>
                </a:lnTo>
                <a:lnTo>
                  <a:pt x="622981" y="1029134"/>
                </a:lnTo>
                <a:lnTo>
                  <a:pt x="629331" y="1032303"/>
                </a:lnTo>
                <a:lnTo>
                  <a:pt x="635227" y="1035925"/>
                </a:lnTo>
                <a:lnTo>
                  <a:pt x="640443" y="1039093"/>
                </a:lnTo>
                <a:lnTo>
                  <a:pt x="644979" y="1042488"/>
                </a:lnTo>
                <a:lnTo>
                  <a:pt x="649061" y="1045884"/>
                </a:lnTo>
                <a:lnTo>
                  <a:pt x="652236" y="1049505"/>
                </a:lnTo>
                <a:lnTo>
                  <a:pt x="655411" y="1053127"/>
                </a:lnTo>
                <a:lnTo>
                  <a:pt x="657906" y="1056974"/>
                </a:lnTo>
                <a:lnTo>
                  <a:pt x="659720" y="1061049"/>
                </a:lnTo>
                <a:lnTo>
                  <a:pt x="661534" y="1065576"/>
                </a:lnTo>
                <a:lnTo>
                  <a:pt x="662668" y="1070329"/>
                </a:lnTo>
                <a:lnTo>
                  <a:pt x="663348" y="1074856"/>
                </a:lnTo>
                <a:lnTo>
                  <a:pt x="663575" y="1080062"/>
                </a:lnTo>
                <a:lnTo>
                  <a:pt x="663575" y="1083230"/>
                </a:lnTo>
                <a:lnTo>
                  <a:pt x="663348" y="1086626"/>
                </a:lnTo>
                <a:lnTo>
                  <a:pt x="662895" y="1089568"/>
                </a:lnTo>
                <a:lnTo>
                  <a:pt x="662441" y="1092510"/>
                </a:lnTo>
                <a:lnTo>
                  <a:pt x="661761" y="1095227"/>
                </a:lnTo>
                <a:lnTo>
                  <a:pt x="660854" y="1097716"/>
                </a:lnTo>
                <a:lnTo>
                  <a:pt x="659947" y="1100432"/>
                </a:lnTo>
                <a:lnTo>
                  <a:pt x="659040" y="1102922"/>
                </a:lnTo>
                <a:lnTo>
                  <a:pt x="657679" y="1105186"/>
                </a:lnTo>
                <a:lnTo>
                  <a:pt x="656545" y="1107449"/>
                </a:lnTo>
                <a:lnTo>
                  <a:pt x="654957" y="1109486"/>
                </a:lnTo>
                <a:lnTo>
                  <a:pt x="653143" y="1111523"/>
                </a:lnTo>
                <a:lnTo>
                  <a:pt x="651556" y="1113334"/>
                </a:lnTo>
                <a:lnTo>
                  <a:pt x="649515" y="1115145"/>
                </a:lnTo>
                <a:lnTo>
                  <a:pt x="647473" y="1116729"/>
                </a:lnTo>
                <a:lnTo>
                  <a:pt x="645206" y="1118087"/>
                </a:lnTo>
                <a:lnTo>
                  <a:pt x="640670" y="1120803"/>
                </a:lnTo>
                <a:lnTo>
                  <a:pt x="635681" y="1123520"/>
                </a:lnTo>
                <a:lnTo>
                  <a:pt x="630238" y="1126009"/>
                </a:lnTo>
                <a:lnTo>
                  <a:pt x="625022" y="1128046"/>
                </a:lnTo>
                <a:lnTo>
                  <a:pt x="619125" y="1130310"/>
                </a:lnTo>
                <a:lnTo>
                  <a:pt x="613002" y="1132121"/>
                </a:lnTo>
                <a:lnTo>
                  <a:pt x="606652" y="1133705"/>
                </a:lnTo>
                <a:lnTo>
                  <a:pt x="600075" y="1135063"/>
                </a:lnTo>
                <a:lnTo>
                  <a:pt x="600075" y="1019175"/>
                </a:lnTo>
                <a:close/>
                <a:moveTo>
                  <a:pt x="538162" y="779462"/>
                </a:moveTo>
                <a:lnTo>
                  <a:pt x="538162" y="877887"/>
                </a:lnTo>
                <a:lnTo>
                  <a:pt x="529967" y="875827"/>
                </a:lnTo>
                <a:lnTo>
                  <a:pt x="522227" y="873538"/>
                </a:lnTo>
                <a:lnTo>
                  <a:pt x="515398" y="870791"/>
                </a:lnTo>
                <a:lnTo>
                  <a:pt x="509024" y="868273"/>
                </a:lnTo>
                <a:lnTo>
                  <a:pt x="503333" y="865298"/>
                </a:lnTo>
                <a:lnTo>
                  <a:pt x="500829" y="863467"/>
                </a:lnTo>
                <a:lnTo>
                  <a:pt x="498553" y="861864"/>
                </a:lnTo>
                <a:lnTo>
                  <a:pt x="496276" y="860262"/>
                </a:lnTo>
                <a:lnTo>
                  <a:pt x="494227" y="858431"/>
                </a:lnTo>
                <a:lnTo>
                  <a:pt x="492406" y="856600"/>
                </a:lnTo>
                <a:lnTo>
                  <a:pt x="490813" y="854540"/>
                </a:lnTo>
                <a:lnTo>
                  <a:pt x="487626" y="850877"/>
                </a:lnTo>
                <a:lnTo>
                  <a:pt x="485122" y="846986"/>
                </a:lnTo>
                <a:lnTo>
                  <a:pt x="482618" y="843324"/>
                </a:lnTo>
                <a:lnTo>
                  <a:pt x="481024" y="839662"/>
                </a:lnTo>
                <a:lnTo>
                  <a:pt x="479658" y="835999"/>
                </a:lnTo>
                <a:lnTo>
                  <a:pt x="478520" y="832337"/>
                </a:lnTo>
                <a:lnTo>
                  <a:pt x="478065" y="828903"/>
                </a:lnTo>
                <a:lnTo>
                  <a:pt x="477837" y="825241"/>
                </a:lnTo>
                <a:lnTo>
                  <a:pt x="477837" y="822952"/>
                </a:lnTo>
                <a:lnTo>
                  <a:pt x="478065" y="820434"/>
                </a:lnTo>
                <a:lnTo>
                  <a:pt x="478520" y="817916"/>
                </a:lnTo>
                <a:lnTo>
                  <a:pt x="478975" y="815627"/>
                </a:lnTo>
                <a:lnTo>
                  <a:pt x="479431" y="813339"/>
                </a:lnTo>
                <a:lnTo>
                  <a:pt x="480341" y="810821"/>
                </a:lnTo>
                <a:lnTo>
                  <a:pt x="481252" y="808761"/>
                </a:lnTo>
                <a:lnTo>
                  <a:pt x="482162" y="806701"/>
                </a:lnTo>
                <a:lnTo>
                  <a:pt x="483528" y="804869"/>
                </a:lnTo>
                <a:lnTo>
                  <a:pt x="484894" y="802809"/>
                </a:lnTo>
                <a:lnTo>
                  <a:pt x="486260" y="800978"/>
                </a:lnTo>
                <a:lnTo>
                  <a:pt x="487853" y="799147"/>
                </a:lnTo>
                <a:lnTo>
                  <a:pt x="489447" y="797545"/>
                </a:lnTo>
                <a:lnTo>
                  <a:pt x="491496" y="795714"/>
                </a:lnTo>
                <a:lnTo>
                  <a:pt x="495593" y="792738"/>
                </a:lnTo>
                <a:lnTo>
                  <a:pt x="500146" y="789991"/>
                </a:lnTo>
                <a:lnTo>
                  <a:pt x="504699" y="787244"/>
                </a:lnTo>
                <a:lnTo>
                  <a:pt x="509935" y="785184"/>
                </a:lnTo>
                <a:lnTo>
                  <a:pt x="515170" y="783582"/>
                </a:lnTo>
                <a:lnTo>
                  <a:pt x="520634" y="781980"/>
                </a:lnTo>
                <a:lnTo>
                  <a:pt x="526097" y="780835"/>
                </a:lnTo>
                <a:lnTo>
                  <a:pt x="532016" y="779920"/>
                </a:lnTo>
                <a:lnTo>
                  <a:pt x="538162" y="779462"/>
                </a:lnTo>
                <a:close/>
                <a:moveTo>
                  <a:pt x="538626" y="654332"/>
                </a:moveTo>
                <a:lnTo>
                  <a:pt x="538626" y="688810"/>
                </a:lnTo>
                <a:lnTo>
                  <a:pt x="530011" y="689945"/>
                </a:lnTo>
                <a:lnTo>
                  <a:pt x="521624" y="691079"/>
                </a:lnTo>
                <a:lnTo>
                  <a:pt x="513236" y="692440"/>
                </a:lnTo>
                <a:lnTo>
                  <a:pt x="505302" y="694028"/>
                </a:lnTo>
                <a:lnTo>
                  <a:pt x="497594" y="695842"/>
                </a:lnTo>
                <a:lnTo>
                  <a:pt x="490113" y="697657"/>
                </a:lnTo>
                <a:lnTo>
                  <a:pt x="482859" y="699471"/>
                </a:lnTo>
                <a:lnTo>
                  <a:pt x="475831" y="701740"/>
                </a:lnTo>
                <a:lnTo>
                  <a:pt x="469257" y="704008"/>
                </a:lnTo>
                <a:lnTo>
                  <a:pt x="462683" y="706276"/>
                </a:lnTo>
                <a:lnTo>
                  <a:pt x="456336" y="708998"/>
                </a:lnTo>
                <a:lnTo>
                  <a:pt x="450215" y="711720"/>
                </a:lnTo>
                <a:lnTo>
                  <a:pt x="444321" y="714442"/>
                </a:lnTo>
                <a:lnTo>
                  <a:pt x="438654" y="717618"/>
                </a:lnTo>
                <a:lnTo>
                  <a:pt x="433440" y="720567"/>
                </a:lnTo>
                <a:lnTo>
                  <a:pt x="428226" y="723969"/>
                </a:lnTo>
                <a:lnTo>
                  <a:pt x="423238" y="727372"/>
                </a:lnTo>
                <a:lnTo>
                  <a:pt x="418478" y="731001"/>
                </a:lnTo>
                <a:lnTo>
                  <a:pt x="413944" y="734403"/>
                </a:lnTo>
                <a:lnTo>
                  <a:pt x="409410" y="738033"/>
                </a:lnTo>
                <a:lnTo>
                  <a:pt x="405556" y="741435"/>
                </a:lnTo>
                <a:lnTo>
                  <a:pt x="401476" y="744837"/>
                </a:lnTo>
                <a:lnTo>
                  <a:pt x="397849" y="748694"/>
                </a:lnTo>
                <a:lnTo>
                  <a:pt x="394221" y="752323"/>
                </a:lnTo>
                <a:lnTo>
                  <a:pt x="391048" y="755952"/>
                </a:lnTo>
                <a:lnTo>
                  <a:pt x="387874" y="760035"/>
                </a:lnTo>
                <a:lnTo>
                  <a:pt x="384927" y="763664"/>
                </a:lnTo>
                <a:lnTo>
                  <a:pt x="382207" y="767520"/>
                </a:lnTo>
                <a:lnTo>
                  <a:pt x="379486" y="771377"/>
                </a:lnTo>
                <a:lnTo>
                  <a:pt x="377219" y="775460"/>
                </a:lnTo>
                <a:lnTo>
                  <a:pt x="375179" y="779316"/>
                </a:lnTo>
                <a:lnTo>
                  <a:pt x="373366" y="783399"/>
                </a:lnTo>
                <a:lnTo>
                  <a:pt x="369738" y="791338"/>
                </a:lnTo>
                <a:lnTo>
                  <a:pt x="367018" y="799277"/>
                </a:lnTo>
                <a:lnTo>
                  <a:pt x="364298" y="806989"/>
                </a:lnTo>
                <a:lnTo>
                  <a:pt x="362258" y="814701"/>
                </a:lnTo>
                <a:lnTo>
                  <a:pt x="360671" y="822187"/>
                </a:lnTo>
                <a:lnTo>
                  <a:pt x="359537" y="829672"/>
                </a:lnTo>
                <a:lnTo>
                  <a:pt x="358857" y="836931"/>
                </a:lnTo>
                <a:lnTo>
                  <a:pt x="358630" y="844189"/>
                </a:lnTo>
                <a:lnTo>
                  <a:pt x="358857" y="851901"/>
                </a:lnTo>
                <a:lnTo>
                  <a:pt x="359537" y="859614"/>
                </a:lnTo>
                <a:lnTo>
                  <a:pt x="360444" y="867326"/>
                </a:lnTo>
                <a:lnTo>
                  <a:pt x="362031" y="874811"/>
                </a:lnTo>
                <a:lnTo>
                  <a:pt x="363844" y="882297"/>
                </a:lnTo>
                <a:lnTo>
                  <a:pt x="366111" y="889782"/>
                </a:lnTo>
                <a:lnTo>
                  <a:pt x="368832" y="897267"/>
                </a:lnTo>
                <a:lnTo>
                  <a:pt x="371779" y="904526"/>
                </a:lnTo>
                <a:lnTo>
                  <a:pt x="373592" y="907928"/>
                </a:lnTo>
                <a:lnTo>
                  <a:pt x="375633" y="911558"/>
                </a:lnTo>
                <a:lnTo>
                  <a:pt x="377673" y="915187"/>
                </a:lnTo>
                <a:lnTo>
                  <a:pt x="379940" y="918816"/>
                </a:lnTo>
                <a:lnTo>
                  <a:pt x="382660" y="922219"/>
                </a:lnTo>
                <a:lnTo>
                  <a:pt x="385380" y="925848"/>
                </a:lnTo>
                <a:lnTo>
                  <a:pt x="388554" y="929250"/>
                </a:lnTo>
                <a:lnTo>
                  <a:pt x="391501" y="932880"/>
                </a:lnTo>
                <a:lnTo>
                  <a:pt x="395128" y="936282"/>
                </a:lnTo>
                <a:lnTo>
                  <a:pt x="398529" y="939685"/>
                </a:lnTo>
                <a:lnTo>
                  <a:pt x="402609" y="943087"/>
                </a:lnTo>
                <a:lnTo>
                  <a:pt x="406463" y="946489"/>
                </a:lnTo>
                <a:lnTo>
                  <a:pt x="410770" y="949892"/>
                </a:lnTo>
                <a:lnTo>
                  <a:pt x="415077" y="953294"/>
                </a:lnTo>
                <a:lnTo>
                  <a:pt x="424372" y="959646"/>
                </a:lnTo>
                <a:lnTo>
                  <a:pt x="429586" y="963048"/>
                </a:lnTo>
                <a:lnTo>
                  <a:pt x="434800" y="966224"/>
                </a:lnTo>
                <a:lnTo>
                  <a:pt x="440467" y="969626"/>
                </a:lnTo>
                <a:lnTo>
                  <a:pt x="446361" y="972575"/>
                </a:lnTo>
                <a:lnTo>
                  <a:pt x="452482" y="975751"/>
                </a:lnTo>
                <a:lnTo>
                  <a:pt x="459056" y="978473"/>
                </a:lnTo>
                <a:lnTo>
                  <a:pt x="465630" y="981421"/>
                </a:lnTo>
                <a:lnTo>
                  <a:pt x="472658" y="984370"/>
                </a:lnTo>
                <a:lnTo>
                  <a:pt x="479912" y="987092"/>
                </a:lnTo>
                <a:lnTo>
                  <a:pt x="487619" y="989814"/>
                </a:lnTo>
                <a:lnTo>
                  <a:pt x="495327" y="992309"/>
                </a:lnTo>
                <a:lnTo>
                  <a:pt x="503488" y="994804"/>
                </a:lnTo>
                <a:lnTo>
                  <a:pt x="520490" y="1000021"/>
                </a:lnTo>
                <a:lnTo>
                  <a:pt x="538626" y="1004785"/>
                </a:lnTo>
                <a:lnTo>
                  <a:pt x="538626" y="1135439"/>
                </a:lnTo>
                <a:lnTo>
                  <a:pt x="530918" y="1134305"/>
                </a:lnTo>
                <a:lnTo>
                  <a:pt x="523210" y="1133171"/>
                </a:lnTo>
                <a:lnTo>
                  <a:pt x="515503" y="1131583"/>
                </a:lnTo>
                <a:lnTo>
                  <a:pt x="507795" y="1129768"/>
                </a:lnTo>
                <a:lnTo>
                  <a:pt x="500088" y="1127727"/>
                </a:lnTo>
                <a:lnTo>
                  <a:pt x="492607" y="1125685"/>
                </a:lnTo>
                <a:lnTo>
                  <a:pt x="485126" y="1123417"/>
                </a:lnTo>
                <a:lnTo>
                  <a:pt x="477645" y="1120695"/>
                </a:lnTo>
                <a:lnTo>
                  <a:pt x="470164" y="1117973"/>
                </a:lnTo>
                <a:lnTo>
                  <a:pt x="462683" y="1115024"/>
                </a:lnTo>
                <a:lnTo>
                  <a:pt x="455429" y="1111849"/>
                </a:lnTo>
                <a:lnTo>
                  <a:pt x="448175" y="1108673"/>
                </a:lnTo>
                <a:lnTo>
                  <a:pt x="440920" y="1105044"/>
                </a:lnTo>
                <a:lnTo>
                  <a:pt x="433893" y="1101641"/>
                </a:lnTo>
                <a:lnTo>
                  <a:pt x="426639" y="1097785"/>
                </a:lnTo>
                <a:lnTo>
                  <a:pt x="419611" y="1093929"/>
                </a:lnTo>
                <a:lnTo>
                  <a:pt x="405783" y="1085310"/>
                </a:lnTo>
                <a:lnTo>
                  <a:pt x="392181" y="1076690"/>
                </a:lnTo>
                <a:lnTo>
                  <a:pt x="379033" y="1067617"/>
                </a:lnTo>
                <a:lnTo>
                  <a:pt x="366338" y="1058317"/>
                </a:lnTo>
                <a:lnTo>
                  <a:pt x="366338" y="1169917"/>
                </a:lnTo>
                <a:lnTo>
                  <a:pt x="376313" y="1175588"/>
                </a:lnTo>
                <a:lnTo>
                  <a:pt x="386287" y="1181032"/>
                </a:lnTo>
                <a:lnTo>
                  <a:pt x="396715" y="1186249"/>
                </a:lnTo>
                <a:lnTo>
                  <a:pt x="407370" y="1191466"/>
                </a:lnTo>
                <a:lnTo>
                  <a:pt x="418251" y="1196003"/>
                </a:lnTo>
                <a:lnTo>
                  <a:pt x="429359" y="1200539"/>
                </a:lnTo>
                <a:lnTo>
                  <a:pt x="440694" y="1204849"/>
                </a:lnTo>
                <a:lnTo>
                  <a:pt x="452255" y="1208705"/>
                </a:lnTo>
                <a:lnTo>
                  <a:pt x="464043" y="1212561"/>
                </a:lnTo>
                <a:lnTo>
                  <a:pt x="475151" y="1215964"/>
                </a:lnTo>
                <a:lnTo>
                  <a:pt x="486486" y="1218686"/>
                </a:lnTo>
                <a:lnTo>
                  <a:pt x="497367" y="1221634"/>
                </a:lnTo>
                <a:lnTo>
                  <a:pt x="508022" y="1223903"/>
                </a:lnTo>
                <a:lnTo>
                  <a:pt x="518450" y="1225944"/>
                </a:lnTo>
                <a:lnTo>
                  <a:pt x="528878" y="1227759"/>
                </a:lnTo>
                <a:lnTo>
                  <a:pt x="538626" y="1229120"/>
                </a:lnTo>
                <a:lnTo>
                  <a:pt x="538626" y="1297396"/>
                </a:lnTo>
                <a:lnTo>
                  <a:pt x="600740" y="1297396"/>
                </a:lnTo>
                <a:lnTo>
                  <a:pt x="600740" y="1229120"/>
                </a:lnTo>
                <a:lnTo>
                  <a:pt x="608674" y="1228213"/>
                </a:lnTo>
                <a:lnTo>
                  <a:pt x="616608" y="1227305"/>
                </a:lnTo>
                <a:lnTo>
                  <a:pt x="624089" y="1225944"/>
                </a:lnTo>
                <a:lnTo>
                  <a:pt x="631570" y="1224810"/>
                </a:lnTo>
                <a:lnTo>
                  <a:pt x="638824" y="1223449"/>
                </a:lnTo>
                <a:lnTo>
                  <a:pt x="645852" y="1221861"/>
                </a:lnTo>
                <a:lnTo>
                  <a:pt x="652880" y="1220273"/>
                </a:lnTo>
                <a:lnTo>
                  <a:pt x="659454" y="1218232"/>
                </a:lnTo>
                <a:lnTo>
                  <a:pt x="666028" y="1216191"/>
                </a:lnTo>
                <a:lnTo>
                  <a:pt x="672375" y="1214149"/>
                </a:lnTo>
                <a:lnTo>
                  <a:pt x="678723" y="1211881"/>
                </a:lnTo>
                <a:lnTo>
                  <a:pt x="684617" y="1209386"/>
                </a:lnTo>
                <a:lnTo>
                  <a:pt x="690284" y="1206890"/>
                </a:lnTo>
                <a:lnTo>
                  <a:pt x="695951" y="1203942"/>
                </a:lnTo>
                <a:lnTo>
                  <a:pt x="701392" y="1200993"/>
                </a:lnTo>
                <a:lnTo>
                  <a:pt x="706833" y="1198044"/>
                </a:lnTo>
                <a:lnTo>
                  <a:pt x="711593" y="1194868"/>
                </a:lnTo>
                <a:lnTo>
                  <a:pt x="716581" y="1191693"/>
                </a:lnTo>
                <a:lnTo>
                  <a:pt x="721341" y="1188290"/>
                </a:lnTo>
                <a:lnTo>
                  <a:pt x="725875" y="1184888"/>
                </a:lnTo>
                <a:lnTo>
                  <a:pt x="730182" y="1181486"/>
                </a:lnTo>
                <a:lnTo>
                  <a:pt x="734263" y="1178083"/>
                </a:lnTo>
                <a:lnTo>
                  <a:pt x="738343" y="1174227"/>
                </a:lnTo>
                <a:lnTo>
                  <a:pt x="742197" y="1170825"/>
                </a:lnTo>
                <a:lnTo>
                  <a:pt x="745824" y="1166968"/>
                </a:lnTo>
                <a:lnTo>
                  <a:pt x="749225" y="1163339"/>
                </a:lnTo>
                <a:lnTo>
                  <a:pt x="752625" y="1159256"/>
                </a:lnTo>
                <a:lnTo>
                  <a:pt x="755799" y="1155627"/>
                </a:lnTo>
                <a:lnTo>
                  <a:pt x="758746" y="1151544"/>
                </a:lnTo>
                <a:lnTo>
                  <a:pt x="761466" y="1147461"/>
                </a:lnTo>
                <a:lnTo>
                  <a:pt x="763960" y="1143378"/>
                </a:lnTo>
                <a:lnTo>
                  <a:pt x="766453" y="1139295"/>
                </a:lnTo>
                <a:lnTo>
                  <a:pt x="770760" y="1130676"/>
                </a:lnTo>
                <a:lnTo>
                  <a:pt x="774614" y="1122056"/>
                </a:lnTo>
                <a:lnTo>
                  <a:pt x="777561" y="1113436"/>
                </a:lnTo>
                <a:lnTo>
                  <a:pt x="778921" y="1109354"/>
                </a:lnTo>
                <a:lnTo>
                  <a:pt x="780055" y="1105044"/>
                </a:lnTo>
                <a:lnTo>
                  <a:pt x="781415" y="1100507"/>
                </a:lnTo>
                <a:lnTo>
                  <a:pt x="782322" y="1096424"/>
                </a:lnTo>
                <a:lnTo>
                  <a:pt x="783002" y="1092114"/>
                </a:lnTo>
                <a:lnTo>
                  <a:pt x="783682" y="1087805"/>
                </a:lnTo>
                <a:lnTo>
                  <a:pt x="784135" y="1083495"/>
                </a:lnTo>
                <a:lnTo>
                  <a:pt x="784589" y="1079185"/>
                </a:lnTo>
                <a:lnTo>
                  <a:pt x="784816" y="1074875"/>
                </a:lnTo>
                <a:lnTo>
                  <a:pt x="784816" y="1070339"/>
                </a:lnTo>
                <a:lnTo>
                  <a:pt x="784589" y="1061719"/>
                </a:lnTo>
                <a:lnTo>
                  <a:pt x="784135" y="1053326"/>
                </a:lnTo>
                <a:lnTo>
                  <a:pt x="783229" y="1045161"/>
                </a:lnTo>
                <a:lnTo>
                  <a:pt x="781869" y="1037222"/>
                </a:lnTo>
                <a:lnTo>
                  <a:pt x="779828" y="1029509"/>
                </a:lnTo>
                <a:lnTo>
                  <a:pt x="777788" y="1022251"/>
                </a:lnTo>
                <a:lnTo>
                  <a:pt x="775294" y="1014992"/>
                </a:lnTo>
                <a:lnTo>
                  <a:pt x="772347" y="1007960"/>
                </a:lnTo>
                <a:lnTo>
                  <a:pt x="769174" y="1001156"/>
                </a:lnTo>
                <a:lnTo>
                  <a:pt x="765320" y="994577"/>
                </a:lnTo>
                <a:lnTo>
                  <a:pt x="761466" y="988226"/>
                </a:lnTo>
                <a:lnTo>
                  <a:pt x="756705" y="982329"/>
                </a:lnTo>
                <a:lnTo>
                  <a:pt x="752172" y="976431"/>
                </a:lnTo>
                <a:lnTo>
                  <a:pt x="746731" y="970987"/>
                </a:lnTo>
                <a:lnTo>
                  <a:pt x="741064" y="965543"/>
                </a:lnTo>
                <a:lnTo>
                  <a:pt x="734943" y="960553"/>
                </a:lnTo>
                <a:lnTo>
                  <a:pt x="728822" y="955563"/>
                </a:lnTo>
                <a:lnTo>
                  <a:pt x="722248" y="950572"/>
                </a:lnTo>
                <a:lnTo>
                  <a:pt x="715220" y="946036"/>
                </a:lnTo>
                <a:lnTo>
                  <a:pt x="708193" y="941272"/>
                </a:lnTo>
                <a:lnTo>
                  <a:pt x="700712" y="936509"/>
                </a:lnTo>
                <a:lnTo>
                  <a:pt x="693004" y="932199"/>
                </a:lnTo>
                <a:lnTo>
                  <a:pt x="685070" y="927889"/>
                </a:lnTo>
                <a:lnTo>
                  <a:pt x="676456" y="923806"/>
                </a:lnTo>
                <a:lnTo>
                  <a:pt x="668068" y="919497"/>
                </a:lnTo>
                <a:lnTo>
                  <a:pt x="659227" y="915641"/>
                </a:lnTo>
                <a:lnTo>
                  <a:pt x="650159" y="911558"/>
                </a:lnTo>
                <a:lnTo>
                  <a:pt x="641091" y="907475"/>
                </a:lnTo>
                <a:lnTo>
                  <a:pt x="631117" y="903845"/>
                </a:lnTo>
                <a:lnTo>
                  <a:pt x="621369" y="899989"/>
                </a:lnTo>
                <a:lnTo>
                  <a:pt x="611394" y="896587"/>
                </a:lnTo>
                <a:lnTo>
                  <a:pt x="600740" y="892958"/>
                </a:lnTo>
                <a:lnTo>
                  <a:pt x="600740" y="785894"/>
                </a:lnTo>
                <a:lnTo>
                  <a:pt x="612755" y="788616"/>
                </a:lnTo>
                <a:lnTo>
                  <a:pt x="624543" y="792018"/>
                </a:lnTo>
                <a:lnTo>
                  <a:pt x="636331" y="795421"/>
                </a:lnTo>
                <a:lnTo>
                  <a:pt x="647892" y="799504"/>
                </a:lnTo>
                <a:lnTo>
                  <a:pt x="659227" y="803813"/>
                </a:lnTo>
                <a:lnTo>
                  <a:pt x="670562" y="808577"/>
                </a:lnTo>
                <a:lnTo>
                  <a:pt x="681443" y="813794"/>
                </a:lnTo>
                <a:lnTo>
                  <a:pt x="692324" y="819465"/>
                </a:lnTo>
                <a:lnTo>
                  <a:pt x="702752" y="824909"/>
                </a:lnTo>
                <a:lnTo>
                  <a:pt x="712727" y="830806"/>
                </a:lnTo>
                <a:lnTo>
                  <a:pt x="722475" y="836477"/>
                </a:lnTo>
                <a:lnTo>
                  <a:pt x="731542" y="842148"/>
                </a:lnTo>
                <a:lnTo>
                  <a:pt x="740157" y="847592"/>
                </a:lnTo>
                <a:lnTo>
                  <a:pt x="748318" y="853262"/>
                </a:lnTo>
                <a:lnTo>
                  <a:pt x="756025" y="858933"/>
                </a:lnTo>
                <a:lnTo>
                  <a:pt x="763280" y="864604"/>
                </a:lnTo>
                <a:lnTo>
                  <a:pt x="763280" y="748240"/>
                </a:lnTo>
                <a:lnTo>
                  <a:pt x="752625" y="741889"/>
                </a:lnTo>
                <a:lnTo>
                  <a:pt x="741744" y="735764"/>
                </a:lnTo>
                <a:lnTo>
                  <a:pt x="731316" y="730547"/>
                </a:lnTo>
                <a:lnTo>
                  <a:pt x="720888" y="725103"/>
                </a:lnTo>
                <a:lnTo>
                  <a:pt x="710913" y="720340"/>
                </a:lnTo>
                <a:lnTo>
                  <a:pt x="701165" y="716030"/>
                </a:lnTo>
                <a:lnTo>
                  <a:pt x="691644" y="711720"/>
                </a:lnTo>
                <a:lnTo>
                  <a:pt x="682123" y="708318"/>
                </a:lnTo>
                <a:lnTo>
                  <a:pt x="672602" y="704689"/>
                </a:lnTo>
                <a:lnTo>
                  <a:pt x="663081" y="701740"/>
                </a:lnTo>
                <a:lnTo>
                  <a:pt x="653106" y="698791"/>
                </a:lnTo>
                <a:lnTo>
                  <a:pt x="643132" y="696296"/>
                </a:lnTo>
                <a:lnTo>
                  <a:pt x="632930" y="694254"/>
                </a:lnTo>
                <a:lnTo>
                  <a:pt x="622276" y="691986"/>
                </a:lnTo>
                <a:lnTo>
                  <a:pt x="611848" y="690171"/>
                </a:lnTo>
                <a:lnTo>
                  <a:pt x="600740" y="688810"/>
                </a:lnTo>
                <a:lnTo>
                  <a:pt x="600740" y="654332"/>
                </a:lnTo>
                <a:lnTo>
                  <a:pt x="538626" y="654332"/>
                </a:lnTo>
                <a:close/>
                <a:moveTo>
                  <a:pt x="549280" y="371475"/>
                </a:moveTo>
                <a:lnTo>
                  <a:pt x="564015" y="371475"/>
                </a:lnTo>
                <a:lnTo>
                  <a:pt x="577844" y="371475"/>
                </a:lnTo>
                <a:lnTo>
                  <a:pt x="591219" y="371929"/>
                </a:lnTo>
                <a:lnTo>
                  <a:pt x="604594" y="372609"/>
                </a:lnTo>
                <a:lnTo>
                  <a:pt x="617515" y="373743"/>
                </a:lnTo>
                <a:lnTo>
                  <a:pt x="630210" y="375104"/>
                </a:lnTo>
                <a:lnTo>
                  <a:pt x="642905" y="376692"/>
                </a:lnTo>
                <a:lnTo>
                  <a:pt x="655373" y="378507"/>
                </a:lnTo>
                <a:lnTo>
                  <a:pt x="667388" y="380775"/>
                </a:lnTo>
                <a:lnTo>
                  <a:pt x="679403" y="383497"/>
                </a:lnTo>
                <a:lnTo>
                  <a:pt x="691191" y="386219"/>
                </a:lnTo>
                <a:lnTo>
                  <a:pt x="702752" y="389168"/>
                </a:lnTo>
                <a:lnTo>
                  <a:pt x="714314" y="392797"/>
                </a:lnTo>
                <a:lnTo>
                  <a:pt x="725422" y="396426"/>
                </a:lnTo>
                <a:lnTo>
                  <a:pt x="736530" y="400509"/>
                </a:lnTo>
                <a:lnTo>
                  <a:pt x="747184" y="405046"/>
                </a:lnTo>
                <a:lnTo>
                  <a:pt x="757839" y="409582"/>
                </a:lnTo>
                <a:lnTo>
                  <a:pt x="768267" y="414573"/>
                </a:lnTo>
                <a:lnTo>
                  <a:pt x="778468" y="420017"/>
                </a:lnTo>
                <a:lnTo>
                  <a:pt x="788669" y="425461"/>
                </a:lnTo>
                <a:lnTo>
                  <a:pt x="798644" y="431358"/>
                </a:lnTo>
                <a:lnTo>
                  <a:pt x="808392" y="437709"/>
                </a:lnTo>
                <a:lnTo>
                  <a:pt x="818140" y="444288"/>
                </a:lnTo>
                <a:lnTo>
                  <a:pt x="827434" y="451092"/>
                </a:lnTo>
                <a:lnTo>
                  <a:pt x="836729" y="458351"/>
                </a:lnTo>
                <a:lnTo>
                  <a:pt x="845796" y="466063"/>
                </a:lnTo>
                <a:lnTo>
                  <a:pt x="854864" y="473775"/>
                </a:lnTo>
                <a:lnTo>
                  <a:pt x="863705" y="481941"/>
                </a:lnTo>
                <a:lnTo>
                  <a:pt x="872319" y="490561"/>
                </a:lnTo>
                <a:lnTo>
                  <a:pt x="880934" y="499407"/>
                </a:lnTo>
                <a:lnTo>
                  <a:pt x="889095" y="508707"/>
                </a:lnTo>
                <a:lnTo>
                  <a:pt x="897483" y="518234"/>
                </a:lnTo>
                <a:lnTo>
                  <a:pt x="905417" y="527988"/>
                </a:lnTo>
                <a:lnTo>
                  <a:pt x="913351" y="538422"/>
                </a:lnTo>
                <a:lnTo>
                  <a:pt x="921512" y="548856"/>
                </a:lnTo>
                <a:lnTo>
                  <a:pt x="929220" y="559744"/>
                </a:lnTo>
                <a:lnTo>
                  <a:pt x="936701" y="571086"/>
                </a:lnTo>
                <a:lnTo>
                  <a:pt x="944182" y="582654"/>
                </a:lnTo>
                <a:lnTo>
                  <a:pt x="951436" y="594449"/>
                </a:lnTo>
                <a:lnTo>
                  <a:pt x="958690" y="606925"/>
                </a:lnTo>
                <a:lnTo>
                  <a:pt x="965944" y="619627"/>
                </a:lnTo>
                <a:lnTo>
                  <a:pt x="972745" y="632330"/>
                </a:lnTo>
                <a:lnTo>
                  <a:pt x="979546" y="645713"/>
                </a:lnTo>
                <a:lnTo>
                  <a:pt x="986347" y="659549"/>
                </a:lnTo>
                <a:lnTo>
                  <a:pt x="993148" y="673613"/>
                </a:lnTo>
                <a:lnTo>
                  <a:pt x="999722" y="687903"/>
                </a:lnTo>
                <a:lnTo>
                  <a:pt x="1006069" y="702647"/>
                </a:lnTo>
                <a:lnTo>
                  <a:pt x="1012643" y="717845"/>
                </a:lnTo>
                <a:lnTo>
                  <a:pt x="1018991" y="733269"/>
                </a:lnTo>
                <a:lnTo>
                  <a:pt x="1025111" y="748920"/>
                </a:lnTo>
                <a:lnTo>
                  <a:pt x="1031005" y="765252"/>
                </a:lnTo>
                <a:lnTo>
                  <a:pt x="1037126" y="781584"/>
                </a:lnTo>
                <a:lnTo>
                  <a:pt x="1043247" y="798823"/>
                </a:lnTo>
                <a:lnTo>
                  <a:pt x="1049141" y="816062"/>
                </a:lnTo>
                <a:lnTo>
                  <a:pt x="1054808" y="833528"/>
                </a:lnTo>
                <a:lnTo>
                  <a:pt x="1060476" y="851674"/>
                </a:lnTo>
                <a:lnTo>
                  <a:pt x="1066143" y="870048"/>
                </a:lnTo>
                <a:lnTo>
                  <a:pt x="1071810" y="888875"/>
                </a:lnTo>
                <a:lnTo>
                  <a:pt x="1077478" y="907928"/>
                </a:lnTo>
                <a:lnTo>
                  <a:pt x="1082692" y="927436"/>
                </a:lnTo>
                <a:lnTo>
                  <a:pt x="1088132" y="947624"/>
                </a:lnTo>
                <a:lnTo>
                  <a:pt x="1093573" y="967812"/>
                </a:lnTo>
                <a:lnTo>
                  <a:pt x="1098787" y="988453"/>
                </a:lnTo>
                <a:lnTo>
                  <a:pt x="1109215" y="1030870"/>
                </a:lnTo>
                <a:lnTo>
                  <a:pt x="1112615" y="1046522"/>
                </a:lnTo>
                <a:lnTo>
                  <a:pt x="1115789" y="1061946"/>
                </a:lnTo>
                <a:lnTo>
                  <a:pt x="1118056" y="1076917"/>
                </a:lnTo>
                <a:lnTo>
                  <a:pt x="1119870" y="1091888"/>
                </a:lnTo>
                <a:lnTo>
                  <a:pt x="1121456" y="1106405"/>
                </a:lnTo>
                <a:lnTo>
                  <a:pt x="1122136" y="1120922"/>
                </a:lnTo>
                <a:lnTo>
                  <a:pt x="1122363" y="1134985"/>
                </a:lnTo>
                <a:lnTo>
                  <a:pt x="1122136" y="1148822"/>
                </a:lnTo>
                <a:lnTo>
                  <a:pt x="1121456" y="1162659"/>
                </a:lnTo>
                <a:lnTo>
                  <a:pt x="1120096" y="1176042"/>
                </a:lnTo>
                <a:lnTo>
                  <a:pt x="1118509" y="1188971"/>
                </a:lnTo>
                <a:lnTo>
                  <a:pt x="1116469" y="1201900"/>
                </a:lnTo>
                <a:lnTo>
                  <a:pt x="1113749" y="1214603"/>
                </a:lnTo>
                <a:lnTo>
                  <a:pt x="1110575" y="1227078"/>
                </a:lnTo>
                <a:lnTo>
                  <a:pt x="1107175" y="1239100"/>
                </a:lnTo>
                <a:lnTo>
                  <a:pt x="1103321" y="1250896"/>
                </a:lnTo>
                <a:lnTo>
                  <a:pt x="1098787" y="1262464"/>
                </a:lnTo>
                <a:lnTo>
                  <a:pt x="1094026" y="1274032"/>
                </a:lnTo>
                <a:lnTo>
                  <a:pt x="1088812" y="1284920"/>
                </a:lnTo>
                <a:lnTo>
                  <a:pt x="1083145" y="1296035"/>
                </a:lnTo>
                <a:lnTo>
                  <a:pt x="1077251" y="1306469"/>
                </a:lnTo>
                <a:lnTo>
                  <a:pt x="1070904" y="1317130"/>
                </a:lnTo>
                <a:lnTo>
                  <a:pt x="1064103" y="1327110"/>
                </a:lnTo>
                <a:lnTo>
                  <a:pt x="1056849" y="1336864"/>
                </a:lnTo>
                <a:lnTo>
                  <a:pt x="1049368" y="1346845"/>
                </a:lnTo>
                <a:lnTo>
                  <a:pt x="1041660" y="1356145"/>
                </a:lnTo>
                <a:lnTo>
                  <a:pt x="1033499" y="1365218"/>
                </a:lnTo>
                <a:lnTo>
                  <a:pt x="1024658" y="1374064"/>
                </a:lnTo>
                <a:lnTo>
                  <a:pt x="1015817" y="1382911"/>
                </a:lnTo>
                <a:lnTo>
                  <a:pt x="1006749" y="1391303"/>
                </a:lnTo>
                <a:lnTo>
                  <a:pt x="997228" y="1399469"/>
                </a:lnTo>
                <a:lnTo>
                  <a:pt x="987253" y="1407408"/>
                </a:lnTo>
                <a:lnTo>
                  <a:pt x="977279" y="1415121"/>
                </a:lnTo>
                <a:lnTo>
                  <a:pt x="967078" y="1422606"/>
                </a:lnTo>
                <a:lnTo>
                  <a:pt x="956196" y="1429638"/>
                </a:lnTo>
                <a:lnTo>
                  <a:pt x="945315" y="1436669"/>
                </a:lnTo>
                <a:lnTo>
                  <a:pt x="934207" y="1443474"/>
                </a:lnTo>
                <a:lnTo>
                  <a:pt x="922872" y="1449826"/>
                </a:lnTo>
                <a:lnTo>
                  <a:pt x="911084" y="1455950"/>
                </a:lnTo>
                <a:lnTo>
                  <a:pt x="899296" y="1461848"/>
                </a:lnTo>
                <a:lnTo>
                  <a:pt x="887055" y="1467745"/>
                </a:lnTo>
                <a:lnTo>
                  <a:pt x="874586" y="1473189"/>
                </a:lnTo>
                <a:lnTo>
                  <a:pt x="862118" y="1478179"/>
                </a:lnTo>
                <a:lnTo>
                  <a:pt x="849197" y="1483396"/>
                </a:lnTo>
                <a:lnTo>
                  <a:pt x="836275" y="1488160"/>
                </a:lnTo>
                <a:lnTo>
                  <a:pt x="823127" y="1492470"/>
                </a:lnTo>
                <a:lnTo>
                  <a:pt x="809752" y="1496779"/>
                </a:lnTo>
                <a:lnTo>
                  <a:pt x="796377" y="1500862"/>
                </a:lnTo>
                <a:lnTo>
                  <a:pt x="782549" y="1504492"/>
                </a:lnTo>
                <a:lnTo>
                  <a:pt x="768720" y="1508348"/>
                </a:lnTo>
                <a:lnTo>
                  <a:pt x="754892" y="1511523"/>
                </a:lnTo>
                <a:lnTo>
                  <a:pt x="740610" y="1514472"/>
                </a:lnTo>
                <a:lnTo>
                  <a:pt x="726555" y="1517194"/>
                </a:lnTo>
                <a:lnTo>
                  <a:pt x="712047" y="1519689"/>
                </a:lnTo>
                <a:lnTo>
                  <a:pt x="697538" y="1521958"/>
                </a:lnTo>
                <a:lnTo>
                  <a:pt x="683030" y="1524226"/>
                </a:lnTo>
                <a:lnTo>
                  <a:pt x="668521" y="1526040"/>
                </a:lnTo>
                <a:lnTo>
                  <a:pt x="653786" y="1527401"/>
                </a:lnTo>
                <a:lnTo>
                  <a:pt x="638824" y="1528762"/>
                </a:lnTo>
                <a:lnTo>
                  <a:pt x="624089" y="1529897"/>
                </a:lnTo>
                <a:lnTo>
                  <a:pt x="609128" y="1530804"/>
                </a:lnTo>
                <a:lnTo>
                  <a:pt x="594166" y="1531484"/>
                </a:lnTo>
                <a:lnTo>
                  <a:pt x="579204" y="1531938"/>
                </a:lnTo>
                <a:lnTo>
                  <a:pt x="564015" y="1531938"/>
                </a:lnTo>
                <a:lnTo>
                  <a:pt x="549054" y="1531938"/>
                </a:lnTo>
                <a:lnTo>
                  <a:pt x="533865" y="1531484"/>
                </a:lnTo>
                <a:lnTo>
                  <a:pt x="518903" y="1530804"/>
                </a:lnTo>
                <a:lnTo>
                  <a:pt x="503941" y="1529670"/>
                </a:lnTo>
                <a:lnTo>
                  <a:pt x="488980" y="1528309"/>
                </a:lnTo>
                <a:lnTo>
                  <a:pt x="474018" y="1526948"/>
                </a:lnTo>
                <a:lnTo>
                  <a:pt x="459056" y="1525133"/>
                </a:lnTo>
                <a:lnTo>
                  <a:pt x="444321" y="1523319"/>
                </a:lnTo>
                <a:lnTo>
                  <a:pt x="429359" y="1520823"/>
                </a:lnTo>
                <a:lnTo>
                  <a:pt x="414851" y="1518328"/>
                </a:lnTo>
                <a:lnTo>
                  <a:pt x="400115" y="1515606"/>
                </a:lnTo>
                <a:lnTo>
                  <a:pt x="385607" y="1512204"/>
                </a:lnTo>
                <a:lnTo>
                  <a:pt x="371325" y="1509028"/>
                </a:lnTo>
                <a:lnTo>
                  <a:pt x="357044" y="1505172"/>
                </a:lnTo>
                <a:lnTo>
                  <a:pt x="342989" y="1501543"/>
                </a:lnTo>
                <a:lnTo>
                  <a:pt x="329160" y="1497233"/>
                </a:lnTo>
                <a:lnTo>
                  <a:pt x="315332" y="1492696"/>
                </a:lnTo>
                <a:lnTo>
                  <a:pt x="301730" y="1488160"/>
                </a:lnTo>
                <a:lnTo>
                  <a:pt x="288129" y="1483170"/>
                </a:lnTo>
                <a:lnTo>
                  <a:pt x="274754" y="1477952"/>
                </a:lnTo>
                <a:lnTo>
                  <a:pt x="261832" y="1472735"/>
                </a:lnTo>
                <a:lnTo>
                  <a:pt x="248910" y="1466838"/>
                </a:lnTo>
                <a:lnTo>
                  <a:pt x="235988" y="1460940"/>
                </a:lnTo>
                <a:lnTo>
                  <a:pt x="223520" y="1454816"/>
                </a:lnTo>
                <a:lnTo>
                  <a:pt x="211505" y="1448238"/>
                </a:lnTo>
                <a:lnTo>
                  <a:pt x="199264" y="1441660"/>
                </a:lnTo>
                <a:lnTo>
                  <a:pt x="187703" y="1434855"/>
                </a:lnTo>
                <a:lnTo>
                  <a:pt x="176141" y="1427596"/>
                </a:lnTo>
                <a:lnTo>
                  <a:pt x="164806" y="1420111"/>
                </a:lnTo>
                <a:lnTo>
                  <a:pt x="153925" y="1412399"/>
                </a:lnTo>
                <a:lnTo>
                  <a:pt x="143497" y="1404233"/>
                </a:lnTo>
                <a:lnTo>
                  <a:pt x="132843" y="1396067"/>
                </a:lnTo>
                <a:lnTo>
                  <a:pt x="122868" y="1387674"/>
                </a:lnTo>
                <a:lnTo>
                  <a:pt x="113120" y="1379055"/>
                </a:lnTo>
                <a:lnTo>
                  <a:pt x="103826" y="1370208"/>
                </a:lnTo>
                <a:lnTo>
                  <a:pt x="94758" y="1361135"/>
                </a:lnTo>
                <a:lnTo>
                  <a:pt x="86144" y="1351608"/>
                </a:lnTo>
                <a:lnTo>
                  <a:pt x="77756" y="1342081"/>
                </a:lnTo>
                <a:lnTo>
                  <a:pt x="69822" y="1332328"/>
                </a:lnTo>
                <a:lnTo>
                  <a:pt x="62341" y="1322120"/>
                </a:lnTo>
                <a:lnTo>
                  <a:pt x="55086" y="1311913"/>
                </a:lnTo>
                <a:lnTo>
                  <a:pt x="48286" y="1301479"/>
                </a:lnTo>
                <a:lnTo>
                  <a:pt x="41711" y="1290591"/>
                </a:lnTo>
                <a:lnTo>
                  <a:pt x="35817" y="1279703"/>
                </a:lnTo>
                <a:lnTo>
                  <a:pt x="30150" y="1268361"/>
                </a:lnTo>
                <a:lnTo>
                  <a:pt x="25163" y="1257020"/>
                </a:lnTo>
                <a:lnTo>
                  <a:pt x="20402" y="1245225"/>
                </a:lnTo>
                <a:lnTo>
                  <a:pt x="16095" y="1233203"/>
                </a:lnTo>
                <a:lnTo>
                  <a:pt x="12468" y="1221181"/>
                </a:lnTo>
                <a:lnTo>
                  <a:pt x="9068" y="1208932"/>
                </a:lnTo>
                <a:lnTo>
                  <a:pt x="6347" y="1196229"/>
                </a:lnTo>
                <a:lnTo>
                  <a:pt x="4080" y="1183527"/>
                </a:lnTo>
                <a:lnTo>
                  <a:pt x="2493" y="1170371"/>
                </a:lnTo>
                <a:lnTo>
                  <a:pt x="907" y="1157215"/>
                </a:lnTo>
                <a:lnTo>
                  <a:pt x="226" y="1143605"/>
                </a:lnTo>
                <a:lnTo>
                  <a:pt x="0" y="1129995"/>
                </a:lnTo>
                <a:lnTo>
                  <a:pt x="453" y="1116158"/>
                </a:lnTo>
                <a:lnTo>
                  <a:pt x="1133" y="1102095"/>
                </a:lnTo>
                <a:lnTo>
                  <a:pt x="2947" y="1087805"/>
                </a:lnTo>
                <a:lnTo>
                  <a:pt x="4760" y="1073288"/>
                </a:lnTo>
                <a:lnTo>
                  <a:pt x="7481" y="1058544"/>
                </a:lnTo>
                <a:lnTo>
                  <a:pt x="10654" y="1043573"/>
                </a:lnTo>
                <a:lnTo>
                  <a:pt x="14508" y="1028375"/>
                </a:lnTo>
                <a:lnTo>
                  <a:pt x="19042" y="1012951"/>
                </a:lnTo>
                <a:lnTo>
                  <a:pt x="29697" y="978473"/>
                </a:lnTo>
                <a:lnTo>
                  <a:pt x="40578" y="944448"/>
                </a:lnTo>
                <a:lnTo>
                  <a:pt x="51233" y="911104"/>
                </a:lnTo>
                <a:lnTo>
                  <a:pt x="62114" y="878667"/>
                </a:lnTo>
                <a:lnTo>
                  <a:pt x="73222" y="846684"/>
                </a:lnTo>
                <a:lnTo>
                  <a:pt x="84557" y="815608"/>
                </a:lnTo>
                <a:lnTo>
                  <a:pt x="95891" y="785213"/>
                </a:lnTo>
                <a:lnTo>
                  <a:pt x="101785" y="770469"/>
                </a:lnTo>
                <a:lnTo>
                  <a:pt x="107679" y="755725"/>
                </a:lnTo>
                <a:lnTo>
                  <a:pt x="113574" y="741435"/>
                </a:lnTo>
                <a:lnTo>
                  <a:pt x="119468" y="727145"/>
                </a:lnTo>
                <a:lnTo>
                  <a:pt x="125588" y="713081"/>
                </a:lnTo>
                <a:lnTo>
                  <a:pt x="131936" y="699245"/>
                </a:lnTo>
                <a:lnTo>
                  <a:pt x="138283" y="685635"/>
                </a:lnTo>
                <a:lnTo>
                  <a:pt x="144631" y="672479"/>
                </a:lnTo>
                <a:lnTo>
                  <a:pt x="151205" y="659322"/>
                </a:lnTo>
                <a:lnTo>
                  <a:pt x="157552" y="646393"/>
                </a:lnTo>
                <a:lnTo>
                  <a:pt x="164353" y="633691"/>
                </a:lnTo>
                <a:lnTo>
                  <a:pt x="171381" y="621669"/>
                </a:lnTo>
                <a:lnTo>
                  <a:pt x="178181" y="609420"/>
                </a:lnTo>
                <a:lnTo>
                  <a:pt x="185436" y="597625"/>
                </a:lnTo>
                <a:lnTo>
                  <a:pt x="192463" y="585830"/>
                </a:lnTo>
                <a:lnTo>
                  <a:pt x="199944" y="574488"/>
                </a:lnTo>
                <a:lnTo>
                  <a:pt x="207425" y="563600"/>
                </a:lnTo>
                <a:lnTo>
                  <a:pt x="215133" y="552712"/>
                </a:lnTo>
                <a:lnTo>
                  <a:pt x="222840" y="542051"/>
                </a:lnTo>
                <a:lnTo>
                  <a:pt x="230774" y="531844"/>
                </a:lnTo>
                <a:lnTo>
                  <a:pt x="238935" y="521863"/>
                </a:lnTo>
                <a:lnTo>
                  <a:pt x="247324" y="512110"/>
                </a:lnTo>
                <a:lnTo>
                  <a:pt x="255711" y="502810"/>
                </a:lnTo>
                <a:lnTo>
                  <a:pt x="264326" y="493736"/>
                </a:lnTo>
                <a:lnTo>
                  <a:pt x="272940" y="484663"/>
                </a:lnTo>
                <a:lnTo>
                  <a:pt x="282008" y="476271"/>
                </a:lnTo>
                <a:lnTo>
                  <a:pt x="291076" y="468105"/>
                </a:lnTo>
                <a:lnTo>
                  <a:pt x="300597" y="460166"/>
                </a:lnTo>
                <a:lnTo>
                  <a:pt x="310118" y="452453"/>
                </a:lnTo>
                <a:lnTo>
                  <a:pt x="319639" y="445195"/>
                </a:lnTo>
                <a:lnTo>
                  <a:pt x="329840" y="438163"/>
                </a:lnTo>
                <a:lnTo>
                  <a:pt x="339815" y="431585"/>
                </a:lnTo>
                <a:lnTo>
                  <a:pt x="350243" y="425234"/>
                </a:lnTo>
                <a:lnTo>
                  <a:pt x="360897" y="419336"/>
                </a:lnTo>
                <a:lnTo>
                  <a:pt x="371552" y="413665"/>
                </a:lnTo>
                <a:lnTo>
                  <a:pt x="382660" y="408222"/>
                </a:lnTo>
                <a:lnTo>
                  <a:pt x="393995" y="403231"/>
                </a:lnTo>
                <a:lnTo>
                  <a:pt x="405556" y="398695"/>
                </a:lnTo>
                <a:lnTo>
                  <a:pt x="417344" y="394385"/>
                </a:lnTo>
                <a:lnTo>
                  <a:pt x="429359" y="390529"/>
                </a:lnTo>
                <a:lnTo>
                  <a:pt x="441601" y="386899"/>
                </a:lnTo>
                <a:lnTo>
                  <a:pt x="454069" y="383724"/>
                </a:lnTo>
                <a:lnTo>
                  <a:pt x="466764" y="380775"/>
                </a:lnTo>
                <a:lnTo>
                  <a:pt x="479912" y="378280"/>
                </a:lnTo>
                <a:lnTo>
                  <a:pt x="493287" y="376238"/>
                </a:lnTo>
                <a:lnTo>
                  <a:pt x="506888" y="374424"/>
                </a:lnTo>
                <a:lnTo>
                  <a:pt x="520717" y="373063"/>
                </a:lnTo>
                <a:lnTo>
                  <a:pt x="534772" y="372156"/>
                </a:lnTo>
                <a:lnTo>
                  <a:pt x="549280" y="371475"/>
                </a:lnTo>
                <a:close/>
                <a:moveTo>
                  <a:pt x="455387" y="0"/>
                </a:moveTo>
                <a:lnTo>
                  <a:pt x="463542" y="227"/>
                </a:lnTo>
                <a:lnTo>
                  <a:pt x="471471" y="682"/>
                </a:lnTo>
                <a:lnTo>
                  <a:pt x="479174" y="1591"/>
                </a:lnTo>
                <a:lnTo>
                  <a:pt x="486423" y="2500"/>
                </a:lnTo>
                <a:lnTo>
                  <a:pt x="493446" y="3863"/>
                </a:lnTo>
                <a:lnTo>
                  <a:pt x="500242" y="5681"/>
                </a:lnTo>
                <a:lnTo>
                  <a:pt x="506812" y="7499"/>
                </a:lnTo>
                <a:lnTo>
                  <a:pt x="512702" y="9317"/>
                </a:lnTo>
                <a:lnTo>
                  <a:pt x="518592" y="11362"/>
                </a:lnTo>
                <a:lnTo>
                  <a:pt x="524256" y="13861"/>
                </a:lnTo>
                <a:lnTo>
                  <a:pt x="529466" y="16361"/>
                </a:lnTo>
                <a:lnTo>
                  <a:pt x="534450" y="18861"/>
                </a:lnTo>
                <a:lnTo>
                  <a:pt x="539207" y="21587"/>
                </a:lnTo>
                <a:lnTo>
                  <a:pt x="543738" y="24314"/>
                </a:lnTo>
                <a:lnTo>
                  <a:pt x="547816" y="27268"/>
                </a:lnTo>
                <a:lnTo>
                  <a:pt x="551894" y="29995"/>
                </a:lnTo>
                <a:lnTo>
                  <a:pt x="555292" y="32722"/>
                </a:lnTo>
                <a:lnTo>
                  <a:pt x="558916" y="35676"/>
                </a:lnTo>
                <a:lnTo>
                  <a:pt x="564807" y="40903"/>
                </a:lnTo>
                <a:lnTo>
                  <a:pt x="569790" y="45902"/>
                </a:lnTo>
                <a:lnTo>
                  <a:pt x="574095" y="50674"/>
                </a:lnTo>
                <a:lnTo>
                  <a:pt x="577040" y="54310"/>
                </a:lnTo>
                <a:lnTo>
                  <a:pt x="579079" y="57491"/>
                </a:lnTo>
                <a:lnTo>
                  <a:pt x="581118" y="59990"/>
                </a:lnTo>
                <a:lnTo>
                  <a:pt x="590406" y="51810"/>
                </a:lnTo>
                <a:lnTo>
                  <a:pt x="599467" y="44311"/>
                </a:lnTo>
                <a:lnTo>
                  <a:pt x="608076" y="37494"/>
                </a:lnTo>
                <a:lnTo>
                  <a:pt x="616685" y="31359"/>
                </a:lnTo>
                <a:lnTo>
                  <a:pt x="625293" y="25905"/>
                </a:lnTo>
                <a:lnTo>
                  <a:pt x="633449" y="21360"/>
                </a:lnTo>
                <a:lnTo>
                  <a:pt x="641151" y="17043"/>
                </a:lnTo>
                <a:lnTo>
                  <a:pt x="648854" y="13407"/>
                </a:lnTo>
                <a:lnTo>
                  <a:pt x="656103" y="10226"/>
                </a:lnTo>
                <a:lnTo>
                  <a:pt x="663126" y="7499"/>
                </a:lnTo>
                <a:lnTo>
                  <a:pt x="669922" y="5454"/>
                </a:lnTo>
                <a:lnTo>
                  <a:pt x="676492" y="3409"/>
                </a:lnTo>
                <a:lnTo>
                  <a:pt x="682608" y="2272"/>
                </a:lnTo>
                <a:lnTo>
                  <a:pt x="688498" y="1136"/>
                </a:lnTo>
                <a:lnTo>
                  <a:pt x="694162" y="454"/>
                </a:lnTo>
                <a:lnTo>
                  <a:pt x="699599" y="227"/>
                </a:lnTo>
                <a:lnTo>
                  <a:pt x="704583" y="0"/>
                </a:lnTo>
                <a:lnTo>
                  <a:pt x="709340" y="227"/>
                </a:lnTo>
                <a:lnTo>
                  <a:pt x="713871" y="454"/>
                </a:lnTo>
                <a:lnTo>
                  <a:pt x="717949" y="909"/>
                </a:lnTo>
                <a:lnTo>
                  <a:pt x="721800" y="1591"/>
                </a:lnTo>
                <a:lnTo>
                  <a:pt x="725198" y="2272"/>
                </a:lnTo>
                <a:lnTo>
                  <a:pt x="728596" y="3181"/>
                </a:lnTo>
                <a:lnTo>
                  <a:pt x="731315" y="3863"/>
                </a:lnTo>
                <a:lnTo>
                  <a:pt x="736299" y="5908"/>
                </a:lnTo>
                <a:lnTo>
                  <a:pt x="739697" y="7499"/>
                </a:lnTo>
                <a:lnTo>
                  <a:pt x="742415" y="8862"/>
                </a:lnTo>
                <a:lnTo>
                  <a:pt x="746720" y="13180"/>
                </a:lnTo>
                <a:lnTo>
                  <a:pt x="751024" y="17497"/>
                </a:lnTo>
                <a:lnTo>
                  <a:pt x="754875" y="22269"/>
                </a:lnTo>
                <a:lnTo>
                  <a:pt x="758726" y="27496"/>
                </a:lnTo>
                <a:lnTo>
                  <a:pt x="762124" y="32495"/>
                </a:lnTo>
                <a:lnTo>
                  <a:pt x="765523" y="37949"/>
                </a:lnTo>
                <a:lnTo>
                  <a:pt x="768694" y="43629"/>
                </a:lnTo>
                <a:lnTo>
                  <a:pt x="771639" y="49310"/>
                </a:lnTo>
                <a:lnTo>
                  <a:pt x="774584" y="54764"/>
                </a:lnTo>
                <a:lnTo>
                  <a:pt x="777076" y="60672"/>
                </a:lnTo>
                <a:lnTo>
                  <a:pt x="779342" y="66808"/>
                </a:lnTo>
                <a:lnTo>
                  <a:pt x="781834" y="72716"/>
                </a:lnTo>
                <a:lnTo>
                  <a:pt x="785911" y="84305"/>
                </a:lnTo>
                <a:lnTo>
                  <a:pt x="789536" y="95894"/>
                </a:lnTo>
                <a:lnTo>
                  <a:pt x="792481" y="106801"/>
                </a:lnTo>
                <a:lnTo>
                  <a:pt x="794973" y="117254"/>
                </a:lnTo>
                <a:lnTo>
                  <a:pt x="796785" y="126571"/>
                </a:lnTo>
                <a:lnTo>
                  <a:pt x="798371" y="134524"/>
                </a:lnTo>
                <a:lnTo>
                  <a:pt x="800183" y="146568"/>
                </a:lnTo>
                <a:lnTo>
                  <a:pt x="800636" y="150658"/>
                </a:lnTo>
                <a:lnTo>
                  <a:pt x="805847" y="149294"/>
                </a:lnTo>
                <a:lnTo>
                  <a:pt x="810831" y="147931"/>
                </a:lnTo>
                <a:lnTo>
                  <a:pt x="815362" y="146340"/>
                </a:lnTo>
                <a:lnTo>
                  <a:pt x="820119" y="144522"/>
                </a:lnTo>
                <a:lnTo>
                  <a:pt x="824197" y="142705"/>
                </a:lnTo>
                <a:lnTo>
                  <a:pt x="828275" y="140887"/>
                </a:lnTo>
                <a:lnTo>
                  <a:pt x="832352" y="139069"/>
                </a:lnTo>
                <a:lnTo>
                  <a:pt x="835750" y="136796"/>
                </a:lnTo>
                <a:lnTo>
                  <a:pt x="839375" y="134751"/>
                </a:lnTo>
                <a:lnTo>
                  <a:pt x="842547" y="132706"/>
                </a:lnTo>
                <a:lnTo>
                  <a:pt x="848663" y="128389"/>
                </a:lnTo>
                <a:lnTo>
                  <a:pt x="853647" y="124071"/>
                </a:lnTo>
                <a:lnTo>
                  <a:pt x="858405" y="119754"/>
                </a:lnTo>
                <a:lnTo>
                  <a:pt x="862482" y="115663"/>
                </a:lnTo>
                <a:lnTo>
                  <a:pt x="865654" y="111800"/>
                </a:lnTo>
                <a:lnTo>
                  <a:pt x="868372" y="108392"/>
                </a:lnTo>
                <a:lnTo>
                  <a:pt x="870638" y="105211"/>
                </a:lnTo>
                <a:lnTo>
                  <a:pt x="873130" y="100439"/>
                </a:lnTo>
                <a:lnTo>
                  <a:pt x="874036" y="98848"/>
                </a:lnTo>
                <a:lnTo>
                  <a:pt x="875395" y="106347"/>
                </a:lnTo>
                <a:lnTo>
                  <a:pt x="876755" y="113846"/>
                </a:lnTo>
                <a:lnTo>
                  <a:pt x="877434" y="121117"/>
                </a:lnTo>
                <a:lnTo>
                  <a:pt x="877887" y="128389"/>
                </a:lnTo>
                <a:lnTo>
                  <a:pt x="877887" y="135433"/>
                </a:lnTo>
                <a:lnTo>
                  <a:pt x="877434" y="142250"/>
                </a:lnTo>
                <a:lnTo>
                  <a:pt x="876755" y="149067"/>
                </a:lnTo>
                <a:lnTo>
                  <a:pt x="875622" y="155884"/>
                </a:lnTo>
                <a:lnTo>
                  <a:pt x="874263" y="162474"/>
                </a:lnTo>
                <a:lnTo>
                  <a:pt x="872903" y="168837"/>
                </a:lnTo>
                <a:lnTo>
                  <a:pt x="870864" y="175199"/>
                </a:lnTo>
                <a:lnTo>
                  <a:pt x="868599" y="181335"/>
                </a:lnTo>
                <a:lnTo>
                  <a:pt x="866334" y="187243"/>
                </a:lnTo>
                <a:lnTo>
                  <a:pt x="863615" y="193378"/>
                </a:lnTo>
                <a:lnTo>
                  <a:pt x="860670" y="199287"/>
                </a:lnTo>
                <a:lnTo>
                  <a:pt x="857725" y="204967"/>
                </a:lnTo>
                <a:lnTo>
                  <a:pt x="854327" y="210421"/>
                </a:lnTo>
                <a:lnTo>
                  <a:pt x="850702" y="215875"/>
                </a:lnTo>
                <a:lnTo>
                  <a:pt x="847078" y="221328"/>
                </a:lnTo>
                <a:lnTo>
                  <a:pt x="843000" y="226328"/>
                </a:lnTo>
                <a:lnTo>
                  <a:pt x="838922" y="231554"/>
                </a:lnTo>
                <a:lnTo>
                  <a:pt x="834844" y="236553"/>
                </a:lnTo>
                <a:lnTo>
                  <a:pt x="830313" y="241325"/>
                </a:lnTo>
                <a:lnTo>
                  <a:pt x="826009" y="246097"/>
                </a:lnTo>
                <a:lnTo>
                  <a:pt x="821252" y="250869"/>
                </a:lnTo>
                <a:lnTo>
                  <a:pt x="816494" y="255187"/>
                </a:lnTo>
                <a:lnTo>
                  <a:pt x="811737" y="259731"/>
                </a:lnTo>
                <a:lnTo>
                  <a:pt x="806753" y="264049"/>
                </a:lnTo>
                <a:lnTo>
                  <a:pt x="796785" y="272229"/>
                </a:lnTo>
                <a:lnTo>
                  <a:pt x="786364" y="279955"/>
                </a:lnTo>
                <a:lnTo>
                  <a:pt x="776170" y="287227"/>
                </a:lnTo>
                <a:lnTo>
                  <a:pt x="765749" y="294044"/>
                </a:lnTo>
                <a:lnTo>
                  <a:pt x="755328" y="300180"/>
                </a:lnTo>
                <a:lnTo>
                  <a:pt x="745360" y="305860"/>
                </a:lnTo>
                <a:lnTo>
                  <a:pt x="735619" y="311314"/>
                </a:lnTo>
                <a:lnTo>
                  <a:pt x="725878" y="316313"/>
                </a:lnTo>
                <a:lnTo>
                  <a:pt x="717043" y="320631"/>
                </a:lnTo>
                <a:lnTo>
                  <a:pt x="708661" y="324721"/>
                </a:lnTo>
                <a:lnTo>
                  <a:pt x="700732" y="327902"/>
                </a:lnTo>
                <a:lnTo>
                  <a:pt x="693709" y="331084"/>
                </a:lnTo>
                <a:lnTo>
                  <a:pt x="681929" y="335628"/>
                </a:lnTo>
                <a:lnTo>
                  <a:pt x="674453" y="338583"/>
                </a:lnTo>
                <a:lnTo>
                  <a:pt x="671961" y="339492"/>
                </a:lnTo>
                <a:lnTo>
                  <a:pt x="658142" y="336083"/>
                </a:lnTo>
                <a:lnTo>
                  <a:pt x="644776" y="333583"/>
                </a:lnTo>
                <a:lnTo>
                  <a:pt x="632089" y="331311"/>
                </a:lnTo>
                <a:lnTo>
                  <a:pt x="619630" y="329266"/>
                </a:lnTo>
                <a:lnTo>
                  <a:pt x="607623" y="327675"/>
                </a:lnTo>
                <a:lnTo>
                  <a:pt x="596069" y="326539"/>
                </a:lnTo>
                <a:lnTo>
                  <a:pt x="584969" y="325630"/>
                </a:lnTo>
                <a:lnTo>
                  <a:pt x="574548" y="324948"/>
                </a:lnTo>
                <a:lnTo>
                  <a:pt x="564127" y="324494"/>
                </a:lnTo>
                <a:lnTo>
                  <a:pt x="554612" y="324494"/>
                </a:lnTo>
                <a:lnTo>
                  <a:pt x="545324" y="324494"/>
                </a:lnTo>
                <a:lnTo>
                  <a:pt x="536715" y="324948"/>
                </a:lnTo>
                <a:lnTo>
                  <a:pt x="528333" y="325403"/>
                </a:lnTo>
                <a:lnTo>
                  <a:pt x="520178" y="326085"/>
                </a:lnTo>
                <a:lnTo>
                  <a:pt x="512702" y="326766"/>
                </a:lnTo>
                <a:lnTo>
                  <a:pt x="505679" y="327675"/>
                </a:lnTo>
                <a:lnTo>
                  <a:pt x="499109" y="328811"/>
                </a:lnTo>
                <a:lnTo>
                  <a:pt x="492993" y="329948"/>
                </a:lnTo>
                <a:lnTo>
                  <a:pt x="487329" y="331311"/>
                </a:lnTo>
                <a:lnTo>
                  <a:pt x="481892" y="332447"/>
                </a:lnTo>
                <a:lnTo>
                  <a:pt x="472604" y="334947"/>
                </a:lnTo>
                <a:lnTo>
                  <a:pt x="465128" y="337219"/>
                </a:lnTo>
                <a:lnTo>
                  <a:pt x="459012" y="339719"/>
                </a:lnTo>
                <a:lnTo>
                  <a:pt x="454934" y="341309"/>
                </a:lnTo>
                <a:lnTo>
                  <a:pt x="451536" y="342900"/>
                </a:lnTo>
                <a:lnTo>
                  <a:pt x="445646" y="337219"/>
                </a:lnTo>
                <a:lnTo>
                  <a:pt x="439529" y="331311"/>
                </a:lnTo>
                <a:lnTo>
                  <a:pt x="425710" y="318813"/>
                </a:lnTo>
                <a:lnTo>
                  <a:pt x="410532" y="305860"/>
                </a:lnTo>
                <a:lnTo>
                  <a:pt x="394221" y="292454"/>
                </a:lnTo>
                <a:lnTo>
                  <a:pt x="377456" y="279274"/>
                </a:lnTo>
                <a:lnTo>
                  <a:pt x="360239" y="266094"/>
                </a:lnTo>
                <a:lnTo>
                  <a:pt x="343249" y="252914"/>
                </a:lnTo>
                <a:lnTo>
                  <a:pt x="326258" y="240416"/>
                </a:lnTo>
                <a:lnTo>
                  <a:pt x="295222" y="217693"/>
                </a:lnTo>
                <a:lnTo>
                  <a:pt x="269849" y="199514"/>
                </a:lnTo>
                <a:lnTo>
                  <a:pt x="252405" y="187243"/>
                </a:lnTo>
                <a:lnTo>
                  <a:pt x="246062" y="183153"/>
                </a:lnTo>
                <a:lnTo>
                  <a:pt x="251726" y="176563"/>
                </a:lnTo>
                <a:lnTo>
                  <a:pt x="257616" y="170655"/>
                </a:lnTo>
                <a:lnTo>
                  <a:pt x="263506" y="165428"/>
                </a:lnTo>
                <a:lnTo>
                  <a:pt x="269623" y="160656"/>
                </a:lnTo>
                <a:lnTo>
                  <a:pt x="275286" y="156339"/>
                </a:lnTo>
                <a:lnTo>
                  <a:pt x="281629" y="152476"/>
                </a:lnTo>
                <a:lnTo>
                  <a:pt x="287746" y="149294"/>
                </a:lnTo>
                <a:lnTo>
                  <a:pt x="293863" y="146568"/>
                </a:lnTo>
                <a:lnTo>
                  <a:pt x="299979" y="144068"/>
                </a:lnTo>
                <a:lnTo>
                  <a:pt x="306096" y="142023"/>
                </a:lnTo>
                <a:lnTo>
                  <a:pt x="311986" y="140432"/>
                </a:lnTo>
                <a:lnTo>
                  <a:pt x="317876" y="139069"/>
                </a:lnTo>
                <a:lnTo>
                  <a:pt x="323766" y="138160"/>
                </a:lnTo>
                <a:lnTo>
                  <a:pt x="329656" y="137024"/>
                </a:lnTo>
                <a:lnTo>
                  <a:pt x="335093" y="136569"/>
                </a:lnTo>
                <a:lnTo>
                  <a:pt x="340530" y="136342"/>
                </a:lnTo>
                <a:lnTo>
                  <a:pt x="345967" y="136342"/>
                </a:lnTo>
                <a:lnTo>
                  <a:pt x="350951" y="136569"/>
                </a:lnTo>
                <a:lnTo>
                  <a:pt x="355708" y="136796"/>
                </a:lnTo>
                <a:lnTo>
                  <a:pt x="360466" y="137251"/>
                </a:lnTo>
                <a:lnTo>
                  <a:pt x="368848" y="138614"/>
                </a:lnTo>
                <a:lnTo>
                  <a:pt x="376097" y="139978"/>
                </a:lnTo>
                <a:lnTo>
                  <a:pt x="382214" y="141341"/>
                </a:lnTo>
                <a:lnTo>
                  <a:pt x="386518" y="142705"/>
                </a:lnTo>
                <a:lnTo>
                  <a:pt x="390369" y="143841"/>
                </a:lnTo>
                <a:lnTo>
                  <a:pt x="389916" y="135888"/>
                </a:lnTo>
                <a:lnTo>
                  <a:pt x="389916" y="127934"/>
                </a:lnTo>
                <a:lnTo>
                  <a:pt x="390369" y="120208"/>
                </a:lnTo>
                <a:lnTo>
                  <a:pt x="391049" y="112482"/>
                </a:lnTo>
                <a:lnTo>
                  <a:pt x="392182" y="105211"/>
                </a:lnTo>
                <a:lnTo>
                  <a:pt x="393767" y="98166"/>
                </a:lnTo>
                <a:lnTo>
                  <a:pt x="395580" y="91122"/>
                </a:lnTo>
                <a:lnTo>
                  <a:pt x="397619" y="84305"/>
                </a:lnTo>
                <a:lnTo>
                  <a:pt x="399884" y="77942"/>
                </a:lnTo>
                <a:lnTo>
                  <a:pt x="402376" y="71807"/>
                </a:lnTo>
                <a:lnTo>
                  <a:pt x="405095" y="65671"/>
                </a:lnTo>
                <a:lnTo>
                  <a:pt x="407813" y="59763"/>
                </a:lnTo>
                <a:lnTo>
                  <a:pt x="410985" y="54310"/>
                </a:lnTo>
                <a:lnTo>
                  <a:pt x="413930" y="49083"/>
                </a:lnTo>
                <a:lnTo>
                  <a:pt x="417101" y="43857"/>
                </a:lnTo>
                <a:lnTo>
                  <a:pt x="420273" y="39085"/>
                </a:lnTo>
                <a:lnTo>
                  <a:pt x="423444" y="34540"/>
                </a:lnTo>
                <a:lnTo>
                  <a:pt x="426616" y="30222"/>
                </a:lnTo>
                <a:lnTo>
                  <a:pt x="432959" y="22496"/>
                </a:lnTo>
                <a:lnTo>
                  <a:pt x="438849" y="15679"/>
                </a:lnTo>
                <a:lnTo>
                  <a:pt x="444060" y="10226"/>
                </a:lnTo>
                <a:lnTo>
                  <a:pt x="448817" y="5908"/>
                </a:lnTo>
                <a:lnTo>
                  <a:pt x="452215" y="2500"/>
                </a:lnTo>
                <a:lnTo>
                  <a:pt x="45538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KSO_Shape"/>
          <p:cNvSpPr/>
          <p:nvPr/>
        </p:nvSpPr>
        <p:spPr>
          <a:xfrm>
            <a:off x="5789520" y="2384280"/>
            <a:ext cx="612720" cy="613080"/>
          </a:xfrm>
          <a:custGeom>
            <a:avLst/>
            <a:gdLst>
              <a:gd name="textAreaLeft" fmla="*/ 0 w 612720"/>
              <a:gd name="textAreaRight" fmla="*/ 613080 w 612720"/>
              <a:gd name="textAreaTop" fmla="*/ 0 h 613080"/>
              <a:gd name="textAreaBottom" fmla="*/ 613440 h 613080"/>
            </a:gdLst>
            <a:ahLst/>
            <a:rect l="textAreaLeft" t="textAreaTop" r="textAreaRight" b="textAreaBottom"/>
            <a:pathLst>
              <a:path w="2298700" h="2298700">
                <a:moveTo>
                  <a:pt x="494084" y="1279525"/>
                </a:moveTo>
                <a:lnTo>
                  <a:pt x="844179" y="1279525"/>
                </a:lnTo>
                <a:lnTo>
                  <a:pt x="849841" y="1279752"/>
                </a:lnTo>
                <a:lnTo>
                  <a:pt x="855502" y="1280660"/>
                </a:lnTo>
                <a:lnTo>
                  <a:pt x="860710" y="1282023"/>
                </a:lnTo>
                <a:lnTo>
                  <a:pt x="865692" y="1283839"/>
                </a:lnTo>
                <a:lnTo>
                  <a:pt x="870674" y="1286109"/>
                </a:lnTo>
                <a:lnTo>
                  <a:pt x="875203" y="1289061"/>
                </a:lnTo>
                <a:lnTo>
                  <a:pt x="879732" y="1292467"/>
                </a:lnTo>
                <a:lnTo>
                  <a:pt x="883582" y="1295872"/>
                </a:lnTo>
                <a:lnTo>
                  <a:pt x="887205" y="1299959"/>
                </a:lnTo>
                <a:lnTo>
                  <a:pt x="890602" y="1304273"/>
                </a:lnTo>
                <a:lnTo>
                  <a:pt x="893320" y="1308814"/>
                </a:lnTo>
                <a:lnTo>
                  <a:pt x="895584" y="1313809"/>
                </a:lnTo>
                <a:lnTo>
                  <a:pt x="897396" y="1319031"/>
                </a:lnTo>
                <a:lnTo>
                  <a:pt x="898981" y="1324480"/>
                </a:lnTo>
                <a:lnTo>
                  <a:pt x="899660" y="1329702"/>
                </a:lnTo>
                <a:lnTo>
                  <a:pt x="900113" y="1335378"/>
                </a:lnTo>
                <a:lnTo>
                  <a:pt x="900113" y="1818531"/>
                </a:lnTo>
                <a:lnTo>
                  <a:pt x="899660" y="1824434"/>
                </a:lnTo>
                <a:lnTo>
                  <a:pt x="898981" y="1829883"/>
                </a:lnTo>
                <a:lnTo>
                  <a:pt x="897396" y="1835332"/>
                </a:lnTo>
                <a:lnTo>
                  <a:pt x="895584" y="1840554"/>
                </a:lnTo>
                <a:lnTo>
                  <a:pt x="893320" y="1845322"/>
                </a:lnTo>
                <a:lnTo>
                  <a:pt x="890602" y="1850090"/>
                </a:lnTo>
                <a:lnTo>
                  <a:pt x="887205" y="1854404"/>
                </a:lnTo>
                <a:lnTo>
                  <a:pt x="883582" y="1858264"/>
                </a:lnTo>
                <a:lnTo>
                  <a:pt x="879732" y="1861897"/>
                </a:lnTo>
                <a:lnTo>
                  <a:pt x="875203" y="1865302"/>
                </a:lnTo>
                <a:lnTo>
                  <a:pt x="870674" y="1867800"/>
                </a:lnTo>
                <a:lnTo>
                  <a:pt x="865692" y="1870524"/>
                </a:lnTo>
                <a:lnTo>
                  <a:pt x="860710" y="1872114"/>
                </a:lnTo>
                <a:lnTo>
                  <a:pt x="855502" y="1873476"/>
                </a:lnTo>
                <a:lnTo>
                  <a:pt x="849841" y="1874611"/>
                </a:lnTo>
                <a:lnTo>
                  <a:pt x="844179" y="1874838"/>
                </a:lnTo>
                <a:lnTo>
                  <a:pt x="494084" y="1874838"/>
                </a:lnTo>
                <a:lnTo>
                  <a:pt x="488423" y="1874611"/>
                </a:lnTo>
                <a:lnTo>
                  <a:pt x="482761" y="1873476"/>
                </a:lnTo>
                <a:lnTo>
                  <a:pt x="477326" y="1872114"/>
                </a:lnTo>
                <a:lnTo>
                  <a:pt x="472571" y="1870524"/>
                </a:lnTo>
                <a:lnTo>
                  <a:pt x="467589" y="1867800"/>
                </a:lnTo>
                <a:lnTo>
                  <a:pt x="463060" y="1865302"/>
                </a:lnTo>
                <a:lnTo>
                  <a:pt x="458531" y="1861897"/>
                </a:lnTo>
                <a:lnTo>
                  <a:pt x="454455" y="1858264"/>
                </a:lnTo>
                <a:lnTo>
                  <a:pt x="450831" y="1854404"/>
                </a:lnTo>
                <a:lnTo>
                  <a:pt x="447661" y="1850090"/>
                </a:lnTo>
                <a:lnTo>
                  <a:pt x="444944" y="1845322"/>
                </a:lnTo>
                <a:lnTo>
                  <a:pt x="442679" y="1840554"/>
                </a:lnTo>
                <a:lnTo>
                  <a:pt x="440868" y="1835332"/>
                </a:lnTo>
                <a:lnTo>
                  <a:pt x="439282" y="1829883"/>
                </a:lnTo>
                <a:lnTo>
                  <a:pt x="438603" y="1824434"/>
                </a:lnTo>
                <a:lnTo>
                  <a:pt x="438150" y="1818531"/>
                </a:lnTo>
                <a:lnTo>
                  <a:pt x="438150" y="1335378"/>
                </a:lnTo>
                <a:lnTo>
                  <a:pt x="438603" y="1329702"/>
                </a:lnTo>
                <a:lnTo>
                  <a:pt x="439282" y="1324480"/>
                </a:lnTo>
                <a:lnTo>
                  <a:pt x="440868" y="1319031"/>
                </a:lnTo>
                <a:lnTo>
                  <a:pt x="442679" y="1313809"/>
                </a:lnTo>
                <a:lnTo>
                  <a:pt x="444944" y="1308814"/>
                </a:lnTo>
                <a:lnTo>
                  <a:pt x="447661" y="1304273"/>
                </a:lnTo>
                <a:lnTo>
                  <a:pt x="450831" y="1299959"/>
                </a:lnTo>
                <a:lnTo>
                  <a:pt x="454455" y="1295872"/>
                </a:lnTo>
                <a:lnTo>
                  <a:pt x="458531" y="1292467"/>
                </a:lnTo>
                <a:lnTo>
                  <a:pt x="463060" y="1289061"/>
                </a:lnTo>
                <a:lnTo>
                  <a:pt x="467589" y="1286109"/>
                </a:lnTo>
                <a:lnTo>
                  <a:pt x="472571" y="1283839"/>
                </a:lnTo>
                <a:lnTo>
                  <a:pt x="477326" y="1282023"/>
                </a:lnTo>
                <a:lnTo>
                  <a:pt x="482761" y="1280660"/>
                </a:lnTo>
                <a:lnTo>
                  <a:pt x="488423" y="1279752"/>
                </a:lnTo>
                <a:lnTo>
                  <a:pt x="494084" y="1279525"/>
                </a:lnTo>
                <a:close/>
                <a:moveTo>
                  <a:pt x="1168971" y="903287"/>
                </a:moveTo>
                <a:lnTo>
                  <a:pt x="1518668" y="903287"/>
                </a:lnTo>
                <a:lnTo>
                  <a:pt x="1524553" y="903514"/>
                </a:lnTo>
                <a:lnTo>
                  <a:pt x="1529985" y="904195"/>
                </a:lnTo>
                <a:lnTo>
                  <a:pt x="1535418" y="905557"/>
                </a:lnTo>
                <a:lnTo>
                  <a:pt x="1540624" y="907600"/>
                </a:lnTo>
                <a:lnTo>
                  <a:pt x="1545377" y="909870"/>
                </a:lnTo>
                <a:lnTo>
                  <a:pt x="1550130" y="912821"/>
                </a:lnTo>
                <a:lnTo>
                  <a:pt x="1554430" y="915999"/>
                </a:lnTo>
                <a:lnTo>
                  <a:pt x="1558278" y="919404"/>
                </a:lnTo>
                <a:lnTo>
                  <a:pt x="1561900" y="923717"/>
                </a:lnTo>
                <a:lnTo>
                  <a:pt x="1565295" y="927803"/>
                </a:lnTo>
                <a:lnTo>
                  <a:pt x="1567784" y="932343"/>
                </a:lnTo>
                <a:lnTo>
                  <a:pt x="1570274" y="937337"/>
                </a:lnTo>
                <a:lnTo>
                  <a:pt x="1572085" y="942558"/>
                </a:lnTo>
                <a:lnTo>
                  <a:pt x="1573443" y="948006"/>
                </a:lnTo>
                <a:lnTo>
                  <a:pt x="1574575" y="953681"/>
                </a:lnTo>
                <a:lnTo>
                  <a:pt x="1574801" y="959355"/>
                </a:lnTo>
                <a:lnTo>
                  <a:pt x="1574801" y="1818542"/>
                </a:lnTo>
                <a:lnTo>
                  <a:pt x="1574575" y="1824444"/>
                </a:lnTo>
                <a:lnTo>
                  <a:pt x="1573443" y="1829892"/>
                </a:lnTo>
                <a:lnTo>
                  <a:pt x="1572085" y="1835340"/>
                </a:lnTo>
                <a:lnTo>
                  <a:pt x="1570274" y="1840560"/>
                </a:lnTo>
                <a:lnTo>
                  <a:pt x="1567784" y="1845327"/>
                </a:lnTo>
                <a:lnTo>
                  <a:pt x="1565295" y="1850094"/>
                </a:lnTo>
                <a:lnTo>
                  <a:pt x="1561900" y="1854407"/>
                </a:lnTo>
                <a:lnTo>
                  <a:pt x="1558278" y="1858266"/>
                </a:lnTo>
                <a:lnTo>
                  <a:pt x="1554430" y="1861898"/>
                </a:lnTo>
                <a:lnTo>
                  <a:pt x="1550130" y="1865303"/>
                </a:lnTo>
                <a:lnTo>
                  <a:pt x="1545377" y="1867800"/>
                </a:lnTo>
                <a:lnTo>
                  <a:pt x="1540624" y="1870524"/>
                </a:lnTo>
                <a:lnTo>
                  <a:pt x="1535418" y="1872113"/>
                </a:lnTo>
                <a:lnTo>
                  <a:pt x="1529985" y="1873475"/>
                </a:lnTo>
                <a:lnTo>
                  <a:pt x="1524553" y="1874610"/>
                </a:lnTo>
                <a:lnTo>
                  <a:pt x="1518668" y="1874837"/>
                </a:lnTo>
                <a:lnTo>
                  <a:pt x="1168971" y="1874837"/>
                </a:lnTo>
                <a:lnTo>
                  <a:pt x="1163312" y="1874610"/>
                </a:lnTo>
                <a:lnTo>
                  <a:pt x="1157654" y="1873475"/>
                </a:lnTo>
                <a:lnTo>
                  <a:pt x="1152221" y="1872113"/>
                </a:lnTo>
                <a:lnTo>
                  <a:pt x="1147242" y="1870524"/>
                </a:lnTo>
                <a:lnTo>
                  <a:pt x="1142262" y="1867800"/>
                </a:lnTo>
                <a:lnTo>
                  <a:pt x="1137736" y="1865303"/>
                </a:lnTo>
                <a:lnTo>
                  <a:pt x="1133435" y="1861898"/>
                </a:lnTo>
                <a:lnTo>
                  <a:pt x="1129361" y="1858266"/>
                </a:lnTo>
                <a:lnTo>
                  <a:pt x="1125740" y="1854407"/>
                </a:lnTo>
                <a:lnTo>
                  <a:pt x="1122797" y="1850094"/>
                </a:lnTo>
                <a:lnTo>
                  <a:pt x="1119855" y="1845327"/>
                </a:lnTo>
                <a:lnTo>
                  <a:pt x="1117365" y="1840560"/>
                </a:lnTo>
                <a:lnTo>
                  <a:pt x="1115554" y="1835340"/>
                </a:lnTo>
                <a:lnTo>
                  <a:pt x="1114196" y="1829892"/>
                </a:lnTo>
                <a:lnTo>
                  <a:pt x="1113291" y="1824444"/>
                </a:lnTo>
                <a:lnTo>
                  <a:pt x="1112838" y="1818542"/>
                </a:lnTo>
                <a:lnTo>
                  <a:pt x="1112838" y="959355"/>
                </a:lnTo>
                <a:lnTo>
                  <a:pt x="1113291" y="953681"/>
                </a:lnTo>
                <a:lnTo>
                  <a:pt x="1114196" y="948006"/>
                </a:lnTo>
                <a:lnTo>
                  <a:pt x="1115554" y="942558"/>
                </a:lnTo>
                <a:lnTo>
                  <a:pt x="1117365" y="937337"/>
                </a:lnTo>
                <a:lnTo>
                  <a:pt x="1119855" y="932343"/>
                </a:lnTo>
                <a:lnTo>
                  <a:pt x="1122797" y="927803"/>
                </a:lnTo>
                <a:lnTo>
                  <a:pt x="1125740" y="923717"/>
                </a:lnTo>
                <a:lnTo>
                  <a:pt x="1129361" y="919404"/>
                </a:lnTo>
                <a:lnTo>
                  <a:pt x="1133435" y="915999"/>
                </a:lnTo>
                <a:lnTo>
                  <a:pt x="1137736" y="912821"/>
                </a:lnTo>
                <a:lnTo>
                  <a:pt x="1142262" y="909870"/>
                </a:lnTo>
                <a:lnTo>
                  <a:pt x="1147242" y="907600"/>
                </a:lnTo>
                <a:lnTo>
                  <a:pt x="1152221" y="905557"/>
                </a:lnTo>
                <a:lnTo>
                  <a:pt x="1157654" y="904195"/>
                </a:lnTo>
                <a:lnTo>
                  <a:pt x="1163312" y="903514"/>
                </a:lnTo>
                <a:lnTo>
                  <a:pt x="1168971" y="903287"/>
                </a:lnTo>
                <a:close/>
                <a:moveTo>
                  <a:pt x="1841899" y="450850"/>
                </a:moveTo>
                <a:lnTo>
                  <a:pt x="2191940" y="450850"/>
                </a:lnTo>
                <a:lnTo>
                  <a:pt x="2197604" y="451077"/>
                </a:lnTo>
                <a:lnTo>
                  <a:pt x="2203268" y="451985"/>
                </a:lnTo>
                <a:lnTo>
                  <a:pt x="2208706" y="453573"/>
                </a:lnTo>
                <a:lnTo>
                  <a:pt x="2213917" y="455388"/>
                </a:lnTo>
                <a:lnTo>
                  <a:pt x="2218674" y="457657"/>
                </a:lnTo>
                <a:lnTo>
                  <a:pt x="2223206" y="460380"/>
                </a:lnTo>
                <a:lnTo>
                  <a:pt x="2227510" y="463556"/>
                </a:lnTo>
                <a:lnTo>
                  <a:pt x="2231589" y="467186"/>
                </a:lnTo>
                <a:lnTo>
                  <a:pt x="2235214" y="471271"/>
                </a:lnTo>
                <a:lnTo>
                  <a:pt x="2238385" y="475582"/>
                </a:lnTo>
                <a:lnTo>
                  <a:pt x="2241104" y="480119"/>
                </a:lnTo>
                <a:lnTo>
                  <a:pt x="2243596" y="484884"/>
                </a:lnTo>
                <a:lnTo>
                  <a:pt x="2245636" y="490103"/>
                </a:lnTo>
                <a:lnTo>
                  <a:pt x="2246768" y="495548"/>
                </a:lnTo>
                <a:lnTo>
                  <a:pt x="2247675" y="501221"/>
                </a:lnTo>
                <a:lnTo>
                  <a:pt x="2247901" y="506893"/>
                </a:lnTo>
                <a:lnTo>
                  <a:pt x="2247901" y="1818568"/>
                </a:lnTo>
                <a:lnTo>
                  <a:pt x="2247675" y="1824468"/>
                </a:lnTo>
                <a:lnTo>
                  <a:pt x="2246768" y="1829913"/>
                </a:lnTo>
                <a:lnTo>
                  <a:pt x="2245636" y="1835358"/>
                </a:lnTo>
                <a:lnTo>
                  <a:pt x="2243596" y="1840577"/>
                </a:lnTo>
                <a:lnTo>
                  <a:pt x="2241104" y="1845342"/>
                </a:lnTo>
                <a:lnTo>
                  <a:pt x="2238385" y="1850107"/>
                </a:lnTo>
                <a:lnTo>
                  <a:pt x="2235214" y="1854418"/>
                </a:lnTo>
                <a:lnTo>
                  <a:pt x="2231589" y="1858275"/>
                </a:lnTo>
                <a:lnTo>
                  <a:pt x="2227510" y="1861905"/>
                </a:lnTo>
                <a:lnTo>
                  <a:pt x="2223206" y="1865309"/>
                </a:lnTo>
                <a:lnTo>
                  <a:pt x="2218674" y="1867804"/>
                </a:lnTo>
                <a:lnTo>
                  <a:pt x="2213917" y="1870527"/>
                </a:lnTo>
                <a:lnTo>
                  <a:pt x="2208706" y="1872115"/>
                </a:lnTo>
                <a:lnTo>
                  <a:pt x="2203268" y="1873477"/>
                </a:lnTo>
                <a:lnTo>
                  <a:pt x="2197604" y="1874611"/>
                </a:lnTo>
                <a:lnTo>
                  <a:pt x="2191940" y="1874838"/>
                </a:lnTo>
                <a:lnTo>
                  <a:pt x="1841899" y="1874838"/>
                </a:lnTo>
                <a:lnTo>
                  <a:pt x="1836235" y="1874611"/>
                </a:lnTo>
                <a:lnTo>
                  <a:pt x="1830798" y="1873477"/>
                </a:lnTo>
                <a:lnTo>
                  <a:pt x="1825360" y="1872115"/>
                </a:lnTo>
                <a:lnTo>
                  <a:pt x="1820149" y="1870527"/>
                </a:lnTo>
                <a:lnTo>
                  <a:pt x="1815165" y="1867804"/>
                </a:lnTo>
                <a:lnTo>
                  <a:pt x="1810633" y="1865309"/>
                </a:lnTo>
                <a:lnTo>
                  <a:pt x="1806329" y="1861905"/>
                </a:lnTo>
                <a:lnTo>
                  <a:pt x="1802477" y="1858275"/>
                </a:lnTo>
                <a:lnTo>
                  <a:pt x="1798852" y="1854418"/>
                </a:lnTo>
                <a:lnTo>
                  <a:pt x="1795454" y="1850107"/>
                </a:lnTo>
                <a:lnTo>
                  <a:pt x="1792508" y="1845342"/>
                </a:lnTo>
                <a:lnTo>
                  <a:pt x="1790243" y="1840577"/>
                </a:lnTo>
                <a:lnTo>
                  <a:pt x="1788430" y="1835358"/>
                </a:lnTo>
                <a:lnTo>
                  <a:pt x="1786844" y="1829913"/>
                </a:lnTo>
                <a:lnTo>
                  <a:pt x="1786165" y="1824468"/>
                </a:lnTo>
                <a:lnTo>
                  <a:pt x="1785938" y="1818568"/>
                </a:lnTo>
                <a:lnTo>
                  <a:pt x="1785938" y="506893"/>
                </a:lnTo>
                <a:lnTo>
                  <a:pt x="1786165" y="501221"/>
                </a:lnTo>
                <a:lnTo>
                  <a:pt x="1786844" y="495548"/>
                </a:lnTo>
                <a:lnTo>
                  <a:pt x="1788430" y="490103"/>
                </a:lnTo>
                <a:lnTo>
                  <a:pt x="1790243" y="484884"/>
                </a:lnTo>
                <a:lnTo>
                  <a:pt x="1792508" y="480119"/>
                </a:lnTo>
                <a:lnTo>
                  <a:pt x="1795454" y="475582"/>
                </a:lnTo>
                <a:lnTo>
                  <a:pt x="1798852" y="471271"/>
                </a:lnTo>
                <a:lnTo>
                  <a:pt x="1802477" y="467186"/>
                </a:lnTo>
                <a:lnTo>
                  <a:pt x="1806329" y="463556"/>
                </a:lnTo>
                <a:lnTo>
                  <a:pt x="1810633" y="460380"/>
                </a:lnTo>
                <a:lnTo>
                  <a:pt x="1815165" y="457657"/>
                </a:lnTo>
                <a:lnTo>
                  <a:pt x="1820149" y="455388"/>
                </a:lnTo>
                <a:lnTo>
                  <a:pt x="1825360" y="453573"/>
                </a:lnTo>
                <a:lnTo>
                  <a:pt x="1830798" y="451985"/>
                </a:lnTo>
                <a:lnTo>
                  <a:pt x="1836235" y="451077"/>
                </a:lnTo>
                <a:lnTo>
                  <a:pt x="1841899" y="450850"/>
                </a:lnTo>
                <a:close/>
                <a:moveTo>
                  <a:pt x="1458752" y="38100"/>
                </a:moveTo>
                <a:lnTo>
                  <a:pt x="1461698" y="38100"/>
                </a:lnTo>
                <a:lnTo>
                  <a:pt x="1464870" y="38100"/>
                </a:lnTo>
                <a:lnTo>
                  <a:pt x="1468043" y="38327"/>
                </a:lnTo>
                <a:lnTo>
                  <a:pt x="1470989" y="38554"/>
                </a:lnTo>
                <a:lnTo>
                  <a:pt x="1473935" y="39235"/>
                </a:lnTo>
                <a:lnTo>
                  <a:pt x="1477107" y="40143"/>
                </a:lnTo>
                <a:lnTo>
                  <a:pt x="1479827" y="40825"/>
                </a:lnTo>
                <a:lnTo>
                  <a:pt x="1482773" y="42187"/>
                </a:lnTo>
                <a:lnTo>
                  <a:pt x="1485718" y="43322"/>
                </a:lnTo>
                <a:lnTo>
                  <a:pt x="1488438" y="44684"/>
                </a:lnTo>
                <a:lnTo>
                  <a:pt x="1491157" y="46500"/>
                </a:lnTo>
                <a:lnTo>
                  <a:pt x="1493876" y="48317"/>
                </a:lnTo>
                <a:lnTo>
                  <a:pt x="1496143" y="50133"/>
                </a:lnTo>
                <a:lnTo>
                  <a:pt x="1498409" y="52176"/>
                </a:lnTo>
                <a:lnTo>
                  <a:pt x="1500675" y="54447"/>
                </a:lnTo>
                <a:lnTo>
                  <a:pt x="1502714" y="56490"/>
                </a:lnTo>
                <a:lnTo>
                  <a:pt x="1504754" y="59214"/>
                </a:lnTo>
                <a:lnTo>
                  <a:pt x="1506567" y="61485"/>
                </a:lnTo>
                <a:lnTo>
                  <a:pt x="1508153" y="64436"/>
                </a:lnTo>
                <a:lnTo>
                  <a:pt x="1509739" y="66934"/>
                </a:lnTo>
                <a:lnTo>
                  <a:pt x="1511099" y="69658"/>
                </a:lnTo>
                <a:lnTo>
                  <a:pt x="1512005" y="72609"/>
                </a:lnTo>
                <a:lnTo>
                  <a:pt x="1513138" y="75334"/>
                </a:lnTo>
                <a:lnTo>
                  <a:pt x="1514045" y="78512"/>
                </a:lnTo>
                <a:lnTo>
                  <a:pt x="1514725" y="81691"/>
                </a:lnTo>
                <a:lnTo>
                  <a:pt x="1515178" y="84642"/>
                </a:lnTo>
                <a:lnTo>
                  <a:pt x="1515405" y="87821"/>
                </a:lnTo>
                <a:lnTo>
                  <a:pt x="1543051" y="488083"/>
                </a:lnTo>
                <a:lnTo>
                  <a:pt x="1543051" y="493305"/>
                </a:lnTo>
                <a:lnTo>
                  <a:pt x="1542371" y="498754"/>
                </a:lnTo>
                <a:lnTo>
                  <a:pt x="1541691" y="503976"/>
                </a:lnTo>
                <a:lnTo>
                  <a:pt x="1540105" y="509198"/>
                </a:lnTo>
                <a:lnTo>
                  <a:pt x="1538066" y="513965"/>
                </a:lnTo>
                <a:lnTo>
                  <a:pt x="1535800" y="518506"/>
                </a:lnTo>
                <a:lnTo>
                  <a:pt x="1532854" y="522820"/>
                </a:lnTo>
                <a:lnTo>
                  <a:pt x="1529908" y="526906"/>
                </a:lnTo>
                <a:lnTo>
                  <a:pt x="1526282" y="530539"/>
                </a:lnTo>
                <a:lnTo>
                  <a:pt x="1522429" y="533944"/>
                </a:lnTo>
                <a:lnTo>
                  <a:pt x="1518350" y="537123"/>
                </a:lnTo>
                <a:lnTo>
                  <a:pt x="1513592" y="539620"/>
                </a:lnTo>
                <a:lnTo>
                  <a:pt x="1509059" y="541663"/>
                </a:lnTo>
                <a:lnTo>
                  <a:pt x="1503847" y="543253"/>
                </a:lnTo>
                <a:lnTo>
                  <a:pt x="1498635" y="544615"/>
                </a:lnTo>
                <a:lnTo>
                  <a:pt x="1493197" y="545069"/>
                </a:lnTo>
                <a:lnTo>
                  <a:pt x="1488211" y="545296"/>
                </a:lnTo>
                <a:lnTo>
                  <a:pt x="1482999" y="544842"/>
                </a:lnTo>
                <a:lnTo>
                  <a:pt x="1478014" y="543934"/>
                </a:lnTo>
                <a:lnTo>
                  <a:pt x="1473481" y="542799"/>
                </a:lnTo>
                <a:lnTo>
                  <a:pt x="1469629" y="541437"/>
                </a:lnTo>
                <a:lnTo>
                  <a:pt x="1466003" y="539847"/>
                </a:lnTo>
                <a:lnTo>
                  <a:pt x="1462604" y="537804"/>
                </a:lnTo>
                <a:lnTo>
                  <a:pt x="1459205" y="535761"/>
                </a:lnTo>
                <a:lnTo>
                  <a:pt x="1456032" y="533490"/>
                </a:lnTo>
                <a:lnTo>
                  <a:pt x="1453086" y="530766"/>
                </a:lnTo>
                <a:lnTo>
                  <a:pt x="1450367" y="528041"/>
                </a:lnTo>
                <a:lnTo>
                  <a:pt x="1447874" y="525090"/>
                </a:lnTo>
                <a:lnTo>
                  <a:pt x="1445382" y="522139"/>
                </a:lnTo>
                <a:lnTo>
                  <a:pt x="1443342" y="518733"/>
                </a:lnTo>
                <a:lnTo>
                  <a:pt x="1441529" y="515100"/>
                </a:lnTo>
                <a:lnTo>
                  <a:pt x="1439943" y="511468"/>
                </a:lnTo>
                <a:lnTo>
                  <a:pt x="1438583" y="507608"/>
                </a:lnTo>
                <a:lnTo>
                  <a:pt x="1437677" y="503749"/>
                </a:lnTo>
                <a:lnTo>
                  <a:pt x="1436770" y="499662"/>
                </a:lnTo>
                <a:lnTo>
                  <a:pt x="1436317" y="495348"/>
                </a:lnTo>
                <a:lnTo>
                  <a:pt x="1419775" y="256735"/>
                </a:lnTo>
                <a:lnTo>
                  <a:pt x="1404592" y="280119"/>
                </a:lnTo>
                <a:lnTo>
                  <a:pt x="1396434" y="292606"/>
                </a:lnTo>
                <a:lnTo>
                  <a:pt x="1387596" y="304866"/>
                </a:lnTo>
                <a:lnTo>
                  <a:pt x="1378531" y="317580"/>
                </a:lnTo>
                <a:lnTo>
                  <a:pt x="1369014" y="330748"/>
                </a:lnTo>
                <a:lnTo>
                  <a:pt x="1359270" y="343916"/>
                </a:lnTo>
                <a:lnTo>
                  <a:pt x="1348845" y="357311"/>
                </a:lnTo>
                <a:lnTo>
                  <a:pt x="1338421" y="370933"/>
                </a:lnTo>
                <a:lnTo>
                  <a:pt x="1327317" y="384782"/>
                </a:lnTo>
                <a:lnTo>
                  <a:pt x="1315760" y="398632"/>
                </a:lnTo>
                <a:lnTo>
                  <a:pt x="1303750" y="412935"/>
                </a:lnTo>
                <a:lnTo>
                  <a:pt x="1291513" y="426784"/>
                </a:lnTo>
                <a:lnTo>
                  <a:pt x="1278823" y="441314"/>
                </a:lnTo>
                <a:lnTo>
                  <a:pt x="1265679" y="455390"/>
                </a:lnTo>
                <a:lnTo>
                  <a:pt x="1252082" y="469920"/>
                </a:lnTo>
                <a:lnTo>
                  <a:pt x="1233500" y="488991"/>
                </a:lnTo>
                <a:lnTo>
                  <a:pt x="1214465" y="507608"/>
                </a:lnTo>
                <a:lnTo>
                  <a:pt x="1195430" y="525998"/>
                </a:lnTo>
                <a:lnTo>
                  <a:pt x="1175715" y="543707"/>
                </a:lnTo>
                <a:lnTo>
                  <a:pt x="1156226" y="560961"/>
                </a:lnTo>
                <a:lnTo>
                  <a:pt x="1136058" y="577762"/>
                </a:lnTo>
                <a:lnTo>
                  <a:pt x="1115663" y="594336"/>
                </a:lnTo>
                <a:lnTo>
                  <a:pt x="1095041" y="610455"/>
                </a:lnTo>
                <a:lnTo>
                  <a:pt x="1074193" y="625893"/>
                </a:lnTo>
                <a:lnTo>
                  <a:pt x="1053118" y="641105"/>
                </a:lnTo>
                <a:lnTo>
                  <a:pt x="1031590" y="655408"/>
                </a:lnTo>
                <a:lnTo>
                  <a:pt x="1010062" y="669711"/>
                </a:lnTo>
                <a:lnTo>
                  <a:pt x="988081" y="683333"/>
                </a:lnTo>
                <a:lnTo>
                  <a:pt x="966099" y="696501"/>
                </a:lnTo>
                <a:lnTo>
                  <a:pt x="943891" y="709442"/>
                </a:lnTo>
                <a:lnTo>
                  <a:pt x="921004" y="721702"/>
                </a:lnTo>
                <a:lnTo>
                  <a:pt x="906954" y="729194"/>
                </a:lnTo>
                <a:lnTo>
                  <a:pt x="892451" y="736232"/>
                </a:lnTo>
                <a:lnTo>
                  <a:pt x="878174" y="743497"/>
                </a:lnTo>
                <a:lnTo>
                  <a:pt x="863671" y="750309"/>
                </a:lnTo>
                <a:lnTo>
                  <a:pt x="848941" y="756893"/>
                </a:lnTo>
                <a:lnTo>
                  <a:pt x="834212" y="763477"/>
                </a:lnTo>
                <a:lnTo>
                  <a:pt x="819482" y="769834"/>
                </a:lnTo>
                <a:lnTo>
                  <a:pt x="804526" y="775736"/>
                </a:lnTo>
                <a:lnTo>
                  <a:pt x="789569" y="781866"/>
                </a:lnTo>
                <a:lnTo>
                  <a:pt x="774613" y="787542"/>
                </a:lnTo>
                <a:lnTo>
                  <a:pt x="759430" y="793218"/>
                </a:lnTo>
                <a:lnTo>
                  <a:pt x="744247" y="798440"/>
                </a:lnTo>
                <a:lnTo>
                  <a:pt x="729064" y="803435"/>
                </a:lnTo>
                <a:lnTo>
                  <a:pt x="713655" y="808657"/>
                </a:lnTo>
                <a:lnTo>
                  <a:pt x="698472" y="813197"/>
                </a:lnTo>
                <a:lnTo>
                  <a:pt x="682609" y="817965"/>
                </a:lnTo>
                <a:lnTo>
                  <a:pt x="667199" y="822279"/>
                </a:lnTo>
                <a:lnTo>
                  <a:pt x="651563" y="826365"/>
                </a:lnTo>
                <a:lnTo>
                  <a:pt x="635701" y="830452"/>
                </a:lnTo>
                <a:lnTo>
                  <a:pt x="620064" y="834084"/>
                </a:lnTo>
                <a:lnTo>
                  <a:pt x="604202" y="837717"/>
                </a:lnTo>
                <a:lnTo>
                  <a:pt x="588112" y="841350"/>
                </a:lnTo>
                <a:lnTo>
                  <a:pt x="572249" y="844528"/>
                </a:lnTo>
                <a:lnTo>
                  <a:pt x="555933" y="847479"/>
                </a:lnTo>
                <a:lnTo>
                  <a:pt x="539618" y="850431"/>
                </a:lnTo>
                <a:lnTo>
                  <a:pt x="523528" y="852928"/>
                </a:lnTo>
                <a:lnTo>
                  <a:pt x="507212" y="855653"/>
                </a:lnTo>
                <a:lnTo>
                  <a:pt x="490896" y="857923"/>
                </a:lnTo>
                <a:lnTo>
                  <a:pt x="474353" y="859966"/>
                </a:lnTo>
                <a:lnTo>
                  <a:pt x="458037" y="861783"/>
                </a:lnTo>
                <a:lnTo>
                  <a:pt x="441268" y="863372"/>
                </a:lnTo>
                <a:lnTo>
                  <a:pt x="424726" y="864961"/>
                </a:lnTo>
                <a:lnTo>
                  <a:pt x="419287" y="865188"/>
                </a:lnTo>
                <a:lnTo>
                  <a:pt x="414075" y="864734"/>
                </a:lnTo>
                <a:lnTo>
                  <a:pt x="409089" y="863826"/>
                </a:lnTo>
                <a:lnTo>
                  <a:pt x="404104" y="862464"/>
                </a:lnTo>
                <a:lnTo>
                  <a:pt x="400252" y="861329"/>
                </a:lnTo>
                <a:lnTo>
                  <a:pt x="396626" y="859739"/>
                </a:lnTo>
                <a:lnTo>
                  <a:pt x="393227" y="857923"/>
                </a:lnTo>
                <a:lnTo>
                  <a:pt x="389827" y="855880"/>
                </a:lnTo>
                <a:lnTo>
                  <a:pt x="386882" y="853609"/>
                </a:lnTo>
                <a:lnTo>
                  <a:pt x="383936" y="850885"/>
                </a:lnTo>
                <a:lnTo>
                  <a:pt x="381216" y="848161"/>
                </a:lnTo>
                <a:lnTo>
                  <a:pt x="378497" y="845209"/>
                </a:lnTo>
                <a:lnTo>
                  <a:pt x="376231" y="842258"/>
                </a:lnTo>
                <a:lnTo>
                  <a:pt x="374191" y="838852"/>
                </a:lnTo>
                <a:lnTo>
                  <a:pt x="372378" y="835447"/>
                </a:lnTo>
                <a:lnTo>
                  <a:pt x="370566" y="831814"/>
                </a:lnTo>
                <a:lnTo>
                  <a:pt x="369206" y="827955"/>
                </a:lnTo>
                <a:lnTo>
                  <a:pt x="368299" y="824095"/>
                </a:lnTo>
                <a:lnTo>
                  <a:pt x="367620" y="820008"/>
                </a:lnTo>
                <a:lnTo>
                  <a:pt x="366940" y="815922"/>
                </a:lnTo>
                <a:lnTo>
                  <a:pt x="366713" y="810473"/>
                </a:lnTo>
                <a:lnTo>
                  <a:pt x="367167" y="805024"/>
                </a:lnTo>
                <a:lnTo>
                  <a:pt x="368073" y="799802"/>
                </a:lnTo>
                <a:lnTo>
                  <a:pt x="369206" y="795034"/>
                </a:lnTo>
                <a:lnTo>
                  <a:pt x="371472" y="790040"/>
                </a:lnTo>
                <a:lnTo>
                  <a:pt x="373738" y="785272"/>
                </a:lnTo>
                <a:lnTo>
                  <a:pt x="376231" y="780958"/>
                </a:lnTo>
                <a:lnTo>
                  <a:pt x="379403" y="776872"/>
                </a:lnTo>
                <a:lnTo>
                  <a:pt x="383029" y="773239"/>
                </a:lnTo>
                <a:lnTo>
                  <a:pt x="386882" y="769607"/>
                </a:lnTo>
                <a:lnTo>
                  <a:pt x="390961" y="766882"/>
                </a:lnTo>
                <a:lnTo>
                  <a:pt x="395266" y="763931"/>
                </a:lnTo>
                <a:lnTo>
                  <a:pt x="400252" y="761887"/>
                </a:lnTo>
                <a:lnTo>
                  <a:pt x="405237" y="760071"/>
                </a:lnTo>
                <a:lnTo>
                  <a:pt x="410222" y="758709"/>
                </a:lnTo>
                <a:lnTo>
                  <a:pt x="415661" y="758255"/>
                </a:lnTo>
                <a:lnTo>
                  <a:pt x="431071" y="756666"/>
                </a:lnTo>
                <a:lnTo>
                  <a:pt x="446027" y="755076"/>
                </a:lnTo>
                <a:lnTo>
                  <a:pt x="461210" y="753714"/>
                </a:lnTo>
                <a:lnTo>
                  <a:pt x="476166" y="751898"/>
                </a:lnTo>
                <a:lnTo>
                  <a:pt x="491123" y="749854"/>
                </a:lnTo>
                <a:lnTo>
                  <a:pt x="506079" y="747357"/>
                </a:lnTo>
                <a:lnTo>
                  <a:pt x="521035" y="745087"/>
                </a:lnTo>
                <a:lnTo>
                  <a:pt x="535765" y="742589"/>
                </a:lnTo>
                <a:lnTo>
                  <a:pt x="550495" y="739638"/>
                </a:lnTo>
                <a:lnTo>
                  <a:pt x="565224" y="736913"/>
                </a:lnTo>
                <a:lnTo>
                  <a:pt x="579728" y="733735"/>
                </a:lnTo>
                <a:lnTo>
                  <a:pt x="594231" y="730329"/>
                </a:lnTo>
                <a:lnTo>
                  <a:pt x="608734" y="726697"/>
                </a:lnTo>
                <a:lnTo>
                  <a:pt x="623010" y="723064"/>
                </a:lnTo>
                <a:lnTo>
                  <a:pt x="637287" y="719432"/>
                </a:lnTo>
                <a:lnTo>
                  <a:pt x="651563" y="715345"/>
                </a:lnTo>
                <a:lnTo>
                  <a:pt x="665613" y="711259"/>
                </a:lnTo>
                <a:lnTo>
                  <a:pt x="679890" y="706945"/>
                </a:lnTo>
                <a:lnTo>
                  <a:pt x="693713" y="702404"/>
                </a:lnTo>
                <a:lnTo>
                  <a:pt x="707763" y="697864"/>
                </a:lnTo>
                <a:lnTo>
                  <a:pt x="721586" y="692869"/>
                </a:lnTo>
                <a:lnTo>
                  <a:pt x="735183" y="687874"/>
                </a:lnTo>
                <a:lnTo>
                  <a:pt x="749233" y="682652"/>
                </a:lnTo>
                <a:lnTo>
                  <a:pt x="762603" y="677430"/>
                </a:lnTo>
                <a:lnTo>
                  <a:pt x="776199" y="671755"/>
                </a:lnTo>
                <a:lnTo>
                  <a:pt x="789569" y="666079"/>
                </a:lnTo>
                <a:lnTo>
                  <a:pt x="803166" y="660176"/>
                </a:lnTo>
                <a:lnTo>
                  <a:pt x="816536" y="654273"/>
                </a:lnTo>
                <a:lnTo>
                  <a:pt x="829679" y="648143"/>
                </a:lnTo>
                <a:lnTo>
                  <a:pt x="842823" y="641559"/>
                </a:lnTo>
                <a:lnTo>
                  <a:pt x="855966" y="634975"/>
                </a:lnTo>
                <a:lnTo>
                  <a:pt x="868883" y="628164"/>
                </a:lnTo>
                <a:lnTo>
                  <a:pt x="889505" y="617039"/>
                </a:lnTo>
                <a:lnTo>
                  <a:pt x="910126" y="605460"/>
                </a:lnTo>
                <a:lnTo>
                  <a:pt x="930068" y="593655"/>
                </a:lnTo>
                <a:lnTo>
                  <a:pt x="950237" y="580941"/>
                </a:lnTo>
                <a:lnTo>
                  <a:pt x="970178" y="568000"/>
                </a:lnTo>
                <a:lnTo>
                  <a:pt x="989667" y="554832"/>
                </a:lnTo>
                <a:lnTo>
                  <a:pt x="1008929" y="540982"/>
                </a:lnTo>
                <a:lnTo>
                  <a:pt x="1027964" y="526906"/>
                </a:lnTo>
                <a:lnTo>
                  <a:pt x="1046773" y="512149"/>
                </a:lnTo>
                <a:lnTo>
                  <a:pt x="1065355" y="497165"/>
                </a:lnTo>
                <a:lnTo>
                  <a:pt x="1083937" y="481726"/>
                </a:lnTo>
                <a:lnTo>
                  <a:pt x="1102066" y="466061"/>
                </a:lnTo>
                <a:lnTo>
                  <a:pt x="1119742" y="449714"/>
                </a:lnTo>
                <a:lnTo>
                  <a:pt x="1137644" y="433141"/>
                </a:lnTo>
                <a:lnTo>
                  <a:pt x="1154866" y="416113"/>
                </a:lnTo>
                <a:lnTo>
                  <a:pt x="1171862" y="398859"/>
                </a:lnTo>
                <a:lnTo>
                  <a:pt x="1184779" y="385236"/>
                </a:lnTo>
                <a:lnTo>
                  <a:pt x="1197469" y="371841"/>
                </a:lnTo>
                <a:lnTo>
                  <a:pt x="1209480" y="358219"/>
                </a:lnTo>
                <a:lnTo>
                  <a:pt x="1221037" y="344597"/>
                </a:lnTo>
                <a:lnTo>
                  <a:pt x="1232367" y="331429"/>
                </a:lnTo>
                <a:lnTo>
                  <a:pt x="1243245" y="318261"/>
                </a:lnTo>
                <a:lnTo>
                  <a:pt x="1253895" y="305093"/>
                </a:lnTo>
                <a:lnTo>
                  <a:pt x="1263866" y="292606"/>
                </a:lnTo>
                <a:lnTo>
                  <a:pt x="1273384" y="279665"/>
                </a:lnTo>
                <a:lnTo>
                  <a:pt x="1282675" y="267178"/>
                </a:lnTo>
                <a:lnTo>
                  <a:pt x="1291739" y="255145"/>
                </a:lnTo>
                <a:lnTo>
                  <a:pt x="1300124" y="242886"/>
                </a:lnTo>
                <a:lnTo>
                  <a:pt x="1308282" y="231307"/>
                </a:lnTo>
                <a:lnTo>
                  <a:pt x="1316213" y="219728"/>
                </a:lnTo>
                <a:lnTo>
                  <a:pt x="1330263" y="197706"/>
                </a:lnTo>
                <a:lnTo>
                  <a:pt x="1107958" y="281027"/>
                </a:lnTo>
                <a:lnTo>
                  <a:pt x="1102746" y="282390"/>
                </a:lnTo>
                <a:lnTo>
                  <a:pt x="1097534" y="283525"/>
                </a:lnTo>
                <a:lnTo>
                  <a:pt x="1092322" y="283979"/>
                </a:lnTo>
                <a:lnTo>
                  <a:pt x="1087110" y="283979"/>
                </a:lnTo>
                <a:lnTo>
                  <a:pt x="1081898" y="283752"/>
                </a:lnTo>
                <a:lnTo>
                  <a:pt x="1076686" y="282844"/>
                </a:lnTo>
                <a:lnTo>
                  <a:pt x="1071927" y="281255"/>
                </a:lnTo>
                <a:lnTo>
                  <a:pt x="1067168" y="279438"/>
                </a:lnTo>
                <a:lnTo>
                  <a:pt x="1062636" y="277168"/>
                </a:lnTo>
                <a:lnTo>
                  <a:pt x="1058103" y="274216"/>
                </a:lnTo>
                <a:lnTo>
                  <a:pt x="1054251" y="270811"/>
                </a:lnTo>
                <a:lnTo>
                  <a:pt x="1050399" y="267178"/>
                </a:lnTo>
                <a:lnTo>
                  <a:pt x="1047226" y="263319"/>
                </a:lnTo>
                <a:lnTo>
                  <a:pt x="1044054" y="259005"/>
                </a:lnTo>
                <a:lnTo>
                  <a:pt x="1041561" y="254237"/>
                </a:lnTo>
                <a:lnTo>
                  <a:pt x="1039295" y="249470"/>
                </a:lnTo>
                <a:lnTo>
                  <a:pt x="1037482" y="244021"/>
                </a:lnTo>
                <a:lnTo>
                  <a:pt x="1036575" y="238799"/>
                </a:lnTo>
                <a:lnTo>
                  <a:pt x="1036122" y="233350"/>
                </a:lnTo>
                <a:lnTo>
                  <a:pt x="1036122" y="228355"/>
                </a:lnTo>
                <a:lnTo>
                  <a:pt x="1036349" y="223134"/>
                </a:lnTo>
                <a:lnTo>
                  <a:pt x="1037255" y="218139"/>
                </a:lnTo>
                <a:lnTo>
                  <a:pt x="1038841" y="213144"/>
                </a:lnTo>
                <a:lnTo>
                  <a:pt x="1040654" y="208376"/>
                </a:lnTo>
                <a:lnTo>
                  <a:pt x="1042920" y="203836"/>
                </a:lnTo>
                <a:lnTo>
                  <a:pt x="1045866" y="199295"/>
                </a:lnTo>
                <a:lnTo>
                  <a:pt x="1049266" y="195435"/>
                </a:lnTo>
                <a:lnTo>
                  <a:pt x="1052891" y="191576"/>
                </a:lnTo>
                <a:lnTo>
                  <a:pt x="1056744" y="188170"/>
                </a:lnTo>
                <a:lnTo>
                  <a:pt x="1061049" y="185219"/>
                </a:lnTo>
                <a:lnTo>
                  <a:pt x="1065582" y="182494"/>
                </a:lnTo>
                <a:lnTo>
                  <a:pt x="1070567" y="180451"/>
                </a:lnTo>
                <a:lnTo>
                  <a:pt x="1443569" y="41279"/>
                </a:lnTo>
                <a:lnTo>
                  <a:pt x="1446288" y="40370"/>
                </a:lnTo>
                <a:lnTo>
                  <a:pt x="1449461" y="39462"/>
                </a:lnTo>
                <a:lnTo>
                  <a:pt x="1452633" y="38781"/>
                </a:lnTo>
                <a:lnTo>
                  <a:pt x="1455579" y="38327"/>
                </a:lnTo>
                <a:lnTo>
                  <a:pt x="1458752" y="38100"/>
                </a:lnTo>
                <a:close/>
                <a:moveTo>
                  <a:pt x="102528" y="0"/>
                </a:moveTo>
                <a:lnTo>
                  <a:pt x="107971" y="454"/>
                </a:lnTo>
                <a:lnTo>
                  <a:pt x="113189" y="681"/>
                </a:lnTo>
                <a:lnTo>
                  <a:pt x="118406" y="1361"/>
                </a:lnTo>
                <a:lnTo>
                  <a:pt x="123169" y="2268"/>
                </a:lnTo>
                <a:lnTo>
                  <a:pt x="128386" y="3403"/>
                </a:lnTo>
                <a:lnTo>
                  <a:pt x="133376" y="4764"/>
                </a:lnTo>
                <a:lnTo>
                  <a:pt x="137913" y="6578"/>
                </a:lnTo>
                <a:lnTo>
                  <a:pt x="142450" y="8393"/>
                </a:lnTo>
                <a:lnTo>
                  <a:pt x="147213" y="10434"/>
                </a:lnTo>
                <a:lnTo>
                  <a:pt x="151523" y="12476"/>
                </a:lnTo>
                <a:lnTo>
                  <a:pt x="156059" y="14971"/>
                </a:lnTo>
                <a:lnTo>
                  <a:pt x="160143" y="17693"/>
                </a:lnTo>
                <a:lnTo>
                  <a:pt x="164225" y="20642"/>
                </a:lnTo>
                <a:lnTo>
                  <a:pt x="168082" y="23590"/>
                </a:lnTo>
                <a:lnTo>
                  <a:pt x="171711" y="26993"/>
                </a:lnTo>
                <a:lnTo>
                  <a:pt x="175340" y="30169"/>
                </a:lnTo>
                <a:lnTo>
                  <a:pt x="178743" y="33798"/>
                </a:lnTo>
                <a:lnTo>
                  <a:pt x="181918" y="37427"/>
                </a:lnTo>
                <a:lnTo>
                  <a:pt x="185094" y="41510"/>
                </a:lnTo>
                <a:lnTo>
                  <a:pt x="188043" y="45593"/>
                </a:lnTo>
                <a:lnTo>
                  <a:pt x="190538" y="49676"/>
                </a:lnTo>
                <a:lnTo>
                  <a:pt x="193033" y="53986"/>
                </a:lnTo>
                <a:lnTo>
                  <a:pt x="195074" y="58296"/>
                </a:lnTo>
                <a:lnTo>
                  <a:pt x="197343" y="63059"/>
                </a:lnTo>
                <a:lnTo>
                  <a:pt x="199157" y="67596"/>
                </a:lnTo>
                <a:lnTo>
                  <a:pt x="200745" y="72359"/>
                </a:lnTo>
                <a:lnTo>
                  <a:pt x="202106" y="77122"/>
                </a:lnTo>
                <a:lnTo>
                  <a:pt x="203467" y="82340"/>
                </a:lnTo>
                <a:lnTo>
                  <a:pt x="204148" y="87330"/>
                </a:lnTo>
                <a:lnTo>
                  <a:pt x="205055" y="92320"/>
                </a:lnTo>
                <a:lnTo>
                  <a:pt x="205282" y="97537"/>
                </a:lnTo>
                <a:lnTo>
                  <a:pt x="205509" y="102981"/>
                </a:lnTo>
                <a:lnTo>
                  <a:pt x="205509" y="2092965"/>
                </a:lnTo>
                <a:lnTo>
                  <a:pt x="2195719" y="2092965"/>
                </a:lnTo>
                <a:lnTo>
                  <a:pt x="2201163" y="2093192"/>
                </a:lnTo>
                <a:lnTo>
                  <a:pt x="2206380" y="2093419"/>
                </a:lnTo>
                <a:lnTo>
                  <a:pt x="2211597" y="2094326"/>
                </a:lnTo>
                <a:lnTo>
                  <a:pt x="2216587" y="2095233"/>
                </a:lnTo>
                <a:lnTo>
                  <a:pt x="2221578" y="2096367"/>
                </a:lnTo>
                <a:lnTo>
                  <a:pt x="2226568" y="2097501"/>
                </a:lnTo>
                <a:lnTo>
                  <a:pt x="2231105" y="2099316"/>
                </a:lnTo>
                <a:lnTo>
                  <a:pt x="2235868" y="2101131"/>
                </a:lnTo>
                <a:lnTo>
                  <a:pt x="2240405" y="2103172"/>
                </a:lnTo>
                <a:lnTo>
                  <a:pt x="2244714" y="2105667"/>
                </a:lnTo>
                <a:lnTo>
                  <a:pt x="2249251" y="2107936"/>
                </a:lnTo>
                <a:lnTo>
                  <a:pt x="2253334" y="2110658"/>
                </a:lnTo>
                <a:lnTo>
                  <a:pt x="2257417" y="2113606"/>
                </a:lnTo>
                <a:lnTo>
                  <a:pt x="2261273" y="2116328"/>
                </a:lnTo>
                <a:lnTo>
                  <a:pt x="2264902" y="2119731"/>
                </a:lnTo>
                <a:lnTo>
                  <a:pt x="2268532" y="2123133"/>
                </a:lnTo>
                <a:lnTo>
                  <a:pt x="2271934" y="2126763"/>
                </a:lnTo>
                <a:lnTo>
                  <a:pt x="2275337" y="2130619"/>
                </a:lnTo>
                <a:lnTo>
                  <a:pt x="2278285" y="2134475"/>
                </a:lnTo>
                <a:lnTo>
                  <a:pt x="2281234" y="2138331"/>
                </a:lnTo>
                <a:lnTo>
                  <a:pt x="2283729" y="2142414"/>
                </a:lnTo>
                <a:lnTo>
                  <a:pt x="2286224" y="2146724"/>
                </a:lnTo>
                <a:lnTo>
                  <a:pt x="2288720" y="2151260"/>
                </a:lnTo>
                <a:lnTo>
                  <a:pt x="2290761" y="2155797"/>
                </a:lnTo>
                <a:lnTo>
                  <a:pt x="2292576" y="2160560"/>
                </a:lnTo>
                <a:lnTo>
                  <a:pt x="2294164" y="2165324"/>
                </a:lnTo>
                <a:lnTo>
                  <a:pt x="2295298" y="2170087"/>
                </a:lnTo>
                <a:lnTo>
                  <a:pt x="2296659" y="2175304"/>
                </a:lnTo>
                <a:lnTo>
                  <a:pt x="2297339" y="2180068"/>
                </a:lnTo>
                <a:lnTo>
                  <a:pt x="2298246" y="2185285"/>
                </a:lnTo>
                <a:lnTo>
                  <a:pt x="2298473" y="2190729"/>
                </a:lnTo>
                <a:lnTo>
                  <a:pt x="2298700" y="2195946"/>
                </a:lnTo>
                <a:lnTo>
                  <a:pt x="2298473" y="2201163"/>
                </a:lnTo>
                <a:lnTo>
                  <a:pt x="2298246" y="2206380"/>
                </a:lnTo>
                <a:lnTo>
                  <a:pt x="2297339" y="2211597"/>
                </a:lnTo>
                <a:lnTo>
                  <a:pt x="2296659" y="2216361"/>
                </a:lnTo>
                <a:lnTo>
                  <a:pt x="2295298" y="2221578"/>
                </a:lnTo>
                <a:lnTo>
                  <a:pt x="2294164" y="2226568"/>
                </a:lnTo>
                <a:lnTo>
                  <a:pt x="2292576" y="2231105"/>
                </a:lnTo>
                <a:lnTo>
                  <a:pt x="2290761" y="2235868"/>
                </a:lnTo>
                <a:lnTo>
                  <a:pt x="2288720" y="2240405"/>
                </a:lnTo>
                <a:lnTo>
                  <a:pt x="2286224" y="2244941"/>
                </a:lnTo>
                <a:lnTo>
                  <a:pt x="2283729" y="2249251"/>
                </a:lnTo>
                <a:lnTo>
                  <a:pt x="2281234" y="2253334"/>
                </a:lnTo>
                <a:lnTo>
                  <a:pt x="2278285" y="2257417"/>
                </a:lnTo>
                <a:lnTo>
                  <a:pt x="2275337" y="2261273"/>
                </a:lnTo>
                <a:lnTo>
                  <a:pt x="2271934" y="2264902"/>
                </a:lnTo>
                <a:lnTo>
                  <a:pt x="2268532" y="2268532"/>
                </a:lnTo>
                <a:lnTo>
                  <a:pt x="2264902" y="2271934"/>
                </a:lnTo>
                <a:lnTo>
                  <a:pt x="2261273" y="2275337"/>
                </a:lnTo>
                <a:lnTo>
                  <a:pt x="2257417" y="2278059"/>
                </a:lnTo>
                <a:lnTo>
                  <a:pt x="2253334" y="2281234"/>
                </a:lnTo>
                <a:lnTo>
                  <a:pt x="2249251" y="2283729"/>
                </a:lnTo>
                <a:lnTo>
                  <a:pt x="2244714" y="2286451"/>
                </a:lnTo>
                <a:lnTo>
                  <a:pt x="2240405" y="2288493"/>
                </a:lnTo>
                <a:lnTo>
                  <a:pt x="2235868" y="2290534"/>
                </a:lnTo>
                <a:lnTo>
                  <a:pt x="2231105" y="2292349"/>
                </a:lnTo>
                <a:lnTo>
                  <a:pt x="2226568" y="2294164"/>
                </a:lnTo>
                <a:lnTo>
                  <a:pt x="2221578" y="2295298"/>
                </a:lnTo>
                <a:lnTo>
                  <a:pt x="2216587" y="2296659"/>
                </a:lnTo>
                <a:lnTo>
                  <a:pt x="2211597" y="2297566"/>
                </a:lnTo>
                <a:lnTo>
                  <a:pt x="2206380" y="2298246"/>
                </a:lnTo>
                <a:lnTo>
                  <a:pt x="2201163" y="2298473"/>
                </a:lnTo>
                <a:lnTo>
                  <a:pt x="2195719" y="2298700"/>
                </a:lnTo>
                <a:lnTo>
                  <a:pt x="102528" y="2298700"/>
                </a:lnTo>
                <a:lnTo>
                  <a:pt x="97310" y="2298473"/>
                </a:lnTo>
                <a:lnTo>
                  <a:pt x="92093" y="2298246"/>
                </a:lnTo>
                <a:lnTo>
                  <a:pt x="86876" y="2297566"/>
                </a:lnTo>
                <a:lnTo>
                  <a:pt x="81886" y="2296659"/>
                </a:lnTo>
                <a:lnTo>
                  <a:pt x="77122" y="2295298"/>
                </a:lnTo>
                <a:lnTo>
                  <a:pt x="72132" y="2294164"/>
                </a:lnTo>
                <a:lnTo>
                  <a:pt x="67142" y="2292349"/>
                </a:lnTo>
                <a:lnTo>
                  <a:pt x="62605" y="2290534"/>
                </a:lnTo>
                <a:lnTo>
                  <a:pt x="57842" y="2288493"/>
                </a:lnTo>
                <a:lnTo>
                  <a:pt x="53532" y="2286451"/>
                </a:lnTo>
                <a:lnTo>
                  <a:pt x="49449" y="2283729"/>
                </a:lnTo>
                <a:lnTo>
                  <a:pt x="45139" y="2281234"/>
                </a:lnTo>
                <a:lnTo>
                  <a:pt x="41283" y="2278059"/>
                </a:lnTo>
                <a:lnTo>
                  <a:pt x="37200" y="2275337"/>
                </a:lnTo>
                <a:lnTo>
                  <a:pt x="33344" y="2271934"/>
                </a:lnTo>
                <a:lnTo>
                  <a:pt x="29715" y="2268532"/>
                </a:lnTo>
                <a:lnTo>
                  <a:pt x="26539" y="2264902"/>
                </a:lnTo>
                <a:lnTo>
                  <a:pt x="23364" y="2261273"/>
                </a:lnTo>
                <a:lnTo>
                  <a:pt x="20188" y="2257417"/>
                </a:lnTo>
                <a:lnTo>
                  <a:pt x="17466" y="2253334"/>
                </a:lnTo>
                <a:lnTo>
                  <a:pt x="14517" y="2249251"/>
                </a:lnTo>
                <a:lnTo>
                  <a:pt x="12249" y="2244941"/>
                </a:lnTo>
                <a:lnTo>
                  <a:pt x="9981" y="2240405"/>
                </a:lnTo>
                <a:lnTo>
                  <a:pt x="7939" y="2235868"/>
                </a:lnTo>
                <a:lnTo>
                  <a:pt x="6125" y="2231105"/>
                </a:lnTo>
                <a:lnTo>
                  <a:pt x="4537" y="2226568"/>
                </a:lnTo>
                <a:lnTo>
                  <a:pt x="2949" y="2221578"/>
                </a:lnTo>
                <a:lnTo>
                  <a:pt x="2042" y="2216361"/>
                </a:lnTo>
                <a:lnTo>
                  <a:pt x="907" y="2211597"/>
                </a:lnTo>
                <a:lnTo>
                  <a:pt x="454" y="2206380"/>
                </a:lnTo>
                <a:lnTo>
                  <a:pt x="0" y="2201163"/>
                </a:lnTo>
                <a:lnTo>
                  <a:pt x="0" y="2195946"/>
                </a:lnTo>
                <a:lnTo>
                  <a:pt x="0" y="102981"/>
                </a:lnTo>
                <a:lnTo>
                  <a:pt x="0" y="97537"/>
                </a:lnTo>
                <a:lnTo>
                  <a:pt x="454" y="92320"/>
                </a:lnTo>
                <a:lnTo>
                  <a:pt x="907" y="87330"/>
                </a:lnTo>
                <a:lnTo>
                  <a:pt x="2042" y="82340"/>
                </a:lnTo>
                <a:lnTo>
                  <a:pt x="2949" y="77122"/>
                </a:lnTo>
                <a:lnTo>
                  <a:pt x="4537" y="72359"/>
                </a:lnTo>
                <a:lnTo>
                  <a:pt x="6125" y="67596"/>
                </a:lnTo>
                <a:lnTo>
                  <a:pt x="7939" y="63059"/>
                </a:lnTo>
                <a:lnTo>
                  <a:pt x="9981" y="58296"/>
                </a:lnTo>
                <a:lnTo>
                  <a:pt x="12249" y="53986"/>
                </a:lnTo>
                <a:lnTo>
                  <a:pt x="14517" y="49676"/>
                </a:lnTo>
                <a:lnTo>
                  <a:pt x="17466" y="45593"/>
                </a:lnTo>
                <a:lnTo>
                  <a:pt x="20188" y="41510"/>
                </a:lnTo>
                <a:lnTo>
                  <a:pt x="23364" y="37427"/>
                </a:lnTo>
                <a:lnTo>
                  <a:pt x="26539" y="33798"/>
                </a:lnTo>
                <a:lnTo>
                  <a:pt x="29715" y="30169"/>
                </a:lnTo>
                <a:lnTo>
                  <a:pt x="33344" y="26993"/>
                </a:lnTo>
                <a:lnTo>
                  <a:pt x="37200" y="23590"/>
                </a:lnTo>
                <a:lnTo>
                  <a:pt x="41283" y="20642"/>
                </a:lnTo>
                <a:lnTo>
                  <a:pt x="45139" y="17693"/>
                </a:lnTo>
                <a:lnTo>
                  <a:pt x="49449" y="14971"/>
                </a:lnTo>
                <a:lnTo>
                  <a:pt x="53532" y="12476"/>
                </a:lnTo>
                <a:lnTo>
                  <a:pt x="57842" y="10434"/>
                </a:lnTo>
                <a:lnTo>
                  <a:pt x="62605" y="8393"/>
                </a:lnTo>
                <a:lnTo>
                  <a:pt x="67142" y="6578"/>
                </a:lnTo>
                <a:lnTo>
                  <a:pt x="72132" y="4764"/>
                </a:lnTo>
                <a:lnTo>
                  <a:pt x="77122" y="3403"/>
                </a:lnTo>
                <a:lnTo>
                  <a:pt x="81886" y="2268"/>
                </a:lnTo>
                <a:lnTo>
                  <a:pt x="86876" y="1361"/>
                </a:lnTo>
                <a:lnTo>
                  <a:pt x="92093" y="681"/>
                </a:lnTo>
                <a:lnTo>
                  <a:pt x="97310" y="454"/>
                </a:lnTo>
                <a:lnTo>
                  <a:pt x="1025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KSO_Shape"/>
          <p:cNvSpPr/>
          <p:nvPr/>
        </p:nvSpPr>
        <p:spPr>
          <a:xfrm>
            <a:off x="7729560" y="2478240"/>
            <a:ext cx="422280" cy="426960"/>
          </a:xfrm>
          <a:custGeom>
            <a:avLst/>
            <a:gdLst>
              <a:gd name="textAreaLeft" fmla="*/ 0 w 422280"/>
              <a:gd name="textAreaRight" fmla="*/ 422640 w 42228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5438" h="5494">
                <a:moveTo>
                  <a:pt x="2825" y="454"/>
                </a:moveTo>
                <a:lnTo>
                  <a:pt x="2825" y="0"/>
                </a:lnTo>
                <a:lnTo>
                  <a:pt x="2514" y="0"/>
                </a:lnTo>
                <a:lnTo>
                  <a:pt x="2514" y="454"/>
                </a:lnTo>
                <a:lnTo>
                  <a:pt x="0" y="454"/>
                </a:lnTo>
                <a:lnTo>
                  <a:pt x="0" y="1259"/>
                </a:lnTo>
                <a:lnTo>
                  <a:pt x="276" y="1259"/>
                </a:lnTo>
                <a:lnTo>
                  <a:pt x="276" y="4295"/>
                </a:lnTo>
                <a:lnTo>
                  <a:pt x="2197" y="4295"/>
                </a:lnTo>
                <a:lnTo>
                  <a:pt x="1028" y="5252"/>
                </a:lnTo>
                <a:lnTo>
                  <a:pt x="1225" y="5494"/>
                </a:lnTo>
                <a:lnTo>
                  <a:pt x="2689" y="4295"/>
                </a:lnTo>
                <a:lnTo>
                  <a:pt x="2699" y="4295"/>
                </a:lnTo>
                <a:lnTo>
                  <a:pt x="4163" y="5494"/>
                </a:lnTo>
                <a:lnTo>
                  <a:pt x="4360" y="5252"/>
                </a:lnTo>
                <a:lnTo>
                  <a:pt x="3192" y="4295"/>
                </a:lnTo>
                <a:lnTo>
                  <a:pt x="5105" y="4295"/>
                </a:lnTo>
                <a:lnTo>
                  <a:pt x="5105" y="1259"/>
                </a:lnTo>
                <a:lnTo>
                  <a:pt x="5438" y="1259"/>
                </a:lnTo>
                <a:lnTo>
                  <a:pt x="5438" y="454"/>
                </a:lnTo>
                <a:lnTo>
                  <a:pt x="2825" y="454"/>
                </a:lnTo>
                <a:close/>
                <a:moveTo>
                  <a:pt x="4793" y="3983"/>
                </a:moveTo>
                <a:lnTo>
                  <a:pt x="587" y="3983"/>
                </a:lnTo>
                <a:lnTo>
                  <a:pt x="587" y="1259"/>
                </a:lnTo>
                <a:lnTo>
                  <a:pt x="4793" y="1259"/>
                </a:lnTo>
                <a:lnTo>
                  <a:pt x="4793" y="3983"/>
                </a:lnTo>
                <a:close/>
                <a:moveTo>
                  <a:pt x="1611" y="3281"/>
                </a:moveTo>
                <a:lnTo>
                  <a:pt x="1611" y="2471"/>
                </a:lnTo>
                <a:lnTo>
                  <a:pt x="2422" y="2471"/>
                </a:lnTo>
                <a:lnTo>
                  <a:pt x="2420" y="2429"/>
                </a:lnTo>
                <a:lnTo>
                  <a:pt x="2417" y="2388"/>
                </a:lnTo>
                <a:lnTo>
                  <a:pt x="2412" y="2347"/>
                </a:lnTo>
                <a:lnTo>
                  <a:pt x="2405" y="2308"/>
                </a:lnTo>
                <a:lnTo>
                  <a:pt x="2396" y="2268"/>
                </a:lnTo>
                <a:lnTo>
                  <a:pt x="2385" y="2230"/>
                </a:lnTo>
                <a:lnTo>
                  <a:pt x="2373" y="2192"/>
                </a:lnTo>
                <a:lnTo>
                  <a:pt x="2358" y="2156"/>
                </a:lnTo>
                <a:lnTo>
                  <a:pt x="2341" y="2120"/>
                </a:lnTo>
                <a:lnTo>
                  <a:pt x="2324" y="2085"/>
                </a:lnTo>
                <a:lnTo>
                  <a:pt x="2304" y="2051"/>
                </a:lnTo>
                <a:lnTo>
                  <a:pt x="2284" y="2018"/>
                </a:lnTo>
                <a:lnTo>
                  <a:pt x="2260" y="1986"/>
                </a:lnTo>
                <a:lnTo>
                  <a:pt x="2237" y="1956"/>
                </a:lnTo>
                <a:lnTo>
                  <a:pt x="2210" y="1926"/>
                </a:lnTo>
                <a:lnTo>
                  <a:pt x="2184" y="1898"/>
                </a:lnTo>
                <a:lnTo>
                  <a:pt x="2156" y="1871"/>
                </a:lnTo>
                <a:lnTo>
                  <a:pt x="2126" y="1846"/>
                </a:lnTo>
                <a:lnTo>
                  <a:pt x="2096" y="1822"/>
                </a:lnTo>
                <a:lnTo>
                  <a:pt x="2064" y="1799"/>
                </a:lnTo>
                <a:lnTo>
                  <a:pt x="2031" y="1778"/>
                </a:lnTo>
                <a:lnTo>
                  <a:pt x="1997" y="1759"/>
                </a:lnTo>
                <a:lnTo>
                  <a:pt x="1962" y="1741"/>
                </a:lnTo>
                <a:lnTo>
                  <a:pt x="1926" y="1724"/>
                </a:lnTo>
                <a:lnTo>
                  <a:pt x="1890" y="1710"/>
                </a:lnTo>
                <a:lnTo>
                  <a:pt x="1852" y="1697"/>
                </a:lnTo>
                <a:lnTo>
                  <a:pt x="1814" y="1686"/>
                </a:lnTo>
                <a:lnTo>
                  <a:pt x="1774" y="1677"/>
                </a:lnTo>
                <a:lnTo>
                  <a:pt x="1735" y="1670"/>
                </a:lnTo>
                <a:lnTo>
                  <a:pt x="1694" y="1665"/>
                </a:lnTo>
                <a:lnTo>
                  <a:pt x="1653" y="1662"/>
                </a:lnTo>
                <a:lnTo>
                  <a:pt x="1611" y="1660"/>
                </a:lnTo>
                <a:lnTo>
                  <a:pt x="1569" y="1662"/>
                </a:lnTo>
                <a:lnTo>
                  <a:pt x="1528" y="1665"/>
                </a:lnTo>
                <a:lnTo>
                  <a:pt x="1487" y="1670"/>
                </a:lnTo>
                <a:lnTo>
                  <a:pt x="1448" y="1677"/>
                </a:lnTo>
                <a:lnTo>
                  <a:pt x="1408" y="1686"/>
                </a:lnTo>
                <a:lnTo>
                  <a:pt x="1369" y="1697"/>
                </a:lnTo>
                <a:lnTo>
                  <a:pt x="1332" y="1710"/>
                </a:lnTo>
                <a:lnTo>
                  <a:pt x="1295" y="1724"/>
                </a:lnTo>
                <a:lnTo>
                  <a:pt x="1260" y="1741"/>
                </a:lnTo>
                <a:lnTo>
                  <a:pt x="1224" y="1759"/>
                </a:lnTo>
                <a:lnTo>
                  <a:pt x="1191" y="1778"/>
                </a:lnTo>
                <a:lnTo>
                  <a:pt x="1157" y="1799"/>
                </a:lnTo>
                <a:lnTo>
                  <a:pt x="1126" y="1822"/>
                </a:lnTo>
                <a:lnTo>
                  <a:pt x="1096" y="1846"/>
                </a:lnTo>
                <a:lnTo>
                  <a:pt x="1066" y="1871"/>
                </a:lnTo>
                <a:lnTo>
                  <a:pt x="1038" y="1898"/>
                </a:lnTo>
                <a:lnTo>
                  <a:pt x="1011" y="1926"/>
                </a:lnTo>
                <a:lnTo>
                  <a:pt x="986" y="1956"/>
                </a:lnTo>
                <a:lnTo>
                  <a:pt x="962" y="1986"/>
                </a:lnTo>
                <a:lnTo>
                  <a:pt x="939" y="2018"/>
                </a:lnTo>
                <a:lnTo>
                  <a:pt x="918" y="2051"/>
                </a:lnTo>
                <a:lnTo>
                  <a:pt x="899" y="2085"/>
                </a:lnTo>
                <a:lnTo>
                  <a:pt x="881" y="2120"/>
                </a:lnTo>
                <a:lnTo>
                  <a:pt x="864" y="2156"/>
                </a:lnTo>
                <a:lnTo>
                  <a:pt x="850" y="2192"/>
                </a:lnTo>
                <a:lnTo>
                  <a:pt x="837" y="2230"/>
                </a:lnTo>
                <a:lnTo>
                  <a:pt x="826" y="2268"/>
                </a:lnTo>
                <a:lnTo>
                  <a:pt x="817" y="2308"/>
                </a:lnTo>
                <a:lnTo>
                  <a:pt x="809" y="2347"/>
                </a:lnTo>
                <a:lnTo>
                  <a:pt x="804" y="2388"/>
                </a:lnTo>
                <a:lnTo>
                  <a:pt x="801" y="2429"/>
                </a:lnTo>
                <a:lnTo>
                  <a:pt x="800" y="2471"/>
                </a:lnTo>
                <a:lnTo>
                  <a:pt x="801" y="2513"/>
                </a:lnTo>
                <a:lnTo>
                  <a:pt x="804" y="2554"/>
                </a:lnTo>
                <a:lnTo>
                  <a:pt x="809" y="2595"/>
                </a:lnTo>
                <a:lnTo>
                  <a:pt x="817" y="2634"/>
                </a:lnTo>
                <a:lnTo>
                  <a:pt x="826" y="2674"/>
                </a:lnTo>
                <a:lnTo>
                  <a:pt x="837" y="2712"/>
                </a:lnTo>
                <a:lnTo>
                  <a:pt x="850" y="2750"/>
                </a:lnTo>
                <a:lnTo>
                  <a:pt x="864" y="2786"/>
                </a:lnTo>
                <a:lnTo>
                  <a:pt x="881" y="2822"/>
                </a:lnTo>
                <a:lnTo>
                  <a:pt x="899" y="2857"/>
                </a:lnTo>
                <a:lnTo>
                  <a:pt x="918" y="2891"/>
                </a:lnTo>
                <a:lnTo>
                  <a:pt x="939" y="2924"/>
                </a:lnTo>
                <a:lnTo>
                  <a:pt x="962" y="2956"/>
                </a:lnTo>
                <a:lnTo>
                  <a:pt x="986" y="2986"/>
                </a:lnTo>
                <a:lnTo>
                  <a:pt x="1011" y="3016"/>
                </a:lnTo>
                <a:lnTo>
                  <a:pt x="1038" y="3044"/>
                </a:lnTo>
                <a:lnTo>
                  <a:pt x="1066" y="3070"/>
                </a:lnTo>
                <a:lnTo>
                  <a:pt x="1096" y="3097"/>
                </a:lnTo>
                <a:lnTo>
                  <a:pt x="1126" y="3120"/>
                </a:lnTo>
                <a:lnTo>
                  <a:pt x="1157" y="3144"/>
                </a:lnTo>
                <a:lnTo>
                  <a:pt x="1191" y="3164"/>
                </a:lnTo>
                <a:lnTo>
                  <a:pt x="1224" y="3184"/>
                </a:lnTo>
                <a:lnTo>
                  <a:pt x="1260" y="3201"/>
                </a:lnTo>
                <a:lnTo>
                  <a:pt x="1295" y="3218"/>
                </a:lnTo>
                <a:lnTo>
                  <a:pt x="1332" y="3233"/>
                </a:lnTo>
                <a:lnTo>
                  <a:pt x="1369" y="3245"/>
                </a:lnTo>
                <a:lnTo>
                  <a:pt x="1408" y="3256"/>
                </a:lnTo>
                <a:lnTo>
                  <a:pt x="1448" y="3265"/>
                </a:lnTo>
                <a:lnTo>
                  <a:pt x="1487" y="3272"/>
                </a:lnTo>
                <a:lnTo>
                  <a:pt x="1528" y="3277"/>
                </a:lnTo>
                <a:lnTo>
                  <a:pt x="1569" y="3280"/>
                </a:lnTo>
                <a:lnTo>
                  <a:pt x="1611" y="3281"/>
                </a:lnTo>
                <a:close/>
                <a:moveTo>
                  <a:pt x="1838" y="3503"/>
                </a:moveTo>
                <a:lnTo>
                  <a:pt x="1838" y="3503"/>
                </a:lnTo>
                <a:lnTo>
                  <a:pt x="1881" y="3502"/>
                </a:lnTo>
                <a:lnTo>
                  <a:pt x="1921" y="3499"/>
                </a:lnTo>
                <a:lnTo>
                  <a:pt x="1962" y="3493"/>
                </a:lnTo>
                <a:lnTo>
                  <a:pt x="2002" y="3486"/>
                </a:lnTo>
                <a:lnTo>
                  <a:pt x="2041" y="3477"/>
                </a:lnTo>
                <a:lnTo>
                  <a:pt x="2080" y="3466"/>
                </a:lnTo>
                <a:lnTo>
                  <a:pt x="2117" y="3453"/>
                </a:lnTo>
                <a:lnTo>
                  <a:pt x="2154" y="3439"/>
                </a:lnTo>
                <a:lnTo>
                  <a:pt x="2190" y="3422"/>
                </a:lnTo>
                <a:lnTo>
                  <a:pt x="2225" y="3404"/>
                </a:lnTo>
                <a:lnTo>
                  <a:pt x="2259" y="3385"/>
                </a:lnTo>
                <a:lnTo>
                  <a:pt x="2292" y="3364"/>
                </a:lnTo>
                <a:lnTo>
                  <a:pt x="2323" y="3341"/>
                </a:lnTo>
                <a:lnTo>
                  <a:pt x="2355" y="3317"/>
                </a:lnTo>
                <a:lnTo>
                  <a:pt x="2384" y="3292"/>
                </a:lnTo>
                <a:lnTo>
                  <a:pt x="2411" y="3265"/>
                </a:lnTo>
                <a:lnTo>
                  <a:pt x="2439" y="3237"/>
                </a:lnTo>
                <a:lnTo>
                  <a:pt x="2464" y="3207"/>
                </a:lnTo>
                <a:lnTo>
                  <a:pt x="2488" y="3177"/>
                </a:lnTo>
                <a:lnTo>
                  <a:pt x="2511" y="3146"/>
                </a:lnTo>
                <a:lnTo>
                  <a:pt x="2532" y="3112"/>
                </a:lnTo>
                <a:lnTo>
                  <a:pt x="2551" y="3079"/>
                </a:lnTo>
                <a:lnTo>
                  <a:pt x="2570" y="3043"/>
                </a:lnTo>
                <a:lnTo>
                  <a:pt x="2586" y="3008"/>
                </a:lnTo>
                <a:lnTo>
                  <a:pt x="2600" y="2971"/>
                </a:lnTo>
                <a:lnTo>
                  <a:pt x="2612" y="2933"/>
                </a:lnTo>
                <a:lnTo>
                  <a:pt x="2623" y="2895"/>
                </a:lnTo>
                <a:lnTo>
                  <a:pt x="2633" y="2855"/>
                </a:lnTo>
                <a:lnTo>
                  <a:pt x="2640" y="2816"/>
                </a:lnTo>
                <a:lnTo>
                  <a:pt x="2645" y="2775"/>
                </a:lnTo>
                <a:lnTo>
                  <a:pt x="2648" y="2734"/>
                </a:lnTo>
                <a:lnTo>
                  <a:pt x="2649" y="2692"/>
                </a:lnTo>
                <a:lnTo>
                  <a:pt x="1838" y="2692"/>
                </a:lnTo>
                <a:lnTo>
                  <a:pt x="1838" y="3503"/>
                </a:lnTo>
                <a:close/>
                <a:moveTo>
                  <a:pt x="4318" y="1839"/>
                </a:moveTo>
                <a:lnTo>
                  <a:pt x="3281" y="1839"/>
                </a:lnTo>
                <a:lnTo>
                  <a:pt x="3281" y="2150"/>
                </a:lnTo>
                <a:lnTo>
                  <a:pt x="4318" y="2150"/>
                </a:lnTo>
                <a:lnTo>
                  <a:pt x="4318" y="1839"/>
                </a:lnTo>
                <a:close/>
                <a:moveTo>
                  <a:pt x="4318" y="2411"/>
                </a:moveTo>
                <a:lnTo>
                  <a:pt x="3281" y="2411"/>
                </a:lnTo>
                <a:lnTo>
                  <a:pt x="3281" y="2723"/>
                </a:lnTo>
                <a:lnTo>
                  <a:pt x="4318" y="2723"/>
                </a:lnTo>
                <a:lnTo>
                  <a:pt x="4318" y="2411"/>
                </a:lnTo>
                <a:close/>
                <a:moveTo>
                  <a:pt x="4318" y="2983"/>
                </a:moveTo>
                <a:lnTo>
                  <a:pt x="3281" y="2983"/>
                </a:lnTo>
                <a:lnTo>
                  <a:pt x="3281" y="3295"/>
                </a:lnTo>
                <a:lnTo>
                  <a:pt x="4318" y="3295"/>
                </a:lnTo>
                <a:lnTo>
                  <a:pt x="4318" y="29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KSO_Shape"/>
          <p:cNvSpPr/>
          <p:nvPr/>
        </p:nvSpPr>
        <p:spPr>
          <a:xfrm>
            <a:off x="9240840" y="2494080"/>
            <a:ext cx="412920" cy="395280"/>
          </a:xfrm>
          <a:custGeom>
            <a:avLst/>
            <a:gdLst>
              <a:gd name="textAreaLeft" fmla="*/ 0 w 412920"/>
              <a:gd name="textAreaRight" fmla="*/ 413280 w 41292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4"/>
          <p:cNvSpPr/>
          <p:nvPr/>
        </p:nvSpPr>
        <p:spPr>
          <a:xfrm>
            <a:off x="2017800" y="5043960"/>
            <a:ext cx="81342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5"/>
          <p:cNvSpPr/>
          <p:nvPr/>
        </p:nvSpPr>
        <p:spPr>
          <a:xfrm>
            <a:off x="2039760" y="4637160"/>
            <a:ext cx="8112240" cy="4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Freeform 5"/>
          <p:cNvSpPr/>
          <p:nvPr/>
        </p:nvSpPr>
        <p:spPr>
          <a:xfrm>
            <a:off x="5756400" y="3505320"/>
            <a:ext cx="2193840" cy="3082680"/>
          </a:xfrm>
          <a:custGeom>
            <a:avLst/>
            <a:gdLst>
              <a:gd name="textAreaLeft" fmla="*/ 0 w 2193840"/>
              <a:gd name="textAreaRight" fmla="*/ 2194200 w 2193840"/>
              <a:gd name="textAreaTop" fmla="*/ 0 h 3082680"/>
              <a:gd name="textAreaBottom" fmla="*/ 3083040 h 3082680"/>
            </a:gdLst>
            <a:ahLst/>
            <a:rect l="textAreaLeft" t="textAreaTop" r="textAreaRight" b="textAreaBottom"/>
            <a:pathLst>
              <a:path w="979" h="1375">
                <a:moveTo>
                  <a:pt x="489" y="0"/>
                </a:moveTo>
                <a:lnTo>
                  <a:pt x="735" y="688"/>
                </a:lnTo>
                <a:lnTo>
                  <a:pt x="979" y="1375"/>
                </a:lnTo>
                <a:lnTo>
                  <a:pt x="489" y="1375"/>
                </a:lnTo>
                <a:lnTo>
                  <a:pt x="0" y="1375"/>
                </a:lnTo>
                <a:lnTo>
                  <a:pt x="245" y="688"/>
                </a:lnTo>
                <a:lnTo>
                  <a:pt x="489" y="0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reeform 6"/>
          <p:cNvSpPr/>
          <p:nvPr/>
        </p:nvSpPr>
        <p:spPr>
          <a:xfrm>
            <a:off x="3895560" y="5119560"/>
            <a:ext cx="2200320" cy="1468440"/>
          </a:xfrm>
          <a:custGeom>
            <a:avLst/>
            <a:gdLst>
              <a:gd name="textAreaLeft" fmla="*/ 0 w 2200320"/>
              <a:gd name="textAreaRight" fmla="*/ 2200680 w 220032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982" h="655">
                <a:moveTo>
                  <a:pt x="491" y="0"/>
                </a:moveTo>
                <a:lnTo>
                  <a:pt x="735" y="326"/>
                </a:lnTo>
                <a:lnTo>
                  <a:pt x="982" y="655"/>
                </a:lnTo>
                <a:lnTo>
                  <a:pt x="491" y="655"/>
                </a:lnTo>
                <a:lnTo>
                  <a:pt x="0" y="655"/>
                </a:lnTo>
                <a:lnTo>
                  <a:pt x="247" y="326"/>
                </a:lnTo>
                <a:lnTo>
                  <a:pt x="491" y="0"/>
                </a:lnTo>
                <a:close/>
              </a:path>
            </a:pathLst>
          </a:cu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reeform 8"/>
          <p:cNvSpPr/>
          <p:nvPr/>
        </p:nvSpPr>
        <p:spPr>
          <a:xfrm>
            <a:off x="7612200" y="2181240"/>
            <a:ext cx="2193840" cy="4406760"/>
          </a:xfrm>
          <a:custGeom>
            <a:avLst/>
            <a:gdLst>
              <a:gd name="textAreaLeft" fmla="*/ 0 w 2193840"/>
              <a:gd name="textAreaRight" fmla="*/ 2194200 w 2193840"/>
              <a:gd name="textAreaTop" fmla="*/ 0 h 4406760"/>
              <a:gd name="textAreaBottom" fmla="*/ 4407120 h 4406760"/>
            </a:gdLst>
            <a:ahLst/>
            <a:rect l="textAreaLeft" t="textAreaTop" r="textAreaRight" b="textAreaBottom"/>
            <a:pathLst>
              <a:path w="979" h="2168">
                <a:moveTo>
                  <a:pt x="491" y="0"/>
                </a:moveTo>
                <a:lnTo>
                  <a:pt x="735" y="1083"/>
                </a:lnTo>
                <a:lnTo>
                  <a:pt x="979" y="2168"/>
                </a:lnTo>
                <a:lnTo>
                  <a:pt x="491" y="2168"/>
                </a:lnTo>
                <a:lnTo>
                  <a:pt x="0" y="2168"/>
                </a:lnTo>
                <a:lnTo>
                  <a:pt x="244" y="1083"/>
                </a:lnTo>
                <a:lnTo>
                  <a:pt x="491" y="0"/>
                </a:lnTo>
                <a:close/>
              </a:path>
            </a:pathLst>
          </a:cu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Freeform 9"/>
          <p:cNvSpPr/>
          <p:nvPr/>
        </p:nvSpPr>
        <p:spPr>
          <a:xfrm>
            <a:off x="9468000" y="4330800"/>
            <a:ext cx="2198520" cy="2257200"/>
          </a:xfrm>
          <a:custGeom>
            <a:avLst/>
            <a:gdLst>
              <a:gd name="textAreaLeft" fmla="*/ 0 w 2198520"/>
              <a:gd name="textAreaRight" fmla="*/ 2198880 w 2198520"/>
              <a:gd name="textAreaTop" fmla="*/ 0 h 2257200"/>
              <a:gd name="textAreaBottom" fmla="*/ 2257560 h 2257200"/>
            </a:gdLst>
            <a:ahLst/>
            <a:rect l="textAreaLeft" t="textAreaTop" r="textAreaRight" b="textAreaBottom"/>
            <a:pathLst>
              <a:path w="981" h="1007">
                <a:moveTo>
                  <a:pt x="490" y="0"/>
                </a:moveTo>
                <a:lnTo>
                  <a:pt x="735" y="503"/>
                </a:lnTo>
                <a:lnTo>
                  <a:pt x="981" y="1007"/>
                </a:lnTo>
                <a:lnTo>
                  <a:pt x="490" y="1007"/>
                </a:lnTo>
                <a:lnTo>
                  <a:pt x="0" y="1007"/>
                </a:lnTo>
                <a:lnTo>
                  <a:pt x="246" y="503"/>
                </a:lnTo>
                <a:lnTo>
                  <a:pt x="490" y="0"/>
                </a:lnTo>
                <a:close/>
              </a:path>
            </a:pathLst>
          </a:cu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文本框 8"/>
          <p:cNvSpPr/>
          <p:nvPr/>
        </p:nvSpPr>
        <p:spPr>
          <a:xfrm>
            <a:off x="4569120" y="45338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文本框 9"/>
          <p:cNvSpPr/>
          <p:nvPr/>
        </p:nvSpPr>
        <p:spPr>
          <a:xfrm>
            <a:off x="6394680" y="29336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6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文本框 10"/>
          <p:cNvSpPr/>
          <p:nvPr/>
        </p:nvSpPr>
        <p:spPr>
          <a:xfrm>
            <a:off x="8215560" y="15955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文本框 11"/>
          <p:cNvSpPr/>
          <p:nvPr/>
        </p:nvSpPr>
        <p:spPr>
          <a:xfrm>
            <a:off x="10074600" y="37450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4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矩形 14"/>
          <p:cNvSpPr/>
          <p:nvPr/>
        </p:nvSpPr>
        <p:spPr>
          <a:xfrm>
            <a:off x="803160" y="2264400"/>
            <a:ext cx="42386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Freeform 11"/>
          <p:cNvSpPr/>
          <p:nvPr/>
        </p:nvSpPr>
        <p:spPr>
          <a:xfrm>
            <a:off x="6321600" y="4711680"/>
            <a:ext cx="691920" cy="1555920"/>
          </a:xfrm>
          <a:custGeom>
            <a:avLst/>
            <a:gdLst>
              <a:gd name="textAreaLeft" fmla="*/ 0 w 691920"/>
              <a:gd name="textAreaRight" fmla="*/ 691920 w 691920"/>
              <a:gd name="textAreaTop" fmla="*/ 0 h 1555920"/>
              <a:gd name="textAreaBottom" fmla="*/ 1556280 h 1555920"/>
            </a:gdLst>
            <a:ahLst/>
            <a:rect l="textAreaLeft" t="textAreaTop" r="textAreaRight" b="textAreaBottom"/>
            <a:pathLst>
              <a:path w="120" h="269">
                <a:moveTo>
                  <a:pt x="100" y="269"/>
                </a:moveTo>
                <a:cubicBezTo>
                  <a:pt x="20" y="269"/>
                  <a:pt x="20" y="269"/>
                  <a:pt x="20" y="269"/>
                </a:cubicBezTo>
                <a:cubicBezTo>
                  <a:pt x="9" y="269"/>
                  <a:pt x="0" y="260"/>
                  <a:pt x="0" y="249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27"/>
                  <a:pt x="27" y="0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93" y="0"/>
                  <a:pt x="120" y="27"/>
                  <a:pt x="120" y="60"/>
                </a:cubicBezTo>
                <a:cubicBezTo>
                  <a:pt x="120" y="249"/>
                  <a:pt x="120" y="249"/>
                  <a:pt x="120" y="249"/>
                </a:cubicBezTo>
                <a:cubicBezTo>
                  <a:pt x="120" y="260"/>
                  <a:pt x="111" y="269"/>
                  <a:pt x="100" y="269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reeform 15"/>
          <p:cNvSpPr/>
          <p:nvPr/>
        </p:nvSpPr>
        <p:spPr>
          <a:xfrm>
            <a:off x="6753240" y="3432240"/>
            <a:ext cx="4822920" cy="3200400"/>
          </a:xfrm>
          <a:custGeom>
            <a:avLst/>
            <a:gdLst>
              <a:gd name="textAreaLeft" fmla="*/ 0 w 4822920"/>
              <a:gd name="textAreaRight" fmla="*/ 4823280 w 482292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835" h="553">
                <a:moveTo>
                  <a:pt x="777" y="374"/>
                </a:moveTo>
                <a:cubicBezTo>
                  <a:pt x="684" y="374"/>
                  <a:pt x="684" y="374"/>
                  <a:pt x="684" y="374"/>
                </a:cubicBezTo>
                <a:cubicBezTo>
                  <a:pt x="684" y="323"/>
                  <a:pt x="684" y="323"/>
                  <a:pt x="684" y="323"/>
                </a:cubicBezTo>
                <a:cubicBezTo>
                  <a:pt x="684" y="277"/>
                  <a:pt x="647" y="240"/>
                  <a:pt x="601" y="240"/>
                </a:cubicBezTo>
                <a:cubicBezTo>
                  <a:pt x="493" y="240"/>
                  <a:pt x="493" y="240"/>
                  <a:pt x="493" y="240"/>
                </a:cubicBezTo>
                <a:cubicBezTo>
                  <a:pt x="493" y="183"/>
                  <a:pt x="493" y="183"/>
                  <a:pt x="493" y="183"/>
                </a:cubicBezTo>
                <a:cubicBezTo>
                  <a:pt x="493" y="153"/>
                  <a:pt x="469" y="129"/>
                  <a:pt x="440" y="129"/>
                </a:cubicBezTo>
                <a:cubicBezTo>
                  <a:pt x="435" y="129"/>
                  <a:pt x="435" y="129"/>
                  <a:pt x="435" y="129"/>
                </a:cubicBezTo>
                <a:cubicBezTo>
                  <a:pt x="435" y="92"/>
                  <a:pt x="435" y="92"/>
                  <a:pt x="435" y="92"/>
                </a:cubicBezTo>
                <a:cubicBezTo>
                  <a:pt x="435" y="45"/>
                  <a:pt x="398" y="5"/>
                  <a:pt x="351" y="2"/>
                </a:cubicBezTo>
                <a:cubicBezTo>
                  <a:pt x="301" y="0"/>
                  <a:pt x="260" y="40"/>
                  <a:pt x="260" y="90"/>
                </a:cubicBezTo>
                <a:cubicBezTo>
                  <a:pt x="260" y="98"/>
                  <a:pt x="260" y="98"/>
                  <a:pt x="260" y="98"/>
                </a:cubicBezTo>
                <a:cubicBezTo>
                  <a:pt x="257" y="98"/>
                  <a:pt x="257" y="98"/>
                  <a:pt x="257" y="98"/>
                </a:cubicBezTo>
                <a:cubicBezTo>
                  <a:pt x="217" y="98"/>
                  <a:pt x="185" y="130"/>
                  <a:pt x="185" y="170"/>
                </a:cubicBezTo>
                <a:cubicBezTo>
                  <a:pt x="185" y="214"/>
                  <a:pt x="185" y="214"/>
                  <a:pt x="185" y="214"/>
                </a:cubicBezTo>
                <a:cubicBezTo>
                  <a:pt x="162" y="214"/>
                  <a:pt x="162" y="214"/>
                  <a:pt x="162" y="214"/>
                </a:cubicBezTo>
                <a:cubicBezTo>
                  <a:pt x="128" y="214"/>
                  <a:pt x="100" y="242"/>
                  <a:pt x="100" y="275"/>
                </a:cubicBezTo>
                <a:cubicBezTo>
                  <a:pt x="100" y="324"/>
                  <a:pt x="100" y="324"/>
                  <a:pt x="100" y="324"/>
                </a:cubicBezTo>
                <a:cubicBezTo>
                  <a:pt x="58" y="324"/>
                  <a:pt x="58" y="324"/>
                  <a:pt x="58" y="324"/>
                </a:cubicBezTo>
                <a:cubicBezTo>
                  <a:pt x="26" y="324"/>
                  <a:pt x="0" y="349"/>
                  <a:pt x="0" y="381"/>
                </a:cubicBezTo>
                <a:cubicBezTo>
                  <a:pt x="0" y="502"/>
                  <a:pt x="0" y="502"/>
                  <a:pt x="0" y="502"/>
                </a:cubicBezTo>
                <a:cubicBezTo>
                  <a:pt x="124" y="502"/>
                  <a:pt x="124" y="502"/>
                  <a:pt x="124" y="502"/>
                </a:cubicBezTo>
                <a:cubicBezTo>
                  <a:pt x="124" y="498"/>
                  <a:pt x="124" y="498"/>
                  <a:pt x="124" y="498"/>
                </a:cubicBezTo>
                <a:cubicBezTo>
                  <a:pt x="185" y="498"/>
                  <a:pt x="185" y="498"/>
                  <a:pt x="185" y="498"/>
                </a:cubicBezTo>
                <a:cubicBezTo>
                  <a:pt x="185" y="524"/>
                  <a:pt x="185" y="524"/>
                  <a:pt x="185" y="524"/>
                </a:cubicBezTo>
                <a:cubicBezTo>
                  <a:pt x="300" y="524"/>
                  <a:pt x="300" y="524"/>
                  <a:pt x="300" y="524"/>
                </a:cubicBezTo>
                <a:cubicBezTo>
                  <a:pt x="300" y="512"/>
                  <a:pt x="300" y="512"/>
                  <a:pt x="300" y="512"/>
                </a:cubicBezTo>
                <a:cubicBezTo>
                  <a:pt x="435" y="512"/>
                  <a:pt x="435" y="512"/>
                  <a:pt x="435" y="512"/>
                </a:cubicBezTo>
                <a:cubicBezTo>
                  <a:pt x="435" y="490"/>
                  <a:pt x="435" y="490"/>
                  <a:pt x="435" y="490"/>
                </a:cubicBezTo>
                <a:cubicBezTo>
                  <a:pt x="470" y="490"/>
                  <a:pt x="470" y="490"/>
                  <a:pt x="470" y="490"/>
                </a:cubicBezTo>
                <a:cubicBezTo>
                  <a:pt x="470" y="527"/>
                  <a:pt x="470" y="527"/>
                  <a:pt x="470" y="527"/>
                </a:cubicBezTo>
                <a:cubicBezTo>
                  <a:pt x="646" y="527"/>
                  <a:pt x="646" y="527"/>
                  <a:pt x="646" y="527"/>
                </a:cubicBezTo>
                <a:cubicBezTo>
                  <a:pt x="646" y="553"/>
                  <a:pt x="646" y="553"/>
                  <a:pt x="646" y="553"/>
                </a:cubicBezTo>
                <a:cubicBezTo>
                  <a:pt x="835" y="553"/>
                  <a:pt x="835" y="553"/>
                  <a:pt x="835" y="553"/>
                </a:cubicBezTo>
                <a:cubicBezTo>
                  <a:pt x="835" y="433"/>
                  <a:pt x="835" y="433"/>
                  <a:pt x="835" y="433"/>
                </a:cubicBezTo>
                <a:cubicBezTo>
                  <a:pt x="835" y="401"/>
                  <a:pt x="809" y="374"/>
                  <a:pt x="777" y="374"/>
                </a:cubicBez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Freeform 16"/>
          <p:cNvSpPr/>
          <p:nvPr/>
        </p:nvSpPr>
        <p:spPr>
          <a:xfrm>
            <a:off x="8775720" y="3444840"/>
            <a:ext cx="2800440" cy="3036960"/>
          </a:xfrm>
          <a:custGeom>
            <a:avLst/>
            <a:gdLst>
              <a:gd name="textAreaLeft" fmla="*/ 0 w 2800440"/>
              <a:gd name="textAreaRight" fmla="*/ 2800800 w 2800440"/>
              <a:gd name="textAreaTop" fmla="*/ 0 h 3036960"/>
              <a:gd name="textAreaBottom" fmla="*/ 3037320 h 3036960"/>
            </a:gdLst>
            <a:ahLst/>
            <a:rect l="textAreaLeft" t="textAreaTop" r="textAreaRight" b="textAreaBottom"/>
            <a:pathLst>
              <a:path w="485" h="525">
                <a:moveTo>
                  <a:pt x="427" y="372"/>
                </a:moveTo>
                <a:cubicBezTo>
                  <a:pt x="334" y="372"/>
                  <a:pt x="334" y="372"/>
                  <a:pt x="334" y="372"/>
                </a:cubicBezTo>
                <a:cubicBezTo>
                  <a:pt x="334" y="321"/>
                  <a:pt x="334" y="321"/>
                  <a:pt x="334" y="321"/>
                </a:cubicBezTo>
                <a:cubicBezTo>
                  <a:pt x="334" y="275"/>
                  <a:pt x="297" y="238"/>
                  <a:pt x="251" y="238"/>
                </a:cubicBezTo>
                <a:cubicBezTo>
                  <a:pt x="143" y="238"/>
                  <a:pt x="143" y="238"/>
                  <a:pt x="143" y="238"/>
                </a:cubicBezTo>
                <a:cubicBezTo>
                  <a:pt x="143" y="181"/>
                  <a:pt x="143" y="181"/>
                  <a:pt x="143" y="181"/>
                </a:cubicBezTo>
                <a:cubicBezTo>
                  <a:pt x="143" y="151"/>
                  <a:pt x="119" y="127"/>
                  <a:pt x="90" y="127"/>
                </a:cubicBezTo>
                <a:cubicBezTo>
                  <a:pt x="85" y="127"/>
                  <a:pt x="85" y="127"/>
                  <a:pt x="85" y="127"/>
                </a:cubicBezTo>
                <a:cubicBezTo>
                  <a:pt x="85" y="90"/>
                  <a:pt x="85" y="90"/>
                  <a:pt x="85" y="90"/>
                </a:cubicBezTo>
                <a:cubicBezTo>
                  <a:pt x="85" y="43"/>
                  <a:pt x="48" y="3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510"/>
                  <a:pt x="0" y="510"/>
                  <a:pt x="0" y="510"/>
                </a:cubicBezTo>
                <a:cubicBezTo>
                  <a:pt x="85" y="510"/>
                  <a:pt x="85" y="510"/>
                  <a:pt x="85" y="510"/>
                </a:cubicBezTo>
                <a:cubicBezTo>
                  <a:pt x="85" y="488"/>
                  <a:pt x="85" y="488"/>
                  <a:pt x="85" y="488"/>
                </a:cubicBezTo>
                <a:cubicBezTo>
                  <a:pt x="120" y="488"/>
                  <a:pt x="120" y="488"/>
                  <a:pt x="120" y="488"/>
                </a:cubicBezTo>
                <a:cubicBezTo>
                  <a:pt x="120" y="525"/>
                  <a:pt x="120" y="525"/>
                  <a:pt x="120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485" y="525"/>
                  <a:pt x="485" y="525"/>
                  <a:pt x="485" y="525"/>
                </a:cubicBezTo>
                <a:cubicBezTo>
                  <a:pt x="485" y="431"/>
                  <a:pt x="485" y="431"/>
                  <a:pt x="485" y="431"/>
                </a:cubicBezTo>
                <a:cubicBezTo>
                  <a:pt x="485" y="399"/>
                  <a:pt x="459" y="372"/>
                  <a:pt x="427" y="372"/>
                </a:cubicBezTo>
                <a:close/>
              </a:path>
            </a:pathLst>
          </a:custGeom>
          <a:solidFill>
            <a:srgbClr val="46b3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reeform 17"/>
          <p:cNvSpPr/>
          <p:nvPr/>
        </p:nvSpPr>
        <p:spPr>
          <a:xfrm>
            <a:off x="7324560" y="4591080"/>
            <a:ext cx="514440" cy="1249200"/>
          </a:xfrm>
          <a:custGeom>
            <a:avLst/>
            <a:gdLst>
              <a:gd name="textAreaLeft" fmla="*/ 0 w 514440"/>
              <a:gd name="textAreaRight" fmla="*/ 514800 w 514440"/>
              <a:gd name="textAreaTop" fmla="*/ 0 h 1249200"/>
              <a:gd name="textAreaBottom" fmla="*/ 1249200 h 1249200"/>
            </a:gdLst>
            <a:ahLst/>
            <a:rect l="textAreaLeft" t="textAreaTop" r="textAreaRight" b="textAreaBottom"/>
            <a:pathLst>
              <a:path w="89" h="216">
                <a:moveTo>
                  <a:pt x="89" y="0"/>
                </a:moveTo>
                <a:cubicBezTo>
                  <a:pt x="88" y="0"/>
                  <a:pt x="87" y="0"/>
                  <a:pt x="86" y="0"/>
                </a:cubicBezTo>
                <a:cubicBezTo>
                  <a:pt x="86" y="14"/>
                  <a:pt x="86" y="14"/>
                  <a:pt x="86" y="14"/>
                </a:cubicBezTo>
                <a:cubicBezTo>
                  <a:pt x="63" y="14"/>
                  <a:pt x="63" y="14"/>
                  <a:pt x="63" y="14"/>
                </a:cubicBezTo>
                <a:cubicBezTo>
                  <a:pt x="45" y="14"/>
                  <a:pt x="29" y="21"/>
                  <a:pt x="18" y="33"/>
                </a:cubicBezTo>
                <a:cubicBezTo>
                  <a:pt x="11" y="42"/>
                  <a:pt x="5" y="53"/>
                  <a:pt x="2" y="65"/>
                </a:cubicBezTo>
                <a:cubicBezTo>
                  <a:pt x="2" y="68"/>
                  <a:pt x="1" y="72"/>
                  <a:pt x="1" y="75"/>
                </a:cubicBezTo>
                <a:cubicBezTo>
                  <a:pt x="1" y="124"/>
                  <a:pt x="1" y="124"/>
                  <a:pt x="1" y="124"/>
                </a:cubicBezTo>
                <a:cubicBezTo>
                  <a:pt x="0" y="124"/>
                  <a:pt x="0" y="124"/>
                  <a:pt x="0" y="124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reeform 18"/>
          <p:cNvSpPr/>
          <p:nvPr/>
        </p:nvSpPr>
        <p:spPr>
          <a:xfrm>
            <a:off x="7821720" y="3930480"/>
            <a:ext cx="520560" cy="1249560"/>
          </a:xfrm>
          <a:custGeom>
            <a:avLst/>
            <a:gdLst>
              <a:gd name="textAreaLeft" fmla="*/ 0 w 520560"/>
              <a:gd name="textAreaRight" fmla="*/ 520920 w 520560"/>
              <a:gd name="textAreaTop" fmla="*/ 0 h 1249560"/>
              <a:gd name="textAreaBottom" fmla="*/ 1249560 h 1249560"/>
            </a:gdLst>
            <a:ahLst/>
            <a:rect l="textAreaLeft" t="textAreaTop" r="textAreaRight" b="textAreaBottom"/>
            <a:pathLst>
              <a:path w="90" h="216">
                <a:moveTo>
                  <a:pt x="89" y="0"/>
                </a:moveTo>
                <a:cubicBezTo>
                  <a:pt x="84" y="0"/>
                  <a:pt x="90" y="3"/>
                  <a:pt x="85" y="3"/>
                </a:cubicBezTo>
                <a:cubicBezTo>
                  <a:pt x="85" y="4"/>
                  <a:pt x="86" y="9"/>
                  <a:pt x="86" y="10"/>
                </a:cubicBezTo>
                <a:cubicBezTo>
                  <a:pt x="73" y="12"/>
                  <a:pt x="73" y="12"/>
                  <a:pt x="73" y="12"/>
                </a:cubicBezTo>
                <a:cubicBezTo>
                  <a:pt x="70" y="12"/>
                  <a:pt x="70" y="12"/>
                  <a:pt x="70" y="12"/>
                </a:cubicBezTo>
                <a:cubicBezTo>
                  <a:pt x="47" y="12"/>
                  <a:pt x="26" y="23"/>
                  <a:pt x="13" y="41"/>
                </a:cubicBezTo>
                <a:cubicBezTo>
                  <a:pt x="6" y="52"/>
                  <a:pt x="1" y="65"/>
                  <a:pt x="0" y="79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c5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reeform 19"/>
          <p:cNvSpPr/>
          <p:nvPr/>
        </p:nvSpPr>
        <p:spPr>
          <a:xfrm>
            <a:off x="8255160" y="3438360"/>
            <a:ext cx="520560" cy="1257480"/>
          </a:xfrm>
          <a:custGeom>
            <a:avLst/>
            <a:gdLst>
              <a:gd name="textAreaLeft" fmla="*/ 0 w 520560"/>
              <a:gd name="textAreaRight" fmla="*/ 520920 w 520560"/>
              <a:gd name="textAreaTop" fmla="*/ 0 h 1257480"/>
              <a:gd name="textAreaBottom" fmla="*/ 1257840 h 1257480"/>
            </a:gdLst>
            <a:ahLst/>
            <a:rect l="textAreaLeft" t="textAreaTop" r="textAreaRight" b="textAreaBottom"/>
            <a:pathLst>
              <a:path w="90" h="217">
                <a:moveTo>
                  <a:pt x="90" y="1"/>
                </a:moveTo>
                <a:cubicBezTo>
                  <a:pt x="43" y="0"/>
                  <a:pt x="5" y="35"/>
                  <a:pt x="0" y="80"/>
                </a:cubicBezTo>
                <a:cubicBezTo>
                  <a:pt x="0" y="217"/>
                  <a:pt x="0" y="217"/>
                  <a:pt x="0" y="217"/>
                </a:cubicBezTo>
                <a:cubicBezTo>
                  <a:pt x="90" y="217"/>
                  <a:pt x="90" y="217"/>
                  <a:pt x="90" y="217"/>
                </a:cubicBezTo>
                <a:lnTo>
                  <a:pt x="90" y="1"/>
                </a:lnTo>
                <a:close/>
              </a:path>
            </a:pathLst>
          </a:custGeom>
          <a:solidFill>
            <a:srgbClr val="9cd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Freeform 20"/>
          <p:cNvSpPr/>
          <p:nvPr/>
        </p:nvSpPr>
        <p:spPr>
          <a:xfrm>
            <a:off x="7142040" y="4208400"/>
            <a:ext cx="3678480" cy="2424240"/>
          </a:xfrm>
          <a:custGeom>
            <a:avLst/>
            <a:gdLst>
              <a:gd name="textAreaLeft" fmla="*/ 0 w 3678480"/>
              <a:gd name="textAreaRight" fmla="*/ 3678840 w 3678480"/>
              <a:gd name="textAreaTop" fmla="*/ 0 h 2424240"/>
              <a:gd name="textAreaBottom" fmla="*/ 2424600 h 2424240"/>
            </a:gdLst>
            <a:ahLst/>
            <a:rect l="textAreaLeft" t="textAreaTop" r="textAreaRight" b="textAreaBottom"/>
            <a:pathLst>
              <a:path w="637" h="419">
                <a:moveTo>
                  <a:pt x="593" y="284"/>
                </a:moveTo>
                <a:cubicBezTo>
                  <a:pt x="522" y="284"/>
                  <a:pt x="522" y="284"/>
                  <a:pt x="522" y="284"/>
                </a:cubicBezTo>
                <a:cubicBezTo>
                  <a:pt x="522" y="245"/>
                  <a:pt x="522" y="245"/>
                  <a:pt x="522" y="245"/>
                </a:cubicBezTo>
                <a:cubicBezTo>
                  <a:pt x="522" y="210"/>
                  <a:pt x="494" y="182"/>
                  <a:pt x="459" y="182"/>
                </a:cubicBezTo>
                <a:cubicBezTo>
                  <a:pt x="378" y="182"/>
                  <a:pt x="378" y="182"/>
                  <a:pt x="378" y="182"/>
                </a:cubicBezTo>
                <a:cubicBezTo>
                  <a:pt x="378" y="138"/>
                  <a:pt x="378" y="138"/>
                  <a:pt x="378" y="138"/>
                </a:cubicBezTo>
                <a:cubicBezTo>
                  <a:pt x="378" y="116"/>
                  <a:pt x="359" y="98"/>
                  <a:pt x="337" y="98"/>
                </a:cubicBezTo>
                <a:cubicBezTo>
                  <a:pt x="333" y="98"/>
                  <a:pt x="333" y="98"/>
                  <a:pt x="333" y="98"/>
                </a:cubicBezTo>
                <a:cubicBezTo>
                  <a:pt x="333" y="70"/>
                  <a:pt x="333" y="70"/>
                  <a:pt x="333" y="70"/>
                </a:cubicBezTo>
                <a:cubicBezTo>
                  <a:pt x="333" y="34"/>
                  <a:pt x="306" y="3"/>
                  <a:pt x="270" y="2"/>
                </a:cubicBezTo>
                <a:cubicBezTo>
                  <a:pt x="232" y="0"/>
                  <a:pt x="201" y="30"/>
                  <a:pt x="201" y="68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168" y="74"/>
                  <a:pt x="144" y="98"/>
                  <a:pt x="144" y="128"/>
                </a:cubicBezTo>
                <a:cubicBezTo>
                  <a:pt x="144" y="162"/>
                  <a:pt x="144" y="162"/>
                  <a:pt x="144" y="162"/>
                </a:cubicBezTo>
                <a:cubicBezTo>
                  <a:pt x="126" y="162"/>
                  <a:pt x="126" y="162"/>
                  <a:pt x="126" y="162"/>
                </a:cubicBezTo>
                <a:cubicBezTo>
                  <a:pt x="101" y="162"/>
                  <a:pt x="80" y="183"/>
                  <a:pt x="80" y="209"/>
                </a:cubicBezTo>
                <a:cubicBezTo>
                  <a:pt x="80" y="245"/>
                  <a:pt x="80" y="245"/>
                  <a:pt x="80" y="245"/>
                </a:cubicBezTo>
                <a:cubicBezTo>
                  <a:pt x="47" y="245"/>
                  <a:pt x="47" y="245"/>
                  <a:pt x="47" y="245"/>
                </a:cubicBezTo>
                <a:cubicBezTo>
                  <a:pt x="23" y="245"/>
                  <a:pt x="4" y="264"/>
                  <a:pt x="0" y="289"/>
                </a:cubicBezTo>
                <a:cubicBezTo>
                  <a:pt x="0" y="380"/>
                  <a:pt x="0" y="380"/>
                  <a:pt x="0" y="380"/>
                </a:cubicBezTo>
                <a:cubicBezTo>
                  <a:pt x="98" y="380"/>
                  <a:pt x="98" y="380"/>
                  <a:pt x="98" y="380"/>
                </a:cubicBezTo>
                <a:cubicBezTo>
                  <a:pt x="98" y="377"/>
                  <a:pt x="98" y="377"/>
                  <a:pt x="98" y="377"/>
                </a:cubicBezTo>
                <a:cubicBezTo>
                  <a:pt x="144" y="377"/>
                  <a:pt x="144" y="377"/>
                  <a:pt x="144" y="377"/>
                </a:cubicBezTo>
                <a:cubicBezTo>
                  <a:pt x="144" y="397"/>
                  <a:pt x="144" y="397"/>
                  <a:pt x="144" y="397"/>
                </a:cubicBezTo>
                <a:cubicBezTo>
                  <a:pt x="231" y="397"/>
                  <a:pt x="231" y="397"/>
                  <a:pt x="231" y="397"/>
                </a:cubicBezTo>
                <a:cubicBezTo>
                  <a:pt x="231" y="388"/>
                  <a:pt x="231" y="388"/>
                  <a:pt x="231" y="388"/>
                </a:cubicBezTo>
                <a:cubicBezTo>
                  <a:pt x="333" y="388"/>
                  <a:pt x="333" y="388"/>
                  <a:pt x="333" y="388"/>
                </a:cubicBezTo>
                <a:cubicBezTo>
                  <a:pt x="333" y="371"/>
                  <a:pt x="333" y="371"/>
                  <a:pt x="333" y="371"/>
                </a:cubicBezTo>
                <a:cubicBezTo>
                  <a:pt x="360" y="371"/>
                  <a:pt x="360" y="371"/>
                  <a:pt x="360" y="371"/>
                </a:cubicBezTo>
                <a:cubicBezTo>
                  <a:pt x="360" y="399"/>
                  <a:pt x="360" y="399"/>
                  <a:pt x="360" y="399"/>
                </a:cubicBezTo>
                <a:cubicBezTo>
                  <a:pt x="494" y="399"/>
                  <a:pt x="494" y="399"/>
                  <a:pt x="494" y="399"/>
                </a:cubicBezTo>
                <a:cubicBezTo>
                  <a:pt x="494" y="419"/>
                  <a:pt x="494" y="419"/>
                  <a:pt x="494" y="419"/>
                </a:cubicBezTo>
                <a:cubicBezTo>
                  <a:pt x="637" y="419"/>
                  <a:pt x="637" y="419"/>
                  <a:pt x="637" y="419"/>
                </a:cubicBezTo>
                <a:cubicBezTo>
                  <a:pt x="637" y="328"/>
                  <a:pt x="637" y="328"/>
                  <a:pt x="637" y="328"/>
                </a:cubicBezTo>
                <a:cubicBezTo>
                  <a:pt x="637" y="303"/>
                  <a:pt x="617" y="284"/>
                  <a:pt x="593" y="284"/>
                </a:cubicBezTo>
                <a:close/>
              </a:path>
            </a:pathLst>
          </a:custGeom>
          <a:solidFill>
            <a:srgbClr val="8db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Freeform 21"/>
          <p:cNvSpPr/>
          <p:nvPr/>
        </p:nvSpPr>
        <p:spPr>
          <a:xfrm>
            <a:off x="8670960" y="4214880"/>
            <a:ext cx="2149560" cy="212256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2122560"/>
              <a:gd name="textAreaBottom" fmla="*/ 2122920 h 2122560"/>
            </a:gdLst>
            <a:ahLst/>
            <a:rect l="textAreaLeft" t="textAreaTop" r="textAreaRight" b="textAreaBottom"/>
            <a:pathLst>
              <a:path w="372" h="367">
                <a:moveTo>
                  <a:pt x="328" y="283"/>
                </a:moveTo>
                <a:cubicBezTo>
                  <a:pt x="257" y="283"/>
                  <a:pt x="257" y="283"/>
                  <a:pt x="257" y="283"/>
                </a:cubicBezTo>
                <a:cubicBezTo>
                  <a:pt x="257" y="244"/>
                  <a:pt x="257" y="244"/>
                  <a:pt x="257" y="244"/>
                </a:cubicBezTo>
                <a:cubicBezTo>
                  <a:pt x="257" y="209"/>
                  <a:pt x="229" y="181"/>
                  <a:pt x="194" y="181"/>
                </a:cubicBezTo>
                <a:cubicBezTo>
                  <a:pt x="113" y="181"/>
                  <a:pt x="113" y="181"/>
                  <a:pt x="113" y="181"/>
                </a:cubicBezTo>
                <a:cubicBezTo>
                  <a:pt x="113" y="137"/>
                  <a:pt x="113" y="137"/>
                  <a:pt x="113" y="137"/>
                </a:cubicBezTo>
                <a:cubicBezTo>
                  <a:pt x="113" y="115"/>
                  <a:pt x="94" y="97"/>
                  <a:pt x="72" y="97"/>
                </a:cubicBezTo>
                <a:cubicBezTo>
                  <a:pt x="68" y="97"/>
                  <a:pt x="68" y="97"/>
                  <a:pt x="68" y="9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3"/>
                  <a:pt x="41" y="2"/>
                  <a:pt x="5" y="1"/>
                </a:cubicBezTo>
                <a:cubicBezTo>
                  <a:pt x="3" y="0"/>
                  <a:pt x="2" y="1"/>
                  <a:pt x="0" y="1"/>
                </a:cubicBezTo>
                <a:cubicBezTo>
                  <a:pt x="0" y="367"/>
                  <a:pt x="0" y="367"/>
                  <a:pt x="0" y="367"/>
                </a:cubicBezTo>
                <a:cubicBezTo>
                  <a:pt x="372" y="367"/>
                  <a:pt x="372" y="367"/>
                  <a:pt x="372" y="367"/>
                </a:cubicBezTo>
                <a:cubicBezTo>
                  <a:pt x="372" y="327"/>
                  <a:pt x="372" y="327"/>
                  <a:pt x="372" y="327"/>
                </a:cubicBezTo>
                <a:cubicBezTo>
                  <a:pt x="372" y="302"/>
                  <a:pt x="352" y="283"/>
                  <a:pt x="328" y="283"/>
                </a:cubicBezTo>
                <a:close/>
              </a:path>
            </a:pathLst>
          </a:custGeom>
          <a:solidFill>
            <a:srgbClr val="5693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reeform 22"/>
          <p:cNvSpPr/>
          <p:nvPr/>
        </p:nvSpPr>
        <p:spPr>
          <a:xfrm>
            <a:off x="7701120" y="4897440"/>
            <a:ext cx="2616120" cy="1735200"/>
          </a:xfrm>
          <a:custGeom>
            <a:avLst/>
            <a:gdLst>
              <a:gd name="textAreaLeft" fmla="*/ 0 w 2616120"/>
              <a:gd name="textAreaRight" fmla="*/ 2616480 w 2616120"/>
              <a:gd name="textAreaTop" fmla="*/ 0 h 1735200"/>
              <a:gd name="textAreaBottom" fmla="*/ 1735560 h 1735200"/>
            </a:gdLst>
            <a:ahLst/>
            <a:rect l="textAreaLeft" t="textAreaTop" r="textAreaRight" b="textAreaBottom"/>
            <a:pathLst>
              <a:path w="453" h="300">
                <a:moveTo>
                  <a:pt x="421" y="203"/>
                </a:moveTo>
                <a:cubicBezTo>
                  <a:pt x="371" y="203"/>
                  <a:pt x="371" y="203"/>
                  <a:pt x="371" y="203"/>
                </a:cubicBezTo>
                <a:cubicBezTo>
                  <a:pt x="371" y="175"/>
                  <a:pt x="371" y="175"/>
                  <a:pt x="371" y="175"/>
                </a:cubicBezTo>
                <a:cubicBezTo>
                  <a:pt x="371" y="150"/>
                  <a:pt x="351" y="130"/>
                  <a:pt x="326" y="130"/>
                </a:cubicBezTo>
                <a:cubicBezTo>
                  <a:pt x="268" y="130"/>
                  <a:pt x="268" y="130"/>
                  <a:pt x="268" y="130"/>
                </a:cubicBezTo>
                <a:cubicBezTo>
                  <a:pt x="268" y="99"/>
                  <a:pt x="268" y="99"/>
                  <a:pt x="268" y="99"/>
                </a:cubicBezTo>
                <a:cubicBezTo>
                  <a:pt x="268" y="83"/>
                  <a:pt x="255" y="70"/>
                  <a:pt x="239" y="70"/>
                </a:cubicBezTo>
                <a:cubicBezTo>
                  <a:pt x="236" y="70"/>
                  <a:pt x="236" y="70"/>
                  <a:pt x="236" y="70"/>
                </a:cubicBezTo>
                <a:cubicBezTo>
                  <a:pt x="236" y="50"/>
                  <a:pt x="236" y="50"/>
                  <a:pt x="236" y="50"/>
                </a:cubicBezTo>
                <a:cubicBezTo>
                  <a:pt x="236" y="24"/>
                  <a:pt x="216" y="2"/>
                  <a:pt x="191" y="1"/>
                </a:cubicBezTo>
                <a:cubicBezTo>
                  <a:pt x="163" y="0"/>
                  <a:pt x="141" y="22"/>
                  <a:pt x="141" y="48"/>
                </a:cubicBezTo>
                <a:cubicBezTo>
                  <a:pt x="141" y="53"/>
                  <a:pt x="141" y="53"/>
                  <a:pt x="141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18" y="53"/>
                  <a:pt x="100" y="70"/>
                  <a:pt x="100" y="92"/>
                </a:cubicBezTo>
                <a:cubicBezTo>
                  <a:pt x="100" y="116"/>
                  <a:pt x="100" y="116"/>
                  <a:pt x="100" y="116"/>
                </a:cubicBezTo>
                <a:cubicBezTo>
                  <a:pt x="88" y="116"/>
                  <a:pt x="88" y="116"/>
                  <a:pt x="88" y="116"/>
                </a:cubicBezTo>
                <a:cubicBezTo>
                  <a:pt x="69" y="116"/>
                  <a:pt x="54" y="131"/>
                  <a:pt x="54" y="149"/>
                </a:cubicBezTo>
                <a:cubicBezTo>
                  <a:pt x="54" y="175"/>
                  <a:pt x="54" y="175"/>
                  <a:pt x="54" y="175"/>
                </a:cubicBezTo>
                <a:cubicBezTo>
                  <a:pt x="31" y="175"/>
                  <a:pt x="31" y="175"/>
                  <a:pt x="31" y="175"/>
                </a:cubicBezTo>
                <a:cubicBezTo>
                  <a:pt x="14" y="175"/>
                  <a:pt x="0" y="189"/>
                  <a:pt x="0" y="207"/>
                </a:cubicBezTo>
                <a:cubicBezTo>
                  <a:pt x="0" y="272"/>
                  <a:pt x="0" y="272"/>
                  <a:pt x="0" y="272"/>
                </a:cubicBezTo>
                <a:cubicBezTo>
                  <a:pt x="67" y="272"/>
                  <a:pt x="67" y="272"/>
                  <a:pt x="67" y="272"/>
                </a:cubicBezTo>
                <a:cubicBezTo>
                  <a:pt x="67" y="270"/>
                  <a:pt x="67" y="270"/>
                  <a:pt x="67" y="270"/>
                </a:cubicBezTo>
                <a:cubicBezTo>
                  <a:pt x="100" y="270"/>
                  <a:pt x="100" y="270"/>
                  <a:pt x="100" y="270"/>
                </a:cubicBezTo>
                <a:cubicBezTo>
                  <a:pt x="100" y="284"/>
                  <a:pt x="100" y="284"/>
                  <a:pt x="100" y="284"/>
                </a:cubicBezTo>
                <a:cubicBezTo>
                  <a:pt x="163" y="284"/>
                  <a:pt x="163" y="284"/>
                  <a:pt x="163" y="284"/>
                </a:cubicBezTo>
                <a:cubicBezTo>
                  <a:pt x="163" y="278"/>
                  <a:pt x="163" y="278"/>
                  <a:pt x="163" y="278"/>
                </a:cubicBezTo>
                <a:cubicBezTo>
                  <a:pt x="236" y="278"/>
                  <a:pt x="236" y="278"/>
                  <a:pt x="236" y="278"/>
                </a:cubicBezTo>
                <a:cubicBezTo>
                  <a:pt x="236" y="265"/>
                  <a:pt x="236" y="265"/>
                  <a:pt x="236" y="265"/>
                </a:cubicBezTo>
                <a:cubicBezTo>
                  <a:pt x="255" y="265"/>
                  <a:pt x="255" y="265"/>
                  <a:pt x="255" y="265"/>
                </a:cubicBezTo>
                <a:cubicBezTo>
                  <a:pt x="255" y="286"/>
                  <a:pt x="255" y="286"/>
                  <a:pt x="255" y="286"/>
                </a:cubicBezTo>
                <a:cubicBezTo>
                  <a:pt x="351" y="286"/>
                  <a:pt x="351" y="286"/>
                  <a:pt x="351" y="286"/>
                </a:cubicBezTo>
                <a:cubicBezTo>
                  <a:pt x="351" y="300"/>
                  <a:pt x="351" y="300"/>
                  <a:pt x="351" y="300"/>
                </a:cubicBezTo>
                <a:cubicBezTo>
                  <a:pt x="453" y="300"/>
                  <a:pt x="453" y="300"/>
                  <a:pt x="453" y="300"/>
                </a:cubicBezTo>
                <a:cubicBezTo>
                  <a:pt x="453" y="235"/>
                  <a:pt x="453" y="235"/>
                  <a:pt x="453" y="235"/>
                </a:cubicBezTo>
                <a:cubicBezTo>
                  <a:pt x="453" y="217"/>
                  <a:pt x="439" y="203"/>
                  <a:pt x="421" y="203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Freeform 34"/>
          <p:cNvSpPr/>
          <p:nvPr/>
        </p:nvSpPr>
        <p:spPr>
          <a:xfrm>
            <a:off x="8775720" y="4903920"/>
            <a:ext cx="1541520" cy="1728720"/>
          </a:xfrm>
          <a:custGeom>
            <a:avLst/>
            <a:gdLst>
              <a:gd name="textAreaLeft" fmla="*/ 0 w 1541520"/>
              <a:gd name="textAreaRight" fmla="*/ 1541880 w 154152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267" h="299">
                <a:moveTo>
                  <a:pt x="235" y="202"/>
                </a:moveTo>
                <a:cubicBezTo>
                  <a:pt x="185" y="202"/>
                  <a:pt x="185" y="202"/>
                  <a:pt x="185" y="202"/>
                </a:cubicBezTo>
                <a:cubicBezTo>
                  <a:pt x="185" y="174"/>
                  <a:pt x="185" y="174"/>
                  <a:pt x="185" y="174"/>
                </a:cubicBezTo>
                <a:cubicBezTo>
                  <a:pt x="185" y="149"/>
                  <a:pt x="165" y="129"/>
                  <a:pt x="140" y="129"/>
                </a:cubicBezTo>
                <a:cubicBezTo>
                  <a:pt x="82" y="129"/>
                  <a:pt x="82" y="129"/>
                  <a:pt x="82" y="129"/>
                </a:cubicBezTo>
                <a:cubicBezTo>
                  <a:pt x="82" y="98"/>
                  <a:pt x="82" y="98"/>
                  <a:pt x="82" y="98"/>
                </a:cubicBezTo>
                <a:cubicBezTo>
                  <a:pt x="82" y="82"/>
                  <a:pt x="69" y="69"/>
                  <a:pt x="53" y="69"/>
                </a:cubicBezTo>
                <a:cubicBezTo>
                  <a:pt x="50" y="69"/>
                  <a:pt x="50" y="69"/>
                  <a:pt x="50" y="69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23"/>
                  <a:pt x="30" y="1"/>
                  <a:pt x="5" y="0"/>
                </a:cubicBezTo>
                <a:cubicBezTo>
                  <a:pt x="3" y="0"/>
                  <a:pt x="1" y="0"/>
                  <a:pt x="0" y="0"/>
                </a:cubicBezTo>
                <a:cubicBezTo>
                  <a:pt x="0" y="277"/>
                  <a:pt x="0" y="277"/>
                  <a:pt x="0" y="277"/>
                </a:cubicBezTo>
                <a:cubicBezTo>
                  <a:pt x="50" y="277"/>
                  <a:pt x="50" y="277"/>
                  <a:pt x="50" y="277"/>
                </a:cubicBezTo>
                <a:cubicBezTo>
                  <a:pt x="50" y="264"/>
                  <a:pt x="50" y="264"/>
                  <a:pt x="50" y="264"/>
                </a:cubicBezTo>
                <a:cubicBezTo>
                  <a:pt x="69" y="264"/>
                  <a:pt x="69" y="264"/>
                  <a:pt x="69" y="264"/>
                </a:cubicBezTo>
                <a:cubicBezTo>
                  <a:pt x="69" y="285"/>
                  <a:pt x="69" y="285"/>
                  <a:pt x="69" y="285"/>
                </a:cubicBezTo>
                <a:cubicBezTo>
                  <a:pt x="165" y="285"/>
                  <a:pt x="165" y="285"/>
                  <a:pt x="165" y="285"/>
                </a:cubicBezTo>
                <a:cubicBezTo>
                  <a:pt x="165" y="299"/>
                  <a:pt x="165" y="299"/>
                  <a:pt x="165" y="299"/>
                </a:cubicBezTo>
                <a:cubicBezTo>
                  <a:pt x="267" y="299"/>
                  <a:pt x="267" y="299"/>
                  <a:pt x="267" y="299"/>
                </a:cubicBezTo>
                <a:cubicBezTo>
                  <a:pt x="267" y="234"/>
                  <a:pt x="267" y="234"/>
                  <a:pt x="267" y="234"/>
                </a:cubicBezTo>
                <a:cubicBezTo>
                  <a:pt x="267" y="216"/>
                  <a:pt x="253" y="202"/>
                  <a:pt x="235" y="202"/>
                </a:cubicBezTo>
                <a:close/>
              </a:path>
            </a:pathLst>
          </a:custGeom>
          <a:solidFill>
            <a:srgbClr val="4866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74"/>
          <p:cNvSpPr/>
          <p:nvPr/>
        </p:nvSpPr>
        <p:spPr>
          <a:xfrm>
            <a:off x="11315880" y="4527720"/>
            <a:ext cx="137880" cy="726840"/>
          </a:xfrm>
          <a:custGeom>
            <a:avLst/>
            <a:gdLst/>
            <a:ahLst/>
            <a:rect l="l" t="t" r="r" b="b"/>
            <a:pathLst>
              <a:path w="94" h="496">
                <a:moveTo>
                  <a:pt x="0" y="496"/>
                </a:moveTo>
                <a:lnTo>
                  <a:pt x="94" y="409"/>
                </a:lnTo>
                <a:lnTo>
                  <a:pt x="94" y="0"/>
                </a:lnTo>
                <a:lnTo>
                  <a:pt x="4" y="0"/>
                </a:lnTo>
                <a:lnTo>
                  <a:pt x="0" y="496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Freeform 75"/>
          <p:cNvSpPr/>
          <p:nvPr/>
        </p:nvSpPr>
        <p:spPr>
          <a:xfrm>
            <a:off x="10137600" y="4178160"/>
            <a:ext cx="293760" cy="1417680"/>
          </a:xfrm>
          <a:custGeom>
            <a:avLst/>
            <a:gdLst>
              <a:gd name="textAreaLeft" fmla="*/ 0 w 293760"/>
              <a:gd name="textAreaRight" fmla="*/ 294120 w 293760"/>
              <a:gd name="textAreaTop" fmla="*/ 0 h 1417680"/>
              <a:gd name="textAreaBottom" fmla="*/ 1417680 h 1417680"/>
            </a:gdLst>
            <a:ahLst/>
            <a:rect l="textAreaLeft" t="textAreaTop" r="textAreaRight" b="textAreaBottom"/>
            <a:pathLst>
              <a:path w="200" h="965">
                <a:moveTo>
                  <a:pt x="200" y="965"/>
                </a:moveTo>
                <a:lnTo>
                  <a:pt x="0" y="792"/>
                </a:lnTo>
                <a:lnTo>
                  <a:pt x="0" y="0"/>
                </a:lnTo>
                <a:lnTo>
                  <a:pt x="200" y="0"/>
                </a:lnTo>
                <a:lnTo>
                  <a:pt x="200" y="965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76"/>
          <p:cNvSpPr/>
          <p:nvPr/>
        </p:nvSpPr>
        <p:spPr>
          <a:xfrm>
            <a:off x="10503000" y="4757760"/>
            <a:ext cx="374400" cy="1771560"/>
          </a:xfrm>
          <a:custGeom>
            <a:avLst/>
            <a:gdLst>
              <a:gd name="textAreaLeft" fmla="*/ 0 w 374400"/>
              <a:gd name="textAreaRight" fmla="*/ 374760 w 374400"/>
              <a:gd name="textAreaTop" fmla="*/ 0 h 1771560"/>
              <a:gd name="textAreaBottom" fmla="*/ 1771920 h 1771560"/>
            </a:gdLst>
            <a:ahLst/>
            <a:rect l="textAreaLeft" t="textAreaTop" r="textAreaRight" b="textAreaBottom"/>
            <a:pathLst>
              <a:path w="255" h="1206">
                <a:moveTo>
                  <a:pt x="255" y="0"/>
                </a:moveTo>
                <a:lnTo>
                  <a:pt x="0" y="0"/>
                </a:lnTo>
                <a:lnTo>
                  <a:pt x="3" y="890"/>
                </a:lnTo>
                <a:lnTo>
                  <a:pt x="78" y="969"/>
                </a:lnTo>
                <a:lnTo>
                  <a:pt x="78" y="1206"/>
                </a:lnTo>
                <a:lnTo>
                  <a:pt x="255" y="1206"/>
                </a:lnTo>
                <a:lnTo>
                  <a:pt x="255" y="1146"/>
                </a:lnTo>
                <a:lnTo>
                  <a:pt x="255" y="1146"/>
                </a:lnTo>
                <a:lnTo>
                  <a:pt x="255" y="0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77"/>
          <p:cNvSpPr/>
          <p:nvPr/>
        </p:nvSpPr>
        <p:spPr>
          <a:xfrm>
            <a:off x="10871280" y="4127400"/>
            <a:ext cx="450720" cy="2401920"/>
          </a:xfrm>
          <a:custGeom>
            <a:avLst/>
            <a:gdLst>
              <a:gd name="textAreaLeft" fmla="*/ 0 w 450720"/>
              <a:gd name="textAreaRight" fmla="*/ 450720 w 450720"/>
              <a:gd name="textAreaTop" fmla="*/ 0 h 2401920"/>
              <a:gd name="textAreaBottom" fmla="*/ 2402280 h 2401920"/>
            </a:gdLst>
            <a:ahLst/>
            <a:rect l="textAreaLeft" t="textAreaTop" r="textAreaRight" b="textAreaBottom"/>
            <a:pathLst>
              <a:path w="307" h="1635">
                <a:moveTo>
                  <a:pt x="4" y="1635"/>
                </a:moveTo>
                <a:lnTo>
                  <a:pt x="134" y="1635"/>
                </a:lnTo>
                <a:lnTo>
                  <a:pt x="303" y="1473"/>
                </a:lnTo>
                <a:lnTo>
                  <a:pt x="307" y="0"/>
                </a:lnTo>
                <a:lnTo>
                  <a:pt x="0" y="0"/>
                </a:lnTo>
                <a:lnTo>
                  <a:pt x="4" y="1635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78"/>
          <p:cNvSpPr/>
          <p:nvPr/>
        </p:nvSpPr>
        <p:spPr>
          <a:xfrm>
            <a:off x="10323360" y="4578480"/>
            <a:ext cx="293760" cy="1380960"/>
          </a:xfrm>
          <a:custGeom>
            <a:avLst/>
            <a:gdLst>
              <a:gd name="textAreaLeft" fmla="*/ 0 w 293760"/>
              <a:gd name="textAreaRight" fmla="*/ 294120 w 29376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w="200" h="941">
                <a:moveTo>
                  <a:pt x="200" y="941"/>
                </a:moveTo>
                <a:lnTo>
                  <a:pt x="0" y="764"/>
                </a:lnTo>
                <a:lnTo>
                  <a:pt x="0" y="0"/>
                </a:lnTo>
                <a:lnTo>
                  <a:pt x="200" y="0"/>
                </a:lnTo>
                <a:lnTo>
                  <a:pt x="200" y="94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79"/>
          <p:cNvSpPr/>
          <p:nvPr/>
        </p:nvSpPr>
        <p:spPr>
          <a:xfrm>
            <a:off x="10503000" y="4289400"/>
            <a:ext cx="374400" cy="1682640"/>
          </a:xfrm>
          <a:custGeom>
            <a:avLst/>
            <a:gdLst>
              <a:gd name="textAreaLeft" fmla="*/ 0 w 374400"/>
              <a:gd name="textAreaRight" fmla="*/ 374760 w 3744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255" h="1146">
                <a:moveTo>
                  <a:pt x="255" y="1146"/>
                </a:moveTo>
                <a:lnTo>
                  <a:pt x="3" y="890"/>
                </a:lnTo>
                <a:lnTo>
                  <a:pt x="0" y="0"/>
                </a:lnTo>
                <a:lnTo>
                  <a:pt x="255" y="0"/>
                </a:lnTo>
                <a:lnTo>
                  <a:pt x="255" y="1146"/>
                </a:lnTo>
                <a:close/>
              </a:path>
            </a:pathLst>
          </a:custGeom>
          <a:solidFill>
            <a:srgbClr val="8b6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Freeform 80"/>
          <p:cNvSpPr/>
          <p:nvPr/>
        </p:nvSpPr>
        <p:spPr>
          <a:xfrm>
            <a:off x="10877400" y="4289400"/>
            <a:ext cx="295560" cy="1892160"/>
          </a:xfrm>
          <a:custGeom>
            <a:avLst/>
            <a:gdLst>
              <a:gd name="textAreaLeft" fmla="*/ 0 w 295560"/>
              <a:gd name="textAreaRight" fmla="*/ 295920 w 29556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201" h="1288">
                <a:moveTo>
                  <a:pt x="0" y="1288"/>
                </a:moveTo>
                <a:lnTo>
                  <a:pt x="201" y="1115"/>
                </a:lnTo>
                <a:lnTo>
                  <a:pt x="201" y="0"/>
                </a:lnTo>
                <a:lnTo>
                  <a:pt x="0" y="0"/>
                </a:lnTo>
                <a:lnTo>
                  <a:pt x="0" y="1288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81"/>
          <p:cNvSpPr/>
          <p:nvPr/>
        </p:nvSpPr>
        <p:spPr>
          <a:xfrm>
            <a:off x="10715760" y="4289400"/>
            <a:ext cx="160200" cy="1347840"/>
          </a:xfrm>
          <a:custGeom>
            <a:avLst/>
            <a:gdLst>
              <a:gd name="textAreaLeft" fmla="*/ 0 w 160200"/>
              <a:gd name="textAreaRight" fmla="*/ 160560 w 160200"/>
              <a:gd name="textAreaTop" fmla="*/ 0 h 1347840"/>
              <a:gd name="textAreaBottom" fmla="*/ 1348200 h 1347840"/>
            </a:gdLst>
            <a:ahLst/>
            <a:rect l="textAreaLeft" t="textAreaTop" r="textAreaRight" b="textAreaBottom"/>
            <a:pathLst>
              <a:path w="110" h="918">
                <a:moveTo>
                  <a:pt x="110" y="918"/>
                </a:moveTo>
                <a:lnTo>
                  <a:pt x="0" y="796"/>
                </a:lnTo>
                <a:lnTo>
                  <a:pt x="0" y="0"/>
                </a:lnTo>
                <a:lnTo>
                  <a:pt x="110" y="0"/>
                </a:lnTo>
                <a:lnTo>
                  <a:pt x="110" y="918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82"/>
          <p:cNvSpPr/>
          <p:nvPr/>
        </p:nvSpPr>
        <p:spPr>
          <a:xfrm>
            <a:off x="10877400" y="4289400"/>
            <a:ext cx="214560" cy="1515960"/>
          </a:xfrm>
          <a:custGeom>
            <a:avLst/>
            <a:gdLst>
              <a:gd name="textAreaLeft" fmla="*/ 0 w 214560"/>
              <a:gd name="textAreaRight" fmla="*/ 214920 w 21456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46" h="1032">
                <a:moveTo>
                  <a:pt x="0" y="1032"/>
                </a:moveTo>
                <a:lnTo>
                  <a:pt x="142" y="890"/>
                </a:lnTo>
                <a:lnTo>
                  <a:pt x="146" y="0"/>
                </a:lnTo>
                <a:lnTo>
                  <a:pt x="0" y="0"/>
                </a:lnTo>
                <a:lnTo>
                  <a:pt x="0" y="1032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reeform 83"/>
          <p:cNvSpPr/>
          <p:nvPr/>
        </p:nvSpPr>
        <p:spPr>
          <a:xfrm>
            <a:off x="9890280" y="3375000"/>
            <a:ext cx="1638000" cy="1389240"/>
          </a:xfrm>
          <a:custGeom>
            <a:avLst/>
            <a:gdLst>
              <a:gd name="textAreaLeft" fmla="*/ 0 w 1638000"/>
              <a:gd name="textAreaRight" fmla="*/ 1638360 w 1638000"/>
              <a:gd name="textAreaTop" fmla="*/ 0 h 1389240"/>
              <a:gd name="textAreaBottom" fmla="*/ 1389240 h 1389240"/>
            </a:gdLst>
            <a:ahLst/>
            <a:rect l="textAreaLeft" t="textAreaTop" r="textAreaRight" b="textAreaBottom"/>
            <a:pathLst>
              <a:path w="284" h="240">
                <a:moveTo>
                  <a:pt x="284" y="97"/>
                </a:moveTo>
                <a:cubicBezTo>
                  <a:pt x="284" y="75"/>
                  <a:pt x="266" y="58"/>
                  <a:pt x="245" y="58"/>
                </a:cubicBezTo>
                <a:cubicBezTo>
                  <a:pt x="234" y="58"/>
                  <a:pt x="224" y="62"/>
                  <a:pt x="217" y="69"/>
                </a:cubicBezTo>
                <a:cubicBezTo>
                  <a:pt x="216" y="68"/>
                  <a:pt x="214" y="67"/>
                  <a:pt x="212" y="66"/>
                </a:cubicBezTo>
                <a:cubicBezTo>
                  <a:pt x="212" y="65"/>
                  <a:pt x="213" y="64"/>
                  <a:pt x="213" y="62"/>
                </a:cubicBezTo>
                <a:cubicBezTo>
                  <a:pt x="213" y="46"/>
                  <a:pt x="200" y="34"/>
                  <a:pt x="184" y="34"/>
                </a:cubicBezTo>
                <a:cubicBezTo>
                  <a:pt x="181" y="34"/>
                  <a:pt x="178" y="34"/>
                  <a:pt x="176" y="35"/>
                </a:cubicBezTo>
                <a:cubicBezTo>
                  <a:pt x="176" y="35"/>
                  <a:pt x="176" y="34"/>
                  <a:pt x="176" y="34"/>
                </a:cubicBezTo>
                <a:cubicBezTo>
                  <a:pt x="176" y="15"/>
                  <a:pt x="161" y="0"/>
                  <a:pt x="142" y="0"/>
                </a:cubicBezTo>
                <a:cubicBezTo>
                  <a:pt x="124" y="0"/>
                  <a:pt x="109" y="15"/>
                  <a:pt x="109" y="34"/>
                </a:cubicBezTo>
                <a:cubicBezTo>
                  <a:pt x="109" y="42"/>
                  <a:pt x="112" y="49"/>
                  <a:pt x="117" y="55"/>
                </a:cubicBezTo>
                <a:cubicBezTo>
                  <a:pt x="111" y="50"/>
                  <a:pt x="105" y="47"/>
                  <a:pt x="97" y="47"/>
                </a:cubicBezTo>
                <a:cubicBezTo>
                  <a:pt x="80" y="47"/>
                  <a:pt x="67" y="61"/>
                  <a:pt x="67" y="77"/>
                </a:cubicBezTo>
                <a:cubicBezTo>
                  <a:pt x="67" y="83"/>
                  <a:pt x="68" y="87"/>
                  <a:pt x="71" y="91"/>
                </a:cubicBezTo>
                <a:cubicBezTo>
                  <a:pt x="68" y="92"/>
                  <a:pt x="65" y="93"/>
                  <a:pt x="63" y="94"/>
                </a:cubicBezTo>
                <a:cubicBezTo>
                  <a:pt x="57" y="84"/>
                  <a:pt x="46" y="77"/>
                  <a:pt x="34" y="77"/>
                </a:cubicBezTo>
                <a:cubicBezTo>
                  <a:pt x="15" y="77"/>
                  <a:pt x="0" y="92"/>
                  <a:pt x="0" y="111"/>
                </a:cubicBezTo>
                <a:cubicBezTo>
                  <a:pt x="0" y="125"/>
                  <a:pt x="10" y="138"/>
                  <a:pt x="23" y="142"/>
                </a:cubicBezTo>
                <a:cubicBezTo>
                  <a:pt x="12" y="147"/>
                  <a:pt x="4" y="157"/>
                  <a:pt x="4" y="170"/>
                </a:cubicBezTo>
                <a:cubicBezTo>
                  <a:pt x="4" y="186"/>
                  <a:pt x="17" y="199"/>
                  <a:pt x="34" y="199"/>
                </a:cubicBezTo>
                <a:cubicBezTo>
                  <a:pt x="43" y="199"/>
                  <a:pt x="51" y="195"/>
                  <a:pt x="57" y="188"/>
                </a:cubicBezTo>
                <a:cubicBezTo>
                  <a:pt x="60" y="193"/>
                  <a:pt x="66" y="196"/>
                  <a:pt x="73" y="196"/>
                </a:cubicBezTo>
                <a:cubicBezTo>
                  <a:pt x="73" y="220"/>
                  <a:pt x="73" y="220"/>
                  <a:pt x="73" y="220"/>
                </a:cubicBezTo>
                <a:cubicBezTo>
                  <a:pt x="73" y="231"/>
                  <a:pt x="82" y="240"/>
                  <a:pt x="92" y="240"/>
                </a:cubicBezTo>
                <a:cubicBezTo>
                  <a:pt x="103" y="240"/>
                  <a:pt x="112" y="231"/>
                  <a:pt x="112" y="220"/>
                </a:cubicBezTo>
                <a:cubicBezTo>
                  <a:pt x="112" y="196"/>
                  <a:pt x="112" y="196"/>
                  <a:pt x="112" y="196"/>
                </a:cubicBezTo>
                <a:cubicBezTo>
                  <a:pt x="113" y="196"/>
                  <a:pt x="113" y="196"/>
                  <a:pt x="114" y="196"/>
                </a:cubicBezTo>
                <a:cubicBezTo>
                  <a:pt x="115" y="196"/>
                  <a:pt x="116" y="196"/>
                  <a:pt x="117" y="196"/>
                </a:cubicBezTo>
                <a:cubicBezTo>
                  <a:pt x="119" y="207"/>
                  <a:pt x="128" y="214"/>
                  <a:pt x="139" y="214"/>
                </a:cubicBezTo>
                <a:cubicBezTo>
                  <a:pt x="151" y="214"/>
                  <a:pt x="161" y="205"/>
                  <a:pt x="161" y="193"/>
                </a:cubicBezTo>
                <a:cubicBezTo>
                  <a:pt x="161" y="193"/>
                  <a:pt x="162" y="193"/>
                  <a:pt x="162" y="193"/>
                </a:cubicBezTo>
                <a:cubicBezTo>
                  <a:pt x="162" y="205"/>
                  <a:pt x="172" y="214"/>
                  <a:pt x="184" y="214"/>
                </a:cubicBezTo>
                <a:cubicBezTo>
                  <a:pt x="195" y="214"/>
                  <a:pt x="205" y="206"/>
                  <a:pt x="206" y="195"/>
                </a:cubicBezTo>
                <a:cubicBezTo>
                  <a:pt x="209" y="196"/>
                  <a:pt x="211" y="196"/>
                  <a:pt x="214" y="196"/>
                </a:cubicBezTo>
                <a:cubicBezTo>
                  <a:pt x="240" y="196"/>
                  <a:pt x="262" y="174"/>
                  <a:pt x="262" y="148"/>
                </a:cubicBezTo>
                <a:cubicBezTo>
                  <a:pt x="262" y="143"/>
                  <a:pt x="261" y="138"/>
                  <a:pt x="260" y="133"/>
                </a:cubicBezTo>
                <a:cubicBezTo>
                  <a:pt x="274" y="127"/>
                  <a:pt x="284" y="113"/>
                  <a:pt x="284" y="97"/>
                </a:cubicBezTo>
                <a:close/>
              </a:path>
            </a:pathLst>
          </a:custGeom>
          <a:solidFill>
            <a:srgbClr val="00b9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reeform 84"/>
          <p:cNvSpPr/>
          <p:nvPr/>
        </p:nvSpPr>
        <p:spPr>
          <a:xfrm>
            <a:off x="10431360" y="3375000"/>
            <a:ext cx="1096920" cy="1389240"/>
          </a:xfrm>
          <a:custGeom>
            <a:avLst/>
            <a:gdLst/>
            <a:ahLst/>
            <a:rect l="l" t="t" r="r" b="b"/>
            <a:pathLst>
              <a:path w="190" h="240">
                <a:moveTo>
                  <a:pt x="151" y="58"/>
                </a:moveTo>
                <a:cubicBezTo>
                  <a:pt x="140" y="58"/>
                  <a:pt x="130" y="62"/>
                  <a:pt x="123" y="69"/>
                </a:cubicBezTo>
                <a:cubicBezTo>
                  <a:pt x="122" y="68"/>
                  <a:pt x="120" y="67"/>
                  <a:pt x="118" y="66"/>
                </a:cubicBezTo>
                <a:cubicBezTo>
                  <a:pt x="118" y="65"/>
                  <a:pt x="119" y="64"/>
                  <a:pt x="119" y="62"/>
                </a:cubicBezTo>
                <a:cubicBezTo>
                  <a:pt x="119" y="46"/>
                  <a:pt x="106" y="34"/>
                  <a:pt x="90" y="34"/>
                </a:cubicBezTo>
                <a:cubicBezTo>
                  <a:pt x="87" y="34"/>
                  <a:pt x="84" y="34"/>
                  <a:pt x="82" y="35"/>
                </a:cubicBezTo>
                <a:cubicBezTo>
                  <a:pt x="82" y="35"/>
                  <a:pt x="82" y="34"/>
                  <a:pt x="82" y="34"/>
                </a:cubicBezTo>
                <a:cubicBezTo>
                  <a:pt x="82" y="15"/>
                  <a:pt x="67" y="0"/>
                  <a:pt x="48" y="0"/>
                </a:cubicBezTo>
                <a:cubicBezTo>
                  <a:pt x="30" y="0"/>
                  <a:pt x="15" y="15"/>
                  <a:pt x="15" y="34"/>
                </a:cubicBezTo>
                <a:cubicBezTo>
                  <a:pt x="15" y="42"/>
                  <a:pt x="18" y="49"/>
                  <a:pt x="23" y="55"/>
                </a:cubicBezTo>
                <a:cubicBezTo>
                  <a:pt x="17" y="50"/>
                  <a:pt x="11" y="47"/>
                  <a:pt x="3" y="47"/>
                </a:cubicBezTo>
                <a:cubicBezTo>
                  <a:pt x="2" y="47"/>
                  <a:pt x="1" y="48"/>
                  <a:pt x="0" y="48"/>
                </a:cubicBezTo>
                <a:cubicBezTo>
                  <a:pt x="0" y="240"/>
                  <a:pt x="0" y="240"/>
                  <a:pt x="0" y="240"/>
                </a:cubicBezTo>
                <a:cubicBezTo>
                  <a:pt x="10" y="240"/>
                  <a:pt x="18" y="231"/>
                  <a:pt x="18" y="220"/>
                </a:cubicBezTo>
                <a:cubicBezTo>
                  <a:pt x="18" y="196"/>
                  <a:pt x="18" y="196"/>
                  <a:pt x="18" y="196"/>
                </a:cubicBezTo>
                <a:cubicBezTo>
                  <a:pt x="19" y="196"/>
                  <a:pt x="19" y="196"/>
                  <a:pt x="20" y="196"/>
                </a:cubicBezTo>
                <a:cubicBezTo>
                  <a:pt x="21" y="196"/>
                  <a:pt x="22" y="196"/>
                  <a:pt x="23" y="196"/>
                </a:cubicBezTo>
                <a:cubicBezTo>
                  <a:pt x="25" y="207"/>
                  <a:pt x="34" y="214"/>
                  <a:pt x="45" y="214"/>
                </a:cubicBezTo>
                <a:cubicBezTo>
                  <a:pt x="57" y="214"/>
                  <a:pt x="67" y="205"/>
                  <a:pt x="67" y="193"/>
                </a:cubicBezTo>
                <a:cubicBezTo>
                  <a:pt x="67" y="193"/>
                  <a:pt x="68" y="193"/>
                  <a:pt x="68" y="193"/>
                </a:cubicBezTo>
                <a:cubicBezTo>
                  <a:pt x="68" y="205"/>
                  <a:pt x="78" y="214"/>
                  <a:pt x="90" y="214"/>
                </a:cubicBezTo>
                <a:cubicBezTo>
                  <a:pt x="101" y="214"/>
                  <a:pt x="111" y="206"/>
                  <a:pt x="112" y="195"/>
                </a:cubicBezTo>
                <a:cubicBezTo>
                  <a:pt x="115" y="196"/>
                  <a:pt x="117" y="196"/>
                  <a:pt x="120" y="196"/>
                </a:cubicBezTo>
                <a:cubicBezTo>
                  <a:pt x="146" y="196"/>
                  <a:pt x="168" y="174"/>
                  <a:pt x="168" y="148"/>
                </a:cubicBezTo>
                <a:cubicBezTo>
                  <a:pt x="168" y="143"/>
                  <a:pt x="167" y="138"/>
                  <a:pt x="166" y="133"/>
                </a:cubicBezTo>
                <a:cubicBezTo>
                  <a:pt x="180" y="127"/>
                  <a:pt x="190" y="113"/>
                  <a:pt x="190" y="97"/>
                </a:cubicBezTo>
                <a:cubicBezTo>
                  <a:pt x="190" y="75"/>
                  <a:pt x="172" y="58"/>
                  <a:pt x="151" y="58"/>
                </a:cubicBezTo>
                <a:close/>
              </a:path>
            </a:pathLst>
          </a:custGeom>
          <a:solidFill>
            <a:srgbClr val="009a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85"/>
          <p:cNvSpPr/>
          <p:nvPr/>
        </p:nvSpPr>
        <p:spPr>
          <a:xfrm>
            <a:off x="11004480" y="3578400"/>
            <a:ext cx="523800" cy="1023840"/>
          </a:xfrm>
          <a:custGeom>
            <a:avLst/>
            <a:gdLst>
              <a:gd name="textAreaLeft" fmla="*/ 0 w 523800"/>
              <a:gd name="textAreaRight" fmla="*/ 524160 w 52380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91" h="177">
                <a:moveTo>
                  <a:pt x="52" y="23"/>
                </a:moveTo>
                <a:cubicBezTo>
                  <a:pt x="41" y="23"/>
                  <a:pt x="31" y="27"/>
                  <a:pt x="24" y="34"/>
                </a:cubicBezTo>
                <a:cubicBezTo>
                  <a:pt x="23" y="33"/>
                  <a:pt x="21" y="32"/>
                  <a:pt x="19" y="31"/>
                </a:cubicBezTo>
                <a:cubicBezTo>
                  <a:pt x="19" y="30"/>
                  <a:pt x="20" y="29"/>
                  <a:pt x="20" y="27"/>
                </a:cubicBezTo>
                <a:cubicBezTo>
                  <a:pt x="20" y="14"/>
                  <a:pt x="11" y="4"/>
                  <a:pt x="0" y="0"/>
                </a:cubicBezTo>
                <a:cubicBezTo>
                  <a:pt x="0" y="177"/>
                  <a:pt x="0" y="177"/>
                  <a:pt x="0" y="177"/>
                </a:cubicBezTo>
                <a:cubicBezTo>
                  <a:pt x="7" y="174"/>
                  <a:pt x="12" y="168"/>
                  <a:pt x="13" y="160"/>
                </a:cubicBezTo>
                <a:cubicBezTo>
                  <a:pt x="16" y="161"/>
                  <a:pt x="18" y="161"/>
                  <a:pt x="21" y="161"/>
                </a:cubicBezTo>
                <a:cubicBezTo>
                  <a:pt x="47" y="161"/>
                  <a:pt x="69" y="139"/>
                  <a:pt x="69" y="113"/>
                </a:cubicBezTo>
                <a:cubicBezTo>
                  <a:pt x="69" y="108"/>
                  <a:pt x="68" y="103"/>
                  <a:pt x="67" y="98"/>
                </a:cubicBezTo>
                <a:cubicBezTo>
                  <a:pt x="81" y="92"/>
                  <a:pt x="91" y="78"/>
                  <a:pt x="91" y="62"/>
                </a:cubicBezTo>
                <a:cubicBezTo>
                  <a:pt x="91" y="40"/>
                  <a:pt x="73" y="23"/>
                  <a:pt x="52" y="23"/>
                </a:cubicBezTo>
                <a:close/>
              </a:path>
            </a:pathLst>
          </a:cu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86"/>
          <p:cNvSpPr/>
          <p:nvPr/>
        </p:nvSpPr>
        <p:spPr>
          <a:xfrm>
            <a:off x="11079000" y="4202280"/>
            <a:ext cx="530280" cy="561960"/>
          </a:xfrm>
          <a:custGeom>
            <a:avLst/>
            <a:gdLst>
              <a:gd name="textAreaLeft" fmla="*/ 0 w 530280"/>
              <a:gd name="textAreaRight" fmla="*/ 530640 w 53028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92" h="97">
                <a:moveTo>
                  <a:pt x="63" y="12"/>
                </a:moveTo>
                <a:cubicBezTo>
                  <a:pt x="57" y="12"/>
                  <a:pt x="51" y="13"/>
                  <a:pt x="47" y="16"/>
                </a:cubicBezTo>
                <a:cubicBezTo>
                  <a:pt x="44" y="7"/>
                  <a:pt x="35" y="0"/>
                  <a:pt x="24" y="0"/>
                </a:cubicBezTo>
                <a:cubicBezTo>
                  <a:pt x="10" y="0"/>
                  <a:pt x="0" y="11"/>
                  <a:pt x="0" y="24"/>
                </a:cubicBezTo>
                <a:cubicBezTo>
                  <a:pt x="0" y="35"/>
                  <a:pt x="7" y="45"/>
                  <a:pt x="17" y="47"/>
                </a:cubicBezTo>
                <a:cubicBezTo>
                  <a:pt x="11" y="53"/>
                  <a:pt x="7" y="60"/>
                  <a:pt x="7" y="69"/>
                </a:cubicBezTo>
                <a:cubicBezTo>
                  <a:pt x="7" y="85"/>
                  <a:pt x="19" y="97"/>
                  <a:pt x="35" y="97"/>
                </a:cubicBezTo>
                <a:cubicBezTo>
                  <a:pt x="49" y="97"/>
                  <a:pt x="62" y="86"/>
                  <a:pt x="62" y="71"/>
                </a:cubicBezTo>
                <a:cubicBezTo>
                  <a:pt x="62" y="71"/>
                  <a:pt x="63" y="71"/>
                  <a:pt x="63" y="71"/>
                </a:cubicBezTo>
                <a:cubicBezTo>
                  <a:pt x="79" y="71"/>
                  <a:pt x="92" y="58"/>
                  <a:pt x="92" y="41"/>
                </a:cubicBezTo>
                <a:cubicBezTo>
                  <a:pt x="92" y="25"/>
                  <a:pt x="79" y="12"/>
                  <a:pt x="63" y="12"/>
                </a:cubicBezTo>
                <a:close/>
              </a:path>
            </a:pathLst>
          </a:cu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87"/>
          <p:cNvSpPr/>
          <p:nvPr/>
        </p:nvSpPr>
        <p:spPr>
          <a:xfrm>
            <a:off x="11661840" y="4243320"/>
            <a:ext cx="155520" cy="150840"/>
          </a:xfrm>
          <a:prstGeom prst="ellipse">
            <a:avLst/>
          </a:pr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88"/>
          <p:cNvSpPr/>
          <p:nvPr/>
        </p:nvSpPr>
        <p:spPr>
          <a:xfrm>
            <a:off x="10385280" y="4849920"/>
            <a:ext cx="174600" cy="1792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89"/>
          <p:cNvSpPr/>
          <p:nvPr/>
        </p:nvSpPr>
        <p:spPr>
          <a:xfrm>
            <a:off x="9941040" y="3594240"/>
            <a:ext cx="144360" cy="1396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val 90"/>
          <p:cNvSpPr/>
          <p:nvPr/>
        </p:nvSpPr>
        <p:spPr>
          <a:xfrm>
            <a:off x="10652040" y="3733920"/>
            <a:ext cx="168480" cy="16812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91"/>
          <p:cNvSpPr/>
          <p:nvPr/>
        </p:nvSpPr>
        <p:spPr>
          <a:xfrm>
            <a:off x="10559880" y="3987720"/>
            <a:ext cx="392400" cy="38916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92"/>
          <p:cNvSpPr/>
          <p:nvPr/>
        </p:nvSpPr>
        <p:spPr>
          <a:xfrm>
            <a:off x="9109080" y="5648400"/>
            <a:ext cx="98280" cy="301680"/>
          </a:xfrm>
          <a:custGeom>
            <a:avLst/>
            <a:gdLst>
              <a:gd name="textAreaLeft" fmla="*/ 0 w 98280"/>
              <a:gd name="textAreaRight" fmla="*/ 98640 w 9828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67" h="205">
                <a:moveTo>
                  <a:pt x="67" y="205"/>
                </a:moveTo>
                <a:lnTo>
                  <a:pt x="0" y="153"/>
                </a:lnTo>
                <a:lnTo>
                  <a:pt x="0" y="51"/>
                </a:lnTo>
                <a:lnTo>
                  <a:pt x="67" y="0"/>
                </a:lnTo>
                <a:lnTo>
                  <a:pt x="67" y="205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93"/>
          <p:cNvSpPr/>
          <p:nvPr/>
        </p:nvSpPr>
        <p:spPr>
          <a:xfrm>
            <a:off x="9202680" y="5208480"/>
            <a:ext cx="345960" cy="1638360"/>
          </a:xfrm>
          <a:custGeom>
            <a:avLst/>
            <a:gdLst>
              <a:gd name="textAreaLeft" fmla="*/ 0 w 345960"/>
              <a:gd name="textAreaRight" fmla="*/ 346320 w 34596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236" h="1115">
                <a:moveTo>
                  <a:pt x="236" y="863"/>
                </a:moveTo>
                <a:lnTo>
                  <a:pt x="232" y="0"/>
                </a:lnTo>
                <a:lnTo>
                  <a:pt x="0" y="0"/>
                </a:lnTo>
                <a:lnTo>
                  <a:pt x="0" y="631"/>
                </a:lnTo>
                <a:lnTo>
                  <a:pt x="94" y="709"/>
                </a:lnTo>
                <a:lnTo>
                  <a:pt x="94" y="1115"/>
                </a:lnTo>
                <a:lnTo>
                  <a:pt x="236" y="1115"/>
                </a:lnTo>
                <a:lnTo>
                  <a:pt x="236" y="863"/>
                </a:lnTo>
                <a:lnTo>
                  <a:pt x="236" y="863"/>
                </a:lnTo>
                <a:close/>
              </a:path>
            </a:pathLst>
          </a:custGeom>
          <a:solidFill>
            <a:srgbClr val="9b7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94"/>
          <p:cNvSpPr/>
          <p:nvPr/>
        </p:nvSpPr>
        <p:spPr>
          <a:xfrm>
            <a:off x="9543960" y="5208480"/>
            <a:ext cx="352440" cy="1211400"/>
          </a:xfrm>
          <a:custGeom>
            <a:avLst/>
            <a:gdLst/>
            <a:ahLst/>
            <a:rect l="l" t="t" r="r" b="b"/>
            <a:pathLst>
              <a:path w="240" h="824">
                <a:moveTo>
                  <a:pt x="0" y="824"/>
                </a:moveTo>
                <a:lnTo>
                  <a:pt x="236" y="583"/>
                </a:lnTo>
                <a:lnTo>
                  <a:pt x="240" y="0"/>
                </a:lnTo>
                <a:lnTo>
                  <a:pt x="4" y="0"/>
                </a:lnTo>
                <a:lnTo>
                  <a:pt x="0" y="824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reeform 95"/>
          <p:cNvSpPr/>
          <p:nvPr/>
        </p:nvSpPr>
        <p:spPr>
          <a:xfrm>
            <a:off x="9543960" y="5208480"/>
            <a:ext cx="212760" cy="933480"/>
          </a:xfrm>
          <a:custGeom>
            <a:avLst/>
            <a:gdLst>
              <a:gd name="textAreaLeft" fmla="*/ 0 w 212760"/>
              <a:gd name="textAreaRight" fmla="*/ 213120 w 21276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145" h="635">
                <a:moveTo>
                  <a:pt x="145" y="509"/>
                </a:moveTo>
                <a:lnTo>
                  <a:pt x="145" y="0"/>
                </a:lnTo>
                <a:lnTo>
                  <a:pt x="0" y="0"/>
                </a:lnTo>
                <a:lnTo>
                  <a:pt x="4" y="635"/>
                </a:lnTo>
                <a:lnTo>
                  <a:pt x="145" y="509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reeform 96"/>
          <p:cNvSpPr/>
          <p:nvPr/>
        </p:nvSpPr>
        <p:spPr>
          <a:xfrm>
            <a:off x="9369360" y="5208480"/>
            <a:ext cx="179280" cy="868320"/>
          </a:xfrm>
          <a:custGeom>
            <a:avLst/>
            <a:gdLst>
              <a:gd name="textAreaLeft" fmla="*/ 0 w 179280"/>
              <a:gd name="textAreaRight" fmla="*/ 179640 w 17928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22" h="591">
                <a:moveTo>
                  <a:pt x="122" y="591"/>
                </a:moveTo>
                <a:lnTo>
                  <a:pt x="4" y="477"/>
                </a:lnTo>
                <a:lnTo>
                  <a:pt x="0" y="0"/>
                </a:lnTo>
                <a:lnTo>
                  <a:pt x="118" y="0"/>
                </a:lnTo>
                <a:lnTo>
                  <a:pt x="122" y="59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97"/>
          <p:cNvSpPr/>
          <p:nvPr/>
        </p:nvSpPr>
        <p:spPr>
          <a:xfrm>
            <a:off x="9294840" y="5208480"/>
            <a:ext cx="253800" cy="642960"/>
          </a:xfrm>
          <a:custGeom>
            <a:avLst/>
            <a:gdLst>
              <a:gd name="textAreaLeft" fmla="*/ 0 w 253800"/>
              <a:gd name="textAreaRight" fmla="*/ 254160 w 2538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73" h="438">
                <a:moveTo>
                  <a:pt x="169" y="438"/>
                </a:moveTo>
                <a:lnTo>
                  <a:pt x="0" y="280"/>
                </a:lnTo>
                <a:lnTo>
                  <a:pt x="0" y="0"/>
                </a:lnTo>
                <a:lnTo>
                  <a:pt x="173" y="0"/>
                </a:lnTo>
                <a:lnTo>
                  <a:pt x="169" y="438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98"/>
          <p:cNvSpPr/>
          <p:nvPr/>
        </p:nvSpPr>
        <p:spPr>
          <a:xfrm>
            <a:off x="9548640" y="5602320"/>
            <a:ext cx="87480" cy="369720"/>
          </a:xfrm>
          <a:custGeom>
            <a:avLst/>
            <a:gdLst>
              <a:gd name="textAreaLeft" fmla="*/ 0 w 87480"/>
              <a:gd name="textAreaRight" fmla="*/ 87480 w 8748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59" h="252">
                <a:moveTo>
                  <a:pt x="0" y="252"/>
                </a:moveTo>
                <a:lnTo>
                  <a:pt x="59" y="201"/>
                </a:lnTo>
                <a:lnTo>
                  <a:pt x="59" y="55"/>
                </a:lnTo>
                <a:lnTo>
                  <a:pt x="0" y="0"/>
                </a:lnTo>
                <a:lnTo>
                  <a:pt x="0" y="252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99"/>
          <p:cNvSpPr/>
          <p:nvPr/>
        </p:nvSpPr>
        <p:spPr>
          <a:xfrm>
            <a:off x="10051920" y="5551560"/>
            <a:ext cx="200160" cy="2016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100"/>
          <p:cNvSpPr/>
          <p:nvPr/>
        </p:nvSpPr>
        <p:spPr>
          <a:xfrm>
            <a:off x="8556480" y="4429080"/>
            <a:ext cx="230400" cy="2304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104"/>
          <p:cNvSpPr/>
          <p:nvPr/>
        </p:nvSpPr>
        <p:spPr>
          <a:xfrm>
            <a:off x="9097920" y="428940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Freeform 105"/>
          <p:cNvSpPr/>
          <p:nvPr/>
        </p:nvSpPr>
        <p:spPr>
          <a:xfrm>
            <a:off x="8169120" y="483228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106"/>
          <p:cNvSpPr/>
          <p:nvPr/>
        </p:nvSpPr>
        <p:spPr>
          <a:xfrm>
            <a:off x="7839000" y="5291280"/>
            <a:ext cx="209520" cy="102960"/>
          </a:xfrm>
          <a:custGeom>
            <a:avLst/>
            <a:gdLst>
              <a:gd name="textAreaLeft" fmla="*/ 0 w 209520"/>
              <a:gd name="textAreaRight" fmla="*/ 209880 w 209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Freeform 107"/>
          <p:cNvSpPr/>
          <p:nvPr/>
        </p:nvSpPr>
        <p:spPr>
          <a:xfrm>
            <a:off x="8400960" y="5527800"/>
            <a:ext cx="182520" cy="91800"/>
          </a:xfrm>
          <a:custGeom>
            <a:avLst/>
            <a:gdLst>
              <a:gd name="textAreaLeft" fmla="*/ 0 w 182520"/>
              <a:gd name="textAreaRight" fmla="*/ 182880 w 1825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4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reeform 108"/>
          <p:cNvSpPr/>
          <p:nvPr/>
        </p:nvSpPr>
        <p:spPr>
          <a:xfrm>
            <a:off x="8694720" y="528012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109"/>
          <p:cNvSpPr/>
          <p:nvPr/>
        </p:nvSpPr>
        <p:spPr>
          <a:xfrm>
            <a:off x="8694720" y="568944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110"/>
          <p:cNvSpPr/>
          <p:nvPr/>
        </p:nvSpPr>
        <p:spPr>
          <a:xfrm>
            <a:off x="8677440" y="3733920"/>
            <a:ext cx="196560" cy="98280"/>
          </a:xfrm>
          <a:custGeom>
            <a:avLst/>
            <a:gdLst>
              <a:gd name="textAreaLeft" fmla="*/ 0 w 196560"/>
              <a:gd name="textAreaRight" fmla="*/ 196920 w 1965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34" h="17">
                <a:moveTo>
                  <a:pt x="17" y="0"/>
                </a:moveTo>
                <a:cubicBezTo>
                  <a:pt x="7" y="0"/>
                  <a:pt x="0" y="8"/>
                  <a:pt x="0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8"/>
                  <a:pt x="26" y="0"/>
                  <a:pt x="17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111"/>
          <p:cNvSpPr/>
          <p:nvPr/>
        </p:nvSpPr>
        <p:spPr>
          <a:xfrm>
            <a:off x="7943760" y="5965920"/>
            <a:ext cx="69840" cy="163440"/>
          </a:xfrm>
          <a:custGeom>
            <a:avLst/>
            <a:gdLst>
              <a:gd name="textAreaLeft" fmla="*/ 0 w 69840"/>
              <a:gd name="textAreaRight" fmla="*/ 70200 w 698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112"/>
          <p:cNvSpPr/>
          <p:nvPr/>
        </p:nvSpPr>
        <p:spPr>
          <a:xfrm>
            <a:off x="7978680" y="6094440"/>
            <a:ext cx="39960" cy="6840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reeform 113"/>
          <p:cNvSpPr/>
          <p:nvPr/>
        </p:nvSpPr>
        <p:spPr>
          <a:xfrm>
            <a:off x="7378560" y="6002280"/>
            <a:ext cx="160560" cy="98640"/>
          </a:xfrm>
          <a:custGeom>
            <a:avLst/>
            <a:gdLst>
              <a:gd name="textAreaLeft" fmla="*/ 0 w 160560"/>
              <a:gd name="textAreaRight" fmla="*/ 160920 w 1605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8" h="17">
                <a:moveTo>
                  <a:pt x="4" y="13"/>
                </a:moveTo>
                <a:cubicBezTo>
                  <a:pt x="3" y="13"/>
                  <a:pt x="2" y="13"/>
                  <a:pt x="0" y="13"/>
                </a:cubicBezTo>
                <a:cubicBezTo>
                  <a:pt x="3" y="15"/>
                  <a:pt x="7" y="17"/>
                  <a:pt x="11" y="17"/>
                </a:cubicBezTo>
                <a:cubicBezTo>
                  <a:pt x="20" y="17"/>
                  <a:pt x="28" y="9"/>
                  <a:pt x="28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114"/>
          <p:cNvSpPr/>
          <p:nvPr/>
        </p:nvSpPr>
        <p:spPr>
          <a:xfrm>
            <a:off x="7794720" y="6041880"/>
            <a:ext cx="79200" cy="2192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115"/>
          <p:cNvSpPr/>
          <p:nvPr/>
        </p:nvSpPr>
        <p:spPr>
          <a:xfrm>
            <a:off x="7567560" y="5989680"/>
            <a:ext cx="81000" cy="2714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Freeform 116"/>
          <p:cNvSpPr/>
          <p:nvPr/>
        </p:nvSpPr>
        <p:spPr>
          <a:xfrm>
            <a:off x="7632720" y="5891040"/>
            <a:ext cx="322200" cy="370080"/>
          </a:xfrm>
          <a:custGeom>
            <a:avLst/>
            <a:gdLst>
              <a:gd name="textAreaLeft" fmla="*/ 0 w 322200"/>
              <a:gd name="textAreaRight" fmla="*/ 322560 w 32220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6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2" y="34"/>
                </a:cubicBezTo>
                <a:cubicBezTo>
                  <a:pt x="35" y="34"/>
                  <a:pt x="35" y="34"/>
                  <a:pt x="35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6" y="34"/>
                  <a:pt x="56" y="34"/>
                  <a:pt x="56" y="34"/>
                </a:cubicBezTo>
                <a:cubicBezTo>
                  <a:pt x="56" y="26"/>
                  <a:pt x="56" y="26"/>
                  <a:pt x="56" y="26"/>
                </a:cubicBezTo>
                <a:cubicBezTo>
                  <a:pt x="56" y="17"/>
                  <a:pt x="56" y="17"/>
                  <a:pt x="56" y="17"/>
                </a:cubicBezTo>
                <a:cubicBezTo>
                  <a:pt x="56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Freeform 117"/>
          <p:cNvSpPr/>
          <p:nvPr/>
        </p:nvSpPr>
        <p:spPr>
          <a:xfrm>
            <a:off x="7632720" y="6105600"/>
            <a:ext cx="74520" cy="87120"/>
          </a:xfrm>
          <a:custGeom>
            <a:avLst/>
            <a:gdLst>
              <a:gd name="textAreaLeft" fmla="*/ 0 w 74520"/>
              <a:gd name="textAreaRight" fmla="*/ 74880 w 7452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3" h="15">
                <a:moveTo>
                  <a:pt x="13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3" y="15"/>
                  <a:pt x="13" y="15"/>
                  <a:pt x="13" y="15"/>
                </a:cubicBezTo>
                <a:lnTo>
                  <a:pt x="13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Freeform 118"/>
          <p:cNvSpPr/>
          <p:nvPr/>
        </p:nvSpPr>
        <p:spPr>
          <a:xfrm>
            <a:off x="763272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9"/>
          <p:cNvSpPr/>
          <p:nvPr/>
        </p:nvSpPr>
        <p:spPr>
          <a:xfrm>
            <a:off x="7453440" y="5694480"/>
            <a:ext cx="137880" cy="284040"/>
          </a:xfrm>
          <a:custGeom>
            <a:avLst/>
            <a:gdLst>
              <a:gd name="textAreaLeft" fmla="*/ 0 w 137880"/>
              <a:gd name="textAreaRight" fmla="*/ 138240 w 13788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Freeform 120"/>
          <p:cNvSpPr/>
          <p:nvPr/>
        </p:nvSpPr>
        <p:spPr>
          <a:xfrm>
            <a:off x="7499520" y="5816520"/>
            <a:ext cx="166680" cy="365040"/>
          </a:xfrm>
          <a:custGeom>
            <a:avLst/>
            <a:gdLst>
              <a:gd name="textAreaLeft" fmla="*/ 0 w 166680"/>
              <a:gd name="textAreaRight" fmla="*/ 167040 w 16668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9" h="63">
                <a:moveTo>
                  <a:pt x="29" y="23"/>
                </a:moveTo>
                <a:cubicBezTo>
                  <a:pt x="29" y="6"/>
                  <a:pt x="29" y="6"/>
                  <a:pt x="29" y="6"/>
                </a:cubicBezTo>
                <a:cubicBezTo>
                  <a:pt x="29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3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4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5" y="32"/>
                  <a:pt x="29" y="28"/>
                  <a:pt x="29" y="23"/>
                </a:cubicBez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reeform 121"/>
          <p:cNvSpPr/>
          <p:nvPr/>
        </p:nvSpPr>
        <p:spPr>
          <a:xfrm>
            <a:off x="7615080" y="5694480"/>
            <a:ext cx="138240" cy="284040"/>
          </a:xfrm>
          <a:custGeom>
            <a:avLst/>
            <a:gdLst>
              <a:gd name="textAreaLeft" fmla="*/ 0 w 138240"/>
              <a:gd name="textAreaRight" fmla="*/ 138600 w 1382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122"/>
          <p:cNvSpPr/>
          <p:nvPr/>
        </p:nvSpPr>
        <p:spPr>
          <a:xfrm>
            <a:off x="7558200" y="5897520"/>
            <a:ext cx="2700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reeform 123"/>
          <p:cNvSpPr/>
          <p:nvPr/>
        </p:nvSpPr>
        <p:spPr>
          <a:xfrm>
            <a:off x="7453440" y="6002280"/>
            <a:ext cx="155520" cy="98640"/>
          </a:xfrm>
          <a:custGeom>
            <a:avLst/>
            <a:gdLst>
              <a:gd name="textAreaLeft" fmla="*/ 0 w 155520"/>
              <a:gd name="textAreaRight" fmla="*/ 155880 w 1555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3" y="13"/>
                </a:moveTo>
                <a:cubicBezTo>
                  <a:pt x="2" y="13"/>
                  <a:pt x="1" y="13"/>
                  <a:pt x="0" y="13"/>
                </a:cubicBezTo>
                <a:cubicBezTo>
                  <a:pt x="2" y="15"/>
                  <a:pt x="6" y="17"/>
                  <a:pt x="10" y="17"/>
                </a:cubicBezTo>
                <a:cubicBezTo>
                  <a:pt x="19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7"/>
                  <a:pt x="11" y="13"/>
                  <a:pt x="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24"/>
          <p:cNvSpPr/>
          <p:nvPr/>
        </p:nvSpPr>
        <p:spPr>
          <a:xfrm>
            <a:off x="8699400" y="6094440"/>
            <a:ext cx="39960" cy="6840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Freeform 125"/>
          <p:cNvSpPr/>
          <p:nvPr/>
        </p:nvSpPr>
        <p:spPr>
          <a:xfrm>
            <a:off x="8658360" y="5965920"/>
            <a:ext cx="71280" cy="163440"/>
          </a:xfrm>
          <a:custGeom>
            <a:avLst/>
            <a:gdLst>
              <a:gd name="textAreaLeft" fmla="*/ 0 w 71280"/>
              <a:gd name="textAreaRight" fmla="*/ 71640 w 712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Freeform 126"/>
          <p:cNvSpPr/>
          <p:nvPr/>
        </p:nvSpPr>
        <p:spPr>
          <a:xfrm>
            <a:off x="809928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127"/>
          <p:cNvSpPr/>
          <p:nvPr/>
        </p:nvSpPr>
        <p:spPr>
          <a:xfrm>
            <a:off x="8515440" y="6041880"/>
            <a:ext cx="81000" cy="2192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28"/>
          <p:cNvSpPr/>
          <p:nvPr/>
        </p:nvSpPr>
        <p:spPr>
          <a:xfrm>
            <a:off x="8283600" y="5989680"/>
            <a:ext cx="87120" cy="2714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Freeform 129"/>
          <p:cNvSpPr/>
          <p:nvPr/>
        </p:nvSpPr>
        <p:spPr>
          <a:xfrm>
            <a:off x="8353440" y="5891040"/>
            <a:ext cx="317520" cy="370080"/>
          </a:xfrm>
          <a:custGeom>
            <a:avLst/>
            <a:gdLst>
              <a:gd name="textAreaLeft" fmla="*/ 0 w 317520"/>
              <a:gd name="textAreaRight" fmla="*/ 317880 w 31752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5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1" y="34"/>
                </a:cubicBezTo>
                <a:cubicBezTo>
                  <a:pt x="34" y="34"/>
                  <a:pt x="34" y="34"/>
                  <a:pt x="34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5" y="64"/>
                  <a:pt x="55" y="64"/>
                  <a:pt x="55" y="64"/>
                </a:cubicBezTo>
                <a:cubicBezTo>
                  <a:pt x="55" y="34"/>
                  <a:pt x="55" y="34"/>
                  <a:pt x="55" y="34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17"/>
                  <a:pt x="55" y="17"/>
                  <a:pt x="55" y="17"/>
                </a:cubicBezTo>
                <a:cubicBezTo>
                  <a:pt x="55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Freeform 130"/>
          <p:cNvSpPr/>
          <p:nvPr/>
        </p:nvSpPr>
        <p:spPr>
          <a:xfrm>
            <a:off x="8353440" y="6105600"/>
            <a:ext cx="69840" cy="87120"/>
          </a:xfrm>
          <a:custGeom>
            <a:avLst/>
            <a:gdLst>
              <a:gd name="textAreaLeft" fmla="*/ 0 w 69840"/>
              <a:gd name="textAreaRight" fmla="*/ 70200 w 6984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2" h="15">
                <a:moveTo>
                  <a:pt x="1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2" y="15"/>
                  <a:pt x="12" y="15"/>
                  <a:pt x="12" y="15"/>
                </a:cubicBezTo>
                <a:lnTo>
                  <a:pt x="12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Freeform 131"/>
          <p:cNvSpPr/>
          <p:nvPr/>
        </p:nvSpPr>
        <p:spPr>
          <a:xfrm>
            <a:off x="835344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132"/>
          <p:cNvSpPr/>
          <p:nvPr/>
        </p:nvSpPr>
        <p:spPr>
          <a:xfrm>
            <a:off x="8169120" y="5694480"/>
            <a:ext cx="144720" cy="284040"/>
          </a:xfrm>
          <a:custGeom>
            <a:avLst/>
            <a:gdLst>
              <a:gd name="textAreaLeft" fmla="*/ 0 w 144720"/>
              <a:gd name="textAreaRight" fmla="*/ 145080 w 1447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133"/>
          <p:cNvSpPr/>
          <p:nvPr/>
        </p:nvSpPr>
        <p:spPr>
          <a:xfrm>
            <a:off x="8215200" y="5816520"/>
            <a:ext cx="173160" cy="365040"/>
          </a:xfrm>
          <a:custGeom>
            <a:avLst/>
            <a:gdLst>
              <a:gd name="textAreaLeft" fmla="*/ 0 w 173160"/>
              <a:gd name="textAreaRight" fmla="*/ 173520 w 1731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30" h="63">
                <a:moveTo>
                  <a:pt x="30" y="23"/>
                </a:moveTo>
                <a:cubicBezTo>
                  <a:pt x="30" y="6"/>
                  <a:pt x="30" y="6"/>
                  <a:pt x="30" y="6"/>
                </a:cubicBezTo>
                <a:cubicBezTo>
                  <a:pt x="30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4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5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6" y="32"/>
                  <a:pt x="30" y="28"/>
                  <a:pt x="30" y="23"/>
                </a:cubicBez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134"/>
          <p:cNvSpPr/>
          <p:nvPr/>
        </p:nvSpPr>
        <p:spPr>
          <a:xfrm>
            <a:off x="8329680" y="5694480"/>
            <a:ext cx="146160" cy="284040"/>
          </a:xfrm>
          <a:custGeom>
            <a:avLst/>
            <a:gdLst>
              <a:gd name="textAreaLeft" fmla="*/ 0 w 146160"/>
              <a:gd name="textAreaRight" fmla="*/ 146520 w 146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Oval 135"/>
          <p:cNvSpPr/>
          <p:nvPr/>
        </p:nvSpPr>
        <p:spPr>
          <a:xfrm>
            <a:off x="8278920" y="5897520"/>
            <a:ext cx="2376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136"/>
          <p:cNvSpPr/>
          <p:nvPr/>
        </p:nvSpPr>
        <p:spPr>
          <a:xfrm>
            <a:off x="816912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141"/>
          <p:cNvSpPr/>
          <p:nvPr/>
        </p:nvSpPr>
        <p:spPr>
          <a:xfrm>
            <a:off x="7626240" y="3219480"/>
            <a:ext cx="571680" cy="317520"/>
          </a:xfrm>
          <a:custGeom>
            <a:avLst/>
            <a:gdLst>
              <a:gd name="textAreaLeft" fmla="*/ 0 w 571680"/>
              <a:gd name="textAreaRight" fmla="*/ 572040 w 57168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99" h="55">
                <a:moveTo>
                  <a:pt x="82" y="21"/>
                </a:moveTo>
                <a:cubicBezTo>
                  <a:pt x="80" y="21"/>
                  <a:pt x="78" y="21"/>
                  <a:pt x="77" y="22"/>
                </a:cubicBezTo>
                <a:cubicBezTo>
                  <a:pt x="74" y="9"/>
                  <a:pt x="63" y="0"/>
                  <a:pt x="49" y="0"/>
                </a:cubicBezTo>
                <a:cubicBezTo>
                  <a:pt x="36" y="0"/>
                  <a:pt x="25" y="9"/>
                  <a:pt x="22" y="21"/>
                </a:cubicBezTo>
                <a:cubicBezTo>
                  <a:pt x="21" y="21"/>
                  <a:pt x="19" y="21"/>
                  <a:pt x="18" y="21"/>
                </a:cubicBezTo>
                <a:cubicBezTo>
                  <a:pt x="8" y="21"/>
                  <a:pt x="0" y="29"/>
                  <a:pt x="0" y="38"/>
                </a:cubicBezTo>
                <a:cubicBezTo>
                  <a:pt x="0" y="48"/>
                  <a:pt x="8" y="55"/>
                  <a:pt x="18" y="55"/>
                </a:cubicBezTo>
                <a:cubicBezTo>
                  <a:pt x="23" y="55"/>
                  <a:pt x="76" y="55"/>
                  <a:pt x="82" y="55"/>
                </a:cubicBezTo>
                <a:cubicBezTo>
                  <a:pt x="92" y="55"/>
                  <a:pt x="99" y="48"/>
                  <a:pt x="99" y="38"/>
                </a:cubicBezTo>
                <a:cubicBezTo>
                  <a:pt x="99" y="29"/>
                  <a:pt x="92" y="21"/>
                  <a:pt x="8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142"/>
          <p:cNvSpPr/>
          <p:nvPr/>
        </p:nvSpPr>
        <p:spPr>
          <a:xfrm>
            <a:off x="9118440" y="2924280"/>
            <a:ext cx="374760" cy="207720"/>
          </a:xfrm>
          <a:custGeom>
            <a:avLst/>
            <a:gdLst>
              <a:gd name="textAreaLeft" fmla="*/ 0 w 374760"/>
              <a:gd name="textAreaRight" fmla="*/ 375120 w 37476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65" h="36">
                <a:moveTo>
                  <a:pt x="54" y="14"/>
                </a:moveTo>
                <a:cubicBezTo>
                  <a:pt x="53" y="14"/>
                  <a:pt x="52" y="14"/>
                  <a:pt x="51" y="14"/>
                </a:cubicBezTo>
                <a:cubicBezTo>
                  <a:pt x="49" y="6"/>
                  <a:pt x="41" y="0"/>
                  <a:pt x="33" y="0"/>
                </a:cubicBezTo>
                <a:cubicBezTo>
                  <a:pt x="24" y="0"/>
                  <a:pt x="16" y="6"/>
                  <a:pt x="15" y="14"/>
                </a:cubicBezTo>
                <a:cubicBezTo>
                  <a:pt x="14" y="14"/>
                  <a:pt x="13" y="14"/>
                  <a:pt x="12" y="14"/>
                </a:cubicBezTo>
                <a:cubicBezTo>
                  <a:pt x="5" y="14"/>
                  <a:pt x="0" y="19"/>
                  <a:pt x="0" y="25"/>
                </a:cubicBezTo>
                <a:cubicBezTo>
                  <a:pt x="0" y="31"/>
                  <a:pt x="5" y="36"/>
                  <a:pt x="12" y="36"/>
                </a:cubicBezTo>
                <a:cubicBezTo>
                  <a:pt x="15" y="36"/>
                  <a:pt x="50" y="36"/>
                  <a:pt x="54" y="36"/>
                </a:cubicBezTo>
                <a:cubicBezTo>
                  <a:pt x="60" y="36"/>
                  <a:pt x="65" y="31"/>
                  <a:pt x="65" y="25"/>
                </a:cubicBezTo>
                <a:cubicBezTo>
                  <a:pt x="65" y="19"/>
                  <a:pt x="60" y="14"/>
                  <a:pt x="54" y="14"/>
                </a:cubicBezTo>
                <a:close/>
              </a:path>
            </a:pathLst>
          </a:custGeom>
          <a:solidFill>
            <a:srgbClr val="29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187"/>
          <p:cNvSpPr/>
          <p:nvPr/>
        </p:nvSpPr>
        <p:spPr>
          <a:xfrm>
            <a:off x="9774360" y="3033720"/>
            <a:ext cx="565200" cy="324000"/>
          </a:xfrm>
          <a:custGeom>
            <a:avLst/>
            <a:gdLst>
              <a:gd name="textAreaLeft" fmla="*/ 0 w 565200"/>
              <a:gd name="textAreaRight" fmla="*/ 565560 w 56520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98" h="56">
                <a:moveTo>
                  <a:pt x="81" y="21"/>
                </a:moveTo>
                <a:cubicBezTo>
                  <a:pt x="79" y="21"/>
                  <a:pt x="78" y="21"/>
                  <a:pt x="76" y="22"/>
                </a:cubicBezTo>
                <a:cubicBezTo>
                  <a:pt x="73" y="9"/>
                  <a:pt x="62" y="0"/>
                  <a:pt x="49" y="0"/>
                </a:cubicBezTo>
                <a:cubicBezTo>
                  <a:pt x="35" y="0"/>
                  <a:pt x="24" y="9"/>
                  <a:pt x="21" y="22"/>
                </a:cubicBezTo>
                <a:cubicBezTo>
                  <a:pt x="20" y="21"/>
                  <a:pt x="18" y="21"/>
                  <a:pt x="17" y="21"/>
                </a:cubicBezTo>
                <a:cubicBezTo>
                  <a:pt x="7" y="21"/>
                  <a:pt x="0" y="29"/>
                  <a:pt x="0" y="38"/>
                </a:cubicBezTo>
                <a:cubicBezTo>
                  <a:pt x="0" y="48"/>
                  <a:pt x="7" y="56"/>
                  <a:pt x="17" y="56"/>
                </a:cubicBezTo>
                <a:cubicBezTo>
                  <a:pt x="22" y="56"/>
                  <a:pt x="75" y="56"/>
                  <a:pt x="81" y="56"/>
                </a:cubicBezTo>
                <a:cubicBezTo>
                  <a:pt x="91" y="56"/>
                  <a:pt x="98" y="48"/>
                  <a:pt x="98" y="38"/>
                </a:cubicBezTo>
                <a:cubicBezTo>
                  <a:pt x="98" y="29"/>
                  <a:pt x="91" y="21"/>
                  <a:pt x="81" y="21"/>
                </a:cubicBezTo>
                <a:close/>
              </a:path>
            </a:pathLst>
          </a:custGeom>
          <a:solidFill>
            <a:srgbClr val="64d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188"/>
          <p:cNvSpPr/>
          <p:nvPr/>
        </p:nvSpPr>
        <p:spPr>
          <a:xfrm>
            <a:off x="9034560" y="4444920"/>
            <a:ext cx="965160" cy="990720"/>
          </a:xfrm>
          <a:custGeom>
            <a:avLst/>
            <a:gdLst>
              <a:gd name="textAreaLeft" fmla="*/ 0 w 965160"/>
              <a:gd name="textAreaRight" fmla="*/ 965520 w 9651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167" h="171">
                <a:moveTo>
                  <a:pt x="156" y="106"/>
                </a:moveTo>
                <a:cubicBezTo>
                  <a:pt x="158" y="101"/>
                  <a:pt x="160" y="95"/>
                  <a:pt x="160" y="90"/>
                </a:cubicBezTo>
                <a:cubicBezTo>
                  <a:pt x="160" y="70"/>
                  <a:pt x="144" y="54"/>
                  <a:pt x="124" y="54"/>
                </a:cubicBezTo>
                <a:cubicBezTo>
                  <a:pt x="122" y="54"/>
                  <a:pt x="120" y="54"/>
                  <a:pt x="118" y="54"/>
                </a:cubicBezTo>
                <a:cubicBezTo>
                  <a:pt x="118" y="54"/>
                  <a:pt x="118" y="54"/>
                  <a:pt x="118" y="54"/>
                </a:cubicBezTo>
                <a:cubicBezTo>
                  <a:pt x="128" y="50"/>
                  <a:pt x="135" y="40"/>
                  <a:pt x="135" y="28"/>
                </a:cubicBezTo>
                <a:cubicBezTo>
                  <a:pt x="135" y="12"/>
                  <a:pt x="122" y="0"/>
                  <a:pt x="106" y="0"/>
                </a:cubicBezTo>
                <a:cubicBezTo>
                  <a:pt x="90" y="0"/>
                  <a:pt x="78" y="12"/>
                  <a:pt x="78" y="28"/>
                </a:cubicBezTo>
                <a:cubicBezTo>
                  <a:pt x="78" y="31"/>
                  <a:pt x="78" y="33"/>
                  <a:pt x="79" y="36"/>
                </a:cubicBezTo>
                <a:cubicBezTo>
                  <a:pt x="69" y="37"/>
                  <a:pt x="61" y="42"/>
                  <a:pt x="55" y="48"/>
                </a:cubicBezTo>
                <a:cubicBezTo>
                  <a:pt x="49" y="43"/>
                  <a:pt x="42" y="40"/>
                  <a:pt x="34" y="40"/>
                </a:cubicBezTo>
                <a:cubicBezTo>
                  <a:pt x="15" y="40"/>
                  <a:pt x="0" y="55"/>
                  <a:pt x="0" y="74"/>
                </a:cubicBezTo>
                <a:cubicBezTo>
                  <a:pt x="0" y="85"/>
                  <a:pt x="6" y="95"/>
                  <a:pt x="15" y="101"/>
                </a:cubicBezTo>
                <a:cubicBezTo>
                  <a:pt x="13" y="105"/>
                  <a:pt x="12" y="110"/>
                  <a:pt x="12" y="115"/>
                </a:cubicBezTo>
                <a:cubicBezTo>
                  <a:pt x="12" y="133"/>
                  <a:pt x="26" y="148"/>
                  <a:pt x="44" y="148"/>
                </a:cubicBezTo>
                <a:cubicBezTo>
                  <a:pt x="50" y="148"/>
                  <a:pt x="56" y="146"/>
                  <a:pt x="60" y="144"/>
                </a:cubicBezTo>
                <a:cubicBezTo>
                  <a:pt x="66" y="160"/>
                  <a:pt x="81" y="171"/>
                  <a:pt x="99" y="171"/>
                </a:cubicBezTo>
                <a:cubicBezTo>
                  <a:pt x="115" y="171"/>
                  <a:pt x="128" y="162"/>
                  <a:pt x="135" y="149"/>
                </a:cubicBezTo>
                <a:cubicBezTo>
                  <a:pt x="137" y="149"/>
                  <a:pt x="140" y="150"/>
                  <a:pt x="142" y="150"/>
                </a:cubicBezTo>
                <a:cubicBezTo>
                  <a:pt x="156" y="150"/>
                  <a:pt x="167" y="139"/>
                  <a:pt x="167" y="126"/>
                </a:cubicBezTo>
                <a:cubicBezTo>
                  <a:pt x="167" y="117"/>
                  <a:pt x="162" y="110"/>
                  <a:pt x="156" y="106"/>
                </a:cubicBezTo>
                <a:close/>
              </a:path>
            </a:pathLst>
          </a:custGeom>
          <a:solidFill>
            <a:srgbClr val="0dd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189"/>
          <p:cNvSpPr/>
          <p:nvPr/>
        </p:nvSpPr>
        <p:spPr>
          <a:xfrm>
            <a:off x="9548640" y="4444920"/>
            <a:ext cx="451080" cy="990720"/>
          </a:xfrm>
          <a:custGeom>
            <a:avLst/>
            <a:gdLst>
              <a:gd name="textAreaLeft" fmla="*/ 0 w 451080"/>
              <a:gd name="textAreaRight" fmla="*/ 451440 w 4510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78" h="171">
                <a:moveTo>
                  <a:pt x="67" y="106"/>
                </a:moveTo>
                <a:cubicBezTo>
                  <a:pt x="69" y="101"/>
                  <a:pt x="71" y="95"/>
                  <a:pt x="71" y="90"/>
                </a:cubicBezTo>
                <a:cubicBezTo>
                  <a:pt x="71" y="70"/>
                  <a:pt x="55" y="54"/>
                  <a:pt x="35" y="54"/>
                </a:cubicBezTo>
                <a:cubicBezTo>
                  <a:pt x="33" y="54"/>
                  <a:pt x="31" y="54"/>
                  <a:pt x="29" y="54"/>
                </a:cubicBezTo>
                <a:cubicBezTo>
                  <a:pt x="29" y="54"/>
                  <a:pt x="29" y="54"/>
                  <a:pt x="29" y="54"/>
                </a:cubicBezTo>
                <a:cubicBezTo>
                  <a:pt x="39" y="50"/>
                  <a:pt x="46" y="40"/>
                  <a:pt x="46" y="28"/>
                </a:cubicBezTo>
                <a:cubicBezTo>
                  <a:pt x="46" y="12"/>
                  <a:pt x="33" y="0"/>
                  <a:pt x="17" y="0"/>
                </a:cubicBezTo>
                <a:cubicBezTo>
                  <a:pt x="11" y="0"/>
                  <a:pt x="4" y="2"/>
                  <a:pt x="0" y="6"/>
                </a:cubicBezTo>
                <a:cubicBezTo>
                  <a:pt x="0" y="170"/>
                  <a:pt x="0" y="170"/>
                  <a:pt x="0" y="170"/>
                </a:cubicBezTo>
                <a:cubicBezTo>
                  <a:pt x="3" y="171"/>
                  <a:pt x="6" y="171"/>
                  <a:pt x="10" y="171"/>
                </a:cubicBezTo>
                <a:cubicBezTo>
                  <a:pt x="26" y="171"/>
                  <a:pt x="39" y="162"/>
                  <a:pt x="46" y="149"/>
                </a:cubicBezTo>
                <a:cubicBezTo>
                  <a:pt x="48" y="149"/>
                  <a:pt x="51" y="150"/>
                  <a:pt x="53" y="150"/>
                </a:cubicBezTo>
                <a:cubicBezTo>
                  <a:pt x="67" y="150"/>
                  <a:pt x="78" y="139"/>
                  <a:pt x="78" y="126"/>
                </a:cubicBezTo>
                <a:cubicBezTo>
                  <a:pt x="78" y="117"/>
                  <a:pt x="73" y="110"/>
                  <a:pt x="67" y="106"/>
                </a:cubicBezTo>
                <a:close/>
              </a:path>
            </a:pathLst>
          </a:custGeom>
          <a:solidFill>
            <a:srgbClr val="0d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Oval 190"/>
          <p:cNvSpPr/>
          <p:nvPr/>
        </p:nvSpPr>
        <p:spPr>
          <a:xfrm>
            <a:off x="9433080" y="5000760"/>
            <a:ext cx="225360" cy="23148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191"/>
          <p:cNvSpPr/>
          <p:nvPr/>
        </p:nvSpPr>
        <p:spPr>
          <a:xfrm>
            <a:off x="9485280" y="4788000"/>
            <a:ext cx="131760" cy="127080"/>
          </a:xfrm>
          <a:prstGeom prst="ellipse">
            <a:avLst/>
          </a:prstGeom>
          <a:solidFill>
            <a:srgbClr val="76f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73"/>
          <p:cNvSpPr/>
          <p:nvPr/>
        </p:nvSpPr>
        <p:spPr>
          <a:xfrm>
            <a:off x="3886200" y="6267600"/>
            <a:ext cx="8042400" cy="3999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393" h="69">
                <a:moveTo>
                  <a:pt x="1366" y="0"/>
                </a:moveTo>
                <a:cubicBezTo>
                  <a:pt x="28" y="0"/>
                  <a:pt x="28" y="0"/>
                  <a:pt x="28" y="0"/>
                </a:cubicBezTo>
                <a:cubicBezTo>
                  <a:pt x="13" y="0"/>
                  <a:pt x="0" y="12"/>
                  <a:pt x="0" y="27"/>
                </a:cubicBezTo>
                <a:cubicBezTo>
                  <a:pt x="0" y="69"/>
                  <a:pt x="0" y="69"/>
                  <a:pt x="0" y="69"/>
                </a:cubicBezTo>
                <a:cubicBezTo>
                  <a:pt x="1393" y="69"/>
                  <a:pt x="1393" y="69"/>
                  <a:pt x="1393" y="69"/>
                </a:cubicBezTo>
                <a:cubicBezTo>
                  <a:pt x="1393" y="27"/>
                  <a:pt x="1393" y="27"/>
                  <a:pt x="1393" y="27"/>
                </a:cubicBezTo>
                <a:cubicBezTo>
                  <a:pt x="1393" y="12"/>
                  <a:pt x="1381" y="0"/>
                  <a:pt x="1366" y="0"/>
                </a:cubicBezTo>
                <a:close/>
              </a:path>
            </a:pathLst>
          </a:custGeom>
          <a:solidFill>
            <a:srgbClr val="00c2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Freeform 101"/>
          <p:cNvSpPr/>
          <p:nvPr/>
        </p:nvSpPr>
        <p:spPr>
          <a:xfrm>
            <a:off x="3886200" y="6383160"/>
            <a:ext cx="8042400" cy="3765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560"/>
              <a:gd name="textAreaBottom" fmla="*/ 376920 h 376560"/>
            </a:gdLst>
            <a:ahLst/>
            <a:rect l="textAreaLeft" t="textAreaTop" r="textAreaRight" b="textAreaBottom"/>
            <a:pathLst>
              <a:path w="1393" h="65">
                <a:moveTo>
                  <a:pt x="1393" y="23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3"/>
                  <a:pt x="0" y="23"/>
                  <a:pt x="0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20" y="23"/>
                  <a:pt x="20" y="0"/>
                  <a:pt x="37" y="0"/>
                </a:cubicBezTo>
                <a:cubicBezTo>
                  <a:pt x="55" y="0"/>
                  <a:pt x="55" y="23"/>
                  <a:pt x="72" y="23"/>
                </a:cubicBezTo>
                <a:cubicBezTo>
                  <a:pt x="89" y="23"/>
                  <a:pt x="89" y="0"/>
                  <a:pt x="107" y="0"/>
                </a:cubicBezTo>
                <a:cubicBezTo>
                  <a:pt x="124" y="0"/>
                  <a:pt x="124" y="23"/>
                  <a:pt x="141" y="23"/>
                </a:cubicBezTo>
                <a:cubicBezTo>
                  <a:pt x="159" y="23"/>
                  <a:pt x="159" y="0"/>
                  <a:pt x="176" y="0"/>
                </a:cubicBezTo>
                <a:cubicBezTo>
                  <a:pt x="194" y="0"/>
                  <a:pt x="194" y="23"/>
                  <a:pt x="211" y="23"/>
                </a:cubicBezTo>
                <a:cubicBezTo>
                  <a:pt x="228" y="23"/>
                  <a:pt x="228" y="0"/>
                  <a:pt x="246" y="0"/>
                </a:cubicBezTo>
                <a:cubicBezTo>
                  <a:pt x="263" y="0"/>
                  <a:pt x="263" y="23"/>
                  <a:pt x="280" y="23"/>
                </a:cubicBezTo>
                <a:cubicBezTo>
                  <a:pt x="298" y="23"/>
                  <a:pt x="298" y="0"/>
                  <a:pt x="315" y="0"/>
                </a:cubicBezTo>
                <a:cubicBezTo>
                  <a:pt x="333" y="0"/>
                  <a:pt x="333" y="23"/>
                  <a:pt x="350" y="23"/>
                </a:cubicBezTo>
                <a:cubicBezTo>
                  <a:pt x="367" y="23"/>
                  <a:pt x="367" y="0"/>
                  <a:pt x="385" y="0"/>
                </a:cubicBezTo>
                <a:cubicBezTo>
                  <a:pt x="402" y="0"/>
                  <a:pt x="402" y="23"/>
                  <a:pt x="419" y="23"/>
                </a:cubicBezTo>
                <a:cubicBezTo>
                  <a:pt x="437" y="23"/>
                  <a:pt x="437" y="0"/>
                  <a:pt x="454" y="0"/>
                </a:cubicBezTo>
                <a:cubicBezTo>
                  <a:pt x="472" y="0"/>
                  <a:pt x="472" y="23"/>
                  <a:pt x="489" y="23"/>
                </a:cubicBezTo>
                <a:cubicBezTo>
                  <a:pt x="506" y="23"/>
                  <a:pt x="506" y="0"/>
                  <a:pt x="524" y="0"/>
                </a:cubicBezTo>
                <a:cubicBezTo>
                  <a:pt x="541" y="0"/>
                  <a:pt x="541" y="23"/>
                  <a:pt x="558" y="23"/>
                </a:cubicBezTo>
                <a:cubicBezTo>
                  <a:pt x="576" y="23"/>
                  <a:pt x="576" y="0"/>
                  <a:pt x="593" y="0"/>
                </a:cubicBezTo>
                <a:cubicBezTo>
                  <a:pt x="611" y="0"/>
                  <a:pt x="611" y="23"/>
                  <a:pt x="628" y="23"/>
                </a:cubicBezTo>
                <a:cubicBezTo>
                  <a:pt x="645" y="23"/>
                  <a:pt x="645" y="0"/>
                  <a:pt x="663" y="0"/>
                </a:cubicBezTo>
                <a:cubicBezTo>
                  <a:pt x="680" y="0"/>
                  <a:pt x="680" y="23"/>
                  <a:pt x="698" y="23"/>
                </a:cubicBezTo>
                <a:cubicBezTo>
                  <a:pt x="715" y="23"/>
                  <a:pt x="715" y="0"/>
                  <a:pt x="732" y="0"/>
                </a:cubicBezTo>
                <a:cubicBezTo>
                  <a:pt x="750" y="0"/>
                  <a:pt x="750" y="23"/>
                  <a:pt x="767" y="23"/>
                </a:cubicBezTo>
                <a:cubicBezTo>
                  <a:pt x="784" y="23"/>
                  <a:pt x="784" y="0"/>
                  <a:pt x="802" y="0"/>
                </a:cubicBezTo>
                <a:cubicBezTo>
                  <a:pt x="819" y="0"/>
                  <a:pt x="819" y="23"/>
                  <a:pt x="837" y="23"/>
                </a:cubicBezTo>
                <a:cubicBezTo>
                  <a:pt x="854" y="23"/>
                  <a:pt x="854" y="0"/>
                  <a:pt x="871" y="0"/>
                </a:cubicBezTo>
                <a:cubicBezTo>
                  <a:pt x="889" y="0"/>
                  <a:pt x="889" y="23"/>
                  <a:pt x="906" y="23"/>
                </a:cubicBezTo>
                <a:cubicBezTo>
                  <a:pt x="924" y="23"/>
                  <a:pt x="924" y="0"/>
                  <a:pt x="941" y="0"/>
                </a:cubicBezTo>
                <a:cubicBezTo>
                  <a:pt x="958" y="0"/>
                  <a:pt x="958" y="23"/>
                  <a:pt x="976" y="23"/>
                </a:cubicBezTo>
                <a:cubicBezTo>
                  <a:pt x="993" y="23"/>
                  <a:pt x="993" y="0"/>
                  <a:pt x="1011" y="0"/>
                </a:cubicBezTo>
                <a:cubicBezTo>
                  <a:pt x="1028" y="0"/>
                  <a:pt x="1028" y="23"/>
                  <a:pt x="1045" y="23"/>
                </a:cubicBezTo>
                <a:cubicBezTo>
                  <a:pt x="1063" y="23"/>
                  <a:pt x="1063" y="0"/>
                  <a:pt x="1080" y="0"/>
                </a:cubicBezTo>
                <a:cubicBezTo>
                  <a:pt x="1097" y="0"/>
                  <a:pt x="1097" y="23"/>
                  <a:pt x="1115" y="23"/>
                </a:cubicBezTo>
                <a:cubicBezTo>
                  <a:pt x="1132" y="23"/>
                  <a:pt x="1132" y="0"/>
                  <a:pt x="1150" y="0"/>
                </a:cubicBezTo>
                <a:cubicBezTo>
                  <a:pt x="1167" y="0"/>
                  <a:pt x="1167" y="23"/>
                  <a:pt x="1184" y="23"/>
                </a:cubicBezTo>
                <a:cubicBezTo>
                  <a:pt x="1202" y="23"/>
                  <a:pt x="1202" y="0"/>
                  <a:pt x="1219" y="0"/>
                </a:cubicBezTo>
                <a:cubicBezTo>
                  <a:pt x="1237" y="0"/>
                  <a:pt x="1237" y="23"/>
                  <a:pt x="1254" y="23"/>
                </a:cubicBezTo>
                <a:cubicBezTo>
                  <a:pt x="1271" y="23"/>
                  <a:pt x="1271" y="0"/>
                  <a:pt x="1289" y="0"/>
                </a:cubicBezTo>
                <a:cubicBezTo>
                  <a:pt x="1306" y="0"/>
                  <a:pt x="1306" y="23"/>
                  <a:pt x="1324" y="23"/>
                </a:cubicBezTo>
                <a:cubicBezTo>
                  <a:pt x="1341" y="23"/>
                  <a:pt x="1341" y="0"/>
                  <a:pt x="1358" y="0"/>
                </a:cubicBezTo>
                <a:cubicBezTo>
                  <a:pt x="1376" y="0"/>
                  <a:pt x="1376" y="23"/>
                  <a:pt x="1393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102"/>
          <p:cNvSpPr/>
          <p:nvPr/>
        </p:nvSpPr>
        <p:spPr>
          <a:xfrm>
            <a:off x="3886200" y="6481800"/>
            <a:ext cx="8042400" cy="37620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1393" h="65">
                <a:moveTo>
                  <a:pt x="1393" y="22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2"/>
                  <a:pt x="0" y="22"/>
                  <a:pt x="0" y="22"/>
                </a:cubicBezTo>
                <a:cubicBezTo>
                  <a:pt x="2" y="22"/>
                  <a:pt x="2" y="22"/>
                  <a:pt x="2" y="22"/>
                </a:cubicBezTo>
                <a:cubicBezTo>
                  <a:pt x="20" y="22"/>
                  <a:pt x="20" y="0"/>
                  <a:pt x="37" y="0"/>
                </a:cubicBezTo>
                <a:cubicBezTo>
                  <a:pt x="55" y="0"/>
                  <a:pt x="55" y="22"/>
                  <a:pt x="72" y="22"/>
                </a:cubicBezTo>
                <a:cubicBezTo>
                  <a:pt x="89" y="22"/>
                  <a:pt x="89" y="0"/>
                  <a:pt x="107" y="0"/>
                </a:cubicBezTo>
                <a:cubicBezTo>
                  <a:pt x="124" y="0"/>
                  <a:pt x="124" y="22"/>
                  <a:pt x="141" y="22"/>
                </a:cubicBezTo>
                <a:cubicBezTo>
                  <a:pt x="159" y="22"/>
                  <a:pt x="159" y="0"/>
                  <a:pt x="176" y="0"/>
                </a:cubicBezTo>
                <a:cubicBezTo>
                  <a:pt x="194" y="0"/>
                  <a:pt x="194" y="22"/>
                  <a:pt x="211" y="22"/>
                </a:cubicBezTo>
                <a:cubicBezTo>
                  <a:pt x="228" y="22"/>
                  <a:pt x="228" y="0"/>
                  <a:pt x="246" y="0"/>
                </a:cubicBezTo>
                <a:cubicBezTo>
                  <a:pt x="263" y="0"/>
                  <a:pt x="263" y="22"/>
                  <a:pt x="280" y="22"/>
                </a:cubicBezTo>
                <a:cubicBezTo>
                  <a:pt x="298" y="22"/>
                  <a:pt x="298" y="0"/>
                  <a:pt x="315" y="0"/>
                </a:cubicBezTo>
                <a:cubicBezTo>
                  <a:pt x="333" y="0"/>
                  <a:pt x="333" y="22"/>
                  <a:pt x="350" y="22"/>
                </a:cubicBezTo>
                <a:cubicBezTo>
                  <a:pt x="367" y="22"/>
                  <a:pt x="367" y="0"/>
                  <a:pt x="385" y="0"/>
                </a:cubicBezTo>
                <a:cubicBezTo>
                  <a:pt x="402" y="0"/>
                  <a:pt x="402" y="22"/>
                  <a:pt x="419" y="22"/>
                </a:cubicBezTo>
                <a:cubicBezTo>
                  <a:pt x="437" y="22"/>
                  <a:pt x="437" y="0"/>
                  <a:pt x="454" y="0"/>
                </a:cubicBezTo>
                <a:cubicBezTo>
                  <a:pt x="472" y="0"/>
                  <a:pt x="472" y="22"/>
                  <a:pt x="489" y="22"/>
                </a:cubicBezTo>
                <a:cubicBezTo>
                  <a:pt x="506" y="22"/>
                  <a:pt x="506" y="0"/>
                  <a:pt x="524" y="0"/>
                </a:cubicBezTo>
                <a:cubicBezTo>
                  <a:pt x="541" y="0"/>
                  <a:pt x="541" y="22"/>
                  <a:pt x="558" y="22"/>
                </a:cubicBezTo>
                <a:cubicBezTo>
                  <a:pt x="576" y="22"/>
                  <a:pt x="576" y="0"/>
                  <a:pt x="593" y="0"/>
                </a:cubicBezTo>
                <a:cubicBezTo>
                  <a:pt x="611" y="0"/>
                  <a:pt x="611" y="22"/>
                  <a:pt x="628" y="22"/>
                </a:cubicBezTo>
                <a:cubicBezTo>
                  <a:pt x="645" y="22"/>
                  <a:pt x="645" y="0"/>
                  <a:pt x="663" y="0"/>
                </a:cubicBezTo>
                <a:cubicBezTo>
                  <a:pt x="680" y="0"/>
                  <a:pt x="680" y="22"/>
                  <a:pt x="698" y="22"/>
                </a:cubicBezTo>
                <a:cubicBezTo>
                  <a:pt x="715" y="22"/>
                  <a:pt x="715" y="0"/>
                  <a:pt x="732" y="0"/>
                </a:cubicBezTo>
                <a:cubicBezTo>
                  <a:pt x="750" y="0"/>
                  <a:pt x="750" y="22"/>
                  <a:pt x="767" y="22"/>
                </a:cubicBezTo>
                <a:cubicBezTo>
                  <a:pt x="784" y="22"/>
                  <a:pt x="784" y="0"/>
                  <a:pt x="802" y="0"/>
                </a:cubicBezTo>
                <a:cubicBezTo>
                  <a:pt x="819" y="0"/>
                  <a:pt x="819" y="22"/>
                  <a:pt x="837" y="22"/>
                </a:cubicBezTo>
                <a:cubicBezTo>
                  <a:pt x="854" y="22"/>
                  <a:pt x="854" y="0"/>
                  <a:pt x="871" y="0"/>
                </a:cubicBezTo>
                <a:cubicBezTo>
                  <a:pt x="889" y="0"/>
                  <a:pt x="889" y="22"/>
                  <a:pt x="906" y="22"/>
                </a:cubicBezTo>
                <a:cubicBezTo>
                  <a:pt x="924" y="22"/>
                  <a:pt x="924" y="0"/>
                  <a:pt x="941" y="0"/>
                </a:cubicBezTo>
                <a:cubicBezTo>
                  <a:pt x="958" y="0"/>
                  <a:pt x="958" y="22"/>
                  <a:pt x="976" y="22"/>
                </a:cubicBezTo>
                <a:cubicBezTo>
                  <a:pt x="993" y="22"/>
                  <a:pt x="993" y="0"/>
                  <a:pt x="1011" y="0"/>
                </a:cubicBezTo>
                <a:cubicBezTo>
                  <a:pt x="1028" y="0"/>
                  <a:pt x="1028" y="22"/>
                  <a:pt x="1045" y="22"/>
                </a:cubicBezTo>
                <a:cubicBezTo>
                  <a:pt x="1063" y="22"/>
                  <a:pt x="1063" y="0"/>
                  <a:pt x="1080" y="0"/>
                </a:cubicBezTo>
                <a:cubicBezTo>
                  <a:pt x="1097" y="0"/>
                  <a:pt x="1097" y="22"/>
                  <a:pt x="1115" y="22"/>
                </a:cubicBezTo>
                <a:cubicBezTo>
                  <a:pt x="1132" y="22"/>
                  <a:pt x="1132" y="0"/>
                  <a:pt x="1150" y="0"/>
                </a:cubicBezTo>
                <a:cubicBezTo>
                  <a:pt x="1167" y="0"/>
                  <a:pt x="1167" y="22"/>
                  <a:pt x="1184" y="22"/>
                </a:cubicBezTo>
                <a:cubicBezTo>
                  <a:pt x="1202" y="22"/>
                  <a:pt x="1202" y="0"/>
                  <a:pt x="1219" y="0"/>
                </a:cubicBezTo>
                <a:cubicBezTo>
                  <a:pt x="1237" y="0"/>
                  <a:pt x="1237" y="22"/>
                  <a:pt x="1254" y="22"/>
                </a:cubicBezTo>
                <a:cubicBezTo>
                  <a:pt x="1271" y="22"/>
                  <a:pt x="1271" y="0"/>
                  <a:pt x="1289" y="0"/>
                </a:cubicBezTo>
                <a:cubicBezTo>
                  <a:pt x="1306" y="0"/>
                  <a:pt x="1306" y="22"/>
                  <a:pt x="1324" y="22"/>
                </a:cubicBezTo>
                <a:cubicBezTo>
                  <a:pt x="1341" y="22"/>
                  <a:pt x="1341" y="0"/>
                  <a:pt x="1358" y="0"/>
                </a:cubicBezTo>
                <a:cubicBezTo>
                  <a:pt x="1376" y="0"/>
                  <a:pt x="1376" y="22"/>
                  <a:pt x="1393" y="22"/>
                </a:cubicBezTo>
                <a:close/>
              </a:path>
            </a:pathLst>
          </a:custGeom>
          <a:solidFill>
            <a:srgbClr val="39a1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103"/>
          <p:cNvSpPr/>
          <p:nvPr/>
        </p:nvSpPr>
        <p:spPr>
          <a:xfrm>
            <a:off x="3886200" y="6654960"/>
            <a:ext cx="8042400" cy="20304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393" h="35">
                <a:moveTo>
                  <a:pt x="1358" y="0"/>
                </a:moveTo>
                <a:cubicBezTo>
                  <a:pt x="1341" y="0"/>
                  <a:pt x="1341" y="22"/>
                  <a:pt x="1324" y="22"/>
                </a:cubicBezTo>
                <a:cubicBezTo>
                  <a:pt x="1306" y="22"/>
                  <a:pt x="1306" y="0"/>
                  <a:pt x="1289" y="0"/>
                </a:cubicBezTo>
                <a:cubicBezTo>
                  <a:pt x="1271" y="0"/>
                  <a:pt x="1271" y="22"/>
                  <a:pt x="1254" y="22"/>
                </a:cubicBezTo>
                <a:cubicBezTo>
                  <a:pt x="1237" y="22"/>
                  <a:pt x="1237" y="0"/>
                  <a:pt x="1219" y="0"/>
                </a:cubicBezTo>
                <a:cubicBezTo>
                  <a:pt x="1202" y="0"/>
                  <a:pt x="1202" y="22"/>
                  <a:pt x="1184" y="22"/>
                </a:cubicBezTo>
                <a:cubicBezTo>
                  <a:pt x="1167" y="22"/>
                  <a:pt x="1167" y="0"/>
                  <a:pt x="1150" y="0"/>
                </a:cubicBezTo>
                <a:cubicBezTo>
                  <a:pt x="1132" y="0"/>
                  <a:pt x="1132" y="22"/>
                  <a:pt x="1115" y="22"/>
                </a:cubicBezTo>
                <a:cubicBezTo>
                  <a:pt x="1097" y="22"/>
                  <a:pt x="1097" y="0"/>
                  <a:pt x="1080" y="0"/>
                </a:cubicBezTo>
                <a:cubicBezTo>
                  <a:pt x="1063" y="0"/>
                  <a:pt x="1063" y="22"/>
                  <a:pt x="1045" y="22"/>
                </a:cubicBezTo>
                <a:cubicBezTo>
                  <a:pt x="1028" y="22"/>
                  <a:pt x="1028" y="0"/>
                  <a:pt x="1011" y="0"/>
                </a:cubicBezTo>
                <a:cubicBezTo>
                  <a:pt x="993" y="0"/>
                  <a:pt x="993" y="22"/>
                  <a:pt x="976" y="22"/>
                </a:cubicBezTo>
                <a:cubicBezTo>
                  <a:pt x="958" y="22"/>
                  <a:pt x="958" y="0"/>
                  <a:pt x="941" y="0"/>
                </a:cubicBezTo>
                <a:cubicBezTo>
                  <a:pt x="924" y="0"/>
                  <a:pt x="924" y="22"/>
                  <a:pt x="906" y="22"/>
                </a:cubicBezTo>
                <a:cubicBezTo>
                  <a:pt x="889" y="22"/>
                  <a:pt x="889" y="0"/>
                  <a:pt x="871" y="0"/>
                </a:cubicBezTo>
                <a:cubicBezTo>
                  <a:pt x="854" y="0"/>
                  <a:pt x="854" y="22"/>
                  <a:pt x="837" y="22"/>
                </a:cubicBezTo>
                <a:cubicBezTo>
                  <a:pt x="819" y="22"/>
                  <a:pt x="819" y="0"/>
                  <a:pt x="802" y="0"/>
                </a:cubicBezTo>
                <a:cubicBezTo>
                  <a:pt x="784" y="0"/>
                  <a:pt x="784" y="22"/>
                  <a:pt x="767" y="22"/>
                </a:cubicBezTo>
                <a:cubicBezTo>
                  <a:pt x="750" y="22"/>
                  <a:pt x="750" y="0"/>
                  <a:pt x="732" y="0"/>
                </a:cubicBezTo>
                <a:cubicBezTo>
                  <a:pt x="715" y="0"/>
                  <a:pt x="715" y="22"/>
                  <a:pt x="698" y="22"/>
                </a:cubicBezTo>
                <a:cubicBezTo>
                  <a:pt x="680" y="22"/>
                  <a:pt x="680" y="0"/>
                  <a:pt x="663" y="0"/>
                </a:cubicBezTo>
                <a:cubicBezTo>
                  <a:pt x="645" y="0"/>
                  <a:pt x="645" y="22"/>
                  <a:pt x="628" y="22"/>
                </a:cubicBezTo>
                <a:cubicBezTo>
                  <a:pt x="611" y="22"/>
                  <a:pt x="611" y="0"/>
                  <a:pt x="593" y="0"/>
                </a:cubicBezTo>
                <a:cubicBezTo>
                  <a:pt x="576" y="0"/>
                  <a:pt x="576" y="22"/>
                  <a:pt x="558" y="22"/>
                </a:cubicBezTo>
                <a:cubicBezTo>
                  <a:pt x="541" y="22"/>
                  <a:pt x="541" y="0"/>
                  <a:pt x="524" y="0"/>
                </a:cubicBezTo>
                <a:cubicBezTo>
                  <a:pt x="506" y="0"/>
                  <a:pt x="506" y="22"/>
                  <a:pt x="489" y="22"/>
                </a:cubicBezTo>
                <a:cubicBezTo>
                  <a:pt x="472" y="22"/>
                  <a:pt x="472" y="0"/>
                  <a:pt x="454" y="0"/>
                </a:cubicBezTo>
                <a:cubicBezTo>
                  <a:pt x="437" y="0"/>
                  <a:pt x="437" y="22"/>
                  <a:pt x="419" y="22"/>
                </a:cubicBezTo>
                <a:cubicBezTo>
                  <a:pt x="402" y="22"/>
                  <a:pt x="402" y="0"/>
                  <a:pt x="385" y="0"/>
                </a:cubicBezTo>
                <a:cubicBezTo>
                  <a:pt x="367" y="0"/>
                  <a:pt x="367" y="22"/>
                  <a:pt x="350" y="22"/>
                </a:cubicBezTo>
                <a:cubicBezTo>
                  <a:pt x="333" y="22"/>
                  <a:pt x="333" y="0"/>
                  <a:pt x="315" y="0"/>
                </a:cubicBezTo>
                <a:cubicBezTo>
                  <a:pt x="298" y="0"/>
                  <a:pt x="298" y="22"/>
                  <a:pt x="280" y="22"/>
                </a:cubicBezTo>
                <a:cubicBezTo>
                  <a:pt x="263" y="22"/>
                  <a:pt x="263" y="0"/>
                  <a:pt x="246" y="0"/>
                </a:cubicBezTo>
                <a:cubicBezTo>
                  <a:pt x="228" y="0"/>
                  <a:pt x="228" y="22"/>
                  <a:pt x="211" y="22"/>
                </a:cubicBezTo>
                <a:cubicBezTo>
                  <a:pt x="194" y="22"/>
                  <a:pt x="194" y="0"/>
                  <a:pt x="176" y="0"/>
                </a:cubicBezTo>
                <a:cubicBezTo>
                  <a:pt x="159" y="0"/>
                  <a:pt x="159" y="22"/>
                  <a:pt x="141" y="22"/>
                </a:cubicBezTo>
                <a:cubicBezTo>
                  <a:pt x="124" y="22"/>
                  <a:pt x="124" y="0"/>
                  <a:pt x="107" y="0"/>
                </a:cubicBezTo>
                <a:cubicBezTo>
                  <a:pt x="89" y="0"/>
                  <a:pt x="89" y="22"/>
                  <a:pt x="72" y="22"/>
                </a:cubicBezTo>
                <a:cubicBezTo>
                  <a:pt x="55" y="22"/>
                  <a:pt x="55" y="0"/>
                  <a:pt x="37" y="0"/>
                </a:cubicBezTo>
                <a:cubicBezTo>
                  <a:pt x="20" y="0"/>
                  <a:pt x="20" y="22"/>
                  <a:pt x="2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5"/>
                  <a:pt x="0" y="35"/>
                  <a:pt x="0" y="35"/>
                </a:cubicBezTo>
                <a:cubicBezTo>
                  <a:pt x="1393" y="35"/>
                  <a:pt x="1393" y="35"/>
                  <a:pt x="1393" y="35"/>
                </a:cubicBezTo>
                <a:cubicBezTo>
                  <a:pt x="1393" y="22"/>
                  <a:pt x="1393" y="22"/>
                  <a:pt x="1393" y="22"/>
                </a:cubicBezTo>
                <a:cubicBezTo>
                  <a:pt x="1376" y="22"/>
                  <a:pt x="1376" y="0"/>
                  <a:pt x="1358" y="0"/>
                </a:cubicBezTo>
                <a:close/>
              </a:path>
            </a:pathLst>
          </a:custGeom>
          <a:solidFill>
            <a:srgbClr val="005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MH_Number_1"/>
          <p:cNvSpPr/>
          <p:nvPr/>
        </p:nvSpPr>
        <p:spPr>
          <a:xfrm flipH="1">
            <a:off x="480960" y="1498680"/>
            <a:ext cx="2610000" cy="2608200"/>
          </a:xfrm>
          <a:prstGeom prst="roundRect">
            <a:avLst>
              <a:gd name="adj" fmla="val 16667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MH_Entry_1"/>
          <p:cNvSpPr/>
          <p:nvPr/>
        </p:nvSpPr>
        <p:spPr>
          <a:xfrm flipH="1">
            <a:off x="3368520" y="1498680"/>
            <a:ext cx="6353280" cy="965160"/>
          </a:xfrm>
          <a:prstGeom prst="roundRect">
            <a:avLst>
              <a:gd name="adj" fmla="val 16667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文本框 108"/>
          <p:cNvSpPr/>
          <p:nvPr/>
        </p:nvSpPr>
        <p:spPr>
          <a:xfrm>
            <a:off x="3992040" y="27273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d53d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b3d53d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文本框 109"/>
          <p:cNvSpPr/>
          <p:nvPr/>
        </p:nvSpPr>
        <p:spPr>
          <a:xfrm>
            <a:off x="3992040" y="32529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d53d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b3d53d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文本框 110"/>
          <p:cNvSpPr/>
          <p:nvPr/>
        </p:nvSpPr>
        <p:spPr>
          <a:xfrm>
            <a:off x="3992040" y="373680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d53d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b3d53d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椭圆 36"/>
          <p:cNvSpPr/>
          <p:nvPr/>
        </p:nvSpPr>
        <p:spPr>
          <a:xfrm>
            <a:off x="5462640" y="3247920"/>
            <a:ext cx="1724040" cy="1724040"/>
          </a:xfrm>
          <a:prstGeom prst="ellipse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椭圆 37"/>
          <p:cNvSpPr/>
          <p:nvPr/>
        </p:nvSpPr>
        <p:spPr>
          <a:xfrm>
            <a:off x="8072280" y="3733920"/>
            <a:ext cx="749520" cy="749160"/>
          </a:xfrm>
          <a:prstGeom prst="ellipse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椭圆 38"/>
          <p:cNvSpPr/>
          <p:nvPr/>
        </p:nvSpPr>
        <p:spPr>
          <a:xfrm>
            <a:off x="3467160" y="2889360"/>
            <a:ext cx="515880" cy="514080"/>
          </a:xfrm>
          <a:prstGeom prst="ellipse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</a:t>
            </a: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直接连接符 39"/>
          <p:cNvSpPr/>
          <p:nvPr/>
        </p:nvSpPr>
        <p:spPr>
          <a:xfrm>
            <a:off x="7186680" y="4110120"/>
            <a:ext cx="885600" cy="0"/>
          </a:xfrm>
          <a:prstGeom prst="line">
            <a:avLst/>
          </a:prstGeom>
          <a:ln w="6480">
            <a:solidFill>
              <a:srgbClr val="ffbf1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直接连接符 40"/>
          <p:cNvSpPr/>
          <p:nvPr/>
        </p:nvSpPr>
        <p:spPr>
          <a:xfrm flipH="1">
            <a:off x="3982680" y="3146400"/>
            <a:ext cx="1112760" cy="0"/>
          </a:xfrm>
          <a:prstGeom prst="line">
            <a:avLst/>
          </a:prstGeom>
          <a:ln w="6480">
            <a:solidFill>
              <a:srgbClr val="0895b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椭圆 35"/>
          <p:cNvSpPr/>
          <p:nvPr/>
        </p:nvSpPr>
        <p:spPr>
          <a:xfrm>
            <a:off x="5095800" y="2401920"/>
            <a:ext cx="1490760" cy="1488960"/>
          </a:xfrm>
          <a:prstGeom prst="ellipse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文本框 47"/>
          <p:cNvSpPr/>
          <p:nvPr/>
        </p:nvSpPr>
        <p:spPr>
          <a:xfrm>
            <a:off x="2471760" y="3660840"/>
            <a:ext cx="24782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文本框 47"/>
          <p:cNvSpPr/>
          <p:nvPr/>
        </p:nvSpPr>
        <p:spPr>
          <a:xfrm>
            <a:off x="7182000" y="1227240"/>
            <a:ext cx="2538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KSO_Shape"/>
          <p:cNvSpPr/>
          <p:nvPr/>
        </p:nvSpPr>
        <p:spPr>
          <a:xfrm>
            <a:off x="5749920" y="2633760"/>
            <a:ext cx="220680" cy="415800"/>
          </a:xfrm>
          <a:custGeom>
            <a:avLst/>
            <a:gdLst>
              <a:gd name="textAreaLeft" fmla="*/ 0 w 220680"/>
              <a:gd name="textAreaRight" fmla="*/ 221040 w 22068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2938" h="5511">
                <a:moveTo>
                  <a:pt x="2479" y="0"/>
                </a:moveTo>
                <a:lnTo>
                  <a:pt x="458" y="0"/>
                </a:lnTo>
                <a:lnTo>
                  <a:pt x="435" y="1"/>
                </a:lnTo>
                <a:lnTo>
                  <a:pt x="412" y="3"/>
                </a:lnTo>
                <a:lnTo>
                  <a:pt x="389" y="7"/>
                </a:lnTo>
                <a:lnTo>
                  <a:pt x="366" y="11"/>
                </a:lnTo>
                <a:lnTo>
                  <a:pt x="345" y="16"/>
                </a:lnTo>
                <a:lnTo>
                  <a:pt x="322" y="22"/>
                </a:lnTo>
                <a:lnTo>
                  <a:pt x="301" y="29"/>
                </a:lnTo>
                <a:lnTo>
                  <a:pt x="281" y="37"/>
                </a:lnTo>
                <a:lnTo>
                  <a:pt x="260" y="46"/>
                </a:lnTo>
                <a:lnTo>
                  <a:pt x="240" y="56"/>
                </a:lnTo>
                <a:lnTo>
                  <a:pt x="221" y="67"/>
                </a:lnTo>
                <a:lnTo>
                  <a:pt x="203" y="80"/>
                </a:lnTo>
                <a:lnTo>
                  <a:pt x="184" y="93"/>
                </a:lnTo>
                <a:lnTo>
                  <a:pt x="167" y="106"/>
                </a:lnTo>
                <a:lnTo>
                  <a:pt x="150" y="120"/>
                </a:lnTo>
                <a:lnTo>
                  <a:pt x="135" y="135"/>
                </a:lnTo>
                <a:lnTo>
                  <a:pt x="119" y="152"/>
                </a:lnTo>
                <a:lnTo>
                  <a:pt x="104" y="169"/>
                </a:lnTo>
                <a:lnTo>
                  <a:pt x="91" y="186"/>
                </a:lnTo>
                <a:lnTo>
                  <a:pt x="78" y="203"/>
                </a:lnTo>
                <a:lnTo>
                  <a:pt x="66" y="223"/>
                </a:lnTo>
                <a:lnTo>
                  <a:pt x="55" y="242"/>
                </a:lnTo>
                <a:lnTo>
                  <a:pt x="45" y="261"/>
                </a:lnTo>
                <a:lnTo>
                  <a:pt x="35" y="281"/>
                </a:lnTo>
                <a:lnTo>
                  <a:pt x="27" y="303"/>
                </a:lnTo>
                <a:lnTo>
                  <a:pt x="20" y="324"/>
                </a:lnTo>
                <a:lnTo>
                  <a:pt x="14" y="345"/>
                </a:lnTo>
                <a:lnTo>
                  <a:pt x="9" y="368"/>
                </a:lnTo>
                <a:lnTo>
                  <a:pt x="5" y="390"/>
                </a:lnTo>
                <a:lnTo>
                  <a:pt x="2" y="413"/>
                </a:lnTo>
                <a:lnTo>
                  <a:pt x="0" y="437"/>
                </a:lnTo>
                <a:lnTo>
                  <a:pt x="0" y="460"/>
                </a:lnTo>
                <a:lnTo>
                  <a:pt x="0" y="5052"/>
                </a:lnTo>
                <a:lnTo>
                  <a:pt x="0" y="5076"/>
                </a:lnTo>
                <a:lnTo>
                  <a:pt x="2" y="5099"/>
                </a:lnTo>
                <a:lnTo>
                  <a:pt x="5" y="5122"/>
                </a:lnTo>
                <a:lnTo>
                  <a:pt x="9" y="5144"/>
                </a:lnTo>
                <a:lnTo>
                  <a:pt x="14" y="5167"/>
                </a:lnTo>
                <a:lnTo>
                  <a:pt x="20" y="5189"/>
                </a:lnTo>
                <a:lnTo>
                  <a:pt x="27" y="5210"/>
                </a:lnTo>
                <a:lnTo>
                  <a:pt x="35" y="5230"/>
                </a:lnTo>
                <a:lnTo>
                  <a:pt x="45" y="5251"/>
                </a:lnTo>
                <a:lnTo>
                  <a:pt x="55" y="5271"/>
                </a:lnTo>
                <a:lnTo>
                  <a:pt x="66" y="5290"/>
                </a:lnTo>
                <a:lnTo>
                  <a:pt x="78" y="5309"/>
                </a:lnTo>
                <a:lnTo>
                  <a:pt x="91" y="5327"/>
                </a:lnTo>
                <a:lnTo>
                  <a:pt x="104" y="5344"/>
                </a:lnTo>
                <a:lnTo>
                  <a:pt x="119" y="5360"/>
                </a:lnTo>
                <a:lnTo>
                  <a:pt x="135" y="5377"/>
                </a:lnTo>
                <a:lnTo>
                  <a:pt x="150" y="5392"/>
                </a:lnTo>
                <a:lnTo>
                  <a:pt x="167" y="5406"/>
                </a:lnTo>
                <a:lnTo>
                  <a:pt x="184" y="5420"/>
                </a:lnTo>
                <a:lnTo>
                  <a:pt x="203" y="5433"/>
                </a:lnTo>
                <a:lnTo>
                  <a:pt x="221" y="5445"/>
                </a:lnTo>
                <a:lnTo>
                  <a:pt x="240" y="5456"/>
                </a:lnTo>
                <a:lnTo>
                  <a:pt x="260" y="5466"/>
                </a:lnTo>
                <a:lnTo>
                  <a:pt x="281" y="5475"/>
                </a:lnTo>
                <a:lnTo>
                  <a:pt x="301" y="5484"/>
                </a:lnTo>
                <a:lnTo>
                  <a:pt x="322" y="5491"/>
                </a:lnTo>
                <a:lnTo>
                  <a:pt x="345" y="5497"/>
                </a:lnTo>
                <a:lnTo>
                  <a:pt x="366" y="5502"/>
                </a:lnTo>
                <a:lnTo>
                  <a:pt x="389" y="5506"/>
                </a:lnTo>
                <a:lnTo>
                  <a:pt x="412" y="5509"/>
                </a:lnTo>
                <a:lnTo>
                  <a:pt x="435" y="5511"/>
                </a:lnTo>
                <a:lnTo>
                  <a:pt x="458" y="5511"/>
                </a:lnTo>
                <a:lnTo>
                  <a:pt x="2479" y="5511"/>
                </a:lnTo>
                <a:lnTo>
                  <a:pt x="2502" y="5511"/>
                </a:lnTo>
                <a:lnTo>
                  <a:pt x="2525" y="5509"/>
                </a:lnTo>
                <a:lnTo>
                  <a:pt x="2549" y="5506"/>
                </a:lnTo>
                <a:lnTo>
                  <a:pt x="2571" y="5502"/>
                </a:lnTo>
                <a:lnTo>
                  <a:pt x="2593" y="5497"/>
                </a:lnTo>
                <a:lnTo>
                  <a:pt x="2615" y="5491"/>
                </a:lnTo>
                <a:lnTo>
                  <a:pt x="2636" y="5484"/>
                </a:lnTo>
                <a:lnTo>
                  <a:pt x="2657" y="5475"/>
                </a:lnTo>
                <a:lnTo>
                  <a:pt x="2677" y="5466"/>
                </a:lnTo>
                <a:lnTo>
                  <a:pt x="2698" y="5456"/>
                </a:lnTo>
                <a:lnTo>
                  <a:pt x="2716" y="5445"/>
                </a:lnTo>
                <a:lnTo>
                  <a:pt x="2735" y="5433"/>
                </a:lnTo>
                <a:lnTo>
                  <a:pt x="2754" y="5420"/>
                </a:lnTo>
                <a:lnTo>
                  <a:pt x="2771" y="5406"/>
                </a:lnTo>
                <a:lnTo>
                  <a:pt x="2787" y="5392"/>
                </a:lnTo>
                <a:lnTo>
                  <a:pt x="2803" y="5377"/>
                </a:lnTo>
                <a:lnTo>
                  <a:pt x="2818" y="5360"/>
                </a:lnTo>
                <a:lnTo>
                  <a:pt x="2833" y="5344"/>
                </a:lnTo>
                <a:lnTo>
                  <a:pt x="2847" y="5327"/>
                </a:lnTo>
                <a:lnTo>
                  <a:pt x="2859" y="5309"/>
                </a:lnTo>
                <a:lnTo>
                  <a:pt x="2871" y="5290"/>
                </a:lnTo>
                <a:lnTo>
                  <a:pt x="2882" y="5271"/>
                </a:lnTo>
                <a:lnTo>
                  <a:pt x="2892" y="5251"/>
                </a:lnTo>
                <a:lnTo>
                  <a:pt x="2902" y="5230"/>
                </a:lnTo>
                <a:lnTo>
                  <a:pt x="2910" y="5210"/>
                </a:lnTo>
                <a:lnTo>
                  <a:pt x="2918" y="5189"/>
                </a:lnTo>
                <a:lnTo>
                  <a:pt x="2924" y="5167"/>
                </a:lnTo>
                <a:lnTo>
                  <a:pt x="2929" y="5144"/>
                </a:lnTo>
                <a:lnTo>
                  <a:pt x="2933" y="5122"/>
                </a:lnTo>
                <a:lnTo>
                  <a:pt x="2936" y="5099"/>
                </a:lnTo>
                <a:lnTo>
                  <a:pt x="2937" y="5076"/>
                </a:lnTo>
                <a:lnTo>
                  <a:pt x="2938" y="5052"/>
                </a:lnTo>
                <a:lnTo>
                  <a:pt x="2938" y="460"/>
                </a:lnTo>
                <a:lnTo>
                  <a:pt x="2937" y="437"/>
                </a:lnTo>
                <a:lnTo>
                  <a:pt x="2936" y="413"/>
                </a:lnTo>
                <a:lnTo>
                  <a:pt x="2933" y="390"/>
                </a:lnTo>
                <a:lnTo>
                  <a:pt x="2929" y="368"/>
                </a:lnTo>
                <a:lnTo>
                  <a:pt x="2924" y="345"/>
                </a:lnTo>
                <a:lnTo>
                  <a:pt x="2918" y="324"/>
                </a:lnTo>
                <a:lnTo>
                  <a:pt x="2910" y="303"/>
                </a:lnTo>
                <a:lnTo>
                  <a:pt x="2902" y="281"/>
                </a:lnTo>
                <a:lnTo>
                  <a:pt x="2892" y="261"/>
                </a:lnTo>
                <a:lnTo>
                  <a:pt x="2882" y="242"/>
                </a:lnTo>
                <a:lnTo>
                  <a:pt x="2871" y="223"/>
                </a:lnTo>
                <a:lnTo>
                  <a:pt x="2859" y="203"/>
                </a:lnTo>
                <a:lnTo>
                  <a:pt x="2847" y="186"/>
                </a:lnTo>
                <a:lnTo>
                  <a:pt x="2833" y="169"/>
                </a:lnTo>
                <a:lnTo>
                  <a:pt x="2818" y="152"/>
                </a:lnTo>
                <a:lnTo>
                  <a:pt x="2803" y="135"/>
                </a:lnTo>
                <a:lnTo>
                  <a:pt x="2787" y="120"/>
                </a:lnTo>
                <a:lnTo>
                  <a:pt x="2771" y="106"/>
                </a:lnTo>
                <a:lnTo>
                  <a:pt x="2754" y="93"/>
                </a:lnTo>
                <a:lnTo>
                  <a:pt x="2735" y="80"/>
                </a:lnTo>
                <a:lnTo>
                  <a:pt x="2716" y="67"/>
                </a:lnTo>
                <a:lnTo>
                  <a:pt x="2698" y="56"/>
                </a:lnTo>
                <a:lnTo>
                  <a:pt x="2677" y="46"/>
                </a:lnTo>
                <a:lnTo>
                  <a:pt x="2657" y="37"/>
                </a:lnTo>
                <a:lnTo>
                  <a:pt x="2636" y="29"/>
                </a:lnTo>
                <a:lnTo>
                  <a:pt x="2615" y="22"/>
                </a:lnTo>
                <a:lnTo>
                  <a:pt x="2593" y="16"/>
                </a:lnTo>
                <a:lnTo>
                  <a:pt x="2571" y="11"/>
                </a:lnTo>
                <a:lnTo>
                  <a:pt x="2549" y="7"/>
                </a:lnTo>
                <a:lnTo>
                  <a:pt x="2525" y="3"/>
                </a:lnTo>
                <a:lnTo>
                  <a:pt x="2502" y="1"/>
                </a:lnTo>
                <a:lnTo>
                  <a:pt x="2479" y="0"/>
                </a:lnTo>
                <a:close/>
                <a:moveTo>
                  <a:pt x="1194" y="369"/>
                </a:moveTo>
                <a:lnTo>
                  <a:pt x="1744" y="369"/>
                </a:lnTo>
                <a:lnTo>
                  <a:pt x="1753" y="369"/>
                </a:lnTo>
                <a:lnTo>
                  <a:pt x="1763" y="370"/>
                </a:lnTo>
                <a:lnTo>
                  <a:pt x="1772" y="373"/>
                </a:lnTo>
                <a:lnTo>
                  <a:pt x="1780" y="376"/>
                </a:lnTo>
                <a:lnTo>
                  <a:pt x="1788" y="379"/>
                </a:lnTo>
                <a:lnTo>
                  <a:pt x="1796" y="384"/>
                </a:lnTo>
                <a:lnTo>
                  <a:pt x="1803" y="389"/>
                </a:lnTo>
                <a:lnTo>
                  <a:pt x="1809" y="395"/>
                </a:lnTo>
                <a:lnTo>
                  <a:pt x="1815" y="401"/>
                </a:lnTo>
                <a:lnTo>
                  <a:pt x="1820" y="408"/>
                </a:lnTo>
                <a:lnTo>
                  <a:pt x="1825" y="416"/>
                </a:lnTo>
                <a:lnTo>
                  <a:pt x="1828" y="424"/>
                </a:lnTo>
                <a:lnTo>
                  <a:pt x="1833" y="433"/>
                </a:lnTo>
                <a:lnTo>
                  <a:pt x="1835" y="442"/>
                </a:lnTo>
                <a:lnTo>
                  <a:pt x="1836" y="451"/>
                </a:lnTo>
                <a:lnTo>
                  <a:pt x="1837" y="460"/>
                </a:lnTo>
                <a:lnTo>
                  <a:pt x="1836" y="469"/>
                </a:lnTo>
                <a:lnTo>
                  <a:pt x="1835" y="478"/>
                </a:lnTo>
                <a:lnTo>
                  <a:pt x="1833" y="487"/>
                </a:lnTo>
                <a:lnTo>
                  <a:pt x="1828" y="495"/>
                </a:lnTo>
                <a:lnTo>
                  <a:pt x="1825" y="504"/>
                </a:lnTo>
                <a:lnTo>
                  <a:pt x="1820" y="512"/>
                </a:lnTo>
                <a:lnTo>
                  <a:pt x="1815" y="519"/>
                </a:lnTo>
                <a:lnTo>
                  <a:pt x="1809" y="525"/>
                </a:lnTo>
                <a:lnTo>
                  <a:pt x="1803" y="531"/>
                </a:lnTo>
                <a:lnTo>
                  <a:pt x="1796" y="536"/>
                </a:lnTo>
                <a:lnTo>
                  <a:pt x="1788" y="541"/>
                </a:lnTo>
                <a:lnTo>
                  <a:pt x="1780" y="545"/>
                </a:lnTo>
                <a:lnTo>
                  <a:pt x="1772" y="548"/>
                </a:lnTo>
                <a:lnTo>
                  <a:pt x="1763" y="550"/>
                </a:lnTo>
                <a:lnTo>
                  <a:pt x="1753" y="551"/>
                </a:lnTo>
                <a:lnTo>
                  <a:pt x="1744" y="552"/>
                </a:lnTo>
                <a:lnTo>
                  <a:pt x="1194" y="552"/>
                </a:lnTo>
                <a:lnTo>
                  <a:pt x="1184" y="551"/>
                </a:lnTo>
                <a:lnTo>
                  <a:pt x="1175" y="550"/>
                </a:lnTo>
                <a:lnTo>
                  <a:pt x="1166" y="548"/>
                </a:lnTo>
                <a:lnTo>
                  <a:pt x="1158" y="545"/>
                </a:lnTo>
                <a:lnTo>
                  <a:pt x="1150" y="541"/>
                </a:lnTo>
                <a:lnTo>
                  <a:pt x="1142" y="536"/>
                </a:lnTo>
                <a:lnTo>
                  <a:pt x="1135" y="531"/>
                </a:lnTo>
                <a:lnTo>
                  <a:pt x="1129" y="525"/>
                </a:lnTo>
                <a:lnTo>
                  <a:pt x="1123" y="519"/>
                </a:lnTo>
                <a:lnTo>
                  <a:pt x="1117" y="512"/>
                </a:lnTo>
                <a:lnTo>
                  <a:pt x="1112" y="504"/>
                </a:lnTo>
                <a:lnTo>
                  <a:pt x="1108" y="495"/>
                </a:lnTo>
                <a:lnTo>
                  <a:pt x="1105" y="487"/>
                </a:lnTo>
                <a:lnTo>
                  <a:pt x="1103" y="478"/>
                </a:lnTo>
                <a:lnTo>
                  <a:pt x="1102" y="469"/>
                </a:lnTo>
                <a:lnTo>
                  <a:pt x="1101" y="460"/>
                </a:lnTo>
                <a:lnTo>
                  <a:pt x="1102" y="451"/>
                </a:lnTo>
                <a:lnTo>
                  <a:pt x="1103" y="442"/>
                </a:lnTo>
                <a:lnTo>
                  <a:pt x="1105" y="433"/>
                </a:lnTo>
                <a:lnTo>
                  <a:pt x="1108" y="424"/>
                </a:lnTo>
                <a:lnTo>
                  <a:pt x="1112" y="416"/>
                </a:lnTo>
                <a:lnTo>
                  <a:pt x="1117" y="408"/>
                </a:lnTo>
                <a:lnTo>
                  <a:pt x="1123" y="401"/>
                </a:lnTo>
                <a:lnTo>
                  <a:pt x="1129" y="395"/>
                </a:lnTo>
                <a:lnTo>
                  <a:pt x="1135" y="389"/>
                </a:lnTo>
                <a:lnTo>
                  <a:pt x="1142" y="384"/>
                </a:lnTo>
                <a:lnTo>
                  <a:pt x="1150" y="379"/>
                </a:lnTo>
                <a:lnTo>
                  <a:pt x="1158" y="376"/>
                </a:lnTo>
                <a:lnTo>
                  <a:pt x="1166" y="373"/>
                </a:lnTo>
                <a:lnTo>
                  <a:pt x="1175" y="370"/>
                </a:lnTo>
                <a:lnTo>
                  <a:pt x="1184" y="369"/>
                </a:lnTo>
                <a:lnTo>
                  <a:pt x="1194" y="369"/>
                </a:lnTo>
                <a:close/>
                <a:moveTo>
                  <a:pt x="1468" y="5328"/>
                </a:moveTo>
                <a:lnTo>
                  <a:pt x="1468" y="5328"/>
                </a:lnTo>
                <a:lnTo>
                  <a:pt x="1454" y="5328"/>
                </a:lnTo>
                <a:lnTo>
                  <a:pt x="1441" y="5327"/>
                </a:lnTo>
                <a:lnTo>
                  <a:pt x="1427" y="5325"/>
                </a:lnTo>
                <a:lnTo>
                  <a:pt x="1414" y="5322"/>
                </a:lnTo>
                <a:lnTo>
                  <a:pt x="1399" y="5319"/>
                </a:lnTo>
                <a:lnTo>
                  <a:pt x="1387" y="5316"/>
                </a:lnTo>
                <a:lnTo>
                  <a:pt x="1374" y="5312"/>
                </a:lnTo>
                <a:lnTo>
                  <a:pt x="1362" y="5307"/>
                </a:lnTo>
                <a:lnTo>
                  <a:pt x="1350" y="5300"/>
                </a:lnTo>
                <a:lnTo>
                  <a:pt x="1338" y="5294"/>
                </a:lnTo>
                <a:lnTo>
                  <a:pt x="1325" y="5288"/>
                </a:lnTo>
                <a:lnTo>
                  <a:pt x="1314" y="5281"/>
                </a:lnTo>
                <a:lnTo>
                  <a:pt x="1304" y="5273"/>
                </a:lnTo>
                <a:lnTo>
                  <a:pt x="1294" y="5265"/>
                </a:lnTo>
                <a:lnTo>
                  <a:pt x="1284" y="5257"/>
                </a:lnTo>
                <a:lnTo>
                  <a:pt x="1274" y="5248"/>
                </a:lnTo>
                <a:lnTo>
                  <a:pt x="1265" y="5238"/>
                </a:lnTo>
                <a:lnTo>
                  <a:pt x="1256" y="5227"/>
                </a:lnTo>
                <a:lnTo>
                  <a:pt x="1248" y="5217"/>
                </a:lnTo>
                <a:lnTo>
                  <a:pt x="1240" y="5206"/>
                </a:lnTo>
                <a:lnTo>
                  <a:pt x="1233" y="5195"/>
                </a:lnTo>
                <a:lnTo>
                  <a:pt x="1227" y="5184"/>
                </a:lnTo>
                <a:lnTo>
                  <a:pt x="1221" y="5172"/>
                </a:lnTo>
                <a:lnTo>
                  <a:pt x="1215" y="5159"/>
                </a:lnTo>
                <a:lnTo>
                  <a:pt x="1210" y="5147"/>
                </a:lnTo>
                <a:lnTo>
                  <a:pt x="1206" y="5134"/>
                </a:lnTo>
                <a:lnTo>
                  <a:pt x="1202" y="5121"/>
                </a:lnTo>
                <a:lnTo>
                  <a:pt x="1199" y="5108"/>
                </a:lnTo>
                <a:lnTo>
                  <a:pt x="1197" y="5095"/>
                </a:lnTo>
                <a:lnTo>
                  <a:pt x="1195" y="5080"/>
                </a:lnTo>
                <a:lnTo>
                  <a:pt x="1194" y="5066"/>
                </a:lnTo>
                <a:lnTo>
                  <a:pt x="1194" y="5052"/>
                </a:lnTo>
                <a:lnTo>
                  <a:pt x="1194" y="5038"/>
                </a:lnTo>
                <a:lnTo>
                  <a:pt x="1195" y="5025"/>
                </a:lnTo>
                <a:lnTo>
                  <a:pt x="1197" y="5010"/>
                </a:lnTo>
                <a:lnTo>
                  <a:pt x="1199" y="4997"/>
                </a:lnTo>
                <a:lnTo>
                  <a:pt x="1202" y="4983"/>
                </a:lnTo>
                <a:lnTo>
                  <a:pt x="1206" y="4970"/>
                </a:lnTo>
                <a:lnTo>
                  <a:pt x="1210" y="4958"/>
                </a:lnTo>
                <a:lnTo>
                  <a:pt x="1215" y="4945"/>
                </a:lnTo>
                <a:lnTo>
                  <a:pt x="1221" y="4932"/>
                </a:lnTo>
                <a:lnTo>
                  <a:pt x="1227" y="4921"/>
                </a:lnTo>
                <a:lnTo>
                  <a:pt x="1233" y="4909"/>
                </a:lnTo>
                <a:lnTo>
                  <a:pt x="1240" y="4898"/>
                </a:lnTo>
                <a:lnTo>
                  <a:pt x="1248" y="4888"/>
                </a:lnTo>
                <a:lnTo>
                  <a:pt x="1256" y="4876"/>
                </a:lnTo>
                <a:lnTo>
                  <a:pt x="1265" y="4867"/>
                </a:lnTo>
                <a:lnTo>
                  <a:pt x="1274" y="4857"/>
                </a:lnTo>
                <a:lnTo>
                  <a:pt x="1284" y="4848"/>
                </a:lnTo>
                <a:lnTo>
                  <a:pt x="1294" y="4840"/>
                </a:lnTo>
                <a:lnTo>
                  <a:pt x="1304" y="4832"/>
                </a:lnTo>
                <a:lnTo>
                  <a:pt x="1314" y="4824"/>
                </a:lnTo>
                <a:lnTo>
                  <a:pt x="1325" y="4817"/>
                </a:lnTo>
                <a:lnTo>
                  <a:pt x="1338" y="4810"/>
                </a:lnTo>
                <a:lnTo>
                  <a:pt x="1350" y="4803"/>
                </a:lnTo>
                <a:lnTo>
                  <a:pt x="1362" y="4798"/>
                </a:lnTo>
                <a:lnTo>
                  <a:pt x="1374" y="4793"/>
                </a:lnTo>
                <a:lnTo>
                  <a:pt x="1387" y="4789"/>
                </a:lnTo>
                <a:lnTo>
                  <a:pt x="1399" y="4785"/>
                </a:lnTo>
                <a:lnTo>
                  <a:pt x="1414" y="4782"/>
                </a:lnTo>
                <a:lnTo>
                  <a:pt x="1427" y="4780"/>
                </a:lnTo>
                <a:lnTo>
                  <a:pt x="1441" y="4778"/>
                </a:lnTo>
                <a:lnTo>
                  <a:pt x="1454" y="4777"/>
                </a:lnTo>
                <a:lnTo>
                  <a:pt x="1468" y="4777"/>
                </a:lnTo>
                <a:lnTo>
                  <a:pt x="1483" y="4777"/>
                </a:lnTo>
                <a:lnTo>
                  <a:pt x="1497" y="4778"/>
                </a:lnTo>
                <a:lnTo>
                  <a:pt x="1511" y="4780"/>
                </a:lnTo>
                <a:lnTo>
                  <a:pt x="1524" y="4782"/>
                </a:lnTo>
                <a:lnTo>
                  <a:pt x="1537" y="4785"/>
                </a:lnTo>
                <a:lnTo>
                  <a:pt x="1551" y="4789"/>
                </a:lnTo>
                <a:lnTo>
                  <a:pt x="1564" y="4793"/>
                </a:lnTo>
                <a:lnTo>
                  <a:pt x="1576" y="4798"/>
                </a:lnTo>
                <a:lnTo>
                  <a:pt x="1588" y="4803"/>
                </a:lnTo>
                <a:lnTo>
                  <a:pt x="1600" y="4810"/>
                </a:lnTo>
                <a:lnTo>
                  <a:pt x="1611" y="4817"/>
                </a:lnTo>
                <a:lnTo>
                  <a:pt x="1623" y="4824"/>
                </a:lnTo>
                <a:lnTo>
                  <a:pt x="1634" y="4832"/>
                </a:lnTo>
                <a:lnTo>
                  <a:pt x="1644" y="4840"/>
                </a:lnTo>
                <a:lnTo>
                  <a:pt x="1654" y="4848"/>
                </a:lnTo>
                <a:lnTo>
                  <a:pt x="1664" y="4857"/>
                </a:lnTo>
                <a:lnTo>
                  <a:pt x="1673" y="4867"/>
                </a:lnTo>
                <a:lnTo>
                  <a:pt x="1681" y="4876"/>
                </a:lnTo>
                <a:lnTo>
                  <a:pt x="1690" y="4888"/>
                </a:lnTo>
                <a:lnTo>
                  <a:pt x="1698" y="4898"/>
                </a:lnTo>
                <a:lnTo>
                  <a:pt x="1705" y="4909"/>
                </a:lnTo>
                <a:lnTo>
                  <a:pt x="1711" y="4921"/>
                </a:lnTo>
                <a:lnTo>
                  <a:pt x="1717" y="4932"/>
                </a:lnTo>
                <a:lnTo>
                  <a:pt x="1723" y="4945"/>
                </a:lnTo>
                <a:lnTo>
                  <a:pt x="1728" y="4958"/>
                </a:lnTo>
                <a:lnTo>
                  <a:pt x="1732" y="4970"/>
                </a:lnTo>
                <a:lnTo>
                  <a:pt x="1736" y="4983"/>
                </a:lnTo>
                <a:lnTo>
                  <a:pt x="1739" y="4997"/>
                </a:lnTo>
                <a:lnTo>
                  <a:pt x="1741" y="5010"/>
                </a:lnTo>
                <a:lnTo>
                  <a:pt x="1743" y="5025"/>
                </a:lnTo>
                <a:lnTo>
                  <a:pt x="1744" y="5038"/>
                </a:lnTo>
                <a:lnTo>
                  <a:pt x="1744" y="5052"/>
                </a:lnTo>
                <a:lnTo>
                  <a:pt x="1744" y="5066"/>
                </a:lnTo>
                <a:lnTo>
                  <a:pt x="1743" y="5080"/>
                </a:lnTo>
                <a:lnTo>
                  <a:pt x="1741" y="5095"/>
                </a:lnTo>
                <a:lnTo>
                  <a:pt x="1739" y="5108"/>
                </a:lnTo>
                <a:lnTo>
                  <a:pt x="1736" y="5121"/>
                </a:lnTo>
                <a:lnTo>
                  <a:pt x="1732" y="5134"/>
                </a:lnTo>
                <a:lnTo>
                  <a:pt x="1728" y="5147"/>
                </a:lnTo>
                <a:lnTo>
                  <a:pt x="1723" y="5159"/>
                </a:lnTo>
                <a:lnTo>
                  <a:pt x="1717" y="5172"/>
                </a:lnTo>
                <a:lnTo>
                  <a:pt x="1711" y="5184"/>
                </a:lnTo>
                <a:lnTo>
                  <a:pt x="1705" y="5195"/>
                </a:lnTo>
                <a:lnTo>
                  <a:pt x="1698" y="5206"/>
                </a:lnTo>
                <a:lnTo>
                  <a:pt x="1690" y="5217"/>
                </a:lnTo>
                <a:lnTo>
                  <a:pt x="1681" y="5227"/>
                </a:lnTo>
                <a:lnTo>
                  <a:pt x="1673" y="5238"/>
                </a:lnTo>
                <a:lnTo>
                  <a:pt x="1664" y="5248"/>
                </a:lnTo>
                <a:lnTo>
                  <a:pt x="1654" y="5257"/>
                </a:lnTo>
                <a:lnTo>
                  <a:pt x="1644" y="5265"/>
                </a:lnTo>
                <a:lnTo>
                  <a:pt x="1634" y="5273"/>
                </a:lnTo>
                <a:lnTo>
                  <a:pt x="1623" y="5281"/>
                </a:lnTo>
                <a:lnTo>
                  <a:pt x="1611" y="5288"/>
                </a:lnTo>
                <a:lnTo>
                  <a:pt x="1600" y="5294"/>
                </a:lnTo>
                <a:lnTo>
                  <a:pt x="1588" y="5300"/>
                </a:lnTo>
                <a:lnTo>
                  <a:pt x="1576" y="5307"/>
                </a:lnTo>
                <a:lnTo>
                  <a:pt x="1564" y="5312"/>
                </a:lnTo>
                <a:lnTo>
                  <a:pt x="1551" y="5316"/>
                </a:lnTo>
                <a:lnTo>
                  <a:pt x="1537" y="5319"/>
                </a:lnTo>
                <a:lnTo>
                  <a:pt x="1524" y="5322"/>
                </a:lnTo>
                <a:lnTo>
                  <a:pt x="1511" y="5325"/>
                </a:lnTo>
                <a:lnTo>
                  <a:pt x="1497" y="5327"/>
                </a:lnTo>
                <a:lnTo>
                  <a:pt x="1483" y="5328"/>
                </a:lnTo>
                <a:lnTo>
                  <a:pt x="1468" y="5328"/>
                </a:lnTo>
                <a:close/>
                <a:moveTo>
                  <a:pt x="2755" y="4593"/>
                </a:moveTo>
                <a:lnTo>
                  <a:pt x="183" y="4593"/>
                </a:lnTo>
                <a:lnTo>
                  <a:pt x="183" y="919"/>
                </a:lnTo>
                <a:lnTo>
                  <a:pt x="2755" y="919"/>
                </a:lnTo>
                <a:lnTo>
                  <a:pt x="2755" y="45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KSO_Shape"/>
          <p:cNvSpPr/>
          <p:nvPr/>
        </p:nvSpPr>
        <p:spPr>
          <a:xfrm>
            <a:off x="6116760" y="3909960"/>
            <a:ext cx="414360" cy="308160"/>
          </a:xfrm>
          <a:custGeom>
            <a:avLst/>
            <a:gdLst>
              <a:gd name="textAreaLeft" fmla="*/ 0 w 414360"/>
              <a:gd name="textAreaRight" fmla="*/ 414720 w 41436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257" h="191">
                <a:moveTo>
                  <a:pt x="33" y="125"/>
                </a:moveTo>
                <a:cubicBezTo>
                  <a:pt x="55" y="125"/>
                  <a:pt x="55" y="125"/>
                  <a:pt x="55" y="125"/>
                </a:cubicBezTo>
                <a:cubicBezTo>
                  <a:pt x="55" y="122"/>
                  <a:pt x="55" y="122"/>
                  <a:pt x="55" y="122"/>
                </a:cubicBezTo>
                <a:cubicBezTo>
                  <a:pt x="45" y="122"/>
                  <a:pt x="45" y="122"/>
                  <a:pt x="45" y="122"/>
                </a:cubicBezTo>
                <a:cubicBezTo>
                  <a:pt x="41" y="122"/>
                  <a:pt x="37" y="120"/>
                  <a:pt x="34" y="118"/>
                </a:cubicBezTo>
                <a:cubicBezTo>
                  <a:pt x="32" y="115"/>
                  <a:pt x="30" y="111"/>
                  <a:pt x="30" y="107"/>
                </a:cubicBezTo>
                <a:cubicBezTo>
                  <a:pt x="30" y="15"/>
                  <a:pt x="30" y="15"/>
                  <a:pt x="30" y="15"/>
                </a:cubicBezTo>
                <a:cubicBezTo>
                  <a:pt x="30" y="11"/>
                  <a:pt x="32" y="7"/>
                  <a:pt x="34" y="5"/>
                </a:cubicBezTo>
                <a:cubicBezTo>
                  <a:pt x="34" y="5"/>
                  <a:pt x="34" y="5"/>
                  <a:pt x="34" y="5"/>
                </a:cubicBezTo>
                <a:cubicBezTo>
                  <a:pt x="37" y="2"/>
                  <a:pt x="41" y="0"/>
                  <a:pt x="45" y="0"/>
                </a:cubicBezTo>
                <a:cubicBezTo>
                  <a:pt x="209" y="0"/>
                  <a:pt x="209" y="0"/>
                  <a:pt x="209" y="0"/>
                </a:cubicBezTo>
                <a:cubicBezTo>
                  <a:pt x="213" y="0"/>
                  <a:pt x="217" y="2"/>
                  <a:pt x="220" y="5"/>
                </a:cubicBezTo>
                <a:cubicBezTo>
                  <a:pt x="220" y="5"/>
                  <a:pt x="220" y="5"/>
                  <a:pt x="220" y="5"/>
                </a:cubicBezTo>
                <a:cubicBezTo>
                  <a:pt x="222" y="7"/>
                  <a:pt x="224" y="11"/>
                  <a:pt x="224" y="15"/>
                </a:cubicBezTo>
                <a:cubicBezTo>
                  <a:pt x="224" y="107"/>
                  <a:pt x="224" y="107"/>
                  <a:pt x="224" y="107"/>
                </a:cubicBezTo>
                <a:cubicBezTo>
                  <a:pt x="224" y="111"/>
                  <a:pt x="222" y="115"/>
                  <a:pt x="220" y="118"/>
                </a:cubicBezTo>
                <a:cubicBezTo>
                  <a:pt x="217" y="120"/>
                  <a:pt x="213" y="122"/>
                  <a:pt x="209" y="122"/>
                </a:cubicBezTo>
                <a:cubicBezTo>
                  <a:pt x="198" y="122"/>
                  <a:pt x="198" y="122"/>
                  <a:pt x="198" y="122"/>
                </a:cubicBezTo>
                <a:cubicBezTo>
                  <a:pt x="198" y="125"/>
                  <a:pt x="198" y="125"/>
                  <a:pt x="198" y="125"/>
                </a:cubicBezTo>
                <a:cubicBezTo>
                  <a:pt x="221" y="125"/>
                  <a:pt x="221" y="125"/>
                  <a:pt x="221" y="125"/>
                </a:cubicBezTo>
                <a:cubicBezTo>
                  <a:pt x="257" y="173"/>
                  <a:pt x="257" y="173"/>
                  <a:pt x="257" y="173"/>
                </a:cubicBezTo>
                <a:cubicBezTo>
                  <a:pt x="256" y="173"/>
                  <a:pt x="256" y="173"/>
                  <a:pt x="256" y="173"/>
                </a:cubicBezTo>
                <a:cubicBezTo>
                  <a:pt x="248" y="191"/>
                  <a:pt x="248" y="191"/>
                  <a:pt x="248" y="191"/>
                </a:cubicBezTo>
                <a:cubicBezTo>
                  <a:pt x="9" y="191"/>
                  <a:pt x="9" y="191"/>
                  <a:pt x="9" y="191"/>
                </a:cubicBezTo>
                <a:cubicBezTo>
                  <a:pt x="0" y="173"/>
                  <a:pt x="0" y="173"/>
                  <a:pt x="0" y="173"/>
                </a:cubicBezTo>
                <a:cubicBezTo>
                  <a:pt x="33" y="125"/>
                  <a:pt x="33" y="125"/>
                  <a:pt x="33" y="125"/>
                </a:cubicBezTo>
                <a:close/>
                <a:moveTo>
                  <a:pt x="77" y="125"/>
                </a:moveTo>
                <a:cubicBezTo>
                  <a:pt x="176" y="125"/>
                  <a:pt x="176" y="125"/>
                  <a:pt x="176" y="125"/>
                </a:cubicBezTo>
                <a:cubicBezTo>
                  <a:pt x="176" y="122"/>
                  <a:pt x="176" y="122"/>
                  <a:pt x="176" y="122"/>
                </a:cubicBezTo>
                <a:cubicBezTo>
                  <a:pt x="77" y="122"/>
                  <a:pt x="77" y="122"/>
                  <a:pt x="77" y="122"/>
                </a:cubicBezTo>
                <a:cubicBezTo>
                  <a:pt x="77" y="125"/>
                  <a:pt x="77" y="125"/>
                  <a:pt x="77" y="125"/>
                </a:cubicBezTo>
                <a:close/>
                <a:moveTo>
                  <a:pt x="209" y="15"/>
                </a:move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209" y="107"/>
                  <a:pt x="209" y="107"/>
                  <a:pt x="209" y="107"/>
                </a:cubicBezTo>
                <a:cubicBezTo>
                  <a:pt x="209" y="107"/>
                  <a:pt x="209" y="107"/>
                  <a:pt x="209" y="107"/>
                </a:cubicBezTo>
                <a:cubicBezTo>
                  <a:pt x="209" y="107"/>
                  <a:pt x="210" y="107"/>
                  <a:pt x="210" y="107"/>
                </a:cubicBezTo>
                <a:cubicBezTo>
                  <a:pt x="210" y="15"/>
                  <a:pt x="210" y="15"/>
                  <a:pt x="210" y="15"/>
                </a:cubicBezTo>
                <a:cubicBezTo>
                  <a:pt x="210" y="15"/>
                  <a:pt x="210" y="15"/>
                  <a:pt x="209" y="15"/>
                </a:cubicBezTo>
                <a:cubicBezTo>
                  <a:pt x="209" y="15"/>
                  <a:pt x="209" y="15"/>
                  <a:pt x="209" y="15"/>
                </a:cubicBezTo>
                <a:cubicBezTo>
                  <a:pt x="209" y="15"/>
                  <a:pt x="209" y="15"/>
                  <a:pt x="209" y="15"/>
                </a:cubicBezTo>
                <a:close/>
                <a:moveTo>
                  <a:pt x="39" y="155"/>
                </a:moveTo>
                <a:cubicBezTo>
                  <a:pt x="37" y="158"/>
                  <a:pt x="35" y="160"/>
                  <a:pt x="34" y="163"/>
                </a:cubicBezTo>
                <a:cubicBezTo>
                  <a:pt x="42" y="163"/>
                  <a:pt x="51" y="163"/>
                  <a:pt x="60" y="163"/>
                </a:cubicBezTo>
                <a:cubicBezTo>
                  <a:pt x="61" y="160"/>
                  <a:pt x="62" y="158"/>
                  <a:pt x="63" y="155"/>
                </a:cubicBezTo>
                <a:cubicBezTo>
                  <a:pt x="55" y="155"/>
                  <a:pt x="47" y="155"/>
                  <a:pt x="39" y="155"/>
                </a:cubicBezTo>
                <a:close/>
                <a:moveTo>
                  <a:pt x="51" y="135"/>
                </a:moveTo>
                <a:cubicBezTo>
                  <a:pt x="50" y="137"/>
                  <a:pt x="49" y="139"/>
                  <a:pt x="48" y="141"/>
                </a:cubicBezTo>
                <a:cubicBezTo>
                  <a:pt x="57" y="141"/>
                  <a:pt x="66" y="141"/>
                  <a:pt x="75" y="141"/>
                </a:cubicBezTo>
                <a:cubicBezTo>
                  <a:pt x="76" y="139"/>
                  <a:pt x="77" y="137"/>
                  <a:pt x="78" y="135"/>
                </a:cubicBezTo>
                <a:cubicBezTo>
                  <a:pt x="69" y="135"/>
                  <a:pt x="60" y="135"/>
                  <a:pt x="51" y="135"/>
                </a:cubicBezTo>
                <a:close/>
                <a:moveTo>
                  <a:pt x="192" y="135"/>
                </a:moveTo>
                <a:cubicBezTo>
                  <a:pt x="193" y="137"/>
                  <a:pt x="194" y="139"/>
                  <a:pt x="195" y="141"/>
                </a:cubicBezTo>
                <a:cubicBezTo>
                  <a:pt x="201" y="141"/>
                  <a:pt x="207" y="141"/>
                  <a:pt x="213" y="141"/>
                </a:cubicBezTo>
                <a:cubicBezTo>
                  <a:pt x="212" y="139"/>
                  <a:pt x="210" y="137"/>
                  <a:pt x="209" y="135"/>
                </a:cubicBezTo>
                <a:cubicBezTo>
                  <a:pt x="204" y="135"/>
                  <a:pt x="198" y="135"/>
                  <a:pt x="192" y="135"/>
                </a:cubicBezTo>
                <a:close/>
                <a:moveTo>
                  <a:pt x="171" y="135"/>
                </a:moveTo>
                <a:cubicBezTo>
                  <a:pt x="171" y="137"/>
                  <a:pt x="172" y="139"/>
                  <a:pt x="173" y="141"/>
                </a:cubicBezTo>
                <a:cubicBezTo>
                  <a:pt x="179" y="141"/>
                  <a:pt x="184" y="141"/>
                  <a:pt x="190" y="141"/>
                </a:cubicBezTo>
                <a:cubicBezTo>
                  <a:pt x="189" y="139"/>
                  <a:pt x="188" y="137"/>
                  <a:pt x="187" y="135"/>
                </a:cubicBezTo>
                <a:cubicBezTo>
                  <a:pt x="182" y="135"/>
                  <a:pt x="176" y="135"/>
                  <a:pt x="171" y="135"/>
                </a:cubicBezTo>
                <a:close/>
                <a:moveTo>
                  <a:pt x="149" y="135"/>
                </a:moveTo>
                <a:cubicBezTo>
                  <a:pt x="149" y="137"/>
                  <a:pt x="149" y="139"/>
                  <a:pt x="150" y="141"/>
                </a:cubicBezTo>
                <a:cubicBezTo>
                  <a:pt x="155" y="141"/>
                  <a:pt x="161" y="141"/>
                  <a:pt x="167" y="141"/>
                </a:cubicBezTo>
                <a:cubicBezTo>
                  <a:pt x="167" y="139"/>
                  <a:pt x="166" y="137"/>
                  <a:pt x="165" y="135"/>
                </a:cubicBezTo>
                <a:cubicBezTo>
                  <a:pt x="160" y="135"/>
                  <a:pt x="154" y="135"/>
                  <a:pt x="149" y="135"/>
                </a:cubicBezTo>
                <a:close/>
                <a:moveTo>
                  <a:pt x="127" y="135"/>
                </a:moveTo>
                <a:cubicBezTo>
                  <a:pt x="127" y="137"/>
                  <a:pt x="127" y="139"/>
                  <a:pt x="127" y="141"/>
                </a:cubicBezTo>
                <a:cubicBezTo>
                  <a:pt x="133" y="141"/>
                  <a:pt x="139" y="141"/>
                  <a:pt x="144" y="141"/>
                </a:cubicBezTo>
                <a:cubicBezTo>
                  <a:pt x="144" y="139"/>
                  <a:pt x="144" y="137"/>
                  <a:pt x="144" y="135"/>
                </a:cubicBezTo>
                <a:cubicBezTo>
                  <a:pt x="138" y="135"/>
                  <a:pt x="133" y="135"/>
                  <a:pt x="127" y="135"/>
                </a:cubicBezTo>
                <a:close/>
                <a:moveTo>
                  <a:pt x="105" y="135"/>
                </a:moveTo>
                <a:cubicBezTo>
                  <a:pt x="105" y="137"/>
                  <a:pt x="104" y="139"/>
                  <a:pt x="104" y="141"/>
                </a:cubicBezTo>
                <a:cubicBezTo>
                  <a:pt x="110" y="141"/>
                  <a:pt x="115" y="141"/>
                  <a:pt x="121" y="141"/>
                </a:cubicBezTo>
                <a:cubicBezTo>
                  <a:pt x="121" y="139"/>
                  <a:pt x="122" y="137"/>
                  <a:pt x="122" y="135"/>
                </a:cubicBezTo>
                <a:cubicBezTo>
                  <a:pt x="116" y="135"/>
                  <a:pt x="111" y="135"/>
                  <a:pt x="105" y="135"/>
                </a:cubicBezTo>
                <a:close/>
                <a:moveTo>
                  <a:pt x="83" y="135"/>
                </a:moveTo>
                <a:cubicBezTo>
                  <a:pt x="83" y="137"/>
                  <a:pt x="82" y="139"/>
                  <a:pt x="81" y="141"/>
                </a:cubicBezTo>
                <a:cubicBezTo>
                  <a:pt x="87" y="141"/>
                  <a:pt x="93" y="141"/>
                  <a:pt x="99" y="141"/>
                </a:cubicBezTo>
                <a:cubicBezTo>
                  <a:pt x="99" y="139"/>
                  <a:pt x="100" y="137"/>
                  <a:pt x="100" y="135"/>
                </a:cubicBezTo>
                <a:cubicBezTo>
                  <a:pt x="94" y="135"/>
                  <a:pt x="89" y="135"/>
                  <a:pt x="83" y="135"/>
                </a:cubicBezTo>
                <a:close/>
                <a:moveTo>
                  <a:pt x="187" y="144"/>
                </a:moveTo>
                <a:cubicBezTo>
                  <a:pt x="188" y="146"/>
                  <a:pt x="189" y="149"/>
                  <a:pt x="190" y="151"/>
                </a:cubicBezTo>
                <a:cubicBezTo>
                  <a:pt x="200" y="151"/>
                  <a:pt x="209" y="151"/>
                  <a:pt x="219" y="151"/>
                </a:cubicBezTo>
                <a:cubicBezTo>
                  <a:pt x="218" y="149"/>
                  <a:pt x="216" y="146"/>
                  <a:pt x="215" y="144"/>
                </a:cubicBezTo>
                <a:cubicBezTo>
                  <a:pt x="205" y="144"/>
                  <a:pt x="196" y="144"/>
                  <a:pt x="187" y="144"/>
                </a:cubicBezTo>
                <a:close/>
                <a:moveTo>
                  <a:pt x="163" y="144"/>
                </a:moveTo>
                <a:cubicBezTo>
                  <a:pt x="163" y="146"/>
                  <a:pt x="164" y="149"/>
                  <a:pt x="165" y="151"/>
                </a:cubicBezTo>
                <a:cubicBezTo>
                  <a:pt x="171" y="151"/>
                  <a:pt x="177" y="151"/>
                  <a:pt x="183" y="151"/>
                </a:cubicBezTo>
                <a:cubicBezTo>
                  <a:pt x="183" y="149"/>
                  <a:pt x="182" y="146"/>
                  <a:pt x="181" y="144"/>
                </a:cubicBezTo>
                <a:cubicBezTo>
                  <a:pt x="175" y="144"/>
                  <a:pt x="169" y="144"/>
                  <a:pt x="163" y="144"/>
                </a:cubicBezTo>
                <a:close/>
                <a:moveTo>
                  <a:pt x="139" y="144"/>
                </a:moveTo>
                <a:cubicBezTo>
                  <a:pt x="140" y="146"/>
                  <a:pt x="140" y="149"/>
                  <a:pt x="140" y="151"/>
                </a:cubicBezTo>
                <a:cubicBezTo>
                  <a:pt x="146" y="151"/>
                  <a:pt x="153" y="151"/>
                  <a:pt x="159" y="151"/>
                </a:cubicBezTo>
                <a:cubicBezTo>
                  <a:pt x="158" y="149"/>
                  <a:pt x="158" y="146"/>
                  <a:pt x="157" y="144"/>
                </a:cubicBezTo>
                <a:cubicBezTo>
                  <a:pt x="151" y="144"/>
                  <a:pt x="145" y="144"/>
                  <a:pt x="139" y="144"/>
                </a:cubicBezTo>
                <a:close/>
                <a:moveTo>
                  <a:pt x="116" y="144"/>
                </a:moveTo>
                <a:cubicBezTo>
                  <a:pt x="116" y="146"/>
                  <a:pt x="115" y="149"/>
                  <a:pt x="115" y="151"/>
                </a:cubicBezTo>
                <a:cubicBezTo>
                  <a:pt x="121" y="151"/>
                  <a:pt x="128" y="151"/>
                  <a:pt x="134" y="151"/>
                </a:cubicBezTo>
                <a:cubicBezTo>
                  <a:pt x="134" y="149"/>
                  <a:pt x="134" y="146"/>
                  <a:pt x="134" y="144"/>
                </a:cubicBezTo>
                <a:cubicBezTo>
                  <a:pt x="128" y="144"/>
                  <a:pt x="122" y="144"/>
                  <a:pt x="116" y="144"/>
                </a:cubicBezTo>
                <a:close/>
                <a:moveTo>
                  <a:pt x="92" y="144"/>
                </a:moveTo>
                <a:cubicBezTo>
                  <a:pt x="92" y="146"/>
                  <a:pt x="91" y="149"/>
                  <a:pt x="91" y="151"/>
                </a:cubicBezTo>
                <a:cubicBezTo>
                  <a:pt x="97" y="151"/>
                  <a:pt x="103" y="151"/>
                  <a:pt x="109" y="151"/>
                </a:cubicBezTo>
                <a:cubicBezTo>
                  <a:pt x="110" y="149"/>
                  <a:pt x="110" y="146"/>
                  <a:pt x="110" y="144"/>
                </a:cubicBezTo>
                <a:cubicBezTo>
                  <a:pt x="104" y="144"/>
                  <a:pt x="98" y="144"/>
                  <a:pt x="92" y="144"/>
                </a:cubicBezTo>
                <a:close/>
                <a:moveTo>
                  <a:pt x="69" y="144"/>
                </a:moveTo>
                <a:cubicBezTo>
                  <a:pt x="68" y="146"/>
                  <a:pt x="67" y="149"/>
                  <a:pt x="66" y="151"/>
                </a:cubicBezTo>
                <a:cubicBezTo>
                  <a:pt x="72" y="151"/>
                  <a:pt x="78" y="151"/>
                  <a:pt x="84" y="151"/>
                </a:cubicBezTo>
                <a:cubicBezTo>
                  <a:pt x="85" y="149"/>
                  <a:pt x="86" y="146"/>
                  <a:pt x="87" y="144"/>
                </a:cubicBezTo>
                <a:cubicBezTo>
                  <a:pt x="81" y="144"/>
                  <a:pt x="75" y="144"/>
                  <a:pt x="69" y="144"/>
                </a:cubicBezTo>
                <a:close/>
                <a:moveTo>
                  <a:pt x="45" y="144"/>
                </a:moveTo>
                <a:cubicBezTo>
                  <a:pt x="44" y="146"/>
                  <a:pt x="43" y="149"/>
                  <a:pt x="41" y="151"/>
                </a:cubicBezTo>
                <a:cubicBezTo>
                  <a:pt x="47" y="151"/>
                  <a:pt x="54" y="151"/>
                  <a:pt x="60" y="151"/>
                </a:cubicBezTo>
                <a:cubicBezTo>
                  <a:pt x="61" y="149"/>
                  <a:pt x="62" y="146"/>
                  <a:pt x="63" y="144"/>
                </a:cubicBezTo>
                <a:cubicBezTo>
                  <a:pt x="57" y="144"/>
                  <a:pt x="51" y="144"/>
                  <a:pt x="45" y="144"/>
                </a:cubicBezTo>
                <a:close/>
                <a:moveTo>
                  <a:pt x="197" y="155"/>
                </a:moveTo>
                <a:cubicBezTo>
                  <a:pt x="198" y="158"/>
                  <a:pt x="199" y="160"/>
                  <a:pt x="201" y="163"/>
                </a:cubicBezTo>
                <a:cubicBezTo>
                  <a:pt x="209" y="163"/>
                  <a:pt x="218" y="163"/>
                  <a:pt x="227" y="163"/>
                </a:cubicBezTo>
                <a:cubicBezTo>
                  <a:pt x="225" y="160"/>
                  <a:pt x="223" y="158"/>
                  <a:pt x="222" y="155"/>
                </a:cubicBezTo>
                <a:cubicBezTo>
                  <a:pt x="213" y="155"/>
                  <a:pt x="205" y="155"/>
                  <a:pt x="197" y="155"/>
                </a:cubicBezTo>
                <a:close/>
                <a:moveTo>
                  <a:pt x="171" y="155"/>
                </a:moveTo>
                <a:cubicBezTo>
                  <a:pt x="172" y="158"/>
                  <a:pt x="173" y="160"/>
                  <a:pt x="174" y="163"/>
                </a:cubicBezTo>
                <a:cubicBezTo>
                  <a:pt x="180" y="163"/>
                  <a:pt x="187" y="163"/>
                  <a:pt x="194" y="163"/>
                </a:cubicBezTo>
                <a:cubicBezTo>
                  <a:pt x="193" y="160"/>
                  <a:pt x="192" y="158"/>
                  <a:pt x="191" y="155"/>
                </a:cubicBezTo>
                <a:cubicBezTo>
                  <a:pt x="184" y="155"/>
                  <a:pt x="178" y="155"/>
                  <a:pt x="171" y="155"/>
                </a:cubicBezTo>
                <a:close/>
                <a:moveTo>
                  <a:pt x="146" y="155"/>
                </a:moveTo>
                <a:cubicBezTo>
                  <a:pt x="146" y="158"/>
                  <a:pt x="147" y="160"/>
                  <a:pt x="147" y="163"/>
                </a:cubicBezTo>
                <a:cubicBezTo>
                  <a:pt x="154" y="163"/>
                  <a:pt x="161" y="163"/>
                  <a:pt x="168" y="163"/>
                </a:cubicBezTo>
                <a:cubicBezTo>
                  <a:pt x="167" y="160"/>
                  <a:pt x="166" y="158"/>
                  <a:pt x="165" y="155"/>
                </a:cubicBezTo>
                <a:cubicBezTo>
                  <a:pt x="159" y="155"/>
                  <a:pt x="153" y="155"/>
                  <a:pt x="146" y="155"/>
                </a:cubicBezTo>
                <a:close/>
                <a:moveTo>
                  <a:pt x="121" y="155"/>
                </a:moveTo>
                <a:cubicBezTo>
                  <a:pt x="121" y="158"/>
                  <a:pt x="121" y="160"/>
                  <a:pt x="120" y="163"/>
                </a:cubicBezTo>
                <a:cubicBezTo>
                  <a:pt x="127" y="163"/>
                  <a:pt x="134" y="163"/>
                  <a:pt x="141" y="163"/>
                </a:cubicBezTo>
                <a:cubicBezTo>
                  <a:pt x="141" y="160"/>
                  <a:pt x="141" y="158"/>
                  <a:pt x="140" y="155"/>
                </a:cubicBezTo>
                <a:cubicBezTo>
                  <a:pt x="134" y="155"/>
                  <a:pt x="127" y="155"/>
                  <a:pt x="121" y="155"/>
                </a:cubicBezTo>
                <a:close/>
                <a:moveTo>
                  <a:pt x="95" y="155"/>
                </a:moveTo>
                <a:cubicBezTo>
                  <a:pt x="95" y="158"/>
                  <a:pt x="94" y="160"/>
                  <a:pt x="93" y="163"/>
                </a:cubicBezTo>
                <a:cubicBezTo>
                  <a:pt x="100" y="163"/>
                  <a:pt x="107" y="163"/>
                  <a:pt x="114" y="163"/>
                </a:cubicBezTo>
                <a:cubicBezTo>
                  <a:pt x="114" y="160"/>
                  <a:pt x="114" y="158"/>
                  <a:pt x="115" y="155"/>
                </a:cubicBezTo>
                <a:cubicBezTo>
                  <a:pt x="108" y="155"/>
                  <a:pt x="102" y="155"/>
                  <a:pt x="95" y="155"/>
                </a:cubicBezTo>
                <a:close/>
                <a:moveTo>
                  <a:pt x="70" y="155"/>
                </a:moveTo>
                <a:cubicBezTo>
                  <a:pt x="69" y="158"/>
                  <a:pt x="68" y="160"/>
                  <a:pt x="67" y="163"/>
                </a:cubicBezTo>
                <a:cubicBezTo>
                  <a:pt x="74" y="163"/>
                  <a:pt x="81" y="163"/>
                  <a:pt x="87" y="163"/>
                </a:cubicBezTo>
                <a:cubicBezTo>
                  <a:pt x="88" y="160"/>
                  <a:pt x="89" y="158"/>
                  <a:pt x="90" y="155"/>
                </a:cubicBezTo>
                <a:cubicBezTo>
                  <a:pt x="83" y="155"/>
                  <a:pt x="77" y="155"/>
                  <a:pt x="70" y="1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231480" bIns="27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reeform 7"/>
          <p:cNvSpPr/>
          <p:nvPr/>
        </p:nvSpPr>
        <p:spPr>
          <a:xfrm>
            <a:off x="2336760" y="5127480"/>
            <a:ext cx="276120" cy="1140120"/>
          </a:xfrm>
          <a:custGeom>
            <a:avLst/>
            <a:gdLst>
              <a:gd name="textAreaLeft" fmla="*/ 0 w 276120"/>
              <a:gd name="textAreaRight" fmla="*/ 276480 w 276120"/>
              <a:gd name="textAreaTop" fmla="*/ 0 h 1140120"/>
              <a:gd name="textAreaBottom" fmla="*/ 1140120 h 1140120"/>
            </a:gdLst>
            <a:ahLst/>
            <a:rect l="textAreaLeft" t="textAreaTop" r="textAreaRight" b="textAreaBottom"/>
            <a:pathLst>
              <a:path w="48" h="197">
                <a:moveTo>
                  <a:pt x="48" y="197"/>
                </a:moveTo>
                <a:cubicBezTo>
                  <a:pt x="0" y="197"/>
                  <a:pt x="0" y="197"/>
                  <a:pt x="0" y="19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8"/>
                  <a:pt x="7" y="0"/>
                  <a:pt x="16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41" y="0"/>
                  <a:pt x="48" y="8"/>
                  <a:pt x="48" y="16"/>
                </a:cubicBezTo>
                <a:lnTo>
                  <a:pt x="48" y="197"/>
                </a:ln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8"/>
          <p:cNvSpPr/>
          <p:nvPr/>
        </p:nvSpPr>
        <p:spPr>
          <a:xfrm>
            <a:off x="1792440" y="4370400"/>
            <a:ext cx="2363760" cy="2349360"/>
          </a:xfrm>
          <a:custGeom>
            <a:avLst/>
            <a:gdLst>
              <a:gd name="textAreaLeft" fmla="*/ 0 w 2363760"/>
              <a:gd name="textAreaRight" fmla="*/ 2364120 w 2363760"/>
              <a:gd name="textAreaTop" fmla="*/ 0 h 2349360"/>
              <a:gd name="textAreaBottom" fmla="*/ 2349720 h 2349360"/>
            </a:gdLst>
            <a:ahLst/>
            <a:rect l="textAreaLeft" t="textAreaTop" r="textAreaRight" b="textAreaBottom"/>
            <a:pathLst>
              <a:path w="883" h="406">
                <a:moveTo>
                  <a:pt x="0" y="398"/>
                </a:moveTo>
                <a:cubicBezTo>
                  <a:pt x="883" y="406"/>
                  <a:pt x="883" y="406"/>
                  <a:pt x="883" y="406"/>
                </a:cubicBezTo>
                <a:cubicBezTo>
                  <a:pt x="255" y="35"/>
                  <a:pt x="255" y="35"/>
                  <a:pt x="255" y="35"/>
                </a:cubicBezTo>
                <a:cubicBezTo>
                  <a:pt x="196" y="0"/>
                  <a:pt x="123" y="2"/>
                  <a:pt x="65" y="39"/>
                </a:cubicBezTo>
                <a:cubicBezTo>
                  <a:pt x="0" y="81"/>
                  <a:pt x="0" y="81"/>
                  <a:pt x="0" y="81"/>
                </a:cubicBezTo>
                <a:lnTo>
                  <a:pt x="0" y="398"/>
                </a:lnTo>
                <a:close/>
              </a:path>
            </a:pathLst>
          </a:custGeom>
          <a:solidFill>
            <a:srgbClr val="00a7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9"/>
          <p:cNvSpPr/>
          <p:nvPr/>
        </p:nvSpPr>
        <p:spPr>
          <a:xfrm>
            <a:off x="210960" y="3514680"/>
            <a:ext cx="2113200" cy="3048120"/>
          </a:xfrm>
          <a:custGeom>
            <a:avLst/>
            <a:gdLst/>
            <a:ahLst/>
            <a:rect l="l" t="t" r="r" b="b"/>
            <a:pathLst>
              <a:path w="366" h="527">
                <a:moveTo>
                  <a:pt x="283" y="117"/>
                </a:moveTo>
                <a:cubicBezTo>
                  <a:pt x="283" y="96"/>
                  <a:pt x="283" y="96"/>
                  <a:pt x="283" y="96"/>
                </a:cubicBezTo>
                <a:cubicBezTo>
                  <a:pt x="283" y="43"/>
                  <a:pt x="240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134" y="0"/>
                  <a:pt x="92" y="43"/>
                  <a:pt x="92" y="96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75" y="182"/>
                  <a:pt x="75" y="182"/>
                  <a:pt x="75" y="182"/>
                </a:cubicBezTo>
                <a:cubicBezTo>
                  <a:pt x="34" y="182"/>
                  <a:pt x="0" y="216"/>
                  <a:pt x="0" y="257"/>
                </a:cubicBezTo>
                <a:cubicBezTo>
                  <a:pt x="0" y="527"/>
                  <a:pt x="0" y="527"/>
                  <a:pt x="0" y="527"/>
                </a:cubicBezTo>
                <a:cubicBezTo>
                  <a:pt x="154" y="527"/>
                  <a:pt x="154" y="527"/>
                  <a:pt x="154" y="527"/>
                </a:cubicBezTo>
                <a:cubicBezTo>
                  <a:pt x="154" y="490"/>
                  <a:pt x="154" y="490"/>
                  <a:pt x="154" y="490"/>
                </a:cubicBezTo>
                <a:cubicBezTo>
                  <a:pt x="242" y="490"/>
                  <a:pt x="242" y="490"/>
                  <a:pt x="242" y="490"/>
                </a:cubicBezTo>
                <a:cubicBezTo>
                  <a:pt x="242" y="485"/>
                  <a:pt x="242" y="485"/>
                  <a:pt x="242" y="485"/>
                </a:cubicBezTo>
                <a:cubicBezTo>
                  <a:pt x="366" y="485"/>
                  <a:pt x="366" y="485"/>
                  <a:pt x="366" y="485"/>
                </a:cubicBezTo>
                <a:cubicBezTo>
                  <a:pt x="366" y="200"/>
                  <a:pt x="366" y="200"/>
                  <a:pt x="366" y="200"/>
                </a:cubicBezTo>
                <a:cubicBezTo>
                  <a:pt x="366" y="154"/>
                  <a:pt x="328" y="117"/>
                  <a:pt x="283" y="117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2098800" y="5908680"/>
            <a:ext cx="722160" cy="474480"/>
          </a:xfrm>
          <a:prstGeom prst="rect">
            <a:avLst/>
          </a:prstGeom>
          <a:solidFill>
            <a:srgbClr val="2a77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1"/>
          <p:cNvSpPr/>
          <p:nvPr/>
        </p:nvSpPr>
        <p:spPr>
          <a:xfrm>
            <a:off x="2612880" y="4711680"/>
            <a:ext cx="692280" cy="1555920"/>
          </a:xfrm>
          <a:custGeom>
            <a:avLst/>
            <a:gdLst>
              <a:gd name="textAreaLeft" fmla="*/ 0 w 692280"/>
              <a:gd name="textAreaRight" fmla="*/ 692640 w 692280"/>
              <a:gd name="textAreaTop" fmla="*/ 0 h 1555920"/>
              <a:gd name="textAreaBottom" fmla="*/ 1556280 h 1555920"/>
            </a:gdLst>
            <a:ahLst/>
            <a:rect l="textAreaLeft" t="textAreaTop" r="textAreaRight" b="textAreaBottom"/>
            <a:pathLst>
              <a:path w="120" h="269">
                <a:moveTo>
                  <a:pt x="100" y="269"/>
                </a:moveTo>
                <a:cubicBezTo>
                  <a:pt x="20" y="269"/>
                  <a:pt x="20" y="269"/>
                  <a:pt x="20" y="269"/>
                </a:cubicBezTo>
                <a:cubicBezTo>
                  <a:pt x="9" y="269"/>
                  <a:pt x="0" y="260"/>
                  <a:pt x="0" y="249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27"/>
                  <a:pt x="27" y="0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93" y="0"/>
                  <a:pt x="120" y="27"/>
                  <a:pt x="120" y="60"/>
                </a:cubicBezTo>
                <a:cubicBezTo>
                  <a:pt x="120" y="249"/>
                  <a:pt x="120" y="249"/>
                  <a:pt x="120" y="249"/>
                </a:cubicBezTo>
                <a:cubicBezTo>
                  <a:pt x="120" y="260"/>
                  <a:pt x="111" y="269"/>
                  <a:pt x="100" y="269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2"/>
          <p:cNvSpPr/>
          <p:nvPr/>
        </p:nvSpPr>
        <p:spPr>
          <a:xfrm>
            <a:off x="1711440" y="4527720"/>
            <a:ext cx="209520" cy="906120"/>
          </a:xfrm>
          <a:custGeom>
            <a:avLst/>
            <a:gdLst>
              <a:gd name="textAreaLeft" fmla="*/ 0 w 209520"/>
              <a:gd name="textAreaRight" fmla="*/ 209880 w 209520"/>
              <a:gd name="textAreaTop" fmla="*/ 0 h 906120"/>
              <a:gd name="textAreaBottom" fmla="*/ 906480 h 906120"/>
            </a:gdLst>
            <a:ahLst/>
            <a:rect l="textAreaLeft" t="textAreaTop" r="textAreaRight" b="textAreaBottom"/>
            <a:pathLst>
              <a:path w="36" h="157">
                <a:moveTo>
                  <a:pt x="36" y="157"/>
                </a:moveTo>
                <a:cubicBezTo>
                  <a:pt x="0" y="157"/>
                  <a:pt x="0" y="157"/>
                  <a:pt x="0" y="157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8"/>
                  <a:pt x="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8" y="0"/>
                  <a:pt x="36" y="8"/>
                  <a:pt x="36" y="18"/>
                </a:cubicBezTo>
                <a:lnTo>
                  <a:pt x="36" y="157"/>
                </a:ln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3"/>
          <p:cNvSpPr/>
          <p:nvPr/>
        </p:nvSpPr>
        <p:spPr>
          <a:xfrm>
            <a:off x="1082520" y="3960720"/>
            <a:ext cx="370080" cy="1166760"/>
          </a:xfrm>
          <a:custGeom>
            <a:avLst/>
            <a:gdLst>
              <a:gd name="textAreaLeft" fmla="*/ 0 w 370080"/>
              <a:gd name="textAreaRight" fmla="*/ 370440 w 370080"/>
              <a:gd name="textAreaTop" fmla="*/ 0 h 1166760"/>
              <a:gd name="textAreaBottom" fmla="*/ 1167120 h 1166760"/>
            </a:gdLst>
            <a:ahLst/>
            <a:rect l="textAreaLeft" t="textAreaTop" r="textAreaRight" b="textAreaBottom"/>
            <a:pathLst>
              <a:path w="64" h="202">
                <a:moveTo>
                  <a:pt x="32" y="202"/>
                </a:moveTo>
                <a:cubicBezTo>
                  <a:pt x="32" y="202"/>
                  <a:pt x="32" y="202"/>
                  <a:pt x="32" y="202"/>
                </a:cubicBezTo>
                <a:cubicBezTo>
                  <a:pt x="15" y="202"/>
                  <a:pt x="0" y="188"/>
                  <a:pt x="0" y="17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14"/>
                  <a:pt x="15" y="0"/>
                  <a:pt x="32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49" y="0"/>
                  <a:pt x="64" y="14"/>
                  <a:pt x="64" y="31"/>
                </a:cubicBezTo>
                <a:cubicBezTo>
                  <a:pt x="64" y="171"/>
                  <a:pt x="64" y="171"/>
                  <a:pt x="64" y="171"/>
                </a:cubicBezTo>
                <a:cubicBezTo>
                  <a:pt x="64" y="188"/>
                  <a:pt x="49" y="202"/>
                  <a:pt x="32" y="202"/>
                </a:cubicBez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4"/>
          <p:cNvSpPr/>
          <p:nvPr/>
        </p:nvSpPr>
        <p:spPr>
          <a:xfrm>
            <a:off x="453960" y="4937040"/>
            <a:ext cx="519120" cy="1330560"/>
          </a:xfrm>
          <a:custGeom>
            <a:avLst/>
            <a:gdLst>
              <a:gd name="textAreaLeft" fmla="*/ 0 w 519120"/>
              <a:gd name="textAreaRight" fmla="*/ 519480 w 519120"/>
              <a:gd name="textAreaTop" fmla="*/ 0 h 1330560"/>
              <a:gd name="textAreaBottom" fmla="*/ 1330920 h 1330560"/>
            </a:gdLst>
            <a:ahLst/>
            <a:rect l="textAreaLeft" t="textAreaTop" r="textAreaRight" b="textAreaBottom"/>
            <a:pathLst>
              <a:path w="90" h="230">
                <a:moveTo>
                  <a:pt x="90" y="230"/>
                </a:moveTo>
                <a:cubicBezTo>
                  <a:pt x="0" y="230"/>
                  <a:pt x="0" y="230"/>
                  <a:pt x="0" y="23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18"/>
                  <a:pt x="17" y="0"/>
                  <a:pt x="39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73" y="0"/>
                  <a:pt x="90" y="18"/>
                  <a:pt x="90" y="39"/>
                </a:cubicBezTo>
                <a:lnTo>
                  <a:pt x="90" y="230"/>
                </a:ln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3"/>
          <p:cNvSpPr/>
          <p:nvPr/>
        </p:nvSpPr>
        <p:spPr>
          <a:xfrm>
            <a:off x="765000" y="5632560"/>
            <a:ext cx="86040" cy="635040"/>
          </a:xfrm>
          <a:prstGeom prst="rect">
            <a:avLst/>
          </a:pr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4"/>
          <p:cNvSpPr/>
          <p:nvPr/>
        </p:nvSpPr>
        <p:spPr>
          <a:xfrm>
            <a:off x="743040" y="5765760"/>
            <a:ext cx="131760" cy="68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5"/>
          <p:cNvSpPr/>
          <p:nvPr/>
        </p:nvSpPr>
        <p:spPr>
          <a:xfrm>
            <a:off x="743040" y="5956200"/>
            <a:ext cx="131760" cy="6984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6"/>
          <p:cNvSpPr/>
          <p:nvPr/>
        </p:nvSpPr>
        <p:spPr>
          <a:xfrm>
            <a:off x="743040" y="6118200"/>
            <a:ext cx="131760" cy="68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7"/>
          <p:cNvSpPr/>
          <p:nvPr/>
        </p:nvSpPr>
        <p:spPr>
          <a:xfrm>
            <a:off x="863640" y="5481720"/>
            <a:ext cx="392040" cy="191880"/>
          </a:xfrm>
          <a:custGeom>
            <a:avLst/>
            <a:gdLst>
              <a:gd name="textAreaLeft" fmla="*/ 0 w 392040"/>
              <a:gd name="textAreaRight" fmla="*/ 392400 w 3920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68" h="33">
                <a:moveTo>
                  <a:pt x="34" y="0"/>
                </a:moveTo>
                <a:cubicBezTo>
                  <a:pt x="53" y="0"/>
                  <a:pt x="68" y="15"/>
                  <a:pt x="68" y="33"/>
                </a:cubicBezTo>
                <a:cubicBezTo>
                  <a:pt x="57" y="33"/>
                  <a:pt x="57" y="33"/>
                  <a:pt x="57" y="33"/>
                </a:cubicBezTo>
                <a:cubicBezTo>
                  <a:pt x="52" y="24"/>
                  <a:pt x="52" y="24"/>
                  <a:pt x="52" y="24"/>
                </a:cubicBezTo>
                <a:cubicBezTo>
                  <a:pt x="46" y="33"/>
                  <a:pt x="46" y="33"/>
                  <a:pt x="46" y="33"/>
                </a:cubicBezTo>
                <a:cubicBezTo>
                  <a:pt x="39" y="33"/>
                  <a:pt x="39" y="33"/>
                  <a:pt x="39" y="33"/>
                </a:cubicBezTo>
                <a:cubicBezTo>
                  <a:pt x="34" y="24"/>
                  <a:pt x="34" y="24"/>
                  <a:pt x="34" y="24"/>
                </a:cubicBezTo>
                <a:cubicBezTo>
                  <a:pt x="28" y="33"/>
                  <a:pt x="28" y="33"/>
                  <a:pt x="28" y="33"/>
                </a:cubicBezTo>
                <a:cubicBezTo>
                  <a:pt x="21" y="33"/>
                  <a:pt x="21" y="33"/>
                  <a:pt x="21" y="33"/>
                </a:cubicBezTo>
                <a:cubicBezTo>
                  <a:pt x="15" y="24"/>
                  <a:pt x="15" y="24"/>
                  <a:pt x="15" y="24"/>
                </a:cubicBezTo>
                <a:cubicBezTo>
                  <a:pt x="10" y="33"/>
                  <a:pt x="10" y="33"/>
                  <a:pt x="10" y="33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15"/>
                  <a:pt x="15" y="0"/>
                  <a:pt x="34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8"/>
          <p:cNvSpPr/>
          <p:nvPr/>
        </p:nvSpPr>
        <p:spPr>
          <a:xfrm>
            <a:off x="360360" y="5481720"/>
            <a:ext cx="392040" cy="191880"/>
          </a:xfrm>
          <a:custGeom>
            <a:avLst/>
            <a:gdLst>
              <a:gd name="textAreaLeft" fmla="*/ 0 w 392040"/>
              <a:gd name="textAreaRight" fmla="*/ 392400 w 3920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68" h="33">
                <a:moveTo>
                  <a:pt x="34" y="0"/>
                </a:moveTo>
                <a:cubicBezTo>
                  <a:pt x="53" y="0"/>
                  <a:pt x="68" y="15"/>
                  <a:pt x="68" y="33"/>
                </a:cubicBezTo>
                <a:cubicBezTo>
                  <a:pt x="57" y="33"/>
                  <a:pt x="57" y="33"/>
                  <a:pt x="57" y="33"/>
                </a:cubicBezTo>
                <a:cubicBezTo>
                  <a:pt x="52" y="24"/>
                  <a:pt x="52" y="24"/>
                  <a:pt x="52" y="24"/>
                </a:cubicBezTo>
                <a:cubicBezTo>
                  <a:pt x="46" y="33"/>
                  <a:pt x="46" y="33"/>
                  <a:pt x="46" y="33"/>
                </a:cubicBezTo>
                <a:cubicBezTo>
                  <a:pt x="39" y="33"/>
                  <a:pt x="39" y="33"/>
                  <a:pt x="39" y="33"/>
                </a:cubicBezTo>
                <a:cubicBezTo>
                  <a:pt x="34" y="24"/>
                  <a:pt x="34" y="24"/>
                  <a:pt x="34" y="24"/>
                </a:cubicBezTo>
                <a:cubicBezTo>
                  <a:pt x="28" y="33"/>
                  <a:pt x="28" y="33"/>
                  <a:pt x="28" y="33"/>
                </a:cubicBezTo>
                <a:cubicBezTo>
                  <a:pt x="21" y="33"/>
                  <a:pt x="21" y="33"/>
                  <a:pt x="21" y="33"/>
                </a:cubicBezTo>
                <a:cubicBezTo>
                  <a:pt x="15" y="24"/>
                  <a:pt x="15" y="24"/>
                  <a:pt x="15" y="24"/>
                </a:cubicBezTo>
                <a:cubicBezTo>
                  <a:pt x="10" y="33"/>
                  <a:pt x="10" y="33"/>
                  <a:pt x="10" y="33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15"/>
                  <a:pt x="15" y="0"/>
                  <a:pt x="34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29"/>
          <p:cNvSpPr/>
          <p:nvPr/>
        </p:nvSpPr>
        <p:spPr>
          <a:xfrm>
            <a:off x="533520" y="5284800"/>
            <a:ext cx="330120" cy="382680"/>
          </a:xfrm>
          <a:custGeom>
            <a:avLst/>
            <a:gdLst>
              <a:gd name="textAreaLeft" fmla="*/ 0 w 330120"/>
              <a:gd name="textAreaRight" fmla="*/ 330480 w 33012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57" h="66">
                <a:moveTo>
                  <a:pt x="47" y="20"/>
                </a:moveTo>
                <a:cubicBezTo>
                  <a:pt x="57" y="35"/>
                  <a:pt x="53" y="56"/>
                  <a:pt x="38" y="66"/>
                </a:cubicBezTo>
                <a:cubicBezTo>
                  <a:pt x="32" y="58"/>
                  <a:pt x="32" y="58"/>
                  <a:pt x="32" y="58"/>
                </a:cubicBezTo>
                <a:cubicBezTo>
                  <a:pt x="37" y="48"/>
                  <a:pt x="37" y="48"/>
                  <a:pt x="37" y="48"/>
                </a:cubicBezTo>
                <a:cubicBezTo>
                  <a:pt x="25" y="49"/>
                  <a:pt x="25" y="49"/>
                  <a:pt x="25" y="49"/>
                </a:cubicBezTo>
                <a:cubicBezTo>
                  <a:pt x="22" y="43"/>
                  <a:pt x="22" y="43"/>
                  <a:pt x="22" y="43"/>
                </a:cubicBezTo>
                <a:cubicBezTo>
                  <a:pt x="27" y="33"/>
                  <a:pt x="27" y="33"/>
                  <a:pt x="27" y="33"/>
                </a:cubicBezTo>
                <a:cubicBezTo>
                  <a:pt x="16" y="34"/>
                  <a:pt x="16" y="34"/>
                  <a:pt x="16" y="34"/>
                </a:cubicBezTo>
                <a:cubicBezTo>
                  <a:pt x="11" y="28"/>
                  <a:pt x="11" y="28"/>
                  <a:pt x="11" y="28"/>
                </a:cubicBezTo>
                <a:cubicBezTo>
                  <a:pt x="16" y="18"/>
                  <a:pt x="16" y="18"/>
                  <a:pt x="16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0" y="11"/>
                  <a:pt x="0" y="11"/>
                  <a:pt x="0" y="11"/>
                </a:cubicBezTo>
                <a:cubicBezTo>
                  <a:pt x="15" y="0"/>
                  <a:pt x="36" y="4"/>
                  <a:pt x="47" y="20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30"/>
          <p:cNvSpPr/>
          <p:nvPr/>
        </p:nvSpPr>
        <p:spPr>
          <a:xfrm>
            <a:off x="758880" y="5284800"/>
            <a:ext cx="334800" cy="382680"/>
          </a:xfrm>
          <a:custGeom>
            <a:avLst/>
            <a:gdLst>
              <a:gd name="textAreaLeft" fmla="*/ 0 w 334800"/>
              <a:gd name="textAreaRight" fmla="*/ 335160 w 33480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58" h="66">
                <a:moveTo>
                  <a:pt x="11" y="20"/>
                </a:moveTo>
                <a:cubicBezTo>
                  <a:pt x="0" y="35"/>
                  <a:pt x="4" y="56"/>
                  <a:pt x="20" y="66"/>
                </a:cubicBezTo>
                <a:cubicBezTo>
                  <a:pt x="26" y="58"/>
                  <a:pt x="26" y="58"/>
                  <a:pt x="26" y="58"/>
                </a:cubicBezTo>
                <a:cubicBezTo>
                  <a:pt x="21" y="48"/>
                  <a:pt x="21" y="48"/>
                  <a:pt x="21" y="48"/>
                </a:cubicBezTo>
                <a:cubicBezTo>
                  <a:pt x="32" y="49"/>
                  <a:pt x="32" y="49"/>
                  <a:pt x="32" y="49"/>
                </a:cubicBezTo>
                <a:cubicBezTo>
                  <a:pt x="36" y="43"/>
                  <a:pt x="36" y="43"/>
                  <a:pt x="36" y="43"/>
                </a:cubicBezTo>
                <a:cubicBezTo>
                  <a:pt x="31" y="33"/>
                  <a:pt x="31" y="33"/>
                  <a:pt x="31" y="33"/>
                </a:cubicBezTo>
                <a:cubicBezTo>
                  <a:pt x="42" y="34"/>
                  <a:pt x="42" y="34"/>
                  <a:pt x="42" y="34"/>
                </a:cubicBezTo>
                <a:cubicBezTo>
                  <a:pt x="46" y="28"/>
                  <a:pt x="46" y="28"/>
                  <a:pt x="46" y="28"/>
                </a:cubicBezTo>
                <a:cubicBezTo>
                  <a:pt x="41" y="18"/>
                  <a:pt x="41" y="18"/>
                  <a:pt x="41" y="18"/>
                </a:cubicBezTo>
                <a:cubicBezTo>
                  <a:pt x="52" y="18"/>
                  <a:pt x="52" y="18"/>
                  <a:pt x="52" y="18"/>
                </a:cubicBezTo>
                <a:cubicBezTo>
                  <a:pt x="58" y="11"/>
                  <a:pt x="58" y="11"/>
                  <a:pt x="58" y="11"/>
                </a:cubicBezTo>
                <a:cubicBezTo>
                  <a:pt x="42" y="0"/>
                  <a:pt x="21" y="4"/>
                  <a:pt x="11" y="20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31"/>
          <p:cNvSpPr/>
          <p:nvPr/>
        </p:nvSpPr>
        <p:spPr>
          <a:xfrm>
            <a:off x="806400" y="5602320"/>
            <a:ext cx="120600" cy="12204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32"/>
          <p:cNvSpPr/>
          <p:nvPr/>
        </p:nvSpPr>
        <p:spPr>
          <a:xfrm>
            <a:off x="677880" y="5602320"/>
            <a:ext cx="128520" cy="12204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33"/>
          <p:cNvSpPr/>
          <p:nvPr/>
        </p:nvSpPr>
        <p:spPr>
          <a:xfrm>
            <a:off x="747720" y="5538960"/>
            <a:ext cx="122400" cy="122040"/>
          </a:xfrm>
          <a:prstGeom prst="ellipse">
            <a:avLst/>
          </a:prstGeom>
          <a:solidFill>
            <a:srgbClr val="b06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5"/>
          <p:cNvSpPr/>
          <p:nvPr/>
        </p:nvSpPr>
        <p:spPr>
          <a:xfrm>
            <a:off x="1514520" y="5527800"/>
            <a:ext cx="1166760" cy="57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36"/>
          <p:cNvSpPr/>
          <p:nvPr/>
        </p:nvSpPr>
        <p:spPr>
          <a:xfrm>
            <a:off x="1839960" y="5510160"/>
            <a:ext cx="517320" cy="515880"/>
          </a:xfrm>
          <a:custGeom>
            <a:avLst/>
            <a:gdLst>
              <a:gd name="textAreaLeft" fmla="*/ 0 w 517320"/>
              <a:gd name="textAreaRight" fmla="*/ 517680 w 51732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353" h="351">
                <a:moveTo>
                  <a:pt x="353" y="0"/>
                </a:moveTo>
                <a:lnTo>
                  <a:pt x="0" y="351"/>
                </a:lnTo>
                <a:lnTo>
                  <a:pt x="353" y="351"/>
                </a:lnTo>
                <a:lnTo>
                  <a:pt x="353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1989000" y="5781600"/>
            <a:ext cx="173160" cy="17460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8"/>
          <p:cNvSpPr/>
          <p:nvPr/>
        </p:nvSpPr>
        <p:spPr>
          <a:xfrm>
            <a:off x="1711440" y="5753160"/>
            <a:ext cx="191880" cy="352440"/>
          </a:xfrm>
          <a:prstGeom prst="rect">
            <a:avLst/>
          </a:pr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9"/>
          <p:cNvSpPr/>
          <p:nvPr/>
        </p:nvSpPr>
        <p:spPr>
          <a:xfrm>
            <a:off x="1006560" y="6216480"/>
            <a:ext cx="168120" cy="5112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0"/>
          <p:cNvSpPr/>
          <p:nvPr/>
        </p:nvSpPr>
        <p:spPr>
          <a:xfrm>
            <a:off x="1093680" y="6168960"/>
            <a:ext cx="168480" cy="4752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1"/>
          <p:cNvSpPr/>
          <p:nvPr/>
        </p:nvSpPr>
        <p:spPr>
          <a:xfrm>
            <a:off x="1174680" y="6118200"/>
            <a:ext cx="168480" cy="5076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2"/>
          <p:cNvSpPr/>
          <p:nvPr/>
        </p:nvSpPr>
        <p:spPr>
          <a:xfrm>
            <a:off x="1260360" y="6070680"/>
            <a:ext cx="168480" cy="5220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3"/>
          <p:cNvSpPr/>
          <p:nvPr/>
        </p:nvSpPr>
        <p:spPr>
          <a:xfrm>
            <a:off x="1341360" y="6026040"/>
            <a:ext cx="173160" cy="4464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4"/>
          <p:cNvSpPr/>
          <p:nvPr/>
        </p:nvSpPr>
        <p:spPr>
          <a:xfrm>
            <a:off x="1514520" y="6041880"/>
            <a:ext cx="128520" cy="225720"/>
          </a:xfrm>
          <a:prstGeom prst="rect">
            <a:avLst/>
          </a:pr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5"/>
          <p:cNvSpPr/>
          <p:nvPr/>
        </p:nvSpPr>
        <p:spPr>
          <a:xfrm>
            <a:off x="2023920" y="6041880"/>
            <a:ext cx="150840" cy="225720"/>
          </a:xfrm>
          <a:prstGeom prst="rect">
            <a:avLst/>
          </a:pr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6"/>
          <p:cNvSpPr/>
          <p:nvPr/>
        </p:nvSpPr>
        <p:spPr>
          <a:xfrm>
            <a:off x="2543040" y="6041880"/>
            <a:ext cx="138240" cy="225720"/>
          </a:xfrm>
          <a:prstGeom prst="rect">
            <a:avLst/>
          </a:pr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7"/>
          <p:cNvSpPr/>
          <p:nvPr/>
        </p:nvSpPr>
        <p:spPr>
          <a:xfrm>
            <a:off x="2509920" y="6210360"/>
            <a:ext cx="171360" cy="57240"/>
          </a:xfrm>
          <a:prstGeom prst="rect">
            <a:avLst/>
          </a:prstGeom>
          <a:solidFill>
            <a:srgbClr val="62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8"/>
          <p:cNvSpPr/>
          <p:nvPr/>
        </p:nvSpPr>
        <p:spPr>
          <a:xfrm>
            <a:off x="2001960" y="6210360"/>
            <a:ext cx="188640" cy="57240"/>
          </a:xfrm>
          <a:prstGeom prst="rect">
            <a:avLst/>
          </a:prstGeom>
          <a:solidFill>
            <a:srgbClr val="62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9"/>
          <p:cNvSpPr/>
          <p:nvPr/>
        </p:nvSpPr>
        <p:spPr>
          <a:xfrm>
            <a:off x="1481040" y="6210360"/>
            <a:ext cx="195480" cy="57240"/>
          </a:xfrm>
          <a:prstGeom prst="rect">
            <a:avLst/>
          </a:prstGeom>
          <a:solidFill>
            <a:srgbClr val="62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0"/>
          <p:cNvSpPr/>
          <p:nvPr/>
        </p:nvSpPr>
        <p:spPr>
          <a:xfrm>
            <a:off x="2278080" y="5724360"/>
            <a:ext cx="403200" cy="9864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1"/>
          <p:cNvSpPr/>
          <p:nvPr/>
        </p:nvSpPr>
        <p:spPr>
          <a:xfrm>
            <a:off x="2278080" y="5915160"/>
            <a:ext cx="403200" cy="9180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2"/>
          <p:cNvSpPr/>
          <p:nvPr/>
        </p:nvSpPr>
        <p:spPr>
          <a:xfrm>
            <a:off x="2278080" y="5823000"/>
            <a:ext cx="403200" cy="9216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3"/>
          <p:cNvSpPr/>
          <p:nvPr/>
        </p:nvSpPr>
        <p:spPr>
          <a:xfrm>
            <a:off x="2278080" y="5632560"/>
            <a:ext cx="403200" cy="9180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4"/>
          <p:cNvSpPr/>
          <p:nvPr/>
        </p:nvSpPr>
        <p:spPr>
          <a:xfrm>
            <a:off x="2278080" y="6006960"/>
            <a:ext cx="403200" cy="9864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5"/>
          <p:cNvSpPr/>
          <p:nvPr/>
        </p:nvSpPr>
        <p:spPr>
          <a:xfrm>
            <a:off x="1514520" y="6026040"/>
            <a:ext cx="762120" cy="7956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56"/>
          <p:cNvSpPr/>
          <p:nvPr/>
        </p:nvSpPr>
        <p:spPr>
          <a:xfrm>
            <a:off x="1071720" y="5834160"/>
            <a:ext cx="1206360" cy="266760"/>
          </a:xfrm>
          <a:custGeom>
            <a:avLst/>
            <a:gdLst>
              <a:gd name="textAreaLeft" fmla="*/ 0 w 1206360"/>
              <a:gd name="textAreaRight" fmla="*/ 1206720 w 12063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821" h="181">
                <a:moveTo>
                  <a:pt x="15" y="181"/>
                </a:moveTo>
                <a:lnTo>
                  <a:pt x="0" y="153"/>
                </a:lnTo>
                <a:lnTo>
                  <a:pt x="294" y="0"/>
                </a:lnTo>
                <a:lnTo>
                  <a:pt x="821" y="0"/>
                </a:lnTo>
                <a:lnTo>
                  <a:pt x="821" y="31"/>
                </a:lnTo>
                <a:lnTo>
                  <a:pt x="302" y="31"/>
                </a:lnTo>
                <a:lnTo>
                  <a:pt x="15" y="181"/>
                </a:lnTo>
                <a:close/>
              </a:path>
            </a:pathLst>
          </a:cu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7"/>
          <p:cNvSpPr/>
          <p:nvPr/>
        </p:nvSpPr>
        <p:spPr>
          <a:xfrm>
            <a:off x="1596960" y="5857920"/>
            <a:ext cx="46080" cy="16812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8"/>
          <p:cNvSpPr/>
          <p:nvPr/>
        </p:nvSpPr>
        <p:spPr>
          <a:xfrm>
            <a:off x="2052720" y="5857920"/>
            <a:ext cx="46080" cy="16812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59"/>
          <p:cNvSpPr/>
          <p:nvPr/>
        </p:nvSpPr>
        <p:spPr>
          <a:xfrm>
            <a:off x="1209600" y="4533840"/>
            <a:ext cx="1773360" cy="119052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1190520"/>
              <a:gd name="textAreaBottom" fmla="*/ 1190880 h 1190520"/>
            </a:gdLst>
            <a:ahLst/>
            <a:rect l="textAreaLeft" t="textAreaTop" r="textAreaRight" b="textAreaBottom"/>
            <a:pathLst>
              <a:path w="1207" h="811">
                <a:moveTo>
                  <a:pt x="0" y="756"/>
                </a:moveTo>
                <a:lnTo>
                  <a:pt x="71" y="811"/>
                </a:lnTo>
                <a:lnTo>
                  <a:pt x="138" y="756"/>
                </a:lnTo>
                <a:lnTo>
                  <a:pt x="204" y="811"/>
                </a:lnTo>
                <a:lnTo>
                  <a:pt x="271" y="756"/>
                </a:lnTo>
                <a:lnTo>
                  <a:pt x="338" y="811"/>
                </a:lnTo>
                <a:lnTo>
                  <a:pt x="405" y="756"/>
                </a:lnTo>
                <a:lnTo>
                  <a:pt x="472" y="811"/>
                </a:lnTo>
                <a:lnTo>
                  <a:pt x="535" y="756"/>
                </a:lnTo>
                <a:lnTo>
                  <a:pt x="601" y="811"/>
                </a:lnTo>
                <a:lnTo>
                  <a:pt x="668" y="756"/>
                </a:lnTo>
                <a:lnTo>
                  <a:pt x="735" y="811"/>
                </a:lnTo>
                <a:lnTo>
                  <a:pt x="802" y="756"/>
                </a:lnTo>
                <a:lnTo>
                  <a:pt x="869" y="811"/>
                </a:lnTo>
                <a:lnTo>
                  <a:pt x="936" y="756"/>
                </a:lnTo>
                <a:lnTo>
                  <a:pt x="1002" y="811"/>
                </a:lnTo>
                <a:lnTo>
                  <a:pt x="1069" y="756"/>
                </a:lnTo>
                <a:lnTo>
                  <a:pt x="1132" y="811"/>
                </a:lnTo>
                <a:lnTo>
                  <a:pt x="1207" y="756"/>
                </a:lnTo>
                <a:lnTo>
                  <a:pt x="601" y="0"/>
                </a:lnTo>
                <a:lnTo>
                  <a:pt x="0" y="756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60"/>
          <p:cNvSpPr/>
          <p:nvPr/>
        </p:nvSpPr>
        <p:spPr>
          <a:xfrm>
            <a:off x="1400040" y="4533840"/>
            <a:ext cx="1390680" cy="93672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947" h="638">
                <a:moveTo>
                  <a:pt x="0" y="594"/>
                </a:moveTo>
                <a:lnTo>
                  <a:pt x="55" y="638"/>
                </a:lnTo>
                <a:lnTo>
                  <a:pt x="106" y="594"/>
                </a:lnTo>
                <a:lnTo>
                  <a:pt x="161" y="638"/>
                </a:lnTo>
                <a:lnTo>
                  <a:pt x="212" y="594"/>
                </a:lnTo>
                <a:lnTo>
                  <a:pt x="263" y="638"/>
                </a:lnTo>
                <a:lnTo>
                  <a:pt x="314" y="594"/>
                </a:lnTo>
                <a:lnTo>
                  <a:pt x="369" y="638"/>
                </a:lnTo>
                <a:lnTo>
                  <a:pt x="420" y="594"/>
                </a:lnTo>
                <a:lnTo>
                  <a:pt x="471" y="638"/>
                </a:lnTo>
                <a:lnTo>
                  <a:pt x="527" y="594"/>
                </a:lnTo>
                <a:lnTo>
                  <a:pt x="578" y="638"/>
                </a:lnTo>
                <a:lnTo>
                  <a:pt x="629" y="594"/>
                </a:lnTo>
                <a:lnTo>
                  <a:pt x="680" y="638"/>
                </a:lnTo>
                <a:lnTo>
                  <a:pt x="735" y="594"/>
                </a:lnTo>
                <a:lnTo>
                  <a:pt x="786" y="638"/>
                </a:lnTo>
                <a:lnTo>
                  <a:pt x="837" y="594"/>
                </a:lnTo>
                <a:lnTo>
                  <a:pt x="892" y="638"/>
                </a:lnTo>
                <a:lnTo>
                  <a:pt x="947" y="594"/>
                </a:lnTo>
                <a:lnTo>
                  <a:pt x="471" y="0"/>
                </a:lnTo>
                <a:lnTo>
                  <a:pt x="0" y="594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61"/>
          <p:cNvSpPr/>
          <p:nvPr/>
        </p:nvSpPr>
        <p:spPr>
          <a:xfrm>
            <a:off x="1590840" y="4533840"/>
            <a:ext cx="1004760" cy="674640"/>
          </a:xfrm>
          <a:custGeom>
            <a:avLst/>
            <a:gdLst>
              <a:gd name="textAreaLeft" fmla="*/ 0 w 1004760"/>
              <a:gd name="textAreaRight" fmla="*/ 1005120 w 10047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685" h="460">
                <a:moveTo>
                  <a:pt x="0" y="429"/>
                </a:moveTo>
                <a:lnTo>
                  <a:pt x="44" y="460"/>
                </a:lnTo>
                <a:lnTo>
                  <a:pt x="79" y="429"/>
                </a:lnTo>
                <a:lnTo>
                  <a:pt x="118" y="460"/>
                </a:lnTo>
                <a:lnTo>
                  <a:pt x="154" y="429"/>
                </a:lnTo>
                <a:lnTo>
                  <a:pt x="193" y="460"/>
                </a:lnTo>
                <a:lnTo>
                  <a:pt x="232" y="429"/>
                </a:lnTo>
                <a:lnTo>
                  <a:pt x="268" y="460"/>
                </a:lnTo>
                <a:lnTo>
                  <a:pt x="307" y="429"/>
                </a:lnTo>
                <a:lnTo>
                  <a:pt x="342" y="460"/>
                </a:lnTo>
                <a:lnTo>
                  <a:pt x="382" y="429"/>
                </a:lnTo>
                <a:lnTo>
                  <a:pt x="417" y="460"/>
                </a:lnTo>
                <a:lnTo>
                  <a:pt x="456" y="429"/>
                </a:lnTo>
                <a:lnTo>
                  <a:pt x="496" y="460"/>
                </a:lnTo>
                <a:lnTo>
                  <a:pt x="531" y="429"/>
                </a:lnTo>
                <a:lnTo>
                  <a:pt x="570" y="460"/>
                </a:lnTo>
                <a:lnTo>
                  <a:pt x="606" y="429"/>
                </a:lnTo>
                <a:lnTo>
                  <a:pt x="645" y="460"/>
                </a:lnTo>
                <a:lnTo>
                  <a:pt x="685" y="429"/>
                </a:lnTo>
                <a:lnTo>
                  <a:pt x="342" y="0"/>
                </a:lnTo>
                <a:lnTo>
                  <a:pt x="0" y="429"/>
                </a:lnTo>
                <a:close/>
              </a:path>
            </a:pathLst>
          </a:custGeom>
          <a:solidFill>
            <a:srgbClr val="ff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62"/>
          <p:cNvSpPr/>
          <p:nvPr/>
        </p:nvSpPr>
        <p:spPr>
          <a:xfrm>
            <a:off x="2092320" y="4533840"/>
            <a:ext cx="890640" cy="1190520"/>
          </a:xfrm>
          <a:custGeom>
            <a:avLst/>
            <a:gdLst>
              <a:gd name="textAreaLeft" fmla="*/ 0 w 890640"/>
              <a:gd name="textAreaRight" fmla="*/ 891000 w 890640"/>
              <a:gd name="textAreaTop" fmla="*/ 0 h 1190520"/>
              <a:gd name="textAreaBottom" fmla="*/ 1190880 h 1190520"/>
            </a:gdLst>
            <a:ahLst/>
            <a:rect l="textAreaLeft" t="textAreaTop" r="textAreaRight" b="textAreaBottom"/>
            <a:pathLst>
              <a:path w="606" h="811">
                <a:moveTo>
                  <a:pt x="0" y="0"/>
                </a:moveTo>
                <a:lnTo>
                  <a:pt x="0" y="811"/>
                </a:lnTo>
                <a:lnTo>
                  <a:pt x="67" y="756"/>
                </a:lnTo>
                <a:lnTo>
                  <a:pt x="134" y="811"/>
                </a:lnTo>
                <a:lnTo>
                  <a:pt x="201" y="756"/>
                </a:lnTo>
                <a:lnTo>
                  <a:pt x="268" y="811"/>
                </a:lnTo>
                <a:lnTo>
                  <a:pt x="335" y="756"/>
                </a:lnTo>
                <a:lnTo>
                  <a:pt x="401" y="811"/>
                </a:lnTo>
                <a:lnTo>
                  <a:pt x="468" y="756"/>
                </a:lnTo>
                <a:lnTo>
                  <a:pt x="531" y="811"/>
                </a:lnTo>
                <a:lnTo>
                  <a:pt x="606" y="75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a8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63"/>
          <p:cNvSpPr/>
          <p:nvPr/>
        </p:nvSpPr>
        <p:spPr>
          <a:xfrm>
            <a:off x="2092320" y="4533840"/>
            <a:ext cx="698400" cy="936720"/>
          </a:xfrm>
          <a:custGeom>
            <a:avLst/>
            <a:gdLst>
              <a:gd name="textAreaLeft" fmla="*/ 0 w 698400"/>
              <a:gd name="textAreaRight" fmla="*/ 698400 w 69840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476" h="638">
                <a:moveTo>
                  <a:pt x="0" y="0"/>
                </a:moveTo>
                <a:lnTo>
                  <a:pt x="0" y="638"/>
                </a:lnTo>
                <a:lnTo>
                  <a:pt x="56" y="594"/>
                </a:lnTo>
                <a:lnTo>
                  <a:pt x="107" y="638"/>
                </a:lnTo>
                <a:lnTo>
                  <a:pt x="158" y="594"/>
                </a:lnTo>
                <a:lnTo>
                  <a:pt x="209" y="638"/>
                </a:lnTo>
                <a:lnTo>
                  <a:pt x="264" y="594"/>
                </a:lnTo>
                <a:lnTo>
                  <a:pt x="315" y="638"/>
                </a:lnTo>
                <a:lnTo>
                  <a:pt x="366" y="594"/>
                </a:lnTo>
                <a:lnTo>
                  <a:pt x="421" y="638"/>
                </a:lnTo>
                <a:lnTo>
                  <a:pt x="476" y="59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64"/>
          <p:cNvSpPr/>
          <p:nvPr/>
        </p:nvSpPr>
        <p:spPr>
          <a:xfrm>
            <a:off x="2092320" y="4533840"/>
            <a:ext cx="503280" cy="674640"/>
          </a:xfrm>
          <a:custGeom>
            <a:avLst/>
            <a:gdLst>
              <a:gd name="textAreaLeft" fmla="*/ 0 w 503280"/>
              <a:gd name="textAreaRight" fmla="*/ 503640 w 50328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343" h="460">
                <a:moveTo>
                  <a:pt x="0" y="0"/>
                </a:moveTo>
                <a:lnTo>
                  <a:pt x="0" y="460"/>
                </a:lnTo>
                <a:lnTo>
                  <a:pt x="40" y="429"/>
                </a:lnTo>
                <a:lnTo>
                  <a:pt x="75" y="460"/>
                </a:lnTo>
                <a:lnTo>
                  <a:pt x="114" y="429"/>
                </a:lnTo>
                <a:lnTo>
                  <a:pt x="154" y="460"/>
                </a:lnTo>
                <a:lnTo>
                  <a:pt x="189" y="429"/>
                </a:lnTo>
                <a:lnTo>
                  <a:pt x="228" y="460"/>
                </a:lnTo>
                <a:lnTo>
                  <a:pt x="264" y="429"/>
                </a:lnTo>
                <a:lnTo>
                  <a:pt x="303" y="460"/>
                </a:lnTo>
                <a:lnTo>
                  <a:pt x="343" y="42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5"/>
          <p:cNvSpPr/>
          <p:nvPr/>
        </p:nvSpPr>
        <p:spPr>
          <a:xfrm>
            <a:off x="2612880" y="5765760"/>
            <a:ext cx="820800" cy="692280"/>
          </a:xfrm>
          <a:prstGeom prst="rect">
            <a:avLst/>
          </a:pr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66"/>
          <p:cNvSpPr/>
          <p:nvPr/>
        </p:nvSpPr>
        <p:spPr>
          <a:xfrm>
            <a:off x="2612880" y="5891040"/>
            <a:ext cx="820800" cy="260640"/>
          </a:xfrm>
          <a:custGeom>
            <a:avLst/>
            <a:gdLst>
              <a:gd name="textAreaLeft" fmla="*/ 0 w 820800"/>
              <a:gd name="textAreaRight" fmla="*/ 821160 w 820800"/>
              <a:gd name="textAreaTop" fmla="*/ 0 h 260640"/>
              <a:gd name="textAreaBottom" fmla="*/ 261000 h 260640"/>
            </a:gdLst>
            <a:ahLst/>
            <a:rect l="textAreaLeft" t="textAreaTop" r="textAreaRight" b="textAreaBottom"/>
            <a:pathLst>
              <a:path w="559" h="177">
                <a:moveTo>
                  <a:pt x="295" y="142"/>
                </a:moveTo>
                <a:lnTo>
                  <a:pt x="295" y="0"/>
                </a:lnTo>
                <a:lnTo>
                  <a:pt x="260" y="0"/>
                </a:lnTo>
                <a:lnTo>
                  <a:pt x="260" y="142"/>
                </a:lnTo>
                <a:lnTo>
                  <a:pt x="0" y="142"/>
                </a:lnTo>
                <a:lnTo>
                  <a:pt x="0" y="177"/>
                </a:lnTo>
                <a:lnTo>
                  <a:pt x="559" y="177"/>
                </a:lnTo>
                <a:lnTo>
                  <a:pt x="559" y="142"/>
                </a:lnTo>
                <a:lnTo>
                  <a:pt x="295" y="142"/>
                </a:lnTo>
                <a:close/>
              </a:path>
            </a:pathLst>
          </a:custGeom>
          <a:solidFill>
            <a:srgbClr val="b06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67"/>
          <p:cNvSpPr/>
          <p:nvPr/>
        </p:nvSpPr>
        <p:spPr>
          <a:xfrm>
            <a:off x="2433600" y="5181480"/>
            <a:ext cx="1177920" cy="784440"/>
          </a:xfrm>
          <a:custGeom>
            <a:avLst/>
            <a:gdLst>
              <a:gd name="textAreaLeft" fmla="*/ 0 w 1177920"/>
              <a:gd name="textAreaRight" fmla="*/ 1178280 w 1177920"/>
              <a:gd name="textAreaTop" fmla="*/ 0 h 784440"/>
              <a:gd name="textAreaBottom" fmla="*/ 784800 h 784440"/>
            </a:gdLst>
            <a:ahLst/>
            <a:rect l="textAreaLeft" t="textAreaTop" r="textAreaRight" b="textAreaBottom"/>
            <a:pathLst>
              <a:path w="802" h="535">
                <a:moveTo>
                  <a:pt x="0" y="500"/>
                </a:moveTo>
                <a:lnTo>
                  <a:pt x="52" y="535"/>
                </a:lnTo>
                <a:lnTo>
                  <a:pt x="95" y="500"/>
                </a:lnTo>
                <a:lnTo>
                  <a:pt x="138" y="535"/>
                </a:lnTo>
                <a:lnTo>
                  <a:pt x="181" y="500"/>
                </a:lnTo>
                <a:lnTo>
                  <a:pt x="225" y="535"/>
                </a:lnTo>
                <a:lnTo>
                  <a:pt x="268" y="500"/>
                </a:lnTo>
                <a:lnTo>
                  <a:pt x="315" y="535"/>
                </a:lnTo>
                <a:lnTo>
                  <a:pt x="358" y="500"/>
                </a:lnTo>
                <a:lnTo>
                  <a:pt x="401" y="535"/>
                </a:lnTo>
                <a:lnTo>
                  <a:pt x="445" y="500"/>
                </a:lnTo>
                <a:lnTo>
                  <a:pt x="488" y="535"/>
                </a:lnTo>
                <a:lnTo>
                  <a:pt x="535" y="500"/>
                </a:lnTo>
                <a:lnTo>
                  <a:pt x="578" y="535"/>
                </a:lnTo>
                <a:lnTo>
                  <a:pt x="622" y="500"/>
                </a:lnTo>
                <a:lnTo>
                  <a:pt x="665" y="535"/>
                </a:lnTo>
                <a:lnTo>
                  <a:pt x="708" y="500"/>
                </a:lnTo>
                <a:lnTo>
                  <a:pt x="755" y="535"/>
                </a:lnTo>
                <a:lnTo>
                  <a:pt x="802" y="500"/>
                </a:lnTo>
                <a:lnTo>
                  <a:pt x="401" y="0"/>
                </a:lnTo>
                <a:lnTo>
                  <a:pt x="0" y="500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68"/>
          <p:cNvSpPr/>
          <p:nvPr/>
        </p:nvSpPr>
        <p:spPr>
          <a:xfrm>
            <a:off x="2560680" y="5181480"/>
            <a:ext cx="923760" cy="617760"/>
          </a:xfrm>
          <a:custGeom>
            <a:avLst/>
            <a:gdLst/>
            <a:ahLst/>
            <a:rect l="l" t="t" r="r" b="b"/>
            <a:pathLst>
              <a:path w="629" h="421">
                <a:moveTo>
                  <a:pt x="0" y="394"/>
                </a:moveTo>
                <a:lnTo>
                  <a:pt x="39" y="421"/>
                </a:lnTo>
                <a:lnTo>
                  <a:pt x="71" y="394"/>
                </a:lnTo>
                <a:lnTo>
                  <a:pt x="106" y="421"/>
                </a:lnTo>
                <a:lnTo>
                  <a:pt x="141" y="394"/>
                </a:lnTo>
                <a:lnTo>
                  <a:pt x="177" y="421"/>
                </a:lnTo>
                <a:lnTo>
                  <a:pt x="212" y="394"/>
                </a:lnTo>
                <a:lnTo>
                  <a:pt x="244" y="421"/>
                </a:lnTo>
                <a:lnTo>
                  <a:pt x="279" y="394"/>
                </a:lnTo>
                <a:lnTo>
                  <a:pt x="314" y="421"/>
                </a:lnTo>
                <a:lnTo>
                  <a:pt x="350" y="394"/>
                </a:lnTo>
                <a:lnTo>
                  <a:pt x="385" y="421"/>
                </a:lnTo>
                <a:lnTo>
                  <a:pt x="417" y="394"/>
                </a:lnTo>
                <a:lnTo>
                  <a:pt x="452" y="421"/>
                </a:lnTo>
                <a:lnTo>
                  <a:pt x="487" y="394"/>
                </a:lnTo>
                <a:lnTo>
                  <a:pt x="523" y="421"/>
                </a:lnTo>
                <a:lnTo>
                  <a:pt x="558" y="394"/>
                </a:lnTo>
                <a:lnTo>
                  <a:pt x="590" y="421"/>
                </a:lnTo>
                <a:lnTo>
                  <a:pt x="629" y="390"/>
                </a:lnTo>
                <a:lnTo>
                  <a:pt x="314" y="0"/>
                </a:lnTo>
                <a:lnTo>
                  <a:pt x="0" y="394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69"/>
          <p:cNvSpPr/>
          <p:nvPr/>
        </p:nvSpPr>
        <p:spPr>
          <a:xfrm>
            <a:off x="2687760" y="5181480"/>
            <a:ext cx="669960" cy="444600"/>
          </a:xfrm>
          <a:custGeom>
            <a:avLst/>
            <a:gdLst>
              <a:gd name="textAreaLeft" fmla="*/ 0 w 669960"/>
              <a:gd name="textAreaRight" fmla="*/ 669960 w 66996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456" h="303">
                <a:moveTo>
                  <a:pt x="0" y="283"/>
                </a:moveTo>
                <a:lnTo>
                  <a:pt x="28" y="303"/>
                </a:lnTo>
                <a:lnTo>
                  <a:pt x="55" y="283"/>
                </a:lnTo>
                <a:lnTo>
                  <a:pt x="79" y="303"/>
                </a:lnTo>
                <a:lnTo>
                  <a:pt x="103" y="283"/>
                </a:lnTo>
                <a:lnTo>
                  <a:pt x="130" y="303"/>
                </a:lnTo>
                <a:lnTo>
                  <a:pt x="154" y="283"/>
                </a:lnTo>
                <a:lnTo>
                  <a:pt x="177" y="303"/>
                </a:lnTo>
                <a:lnTo>
                  <a:pt x="205" y="283"/>
                </a:lnTo>
                <a:lnTo>
                  <a:pt x="228" y="303"/>
                </a:lnTo>
                <a:lnTo>
                  <a:pt x="252" y="283"/>
                </a:lnTo>
                <a:lnTo>
                  <a:pt x="280" y="303"/>
                </a:lnTo>
                <a:lnTo>
                  <a:pt x="303" y="283"/>
                </a:lnTo>
                <a:lnTo>
                  <a:pt x="327" y="303"/>
                </a:lnTo>
                <a:lnTo>
                  <a:pt x="354" y="283"/>
                </a:lnTo>
                <a:lnTo>
                  <a:pt x="378" y="303"/>
                </a:lnTo>
                <a:lnTo>
                  <a:pt x="401" y="283"/>
                </a:lnTo>
                <a:lnTo>
                  <a:pt x="429" y="303"/>
                </a:lnTo>
                <a:lnTo>
                  <a:pt x="456" y="283"/>
                </a:lnTo>
                <a:lnTo>
                  <a:pt x="228" y="0"/>
                </a:lnTo>
                <a:lnTo>
                  <a:pt x="0" y="283"/>
                </a:lnTo>
                <a:close/>
              </a:path>
            </a:pathLst>
          </a:cu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0"/>
          <p:cNvSpPr/>
          <p:nvPr/>
        </p:nvSpPr>
        <p:spPr>
          <a:xfrm>
            <a:off x="2612880" y="6151680"/>
            <a:ext cx="82080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1"/>
          <p:cNvSpPr/>
          <p:nvPr/>
        </p:nvSpPr>
        <p:spPr>
          <a:xfrm>
            <a:off x="2768760" y="5989680"/>
            <a:ext cx="8568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2"/>
          <p:cNvSpPr/>
          <p:nvPr/>
        </p:nvSpPr>
        <p:spPr>
          <a:xfrm>
            <a:off x="3173400" y="5989680"/>
            <a:ext cx="8748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39"/>
          <p:cNvSpPr/>
          <p:nvPr/>
        </p:nvSpPr>
        <p:spPr>
          <a:xfrm>
            <a:off x="1798560" y="3098880"/>
            <a:ext cx="1136880" cy="554040"/>
          </a:xfrm>
          <a:custGeom>
            <a:avLst/>
            <a:gdLst>
              <a:gd name="textAreaLeft" fmla="*/ 0 w 1136880"/>
              <a:gd name="textAreaRight" fmla="*/ 1137240 w 113688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97" h="96">
                <a:moveTo>
                  <a:pt x="180" y="63"/>
                </a:moveTo>
                <a:cubicBezTo>
                  <a:pt x="178" y="63"/>
                  <a:pt x="176" y="64"/>
                  <a:pt x="174" y="64"/>
                </a:cubicBezTo>
                <a:cubicBezTo>
                  <a:pt x="173" y="50"/>
                  <a:pt x="161" y="40"/>
                  <a:pt x="147" y="40"/>
                </a:cubicBezTo>
                <a:cubicBezTo>
                  <a:pt x="145" y="40"/>
                  <a:pt x="142" y="40"/>
                  <a:pt x="140" y="41"/>
                </a:cubicBezTo>
                <a:cubicBezTo>
                  <a:pt x="140" y="41"/>
                  <a:pt x="140" y="40"/>
                  <a:pt x="140" y="40"/>
                </a:cubicBezTo>
                <a:cubicBezTo>
                  <a:pt x="139" y="18"/>
                  <a:pt x="121" y="0"/>
                  <a:pt x="99" y="1"/>
                </a:cubicBezTo>
                <a:cubicBezTo>
                  <a:pt x="77" y="1"/>
                  <a:pt x="59" y="19"/>
                  <a:pt x="60" y="41"/>
                </a:cubicBezTo>
                <a:cubicBezTo>
                  <a:pt x="60" y="42"/>
                  <a:pt x="60" y="43"/>
                  <a:pt x="60" y="44"/>
                </a:cubicBezTo>
                <a:cubicBezTo>
                  <a:pt x="56" y="42"/>
                  <a:pt x="52" y="41"/>
                  <a:pt x="47" y="42"/>
                </a:cubicBezTo>
                <a:cubicBezTo>
                  <a:pt x="34" y="42"/>
                  <a:pt x="23" y="52"/>
                  <a:pt x="21" y="65"/>
                </a:cubicBezTo>
                <a:cubicBezTo>
                  <a:pt x="20" y="64"/>
                  <a:pt x="18" y="64"/>
                  <a:pt x="16" y="64"/>
                </a:cubicBezTo>
                <a:cubicBezTo>
                  <a:pt x="7" y="64"/>
                  <a:pt x="0" y="72"/>
                  <a:pt x="0" y="80"/>
                </a:cubicBezTo>
                <a:cubicBezTo>
                  <a:pt x="0" y="89"/>
                  <a:pt x="8" y="96"/>
                  <a:pt x="16" y="96"/>
                </a:cubicBezTo>
                <a:cubicBezTo>
                  <a:pt x="22" y="96"/>
                  <a:pt x="174" y="95"/>
                  <a:pt x="181" y="95"/>
                </a:cubicBezTo>
                <a:cubicBezTo>
                  <a:pt x="190" y="95"/>
                  <a:pt x="197" y="88"/>
                  <a:pt x="197" y="79"/>
                </a:cubicBezTo>
                <a:cubicBezTo>
                  <a:pt x="196" y="70"/>
                  <a:pt x="189" y="63"/>
                  <a:pt x="180" y="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140"/>
          <p:cNvSpPr/>
          <p:nvPr/>
        </p:nvSpPr>
        <p:spPr>
          <a:xfrm>
            <a:off x="2376360" y="3317760"/>
            <a:ext cx="1138320" cy="554040"/>
          </a:xfrm>
          <a:custGeom>
            <a:avLst/>
            <a:gdLst>
              <a:gd name="textAreaLeft" fmla="*/ 0 w 1138320"/>
              <a:gd name="textAreaRight" fmla="*/ 1138680 w 113832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97" h="96">
                <a:moveTo>
                  <a:pt x="180" y="64"/>
                </a:moveTo>
                <a:cubicBezTo>
                  <a:pt x="178" y="64"/>
                  <a:pt x="176" y="64"/>
                  <a:pt x="175" y="65"/>
                </a:cubicBezTo>
                <a:cubicBezTo>
                  <a:pt x="173" y="51"/>
                  <a:pt x="162" y="40"/>
                  <a:pt x="147" y="40"/>
                </a:cubicBezTo>
                <a:cubicBezTo>
                  <a:pt x="145" y="40"/>
                  <a:pt x="142" y="40"/>
                  <a:pt x="140" y="41"/>
                </a:cubicBezTo>
                <a:cubicBezTo>
                  <a:pt x="140" y="41"/>
                  <a:pt x="140" y="40"/>
                  <a:pt x="140" y="40"/>
                </a:cubicBezTo>
                <a:cubicBezTo>
                  <a:pt x="140" y="18"/>
                  <a:pt x="122" y="0"/>
                  <a:pt x="100" y="1"/>
                </a:cubicBezTo>
                <a:cubicBezTo>
                  <a:pt x="78" y="1"/>
                  <a:pt x="60" y="19"/>
                  <a:pt x="60" y="41"/>
                </a:cubicBezTo>
                <a:cubicBezTo>
                  <a:pt x="60" y="42"/>
                  <a:pt x="60" y="43"/>
                  <a:pt x="60" y="44"/>
                </a:cubicBezTo>
                <a:cubicBezTo>
                  <a:pt x="56" y="42"/>
                  <a:pt x="52" y="41"/>
                  <a:pt x="48" y="41"/>
                </a:cubicBezTo>
                <a:cubicBezTo>
                  <a:pt x="34" y="41"/>
                  <a:pt x="23" y="51"/>
                  <a:pt x="21" y="64"/>
                </a:cubicBezTo>
                <a:cubicBezTo>
                  <a:pt x="20" y="64"/>
                  <a:pt x="18" y="63"/>
                  <a:pt x="16" y="63"/>
                </a:cubicBezTo>
                <a:cubicBezTo>
                  <a:pt x="7" y="63"/>
                  <a:pt x="0" y="71"/>
                  <a:pt x="0" y="79"/>
                </a:cubicBezTo>
                <a:cubicBezTo>
                  <a:pt x="0" y="88"/>
                  <a:pt x="7" y="95"/>
                  <a:pt x="16" y="95"/>
                </a:cubicBezTo>
                <a:cubicBezTo>
                  <a:pt x="22" y="95"/>
                  <a:pt x="174" y="96"/>
                  <a:pt x="181" y="96"/>
                </a:cubicBezTo>
                <a:cubicBezTo>
                  <a:pt x="189" y="95"/>
                  <a:pt x="197" y="88"/>
                  <a:pt x="196" y="79"/>
                </a:cubicBezTo>
                <a:cubicBezTo>
                  <a:pt x="196" y="71"/>
                  <a:pt x="189" y="64"/>
                  <a:pt x="180" y="64"/>
                </a:cubicBezTo>
                <a:close/>
              </a:path>
            </a:pathLst>
          </a:custGeom>
          <a:solidFill>
            <a:srgbClr val="7cd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142"/>
          <p:cNvSpPr/>
          <p:nvPr/>
        </p:nvSpPr>
        <p:spPr>
          <a:xfrm>
            <a:off x="3254400" y="3033720"/>
            <a:ext cx="374760" cy="208080"/>
          </a:xfrm>
          <a:custGeom>
            <a:avLst/>
            <a:gdLst>
              <a:gd name="textAreaLeft" fmla="*/ 0 w 374760"/>
              <a:gd name="textAreaRight" fmla="*/ 375120 w 37476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65" h="36">
                <a:moveTo>
                  <a:pt x="54" y="14"/>
                </a:moveTo>
                <a:cubicBezTo>
                  <a:pt x="53" y="14"/>
                  <a:pt x="52" y="14"/>
                  <a:pt x="51" y="14"/>
                </a:cubicBezTo>
                <a:cubicBezTo>
                  <a:pt x="49" y="6"/>
                  <a:pt x="41" y="0"/>
                  <a:pt x="33" y="0"/>
                </a:cubicBezTo>
                <a:cubicBezTo>
                  <a:pt x="24" y="0"/>
                  <a:pt x="16" y="6"/>
                  <a:pt x="15" y="14"/>
                </a:cubicBezTo>
                <a:cubicBezTo>
                  <a:pt x="14" y="14"/>
                  <a:pt x="13" y="14"/>
                  <a:pt x="12" y="14"/>
                </a:cubicBezTo>
                <a:cubicBezTo>
                  <a:pt x="5" y="14"/>
                  <a:pt x="0" y="19"/>
                  <a:pt x="0" y="25"/>
                </a:cubicBezTo>
                <a:cubicBezTo>
                  <a:pt x="0" y="31"/>
                  <a:pt x="5" y="36"/>
                  <a:pt x="12" y="36"/>
                </a:cubicBezTo>
                <a:cubicBezTo>
                  <a:pt x="15" y="36"/>
                  <a:pt x="50" y="36"/>
                  <a:pt x="54" y="36"/>
                </a:cubicBezTo>
                <a:cubicBezTo>
                  <a:pt x="60" y="36"/>
                  <a:pt x="65" y="31"/>
                  <a:pt x="65" y="25"/>
                </a:cubicBezTo>
                <a:cubicBezTo>
                  <a:pt x="65" y="19"/>
                  <a:pt x="60" y="14"/>
                  <a:pt x="54" y="14"/>
                </a:cubicBezTo>
                <a:close/>
              </a:path>
            </a:pathLst>
          </a:custGeom>
          <a:solidFill>
            <a:srgbClr val="29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3"/>
          <p:cNvSpPr/>
          <p:nvPr/>
        </p:nvSpPr>
        <p:spPr>
          <a:xfrm>
            <a:off x="458640" y="5904000"/>
            <a:ext cx="63720" cy="369720"/>
          </a:xfrm>
          <a:prstGeom prst="rect">
            <a:avLst/>
          </a:pr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44"/>
          <p:cNvSpPr/>
          <p:nvPr/>
        </p:nvSpPr>
        <p:spPr>
          <a:xfrm>
            <a:off x="441360" y="5978520"/>
            <a:ext cx="98280" cy="41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45"/>
          <p:cNvSpPr/>
          <p:nvPr/>
        </p:nvSpPr>
        <p:spPr>
          <a:xfrm>
            <a:off x="441360" y="6083280"/>
            <a:ext cx="98280" cy="41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46"/>
          <p:cNvSpPr/>
          <p:nvPr/>
        </p:nvSpPr>
        <p:spPr>
          <a:xfrm>
            <a:off x="441360" y="6175440"/>
            <a:ext cx="98280" cy="4104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147"/>
          <p:cNvSpPr/>
          <p:nvPr/>
        </p:nvSpPr>
        <p:spPr>
          <a:xfrm>
            <a:off x="522360" y="5810400"/>
            <a:ext cx="230040" cy="117360"/>
          </a:xfrm>
          <a:custGeom>
            <a:avLst/>
            <a:gdLst>
              <a:gd name="textAreaLeft" fmla="*/ 0 w 230040"/>
              <a:gd name="textAreaRight" fmla="*/ 230400 w 23004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40" h="20">
                <a:moveTo>
                  <a:pt x="20" y="0"/>
                </a:moveTo>
                <a:cubicBezTo>
                  <a:pt x="31" y="0"/>
                  <a:pt x="40" y="9"/>
                  <a:pt x="40" y="20"/>
                </a:cubicBezTo>
                <a:cubicBezTo>
                  <a:pt x="34" y="20"/>
                  <a:pt x="34" y="20"/>
                  <a:pt x="34" y="20"/>
                </a:cubicBezTo>
                <a:cubicBezTo>
                  <a:pt x="30" y="14"/>
                  <a:pt x="30" y="14"/>
                  <a:pt x="30" y="14"/>
                </a:cubicBezTo>
                <a:cubicBezTo>
                  <a:pt x="27" y="20"/>
                  <a:pt x="27" y="20"/>
                  <a:pt x="27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0" y="14"/>
                  <a:pt x="20" y="14"/>
                  <a:pt x="20" y="14"/>
                </a:cubicBezTo>
                <a:cubicBezTo>
                  <a:pt x="17" y="20"/>
                  <a:pt x="17" y="20"/>
                  <a:pt x="17" y="20"/>
                </a:cubicBezTo>
                <a:cubicBezTo>
                  <a:pt x="12" y="20"/>
                  <a:pt x="12" y="20"/>
                  <a:pt x="12" y="20"/>
                </a:cubicBezTo>
                <a:cubicBezTo>
                  <a:pt x="9" y="14"/>
                  <a:pt x="9" y="14"/>
                  <a:pt x="9" y="14"/>
                </a:cubicBezTo>
                <a:cubicBezTo>
                  <a:pt x="6" y="20"/>
                  <a:pt x="6" y="20"/>
                  <a:pt x="6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9"/>
                  <a:pt x="9" y="0"/>
                  <a:pt x="20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148"/>
          <p:cNvSpPr/>
          <p:nvPr/>
        </p:nvSpPr>
        <p:spPr>
          <a:xfrm>
            <a:off x="228600" y="5810400"/>
            <a:ext cx="230040" cy="117360"/>
          </a:xfrm>
          <a:custGeom>
            <a:avLst/>
            <a:gdLst>
              <a:gd name="textAreaLeft" fmla="*/ 0 w 230040"/>
              <a:gd name="textAreaRight" fmla="*/ 230400 w 23004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40" h="20">
                <a:moveTo>
                  <a:pt x="20" y="0"/>
                </a:moveTo>
                <a:cubicBezTo>
                  <a:pt x="31" y="0"/>
                  <a:pt x="40" y="9"/>
                  <a:pt x="40" y="20"/>
                </a:cubicBezTo>
                <a:cubicBezTo>
                  <a:pt x="33" y="20"/>
                  <a:pt x="33" y="20"/>
                  <a:pt x="33" y="20"/>
                </a:cubicBezTo>
                <a:cubicBezTo>
                  <a:pt x="30" y="14"/>
                  <a:pt x="30" y="14"/>
                  <a:pt x="30" y="14"/>
                </a:cubicBezTo>
                <a:cubicBezTo>
                  <a:pt x="27" y="20"/>
                  <a:pt x="27" y="20"/>
                  <a:pt x="27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0" y="14"/>
                  <a:pt x="20" y="14"/>
                  <a:pt x="20" y="14"/>
                </a:cubicBezTo>
                <a:cubicBezTo>
                  <a:pt x="16" y="20"/>
                  <a:pt x="16" y="20"/>
                  <a:pt x="16" y="20"/>
                </a:cubicBezTo>
                <a:cubicBezTo>
                  <a:pt x="12" y="20"/>
                  <a:pt x="12" y="20"/>
                  <a:pt x="12" y="20"/>
                </a:cubicBezTo>
                <a:cubicBezTo>
                  <a:pt x="9" y="14"/>
                  <a:pt x="9" y="14"/>
                  <a:pt x="9" y="14"/>
                </a:cubicBezTo>
                <a:cubicBezTo>
                  <a:pt x="5" y="20"/>
                  <a:pt x="5" y="20"/>
                  <a:pt x="5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9"/>
                  <a:pt x="9" y="0"/>
                  <a:pt x="20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149"/>
          <p:cNvSpPr/>
          <p:nvPr/>
        </p:nvSpPr>
        <p:spPr>
          <a:xfrm>
            <a:off x="326880" y="5694480"/>
            <a:ext cx="195480" cy="226800"/>
          </a:xfrm>
          <a:custGeom>
            <a:avLst/>
            <a:gdLst>
              <a:gd name="textAreaLeft" fmla="*/ 0 w 195480"/>
              <a:gd name="textAreaRight" fmla="*/ 195840 w 1954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34" h="39">
                <a:moveTo>
                  <a:pt x="28" y="12"/>
                </a:moveTo>
                <a:cubicBezTo>
                  <a:pt x="34" y="21"/>
                  <a:pt x="32" y="33"/>
                  <a:pt x="23" y="39"/>
                </a:cubicBezTo>
                <a:cubicBezTo>
                  <a:pt x="19" y="34"/>
                  <a:pt x="19" y="34"/>
                  <a:pt x="19" y="34"/>
                </a:cubicBezTo>
                <a:cubicBezTo>
                  <a:pt x="22" y="28"/>
                  <a:pt x="22" y="28"/>
                  <a:pt x="22" y="28"/>
                </a:cubicBezTo>
                <a:cubicBezTo>
                  <a:pt x="15" y="29"/>
                  <a:pt x="15" y="29"/>
                  <a:pt x="15" y="29"/>
                </a:cubicBezTo>
                <a:cubicBezTo>
                  <a:pt x="13" y="26"/>
                  <a:pt x="13" y="26"/>
                  <a:pt x="13" y="26"/>
                </a:cubicBezTo>
                <a:cubicBezTo>
                  <a:pt x="16" y="20"/>
                  <a:pt x="16" y="20"/>
                  <a:pt x="16" y="20"/>
                </a:cubicBezTo>
                <a:cubicBezTo>
                  <a:pt x="10" y="20"/>
                  <a:pt x="10" y="20"/>
                  <a:pt x="10" y="20"/>
                </a:cubicBezTo>
                <a:cubicBezTo>
                  <a:pt x="7" y="16"/>
                  <a:pt x="7" y="16"/>
                  <a:pt x="7" y="16"/>
                </a:cubicBezTo>
                <a:cubicBezTo>
                  <a:pt x="10" y="11"/>
                  <a:pt x="10" y="11"/>
                  <a:pt x="10" y="11"/>
                </a:cubicBezTo>
                <a:cubicBezTo>
                  <a:pt x="3" y="11"/>
                  <a:pt x="3" y="11"/>
                  <a:pt x="3" y="11"/>
                </a:cubicBezTo>
                <a:cubicBezTo>
                  <a:pt x="0" y="6"/>
                  <a:pt x="0" y="6"/>
                  <a:pt x="0" y="6"/>
                </a:cubicBezTo>
                <a:cubicBezTo>
                  <a:pt x="9" y="0"/>
                  <a:pt x="22" y="3"/>
                  <a:pt x="28" y="12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150"/>
          <p:cNvSpPr/>
          <p:nvPr/>
        </p:nvSpPr>
        <p:spPr>
          <a:xfrm>
            <a:off x="465120" y="5694480"/>
            <a:ext cx="192240" cy="226800"/>
          </a:xfrm>
          <a:custGeom>
            <a:avLst/>
            <a:gdLst>
              <a:gd name="textAreaLeft" fmla="*/ 0 w 192240"/>
              <a:gd name="textAreaRight" fmla="*/ 192600 w 1922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33" h="39">
                <a:moveTo>
                  <a:pt x="6" y="12"/>
                </a:moveTo>
                <a:cubicBezTo>
                  <a:pt x="0" y="21"/>
                  <a:pt x="2" y="33"/>
                  <a:pt x="11" y="39"/>
                </a:cubicBezTo>
                <a:cubicBezTo>
                  <a:pt x="14" y="34"/>
                  <a:pt x="14" y="34"/>
                  <a:pt x="14" y="34"/>
                </a:cubicBezTo>
                <a:cubicBezTo>
                  <a:pt x="12" y="28"/>
                  <a:pt x="12" y="28"/>
                  <a:pt x="12" y="28"/>
                </a:cubicBezTo>
                <a:cubicBezTo>
                  <a:pt x="18" y="29"/>
                  <a:pt x="18" y="29"/>
                  <a:pt x="18" y="29"/>
                </a:cubicBezTo>
                <a:cubicBezTo>
                  <a:pt x="20" y="26"/>
                  <a:pt x="20" y="26"/>
                  <a:pt x="20" y="26"/>
                </a:cubicBezTo>
                <a:cubicBezTo>
                  <a:pt x="18" y="20"/>
                  <a:pt x="18" y="20"/>
                  <a:pt x="18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7" y="16"/>
                  <a:pt x="27" y="16"/>
                  <a:pt x="27" y="16"/>
                </a:cubicBezTo>
                <a:cubicBezTo>
                  <a:pt x="24" y="11"/>
                  <a:pt x="24" y="11"/>
                  <a:pt x="24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33" y="6"/>
                  <a:pt x="33" y="6"/>
                  <a:pt x="33" y="6"/>
                </a:cubicBezTo>
                <a:cubicBezTo>
                  <a:pt x="24" y="0"/>
                  <a:pt x="12" y="3"/>
                  <a:pt x="6" y="12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51"/>
          <p:cNvSpPr/>
          <p:nvPr/>
        </p:nvSpPr>
        <p:spPr>
          <a:xfrm>
            <a:off x="488880" y="5880240"/>
            <a:ext cx="69840" cy="7596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52"/>
          <p:cNvSpPr/>
          <p:nvPr/>
        </p:nvSpPr>
        <p:spPr>
          <a:xfrm>
            <a:off x="412920" y="5880240"/>
            <a:ext cx="75960" cy="7596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53"/>
          <p:cNvSpPr/>
          <p:nvPr/>
        </p:nvSpPr>
        <p:spPr>
          <a:xfrm>
            <a:off x="453960" y="5845320"/>
            <a:ext cx="74520" cy="75960"/>
          </a:xfrm>
          <a:prstGeom prst="ellipse">
            <a:avLst/>
          </a:prstGeom>
          <a:solidFill>
            <a:srgbClr val="b06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154"/>
          <p:cNvSpPr/>
          <p:nvPr/>
        </p:nvSpPr>
        <p:spPr>
          <a:xfrm>
            <a:off x="3022560" y="5181480"/>
            <a:ext cx="587520" cy="784440"/>
          </a:xfrm>
          <a:custGeom>
            <a:avLst/>
            <a:gdLst>
              <a:gd name="textAreaLeft" fmla="*/ 0 w 587520"/>
              <a:gd name="textAreaRight" fmla="*/ 587520 w 587520"/>
              <a:gd name="textAreaTop" fmla="*/ 0 h 784440"/>
              <a:gd name="textAreaBottom" fmla="*/ 784800 h 784440"/>
            </a:gdLst>
            <a:ahLst/>
            <a:rect l="textAreaLeft" t="textAreaTop" r="textAreaRight" b="textAreaBottom"/>
            <a:pathLst>
              <a:path w="401" h="535">
                <a:moveTo>
                  <a:pt x="0" y="0"/>
                </a:moveTo>
                <a:lnTo>
                  <a:pt x="0" y="535"/>
                </a:lnTo>
                <a:lnTo>
                  <a:pt x="44" y="500"/>
                </a:lnTo>
                <a:lnTo>
                  <a:pt x="87" y="535"/>
                </a:lnTo>
                <a:lnTo>
                  <a:pt x="134" y="500"/>
                </a:lnTo>
                <a:lnTo>
                  <a:pt x="177" y="535"/>
                </a:lnTo>
                <a:lnTo>
                  <a:pt x="221" y="500"/>
                </a:lnTo>
                <a:lnTo>
                  <a:pt x="264" y="535"/>
                </a:lnTo>
                <a:lnTo>
                  <a:pt x="307" y="500"/>
                </a:lnTo>
                <a:lnTo>
                  <a:pt x="354" y="535"/>
                </a:lnTo>
                <a:lnTo>
                  <a:pt x="401" y="5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155"/>
          <p:cNvSpPr/>
          <p:nvPr/>
        </p:nvSpPr>
        <p:spPr>
          <a:xfrm>
            <a:off x="3022560" y="5181480"/>
            <a:ext cx="461880" cy="617760"/>
          </a:xfrm>
          <a:custGeom>
            <a:avLst/>
            <a:gdLst>
              <a:gd name="textAreaLeft" fmla="*/ 0 w 461880"/>
              <a:gd name="textAreaRight" fmla="*/ 462240 w 461880"/>
              <a:gd name="textAreaTop" fmla="*/ 0 h 617760"/>
              <a:gd name="textAreaBottom" fmla="*/ 617760 h 617760"/>
            </a:gdLst>
            <a:ahLst/>
            <a:rect l="textAreaLeft" t="textAreaTop" r="textAreaRight" b="textAreaBottom"/>
            <a:pathLst>
              <a:path w="315" h="421">
                <a:moveTo>
                  <a:pt x="0" y="0"/>
                </a:moveTo>
                <a:lnTo>
                  <a:pt x="0" y="421"/>
                </a:lnTo>
                <a:lnTo>
                  <a:pt x="36" y="394"/>
                </a:lnTo>
                <a:lnTo>
                  <a:pt x="71" y="421"/>
                </a:lnTo>
                <a:lnTo>
                  <a:pt x="103" y="394"/>
                </a:lnTo>
                <a:lnTo>
                  <a:pt x="138" y="421"/>
                </a:lnTo>
                <a:lnTo>
                  <a:pt x="173" y="394"/>
                </a:lnTo>
                <a:lnTo>
                  <a:pt x="209" y="421"/>
                </a:lnTo>
                <a:lnTo>
                  <a:pt x="244" y="394"/>
                </a:lnTo>
                <a:lnTo>
                  <a:pt x="276" y="421"/>
                </a:lnTo>
                <a:lnTo>
                  <a:pt x="315" y="39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e8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156"/>
          <p:cNvSpPr/>
          <p:nvPr/>
        </p:nvSpPr>
        <p:spPr>
          <a:xfrm>
            <a:off x="3022560" y="5181480"/>
            <a:ext cx="333360" cy="444600"/>
          </a:xfrm>
          <a:custGeom>
            <a:avLst/>
            <a:gdLst>
              <a:gd name="textAreaLeft" fmla="*/ 0 w 333360"/>
              <a:gd name="textAreaRight" fmla="*/ 333720 w 33336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228" h="303">
                <a:moveTo>
                  <a:pt x="0" y="0"/>
                </a:moveTo>
                <a:lnTo>
                  <a:pt x="0" y="303"/>
                </a:lnTo>
                <a:lnTo>
                  <a:pt x="24" y="283"/>
                </a:lnTo>
                <a:lnTo>
                  <a:pt x="52" y="303"/>
                </a:lnTo>
                <a:lnTo>
                  <a:pt x="75" y="283"/>
                </a:lnTo>
                <a:lnTo>
                  <a:pt x="99" y="303"/>
                </a:lnTo>
                <a:lnTo>
                  <a:pt x="126" y="283"/>
                </a:lnTo>
                <a:lnTo>
                  <a:pt x="150" y="303"/>
                </a:lnTo>
                <a:lnTo>
                  <a:pt x="173" y="283"/>
                </a:lnTo>
                <a:lnTo>
                  <a:pt x="201" y="303"/>
                </a:lnTo>
                <a:lnTo>
                  <a:pt x="228" y="28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8b3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157"/>
          <p:cNvSpPr/>
          <p:nvPr/>
        </p:nvSpPr>
        <p:spPr>
          <a:xfrm>
            <a:off x="1413000" y="5300640"/>
            <a:ext cx="74520" cy="109440"/>
          </a:xfrm>
          <a:custGeom>
            <a:avLst/>
            <a:gdLst>
              <a:gd name="textAreaLeft" fmla="*/ 0 w 74520"/>
              <a:gd name="textAreaRight" fmla="*/ 74880 w 745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51" h="75">
                <a:moveTo>
                  <a:pt x="51" y="63"/>
                </a:moveTo>
                <a:lnTo>
                  <a:pt x="35" y="75"/>
                </a:lnTo>
                <a:lnTo>
                  <a:pt x="0" y="12"/>
                </a:lnTo>
                <a:lnTo>
                  <a:pt x="15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158"/>
          <p:cNvSpPr/>
          <p:nvPr/>
        </p:nvSpPr>
        <p:spPr>
          <a:xfrm>
            <a:off x="1514520" y="5181480"/>
            <a:ext cx="76320" cy="103320"/>
          </a:xfrm>
          <a:custGeom>
            <a:avLst/>
            <a:gdLst>
              <a:gd name="textAreaLeft" fmla="*/ 0 w 76320"/>
              <a:gd name="textAreaRight" fmla="*/ 76680 w 7632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51" h="71">
                <a:moveTo>
                  <a:pt x="51" y="63"/>
                </a:moveTo>
                <a:lnTo>
                  <a:pt x="40" y="71"/>
                </a:lnTo>
                <a:lnTo>
                  <a:pt x="0" y="8"/>
                </a:lnTo>
                <a:lnTo>
                  <a:pt x="16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159"/>
          <p:cNvSpPr/>
          <p:nvPr/>
        </p:nvSpPr>
        <p:spPr>
          <a:xfrm>
            <a:off x="1476360" y="5214960"/>
            <a:ext cx="109440" cy="58680"/>
          </a:xfrm>
          <a:custGeom>
            <a:avLst/>
            <a:gdLst>
              <a:gd name="textAreaLeft" fmla="*/ 0 w 109440"/>
              <a:gd name="textAreaRight" fmla="*/ 109800 w 1094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75" h="40">
                <a:moveTo>
                  <a:pt x="75" y="24"/>
                </a:moveTo>
                <a:lnTo>
                  <a:pt x="67" y="40"/>
                </a:lnTo>
                <a:lnTo>
                  <a:pt x="0" y="16"/>
                </a:lnTo>
                <a:lnTo>
                  <a:pt x="4" y="0"/>
                </a:lnTo>
                <a:lnTo>
                  <a:pt x="75" y="24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160"/>
          <p:cNvSpPr/>
          <p:nvPr/>
        </p:nvSpPr>
        <p:spPr>
          <a:xfrm>
            <a:off x="1833480" y="4764240"/>
            <a:ext cx="74520" cy="102960"/>
          </a:xfrm>
          <a:custGeom>
            <a:avLst/>
            <a:gdLst>
              <a:gd name="textAreaLeft" fmla="*/ 0 w 74520"/>
              <a:gd name="textAreaRight" fmla="*/ 74880 w 74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51" h="71">
                <a:moveTo>
                  <a:pt x="51" y="63"/>
                </a:moveTo>
                <a:lnTo>
                  <a:pt x="39" y="71"/>
                </a:lnTo>
                <a:lnTo>
                  <a:pt x="0" y="8"/>
                </a:lnTo>
                <a:lnTo>
                  <a:pt x="15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161"/>
          <p:cNvSpPr/>
          <p:nvPr/>
        </p:nvSpPr>
        <p:spPr>
          <a:xfrm>
            <a:off x="1649520" y="5011560"/>
            <a:ext cx="81000" cy="109800"/>
          </a:xfrm>
          <a:custGeom>
            <a:avLst/>
            <a:gdLst>
              <a:gd name="textAreaLeft" fmla="*/ 0 w 81000"/>
              <a:gd name="textAreaRight" fmla="*/ 81360 w 810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55" h="75">
                <a:moveTo>
                  <a:pt x="55" y="64"/>
                </a:moveTo>
                <a:lnTo>
                  <a:pt x="39" y="75"/>
                </a:lnTo>
                <a:lnTo>
                  <a:pt x="0" y="8"/>
                </a:lnTo>
                <a:lnTo>
                  <a:pt x="15" y="0"/>
                </a:lnTo>
                <a:lnTo>
                  <a:pt x="55" y="64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162"/>
          <p:cNvSpPr/>
          <p:nvPr/>
        </p:nvSpPr>
        <p:spPr>
          <a:xfrm>
            <a:off x="1984320" y="4554360"/>
            <a:ext cx="79560" cy="105120"/>
          </a:xfrm>
          <a:custGeom>
            <a:avLst/>
            <a:gdLst>
              <a:gd name="textAreaLeft" fmla="*/ 0 w 79560"/>
              <a:gd name="textAreaRight" fmla="*/ 79920 w 79560"/>
              <a:gd name="textAreaTop" fmla="*/ 0 h 105120"/>
              <a:gd name="textAreaBottom" fmla="*/ 105480 h 105120"/>
            </a:gdLst>
            <a:ahLst/>
            <a:rect l="textAreaLeft" t="textAreaTop" r="textAreaRight" b="textAreaBottom"/>
            <a:pathLst>
              <a:path w="55" h="71">
                <a:moveTo>
                  <a:pt x="55" y="63"/>
                </a:moveTo>
                <a:lnTo>
                  <a:pt x="39" y="71"/>
                </a:lnTo>
                <a:lnTo>
                  <a:pt x="0" y="8"/>
                </a:lnTo>
                <a:lnTo>
                  <a:pt x="16" y="0"/>
                </a:lnTo>
                <a:lnTo>
                  <a:pt x="55" y="63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163"/>
          <p:cNvSpPr/>
          <p:nvPr/>
        </p:nvSpPr>
        <p:spPr>
          <a:xfrm>
            <a:off x="1936800" y="4635360"/>
            <a:ext cx="81000" cy="111240"/>
          </a:xfrm>
          <a:custGeom>
            <a:avLst/>
            <a:gdLst>
              <a:gd name="textAreaLeft" fmla="*/ 0 w 81000"/>
              <a:gd name="textAreaRight" fmla="*/ 81360 w 810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55" h="75">
                <a:moveTo>
                  <a:pt x="55" y="67"/>
                </a:moveTo>
                <a:lnTo>
                  <a:pt x="40" y="75"/>
                </a:lnTo>
                <a:lnTo>
                  <a:pt x="0" y="12"/>
                </a:lnTo>
                <a:lnTo>
                  <a:pt x="16" y="0"/>
                </a:lnTo>
                <a:lnTo>
                  <a:pt x="55" y="67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164"/>
          <p:cNvSpPr/>
          <p:nvPr/>
        </p:nvSpPr>
        <p:spPr>
          <a:xfrm>
            <a:off x="1897200" y="4676760"/>
            <a:ext cx="109440" cy="57240"/>
          </a:xfrm>
          <a:custGeom>
            <a:avLst/>
            <a:gdLst>
              <a:gd name="textAreaLeft" fmla="*/ 0 w 109440"/>
              <a:gd name="textAreaRight" fmla="*/ 109800 w 1094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75" h="39">
                <a:moveTo>
                  <a:pt x="75" y="24"/>
                </a:moveTo>
                <a:lnTo>
                  <a:pt x="71" y="39"/>
                </a:lnTo>
                <a:lnTo>
                  <a:pt x="0" y="16"/>
                </a:lnTo>
                <a:lnTo>
                  <a:pt x="4" y="0"/>
                </a:lnTo>
                <a:lnTo>
                  <a:pt x="75" y="24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65"/>
          <p:cNvSpPr/>
          <p:nvPr/>
        </p:nvSpPr>
        <p:spPr>
          <a:xfrm>
            <a:off x="1689120" y="4965840"/>
            <a:ext cx="74520" cy="104760"/>
          </a:xfrm>
          <a:custGeom>
            <a:avLst/>
            <a:gdLst>
              <a:gd name="textAreaLeft" fmla="*/ 0 w 74520"/>
              <a:gd name="textAreaRight" fmla="*/ 74880 w 7452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51" h="71">
                <a:moveTo>
                  <a:pt x="51" y="63"/>
                </a:moveTo>
                <a:lnTo>
                  <a:pt x="36" y="71"/>
                </a:lnTo>
                <a:lnTo>
                  <a:pt x="0" y="8"/>
                </a:lnTo>
                <a:lnTo>
                  <a:pt x="16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166"/>
          <p:cNvSpPr/>
          <p:nvPr/>
        </p:nvSpPr>
        <p:spPr>
          <a:xfrm>
            <a:off x="1752480" y="4873680"/>
            <a:ext cx="109800" cy="63360"/>
          </a:xfrm>
          <a:custGeom>
            <a:avLst/>
            <a:gdLst>
              <a:gd name="textAreaLeft" fmla="*/ 0 w 109800"/>
              <a:gd name="textAreaRight" fmla="*/ 110160 w 10980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4" h="43">
                <a:moveTo>
                  <a:pt x="74" y="28"/>
                </a:moveTo>
                <a:lnTo>
                  <a:pt x="66" y="43"/>
                </a:lnTo>
                <a:lnTo>
                  <a:pt x="0" y="20"/>
                </a:lnTo>
                <a:lnTo>
                  <a:pt x="3" y="0"/>
                </a:lnTo>
                <a:lnTo>
                  <a:pt x="74" y="28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167"/>
          <p:cNvSpPr/>
          <p:nvPr/>
        </p:nvSpPr>
        <p:spPr>
          <a:xfrm>
            <a:off x="1290600" y="5470560"/>
            <a:ext cx="81000" cy="103320"/>
          </a:xfrm>
          <a:custGeom>
            <a:avLst/>
            <a:gdLst>
              <a:gd name="textAreaLeft" fmla="*/ 0 w 81000"/>
              <a:gd name="textAreaRight" fmla="*/ 81360 w 8100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55" h="71">
                <a:moveTo>
                  <a:pt x="55" y="63"/>
                </a:moveTo>
                <a:lnTo>
                  <a:pt x="39" y="71"/>
                </a:lnTo>
                <a:lnTo>
                  <a:pt x="0" y="8"/>
                </a:lnTo>
                <a:lnTo>
                  <a:pt x="16" y="0"/>
                </a:lnTo>
                <a:lnTo>
                  <a:pt x="55" y="63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168"/>
          <p:cNvSpPr/>
          <p:nvPr/>
        </p:nvSpPr>
        <p:spPr>
          <a:xfrm>
            <a:off x="1314360" y="5423040"/>
            <a:ext cx="108000" cy="58680"/>
          </a:xfrm>
          <a:custGeom>
            <a:avLst/>
            <a:gdLst>
              <a:gd name="textAreaLeft" fmla="*/ 0 w 108000"/>
              <a:gd name="textAreaRight" fmla="*/ 108360 w 1080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74" h="40">
                <a:moveTo>
                  <a:pt x="74" y="24"/>
                </a:moveTo>
                <a:lnTo>
                  <a:pt x="71" y="40"/>
                </a:lnTo>
                <a:lnTo>
                  <a:pt x="0" y="16"/>
                </a:lnTo>
                <a:lnTo>
                  <a:pt x="8" y="0"/>
                </a:lnTo>
                <a:lnTo>
                  <a:pt x="74" y="24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169"/>
          <p:cNvSpPr/>
          <p:nvPr/>
        </p:nvSpPr>
        <p:spPr>
          <a:xfrm>
            <a:off x="1209600" y="5580000"/>
            <a:ext cx="109440" cy="57240"/>
          </a:xfrm>
          <a:custGeom>
            <a:avLst/>
            <a:gdLst>
              <a:gd name="textAreaLeft" fmla="*/ 0 w 109440"/>
              <a:gd name="textAreaRight" fmla="*/ 109800 w 1094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75" h="39">
                <a:moveTo>
                  <a:pt x="75" y="23"/>
                </a:moveTo>
                <a:lnTo>
                  <a:pt x="71" y="39"/>
                </a:lnTo>
                <a:lnTo>
                  <a:pt x="0" y="15"/>
                </a:lnTo>
                <a:lnTo>
                  <a:pt x="4" y="0"/>
                </a:lnTo>
                <a:lnTo>
                  <a:pt x="75" y="23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170"/>
          <p:cNvSpPr/>
          <p:nvPr/>
        </p:nvSpPr>
        <p:spPr>
          <a:xfrm>
            <a:off x="2722680" y="5300640"/>
            <a:ext cx="74520" cy="109440"/>
          </a:xfrm>
          <a:custGeom>
            <a:avLst/>
            <a:gdLst>
              <a:gd name="textAreaLeft" fmla="*/ 0 w 74520"/>
              <a:gd name="textAreaRight" fmla="*/ 74880 w 745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51" h="75">
                <a:moveTo>
                  <a:pt x="0" y="63"/>
                </a:moveTo>
                <a:lnTo>
                  <a:pt x="16" y="75"/>
                </a:lnTo>
                <a:lnTo>
                  <a:pt x="51" y="12"/>
                </a:lnTo>
                <a:lnTo>
                  <a:pt x="35" y="0"/>
                </a:lnTo>
                <a:lnTo>
                  <a:pt x="0" y="63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171"/>
          <p:cNvSpPr/>
          <p:nvPr/>
        </p:nvSpPr>
        <p:spPr>
          <a:xfrm>
            <a:off x="2617920" y="5181480"/>
            <a:ext cx="74520" cy="103320"/>
          </a:xfrm>
          <a:custGeom>
            <a:avLst/>
            <a:gdLst>
              <a:gd name="textAreaLeft" fmla="*/ 0 w 74520"/>
              <a:gd name="textAreaRight" fmla="*/ 74880 w 7452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2" y="71"/>
                </a:lnTo>
                <a:lnTo>
                  <a:pt x="51" y="8"/>
                </a:lnTo>
                <a:lnTo>
                  <a:pt x="36" y="0"/>
                </a:lnTo>
                <a:lnTo>
                  <a:pt x="0" y="63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172"/>
          <p:cNvSpPr/>
          <p:nvPr/>
        </p:nvSpPr>
        <p:spPr>
          <a:xfrm>
            <a:off x="2624040" y="5214960"/>
            <a:ext cx="115920" cy="58680"/>
          </a:xfrm>
          <a:custGeom>
            <a:avLst/>
            <a:gdLst>
              <a:gd name="textAreaLeft" fmla="*/ 0 w 115920"/>
              <a:gd name="textAreaRight" fmla="*/ 115920 w 11592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79" h="40">
                <a:moveTo>
                  <a:pt x="0" y="24"/>
                </a:moveTo>
                <a:lnTo>
                  <a:pt x="8" y="40"/>
                </a:lnTo>
                <a:lnTo>
                  <a:pt x="79" y="16"/>
                </a:lnTo>
                <a:lnTo>
                  <a:pt x="71" y="0"/>
                </a:lnTo>
                <a:lnTo>
                  <a:pt x="0" y="24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173"/>
          <p:cNvSpPr/>
          <p:nvPr/>
        </p:nvSpPr>
        <p:spPr>
          <a:xfrm>
            <a:off x="2301840" y="4764240"/>
            <a:ext cx="74520" cy="102960"/>
          </a:xfrm>
          <a:custGeom>
            <a:avLst/>
            <a:gdLst>
              <a:gd name="textAreaLeft" fmla="*/ 0 w 74520"/>
              <a:gd name="textAreaRight" fmla="*/ 74880 w 74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2" y="71"/>
                </a:lnTo>
                <a:lnTo>
                  <a:pt x="51" y="8"/>
                </a:lnTo>
                <a:lnTo>
                  <a:pt x="35" y="0"/>
                </a:lnTo>
                <a:lnTo>
                  <a:pt x="0" y="63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174"/>
          <p:cNvSpPr/>
          <p:nvPr/>
        </p:nvSpPr>
        <p:spPr>
          <a:xfrm>
            <a:off x="2479680" y="5011560"/>
            <a:ext cx="81000" cy="109800"/>
          </a:xfrm>
          <a:custGeom>
            <a:avLst/>
            <a:gdLst>
              <a:gd name="textAreaLeft" fmla="*/ 0 w 81000"/>
              <a:gd name="textAreaRight" fmla="*/ 81360 w 810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55" h="75">
                <a:moveTo>
                  <a:pt x="0" y="64"/>
                </a:moveTo>
                <a:lnTo>
                  <a:pt x="16" y="75"/>
                </a:lnTo>
                <a:lnTo>
                  <a:pt x="55" y="8"/>
                </a:lnTo>
                <a:lnTo>
                  <a:pt x="39" y="0"/>
                </a:lnTo>
                <a:lnTo>
                  <a:pt x="0" y="64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175"/>
          <p:cNvSpPr/>
          <p:nvPr/>
        </p:nvSpPr>
        <p:spPr>
          <a:xfrm>
            <a:off x="2151000" y="4554360"/>
            <a:ext cx="74520" cy="105120"/>
          </a:xfrm>
          <a:custGeom>
            <a:avLst/>
            <a:gdLst>
              <a:gd name="textAreaLeft" fmla="*/ 0 w 74520"/>
              <a:gd name="textAreaRight" fmla="*/ 74880 w 74520"/>
              <a:gd name="textAreaTop" fmla="*/ 0 h 105120"/>
              <a:gd name="textAreaBottom" fmla="*/ 105480 h 10512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2" y="71"/>
                </a:lnTo>
                <a:lnTo>
                  <a:pt x="51" y="8"/>
                </a:lnTo>
                <a:lnTo>
                  <a:pt x="35" y="0"/>
                </a:lnTo>
                <a:lnTo>
                  <a:pt x="0" y="63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176"/>
          <p:cNvSpPr/>
          <p:nvPr/>
        </p:nvSpPr>
        <p:spPr>
          <a:xfrm>
            <a:off x="2190600" y="4635360"/>
            <a:ext cx="81000" cy="111240"/>
          </a:xfrm>
          <a:custGeom>
            <a:avLst/>
            <a:gdLst>
              <a:gd name="textAreaLeft" fmla="*/ 0 w 81000"/>
              <a:gd name="textAreaRight" fmla="*/ 81360 w 810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55" h="75">
                <a:moveTo>
                  <a:pt x="0" y="67"/>
                </a:moveTo>
                <a:lnTo>
                  <a:pt x="16" y="75"/>
                </a:lnTo>
                <a:lnTo>
                  <a:pt x="55" y="12"/>
                </a:lnTo>
                <a:lnTo>
                  <a:pt x="40" y="0"/>
                </a:lnTo>
                <a:lnTo>
                  <a:pt x="0" y="67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177"/>
          <p:cNvSpPr/>
          <p:nvPr/>
        </p:nvSpPr>
        <p:spPr>
          <a:xfrm>
            <a:off x="2203560" y="4676760"/>
            <a:ext cx="109440" cy="57240"/>
          </a:xfrm>
          <a:custGeom>
            <a:avLst/>
            <a:gdLst>
              <a:gd name="textAreaLeft" fmla="*/ 0 w 109440"/>
              <a:gd name="textAreaRight" fmla="*/ 109800 w 1094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75" h="39">
                <a:moveTo>
                  <a:pt x="0" y="24"/>
                </a:moveTo>
                <a:lnTo>
                  <a:pt x="8" y="39"/>
                </a:lnTo>
                <a:lnTo>
                  <a:pt x="75" y="16"/>
                </a:lnTo>
                <a:lnTo>
                  <a:pt x="71" y="0"/>
                </a:lnTo>
                <a:lnTo>
                  <a:pt x="0" y="24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178"/>
          <p:cNvSpPr/>
          <p:nvPr/>
        </p:nvSpPr>
        <p:spPr>
          <a:xfrm>
            <a:off x="2444760" y="4965840"/>
            <a:ext cx="74520" cy="104760"/>
          </a:xfrm>
          <a:custGeom>
            <a:avLst/>
            <a:gdLst>
              <a:gd name="textAreaLeft" fmla="*/ 0 w 74520"/>
              <a:gd name="textAreaRight" fmla="*/ 74880 w 7452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6" y="71"/>
                </a:lnTo>
                <a:lnTo>
                  <a:pt x="51" y="8"/>
                </a:lnTo>
                <a:lnTo>
                  <a:pt x="36" y="0"/>
                </a:lnTo>
                <a:lnTo>
                  <a:pt x="0" y="63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179"/>
          <p:cNvSpPr/>
          <p:nvPr/>
        </p:nvSpPr>
        <p:spPr>
          <a:xfrm>
            <a:off x="2346480" y="4873680"/>
            <a:ext cx="109440" cy="63360"/>
          </a:xfrm>
          <a:custGeom>
            <a:avLst/>
            <a:gdLst>
              <a:gd name="textAreaLeft" fmla="*/ 0 w 109440"/>
              <a:gd name="textAreaRight" fmla="*/ 109800 w 10944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5" h="43">
                <a:moveTo>
                  <a:pt x="0" y="28"/>
                </a:moveTo>
                <a:lnTo>
                  <a:pt x="8" y="43"/>
                </a:lnTo>
                <a:lnTo>
                  <a:pt x="75" y="20"/>
                </a:lnTo>
                <a:lnTo>
                  <a:pt x="71" y="0"/>
                </a:lnTo>
                <a:lnTo>
                  <a:pt x="0" y="28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180"/>
          <p:cNvSpPr/>
          <p:nvPr/>
        </p:nvSpPr>
        <p:spPr>
          <a:xfrm>
            <a:off x="2255760" y="5035680"/>
            <a:ext cx="96840" cy="98280"/>
          </a:xfrm>
          <a:custGeom>
            <a:avLst/>
            <a:gdLst>
              <a:gd name="textAreaLeft" fmla="*/ 0 w 96840"/>
              <a:gd name="textAreaRight" fmla="*/ 97200 w 9684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66" h="67">
                <a:moveTo>
                  <a:pt x="66" y="16"/>
                </a:moveTo>
                <a:lnTo>
                  <a:pt x="15" y="67"/>
                </a:lnTo>
                <a:lnTo>
                  <a:pt x="0" y="55"/>
                </a:lnTo>
                <a:lnTo>
                  <a:pt x="51" y="0"/>
                </a:lnTo>
                <a:lnTo>
                  <a:pt x="66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181"/>
          <p:cNvSpPr/>
          <p:nvPr/>
        </p:nvSpPr>
        <p:spPr>
          <a:xfrm>
            <a:off x="2146320" y="5035680"/>
            <a:ext cx="103320" cy="98280"/>
          </a:xfrm>
          <a:custGeom>
            <a:avLst/>
            <a:gdLst>
              <a:gd name="textAreaLeft" fmla="*/ 0 w 103320"/>
              <a:gd name="textAreaRight" fmla="*/ 103680 w 10332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71" h="67">
                <a:moveTo>
                  <a:pt x="71" y="16"/>
                </a:moveTo>
                <a:lnTo>
                  <a:pt x="16" y="67"/>
                </a:lnTo>
                <a:lnTo>
                  <a:pt x="0" y="55"/>
                </a:lnTo>
                <a:lnTo>
                  <a:pt x="55" y="0"/>
                </a:lnTo>
                <a:lnTo>
                  <a:pt x="71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182"/>
          <p:cNvSpPr/>
          <p:nvPr/>
        </p:nvSpPr>
        <p:spPr>
          <a:xfrm>
            <a:off x="2381400" y="5035680"/>
            <a:ext cx="104760" cy="98280"/>
          </a:xfrm>
          <a:custGeom>
            <a:avLst/>
            <a:gdLst>
              <a:gd name="textAreaLeft" fmla="*/ 0 w 104760"/>
              <a:gd name="textAreaRight" fmla="*/ 105120 w 1047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71" h="67">
                <a:moveTo>
                  <a:pt x="71" y="16"/>
                </a:moveTo>
                <a:lnTo>
                  <a:pt x="16" y="67"/>
                </a:lnTo>
                <a:lnTo>
                  <a:pt x="0" y="55"/>
                </a:lnTo>
                <a:lnTo>
                  <a:pt x="55" y="0"/>
                </a:lnTo>
                <a:lnTo>
                  <a:pt x="71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83"/>
          <p:cNvSpPr/>
          <p:nvPr/>
        </p:nvSpPr>
        <p:spPr>
          <a:xfrm>
            <a:off x="2197080" y="4781520"/>
            <a:ext cx="98280" cy="104760"/>
          </a:xfrm>
          <a:custGeom>
            <a:avLst/>
            <a:gdLst>
              <a:gd name="textAreaLeft" fmla="*/ 0 w 98280"/>
              <a:gd name="textAreaRight" fmla="*/ 98640 w 982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67" h="71">
                <a:moveTo>
                  <a:pt x="67" y="16"/>
                </a:moveTo>
                <a:lnTo>
                  <a:pt x="16" y="71"/>
                </a:lnTo>
                <a:lnTo>
                  <a:pt x="0" y="55"/>
                </a:lnTo>
                <a:lnTo>
                  <a:pt x="51" y="0"/>
                </a:lnTo>
                <a:lnTo>
                  <a:pt x="67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184"/>
          <p:cNvSpPr/>
          <p:nvPr/>
        </p:nvSpPr>
        <p:spPr>
          <a:xfrm>
            <a:off x="2109960" y="4694400"/>
            <a:ext cx="104760" cy="98280"/>
          </a:xfrm>
          <a:custGeom>
            <a:avLst/>
            <a:gdLst>
              <a:gd name="textAreaLeft" fmla="*/ 0 w 104760"/>
              <a:gd name="textAreaRight" fmla="*/ 105120 w 1047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71" h="67">
                <a:moveTo>
                  <a:pt x="71" y="16"/>
                </a:moveTo>
                <a:lnTo>
                  <a:pt x="16" y="67"/>
                </a:lnTo>
                <a:lnTo>
                  <a:pt x="0" y="55"/>
                </a:lnTo>
                <a:lnTo>
                  <a:pt x="55" y="0"/>
                </a:lnTo>
                <a:lnTo>
                  <a:pt x="71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185"/>
          <p:cNvSpPr/>
          <p:nvPr/>
        </p:nvSpPr>
        <p:spPr>
          <a:xfrm>
            <a:off x="2162160" y="4903920"/>
            <a:ext cx="103320" cy="102960"/>
          </a:xfrm>
          <a:custGeom>
            <a:avLst/>
            <a:gdLst>
              <a:gd name="textAreaLeft" fmla="*/ 0 w 103320"/>
              <a:gd name="textAreaRight" fmla="*/ 103680 w 1033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70" h="71">
                <a:moveTo>
                  <a:pt x="15" y="0"/>
                </a:moveTo>
                <a:lnTo>
                  <a:pt x="70" y="55"/>
                </a:lnTo>
                <a:lnTo>
                  <a:pt x="55" y="71"/>
                </a:lnTo>
                <a:lnTo>
                  <a:pt x="0" y="15"/>
                </a:lnTo>
                <a:lnTo>
                  <a:pt x="15" y="0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186"/>
          <p:cNvSpPr/>
          <p:nvPr/>
        </p:nvSpPr>
        <p:spPr>
          <a:xfrm>
            <a:off x="2289240" y="4890960"/>
            <a:ext cx="98280" cy="104760"/>
          </a:xfrm>
          <a:custGeom>
            <a:avLst/>
            <a:gdLst>
              <a:gd name="textAreaLeft" fmla="*/ 0 w 98280"/>
              <a:gd name="textAreaRight" fmla="*/ 98640 w 982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67" h="71">
                <a:moveTo>
                  <a:pt x="12" y="0"/>
                </a:moveTo>
                <a:lnTo>
                  <a:pt x="67" y="55"/>
                </a:lnTo>
                <a:lnTo>
                  <a:pt x="51" y="71"/>
                </a:lnTo>
                <a:lnTo>
                  <a:pt x="0" y="16"/>
                </a:lnTo>
                <a:lnTo>
                  <a:pt x="12" y="0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73"/>
          <p:cNvSpPr/>
          <p:nvPr/>
        </p:nvSpPr>
        <p:spPr>
          <a:xfrm>
            <a:off x="136440" y="6267600"/>
            <a:ext cx="8042400" cy="3999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393" h="69">
                <a:moveTo>
                  <a:pt x="1366" y="0"/>
                </a:moveTo>
                <a:cubicBezTo>
                  <a:pt x="28" y="0"/>
                  <a:pt x="28" y="0"/>
                  <a:pt x="28" y="0"/>
                </a:cubicBezTo>
                <a:cubicBezTo>
                  <a:pt x="13" y="0"/>
                  <a:pt x="0" y="12"/>
                  <a:pt x="0" y="27"/>
                </a:cubicBezTo>
                <a:cubicBezTo>
                  <a:pt x="0" y="69"/>
                  <a:pt x="0" y="69"/>
                  <a:pt x="0" y="69"/>
                </a:cubicBezTo>
                <a:cubicBezTo>
                  <a:pt x="1393" y="69"/>
                  <a:pt x="1393" y="69"/>
                  <a:pt x="1393" y="69"/>
                </a:cubicBezTo>
                <a:cubicBezTo>
                  <a:pt x="1393" y="27"/>
                  <a:pt x="1393" y="27"/>
                  <a:pt x="1393" y="27"/>
                </a:cubicBezTo>
                <a:cubicBezTo>
                  <a:pt x="1393" y="12"/>
                  <a:pt x="1381" y="0"/>
                  <a:pt x="1366" y="0"/>
                </a:cubicBezTo>
                <a:close/>
              </a:path>
            </a:pathLst>
          </a:custGeom>
          <a:solidFill>
            <a:srgbClr val="00c2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101"/>
          <p:cNvSpPr/>
          <p:nvPr/>
        </p:nvSpPr>
        <p:spPr>
          <a:xfrm>
            <a:off x="136440" y="6383160"/>
            <a:ext cx="8042400" cy="3765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560"/>
              <a:gd name="textAreaBottom" fmla="*/ 376920 h 376560"/>
            </a:gdLst>
            <a:ahLst/>
            <a:rect l="textAreaLeft" t="textAreaTop" r="textAreaRight" b="textAreaBottom"/>
            <a:pathLst>
              <a:path w="1393" h="65">
                <a:moveTo>
                  <a:pt x="1393" y="23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3"/>
                  <a:pt x="0" y="23"/>
                  <a:pt x="0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20" y="23"/>
                  <a:pt x="20" y="0"/>
                  <a:pt x="37" y="0"/>
                </a:cubicBezTo>
                <a:cubicBezTo>
                  <a:pt x="55" y="0"/>
                  <a:pt x="55" y="23"/>
                  <a:pt x="72" y="23"/>
                </a:cubicBezTo>
                <a:cubicBezTo>
                  <a:pt x="89" y="23"/>
                  <a:pt x="89" y="0"/>
                  <a:pt x="107" y="0"/>
                </a:cubicBezTo>
                <a:cubicBezTo>
                  <a:pt x="124" y="0"/>
                  <a:pt x="124" y="23"/>
                  <a:pt x="141" y="23"/>
                </a:cubicBezTo>
                <a:cubicBezTo>
                  <a:pt x="159" y="23"/>
                  <a:pt x="159" y="0"/>
                  <a:pt x="176" y="0"/>
                </a:cubicBezTo>
                <a:cubicBezTo>
                  <a:pt x="194" y="0"/>
                  <a:pt x="194" y="23"/>
                  <a:pt x="211" y="23"/>
                </a:cubicBezTo>
                <a:cubicBezTo>
                  <a:pt x="228" y="23"/>
                  <a:pt x="228" y="0"/>
                  <a:pt x="246" y="0"/>
                </a:cubicBezTo>
                <a:cubicBezTo>
                  <a:pt x="263" y="0"/>
                  <a:pt x="263" y="23"/>
                  <a:pt x="280" y="23"/>
                </a:cubicBezTo>
                <a:cubicBezTo>
                  <a:pt x="298" y="23"/>
                  <a:pt x="298" y="0"/>
                  <a:pt x="315" y="0"/>
                </a:cubicBezTo>
                <a:cubicBezTo>
                  <a:pt x="333" y="0"/>
                  <a:pt x="333" y="23"/>
                  <a:pt x="350" y="23"/>
                </a:cubicBezTo>
                <a:cubicBezTo>
                  <a:pt x="367" y="23"/>
                  <a:pt x="367" y="0"/>
                  <a:pt x="385" y="0"/>
                </a:cubicBezTo>
                <a:cubicBezTo>
                  <a:pt x="402" y="0"/>
                  <a:pt x="402" y="23"/>
                  <a:pt x="419" y="23"/>
                </a:cubicBezTo>
                <a:cubicBezTo>
                  <a:pt x="437" y="23"/>
                  <a:pt x="437" y="0"/>
                  <a:pt x="454" y="0"/>
                </a:cubicBezTo>
                <a:cubicBezTo>
                  <a:pt x="472" y="0"/>
                  <a:pt x="472" y="23"/>
                  <a:pt x="489" y="23"/>
                </a:cubicBezTo>
                <a:cubicBezTo>
                  <a:pt x="506" y="23"/>
                  <a:pt x="506" y="0"/>
                  <a:pt x="524" y="0"/>
                </a:cubicBezTo>
                <a:cubicBezTo>
                  <a:pt x="541" y="0"/>
                  <a:pt x="541" y="23"/>
                  <a:pt x="558" y="23"/>
                </a:cubicBezTo>
                <a:cubicBezTo>
                  <a:pt x="576" y="23"/>
                  <a:pt x="576" y="0"/>
                  <a:pt x="593" y="0"/>
                </a:cubicBezTo>
                <a:cubicBezTo>
                  <a:pt x="611" y="0"/>
                  <a:pt x="611" y="23"/>
                  <a:pt x="628" y="23"/>
                </a:cubicBezTo>
                <a:cubicBezTo>
                  <a:pt x="645" y="23"/>
                  <a:pt x="645" y="0"/>
                  <a:pt x="663" y="0"/>
                </a:cubicBezTo>
                <a:cubicBezTo>
                  <a:pt x="680" y="0"/>
                  <a:pt x="680" y="23"/>
                  <a:pt x="698" y="23"/>
                </a:cubicBezTo>
                <a:cubicBezTo>
                  <a:pt x="715" y="23"/>
                  <a:pt x="715" y="0"/>
                  <a:pt x="732" y="0"/>
                </a:cubicBezTo>
                <a:cubicBezTo>
                  <a:pt x="750" y="0"/>
                  <a:pt x="750" y="23"/>
                  <a:pt x="767" y="23"/>
                </a:cubicBezTo>
                <a:cubicBezTo>
                  <a:pt x="784" y="23"/>
                  <a:pt x="784" y="0"/>
                  <a:pt x="802" y="0"/>
                </a:cubicBezTo>
                <a:cubicBezTo>
                  <a:pt x="819" y="0"/>
                  <a:pt x="819" y="23"/>
                  <a:pt x="837" y="23"/>
                </a:cubicBezTo>
                <a:cubicBezTo>
                  <a:pt x="854" y="23"/>
                  <a:pt x="854" y="0"/>
                  <a:pt x="871" y="0"/>
                </a:cubicBezTo>
                <a:cubicBezTo>
                  <a:pt x="889" y="0"/>
                  <a:pt x="889" y="23"/>
                  <a:pt x="906" y="23"/>
                </a:cubicBezTo>
                <a:cubicBezTo>
                  <a:pt x="924" y="23"/>
                  <a:pt x="924" y="0"/>
                  <a:pt x="941" y="0"/>
                </a:cubicBezTo>
                <a:cubicBezTo>
                  <a:pt x="958" y="0"/>
                  <a:pt x="958" y="23"/>
                  <a:pt x="976" y="23"/>
                </a:cubicBezTo>
                <a:cubicBezTo>
                  <a:pt x="993" y="23"/>
                  <a:pt x="993" y="0"/>
                  <a:pt x="1011" y="0"/>
                </a:cubicBezTo>
                <a:cubicBezTo>
                  <a:pt x="1028" y="0"/>
                  <a:pt x="1028" y="23"/>
                  <a:pt x="1045" y="23"/>
                </a:cubicBezTo>
                <a:cubicBezTo>
                  <a:pt x="1063" y="23"/>
                  <a:pt x="1063" y="0"/>
                  <a:pt x="1080" y="0"/>
                </a:cubicBezTo>
                <a:cubicBezTo>
                  <a:pt x="1097" y="0"/>
                  <a:pt x="1097" y="23"/>
                  <a:pt x="1115" y="23"/>
                </a:cubicBezTo>
                <a:cubicBezTo>
                  <a:pt x="1132" y="23"/>
                  <a:pt x="1132" y="0"/>
                  <a:pt x="1150" y="0"/>
                </a:cubicBezTo>
                <a:cubicBezTo>
                  <a:pt x="1167" y="0"/>
                  <a:pt x="1167" y="23"/>
                  <a:pt x="1184" y="23"/>
                </a:cubicBezTo>
                <a:cubicBezTo>
                  <a:pt x="1202" y="23"/>
                  <a:pt x="1202" y="0"/>
                  <a:pt x="1219" y="0"/>
                </a:cubicBezTo>
                <a:cubicBezTo>
                  <a:pt x="1237" y="0"/>
                  <a:pt x="1237" y="23"/>
                  <a:pt x="1254" y="23"/>
                </a:cubicBezTo>
                <a:cubicBezTo>
                  <a:pt x="1271" y="23"/>
                  <a:pt x="1271" y="0"/>
                  <a:pt x="1289" y="0"/>
                </a:cubicBezTo>
                <a:cubicBezTo>
                  <a:pt x="1306" y="0"/>
                  <a:pt x="1306" y="23"/>
                  <a:pt x="1324" y="23"/>
                </a:cubicBezTo>
                <a:cubicBezTo>
                  <a:pt x="1341" y="23"/>
                  <a:pt x="1341" y="0"/>
                  <a:pt x="1358" y="0"/>
                </a:cubicBezTo>
                <a:cubicBezTo>
                  <a:pt x="1376" y="0"/>
                  <a:pt x="1376" y="23"/>
                  <a:pt x="1393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102"/>
          <p:cNvSpPr/>
          <p:nvPr/>
        </p:nvSpPr>
        <p:spPr>
          <a:xfrm>
            <a:off x="136440" y="6481800"/>
            <a:ext cx="8042400" cy="37620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1393" h="65">
                <a:moveTo>
                  <a:pt x="1393" y="22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2"/>
                  <a:pt x="0" y="22"/>
                  <a:pt x="0" y="22"/>
                </a:cubicBezTo>
                <a:cubicBezTo>
                  <a:pt x="2" y="22"/>
                  <a:pt x="2" y="22"/>
                  <a:pt x="2" y="22"/>
                </a:cubicBezTo>
                <a:cubicBezTo>
                  <a:pt x="20" y="22"/>
                  <a:pt x="20" y="0"/>
                  <a:pt x="37" y="0"/>
                </a:cubicBezTo>
                <a:cubicBezTo>
                  <a:pt x="55" y="0"/>
                  <a:pt x="55" y="22"/>
                  <a:pt x="72" y="22"/>
                </a:cubicBezTo>
                <a:cubicBezTo>
                  <a:pt x="89" y="22"/>
                  <a:pt x="89" y="0"/>
                  <a:pt x="107" y="0"/>
                </a:cubicBezTo>
                <a:cubicBezTo>
                  <a:pt x="124" y="0"/>
                  <a:pt x="124" y="22"/>
                  <a:pt x="141" y="22"/>
                </a:cubicBezTo>
                <a:cubicBezTo>
                  <a:pt x="159" y="22"/>
                  <a:pt x="159" y="0"/>
                  <a:pt x="176" y="0"/>
                </a:cubicBezTo>
                <a:cubicBezTo>
                  <a:pt x="194" y="0"/>
                  <a:pt x="194" y="22"/>
                  <a:pt x="211" y="22"/>
                </a:cubicBezTo>
                <a:cubicBezTo>
                  <a:pt x="228" y="22"/>
                  <a:pt x="228" y="0"/>
                  <a:pt x="246" y="0"/>
                </a:cubicBezTo>
                <a:cubicBezTo>
                  <a:pt x="263" y="0"/>
                  <a:pt x="263" y="22"/>
                  <a:pt x="280" y="22"/>
                </a:cubicBezTo>
                <a:cubicBezTo>
                  <a:pt x="298" y="22"/>
                  <a:pt x="298" y="0"/>
                  <a:pt x="315" y="0"/>
                </a:cubicBezTo>
                <a:cubicBezTo>
                  <a:pt x="333" y="0"/>
                  <a:pt x="333" y="22"/>
                  <a:pt x="350" y="22"/>
                </a:cubicBezTo>
                <a:cubicBezTo>
                  <a:pt x="367" y="22"/>
                  <a:pt x="367" y="0"/>
                  <a:pt x="385" y="0"/>
                </a:cubicBezTo>
                <a:cubicBezTo>
                  <a:pt x="402" y="0"/>
                  <a:pt x="402" y="22"/>
                  <a:pt x="419" y="22"/>
                </a:cubicBezTo>
                <a:cubicBezTo>
                  <a:pt x="437" y="22"/>
                  <a:pt x="437" y="0"/>
                  <a:pt x="454" y="0"/>
                </a:cubicBezTo>
                <a:cubicBezTo>
                  <a:pt x="472" y="0"/>
                  <a:pt x="472" y="22"/>
                  <a:pt x="489" y="22"/>
                </a:cubicBezTo>
                <a:cubicBezTo>
                  <a:pt x="506" y="22"/>
                  <a:pt x="506" y="0"/>
                  <a:pt x="524" y="0"/>
                </a:cubicBezTo>
                <a:cubicBezTo>
                  <a:pt x="541" y="0"/>
                  <a:pt x="541" y="22"/>
                  <a:pt x="558" y="22"/>
                </a:cubicBezTo>
                <a:cubicBezTo>
                  <a:pt x="576" y="22"/>
                  <a:pt x="576" y="0"/>
                  <a:pt x="593" y="0"/>
                </a:cubicBezTo>
                <a:cubicBezTo>
                  <a:pt x="611" y="0"/>
                  <a:pt x="611" y="22"/>
                  <a:pt x="628" y="22"/>
                </a:cubicBezTo>
                <a:cubicBezTo>
                  <a:pt x="645" y="22"/>
                  <a:pt x="645" y="0"/>
                  <a:pt x="663" y="0"/>
                </a:cubicBezTo>
                <a:cubicBezTo>
                  <a:pt x="680" y="0"/>
                  <a:pt x="680" y="22"/>
                  <a:pt x="698" y="22"/>
                </a:cubicBezTo>
                <a:cubicBezTo>
                  <a:pt x="715" y="22"/>
                  <a:pt x="715" y="0"/>
                  <a:pt x="732" y="0"/>
                </a:cubicBezTo>
                <a:cubicBezTo>
                  <a:pt x="750" y="0"/>
                  <a:pt x="750" y="22"/>
                  <a:pt x="767" y="22"/>
                </a:cubicBezTo>
                <a:cubicBezTo>
                  <a:pt x="784" y="22"/>
                  <a:pt x="784" y="0"/>
                  <a:pt x="802" y="0"/>
                </a:cubicBezTo>
                <a:cubicBezTo>
                  <a:pt x="819" y="0"/>
                  <a:pt x="819" y="22"/>
                  <a:pt x="837" y="22"/>
                </a:cubicBezTo>
                <a:cubicBezTo>
                  <a:pt x="854" y="22"/>
                  <a:pt x="854" y="0"/>
                  <a:pt x="871" y="0"/>
                </a:cubicBezTo>
                <a:cubicBezTo>
                  <a:pt x="889" y="0"/>
                  <a:pt x="889" y="22"/>
                  <a:pt x="906" y="22"/>
                </a:cubicBezTo>
                <a:cubicBezTo>
                  <a:pt x="924" y="22"/>
                  <a:pt x="924" y="0"/>
                  <a:pt x="941" y="0"/>
                </a:cubicBezTo>
                <a:cubicBezTo>
                  <a:pt x="958" y="0"/>
                  <a:pt x="958" y="22"/>
                  <a:pt x="976" y="22"/>
                </a:cubicBezTo>
                <a:cubicBezTo>
                  <a:pt x="993" y="22"/>
                  <a:pt x="993" y="0"/>
                  <a:pt x="1011" y="0"/>
                </a:cubicBezTo>
                <a:cubicBezTo>
                  <a:pt x="1028" y="0"/>
                  <a:pt x="1028" y="22"/>
                  <a:pt x="1045" y="22"/>
                </a:cubicBezTo>
                <a:cubicBezTo>
                  <a:pt x="1063" y="22"/>
                  <a:pt x="1063" y="0"/>
                  <a:pt x="1080" y="0"/>
                </a:cubicBezTo>
                <a:cubicBezTo>
                  <a:pt x="1097" y="0"/>
                  <a:pt x="1097" y="22"/>
                  <a:pt x="1115" y="22"/>
                </a:cubicBezTo>
                <a:cubicBezTo>
                  <a:pt x="1132" y="22"/>
                  <a:pt x="1132" y="0"/>
                  <a:pt x="1150" y="0"/>
                </a:cubicBezTo>
                <a:cubicBezTo>
                  <a:pt x="1167" y="0"/>
                  <a:pt x="1167" y="22"/>
                  <a:pt x="1184" y="22"/>
                </a:cubicBezTo>
                <a:cubicBezTo>
                  <a:pt x="1202" y="22"/>
                  <a:pt x="1202" y="0"/>
                  <a:pt x="1219" y="0"/>
                </a:cubicBezTo>
                <a:cubicBezTo>
                  <a:pt x="1237" y="0"/>
                  <a:pt x="1237" y="22"/>
                  <a:pt x="1254" y="22"/>
                </a:cubicBezTo>
                <a:cubicBezTo>
                  <a:pt x="1271" y="22"/>
                  <a:pt x="1271" y="0"/>
                  <a:pt x="1289" y="0"/>
                </a:cubicBezTo>
                <a:cubicBezTo>
                  <a:pt x="1306" y="0"/>
                  <a:pt x="1306" y="22"/>
                  <a:pt x="1324" y="22"/>
                </a:cubicBezTo>
                <a:cubicBezTo>
                  <a:pt x="1341" y="22"/>
                  <a:pt x="1341" y="0"/>
                  <a:pt x="1358" y="0"/>
                </a:cubicBezTo>
                <a:cubicBezTo>
                  <a:pt x="1376" y="0"/>
                  <a:pt x="1376" y="22"/>
                  <a:pt x="1393" y="22"/>
                </a:cubicBezTo>
                <a:close/>
              </a:path>
            </a:pathLst>
          </a:custGeom>
          <a:solidFill>
            <a:srgbClr val="39a1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103"/>
          <p:cNvSpPr/>
          <p:nvPr/>
        </p:nvSpPr>
        <p:spPr>
          <a:xfrm>
            <a:off x="136440" y="6654960"/>
            <a:ext cx="8042400" cy="20304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393" h="35">
                <a:moveTo>
                  <a:pt x="1358" y="0"/>
                </a:moveTo>
                <a:cubicBezTo>
                  <a:pt x="1341" y="0"/>
                  <a:pt x="1341" y="22"/>
                  <a:pt x="1324" y="22"/>
                </a:cubicBezTo>
                <a:cubicBezTo>
                  <a:pt x="1306" y="22"/>
                  <a:pt x="1306" y="0"/>
                  <a:pt x="1289" y="0"/>
                </a:cubicBezTo>
                <a:cubicBezTo>
                  <a:pt x="1271" y="0"/>
                  <a:pt x="1271" y="22"/>
                  <a:pt x="1254" y="22"/>
                </a:cubicBezTo>
                <a:cubicBezTo>
                  <a:pt x="1237" y="22"/>
                  <a:pt x="1237" y="0"/>
                  <a:pt x="1219" y="0"/>
                </a:cubicBezTo>
                <a:cubicBezTo>
                  <a:pt x="1202" y="0"/>
                  <a:pt x="1202" y="22"/>
                  <a:pt x="1184" y="22"/>
                </a:cubicBezTo>
                <a:cubicBezTo>
                  <a:pt x="1167" y="22"/>
                  <a:pt x="1167" y="0"/>
                  <a:pt x="1150" y="0"/>
                </a:cubicBezTo>
                <a:cubicBezTo>
                  <a:pt x="1132" y="0"/>
                  <a:pt x="1132" y="22"/>
                  <a:pt x="1115" y="22"/>
                </a:cubicBezTo>
                <a:cubicBezTo>
                  <a:pt x="1097" y="22"/>
                  <a:pt x="1097" y="0"/>
                  <a:pt x="1080" y="0"/>
                </a:cubicBezTo>
                <a:cubicBezTo>
                  <a:pt x="1063" y="0"/>
                  <a:pt x="1063" y="22"/>
                  <a:pt x="1045" y="22"/>
                </a:cubicBezTo>
                <a:cubicBezTo>
                  <a:pt x="1028" y="22"/>
                  <a:pt x="1028" y="0"/>
                  <a:pt x="1011" y="0"/>
                </a:cubicBezTo>
                <a:cubicBezTo>
                  <a:pt x="993" y="0"/>
                  <a:pt x="993" y="22"/>
                  <a:pt x="976" y="22"/>
                </a:cubicBezTo>
                <a:cubicBezTo>
                  <a:pt x="958" y="22"/>
                  <a:pt x="958" y="0"/>
                  <a:pt x="941" y="0"/>
                </a:cubicBezTo>
                <a:cubicBezTo>
                  <a:pt x="924" y="0"/>
                  <a:pt x="924" y="22"/>
                  <a:pt x="906" y="22"/>
                </a:cubicBezTo>
                <a:cubicBezTo>
                  <a:pt x="889" y="22"/>
                  <a:pt x="889" y="0"/>
                  <a:pt x="871" y="0"/>
                </a:cubicBezTo>
                <a:cubicBezTo>
                  <a:pt x="854" y="0"/>
                  <a:pt x="854" y="22"/>
                  <a:pt x="837" y="22"/>
                </a:cubicBezTo>
                <a:cubicBezTo>
                  <a:pt x="819" y="22"/>
                  <a:pt x="819" y="0"/>
                  <a:pt x="802" y="0"/>
                </a:cubicBezTo>
                <a:cubicBezTo>
                  <a:pt x="784" y="0"/>
                  <a:pt x="784" y="22"/>
                  <a:pt x="767" y="22"/>
                </a:cubicBezTo>
                <a:cubicBezTo>
                  <a:pt x="750" y="22"/>
                  <a:pt x="750" y="0"/>
                  <a:pt x="732" y="0"/>
                </a:cubicBezTo>
                <a:cubicBezTo>
                  <a:pt x="715" y="0"/>
                  <a:pt x="715" y="22"/>
                  <a:pt x="698" y="22"/>
                </a:cubicBezTo>
                <a:cubicBezTo>
                  <a:pt x="680" y="22"/>
                  <a:pt x="680" y="0"/>
                  <a:pt x="663" y="0"/>
                </a:cubicBezTo>
                <a:cubicBezTo>
                  <a:pt x="645" y="0"/>
                  <a:pt x="645" y="22"/>
                  <a:pt x="628" y="22"/>
                </a:cubicBezTo>
                <a:cubicBezTo>
                  <a:pt x="611" y="22"/>
                  <a:pt x="611" y="0"/>
                  <a:pt x="593" y="0"/>
                </a:cubicBezTo>
                <a:cubicBezTo>
                  <a:pt x="576" y="0"/>
                  <a:pt x="576" y="22"/>
                  <a:pt x="558" y="22"/>
                </a:cubicBezTo>
                <a:cubicBezTo>
                  <a:pt x="541" y="22"/>
                  <a:pt x="541" y="0"/>
                  <a:pt x="524" y="0"/>
                </a:cubicBezTo>
                <a:cubicBezTo>
                  <a:pt x="506" y="0"/>
                  <a:pt x="506" y="22"/>
                  <a:pt x="489" y="22"/>
                </a:cubicBezTo>
                <a:cubicBezTo>
                  <a:pt x="472" y="22"/>
                  <a:pt x="472" y="0"/>
                  <a:pt x="454" y="0"/>
                </a:cubicBezTo>
                <a:cubicBezTo>
                  <a:pt x="437" y="0"/>
                  <a:pt x="437" y="22"/>
                  <a:pt x="419" y="22"/>
                </a:cubicBezTo>
                <a:cubicBezTo>
                  <a:pt x="402" y="22"/>
                  <a:pt x="402" y="0"/>
                  <a:pt x="385" y="0"/>
                </a:cubicBezTo>
                <a:cubicBezTo>
                  <a:pt x="367" y="0"/>
                  <a:pt x="367" y="22"/>
                  <a:pt x="350" y="22"/>
                </a:cubicBezTo>
                <a:cubicBezTo>
                  <a:pt x="333" y="22"/>
                  <a:pt x="333" y="0"/>
                  <a:pt x="315" y="0"/>
                </a:cubicBezTo>
                <a:cubicBezTo>
                  <a:pt x="298" y="0"/>
                  <a:pt x="298" y="22"/>
                  <a:pt x="280" y="22"/>
                </a:cubicBezTo>
                <a:cubicBezTo>
                  <a:pt x="263" y="22"/>
                  <a:pt x="263" y="0"/>
                  <a:pt x="246" y="0"/>
                </a:cubicBezTo>
                <a:cubicBezTo>
                  <a:pt x="228" y="0"/>
                  <a:pt x="228" y="22"/>
                  <a:pt x="211" y="22"/>
                </a:cubicBezTo>
                <a:cubicBezTo>
                  <a:pt x="194" y="22"/>
                  <a:pt x="194" y="0"/>
                  <a:pt x="176" y="0"/>
                </a:cubicBezTo>
                <a:cubicBezTo>
                  <a:pt x="159" y="0"/>
                  <a:pt x="159" y="22"/>
                  <a:pt x="141" y="22"/>
                </a:cubicBezTo>
                <a:cubicBezTo>
                  <a:pt x="124" y="22"/>
                  <a:pt x="124" y="0"/>
                  <a:pt x="107" y="0"/>
                </a:cubicBezTo>
                <a:cubicBezTo>
                  <a:pt x="89" y="0"/>
                  <a:pt x="89" y="22"/>
                  <a:pt x="72" y="22"/>
                </a:cubicBezTo>
                <a:cubicBezTo>
                  <a:pt x="55" y="22"/>
                  <a:pt x="55" y="0"/>
                  <a:pt x="37" y="0"/>
                </a:cubicBezTo>
                <a:cubicBezTo>
                  <a:pt x="20" y="0"/>
                  <a:pt x="20" y="22"/>
                  <a:pt x="2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5"/>
                  <a:pt x="0" y="35"/>
                  <a:pt x="0" y="35"/>
                </a:cubicBezTo>
                <a:cubicBezTo>
                  <a:pt x="1393" y="35"/>
                  <a:pt x="1393" y="35"/>
                  <a:pt x="1393" y="35"/>
                </a:cubicBezTo>
                <a:cubicBezTo>
                  <a:pt x="1393" y="22"/>
                  <a:pt x="1393" y="22"/>
                  <a:pt x="1393" y="22"/>
                </a:cubicBezTo>
                <a:cubicBezTo>
                  <a:pt x="1376" y="22"/>
                  <a:pt x="1376" y="0"/>
                  <a:pt x="1358" y="0"/>
                </a:cubicBezTo>
                <a:close/>
              </a:path>
            </a:pathLst>
          </a:custGeom>
          <a:solidFill>
            <a:srgbClr val="005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MH_Others_1"/>
          <p:cNvSpPr/>
          <p:nvPr/>
        </p:nvSpPr>
        <p:spPr>
          <a:xfrm>
            <a:off x="905040" y="1871640"/>
            <a:ext cx="2460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112"/>
          <p:cNvSpPr/>
          <p:nvPr/>
        </p:nvSpPr>
        <p:spPr>
          <a:xfrm>
            <a:off x="1224000" y="5382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a79d"/>
                </a:solidFill>
                <a:latin typeface="微软雅黑"/>
                <a:ea typeface="微软雅黑"/>
              </a:rPr>
              <a:t>目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MH_Number_1"/>
          <p:cNvSpPr/>
          <p:nvPr/>
        </p:nvSpPr>
        <p:spPr>
          <a:xfrm>
            <a:off x="6575400" y="1711440"/>
            <a:ext cx="498600" cy="498240"/>
          </a:xfrm>
          <a:prstGeom prst="roundRect">
            <a:avLst>
              <a:gd name="adj" fmla="val 7611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MH_Entry_1"/>
          <p:cNvSpPr/>
          <p:nvPr/>
        </p:nvSpPr>
        <p:spPr>
          <a:xfrm>
            <a:off x="7245360" y="1711440"/>
            <a:ext cx="4027320" cy="498240"/>
          </a:xfrm>
          <a:prstGeom prst="roundRect">
            <a:avLst>
              <a:gd name="adj" fmla="val 912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MH_Entry_2"/>
          <p:cNvSpPr/>
          <p:nvPr/>
        </p:nvSpPr>
        <p:spPr>
          <a:xfrm>
            <a:off x="7245360" y="2540160"/>
            <a:ext cx="4027320" cy="498240"/>
          </a:xfrm>
          <a:prstGeom prst="roundRect">
            <a:avLst>
              <a:gd name="adj" fmla="val 9120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MH_Number_2"/>
          <p:cNvSpPr/>
          <p:nvPr/>
        </p:nvSpPr>
        <p:spPr>
          <a:xfrm>
            <a:off x="6575400" y="2540160"/>
            <a:ext cx="498600" cy="498240"/>
          </a:xfrm>
          <a:prstGeom prst="roundRect">
            <a:avLst>
              <a:gd name="adj" fmla="val 7611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MH_Number_1"/>
          <p:cNvSpPr/>
          <p:nvPr/>
        </p:nvSpPr>
        <p:spPr>
          <a:xfrm>
            <a:off x="6575400" y="3368520"/>
            <a:ext cx="498600" cy="498600"/>
          </a:xfrm>
          <a:prstGeom prst="roundRect">
            <a:avLst>
              <a:gd name="adj" fmla="val 7611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MH_Entry_1"/>
          <p:cNvSpPr/>
          <p:nvPr/>
        </p:nvSpPr>
        <p:spPr>
          <a:xfrm>
            <a:off x="7245360" y="336852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MH_Entry_2"/>
          <p:cNvSpPr/>
          <p:nvPr/>
        </p:nvSpPr>
        <p:spPr>
          <a:xfrm>
            <a:off x="7245360" y="4199040"/>
            <a:ext cx="4027320" cy="498240"/>
          </a:xfrm>
          <a:prstGeom prst="roundRect">
            <a:avLst>
              <a:gd name="adj" fmla="val 9120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MH_Number_2"/>
          <p:cNvSpPr/>
          <p:nvPr/>
        </p:nvSpPr>
        <p:spPr>
          <a:xfrm>
            <a:off x="6575400" y="4199040"/>
            <a:ext cx="498600" cy="498240"/>
          </a:xfrm>
          <a:prstGeom prst="roundRect">
            <a:avLst>
              <a:gd name="adj" fmla="val 7611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正五边形 5"/>
          <p:cNvSpPr/>
          <p:nvPr/>
        </p:nvSpPr>
        <p:spPr>
          <a:xfrm>
            <a:off x="2995560" y="1359000"/>
            <a:ext cx="831960" cy="790560"/>
          </a:xfrm>
          <a:prstGeom prst="pentagon">
            <a:avLst/>
          </a:prstGeom>
          <a:noFill/>
          <a:ln w="25560">
            <a:solidFill>
              <a:srgbClr val="0895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Freeform 72"/>
          <p:cNvSpPr/>
          <p:nvPr/>
        </p:nvSpPr>
        <p:spPr>
          <a:xfrm>
            <a:off x="3192480" y="1554120"/>
            <a:ext cx="484200" cy="485640"/>
          </a:xfrm>
          <a:custGeom>
            <a:avLst/>
            <a:gdLst>
              <a:gd name="textAreaLeft" fmla="*/ 0 w 484200"/>
              <a:gd name="textAreaRight" fmla="*/ 484560 w 4842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1" h="412">
                <a:moveTo>
                  <a:pt x="337" y="198"/>
                </a:moveTo>
                <a:cubicBezTo>
                  <a:pt x="316" y="198"/>
                  <a:pt x="298" y="206"/>
                  <a:pt x="284" y="220"/>
                </a:cubicBezTo>
                <a:cubicBezTo>
                  <a:pt x="249" y="185"/>
                  <a:pt x="249" y="185"/>
                  <a:pt x="249" y="185"/>
                </a:cubicBezTo>
                <a:cubicBezTo>
                  <a:pt x="270" y="166"/>
                  <a:pt x="283" y="138"/>
                  <a:pt x="283" y="107"/>
                </a:cubicBezTo>
                <a:cubicBezTo>
                  <a:pt x="283" y="48"/>
                  <a:pt x="235" y="0"/>
                  <a:pt x="176" y="0"/>
                </a:cubicBezTo>
                <a:cubicBezTo>
                  <a:pt x="117" y="0"/>
                  <a:pt x="68" y="48"/>
                  <a:pt x="68" y="107"/>
                </a:cubicBezTo>
                <a:cubicBezTo>
                  <a:pt x="68" y="144"/>
                  <a:pt x="88" y="177"/>
                  <a:pt x="116" y="196"/>
                </a:cubicBezTo>
                <a:cubicBezTo>
                  <a:pt x="96" y="266"/>
                  <a:pt x="96" y="266"/>
                  <a:pt x="96" y="266"/>
                </a:cubicBezTo>
                <a:cubicBezTo>
                  <a:pt x="89" y="264"/>
                  <a:pt x="82" y="263"/>
                  <a:pt x="74" y="263"/>
                </a:cubicBezTo>
                <a:cubicBezTo>
                  <a:pt x="33" y="263"/>
                  <a:pt x="0" y="296"/>
                  <a:pt x="0" y="337"/>
                </a:cubicBezTo>
                <a:cubicBezTo>
                  <a:pt x="0" y="378"/>
                  <a:pt x="33" y="412"/>
                  <a:pt x="74" y="412"/>
                </a:cubicBezTo>
                <a:cubicBezTo>
                  <a:pt x="115" y="412"/>
                  <a:pt x="149" y="378"/>
                  <a:pt x="149" y="337"/>
                </a:cubicBezTo>
                <a:cubicBezTo>
                  <a:pt x="149" y="309"/>
                  <a:pt x="133" y="284"/>
                  <a:pt x="110" y="272"/>
                </a:cubicBezTo>
                <a:cubicBezTo>
                  <a:pt x="130" y="204"/>
                  <a:pt x="130" y="204"/>
                  <a:pt x="130" y="204"/>
                </a:cubicBezTo>
                <a:cubicBezTo>
                  <a:pt x="144" y="210"/>
                  <a:pt x="159" y="214"/>
                  <a:pt x="176" y="214"/>
                </a:cubicBezTo>
                <a:cubicBezTo>
                  <a:pt x="199" y="214"/>
                  <a:pt x="220" y="207"/>
                  <a:pt x="238" y="195"/>
                </a:cubicBezTo>
                <a:cubicBezTo>
                  <a:pt x="275" y="232"/>
                  <a:pt x="275" y="232"/>
                  <a:pt x="275" y="232"/>
                </a:cubicBezTo>
                <a:cubicBezTo>
                  <a:pt x="267" y="243"/>
                  <a:pt x="262" y="257"/>
                  <a:pt x="262" y="273"/>
                </a:cubicBezTo>
                <a:cubicBezTo>
                  <a:pt x="262" y="314"/>
                  <a:pt x="296" y="347"/>
                  <a:pt x="337" y="347"/>
                </a:cubicBezTo>
                <a:cubicBezTo>
                  <a:pt x="378" y="347"/>
                  <a:pt x="411" y="314"/>
                  <a:pt x="411" y="273"/>
                </a:cubicBezTo>
                <a:cubicBezTo>
                  <a:pt x="411" y="231"/>
                  <a:pt x="378" y="198"/>
                  <a:pt x="337" y="198"/>
                </a:cubicBezTo>
                <a:close/>
                <a:moveTo>
                  <a:pt x="134" y="337"/>
                </a:moveTo>
                <a:cubicBezTo>
                  <a:pt x="134" y="370"/>
                  <a:pt x="107" y="397"/>
                  <a:pt x="74" y="397"/>
                </a:cubicBezTo>
                <a:cubicBezTo>
                  <a:pt x="41" y="397"/>
                  <a:pt x="14" y="370"/>
                  <a:pt x="14" y="337"/>
                </a:cubicBezTo>
                <a:cubicBezTo>
                  <a:pt x="14" y="304"/>
                  <a:pt x="41" y="278"/>
                  <a:pt x="74" y="278"/>
                </a:cubicBezTo>
                <a:cubicBezTo>
                  <a:pt x="107" y="278"/>
                  <a:pt x="134" y="304"/>
                  <a:pt x="134" y="337"/>
                </a:cubicBezTo>
                <a:close/>
                <a:moveTo>
                  <a:pt x="83" y="107"/>
                </a:moveTo>
                <a:cubicBezTo>
                  <a:pt x="83" y="56"/>
                  <a:pt x="125" y="14"/>
                  <a:pt x="176" y="14"/>
                </a:cubicBezTo>
                <a:cubicBezTo>
                  <a:pt x="227" y="14"/>
                  <a:pt x="268" y="56"/>
                  <a:pt x="268" y="107"/>
                </a:cubicBezTo>
                <a:cubicBezTo>
                  <a:pt x="268" y="158"/>
                  <a:pt x="227" y="200"/>
                  <a:pt x="176" y="200"/>
                </a:cubicBezTo>
                <a:cubicBezTo>
                  <a:pt x="125" y="200"/>
                  <a:pt x="83" y="158"/>
                  <a:pt x="83" y="107"/>
                </a:cubicBezTo>
                <a:close/>
                <a:moveTo>
                  <a:pt x="337" y="332"/>
                </a:moveTo>
                <a:cubicBezTo>
                  <a:pt x="304" y="332"/>
                  <a:pt x="277" y="306"/>
                  <a:pt x="277" y="273"/>
                </a:cubicBezTo>
                <a:cubicBezTo>
                  <a:pt x="277" y="240"/>
                  <a:pt x="304" y="213"/>
                  <a:pt x="337" y="213"/>
                </a:cubicBezTo>
                <a:cubicBezTo>
                  <a:pt x="370" y="213"/>
                  <a:pt x="397" y="240"/>
                  <a:pt x="397" y="273"/>
                </a:cubicBezTo>
                <a:cubicBezTo>
                  <a:pt x="397" y="306"/>
                  <a:pt x="370" y="332"/>
                  <a:pt x="337" y="332"/>
                </a:cubicBezTo>
                <a:close/>
              </a:path>
            </a:pathLst>
          </a:custGeom>
          <a:solidFill>
            <a:srgbClr val="0895be"/>
          </a:solidFill>
          <a:ln w="9360">
            <a:solidFill>
              <a:srgbClr val="0895b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正五边形 10"/>
          <p:cNvSpPr/>
          <p:nvPr/>
        </p:nvSpPr>
        <p:spPr>
          <a:xfrm>
            <a:off x="8183520" y="2565360"/>
            <a:ext cx="831960" cy="790560"/>
          </a:xfrm>
          <a:prstGeom prst="pentagon">
            <a:avLst/>
          </a:prstGeom>
          <a:noFill/>
          <a:ln w="25560">
            <a:solidFill>
              <a:srgbClr val="7562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reeform 13"/>
          <p:cNvSpPr/>
          <p:nvPr/>
        </p:nvSpPr>
        <p:spPr>
          <a:xfrm>
            <a:off x="8467560" y="2773440"/>
            <a:ext cx="263520" cy="482400"/>
          </a:xfrm>
          <a:custGeom>
            <a:avLst/>
            <a:gdLst>
              <a:gd name="textAreaLeft" fmla="*/ 0 w 263520"/>
              <a:gd name="textAreaRight" fmla="*/ 263880 w 263520"/>
              <a:gd name="textAreaTop" fmla="*/ 0 h 482400"/>
              <a:gd name="textAreaBottom" fmla="*/ 482760 h 482400"/>
            </a:gdLst>
            <a:ahLst/>
            <a:rect l="textAreaLeft" t="textAreaTop" r="textAreaRight" b="textAreaBottom"/>
            <a:pathLst>
              <a:path w="122" h="225">
                <a:moveTo>
                  <a:pt x="3" y="57"/>
                </a:moveTo>
                <a:cubicBezTo>
                  <a:pt x="1" y="59"/>
                  <a:pt x="1" y="62"/>
                  <a:pt x="2" y="65"/>
                </a:cubicBezTo>
                <a:cubicBezTo>
                  <a:pt x="3" y="69"/>
                  <a:pt x="3" y="69"/>
                  <a:pt x="3" y="69"/>
                </a:cubicBezTo>
                <a:cubicBezTo>
                  <a:pt x="4" y="74"/>
                  <a:pt x="9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6" y="77"/>
                  <a:pt x="17" y="76"/>
                </a:cubicBezTo>
                <a:cubicBezTo>
                  <a:pt x="112" y="48"/>
                  <a:pt x="112" y="48"/>
                  <a:pt x="112" y="48"/>
                </a:cubicBezTo>
                <a:cubicBezTo>
                  <a:pt x="115" y="47"/>
                  <a:pt x="118" y="45"/>
                  <a:pt x="119" y="42"/>
                </a:cubicBezTo>
                <a:cubicBezTo>
                  <a:pt x="120" y="40"/>
                  <a:pt x="121" y="37"/>
                  <a:pt x="120" y="34"/>
                </a:cubicBezTo>
                <a:cubicBezTo>
                  <a:pt x="119" y="30"/>
                  <a:pt x="119" y="30"/>
                  <a:pt x="119" y="30"/>
                </a:cubicBezTo>
                <a:cubicBezTo>
                  <a:pt x="117" y="25"/>
                  <a:pt x="113" y="22"/>
                  <a:pt x="108" y="22"/>
                </a:cubicBezTo>
                <a:cubicBezTo>
                  <a:pt x="107" y="22"/>
                  <a:pt x="106" y="22"/>
                  <a:pt x="105" y="23"/>
                </a:cubicBezTo>
                <a:cubicBezTo>
                  <a:pt x="9" y="51"/>
                  <a:pt x="9" y="51"/>
                  <a:pt x="9" y="51"/>
                </a:cubicBezTo>
                <a:cubicBezTo>
                  <a:pt x="6" y="52"/>
                  <a:pt x="4" y="54"/>
                  <a:pt x="3" y="57"/>
                </a:cubicBezTo>
                <a:close/>
                <a:moveTo>
                  <a:pt x="106" y="28"/>
                </a:moveTo>
                <a:cubicBezTo>
                  <a:pt x="107" y="28"/>
                  <a:pt x="107" y="28"/>
                  <a:pt x="108" y="28"/>
                </a:cubicBezTo>
                <a:cubicBezTo>
                  <a:pt x="110" y="28"/>
                  <a:pt x="112" y="30"/>
                  <a:pt x="113" y="32"/>
                </a:cubicBezTo>
                <a:cubicBezTo>
                  <a:pt x="114" y="35"/>
                  <a:pt x="114" y="35"/>
                  <a:pt x="114" y="35"/>
                </a:cubicBezTo>
                <a:cubicBezTo>
                  <a:pt x="115" y="37"/>
                  <a:pt x="114" y="38"/>
                  <a:pt x="114" y="40"/>
                </a:cubicBezTo>
                <a:cubicBezTo>
                  <a:pt x="113" y="41"/>
                  <a:pt x="112" y="42"/>
                  <a:pt x="111" y="42"/>
                </a:cubicBezTo>
                <a:cubicBezTo>
                  <a:pt x="15" y="71"/>
                  <a:pt x="15" y="71"/>
                  <a:pt x="15" y="71"/>
                </a:cubicBezTo>
                <a:cubicBezTo>
                  <a:pt x="15" y="71"/>
                  <a:pt x="14" y="71"/>
                  <a:pt x="14" y="71"/>
                </a:cubicBezTo>
                <a:cubicBezTo>
                  <a:pt x="14" y="71"/>
                  <a:pt x="14" y="71"/>
                  <a:pt x="14" y="71"/>
                </a:cubicBezTo>
                <a:cubicBezTo>
                  <a:pt x="11" y="71"/>
                  <a:pt x="9" y="69"/>
                  <a:pt x="9" y="67"/>
                </a:cubicBezTo>
                <a:cubicBezTo>
                  <a:pt x="8" y="63"/>
                  <a:pt x="8" y="63"/>
                  <a:pt x="8" y="63"/>
                </a:cubicBezTo>
                <a:cubicBezTo>
                  <a:pt x="7" y="62"/>
                  <a:pt x="7" y="61"/>
                  <a:pt x="8" y="59"/>
                </a:cubicBezTo>
                <a:cubicBezTo>
                  <a:pt x="9" y="58"/>
                  <a:pt x="10" y="57"/>
                  <a:pt x="11" y="57"/>
                </a:cubicBezTo>
                <a:lnTo>
                  <a:pt x="106" y="28"/>
                </a:lnTo>
                <a:close/>
                <a:moveTo>
                  <a:pt x="3" y="35"/>
                </a:moveTo>
                <a:cubicBezTo>
                  <a:pt x="4" y="40"/>
                  <a:pt x="9" y="43"/>
                  <a:pt x="14" y="43"/>
                </a:cubicBezTo>
                <a:cubicBezTo>
                  <a:pt x="15" y="43"/>
                  <a:pt x="16" y="43"/>
                  <a:pt x="17" y="43"/>
                </a:cubicBezTo>
                <a:cubicBezTo>
                  <a:pt x="66" y="28"/>
                  <a:pt x="66" y="28"/>
                  <a:pt x="66" y="28"/>
                </a:cubicBezTo>
                <a:cubicBezTo>
                  <a:pt x="72" y="26"/>
                  <a:pt x="76" y="19"/>
                  <a:pt x="74" y="13"/>
                </a:cubicBezTo>
                <a:cubicBezTo>
                  <a:pt x="73" y="10"/>
                  <a:pt x="73" y="10"/>
                  <a:pt x="73" y="10"/>
                </a:cubicBezTo>
                <a:cubicBezTo>
                  <a:pt x="71" y="4"/>
                  <a:pt x="65" y="0"/>
                  <a:pt x="59" y="2"/>
                </a:cubicBezTo>
                <a:cubicBezTo>
                  <a:pt x="9" y="17"/>
                  <a:pt x="9" y="17"/>
                  <a:pt x="9" y="17"/>
                </a:cubicBezTo>
                <a:cubicBezTo>
                  <a:pt x="3" y="19"/>
                  <a:pt x="0" y="25"/>
                  <a:pt x="2" y="31"/>
                </a:cubicBezTo>
                <a:lnTo>
                  <a:pt x="3" y="35"/>
                </a:lnTo>
                <a:close/>
                <a:moveTo>
                  <a:pt x="11" y="23"/>
                </a:move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2" y="8"/>
                  <a:pt x="62" y="8"/>
                </a:cubicBezTo>
                <a:cubicBezTo>
                  <a:pt x="64" y="8"/>
                  <a:pt x="67" y="9"/>
                  <a:pt x="67" y="12"/>
                </a:cubicBezTo>
                <a:cubicBezTo>
                  <a:pt x="68" y="15"/>
                  <a:pt x="68" y="15"/>
                  <a:pt x="68" y="15"/>
                </a:cubicBezTo>
                <a:cubicBezTo>
                  <a:pt x="69" y="18"/>
                  <a:pt x="68" y="21"/>
                  <a:pt x="65" y="22"/>
                </a:cubicBezTo>
                <a:cubicBezTo>
                  <a:pt x="15" y="37"/>
                  <a:pt x="15" y="37"/>
                  <a:pt x="15" y="37"/>
                </a:cubicBezTo>
                <a:cubicBezTo>
                  <a:pt x="15" y="37"/>
                  <a:pt x="14" y="37"/>
                  <a:pt x="14" y="37"/>
                </a:cubicBezTo>
                <a:cubicBezTo>
                  <a:pt x="11" y="37"/>
                  <a:pt x="9" y="36"/>
                  <a:pt x="9" y="33"/>
                </a:cubicBezTo>
                <a:cubicBezTo>
                  <a:pt x="8" y="30"/>
                  <a:pt x="8" y="30"/>
                  <a:pt x="8" y="30"/>
                </a:cubicBezTo>
                <a:cubicBezTo>
                  <a:pt x="7" y="27"/>
                  <a:pt x="8" y="24"/>
                  <a:pt x="11" y="23"/>
                </a:cubicBezTo>
                <a:close/>
                <a:moveTo>
                  <a:pt x="120" y="101"/>
                </a:moveTo>
                <a:cubicBezTo>
                  <a:pt x="119" y="97"/>
                  <a:pt x="119" y="97"/>
                  <a:pt x="119" y="97"/>
                </a:cubicBezTo>
                <a:cubicBezTo>
                  <a:pt x="117" y="92"/>
                  <a:pt x="110" y="88"/>
                  <a:pt x="105" y="90"/>
                </a:cubicBezTo>
                <a:cubicBezTo>
                  <a:pt x="82" y="96"/>
                  <a:pt x="82" y="96"/>
                  <a:pt x="82" y="96"/>
                </a:cubicBezTo>
                <a:cubicBezTo>
                  <a:pt x="76" y="98"/>
                  <a:pt x="72" y="104"/>
                  <a:pt x="72" y="110"/>
                </a:cubicBezTo>
                <a:cubicBezTo>
                  <a:pt x="72" y="138"/>
                  <a:pt x="72" y="138"/>
                  <a:pt x="72" y="138"/>
                </a:cubicBezTo>
                <a:cubicBezTo>
                  <a:pt x="55" y="138"/>
                  <a:pt x="55" y="138"/>
                  <a:pt x="55" y="138"/>
                </a:cubicBezTo>
                <a:cubicBezTo>
                  <a:pt x="55" y="106"/>
                  <a:pt x="55" y="106"/>
                  <a:pt x="55" y="106"/>
                </a:cubicBezTo>
                <a:cubicBezTo>
                  <a:pt x="55" y="104"/>
                  <a:pt x="54" y="101"/>
                  <a:pt x="53" y="99"/>
                </a:cubicBezTo>
                <a:cubicBezTo>
                  <a:pt x="112" y="82"/>
                  <a:pt x="112" y="82"/>
                  <a:pt x="112" y="82"/>
                </a:cubicBezTo>
                <a:cubicBezTo>
                  <a:pt x="115" y="81"/>
                  <a:pt x="118" y="79"/>
                  <a:pt x="119" y="76"/>
                </a:cubicBezTo>
                <a:cubicBezTo>
                  <a:pt x="120" y="73"/>
                  <a:pt x="121" y="70"/>
                  <a:pt x="120" y="67"/>
                </a:cubicBezTo>
                <a:cubicBezTo>
                  <a:pt x="119" y="64"/>
                  <a:pt x="119" y="64"/>
                  <a:pt x="119" y="64"/>
                </a:cubicBezTo>
                <a:cubicBezTo>
                  <a:pt x="117" y="58"/>
                  <a:pt x="110" y="54"/>
                  <a:pt x="105" y="56"/>
                </a:cubicBezTo>
                <a:cubicBezTo>
                  <a:pt x="9" y="85"/>
                  <a:pt x="9" y="85"/>
                  <a:pt x="9" y="85"/>
                </a:cubicBezTo>
                <a:cubicBezTo>
                  <a:pt x="6" y="86"/>
                  <a:pt x="4" y="88"/>
                  <a:pt x="3" y="90"/>
                </a:cubicBezTo>
                <a:cubicBezTo>
                  <a:pt x="1" y="92"/>
                  <a:pt x="1" y="95"/>
                  <a:pt x="1" y="97"/>
                </a:cubicBezTo>
                <a:cubicBezTo>
                  <a:pt x="2" y="98"/>
                  <a:pt x="2" y="98"/>
                  <a:pt x="2" y="99"/>
                </a:cubicBezTo>
                <a:cubicBezTo>
                  <a:pt x="3" y="102"/>
                  <a:pt x="3" y="102"/>
                  <a:pt x="3" y="102"/>
                </a:cubicBezTo>
                <a:cubicBezTo>
                  <a:pt x="4" y="106"/>
                  <a:pt x="7" y="109"/>
                  <a:pt x="10" y="110"/>
                </a:cubicBezTo>
                <a:cubicBezTo>
                  <a:pt x="11" y="110"/>
                  <a:pt x="11" y="110"/>
                  <a:pt x="11" y="110"/>
                </a:cubicBezTo>
                <a:cubicBezTo>
                  <a:pt x="23" y="113"/>
                  <a:pt x="23" y="113"/>
                  <a:pt x="23" y="113"/>
                </a:cubicBezTo>
                <a:cubicBezTo>
                  <a:pt x="26" y="114"/>
                  <a:pt x="28" y="118"/>
                  <a:pt x="28" y="121"/>
                </a:cubicBezTo>
                <a:cubicBezTo>
                  <a:pt x="28" y="138"/>
                  <a:pt x="28" y="138"/>
                  <a:pt x="28" y="138"/>
                </a:cubicBezTo>
                <a:cubicBezTo>
                  <a:pt x="17" y="138"/>
                  <a:pt x="17" y="138"/>
                  <a:pt x="17" y="138"/>
                </a:cubicBezTo>
                <a:cubicBezTo>
                  <a:pt x="17" y="187"/>
                  <a:pt x="17" y="187"/>
                  <a:pt x="17" y="187"/>
                </a:cubicBezTo>
                <a:cubicBezTo>
                  <a:pt x="17" y="199"/>
                  <a:pt x="28" y="208"/>
                  <a:pt x="40" y="209"/>
                </a:cubicBezTo>
                <a:cubicBezTo>
                  <a:pt x="40" y="214"/>
                  <a:pt x="40" y="214"/>
                  <a:pt x="40" y="214"/>
                </a:cubicBezTo>
                <a:cubicBezTo>
                  <a:pt x="40" y="220"/>
                  <a:pt x="46" y="225"/>
                  <a:pt x="53" y="225"/>
                </a:cubicBezTo>
                <a:cubicBezTo>
                  <a:pt x="74" y="225"/>
                  <a:pt x="74" y="225"/>
                  <a:pt x="74" y="225"/>
                </a:cubicBezTo>
                <a:cubicBezTo>
                  <a:pt x="81" y="225"/>
                  <a:pt x="87" y="220"/>
                  <a:pt x="87" y="214"/>
                </a:cubicBezTo>
                <a:cubicBezTo>
                  <a:pt x="87" y="209"/>
                  <a:pt x="87" y="209"/>
                  <a:pt x="87" y="209"/>
                </a:cubicBezTo>
                <a:cubicBezTo>
                  <a:pt x="99" y="208"/>
                  <a:pt x="110" y="199"/>
                  <a:pt x="110" y="187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99" y="138"/>
                  <a:pt x="99" y="138"/>
                  <a:pt x="99" y="138"/>
                </a:cubicBezTo>
                <a:cubicBezTo>
                  <a:pt x="99" y="125"/>
                  <a:pt x="99" y="125"/>
                  <a:pt x="99" y="125"/>
                </a:cubicBezTo>
                <a:cubicBezTo>
                  <a:pt x="99" y="122"/>
                  <a:pt x="101" y="118"/>
                  <a:pt x="104" y="117"/>
                </a:cubicBezTo>
                <a:cubicBezTo>
                  <a:pt x="112" y="115"/>
                  <a:pt x="112" y="115"/>
                  <a:pt x="112" y="115"/>
                </a:cubicBezTo>
                <a:cubicBezTo>
                  <a:pt x="118" y="113"/>
                  <a:pt x="122" y="107"/>
                  <a:pt x="120" y="101"/>
                </a:cubicBezTo>
                <a:close/>
                <a:moveTo>
                  <a:pt x="43" y="98"/>
                </a:moveTo>
                <a:cubicBezTo>
                  <a:pt x="45" y="99"/>
                  <a:pt x="46" y="100"/>
                  <a:pt x="47" y="101"/>
                </a:cubicBezTo>
                <a:cubicBezTo>
                  <a:pt x="48" y="103"/>
                  <a:pt x="49" y="104"/>
                  <a:pt x="49" y="106"/>
                </a:cubicBezTo>
                <a:cubicBezTo>
                  <a:pt x="49" y="138"/>
                  <a:pt x="49" y="138"/>
                  <a:pt x="49" y="138"/>
                </a:cubicBezTo>
                <a:cubicBezTo>
                  <a:pt x="35" y="138"/>
                  <a:pt x="35" y="138"/>
                  <a:pt x="35" y="138"/>
                </a:cubicBezTo>
                <a:cubicBezTo>
                  <a:pt x="35" y="121"/>
                  <a:pt x="35" y="121"/>
                  <a:pt x="35" y="121"/>
                </a:cubicBezTo>
                <a:cubicBezTo>
                  <a:pt x="35" y="116"/>
                  <a:pt x="30" y="110"/>
                  <a:pt x="25" y="108"/>
                </a:cubicBezTo>
                <a:cubicBezTo>
                  <a:pt x="25" y="108"/>
                  <a:pt x="24" y="108"/>
                  <a:pt x="24" y="108"/>
                </a:cubicBezTo>
                <a:cubicBezTo>
                  <a:pt x="13" y="104"/>
                  <a:pt x="13" y="104"/>
                  <a:pt x="13" y="104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0" y="104"/>
                  <a:pt x="9" y="102"/>
                  <a:pt x="9" y="101"/>
                </a:cubicBezTo>
                <a:cubicBezTo>
                  <a:pt x="8" y="97"/>
                  <a:pt x="8" y="97"/>
                  <a:pt x="8" y="97"/>
                </a:cubicBezTo>
                <a:cubicBezTo>
                  <a:pt x="8" y="97"/>
                  <a:pt x="8" y="97"/>
                  <a:pt x="8" y="97"/>
                </a:cubicBezTo>
                <a:cubicBezTo>
                  <a:pt x="7" y="96"/>
                  <a:pt x="7" y="94"/>
                  <a:pt x="8" y="93"/>
                </a:cubicBezTo>
                <a:cubicBezTo>
                  <a:pt x="9" y="92"/>
                  <a:pt x="10" y="91"/>
                  <a:pt x="11" y="90"/>
                </a:cubicBezTo>
                <a:cubicBezTo>
                  <a:pt x="12" y="90"/>
                  <a:pt x="12" y="90"/>
                  <a:pt x="12" y="90"/>
                </a:cubicBezTo>
                <a:cubicBezTo>
                  <a:pt x="13" y="90"/>
                  <a:pt x="13" y="90"/>
                  <a:pt x="13" y="90"/>
                </a:cubicBezTo>
                <a:cubicBezTo>
                  <a:pt x="24" y="86"/>
                  <a:pt x="24" y="86"/>
                  <a:pt x="24" y="86"/>
                </a:cubicBezTo>
                <a:cubicBezTo>
                  <a:pt x="106" y="62"/>
                  <a:pt x="106" y="62"/>
                  <a:pt x="106" y="62"/>
                </a:cubicBezTo>
                <a:cubicBezTo>
                  <a:pt x="107" y="62"/>
                  <a:pt x="107" y="62"/>
                  <a:pt x="108" y="62"/>
                </a:cubicBezTo>
                <a:cubicBezTo>
                  <a:pt x="110" y="62"/>
                  <a:pt x="112" y="63"/>
                  <a:pt x="113" y="66"/>
                </a:cubicBezTo>
                <a:cubicBezTo>
                  <a:pt x="114" y="69"/>
                  <a:pt x="114" y="69"/>
                  <a:pt x="114" y="69"/>
                </a:cubicBezTo>
                <a:cubicBezTo>
                  <a:pt x="115" y="71"/>
                  <a:pt x="114" y="72"/>
                  <a:pt x="114" y="73"/>
                </a:cubicBezTo>
                <a:cubicBezTo>
                  <a:pt x="113" y="74"/>
                  <a:pt x="112" y="75"/>
                  <a:pt x="111" y="76"/>
                </a:cubicBezTo>
                <a:cubicBezTo>
                  <a:pt x="49" y="94"/>
                  <a:pt x="49" y="94"/>
                  <a:pt x="49" y="94"/>
                </a:cubicBezTo>
                <a:cubicBezTo>
                  <a:pt x="39" y="97"/>
                  <a:pt x="43" y="98"/>
                  <a:pt x="43" y="98"/>
                </a:cubicBezTo>
                <a:close/>
                <a:moveTo>
                  <a:pt x="111" y="109"/>
                </a:moveTo>
                <a:cubicBezTo>
                  <a:pt x="103" y="111"/>
                  <a:pt x="103" y="111"/>
                  <a:pt x="103" y="111"/>
                </a:cubicBezTo>
                <a:cubicBezTo>
                  <a:pt x="97" y="113"/>
                  <a:pt x="92" y="119"/>
                  <a:pt x="92" y="125"/>
                </a:cubicBezTo>
                <a:cubicBezTo>
                  <a:pt x="92" y="138"/>
                  <a:pt x="92" y="138"/>
                  <a:pt x="92" y="138"/>
                </a:cubicBezTo>
                <a:cubicBezTo>
                  <a:pt x="78" y="138"/>
                  <a:pt x="78" y="138"/>
                  <a:pt x="78" y="138"/>
                </a:cubicBezTo>
                <a:cubicBezTo>
                  <a:pt x="78" y="110"/>
                  <a:pt x="78" y="110"/>
                  <a:pt x="78" y="110"/>
                </a:cubicBezTo>
                <a:cubicBezTo>
                  <a:pt x="78" y="107"/>
                  <a:pt x="81" y="103"/>
                  <a:pt x="84" y="102"/>
                </a:cubicBezTo>
                <a:cubicBezTo>
                  <a:pt x="106" y="96"/>
                  <a:pt x="106" y="96"/>
                  <a:pt x="106" y="96"/>
                </a:cubicBezTo>
                <a:cubicBezTo>
                  <a:pt x="109" y="95"/>
                  <a:pt x="112" y="96"/>
                  <a:pt x="113" y="99"/>
                </a:cubicBezTo>
                <a:cubicBezTo>
                  <a:pt x="114" y="103"/>
                  <a:pt x="114" y="103"/>
                  <a:pt x="114" y="103"/>
                </a:cubicBezTo>
                <a:cubicBezTo>
                  <a:pt x="115" y="106"/>
                  <a:pt x="113" y="109"/>
                  <a:pt x="111" y="109"/>
                </a:cubicBezTo>
                <a:close/>
              </a:path>
            </a:pathLst>
          </a:custGeom>
          <a:noFill/>
          <a:ln w="936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正五边形 9"/>
          <p:cNvSpPr/>
          <p:nvPr/>
        </p:nvSpPr>
        <p:spPr>
          <a:xfrm>
            <a:off x="6446880" y="1401840"/>
            <a:ext cx="831960" cy="792000"/>
          </a:xfrm>
          <a:prstGeom prst="pentagon">
            <a:avLst/>
          </a:prstGeom>
          <a:noFill/>
          <a:ln w="25560">
            <a:solidFill>
              <a:srgbClr val="b3d5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78"/>
          <p:cNvSpPr/>
          <p:nvPr/>
        </p:nvSpPr>
        <p:spPr>
          <a:xfrm>
            <a:off x="6676920" y="1652760"/>
            <a:ext cx="409680" cy="409320"/>
          </a:xfrm>
          <a:custGeom>
            <a:avLst/>
            <a:gdLst>
              <a:gd name="textAreaLeft" fmla="*/ 0 w 409680"/>
              <a:gd name="textAreaRight" fmla="*/ 410040 w 409680"/>
              <a:gd name="textAreaTop" fmla="*/ 0 h 409320"/>
              <a:gd name="textAreaBottom" fmla="*/ 409680 h 409320"/>
            </a:gdLst>
            <a:ahLst/>
            <a:rect l="textAreaLeft" t="textAreaTop" r="textAreaRight" b="textAreaBottom"/>
            <a:pathLst>
              <a:path w="347" h="347">
                <a:moveTo>
                  <a:pt x="174" y="0"/>
                </a:moveTo>
                <a:cubicBezTo>
                  <a:pt x="78" y="0"/>
                  <a:pt x="0" y="78"/>
                  <a:pt x="0" y="174"/>
                </a:cubicBezTo>
                <a:cubicBezTo>
                  <a:pt x="0" y="269"/>
                  <a:pt x="78" y="347"/>
                  <a:pt x="174" y="347"/>
                </a:cubicBezTo>
                <a:cubicBezTo>
                  <a:pt x="269" y="347"/>
                  <a:pt x="347" y="269"/>
                  <a:pt x="347" y="174"/>
                </a:cubicBezTo>
                <a:cubicBezTo>
                  <a:pt x="347" y="78"/>
                  <a:pt x="269" y="0"/>
                  <a:pt x="174" y="0"/>
                </a:cubicBezTo>
                <a:close/>
                <a:moveTo>
                  <a:pt x="332" y="166"/>
                </a:moveTo>
                <a:cubicBezTo>
                  <a:pt x="283" y="166"/>
                  <a:pt x="283" y="166"/>
                  <a:pt x="283" y="166"/>
                </a:cubicBezTo>
                <a:cubicBezTo>
                  <a:pt x="281" y="107"/>
                  <a:pt x="261" y="55"/>
                  <a:pt x="231" y="26"/>
                </a:cubicBezTo>
                <a:cubicBezTo>
                  <a:pt x="288" y="48"/>
                  <a:pt x="329" y="102"/>
                  <a:pt x="332" y="166"/>
                </a:cubicBezTo>
                <a:close/>
                <a:moveTo>
                  <a:pt x="174" y="332"/>
                </a:moveTo>
                <a:cubicBezTo>
                  <a:pt x="165" y="330"/>
                  <a:pt x="148" y="277"/>
                  <a:pt x="147" y="181"/>
                </a:cubicBezTo>
                <a:cubicBezTo>
                  <a:pt x="200" y="181"/>
                  <a:pt x="200" y="181"/>
                  <a:pt x="200" y="181"/>
                </a:cubicBezTo>
                <a:cubicBezTo>
                  <a:pt x="199" y="277"/>
                  <a:pt x="183" y="330"/>
                  <a:pt x="174" y="332"/>
                </a:cubicBezTo>
                <a:close/>
                <a:moveTo>
                  <a:pt x="147" y="166"/>
                </a:moveTo>
                <a:cubicBezTo>
                  <a:pt x="148" y="70"/>
                  <a:pt x="165" y="17"/>
                  <a:pt x="174" y="15"/>
                </a:cubicBezTo>
                <a:cubicBezTo>
                  <a:pt x="174" y="15"/>
                  <a:pt x="174" y="15"/>
                  <a:pt x="174" y="15"/>
                </a:cubicBezTo>
                <a:cubicBezTo>
                  <a:pt x="183" y="17"/>
                  <a:pt x="199" y="70"/>
                  <a:pt x="200" y="166"/>
                </a:cubicBezTo>
                <a:lnTo>
                  <a:pt x="147" y="166"/>
                </a:lnTo>
                <a:close/>
                <a:moveTo>
                  <a:pt x="153" y="19"/>
                </a:moveTo>
                <a:cubicBezTo>
                  <a:pt x="138" y="51"/>
                  <a:pt x="133" y="118"/>
                  <a:pt x="133" y="166"/>
                </a:cubicBezTo>
                <a:cubicBezTo>
                  <a:pt x="79" y="166"/>
                  <a:pt x="79" y="166"/>
                  <a:pt x="79" y="166"/>
                </a:cubicBezTo>
                <a:cubicBezTo>
                  <a:pt x="81" y="94"/>
                  <a:pt x="112" y="34"/>
                  <a:pt x="153" y="19"/>
                </a:cubicBezTo>
                <a:close/>
                <a:moveTo>
                  <a:pt x="133" y="181"/>
                </a:moveTo>
                <a:cubicBezTo>
                  <a:pt x="133" y="229"/>
                  <a:pt x="138" y="296"/>
                  <a:pt x="153" y="329"/>
                </a:cubicBezTo>
                <a:cubicBezTo>
                  <a:pt x="112" y="313"/>
                  <a:pt x="81" y="254"/>
                  <a:pt x="79" y="181"/>
                </a:cubicBezTo>
                <a:lnTo>
                  <a:pt x="133" y="181"/>
                </a:lnTo>
                <a:close/>
                <a:moveTo>
                  <a:pt x="194" y="329"/>
                </a:moveTo>
                <a:cubicBezTo>
                  <a:pt x="209" y="296"/>
                  <a:pt x="214" y="229"/>
                  <a:pt x="215" y="181"/>
                </a:cubicBezTo>
                <a:cubicBezTo>
                  <a:pt x="268" y="181"/>
                  <a:pt x="268" y="181"/>
                  <a:pt x="268" y="181"/>
                </a:cubicBezTo>
                <a:cubicBezTo>
                  <a:pt x="266" y="254"/>
                  <a:pt x="235" y="313"/>
                  <a:pt x="194" y="329"/>
                </a:cubicBezTo>
                <a:close/>
                <a:moveTo>
                  <a:pt x="215" y="166"/>
                </a:moveTo>
                <a:cubicBezTo>
                  <a:pt x="214" y="118"/>
                  <a:pt x="209" y="51"/>
                  <a:pt x="194" y="19"/>
                </a:cubicBezTo>
                <a:cubicBezTo>
                  <a:pt x="235" y="34"/>
                  <a:pt x="266" y="94"/>
                  <a:pt x="268" y="166"/>
                </a:cubicBezTo>
                <a:lnTo>
                  <a:pt x="215" y="166"/>
                </a:lnTo>
                <a:close/>
                <a:moveTo>
                  <a:pt x="117" y="26"/>
                </a:moveTo>
                <a:cubicBezTo>
                  <a:pt x="87" y="55"/>
                  <a:pt x="66" y="107"/>
                  <a:pt x="64" y="166"/>
                </a:cubicBezTo>
                <a:cubicBezTo>
                  <a:pt x="15" y="166"/>
                  <a:pt x="15" y="166"/>
                  <a:pt x="15" y="166"/>
                </a:cubicBezTo>
                <a:cubicBezTo>
                  <a:pt x="18" y="102"/>
                  <a:pt x="59" y="48"/>
                  <a:pt x="117" y="26"/>
                </a:cubicBezTo>
                <a:close/>
                <a:moveTo>
                  <a:pt x="15" y="181"/>
                </a:moveTo>
                <a:cubicBezTo>
                  <a:pt x="64" y="181"/>
                  <a:pt x="64" y="181"/>
                  <a:pt x="64" y="181"/>
                </a:cubicBezTo>
                <a:cubicBezTo>
                  <a:pt x="66" y="241"/>
                  <a:pt x="87" y="292"/>
                  <a:pt x="117" y="322"/>
                </a:cubicBezTo>
                <a:cubicBezTo>
                  <a:pt x="59" y="300"/>
                  <a:pt x="18" y="245"/>
                  <a:pt x="15" y="181"/>
                </a:cubicBezTo>
                <a:close/>
                <a:moveTo>
                  <a:pt x="231" y="322"/>
                </a:moveTo>
                <a:cubicBezTo>
                  <a:pt x="261" y="292"/>
                  <a:pt x="281" y="241"/>
                  <a:pt x="283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29" y="245"/>
                  <a:pt x="288" y="300"/>
                  <a:pt x="231" y="322"/>
                </a:cubicBezTo>
                <a:close/>
              </a:path>
            </a:pathLst>
          </a:custGeom>
          <a:solidFill>
            <a:srgbClr val="b3d53d"/>
          </a:solidFill>
          <a:ln w="9360">
            <a:solidFill>
              <a:srgbClr val="b3d53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正五边形 8"/>
          <p:cNvSpPr/>
          <p:nvPr/>
        </p:nvSpPr>
        <p:spPr>
          <a:xfrm>
            <a:off x="4724280" y="2565360"/>
            <a:ext cx="831960" cy="790560"/>
          </a:xfrm>
          <a:prstGeom prst="pentagon">
            <a:avLst/>
          </a:prstGeom>
          <a:noFill/>
          <a:ln w="25560">
            <a:solidFill>
              <a:srgbClr val="ffbf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77"/>
          <p:cNvSpPr/>
          <p:nvPr/>
        </p:nvSpPr>
        <p:spPr>
          <a:xfrm>
            <a:off x="4915080" y="2830680"/>
            <a:ext cx="485640" cy="333360"/>
          </a:xfrm>
          <a:custGeom>
            <a:avLst/>
            <a:gdLst>
              <a:gd name="textAreaLeft" fmla="*/ 0 w 485640"/>
              <a:gd name="textAreaRight" fmla="*/ 486000 w 4856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413" h="283">
                <a:moveTo>
                  <a:pt x="340" y="283"/>
                </a:moveTo>
                <a:cubicBezTo>
                  <a:pt x="73" y="283"/>
                  <a:pt x="73" y="283"/>
                  <a:pt x="73" y="283"/>
                </a:cubicBezTo>
                <a:cubicBezTo>
                  <a:pt x="73" y="283"/>
                  <a:pt x="72" y="283"/>
                  <a:pt x="72" y="283"/>
                </a:cubicBezTo>
                <a:cubicBezTo>
                  <a:pt x="32" y="282"/>
                  <a:pt x="0" y="249"/>
                  <a:pt x="0" y="209"/>
                </a:cubicBezTo>
                <a:cubicBezTo>
                  <a:pt x="0" y="169"/>
                  <a:pt x="31" y="137"/>
                  <a:pt x="70" y="135"/>
                </a:cubicBezTo>
                <a:cubicBezTo>
                  <a:pt x="67" y="126"/>
                  <a:pt x="66" y="117"/>
                  <a:pt x="66" y="107"/>
                </a:cubicBezTo>
                <a:cubicBezTo>
                  <a:pt x="66" y="48"/>
                  <a:pt x="114" y="0"/>
                  <a:pt x="173" y="0"/>
                </a:cubicBezTo>
                <a:cubicBezTo>
                  <a:pt x="217" y="0"/>
                  <a:pt x="257" y="27"/>
                  <a:pt x="273" y="69"/>
                </a:cubicBezTo>
                <a:cubicBezTo>
                  <a:pt x="273" y="69"/>
                  <a:pt x="273" y="69"/>
                  <a:pt x="273" y="69"/>
                </a:cubicBezTo>
                <a:cubicBezTo>
                  <a:pt x="311" y="69"/>
                  <a:pt x="343" y="98"/>
                  <a:pt x="346" y="135"/>
                </a:cubicBezTo>
                <a:cubicBezTo>
                  <a:pt x="384" y="139"/>
                  <a:pt x="413" y="171"/>
                  <a:pt x="413" y="209"/>
                </a:cubicBezTo>
                <a:cubicBezTo>
                  <a:pt x="413" y="249"/>
                  <a:pt x="381" y="282"/>
                  <a:pt x="341" y="283"/>
                </a:cubicBezTo>
                <a:cubicBezTo>
                  <a:pt x="340" y="283"/>
                  <a:pt x="340" y="283"/>
                  <a:pt x="340" y="283"/>
                </a:cubicBezTo>
                <a:close/>
                <a:moveTo>
                  <a:pt x="73" y="268"/>
                </a:moveTo>
                <a:cubicBezTo>
                  <a:pt x="339" y="268"/>
                  <a:pt x="339" y="268"/>
                  <a:pt x="339" y="268"/>
                </a:cubicBezTo>
                <a:cubicBezTo>
                  <a:pt x="339" y="268"/>
                  <a:pt x="340" y="268"/>
                  <a:pt x="340" y="268"/>
                </a:cubicBezTo>
                <a:cubicBezTo>
                  <a:pt x="372" y="268"/>
                  <a:pt x="398" y="241"/>
                  <a:pt x="398" y="209"/>
                </a:cubicBezTo>
                <a:cubicBezTo>
                  <a:pt x="398" y="176"/>
                  <a:pt x="372" y="150"/>
                  <a:pt x="339" y="150"/>
                </a:cubicBezTo>
                <a:cubicBezTo>
                  <a:pt x="335" y="150"/>
                  <a:pt x="332" y="146"/>
                  <a:pt x="332" y="142"/>
                </a:cubicBezTo>
                <a:cubicBezTo>
                  <a:pt x="332" y="110"/>
                  <a:pt x="305" y="83"/>
                  <a:pt x="273" y="83"/>
                </a:cubicBezTo>
                <a:cubicBezTo>
                  <a:pt x="271" y="83"/>
                  <a:pt x="270" y="83"/>
                  <a:pt x="268" y="84"/>
                </a:cubicBezTo>
                <a:cubicBezTo>
                  <a:pt x="265" y="84"/>
                  <a:pt x="262" y="82"/>
                  <a:pt x="261" y="79"/>
                </a:cubicBezTo>
                <a:cubicBezTo>
                  <a:pt x="248" y="40"/>
                  <a:pt x="213" y="15"/>
                  <a:pt x="173" y="15"/>
                </a:cubicBezTo>
                <a:cubicBezTo>
                  <a:pt x="122" y="15"/>
                  <a:pt x="81" y="56"/>
                  <a:pt x="81" y="107"/>
                </a:cubicBezTo>
                <a:cubicBezTo>
                  <a:pt x="81" y="118"/>
                  <a:pt x="83" y="129"/>
                  <a:pt x="87" y="140"/>
                </a:cubicBezTo>
                <a:cubicBezTo>
                  <a:pt x="88" y="142"/>
                  <a:pt x="87" y="145"/>
                  <a:pt x="86" y="147"/>
                </a:cubicBezTo>
                <a:cubicBezTo>
                  <a:pt x="84" y="149"/>
                  <a:pt x="82" y="150"/>
                  <a:pt x="79" y="150"/>
                </a:cubicBezTo>
                <a:cubicBezTo>
                  <a:pt x="77" y="150"/>
                  <a:pt x="75" y="150"/>
                  <a:pt x="73" y="150"/>
                </a:cubicBezTo>
                <a:cubicBezTo>
                  <a:pt x="41" y="150"/>
                  <a:pt x="14" y="176"/>
                  <a:pt x="14" y="209"/>
                </a:cubicBezTo>
                <a:cubicBezTo>
                  <a:pt x="14" y="241"/>
                  <a:pt x="41" y="268"/>
                  <a:pt x="73" y="268"/>
                </a:cubicBezTo>
                <a:cubicBezTo>
                  <a:pt x="73" y="268"/>
                  <a:pt x="73" y="268"/>
                  <a:pt x="73" y="268"/>
                </a:cubicBezTo>
                <a:close/>
              </a:path>
            </a:pathLst>
          </a:custGeom>
          <a:solidFill>
            <a:srgbClr val="ffbf17"/>
          </a:solidFill>
          <a:ln w="9360">
            <a:solidFill>
              <a:srgbClr val="ffbf1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直接连接符 19"/>
          <p:cNvSpPr/>
          <p:nvPr/>
        </p:nvSpPr>
        <p:spPr>
          <a:xfrm>
            <a:off x="3668760" y="2149560"/>
            <a:ext cx="1055520" cy="717480"/>
          </a:xfrm>
          <a:prstGeom prst="line">
            <a:avLst/>
          </a:prstGeom>
          <a:ln w="9360">
            <a:solidFill>
              <a:srgbClr val="0895b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直接连接符 21"/>
          <p:cNvSpPr/>
          <p:nvPr/>
        </p:nvSpPr>
        <p:spPr>
          <a:xfrm flipH="1">
            <a:off x="5555880" y="2193840"/>
            <a:ext cx="1049400" cy="673200"/>
          </a:xfrm>
          <a:prstGeom prst="line">
            <a:avLst/>
          </a:prstGeom>
          <a:ln w="9360">
            <a:solidFill>
              <a:srgbClr val="ffbf17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直接连接符 24"/>
          <p:cNvSpPr/>
          <p:nvPr/>
        </p:nvSpPr>
        <p:spPr>
          <a:xfrm flipH="1" flipV="1">
            <a:off x="7117920" y="2193840"/>
            <a:ext cx="1065240" cy="673200"/>
          </a:xfrm>
          <a:prstGeom prst="line">
            <a:avLst/>
          </a:prstGeom>
          <a:ln w="9360">
            <a:solidFill>
              <a:srgbClr val="b3d53d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7"/>
          <p:cNvSpPr/>
          <p:nvPr/>
        </p:nvSpPr>
        <p:spPr>
          <a:xfrm>
            <a:off x="2440080" y="250812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27"/>
          <p:cNvSpPr/>
          <p:nvPr/>
        </p:nvSpPr>
        <p:spPr>
          <a:xfrm>
            <a:off x="4168800" y="15541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28"/>
          <p:cNvSpPr/>
          <p:nvPr/>
        </p:nvSpPr>
        <p:spPr>
          <a:xfrm>
            <a:off x="5889600" y="26607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Box 29"/>
          <p:cNvSpPr/>
          <p:nvPr/>
        </p:nvSpPr>
        <p:spPr>
          <a:xfrm>
            <a:off x="7623000" y="15541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任意多边形 35"/>
          <p:cNvSpPr/>
          <p:nvPr/>
        </p:nvSpPr>
        <p:spPr>
          <a:xfrm>
            <a:off x="1670040" y="4314960"/>
            <a:ext cx="4757760" cy="563400"/>
          </a:xfrm>
          <a:prstGeom prst="pie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36"/>
          <p:cNvSpPr/>
          <p:nvPr/>
        </p:nvSpPr>
        <p:spPr>
          <a:xfrm>
            <a:off x="1670040" y="4873680"/>
            <a:ext cx="8713800" cy="1342800"/>
          </a:xfrm>
          <a:prstGeom prst="rect">
            <a:avLst/>
          </a:prstGeom>
          <a:noFill/>
          <a:ln w="12600">
            <a:solidFill>
              <a:srgbClr val="b3d5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矩形 37"/>
          <p:cNvSpPr/>
          <p:nvPr/>
        </p:nvSpPr>
        <p:spPr>
          <a:xfrm>
            <a:off x="1995480" y="5342400"/>
            <a:ext cx="81946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Freeform 5"/>
          <p:cNvSpPr/>
          <p:nvPr/>
        </p:nvSpPr>
        <p:spPr>
          <a:xfrm>
            <a:off x="2695680" y="1224000"/>
            <a:ext cx="2292120" cy="1955880"/>
          </a:xfrm>
          <a:custGeom>
            <a:avLst/>
            <a:gdLst>
              <a:gd name="textAreaLeft" fmla="*/ 0 w 2292120"/>
              <a:gd name="textAreaRight" fmla="*/ 2292480 w 2292120"/>
              <a:gd name="textAreaTop" fmla="*/ 0 h 1955880"/>
              <a:gd name="textAreaBottom" fmla="*/ 1956240 h 1955880"/>
            </a:gdLst>
            <a:ahLst/>
            <a:rect l="textAreaLeft" t="textAreaTop" r="textAreaRight" b="textAreaBottom"/>
            <a:pathLst>
              <a:path w="714" h="609">
                <a:moveTo>
                  <a:pt x="699" y="64"/>
                </a:moveTo>
                <a:cubicBezTo>
                  <a:pt x="697" y="56"/>
                  <a:pt x="697" y="56"/>
                  <a:pt x="697" y="56"/>
                </a:cubicBezTo>
                <a:cubicBezTo>
                  <a:pt x="689" y="43"/>
                  <a:pt x="689" y="43"/>
                  <a:pt x="689" y="43"/>
                </a:cubicBezTo>
                <a:cubicBezTo>
                  <a:pt x="683" y="40"/>
                  <a:pt x="683" y="40"/>
                  <a:pt x="683" y="40"/>
                </a:cubicBezTo>
                <a:cubicBezTo>
                  <a:pt x="677" y="43"/>
                  <a:pt x="677" y="43"/>
                  <a:pt x="677" y="43"/>
                </a:cubicBezTo>
                <a:cubicBezTo>
                  <a:pt x="674" y="50"/>
                  <a:pt x="674" y="50"/>
                  <a:pt x="674" y="50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2" y="51"/>
                  <a:pt x="672" y="51"/>
                  <a:pt x="672" y="51"/>
                </a:cubicBezTo>
                <a:cubicBezTo>
                  <a:pt x="661" y="53"/>
                  <a:pt x="661" y="53"/>
                  <a:pt x="661" y="53"/>
                </a:cubicBezTo>
                <a:cubicBezTo>
                  <a:pt x="660" y="54"/>
                  <a:pt x="659" y="54"/>
                  <a:pt x="658" y="56"/>
                </a:cubicBezTo>
                <a:cubicBezTo>
                  <a:pt x="655" y="58"/>
                  <a:pt x="655" y="58"/>
                  <a:pt x="655" y="58"/>
                </a:cubicBezTo>
                <a:cubicBezTo>
                  <a:pt x="649" y="63"/>
                  <a:pt x="649" y="63"/>
                  <a:pt x="649" y="63"/>
                </a:cubicBezTo>
                <a:cubicBezTo>
                  <a:pt x="648" y="64"/>
                  <a:pt x="648" y="64"/>
                  <a:pt x="648" y="64"/>
                </a:cubicBezTo>
                <a:cubicBezTo>
                  <a:pt x="643" y="65"/>
                  <a:pt x="643" y="65"/>
                  <a:pt x="643" y="65"/>
                </a:cubicBezTo>
                <a:cubicBezTo>
                  <a:pt x="640" y="64"/>
                  <a:pt x="637" y="62"/>
                  <a:pt x="632" y="59"/>
                </a:cubicBezTo>
                <a:cubicBezTo>
                  <a:pt x="631" y="58"/>
                  <a:pt x="631" y="58"/>
                  <a:pt x="631" y="58"/>
                </a:cubicBezTo>
                <a:cubicBezTo>
                  <a:pt x="623" y="50"/>
                  <a:pt x="619" y="45"/>
                  <a:pt x="619" y="42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0"/>
                  <a:pt x="619" y="30"/>
                  <a:pt x="619" y="30"/>
                </a:cubicBezTo>
                <a:cubicBezTo>
                  <a:pt x="621" y="28"/>
                  <a:pt x="621" y="28"/>
                  <a:pt x="621" y="28"/>
                </a:cubicBezTo>
                <a:cubicBezTo>
                  <a:pt x="609" y="24"/>
                  <a:pt x="609" y="24"/>
                  <a:pt x="609" y="24"/>
                </a:cubicBezTo>
                <a:cubicBezTo>
                  <a:pt x="609" y="28"/>
                  <a:pt x="609" y="28"/>
                  <a:pt x="609" y="28"/>
                </a:cubicBezTo>
                <a:cubicBezTo>
                  <a:pt x="609" y="30"/>
                  <a:pt x="607" y="31"/>
                  <a:pt x="605" y="32"/>
                </a:cubicBezTo>
                <a:cubicBezTo>
                  <a:pt x="601" y="34"/>
                  <a:pt x="601" y="34"/>
                  <a:pt x="601" y="34"/>
                </a:cubicBezTo>
                <a:cubicBezTo>
                  <a:pt x="600" y="34"/>
                  <a:pt x="600" y="34"/>
                  <a:pt x="600" y="34"/>
                </a:cubicBezTo>
                <a:cubicBezTo>
                  <a:pt x="600" y="33"/>
                  <a:pt x="600" y="33"/>
                  <a:pt x="600" y="33"/>
                </a:cubicBezTo>
                <a:cubicBezTo>
                  <a:pt x="594" y="32"/>
                  <a:pt x="594" y="32"/>
                  <a:pt x="594" y="32"/>
                </a:cubicBezTo>
                <a:cubicBezTo>
                  <a:pt x="595" y="36"/>
                  <a:pt x="595" y="36"/>
                  <a:pt x="595" y="36"/>
                </a:cubicBezTo>
                <a:cubicBezTo>
                  <a:pt x="585" y="30"/>
                  <a:pt x="585" y="30"/>
                  <a:pt x="585" y="30"/>
                </a:cubicBezTo>
                <a:cubicBezTo>
                  <a:pt x="584" y="30"/>
                  <a:pt x="584" y="30"/>
                  <a:pt x="584" y="30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2" y="25"/>
                  <a:pt x="581" y="20"/>
                  <a:pt x="581" y="16"/>
                </a:cubicBezTo>
                <a:cubicBezTo>
                  <a:pt x="581" y="12"/>
                  <a:pt x="582" y="9"/>
                  <a:pt x="583" y="8"/>
                </a:cubicBezTo>
                <a:cubicBezTo>
                  <a:pt x="586" y="3"/>
                  <a:pt x="586" y="3"/>
                  <a:pt x="586" y="3"/>
                </a:cubicBezTo>
                <a:cubicBezTo>
                  <a:pt x="585" y="0"/>
                  <a:pt x="585" y="0"/>
                  <a:pt x="585" y="0"/>
                </a:cubicBezTo>
                <a:cubicBezTo>
                  <a:pt x="575" y="1"/>
                  <a:pt x="575" y="1"/>
                  <a:pt x="575" y="1"/>
                </a:cubicBezTo>
                <a:cubicBezTo>
                  <a:pt x="569" y="2"/>
                  <a:pt x="566" y="5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58" y="20"/>
                  <a:pt x="558" y="20"/>
                  <a:pt x="558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70" y="22"/>
                  <a:pt x="570" y="22"/>
                  <a:pt x="570" y="22"/>
                </a:cubicBezTo>
                <a:cubicBezTo>
                  <a:pt x="571" y="22"/>
                  <a:pt x="571" y="22"/>
                  <a:pt x="571" y="22"/>
                </a:cubicBezTo>
                <a:cubicBezTo>
                  <a:pt x="571" y="23"/>
                  <a:pt x="571" y="23"/>
                  <a:pt x="571" y="23"/>
                </a:cubicBezTo>
                <a:cubicBezTo>
                  <a:pt x="571" y="24"/>
                  <a:pt x="571" y="24"/>
                  <a:pt x="571" y="24"/>
                </a:cubicBezTo>
                <a:cubicBezTo>
                  <a:pt x="572" y="32"/>
                  <a:pt x="572" y="32"/>
                  <a:pt x="572" y="32"/>
                </a:cubicBezTo>
                <a:cubicBezTo>
                  <a:pt x="575" y="40"/>
                  <a:pt x="575" y="40"/>
                  <a:pt x="575" y="40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2"/>
                  <a:pt x="575" y="42"/>
                  <a:pt x="575" y="42"/>
                </a:cubicBezTo>
                <a:cubicBezTo>
                  <a:pt x="561" y="68"/>
                  <a:pt x="561" y="68"/>
                  <a:pt x="561" y="68"/>
                </a:cubicBezTo>
                <a:cubicBezTo>
                  <a:pt x="559" y="71"/>
                  <a:pt x="558" y="81"/>
                  <a:pt x="557" y="95"/>
                </a:cubicBezTo>
                <a:cubicBezTo>
                  <a:pt x="557" y="96"/>
                  <a:pt x="557" y="96"/>
                  <a:pt x="557" y="96"/>
                </a:cubicBezTo>
                <a:cubicBezTo>
                  <a:pt x="552" y="106"/>
                  <a:pt x="552" y="106"/>
                  <a:pt x="552" y="106"/>
                </a:cubicBezTo>
                <a:cubicBezTo>
                  <a:pt x="555" y="110"/>
                  <a:pt x="555" y="110"/>
                  <a:pt x="555" y="110"/>
                </a:cubicBezTo>
                <a:cubicBezTo>
                  <a:pt x="555" y="111"/>
                  <a:pt x="555" y="111"/>
                  <a:pt x="555" y="111"/>
                </a:cubicBezTo>
                <a:cubicBezTo>
                  <a:pt x="556" y="117"/>
                  <a:pt x="555" y="121"/>
                  <a:pt x="554" y="122"/>
                </a:cubicBezTo>
                <a:cubicBezTo>
                  <a:pt x="553" y="122"/>
                  <a:pt x="553" y="122"/>
                  <a:pt x="553" y="122"/>
                </a:cubicBezTo>
                <a:cubicBezTo>
                  <a:pt x="550" y="124"/>
                  <a:pt x="541" y="133"/>
                  <a:pt x="526" y="151"/>
                </a:cubicBezTo>
                <a:cubicBezTo>
                  <a:pt x="525" y="152"/>
                  <a:pt x="525" y="152"/>
                  <a:pt x="525" y="152"/>
                </a:cubicBezTo>
                <a:cubicBezTo>
                  <a:pt x="524" y="152"/>
                  <a:pt x="524" y="152"/>
                  <a:pt x="524" y="152"/>
                </a:cubicBezTo>
                <a:cubicBezTo>
                  <a:pt x="523" y="151"/>
                  <a:pt x="523" y="151"/>
                  <a:pt x="523" y="151"/>
                </a:cubicBezTo>
                <a:cubicBezTo>
                  <a:pt x="517" y="148"/>
                  <a:pt x="513" y="144"/>
                  <a:pt x="510" y="141"/>
                </a:cubicBezTo>
                <a:cubicBezTo>
                  <a:pt x="507" y="140"/>
                  <a:pt x="501" y="138"/>
                  <a:pt x="491" y="138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83" y="192"/>
                  <a:pt x="483" y="192"/>
                  <a:pt x="483" y="192"/>
                </a:cubicBezTo>
                <a:cubicBezTo>
                  <a:pt x="482" y="196"/>
                  <a:pt x="481" y="204"/>
                  <a:pt x="481" y="216"/>
                </a:cubicBezTo>
                <a:cubicBezTo>
                  <a:pt x="484" y="220"/>
                  <a:pt x="484" y="220"/>
                  <a:pt x="484" y="220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4"/>
                  <a:pt x="487" y="214"/>
                  <a:pt x="487" y="214"/>
                </a:cubicBezTo>
                <a:cubicBezTo>
                  <a:pt x="497" y="210"/>
                  <a:pt x="497" y="210"/>
                  <a:pt x="497" y="210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5" y="210"/>
                  <a:pt x="525" y="210"/>
                  <a:pt x="525" y="210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30" y="203"/>
                  <a:pt x="530" y="203"/>
                  <a:pt x="530" y="203"/>
                </a:cubicBezTo>
                <a:cubicBezTo>
                  <a:pt x="540" y="201"/>
                  <a:pt x="540" y="201"/>
                  <a:pt x="540" y="201"/>
                </a:cubicBezTo>
                <a:cubicBezTo>
                  <a:pt x="553" y="200"/>
                  <a:pt x="553" y="200"/>
                  <a:pt x="553" y="200"/>
                </a:cubicBezTo>
                <a:cubicBezTo>
                  <a:pt x="557" y="201"/>
                  <a:pt x="562" y="206"/>
                  <a:pt x="568" y="214"/>
                </a:cubicBezTo>
                <a:cubicBezTo>
                  <a:pt x="584" y="222"/>
                  <a:pt x="593" y="230"/>
                  <a:pt x="595" y="236"/>
                </a:cubicBezTo>
                <a:cubicBezTo>
                  <a:pt x="596" y="239"/>
                  <a:pt x="596" y="242"/>
                  <a:pt x="595" y="244"/>
                </a:cubicBezTo>
                <a:cubicBezTo>
                  <a:pt x="593" y="247"/>
                  <a:pt x="591" y="249"/>
                  <a:pt x="587" y="249"/>
                </a:cubicBezTo>
                <a:cubicBezTo>
                  <a:pt x="586" y="249"/>
                  <a:pt x="586" y="249"/>
                  <a:pt x="586" y="249"/>
                </a:cubicBezTo>
                <a:cubicBezTo>
                  <a:pt x="567" y="248"/>
                  <a:pt x="555" y="248"/>
                  <a:pt x="551" y="250"/>
                </a:cubicBezTo>
                <a:cubicBezTo>
                  <a:pt x="542" y="256"/>
                  <a:pt x="542" y="256"/>
                  <a:pt x="542" y="256"/>
                </a:cubicBezTo>
                <a:cubicBezTo>
                  <a:pt x="530" y="265"/>
                  <a:pt x="522" y="269"/>
                  <a:pt x="517" y="269"/>
                </a:cubicBezTo>
                <a:cubicBezTo>
                  <a:pt x="509" y="270"/>
                  <a:pt x="509" y="270"/>
                  <a:pt x="509" y="270"/>
                </a:cubicBezTo>
                <a:cubicBezTo>
                  <a:pt x="505" y="290"/>
                  <a:pt x="505" y="290"/>
                  <a:pt x="505" y="290"/>
                </a:cubicBezTo>
                <a:cubicBezTo>
                  <a:pt x="503" y="296"/>
                  <a:pt x="501" y="300"/>
                  <a:pt x="498" y="303"/>
                </a:cubicBezTo>
                <a:cubicBezTo>
                  <a:pt x="495" y="306"/>
                  <a:pt x="490" y="308"/>
                  <a:pt x="483" y="310"/>
                </a:cubicBezTo>
                <a:cubicBezTo>
                  <a:pt x="476" y="311"/>
                  <a:pt x="469" y="314"/>
                  <a:pt x="463" y="317"/>
                </a:cubicBezTo>
                <a:cubicBezTo>
                  <a:pt x="457" y="332"/>
                  <a:pt x="457" y="332"/>
                  <a:pt x="457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5" y="332"/>
                  <a:pt x="455" y="332"/>
                  <a:pt x="455" y="332"/>
                </a:cubicBezTo>
                <a:cubicBezTo>
                  <a:pt x="437" y="340"/>
                  <a:pt x="437" y="340"/>
                  <a:pt x="437" y="340"/>
                </a:cubicBezTo>
                <a:cubicBezTo>
                  <a:pt x="436" y="340"/>
                  <a:pt x="436" y="340"/>
                  <a:pt x="436" y="340"/>
                </a:cubicBezTo>
                <a:cubicBezTo>
                  <a:pt x="427" y="338"/>
                  <a:pt x="427" y="338"/>
                  <a:pt x="427" y="338"/>
                </a:cubicBezTo>
                <a:cubicBezTo>
                  <a:pt x="419" y="336"/>
                  <a:pt x="414" y="334"/>
                  <a:pt x="410" y="332"/>
                </a:cubicBezTo>
                <a:cubicBezTo>
                  <a:pt x="405" y="330"/>
                  <a:pt x="400" y="329"/>
                  <a:pt x="395" y="331"/>
                </a:cubicBezTo>
                <a:cubicBezTo>
                  <a:pt x="390" y="338"/>
                  <a:pt x="387" y="346"/>
                  <a:pt x="388" y="355"/>
                </a:cubicBezTo>
                <a:cubicBezTo>
                  <a:pt x="388" y="360"/>
                  <a:pt x="389" y="363"/>
                  <a:pt x="391" y="364"/>
                </a:cubicBezTo>
                <a:cubicBezTo>
                  <a:pt x="393" y="364"/>
                  <a:pt x="393" y="364"/>
                  <a:pt x="393" y="364"/>
                </a:cubicBezTo>
                <a:cubicBezTo>
                  <a:pt x="397" y="362"/>
                  <a:pt x="397" y="362"/>
                  <a:pt x="397" y="362"/>
                </a:cubicBezTo>
                <a:cubicBezTo>
                  <a:pt x="397" y="374"/>
                  <a:pt x="397" y="374"/>
                  <a:pt x="397" y="374"/>
                </a:cubicBezTo>
                <a:cubicBezTo>
                  <a:pt x="397" y="379"/>
                  <a:pt x="396" y="382"/>
                  <a:pt x="393" y="384"/>
                </a:cubicBezTo>
                <a:cubicBezTo>
                  <a:pt x="391" y="386"/>
                  <a:pt x="387" y="388"/>
                  <a:pt x="382" y="389"/>
                </a:cubicBezTo>
                <a:cubicBezTo>
                  <a:pt x="379" y="390"/>
                  <a:pt x="379" y="390"/>
                  <a:pt x="379" y="390"/>
                </a:cubicBezTo>
                <a:cubicBezTo>
                  <a:pt x="375" y="392"/>
                  <a:pt x="366" y="402"/>
                  <a:pt x="354" y="422"/>
                </a:cubicBezTo>
                <a:cubicBezTo>
                  <a:pt x="354" y="422"/>
                  <a:pt x="354" y="422"/>
                  <a:pt x="354" y="422"/>
                </a:cubicBezTo>
                <a:cubicBezTo>
                  <a:pt x="353" y="422"/>
                  <a:pt x="353" y="422"/>
                  <a:pt x="353" y="422"/>
                </a:cubicBezTo>
                <a:cubicBezTo>
                  <a:pt x="341" y="430"/>
                  <a:pt x="341" y="430"/>
                  <a:pt x="341" y="430"/>
                </a:cubicBezTo>
                <a:cubicBezTo>
                  <a:pt x="343" y="430"/>
                  <a:pt x="345" y="430"/>
                  <a:pt x="344" y="432"/>
                </a:cubicBezTo>
                <a:cubicBezTo>
                  <a:pt x="344" y="434"/>
                  <a:pt x="343" y="434"/>
                  <a:pt x="339" y="434"/>
                </a:cubicBezTo>
                <a:cubicBezTo>
                  <a:pt x="305" y="434"/>
                  <a:pt x="305" y="434"/>
                  <a:pt x="305" y="434"/>
                </a:cubicBezTo>
                <a:cubicBezTo>
                  <a:pt x="267" y="432"/>
                  <a:pt x="238" y="443"/>
                  <a:pt x="217" y="464"/>
                </a:cubicBezTo>
                <a:cubicBezTo>
                  <a:pt x="216" y="465"/>
                  <a:pt x="216" y="465"/>
                  <a:pt x="216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01" y="467"/>
                  <a:pt x="201" y="467"/>
                  <a:pt x="201" y="467"/>
                </a:cubicBezTo>
                <a:cubicBezTo>
                  <a:pt x="200" y="467"/>
                  <a:pt x="200" y="467"/>
                  <a:pt x="200" y="467"/>
                </a:cubicBezTo>
                <a:cubicBezTo>
                  <a:pt x="199" y="467"/>
                  <a:pt x="199" y="467"/>
                  <a:pt x="199" y="467"/>
                </a:cubicBezTo>
                <a:cubicBezTo>
                  <a:pt x="195" y="458"/>
                  <a:pt x="195" y="458"/>
                  <a:pt x="195" y="458"/>
                </a:cubicBezTo>
                <a:cubicBezTo>
                  <a:pt x="181" y="461"/>
                  <a:pt x="181" y="461"/>
                  <a:pt x="181" y="461"/>
                </a:cubicBezTo>
                <a:cubicBezTo>
                  <a:pt x="173" y="462"/>
                  <a:pt x="163" y="460"/>
                  <a:pt x="152" y="454"/>
                </a:cubicBezTo>
                <a:cubicBezTo>
                  <a:pt x="142" y="450"/>
                  <a:pt x="133" y="444"/>
                  <a:pt x="123" y="436"/>
                </a:cubicBezTo>
                <a:cubicBezTo>
                  <a:pt x="117" y="432"/>
                  <a:pt x="110" y="428"/>
                  <a:pt x="101" y="427"/>
                </a:cubicBezTo>
                <a:cubicBezTo>
                  <a:pt x="88" y="426"/>
                  <a:pt x="88" y="426"/>
                  <a:pt x="88" y="426"/>
                </a:cubicBezTo>
                <a:cubicBezTo>
                  <a:pt x="74" y="428"/>
                  <a:pt x="74" y="428"/>
                  <a:pt x="74" y="428"/>
                </a:cubicBezTo>
                <a:cubicBezTo>
                  <a:pt x="63" y="429"/>
                  <a:pt x="53" y="429"/>
                  <a:pt x="43" y="428"/>
                </a:cubicBezTo>
                <a:cubicBezTo>
                  <a:pt x="32" y="428"/>
                  <a:pt x="18" y="424"/>
                  <a:pt x="1" y="419"/>
                </a:cubicBezTo>
                <a:cubicBezTo>
                  <a:pt x="0" y="422"/>
                  <a:pt x="0" y="422"/>
                  <a:pt x="0" y="422"/>
                </a:cubicBezTo>
                <a:cubicBezTo>
                  <a:pt x="0" y="422"/>
                  <a:pt x="0" y="422"/>
                  <a:pt x="0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6"/>
                  <a:pt x="1" y="426"/>
                  <a:pt x="1" y="426"/>
                </a:cubicBezTo>
                <a:cubicBezTo>
                  <a:pt x="5" y="434"/>
                  <a:pt x="5" y="434"/>
                  <a:pt x="5" y="434"/>
                </a:cubicBezTo>
                <a:cubicBezTo>
                  <a:pt x="13" y="444"/>
                  <a:pt x="13" y="444"/>
                  <a:pt x="13" y="444"/>
                </a:cubicBezTo>
                <a:cubicBezTo>
                  <a:pt x="14" y="446"/>
                  <a:pt x="14" y="446"/>
                  <a:pt x="14" y="446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7" y="460"/>
                  <a:pt x="7" y="460"/>
                  <a:pt x="7" y="460"/>
                </a:cubicBezTo>
                <a:cubicBezTo>
                  <a:pt x="12" y="465"/>
                  <a:pt x="12" y="465"/>
                  <a:pt x="12" y="465"/>
                </a:cubicBezTo>
                <a:cubicBezTo>
                  <a:pt x="14" y="467"/>
                  <a:pt x="15" y="469"/>
                  <a:pt x="15" y="470"/>
                </a:cubicBezTo>
                <a:cubicBezTo>
                  <a:pt x="17" y="478"/>
                  <a:pt x="17" y="478"/>
                  <a:pt x="17" y="478"/>
                </a:cubicBezTo>
                <a:cubicBezTo>
                  <a:pt x="23" y="484"/>
                  <a:pt x="23" y="484"/>
                  <a:pt x="23" y="484"/>
                </a:cubicBezTo>
                <a:cubicBezTo>
                  <a:pt x="23" y="485"/>
                  <a:pt x="23" y="485"/>
                  <a:pt x="23" y="485"/>
                </a:cubicBezTo>
                <a:cubicBezTo>
                  <a:pt x="23" y="490"/>
                  <a:pt x="23" y="490"/>
                  <a:pt x="23" y="490"/>
                </a:cubicBezTo>
                <a:cubicBezTo>
                  <a:pt x="23" y="494"/>
                  <a:pt x="23" y="494"/>
                  <a:pt x="23" y="494"/>
                </a:cubicBezTo>
                <a:cubicBezTo>
                  <a:pt x="27" y="497"/>
                  <a:pt x="27" y="497"/>
                  <a:pt x="27" y="497"/>
                </a:cubicBezTo>
                <a:cubicBezTo>
                  <a:pt x="29" y="496"/>
                  <a:pt x="29" y="496"/>
                  <a:pt x="29" y="496"/>
                </a:cubicBezTo>
                <a:cubicBezTo>
                  <a:pt x="30" y="495"/>
                  <a:pt x="30" y="495"/>
                  <a:pt x="30" y="495"/>
                </a:cubicBezTo>
                <a:cubicBezTo>
                  <a:pt x="31" y="492"/>
                  <a:pt x="33" y="490"/>
                  <a:pt x="36" y="490"/>
                </a:cubicBezTo>
                <a:cubicBezTo>
                  <a:pt x="39" y="488"/>
                  <a:pt x="39" y="488"/>
                  <a:pt x="39" y="488"/>
                </a:cubicBezTo>
                <a:cubicBezTo>
                  <a:pt x="60" y="486"/>
                  <a:pt x="60" y="486"/>
                  <a:pt x="60" y="486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71" y="482"/>
                  <a:pt x="71" y="482"/>
                  <a:pt x="71" y="48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6" y="494"/>
                  <a:pt x="75" y="496"/>
                  <a:pt x="74" y="498"/>
                </a:cubicBezTo>
                <a:cubicBezTo>
                  <a:pt x="63" y="514"/>
                  <a:pt x="63" y="514"/>
                  <a:pt x="63" y="514"/>
                </a:cubicBezTo>
                <a:cubicBezTo>
                  <a:pt x="63" y="517"/>
                  <a:pt x="63" y="517"/>
                  <a:pt x="63" y="517"/>
                </a:cubicBezTo>
                <a:cubicBezTo>
                  <a:pt x="69" y="522"/>
                  <a:pt x="69" y="522"/>
                  <a:pt x="69" y="522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7" y="529"/>
                  <a:pt x="79" y="531"/>
                  <a:pt x="81" y="532"/>
                </a:cubicBezTo>
                <a:cubicBezTo>
                  <a:pt x="84" y="532"/>
                  <a:pt x="87" y="535"/>
                  <a:pt x="89" y="538"/>
                </a:cubicBezTo>
                <a:cubicBezTo>
                  <a:pt x="89" y="539"/>
                  <a:pt x="89" y="539"/>
                  <a:pt x="89" y="539"/>
                </a:cubicBezTo>
                <a:cubicBezTo>
                  <a:pt x="93" y="541"/>
                  <a:pt x="93" y="541"/>
                  <a:pt x="93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7" y="550"/>
                  <a:pt x="97" y="550"/>
                  <a:pt x="97" y="550"/>
                </a:cubicBezTo>
                <a:cubicBezTo>
                  <a:pt x="98" y="556"/>
                  <a:pt x="98" y="556"/>
                  <a:pt x="98" y="556"/>
                </a:cubicBezTo>
                <a:cubicBezTo>
                  <a:pt x="108" y="558"/>
                  <a:pt x="108" y="558"/>
                  <a:pt x="108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9"/>
                  <a:pt x="109" y="559"/>
                  <a:pt x="109" y="559"/>
                </a:cubicBezTo>
                <a:cubicBezTo>
                  <a:pt x="110" y="560"/>
                  <a:pt x="110" y="560"/>
                  <a:pt x="110" y="560"/>
                </a:cubicBezTo>
                <a:cubicBezTo>
                  <a:pt x="113" y="565"/>
                  <a:pt x="113" y="565"/>
                  <a:pt x="113" y="565"/>
                </a:cubicBezTo>
                <a:cubicBezTo>
                  <a:pt x="121" y="568"/>
                  <a:pt x="121" y="568"/>
                  <a:pt x="121" y="568"/>
                </a:cubicBezTo>
                <a:cubicBezTo>
                  <a:pt x="126" y="565"/>
                  <a:pt x="126" y="565"/>
                  <a:pt x="126" y="565"/>
                </a:cubicBezTo>
                <a:cubicBezTo>
                  <a:pt x="125" y="562"/>
                  <a:pt x="125" y="562"/>
                  <a:pt x="125" y="562"/>
                </a:cubicBezTo>
                <a:cubicBezTo>
                  <a:pt x="120" y="557"/>
                  <a:pt x="120" y="557"/>
                  <a:pt x="120" y="557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5" y="547"/>
                  <a:pt x="125" y="547"/>
                  <a:pt x="125" y="547"/>
                </a:cubicBezTo>
                <a:cubicBezTo>
                  <a:pt x="135" y="547"/>
                  <a:pt x="135" y="547"/>
                  <a:pt x="135" y="547"/>
                </a:cubicBezTo>
                <a:cubicBezTo>
                  <a:pt x="135" y="548"/>
                  <a:pt x="135" y="548"/>
                  <a:pt x="135" y="548"/>
                </a:cubicBezTo>
                <a:cubicBezTo>
                  <a:pt x="149" y="552"/>
                  <a:pt x="149" y="552"/>
                  <a:pt x="149" y="552"/>
                </a:cubicBezTo>
                <a:cubicBezTo>
                  <a:pt x="157" y="551"/>
                  <a:pt x="157" y="551"/>
                  <a:pt x="157" y="551"/>
                </a:cubicBezTo>
                <a:cubicBezTo>
                  <a:pt x="163" y="546"/>
                  <a:pt x="163" y="546"/>
                  <a:pt x="163" y="546"/>
                </a:cubicBezTo>
                <a:cubicBezTo>
                  <a:pt x="169" y="537"/>
                  <a:pt x="174" y="534"/>
                  <a:pt x="177" y="536"/>
                </a:cubicBezTo>
                <a:cubicBezTo>
                  <a:pt x="180" y="535"/>
                  <a:pt x="180" y="535"/>
                  <a:pt x="180" y="535"/>
                </a:cubicBezTo>
                <a:cubicBezTo>
                  <a:pt x="183" y="535"/>
                  <a:pt x="185" y="536"/>
                  <a:pt x="187" y="536"/>
                </a:cubicBezTo>
                <a:cubicBezTo>
                  <a:pt x="187" y="537"/>
                  <a:pt x="187" y="538"/>
                  <a:pt x="187" y="538"/>
                </a:cubicBezTo>
                <a:cubicBezTo>
                  <a:pt x="187" y="540"/>
                  <a:pt x="189" y="543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3" y="554"/>
                  <a:pt x="193" y="554"/>
                  <a:pt x="193" y="554"/>
                </a:cubicBezTo>
                <a:cubicBezTo>
                  <a:pt x="193" y="555"/>
                  <a:pt x="193" y="555"/>
                  <a:pt x="193" y="555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84" y="570"/>
                  <a:pt x="184" y="570"/>
                  <a:pt x="184" y="570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69" y="577"/>
                  <a:pt x="169" y="577"/>
                  <a:pt x="169" y="577"/>
                </a:cubicBezTo>
                <a:cubicBezTo>
                  <a:pt x="167" y="581"/>
                  <a:pt x="167" y="581"/>
                  <a:pt x="167" y="581"/>
                </a:cubicBezTo>
                <a:cubicBezTo>
                  <a:pt x="165" y="593"/>
                  <a:pt x="165" y="593"/>
                  <a:pt x="165" y="593"/>
                </a:cubicBezTo>
                <a:cubicBezTo>
                  <a:pt x="166" y="598"/>
                  <a:pt x="166" y="598"/>
                  <a:pt x="166" y="598"/>
                </a:cubicBezTo>
                <a:cubicBezTo>
                  <a:pt x="170" y="604"/>
                  <a:pt x="170" y="604"/>
                  <a:pt x="170" y="604"/>
                </a:cubicBezTo>
                <a:cubicBezTo>
                  <a:pt x="171" y="606"/>
                  <a:pt x="171" y="606"/>
                  <a:pt x="171" y="606"/>
                </a:cubicBezTo>
                <a:cubicBezTo>
                  <a:pt x="176" y="609"/>
                  <a:pt x="176" y="609"/>
                  <a:pt x="176" y="609"/>
                </a:cubicBezTo>
                <a:cubicBezTo>
                  <a:pt x="193" y="609"/>
                  <a:pt x="193" y="609"/>
                  <a:pt x="193" y="609"/>
                </a:cubicBezTo>
                <a:cubicBezTo>
                  <a:pt x="207" y="607"/>
                  <a:pt x="207" y="607"/>
                  <a:pt x="207" y="607"/>
                </a:cubicBezTo>
                <a:cubicBezTo>
                  <a:pt x="209" y="605"/>
                  <a:pt x="209" y="605"/>
                  <a:pt x="209" y="605"/>
                </a:cubicBezTo>
                <a:cubicBezTo>
                  <a:pt x="211" y="602"/>
                  <a:pt x="213" y="602"/>
                  <a:pt x="214" y="602"/>
                </a:cubicBezTo>
                <a:cubicBezTo>
                  <a:pt x="224" y="603"/>
                  <a:pt x="224" y="603"/>
                  <a:pt x="224" y="603"/>
                </a:cubicBezTo>
                <a:cubicBezTo>
                  <a:pt x="225" y="602"/>
                  <a:pt x="225" y="602"/>
                  <a:pt x="225" y="602"/>
                </a:cubicBezTo>
                <a:cubicBezTo>
                  <a:pt x="224" y="599"/>
                  <a:pt x="224" y="596"/>
                  <a:pt x="225" y="594"/>
                </a:cubicBezTo>
                <a:cubicBezTo>
                  <a:pt x="229" y="587"/>
                  <a:pt x="229" y="587"/>
                  <a:pt x="229" y="587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50" y="542"/>
                  <a:pt x="250" y="542"/>
                  <a:pt x="250" y="542"/>
                </a:cubicBezTo>
                <a:cubicBezTo>
                  <a:pt x="251" y="541"/>
                  <a:pt x="251" y="541"/>
                  <a:pt x="251" y="541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7" y="550"/>
                  <a:pt x="270" y="553"/>
                  <a:pt x="270" y="555"/>
                </a:cubicBezTo>
                <a:cubicBezTo>
                  <a:pt x="269" y="564"/>
                  <a:pt x="269" y="564"/>
                  <a:pt x="269" y="564"/>
                </a:cubicBezTo>
                <a:cubicBezTo>
                  <a:pt x="265" y="570"/>
                  <a:pt x="265" y="570"/>
                  <a:pt x="265" y="570"/>
                </a:cubicBezTo>
                <a:cubicBezTo>
                  <a:pt x="263" y="578"/>
                  <a:pt x="263" y="578"/>
                  <a:pt x="263" y="578"/>
                </a:cubicBezTo>
                <a:cubicBezTo>
                  <a:pt x="263" y="586"/>
                  <a:pt x="263" y="586"/>
                  <a:pt x="263" y="586"/>
                </a:cubicBezTo>
                <a:cubicBezTo>
                  <a:pt x="265" y="590"/>
                  <a:pt x="265" y="590"/>
                  <a:pt x="265" y="590"/>
                </a:cubicBezTo>
                <a:cubicBezTo>
                  <a:pt x="269" y="590"/>
                  <a:pt x="269" y="590"/>
                  <a:pt x="269" y="590"/>
                </a:cubicBezTo>
                <a:cubicBezTo>
                  <a:pt x="270" y="590"/>
                  <a:pt x="270" y="590"/>
                  <a:pt x="270" y="590"/>
                </a:cubicBezTo>
                <a:cubicBezTo>
                  <a:pt x="276" y="590"/>
                  <a:pt x="276" y="590"/>
                  <a:pt x="276" y="590"/>
                </a:cubicBezTo>
                <a:cubicBezTo>
                  <a:pt x="279" y="592"/>
                  <a:pt x="281" y="594"/>
                  <a:pt x="283" y="598"/>
                </a:cubicBezTo>
                <a:cubicBezTo>
                  <a:pt x="286" y="600"/>
                  <a:pt x="286" y="600"/>
                  <a:pt x="286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301" y="606"/>
                  <a:pt x="301" y="606"/>
                  <a:pt x="301" y="606"/>
                </a:cubicBezTo>
                <a:cubicBezTo>
                  <a:pt x="307" y="608"/>
                  <a:pt x="307" y="608"/>
                  <a:pt x="307" y="608"/>
                </a:cubicBezTo>
                <a:cubicBezTo>
                  <a:pt x="315" y="607"/>
                  <a:pt x="315" y="607"/>
                  <a:pt x="315" y="607"/>
                </a:cubicBezTo>
                <a:cubicBezTo>
                  <a:pt x="319" y="602"/>
                  <a:pt x="319" y="602"/>
                  <a:pt x="319" y="602"/>
                </a:cubicBezTo>
                <a:cubicBezTo>
                  <a:pt x="323" y="582"/>
                  <a:pt x="323" y="582"/>
                  <a:pt x="323" y="582"/>
                </a:cubicBezTo>
                <a:cubicBezTo>
                  <a:pt x="324" y="572"/>
                  <a:pt x="324" y="572"/>
                  <a:pt x="324" y="572"/>
                </a:cubicBezTo>
                <a:cubicBezTo>
                  <a:pt x="324" y="571"/>
                  <a:pt x="324" y="571"/>
                  <a:pt x="324" y="571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33" y="564"/>
                  <a:pt x="333" y="564"/>
                  <a:pt x="333" y="564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45" y="554"/>
                  <a:pt x="345" y="554"/>
                  <a:pt x="345" y="554"/>
                </a:cubicBezTo>
                <a:cubicBezTo>
                  <a:pt x="350" y="551"/>
                  <a:pt x="350" y="551"/>
                  <a:pt x="350" y="551"/>
                </a:cubicBezTo>
                <a:cubicBezTo>
                  <a:pt x="356" y="549"/>
                  <a:pt x="356" y="549"/>
                  <a:pt x="356" y="549"/>
                </a:cubicBezTo>
                <a:cubicBezTo>
                  <a:pt x="353" y="537"/>
                  <a:pt x="353" y="537"/>
                  <a:pt x="353" y="537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1"/>
                  <a:pt x="374" y="541"/>
                  <a:pt x="374" y="541"/>
                </a:cubicBezTo>
                <a:cubicBezTo>
                  <a:pt x="376" y="534"/>
                  <a:pt x="376" y="534"/>
                  <a:pt x="376" y="534"/>
                </a:cubicBezTo>
                <a:cubicBezTo>
                  <a:pt x="376" y="532"/>
                  <a:pt x="376" y="532"/>
                  <a:pt x="376" y="532"/>
                </a:cubicBezTo>
                <a:cubicBezTo>
                  <a:pt x="377" y="533"/>
                  <a:pt x="377" y="533"/>
                  <a:pt x="377" y="533"/>
                </a:cubicBezTo>
                <a:cubicBezTo>
                  <a:pt x="378" y="533"/>
                  <a:pt x="378" y="533"/>
                  <a:pt x="378" y="533"/>
                </a:cubicBezTo>
                <a:cubicBezTo>
                  <a:pt x="384" y="534"/>
                  <a:pt x="384" y="534"/>
                  <a:pt x="384" y="534"/>
                </a:cubicBezTo>
                <a:cubicBezTo>
                  <a:pt x="387" y="534"/>
                  <a:pt x="387" y="534"/>
                  <a:pt x="387" y="534"/>
                </a:cubicBezTo>
                <a:cubicBezTo>
                  <a:pt x="393" y="528"/>
                  <a:pt x="393" y="528"/>
                  <a:pt x="393" y="528"/>
                </a:cubicBezTo>
                <a:cubicBezTo>
                  <a:pt x="394" y="528"/>
                  <a:pt x="394" y="528"/>
                  <a:pt x="394" y="528"/>
                </a:cubicBezTo>
                <a:cubicBezTo>
                  <a:pt x="394" y="527"/>
                  <a:pt x="394" y="527"/>
                  <a:pt x="394" y="527"/>
                </a:cubicBezTo>
                <a:cubicBezTo>
                  <a:pt x="395" y="527"/>
                  <a:pt x="395" y="527"/>
                  <a:pt x="395" y="527"/>
                </a:cubicBezTo>
                <a:cubicBezTo>
                  <a:pt x="403" y="526"/>
                  <a:pt x="403" y="526"/>
                  <a:pt x="403" y="526"/>
                </a:cubicBezTo>
                <a:cubicBezTo>
                  <a:pt x="409" y="519"/>
                  <a:pt x="409" y="519"/>
                  <a:pt x="409" y="519"/>
                </a:cubicBezTo>
                <a:cubicBezTo>
                  <a:pt x="413" y="514"/>
                  <a:pt x="413" y="514"/>
                  <a:pt x="413" y="514"/>
                </a:cubicBezTo>
                <a:cubicBezTo>
                  <a:pt x="413" y="508"/>
                  <a:pt x="413" y="508"/>
                  <a:pt x="413" y="508"/>
                </a:cubicBezTo>
                <a:cubicBezTo>
                  <a:pt x="413" y="505"/>
                  <a:pt x="414" y="504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8" y="502"/>
                  <a:pt x="418" y="502"/>
                  <a:pt x="418" y="502"/>
                </a:cubicBezTo>
                <a:cubicBezTo>
                  <a:pt x="425" y="503"/>
                  <a:pt x="425" y="503"/>
                  <a:pt x="425" y="503"/>
                </a:cubicBezTo>
                <a:cubicBezTo>
                  <a:pt x="429" y="501"/>
                  <a:pt x="429" y="501"/>
                  <a:pt x="429" y="501"/>
                </a:cubicBezTo>
                <a:cubicBezTo>
                  <a:pt x="430" y="496"/>
                  <a:pt x="430" y="496"/>
                  <a:pt x="430" y="496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49" y="494"/>
                  <a:pt x="449" y="494"/>
                  <a:pt x="449" y="494"/>
                </a:cubicBezTo>
                <a:cubicBezTo>
                  <a:pt x="457" y="492"/>
                  <a:pt x="457" y="492"/>
                  <a:pt x="457" y="492"/>
                </a:cubicBezTo>
                <a:cubicBezTo>
                  <a:pt x="461" y="488"/>
                  <a:pt x="461" y="488"/>
                  <a:pt x="461" y="488"/>
                </a:cubicBezTo>
                <a:cubicBezTo>
                  <a:pt x="465" y="481"/>
                  <a:pt x="465" y="481"/>
                  <a:pt x="465" y="481"/>
                </a:cubicBezTo>
                <a:cubicBezTo>
                  <a:pt x="459" y="475"/>
                  <a:pt x="459" y="475"/>
                  <a:pt x="459" y="475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9" y="456"/>
                  <a:pt x="459" y="456"/>
                  <a:pt x="459" y="456"/>
                </a:cubicBezTo>
                <a:cubicBezTo>
                  <a:pt x="459" y="454"/>
                  <a:pt x="461" y="451"/>
                  <a:pt x="464" y="448"/>
                </a:cubicBezTo>
                <a:cubicBezTo>
                  <a:pt x="468" y="439"/>
                  <a:pt x="468" y="439"/>
                  <a:pt x="468" y="439"/>
                </a:cubicBezTo>
                <a:cubicBezTo>
                  <a:pt x="468" y="438"/>
                  <a:pt x="468" y="438"/>
                  <a:pt x="468" y="438"/>
                </a:cubicBezTo>
                <a:cubicBezTo>
                  <a:pt x="469" y="438"/>
                  <a:pt x="469" y="438"/>
                  <a:pt x="469" y="438"/>
                </a:cubicBezTo>
                <a:cubicBezTo>
                  <a:pt x="473" y="432"/>
                  <a:pt x="473" y="432"/>
                  <a:pt x="473" y="432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4" y="428"/>
                  <a:pt x="484" y="428"/>
                  <a:pt x="484" y="428"/>
                </a:cubicBezTo>
                <a:cubicBezTo>
                  <a:pt x="485" y="428"/>
                  <a:pt x="485" y="428"/>
                  <a:pt x="485" y="428"/>
                </a:cubicBezTo>
                <a:cubicBezTo>
                  <a:pt x="485" y="429"/>
                  <a:pt x="485" y="429"/>
                  <a:pt x="485" y="429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8" y="445"/>
                  <a:pt x="488" y="445"/>
                  <a:pt x="488" y="445"/>
                </a:cubicBezTo>
                <a:cubicBezTo>
                  <a:pt x="493" y="448"/>
                  <a:pt x="493" y="448"/>
                  <a:pt x="493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5" y="448"/>
                  <a:pt x="495" y="448"/>
                  <a:pt x="495" y="448"/>
                </a:cubicBezTo>
                <a:cubicBezTo>
                  <a:pt x="496" y="448"/>
                  <a:pt x="496" y="448"/>
                  <a:pt x="496" y="448"/>
                </a:cubicBezTo>
                <a:cubicBezTo>
                  <a:pt x="501" y="440"/>
                  <a:pt x="501" y="440"/>
                  <a:pt x="501" y="440"/>
                </a:cubicBezTo>
                <a:cubicBezTo>
                  <a:pt x="503" y="432"/>
                  <a:pt x="503" y="432"/>
                  <a:pt x="503" y="432"/>
                </a:cubicBezTo>
                <a:cubicBezTo>
                  <a:pt x="505" y="432"/>
                  <a:pt x="505" y="432"/>
                  <a:pt x="505" y="432"/>
                </a:cubicBezTo>
                <a:cubicBezTo>
                  <a:pt x="506" y="432"/>
                  <a:pt x="506" y="432"/>
                  <a:pt x="506" y="432"/>
                </a:cubicBezTo>
                <a:cubicBezTo>
                  <a:pt x="517" y="436"/>
                  <a:pt x="517" y="436"/>
                  <a:pt x="517" y="436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4" y="432"/>
                  <a:pt x="524" y="432"/>
                  <a:pt x="524" y="432"/>
                </a:cubicBezTo>
                <a:cubicBezTo>
                  <a:pt x="530" y="431"/>
                  <a:pt x="530" y="431"/>
                  <a:pt x="530" y="431"/>
                </a:cubicBezTo>
                <a:cubicBezTo>
                  <a:pt x="534" y="424"/>
                  <a:pt x="534" y="424"/>
                  <a:pt x="534" y="424"/>
                </a:cubicBezTo>
                <a:cubicBezTo>
                  <a:pt x="534" y="416"/>
                  <a:pt x="534" y="416"/>
                  <a:pt x="534" y="416"/>
                </a:cubicBezTo>
                <a:cubicBezTo>
                  <a:pt x="537" y="403"/>
                  <a:pt x="537" y="403"/>
                  <a:pt x="537" y="403"/>
                </a:cubicBezTo>
                <a:cubicBezTo>
                  <a:pt x="537" y="404"/>
                  <a:pt x="537" y="404"/>
                  <a:pt x="537" y="404"/>
                </a:cubicBezTo>
                <a:cubicBezTo>
                  <a:pt x="539" y="404"/>
                  <a:pt x="539" y="404"/>
                  <a:pt x="539" y="404"/>
                </a:cubicBezTo>
                <a:cubicBezTo>
                  <a:pt x="547" y="406"/>
                  <a:pt x="547" y="406"/>
                  <a:pt x="547" y="406"/>
                </a:cubicBezTo>
                <a:cubicBezTo>
                  <a:pt x="551" y="398"/>
                  <a:pt x="551" y="398"/>
                  <a:pt x="551" y="398"/>
                </a:cubicBezTo>
                <a:cubicBezTo>
                  <a:pt x="552" y="398"/>
                  <a:pt x="552" y="398"/>
                  <a:pt x="552" y="398"/>
                </a:cubicBezTo>
                <a:cubicBezTo>
                  <a:pt x="553" y="398"/>
                  <a:pt x="553" y="398"/>
                  <a:pt x="553" y="398"/>
                </a:cubicBezTo>
                <a:cubicBezTo>
                  <a:pt x="561" y="398"/>
                  <a:pt x="561" y="398"/>
                  <a:pt x="561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3" y="398"/>
                  <a:pt x="563" y="398"/>
                  <a:pt x="563" y="398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5"/>
                  <a:pt x="567" y="405"/>
                  <a:pt x="567" y="405"/>
                </a:cubicBezTo>
                <a:cubicBezTo>
                  <a:pt x="567" y="406"/>
                  <a:pt x="567" y="406"/>
                  <a:pt x="567" y="406"/>
                </a:cubicBezTo>
                <a:cubicBezTo>
                  <a:pt x="568" y="414"/>
                  <a:pt x="568" y="414"/>
                  <a:pt x="568" y="414"/>
                </a:cubicBezTo>
                <a:cubicBezTo>
                  <a:pt x="572" y="417"/>
                  <a:pt x="572" y="417"/>
                  <a:pt x="572" y="417"/>
                </a:cubicBezTo>
                <a:cubicBezTo>
                  <a:pt x="577" y="412"/>
                  <a:pt x="577" y="412"/>
                  <a:pt x="577" y="412"/>
                </a:cubicBezTo>
                <a:cubicBezTo>
                  <a:pt x="579" y="414"/>
                  <a:pt x="579" y="414"/>
                  <a:pt x="579" y="414"/>
                </a:cubicBezTo>
                <a:cubicBezTo>
                  <a:pt x="581" y="416"/>
                  <a:pt x="581" y="418"/>
                  <a:pt x="581" y="420"/>
                </a:cubicBezTo>
                <a:cubicBezTo>
                  <a:pt x="581" y="427"/>
                  <a:pt x="581" y="427"/>
                  <a:pt x="581" y="427"/>
                </a:cubicBezTo>
                <a:cubicBezTo>
                  <a:pt x="579" y="434"/>
                  <a:pt x="579" y="434"/>
                  <a:pt x="579" y="434"/>
                </a:cubicBezTo>
                <a:cubicBezTo>
                  <a:pt x="581" y="438"/>
                  <a:pt x="581" y="438"/>
                  <a:pt x="581" y="438"/>
                </a:cubicBezTo>
                <a:cubicBezTo>
                  <a:pt x="585" y="442"/>
                  <a:pt x="585" y="442"/>
                  <a:pt x="585" y="442"/>
                </a:cubicBezTo>
                <a:cubicBezTo>
                  <a:pt x="601" y="444"/>
                  <a:pt x="601" y="444"/>
                  <a:pt x="601" y="444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4" y="446"/>
                  <a:pt x="604" y="446"/>
                  <a:pt x="604" y="446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13" y="436"/>
                  <a:pt x="613" y="436"/>
                  <a:pt x="613" y="436"/>
                </a:cubicBezTo>
                <a:cubicBezTo>
                  <a:pt x="611" y="430"/>
                  <a:pt x="611" y="430"/>
                  <a:pt x="611" y="430"/>
                </a:cubicBezTo>
                <a:cubicBezTo>
                  <a:pt x="607" y="404"/>
                  <a:pt x="607" y="404"/>
                  <a:pt x="607" y="404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25" y="416"/>
                  <a:pt x="625" y="416"/>
                  <a:pt x="625" y="416"/>
                </a:cubicBezTo>
                <a:cubicBezTo>
                  <a:pt x="628" y="419"/>
                  <a:pt x="628" y="419"/>
                  <a:pt x="628" y="419"/>
                </a:cubicBezTo>
                <a:cubicBezTo>
                  <a:pt x="633" y="416"/>
                  <a:pt x="633" y="416"/>
                  <a:pt x="633" y="416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50" y="398"/>
                  <a:pt x="650" y="398"/>
                  <a:pt x="650" y="398"/>
                </a:cubicBezTo>
                <a:cubicBezTo>
                  <a:pt x="656" y="393"/>
                  <a:pt x="656" y="393"/>
                  <a:pt x="656" y="393"/>
                </a:cubicBezTo>
                <a:cubicBezTo>
                  <a:pt x="663" y="384"/>
                  <a:pt x="663" y="384"/>
                  <a:pt x="663" y="384"/>
                </a:cubicBezTo>
                <a:cubicBezTo>
                  <a:pt x="663" y="383"/>
                  <a:pt x="663" y="383"/>
                  <a:pt x="663" y="383"/>
                </a:cubicBezTo>
                <a:cubicBezTo>
                  <a:pt x="672" y="385"/>
                  <a:pt x="672" y="385"/>
                  <a:pt x="672" y="385"/>
                </a:cubicBezTo>
                <a:cubicBezTo>
                  <a:pt x="677" y="385"/>
                  <a:pt x="677" y="385"/>
                  <a:pt x="677" y="385"/>
                </a:cubicBezTo>
                <a:cubicBezTo>
                  <a:pt x="677" y="382"/>
                  <a:pt x="677" y="379"/>
                  <a:pt x="678" y="378"/>
                </a:cubicBezTo>
                <a:cubicBezTo>
                  <a:pt x="685" y="370"/>
                  <a:pt x="685" y="370"/>
                  <a:pt x="685" y="370"/>
                </a:cubicBezTo>
                <a:cubicBezTo>
                  <a:pt x="687" y="368"/>
                  <a:pt x="687" y="368"/>
                  <a:pt x="687" y="368"/>
                </a:cubicBezTo>
                <a:cubicBezTo>
                  <a:pt x="695" y="371"/>
                  <a:pt x="695" y="371"/>
                  <a:pt x="695" y="371"/>
                </a:cubicBezTo>
                <a:cubicBezTo>
                  <a:pt x="704" y="370"/>
                  <a:pt x="704" y="370"/>
                  <a:pt x="704" y="370"/>
                </a:cubicBezTo>
                <a:cubicBezTo>
                  <a:pt x="711" y="363"/>
                  <a:pt x="711" y="363"/>
                  <a:pt x="711" y="363"/>
                </a:cubicBezTo>
                <a:cubicBezTo>
                  <a:pt x="714" y="357"/>
                  <a:pt x="714" y="357"/>
                  <a:pt x="714" y="357"/>
                </a:cubicBezTo>
                <a:cubicBezTo>
                  <a:pt x="712" y="354"/>
                  <a:pt x="712" y="354"/>
                  <a:pt x="712" y="354"/>
                </a:cubicBezTo>
                <a:cubicBezTo>
                  <a:pt x="706" y="357"/>
                  <a:pt x="706" y="357"/>
                  <a:pt x="706" y="357"/>
                </a:cubicBezTo>
                <a:cubicBezTo>
                  <a:pt x="706" y="356"/>
                  <a:pt x="706" y="356"/>
                  <a:pt x="706" y="356"/>
                </a:cubicBezTo>
                <a:cubicBezTo>
                  <a:pt x="705" y="356"/>
                  <a:pt x="705" y="356"/>
                  <a:pt x="705" y="356"/>
                </a:cubicBezTo>
                <a:cubicBezTo>
                  <a:pt x="698" y="350"/>
                  <a:pt x="698" y="350"/>
                  <a:pt x="698" y="350"/>
                </a:cubicBezTo>
                <a:cubicBezTo>
                  <a:pt x="698" y="349"/>
                  <a:pt x="698" y="349"/>
                  <a:pt x="698" y="349"/>
                </a:cubicBezTo>
                <a:cubicBezTo>
                  <a:pt x="701" y="338"/>
                  <a:pt x="701" y="338"/>
                  <a:pt x="701" y="338"/>
                </a:cubicBezTo>
                <a:cubicBezTo>
                  <a:pt x="701" y="330"/>
                  <a:pt x="701" y="330"/>
                  <a:pt x="701" y="330"/>
                </a:cubicBezTo>
                <a:cubicBezTo>
                  <a:pt x="699" y="324"/>
                  <a:pt x="699" y="324"/>
                  <a:pt x="699" y="324"/>
                </a:cubicBezTo>
                <a:cubicBezTo>
                  <a:pt x="694" y="322"/>
                  <a:pt x="694" y="322"/>
                  <a:pt x="694" y="322"/>
                </a:cubicBezTo>
                <a:cubicBezTo>
                  <a:pt x="694" y="321"/>
                  <a:pt x="694" y="321"/>
                  <a:pt x="694" y="321"/>
                </a:cubicBezTo>
                <a:cubicBezTo>
                  <a:pt x="693" y="321"/>
                  <a:pt x="693" y="321"/>
                  <a:pt x="693" y="321"/>
                </a:cubicBezTo>
                <a:cubicBezTo>
                  <a:pt x="693" y="320"/>
                  <a:pt x="693" y="320"/>
                  <a:pt x="693" y="320"/>
                </a:cubicBezTo>
                <a:cubicBezTo>
                  <a:pt x="688" y="311"/>
                  <a:pt x="688" y="311"/>
                  <a:pt x="688" y="311"/>
                </a:cubicBezTo>
                <a:cubicBezTo>
                  <a:pt x="687" y="310"/>
                  <a:pt x="687" y="310"/>
                  <a:pt x="687" y="310"/>
                </a:cubicBezTo>
                <a:cubicBezTo>
                  <a:pt x="681" y="318"/>
                  <a:pt x="681" y="318"/>
                  <a:pt x="681" y="318"/>
                </a:cubicBezTo>
                <a:cubicBezTo>
                  <a:pt x="674" y="322"/>
                  <a:pt x="674" y="322"/>
                  <a:pt x="674" y="322"/>
                </a:cubicBezTo>
                <a:cubicBezTo>
                  <a:pt x="672" y="323"/>
                  <a:pt x="672" y="323"/>
                  <a:pt x="672" y="323"/>
                </a:cubicBezTo>
                <a:cubicBezTo>
                  <a:pt x="672" y="322"/>
                  <a:pt x="672" y="322"/>
                  <a:pt x="672" y="322"/>
                </a:cubicBezTo>
                <a:cubicBezTo>
                  <a:pt x="671" y="322"/>
                  <a:pt x="671" y="322"/>
                  <a:pt x="671" y="322"/>
                </a:cubicBezTo>
                <a:cubicBezTo>
                  <a:pt x="664" y="315"/>
                  <a:pt x="664" y="315"/>
                  <a:pt x="664" y="315"/>
                </a:cubicBezTo>
                <a:cubicBezTo>
                  <a:pt x="664" y="314"/>
                  <a:pt x="664" y="314"/>
                  <a:pt x="664" y="314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7" y="295"/>
                  <a:pt x="657" y="295"/>
                  <a:pt x="657" y="295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82"/>
                  <a:pt x="657" y="282"/>
                  <a:pt x="657" y="282"/>
                </a:cubicBezTo>
                <a:cubicBezTo>
                  <a:pt x="656" y="275"/>
                  <a:pt x="656" y="275"/>
                  <a:pt x="656" y="275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37" y="263"/>
                  <a:pt x="637" y="263"/>
                  <a:pt x="637" y="263"/>
                </a:cubicBezTo>
                <a:cubicBezTo>
                  <a:pt x="638" y="262"/>
                  <a:pt x="638" y="262"/>
                  <a:pt x="638" y="262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4"/>
                  <a:pt x="644" y="254"/>
                  <a:pt x="644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51" y="254"/>
                  <a:pt x="651" y="254"/>
                  <a:pt x="651" y="254"/>
                </a:cubicBezTo>
                <a:cubicBezTo>
                  <a:pt x="652" y="254"/>
                  <a:pt x="652" y="254"/>
                  <a:pt x="652" y="254"/>
                </a:cubicBezTo>
                <a:cubicBezTo>
                  <a:pt x="654" y="254"/>
                  <a:pt x="656" y="255"/>
                  <a:pt x="657" y="257"/>
                </a:cubicBezTo>
                <a:cubicBezTo>
                  <a:pt x="663" y="261"/>
                  <a:pt x="663" y="261"/>
                  <a:pt x="663" y="261"/>
                </a:cubicBezTo>
                <a:cubicBezTo>
                  <a:pt x="669" y="256"/>
                  <a:pt x="669" y="256"/>
                  <a:pt x="669" y="256"/>
                </a:cubicBezTo>
                <a:cubicBezTo>
                  <a:pt x="673" y="250"/>
                  <a:pt x="673" y="250"/>
                  <a:pt x="673" y="250"/>
                </a:cubicBezTo>
                <a:cubicBezTo>
                  <a:pt x="673" y="245"/>
                  <a:pt x="673" y="245"/>
                  <a:pt x="673" y="245"/>
                </a:cubicBezTo>
                <a:cubicBezTo>
                  <a:pt x="672" y="232"/>
                  <a:pt x="672" y="232"/>
                  <a:pt x="672" y="232"/>
                </a:cubicBezTo>
                <a:cubicBezTo>
                  <a:pt x="671" y="227"/>
                  <a:pt x="671" y="227"/>
                  <a:pt x="671" y="227"/>
                </a:cubicBezTo>
                <a:cubicBezTo>
                  <a:pt x="662" y="226"/>
                  <a:pt x="662" y="226"/>
                  <a:pt x="662" y="226"/>
                </a:cubicBezTo>
                <a:cubicBezTo>
                  <a:pt x="662" y="220"/>
                  <a:pt x="662" y="220"/>
                  <a:pt x="662" y="220"/>
                </a:cubicBezTo>
                <a:cubicBezTo>
                  <a:pt x="654" y="210"/>
                  <a:pt x="654" y="210"/>
                  <a:pt x="654" y="210"/>
                </a:cubicBezTo>
                <a:cubicBezTo>
                  <a:pt x="653" y="210"/>
                  <a:pt x="653" y="210"/>
                  <a:pt x="653" y="210"/>
                </a:cubicBezTo>
                <a:cubicBezTo>
                  <a:pt x="649" y="203"/>
                  <a:pt x="649" y="203"/>
                  <a:pt x="649" y="203"/>
                </a:cubicBezTo>
                <a:cubicBezTo>
                  <a:pt x="649" y="202"/>
                  <a:pt x="649" y="202"/>
                  <a:pt x="649" y="202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57" y="190"/>
                  <a:pt x="657" y="190"/>
                  <a:pt x="657" y="190"/>
                </a:cubicBezTo>
                <a:cubicBezTo>
                  <a:pt x="657" y="189"/>
                  <a:pt x="657" y="189"/>
                  <a:pt x="657" y="189"/>
                </a:cubicBezTo>
                <a:cubicBezTo>
                  <a:pt x="658" y="189"/>
                  <a:pt x="658" y="189"/>
                  <a:pt x="658" y="189"/>
                </a:cubicBezTo>
                <a:cubicBezTo>
                  <a:pt x="658" y="188"/>
                  <a:pt x="658" y="188"/>
                  <a:pt x="658" y="188"/>
                </a:cubicBezTo>
                <a:cubicBezTo>
                  <a:pt x="659" y="188"/>
                  <a:pt x="659" y="188"/>
                  <a:pt x="659" y="188"/>
                </a:cubicBezTo>
                <a:cubicBezTo>
                  <a:pt x="662" y="188"/>
                  <a:pt x="662" y="188"/>
                  <a:pt x="662" y="188"/>
                </a:cubicBezTo>
                <a:cubicBezTo>
                  <a:pt x="667" y="184"/>
                  <a:pt x="667" y="184"/>
                  <a:pt x="667" y="184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9" y="161"/>
                  <a:pt x="679" y="161"/>
                  <a:pt x="679" y="161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87" y="158"/>
                  <a:pt x="687" y="158"/>
                  <a:pt x="687" y="158"/>
                </a:cubicBezTo>
                <a:cubicBezTo>
                  <a:pt x="687" y="159"/>
                  <a:pt x="687" y="159"/>
                  <a:pt x="687" y="159"/>
                </a:cubicBezTo>
                <a:cubicBezTo>
                  <a:pt x="691" y="163"/>
                  <a:pt x="691" y="163"/>
                  <a:pt x="691" y="163"/>
                </a:cubicBezTo>
                <a:cubicBezTo>
                  <a:pt x="693" y="164"/>
                  <a:pt x="693" y="164"/>
                  <a:pt x="693" y="164"/>
                </a:cubicBezTo>
                <a:cubicBezTo>
                  <a:pt x="696" y="151"/>
                  <a:pt x="696" y="151"/>
                  <a:pt x="696" y="151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1"/>
                  <a:pt x="693" y="141"/>
                  <a:pt x="693" y="141"/>
                </a:cubicBezTo>
                <a:cubicBezTo>
                  <a:pt x="694" y="131"/>
                  <a:pt x="694" y="131"/>
                  <a:pt x="694" y="131"/>
                </a:cubicBezTo>
                <a:cubicBezTo>
                  <a:pt x="694" y="130"/>
                  <a:pt x="694" y="130"/>
                  <a:pt x="694" y="130"/>
                </a:cubicBezTo>
                <a:cubicBezTo>
                  <a:pt x="699" y="125"/>
                  <a:pt x="699" y="125"/>
                  <a:pt x="699" y="125"/>
                </a:cubicBezTo>
                <a:cubicBezTo>
                  <a:pt x="702" y="120"/>
                  <a:pt x="702" y="120"/>
                  <a:pt x="702" y="120"/>
                </a:cubicBezTo>
                <a:cubicBezTo>
                  <a:pt x="702" y="115"/>
                  <a:pt x="702" y="115"/>
                  <a:pt x="702" y="115"/>
                </a:cubicBezTo>
                <a:cubicBezTo>
                  <a:pt x="702" y="112"/>
                  <a:pt x="701" y="108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93"/>
                  <a:pt x="699" y="93"/>
                  <a:pt x="699" y="93"/>
                </a:cubicBezTo>
                <a:cubicBezTo>
                  <a:pt x="699" y="92"/>
                  <a:pt x="699" y="92"/>
                  <a:pt x="699" y="92"/>
                </a:cubicBezTo>
                <a:cubicBezTo>
                  <a:pt x="701" y="84"/>
                  <a:pt x="701" y="84"/>
                  <a:pt x="701" y="84"/>
                </a:cubicBezTo>
                <a:cubicBezTo>
                  <a:pt x="699" y="80"/>
                  <a:pt x="698" y="78"/>
                  <a:pt x="698" y="76"/>
                </a:cubicBezTo>
                <a:lnTo>
                  <a:pt x="699" y="64"/>
                </a:lnTo>
                <a:close/>
              </a:path>
            </a:pathLst>
          </a:cu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6"/>
          <p:cNvSpPr/>
          <p:nvPr/>
        </p:nvSpPr>
        <p:spPr>
          <a:xfrm>
            <a:off x="2254320" y="2548080"/>
            <a:ext cx="1466640" cy="1239840"/>
          </a:xfrm>
          <a:custGeom>
            <a:avLst/>
            <a:gdLst>
              <a:gd name="textAreaLeft" fmla="*/ 0 w 1466640"/>
              <a:gd name="textAreaRight" fmla="*/ 1467000 w 1466640"/>
              <a:gd name="textAreaTop" fmla="*/ 0 h 1239840"/>
              <a:gd name="textAreaBottom" fmla="*/ 1240200 h 1239840"/>
            </a:gdLst>
            <a:ahLst/>
            <a:rect l="textAreaLeft" t="textAreaTop" r="textAreaRight" b="textAreaBottom"/>
            <a:pathLst>
              <a:path w="456" h="386">
                <a:moveTo>
                  <a:pt x="271" y="140"/>
                </a:moveTo>
                <a:cubicBezTo>
                  <a:pt x="265" y="140"/>
                  <a:pt x="265" y="140"/>
                  <a:pt x="265" y="140"/>
                </a:cubicBezTo>
                <a:cubicBezTo>
                  <a:pt x="263" y="144"/>
                  <a:pt x="263" y="144"/>
                  <a:pt x="263" y="144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5"/>
                  <a:pt x="268" y="155"/>
                  <a:pt x="268" y="155"/>
                </a:cubicBezTo>
                <a:cubicBezTo>
                  <a:pt x="268" y="156"/>
                  <a:pt x="268" y="156"/>
                  <a:pt x="268" y="156"/>
                </a:cubicBezTo>
                <a:cubicBezTo>
                  <a:pt x="259" y="160"/>
                  <a:pt x="259" y="160"/>
                  <a:pt x="259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1" y="160"/>
                  <a:pt x="247" y="158"/>
                  <a:pt x="246" y="155"/>
                </a:cubicBezTo>
                <a:cubicBezTo>
                  <a:pt x="244" y="150"/>
                  <a:pt x="244" y="150"/>
                  <a:pt x="244" y="150"/>
                </a:cubicBezTo>
                <a:cubicBezTo>
                  <a:pt x="232" y="148"/>
                  <a:pt x="232" y="148"/>
                  <a:pt x="232" y="148"/>
                </a:cubicBezTo>
                <a:cubicBezTo>
                  <a:pt x="228" y="132"/>
                  <a:pt x="228" y="132"/>
                  <a:pt x="228" y="132"/>
                </a:cubicBezTo>
                <a:cubicBezTo>
                  <a:pt x="226" y="132"/>
                  <a:pt x="224" y="131"/>
                  <a:pt x="223" y="129"/>
                </a:cubicBezTo>
                <a:cubicBezTo>
                  <a:pt x="222" y="128"/>
                  <a:pt x="222" y="128"/>
                  <a:pt x="222" y="128"/>
                </a:cubicBezTo>
                <a:cubicBezTo>
                  <a:pt x="220" y="126"/>
                  <a:pt x="219" y="124"/>
                  <a:pt x="216" y="124"/>
                </a:cubicBezTo>
                <a:cubicBezTo>
                  <a:pt x="213" y="122"/>
                  <a:pt x="210" y="120"/>
                  <a:pt x="208" y="116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5" y="102"/>
                  <a:pt x="195" y="102"/>
                  <a:pt x="195" y="102"/>
                </a:cubicBezTo>
                <a:cubicBezTo>
                  <a:pt x="195" y="101"/>
                  <a:pt x="195" y="101"/>
                  <a:pt x="195" y="101"/>
                </a:cubicBezTo>
                <a:cubicBezTo>
                  <a:pt x="208" y="84"/>
                  <a:pt x="208" y="84"/>
                  <a:pt x="208" y="84"/>
                </a:cubicBezTo>
                <a:cubicBezTo>
                  <a:pt x="208" y="82"/>
                  <a:pt x="208" y="82"/>
                  <a:pt x="208" y="81"/>
                </a:cubicBezTo>
                <a:cubicBezTo>
                  <a:pt x="206" y="76"/>
                  <a:pt x="206" y="76"/>
                  <a:pt x="206" y="76"/>
                </a:cubicBezTo>
                <a:cubicBezTo>
                  <a:pt x="199" y="78"/>
                  <a:pt x="199" y="78"/>
                  <a:pt x="199" y="78"/>
                </a:cubicBezTo>
                <a:cubicBezTo>
                  <a:pt x="198" y="78"/>
                  <a:pt x="198" y="78"/>
                  <a:pt x="198" y="78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80" y="80"/>
                  <a:pt x="180" y="80"/>
                  <a:pt x="180" y="80"/>
                </a:cubicBezTo>
                <a:cubicBezTo>
                  <a:pt x="174" y="82"/>
                  <a:pt x="174" y="82"/>
                  <a:pt x="174" y="82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0" y="86"/>
                  <a:pt x="170" y="86"/>
                  <a:pt x="170" y="86"/>
                </a:cubicBezTo>
                <a:cubicBezTo>
                  <a:pt x="168" y="88"/>
                  <a:pt x="166" y="90"/>
                  <a:pt x="162" y="89"/>
                </a:cubicBezTo>
                <a:cubicBezTo>
                  <a:pt x="162" y="89"/>
                  <a:pt x="162" y="89"/>
                  <a:pt x="162" y="89"/>
                </a:cubicBezTo>
                <a:cubicBezTo>
                  <a:pt x="162" y="88"/>
                  <a:pt x="162" y="88"/>
                  <a:pt x="162" y="88"/>
                </a:cubicBezTo>
                <a:cubicBezTo>
                  <a:pt x="156" y="84"/>
                  <a:pt x="156" y="84"/>
                  <a:pt x="156" y="84"/>
                </a:cubicBezTo>
                <a:cubicBezTo>
                  <a:pt x="156" y="74"/>
                  <a:pt x="156" y="74"/>
                  <a:pt x="156" y="74"/>
                </a:cubicBezTo>
                <a:cubicBezTo>
                  <a:pt x="152" y="72"/>
                  <a:pt x="150" y="69"/>
                  <a:pt x="150" y="67"/>
                </a:cubicBezTo>
                <a:cubicBezTo>
                  <a:pt x="148" y="58"/>
                  <a:pt x="148" y="58"/>
                  <a:pt x="148" y="58"/>
                </a:cubicBezTo>
                <a:cubicBezTo>
                  <a:pt x="144" y="54"/>
                  <a:pt x="144" y="54"/>
                  <a:pt x="144" y="54"/>
                </a:cubicBezTo>
                <a:cubicBezTo>
                  <a:pt x="140" y="50"/>
                  <a:pt x="140" y="50"/>
                  <a:pt x="140" y="50"/>
                </a:cubicBezTo>
                <a:cubicBezTo>
                  <a:pt x="138" y="49"/>
                  <a:pt x="138" y="49"/>
                  <a:pt x="138" y="49"/>
                </a:cubicBezTo>
                <a:cubicBezTo>
                  <a:pt x="145" y="40"/>
                  <a:pt x="145" y="40"/>
                  <a:pt x="145" y="40"/>
                </a:cubicBezTo>
                <a:cubicBezTo>
                  <a:pt x="146" y="34"/>
                  <a:pt x="146" y="34"/>
                  <a:pt x="146" y="3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2"/>
                  <a:pt x="134" y="12"/>
                  <a:pt x="134" y="12"/>
                </a:cubicBezTo>
                <a:cubicBezTo>
                  <a:pt x="128" y="8"/>
                  <a:pt x="128" y="8"/>
                  <a:pt x="128" y="8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3" y="1"/>
                  <a:pt x="123" y="1"/>
                  <a:pt x="123" y="1"/>
                </a:cubicBezTo>
                <a:cubicBezTo>
                  <a:pt x="116" y="0"/>
                  <a:pt x="116" y="0"/>
                  <a:pt x="116" y="0"/>
                </a:cubicBezTo>
                <a:cubicBezTo>
                  <a:pt x="108" y="2"/>
                  <a:pt x="108" y="2"/>
                  <a:pt x="108" y="2"/>
                </a:cubicBezTo>
                <a:cubicBezTo>
                  <a:pt x="106" y="4"/>
                  <a:pt x="106" y="4"/>
                  <a:pt x="106" y="4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4" y="28"/>
                  <a:pt x="104" y="28"/>
                  <a:pt x="104" y="28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89" y="32"/>
                  <a:pt x="89" y="32"/>
                  <a:pt x="89" y="32"/>
                </a:cubicBezTo>
                <a:cubicBezTo>
                  <a:pt x="86" y="34"/>
                  <a:pt x="82" y="36"/>
                  <a:pt x="77" y="37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62" y="34"/>
                  <a:pt x="62" y="34"/>
                  <a:pt x="62" y="34"/>
                </a:cubicBezTo>
                <a:cubicBezTo>
                  <a:pt x="57" y="40"/>
                  <a:pt x="57" y="40"/>
                  <a:pt x="57" y="40"/>
                </a:cubicBezTo>
                <a:cubicBezTo>
                  <a:pt x="56" y="42"/>
                  <a:pt x="53" y="44"/>
                  <a:pt x="49" y="44"/>
                </a:cubicBezTo>
                <a:cubicBezTo>
                  <a:pt x="41" y="51"/>
                  <a:pt x="41" y="51"/>
                  <a:pt x="41" y="51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9"/>
                  <a:pt x="36" y="59"/>
                  <a:pt x="36" y="59"/>
                </a:cubicBezTo>
                <a:cubicBezTo>
                  <a:pt x="34" y="62"/>
                  <a:pt x="32" y="65"/>
                  <a:pt x="30" y="66"/>
                </a:cubicBezTo>
                <a:cubicBezTo>
                  <a:pt x="25" y="72"/>
                  <a:pt x="25" y="72"/>
                  <a:pt x="25" y="72"/>
                </a:cubicBezTo>
                <a:cubicBezTo>
                  <a:pt x="25" y="73"/>
                  <a:pt x="25" y="73"/>
                  <a:pt x="25" y="73"/>
                </a:cubicBezTo>
                <a:cubicBezTo>
                  <a:pt x="25" y="73"/>
                  <a:pt x="25" y="73"/>
                  <a:pt x="25" y="73"/>
                </a:cubicBezTo>
                <a:cubicBezTo>
                  <a:pt x="22" y="75"/>
                  <a:pt x="22" y="75"/>
                  <a:pt x="22" y="75"/>
                </a:cubicBezTo>
                <a:cubicBezTo>
                  <a:pt x="20" y="76"/>
                  <a:pt x="18" y="76"/>
                  <a:pt x="16" y="76"/>
                </a:cubicBezTo>
                <a:cubicBezTo>
                  <a:pt x="6" y="76"/>
                  <a:pt x="6" y="76"/>
                  <a:pt x="6" y="76"/>
                </a:cubicBezTo>
                <a:cubicBezTo>
                  <a:pt x="4" y="79"/>
                  <a:pt x="4" y="79"/>
                  <a:pt x="4" y="79"/>
                </a:cubicBezTo>
                <a:cubicBezTo>
                  <a:pt x="0" y="86"/>
                  <a:pt x="0" y="86"/>
                  <a:pt x="0" y="86"/>
                </a:cubicBezTo>
                <a:cubicBezTo>
                  <a:pt x="2" y="92"/>
                  <a:pt x="2" y="92"/>
                  <a:pt x="2" y="92"/>
                </a:cubicBezTo>
                <a:cubicBezTo>
                  <a:pt x="1" y="108"/>
                  <a:pt x="1" y="108"/>
                  <a:pt x="1" y="10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13"/>
                  <a:pt x="4" y="113"/>
                  <a:pt x="4" y="113"/>
                </a:cubicBezTo>
                <a:cubicBezTo>
                  <a:pt x="5" y="116"/>
                  <a:pt x="5" y="116"/>
                  <a:pt x="5" y="116"/>
                </a:cubicBezTo>
                <a:cubicBezTo>
                  <a:pt x="11" y="116"/>
                  <a:pt x="11" y="116"/>
                  <a:pt x="11" y="116"/>
                </a:cubicBezTo>
                <a:cubicBezTo>
                  <a:pt x="20" y="118"/>
                  <a:pt x="20" y="118"/>
                  <a:pt x="20" y="118"/>
                </a:cubicBezTo>
                <a:cubicBezTo>
                  <a:pt x="33" y="119"/>
                  <a:pt x="33" y="119"/>
                  <a:pt x="33" y="119"/>
                </a:cubicBezTo>
                <a:cubicBezTo>
                  <a:pt x="38" y="118"/>
                  <a:pt x="38" y="118"/>
                  <a:pt x="38" y="118"/>
                </a:cubicBezTo>
                <a:cubicBezTo>
                  <a:pt x="39" y="118"/>
                  <a:pt x="39" y="118"/>
                  <a:pt x="39" y="118"/>
                </a:cubicBezTo>
                <a:cubicBezTo>
                  <a:pt x="40" y="118"/>
                  <a:pt x="40" y="118"/>
                  <a:pt x="40" y="118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1" y="122"/>
                  <a:pt x="51" y="122"/>
                  <a:pt x="51" y="122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8" y="131"/>
                  <a:pt x="68" y="131"/>
                  <a:pt x="68" y="131"/>
                </a:cubicBezTo>
                <a:cubicBezTo>
                  <a:pt x="69" y="131"/>
                  <a:pt x="69" y="131"/>
                  <a:pt x="69" y="131"/>
                </a:cubicBezTo>
                <a:cubicBezTo>
                  <a:pt x="77" y="136"/>
                  <a:pt x="77" y="136"/>
                  <a:pt x="77" y="136"/>
                </a:cubicBezTo>
                <a:cubicBezTo>
                  <a:pt x="96" y="154"/>
                  <a:pt x="96" y="154"/>
                  <a:pt x="96" y="154"/>
                </a:cubicBezTo>
                <a:cubicBezTo>
                  <a:pt x="105" y="158"/>
                  <a:pt x="105" y="158"/>
                  <a:pt x="105" y="158"/>
                </a:cubicBezTo>
                <a:cubicBezTo>
                  <a:pt x="109" y="156"/>
                  <a:pt x="109" y="156"/>
                  <a:pt x="109" y="156"/>
                </a:cubicBezTo>
                <a:cubicBezTo>
                  <a:pt x="112" y="150"/>
                  <a:pt x="112" y="150"/>
                  <a:pt x="112" y="150"/>
                </a:cubicBezTo>
                <a:cubicBezTo>
                  <a:pt x="110" y="139"/>
                  <a:pt x="110" y="139"/>
                  <a:pt x="110" y="139"/>
                </a:cubicBezTo>
                <a:cubicBezTo>
                  <a:pt x="110" y="136"/>
                  <a:pt x="113" y="134"/>
                  <a:pt x="118" y="132"/>
                </a:cubicBezTo>
                <a:cubicBezTo>
                  <a:pt x="118" y="131"/>
                  <a:pt x="118" y="131"/>
                  <a:pt x="118" y="131"/>
                </a:cubicBezTo>
                <a:cubicBezTo>
                  <a:pt x="143" y="146"/>
                  <a:pt x="143" y="146"/>
                  <a:pt x="143" y="146"/>
                </a:cubicBezTo>
                <a:cubicBezTo>
                  <a:pt x="146" y="145"/>
                  <a:pt x="146" y="145"/>
                  <a:pt x="146" y="145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2" y="142"/>
                  <a:pt x="152" y="142"/>
                  <a:pt x="152" y="142"/>
                </a:cubicBezTo>
                <a:cubicBezTo>
                  <a:pt x="155" y="142"/>
                  <a:pt x="155" y="142"/>
                  <a:pt x="155" y="142"/>
                </a:cubicBezTo>
                <a:cubicBezTo>
                  <a:pt x="160" y="138"/>
                  <a:pt x="160" y="138"/>
                  <a:pt x="160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2" y="138"/>
                  <a:pt x="162" y="138"/>
                  <a:pt x="162" y="138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7" y="149"/>
                  <a:pt x="177" y="149"/>
                  <a:pt x="177" y="149"/>
                </a:cubicBezTo>
                <a:cubicBezTo>
                  <a:pt x="186" y="156"/>
                  <a:pt x="186" y="156"/>
                  <a:pt x="186" y="156"/>
                </a:cubicBezTo>
                <a:cubicBezTo>
                  <a:pt x="188" y="158"/>
                  <a:pt x="192" y="161"/>
                  <a:pt x="194" y="165"/>
                </a:cubicBezTo>
                <a:cubicBezTo>
                  <a:pt x="199" y="170"/>
                  <a:pt x="199" y="170"/>
                  <a:pt x="199" y="170"/>
                </a:cubicBezTo>
                <a:cubicBezTo>
                  <a:pt x="202" y="169"/>
                  <a:pt x="202" y="169"/>
                  <a:pt x="202" y="169"/>
                </a:cubicBezTo>
                <a:cubicBezTo>
                  <a:pt x="206" y="162"/>
                  <a:pt x="206" y="162"/>
                  <a:pt x="206" y="162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22" y="176"/>
                  <a:pt x="222" y="176"/>
                  <a:pt x="222" y="176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6" y="196"/>
                  <a:pt x="246" y="196"/>
                  <a:pt x="246" y="196"/>
                </a:cubicBezTo>
                <a:cubicBezTo>
                  <a:pt x="261" y="191"/>
                  <a:pt x="261" y="191"/>
                  <a:pt x="261" y="191"/>
                </a:cubicBezTo>
                <a:cubicBezTo>
                  <a:pt x="262" y="203"/>
                  <a:pt x="262" y="203"/>
                  <a:pt x="262" y="203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74" y="218"/>
                  <a:pt x="274" y="218"/>
                  <a:pt x="274" y="218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20"/>
                  <a:pt x="274" y="220"/>
                  <a:pt x="274" y="220"/>
                </a:cubicBezTo>
                <a:cubicBezTo>
                  <a:pt x="280" y="247"/>
                  <a:pt x="280" y="247"/>
                  <a:pt x="280" y="247"/>
                </a:cubicBezTo>
                <a:cubicBezTo>
                  <a:pt x="286" y="258"/>
                  <a:pt x="286" y="258"/>
                  <a:pt x="286" y="258"/>
                </a:cubicBezTo>
                <a:cubicBezTo>
                  <a:pt x="278" y="279"/>
                  <a:pt x="278" y="279"/>
                  <a:pt x="278" y="279"/>
                </a:cubicBezTo>
                <a:cubicBezTo>
                  <a:pt x="278" y="280"/>
                  <a:pt x="278" y="280"/>
                  <a:pt x="278" y="280"/>
                </a:cubicBezTo>
                <a:cubicBezTo>
                  <a:pt x="272" y="282"/>
                  <a:pt x="272" y="282"/>
                  <a:pt x="272" y="282"/>
                </a:cubicBezTo>
                <a:cubicBezTo>
                  <a:pt x="272" y="288"/>
                  <a:pt x="272" y="288"/>
                  <a:pt x="272" y="288"/>
                </a:cubicBezTo>
                <a:cubicBezTo>
                  <a:pt x="271" y="288"/>
                  <a:pt x="271" y="288"/>
                  <a:pt x="271" y="288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54" y="300"/>
                  <a:pt x="254" y="300"/>
                  <a:pt x="254" y="300"/>
                </a:cubicBezTo>
                <a:cubicBezTo>
                  <a:pt x="244" y="308"/>
                  <a:pt x="244" y="308"/>
                  <a:pt x="244" y="308"/>
                </a:cubicBezTo>
                <a:cubicBezTo>
                  <a:pt x="246" y="309"/>
                  <a:pt x="247" y="310"/>
                  <a:pt x="250" y="311"/>
                </a:cubicBezTo>
                <a:cubicBezTo>
                  <a:pt x="254" y="312"/>
                  <a:pt x="254" y="316"/>
                  <a:pt x="252" y="321"/>
                </a:cubicBezTo>
                <a:cubicBezTo>
                  <a:pt x="252" y="322"/>
                  <a:pt x="252" y="322"/>
                  <a:pt x="252" y="322"/>
                </a:cubicBezTo>
                <a:cubicBezTo>
                  <a:pt x="246" y="328"/>
                  <a:pt x="246" y="328"/>
                  <a:pt x="246" y="328"/>
                </a:cubicBezTo>
                <a:cubicBezTo>
                  <a:pt x="245" y="328"/>
                  <a:pt x="245" y="328"/>
                  <a:pt x="245" y="328"/>
                </a:cubicBezTo>
                <a:cubicBezTo>
                  <a:pt x="245" y="329"/>
                  <a:pt x="245" y="329"/>
                  <a:pt x="245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25" y="326"/>
                  <a:pt x="225" y="326"/>
                  <a:pt x="225" y="326"/>
                </a:cubicBezTo>
                <a:cubicBezTo>
                  <a:pt x="224" y="333"/>
                  <a:pt x="224" y="333"/>
                  <a:pt x="224" y="333"/>
                </a:cubicBezTo>
                <a:cubicBezTo>
                  <a:pt x="226" y="348"/>
                  <a:pt x="226" y="348"/>
                  <a:pt x="226" y="348"/>
                </a:cubicBezTo>
                <a:cubicBezTo>
                  <a:pt x="242" y="354"/>
                  <a:pt x="242" y="354"/>
                  <a:pt x="242" y="354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8" y="353"/>
                  <a:pt x="248" y="353"/>
                  <a:pt x="248" y="353"/>
                </a:cubicBezTo>
                <a:cubicBezTo>
                  <a:pt x="249" y="353"/>
                  <a:pt x="249" y="353"/>
                  <a:pt x="249" y="353"/>
                </a:cubicBezTo>
                <a:cubicBezTo>
                  <a:pt x="250" y="352"/>
                  <a:pt x="250" y="352"/>
                  <a:pt x="250" y="352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5" y="356"/>
                  <a:pt x="255" y="356"/>
                  <a:pt x="255" y="356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4" y="355"/>
                  <a:pt x="264" y="355"/>
                  <a:pt x="264" y="355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0" y="340"/>
                  <a:pt x="260" y="340"/>
                  <a:pt x="260" y="340"/>
                </a:cubicBezTo>
                <a:cubicBezTo>
                  <a:pt x="260" y="339"/>
                  <a:pt x="260" y="339"/>
                  <a:pt x="260" y="339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3" y="335"/>
                  <a:pt x="263" y="335"/>
                  <a:pt x="263" y="335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8" y="328"/>
                  <a:pt x="268" y="328"/>
                  <a:pt x="268" y="328"/>
                </a:cubicBezTo>
                <a:cubicBezTo>
                  <a:pt x="269" y="327"/>
                  <a:pt x="269" y="327"/>
                  <a:pt x="269" y="327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1"/>
                  <a:pt x="276" y="321"/>
                  <a:pt x="276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86" y="320"/>
                  <a:pt x="286" y="320"/>
                  <a:pt x="286" y="320"/>
                </a:cubicBezTo>
                <a:cubicBezTo>
                  <a:pt x="286" y="322"/>
                  <a:pt x="286" y="322"/>
                  <a:pt x="286" y="322"/>
                </a:cubicBezTo>
                <a:cubicBezTo>
                  <a:pt x="286" y="325"/>
                  <a:pt x="286" y="327"/>
                  <a:pt x="286" y="328"/>
                </a:cubicBezTo>
                <a:cubicBezTo>
                  <a:pt x="288" y="332"/>
                  <a:pt x="288" y="332"/>
                  <a:pt x="288" y="332"/>
                </a:cubicBezTo>
                <a:cubicBezTo>
                  <a:pt x="290" y="337"/>
                  <a:pt x="290" y="337"/>
                  <a:pt x="290" y="337"/>
                </a:cubicBezTo>
                <a:cubicBezTo>
                  <a:pt x="298" y="342"/>
                  <a:pt x="298" y="342"/>
                  <a:pt x="298" y="342"/>
                </a:cubicBezTo>
                <a:cubicBezTo>
                  <a:pt x="320" y="344"/>
                  <a:pt x="320" y="344"/>
                  <a:pt x="320" y="344"/>
                </a:cubicBezTo>
                <a:cubicBezTo>
                  <a:pt x="321" y="344"/>
                  <a:pt x="321" y="344"/>
                  <a:pt x="321" y="344"/>
                </a:cubicBezTo>
                <a:cubicBezTo>
                  <a:pt x="322" y="344"/>
                  <a:pt x="322" y="344"/>
                  <a:pt x="322" y="344"/>
                </a:cubicBezTo>
                <a:cubicBezTo>
                  <a:pt x="322" y="345"/>
                  <a:pt x="322" y="345"/>
                  <a:pt x="322" y="345"/>
                </a:cubicBezTo>
                <a:cubicBezTo>
                  <a:pt x="322" y="346"/>
                  <a:pt x="322" y="346"/>
                  <a:pt x="322" y="346"/>
                </a:cubicBezTo>
                <a:cubicBezTo>
                  <a:pt x="322" y="353"/>
                  <a:pt x="322" y="353"/>
                  <a:pt x="322" y="353"/>
                </a:cubicBezTo>
                <a:cubicBezTo>
                  <a:pt x="328" y="360"/>
                  <a:pt x="328" y="360"/>
                  <a:pt x="328" y="360"/>
                </a:cubicBezTo>
                <a:cubicBezTo>
                  <a:pt x="333" y="362"/>
                  <a:pt x="333" y="362"/>
                  <a:pt x="333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3"/>
                  <a:pt x="334" y="363"/>
                  <a:pt x="334" y="363"/>
                </a:cubicBezTo>
                <a:cubicBezTo>
                  <a:pt x="334" y="366"/>
                  <a:pt x="334" y="366"/>
                  <a:pt x="334" y="366"/>
                </a:cubicBezTo>
                <a:cubicBezTo>
                  <a:pt x="334" y="370"/>
                  <a:pt x="334" y="370"/>
                  <a:pt x="334" y="370"/>
                </a:cubicBezTo>
                <a:cubicBezTo>
                  <a:pt x="332" y="378"/>
                  <a:pt x="332" y="378"/>
                  <a:pt x="332" y="378"/>
                </a:cubicBezTo>
                <a:cubicBezTo>
                  <a:pt x="335" y="380"/>
                  <a:pt x="335" y="380"/>
                  <a:pt x="335" y="380"/>
                </a:cubicBezTo>
                <a:cubicBezTo>
                  <a:pt x="338" y="380"/>
                  <a:pt x="341" y="380"/>
                  <a:pt x="344" y="382"/>
                </a:cubicBezTo>
                <a:cubicBezTo>
                  <a:pt x="353" y="386"/>
                  <a:pt x="353" y="386"/>
                  <a:pt x="353" y="386"/>
                </a:cubicBezTo>
                <a:cubicBezTo>
                  <a:pt x="358" y="382"/>
                  <a:pt x="358" y="382"/>
                  <a:pt x="358" y="382"/>
                </a:cubicBezTo>
                <a:cubicBezTo>
                  <a:pt x="364" y="375"/>
                  <a:pt x="364" y="375"/>
                  <a:pt x="364" y="375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6" y="371"/>
                  <a:pt x="366" y="371"/>
                  <a:pt x="366" y="371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5" y="361"/>
                  <a:pt x="365" y="361"/>
                  <a:pt x="365" y="361"/>
                </a:cubicBezTo>
                <a:cubicBezTo>
                  <a:pt x="364" y="357"/>
                  <a:pt x="364" y="357"/>
                  <a:pt x="364" y="357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5"/>
                  <a:pt x="364" y="355"/>
                  <a:pt x="364" y="355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74" y="345"/>
                  <a:pt x="374" y="345"/>
                  <a:pt x="374" y="345"/>
                </a:cubicBezTo>
                <a:cubicBezTo>
                  <a:pt x="375" y="345"/>
                  <a:pt x="375" y="345"/>
                  <a:pt x="375" y="345"/>
                </a:cubicBezTo>
                <a:cubicBezTo>
                  <a:pt x="388" y="345"/>
                  <a:pt x="388" y="345"/>
                  <a:pt x="388" y="345"/>
                </a:cubicBezTo>
                <a:cubicBezTo>
                  <a:pt x="390" y="344"/>
                  <a:pt x="390" y="344"/>
                  <a:pt x="390" y="344"/>
                </a:cubicBezTo>
                <a:cubicBezTo>
                  <a:pt x="390" y="338"/>
                  <a:pt x="390" y="338"/>
                  <a:pt x="390" y="338"/>
                </a:cubicBezTo>
                <a:cubicBezTo>
                  <a:pt x="388" y="332"/>
                  <a:pt x="388" y="332"/>
                  <a:pt x="388" y="332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14"/>
                  <a:pt x="383" y="314"/>
                  <a:pt x="383" y="314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96" y="291"/>
                  <a:pt x="396" y="291"/>
                  <a:pt x="396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8" y="290"/>
                  <a:pt x="398" y="290"/>
                  <a:pt x="398" y="290"/>
                </a:cubicBezTo>
                <a:cubicBezTo>
                  <a:pt x="400" y="290"/>
                  <a:pt x="400" y="290"/>
                  <a:pt x="400" y="290"/>
                </a:cubicBezTo>
                <a:cubicBezTo>
                  <a:pt x="404" y="291"/>
                  <a:pt x="404" y="291"/>
                  <a:pt x="404" y="291"/>
                </a:cubicBezTo>
                <a:cubicBezTo>
                  <a:pt x="414" y="296"/>
                  <a:pt x="414" y="296"/>
                  <a:pt x="414" y="296"/>
                </a:cubicBezTo>
                <a:cubicBezTo>
                  <a:pt x="420" y="298"/>
                  <a:pt x="420" y="298"/>
                  <a:pt x="420" y="298"/>
                </a:cubicBezTo>
                <a:cubicBezTo>
                  <a:pt x="420" y="295"/>
                  <a:pt x="420" y="295"/>
                  <a:pt x="420" y="295"/>
                </a:cubicBezTo>
                <a:cubicBezTo>
                  <a:pt x="419" y="294"/>
                  <a:pt x="419" y="294"/>
                  <a:pt x="419" y="294"/>
                </a:cubicBezTo>
                <a:cubicBezTo>
                  <a:pt x="419" y="293"/>
                  <a:pt x="419" y="293"/>
                  <a:pt x="419" y="293"/>
                </a:cubicBezTo>
                <a:cubicBezTo>
                  <a:pt x="419" y="290"/>
                  <a:pt x="420" y="288"/>
                  <a:pt x="423" y="286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0"/>
                  <a:pt x="430" y="280"/>
                  <a:pt x="430" y="280"/>
                </a:cubicBezTo>
                <a:cubicBezTo>
                  <a:pt x="434" y="279"/>
                  <a:pt x="437" y="278"/>
                  <a:pt x="438" y="278"/>
                </a:cubicBezTo>
                <a:cubicBezTo>
                  <a:pt x="445" y="278"/>
                  <a:pt x="445" y="278"/>
                  <a:pt x="445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50" y="278"/>
                  <a:pt x="450" y="278"/>
                  <a:pt x="450" y="278"/>
                </a:cubicBezTo>
                <a:cubicBezTo>
                  <a:pt x="452" y="268"/>
                  <a:pt x="452" y="268"/>
                  <a:pt x="452" y="268"/>
                </a:cubicBezTo>
                <a:cubicBezTo>
                  <a:pt x="452" y="262"/>
                  <a:pt x="452" y="262"/>
                  <a:pt x="452" y="262"/>
                </a:cubicBezTo>
                <a:cubicBezTo>
                  <a:pt x="452" y="257"/>
                  <a:pt x="452" y="254"/>
                  <a:pt x="454" y="254"/>
                </a:cubicBezTo>
                <a:cubicBezTo>
                  <a:pt x="456" y="248"/>
                  <a:pt x="456" y="248"/>
                  <a:pt x="456" y="248"/>
                </a:cubicBezTo>
                <a:cubicBezTo>
                  <a:pt x="453" y="244"/>
                  <a:pt x="453" y="244"/>
                  <a:pt x="453" y="244"/>
                </a:cubicBezTo>
                <a:cubicBezTo>
                  <a:pt x="448" y="240"/>
                  <a:pt x="448" y="240"/>
                  <a:pt x="448" y="240"/>
                </a:cubicBezTo>
                <a:cubicBezTo>
                  <a:pt x="438" y="238"/>
                  <a:pt x="438" y="238"/>
                  <a:pt x="438" y="238"/>
                </a:cubicBezTo>
                <a:cubicBezTo>
                  <a:pt x="436" y="238"/>
                  <a:pt x="432" y="236"/>
                  <a:pt x="426" y="230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7"/>
                  <a:pt x="420" y="227"/>
                  <a:pt x="420" y="227"/>
                </a:cubicBezTo>
                <a:cubicBezTo>
                  <a:pt x="412" y="218"/>
                  <a:pt x="412" y="218"/>
                  <a:pt x="412" y="218"/>
                </a:cubicBezTo>
                <a:cubicBezTo>
                  <a:pt x="406" y="218"/>
                  <a:pt x="406" y="218"/>
                  <a:pt x="406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399" y="215"/>
                  <a:pt x="399" y="215"/>
                  <a:pt x="399" y="215"/>
                </a:cubicBezTo>
                <a:cubicBezTo>
                  <a:pt x="395" y="220"/>
                  <a:pt x="395" y="220"/>
                  <a:pt x="395" y="220"/>
                </a:cubicBezTo>
                <a:cubicBezTo>
                  <a:pt x="394" y="238"/>
                  <a:pt x="394" y="238"/>
                  <a:pt x="394" y="238"/>
                </a:cubicBezTo>
                <a:cubicBezTo>
                  <a:pt x="396" y="246"/>
                  <a:pt x="396" y="246"/>
                  <a:pt x="396" y="246"/>
                </a:cubicBezTo>
                <a:cubicBezTo>
                  <a:pt x="398" y="246"/>
                  <a:pt x="398" y="246"/>
                  <a:pt x="398" y="246"/>
                </a:cubicBezTo>
                <a:cubicBezTo>
                  <a:pt x="399" y="246"/>
                  <a:pt x="399" y="246"/>
                  <a:pt x="399" y="246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7" y="255"/>
                  <a:pt x="407" y="255"/>
                  <a:pt x="407" y="255"/>
                </a:cubicBezTo>
                <a:cubicBezTo>
                  <a:pt x="408" y="255"/>
                  <a:pt x="408" y="255"/>
                  <a:pt x="408" y="255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6" y="268"/>
                  <a:pt x="406" y="268"/>
                  <a:pt x="406" y="268"/>
                </a:cubicBezTo>
                <a:cubicBezTo>
                  <a:pt x="406" y="269"/>
                  <a:pt x="406" y="269"/>
                  <a:pt x="406" y="269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4" y="271"/>
                  <a:pt x="402" y="272"/>
                  <a:pt x="400" y="273"/>
                </a:cubicBezTo>
                <a:cubicBezTo>
                  <a:pt x="399" y="274"/>
                  <a:pt x="399" y="274"/>
                  <a:pt x="399" y="274"/>
                </a:cubicBezTo>
                <a:cubicBezTo>
                  <a:pt x="399" y="273"/>
                  <a:pt x="399" y="273"/>
                  <a:pt x="399" y="273"/>
                </a:cubicBezTo>
                <a:cubicBezTo>
                  <a:pt x="398" y="273"/>
                  <a:pt x="398" y="273"/>
                  <a:pt x="398" y="273"/>
                </a:cubicBezTo>
                <a:cubicBezTo>
                  <a:pt x="396" y="272"/>
                  <a:pt x="396" y="272"/>
                  <a:pt x="396" y="272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6"/>
                  <a:pt x="389" y="276"/>
                  <a:pt x="389" y="276"/>
                </a:cubicBezTo>
                <a:cubicBezTo>
                  <a:pt x="390" y="276"/>
                  <a:pt x="390" y="276"/>
                  <a:pt x="390" y="276"/>
                </a:cubicBezTo>
                <a:cubicBezTo>
                  <a:pt x="391" y="287"/>
                  <a:pt x="391" y="287"/>
                  <a:pt x="391" y="287"/>
                </a:cubicBezTo>
                <a:cubicBezTo>
                  <a:pt x="391" y="289"/>
                  <a:pt x="390" y="290"/>
                  <a:pt x="388" y="290"/>
                </a:cubicBezTo>
                <a:cubicBezTo>
                  <a:pt x="384" y="290"/>
                  <a:pt x="384" y="290"/>
                  <a:pt x="384" y="290"/>
                </a:cubicBezTo>
                <a:cubicBezTo>
                  <a:pt x="381" y="290"/>
                  <a:pt x="380" y="289"/>
                  <a:pt x="379" y="288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3" y="284"/>
                  <a:pt x="373" y="284"/>
                  <a:pt x="373" y="284"/>
                </a:cubicBezTo>
                <a:cubicBezTo>
                  <a:pt x="373" y="283"/>
                  <a:pt x="373" y="283"/>
                  <a:pt x="373" y="283"/>
                </a:cubicBezTo>
                <a:cubicBezTo>
                  <a:pt x="370" y="276"/>
                  <a:pt x="370" y="276"/>
                  <a:pt x="370" y="276"/>
                </a:cubicBezTo>
                <a:cubicBezTo>
                  <a:pt x="370" y="276"/>
                  <a:pt x="368" y="274"/>
                  <a:pt x="364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57" y="269"/>
                  <a:pt x="357" y="269"/>
                  <a:pt x="357" y="269"/>
                </a:cubicBezTo>
                <a:cubicBezTo>
                  <a:pt x="356" y="269"/>
                  <a:pt x="356" y="269"/>
                  <a:pt x="356" y="269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5" y="262"/>
                  <a:pt x="355" y="262"/>
                  <a:pt x="355" y="262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8" y="253"/>
                  <a:pt x="358" y="253"/>
                  <a:pt x="358" y="253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6" y="244"/>
                  <a:pt x="356" y="244"/>
                  <a:pt x="356" y="244"/>
                </a:cubicBezTo>
                <a:cubicBezTo>
                  <a:pt x="350" y="239"/>
                  <a:pt x="350" y="239"/>
                  <a:pt x="350" y="239"/>
                </a:cubicBezTo>
                <a:cubicBezTo>
                  <a:pt x="350" y="238"/>
                  <a:pt x="350" y="238"/>
                  <a:pt x="350" y="238"/>
                </a:cubicBezTo>
                <a:cubicBezTo>
                  <a:pt x="349" y="222"/>
                  <a:pt x="349" y="222"/>
                  <a:pt x="349" y="222"/>
                </a:cubicBezTo>
                <a:cubicBezTo>
                  <a:pt x="345" y="218"/>
                  <a:pt x="345" y="218"/>
                  <a:pt x="345" y="218"/>
                </a:cubicBezTo>
                <a:cubicBezTo>
                  <a:pt x="344" y="218"/>
                  <a:pt x="344" y="218"/>
                  <a:pt x="344" y="218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1" y="210"/>
                  <a:pt x="341" y="210"/>
                  <a:pt x="341" y="210"/>
                </a:cubicBezTo>
                <a:cubicBezTo>
                  <a:pt x="326" y="208"/>
                  <a:pt x="326" y="208"/>
                  <a:pt x="326" y="208"/>
                </a:cubicBezTo>
                <a:cubicBezTo>
                  <a:pt x="323" y="207"/>
                  <a:pt x="320" y="204"/>
                  <a:pt x="319" y="201"/>
                </a:cubicBezTo>
                <a:cubicBezTo>
                  <a:pt x="312" y="201"/>
                  <a:pt x="312" y="201"/>
                  <a:pt x="312" y="201"/>
                </a:cubicBezTo>
                <a:cubicBezTo>
                  <a:pt x="310" y="200"/>
                  <a:pt x="308" y="199"/>
                  <a:pt x="305" y="196"/>
                </a:cubicBezTo>
                <a:cubicBezTo>
                  <a:pt x="304" y="195"/>
                  <a:pt x="304" y="195"/>
                  <a:pt x="304" y="195"/>
                </a:cubicBezTo>
                <a:cubicBezTo>
                  <a:pt x="302" y="194"/>
                  <a:pt x="301" y="191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3" y="162"/>
                  <a:pt x="303" y="162"/>
                  <a:pt x="303" y="162"/>
                </a:cubicBezTo>
                <a:cubicBezTo>
                  <a:pt x="318" y="155"/>
                  <a:pt x="318" y="155"/>
                  <a:pt x="318" y="155"/>
                </a:cubicBezTo>
                <a:cubicBezTo>
                  <a:pt x="324" y="148"/>
                  <a:pt x="324" y="148"/>
                  <a:pt x="324" y="148"/>
                </a:cubicBezTo>
                <a:cubicBezTo>
                  <a:pt x="325" y="142"/>
                  <a:pt x="325" y="142"/>
                  <a:pt x="325" y="142"/>
                </a:cubicBezTo>
                <a:cubicBezTo>
                  <a:pt x="324" y="138"/>
                  <a:pt x="324" y="138"/>
                  <a:pt x="324" y="138"/>
                </a:cubicBezTo>
                <a:cubicBezTo>
                  <a:pt x="322" y="132"/>
                  <a:pt x="320" y="129"/>
                  <a:pt x="320" y="127"/>
                </a:cubicBezTo>
                <a:cubicBezTo>
                  <a:pt x="317" y="128"/>
                  <a:pt x="317" y="128"/>
                  <a:pt x="317" y="128"/>
                </a:cubicBezTo>
                <a:cubicBezTo>
                  <a:pt x="312" y="127"/>
                  <a:pt x="312" y="127"/>
                  <a:pt x="312" y="127"/>
                </a:cubicBezTo>
                <a:cubicBezTo>
                  <a:pt x="310" y="128"/>
                  <a:pt x="307" y="131"/>
                  <a:pt x="303" y="136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5" y="143"/>
                  <a:pt x="295" y="143"/>
                  <a:pt x="295" y="143"/>
                </a:cubicBezTo>
                <a:cubicBezTo>
                  <a:pt x="290" y="144"/>
                  <a:pt x="286" y="145"/>
                  <a:pt x="284" y="144"/>
                </a:cubicBezTo>
                <a:lnTo>
                  <a:pt x="271" y="140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7"/>
          <p:cNvSpPr/>
          <p:nvPr/>
        </p:nvSpPr>
        <p:spPr>
          <a:xfrm>
            <a:off x="3294000" y="2978280"/>
            <a:ext cx="297000" cy="487080"/>
          </a:xfrm>
          <a:custGeom>
            <a:avLst/>
            <a:gdLst>
              <a:gd name="textAreaLeft" fmla="*/ 0 w 297000"/>
              <a:gd name="textAreaRight" fmla="*/ 297360 w 297000"/>
              <a:gd name="textAreaTop" fmla="*/ 0 h 487080"/>
              <a:gd name="textAreaBottom" fmla="*/ 487080 h 487080"/>
            </a:gdLst>
            <a:ahLst/>
            <a:rect l="textAreaLeft" t="textAreaTop" r="textAreaRight" b="textAreaBottom"/>
            <a:pathLst>
              <a:path w="92" h="152">
                <a:moveTo>
                  <a:pt x="54" y="9"/>
                </a:moveTo>
                <a:cubicBezTo>
                  <a:pt x="46" y="29"/>
                  <a:pt x="46" y="29"/>
                  <a:pt x="46" y="29"/>
                </a:cubicBezTo>
                <a:cubicBezTo>
                  <a:pt x="46" y="42"/>
                  <a:pt x="46" y="42"/>
                  <a:pt x="46" y="42"/>
                </a:cubicBezTo>
                <a:cubicBezTo>
                  <a:pt x="46" y="43"/>
                  <a:pt x="46" y="43"/>
                  <a:pt x="46" y="43"/>
                </a:cubicBezTo>
                <a:cubicBezTo>
                  <a:pt x="42" y="50"/>
                  <a:pt x="42" y="50"/>
                  <a:pt x="42" y="50"/>
                </a:cubicBezTo>
                <a:cubicBezTo>
                  <a:pt x="42" y="54"/>
                  <a:pt x="42" y="54"/>
                  <a:pt x="42" y="54"/>
                </a:cubicBezTo>
                <a:cubicBezTo>
                  <a:pt x="42" y="57"/>
                  <a:pt x="41" y="60"/>
                  <a:pt x="38" y="61"/>
                </a:cubicBezTo>
                <a:cubicBezTo>
                  <a:pt x="38" y="62"/>
                  <a:pt x="38" y="62"/>
                  <a:pt x="38" y="62"/>
                </a:cubicBezTo>
                <a:cubicBezTo>
                  <a:pt x="37" y="62"/>
                  <a:pt x="37" y="62"/>
                  <a:pt x="37" y="62"/>
                </a:cubicBezTo>
                <a:cubicBezTo>
                  <a:pt x="37" y="61"/>
                  <a:pt x="37" y="61"/>
                  <a:pt x="37" y="61"/>
                </a:cubicBezTo>
                <a:cubicBezTo>
                  <a:pt x="27" y="60"/>
                  <a:pt x="27" y="60"/>
                  <a:pt x="27" y="60"/>
                </a:cubicBezTo>
                <a:cubicBezTo>
                  <a:pt x="22" y="65"/>
                  <a:pt x="22" y="65"/>
                  <a:pt x="22" y="65"/>
                </a:cubicBezTo>
                <a:cubicBezTo>
                  <a:pt x="6" y="67"/>
                  <a:pt x="6" y="67"/>
                  <a:pt x="6" y="67"/>
                </a:cubicBezTo>
                <a:cubicBezTo>
                  <a:pt x="6" y="67"/>
                  <a:pt x="6" y="67"/>
                  <a:pt x="6" y="67"/>
                </a:cubicBezTo>
                <a:cubicBezTo>
                  <a:pt x="0" y="67"/>
                  <a:pt x="0" y="67"/>
                  <a:pt x="0" y="67"/>
                </a:cubicBezTo>
                <a:cubicBezTo>
                  <a:pt x="4" y="70"/>
                  <a:pt x="4" y="70"/>
                  <a:pt x="4" y="70"/>
                </a:cubicBezTo>
                <a:cubicBezTo>
                  <a:pt x="18" y="72"/>
                  <a:pt x="18" y="72"/>
                  <a:pt x="18" y="72"/>
                </a:cubicBezTo>
                <a:cubicBezTo>
                  <a:pt x="19" y="72"/>
                  <a:pt x="19" y="72"/>
                  <a:pt x="19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4" y="81"/>
                  <a:pt x="24" y="81"/>
                  <a:pt x="24" y="81"/>
                </a:cubicBezTo>
                <a:cubicBezTo>
                  <a:pt x="28" y="84"/>
                  <a:pt x="28" y="84"/>
                  <a:pt x="28" y="84"/>
                </a:cubicBezTo>
                <a:cubicBezTo>
                  <a:pt x="29" y="86"/>
                  <a:pt x="30" y="88"/>
                  <a:pt x="30" y="92"/>
                </a:cubicBezTo>
                <a:cubicBezTo>
                  <a:pt x="30" y="103"/>
                  <a:pt x="30" y="103"/>
                  <a:pt x="30" y="103"/>
                </a:cubicBezTo>
                <a:cubicBezTo>
                  <a:pt x="35" y="108"/>
                  <a:pt x="35" y="108"/>
                  <a:pt x="35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8" y="116"/>
                  <a:pt x="38" y="116"/>
                  <a:pt x="38" y="116"/>
                </a:cubicBezTo>
                <a:cubicBezTo>
                  <a:pt x="38" y="120"/>
                  <a:pt x="38" y="120"/>
                  <a:pt x="38" y="120"/>
                </a:cubicBezTo>
                <a:cubicBezTo>
                  <a:pt x="36" y="124"/>
                  <a:pt x="36" y="124"/>
                  <a:pt x="36" y="124"/>
                </a:cubicBezTo>
                <a:cubicBezTo>
                  <a:pt x="35" y="128"/>
                  <a:pt x="35" y="128"/>
                  <a:pt x="35" y="128"/>
                </a:cubicBezTo>
                <a:cubicBezTo>
                  <a:pt x="36" y="132"/>
                  <a:pt x="36" y="132"/>
                  <a:pt x="36" y="132"/>
                </a:cubicBezTo>
                <a:cubicBezTo>
                  <a:pt x="41" y="135"/>
                  <a:pt x="41" y="135"/>
                  <a:pt x="41" y="135"/>
                </a:cubicBezTo>
                <a:cubicBezTo>
                  <a:pt x="46" y="137"/>
                  <a:pt x="49" y="138"/>
                  <a:pt x="50" y="140"/>
                </a:cubicBezTo>
                <a:cubicBezTo>
                  <a:pt x="53" y="146"/>
                  <a:pt x="53" y="146"/>
                  <a:pt x="53" y="146"/>
                </a:cubicBezTo>
                <a:cubicBezTo>
                  <a:pt x="56" y="148"/>
                  <a:pt x="58" y="150"/>
                  <a:pt x="58" y="151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1" y="144"/>
                  <a:pt x="61" y="144"/>
                  <a:pt x="61" y="144"/>
                </a:cubicBezTo>
                <a:cubicBezTo>
                  <a:pt x="60" y="142"/>
                  <a:pt x="60" y="140"/>
                  <a:pt x="61" y="139"/>
                </a:cubicBezTo>
                <a:cubicBezTo>
                  <a:pt x="62" y="138"/>
                  <a:pt x="63" y="137"/>
                  <a:pt x="64" y="136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2" y="134"/>
                  <a:pt x="72" y="134"/>
                  <a:pt x="72" y="134"/>
                </a:cubicBezTo>
                <a:cubicBezTo>
                  <a:pt x="74" y="135"/>
                  <a:pt x="74" y="135"/>
                  <a:pt x="74" y="135"/>
                </a:cubicBezTo>
                <a:cubicBezTo>
                  <a:pt x="78" y="133"/>
                  <a:pt x="78" y="133"/>
                  <a:pt x="78" y="133"/>
                </a:cubicBezTo>
                <a:cubicBezTo>
                  <a:pt x="78" y="132"/>
                  <a:pt x="78" y="132"/>
                  <a:pt x="78" y="132"/>
                </a:cubicBezTo>
                <a:cubicBezTo>
                  <a:pt x="79" y="122"/>
                  <a:pt x="79" y="122"/>
                  <a:pt x="79" y="122"/>
                </a:cubicBezTo>
                <a:cubicBezTo>
                  <a:pt x="77" y="118"/>
                  <a:pt x="77" y="118"/>
                  <a:pt x="77" y="118"/>
                </a:cubicBezTo>
                <a:cubicBezTo>
                  <a:pt x="74" y="116"/>
                  <a:pt x="74" y="116"/>
                  <a:pt x="74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68" y="115"/>
                  <a:pt x="68" y="115"/>
                  <a:pt x="68" y="11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67" y="84"/>
                  <a:pt x="67" y="84"/>
                  <a:pt x="67" y="84"/>
                </a:cubicBezTo>
                <a:cubicBezTo>
                  <a:pt x="68" y="84"/>
                  <a:pt x="68" y="84"/>
                  <a:pt x="68" y="84"/>
                </a:cubicBezTo>
                <a:cubicBezTo>
                  <a:pt x="74" y="75"/>
                  <a:pt x="74" y="75"/>
                  <a:pt x="74" y="75"/>
                </a:cubicBezTo>
                <a:cubicBezTo>
                  <a:pt x="82" y="80"/>
                  <a:pt x="82" y="80"/>
                  <a:pt x="82" y="80"/>
                </a:cubicBezTo>
                <a:cubicBezTo>
                  <a:pt x="88" y="80"/>
                  <a:pt x="88" y="80"/>
                  <a:pt x="88" y="80"/>
                </a:cubicBezTo>
                <a:cubicBezTo>
                  <a:pt x="92" y="54"/>
                  <a:pt x="92" y="54"/>
                  <a:pt x="92" y="54"/>
                </a:cubicBezTo>
                <a:cubicBezTo>
                  <a:pt x="90" y="51"/>
                  <a:pt x="89" y="49"/>
                  <a:pt x="87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3" y="48"/>
                  <a:pt x="83" y="48"/>
                  <a:pt x="83" y="48"/>
                </a:cubicBezTo>
                <a:cubicBezTo>
                  <a:pt x="77" y="49"/>
                  <a:pt x="77" y="49"/>
                  <a:pt x="77" y="49"/>
                </a:cubicBezTo>
                <a:cubicBezTo>
                  <a:pt x="76" y="48"/>
                  <a:pt x="76" y="48"/>
                  <a:pt x="76" y="48"/>
                </a:cubicBezTo>
                <a:cubicBezTo>
                  <a:pt x="76" y="48"/>
                  <a:pt x="76" y="48"/>
                  <a:pt x="76" y="48"/>
                </a:cubicBezTo>
                <a:cubicBezTo>
                  <a:pt x="72" y="42"/>
                  <a:pt x="72" y="42"/>
                  <a:pt x="72" y="42"/>
                </a:cubicBezTo>
                <a:cubicBezTo>
                  <a:pt x="72" y="42"/>
                  <a:pt x="72" y="42"/>
                  <a:pt x="72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71" y="32"/>
                  <a:pt x="71" y="32"/>
                  <a:pt x="71" y="32"/>
                </a:cubicBezTo>
                <a:cubicBezTo>
                  <a:pt x="73" y="26"/>
                  <a:pt x="73" y="26"/>
                  <a:pt x="73" y="26"/>
                </a:cubicBezTo>
                <a:cubicBezTo>
                  <a:pt x="74" y="24"/>
                  <a:pt x="74" y="24"/>
                  <a:pt x="74" y="24"/>
                </a:cubicBezTo>
                <a:cubicBezTo>
                  <a:pt x="74" y="22"/>
                  <a:pt x="75" y="20"/>
                  <a:pt x="76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0"/>
                  <a:pt x="78" y="10"/>
                  <a:pt x="78" y="10"/>
                </a:cubicBezTo>
                <a:cubicBezTo>
                  <a:pt x="72" y="4"/>
                  <a:pt x="72" y="4"/>
                  <a:pt x="72" y="4"/>
                </a:cubicBezTo>
                <a:cubicBezTo>
                  <a:pt x="64" y="0"/>
                  <a:pt x="64" y="0"/>
                  <a:pt x="64" y="0"/>
                </a:cubicBezTo>
                <a:lnTo>
                  <a:pt x="54" y="9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8"/>
          <p:cNvSpPr/>
          <p:nvPr/>
        </p:nvSpPr>
        <p:spPr>
          <a:xfrm>
            <a:off x="496800" y="1692360"/>
            <a:ext cx="2095560" cy="158436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652" h="493">
                <a:moveTo>
                  <a:pt x="651" y="265"/>
                </a:moveTo>
                <a:cubicBezTo>
                  <a:pt x="652" y="265"/>
                  <a:pt x="652" y="265"/>
                  <a:pt x="652" y="265"/>
                </a:cubicBezTo>
                <a:cubicBezTo>
                  <a:pt x="652" y="265"/>
                  <a:pt x="652" y="265"/>
                  <a:pt x="652" y="265"/>
                </a:cubicBezTo>
                <a:cubicBezTo>
                  <a:pt x="652" y="264"/>
                  <a:pt x="652" y="264"/>
                  <a:pt x="652" y="264"/>
                </a:cubicBezTo>
                <a:cubicBezTo>
                  <a:pt x="639" y="228"/>
                  <a:pt x="639" y="228"/>
                  <a:pt x="639" y="228"/>
                </a:cubicBezTo>
                <a:cubicBezTo>
                  <a:pt x="631" y="222"/>
                  <a:pt x="631" y="222"/>
                  <a:pt x="631" y="222"/>
                </a:cubicBezTo>
                <a:cubicBezTo>
                  <a:pt x="631" y="221"/>
                  <a:pt x="631" y="221"/>
                  <a:pt x="631" y="221"/>
                </a:cubicBezTo>
                <a:cubicBezTo>
                  <a:pt x="629" y="206"/>
                  <a:pt x="629" y="206"/>
                  <a:pt x="629" y="206"/>
                </a:cubicBezTo>
                <a:cubicBezTo>
                  <a:pt x="613" y="204"/>
                  <a:pt x="613" y="204"/>
                  <a:pt x="613" y="204"/>
                </a:cubicBezTo>
                <a:cubicBezTo>
                  <a:pt x="612" y="204"/>
                  <a:pt x="612" y="204"/>
                  <a:pt x="612" y="204"/>
                </a:cubicBezTo>
                <a:cubicBezTo>
                  <a:pt x="611" y="204"/>
                  <a:pt x="611" y="204"/>
                  <a:pt x="611" y="204"/>
                </a:cubicBezTo>
                <a:cubicBezTo>
                  <a:pt x="611" y="203"/>
                  <a:pt x="611" y="203"/>
                  <a:pt x="611" y="203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09" y="196"/>
                  <a:pt x="604" y="190"/>
                  <a:pt x="596" y="184"/>
                </a:cubicBezTo>
                <a:cubicBezTo>
                  <a:pt x="591" y="180"/>
                  <a:pt x="587" y="178"/>
                  <a:pt x="583" y="177"/>
                </a:cubicBezTo>
                <a:cubicBezTo>
                  <a:pt x="581" y="176"/>
                  <a:pt x="578" y="174"/>
                  <a:pt x="576" y="173"/>
                </a:cubicBezTo>
                <a:cubicBezTo>
                  <a:pt x="571" y="169"/>
                  <a:pt x="553" y="166"/>
                  <a:pt x="521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16" y="160"/>
                  <a:pt x="516" y="160"/>
                  <a:pt x="516" y="160"/>
                </a:cubicBezTo>
                <a:cubicBezTo>
                  <a:pt x="515" y="156"/>
                  <a:pt x="513" y="153"/>
                  <a:pt x="513" y="150"/>
                </a:cubicBezTo>
                <a:cubicBezTo>
                  <a:pt x="513" y="145"/>
                  <a:pt x="518" y="131"/>
                  <a:pt x="529" y="107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18" y="62"/>
                  <a:pt x="518" y="62"/>
                  <a:pt x="518" y="62"/>
                </a:cubicBezTo>
                <a:cubicBezTo>
                  <a:pt x="517" y="58"/>
                  <a:pt x="510" y="54"/>
                  <a:pt x="498" y="50"/>
                </a:cubicBezTo>
                <a:cubicBezTo>
                  <a:pt x="496" y="50"/>
                  <a:pt x="493" y="49"/>
                  <a:pt x="491" y="47"/>
                </a:cubicBezTo>
                <a:cubicBezTo>
                  <a:pt x="487" y="45"/>
                  <a:pt x="483" y="42"/>
                  <a:pt x="482" y="37"/>
                </a:cubicBezTo>
                <a:cubicBezTo>
                  <a:pt x="479" y="32"/>
                  <a:pt x="475" y="28"/>
                  <a:pt x="470" y="25"/>
                </a:cubicBezTo>
                <a:cubicBezTo>
                  <a:pt x="469" y="25"/>
                  <a:pt x="469" y="25"/>
                  <a:pt x="469" y="25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4" y="0"/>
                  <a:pt x="464" y="0"/>
                  <a:pt x="464" y="0"/>
                </a:cubicBezTo>
                <a:cubicBezTo>
                  <a:pt x="445" y="2"/>
                  <a:pt x="445" y="2"/>
                  <a:pt x="445" y="2"/>
                </a:cubicBezTo>
                <a:cubicBezTo>
                  <a:pt x="443" y="7"/>
                  <a:pt x="443" y="7"/>
                  <a:pt x="443" y="7"/>
                </a:cubicBezTo>
                <a:cubicBezTo>
                  <a:pt x="441" y="15"/>
                  <a:pt x="438" y="19"/>
                  <a:pt x="435" y="19"/>
                </a:cubicBezTo>
                <a:cubicBezTo>
                  <a:pt x="423" y="23"/>
                  <a:pt x="423" y="23"/>
                  <a:pt x="423" y="23"/>
                </a:cubicBezTo>
                <a:cubicBezTo>
                  <a:pt x="415" y="26"/>
                  <a:pt x="411" y="29"/>
                  <a:pt x="408" y="33"/>
                </a:cubicBezTo>
                <a:cubicBezTo>
                  <a:pt x="407" y="34"/>
                  <a:pt x="406" y="39"/>
                  <a:pt x="405" y="46"/>
                </a:cubicBezTo>
                <a:cubicBezTo>
                  <a:pt x="404" y="53"/>
                  <a:pt x="403" y="58"/>
                  <a:pt x="401" y="61"/>
                </a:cubicBezTo>
                <a:cubicBezTo>
                  <a:pt x="399" y="66"/>
                  <a:pt x="395" y="70"/>
                  <a:pt x="389" y="72"/>
                </a:cubicBezTo>
                <a:cubicBezTo>
                  <a:pt x="379" y="76"/>
                  <a:pt x="361" y="70"/>
                  <a:pt x="337" y="52"/>
                </a:cubicBezTo>
                <a:cubicBezTo>
                  <a:pt x="304" y="94"/>
                  <a:pt x="304" y="94"/>
                  <a:pt x="304" y="94"/>
                </a:cubicBezTo>
                <a:cubicBezTo>
                  <a:pt x="308" y="112"/>
                  <a:pt x="308" y="112"/>
                  <a:pt x="308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7" y="116"/>
                  <a:pt x="304" y="117"/>
                  <a:pt x="301" y="118"/>
                </a:cubicBezTo>
                <a:cubicBezTo>
                  <a:pt x="298" y="118"/>
                  <a:pt x="295" y="117"/>
                  <a:pt x="291" y="115"/>
                </a:cubicBezTo>
                <a:cubicBezTo>
                  <a:pt x="288" y="112"/>
                  <a:pt x="279" y="110"/>
                  <a:pt x="264" y="110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47" y="108"/>
                  <a:pt x="247" y="108"/>
                  <a:pt x="247" y="108"/>
                </a:cubicBezTo>
                <a:cubicBezTo>
                  <a:pt x="237" y="110"/>
                  <a:pt x="237" y="110"/>
                  <a:pt x="237" y="110"/>
                </a:cubicBezTo>
                <a:cubicBezTo>
                  <a:pt x="241" y="117"/>
                  <a:pt x="241" y="117"/>
                  <a:pt x="241" y="117"/>
                </a:cubicBezTo>
                <a:cubicBezTo>
                  <a:pt x="245" y="122"/>
                  <a:pt x="247" y="126"/>
                  <a:pt x="247" y="128"/>
                </a:cubicBezTo>
                <a:cubicBezTo>
                  <a:pt x="242" y="154"/>
                  <a:pt x="242" y="154"/>
                  <a:pt x="242" y="154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36" y="194"/>
                  <a:pt x="236" y="194"/>
                  <a:pt x="236" y="194"/>
                </a:cubicBezTo>
                <a:cubicBezTo>
                  <a:pt x="236" y="197"/>
                  <a:pt x="235" y="198"/>
                  <a:pt x="234" y="198"/>
                </a:cubicBezTo>
                <a:cubicBezTo>
                  <a:pt x="233" y="198"/>
                  <a:pt x="233" y="198"/>
                  <a:pt x="233" y="198"/>
                </a:cubicBezTo>
                <a:cubicBezTo>
                  <a:pt x="233" y="197"/>
                  <a:pt x="233" y="197"/>
                  <a:pt x="233" y="197"/>
                </a:cubicBezTo>
                <a:cubicBezTo>
                  <a:pt x="232" y="195"/>
                  <a:pt x="232" y="195"/>
                  <a:pt x="232" y="195"/>
                </a:cubicBezTo>
                <a:cubicBezTo>
                  <a:pt x="231" y="192"/>
                  <a:pt x="230" y="190"/>
                  <a:pt x="229" y="191"/>
                </a:cubicBezTo>
                <a:cubicBezTo>
                  <a:pt x="228" y="191"/>
                  <a:pt x="227" y="193"/>
                  <a:pt x="226" y="196"/>
                </a:cubicBezTo>
                <a:cubicBezTo>
                  <a:pt x="225" y="204"/>
                  <a:pt x="220" y="210"/>
                  <a:pt x="213" y="216"/>
                </a:cubicBezTo>
                <a:cubicBezTo>
                  <a:pt x="206" y="222"/>
                  <a:pt x="206" y="222"/>
                  <a:pt x="206" y="222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2" y="224"/>
                  <a:pt x="202" y="224"/>
                  <a:pt x="202" y="224"/>
                </a:cubicBezTo>
                <a:cubicBezTo>
                  <a:pt x="176" y="224"/>
                  <a:pt x="176" y="224"/>
                  <a:pt x="176" y="22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37" y="230"/>
                  <a:pt x="137" y="230"/>
                  <a:pt x="137" y="230"/>
                </a:cubicBezTo>
                <a:cubicBezTo>
                  <a:pt x="133" y="234"/>
                  <a:pt x="128" y="236"/>
                  <a:pt x="124" y="235"/>
                </a:cubicBezTo>
                <a:cubicBezTo>
                  <a:pt x="120" y="234"/>
                  <a:pt x="113" y="236"/>
                  <a:pt x="103" y="239"/>
                </a:cubicBezTo>
                <a:cubicBezTo>
                  <a:pt x="92" y="252"/>
                  <a:pt x="92" y="252"/>
                  <a:pt x="92" y="252"/>
                </a:cubicBezTo>
                <a:cubicBezTo>
                  <a:pt x="92" y="253"/>
                  <a:pt x="92" y="253"/>
                  <a:pt x="92" y="253"/>
                </a:cubicBezTo>
                <a:cubicBezTo>
                  <a:pt x="74" y="254"/>
                  <a:pt x="74" y="254"/>
                  <a:pt x="74" y="254"/>
                </a:cubicBezTo>
                <a:cubicBezTo>
                  <a:pt x="74" y="239"/>
                  <a:pt x="74" y="239"/>
                  <a:pt x="74" y="239"/>
                </a:cubicBezTo>
                <a:cubicBezTo>
                  <a:pt x="63" y="239"/>
                  <a:pt x="63" y="239"/>
                  <a:pt x="63" y="239"/>
                </a:cubicBezTo>
                <a:cubicBezTo>
                  <a:pt x="61" y="245"/>
                  <a:pt x="61" y="245"/>
                  <a:pt x="61" y="245"/>
                </a:cubicBezTo>
                <a:cubicBezTo>
                  <a:pt x="53" y="247"/>
                  <a:pt x="53" y="247"/>
                  <a:pt x="53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46" y="244"/>
                  <a:pt x="39" y="241"/>
                  <a:pt x="33" y="240"/>
                </a:cubicBezTo>
                <a:cubicBezTo>
                  <a:pt x="29" y="240"/>
                  <a:pt x="25" y="242"/>
                  <a:pt x="19" y="248"/>
                </a:cubicBezTo>
                <a:cubicBezTo>
                  <a:pt x="12" y="254"/>
                  <a:pt x="7" y="259"/>
                  <a:pt x="5" y="264"/>
                </a:cubicBezTo>
                <a:cubicBezTo>
                  <a:pt x="6" y="264"/>
                  <a:pt x="7" y="266"/>
                  <a:pt x="7" y="268"/>
                </a:cubicBezTo>
                <a:cubicBezTo>
                  <a:pt x="7" y="271"/>
                  <a:pt x="8" y="274"/>
                  <a:pt x="8" y="277"/>
                </a:cubicBezTo>
                <a:cubicBezTo>
                  <a:pt x="7" y="280"/>
                  <a:pt x="6" y="282"/>
                  <a:pt x="5" y="284"/>
                </a:cubicBezTo>
                <a:cubicBezTo>
                  <a:pt x="3" y="285"/>
                  <a:pt x="1" y="288"/>
                  <a:pt x="0" y="295"/>
                </a:cubicBezTo>
                <a:cubicBezTo>
                  <a:pt x="7" y="299"/>
                  <a:pt x="7" y="299"/>
                  <a:pt x="7" y="299"/>
                </a:cubicBezTo>
                <a:cubicBezTo>
                  <a:pt x="15" y="290"/>
                  <a:pt x="15" y="290"/>
                  <a:pt x="15" y="290"/>
                </a:cubicBezTo>
                <a:cubicBezTo>
                  <a:pt x="27" y="302"/>
                  <a:pt x="27" y="302"/>
                  <a:pt x="27" y="302"/>
                </a:cubicBezTo>
                <a:cubicBezTo>
                  <a:pt x="27" y="303"/>
                  <a:pt x="27" y="303"/>
                  <a:pt x="27" y="303"/>
                </a:cubicBezTo>
                <a:cubicBezTo>
                  <a:pt x="29" y="325"/>
                  <a:pt x="29" y="325"/>
                  <a:pt x="29" y="325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2" y="356"/>
                  <a:pt x="22" y="356"/>
                  <a:pt x="22" y="356"/>
                </a:cubicBezTo>
                <a:cubicBezTo>
                  <a:pt x="21" y="356"/>
                  <a:pt x="21" y="356"/>
                  <a:pt x="21" y="356"/>
                </a:cubicBezTo>
                <a:cubicBezTo>
                  <a:pt x="11" y="356"/>
                  <a:pt x="5" y="356"/>
                  <a:pt x="3" y="358"/>
                </a:cubicBezTo>
                <a:cubicBezTo>
                  <a:pt x="3" y="360"/>
                  <a:pt x="7" y="363"/>
                  <a:pt x="14" y="368"/>
                </a:cubicBezTo>
                <a:cubicBezTo>
                  <a:pt x="20" y="367"/>
                  <a:pt x="20" y="367"/>
                  <a:pt x="20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35" y="380"/>
                  <a:pt x="35" y="380"/>
                  <a:pt x="35" y="380"/>
                </a:cubicBezTo>
                <a:cubicBezTo>
                  <a:pt x="40" y="384"/>
                  <a:pt x="39" y="392"/>
                  <a:pt x="33" y="403"/>
                </a:cubicBezTo>
                <a:cubicBezTo>
                  <a:pt x="35" y="416"/>
                  <a:pt x="35" y="416"/>
                  <a:pt x="35" y="416"/>
                </a:cubicBezTo>
                <a:cubicBezTo>
                  <a:pt x="40" y="417"/>
                  <a:pt x="40" y="417"/>
                  <a:pt x="40" y="417"/>
                </a:cubicBezTo>
                <a:cubicBezTo>
                  <a:pt x="60" y="417"/>
                  <a:pt x="60" y="417"/>
                  <a:pt x="60" y="417"/>
                </a:cubicBezTo>
                <a:cubicBezTo>
                  <a:pt x="50" y="426"/>
                  <a:pt x="50" y="426"/>
                  <a:pt x="50" y="426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64" y="434"/>
                  <a:pt x="64" y="434"/>
                  <a:pt x="64" y="434"/>
                </a:cubicBezTo>
                <a:cubicBezTo>
                  <a:pt x="85" y="443"/>
                  <a:pt x="85" y="443"/>
                  <a:pt x="85" y="443"/>
                </a:cubicBezTo>
                <a:cubicBezTo>
                  <a:pt x="86" y="444"/>
                  <a:pt x="86" y="444"/>
                  <a:pt x="86" y="444"/>
                </a:cubicBezTo>
                <a:cubicBezTo>
                  <a:pt x="87" y="444"/>
                  <a:pt x="87" y="444"/>
                  <a:pt x="87" y="444"/>
                </a:cubicBezTo>
                <a:cubicBezTo>
                  <a:pt x="89" y="476"/>
                  <a:pt x="89" y="476"/>
                  <a:pt x="89" y="476"/>
                </a:cubicBezTo>
                <a:cubicBezTo>
                  <a:pt x="89" y="483"/>
                  <a:pt x="94" y="488"/>
                  <a:pt x="103" y="491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6" y="490"/>
                  <a:pt x="106" y="490"/>
                  <a:pt x="106" y="490"/>
                </a:cubicBezTo>
                <a:cubicBezTo>
                  <a:pt x="128" y="493"/>
                  <a:pt x="128" y="493"/>
                  <a:pt x="128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2"/>
                  <a:pt x="130" y="492"/>
                  <a:pt x="130" y="492"/>
                </a:cubicBezTo>
                <a:cubicBezTo>
                  <a:pt x="133" y="488"/>
                  <a:pt x="134" y="484"/>
                  <a:pt x="134" y="484"/>
                </a:cubicBezTo>
                <a:cubicBezTo>
                  <a:pt x="134" y="483"/>
                  <a:pt x="134" y="483"/>
                  <a:pt x="134" y="483"/>
                </a:cubicBezTo>
                <a:cubicBezTo>
                  <a:pt x="134" y="479"/>
                  <a:pt x="135" y="476"/>
                  <a:pt x="139" y="474"/>
                </a:cubicBezTo>
                <a:cubicBezTo>
                  <a:pt x="142" y="471"/>
                  <a:pt x="144" y="469"/>
                  <a:pt x="145" y="466"/>
                </a:cubicBezTo>
                <a:cubicBezTo>
                  <a:pt x="145" y="466"/>
                  <a:pt x="145" y="466"/>
                  <a:pt x="145" y="466"/>
                </a:cubicBezTo>
                <a:cubicBezTo>
                  <a:pt x="147" y="462"/>
                  <a:pt x="151" y="462"/>
                  <a:pt x="157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65" y="468"/>
                  <a:pt x="165" y="468"/>
                  <a:pt x="165" y="468"/>
                </a:cubicBezTo>
                <a:cubicBezTo>
                  <a:pt x="191" y="473"/>
                  <a:pt x="191" y="473"/>
                  <a:pt x="191" y="473"/>
                </a:cubicBezTo>
                <a:cubicBezTo>
                  <a:pt x="206" y="472"/>
                  <a:pt x="206" y="472"/>
                  <a:pt x="206" y="472"/>
                </a:cubicBezTo>
                <a:cubicBezTo>
                  <a:pt x="217" y="467"/>
                  <a:pt x="217" y="467"/>
                  <a:pt x="217" y="467"/>
                </a:cubicBezTo>
                <a:cubicBezTo>
                  <a:pt x="219" y="464"/>
                  <a:pt x="221" y="463"/>
                  <a:pt x="222" y="462"/>
                </a:cubicBezTo>
                <a:cubicBezTo>
                  <a:pt x="224" y="462"/>
                  <a:pt x="227" y="462"/>
                  <a:pt x="230" y="465"/>
                </a:cubicBezTo>
                <a:cubicBezTo>
                  <a:pt x="232" y="466"/>
                  <a:pt x="232" y="466"/>
                  <a:pt x="232" y="466"/>
                </a:cubicBezTo>
                <a:cubicBezTo>
                  <a:pt x="233" y="467"/>
                  <a:pt x="235" y="470"/>
                  <a:pt x="236" y="474"/>
                </a:cubicBezTo>
                <a:cubicBezTo>
                  <a:pt x="244" y="480"/>
                  <a:pt x="244" y="480"/>
                  <a:pt x="244" y="480"/>
                </a:cubicBezTo>
                <a:cubicBezTo>
                  <a:pt x="250" y="480"/>
                  <a:pt x="250" y="480"/>
                  <a:pt x="250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2" y="480"/>
                  <a:pt x="252" y="480"/>
                  <a:pt x="252" y="480"/>
                </a:cubicBezTo>
                <a:cubicBezTo>
                  <a:pt x="260" y="484"/>
                  <a:pt x="260" y="484"/>
                  <a:pt x="260" y="484"/>
                </a:cubicBezTo>
                <a:cubicBezTo>
                  <a:pt x="276" y="482"/>
                  <a:pt x="276" y="482"/>
                  <a:pt x="276" y="482"/>
                </a:cubicBezTo>
                <a:cubicBezTo>
                  <a:pt x="285" y="480"/>
                  <a:pt x="285" y="480"/>
                  <a:pt x="285" y="480"/>
                </a:cubicBezTo>
                <a:cubicBezTo>
                  <a:pt x="307" y="482"/>
                  <a:pt x="307" y="482"/>
                  <a:pt x="307" y="482"/>
                </a:cubicBezTo>
                <a:cubicBezTo>
                  <a:pt x="317" y="479"/>
                  <a:pt x="317" y="479"/>
                  <a:pt x="317" y="479"/>
                </a:cubicBezTo>
                <a:cubicBezTo>
                  <a:pt x="329" y="474"/>
                  <a:pt x="329" y="474"/>
                  <a:pt x="329" y="474"/>
                </a:cubicBezTo>
                <a:cubicBezTo>
                  <a:pt x="331" y="472"/>
                  <a:pt x="334" y="471"/>
                  <a:pt x="338" y="470"/>
                </a:cubicBezTo>
                <a:cubicBezTo>
                  <a:pt x="360" y="470"/>
                  <a:pt x="360" y="470"/>
                  <a:pt x="360" y="470"/>
                </a:cubicBezTo>
                <a:cubicBezTo>
                  <a:pt x="368" y="467"/>
                  <a:pt x="368" y="467"/>
                  <a:pt x="368" y="467"/>
                </a:cubicBezTo>
                <a:cubicBezTo>
                  <a:pt x="371" y="465"/>
                  <a:pt x="374" y="464"/>
                  <a:pt x="377" y="464"/>
                </a:cubicBezTo>
                <a:cubicBezTo>
                  <a:pt x="389" y="464"/>
                  <a:pt x="389" y="464"/>
                  <a:pt x="389" y="464"/>
                </a:cubicBezTo>
                <a:cubicBezTo>
                  <a:pt x="395" y="468"/>
                  <a:pt x="395" y="468"/>
                  <a:pt x="395" y="468"/>
                </a:cubicBezTo>
                <a:cubicBezTo>
                  <a:pt x="413" y="472"/>
                  <a:pt x="413" y="472"/>
                  <a:pt x="413" y="472"/>
                </a:cubicBezTo>
                <a:cubicBezTo>
                  <a:pt x="415" y="472"/>
                  <a:pt x="417" y="474"/>
                  <a:pt x="421" y="478"/>
                </a:cubicBezTo>
                <a:cubicBezTo>
                  <a:pt x="429" y="482"/>
                  <a:pt x="429" y="482"/>
                  <a:pt x="429" y="482"/>
                </a:cubicBezTo>
                <a:cubicBezTo>
                  <a:pt x="429" y="483"/>
                  <a:pt x="429" y="483"/>
                  <a:pt x="429" y="483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54" y="488"/>
                  <a:pt x="454" y="488"/>
                  <a:pt x="454" y="488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73" y="491"/>
                  <a:pt x="473" y="491"/>
                  <a:pt x="473" y="491"/>
                </a:cubicBezTo>
                <a:cubicBezTo>
                  <a:pt x="475" y="486"/>
                  <a:pt x="475" y="486"/>
                  <a:pt x="475" y="486"/>
                </a:cubicBezTo>
                <a:cubicBezTo>
                  <a:pt x="471" y="478"/>
                  <a:pt x="471" y="478"/>
                  <a:pt x="471" y="478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69" y="470"/>
                  <a:pt x="469" y="470"/>
                  <a:pt x="469" y="470"/>
                </a:cubicBezTo>
                <a:cubicBezTo>
                  <a:pt x="471" y="468"/>
                  <a:pt x="471" y="468"/>
                  <a:pt x="471" y="468"/>
                </a:cubicBezTo>
                <a:cubicBezTo>
                  <a:pt x="476" y="461"/>
                  <a:pt x="476" y="461"/>
                  <a:pt x="476" y="461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79" y="446"/>
                  <a:pt x="479" y="446"/>
                  <a:pt x="479" y="446"/>
                </a:cubicBezTo>
                <a:cubicBezTo>
                  <a:pt x="479" y="444"/>
                  <a:pt x="477" y="444"/>
                  <a:pt x="475" y="442"/>
                </a:cubicBezTo>
                <a:cubicBezTo>
                  <a:pt x="475" y="442"/>
                  <a:pt x="475" y="442"/>
                  <a:pt x="475" y="442"/>
                </a:cubicBezTo>
                <a:cubicBezTo>
                  <a:pt x="469" y="436"/>
                  <a:pt x="469" y="436"/>
                  <a:pt x="469" y="436"/>
                </a:cubicBezTo>
                <a:cubicBezTo>
                  <a:pt x="461" y="429"/>
                  <a:pt x="461" y="429"/>
                  <a:pt x="461" y="429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0" y="428"/>
                  <a:pt x="460" y="428"/>
                  <a:pt x="460" y="428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1" y="427"/>
                  <a:pt x="461" y="427"/>
                  <a:pt x="461" y="427"/>
                </a:cubicBezTo>
                <a:cubicBezTo>
                  <a:pt x="462" y="419"/>
                  <a:pt x="462" y="419"/>
                  <a:pt x="462" y="419"/>
                </a:cubicBezTo>
                <a:cubicBezTo>
                  <a:pt x="462" y="414"/>
                  <a:pt x="462" y="414"/>
                  <a:pt x="462" y="414"/>
                </a:cubicBezTo>
                <a:cubicBezTo>
                  <a:pt x="458" y="404"/>
                  <a:pt x="458" y="404"/>
                  <a:pt x="458" y="404"/>
                </a:cubicBezTo>
                <a:cubicBezTo>
                  <a:pt x="467" y="402"/>
                  <a:pt x="467" y="402"/>
                  <a:pt x="467" y="402"/>
                </a:cubicBezTo>
                <a:cubicBezTo>
                  <a:pt x="472" y="398"/>
                  <a:pt x="472" y="398"/>
                  <a:pt x="472" y="398"/>
                </a:cubicBezTo>
                <a:cubicBezTo>
                  <a:pt x="483" y="398"/>
                  <a:pt x="483" y="398"/>
                  <a:pt x="483" y="398"/>
                </a:cubicBezTo>
                <a:cubicBezTo>
                  <a:pt x="494" y="396"/>
                  <a:pt x="494" y="396"/>
                  <a:pt x="494" y="396"/>
                </a:cubicBezTo>
                <a:cubicBezTo>
                  <a:pt x="495" y="396"/>
                  <a:pt x="495" y="396"/>
                  <a:pt x="495" y="396"/>
                </a:cubicBezTo>
                <a:cubicBezTo>
                  <a:pt x="502" y="397"/>
                  <a:pt x="502" y="397"/>
                  <a:pt x="502" y="397"/>
                </a:cubicBezTo>
                <a:cubicBezTo>
                  <a:pt x="511" y="394"/>
                  <a:pt x="511" y="394"/>
                  <a:pt x="511" y="394"/>
                </a:cubicBezTo>
                <a:cubicBezTo>
                  <a:pt x="521" y="392"/>
                  <a:pt x="521" y="392"/>
                  <a:pt x="521" y="392"/>
                </a:cubicBezTo>
                <a:cubicBezTo>
                  <a:pt x="527" y="390"/>
                  <a:pt x="527" y="390"/>
                  <a:pt x="527" y="390"/>
                </a:cubicBezTo>
                <a:cubicBezTo>
                  <a:pt x="528" y="390"/>
                  <a:pt x="528" y="390"/>
                  <a:pt x="528" y="390"/>
                </a:cubicBezTo>
                <a:cubicBezTo>
                  <a:pt x="545" y="386"/>
                  <a:pt x="545" y="386"/>
                  <a:pt x="545" y="386"/>
                </a:cubicBezTo>
                <a:cubicBezTo>
                  <a:pt x="548" y="384"/>
                  <a:pt x="548" y="384"/>
                  <a:pt x="548" y="384"/>
                </a:cubicBezTo>
                <a:cubicBezTo>
                  <a:pt x="547" y="380"/>
                  <a:pt x="547" y="380"/>
                  <a:pt x="547" y="380"/>
                </a:cubicBezTo>
                <a:cubicBezTo>
                  <a:pt x="544" y="375"/>
                  <a:pt x="544" y="375"/>
                  <a:pt x="544" y="375"/>
                </a:cubicBezTo>
                <a:cubicBezTo>
                  <a:pt x="544" y="374"/>
                  <a:pt x="544" y="374"/>
                  <a:pt x="544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4" y="368"/>
                  <a:pt x="544" y="368"/>
                  <a:pt x="544" y="368"/>
                </a:cubicBezTo>
                <a:cubicBezTo>
                  <a:pt x="545" y="367"/>
                  <a:pt x="545" y="367"/>
                  <a:pt x="545" y="367"/>
                </a:cubicBezTo>
                <a:cubicBezTo>
                  <a:pt x="545" y="359"/>
                  <a:pt x="545" y="359"/>
                  <a:pt x="545" y="359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1"/>
                  <a:pt x="543" y="351"/>
                  <a:pt x="543" y="351"/>
                </a:cubicBezTo>
                <a:cubicBezTo>
                  <a:pt x="547" y="343"/>
                  <a:pt x="547" y="343"/>
                  <a:pt x="547" y="343"/>
                </a:cubicBezTo>
                <a:cubicBezTo>
                  <a:pt x="549" y="340"/>
                  <a:pt x="551" y="338"/>
                  <a:pt x="553" y="338"/>
                </a:cubicBezTo>
                <a:cubicBezTo>
                  <a:pt x="563" y="338"/>
                  <a:pt x="563" y="338"/>
                  <a:pt x="563" y="338"/>
                </a:cubicBezTo>
                <a:cubicBezTo>
                  <a:pt x="565" y="338"/>
                  <a:pt x="567" y="338"/>
                  <a:pt x="569" y="336"/>
                </a:cubicBezTo>
                <a:cubicBezTo>
                  <a:pt x="585" y="315"/>
                  <a:pt x="585" y="315"/>
                  <a:pt x="585" y="315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93" y="307"/>
                  <a:pt x="593" y="307"/>
                  <a:pt x="593" y="307"/>
                </a:cubicBezTo>
                <a:cubicBezTo>
                  <a:pt x="594" y="306"/>
                  <a:pt x="594" y="306"/>
                  <a:pt x="594" y="306"/>
                </a:cubicBezTo>
                <a:cubicBezTo>
                  <a:pt x="597" y="306"/>
                  <a:pt x="599" y="304"/>
                  <a:pt x="601" y="304"/>
                </a:cubicBezTo>
                <a:cubicBezTo>
                  <a:pt x="603" y="302"/>
                  <a:pt x="603" y="302"/>
                  <a:pt x="603" y="302"/>
                </a:cubicBezTo>
                <a:cubicBezTo>
                  <a:pt x="605" y="298"/>
                  <a:pt x="608" y="296"/>
                  <a:pt x="609" y="296"/>
                </a:cubicBezTo>
                <a:cubicBezTo>
                  <a:pt x="623" y="299"/>
                  <a:pt x="623" y="299"/>
                  <a:pt x="623" y="299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42" y="293"/>
                  <a:pt x="642" y="293"/>
                  <a:pt x="642" y="293"/>
                </a:cubicBezTo>
                <a:cubicBezTo>
                  <a:pt x="648" y="290"/>
                  <a:pt x="648" y="290"/>
                  <a:pt x="648" y="290"/>
                </a:cubicBezTo>
                <a:cubicBezTo>
                  <a:pt x="648" y="281"/>
                  <a:pt x="648" y="281"/>
                  <a:pt x="648" y="281"/>
                </a:cubicBezTo>
                <a:cubicBezTo>
                  <a:pt x="649" y="270"/>
                  <a:pt x="649" y="270"/>
                  <a:pt x="649" y="270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51" y="266"/>
                  <a:pt x="651" y="266"/>
                  <a:pt x="651" y="266"/>
                </a:cubicBezTo>
                <a:lnTo>
                  <a:pt x="651" y="265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9"/>
          <p:cNvSpPr/>
          <p:nvPr/>
        </p:nvSpPr>
        <p:spPr>
          <a:xfrm>
            <a:off x="1857240" y="2935440"/>
            <a:ext cx="1305000" cy="93492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406" h="291">
                <a:moveTo>
                  <a:pt x="242" y="15"/>
                </a:moveTo>
                <a:cubicBezTo>
                  <a:pt x="238" y="18"/>
                  <a:pt x="238" y="18"/>
                  <a:pt x="238" y="18"/>
                </a:cubicBezTo>
                <a:cubicBezTo>
                  <a:pt x="238" y="19"/>
                  <a:pt x="239" y="23"/>
                  <a:pt x="240" y="28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41" y="29"/>
                  <a:pt x="241" y="29"/>
                  <a:pt x="241" y="29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36" y="39"/>
                  <a:pt x="236" y="39"/>
                  <a:pt x="236" y="39"/>
                </a:cubicBezTo>
                <a:cubicBezTo>
                  <a:pt x="230" y="41"/>
                  <a:pt x="230" y="41"/>
                  <a:pt x="230" y="41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28" y="42"/>
                  <a:pt x="228" y="42"/>
                  <a:pt x="228" y="42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198" y="19"/>
                  <a:pt x="198" y="19"/>
                  <a:pt x="198" y="19"/>
                </a:cubicBezTo>
                <a:cubicBezTo>
                  <a:pt x="190" y="14"/>
                  <a:pt x="190" y="14"/>
                  <a:pt x="190" y="14"/>
                </a:cubicBezTo>
                <a:cubicBezTo>
                  <a:pt x="178" y="10"/>
                  <a:pt x="178" y="10"/>
                  <a:pt x="178" y="10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2" y="5"/>
                  <a:pt x="172" y="5"/>
                  <a:pt x="172" y="5"/>
                </a:cubicBezTo>
                <a:cubicBezTo>
                  <a:pt x="162" y="2"/>
                  <a:pt x="162" y="2"/>
                  <a:pt x="162" y="2"/>
                </a:cubicBezTo>
                <a:cubicBezTo>
                  <a:pt x="157" y="3"/>
                  <a:pt x="157" y="3"/>
                  <a:pt x="157" y="3"/>
                </a:cubicBezTo>
                <a:cubicBezTo>
                  <a:pt x="156" y="3"/>
                  <a:pt x="156" y="3"/>
                  <a:pt x="156" y="3"/>
                </a:cubicBezTo>
                <a:cubicBezTo>
                  <a:pt x="144" y="2"/>
                  <a:pt x="144" y="2"/>
                  <a:pt x="144" y="2"/>
                </a:cubicBezTo>
                <a:cubicBezTo>
                  <a:pt x="143" y="2"/>
                  <a:pt x="143" y="2"/>
                  <a:pt x="143" y="2"/>
                </a:cubicBezTo>
                <a:cubicBezTo>
                  <a:pt x="134" y="0"/>
                  <a:pt x="134" y="0"/>
                  <a:pt x="134" y="0"/>
                </a:cubicBezTo>
                <a:cubicBezTo>
                  <a:pt x="128" y="0"/>
                  <a:pt x="128" y="0"/>
                  <a:pt x="128" y="0"/>
                </a:cubicBezTo>
                <a:cubicBezTo>
                  <a:pt x="124" y="3"/>
                  <a:pt x="124" y="3"/>
                  <a:pt x="124" y="3"/>
                </a:cubicBezTo>
                <a:cubicBezTo>
                  <a:pt x="122" y="4"/>
                  <a:pt x="118" y="5"/>
                  <a:pt x="114" y="5"/>
                </a:cubicBezTo>
                <a:cubicBezTo>
                  <a:pt x="106" y="7"/>
                  <a:pt x="106" y="7"/>
                  <a:pt x="106" y="7"/>
                </a:cubicBezTo>
                <a:cubicBezTo>
                  <a:pt x="99" y="9"/>
                  <a:pt x="99" y="9"/>
                  <a:pt x="99" y="9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0" y="11"/>
                  <a:pt x="90" y="11"/>
                  <a:pt x="90" y="11"/>
                </a:cubicBezTo>
                <a:cubicBezTo>
                  <a:pt x="80" y="14"/>
                  <a:pt x="80" y="14"/>
                  <a:pt x="80" y="14"/>
                </a:cubicBezTo>
                <a:cubicBezTo>
                  <a:pt x="80" y="14"/>
                  <a:pt x="80" y="14"/>
                  <a:pt x="80" y="14"/>
                </a:cubicBezTo>
                <a:cubicBezTo>
                  <a:pt x="79" y="14"/>
                  <a:pt x="79" y="14"/>
                  <a:pt x="79" y="14"/>
                </a:cubicBezTo>
                <a:cubicBezTo>
                  <a:pt x="72" y="13"/>
                  <a:pt x="72" y="13"/>
                  <a:pt x="72" y="13"/>
                </a:cubicBezTo>
                <a:cubicBezTo>
                  <a:pt x="60" y="15"/>
                  <a:pt x="60" y="15"/>
                  <a:pt x="60" y="15"/>
                </a:cubicBezTo>
                <a:cubicBezTo>
                  <a:pt x="50" y="15"/>
                  <a:pt x="50" y="15"/>
                  <a:pt x="50" y="15"/>
                </a:cubicBezTo>
                <a:cubicBezTo>
                  <a:pt x="46" y="19"/>
                  <a:pt x="46" y="19"/>
                  <a:pt x="46" y="19"/>
                </a:cubicBezTo>
                <a:cubicBezTo>
                  <a:pt x="46" y="19"/>
                  <a:pt x="46" y="19"/>
                  <a:pt x="46" y="19"/>
                </a:cubicBezTo>
                <a:cubicBezTo>
                  <a:pt x="41" y="20"/>
                  <a:pt x="41" y="20"/>
                  <a:pt x="41" y="20"/>
                </a:cubicBezTo>
                <a:cubicBezTo>
                  <a:pt x="43" y="25"/>
                  <a:pt x="43" y="25"/>
                  <a:pt x="43" y="25"/>
                </a:cubicBezTo>
                <a:cubicBezTo>
                  <a:pt x="43" y="33"/>
                  <a:pt x="43" y="33"/>
                  <a:pt x="43" y="33"/>
                </a:cubicBezTo>
                <a:cubicBezTo>
                  <a:pt x="42" y="39"/>
                  <a:pt x="42" y="39"/>
                  <a:pt x="42" y="39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55" y="51"/>
                  <a:pt x="55" y="51"/>
                  <a:pt x="55" y="51"/>
                </a:cubicBezTo>
                <a:cubicBezTo>
                  <a:pt x="58" y="54"/>
                  <a:pt x="60" y="56"/>
                  <a:pt x="60" y="59"/>
                </a:cubicBezTo>
                <a:cubicBezTo>
                  <a:pt x="62" y="65"/>
                  <a:pt x="62" y="65"/>
                  <a:pt x="62" y="65"/>
                </a:cubicBezTo>
                <a:cubicBezTo>
                  <a:pt x="65" y="71"/>
                  <a:pt x="65" y="71"/>
                  <a:pt x="65" y="71"/>
                </a:cubicBezTo>
                <a:cubicBezTo>
                  <a:pt x="64" y="71"/>
                  <a:pt x="64" y="71"/>
                  <a:pt x="64" y="71"/>
                </a:cubicBezTo>
                <a:cubicBezTo>
                  <a:pt x="56" y="77"/>
                  <a:pt x="56" y="77"/>
                  <a:pt x="56" y="77"/>
                </a:cubicBezTo>
                <a:cubicBezTo>
                  <a:pt x="51" y="83"/>
                  <a:pt x="51" y="83"/>
                  <a:pt x="51" y="83"/>
                </a:cubicBezTo>
                <a:cubicBezTo>
                  <a:pt x="52" y="89"/>
                  <a:pt x="52" y="89"/>
                  <a:pt x="52" y="89"/>
                </a:cubicBezTo>
                <a:cubicBezTo>
                  <a:pt x="56" y="98"/>
                  <a:pt x="56" y="98"/>
                  <a:pt x="56" y="98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102"/>
                  <a:pt x="56" y="102"/>
                  <a:pt x="56" y="102"/>
                </a:cubicBezTo>
                <a:cubicBezTo>
                  <a:pt x="55" y="104"/>
                  <a:pt x="54" y="106"/>
                  <a:pt x="53" y="107"/>
                </a:cubicBezTo>
                <a:cubicBezTo>
                  <a:pt x="50" y="109"/>
                  <a:pt x="46" y="109"/>
                  <a:pt x="40" y="107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29" y="105"/>
                  <a:pt x="29" y="105"/>
                  <a:pt x="29" y="105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0" y="101"/>
                  <a:pt x="10" y="101"/>
                  <a:pt x="10" y="101"/>
                </a:cubicBezTo>
                <a:cubicBezTo>
                  <a:pt x="11" y="101"/>
                  <a:pt x="11" y="101"/>
                  <a:pt x="11" y="101"/>
                </a:cubicBezTo>
                <a:cubicBezTo>
                  <a:pt x="10" y="121"/>
                  <a:pt x="10" y="121"/>
                  <a:pt x="10" y="121"/>
                </a:cubicBezTo>
                <a:cubicBezTo>
                  <a:pt x="9" y="124"/>
                  <a:pt x="7" y="125"/>
                  <a:pt x="4" y="125"/>
                </a:cubicBezTo>
                <a:cubicBezTo>
                  <a:pt x="3" y="126"/>
                  <a:pt x="2" y="127"/>
                  <a:pt x="3" y="131"/>
                </a:cubicBezTo>
                <a:cubicBezTo>
                  <a:pt x="3" y="131"/>
                  <a:pt x="3" y="131"/>
                  <a:pt x="3" y="131"/>
                </a:cubicBezTo>
                <a:cubicBezTo>
                  <a:pt x="2" y="131"/>
                  <a:pt x="2" y="131"/>
                  <a:pt x="2" y="131"/>
                </a:cubicBezTo>
                <a:cubicBezTo>
                  <a:pt x="2" y="136"/>
                  <a:pt x="2" y="136"/>
                  <a:pt x="2" y="136"/>
                </a:cubicBezTo>
                <a:cubicBezTo>
                  <a:pt x="4" y="139"/>
                  <a:pt x="6" y="141"/>
                  <a:pt x="7" y="142"/>
                </a:cubicBezTo>
                <a:cubicBezTo>
                  <a:pt x="9" y="152"/>
                  <a:pt x="9" y="152"/>
                  <a:pt x="9" y="152"/>
                </a:cubicBezTo>
                <a:cubicBezTo>
                  <a:pt x="9" y="155"/>
                  <a:pt x="9" y="155"/>
                  <a:pt x="9" y="155"/>
                </a:cubicBezTo>
                <a:cubicBezTo>
                  <a:pt x="9" y="157"/>
                  <a:pt x="8" y="159"/>
                  <a:pt x="8" y="161"/>
                </a:cubicBezTo>
                <a:cubicBezTo>
                  <a:pt x="5" y="169"/>
                  <a:pt x="5" y="169"/>
                  <a:pt x="5" y="169"/>
                </a:cubicBezTo>
                <a:cubicBezTo>
                  <a:pt x="0" y="179"/>
                  <a:pt x="0" y="179"/>
                  <a:pt x="0" y="179"/>
                </a:cubicBezTo>
                <a:cubicBezTo>
                  <a:pt x="0" y="181"/>
                  <a:pt x="0" y="181"/>
                  <a:pt x="0" y="181"/>
                </a:cubicBezTo>
                <a:cubicBezTo>
                  <a:pt x="0" y="185"/>
                  <a:pt x="0" y="185"/>
                  <a:pt x="0" y="185"/>
                </a:cubicBezTo>
                <a:cubicBezTo>
                  <a:pt x="6" y="192"/>
                  <a:pt x="6" y="192"/>
                  <a:pt x="6" y="192"/>
                </a:cubicBezTo>
                <a:cubicBezTo>
                  <a:pt x="7" y="194"/>
                  <a:pt x="8" y="195"/>
                  <a:pt x="8" y="197"/>
                </a:cubicBezTo>
                <a:cubicBezTo>
                  <a:pt x="13" y="203"/>
                  <a:pt x="13" y="203"/>
                  <a:pt x="13" y="203"/>
                </a:cubicBezTo>
                <a:cubicBezTo>
                  <a:pt x="20" y="211"/>
                  <a:pt x="20" y="211"/>
                  <a:pt x="20" y="211"/>
                </a:cubicBezTo>
                <a:cubicBezTo>
                  <a:pt x="23" y="214"/>
                  <a:pt x="25" y="215"/>
                  <a:pt x="26" y="215"/>
                </a:cubicBezTo>
                <a:cubicBezTo>
                  <a:pt x="34" y="211"/>
                  <a:pt x="34" y="211"/>
                  <a:pt x="34" y="211"/>
                </a:cubicBezTo>
                <a:cubicBezTo>
                  <a:pt x="35" y="209"/>
                  <a:pt x="36" y="209"/>
                  <a:pt x="38" y="209"/>
                </a:cubicBezTo>
                <a:cubicBezTo>
                  <a:pt x="40" y="209"/>
                  <a:pt x="42" y="210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3"/>
                  <a:pt x="46" y="213"/>
                  <a:pt x="46" y="213"/>
                </a:cubicBezTo>
                <a:cubicBezTo>
                  <a:pt x="50" y="217"/>
                  <a:pt x="50" y="217"/>
                  <a:pt x="50" y="217"/>
                </a:cubicBezTo>
                <a:cubicBezTo>
                  <a:pt x="52" y="222"/>
                  <a:pt x="52" y="222"/>
                  <a:pt x="52" y="222"/>
                </a:cubicBezTo>
                <a:cubicBezTo>
                  <a:pt x="54" y="224"/>
                  <a:pt x="54" y="224"/>
                  <a:pt x="54" y="224"/>
                </a:cubicBezTo>
                <a:cubicBezTo>
                  <a:pt x="55" y="225"/>
                  <a:pt x="55" y="225"/>
                  <a:pt x="55" y="225"/>
                </a:cubicBezTo>
                <a:cubicBezTo>
                  <a:pt x="60" y="229"/>
                  <a:pt x="60" y="229"/>
                  <a:pt x="60" y="229"/>
                </a:cubicBezTo>
                <a:cubicBezTo>
                  <a:pt x="63" y="229"/>
                  <a:pt x="63" y="229"/>
                  <a:pt x="63" y="229"/>
                </a:cubicBezTo>
                <a:cubicBezTo>
                  <a:pt x="65" y="229"/>
                  <a:pt x="66" y="231"/>
                  <a:pt x="68" y="232"/>
                </a:cubicBezTo>
                <a:cubicBezTo>
                  <a:pt x="68" y="233"/>
                  <a:pt x="73" y="235"/>
                  <a:pt x="80" y="237"/>
                </a:cubicBezTo>
                <a:cubicBezTo>
                  <a:pt x="81" y="237"/>
                  <a:pt x="81" y="237"/>
                  <a:pt x="81" y="237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4" y="241"/>
                  <a:pt x="94" y="241"/>
                  <a:pt x="94" y="241"/>
                </a:cubicBezTo>
                <a:cubicBezTo>
                  <a:pt x="102" y="245"/>
                  <a:pt x="102" y="245"/>
                  <a:pt x="102" y="245"/>
                </a:cubicBezTo>
                <a:cubicBezTo>
                  <a:pt x="116" y="249"/>
                  <a:pt x="116" y="249"/>
                  <a:pt x="116" y="249"/>
                </a:cubicBezTo>
                <a:cubicBezTo>
                  <a:pt x="117" y="249"/>
                  <a:pt x="117" y="249"/>
                  <a:pt x="117" y="249"/>
                </a:cubicBezTo>
                <a:cubicBezTo>
                  <a:pt x="136" y="250"/>
                  <a:pt x="136" y="250"/>
                  <a:pt x="136" y="250"/>
                </a:cubicBezTo>
                <a:cubicBezTo>
                  <a:pt x="144" y="247"/>
                  <a:pt x="144" y="247"/>
                  <a:pt x="144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8"/>
                  <a:pt x="152" y="248"/>
                  <a:pt x="152" y="248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62" y="263"/>
                  <a:pt x="162" y="263"/>
                  <a:pt x="162" y="263"/>
                </a:cubicBezTo>
                <a:cubicBezTo>
                  <a:pt x="166" y="266"/>
                  <a:pt x="166" y="266"/>
                  <a:pt x="166" y="266"/>
                </a:cubicBezTo>
                <a:cubicBezTo>
                  <a:pt x="170" y="268"/>
                  <a:pt x="170" y="268"/>
                  <a:pt x="170" y="268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1" y="269"/>
                  <a:pt x="171" y="269"/>
                  <a:pt x="171" y="269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5" y="277"/>
                  <a:pt x="175" y="277"/>
                  <a:pt x="175" y="277"/>
                </a:cubicBezTo>
                <a:cubicBezTo>
                  <a:pt x="175" y="278"/>
                  <a:pt x="175" y="278"/>
                  <a:pt x="175" y="278"/>
                </a:cubicBezTo>
                <a:cubicBezTo>
                  <a:pt x="177" y="287"/>
                  <a:pt x="177" y="287"/>
                  <a:pt x="177" y="287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8" y="291"/>
                  <a:pt x="188" y="291"/>
                  <a:pt x="188" y="291"/>
                </a:cubicBezTo>
                <a:cubicBezTo>
                  <a:pt x="194" y="290"/>
                  <a:pt x="194" y="290"/>
                  <a:pt x="194" y="290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3"/>
                  <a:pt x="196" y="283"/>
                  <a:pt x="196" y="283"/>
                </a:cubicBezTo>
                <a:cubicBezTo>
                  <a:pt x="202" y="277"/>
                  <a:pt x="202" y="277"/>
                  <a:pt x="202" y="277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4" y="287"/>
                  <a:pt x="214" y="287"/>
                  <a:pt x="214" y="287"/>
                </a:cubicBezTo>
                <a:cubicBezTo>
                  <a:pt x="221" y="285"/>
                  <a:pt x="221" y="285"/>
                  <a:pt x="221" y="285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8" y="273"/>
                  <a:pt x="228" y="273"/>
                  <a:pt x="228" y="273"/>
                </a:cubicBezTo>
                <a:cubicBezTo>
                  <a:pt x="226" y="262"/>
                  <a:pt x="226" y="262"/>
                  <a:pt x="226" y="262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32" y="248"/>
                  <a:pt x="232" y="248"/>
                  <a:pt x="232" y="248"/>
                </a:cubicBezTo>
                <a:cubicBezTo>
                  <a:pt x="238" y="246"/>
                  <a:pt x="238" y="246"/>
                  <a:pt x="238" y="246"/>
                </a:cubicBezTo>
                <a:cubicBezTo>
                  <a:pt x="236" y="235"/>
                  <a:pt x="236" y="235"/>
                  <a:pt x="236" y="235"/>
                </a:cubicBezTo>
                <a:cubicBezTo>
                  <a:pt x="242" y="235"/>
                  <a:pt x="242" y="235"/>
                  <a:pt x="242" y="235"/>
                </a:cubicBezTo>
                <a:cubicBezTo>
                  <a:pt x="242" y="229"/>
                  <a:pt x="242" y="229"/>
                  <a:pt x="242" y="22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8"/>
                  <a:pt x="238" y="218"/>
                  <a:pt x="238" y="218"/>
                </a:cubicBezTo>
                <a:cubicBezTo>
                  <a:pt x="239" y="210"/>
                  <a:pt x="239" y="210"/>
                  <a:pt x="239" y="210"/>
                </a:cubicBezTo>
                <a:cubicBezTo>
                  <a:pt x="239" y="209"/>
                  <a:pt x="239" y="209"/>
                  <a:pt x="239" y="209"/>
                </a:cubicBezTo>
                <a:cubicBezTo>
                  <a:pt x="240" y="209"/>
                  <a:pt x="240" y="209"/>
                  <a:pt x="240" y="209"/>
                </a:cubicBezTo>
                <a:cubicBezTo>
                  <a:pt x="244" y="203"/>
                  <a:pt x="244" y="203"/>
                  <a:pt x="244" y="203"/>
                </a:cubicBezTo>
                <a:cubicBezTo>
                  <a:pt x="245" y="203"/>
                  <a:pt x="245" y="203"/>
                  <a:pt x="245" y="203"/>
                </a:cubicBezTo>
                <a:cubicBezTo>
                  <a:pt x="246" y="203"/>
                  <a:pt x="246" y="203"/>
                  <a:pt x="246" y="203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66" y="207"/>
                  <a:pt x="266" y="207"/>
                  <a:pt x="266" y="207"/>
                </a:cubicBezTo>
                <a:cubicBezTo>
                  <a:pt x="274" y="205"/>
                  <a:pt x="274" y="205"/>
                  <a:pt x="274" y="205"/>
                </a:cubicBezTo>
                <a:cubicBezTo>
                  <a:pt x="278" y="213"/>
                  <a:pt x="278" y="213"/>
                  <a:pt x="278" y="213"/>
                </a:cubicBezTo>
                <a:cubicBezTo>
                  <a:pt x="278" y="214"/>
                  <a:pt x="278" y="214"/>
                  <a:pt x="278" y="214"/>
                </a:cubicBezTo>
                <a:cubicBezTo>
                  <a:pt x="278" y="220"/>
                  <a:pt x="278" y="220"/>
                  <a:pt x="278" y="220"/>
                </a:cubicBezTo>
                <a:cubicBezTo>
                  <a:pt x="280" y="226"/>
                  <a:pt x="280" y="226"/>
                  <a:pt x="280" y="226"/>
                </a:cubicBezTo>
                <a:cubicBezTo>
                  <a:pt x="280" y="229"/>
                  <a:pt x="282" y="230"/>
                  <a:pt x="284" y="231"/>
                </a:cubicBezTo>
                <a:cubicBezTo>
                  <a:pt x="284" y="231"/>
                  <a:pt x="284" y="231"/>
                  <a:pt x="284" y="231"/>
                </a:cubicBezTo>
                <a:cubicBezTo>
                  <a:pt x="288" y="231"/>
                  <a:pt x="290" y="233"/>
                  <a:pt x="290" y="235"/>
                </a:cubicBezTo>
                <a:cubicBezTo>
                  <a:pt x="291" y="237"/>
                  <a:pt x="292" y="240"/>
                  <a:pt x="295" y="243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301" y="253"/>
                  <a:pt x="301" y="253"/>
                  <a:pt x="301" y="253"/>
                </a:cubicBezTo>
                <a:cubicBezTo>
                  <a:pt x="305" y="253"/>
                  <a:pt x="305" y="253"/>
                  <a:pt x="305" y="253"/>
                </a:cubicBezTo>
                <a:cubicBezTo>
                  <a:pt x="312" y="247"/>
                  <a:pt x="312" y="247"/>
                  <a:pt x="312" y="247"/>
                </a:cubicBezTo>
                <a:cubicBezTo>
                  <a:pt x="316" y="256"/>
                  <a:pt x="316" y="256"/>
                  <a:pt x="316" y="256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6" y="259"/>
                  <a:pt x="326" y="259"/>
                  <a:pt x="326" y="259"/>
                </a:cubicBezTo>
                <a:cubicBezTo>
                  <a:pt x="330" y="267"/>
                  <a:pt x="330" y="267"/>
                  <a:pt x="330" y="267"/>
                </a:cubicBezTo>
                <a:cubicBezTo>
                  <a:pt x="332" y="269"/>
                  <a:pt x="332" y="269"/>
                  <a:pt x="332" y="269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59"/>
                  <a:pt x="332" y="259"/>
                  <a:pt x="332" y="259"/>
                </a:cubicBezTo>
                <a:cubicBezTo>
                  <a:pt x="350" y="259"/>
                  <a:pt x="350" y="259"/>
                  <a:pt x="350" y="259"/>
                </a:cubicBezTo>
                <a:cubicBezTo>
                  <a:pt x="350" y="257"/>
                  <a:pt x="350" y="257"/>
                  <a:pt x="350" y="257"/>
                </a:cubicBezTo>
                <a:cubicBezTo>
                  <a:pt x="351" y="257"/>
                  <a:pt x="351" y="255"/>
                  <a:pt x="350" y="254"/>
                </a:cubicBezTo>
                <a:cubicBezTo>
                  <a:pt x="349" y="251"/>
                  <a:pt x="348" y="249"/>
                  <a:pt x="348" y="247"/>
                </a:cubicBezTo>
                <a:cubicBezTo>
                  <a:pt x="348" y="243"/>
                  <a:pt x="348" y="241"/>
                  <a:pt x="349" y="240"/>
                </a:cubicBezTo>
                <a:cubicBezTo>
                  <a:pt x="350" y="239"/>
                  <a:pt x="351" y="239"/>
                  <a:pt x="353" y="239"/>
                </a:cubicBezTo>
                <a:cubicBezTo>
                  <a:pt x="360" y="241"/>
                  <a:pt x="360" y="241"/>
                  <a:pt x="360" y="241"/>
                </a:cubicBezTo>
                <a:cubicBezTo>
                  <a:pt x="361" y="236"/>
                  <a:pt x="361" y="236"/>
                  <a:pt x="361" y="236"/>
                </a:cubicBezTo>
                <a:cubicBezTo>
                  <a:pt x="348" y="230"/>
                  <a:pt x="348" y="230"/>
                  <a:pt x="348" y="230"/>
                </a:cubicBezTo>
                <a:cubicBezTo>
                  <a:pt x="347" y="230"/>
                  <a:pt x="347" y="230"/>
                  <a:pt x="347" y="230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4" y="213"/>
                  <a:pt x="344" y="213"/>
                  <a:pt x="344" y="213"/>
                </a:cubicBezTo>
                <a:cubicBezTo>
                  <a:pt x="345" y="203"/>
                  <a:pt x="345" y="203"/>
                  <a:pt x="345" y="203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67" y="203"/>
                  <a:pt x="367" y="203"/>
                  <a:pt x="367" y="203"/>
                </a:cubicBezTo>
                <a:cubicBezTo>
                  <a:pt x="372" y="198"/>
                  <a:pt x="372" y="198"/>
                  <a:pt x="372" y="198"/>
                </a:cubicBezTo>
                <a:cubicBezTo>
                  <a:pt x="374" y="196"/>
                  <a:pt x="373" y="195"/>
                  <a:pt x="372" y="194"/>
                </a:cubicBezTo>
                <a:cubicBezTo>
                  <a:pt x="367" y="192"/>
                  <a:pt x="364" y="190"/>
                  <a:pt x="364" y="187"/>
                </a:cubicBezTo>
                <a:cubicBezTo>
                  <a:pt x="364" y="186"/>
                  <a:pt x="364" y="185"/>
                  <a:pt x="366" y="184"/>
                </a:cubicBezTo>
                <a:cubicBezTo>
                  <a:pt x="376" y="175"/>
                  <a:pt x="376" y="175"/>
                  <a:pt x="376" y="175"/>
                </a:cubicBezTo>
                <a:cubicBezTo>
                  <a:pt x="386" y="174"/>
                  <a:pt x="386" y="174"/>
                  <a:pt x="386" y="174"/>
                </a:cubicBezTo>
                <a:cubicBezTo>
                  <a:pt x="391" y="165"/>
                  <a:pt x="391" y="165"/>
                  <a:pt x="391" y="165"/>
                </a:cubicBezTo>
                <a:cubicBezTo>
                  <a:pt x="391" y="157"/>
                  <a:pt x="391" y="157"/>
                  <a:pt x="391" y="157"/>
                </a:cubicBezTo>
                <a:cubicBezTo>
                  <a:pt x="398" y="155"/>
                  <a:pt x="398" y="155"/>
                  <a:pt x="398" y="155"/>
                </a:cubicBezTo>
                <a:cubicBezTo>
                  <a:pt x="400" y="149"/>
                  <a:pt x="402" y="146"/>
                  <a:pt x="402" y="145"/>
                </a:cubicBezTo>
                <a:cubicBezTo>
                  <a:pt x="406" y="138"/>
                  <a:pt x="406" y="138"/>
                  <a:pt x="406" y="13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7"/>
                  <a:pt x="400" y="127"/>
                  <a:pt x="400" y="127"/>
                </a:cubicBezTo>
                <a:cubicBezTo>
                  <a:pt x="396" y="114"/>
                  <a:pt x="396" y="114"/>
                  <a:pt x="396" y="114"/>
                </a:cubicBezTo>
                <a:cubicBezTo>
                  <a:pt x="396" y="113"/>
                  <a:pt x="396" y="113"/>
                  <a:pt x="396" y="113"/>
                </a:cubicBezTo>
                <a:cubicBezTo>
                  <a:pt x="394" y="99"/>
                  <a:pt x="394" y="99"/>
                  <a:pt x="394" y="99"/>
                </a:cubicBezTo>
                <a:cubicBezTo>
                  <a:pt x="389" y="91"/>
                  <a:pt x="389" y="91"/>
                  <a:pt x="389" y="91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1" y="75"/>
                  <a:pt x="381" y="75"/>
                  <a:pt x="381" y="75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2" y="72"/>
                  <a:pt x="362" y="72"/>
                  <a:pt x="362" y="72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3" y="59"/>
                  <a:pt x="343" y="59"/>
                  <a:pt x="343" y="59"/>
                </a:cubicBezTo>
                <a:cubicBezTo>
                  <a:pt x="336" y="50"/>
                  <a:pt x="336" y="50"/>
                  <a:pt x="336" y="50"/>
                </a:cubicBezTo>
                <a:cubicBezTo>
                  <a:pt x="332" y="47"/>
                  <a:pt x="332" y="47"/>
                  <a:pt x="332" y="47"/>
                </a:cubicBezTo>
                <a:cubicBezTo>
                  <a:pt x="329" y="51"/>
                  <a:pt x="329" y="51"/>
                  <a:pt x="329" y="51"/>
                </a:cubicBezTo>
                <a:cubicBezTo>
                  <a:pt x="329" y="52"/>
                  <a:pt x="329" y="52"/>
                  <a:pt x="329" y="52"/>
                </a:cubicBezTo>
                <a:cubicBezTo>
                  <a:pt x="329" y="53"/>
                  <a:pt x="329" y="53"/>
                  <a:pt x="329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2" y="53"/>
                  <a:pt x="322" y="53"/>
                  <a:pt x="322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08" y="39"/>
                  <a:pt x="308" y="39"/>
                  <a:pt x="308" y="39"/>
                </a:cubicBezTo>
                <a:cubicBezTo>
                  <a:pt x="305" y="38"/>
                  <a:pt x="302" y="35"/>
                  <a:pt x="298" y="31"/>
                </a:cubicBezTo>
                <a:cubicBezTo>
                  <a:pt x="292" y="27"/>
                  <a:pt x="292" y="27"/>
                  <a:pt x="292" y="27"/>
                </a:cubicBezTo>
                <a:cubicBezTo>
                  <a:pt x="292" y="26"/>
                  <a:pt x="292" y="26"/>
                  <a:pt x="292" y="26"/>
                </a:cubicBezTo>
                <a:cubicBezTo>
                  <a:pt x="285" y="22"/>
                  <a:pt x="285" y="22"/>
                  <a:pt x="285" y="22"/>
                </a:cubicBezTo>
                <a:cubicBezTo>
                  <a:pt x="281" y="25"/>
                  <a:pt x="281" y="25"/>
                  <a:pt x="281" y="25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76" y="25"/>
                  <a:pt x="276" y="25"/>
                  <a:pt x="276" y="25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65" y="29"/>
                  <a:pt x="265" y="29"/>
                  <a:pt x="265" y="29"/>
                </a:cubicBezTo>
                <a:cubicBezTo>
                  <a:pt x="258" y="24"/>
                  <a:pt x="250" y="20"/>
                  <a:pt x="242" y="15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reeform 10"/>
          <p:cNvSpPr/>
          <p:nvPr/>
        </p:nvSpPr>
        <p:spPr>
          <a:xfrm>
            <a:off x="2603520" y="3591000"/>
            <a:ext cx="1130400" cy="99036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351" h="308">
                <a:moveTo>
                  <a:pt x="33" y="7"/>
                </a:moveTo>
                <a:cubicBezTo>
                  <a:pt x="23" y="5"/>
                  <a:pt x="23" y="5"/>
                  <a:pt x="23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1" y="7"/>
                  <a:pt x="11" y="7"/>
                  <a:pt x="11" y="7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3" y="25"/>
                  <a:pt x="13" y="25"/>
                  <a:pt x="13" y="25"/>
                </a:cubicBezTo>
                <a:cubicBezTo>
                  <a:pt x="13" y="33"/>
                  <a:pt x="13" y="33"/>
                  <a:pt x="13" y="33"/>
                </a:cubicBezTo>
                <a:cubicBezTo>
                  <a:pt x="13" y="35"/>
                  <a:pt x="13" y="35"/>
                  <a:pt x="13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11" y="45"/>
                  <a:pt x="11" y="45"/>
                  <a:pt x="11" y="45"/>
                </a:cubicBezTo>
                <a:cubicBezTo>
                  <a:pt x="3" y="47"/>
                  <a:pt x="3" y="47"/>
                  <a:pt x="3" y="47"/>
                </a:cubicBezTo>
                <a:cubicBezTo>
                  <a:pt x="0" y="53"/>
                  <a:pt x="0" y="53"/>
                  <a:pt x="0" y="53"/>
                </a:cubicBezTo>
                <a:cubicBezTo>
                  <a:pt x="4" y="57"/>
                  <a:pt x="4" y="57"/>
                  <a:pt x="4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19" y="68"/>
                  <a:pt x="19" y="68"/>
                  <a:pt x="19" y="68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21" y="79"/>
                  <a:pt x="21" y="79"/>
                  <a:pt x="21" y="79"/>
                </a:cubicBezTo>
                <a:cubicBezTo>
                  <a:pt x="28" y="89"/>
                  <a:pt x="28" y="89"/>
                  <a:pt x="28" y="89"/>
                </a:cubicBezTo>
                <a:cubicBezTo>
                  <a:pt x="29" y="91"/>
                  <a:pt x="31" y="93"/>
                  <a:pt x="35" y="97"/>
                </a:cubicBezTo>
                <a:cubicBezTo>
                  <a:pt x="35" y="97"/>
                  <a:pt x="35" y="97"/>
                  <a:pt x="35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5" y="98"/>
                  <a:pt x="35" y="98"/>
                  <a:pt x="35" y="98"/>
                </a:cubicBezTo>
                <a:cubicBezTo>
                  <a:pt x="35" y="107"/>
                  <a:pt x="35" y="107"/>
                  <a:pt x="35" y="107"/>
                </a:cubicBezTo>
                <a:cubicBezTo>
                  <a:pt x="37" y="109"/>
                  <a:pt x="37" y="115"/>
                  <a:pt x="37" y="122"/>
                </a:cubicBezTo>
                <a:cubicBezTo>
                  <a:pt x="41" y="127"/>
                  <a:pt x="42" y="131"/>
                  <a:pt x="42" y="133"/>
                </a:cubicBezTo>
                <a:cubicBezTo>
                  <a:pt x="42" y="135"/>
                  <a:pt x="43" y="138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6" y="149"/>
                  <a:pt x="46" y="153"/>
                  <a:pt x="45" y="157"/>
                </a:cubicBezTo>
                <a:cubicBezTo>
                  <a:pt x="43" y="160"/>
                  <a:pt x="45" y="165"/>
                  <a:pt x="49" y="173"/>
                </a:cubicBezTo>
                <a:cubicBezTo>
                  <a:pt x="50" y="173"/>
                  <a:pt x="50" y="173"/>
                  <a:pt x="50" y="173"/>
                </a:cubicBezTo>
                <a:cubicBezTo>
                  <a:pt x="50" y="174"/>
                  <a:pt x="50" y="174"/>
                  <a:pt x="50" y="174"/>
                </a:cubicBezTo>
                <a:cubicBezTo>
                  <a:pt x="50" y="175"/>
                  <a:pt x="50" y="175"/>
                  <a:pt x="50" y="175"/>
                </a:cubicBezTo>
                <a:cubicBezTo>
                  <a:pt x="43" y="189"/>
                  <a:pt x="43" y="189"/>
                  <a:pt x="43" y="189"/>
                </a:cubicBezTo>
                <a:cubicBezTo>
                  <a:pt x="45" y="192"/>
                  <a:pt x="45" y="194"/>
                  <a:pt x="45" y="196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13"/>
                  <a:pt x="43" y="216"/>
                  <a:pt x="45" y="217"/>
                </a:cubicBezTo>
                <a:cubicBezTo>
                  <a:pt x="47" y="218"/>
                  <a:pt x="47" y="218"/>
                  <a:pt x="47" y="218"/>
                </a:cubicBezTo>
                <a:cubicBezTo>
                  <a:pt x="51" y="220"/>
                  <a:pt x="52" y="222"/>
                  <a:pt x="52" y="224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4" y="232"/>
                  <a:pt x="54" y="232"/>
                  <a:pt x="54" y="232"/>
                </a:cubicBezTo>
                <a:cubicBezTo>
                  <a:pt x="55" y="231"/>
                  <a:pt x="55" y="231"/>
                  <a:pt x="55" y="231"/>
                </a:cubicBezTo>
                <a:cubicBezTo>
                  <a:pt x="56" y="229"/>
                  <a:pt x="57" y="228"/>
                  <a:pt x="58" y="226"/>
                </a:cubicBezTo>
                <a:cubicBezTo>
                  <a:pt x="59" y="225"/>
                  <a:pt x="59" y="225"/>
                  <a:pt x="59" y="225"/>
                </a:cubicBezTo>
                <a:cubicBezTo>
                  <a:pt x="59" y="224"/>
                  <a:pt x="59" y="224"/>
                  <a:pt x="59" y="224"/>
                </a:cubicBezTo>
                <a:cubicBezTo>
                  <a:pt x="61" y="223"/>
                  <a:pt x="61" y="222"/>
                  <a:pt x="63" y="220"/>
                </a:cubicBezTo>
                <a:cubicBezTo>
                  <a:pt x="63" y="218"/>
                  <a:pt x="63" y="215"/>
                  <a:pt x="62" y="213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3" y="210"/>
                  <a:pt x="63" y="210"/>
                  <a:pt x="63" y="210"/>
                </a:cubicBezTo>
                <a:cubicBezTo>
                  <a:pt x="70" y="209"/>
                  <a:pt x="73" y="209"/>
                  <a:pt x="75" y="212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1"/>
                  <a:pt x="78" y="221"/>
                  <a:pt x="78" y="221"/>
                </a:cubicBezTo>
                <a:cubicBezTo>
                  <a:pt x="79" y="234"/>
                  <a:pt x="79" y="234"/>
                  <a:pt x="79" y="234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9" y="239"/>
                  <a:pt x="89" y="239"/>
                  <a:pt x="89" y="239"/>
                </a:cubicBezTo>
                <a:cubicBezTo>
                  <a:pt x="92" y="236"/>
                  <a:pt x="92" y="236"/>
                  <a:pt x="92" y="236"/>
                </a:cubicBezTo>
                <a:cubicBezTo>
                  <a:pt x="95" y="233"/>
                  <a:pt x="95" y="233"/>
                  <a:pt x="95" y="233"/>
                </a:cubicBezTo>
                <a:cubicBezTo>
                  <a:pt x="97" y="233"/>
                  <a:pt x="97" y="233"/>
                  <a:pt x="97" y="233"/>
                </a:cubicBezTo>
                <a:cubicBezTo>
                  <a:pt x="99" y="234"/>
                  <a:pt x="101" y="236"/>
                  <a:pt x="102" y="239"/>
                </a:cubicBezTo>
                <a:cubicBezTo>
                  <a:pt x="103" y="249"/>
                  <a:pt x="103" y="249"/>
                  <a:pt x="103" y="249"/>
                </a:cubicBezTo>
                <a:cubicBezTo>
                  <a:pt x="104" y="251"/>
                  <a:pt x="104" y="251"/>
                  <a:pt x="104" y="251"/>
                </a:cubicBezTo>
                <a:cubicBezTo>
                  <a:pt x="115" y="274"/>
                  <a:pt x="115" y="274"/>
                  <a:pt x="115" y="274"/>
                </a:cubicBezTo>
                <a:cubicBezTo>
                  <a:pt x="119" y="278"/>
                  <a:pt x="119" y="278"/>
                  <a:pt x="119" y="278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2" y="298"/>
                  <a:pt x="122" y="298"/>
                  <a:pt x="122" y="298"/>
                </a:cubicBezTo>
                <a:cubicBezTo>
                  <a:pt x="123" y="299"/>
                  <a:pt x="123" y="299"/>
                  <a:pt x="123" y="299"/>
                </a:cubicBezTo>
                <a:cubicBezTo>
                  <a:pt x="125" y="295"/>
                  <a:pt x="128" y="293"/>
                  <a:pt x="129" y="293"/>
                </a:cubicBezTo>
                <a:cubicBezTo>
                  <a:pt x="131" y="294"/>
                  <a:pt x="131" y="295"/>
                  <a:pt x="131" y="296"/>
                </a:cubicBezTo>
                <a:cubicBezTo>
                  <a:pt x="131" y="299"/>
                  <a:pt x="131" y="299"/>
                  <a:pt x="131" y="299"/>
                </a:cubicBezTo>
                <a:cubicBezTo>
                  <a:pt x="131" y="306"/>
                  <a:pt x="131" y="306"/>
                  <a:pt x="131" y="306"/>
                </a:cubicBezTo>
                <a:cubicBezTo>
                  <a:pt x="131" y="308"/>
                  <a:pt x="131" y="308"/>
                  <a:pt x="131" y="308"/>
                </a:cubicBezTo>
                <a:cubicBezTo>
                  <a:pt x="133" y="308"/>
                  <a:pt x="135" y="308"/>
                  <a:pt x="135" y="307"/>
                </a:cubicBezTo>
                <a:cubicBezTo>
                  <a:pt x="139" y="301"/>
                  <a:pt x="139" y="301"/>
                  <a:pt x="139" y="301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7" y="295"/>
                  <a:pt x="149" y="293"/>
                  <a:pt x="153" y="293"/>
                </a:cubicBezTo>
                <a:cubicBezTo>
                  <a:pt x="153" y="293"/>
                  <a:pt x="153" y="293"/>
                  <a:pt x="153" y="293"/>
                </a:cubicBezTo>
                <a:cubicBezTo>
                  <a:pt x="161" y="295"/>
                  <a:pt x="161" y="295"/>
                  <a:pt x="161" y="295"/>
                </a:cubicBezTo>
                <a:cubicBezTo>
                  <a:pt x="164" y="294"/>
                  <a:pt x="164" y="294"/>
                  <a:pt x="164" y="294"/>
                </a:cubicBezTo>
                <a:cubicBezTo>
                  <a:pt x="168" y="288"/>
                  <a:pt x="168" y="288"/>
                  <a:pt x="168" y="288"/>
                </a:cubicBezTo>
                <a:cubicBezTo>
                  <a:pt x="167" y="279"/>
                  <a:pt x="167" y="279"/>
                  <a:pt x="167" y="279"/>
                </a:cubicBezTo>
                <a:cubicBezTo>
                  <a:pt x="165" y="275"/>
                  <a:pt x="163" y="271"/>
                  <a:pt x="164" y="268"/>
                </a:cubicBezTo>
                <a:cubicBezTo>
                  <a:pt x="165" y="261"/>
                  <a:pt x="165" y="261"/>
                  <a:pt x="165" y="261"/>
                </a:cubicBezTo>
                <a:cubicBezTo>
                  <a:pt x="165" y="260"/>
                  <a:pt x="165" y="260"/>
                  <a:pt x="165" y="260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73" y="255"/>
                  <a:pt x="173" y="255"/>
                  <a:pt x="173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9" y="251"/>
                  <a:pt x="179" y="251"/>
                  <a:pt x="179" y="251"/>
                </a:cubicBezTo>
                <a:cubicBezTo>
                  <a:pt x="186" y="242"/>
                  <a:pt x="186" y="242"/>
                  <a:pt x="186" y="242"/>
                </a:cubicBezTo>
                <a:cubicBezTo>
                  <a:pt x="187" y="235"/>
                  <a:pt x="187" y="235"/>
                  <a:pt x="187" y="235"/>
                </a:cubicBezTo>
                <a:cubicBezTo>
                  <a:pt x="179" y="218"/>
                  <a:pt x="179" y="218"/>
                  <a:pt x="179" y="218"/>
                </a:cubicBezTo>
                <a:cubicBezTo>
                  <a:pt x="195" y="225"/>
                  <a:pt x="195" y="225"/>
                  <a:pt x="195" y="225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8"/>
                  <a:pt x="195" y="218"/>
                  <a:pt x="195" y="218"/>
                </a:cubicBezTo>
                <a:cubicBezTo>
                  <a:pt x="201" y="213"/>
                  <a:pt x="201" y="213"/>
                  <a:pt x="201" y="213"/>
                </a:cubicBezTo>
                <a:cubicBezTo>
                  <a:pt x="213" y="210"/>
                  <a:pt x="213" y="210"/>
                  <a:pt x="213" y="210"/>
                </a:cubicBezTo>
                <a:cubicBezTo>
                  <a:pt x="214" y="210"/>
                  <a:pt x="214" y="210"/>
                  <a:pt x="214" y="210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0" y="231"/>
                  <a:pt x="220" y="231"/>
                  <a:pt x="220" y="231"/>
                </a:cubicBezTo>
                <a:cubicBezTo>
                  <a:pt x="221" y="236"/>
                  <a:pt x="221" y="236"/>
                  <a:pt x="221" y="236"/>
                </a:cubicBezTo>
                <a:cubicBezTo>
                  <a:pt x="221" y="239"/>
                  <a:pt x="223" y="240"/>
                  <a:pt x="224" y="240"/>
                </a:cubicBezTo>
                <a:cubicBezTo>
                  <a:pt x="226" y="240"/>
                  <a:pt x="227" y="239"/>
                  <a:pt x="229" y="237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30" y="236"/>
                  <a:pt x="230" y="236"/>
                  <a:pt x="230" y="236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40" y="233"/>
                  <a:pt x="240" y="233"/>
                  <a:pt x="240" y="233"/>
                </a:cubicBezTo>
                <a:cubicBezTo>
                  <a:pt x="245" y="233"/>
                  <a:pt x="247" y="234"/>
                  <a:pt x="249" y="236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51" y="248"/>
                  <a:pt x="251" y="248"/>
                  <a:pt x="251" y="248"/>
                </a:cubicBezTo>
                <a:cubicBezTo>
                  <a:pt x="255" y="249"/>
                  <a:pt x="255" y="249"/>
                  <a:pt x="255" y="249"/>
                </a:cubicBezTo>
                <a:cubicBezTo>
                  <a:pt x="261" y="249"/>
                  <a:pt x="261" y="249"/>
                  <a:pt x="261" y="249"/>
                </a:cubicBezTo>
                <a:cubicBezTo>
                  <a:pt x="271" y="246"/>
                  <a:pt x="271" y="246"/>
                  <a:pt x="271" y="246"/>
                </a:cubicBezTo>
                <a:cubicBezTo>
                  <a:pt x="277" y="241"/>
                  <a:pt x="277" y="241"/>
                  <a:pt x="277" y="241"/>
                </a:cubicBezTo>
                <a:cubicBezTo>
                  <a:pt x="278" y="236"/>
                  <a:pt x="278" y="236"/>
                  <a:pt x="278" y="236"/>
                </a:cubicBezTo>
                <a:cubicBezTo>
                  <a:pt x="275" y="233"/>
                  <a:pt x="275" y="233"/>
                  <a:pt x="275" y="233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52" y="217"/>
                  <a:pt x="252" y="217"/>
                  <a:pt x="252" y="217"/>
                </a:cubicBezTo>
                <a:cubicBezTo>
                  <a:pt x="253" y="216"/>
                  <a:pt x="253" y="216"/>
                  <a:pt x="253" y="216"/>
                </a:cubicBezTo>
                <a:cubicBezTo>
                  <a:pt x="259" y="211"/>
                  <a:pt x="259" y="211"/>
                  <a:pt x="259" y="211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7" y="208"/>
                  <a:pt x="267" y="208"/>
                  <a:pt x="267" y="208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10"/>
                  <a:pt x="275" y="210"/>
                  <a:pt x="275" y="210"/>
                </a:cubicBezTo>
                <a:cubicBezTo>
                  <a:pt x="275" y="207"/>
                  <a:pt x="275" y="207"/>
                  <a:pt x="275" y="207"/>
                </a:cubicBezTo>
                <a:cubicBezTo>
                  <a:pt x="272" y="201"/>
                  <a:pt x="272" y="201"/>
                  <a:pt x="272" y="201"/>
                </a:cubicBezTo>
                <a:cubicBezTo>
                  <a:pt x="266" y="198"/>
                  <a:pt x="266" y="198"/>
                  <a:pt x="266" y="198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5" y="173"/>
                  <a:pt x="255" y="173"/>
                  <a:pt x="255" y="173"/>
                </a:cubicBezTo>
                <a:cubicBezTo>
                  <a:pt x="255" y="163"/>
                  <a:pt x="255" y="163"/>
                  <a:pt x="255" y="163"/>
                </a:cubicBezTo>
                <a:cubicBezTo>
                  <a:pt x="261" y="157"/>
                  <a:pt x="261" y="157"/>
                  <a:pt x="261" y="157"/>
                </a:cubicBezTo>
                <a:cubicBezTo>
                  <a:pt x="271" y="157"/>
                  <a:pt x="271" y="157"/>
                  <a:pt x="271" y="157"/>
                </a:cubicBezTo>
                <a:cubicBezTo>
                  <a:pt x="293" y="159"/>
                  <a:pt x="293" y="159"/>
                  <a:pt x="293" y="159"/>
                </a:cubicBezTo>
                <a:cubicBezTo>
                  <a:pt x="303" y="144"/>
                  <a:pt x="303" y="144"/>
                  <a:pt x="303" y="144"/>
                </a:cubicBezTo>
                <a:cubicBezTo>
                  <a:pt x="303" y="143"/>
                  <a:pt x="303" y="143"/>
                  <a:pt x="303" y="143"/>
                </a:cubicBezTo>
                <a:cubicBezTo>
                  <a:pt x="304" y="143"/>
                  <a:pt x="304" y="143"/>
                  <a:pt x="304" y="143"/>
                </a:cubicBezTo>
                <a:cubicBezTo>
                  <a:pt x="313" y="139"/>
                  <a:pt x="313" y="139"/>
                  <a:pt x="313" y="139"/>
                </a:cubicBezTo>
                <a:cubicBezTo>
                  <a:pt x="317" y="130"/>
                  <a:pt x="317" y="130"/>
                  <a:pt x="317" y="130"/>
                </a:cubicBezTo>
                <a:cubicBezTo>
                  <a:pt x="317" y="129"/>
                  <a:pt x="317" y="129"/>
                  <a:pt x="317" y="129"/>
                </a:cubicBezTo>
                <a:cubicBezTo>
                  <a:pt x="327" y="121"/>
                  <a:pt x="327" y="121"/>
                  <a:pt x="327" y="121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3" y="112"/>
                  <a:pt x="333" y="112"/>
                  <a:pt x="333" y="112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7" y="107"/>
                  <a:pt x="337" y="107"/>
                  <a:pt x="337" y="107"/>
                </a:cubicBezTo>
                <a:cubicBezTo>
                  <a:pt x="341" y="99"/>
                  <a:pt x="341" y="99"/>
                  <a:pt x="341" y="99"/>
                </a:cubicBezTo>
                <a:cubicBezTo>
                  <a:pt x="343" y="87"/>
                  <a:pt x="343" y="87"/>
                  <a:pt x="343" y="87"/>
                </a:cubicBezTo>
                <a:cubicBezTo>
                  <a:pt x="343" y="86"/>
                  <a:pt x="343" y="86"/>
                  <a:pt x="343" y="86"/>
                </a:cubicBezTo>
                <a:cubicBezTo>
                  <a:pt x="343" y="85"/>
                  <a:pt x="343" y="85"/>
                  <a:pt x="343" y="85"/>
                </a:cubicBezTo>
                <a:cubicBezTo>
                  <a:pt x="350" y="81"/>
                  <a:pt x="350" y="81"/>
                  <a:pt x="350" y="81"/>
                </a:cubicBezTo>
                <a:cubicBezTo>
                  <a:pt x="351" y="79"/>
                  <a:pt x="351" y="79"/>
                  <a:pt x="351" y="79"/>
                </a:cubicBezTo>
                <a:cubicBezTo>
                  <a:pt x="342" y="78"/>
                  <a:pt x="342" y="78"/>
                  <a:pt x="342" y="78"/>
                </a:cubicBezTo>
                <a:cubicBezTo>
                  <a:pt x="326" y="79"/>
                  <a:pt x="326" y="79"/>
                  <a:pt x="326" y="79"/>
                </a:cubicBezTo>
                <a:cubicBezTo>
                  <a:pt x="325" y="78"/>
                  <a:pt x="325" y="78"/>
                  <a:pt x="325" y="78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5" y="68"/>
                  <a:pt x="315" y="68"/>
                  <a:pt x="315" y="68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3" y="71"/>
                  <a:pt x="311" y="71"/>
                  <a:pt x="309" y="71"/>
                </a:cubicBezTo>
                <a:cubicBezTo>
                  <a:pt x="307" y="72"/>
                  <a:pt x="307" y="72"/>
                  <a:pt x="307" y="72"/>
                </a:cubicBezTo>
                <a:cubicBezTo>
                  <a:pt x="306" y="73"/>
                  <a:pt x="305" y="73"/>
                  <a:pt x="304" y="73"/>
                </a:cubicBezTo>
                <a:cubicBezTo>
                  <a:pt x="303" y="73"/>
                  <a:pt x="303" y="71"/>
                  <a:pt x="302" y="69"/>
                </a:cubicBezTo>
                <a:cubicBezTo>
                  <a:pt x="302" y="67"/>
                  <a:pt x="301" y="65"/>
                  <a:pt x="299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6" y="57"/>
                  <a:pt x="296" y="57"/>
                  <a:pt x="296" y="57"/>
                </a:cubicBezTo>
                <a:cubicBezTo>
                  <a:pt x="294" y="57"/>
                  <a:pt x="294" y="57"/>
                  <a:pt x="294" y="57"/>
                </a:cubicBezTo>
                <a:cubicBezTo>
                  <a:pt x="288" y="61"/>
                  <a:pt x="288" y="61"/>
                  <a:pt x="288" y="61"/>
                </a:cubicBezTo>
                <a:cubicBezTo>
                  <a:pt x="288" y="62"/>
                  <a:pt x="288" y="62"/>
                  <a:pt x="288" y="62"/>
                </a:cubicBezTo>
                <a:cubicBezTo>
                  <a:pt x="287" y="62"/>
                  <a:pt x="287" y="62"/>
                  <a:pt x="287" y="62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2" y="64"/>
                  <a:pt x="272" y="64"/>
                  <a:pt x="272" y="64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53" y="59"/>
                  <a:pt x="253" y="59"/>
                  <a:pt x="253" y="59"/>
                </a:cubicBezTo>
                <a:cubicBezTo>
                  <a:pt x="248" y="65"/>
                  <a:pt x="244" y="67"/>
                  <a:pt x="242" y="65"/>
                </a:cubicBezTo>
                <a:cubicBezTo>
                  <a:pt x="233" y="60"/>
                  <a:pt x="233" y="60"/>
                  <a:pt x="233" y="60"/>
                </a:cubicBezTo>
                <a:cubicBezTo>
                  <a:pt x="226" y="59"/>
                  <a:pt x="226" y="59"/>
                  <a:pt x="226" y="59"/>
                </a:cubicBezTo>
                <a:cubicBezTo>
                  <a:pt x="225" y="60"/>
                  <a:pt x="225" y="60"/>
                  <a:pt x="225" y="60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8" y="55"/>
                  <a:pt x="218" y="55"/>
                  <a:pt x="218" y="55"/>
                </a:cubicBezTo>
                <a:cubicBezTo>
                  <a:pt x="221" y="44"/>
                  <a:pt x="221" y="44"/>
                  <a:pt x="221" y="44"/>
                </a:cubicBezTo>
                <a:cubicBezTo>
                  <a:pt x="221" y="40"/>
                  <a:pt x="221" y="40"/>
                  <a:pt x="221" y="40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08" y="29"/>
                  <a:pt x="208" y="29"/>
                  <a:pt x="208" y="29"/>
                </a:cubicBezTo>
                <a:cubicBezTo>
                  <a:pt x="209" y="23"/>
                  <a:pt x="209" y="23"/>
                  <a:pt x="209" y="23"/>
                </a:cubicBezTo>
                <a:cubicBezTo>
                  <a:pt x="188" y="21"/>
                  <a:pt x="188" y="21"/>
                  <a:pt x="188" y="21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8" y="15"/>
                  <a:pt x="176" y="13"/>
                  <a:pt x="175" y="9"/>
                </a:cubicBezTo>
                <a:cubicBezTo>
                  <a:pt x="174" y="6"/>
                  <a:pt x="174" y="6"/>
                  <a:pt x="174" y="6"/>
                </a:cubicBezTo>
                <a:cubicBezTo>
                  <a:pt x="172" y="0"/>
                  <a:pt x="172" y="0"/>
                  <a:pt x="172" y="0"/>
                </a:cubicBezTo>
                <a:cubicBezTo>
                  <a:pt x="169" y="0"/>
                  <a:pt x="169" y="0"/>
                  <a:pt x="169" y="0"/>
                </a:cubicBezTo>
                <a:cubicBezTo>
                  <a:pt x="163" y="5"/>
                  <a:pt x="163" y="5"/>
                  <a:pt x="163" y="5"/>
                </a:cubicBezTo>
                <a:cubicBezTo>
                  <a:pt x="155" y="15"/>
                  <a:pt x="155" y="15"/>
                  <a:pt x="155" y="15"/>
                </a:cubicBezTo>
                <a:cubicBezTo>
                  <a:pt x="157" y="21"/>
                  <a:pt x="157" y="21"/>
                  <a:pt x="157" y="21"/>
                </a:cubicBezTo>
                <a:cubicBezTo>
                  <a:pt x="159" y="30"/>
                  <a:pt x="159" y="30"/>
                  <a:pt x="159" y="30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60" y="31"/>
                  <a:pt x="160" y="31"/>
                  <a:pt x="160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4"/>
                  <a:pt x="156" y="35"/>
                  <a:pt x="153" y="35"/>
                </a:cubicBezTo>
                <a:cubicBezTo>
                  <a:pt x="145" y="35"/>
                  <a:pt x="145" y="35"/>
                  <a:pt x="145" y="35"/>
                </a:cubicBezTo>
                <a:cubicBezTo>
                  <a:pt x="140" y="33"/>
                  <a:pt x="140" y="33"/>
                  <a:pt x="140" y="33"/>
                </a:cubicBezTo>
                <a:cubicBezTo>
                  <a:pt x="134" y="35"/>
                  <a:pt x="134" y="35"/>
                  <a:pt x="134" y="35"/>
                </a:cubicBezTo>
                <a:cubicBezTo>
                  <a:pt x="133" y="35"/>
                  <a:pt x="133" y="35"/>
                  <a:pt x="133" y="35"/>
                </a:cubicBezTo>
                <a:cubicBezTo>
                  <a:pt x="132" y="35"/>
                  <a:pt x="132" y="35"/>
                  <a:pt x="132" y="35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29" y="43"/>
                  <a:pt x="129" y="43"/>
                  <a:pt x="129" y="43"/>
                </a:cubicBezTo>
                <a:cubicBezTo>
                  <a:pt x="119" y="39"/>
                  <a:pt x="119" y="39"/>
                  <a:pt x="119" y="39"/>
                </a:cubicBezTo>
                <a:cubicBezTo>
                  <a:pt x="119" y="43"/>
                  <a:pt x="120" y="45"/>
                  <a:pt x="121" y="48"/>
                </a:cubicBezTo>
                <a:cubicBezTo>
                  <a:pt x="123" y="51"/>
                  <a:pt x="123" y="53"/>
                  <a:pt x="122" y="55"/>
                </a:cubicBezTo>
                <a:cubicBezTo>
                  <a:pt x="121" y="58"/>
                  <a:pt x="121" y="58"/>
                  <a:pt x="121" y="58"/>
                </a:cubicBezTo>
                <a:cubicBezTo>
                  <a:pt x="119" y="59"/>
                  <a:pt x="116" y="60"/>
                  <a:pt x="111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3" y="71"/>
                  <a:pt x="103" y="71"/>
                  <a:pt x="103" y="71"/>
                </a:cubicBezTo>
                <a:cubicBezTo>
                  <a:pt x="95" y="67"/>
                  <a:pt x="95" y="67"/>
                  <a:pt x="95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89" y="59"/>
                  <a:pt x="89" y="59"/>
                  <a:pt x="89" y="59"/>
                </a:cubicBezTo>
                <a:cubicBezTo>
                  <a:pt x="80" y="55"/>
                  <a:pt x="80" y="55"/>
                  <a:pt x="80" y="55"/>
                </a:cubicBezTo>
                <a:cubicBezTo>
                  <a:pt x="77" y="50"/>
                  <a:pt x="77" y="50"/>
                  <a:pt x="77" y="50"/>
                </a:cubicBezTo>
                <a:cubicBezTo>
                  <a:pt x="74" y="53"/>
                  <a:pt x="74" y="53"/>
                  <a:pt x="74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67" y="54"/>
                  <a:pt x="67" y="54"/>
                  <a:pt x="67" y="54"/>
                </a:cubicBezTo>
                <a:cubicBezTo>
                  <a:pt x="66" y="54"/>
                  <a:pt x="66" y="54"/>
                  <a:pt x="66" y="54"/>
                </a:cubicBezTo>
                <a:cubicBezTo>
                  <a:pt x="63" y="47"/>
                  <a:pt x="63" y="47"/>
                  <a:pt x="63" y="47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42"/>
                  <a:pt x="59" y="42"/>
                  <a:pt x="59" y="42"/>
                </a:cubicBezTo>
                <a:cubicBezTo>
                  <a:pt x="56" y="38"/>
                  <a:pt x="54" y="35"/>
                  <a:pt x="53" y="33"/>
                </a:cubicBezTo>
                <a:cubicBezTo>
                  <a:pt x="53" y="32"/>
                  <a:pt x="53" y="31"/>
                  <a:pt x="51" y="31"/>
                </a:cubicBezTo>
                <a:cubicBezTo>
                  <a:pt x="49" y="31"/>
                  <a:pt x="49" y="31"/>
                  <a:pt x="49" y="31"/>
                </a:cubicBezTo>
                <a:cubicBezTo>
                  <a:pt x="46" y="29"/>
                  <a:pt x="44" y="27"/>
                  <a:pt x="43" y="23"/>
                </a:cubicBezTo>
                <a:cubicBezTo>
                  <a:pt x="41" y="17"/>
                  <a:pt x="41" y="17"/>
                  <a:pt x="41" y="17"/>
                </a:cubicBezTo>
                <a:cubicBezTo>
                  <a:pt x="41" y="11"/>
                  <a:pt x="41" y="11"/>
                  <a:pt x="41" y="11"/>
                </a:cubicBezTo>
                <a:cubicBezTo>
                  <a:pt x="39" y="6"/>
                  <a:pt x="39" y="6"/>
                  <a:pt x="39" y="6"/>
                </a:cubicBezTo>
                <a:cubicBezTo>
                  <a:pt x="34" y="7"/>
                  <a:pt x="34" y="7"/>
                  <a:pt x="34" y="7"/>
                </a:cubicBezTo>
                <a:cubicBezTo>
                  <a:pt x="33" y="7"/>
                  <a:pt x="33" y="7"/>
                  <a:pt x="33" y="7"/>
                </a:cubicBezTo>
                <a:cubicBezTo>
                  <a:pt x="33" y="7"/>
                  <a:pt x="33" y="7"/>
                  <a:pt x="33" y="7"/>
                </a:cubicBezTo>
                <a:close/>
              </a:path>
            </a:pathLst>
          </a:cu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reeform 11"/>
          <p:cNvSpPr/>
          <p:nvPr/>
        </p:nvSpPr>
        <p:spPr>
          <a:xfrm>
            <a:off x="728640" y="3191040"/>
            <a:ext cx="2021040" cy="1225440"/>
          </a:xfrm>
          <a:custGeom>
            <a:avLst/>
            <a:gdLst>
              <a:gd name="textAreaLeft" fmla="*/ 0 w 2021040"/>
              <a:gd name="textAreaRight" fmla="*/ 2021400 w 202104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629" h="382">
                <a:moveTo>
                  <a:pt x="77" y="2"/>
                </a:moveTo>
                <a:cubicBezTo>
                  <a:pt x="77" y="2"/>
                  <a:pt x="77" y="2"/>
                  <a:pt x="77" y="2"/>
                </a:cubicBezTo>
                <a:cubicBezTo>
                  <a:pt x="76" y="6"/>
                  <a:pt x="73" y="8"/>
                  <a:pt x="70" y="11"/>
                </a:cubicBezTo>
                <a:cubicBezTo>
                  <a:pt x="67" y="12"/>
                  <a:pt x="67" y="14"/>
                  <a:pt x="67" y="16"/>
                </a:cubicBezTo>
                <a:cubicBezTo>
                  <a:pt x="67" y="18"/>
                  <a:pt x="67" y="18"/>
                  <a:pt x="67" y="18"/>
                </a:cubicBezTo>
                <a:cubicBezTo>
                  <a:pt x="67" y="20"/>
                  <a:pt x="65" y="23"/>
                  <a:pt x="62" y="28"/>
                </a:cubicBezTo>
                <a:cubicBezTo>
                  <a:pt x="62" y="30"/>
                  <a:pt x="62" y="30"/>
                  <a:pt x="62" y="30"/>
                </a:cubicBezTo>
                <a:cubicBezTo>
                  <a:pt x="61" y="31"/>
                  <a:pt x="59" y="32"/>
                  <a:pt x="57" y="32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26" y="44"/>
                  <a:pt x="22" y="50"/>
                  <a:pt x="21" y="54"/>
                </a:cubicBezTo>
                <a:cubicBezTo>
                  <a:pt x="21" y="56"/>
                  <a:pt x="23" y="63"/>
                  <a:pt x="29" y="75"/>
                </a:cubicBezTo>
                <a:cubicBezTo>
                  <a:pt x="32" y="84"/>
                  <a:pt x="32" y="84"/>
                  <a:pt x="32" y="84"/>
                </a:cubicBezTo>
                <a:cubicBezTo>
                  <a:pt x="34" y="88"/>
                  <a:pt x="33" y="92"/>
                  <a:pt x="29" y="98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10" y="105"/>
                  <a:pt x="10" y="105"/>
                  <a:pt x="10" y="105"/>
                </a:cubicBezTo>
                <a:cubicBezTo>
                  <a:pt x="7" y="92"/>
                  <a:pt x="7" y="92"/>
                  <a:pt x="7" y="92"/>
                </a:cubicBezTo>
                <a:cubicBezTo>
                  <a:pt x="4" y="108"/>
                  <a:pt x="4" y="108"/>
                  <a:pt x="4" y="108"/>
                </a:cubicBezTo>
                <a:cubicBezTo>
                  <a:pt x="9" y="116"/>
                  <a:pt x="9" y="116"/>
                  <a:pt x="9" y="116"/>
                </a:cubicBezTo>
                <a:cubicBezTo>
                  <a:pt x="10" y="117"/>
                  <a:pt x="10" y="118"/>
                  <a:pt x="9" y="118"/>
                </a:cubicBezTo>
                <a:cubicBezTo>
                  <a:pt x="9" y="119"/>
                  <a:pt x="9" y="119"/>
                  <a:pt x="9" y="119"/>
                </a:cubicBezTo>
                <a:cubicBezTo>
                  <a:pt x="7" y="120"/>
                  <a:pt x="5" y="124"/>
                  <a:pt x="2" y="131"/>
                </a:cubicBezTo>
                <a:cubicBezTo>
                  <a:pt x="0" y="137"/>
                  <a:pt x="1" y="143"/>
                  <a:pt x="6" y="150"/>
                </a:cubicBezTo>
                <a:cubicBezTo>
                  <a:pt x="15" y="150"/>
                  <a:pt x="15" y="150"/>
                  <a:pt x="15" y="150"/>
                </a:cubicBezTo>
                <a:cubicBezTo>
                  <a:pt x="19" y="150"/>
                  <a:pt x="23" y="156"/>
                  <a:pt x="30" y="165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8"/>
                  <a:pt x="32" y="170"/>
                  <a:pt x="34" y="17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65" y="204"/>
                  <a:pt x="65" y="204"/>
                  <a:pt x="65" y="204"/>
                </a:cubicBezTo>
                <a:cubicBezTo>
                  <a:pt x="70" y="204"/>
                  <a:pt x="70" y="204"/>
                  <a:pt x="70" y="204"/>
                </a:cubicBezTo>
                <a:cubicBezTo>
                  <a:pt x="76" y="193"/>
                  <a:pt x="76" y="193"/>
                  <a:pt x="76" y="193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7"/>
                  <a:pt x="92" y="197"/>
                  <a:pt x="92" y="197"/>
                </a:cubicBezTo>
                <a:cubicBezTo>
                  <a:pt x="94" y="207"/>
                  <a:pt x="94" y="207"/>
                  <a:pt x="94" y="207"/>
                </a:cubicBezTo>
                <a:cubicBezTo>
                  <a:pt x="112" y="227"/>
                  <a:pt x="112" y="227"/>
                  <a:pt x="112" y="227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35" y="252"/>
                  <a:pt x="135" y="252"/>
                  <a:pt x="135" y="252"/>
                </a:cubicBezTo>
                <a:cubicBezTo>
                  <a:pt x="145" y="250"/>
                  <a:pt x="145" y="250"/>
                  <a:pt x="145" y="250"/>
                </a:cubicBezTo>
                <a:cubicBezTo>
                  <a:pt x="146" y="250"/>
                  <a:pt x="146" y="250"/>
                  <a:pt x="146" y="250"/>
                </a:cubicBezTo>
                <a:cubicBezTo>
                  <a:pt x="147" y="250"/>
                  <a:pt x="147" y="250"/>
                  <a:pt x="147" y="250"/>
                </a:cubicBezTo>
                <a:cubicBezTo>
                  <a:pt x="147" y="251"/>
                  <a:pt x="147" y="251"/>
                  <a:pt x="147" y="251"/>
                </a:cubicBezTo>
                <a:cubicBezTo>
                  <a:pt x="148" y="252"/>
                  <a:pt x="148" y="252"/>
                  <a:pt x="148" y="252"/>
                </a:cubicBezTo>
                <a:cubicBezTo>
                  <a:pt x="157" y="271"/>
                  <a:pt x="157" y="271"/>
                  <a:pt x="157" y="271"/>
                </a:cubicBezTo>
                <a:cubicBezTo>
                  <a:pt x="168" y="278"/>
                  <a:pt x="168" y="278"/>
                  <a:pt x="168" y="278"/>
                </a:cubicBezTo>
                <a:cubicBezTo>
                  <a:pt x="177" y="280"/>
                  <a:pt x="177" y="280"/>
                  <a:pt x="177" y="280"/>
                </a:cubicBezTo>
                <a:cubicBezTo>
                  <a:pt x="182" y="292"/>
                  <a:pt x="182" y="292"/>
                  <a:pt x="182" y="292"/>
                </a:cubicBezTo>
                <a:cubicBezTo>
                  <a:pt x="189" y="292"/>
                  <a:pt x="189" y="292"/>
                  <a:pt x="189" y="292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4" y="302"/>
                  <a:pt x="204" y="302"/>
                  <a:pt x="204" y="302"/>
                </a:cubicBezTo>
                <a:cubicBezTo>
                  <a:pt x="214" y="314"/>
                  <a:pt x="214" y="314"/>
                  <a:pt x="214" y="314"/>
                </a:cubicBezTo>
                <a:cubicBezTo>
                  <a:pt x="229" y="312"/>
                  <a:pt x="229" y="312"/>
                  <a:pt x="229" y="312"/>
                </a:cubicBezTo>
                <a:cubicBezTo>
                  <a:pt x="230" y="312"/>
                  <a:pt x="230" y="312"/>
                  <a:pt x="230" y="312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46" y="322"/>
                  <a:pt x="246" y="322"/>
                  <a:pt x="246" y="322"/>
                </a:cubicBezTo>
                <a:cubicBezTo>
                  <a:pt x="263" y="324"/>
                  <a:pt x="263" y="324"/>
                  <a:pt x="263" y="324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87" y="320"/>
                  <a:pt x="296" y="321"/>
                  <a:pt x="299" y="324"/>
                </a:cubicBezTo>
                <a:cubicBezTo>
                  <a:pt x="301" y="328"/>
                  <a:pt x="300" y="331"/>
                  <a:pt x="295" y="335"/>
                </a:cubicBezTo>
                <a:cubicBezTo>
                  <a:pt x="291" y="339"/>
                  <a:pt x="291" y="339"/>
                  <a:pt x="291" y="339"/>
                </a:cubicBezTo>
                <a:cubicBezTo>
                  <a:pt x="290" y="341"/>
                  <a:pt x="292" y="344"/>
                  <a:pt x="297" y="349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300" y="352"/>
                  <a:pt x="300" y="352"/>
                  <a:pt x="300" y="352"/>
                </a:cubicBezTo>
                <a:cubicBezTo>
                  <a:pt x="301" y="351"/>
                  <a:pt x="301" y="351"/>
                  <a:pt x="301" y="351"/>
                </a:cubicBezTo>
                <a:cubicBezTo>
                  <a:pt x="311" y="332"/>
                  <a:pt x="319" y="322"/>
                  <a:pt x="325" y="320"/>
                </a:cubicBezTo>
                <a:cubicBezTo>
                  <a:pt x="331" y="318"/>
                  <a:pt x="343" y="323"/>
                  <a:pt x="363" y="335"/>
                </a:cubicBezTo>
                <a:cubicBezTo>
                  <a:pt x="387" y="339"/>
                  <a:pt x="387" y="339"/>
                  <a:pt x="387" y="339"/>
                </a:cubicBezTo>
                <a:cubicBezTo>
                  <a:pt x="387" y="340"/>
                  <a:pt x="387" y="340"/>
                  <a:pt x="387" y="340"/>
                </a:cubicBezTo>
                <a:cubicBezTo>
                  <a:pt x="387" y="341"/>
                  <a:pt x="387" y="341"/>
                  <a:pt x="387" y="341"/>
                </a:cubicBezTo>
                <a:cubicBezTo>
                  <a:pt x="385" y="352"/>
                  <a:pt x="385" y="352"/>
                  <a:pt x="385" y="352"/>
                </a:cubicBezTo>
                <a:cubicBezTo>
                  <a:pt x="397" y="354"/>
                  <a:pt x="397" y="354"/>
                  <a:pt x="397" y="354"/>
                </a:cubicBezTo>
                <a:cubicBezTo>
                  <a:pt x="397" y="369"/>
                  <a:pt x="397" y="369"/>
                  <a:pt x="397" y="369"/>
                </a:cubicBezTo>
                <a:cubicBezTo>
                  <a:pt x="401" y="376"/>
                  <a:pt x="403" y="380"/>
                  <a:pt x="405" y="381"/>
                </a:cubicBezTo>
                <a:cubicBezTo>
                  <a:pt x="407" y="382"/>
                  <a:pt x="419" y="382"/>
                  <a:pt x="441" y="381"/>
                </a:cubicBezTo>
                <a:cubicBezTo>
                  <a:pt x="453" y="374"/>
                  <a:pt x="453" y="374"/>
                  <a:pt x="453" y="374"/>
                </a:cubicBezTo>
                <a:cubicBezTo>
                  <a:pt x="465" y="358"/>
                  <a:pt x="465" y="358"/>
                  <a:pt x="465" y="358"/>
                </a:cubicBezTo>
                <a:cubicBezTo>
                  <a:pt x="479" y="357"/>
                  <a:pt x="479" y="357"/>
                  <a:pt x="479" y="357"/>
                </a:cubicBezTo>
                <a:cubicBezTo>
                  <a:pt x="486" y="355"/>
                  <a:pt x="486" y="355"/>
                  <a:pt x="486" y="355"/>
                </a:cubicBezTo>
                <a:cubicBezTo>
                  <a:pt x="512" y="340"/>
                  <a:pt x="512" y="340"/>
                  <a:pt x="512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28" y="338"/>
                  <a:pt x="537" y="338"/>
                  <a:pt x="539" y="340"/>
                </a:cubicBezTo>
                <a:cubicBezTo>
                  <a:pt x="557" y="354"/>
                  <a:pt x="557" y="354"/>
                  <a:pt x="557" y="354"/>
                </a:cubicBezTo>
                <a:cubicBezTo>
                  <a:pt x="562" y="356"/>
                  <a:pt x="562" y="356"/>
                  <a:pt x="562" y="356"/>
                </a:cubicBezTo>
                <a:cubicBezTo>
                  <a:pt x="563" y="357"/>
                  <a:pt x="563" y="357"/>
                  <a:pt x="563" y="357"/>
                </a:cubicBezTo>
                <a:cubicBezTo>
                  <a:pt x="569" y="360"/>
                  <a:pt x="569" y="360"/>
                  <a:pt x="569" y="360"/>
                </a:cubicBezTo>
                <a:cubicBezTo>
                  <a:pt x="570" y="360"/>
                  <a:pt x="570" y="360"/>
                  <a:pt x="570" y="360"/>
                </a:cubicBezTo>
                <a:cubicBezTo>
                  <a:pt x="570" y="359"/>
                  <a:pt x="570" y="359"/>
                  <a:pt x="570" y="359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3" y="346"/>
                  <a:pt x="573" y="346"/>
                  <a:pt x="573" y="346"/>
                </a:cubicBezTo>
                <a:cubicBezTo>
                  <a:pt x="571" y="342"/>
                  <a:pt x="571" y="339"/>
                  <a:pt x="573" y="337"/>
                </a:cubicBezTo>
                <a:cubicBezTo>
                  <a:pt x="573" y="335"/>
                  <a:pt x="575" y="334"/>
                  <a:pt x="579" y="333"/>
                </a:cubicBezTo>
                <a:cubicBezTo>
                  <a:pt x="585" y="332"/>
                  <a:pt x="590" y="337"/>
                  <a:pt x="596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607" y="344"/>
                  <a:pt x="607" y="344"/>
                  <a:pt x="607" y="344"/>
                </a:cubicBezTo>
                <a:cubicBezTo>
                  <a:pt x="609" y="344"/>
                  <a:pt x="610" y="342"/>
                  <a:pt x="610" y="340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7" y="329"/>
                  <a:pt x="608" y="326"/>
                  <a:pt x="611" y="325"/>
                </a:cubicBezTo>
                <a:cubicBezTo>
                  <a:pt x="615" y="322"/>
                  <a:pt x="615" y="322"/>
                  <a:pt x="615" y="322"/>
                </a:cubicBezTo>
                <a:cubicBezTo>
                  <a:pt x="623" y="312"/>
                  <a:pt x="623" y="312"/>
                  <a:pt x="623" y="312"/>
                </a:cubicBezTo>
                <a:cubicBezTo>
                  <a:pt x="629" y="299"/>
                  <a:pt x="629" y="299"/>
                  <a:pt x="629" y="299"/>
                </a:cubicBezTo>
                <a:cubicBezTo>
                  <a:pt x="624" y="291"/>
                  <a:pt x="623" y="285"/>
                  <a:pt x="624" y="281"/>
                </a:cubicBezTo>
                <a:cubicBezTo>
                  <a:pt x="625" y="270"/>
                  <a:pt x="625" y="270"/>
                  <a:pt x="625" y="270"/>
                </a:cubicBezTo>
                <a:cubicBezTo>
                  <a:pt x="623" y="265"/>
                  <a:pt x="622" y="262"/>
                  <a:pt x="622" y="259"/>
                </a:cubicBezTo>
                <a:cubicBezTo>
                  <a:pt x="622" y="258"/>
                  <a:pt x="620" y="254"/>
                  <a:pt x="617" y="249"/>
                </a:cubicBezTo>
                <a:cubicBezTo>
                  <a:pt x="617" y="249"/>
                  <a:pt x="617" y="249"/>
                  <a:pt x="617" y="249"/>
                </a:cubicBezTo>
                <a:cubicBezTo>
                  <a:pt x="617" y="248"/>
                  <a:pt x="617" y="248"/>
                  <a:pt x="617" y="248"/>
                </a:cubicBezTo>
                <a:cubicBezTo>
                  <a:pt x="615" y="234"/>
                  <a:pt x="615" y="234"/>
                  <a:pt x="615" y="234"/>
                </a:cubicBezTo>
                <a:cubicBezTo>
                  <a:pt x="615" y="231"/>
                  <a:pt x="615" y="228"/>
                  <a:pt x="615" y="224"/>
                </a:cubicBezTo>
                <a:cubicBezTo>
                  <a:pt x="612" y="221"/>
                  <a:pt x="609" y="218"/>
                  <a:pt x="608" y="216"/>
                </a:cubicBezTo>
                <a:cubicBezTo>
                  <a:pt x="602" y="208"/>
                  <a:pt x="602" y="208"/>
                  <a:pt x="602" y="208"/>
                </a:cubicBezTo>
                <a:cubicBezTo>
                  <a:pt x="601" y="207"/>
                  <a:pt x="601" y="207"/>
                  <a:pt x="601" y="207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599" y="196"/>
                  <a:pt x="599" y="196"/>
                  <a:pt x="599" y="196"/>
                </a:cubicBezTo>
                <a:cubicBezTo>
                  <a:pt x="593" y="191"/>
                  <a:pt x="593" y="191"/>
                  <a:pt x="593" y="191"/>
                </a:cubicBezTo>
                <a:cubicBezTo>
                  <a:pt x="593" y="192"/>
                  <a:pt x="593" y="192"/>
                  <a:pt x="593" y="192"/>
                </a:cubicBezTo>
                <a:cubicBezTo>
                  <a:pt x="582" y="182"/>
                  <a:pt x="582" y="182"/>
                  <a:pt x="582" y="182"/>
                </a:cubicBezTo>
                <a:cubicBezTo>
                  <a:pt x="582" y="183"/>
                  <a:pt x="582" y="183"/>
                  <a:pt x="582" y="183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7"/>
                  <a:pt x="583" y="197"/>
                  <a:pt x="583" y="197"/>
                </a:cubicBezTo>
                <a:cubicBezTo>
                  <a:pt x="577" y="200"/>
                  <a:pt x="577" y="200"/>
                  <a:pt x="577" y="200"/>
                </a:cubicBezTo>
                <a:cubicBezTo>
                  <a:pt x="577" y="208"/>
                  <a:pt x="577" y="208"/>
                  <a:pt x="577" y="208"/>
                </a:cubicBezTo>
                <a:cubicBezTo>
                  <a:pt x="577" y="209"/>
                  <a:pt x="577" y="209"/>
                  <a:pt x="577" y="209"/>
                </a:cubicBezTo>
                <a:cubicBezTo>
                  <a:pt x="563" y="214"/>
                  <a:pt x="563" y="214"/>
                  <a:pt x="563" y="214"/>
                </a:cubicBezTo>
                <a:cubicBezTo>
                  <a:pt x="558" y="203"/>
                  <a:pt x="558" y="203"/>
                  <a:pt x="558" y="203"/>
                </a:cubicBezTo>
                <a:cubicBezTo>
                  <a:pt x="555" y="202"/>
                  <a:pt x="555" y="202"/>
                  <a:pt x="555" y="202"/>
                </a:cubicBezTo>
                <a:cubicBezTo>
                  <a:pt x="551" y="207"/>
                  <a:pt x="551" y="207"/>
                  <a:pt x="551" y="207"/>
                </a:cubicBezTo>
                <a:cubicBezTo>
                  <a:pt x="548" y="215"/>
                  <a:pt x="548" y="215"/>
                  <a:pt x="548" y="215"/>
                </a:cubicBezTo>
                <a:cubicBezTo>
                  <a:pt x="538" y="218"/>
                  <a:pt x="538" y="218"/>
                  <a:pt x="538" y="218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24" y="211"/>
                  <a:pt x="524" y="211"/>
                  <a:pt x="524" y="211"/>
                </a:cubicBezTo>
                <a:cubicBezTo>
                  <a:pt x="522" y="200"/>
                  <a:pt x="522" y="200"/>
                  <a:pt x="522" y="200"/>
                </a:cubicBezTo>
                <a:cubicBezTo>
                  <a:pt x="519" y="193"/>
                  <a:pt x="519" y="193"/>
                  <a:pt x="519" y="193"/>
                </a:cubicBezTo>
                <a:cubicBezTo>
                  <a:pt x="514" y="191"/>
                  <a:pt x="514" y="191"/>
                  <a:pt x="514" y="191"/>
                </a:cubicBezTo>
                <a:cubicBezTo>
                  <a:pt x="513" y="190"/>
                  <a:pt x="513" y="190"/>
                  <a:pt x="513" y="190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06" y="180"/>
                  <a:pt x="506" y="180"/>
                  <a:pt x="506" y="180"/>
                </a:cubicBezTo>
                <a:cubicBezTo>
                  <a:pt x="501" y="172"/>
                  <a:pt x="501" y="172"/>
                  <a:pt x="501" y="172"/>
                </a:cubicBezTo>
                <a:cubicBezTo>
                  <a:pt x="496" y="172"/>
                  <a:pt x="496" y="172"/>
                  <a:pt x="496" y="172"/>
                </a:cubicBezTo>
                <a:cubicBezTo>
                  <a:pt x="488" y="175"/>
                  <a:pt x="488" y="175"/>
                  <a:pt x="488" y="175"/>
                </a:cubicBezTo>
                <a:cubicBezTo>
                  <a:pt x="487" y="176"/>
                  <a:pt x="487" y="176"/>
                  <a:pt x="487" y="176"/>
                </a:cubicBezTo>
                <a:cubicBezTo>
                  <a:pt x="467" y="174"/>
                  <a:pt x="467" y="174"/>
                  <a:pt x="467" y="174"/>
                </a:cubicBezTo>
                <a:cubicBezTo>
                  <a:pt x="451" y="171"/>
                  <a:pt x="451" y="171"/>
                  <a:pt x="451" y="171"/>
                </a:cubicBezTo>
                <a:cubicBezTo>
                  <a:pt x="450" y="170"/>
                  <a:pt x="447" y="169"/>
                  <a:pt x="443" y="166"/>
                </a:cubicBezTo>
                <a:cubicBezTo>
                  <a:pt x="431" y="162"/>
                  <a:pt x="431" y="162"/>
                  <a:pt x="431" y="162"/>
                </a:cubicBezTo>
                <a:cubicBezTo>
                  <a:pt x="422" y="160"/>
                  <a:pt x="417" y="158"/>
                  <a:pt x="415" y="156"/>
                </a:cubicBezTo>
                <a:cubicBezTo>
                  <a:pt x="413" y="154"/>
                  <a:pt x="413" y="154"/>
                  <a:pt x="413" y="154"/>
                </a:cubicBezTo>
                <a:cubicBezTo>
                  <a:pt x="411" y="154"/>
                  <a:pt x="411" y="154"/>
                  <a:pt x="411" y="154"/>
                </a:cubicBezTo>
                <a:cubicBezTo>
                  <a:pt x="403" y="150"/>
                  <a:pt x="403" y="150"/>
                  <a:pt x="403" y="150"/>
                </a:cubicBezTo>
                <a:cubicBezTo>
                  <a:pt x="403" y="149"/>
                  <a:pt x="403" y="149"/>
                  <a:pt x="403" y="149"/>
                </a:cubicBezTo>
                <a:cubicBezTo>
                  <a:pt x="401" y="148"/>
                  <a:pt x="400" y="146"/>
                  <a:pt x="399" y="145"/>
                </a:cubicBezTo>
                <a:cubicBezTo>
                  <a:pt x="398" y="141"/>
                  <a:pt x="398" y="141"/>
                  <a:pt x="398" y="141"/>
                </a:cubicBezTo>
                <a:cubicBezTo>
                  <a:pt x="395" y="136"/>
                  <a:pt x="395" y="136"/>
                  <a:pt x="395" y="136"/>
                </a:cubicBezTo>
                <a:cubicBezTo>
                  <a:pt x="389" y="134"/>
                  <a:pt x="389" y="134"/>
                  <a:pt x="389" y="134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5" y="137"/>
                  <a:pt x="385" y="137"/>
                  <a:pt x="385" y="137"/>
                </a:cubicBezTo>
                <a:cubicBezTo>
                  <a:pt x="384" y="138"/>
                  <a:pt x="384" y="138"/>
                  <a:pt x="384" y="138"/>
                </a:cubicBezTo>
                <a:cubicBezTo>
                  <a:pt x="382" y="139"/>
                  <a:pt x="380" y="140"/>
                  <a:pt x="379" y="140"/>
                </a:cubicBezTo>
                <a:cubicBezTo>
                  <a:pt x="375" y="141"/>
                  <a:pt x="372" y="140"/>
                  <a:pt x="369" y="136"/>
                </a:cubicBezTo>
                <a:cubicBezTo>
                  <a:pt x="361" y="128"/>
                  <a:pt x="361" y="128"/>
                  <a:pt x="361" y="128"/>
                </a:cubicBezTo>
                <a:cubicBezTo>
                  <a:pt x="358" y="124"/>
                  <a:pt x="356" y="121"/>
                  <a:pt x="355" y="119"/>
                </a:cubicBezTo>
                <a:cubicBezTo>
                  <a:pt x="353" y="116"/>
                  <a:pt x="353" y="116"/>
                  <a:pt x="353" y="116"/>
                </a:cubicBezTo>
                <a:cubicBezTo>
                  <a:pt x="351" y="113"/>
                  <a:pt x="349" y="110"/>
                  <a:pt x="347" y="108"/>
                </a:cubicBezTo>
                <a:cubicBezTo>
                  <a:pt x="346" y="104"/>
                  <a:pt x="346" y="101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52" y="89"/>
                  <a:pt x="352" y="89"/>
                  <a:pt x="352" y="89"/>
                </a:cubicBezTo>
                <a:cubicBezTo>
                  <a:pt x="355" y="80"/>
                  <a:pt x="355" y="80"/>
                  <a:pt x="355" y="80"/>
                </a:cubicBezTo>
                <a:cubicBezTo>
                  <a:pt x="356" y="74"/>
                  <a:pt x="356" y="74"/>
                  <a:pt x="356" y="74"/>
                </a:cubicBezTo>
                <a:cubicBezTo>
                  <a:pt x="354" y="64"/>
                  <a:pt x="354" y="64"/>
                  <a:pt x="354" y="64"/>
                </a:cubicBezTo>
                <a:cubicBezTo>
                  <a:pt x="348" y="59"/>
                  <a:pt x="348" y="59"/>
                  <a:pt x="348" y="59"/>
                </a:cubicBezTo>
                <a:cubicBezTo>
                  <a:pt x="349" y="52"/>
                  <a:pt x="349" y="52"/>
                  <a:pt x="349" y="52"/>
                </a:cubicBezTo>
                <a:cubicBezTo>
                  <a:pt x="349" y="46"/>
                  <a:pt x="351" y="43"/>
                  <a:pt x="355" y="42"/>
                </a:cubicBezTo>
                <a:cubicBezTo>
                  <a:pt x="357" y="42"/>
                  <a:pt x="357" y="41"/>
                  <a:pt x="357" y="40"/>
                </a:cubicBezTo>
                <a:cubicBezTo>
                  <a:pt x="357" y="39"/>
                  <a:pt x="357" y="39"/>
                  <a:pt x="357" y="39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4" y="20"/>
                  <a:pt x="354" y="20"/>
                  <a:pt x="354" y="20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1" y="10"/>
                  <a:pt x="341" y="10"/>
                  <a:pt x="341" y="10"/>
                </a:cubicBezTo>
                <a:cubicBezTo>
                  <a:pt x="322" y="7"/>
                  <a:pt x="322" y="7"/>
                  <a:pt x="322" y="7"/>
                </a:cubicBezTo>
                <a:cubicBezTo>
                  <a:pt x="322" y="7"/>
                  <a:pt x="322" y="7"/>
                  <a:pt x="322" y="7"/>
                </a:cubicBezTo>
                <a:cubicBezTo>
                  <a:pt x="316" y="2"/>
                  <a:pt x="316" y="2"/>
                  <a:pt x="316" y="2"/>
                </a:cubicBezTo>
                <a:cubicBezTo>
                  <a:pt x="305" y="2"/>
                  <a:pt x="305" y="2"/>
                  <a:pt x="305" y="2"/>
                </a:cubicBezTo>
                <a:cubicBezTo>
                  <a:pt x="303" y="2"/>
                  <a:pt x="301" y="4"/>
                  <a:pt x="299" y="5"/>
                </a:cubicBezTo>
                <a:cubicBezTo>
                  <a:pt x="298" y="5"/>
                  <a:pt x="298" y="5"/>
                  <a:pt x="298" y="5"/>
                </a:cubicBezTo>
                <a:cubicBezTo>
                  <a:pt x="289" y="8"/>
                  <a:pt x="289" y="8"/>
                  <a:pt x="289" y="8"/>
                </a:cubicBezTo>
                <a:cubicBezTo>
                  <a:pt x="267" y="8"/>
                  <a:pt x="267" y="8"/>
                  <a:pt x="267" y="8"/>
                </a:cubicBezTo>
                <a:cubicBezTo>
                  <a:pt x="264" y="9"/>
                  <a:pt x="261" y="10"/>
                  <a:pt x="260" y="12"/>
                </a:cubicBezTo>
                <a:cubicBezTo>
                  <a:pt x="257" y="14"/>
                  <a:pt x="253" y="15"/>
                  <a:pt x="247" y="17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6" y="20"/>
                  <a:pt x="236" y="20"/>
                  <a:pt x="236" y="20"/>
                </a:cubicBezTo>
                <a:cubicBezTo>
                  <a:pt x="221" y="18"/>
                  <a:pt x="221" y="18"/>
                  <a:pt x="221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15" y="18"/>
                  <a:pt x="215" y="18"/>
                  <a:pt x="215" y="18"/>
                </a:cubicBezTo>
                <a:cubicBezTo>
                  <a:pt x="206" y="20"/>
                  <a:pt x="206" y="20"/>
                  <a:pt x="206" y="20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7" y="22"/>
                  <a:pt x="187" y="22"/>
                  <a:pt x="187" y="22"/>
                </a:cubicBezTo>
                <a:cubicBezTo>
                  <a:pt x="179" y="18"/>
                  <a:pt x="179" y="18"/>
                  <a:pt x="179" y="18"/>
                </a:cubicBezTo>
                <a:cubicBezTo>
                  <a:pt x="171" y="18"/>
                  <a:pt x="171" y="18"/>
                  <a:pt x="171" y="18"/>
                </a:cubicBezTo>
                <a:cubicBezTo>
                  <a:pt x="168" y="18"/>
                  <a:pt x="165" y="15"/>
                  <a:pt x="161" y="10"/>
                </a:cubicBezTo>
                <a:cubicBezTo>
                  <a:pt x="160" y="10"/>
                  <a:pt x="160" y="10"/>
                  <a:pt x="160" y="10"/>
                </a:cubicBezTo>
                <a:cubicBezTo>
                  <a:pt x="159" y="6"/>
                  <a:pt x="158" y="4"/>
                  <a:pt x="158" y="4"/>
                </a:cubicBezTo>
                <a:cubicBezTo>
                  <a:pt x="156" y="2"/>
                  <a:pt x="156" y="2"/>
                  <a:pt x="156" y="2"/>
                </a:cubicBezTo>
                <a:cubicBezTo>
                  <a:pt x="152" y="0"/>
                  <a:pt x="152" y="0"/>
                  <a:pt x="152" y="0"/>
                </a:cubicBezTo>
                <a:cubicBezTo>
                  <a:pt x="149" y="4"/>
                  <a:pt x="149" y="4"/>
                  <a:pt x="149" y="4"/>
                </a:cubicBezTo>
                <a:cubicBezTo>
                  <a:pt x="149" y="4"/>
                  <a:pt x="149" y="4"/>
                  <a:pt x="149" y="4"/>
                </a:cubicBezTo>
                <a:cubicBezTo>
                  <a:pt x="136" y="10"/>
                  <a:pt x="136" y="10"/>
                  <a:pt x="136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19" y="11"/>
                  <a:pt x="119" y="11"/>
                  <a:pt x="119" y="11"/>
                </a:cubicBezTo>
                <a:cubicBezTo>
                  <a:pt x="117" y="11"/>
                  <a:pt x="112" y="10"/>
                  <a:pt x="106" y="8"/>
                </a:cubicBezTo>
                <a:cubicBezTo>
                  <a:pt x="93" y="6"/>
                  <a:pt x="93" y="6"/>
                  <a:pt x="93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84" y="2"/>
                  <a:pt x="84" y="2"/>
                  <a:pt x="84" y="2"/>
                </a:cubicBezTo>
                <a:lnTo>
                  <a:pt x="77" y="2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12"/>
          <p:cNvSpPr/>
          <p:nvPr/>
        </p:nvSpPr>
        <p:spPr>
          <a:xfrm>
            <a:off x="2568600" y="4210200"/>
            <a:ext cx="914400" cy="950760"/>
          </a:xfrm>
          <a:custGeom>
            <a:avLst/>
            <a:gdLst>
              <a:gd name="textAreaLeft" fmla="*/ 0 w 914400"/>
              <a:gd name="textAreaRight" fmla="*/ 914760 w 914400"/>
              <a:gd name="textAreaTop" fmla="*/ 0 h 950760"/>
              <a:gd name="textAreaBottom" fmla="*/ 951120 h 950760"/>
            </a:gdLst>
            <a:ahLst/>
            <a:rect l="textAreaLeft" t="textAreaTop" r="textAreaRight" b="textAreaBottom"/>
            <a:pathLst>
              <a:path w="284" h="296">
                <a:moveTo>
                  <a:pt x="2" y="182"/>
                </a:moveTo>
                <a:cubicBezTo>
                  <a:pt x="0" y="187"/>
                  <a:pt x="0" y="187"/>
                  <a:pt x="0" y="187"/>
                </a:cubicBezTo>
                <a:cubicBezTo>
                  <a:pt x="3" y="187"/>
                  <a:pt x="6" y="185"/>
                  <a:pt x="9" y="183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26" y="180"/>
                  <a:pt x="26" y="180"/>
                  <a:pt x="26" y="180"/>
                </a:cubicBezTo>
                <a:cubicBezTo>
                  <a:pt x="37" y="175"/>
                  <a:pt x="37" y="175"/>
                  <a:pt x="37" y="175"/>
                </a:cubicBezTo>
                <a:cubicBezTo>
                  <a:pt x="41" y="181"/>
                  <a:pt x="41" y="181"/>
                  <a:pt x="41" y="181"/>
                </a:cubicBezTo>
                <a:cubicBezTo>
                  <a:pt x="42" y="181"/>
                  <a:pt x="42" y="181"/>
                  <a:pt x="42" y="181"/>
                </a:cubicBezTo>
                <a:cubicBezTo>
                  <a:pt x="37" y="189"/>
                  <a:pt x="37" y="189"/>
                  <a:pt x="37" y="189"/>
                </a:cubicBezTo>
                <a:cubicBezTo>
                  <a:pt x="42" y="194"/>
                  <a:pt x="42" y="194"/>
                  <a:pt x="42" y="194"/>
                </a:cubicBezTo>
                <a:cubicBezTo>
                  <a:pt x="42" y="195"/>
                  <a:pt x="42" y="195"/>
                  <a:pt x="42" y="195"/>
                </a:cubicBezTo>
                <a:cubicBezTo>
                  <a:pt x="42" y="196"/>
                  <a:pt x="42" y="196"/>
                  <a:pt x="42" y="196"/>
                </a:cubicBezTo>
                <a:cubicBezTo>
                  <a:pt x="38" y="213"/>
                  <a:pt x="38" y="213"/>
                  <a:pt x="38" y="213"/>
                </a:cubicBezTo>
                <a:cubicBezTo>
                  <a:pt x="49" y="220"/>
                  <a:pt x="49" y="220"/>
                  <a:pt x="49" y="220"/>
                </a:cubicBezTo>
                <a:cubicBezTo>
                  <a:pt x="68" y="221"/>
                  <a:pt x="68" y="221"/>
                  <a:pt x="68" y="221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53" y="240"/>
                  <a:pt x="47" y="248"/>
                  <a:pt x="48" y="251"/>
                </a:cubicBezTo>
                <a:cubicBezTo>
                  <a:pt x="55" y="253"/>
                  <a:pt x="55" y="253"/>
                  <a:pt x="55" y="253"/>
                </a:cubicBezTo>
                <a:cubicBezTo>
                  <a:pt x="64" y="254"/>
                  <a:pt x="70" y="256"/>
                  <a:pt x="72" y="260"/>
                </a:cubicBezTo>
                <a:cubicBezTo>
                  <a:pt x="74" y="265"/>
                  <a:pt x="77" y="270"/>
                  <a:pt x="79" y="275"/>
                </a:cubicBezTo>
                <a:cubicBezTo>
                  <a:pt x="90" y="281"/>
                  <a:pt x="90" y="281"/>
                  <a:pt x="90" y="281"/>
                </a:cubicBezTo>
                <a:cubicBezTo>
                  <a:pt x="96" y="282"/>
                  <a:pt x="96" y="282"/>
                  <a:pt x="96" y="282"/>
                </a:cubicBezTo>
                <a:cubicBezTo>
                  <a:pt x="110" y="270"/>
                  <a:pt x="110" y="270"/>
                  <a:pt x="110" y="270"/>
                </a:cubicBezTo>
                <a:cubicBezTo>
                  <a:pt x="118" y="281"/>
                  <a:pt x="118" y="281"/>
                  <a:pt x="118" y="281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20" y="292"/>
                  <a:pt x="120" y="292"/>
                  <a:pt x="120" y="292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36" y="296"/>
                  <a:pt x="136" y="296"/>
                  <a:pt x="136" y="296"/>
                </a:cubicBezTo>
                <a:cubicBezTo>
                  <a:pt x="138" y="296"/>
                  <a:pt x="138" y="296"/>
                  <a:pt x="138" y="296"/>
                </a:cubicBezTo>
                <a:cubicBezTo>
                  <a:pt x="138" y="295"/>
                  <a:pt x="138" y="295"/>
                  <a:pt x="138" y="295"/>
                </a:cubicBezTo>
                <a:cubicBezTo>
                  <a:pt x="136" y="285"/>
                  <a:pt x="136" y="285"/>
                  <a:pt x="136" y="285"/>
                </a:cubicBezTo>
                <a:cubicBezTo>
                  <a:pt x="136" y="284"/>
                  <a:pt x="136" y="284"/>
                  <a:pt x="136" y="284"/>
                </a:cubicBezTo>
                <a:cubicBezTo>
                  <a:pt x="131" y="261"/>
                  <a:pt x="131" y="261"/>
                  <a:pt x="131" y="261"/>
                </a:cubicBezTo>
                <a:cubicBezTo>
                  <a:pt x="131" y="260"/>
                  <a:pt x="131" y="260"/>
                  <a:pt x="131" y="260"/>
                </a:cubicBezTo>
                <a:cubicBezTo>
                  <a:pt x="134" y="244"/>
                  <a:pt x="134" y="244"/>
                  <a:pt x="134" y="244"/>
                </a:cubicBezTo>
                <a:cubicBezTo>
                  <a:pt x="135" y="244"/>
                  <a:pt x="135" y="244"/>
                  <a:pt x="135" y="244"/>
                </a:cubicBezTo>
                <a:cubicBezTo>
                  <a:pt x="136" y="244"/>
                  <a:pt x="136" y="244"/>
                  <a:pt x="136" y="244"/>
                </a:cubicBezTo>
                <a:cubicBezTo>
                  <a:pt x="147" y="245"/>
                  <a:pt x="147" y="245"/>
                  <a:pt x="147" y="245"/>
                </a:cubicBezTo>
                <a:cubicBezTo>
                  <a:pt x="160" y="235"/>
                  <a:pt x="160" y="235"/>
                  <a:pt x="160" y="235"/>
                </a:cubicBezTo>
                <a:cubicBezTo>
                  <a:pt x="162" y="236"/>
                  <a:pt x="162" y="236"/>
                  <a:pt x="162" y="236"/>
                </a:cubicBezTo>
                <a:cubicBezTo>
                  <a:pt x="169" y="241"/>
                  <a:pt x="174" y="246"/>
                  <a:pt x="176" y="249"/>
                </a:cubicBezTo>
                <a:cubicBezTo>
                  <a:pt x="178" y="248"/>
                  <a:pt x="183" y="244"/>
                  <a:pt x="189" y="237"/>
                </a:cubicBezTo>
                <a:cubicBezTo>
                  <a:pt x="189" y="236"/>
                  <a:pt x="189" y="236"/>
                  <a:pt x="189" y="236"/>
                </a:cubicBezTo>
                <a:cubicBezTo>
                  <a:pt x="190" y="236"/>
                  <a:pt x="190" y="236"/>
                  <a:pt x="190" y="236"/>
                </a:cubicBezTo>
                <a:cubicBezTo>
                  <a:pt x="210" y="241"/>
                  <a:pt x="210" y="241"/>
                  <a:pt x="210" y="241"/>
                </a:cubicBezTo>
                <a:cubicBezTo>
                  <a:pt x="219" y="234"/>
                  <a:pt x="219" y="234"/>
                  <a:pt x="219" y="234"/>
                </a:cubicBezTo>
                <a:cubicBezTo>
                  <a:pt x="219" y="233"/>
                  <a:pt x="219" y="233"/>
                  <a:pt x="219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9" y="235"/>
                  <a:pt x="229" y="235"/>
                  <a:pt x="229" y="235"/>
                </a:cubicBezTo>
                <a:cubicBezTo>
                  <a:pt x="256" y="211"/>
                  <a:pt x="256" y="211"/>
                  <a:pt x="256" y="211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6" y="214"/>
                  <a:pt x="266" y="214"/>
                  <a:pt x="266" y="214"/>
                </a:cubicBezTo>
                <a:cubicBezTo>
                  <a:pt x="268" y="218"/>
                  <a:pt x="268" y="218"/>
                  <a:pt x="268" y="218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8" y="211"/>
                  <a:pt x="278" y="211"/>
                  <a:pt x="278" y="211"/>
                </a:cubicBezTo>
                <a:cubicBezTo>
                  <a:pt x="284" y="205"/>
                  <a:pt x="284" y="205"/>
                  <a:pt x="284" y="205"/>
                </a:cubicBezTo>
                <a:cubicBezTo>
                  <a:pt x="283" y="193"/>
                  <a:pt x="283" y="193"/>
                  <a:pt x="283" y="193"/>
                </a:cubicBezTo>
                <a:cubicBezTo>
                  <a:pt x="282" y="191"/>
                  <a:pt x="282" y="191"/>
                  <a:pt x="282" y="191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2" y="195"/>
                  <a:pt x="270" y="196"/>
                  <a:pt x="267" y="196"/>
                </a:cubicBezTo>
                <a:cubicBezTo>
                  <a:pt x="258" y="196"/>
                  <a:pt x="258" y="196"/>
                  <a:pt x="258" y="196"/>
                </a:cubicBezTo>
                <a:cubicBezTo>
                  <a:pt x="255" y="196"/>
                  <a:pt x="254" y="195"/>
                  <a:pt x="252" y="193"/>
                </a:cubicBezTo>
                <a:cubicBezTo>
                  <a:pt x="252" y="180"/>
                  <a:pt x="252" y="180"/>
                  <a:pt x="252" y="180"/>
                </a:cubicBezTo>
                <a:cubicBezTo>
                  <a:pt x="249" y="179"/>
                  <a:pt x="248" y="178"/>
                  <a:pt x="246" y="178"/>
                </a:cubicBezTo>
                <a:cubicBezTo>
                  <a:pt x="244" y="179"/>
                  <a:pt x="244" y="179"/>
                  <a:pt x="244" y="179"/>
                </a:cubicBezTo>
                <a:cubicBezTo>
                  <a:pt x="242" y="180"/>
                  <a:pt x="242" y="180"/>
                  <a:pt x="242" y="180"/>
                </a:cubicBezTo>
                <a:cubicBezTo>
                  <a:pt x="236" y="182"/>
                  <a:pt x="236" y="182"/>
                  <a:pt x="236" y="182"/>
                </a:cubicBezTo>
                <a:cubicBezTo>
                  <a:pt x="234" y="182"/>
                  <a:pt x="234" y="182"/>
                  <a:pt x="234" y="182"/>
                </a:cubicBezTo>
                <a:cubicBezTo>
                  <a:pt x="234" y="181"/>
                  <a:pt x="234" y="181"/>
                  <a:pt x="234" y="181"/>
                </a:cubicBezTo>
                <a:cubicBezTo>
                  <a:pt x="231" y="175"/>
                  <a:pt x="231" y="175"/>
                  <a:pt x="231" y="175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4"/>
                  <a:pt x="234" y="154"/>
                  <a:pt x="234" y="154"/>
                </a:cubicBezTo>
                <a:cubicBezTo>
                  <a:pt x="238" y="147"/>
                  <a:pt x="238" y="147"/>
                  <a:pt x="238" y="147"/>
                </a:cubicBezTo>
                <a:cubicBezTo>
                  <a:pt x="226" y="137"/>
                  <a:pt x="226" y="137"/>
                  <a:pt x="226" y="137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28" y="96"/>
                  <a:pt x="228" y="96"/>
                  <a:pt x="228" y="96"/>
                </a:cubicBezTo>
                <a:cubicBezTo>
                  <a:pt x="225" y="95"/>
                  <a:pt x="225" y="95"/>
                  <a:pt x="225" y="95"/>
                </a:cubicBezTo>
                <a:cubicBezTo>
                  <a:pt x="220" y="95"/>
                  <a:pt x="220" y="95"/>
                  <a:pt x="220" y="95"/>
                </a:cubicBezTo>
                <a:cubicBezTo>
                  <a:pt x="216" y="102"/>
                  <a:pt x="216" y="102"/>
                  <a:pt x="216" y="102"/>
                </a:cubicBezTo>
                <a:cubicBezTo>
                  <a:pt x="210" y="98"/>
                  <a:pt x="210" y="98"/>
                  <a:pt x="210" y="98"/>
                </a:cubicBezTo>
                <a:cubicBezTo>
                  <a:pt x="205" y="95"/>
                  <a:pt x="205" y="95"/>
                  <a:pt x="205" y="95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199" y="76"/>
                  <a:pt x="199" y="76"/>
                  <a:pt x="199" y="76"/>
                </a:cubicBezTo>
                <a:cubicBezTo>
                  <a:pt x="199" y="75"/>
                  <a:pt x="199" y="75"/>
                  <a:pt x="199" y="75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200" y="74"/>
                  <a:pt x="200" y="74"/>
                  <a:pt x="200" y="74"/>
                </a:cubicBezTo>
                <a:cubicBezTo>
                  <a:pt x="205" y="66"/>
                  <a:pt x="205" y="66"/>
                  <a:pt x="205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10" y="65"/>
                  <a:pt x="210" y="65"/>
                  <a:pt x="210" y="65"/>
                </a:cubicBezTo>
                <a:cubicBezTo>
                  <a:pt x="215" y="64"/>
                  <a:pt x="215" y="64"/>
                  <a:pt x="215" y="64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9" y="64"/>
                  <a:pt x="239" y="64"/>
                  <a:pt x="239" y="64"/>
                </a:cubicBezTo>
                <a:cubicBezTo>
                  <a:pt x="240" y="64"/>
                  <a:pt x="240" y="64"/>
                  <a:pt x="240" y="64"/>
                </a:cubicBezTo>
                <a:cubicBezTo>
                  <a:pt x="243" y="66"/>
                  <a:pt x="243" y="66"/>
                  <a:pt x="243" y="66"/>
                </a:cubicBezTo>
                <a:cubicBezTo>
                  <a:pt x="248" y="63"/>
                  <a:pt x="248" y="63"/>
                  <a:pt x="248" y="63"/>
                </a:cubicBezTo>
                <a:cubicBezTo>
                  <a:pt x="253" y="60"/>
                  <a:pt x="253" y="60"/>
                  <a:pt x="253" y="60"/>
                </a:cubicBezTo>
                <a:cubicBezTo>
                  <a:pt x="256" y="56"/>
                  <a:pt x="256" y="56"/>
                  <a:pt x="256" y="56"/>
                </a:cubicBezTo>
                <a:cubicBezTo>
                  <a:pt x="256" y="54"/>
                  <a:pt x="256" y="54"/>
                  <a:pt x="256" y="54"/>
                </a:cubicBezTo>
                <a:cubicBezTo>
                  <a:pt x="256" y="45"/>
                  <a:pt x="256" y="45"/>
                  <a:pt x="256" y="45"/>
                </a:cubicBezTo>
                <a:cubicBezTo>
                  <a:pt x="251" y="44"/>
                  <a:pt x="251" y="44"/>
                  <a:pt x="251" y="44"/>
                </a:cubicBezTo>
                <a:cubicBezTo>
                  <a:pt x="243" y="47"/>
                  <a:pt x="243" y="47"/>
                  <a:pt x="243" y="47"/>
                </a:cubicBezTo>
                <a:cubicBezTo>
                  <a:pt x="240" y="50"/>
                  <a:pt x="238" y="52"/>
                  <a:pt x="235" y="52"/>
                </a:cubicBezTo>
                <a:cubicBezTo>
                  <a:pt x="232" y="52"/>
                  <a:pt x="230" y="49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4"/>
                  <a:pt x="227" y="44"/>
                  <a:pt x="227" y="44"/>
                </a:cubicBezTo>
                <a:cubicBezTo>
                  <a:pt x="226" y="39"/>
                  <a:pt x="226" y="39"/>
                  <a:pt x="226" y="39"/>
                </a:cubicBezTo>
                <a:cubicBezTo>
                  <a:pt x="226" y="38"/>
                  <a:pt x="226" y="38"/>
                  <a:pt x="226" y="38"/>
                </a:cubicBezTo>
                <a:cubicBezTo>
                  <a:pt x="227" y="33"/>
                  <a:pt x="227" y="33"/>
                  <a:pt x="227" y="33"/>
                </a:cubicBezTo>
                <a:cubicBezTo>
                  <a:pt x="222" y="22"/>
                  <a:pt x="222" y="22"/>
                  <a:pt x="222" y="22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0" y="28"/>
                  <a:pt x="210" y="28"/>
                  <a:pt x="210" y="28"/>
                </a:cubicBezTo>
                <a:cubicBezTo>
                  <a:pt x="212" y="40"/>
                  <a:pt x="212" y="40"/>
                  <a:pt x="212" y="40"/>
                </a:cubicBezTo>
                <a:cubicBezTo>
                  <a:pt x="198" y="34"/>
                  <a:pt x="198" y="34"/>
                  <a:pt x="198" y="34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2"/>
                  <a:pt x="202" y="42"/>
                  <a:pt x="202" y="42"/>
                </a:cubicBezTo>
                <a:cubicBezTo>
                  <a:pt x="201" y="50"/>
                  <a:pt x="201" y="50"/>
                  <a:pt x="201" y="50"/>
                </a:cubicBezTo>
                <a:cubicBezTo>
                  <a:pt x="201" y="51"/>
                  <a:pt x="201" y="51"/>
                  <a:pt x="201" y="51"/>
                </a:cubicBezTo>
                <a:cubicBezTo>
                  <a:pt x="200" y="51"/>
                  <a:pt x="200" y="51"/>
                  <a:pt x="200" y="51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80" y="69"/>
                  <a:pt x="180" y="69"/>
                  <a:pt x="180" y="69"/>
                </a:cubicBezTo>
                <a:cubicBezTo>
                  <a:pt x="179" y="76"/>
                  <a:pt x="179" y="76"/>
                  <a:pt x="179" y="76"/>
                </a:cubicBezTo>
                <a:cubicBezTo>
                  <a:pt x="179" y="78"/>
                  <a:pt x="180" y="81"/>
                  <a:pt x="182" y="85"/>
                </a:cubicBezTo>
                <a:cubicBezTo>
                  <a:pt x="183" y="85"/>
                  <a:pt x="183" y="85"/>
                  <a:pt x="183" y="85"/>
                </a:cubicBezTo>
                <a:cubicBezTo>
                  <a:pt x="183" y="86"/>
                  <a:pt x="183" y="86"/>
                  <a:pt x="183" y="86"/>
                </a:cubicBezTo>
                <a:cubicBezTo>
                  <a:pt x="184" y="96"/>
                  <a:pt x="184" y="96"/>
                  <a:pt x="184" y="96"/>
                </a:cubicBezTo>
                <a:cubicBezTo>
                  <a:pt x="184" y="97"/>
                  <a:pt x="184" y="97"/>
                  <a:pt x="184" y="97"/>
                </a:cubicBezTo>
                <a:cubicBezTo>
                  <a:pt x="183" y="98"/>
                  <a:pt x="183" y="98"/>
                  <a:pt x="183" y="98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2" y="107"/>
                  <a:pt x="172" y="107"/>
                  <a:pt x="172" y="107"/>
                </a:cubicBezTo>
                <a:cubicBezTo>
                  <a:pt x="163" y="105"/>
                  <a:pt x="163" y="105"/>
                  <a:pt x="163" y="105"/>
                </a:cubicBezTo>
                <a:cubicBezTo>
                  <a:pt x="162" y="105"/>
                  <a:pt x="160" y="106"/>
                  <a:pt x="158" y="107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0" y="116"/>
                  <a:pt x="150" y="116"/>
                  <a:pt x="150" y="116"/>
                </a:cubicBezTo>
                <a:cubicBezTo>
                  <a:pt x="148" y="119"/>
                  <a:pt x="146" y="120"/>
                  <a:pt x="141" y="119"/>
                </a:cubicBezTo>
                <a:cubicBezTo>
                  <a:pt x="138" y="119"/>
                  <a:pt x="138" y="116"/>
                  <a:pt x="138" y="112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6" y="109"/>
                  <a:pt x="136" y="109"/>
                  <a:pt x="136" y="109"/>
                </a:cubicBezTo>
                <a:cubicBezTo>
                  <a:pt x="135" y="110"/>
                  <a:pt x="134" y="111"/>
                  <a:pt x="132" y="111"/>
                </a:cubicBezTo>
                <a:cubicBezTo>
                  <a:pt x="131" y="110"/>
                  <a:pt x="130" y="109"/>
                  <a:pt x="129" y="106"/>
                </a:cubicBezTo>
                <a:cubicBezTo>
                  <a:pt x="129" y="106"/>
                  <a:pt x="129" y="106"/>
                  <a:pt x="129" y="106"/>
                </a:cubicBezTo>
                <a:cubicBezTo>
                  <a:pt x="128" y="96"/>
                  <a:pt x="128" y="96"/>
                  <a:pt x="128" y="96"/>
                </a:cubicBezTo>
                <a:cubicBezTo>
                  <a:pt x="126" y="88"/>
                  <a:pt x="126" y="88"/>
                  <a:pt x="126" y="88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3"/>
                  <a:pt x="122" y="83"/>
                  <a:pt x="122" y="83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7"/>
                  <a:pt x="110" y="57"/>
                  <a:pt x="110" y="57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107" y="45"/>
                  <a:pt x="107" y="45"/>
                  <a:pt x="107" y="45"/>
                </a:cubicBezTo>
                <a:cubicBezTo>
                  <a:pt x="106" y="46"/>
                  <a:pt x="106" y="46"/>
                  <a:pt x="106" y="46"/>
                </a:cubicBezTo>
                <a:cubicBezTo>
                  <a:pt x="103" y="50"/>
                  <a:pt x="101" y="52"/>
                  <a:pt x="100" y="52"/>
                </a:cubicBezTo>
                <a:cubicBezTo>
                  <a:pt x="99" y="52"/>
                  <a:pt x="97" y="50"/>
                  <a:pt x="94" y="48"/>
                </a:cubicBezTo>
                <a:cubicBezTo>
                  <a:pt x="88" y="45"/>
                  <a:pt x="88" y="45"/>
                  <a:pt x="88" y="45"/>
                </a:cubicBezTo>
                <a:cubicBezTo>
                  <a:pt x="87" y="44"/>
                  <a:pt x="87" y="44"/>
                  <a:pt x="87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3"/>
                  <a:pt x="86" y="43"/>
                  <a:pt x="86" y="43"/>
                </a:cubicBezTo>
                <a:cubicBezTo>
                  <a:pt x="86" y="35"/>
                  <a:pt x="86" y="35"/>
                  <a:pt x="86" y="35"/>
                </a:cubicBezTo>
                <a:cubicBezTo>
                  <a:pt x="86" y="35"/>
                  <a:pt x="86" y="35"/>
                  <a:pt x="86" y="35"/>
                </a:cubicBezTo>
                <a:cubicBezTo>
                  <a:pt x="84" y="29"/>
                  <a:pt x="84" y="29"/>
                  <a:pt x="84" y="29"/>
                </a:cubicBezTo>
                <a:cubicBezTo>
                  <a:pt x="81" y="21"/>
                  <a:pt x="81" y="21"/>
                  <a:pt x="81" y="21"/>
                </a:cubicBezTo>
                <a:cubicBezTo>
                  <a:pt x="78" y="21"/>
                  <a:pt x="78" y="21"/>
                  <a:pt x="78" y="21"/>
                </a:cubicBezTo>
                <a:cubicBezTo>
                  <a:pt x="78" y="24"/>
                  <a:pt x="78" y="27"/>
                  <a:pt x="77" y="29"/>
                </a:cubicBezTo>
                <a:cubicBezTo>
                  <a:pt x="76" y="31"/>
                  <a:pt x="75" y="33"/>
                  <a:pt x="72" y="35"/>
                </a:cubicBezTo>
                <a:cubicBezTo>
                  <a:pt x="72" y="38"/>
                  <a:pt x="70" y="40"/>
                  <a:pt x="69" y="41"/>
                </a:cubicBezTo>
                <a:cubicBezTo>
                  <a:pt x="66" y="44"/>
                  <a:pt x="64" y="44"/>
                  <a:pt x="62" y="42"/>
                </a:cubicBezTo>
                <a:cubicBezTo>
                  <a:pt x="61" y="42"/>
                  <a:pt x="61" y="42"/>
                  <a:pt x="61" y="42"/>
                </a:cubicBezTo>
                <a:cubicBezTo>
                  <a:pt x="58" y="41"/>
                  <a:pt x="58" y="38"/>
                  <a:pt x="58" y="33"/>
                </a:cubicBezTo>
                <a:cubicBezTo>
                  <a:pt x="58" y="31"/>
                  <a:pt x="58" y="31"/>
                  <a:pt x="58" y="31"/>
                </a:cubicBezTo>
                <a:cubicBezTo>
                  <a:pt x="53" y="28"/>
                  <a:pt x="53" y="28"/>
                  <a:pt x="53" y="28"/>
                </a:cubicBezTo>
                <a:cubicBezTo>
                  <a:pt x="51" y="27"/>
                  <a:pt x="50" y="24"/>
                  <a:pt x="50" y="21"/>
                </a:cubicBezTo>
                <a:cubicBezTo>
                  <a:pt x="52" y="3"/>
                  <a:pt x="52" y="3"/>
                  <a:pt x="52" y="3"/>
                </a:cubicBezTo>
                <a:cubicBezTo>
                  <a:pt x="51" y="0"/>
                  <a:pt x="51" y="0"/>
                  <a:pt x="51" y="0"/>
                </a:cubicBezTo>
                <a:cubicBezTo>
                  <a:pt x="44" y="7"/>
                  <a:pt x="44" y="7"/>
                  <a:pt x="44" y="7"/>
                </a:cubicBezTo>
                <a:cubicBezTo>
                  <a:pt x="40" y="10"/>
                  <a:pt x="40" y="10"/>
                  <a:pt x="40" y="10"/>
                </a:cubicBezTo>
                <a:cubicBezTo>
                  <a:pt x="39" y="13"/>
                  <a:pt x="39" y="13"/>
                  <a:pt x="39" y="13"/>
                </a:cubicBezTo>
                <a:cubicBezTo>
                  <a:pt x="40" y="17"/>
                  <a:pt x="41" y="20"/>
                  <a:pt x="41" y="22"/>
                </a:cubicBezTo>
                <a:cubicBezTo>
                  <a:pt x="41" y="26"/>
                  <a:pt x="39" y="29"/>
                  <a:pt x="36" y="30"/>
                </a:cubicBezTo>
                <a:cubicBezTo>
                  <a:pt x="28" y="33"/>
                  <a:pt x="28" y="33"/>
                  <a:pt x="28" y="33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48"/>
                  <a:pt x="26" y="48"/>
                  <a:pt x="26" y="48"/>
                </a:cubicBezTo>
                <a:cubicBezTo>
                  <a:pt x="26" y="52"/>
                  <a:pt x="27" y="54"/>
                  <a:pt x="28" y="54"/>
                </a:cubicBezTo>
                <a:cubicBezTo>
                  <a:pt x="30" y="55"/>
                  <a:pt x="33" y="55"/>
                  <a:pt x="36" y="53"/>
                </a:cubicBezTo>
                <a:cubicBezTo>
                  <a:pt x="38" y="52"/>
                  <a:pt x="38" y="52"/>
                  <a:pt x="38" y="52"/>
                </a:cubicBezTo>
                <a:cubicBezTo>
                  <a:pt x="46" y="69"/>
                  <a:pt x="46" y="69"/>
                  <a:pt x="46" y="69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3" y="102"/>
                  <a:pt x="40" y="120"/>
                  <a:pt x="36" y="125"/>
                </a:cubicBezTo>
                <a:cubicBezTo>
                  <a:pt x="35" y="126"/>
                  <a:pt x="34" y="127"/>
                  <a:pt x="31" y="128"/>
                </a:cubicBezTo>
                <a:cubicBezTo>
                  <a:pt x="28" y="128"/>
                  <a:pt x="26" y="127"/>
                  <a:pt x="24" y="126"/>
                </a:cubicBezTo>
                <a:cubicBezTo>
                  <a:pt x="13" y="146"/>
                  <a:pt x="6" y="157"/>
                  <a:pt x="3" y="159"/>
                </a:cubicBezTo>
                <a:cubicBezTo>
                  <a:pt x="4" y="159"/>
                  <a:pt x="4" y="159"/>
                  <a:pt x="4" y="159"/>
                </a:cubicBezTo>
                <a:cubicBezTo>
                  <a:pt x="2" y="159"/>
                  <a:pt x="1" y="164"/>
                  <a:pt x="2" y="174"/>
                </a:cubicBezTo>
                <a:cubicBezTo>
                  <a:pt x="4" y="176"/>
                  <a:pt x="4" y="176"/>
                  <a:pt x="4" y="176"/>
                </a:cubicBezTo>
                <a:cubicBezTo>
                  <a:pt x="5" y="176"/>
                  <a:pt x="5" y="176"/>
                  <a:pt x="5" y="176"/>
                </a:cubicBezTo>
                <a:cubicBezTo>
                  <a:pt x="6" y="177"/>
                  <a:pt x="6" y="177"/>
                  <a:pt x="6" y="177"/>
                </a:cubicBezTo>
                <a:lnTo>
                  <a:pt x="2" y="182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reeform 13"/>
          <p:cNvSpPr/>
          <p:nvPr/>
        </p:nvSpPr>
        <p:spPr>
          <a:xfrm>
            <a:off x="3224160" y="4199040"/>
            <a:ext cx="617760" cy="533160"/>
          </a:xfrm>
          <a:custGeom>
            <a:avLst/>
            <a:gdLst>
              <a:gd name="textAreaLeft" fmla="*/ 0 w 617760"/>
              <a:gd name="textAreaRight" fmla="*/ 618120 w 6177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92" h="166">
                <a:moveTo>
                  <a:pt x="150" y="3"/>
                </a:moveTo>
                <a:cubicBezTo>
                  <a:pt x="148" y="2"/>
                  <a:pt x="148" y="2"/>
                  <a:pt x="148" y="2"/>
                </a:cubicBezTo>
                <a:cubicBezTo>
                  <a:pt x="144" y="4"/>
                  <a:pt x="144" y="4"/>
                  <a:pt x="144" y="4"/>
                </a:cubicBezTo>
                <a:cubicBezTo>
                  <a:pt x="142" y="7"/>
                  <a:pt x="142" y="7"/>
                  <a:pt x="142" y="7"/>
                </a:cubicBezTo>
                <a:cubicBezTo>
                  <a:pt x="141" y="11"/>
                  <a:pt x="139" y="13"/>
                  <a:pt x="136" y="13"/>
                </a:cubicBezTo>
                <a:cubicBezTo>
                  <a:pt x="135" y="13"/>
                  <a:pt x="133" y="12"/>
                  <a:pt x="132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0" y="6"/>
                  <a:pt x="130" y="6"/>
                  <a:pt x="130" y="6"/>
                </a:cubicBezTo>
                <a:cubicBezTo>
                  <a:pt x="130" y="5"/>
                  <a:pt x="130" y="5"/>
                  <a:pt x="130" y="5"/>
                </a:cubicBezTo>
                <a:cubicBezTo>
                  <a:pt x="129" y="0"/>
                  <a:pt x="129" y="0"/>
                  <a:pt x="129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4"/>
                  <a:pt x="125" y="4"/>
                  <a:pt x="125" y="4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4" y="10"/>
                  <a:pt x="124" y="10"/>
                  <a:pt x="124" y="10"/>
                </a:cubicBezTo>
                <a:cubicBezTo>
                  <a:pt x="120" y="17"/>
                  <a:pt x="120" y="17"/>
                  <a:pt x="120" y="17"/>
                </a:cubicBezTo>
                <a:cubicBezTo>
                  <a:pt x="119" y="18"/>
                  <a:pt x="119" y="18"/>
                  <a:pt x="119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8"/>
                  <a:pt x="108" y="18"/>
                  <a:pt x="108" y="18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3" y="29"/>
                  <a:pt x="103" y="29"/>
                  <a:pt x="103" y="29"/>
                </a:cubicBezTo>
                <a:cubicBezTo>
                  <a:pt x="94" y="29"/>
                  <a:pt x="94" y="29"/>
                  <a:pt x="94" y="29"/>
                </a:cubicBezTo>
                <a:cubicBezTo>
                  <a:pt x="94" y="28"/>
                  <a:pt x="94" y="28"/>
                  <a:pt x="94" y="28"/>
                </a:cubicBezTo>
                <a:cubicBezTo>
                  <a:pt x="94" y="27"/>
                  <a:pt x="94" y="27"/>
                  <a:pt x="94" y="27"/>
                </a:cubicBezTo>
                <a:cubicBezTo>
                  <a:pt x="92" y="26"/>
                  <a:pt x="92" y="26"/>
                  <a:pt x="92" y="26"/>
                </a:cubicBezTo>
                <a:cubicBezTo>
                  <a:pt x="91" y="29"/>
                  <a:pt x="91" y="29"/>
                  <a:pt x="91" y="29"/>
                </a:cubicBezTo>
                <a:cubicBezTo>
                  <a:pt x="90" y="30"/>
                  <a:pt x="90" y="30"/>
                  <a:pt x="90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0" y="27"/>
                  <a:pt x="80" y="27"/>
                  <a:pt x="80" y="27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5"/>
                  <a:pt x="80" y="25"/>
                  <a:pt x="80" y="25"/>
                </a:cubicBezTo>
                <a:cubicBezTo>
                  <a:pt x="73" y="24"/>
                  <a:pt x="73" y="24"/>
                  <a:pt x="73" y="24"/>
                </a:cubicBezTo>
                <a:cubicBezTo>
                  <a:pt x="68" y="26"/>
                  <a:pt x="68" y="26"/>
                  <a:pt x="68" y="26"/>
                </a:cubicBezTo>
                <a:cubicBezTo>
                  <a:pt x="66" y="28"/>
                  <a:pt x="66" y="28"/>
                  <a:pt x="66" y="28"/>
                </a:cubicBezTo>
                <a:cubicBezTo>
                  <a:pt x="74" y="37"/>
                  <a:pt x="74" y="37"/>
                  <a:pt x="74" y="37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5" y="41"/>
                  <a:pt x="85" y="41"/>
                  <a:pt x="85" y="41"/>
                </a:cubicBezTo>
                <a:cubicBezTo>
                  <a:pt x="90" y="46"/>
                  <a:pt x="90" y="46"/>
                  <a:pt x="90" y="46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1" y="60"/>
                  <a:pt x="81" y="60"/>
                  <a:pt x="81" y="60"/>
                </a:cubicBezTo>
                <a:cubicBezTo>
                  <a:pt x="81" y="61"/>
                  <a:pt x="81" y="61"/>
                  <a:pt x="81" y="61"/>
                </a:cubicBezTo>
                <a:cubicBezTo>
                  <a:pt x="80" y="61"/>
                  <a:pt x="80" y="61"/>
                  <a:pt x="80" y="61"/>
                </a:cubicBezTo>
                <a:cubicBezTo>
                  <a:pt x="69" y="64"/>
                  <a:pt x="69" y="64"/>
                  <a:pt x="69" y="64"/>
                </a:cubicBezTo>
                <a:cubicBezTo>
                  <a:pt x="69" y="64"/>
                  <a:pt x="69" y="64"/>
                  <a:pt x="69" y="64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57" y="63"/>
                  <a:pt x="57" y="63"/>
                  <a:pt x="57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47" y="71"/>
                  <a:pt x="47" y="71"/>
                  <a:pt x="47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39" y="74"/>
                  <a:pt x="39" y="74"/>
                  <a:pt x="39" y="74"/>
                </a:cubicBezTo>
                <a:cubicBezTo>
                  <a:pt x="39" y="74"/>
                  <a:pt x="39" y="74"/>
                  <a:pt x="39" y="74"/>
                </a:cubicBezTo>
                <a:cubicBezTo>
                  <a:pt x="30" y="71"/>
                  <a:pt x="30" y="71"/>
                  <a:pt x="30" y="71"/>
                </a:cubicBezTo>
                <a:cubicBezTo>
                  <a:pt x="12" y="72"/>
                  <a:pt x="12" y="72"/>
                  <a:pt x="12" y="72"/>
                </a:cubicBezTo>
                <a:cubicBezTo>
                  <a:pt x="8" y="73"/>
                  <a:pt x="8" y="73"/>
                  <a:pt x="8" y="73"/>
                </a:cubicBezTo>
                <a:cubicBezTo>
                  <a:pt x="8" y="74"/>
                  <a:pt x="8" y="74"/>
                  <a:pt x="8" y="74"/>
                </a:cubicBezTo>
                <a:cubicBezTo>
                  <a:pt x="4" y="74"/>
                  <a:pt x="4" y="74"/>
                  <a:pt x="4" y="74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6"/>
                  <a:pt x="0" y="86"/>
                  <a:pt x="0" y="86"/>
                </a:cubicBezTo>
                <a:cubicBezTo>
                  <a:pt x="4" y="96"/>
                  <a:pt x="4" y="96"/>
                  <a:pt x="4" y="96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11" y="100"/>
                  <a:pt x="11" y="100"/>
                  <a:pt x="11" y="100"/>
                </a:cubicBezTo>
                <a:cubicBezTo>
                  <a:pt x="14" y="96"/>
                  <a:pt x="14" y="96"/>
                  <a:pt x="14" y="96"/>
                </a:cubicBezTo>
                <a:cubicBezTo>
                  <a:pt x="14" y="95"/>
                  <a:pt x="14" y="95"/>
                  <a:pt x="14" y="95"/>
                </a:cubicBezTo>
                <a:cubicBezTo>
                  <a:pt x="14" y="95"/>
                  <a:pt x="14" y="95"/>
                  <a:pt x="14" y="95"/>
                </a:cubicBezTo>
                <a:cubicBezTo>
                  <a:pt x="15" y="95"/>
                  <a:pt x="15" y="95"/>
                  <a:pt x="15" y="95"/>
                </a:cubicBezTo>
                <a:cubicBezTo>
                  <a:pt x="21" y="94"/>
                  <a:pt x="21" y="94"/>
                  <a:pt x="21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8" y="96"/>
                  <a:pt x="28" y="96"/>
                  <a:pt x="28" y="96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29" y="122"/>
                  <a:pt x="29" y="122"/>
                  <a:pt x="29" y="122"/>
                </a:cubicBezTo>
                <a:cubicBezTo>
                  <a:pt x="29" y="123"/>
                  <a:pt x="29" y="123"/>
                  <a:pt x="29" y="123"/>
                </a:cubicBezTo>
                <a:cubicBezTo>
                  <a:pt x="26" y="130"/>
                  <a:pt x="26" y="130"/>
                  <a:pt x="26" y="130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8" y="148"/>
                  <a:pt x="38" y="148"/>
                  <a:pt x="38" y="148"/>
                </a:cubicBezTo>
                <a:cubicBezTo>
                  <a:pt x="38" y="149"/>
                  <a:pt x="38" y="149"/>
                  <a:pt x="38" y="149"/>
                </a:cubicBezTo>
                <a:cubicBezTo>
                  <a:pt x="39" y="149"/>
                  <a:pt x="39" y="149"/>
                  <a:pt x="39" y="149"/>
                </a:cubicBezTo>
                <a:cubicBezTo>
                  <a:pt x="34" y="160"/>
                  <a:pt x="34" y="160"/>
                  <a:pt x="34" y="160"/>
                </a:cubicBezTo>
                <a:cubicBezTo>
                  <a:pt x="33" y="166"/>
                  <a:pt x="33" y="166"/>
                  <a:pt x="33" y="166"/>
                </a:cubicBezTo>
                <a:cubicBezTo>
                  <a:pt x="34" y="165"/>
                  <a:pt x="34" y="165"/>
                  <a:pt x="34" y="165"/>
                </a:cubicBezTo>
                <a:cubicBezTo>
                  <a:pt x="35" y="165"/>
                  <a:pt x="35" y="165"/>
                  <a:pt x="35" y="165"/>
                </a:cubicBezTo>
                <a:cubicBezTo>
                  <a:pt x="39" y="163"/>
                  <a:pt x="39" y="163"/>
                  <a:pt x="39" y="163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54" y="160"/>
                  <a:pt x="54" y="160"/>
                  <a:pt x="54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67" y="165"/>
                  <a:pt x="67" y="165"/>
                  <a:pt x="67" y="165"/>
                </a:cubicBezTo>
                <a:cubicBezTo>
                  <a:pt x="80" y="165"/>
                  <a:pt x="80" y="165"/>
                  <a:pt x="80" y="165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91" y="156"/>
                  <a:pt x="91" y="156"/>
                  <a:pt x="91" y="156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103" y="149"/>
                  <a:pt x="103" y="149"/>
                  <a:pt x="103" y="149"/>
                </a:cubicBezTo>
                <a:cubicBezTo>
                  <a:pt x="108" y="145"/>
                  <a:pt x="108" y="145"/>
                  <a:pt x="108" y="145"/>
                </a:cubicBezTo>
                <a:cubicBezTo>
                  <a:pt x="114" y="137"/>
                  <a:pt x="114" y="137"/>
                  <a:pt x="114" y="137"/>
                </a:cubicBezTo>
                <a:cubicBezTo>
                  <a:pt x="123" y="140"/>
                  <a:pt x="123" y="140"/>
                  <a:pt x="123" y="140"/>
                </a:cubicBezTo>
                <a:cubicBezTo>
                  <a:pt x="124" y="140"/>
                  <a:pt x="124" y="140"/>
                  <a:pt x="124" y="140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6" y="144"/>
                  <a:pt x="127" y="146"/>
                  <a:pt x="128" y="146"/>
                </a:cubicBezTo>
                <a:cubicBezTo>
                  <a:pt x="133" y="146"/>
                  <a:pt x="133" y="146"/>
                  <a:pt x="133" y="146"/>
                </a:cubicBezTo>
                <a:cubicBezTo>
                  <a:pt x="134" y="146"/>
                  <a:pt x="134" y="146"/>
                  <a:pt x="134" y="146"/>
                </a:cubicBezTo>
                <a:cubicBezTo>
                  <a:pt x="137" y="146"/>
                  <a:pt x="137" y="146"/>
                  <a:pt x="137" y="146"/>
                </a:cubicBezTo>
                <a:cubicBezTo>
                  <a:pt x="138" y="146"/>
                  <a:pt x="138" y="146"/>
                  <a:pt x="138" y="146"/>
                </a:cubicBezTo>
                <a:cubicBezTo>
                  <a:pt x="138" y="147"/>
                  <a:pt x="138" y="147"/>
                  <a:pt x="138" y="147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46" y="149"/>
                  <a:pt x="146" y="149"/>
                  <a:pt x="146" y="149"/>
                </a:cubicBezTo>
                <a:cubicBezTo>
                  <a:pt x="147" y="148"/>
                  <a:pt x="147" y="148"/>
                  <a:pt x="147" y="148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7" y="138"/>
                  <a:pt x="157" y="138"/>
                  <a:pt x="157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1" y="136"/>
                  <a:pt x="162" y="133"/>
                  <a:pt x="165" y="131"/>
                </a:cubicBezTo>
                <a:cubicBezTo>
                  <a:pt x="168" y="129"/>
                  <a:pt x="170" y="128"/>
                  <a:pt x="171" y="128"/>
                </a:cubicBezTo>
                <a:cubicBezTo>
                  <a:pt x="173" y="126"/>
                  <a:pt x="173" y="126"/>
                  <a:pt x="173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3"/>
                  <a:pt x="176" y="123"/>
                  <a:pt x="176" y="123"/>
                </a:cubicBezTo>
                <a:cubicBezTo>
                  <a:pt x="177" y="123"/>
                  <a:pt x="177" y="123"/>
                  <a:pt x="177" y="123"/>
                </a:cubicBezTo>
                <a:cubicBezTo>
                  <a:pt x="183" y="122"/>
                  <a:pt x="183" y="122"/>
                  <a:pt x="183" y="122"/>
                </a:cubicBezTo>
                <a:cubicBezTo>
                  <a:pt x="187" y="122"/>
                  <a:pt x="187" y="122"/>
                  <a:pt x="187" y="122"/>
                </a:cubicBezTo>
                <a:cubicBezTo>
                  <a:pt x="188" y="120"/>
                  <a:pt x="188" y="120"/>
                  <a:pt x="188" y="120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2" y="114"/>
                  <a:pt x="192" y="114"/>
                  <a:pt x="192" y="114"/>
                </a:cubicBezTo>
                <a:cubicBezTo>
                  <a:pt x="191" y="114"/>
                  <a:pt x="191" y="114"/>
                  <a:pt x="191" y="114"/>
                </a:cubicBezTo>
                <a:cubicBezTo>
                  <a:pt x="188" y="111"/>
                  <a:pt x="187" y="108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2"/>
                  <a:pt x="186" y="102"/>
                  <a:pt x="186" y="102"/>
                </a:cubicBezTo>
                <a:cubicBezTo>
                  <a:pt x="188" y="94"/>
                  <a:pt x="188" y="94"/>
                  <a:pt x="188" y="94"/>
                </a:cubicBezTo>
                <a:cubicBezTo>
                  <a:pt x="188" y="91"/>
                  <a:pt x="188" y="89"/>
                  <a:pt x="190" y="87"/>
                </a:cubicBezTo>
                <a:cubicBezTo>
                  <a:pt x="190" y="80"/>
                  <a:pt x="190" y="80"/>
                  <a:pt x="190" y="80"/>
                </a:cubicBezTo>
                <a:cubicBezTo>
                  <a:pt x="189" y="79"/>
                  <a:pt x="188" y="78"/>
                  <a:pt x="186" y="78"/>
                </a:cubicBezTo>
                <a:cubicBezTo>
                  <a:pt x="174" y="83"/>
                  <a:pt x="174" y="83"/>
                  <a:pt x="174" y="83"/>
                </a:cubicBezTo>
                <a:cubicBezTo>
                  <a:pt x="174" y="70"/>
                  <a:pt x="174" y="70"/>
                  <a:pt x="174" y="70"/>
                </a:cubicBezTo>
                <a:cubicBezTo>
                  <a:pt x="175" y="68"/>
                  <a:pt x="179" y="64"/>
                  <a:pt x="186" y="60"/>
                </a:cubicBezTo>
                <a:cubicBezTo>
                  <a:pt x="183" y="46"/>
                  <a:pt x="183" y="46"/>
                  <a:pt x="183" y="46"/>
                </a:cubicBezTo>
                <a:cubicBezTo>
                  <a:pt x="182" y="41"/>
                  <a:pt x="183" y="37"/>
                  <a:pt x="186" y="34"/>
                </a:cubicBezTo>
                <a:cubicBezTo>
                  <a:pt x="186" y="32"/>
                  <a:pt x="186" y="32"/>
                  <a:pt x="186" y="32"/>
                </a:cubicBezTo>
                <a:cubicBezTo>
                  <a:pt x="182" y="32"/>
                  <a:pt x="182" y="32"/>
                  <a:pt x="182" y="32"/>
                </a:cubicBezTo>
                <a:cubicBezTo>
                  <a:pt x="180" y="32"/>
                  <a:pt x="180" y="32"/>
                  <a:pt x="180" y="32"/>
                </a:cubicBezTo>
                <a:cubicBezTo>
                  <a:pt x="178" y="38"/>
                  <a:pt x="178" y="38"/>
                  <a:pt x="178" y="38"/>
                </a:cubicBezTo>
                <a:cubicBezTo>
                  <a:pt x="177" y="40"/>
                  <a:pt x="175" y="41"/>
                  <a:pt x="174" y="41"/>
                </a:cubicBezTo>
                <a:cubicBezTo>
                  <a:pt x="173" y="41"/>
                  <a:pt x="173" y="41"/>
                  <a:pt x="173" y="41"/>
                </a:cubicBezTo>
                <a:cubicBezTo>
                  <a:pt x="169" y="38"/>
                  <a:pt x="169" y="38"/>
                  <a:pt x="169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7"/>
                  <a:pt x="168" y="37"/>
                  <a:pt x="168" y="37"/>
                </a:cubicBezTo>
                <a:cubicBezTo>
                  <a:pt x="167" y="34"/>
                  <a:pt x="167" y="34"/>
                  <a:pt x="167" y="34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2"/>
                  <a:pt x="166" y="32"/>
                  <a:pt x="166" y="32"/>
                </a:cubicBezTo>
                <a:cubicBezTo>
                  <a:pt x="158" y="32"/>
                  <a:pt x="158" y="32"/>
                  <a:pt x="158" y="32"/>
                </a:cubicBezTo>
                <a:cubicBezTo>
                  <a:pt x="158" y="30"/>
                  <a:pt x="158" y="30"/>
                  <a:pt x="158" y="30"/>
                </a:cubicBezTo>
                <a:cubicBezTo>
                  <a:pt x="156" y="26"/>
                  <a:pt x="156" y="26"/>
                  <a:pt x="156" y="26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52" y="12"/>
                  <a:pt x="152" y="12"/>
                  <a:pt x="152" y="12"/>
                </a:cubicBezTo>
                <a:cubicBezTo>
                  <a:pt x="152" y="6"/>
                  <a:pt x="152" y="6"/>
                  <a:pt x="152" y="6"/>
                </a:cubicBezTo>
                <a:lnTo>
                  <a:pt x="150" y="3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reeform 14"/>
          <p:cNvSpPr/>
          <p:nvPr/>
        </p:nvSpPr>
        <p:spPr>
          <a:xfrm>
            <a:off x="3324240" y="4525920"/>
            <a:ext cx="806400" cy="614520"/>
          </a:xfrm>
          <a:custGeom>
            <a:avLst/>
            <a:gdLst>
              <a:gd name="textAreaLeft" fmla="*/ 0 w 806400"/>
              <a:gd name="textAreaRight" fmla="*/ 806760 w 806400"/>
              <a:gd name="textAreaTop" fmla="*/ 0 h 614520"/>
              <a:gd name="textAreaBottom" fmla="*/ 614880 h 614520"/>
            </a:gdLst>
            <a:ahLst/>
            <a:rect l="textAreaLeft" t="textAreaTop" r="textAreaRight" b="textAreaBottom"/>
            <a:pathLst>
              <a:path w="251" h="191">
                <a:moveTo>
                  <a:pt x="201" y="4"/>
                </a:moveTo>
                <a:cubicBezTo>
                  <a:pt x="201" y="5"/>
                  <a:pt x="201" y="5"/>
                  <a:pt x="201" y="5"/>
                </a:cubicBezTo>
                <a:cubicBezTo>
                  <a:pt x="202" y="6"/>
                  <a:pt x="202" y="6"/>
                  <a:pt x="202" y="6"/>
                </a:cubicBezTo>
                <a:cubicBezTo>
                  <a:pt x="197" y="14"/>
                  <a:pt x="197" y="14"/>
                  <a:pt x="197" y="14"/>
                </a:cubicBezTo>
                <a:cubicBezTo>
                  <a:pt x="195" y="16"/>
                  <a:pt x="192" y="18"/>
                  <a:pt x="189" y="18"/>
                </a:cubicBezTo>
                <a:cubicBezTo>
                  <a:pt x="188" y="18"/>
                  <a:pt x="188" y="18"/>
                  <a:pt x="188" y="18"/>
                </a:cubicBezTo>
                <a:cubicBezTo>
                  <a:pt x="184" y="15"/>
                  <a:pt x="184" y="15"/>
                  <a:pt x="184" y="15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2" y="22"/>
                  <a:pt x="172" y="22"/>
                  <a:pt x="172" y="22"/>
                </a:cubicBezTo>
                <a:cubicBezTo>
                  <a:pt x="170" y="22"/>
                  <a:pt x="167" y="20"/>
                  <a:pt x="164" y="16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58" y="24"/>
                  <a:pt x="158" y="24"/>
                  <a:pt x="158" y="24"/>
                </a:cubicBezTo>
                <a:cubicBezTo>
                  <a:pt x="153" y="24"/>
                  <a:pt x="153" y="24"/>
                  <a:pt x="153" y="24"/>
                </a:cubicBezTo>
                <a:cubicBezTo>
                  <a:pt x="147" y="26"/>
                  <a:pt x="147" y="26"/>
                  <a:pt x="147" y="26"/>
                </a:cubicBezTo>
                <a:cubicBezTo>
                  <a:pt x="141" y="30"/>
                  <a:pt x="141" y="30"/>
                  <a:pt x="141" y="30"/>
                </a:cubicBezTo>
                <a:cubicBezTo>
                  <a:pt x="139" y="30"/>
                  <a:pt x="139" y="30"/>
                  <a:pt x="139" y="30"/>
                </a:cubicBezTo>
                <a:cubicBezTo>
                  <a:pt x="137" y="32"/>
                  <a:pt x="137" y="32"/>
                  <a:pt x="137" y="32"/>
                </a:cubicBezTo>
                <a:cubicBezTo>
                  <a:pt x="135" y="34"/>
                  <a:pt x="134" y="36"/>
                  <a:pt x="135" y="37"/>
                </a:cubicBezTo>
                <a:cubicBezTo>
                  <a:pt x="138" y="41"/>
                  <a:pt x="138" y="41"/>
                  <a:pt x="138" y="41"/>
                </a:cubicBezTo>
                <a:cubicBezTo>
                  <a:pt x="127" y="40"/>
                  <a:pt x="127" y="40"/>
                  <a:pt x="127" y="40"/>
                </a:cubicBezTo>
                <a:cubicBezTo>
                  <a:pt x="121" y="45"/>
                  <a:pt x="121" y="45"/>
                  <a:pt x="121" y="45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19" y="50"/>
                  <a:pt x="119" y="50"/>
                  <a:pt x="119" y="50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2" y="51"/>
                  <a:pt x="112" y="51"/>
                  <a:pt x="112" y="51"/>
                </a:cubicBezTo>
                <a:cubicBezTo>
                  <a:pt x="105" y="48"/>
                  <a:pt x="105" y="48"/>
                  <a:pt x="105" y="48"/>
                </a:cubicBezTo>
                <a:cubicBezTo>
                  <a:pt x="103" y="48"/>
                  <a:pt x="103" y="48"/>
                  <a:pt x="103" y="48"/>
                </a:cubicBezTo>
                <a:cubicBezTo>
                  <a:pt x="97" y="49"/>
                  <a:pt x="97" y="49"/>
                  <a:pt x="97" y="49"/>
                </a:cubicBezTo>
                <a:cubicBezTo>
                  <a:pt x="95" y="49"/>
                  <a:pt x="92" y="46"/>
                  <a:pt x="89" y="42"/>
                </a:cubicBezTo>
                <a:cubicBezTo>
                  <a:pt x="85" y="40"/>
                  <a:pt x="85" y="40"/>
                  <a:pt x="85" y="40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81" y="46"/>
                  <a:pt x="81" y="46"/>
                </a:cubicBezTo>
                <a:cubicBezTo>
                  <a:pt x="80" y="46"/>
                  <a:pt x="80" y="46"/>
                  <a:pt x="80" y="46"/>
                </a:cubicBezTo>
                <a:cubicBezTo>
                  <a:pt x="75" y="50"/>
                  <a:pt x="75" y="50"/>
                  <a:pt x="75" y="50"/>
                </a:cubicBezTo>
                <a:cubicBezTo>
                  <a:pt x="74" y="50"/>
                  <a:pt x="74" y="50"/>
                  <a:pt x="74" y="50"/>
                </a:cubicBezTo>
                <a:cubicBezTo>
                  <a:pt x="74" y="51"/>
                  <a:pt x="74" y="51"/>
                  <a:pt x="74" y="51"/>
                </a:cubicBezTo>
                <a:cubicBezTo>
                  <a:pt x="73" y="51"/>
                  <a:pt x="73" y="51"/>
                  <a:pt x="73" y="51"/>
                </a:cubicBezTo>
                <a:cubicBezTo>
                  <a:pt x="69" y="52"/>
                  <a:pt x="69" y="52"/>
                  <a:pt x="69" y="52"/>
                </a:cubicBezTo>
                <a:cubicBezTo>
                  <a:pt x="63" y="58"/>
                  <a:pt x="63" y="58"/>
                  <a:pt x="63" y="58"/>
                </a:cubicBezTo>
                <a:cubicBezTo>
                  <a:pt x="63" y="58"/>
                  <a:pt x="63" y="58"/>
                  <a:pt x="63" y="58"/>
                </a:cubicBezTo>
                <a:cubicBezTo>
                  <a:pt x="56" y="61"/>
                  <a:pt x="56" y="61"/>
                  <a:pt x="56" y="61"/>
                </a:cubicBezTo>
                <a:cubicBezTo>
                  <a:pt x="51" y="67"/>
                  <a:pt x="51" y="67"/>
                  <a:pt x="51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23" y="62"/>
                  <a:pt x="23" y="62"/>
                  <a:pt x="23" y="62"/>
                </a:cubicBezTo>
                <a:cubicBezTo>
                  <a:pt x="16" y="62"/>
                  <a:pt x="16" y="62"/>
                  <a:pt x="16" y="62"/>
                </a:cubicBezTo>
                <a:cubicBezTo>
                  <a:pt x="10" y="65"/>
                  <a:pt x="10" y="65"/>
                  <a:pt x="10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5" y="66"/>
                  <a:pt x="5" y="66"/>
                  <a:pt x="5" y="66"/>
                </a:cubicBezTo>
                <a:cubicBezTo>
                  <a:pt x="3" y="67"/>
                  <a:pt x="2" y="68"/>
                  <a:pt x="1" y="69"/>
                </a:cubicBezTo>
                <a:cubicBezTo>
                  <a:pt x="0" y="71"/>
                  <a:pt x="0" y="71"/>
                  <a:pt x="0" y="71"/>
                </a:cubicBezTo>
                <a:cubicBezTo>
                  <a:pt x="0" y="76"/>
                  <a:pt x="0" y="76"/>
                  <a:pt x="0" y="76"/>
                </a:cubicBezTo>
                <a:cubicBezTo>
                  <a:pt x="2" y="79"/>
                  <a:pt x="2" y="79"/>
                  <a:pt x="2" y="79"/>
                </a:cubicBezTo>
                <a:cubicBezTo>
                  <a:pt x="11" y="76"/>
                  <a:pt x="11" y="76"/>
                  <a:pt x="11" y="76"/>
                </a:cubicBezTo>
                <a:cubicBezTo>
                  <a:pt x="13" y="76"/>
                  <a:pt x="16" y="77"/>
                  <a:pt x="20" y="79"/>
                </a:cubicBezTo>
                <a:cubicBezTo>
                  <a:pt x="21" y="79"/>
                  <a:pt x="21" y="79"/>
                  <a:pt x="21" y="79"/>
                </a:cubicBezTo>
                <a:cubicBezTo>
                  <a:pt x="21" y="80"/>
                  <a:pt x="21" y="80"/>
                  <a:pt x="21" y="80"/>
                </a:cubicBezTo>
                <a:cubicBezTo>
                  <a:pt x="21" y="93"/>
                  <a:pt x="21" y="93"/>
                  <a:pt x="21" y="93"/>
                </a:cubicBezTo>
                <a:cubicBezTo>
                  <a:pt x="23" y="94"/>
                  <a:pt x="23" y="94"/>
                  <a:pt x="23" y="94"/>
                </a:cubicBezTo>
                <a:cubicBezTo>
                  <a:pt x="32" y="94"/>
                  <a:pt x="32" y="94"/>
                  <a:pt x="32" y="94"/>
                </a:cubicBezTo>
                <a:cubicBezTo>
                  <a:pt x="37" y="92"/>
                  <a:pt x="37" y="92"/>
                  <a:pt x="37" y="92"/>
                </a:cubicBezTo>
                <a:cubicBezTo>
                  <a:pt x="38" y="92"/>
                  <a:pt x="38" y="92"/>
                  <a:pt x="38" y="92"/>
                </a:cubicBezTo>
                <a:cubicBezTo>
                  <a:pt x="41" y="90"/>
                  <a:pt x="44" y="89"/>
                  <a:pt x="47" y="88"/>
                </a:cubicBezTo>
                <a:cubicBezTo>
                  <a:pt x="49" y="88"/>
                  <a:pt x="49" y="88"/>
                  <a:pt x="49" y="88"/>
                </a:cubicBezTo>
                <a:cubicBezTo>
                  <a:pt x="50" y="89"/>
                  <a:pt x="50" y="89"/>
                  <a:pt x="50" y="89"/>
                </a:cubicBezTo>
                <a:cubicBezTo>
                  <a:pt x="52" y="94"/>
                  <a:pt x="52" y="94"/>
                  <a:pt x="52" y="94"/>
                </a:cubicBezTo>
                <a:cubicBezTo>
                  <a:pt x="52" y="94"/>
                  <a:pt x="52" y="94"/>
                  <a:pt x="52" y="94"/>
                </a:cubicBezTo>
                <a:cubicBezTo>
                  <a:pt x="53" y="108"/>
                  <a:pt x="53" y="108"/>
                  <a:pt x="53" y="108"/>
                </a:cubicBezTo>
                <a:cubicBezTo>
                  <a:pt x="53" y="109"/>
                  <a:pt x="53" y="109"/>
                  <a:pt x="53" y="109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7"/>
                  <a:pt x="46" y="117"/>
                  <a:pt x="46" y="117"/>
                </a:cubicBezTo>
                <a:cubicBezTo>
                  <a:pt x="37" y="121"/>
                  <a:pt x="37" y="121"/>
                  <a:pt x="37" y="121"/>
                </a:cubicBezTo>
                <a:cubicBezTo>
                  <a:pt x="35" y="124"/>
                  <a:pt x="35" y="124"/>
                  <a:pt x="35" y="124"/>
                </a:cubicBezTo>
                <a:cubicBezTo>
                  <a:pt x="36" y="126"/>
                  <a:pt x="36" y="126"/>
                  <a:pt x="36" y="126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4" y="129"/>
                  <a:pt x="54" y="129"/>
                  <a:pt x="54" y="129"/>
                </a:cubicBezTo>
                <a:cubicBezTo>
                  <a:pt x="61" y="133"/>
                  <a:pt x="61" y="133"/>
                  <a:pt x="61" y="133"/>
                </a:cubicBezTo>
                <a:cubicBezTo>
                  <a:pt x="76" y="132"/>
                  <a:pt x="76" y="132"/>
                  <a:pt x="76" y="132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42"/>
                  <a:pt x="77" y="142"/>
                  <a:pt x="77" y="142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0" y="150"/>
                  <a:pt x="70" y="150"/>
                  <a:pt x="70" y="150"/>
                </a:cubicBezTo>
                <a:cubicBezTo>
                  <a:pt x="69" y="158"/>
                  <a:pt x="71" y="164"/>
                  <a:pt x="75" y="165"/>
                </a:cubicBezTo>
                <a:cubicBezTo>
                  <a:pt x="87" y="172"/>
                  <a:pt x="87" y="172"/>
                  <a:pt x="87" y="172"/>
                </a:cubicBezTo>
                <a:cubicBezTo>
                  <a:pt x="97" y="178"/>
                  <a:pt x="97" y="178"/>
                  <a:pt x="97" y="178"/>
                </a:cubicBezTo>
                <a:cubicBezTo>
                  <a:pt x="106" y="174"/>
                  <a:pt x="106" y="174"/>
                  <a:pt x="106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8" y="174"/>
                  <a:pt x="108" y="174"/>
                  <a:pt x="108" y="174"/>
                </a:cubicBezTo>
                <a:cubicBezTo>
                  <a:pt x="121" y="184"/>
                  <a:pt x="121" y="184"/>
                  <a:pt x="121" y="184"/>
                </a:cubicBezTo>
                <a:cubicBezTo>
                  <a:pt x="123" y="184"/>
                  <a:pt x="123" y="184"/>
                  <a:pt x="123" y="184"/>
                </a:cubicBezTo>
                <a:cubicBezTo>
                  <a:pt x="126" y="180"/>
                  <a:pt x="126" y="180"/>
                  <a:pt x="126" y="180"/>
                </a:cubicBezTo>
                <a:cubicBezTo>
                  <a:pt x="127" y="180"/>
                  <a:pt x="127" y="180"/>
                  <a:pt x="127" y="180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8" y="179"/>
                  <a:pt x="128" y="179"/>
                  <a:pt x="128" y="179"/>
                </a:cubicBezTo>
                <a:cubicBezTo>
                  <a:pt x="135" y="180"/>
                  <a:pt x="135" y="180"/>
                  <a:pt x="135" y="180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47" y="184"/>
                  <a:pt x="147" y="184"/>
                  <a:pt x="147" y="184"/>
                </a:cubicBezTo>
                <a:cubicBezTo>
                  <a:pt x="155" y="185"/>
                  <a:pt x="155" y="185"/>
                  <a:pt x="155" y="185"/>
                </a:cubicBezTo>
                <a:cubicBezTo>
                  <a:pt x="156" y="185"/>
                  <a:pt x="156" y="185"/>
                  <a:pt x="156" y="185"/>
                </a:cubicBezTo>
                <a:cubicBezTo>
                  <a:pt x="157" y="185"/>
                  <a:pt x="157" y="185"/>
                  <a:pt x="157" y="185"/>
                </a:cubicBezTo>
                <a:cubicBezTo>
                  <a:pt x="157" y="186"/>
                  <a:pt x="157" y="186"/>
                  <a:pt x="157" y="186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60" y="190"/>
                  <a:pt x="160" y="190"/>
                  <a:pt x="160" y="190"/>
                </a:cubicBezTo>
                <a:cubicBezTo>
                  <a:pt x="173" y="173"/>
                  <a:pt x="173" y="173"/>
                  <a:pt x="173" y="173"/>
                </a:cubicBezTo>
                <a:cubicBezTo>
                  <a:pt x="179" y="181"/>
                  <a:pt x="179" y="181"/>
                  <a:pt x="179" y="181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83" y="170"/>
                  <a:pt x="183" y="170"/>
                  <a:pt x="183" y="170"/>
                </a:cubicBezTo>
                <a:cubicBezTo>
                  <a:pt x="186" y="164"/>
                  <a:pt x="186" y="164"/>
                  <a:pt x="186" y="164"/>
                </a:cubicBezTo>
                <a:cubicBezTo>
                  <a:pt x="196" y="164"/>
                  <a:pt x="196" y="164"/>
                  <a:pt x="196" y="164"/>
                </a:cubicBezTo>
                <a:cubicBezTo>
                  <a:pt x="198" y="152"/>
                  <a:pt x="198" y="152"/>
                  <a:pt x="198" y="152"/>
                </a:cubicBezTo>
                <a:cubicBezTo>
                  <a:pt x="199" y="152"/>
                  <a:pt x="199" y="152"/>
                  <a:pt x="199" y="152"/>
                </a:cubicBezTo>
                <a:cubicBezTo>
                  <a:pt x="200" y="153"/>
                  <a:pt x="200" y="153"/>
                  <a:pt x="200" y="153"/>
                </a:cubicBezTo>
                <a:cubicBezTo>
                  <a:pt x="207" y="154"/>
                  <a:pt x="207" y="154"/>
                  <a:pt x="207" y="154"/>
                </a:cubicBezTo>
                <a:cubicBezTo>
                  <a:pt x="208" y="150"/>
                  <a:pt x="208" y="150"/>
                  <a:pt x="208" y="150"/>
                </a:cubicBezTo>
                <a:cubicBezTo>
                  <a:pt x="205" y="144"/>
                  <a:pt x="205" y="144"/>
                  <a:pt x="205" y="144"/>
                </a:cubicBezTo>
                <a:cubicBezTo>
                  <a:pt x="205" y="143"/>
                  <a:pt x="205" y="143"/>
                  <a:pt x="205" y="143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7"/>
                  <a:pt x="207" y="137"/>
                  <a:pt x="207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29" y="126"/>
                  <a:pt x="229" y="126"/>
                  <a:pt x="229" y="126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4"/>
                  <a:pt x="228" y="114"/>
                  <a:pt x="228" y="11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45" y="84"/>
                  <a:pt x="245" y="84"/>
                  <a:pt x="245" y="84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51" y="73"/>
                  <a:pt x="251" y="73"/>
                  <a:pt x="251" y="73"/>
                </a:cubicBezTo>
                <a:cubicBezTo>
                  <a:pt x="248" y="67"/>
                  <a:pt x="248" y="67"/>
                  <a:pt x="248" y="67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0"/>
                  <a:pt x="248" y="60"/>
                  <a:pt x="248" y="60"/>
                </a:cubicBezTo>
                <a:cubicBezTo>
                  <a:pt x="245" y="60"/>
                  <a:pt x="245" y="60"/>
                  <a:pt x="245" y="60"/>
                </a:cubicBezTo>
                <a:cubicBezTo>
                  <a:pt x="239" y="63"/>
                  <a:pt x="239" y="63"/>
                  <a:pt x="239" y="63"/>
                </a:cubicBezTo>
                <a:cubicBezTo>
                  <a:pt x="236" y="65"/>
                  <a:pt x="232" y="64"/>
                  <a:pt x="227" y="61"/>
                </a:cubicBezTo>
                <a:cubicBezTo>
                  <a:pt x="225" y="59"/>
                  <a:pt x="225" y="55"/>
                  <a:pt x="226" y="49"/>
                </a:cubicBezTo>
                <a:cubicBezTo>
                  <a:pt x="223" y="49"/>
                  <a:pt x="223" y="49"/>
                  <a:pt x="223" y="49"/>
                </a:cubicBezTo>
                <a:cubicBezTo>
                  <a:pt x="221" y="51"/>
                  <a:pt x="221" y="51"/>
                  <a:pt x="221" y="51"/>
                </a:cubicBezTo>
                <a:cubicBezTo>
                  <a:pt x="217" y="55"/>
                  <a:pt x="215" y="57"/>
                  <a:pt x="214" y="57"/>
                </a:cubicBezTo>
                <a:cubicBezTo>
                  <a:pt x="213" y="57"/>
                  <a:pt x="213" y="57"/>
                  <a:pt x="212" y="57"/>
                </a:cubicBezTo>
                <a:cubicBezTo>
                  <a:pt x="211" y="56"/>
                  <a:pt x="211" y="54"/>
                  <a:pt x="211" y="50"/>
                </a:cubicBezTo>
                <a:cubicBezTo>
                  <a:pt x="211" y="47"/>
                  <a:pt x="211" y="44"/>
                  <a:pt x="212" y="44"/>
                </a:cubicBezTo>
                <a:cubicBezTo>
                  <a:pt x="213" y="42"/>
                  <a:pt x="213" y="42"/>
                  <a:pt x="214" y="43"/>
                </a:cubicBezTo>
                <a:cubicBezTo>
                  <a:pt x="222" y="29"/>
                  <a:pt x="222" y="29"/>
                  <a:pt x="222" y="29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25" y="18"/>
                  <a:pt x="225" y="18"/>
                  <a:pt x="225" y="18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19" y="13"/>
                  <a:pt x="219" y="10"/>
                  <a:pt x="220" y="6"/>
                </a:cubicBezTo>
                <a:cubicBezTo>
                  <a:pt x="220" y="4"/>
                  <a:pt x="220" y="4"/>
                  <a:pt x="220" y="4"/>
                </a:cubicBezTo>
                <a:cubicBezTo>
                  <a:pt x="220" y="2"/>
                  <a:pt x="219" y="1"/>
                  <a:pt x="217" y="0"/>
                </a:cubicBezTo>
                <a:cubicBezTo>
                  <a:pt x="217" y="0"/>
                  <a:pt x="217" y="0"/>
                  <a:pt x="217" y="0"/>
                </a:cubicBezTo>
                <a:cubicBezTo>
                  <a:pt x="216" y="1"/>
                  <a:pt x="216" y="1"/>
                  <a:pt x="216" y="1"/>
                </a:cubicBezTo>
                <a:cubicBezTo>
                  <a:pt x="215" y="4"/>
                  <a:pt x="212" y="6"/>
                  <a:pt x="208" y="4"/>
                </a:cubicBezTo>
                <a:cubicBezTo>
                  <a:pt x="206" y="4"/>
                  <a:pt x="203" y="4"/>
                  <a:pt x="201" y="4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Freeform 15"/>
          <p:cNvSpPr/>
          <p:nvPr/>
        </p:nvSpPr>
        <p:spPr>
          <a:xfrm>
            <a:off x="3435480" y="3851280"/>
            <a:ext cx="457200" cy="461880"/>
          </a:xfrm>
          <a:custGeom>
            <a:avLst/>
            <a:gdLst>
              <a:gd name="textAreaLeft" fmla="*/ 0 w 457200"/>
              <a:gd name="textAreaRight" fmla="*/ 457560 w 45720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142" h="144">
                <a:moveTo>
                  <a:pt x="142" y="29"/>
                </a:moveTo>
                <a:cubicBezTo>
                  <a:pt x="139" y="22"/>
                  <a:pt x="139" y="22"/>
                  <a:pt x="139" y="22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0" y="15"/>
                  <a:pt x="130" y="15"/>
                  <a:pt x="130" y="15"/>
                </a:cubicBezTo>
                <a:cubicBezTo>
                  <a:pt x="129" y="15"/>
                  <a:pt x="129" y="15"/>
                  <a:pt x="129" y="15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4" y="12"/>
                  <a:pt x="124" y="12"/>
                  <a:pt x="124" y="12"/>
                </a:cubicBezTo>
                <a:cubicBezTo>
                  <a:pt x="122" y="13"/>
                  <a:pt x="122" y="13"/>
                  <a:pt x="122" y="13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6" y="13"/>
                  <a:pt x="116" y="13"/>
                  <a:pt x="116" y="13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0" y="11"/>
                  <a:pt x="110" y="11"/>
                  <a:pt x="110" y="11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06" y="6"/>
                  <a:pt x="106" y="6"/>
                  <a:pt x="106" y="6"/>
                </a:cubicBezTo>
                <a:cubicBezTo>
                  <a:pt x="102" y="2"/>
                  <a:pt x="102" y="2"/>
                  <a:pt x="102" y="2"/>
                </a:cubicBezTo>
                <a:cubicBezTo>
                  <a:pt x="98" y="0"/>
                  <a:pt x="98" y="0"/>
                  <a:pt x="98" y="0"/>
                </a:cubicBezTo>
                <a:cubicBezTo>
                  <a:pt x="94" y="4"/>
                  <a:pt x="94" y="4"/>
                  <a:pt x="94" y="4"/>
                </a:cubicBezTo>
                <a:cubicBezTo>
                  <a:pt x="88" y="8"/>
                  <a:pt x="88" y="8"/>
                  <a:pt x="88" y="8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1" y="29"/>
                  <a:pt x="81" y="29"/>
                  <a:pt x="81" y="29"/>
                </a:cubicBezTo>
                <a:cubicBezTo>
                  <a:pt x="81" y="30"/>
                  <a:pt x="81" y="30"/>
                  <a:pt x="81" y="30"/>
                </a:cubicBezTo>
                <a:cubicBezTo>
                  <a:pt x="81" y="30"/>
                  <a:pt x="81" y="30"/>
                  <a:pt x="81" y="30"/>
                </a:cubicBezTo>
                <a:cubicBezTo>
                  <a:pt x="77" y="34"/>
                  <a:pt x="77" y="34"/>
                  <a:pt x="77" y="34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4"/>
                  <a:pt x="72" y="44"/>
                  <a:pt x="72" y="44"/>
                </a:cubicBezTo>
                <a:cubicBezTo>
                  <a:pt x="68" y="46"/>
                  <a:pt x="65" y="49"/>
                  <a:pt x="62" y="52"/>
                </a:cubicBezTo>
                <a:cubicBezTo>
                  <a:pt x="58" y="59"/>
                  <a:pt x="58" y="59"/>
                  <a:pt x="58" y="59"/>
                </a:cubicBezTo>
                <a:cubicBezTo>
                  <a:pt x="57" y="61"/>
                  <a:pt x="54" y="63"/>
                  <a:pt x="48" y="66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2"/>
                  <a:pt x="44" y="72"/>
                  <a:pt x="44" y="72"/>
                </a:cubicBezTo>
                <a:cubicBezTo>
                  <a:pt x="37" y="82"/>
                  <a:pt x="37" y="82"/>
                  <a:pt x="37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4" y="80"/>
                  <a:pt x="4" y="80"/>
                  <a:pt x="4" y="80"/>
                </a:cubicBezTo>
                <a:cubicBezTo>
                  <a:pt x="0" y="84"/>
                  <a:pt x="0" y="84"/>
                  <a:pt x="0" y="84"/>
                </a:cubicBezTo>
                <a:cubicBezTo>
                  <a:pt x="0" y="90"/>
                  <a:pt x="0" y="90"/>
                  <a:pt x="0" y="90"/>
                </a:cubicBezTo>
                <a:cubicBezTo>
                  <a:pt x="3" y="104"/>
                  <a:pt x="3" y="104"/>
                  <a:pt x="3" y="104"/>
                </a:cubicBezTo>
                <a:cubicBezTo>
                  <a:pt x="10" y="113"/>
                  <a:pt x="10" y="113"/>
                  <a:pt x="10" y="113"/>
                </a:cubicBezTo>
                <a:cubicBezTo>
                  <a:pt x="16" y="116"/>
                  <a:pt x="16" y="116"/>
                  <a:pt x="16" y="116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9" y="121"/>
                  <a:pt x="21" y="124"/>
                  <a:pt x="21" y="126"/>
                </a:cubicBezTo>
                <a:cubicBezTo>
                  <a:pt x="21" y="131"/>
                  <a:pt x="21" y="131"/>
                  <a:pt x="21" y="131"/>
                </a:cubicBezTo>
                <a:cubicBezTo>
                  <a:pt x="19" y="133"/>
                  <a:pt x="19" y="133"/>
                  <a:pt x="19" y="133"/>
                </a:cubicBezTo>
                <a:cubicBezTo>
                  <a:pt x="20" y="134"/>
                  <a:pt x="20" y="134"/>
                  <a:pt x="20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4" y="129"/>
                  <a:pt x="24" y="129"/>
                  <a:pt x="24" y="129"/>
                </a:cubicBezTo>
                <a:cubicBezTo>
                  <a:pt x="25" y="129"/>
                  <a:pt x="25" y="129"/>
                  <a:pt x="25" y="129"/>
                </a:cubicBezTo>
                <a:cubicBezTo>
                  <a:pt x="31" y="131"/>
                  <a:pt x="31" y="131"/>
                  <a:pt x="31" y="131"/>
                </a:cubicBezTo>
                <a:cubicBezTo>
                  <a:pt x="32" y="133"/>
                  <a:pt x="32" y="133"/>
                  <a:pt x="32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8" y="123"/>
                  <a:pt x="38" y="123"/>
                  <a:pt x="38" y="123"/>
                </a:cubicBezTo>
                <a:cubicBezTo>
                  <a:pt x="39" y="121"/>
                  <a:pt x="41" y="120"/>
                  <a:pt x="44" y="121"/>
                </a:cubicBezTo>
                <a:cubicBezTo>
                  <a:pt x="51" y="121"/>
                  <a:pt x="51" y="121"/>
                  <a:pt x="51" y="121"/>
                </a:cubicBezTo>
                <a:cubicBezTo>
                  <a:pt x="55" y="116"/>
                  <a:pt x="55" y="116"/>
                  <a:pt x="55" y="116"/>
                </a:cubicBezTo>
                <a:cubicBezTo>
                  <a:pt x="55" y="111"/>
                  <a:pt x="55" y="111"/>
                  <a:pt x="55" y="111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1" y="103"/>
                  <a:pt x="61" y="103"/>
                  <a:pt x="61" y="103"/>
                </a:cubicBezTo>
                <a:cubicBezTo>
                  <a:pt x="67" y="104"/>
                  <a:pt x="67" y="104"/>
                  <a:pt x="67" y="104"/>
                </a:cubicBezTo>
                <a:cubicBezTo>
                  <a:pt x="67" y="105"/>
                  <a:pt x="67" y="105"/>
                  <a:pt x="67" y="105"/>
                </a:cubicBezTo>
                <a:cubicBezTo>
                  <a:pt x="68" y="110"/>
                  <a:pt x="68" y="110"/>
                  <a:pt x="68" y="110"/>
                </a:cubicBezTo>
                <a:cubicBezTo>
                  <a:pt x="68" y="112"/>
                  <a:pt x="68" y="112"/>
                  <a:pt x="68" y="112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80" y="106"/>
                  <a:pt x="80" y="106"/>
                  <a:pt x="80" y="106"/>
                </a:cubicBezTo>
                <a:cubicBezTo>
                  <a:pt x="81" y="106"/>
                  <a:pt x="81" y="106"/>
                  <a:pt x="81" y="106"/>
                </a:cubicBezTo>
                <a:cubicBezTo>
                  <a:pt x="81" y="105"/>
                  <a:pt x="81" y="105"/>
                  <a:pt x="81" y="105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7" y="107"/>
                  <a:pt x="87" y="107"/>
                  <a:pt x="87" y="107"/>
                </a:cubicBezTo>
                <a:cubicBezTo>
                  <a:pt x="88" y="107"/>
                  <a:pt x="88" y="107"/>
                  <a:pt x="88" y="107"/>
                </a:cubicBezTo>
                <a:cubicBezTo>
                  <a:pt x="90" y="113"/>
                  <a:pt x="90" y="113"/>
                  <a:pt x="90" y="113"/>
                </a:cubicBezTo>
                <a:cubicBezTo>
                  <a:pt x="90" y="118"/>
                  <a:pt x="90" y="118"/>
                  <a:pt x="90" y="118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32"/>
                  <a:pt x="94" y="132"/>
                  <a:pt x="94" y="132"/>
                </a:cubicBezTo>
                <a:cubicBezTo>
                  <a:pt x="96" y="135"/>
                  <a:pt x="96" y="135"/>
                  <a:pt x="96" y="135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98" y="133"/>
                  <a:pt x="98" y="133"/>
                  <a:pt x="98" y="133"/>
                </a:cubicBezTo>
                <a:cubicBezTo>
                  <a:pt x="99" y="132"/>
                  <a:pt x="99" y="132"/>
                  <a:pt x="99" y="132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6" y="143"/>
                  <a:pt x="106" y="143"/>
                  <a:pt x="106" y="143"/>
                </a:cubicBezTo>
                <a:cubicBezTo>
                  <a:pt x="108" y="144"/>
                  <a:pt x="108" y="144"/>
                  <a:pt x="108" y="144"/>
                </a:cubicBezTo>
                <a:cubicBezTo>
                  <a:pt x="108" y="143"/>
                  <a:pt x="108" y="143"/>
                  <a:pt x="108" y="143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2" y="137"/>
                  <a:pt x="112" y="137"/>
                  <a:pt x="112" y="137"/>
                </a:cubicBezTo>
                <a:cubicBezTo>
                  <a:pt x="114" y="135"/>
                  <a:pt x="114" y="135"/>
                  <a:pt x="114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8" y="135"/>
                  <a:pt x="118" y="135"/>
                  <a:pt x="118" y="135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18" y="132"/>
                  <a:pt x="118" y="132"/>
                  <a:pt x="118" y="132"/>
                </a:cubicBezTo>
                <a:cubicBezTo>
                  <a:pt x="116" y="113"/>
                  <a:pt x="116" y="113"/>
                  <a:pt x="116" y="113"/>
                </a:cubicBezTo>
                <a:cubicBezTo>
                  <a:pt x="108" y="101"/>
                  <a:pt x="108" y="101"/>
                  <a:pt x="108" y="101"/>
                </a:cubicBezTo>
                <a:cubicBezTo>
                  <a:pt x="94" y="84"/>
                  <a:pt x="94" y="84"/>
                  <a:pt x="94" y="84"/>
                </a:cubicBezTo>
                <a:cubicBezTo>
                  <a:pt x="93" y="84"/>
                  <a:pt x="93" y="84"/>
                  <a:pt x="93" y="84"/>
                </a:cubicBezTo>
                <a:cubicBezTo>
                  <a:pt x="92" y="73"/>
                  <a:pt x="92" y="73"/>
                  <a:pt x="92" y="73"/>
                </a:cubicBezTo>
                <a:cubicBezTo>
                  <a:pt x="88" y="64"/>
                  <a:pt x="88" y="64"/>
                  <a:pt x="88" y="64"/>
                </a:cubicBezTo>
                <a:cubicBezTo>
                  <a:pt x="88" y="64"/>
                  <a:pt x="88" y="64"/>
                  <a:pt x="88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8" y="63"/>
                  <a:pt x="88" y="63"/>
                  <a:pt x="88" y="63"/>
                </a:cubicBezTo>
                <a:cubicBezTo>
                  <a:pt x="90" y="52"/>
                  <a:pt x="90" y="52"/>
                  <a:pt x="90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2" y="52"/>
                  <a:pt x="92" y="52"/>
                  <a:pt x="92" y="52"/>
                </a:cubicBezTo>
                <a:cubicBezTo>
                  <a:pt x="117" y="51"/>
                  <a:pt x="117" y="51"/>
                  <a:pt x="117" y="51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36" y="42"/>
                  <a:pt x="139" y="40"/>
                  <a:pt x="140" y="38"/>
                </a:cubicBezTo>
                <a:cubicBezTo>
                  <a:pt x="141" y="36"/>
                  <a:pt x="142" y="33"/>
                  <a:pt x="142" y="29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Freeform 16"/>
          <p:cNvSpPr/>
          <p:nvPr/>
        </p:nvSpPr>
        <p:spPr>
          <a:xfrm>
            <a:off x="3435480" y="2951280"/>
            <a:ext cx="520560" cy="930240"/>
          </a:xfrm>
          <a:custGeom>
            <a:avLst/>
            <a:gdLst/>
            <a:ahLst/>
            <a:rect l="l" t="t" r="r" b="b"/>
            <a:pathLst>
              <a:path w="162" h="289">
                <a:moveTo>
                  <a:pt x="54" y="66"/>
                </a:moveTo>
                <a:cubicBezTo>
                  <a:pt x="52" y="65"/>
                  <a:pt x="52" y="65"/>
                  <a:pt x="52" y="65"/>
                </a:cubicBezTo>
                <a:cubicBezTo>
                  <a:pt x="48" y="90"/>
                  <a:pt x="48" y="90"/>
                  <a:pt x="48" y="90"/>
                </a:cubicBezTo>
                <a:cubicBezTo>
                  <a:pt x="54" y="98"/>
                  <a:pt x="54" y="98"/>
                  <a:pt x="54" y="98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2" y="101"/>
                  <a:pt x="62" y="101"/>
                  <a:pt x="62" y="101"/>
                </a:cubicBezTo>
                <a:cubicBezTo>
                  <a:pt x="70" y="108"/>
                  <a:pt x="70" y="108"/>
                  <a:pt x="70" y="108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5"/>
                  <a:pt x="88" y="115"/>
                  <a:pt x="88" y="115"/>
                </a:cubicBezTo>
                <a:cubicBezTo>
                  <a:pt x="93" y="122"/>
                  <a:pt x="93" y="122"/>
                  <a:pt x="93" y="122"/>
                </a:cubicBezTo>
                <a:cubicBezTo>
                  <a:pt x="94" y="122"/>
                  <a:pt x="94" y="122"/>
                  <a:pt x="94" y="122"/>
                </a:cubicBezTo>
                <a:cubicBezTo>
                  <a:pt x="93" y="123"/>
                  <a:pt x="93" y="123"/>
                  <a:pt x="93" y="123"/>
                </a:cubicBezTo>
                <a:cubicBezTo>
                  <a:pt x="89" y="130"/>
                  <a:pt x="89" y="130"/>
                  <a:pt x="89" y="130"/>
                </a:cubicBezTo>
                <a:cubicBezTo>
                  <a:pt x="88" y="130"/>
                  <a:pt x="88" y="132"/>
                  <a:pt x="88" y="136"/>
                </a:cubicBezTo>
                <a:cubicBezTo>
                  <a:pt x="89" y="136"/>
                  <a:pt x="89" y="136"/>
                  <a:pt x="89" y="136"/>
                </a:cubicBezTo>
                <a:cubicBezTo>
                  <a:pt x="89" y="143"/>
                  <a:pt x="89" y="143"/>
                  <a:pt x="89" y="143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2" y="157"/>
                  <a:pt x="82" y="157"/>
                  <a:pt x="82" y="157"/>
                </a:cubicBezTo>
                <a:cubicBezTo>
                  <a:pt x="77" y="156"/>
                  <a:pt x="77" y="156"/>
                  <a:pt x="77" y="156"/>
                </a:cubicBezTo>
                <a:cubicBezTo>
                  <a:pt x="70" y="156"/>
                  <a:pt x="70" y="156"/>
                  <a:pt x="70" y="156"/>
                </a:cubicBezTo>
                <a:cubicBezTo>
                  <a:pt x="64" y="158"/>
                  <a:pt x="64" y="158"/>
                  <a:pt x="64" y="158"/>
                </a:cubicBezTo>
                <a:cubicBezTo>
                  <a:pt x="58" y="164"/>
                  <a:pt x="58" y="164"/>
                  <a:pt x="58" y="164"/>
                </a:cubicBezTo>
                <a:cubicBezTo>
                  <a:pt x="56" y="166"/>
                  <a:pt x="56" y="166"/>
                  <a:pt x="56" y="166"/>
                </a:cubicBezTo>
                <a:cubicBezTo>
                  <a:pt x="65" y="170"/>
                  <a:pt x="65" y="170"/>
                  <a:pt x="65" y="170"/>
                </a:cubicBezTo>
                <a:cubicBezTo>
                  <a:pt x="64" y="172"/>
                  <a:pt x="64" y="172"/>
                  <a:pt x="64" y="172"/>
                </a:cubicBezTo>
                <a:cubicBezTo>
                  <a:pt x="64" y="174"/>
                  <a:pt x="62" y="176"/>
                  <a:pt x="58" y="177"/>
                </a:cubicBezTo>
                <a:cubicBezTo>
                  <a:pt x="53" y="177"/>
                  <a:pt x="53" y="177"/>
                  <a:pt x="53" y="177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35" y="169"/>
                  <a:pt x="35" y="169"/>
                  <a:pt x="35" y="169"/>
                </a:cubicBezTo>
                <a:cubicBezTo>
                  <a:pt x="32" y="169"/>
                  <a:pt x="32" y="169"/>
                  <a:pt x="32" y="169"/>
                </a:cubicBezTo>
                <a:cubicBezTo>
                  <a:pt x="22" y="183"/>
                  <a:pt x="22" y="183"/>
                  <a:pt x="22" y="183"/>
                </a:cubicBezTo>
                <a:cubicBezTo>
                  <a:pt x="20" y="188"/>
                  <a:pt x="20" y="188"/>
                  <a:pt x="20" y="188"/>
                </a:cubicBezTo>
                <a:cubicBezTo>
                  <a:pt x="20" y="196"/>
                  <a:pt x="20" y="196"/>
                  <a:pt x="20" y="196"/>
                </a:cubicBezTo>
                <a:cubicBezTo>
                  <a:pt x="24" y="203"/>
                  <a:pt x="24" y="203"/>
                  <a:pt x="24" y="203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6" y="210"/>
                  <a:pt x="26" y="210"/>
                  <a:pt x="26" y="210"/>
                </a:cubicBezTo>
                <a:cubicBezTo>
                  <a:pt x="26" y="211"/>
                  <a:pt x="26" y="211"/>
                  <a:pt x="26" y="211"/>
                </a:cubicBezTo>
                <a:cubicBezTo>
                  <a:pt x="26" y="220"/>
                  <a:pt x="26" y="220"/>
                  <a:pt x="26" y="220"/>
                </a:cubicBezTo>
                <a:cubicBezTo>
                  <a:pt x="26" y="221"/>
                  <a:pt x="26" y="221"/>
                  <a:pt x="26" y="221"/>
                </a:cubicBezTo>
                <a:cubicBezTo>
                  <a:pt x="27" y="222"/>
                  <a:pt x="27" y="222"/>
                  <a:pt x="27" y="222"/>
                </a:cubicBezTo>
                <a:cubicBezTo>
                  <a:pt x="20" y="223"/>
                  <a:pt x="20" y="223"/>
                  <a:pt x="20" y="223"/>
                </a:cubicBezTo>
                <a:cubicBezTo>
                  <a:pt x="8" y="223"/>
                  <a:pt x="8" y="223"/>
                  <a:pt x="8" y="223"/>
                </a:cubicBezTo>
                <a:cubicBezTo>
                  <a:pt x="3" y="227"/>
                  <a:pt x="3" y="227"/>
                  <a:pt x="3" y="227"/>
                </a:cubicBezTo>
                <a:cubicBezTo>
                  <a:pt x="0" y="231"/>
                  <a:pt x="0" y="231"/>
                  <a:pt x="0" y="231"/>
                </a:cubicBezTo>
                <a:cubicBezTo>
                  <a:pt x="1" y="231"/>
                  <a:pt x="1" y="231"/>
                  <a:pt x="1" y="231"/>
                </a:cubicBezTo>
                <a:cubicBezTo>
                  <a:pt x="3" y="243"/>
                  <a:pt x="3" y="243"/>
                  <a:pt x="3" y="243"/>
                </a:cubicBezTo>
                <a:cubicBezTo>
                  <a:pt x="4" y="243"/>
                  <a:pt x="4" y="243"/>
                  <a:pt x="4" y="243"/>
                </a:cubicBezTo>
                <a:cubicBezTo>
                  <a:pt x="4" y="248"/>
                  <a:pt x="4" y="248"/>
                  <a:pt x="4" y="248"/>
                </a:cubicBezTo>
                <a:cubicBezTo>
                  <a:pt x="6" y="254"/>
                  <a:pt x="6" y="254"/>
                  <a:pt x="6" y="254"/>
                </a:cubicBezTo>
                <a:cubicBezTo>
                  <a:pt x="15" y="259"/>
                  <a:pt x="15" y="259"/>
                  <a:pt x="15" y="259"/>
                </a:cubicBezTo>
                <a:cubicBezTo>
                  <a:pt x="27" y="256"/>
                  <a:pt x="27" y="256"/>
                  <a:pt x="27" y="256"/>
                </a:cubicBezTo>
                <a:cubicBezTo>
                  <a:pt x="33" y="252"/>
                  <a:pt x="33" y="252"/>
                  <a:pt x="33" y="252"/>
                </a:cubicBezTo>
                <a:cubicBezTo>
                  <a:pt x="34" y="252"/>
                  <a:pt x="34" y="252"/>
                  <a:pt x="34" y="252"/>
                </a:cubicBezTo>
                <a:cubicBezTo>
                  <a:pt x="40" y="252"/>
                  <a:pt x="40" y="252"/>
                  <a:pt x="40" y="252"/>
                </a:cubicBezTo>
                <a:cubicBezTo>
                  <a:pt x="43" y="260"/>
                  <a:pt x="43" y="260"/>
                  <a:pt x="43" y="260"/>
                </a:cubicBezTo>
                <a:cubicBezTo>
                  <a:pt x="45" y="262"/>
                  <a:pt x="46" y="264"/>
                  <a:pt x="47" y="266"/>
                </a:cubicBezTo>
                <a:cubicBezTo>
                  <a:pt x="50" y="266"/>
                  <a:pt x="50" y="266"/>
                  <a:pt x="50" y="266"/>
                </a:cubicBezTo>
                <a:cubicBezTo>
                  <a:pt x="51" y="266"/>
                  <a:pt x="51" y="266"/>
                  <a:pt x="51" y="266"/>
                </a:cubicBezTo>
                <a:cubicBezTo>
                  <a:pt x="52" y="266"/>
                  <a:pt x="52" y="266"/>
                  <a:pt x="52" y="266"/>
                </a:cubicBezTo>
                <a:cubicBezTo>
                  <a:pt x="52" y="265"/>
                  <a:pt x="52" y="265"/>
                  <a:pt x="52" y="265"/>
                </a:cubicBezTo>
                <a:cubicBezTo>
                  <a:pt x="58" y="260"/>
                  <a:pt x="58" y="260"/>
                  <a:pt x="58" y="260"/>
                </a:cubicBezTo>
                <a:cubicBezTo>
                  <a:pt x="63" y="270"/>
                  <a:pt x="63" y="270"/>
                  <a:pt x="63" y="270"/>
                </a:cubicBezTo>
                <a:cubicBezTo>
                  <a:pt x="68" y="273"/>
                  <a:pt x="68" y="273"/>
                  <a:pt x="68" y="273"/>
                </a:cubicBezTo>
                <a:cubicBezTo>
                  <a:pt x="76" y="273"/>
                  <a:pt x="76" y="273"/>
                  <a:pt x="76" y="273"/>
                </a:cubicBezTo>
                <a:cubicBezTo>
                  <a:pt x="82" y="272"/>
                  <a:pt x="82" y="272"/>
                  <a:pt x="82" y="272"/>
                </a:cubicBezTo>
                <a:cubicBezTo>
                  <a:pt x="84" y="272"/>
                  <a:pt x="84" y="272"/>
                  <a:pt x="84" y="272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5"/>
                  <a:pt x="98" y="275"/>
                  <a:pt x="98" y="275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9"/>
                  <a:pt x="104" y="279"/>
                  <a:pt x="104" y="279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3" y="287"/>
                  <a:pt x="113" y="287"/>
                  <a:pt x="113" y="287"/>
                </a:cubicBezTo>
                <a:cubicBezTo>
                  <a:pt x="117" y="289"/>
                  <a:pt x="117" y="289"/>
                  <a:pt x="117" y="289"/>
                </a:cubicBezTo>
                <a:cubicBezTo>
                  <a:pt x="124" y="288"/>
                  <a:pt x="124" y="288"/>
                  <a:pt x="124" y="288"/>
                </a:cubicBezTo>
                <a:cubicBezTo>
                  <a:pt x="124" y="280"/>
                  <a:pt x="124" y="280"/>
                  <a:pt x="124" y="280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18" y="263"/>
                  <a:pt x="118" y="263"/>
                  <a:pt x="118" y="263"/>
                </a:cubicBezTo>
                <a:cubicBezTo>
                  <a:pt x="123" y="258"/>
                  <a:pt x="123" y="258"/>
                  <a:pt x="123" y="258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9" y="256"/>
                  <a:pt x="129" y="256"/>
                  <a:pt x="129" y="256"/>
                </a:cubicBezTo>
                <a:cubicBezTo>
                  <a:pt x="134" y="256"/>
                  <a:pt x="134" y="256"/>
                  <a:pt x="134" y="256"/>
                </a:cubicBezTo>
                <a:cubicBezTo>
                  <a:pt x="136" y="254"/>
                  <a:pt x="136" y="254"/>
                  <a:pt x="136" y="254"/>
                </a:cubicBezTo>
                <a:cubicBezTo>
                  <a:pt x="132" y="250"/>
                  <a:pt x="132" y="250"/>
                  <a:pt x="132" y="250"/>
                </a:cubicBezTo>
                <a:cubicBezTo>
                  <a:pt x="121" y="242"/>
                  <a:pt x="121" y="242"/>
                  <a:pt x="121" y="242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7" y="237"/>
                  <a:pt x="117" y="237"/>
                  <a:pt x="117" y="237"/>
                </a:cubicBezTo>
                <a:cubicBezTo>
                  <a:pt x="118" y="236"/>
                  <a:pt x="118" y="236"/>
                  <a:pt x="118" y="236"/>
                </a:cubicBezTo>
                <a:cubicBezTo>
                  <a:pt x="121" y="230"/>
                  <a:pt x="121" y="230"/>
                  <a:pt x="121" y="230"/>
                </a:cubicBezTo>
                <a:cubicBezTo>
                  <a:pt x="122" y="231"/>
                  <a:pt x="122" y="231"/>
                  <a:pt x="122" y="231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51" y="232"/>
                  <a:pt x="151" y="232"/>
                  <a:pt x="151" y="232"/>
                </a:cubicBezTo>
                <a:cubicBezTo>
                  <a:pt x="151" y="233"/>
                  <a:pt x="151" y="233"/>
                  <a:pt x="151" y="233"/>
                </a:cubicBezTo>
                <a:cubicBezTo>
                  <a:pt x="152" y="233"/>
                  <a:pt x="152" y="233"/>
                  <a:pt x="152" y="233"/>
                </a:cubicBezTo>
                <a:cubicBezTo>
                  <a:pt x="158" y="235"/>
                  <a:pt x="158" y="235"/>
                  <a:pt x="158" y="235"/>
                </a:cubicBezTo>
                <a:cubicBezTo>
                  <a:pt x="162" y="231"/>
                  <a:pt x="162" y="231"/>
                  <a:pt x="162" y="231"/>
                </a:cubicBezTo>
                <a:cubicBezTo>
                  <a:pt x="160" y="219"/>
                  <a:pt x="160" y="219"/>
                  <a:pt x="160" y="219"/>
                </a:cubicBezTo>
                <a:cubicBezTo>
                  <a:pt x="152" y="214"/>
                  <a:pt x="152" y="214"/>
                  <a:pt x="152" y="214"/>
                </a:cubicBezTo>
                <a:cubicBezTo>
                  <a:pt x="146" y="210"/>
                  <a:pt x="144" y="202"/>
                  <a:pt x="145" y="187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7" y="184"/>
                  <a:pt x="137" y="184"/>
                  <a:pt x="137" y="184"/>
                </a:cubicBezTo>
                <a:cubicBezTo>
                  <a:pt x="137" y="183"/>
                  <a:pt x="137" y="183"/>
                  <a:pt x="137" y="183"/>
                </a:cubicBezTo>
                <a:cubicBezTo>
                  <a:pt x="137" y="182"/>
                  <a:pt x="137" y="182"/>
                  <a:pt x="137" y="182"/>
                </a:cubicBezTo>
                <a:cubicBezTo>
                  <a:pt x="136" y="172"/>
                  <a:pt x="136" y="172"/>
                  <a:pt x="136" y="172"/>
                </a:cubicBezTo>
                <a:cubicBezTo>
                  <a:pt x="144" y="131"/>
                  <a:pt x="144" y="131"/>
                  <a:pt x="144" y="131"/>
                </a:cubicBezTo>
                <a:cubicBezTo>
                  <a:pt x="141" y="119"/>
                  <a:pt x="139" y="111"/>
                  <a:pt x="139" y="107"/>
                </a:cubicBezTo>
                <a:cubicBezTo>
                  <a:pt x="138" y="95"/>
                  <a:pt x="138" y="95"/>
                  <a:pt x="138" y="95"/>
                </a:cubicBezTo>
                <a:cubicBezTo>
                  <a:pt x="139" y="82"/>
                  <a:pt x="139" y="82"/>
                  <a:pt x="139" y="82"/>
                </a:cubicBezTo>
                <a:cubicBezTo>
                  <a:pt x="139" y="81"/>
                  <a:pt x="139" y="81"/>
                  <a:pt x="139" y="81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8" y="74"/>
                  <a:pt x="148" y="74"/>
                  <a:pt x="148" y="74"/>
                </a:cubicBezTo>
                <a:cubicBezTo>
                  <a:pt x="148" y="68"/>
                  <a:pt x="148" y="68"/>
                  <a:pt x="148" y="68"/>
                </a:cubicBezTo>
                <a:cubicBezTo>
                  <a:pt x="148" y="66"/>
                  <a:pt x="147" y="64"/>
                  <a:pt x="145" y="61"/>
                </a:cubicBezTo>
                <a:cubicBezTo>
                  <a:pt x="140" y="55"/>
                  <a:pt x="140" y="55"/>
                  <a:pt x="140" y="55"/>
                </a:cubicBezTo>
                <a:cubicBezTo>
                  <a:pt x="139" y="55"/>
                  <a:pt x="139" y="55"/>
                  <a:pt x="139" y="55"/>
                </a:cubicBezTo>
                <a:cubicBezTo>
                  <a:pt x="139" y="54"/>
                  <a:pt x="139" y="54"/>
                  <a:pt x="139" y="5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49" y="30"/>
                  <a:pt x="149" y="30"/>
                  <a:pt x="149" y="30"/>
                </a:cubicBezTo>
                <a:cubicBezTo>
                  <a:pt x="149" y="24"/>
                  <a:pt x="149" y="24"/>
                  <a:pt x="149" y="24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5" y="17"/>
                  <a:pt x="145" y="17"/>
                  <a:pt x="145" y="17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1" y="10"/>
                  <a:pt x="151" y="10"/>
                  <a:pt x="151" y="10"/>
                </a:cubicBezTo>
                <a:cubicBezTo>
                  <a:pt x="156" y="6"/>
                  <a:pt x="156" y="6"/>
                  <a:pt x="156" y="6"/>
                </a:cubicBezTo>
                <a:cubicBezTo>
                  <a:pt x="156" y="0"/>
                  <a:pt x="156" y="0"/>
                  <a:pt x="156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6" y="9"/>
                  <a:pt x="146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34" y="5"/>
                  <a:pt x="134" y="5"/>
                  <a:pt x="134" y="5"/>
                </a:cubicBezTo>
                <a:cubicBezTo>
                  <a:pt x="128" y="4"/>
                  <a:pt x="128" y="4"/>
                  <a:pt x="128" y="4"/>
                </a:cubicBezTo>
                <a:cubicBezTo>
                  <a:pt x="130" y="14"/>
                  <a:pt x="130" y="14"/>
                  <a:pt x="130" y="14"/>
                </a:cubicBezTo>
                <a:cubicBezTo>
                  <a:pt x="122" y="16"/>
                  <a:pt x="122" y="16"/>
                  <a:pt x="122" y="16"/>
                </a:cubicBezTo>
                <a:cubicBezTo>
                  <a:pt x="109" y="23"/>
                  <a:pt x="109" y="23"/>
                  <a:pt x="109" y="23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9"/>
                  <a:pt x="105" y="29"/>
                  <a:pt x="105" y="29"/>
                </a:cubicBezTo>
                <a:cubicBezTo>
                  <a:pt x="104" y="29"/>
                  <a:pt x="104" y="29"/>
                  <a:pt x="104" y="29"/>
                </a:cubicBezTo>
                <a:cubicBezTo>
                  <a:pt x="98" y="35"/>
                  <a:pt x="98" y="35"/>
                  <a:pt x="98" y="35"/>
                </a:cubicBezTo>
                <a:cubicBezTo>
                  <a:pt x="96" y="44"/>
                  <a:pt x="96" y="44"/>
                  <a:pt x="96" y="44"/>
                </a:cubicBezTo>
                <a:cubicBezTo>
                  <a:pt x="96" y="45"/>
                  <a:pt x="96" y="45"/>
                  <a:pt x="96" y="45"/>
                </a:cubicBezTo>
                <a:cubicBezTo>
                  <a:pt x="93" y="59"/>
                  <a:pt x="93" y="59"/>
                  <a:pt x="93" y="59"/>
                </a:cubicBezTo>
                <a:cubicBezTo>
                  <a:pt x="93" y="59"/>
                  <a:pt x="93" y="59"/>
                  <a:pt x="93" y="59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6"/>
                  <a:pt x="92" y="66"/>
                  <a:pt x="92" y="66"/>
                </a:cubicBezTo>
                <a:cubicBezTo>
                  <a:pt x="92" y="66"/>
                  <a:pt x="92" y="66"/>
                  <a:pt x="92" y="66"/>
                </a:cubicBezTo>
                <a:cubicBezTo>
                  <a:pt x="91" y="66"/>
                  <a:pt x="91" y="66"/>
                  <a:pt x="91" y="66"/>
                </a:cubicBezTo>
                <a:cubicBezTo>
                  <a:pt x="87" y="72"/>
                  <a:pt x="87" y="72"/>
                  <a:pt x="87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3"/>
                  <a:pt x="86" y="73"/>
                  <a:pt x="86" y="73"/>
                </a:cubicBezTo>
                <a:cubicBezTo>
                  <a:pt x="86" y="73"/>
                  <a:pt x="86" y="73"/>
                  <a:pt x="86" y="73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61" y="69"/>
                  <a:pt x="61" y="69"/>
                  <a:pt x="61" y="69"/>
                </a:cubicBezTo>
                <a:cubicBezTo>
                  <a:pt x="61" y="69"/>
                  <a:pt x="61" y="69"/>
                  <a:pt x="61" y="69"/>
                </a:cubicBezTo>
                <a:lnTo>
                  <a:pt x="54" y="66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Freeform 17"/>
          <p:cNvSpPr/>
          <p:nvPr/>
        </p:nvSpPr>
        <p:spPr>
          <a:xfrm>
            <a:off x="3886200" y="2778120"/>
            <a:ext cx="349200" cy="762120"/>
          </a:xfrm>
          <a:custGeom>
            <a:avLst/>
            <a:gdLst>
              <a:gd name="textAreaLeft" fmla="*/ 0 w 349200"/>
              <a:gd name="textAreaRight" fmla="*/ 349560 w 3492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08" h="237">
                <a:moveTo>
                  <a:pt x="101" y="12"/>
                </a:moveTo>
                <a:cubicBezTo>
                  <a:pt x="102" y="10"/>
                  <a:pt x="102" y="10"/>
                  <a:pt x="102" y="10"/>
                </a:cubicBezTo>
                <a:cubicBezTo>
                  <a:pt x="100" y="4"/>
                  <a:pt x="100" y="4"/>
                  <a:pt x="100" y="4"/>
                </a:cubicBezTo>
                <a:cubicBezTo>
                  <a:pt x="97" y="0"/>
                  <a:pt x="97" y="0"/>
                  <a:pt x="97" y="0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7" y="12"/>
                  <a:pt x="87" y="12"/>
                  <a:pt x="87" y="12"/>
                </a:cubicBezTo>
                <a:cubicBezTo>
                  <a:pt x="78" y="15"/>
                  <a:pt x="78" y="15"/>
                  <a:pt x="78" y="15"/>
                </a:cubicBezTo>
                <a:cubicBezTo>
                  <a:pt x="77" y="15"/>
                  <a:pt x="77" y="15"/>
                  <a:pt x="77" y="15"/>
                </a:cubicBezTo>
                <a:cubicBezTo>
                  <a:pt x="68" y="14"/>
                  <a:pt x="68" y="14"/>
                  <a:pt x="68" y="14"/>
                </a:cubicBezTo>
                <a:cubicBezTo>
                  <a:pt x="62" y="15"/>
                  <a:pt x="62" y="15"/>
                  <a:pt x="62" y="15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56" y="23"/>
                  <a:pt x="56" y="23"/>
                  <a:pt x="56" y="23"/>
                </a:cubicBezTo>
                <a:cubicBezTo>
                  <a:pt x="56" y="24"/>
                  <a:pt x="56" y="24"/>
                  <a:pt x="56" y="24"/>
                </a:cubicBezTo>
                <a:cubicBezTo>
                  <a:pt x="55" y="24"/>
                  <a:pt x="55" y="24"/>
                  <a:pt x="55" y="24"/>
                </a:cubicBezTo>
                <a:cubicBezTo>
                  <a:pt x="47" y="23"/>
                  <a:pt x="47" y="23"/>
                  <a:pt x="47" y="23"/>
                </a:cubicBezTo>
                <a:cubicBezTo>
                  <a:pt x="46" y="24"/>
                  <a:pt x="46" y="24"/>
                  <a:pt x="46" y="24"/>
                </a:cubicBezTo>
                <a:cubicBezTo>
                  <a:pt x="46" y="32"/>
                  <a:pt x="46" y="32"/>
                  <a:pt x="46" y="32"/>
                </a:cubicBezTo>
                <a:cubicBezTo>
                  <a:pt x="46" y="32"/>
                  <a:pt x="46" y="32"/>
                  <a:pt x="46" y="32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34" y="46"/>
                  <a:pt x="34" y="46"/>
                  <a:pt x="34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25" y="48"/>
                  <a:pt x="25" y="48"/>
                  <a:pt x="25" y="48"/>
                </a:cubicBezTo>
                <a:cubicBezTo>
                  <a:pt x="20" y="53"/>
                  <a:pt x="20" y="53"/>
                  <a:pt x="20" y="53"/>
                </a:cubicBezTo>
                <a:cubicBezTo>
                  <a:pt x="21" y="60"/>
                  <a:pt x="21" y="60"/>
                  <a:pt x="21" y="60"/>
                </a:cubicBezTo>
                <a:cubicBezTo>
                  <a:pt x="21" y="62"/>
                  <a:pt x="21" y="62"/>
                  <a:pt x="21" y="62"/>
                </a:cubicBezTo>
                <a:cubicBezTo>
                  <a:pt x="20" y="62"/>
                  <a:pt x="20" y="62"/>
                  <a:pt x="20" y="62"/>
                </a:cubicBezTo>
                <a:cubicBezTo>
                  <a:pt x="14" y="68"/>
                  <a:pt x="14" y="68"/>
                  <a:pt x="14" y="68"/>
                </a:cubicBezTo>
                <a:cubicBezTo>
                  <a:pt x="10" y="72"/>
                  <a:pt x="10" y="72"/>
                  <a:pt x="10" y="72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6"/>
                  <a:pt x="13" y="86"/>
                  <a:pt x="13" y="86"/>
                </a:cubicBezTo>
                <a:cubicBezTo>
                  <a:pt x="8" y="92"/>
                  <a:pt x="8" y="92"/>
                  <a:pt x="8" y="92"/>
                </a:cubicBezTo>
                <a:cubicBezTo>
                  <a:pt x="8" y="92"/>
                  <a:pt x="8" y="92"/>
                  <a:pt x="8" y="92"/>
                </a:cubicBezTo>
                <a:cubicBezTo>
                  <a:pt x="2" y="99"/>
                  <a:pt x="2" y="99"/>
                  <a:pt x="2" y="99"/>
                </a:cubicBezTo>
                <a:cubicBezTo>
                  <a:pt x="3" y="107"/>
                  <a:pt x="3" y="107"/>
                  <a:pt x="3" y="107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11" y="116"/>
                  <a:pt x="12" y="120"/>
                  <a:pt x="12" y="122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1" y="132"/>
                  <a:pt x="11" y="132"/>
                  <a:pt x="11" y="132"/>
                </a:cubicBezTo>
                <a:cubicBezTo>
                  <a:pt x="3" y="138"/>
                  <a:pt x="3" y="138"/>
                  <a:pt x="3" y="138"/>
                </a:cubicBezTo>
                <a:cubicBezTo>
                  <a:pt x="2" y="150"/>
                  <a:pt x="2" y="150"/>
                  <a:pt x="2" y="150"/>
                </a:cubicBezTo>
                <a:cubicBezTo>
                  <a:pt x="3" y="162"/>
                  <a:pt x="3" y="162"/>
                  <a:pt x="3" y="162"/>
                </a:cubicBezTo>
                <a:cubicBezTo>
                  <a:pt x="3" y="166"/>
                  <a:pt x="5" y="173"/>
                  <a:pt x="9" y="184"/>
                </a:cubicBezTo>
                <a:cubicBezTo>
                  <a:pt x="9" y="185"/>
                  <a:pt x="9" y="185"/>
                  <a:pt x="9" y="185"/>
                </a:cubicBezTo>
                <a:cubicBezTo>
                  <a:pt x="9" y="186"/>
                  <a:pt x="9" y="186"/>
                  <a:pt x="9" y="186"/>
                </a:cubicBezTo>
                <a:cubicBezTo>
                  <a:pt x="0" y="226"/>
                  <a:pt x="0" y="226"/>
                  <a:pt x="0" y="226"/>
                </a:cubicBezTo>
                <a:cubicBezTo>
                  <a:pt x="1" y="234"/>
                  <a:pt x="1" y="234"/>
                  <a:pt x="1" y="234"/>
                </a:cubicBezTo>
                <a:cubicBezTo>
                  <a:pt x="7" y="237"/>
                  <a:pt x="7" y="237"/>
                  <a:pt x="7" y="237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7" y="228"/>
                  <a:pt x="17" y="228"/>
                  <a:pt x="17" y="228"/>
                </a:cubicBezTo>
                <a:cubicBezTo>
                  <a:pt x="48" y="216"/>
                  <a:pt x="48" y="216"/>
                  <a:pt x="48" y="216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7" y="208"/>
                  <a:pt x="57" y="208"/>
                  <a:pt x="57" y="208"/>
                </a:cubicBezTo>
                <a:cubicBezTo>
                  <a:pt x="58" y="208"/>
                  <a:pt x="58" y="208"/>
                  <a:pt x="58" y="208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8" y="210"/>
                  <a:pt x="83" y="208"/>
                  <a:pt x="90" y="204"/>
                </a:cubicBezTo>
                <a:cubicBezTo>
                  <a:pt x="90" y="196"/>
                  <a:pt x="90" y="196"/>
                  <a:pt x="90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6" y="191"/>
                  <a:pt x="96" y="191"/>
                  <a:pt x="96" y="191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5"/>
                  <a:pt x="95" y="185"/>
                  <a:pt x="95" y="185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7" y="182"/>
                  <a:pt x="97" y="181"/>
                  <a:pt x="96" y="180"/>
                </a:cubicBezTo>
                <a:cubicBezTo>
                  <a:pt x="94" y="177"/>
                  <a:pt x="95" y="174"/>
                  <a:pt x="97" y="170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8" y="162"/>
                  <a:pt x="98" y="162"/>
                  <a:pt x="98" y="162"/>
                </a:cubicBezTo>
                <a:cubicBezTo>
                  <a:pt x="92" y="155"/>
                  <a:pt x="92" y="155"/>
                  <a:pt x="92" y="155"/>
                </a:cubicBezTo>
                <a:cubicBezTo>
                  <a:pt x="90" y="153"/>
                  <a:pt x="89" y="150"/>
                  <a:pt x="91" y="147"/>
                </a:cubicBezTo>
                <a:cubicBezTo>
                  <a:pt x="92" y="145"/>
                  <a:pt x="93" y="142"/>
                  <a:pt x="95" y="140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101" y="124"/>
                  <a:pt x="101" y="124"/>
                  <a:pt x="101" y="124"/>
                </a:cubicBezTo>
                <a:cubicBezTo>
                  <a:pt x="102" y="120"/>
                  <a:pt x="102" y="120"/>
                  <a:pt x="102" y="120"/>
                </a:cubicBezTo>
                <a:cubicBezTo>
                  <a:pt x="108" y="108"/>
                  <a:pt x="108" y="108"/>
                  <a:pt x="108" y="108"/>
                </a:cubicBezTo>
                <a:cubicBezTo>
                  <a:pt x="104" y="100"/>
                  <a:pt x="104" y="100"/>
                  <a:pt x="104" y="100"/>
                </a:cubicBezTo>
                <a:cubicBezTo>
                  <a:pt x="92" y="92"/>
                  <a:pt x="92" y="92"/>
                  <a:pt x="92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4"/>
                  <a:pt x="88" y="84"/>
                  <a:pt x="88" y="84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2"/>
                  <a:pt x="92" y="60"/>
                  <a:pt x="94" y="58"/>
                </a:cubicBezTo>
                <a:cubicBezTo>
                  <a:pt x="94" y="58"/>
                  <a:pt x="96" y="57"/>
                  <a:pt x="97" y="57"/>
                </a:cubicBezTo>
                <a:cubicBezTo>
                  <a:pt x="104" y="56"/>
                  <a:pt x="104" y="56"/>
                  <a:pt x="104" y="56"/>
                </a:cubicBezTo>
                <a:cubicBezTo>
                  <a:pt x="106" y="51"/>
                  <a:pt x="106" y="51"/>
                  <a:pt x="106" y="51"/>
                </a:cubicBezTo>
                <a:cubicBezTo>
                  <a:pt x="108" y="38"/>
                  <a:pt x="108" y="38"/>
                  <a:pt x="108" y="38"/>
                </a:cubicBezTo>
                <a:cubicBezTo>
                  <a:pt x="107" y="33"/>
                  <a:pt x="107" y="33"/>
                  <a:pt x="107" y="33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92" y="28"/>
                  <a:pt x="92" y="28"/>
                  <a:pt x="92" y="28"/>
                </a:cubicBezTo>
                <a:cubicBezTo>
                  <a:pt x="91" y="27"/>
                  <a:pt x="91" y="27"/>
                  <a:pt x="91" y="27"/>
                </a:cubicBezTo>
                <a:cubicBezTo>
                  <a:pt x="91" y="26"/>
                  <a:pt x="91" y="26"/>
                  <a:pt x="91" y="26"/>
                </a:cubicBezTo>
                <a:cubicBezTo>
                  <a:pt x="91" y="26"/>
                  <a:pt x="91" y="26"/>
                  <a:pt x="91" y="2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4"/>
                  <a:pt x="90" y="14"/>
                  <a:pt x="90" y="14"/>
                </a:cubicBezTo>
                <a:lnTo>
                  <a:pt x="101" y="12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Freeform 18"/>
          <p:cNvSpPr/>
          <p:nvPr/>
        </p:nvSpPr>
        <p:spPr>
          <a:xfrm>
            <a:off x="3797280" y="4076640"/>
            <a:ext cx="555480" cy="641520"/>
          </a:xfrm>
          <a:custGeom>
            <a:avLst/>
            <a:gdLst>
              <a:gd name="textAreaLeft" fmla="*/ 0 w 555480"/>
              <a:gd name="textAreaRight" fmla="*/ 555840 w 555480"/>
              <a:gd name="textAreaTop" fmla="*/ 0 h 641520"/>
              <a:gd name="textAreaBottom" fmla="*/ 641520 h 641520"/>
            </a:gdLst>
            <a:ahLst/>
            <a:rect l="textAreaLeft" t="textAreaTop" r="textAreaRight" b="textAreaBottom"/>
            <a:pathLst>
              <a:path w="173" h="200">
                <a:moveTo>
                  <a:pt x="150" y="34"/>
                </a:moveTo>
                <a:cubicBezTo>
                  <a:pt x="150" y="34"/>
                  <a:pt x="150" y="34"/>
                  <a:pt x="150" y="34"/>
                </a:cubicBezTo>
                <a:cubicBezTo>
                  <a:pt x="150" y="34"/>
                  <a:pt x="150" y="34"/>
                  <a:pt x="150" y="34"/>
                </a:cubicBezTo>
                <a:cubicBezTo>
                  <a:pt x="150" y="33"/>
                  <a:pt x="150" y="33"/>
                  <a:pt x="150" y="33"/>
                </a:cubicBezTo>
                <a:cubicBezTo>
                  <a:pt x="146" y="27"/>
                  <a:pt x="146" y="27"/>
                  <a:pt x="146" y="27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7" y="16"/>
                  <a:pt x="147" y="16"/>
                  <a:pt x="147" y="16"/>
                </a:cubicBezTo>
                <a:cubicBezTo>
                  <a:pt x="147" y="15"/>
                  <a:pt x="146" y="14"/>
                  <a:pt x="143" y="12"/>
                </a:cubicBezTo>
                <a:cubicBezTo>
                  <a:pt x="141" y="12"/>
                  <a:pt x="141" y="12"/>
                  <a:pt x="141" y="12"/>
                </a:cubicBezTo>
                <a:cubicBezTo>
                  <a:pt x="137" y="17"/>
                  <a:pt x="137" y="17"/>
                  <a:pt x="137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26" y="22"/>
                  <a:pt x="126" y="22"/>
                  <a:pt x="126" y="22"/>
                </a:cubicBezTo>
                <a:cubicBezTo>
                  <a:pt x="125" y="15"/>
                  <a:pt x="125" y="15"/>
                  <a:pt x="125" y="15"/>
                </a:cubicBezTo>
                <a:cubicBezTo>
                  <a:pt x="125" y="14"/>
                  <a:pt x="125" y="14"/>
                  <a:pt x="125" y="14"/>
                </a:cubicBezTo>
                <a:cubicBezTo>
                  <a:pt x="126" y="11"/>
                  <a:pt x="126" y="11"/>
                  <a:pt x="126" y="11"/>
                </a:cubicBezTo>
                <a:cubicBezTo>
                  <a:pt x="125" y="7"/>
                  <a:pt x="125" y="7"/>
                  <a:pt x="125" y="7"/>
                </a:cubicBezTo>
                <a:cubicBezTo>
                  <a:pt x="124" y="6"/>
                  <a:pt x="124" y="6"/>
                  <a:pt x="124" y="6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09" y="21"/>
                  <a:pt x="109" y="21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7" y="22"/>
                  <a:pt x="107" y="22"/>
                  <a:pt x="107" y="22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99" y="16"/>
                  <a:pt x="99" y="16"/>
                  <a:pt x="99" y="16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3"/>
                  <a:pt x="92" y="13"/>
                  <a:pt x="92" y="13"/>
                </a:cubicBezTo>
                <a:cubicBezTo>
                  <a:pt x="88" y="10"/>
                  <a:pt x="88" y="10"/>
                  <a:pt x="88" y="10"/>
                </a:cubicBezTo>
                <a:cubicBezTo>
                  <a:pt x="75" y="8"/>
                  <a:pt x="75" y="8"/>
                  <a:pt x="75" y="8"/>
                </a:cubicBezTo>
                <a:cubicBezTo>
                  <a:pt x="75" y="8"/>
                  <a:pt x="75" y="8"/>
                  <a:pt x="75" y="8"/>
                </a:cubicBezTo>
                <a:cubicBezTo>
                  <a:pt x="74" y="8"/>
                  <a:pt x="74" y="8"/>
                  <a:pt x="74" y="8"/>
                </a:cubicBezTo>
                <a:cubicBezTo>
                  <a:pt x="66" y="3"/>
                  <a:pt x="66" y="3"/>
                  <a:pt x="66" y="3"/>
                </a:cubicBezTo>
                <a:cubicBezTo>
                  <a:pt x="66" y="4"/>
                  <a:pt x="66" y="4"/>
                  <a:pt x="66" y="4"/>
                </a:cubicBezTo>
                <a:cubicBezTo>
                  <a:pt x="59" y="0"/>
                  <a:pt x="59" y="0"/>
                  <a:pt x="59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15"/>
                  <a:pt x="50" y="15"/>
                  <a:pt x="50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0" y="16"/>
                  <a:pt x="40" y="16"/>
                  <a:pt x="40" y="16"/>
                </a:cubicBezTo>
                <a:cubicBezTo>
                  <a:pt x="35" y="16"/>
                  <a:pt x="35" y="16"/>
                  <a:pt x="35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0" y="12"/>
                  <a:pt x="30" y="12"/>
                  <a:pt x="30" y="12"/>
                </a:cubicBezTo>
                <a:cubicBezTo>
                  <a:pt x="22" y="16"/>
                  <a:pt x="22" y="16"/>
                  <a:pt x="22" y="16"/>
                </a:cubicBezTo>
                <a:cubicBezTo>
                  <a:pt x="14" y="26"/>
                  <a:pt x="14" y="26"/>
                  <a:pt x="14" y="26"/>
                </a:cubicBezTo>
                <a:cubicBezTo>
                  <a:pt x="8" y="43"/>
                  <a:pt x="8" y="43"/>
                  <a:pt x="8" y="43"/>
                </a:cubicBezTo>
                <a:cubicBezTo>
                  <a:pt x="10" y="62"/>
                  <a:pt x="10" y="62"/>
                  <a:pt x="10" y="62"/>
                </a:cubicBezTo>
                <a:cubicBezTo>
                  <a:pt x="13" y="72"/>
                  <a:pt x="13" y="72"/>
                  <a:pt x="13" y="72"/>
                </a:cubicBezTo>
                <a:cubicBezTo>
                  <a:pt x="13" y="74"/>
                  <a:pt x="13" y="74"/>
                  <a:pt x="13" y="74"/>
                </a:cubicBezTo>
                <a:cubicBezTo>
                  <a:pt x="12" y="75"/>
                  <a:pt x="12" y="75"/>
                  <a:pt x="12" y="75"/>
                </a:cubicBezTo>
                <a:cubicBezTo>
                  <a:pt x="10" y="76"/>
                  <a:pt x="9" y="79"/>
                  <a:pt x="9" y="83"/>
                </a:cubicBezTo>
                <a:cubicBezTo>
                  <a:pt x="13" y="99"/>
                  <a:pt x="13" y="99"/>
                  <a:pt x="13" y="99"/>
                </a:cubicBezTo>
                <a:cubicBezTo>
                  <a:pt x="12" y="100"/>
                  <a:pt x="12" y="100"/>
                  <a:pt x="12" y="100"/>
                </a:cubicBezTo>
                <a:cubicBezTo>
                  <a:pt x="5" y="104"/>
                  <a:pt x="1" y="107"/>
                  <a:pt x="1" y="109"/>
                </a:cubicBezTo>
                <a:cubicBezTo>
                  <a:pt x="0" y="114"/>
                  <a:pt x="0" y="114"/>
                  <a:pt x="0" y="114"/>
                </a:cubicBezTo>
                <a:cubicBezTo>
                  <a:pt x="7" y="112"/>
                  <a:pt x="7" y="112"/>
                  <a:pt x="7" y="112"/>
                </a:cubicBezTo>
                <a:cubicBezTo>
                  <a:pt x="7" y="111"/>
                  <a:pt x="7" y="111"/>
                  <a:pt x="7" y="111"/>
                </a:cubicBezTo>
                <a:cubicBezTo>
                  <a:pt x="8" y="111"/>
                  <a:pt x="8" y="111"/>
                  <a:pt x="8" y="111"/>
                </a:cubicBezTo>
                <a:cubicBezTo>
                  <a:pt x="12" y="111"/>
                  <a:pt x="15" y="113"/>
                  <a:pt x="16" y="117"/>
                </a:cubicBezTo>
                <a:cubicBezTo>
                  <a:pt x="17" y="126"/>
                  <a:pt x="17" y="126"/>
                  <a:pt x="17" y="126"/>
                </a:cubicBezTo>
                <a:cubicBezTo>
                  <a:pt x="16" y="127"/>
                  <a:pt x="16" y="127"/>
                  <a:pt x="16" y="127"/>
                </a:cubicBezTo>
                <a:cubicBezTo>
                  <a:pt x="16" y="128"/>
                  <a:pt x="16" y="128"/>
                  <a:pt x="16" y="128"/>
                </a:cubicBezTo>
                <a:cubicBezTo>
                  <a:pt x="14" y="129"/>
                  <a:pt x="14" y="130"/>
                  <a:pt x="14" y="132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13" y="144"/>
                  <a:pt x="14" y="146"/>
                  <a:pt x="16" y="148"/>
                </a:cubicBezTo>
                <a:cubicBezTo>
                  <a:pt x="24" y="158"/>
                  <a:pt x="24" y="158"/>
                  <a:pt x="24" y="158"/>
                </a:cubicBezTo>
                <a:cubicBezTo>
                  <a:pt x="32" y="152"/>
                  <a:pt x="32" y="152"/>
                  <a:pt x="32" y="152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2"/>
                  <a:pt x="38" y="152"/>
                  <a:pt x="38" y="152"/>
                </a:cubicBezTo>
                <a:cubicBezTo>
                  <a:pt x="42" y="153"/>
                  <a:pt x="42" y="153"/>
                  <a:pt x="42" y="153"/>
                </a:cubicBezTo>
                <a:cubicBezTo>
                  <a:pt x="44" y="153"/>
                  <a:pt x="45" y="152"/>
                  <a:pt x="46" y="151"/>
                </a:cubicBezTo>
                <a:cubicBezTo>
                  <a:pt x="50" y="146"/>
                  <a:pt x="50" y="146"/>
                  <a:pt x="50" y="146"/>
                </a:cubicBezTo>
                <a:cubicBezTo>
                  <a:pt x="49" y="143"/>
                  <a:pt x="49" y="143"/>
                  <a:pt x="49" y="143"/>
                </a:cubicBezTo>
                <a:cubicBezTo>
                  <a:pt x="50" y="142"/>
                  <a:pt x="51" y="141"/>
                  <a:pt x="52" y="140"/>
                </a:cubicBezTo>
                <a:cubicBezTo>
                  <a:pt x="62" y="140"/>
                  <a:pt x="62" y="140"/>
                  <a:pt x="62" y="140"/>
                </a:cubicBezTo>
                <a:cubicBezTo>
                  <a:pt x="64" y="141"/>
                  <a:pt x="65" y="140"/>
                  <a:pt x="65" y="140"/>
                </a:cubicBezTo>
                <a:cubicBezTo>
                  <a:pt x="66" y="137"/>
                  <a:pt x="67" y="136"/>
                  <a:pt x="68" y="135"/>
                </a:cubicBezTo>
                <a:cubicBezTo>
                  <a:pt x="70" y="135"/>
                  <a:pt x="72" y="135"/>
                  <a:pt x="73" y="136"/>
                </a:cubicBezTo>
                <a:cubicBezTo>
                  <a:pt x="76" y="139"/>
                  <a:pt x="78" y="141"/>
                  <a:pt x="78" y="144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78" y="152"/>
                  <a:pt x="78" y="152"/>
                  <a:pt x="78" y="152"/>
                </a:cubicBezTo>
                <a:cubicBezTo>
                  <a:pt x="81" y="154"/>
                  <a:pt x="82" y="156"/>
                  <a:pt x="82" y="158"/>
                </a:cubicBezTo>
                <a:cubicBezTo>
                  <a:pt x="81" y="165"/>
                  <a:pt x="81" y="165"/>
                  <a:pt x="81" y="165"/>
                </a:cubicBezTo>
                <a:cubicBezTo>
                  <a:pt x="80" y="169"/>
                  <a:pt x="78" y="172"/>
                  <a:pt x="77" y="172"/>
                </a:cubicBezTo>
                <a:cubicBezTo>
                  <a:pt x="77" y="172"/>
                  <a:pt x="77" y="172"/>
                  <a:pt x="77" y="172"/>
                </a:cubicBezTo>
                <a:cubicBezTo>
                  <a:pt x="71" y="185"/>
                  <a:pt x="71" y="185"/>
                  <a:pt x="71" y="185"/>
                </a:cubicBezTo>
                <a:cubicBezTo>
                  <a:pt x="73" y="186"/>
                  <a:pt x="73" y="186"/>
                  <a:pt x="73" y="186"/>
                </a:cubicBezTo>
                <a:cubicBezTo>
                  <a:pt x="82" y="186"/>
                  <a:pt x="82" y="186"/>
                  <a:pt x="82" y="186"/>
                </a:cubicBezTo>
                <a:cubicBezTo>
                  <a:pt x="84" y="187"/>
                  <a:pt x="84" y="187"/>
                  <a:pt x="84" y="187"/>
                </a:cubicBezTo>
                <a:cubicBezTo>
                  <a:pt x="84" y="188"/>
                  <a:pt x="84" y="188"/>
                  <a:pt x="84" y="188"/>
                </a:cubicBezTo>
                <a:cubicBezTo>
                  <a:pt x="82" y="192"/>
                  <a:pt x="82" y="195"/>
                  <a:pt x="82" y="197"/>
                </a:cubicBezTo>
                <a:cubicBezTo>
                  <a:pt x="86" y="199"/>
                  <a:pt x="88" y="200"/>
                  <a:pt x="89" y="199"/>
                </a:cubicBezTo>
                <a:cubicBezTo>
                  <a:pt x="94" y="197"/>
                  <a:pt x="94" y="197"/>
                  <a:pt x="94" y="197"/>
                </a:cubicBezTo>
                <a:cubicBezTo>
                  <a:pt x="97" y="196"/>
                  <a:pt x="97" y="196"/>
                  <a:pt x="97" y="196"/>
                </a:cubicBezTo>
                <a:cubicBezTo>
                  <a:pt x="102" y="196"/>
                  <a:pt x="102" y="196"/>
                  <a:pt x="102" y="196"/>
                </a:cubicBezTo>
                <a:cubicBezTo>
                  <a:pt x="108" y="190"/>
                  <a:pt x="108" y="190"/>
                  <a:pt x="108" y="190"/>
                </a:cubicBezTo>
                <a:cubicBezTo>
                  <a:pt x="108" y="183"/>
                  <a:pt x="108" y="183"/>
                  <a:pt x="108" y="183"/>
                </a:cubicBezTo>
                <a:cubicBezTo>
                  <a:pt x="107" y="181"/>
                  <a:pt x="108" y="179"/>
                  <a:pt x="108" y="178"/>
                </a:cubicBezTo>
                <a:cubicBezTo>
                  <a:pt x="110" y="177"/>
                  <a:pt x="113" y="177"/>
                  <a:pt x="118" y="180"/>
                </a:cubicBezTo>
                <a:cubicBezTo>
                  <a:pt x="128" y="186"/>
                  <a:pt x="128" y="186"/>
                  <a:pt x="128" y="186"/>
                </a:cubicBezTo>
                <a:cubicBezTo>
                  <a:pt x="131" y="188"/>
                  <a:pt x="133" y="189"/>
                  <a:pt x="135" y="189"/>
                </a:cubicBezTo>
                <a:cubicBezTo>
                  <a:pt x="135" y="188"/>
                  <a:pt x="135" y="188"/>
                  <a:pt x="135" y="188"/>
                </a:cubicBezTo>
                <a:cubicBezTo>
                  <a:pt x="136" y="187"/>
                  <a:pt x="135" y="184"/>
                  <a:pt x="133" y="180"/>
                </a:cubicBezTo>
                <a:cubicBezTo>
                  <a:pt x="128" y="172"/>
                  <a:pt x="128" y="172"/>
                  <a:pt x="128" y="172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0"/>
                  <a:pt x="128" y="170"/>
                  <a:pt x="128" y="170"/>
                </a:cubicBezTo>
                <a:cubicBezTo>
                  <a:pt x="134" y="163"/>
                  <a:pt x="139" y="160"/>
                  <a:pt x="146" y="163"/>
                </a:cubicBezTo>
                <a:cubicBezTo>
                  <a:pt x="160" y="170"/>
                  <a:pt x="160" y="170"/>
                  <a:pt x="160" y="170"/>
                </a:cubicBezTo>
                <a:cubicBezTo>
                  <a:pt x="166" y="166"/>
                  <a:pt x="166" y="166"/>
                  <a:pt x="166" y="166"/>
                </a:cubicBezTo>
                <a:cubicBezTo>
                  <a:pt x="167" y="166"/>
                  <a:pt x="167" y="166"/>
                  <a:pt x="167" y="166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7" y="163"/>
                  <a:pt x="167" y="163"/>
                  <a:pt x="167" y="163"/>
                </a:cubicBezTo>
                <a:cubicBezTo>
                  <a:pt x="172" y="155"/>
                  <a:pt x="173" y="149"/>
                  <a:pt x="172" y="146"/>
                </a:cubicBezTo>
                <a:cubicBezTo>
                  <a:pt x="170" y="143"/>
                  <a:pt x="168" y="142"/>
                  <a:pt x="167" y="142"/>
                </a:cubicBezTo>
                <a:cubicBezTo>
                  <a:pt x="166" y="142"/>
                  <a:pt x="166" y="142"/>
                  <a:pt x="166" y="142"/>
                </a:cubicBezTo>
                <a:cubicBezTo>
                  <a:pt x="165" y="138"/>
                  <a:pt x="165" y="138"/>
                  <a:pt x="165" y="138"/>
                </a:cubicBezTo>
                <a:cubicBezTo>
                  <a:pt x="166" y="138"/>
                  <a:pt x="166" y="138"/>
                  <a:pt x="166" y="138"/>
                </a:cubicBezTo>
                <a:cubicBezTo>
                  <a:pt x="168" y="136"/>
                  <a:pt x="170" y="135"/>
                  <a:pt x="170" y="134"/>
                </a:cubicBezTo>
                <a:cubicBezTo>
                  <a:pt x="169" y="132"/>
                  <a:pt x="169" y="132"/>
                  <a:pt x="169" y="132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5"/>
                  <a:pt x="163" y="125"/>
                  <a:pt x="163" y="125"/>
                </a:cubicBezTo>
                <a:cubicBezTo>
                  <a:pt x="160" y="116"/>
                  <a:pt x="160" y="116"/>
                  <a:pt x="160" y="116"/>
                </a:cubicBezTo>
                <a:cubicBezTo>
                  <a:pt x="158" y="110"/>
                  <a:pt x="158" y="104"/>
                  <a:pt x="158" y="98"/>
                </a:cubicBezTo>
                <a:cubicBezTo>
                  <a:pt x="158" y="94"/>
                  <a:pt x="158" y="94"/>
                  <a:pt x="158" y="94"/>
                </a:cubicBezTo>
                <a:cubicBezTo>
                  <a:pt x="154" y="98"/>
                  <a:pt x="154" y="98"/>
                  <a:pt x="154" y="98"/>
                </a:cubicBezTo>
                <a:cubicBezTo>
                  <a:pt x="151" y="102"/>
                  <a:pt x="151" y="102"/>
                  <a:pt x="151" y="102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9" y="71"/>
                  <a:pt x="165" y="64"/>
                  <a:pt x="167" y="62"/>
                </a:cubicBezTo>
                <a:cubicBezTo>
                  <a:pt x="163" y="50"/>
                  <a:pt x="163" y="50"/>
                  <a:pt x="163" y="50"/>
                </a:cubicBezTo>
                <a:cubicBezTo>
                  <a:pt x="162" y="44"/>
                  <a:pt x="161" y="40"/>
                  <a:pt x="161" y="38"/>
                </a:cubicBezTo>
                <a:cubicBezTo>
                  <a:pt x="154" y="35"/>
                  <a:pt x="154" y="35"/>
                  <a:pt x="154" y="35"/>
                </a:cubicBezTo>
                <a:lnTo>
                  <a:pt x="150" y="34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reeform 19"/>
          <p:cNvSpPr/>
          <p:nvPr/>
        </p:nvSpPr>
        <p:spPr>
          <a:xfrm>
            <a:off x="3732120" y="3706920"/>
            <a:ext cx="784440" cy="492120"/>
          </a:xfrm>
          <a:custGeom>
            <a:avLst/>
            <a:gdLst>
              <a:gd name="textAreaLeft" fmla="*/ 0 w 784440"/>
              <a:gd name="textAreaRight" fmla="*/ 784800 w 78444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244" h="153">
                <a:moveTo>
                  <a:pt x="31" y="1"/>
                </a:moveTo>
                <a:cubicBezTo>
                  <a:pt x="30" y="2"/>
                  <a:pt x="30" y="2"/>
                  <a:pt x="30" y="2"/>
                </a:cubicBezTo>
                <a:cubicBezTo>
                  <a:pt x="32" y="5"/>
                  <a:pt x="32" y="5"/>
                  <a:pt x="32" y="5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50" y="19"/>
                  <a:pt x="50" y="19"/>
                  <a:pt x="50" y="19"/>
                </a:cubicBezTo>
                <a:cubicBezTo>
                  <a:pt x="49" y="20"/>
                  <a:pt x="49" y="20"/>
                  <a:pt x="49" y="20"/>
                </a:cubicBezTo>
                <a:cubicBezTo>
                  <a:pt x="45" y="25"/>
                  <a:pt x="45" y="25"/>
                  <a:pt x="45" y="25"/>
                </a:cubicBezTo>
                <a:cubicBezTo>
                  <a:pt x="44" y="25"/>
                  <a:pt x="44" y="25"/>
                  <a:pt x="44" y="25"/>
                </a:cubicBezTo>
                <a:cubicBezTo>
                  <a:pt x="44" y="26"/>
                  <a:pt x="44" y="26"/>
                  <a:pt x="44" y="26"/>
                </a:cubicBezTo>
                <a:cubicBezTo>
                  <a:pt x="37" y="26"/>
                  <a:pt x="37" y="26"/>
                  <a:pt x="37" y="26"/>
                </a:cubicBezTo>
                <a:cubicBezTo>
                  <a:pt x="33" y="27"/>
                  <a:pt x="33" y="27"/>
                  <a:pt x="33" y="27"/>
                </a:cubicBezTo>
                <a:cubicBezTo>
                  <a:pt x="30" y="29"/>
                  <a:pt x="30" y="29"/>
                  <a:pt x="30" y="29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7"/>
                  <a:pt x="32" y="37"/>
                  <a:pt x="32" y="37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54"/>
                  <a:pt x="36" y="54"/>
                  <a:pt x="36" y="54"/>
                </a:cubicBezTo>
                <a:cubicBezTo>
                  <a:pt x="39" y="55"/>
                  <a:pt x="39" y="55"/>
                  <a:pt x="39" y="55"/>
                </a:cubicBezTo>
                <a:cubicBezTo>
                  <a:pt x="44" y="57"/>
                  <a:pt x="44" y="57"/>
                  <a:pt x="44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6" y="58"/>
                  <a:pt x="46" y="58"/>
                  <a:pt x="46" y="58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8"/>
                  <a:pt x="54" y="78"/>
                  <a:pt x="54" y="78"/>
                </a:cubicBezTo>
                <a:cubicBezTo>
                  <a:pt x="53" y="81"/>
                  <a:pt x="52" y="83"/>
                  <a:pt x="52" y="85"/>
                </a:cubicBezTo>
                <a:cubicBezTo>
                  <a:pt x="50" y="87"/>
                  <a:pt x="46" y="90"/>
                  <a:pt x="40" y="92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6" y="100"/>
                  <a:pt x="26" y="100"/>
                  <a:pt x="26" y="100"/>
                </a:cubicBezTo>
                <a:cubicBezTo>
                  <a:pt x="2" y="102"/>
                  <a:pt x="2" y="102"/>
                  <a:pt x="2" y="102"/>
                </a:cubicBezTo>
                <a:cubicBezTo>
                  <a:pt x="0" y="108"/>
                  <a:pt x="0" y="108"/>
                  <a:pt x="0" y="108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7"/>
                  <a:pt x="4" y="117"/>
                  <a:pt x="4" y="117"/>
                </a:cubicBezTo>
                <a:cubicBezTo>
                  <a:pt x="6" y="127"/>
                  <a:pt x="6" y="127"/>
                  <a:pt x="6" y="127"/>
                </a:cubicBezTo>
                <a:cubicBezTo>
                  <a:pt x="19" y="143"/>
                  <a:pt x="19" y="143"/>
                  <a:pt x="19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5" y="153"/>
                  <a:pt x="25" y="153"/>
                  <a:pt x="25" y="153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8" y="128"/>
                  <a:pt x="38" y="128"/>
                  <a:pt x="38" y="128"/>
                </a:cubicBezTo>
                <a:cubicBezTo>
                  <a:pt x="39" y="127"/>
                  <a:pt x="39" y="127"/>
                  <a:pt x="39" y="127"/>
                </a:cubicBezTo>
                <a:cubicBezTo>
                  <a:pt x="49" y="123"/>
                  <a:pt x="49" y="123"/>
                  <a:pt x="49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4" y="126"/>
                  <a:pt x="64" y="126"/>
                  <a:pt x="64" y="126"/>
                </a:cubicBezTo>
                <a:cubicBezTo>
                  <a:pt x="62" y="112"/>
                  <a:pt x="62" y="112"/>
                  <a:pt x="62" y="112"/>
                </a:cubicBezTo>
                <a:cubicBezTo>
                  <a:pt x="63" y="111"/>
                  <a:pt x="63" y="111"/>
                  <a:pt x="63" y="111"/>
                </a:cubicBezTo>
                <a:cubicBezTo>
                  <a:pt x="71" y="111"/>
                  <a:pt x="71" y="111"/>
                  <a:pt x="71" y="111"/>
                </a:cubicBezTo>
                <a:cubicBezTo>
                  <a:pt x="79" y="111"/>
                  <a:pt x="79" y="111"/>
                  <a:pt x="79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96" y="119"/>
                  <a:pt x="96" y="119"/>
                  <a:pt x="96" y="119"/>
                </a:cubicBezTo>
                <a:cubicBezTo>
                  <a:pt x="109" y="121"/>
                  <a:pt x="109" y="121"/>
                  <a:pt x="109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4" y="125"/>
                  <a:pt x="114" y="125"/>
                  <a:pt x="114" y="125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7" y="132"/>
                  <a:pt x="127" y="132"/>
                  <a:pt x="127" y="132"/>
                </a:cubicBezTo>
                <a:cubicBezTo>
                  <a:pt x="132" y="128"/>
                  <a:pt x="132" y="128"/>
                  <a:pt x="132" y="128"/>
                </a:cubicBezTo>
                <a:cubicBezTo>
                  <a:pt x="132" y="127"/>
                  <a:pt x="132" y="127"/>
                  <a:pt x="132" y="127"/>
                </a:cubicBezTo>
                <a:cubicBezTo>
                  <a:pt x="138" y="122"/>
                  <a:pt x="138" y="122"/>
                  <a:pt x="138" y="122"/>
                </a:cubicBezTo>
                <a:cubicBezTo>
                  <a:pt x="142" y="115"/>
                  <a:pt x="142" y="115"/>
                  <a:pt x="142" y="115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20"/>
                  <a:pt x="148" y="120"/>
                  <a:pt x="148" y="120"/>
                </a:cubicBezTo>
                <a:cubicBezTo>
                  <a:pt x="150" y="125"/>
                  <a:pt x="150" y="125"/>
                  <a:pt x="150" y="125"/>
                </a:cubicBezTo>
                <a:cubicBezTo>
                  <a:pt x="150" y="126"/>
                  <a:pt x="150" y="126"/>
                  <a:pt x="150" y="126"/>
                </a:cubicBezTo>
                <a:cubicBezTo>
                  <a:pt x="149" y="129"/>
                  <a:pt x="149" y="129"/>
                  <a:pt x="149" y="129"/>
                </a:cubicBezTo>
                <a:cubicBezTo>
                  <a:pt x="150" y="130"/>
                  <a:pt x="150" y="130"/>
                  <a:pt x="150" y="130"/>
                </a:cubicBezTo>
                <a:cubicBezTo>
                  <a:pt x="154" y="128"/>
                  <a:pt x="154" y="128"/>
                  <a:pt x="154" y="128"/>
                </a:cubicBezTo>
                <a:cubicBezTo>
                  <a:pt x="159" y="123"/>
                  <a:pt x="159" y="123"/>
                  <a:pt x="159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5" y="123"/>
                  <a:pt x="165" y="123"/>
                  <a:pt x="165" y="123"/>
                </a:cubicBezTo>
                <a:cubicBezTo>
                  <a:pt x="168" y="125"/>
                  <a:pt x="168" y="125"/>
                  <a:pt x="168" y="125"/>
                </a:cubicBezTo>
                <a:cubicBezTo>
                  <a:pt x="171" y="128"/>
                  <a:pt x="172" y="130"/>
                  <a:pt x="171" y="132"/>
                </a:cubicBezTo>
                <a:cubicBezTo>
                  <a:pt x="170" y="141"/>
                  <a:pt x="170" y="141"/>
                  <a:pt x="170" y="141"/>
                </a:cubicBezTo>
                <a:cubicBezTo>
                  <a:pt x="173" y="145"/>
                  <a:pt x="173" y="145"/>
                  <a:pt x="173" y="145"/>
                </a:cubicBezTo>
                <a:cubicBezTo>
                  <a:pt x="174" y="145"/>
                  <a:pt x="174" y="145"/>
                  <a:pt x="174" y="145"/>
                </a:cubicBezTo>
                <a:cubicBezTo>
                  <a:pt x="183" y="135"/>
                  <a:pt x="190" y="130"/>
                  <a:pt x="194" y="130"/>
                </a:cubicBezTo>
                <a:cubicBezTo>
                  <a:pt x="204" y="130"/>
                  <a:pt x="204" y="130"/>
                  <a:pt x="204" y="130"/>
                </a:cubicBezTo>
                <a:cubicBezTo>
                  <a:pt x="207" y="125"/>
                  <a:pt x="207" y="125"/>
                  <a:pt x="207" y="125"/>
                </a:cubicBezTo>
                <a:cubicBezTo>
                  <a:pt x="215" y="121"/>
                  <a:pt x="215" y="121"/>
                  <a:pt x="215" y="121"/>
                </a:cubicBezTo>
                <a:cubicBezTo>
                  <a:pt x="216" y="121"/>
                  <a:pt x="216" y="121"/>
                  <a:pt x="216" y="121"/>
                </a:cubicBezTo>
                <a:cubicBezTo>
                  <a:pt x="226" y="120"/>
                  <a:pt x="226" y="120"/>
                  <a:pt x="226" y="120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44" y="114"/>
                  <a:pt x="244" y="114"/>
                  <a:pt x="244" y="114"/>
                </a:cubicBezTo>
                <a:cubicBezTo>
                  <a:pt x="242" y="111"/>
                  <a:pt x="242" y="111"/>
                  <a:pt x="242" y="111"/>
                </a:cubicBezTo>
                <a:cubicBezTo>
                  <a:pt x="243" y="110"/>
                  <a:pt x="243" y="110"/>
                  <a:pt x="243" y="110"/>
                </a:cubicBezTo>
                <a:cubicBezTo>
                  <a:pt x="244" y="108"/>
                  <a:pt x="244" y="108"/>
                  <a:pt x="244" y="108"/>
                </a:cubicBezTo>
                <a:cubicBezTo>
                  <a:pt x="230" y="77"/>
                  <a:pt x="230" y="77"/>
                  <a:pt x="230" y="77"/>
                </a:cubicBezTo>
                <a:cubicBezTo>
                  <a:pt x="230" y="76"/>
                  <a:pt x="230" y="76"/>
                  <a:pt x="230" y="76"/>
                </a:cubicBezTo>
                <a:cubicBezTo>
                  <a:pt x="229" y="75"/>
                  <a:pt x="229" y="75"/>
                  <a:pt x="229" y="75"/>
                </a:cubicBezTo>
                <a:cubicBezTo>
                  <a:pt x="236" y="67"/>
                  <a:pt x="236" y="67"/>
                  <a:pt x="236" y="67"/>
                </a:cubicBezTo>
                <a:cubicBezTo>
                  <a:pt x="234" y="65"/>
                  <a:pt x="234" y="65"/>
                  <a:pt x="234" y="65"/>
                </a:cubicBezTo>
                <a:cubicBezTo>
                  <a:pt x="223" y="63"/>
                  <a:pt x="223" y="63"/>
                  <a:pt x="223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2"/>
                  <a:pt x="222" y="62"/>
                  <a:pt x="222" y="62"/>
                </a:cubicBezTo>
                <a:cubicBezTo>
                  <a:pt x="215" y="55"/>
                  <a:pt x="215" y="55"/>
                  <a:pt x="215" y="55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4" y="54"/>
                  <a:pt x="214" y="54"/>
                  <a:pt x="214" y="54"/>
                </a:cubicBezTo>
                <a:cubicBezTo>
                  <a:pt x="208" y="50"/>
                  <a:pt x="208" y="50"/>
                  <a:pt x="208" y="50"/>
                </a:cubicBezTo>
                <a:cubicBezTo>
                  <a:pt x="206" y="53"/>
                  <a:pt x="203" y="56"/>
                  <a:pt x="200" y="57"/>
                </a:cubicBezTo>
                <a:cubicBezTo>
                  <a:pt x="197" y="58"/>
                  <a:pt x="192" y="55"/>
                  <a:pt x="186" y="47"/>
                </a:cubicBezTo>
                <a:cubicBezTo>
                  <a:pt x="183" y="43"/>
                  <a:pt x="183" y="43"/>
                  <a:pt x="183" y="43"/>
                </a:cubicBezTo>
                <a:cubicBezTo>
                  <a:pt x="183" y="43"/>
                  <a:pt x="180" y="43"/>
                  <a:pt x="176" y="45"/>
                </a:cubicBezTo>
                <a:cubicBezTo>
                  <a:pt x="169" y="47"/>
                  <a:pt x="164" y="48"/>
                  <a:pt x="162" y="47"/>
                </a:cubicBezTo>
                <a:cubicBezTo>
                  <a:pt x="160" y="45"/>
                  <a:pt x="160" y="41"/>
                  <a:pt x="160" y="35"/>
                </a:cubicBezTo>
                <a:cubicBezTo>
                  <a:pt x="161" y="31"/>
                  <a:pt x="160" y="29"/>
                  <a:pt x="160" y="27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103" y="23"/>
                  <a:pt x="99" y="21"/>
                  <a:pt x="97" y="19"/>
                </a:cubicBezTo>
                <a:cubicBezTo>
                  <a:pt x="89" y="17"/>
                  <a:pt x="89" y="17"/>
                  <a:pt x="89" y="17"/>
                </a:cubicBezTo>
                <a:cubicBezTo>
                  <a:pt x="86" y="15"/>
                  <a:pt x="80" y="10"/>
                  <a:pt x="72" y="0"/>
                </a:cubicBezTo>
                <a:cubicBezTo>
                  <a:pt x="66" y="5"/>
                  <a:pt x="66" y="5"/>
                  <a:pt x="66" y="5"/>
                </a:cubicBezTo>
                <a:cubicBezTo>
                  <a:pt x="58" y="2"/>
                  <a:pt x="58" y="2"/>
                  <a:pt x="58" y="2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lnTo>
                  <a:pt x="31" y="1"/>
                </a:lnTo>
                <a:close/>
              </a:path>
            </a:pathLst>
          </a:cu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20"/>
          <p:cNvSpPr/>
          <p:nvPr/>
        </p:nvSpPr>
        <p:spPr>
          <a:xfrm>
            <a:off x="3905280" y="4610160"/>
            <a:ext cx="816120" cy="644400"/>
          </a:xfrm>
          <a:custGeom>
            <a:avLst/>
            <a:gdLst>
              <a:gd name="textAreaLeft" fmla="*/ 0 w 816120"/>
              <a:gd name="textAreaRight" fmla="*/ 816480 w 81612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254" h="201">
                <a:moveTo>
                  <a:pt x="238" y="69"/>
                </a:moveTo>
                <a:cubicBezTo>
                  <a:pt x="242" y="68"/>
                  <a:pt x="244" y="67"/>
                  <a:pt x="244" y="65"/>
                </a:cubicBezTo>
                <a:cubicBezTo>
                  <a:pt x="244" y="64"/>
                  <a:pt x="244" y="64"/>
                  <a:pt x="244" y="64"/>
                </a:cubicBezTo>
                <a:cubicBezTo>
                  <a:pt x="245" y="63"/>
                  <a:pt x="245" y="63"/>
                  <a:pt x="245" y="63"/>
                </a:cubicBezTo>
                <a:cubicBezTo>
                  <a:pt x="246" y="63"/>
                  <a:pt x="246" y="63"/>
                  <a:pt x="246" y="63"/>
                </a:cubicBezTo>
                <a:cubicBezTo>
                  <a:pt x="254" y="63"/>
                  <a:pt x="254" y="63"/>
                  <a:pt x="254" y="63"/>
                </a:cubicBezTo>
                <a:cubicBezTo>
                  <a:pt x="254" y="58"/>
                  <a:pt x="254" y="58"/>
                  <a:pt x="254" y="58"/>
                </a:cubicBezTo>
                <a:cubicBezTo>
                  <a:pt x="252" y="58"/>
                  <a:pt x="250" y="57"/>
                  <a:pt x="248" y="55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0" y="29"/>
                  <a:pt x="230" y="29"/>
                  <a:pt x="230" y="29"/>
                </a:cubicBezTo>
                <a:cubicBezTo>
                  <a:pt x="223" y="22"/>
                  <a:pt x="223" y="22"/>
                  <a:pt x="223" y="22"/>
                </a:cubicBezTo>
                <a:cubicBezTo>
                  <a:pt x="214" y="21"/>
                  <a:pt x="208" y="21"/>
                  <a:pt x="203" y="22"/>
                </a:cubicBezTo>
                <a:cubicBezTo>
                  <a:pt x="201" y="22"/>
                  <a:pt x="201" y="22"/>
                  <a:pt x="201" y="22"/>
                </a:cubicBezTo>
                <a:cubicBezTo>
                  <a:pt x="202" y="27"/>
                  <a:pt x="202" y="27"/>
                  <a:pt x="202" y="27"/>
                </a:cubicBezTo>
                <a:cubicBezTo>
                  <a:pt x="202" y="28"/>
                  <a:pt x="202" y="28"/>
                  <a:pt x="202" y="28"/>
                </a:cubicBezTo>
                <a:cubicBezTo>
                  <a:pt x="202" y="29"/>
                  <a:pt x="202" y="29"/>
                  <a:pt x="202" y="29"/>
                </a:cubicBezTo>
                <a:cubicBezTo>
                  <a:pt x="200" y="29"/>
                  <a:pt x="200" y="29"/>
                  <a:pt x="200" y="29"/>
                </a:cubicBezTo>
                <a:cubicBezTo>
                  <a:pt x="194" y="32"/>
                  <a:pt x="194" y="32"/>
                  <a:pt x="194" y="32"/>
                </a:cubicBezTo>
                <a:cubicBezTo>
                  <a:pt x="193" y="31"/>
                  <a:pt x="193" y="31"/>
                  <a:pt x="193" y="31"/>
                </a:cubicBezTo>
                <a:cubicBezTo>
                  <a:pt x="188" y="26"/>
                  <a:pt x="184" y="24"/>
                  <a:pt x="182" y="25"/>
                </a:cubicBezTo>
                <a:cubicBezTo>
                  <a:pt x="168" y="32"/>
                  <a:pt x="160" y="35"/>
                  <a:pt x="158" y="33"/>
                </a:cubicBezTo>
                <a:cubicBezTo>
                  <a:pt x="156" y="34"/>
                  <a:pt x="154" y="35"/>
                  <a:pt x="152" y="38"/>
                </a:cubicBezTo>
                <a:cubicBezTo>
                  <a:pt x="150" y="40"/>
                  <a:pt x="150" y="40"/>
                  <a:pt x="150" y="40"/>
                </a:cubicBezTo>
                <a:cubicBezTo>
                  <a:pt x="149" y="38"/>
                  <a:pt x="149" y="38"/>
                  <a:pt x="149" y="38"/>
                </a:cubicBezTo>
                <a:cubicBezTo>
                  <a:pt x="145" y="34"/>
                  <a:pt x="143" y="31"/>
                  <a:pt x="143" y="29"/>
                </a:cubicBezTo>
                <a:cubicBezTo>
                  <a:pt x="143" y="27"/>
                  <a:pt x="146" y="24"/>
                  <a:pt x="150" y="19"/>
                </a:cubicBezTo>
                <a:cubicBezTo>
                  <a:pt x="156" y="12"/>
                  <a:pt x="159" y="9"/>
                  <a:pt x="159" y="8"/>
                </a:cubicBezTo>
                <a:cubicBezTo>
                  <a:pt x="158" y="6"/>
                  <a:pt x="158" y="6"/>
                  <a:pt x="158" y="6"/>
                </a:cubicBezTo>
                <a:cubicBezTo>
                  <a:pt x="156" y="5"/>
                  <a:pt x="153" y="7"/>
                  <a:pt x="149" y="10"/>
                </a:cubicBezTo>
                <a:cubicBezTo>
                  <a:pt x="145" y="13"/>
                  <a:pt x="142" y="14"/>
                  <a:pt x="141" y="14"/>
                </a:cubicBezTo>
                <a:cubicBezTo>
                  <a:pt x="140" y="14"/>
                  <a:pt x="139" y="12"/>
                  <a:pt x="139" y="10"/>
                </a:cubicBezTo>
                <a:cubicBezTo>
                  <a:pt x="138" y="10"/>
                  <a:pt x="138" y="10"/>
                  <a:pt x="138" y="10"/>
                </a:cubicBezTo>
                <a:cubicBezTo>
                  <a:pt x="135" y="3"/>
                  <a:pt x="135" y="3"/>
                  <a:pt x="135" y="3"/>
                </a:cubicBezTo>
                <a:cubicBezTo>
                  <a:pt x="127" y="8"/>
                  <a:pt x="127" y="8"/>
                  <a:pt x="127" y="8"/>
                </a:cubicBezTo>
                <a:cubicBezTo>
                  <a:pt x="126" y="9"/>
                  <a:pt x="126" y="9"/>
                  <a:pt x="126" y="9"/>
                </a:cubicBezTo>
                <a:cubicBezTo>
                  <a:pt x="126" y="8"/>
                  <a:pt x="126" y="8"/>
                  <a:pt x="126" y="8"/>
                </a:cubicBezTo>
                <a:cubicBezTo>
                  <a:pt x="126" y="8"/>
                  <a:pt x="126" y="8"/>
                  <a:pt x="126" y="8"/>
                </a:cubicBezTo>
                <a:cubicBezTo>
                  <a:pt x="120" y="5"/>
                  <a:pt x="115" y="3"/>
                  <a:pt x="110" y="1"/>
                </a:cubicBezTo>
                <a:cubicBezTo>
                  <a:pt x="106" y="0"/>
                  <a:pt x="102" y="1"/>
                  <a:pt x="99" y="6"/>
                </a:cubicBezTo>
                <a:cubicBezTo>
                  <a:pt x="102" y="12"/>
                  <a:pt x="102" y="12"/>
                  <a:pt x="102" y="12"/>
                </a:cubicBezTo>
                <a:cubicBezTo>
                  <a:pt x="105" y="18"/>
                  <a:pt x="106" y="22"/>
                  <a:pt x="105" y="24"/>
                </a:cubicBezTo>
                <a:cubicBezTo>
                  <a:pt x="104" y="26"/>
                  <a:pt x="103" y="27"/>
                  <a:pt x="102" y="27"/>
                </a:cubicBezTo>
                <a:cubicBezTo>
                  <a:pt x="99" y="28"/>
                  <a:pt x="96" y="27"/>
                  <a:pt x="91" y="23"/>
                </a:cubicBezTo>
                <a:cubicBezTo>
                  <a:pt x="88" y="21"/>
                  <a:pt x="85" y="19"/>
                  <a:pt x="82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7"/>
                  <a:pt x="78" y="17"/>
                  <a:pt x="78" y="17"/>
                </a:cubicBezTo>
                <a:cubicBezTo>
                  <a:pt x="78" y="26"/>
                  <a:pt x="78" y="26"/>
                  <a:pt x="78" y="26"/>
                </a:cubicBezTo>
                <a:cubicBezTo>
                  <a:pt x="72" y="33"/>
                  <a:pt x="72" y="33"/>
                  <a:pt x="72" y="33"/>
                </a:cubicBezTo>
                <a:cubicBezTo>
                  <a:pt x="72" y="40"/>
                  <a:pt x="72" y="40"/>
                  <a:pt x="72" y="40"/>
                </a:cubicBezTo>
                <a:cubicBezTo>
                  <a:pt x="74" y="47"/>
                  <a:pt x="74" y="47"/>
                  <a:pt x="74" y="47"/>
                </a:cubicBezTo>
                <a:cubicBezTo>
                  <a:pt x="75" y="47"/>
                  <a:pt x="75" y="47"/>
                  <a:pt x="75" y="47"/>
                </a:cubicBezTo>
                <a:cubicBezTo>
                  <a:pt x="70" y="54"/>
                  <a:pt x="70" y="54"/>
                  <a:pt x="70" y="54"/>
                </a:cubicBezTo>
                <a:cubicBezTo>
                  <a:pt x="68" y="60"/>
                  <a:pt x="68" y="60"/>
                  <a:pt x="68" y="60"/>
                </a:cubicBezTo>
                <a:cubicBezTo>
                  <a:pt x="68" y="61"/>
                  <a:pt x="68" y="61"/>
                  <a:pt x="68" y="61"/>
                </a:cubicBezTo>
                <a:cubicBezTo>
                  <a:pt x="62" y="67"/>
                  <a:pt x="62" y="67"/>
                  <a:pt x="62" y="67"/>
                </a:cubicBezTo>
                <a:cubicBezTo>
                  <a:pt x="52" y="90"/>
                  <a:pt x="52" y="90"/>
                  <a:pt x="52" y="90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30" y="115"/>
                  <a:pt x="30" y="115"/>
                  <a:pt x="30" y="115"/>
                </a:cubicBezTo>
                <a:cubicBezTo>
                  <a:pt x="29" y="117"/>
                  <a:pt x="29" y="117"/>
                  <a:pt x="29" y="117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0" y="133"/>
                  <a:pt x="30" y="133"/>
                  <a:pt x="30" y="133"/>
                </a:cubicBezTo>
                <a:cubicBezTo>
                  <a:pt x="21" y="132"/>
                  <a:pt x="21" y="132"/>
                  <a:pt x="21" y="132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8" y="142"/>
                  <a:pt x="8" y="142"/>
                  <a:pt x="8" y="142"/>
                </a:cubicBezTo>
                <a:cubicBezTo>
                  <a:pt x="5" y="146"/>
                  <a:pt x="5" y="146"/>
                  <a:pt x="5" y="146"/>
                </a:cubicBezTo>
                <a:cubicBezTo>
                  <a:pt x="5" y="146"/>
                  <a:pt x="5" y="146"/>
                  <a:pt x="5" y="146"/>
                </a:cubicBezTo>
                <a:cubicBezTo>
                  <a:pt x="2" y="153"/>
                  <a:pt x="2" y="153"/>
                  <a:pt x="2" y="153"/>
                </a:cubicBezTo>
                <a:cubicBezTo>
                  <a:pt x="0" y="178"/>
                  <a:pt x="0" y="178"/>
                  <a:pt x="0" y="178"/>
                </a:cubicBezTo>
                <a:cubicBezTo>
                  <a:pt x="2" y="184"/>
                  <a:pt x="2" y="184"/>
                  <a:pt x="2" y="184"/>
                </a:cubicBezTo>
                <a:cubicBezTo>
                  <a:pt x="3" y="184"/>
                  <a:pt x="3" y="184"/>
                  <a:pt x="3" y="184"/>
                </a:cubicBezTo>
                <a:cubicBezTo>
                  <a:pt x="3" y="190"/>
                  <a:pt x="3" y="190"/>
                  <a:pt x="3" y="190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201"/>
                  <a:pt x="8" y="201"/>
                  <a:pt x="8" y="201"/>
                </a:cubicBezTo>
                <a:cubicBezTo>
                  <a:pt x="21" y="200"/>
                  <a:pt x="21" y="200"/>
                  <a:pt x="21" y="200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8"/>
                  <a:pt x="22" y="198"/>
                  <a:pt x="22" y="198"/>
                </a:cubicBezTo>
                <a:cubicBezTo>
                  <a:pt x="26" y="194"/>
                  <a:pt x="26" y="194"/>
                  <a:pt x="26" y="194"/>
                </a:cubicBezTo>
                <a:cubicBezTo>
                  <a:pt x="18" y="186"/>
                  <a:pt x="18" y="186"/>
                  <a:pt x="18" y="186"/>
                </a:cubicBezTo>
                <a:cubicBezTo>
                  <a:pt x="17" y="186"/>
                  <a:pt x="17" y="186"/>
                  <a:pt x="17" y="186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1"/>
                  <a:pt x="12" y="181"/>
                  <a:pt x="12" y="181"/>
                </a:cubicBezTo>
                <a:cubicBezTo>
                  <a:pt x="12" y="173"/>
                  <a:pt x="12" y="173"/>
                  <a:pt x="12" y="173"/>
                </a:cubicBezTo>
                <a:cubicBezTo>
                  <a:pt x="18" y="173"/>
                  <a:pt x="18" y="173"/>
                  <a:pt x="18" y="173"/>
                </a:cubicBezTo>
                <a:cubicBezTo>
                  <a:pt x="19" y="170"/>
                  <a:pt x="19" y="170"/>
                  <a:pt x="19" y="170"/>
                </a:cubicBezTo>
                <a:cubicBezTo>
                  <a:pt x="16" y="162"/>
                  <a:pt x="16" y="162"/>
                  <a:pt x="16" y="162"/>
                </a:cubicBezTo>
                <a:cubicBezTo>
                  <a:pt x="32" y="162"/>
                  <a:pt x="32" y="162"/>
                  <a:pt x="32" y="162"/>
                </a:cubicBezTo>
                <a:cubicBezTo>
                  <a:pt x="60" y="149"/>
                  <a:pt x="60" y="149"/>
                  <a:pt x="60" y="149"/>
                </a:cubicBezTo>
                <a:cubicBezTo>
                  <a:pt x="63" y="143"/>
                  <a:pt x="63" y="143"/>
                  <a:pt x="63" y="143"/>
                </a:cubicBezTo>
                <a:cubicBezTo>
                  <a:pt x="64" y="141"/>
                  <a:pt x="64" y="141"/>
                  <a:pt x="64" y="141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5"/>
                  <a:pt x="70" y="145"/>
                  <a:pt x="70" y="145"/>
                </a:cubicBezTo>
                <a:cubicBezTo>
                  <a:pt x="73" y="148"/>
                  <a:pt x="73" y="148"/>
                  <a:pt x="73" y="148"/>
                </a:cubicBezTo>
                <a:cubicBezTo>
                  <a:pt x="76" y="147"/>
                  <a:pt x="76" y="147"/>
                  <a:pt x="76" y="147"/>
                </a:cubicBezTo>
                <a:cubicBezTo>
                  <a:pt x="75" y="141"/>
                  <a:pt x="75" y="141"/>
                  <a:pt x="75" y="141"/>
                </a:cubicBezTo>
                <a:cubicBezTo>
                  <a:pt x="84" y="141"/>
                  <a:pt x="84" y="141"/>
                  <a:pt x="84" y="141"/>
                </a:cubicBezTo>
                <a:cubicBezTo>
                  <a:pt x="93" y="143"/>
                  <a:pt x="93" y="143"/>
                  <a:pt x="93" y="143"/>
                </a:cubicBezTo>
                <a:cubicBezTo>
                  <a:pt x="96" y="137"/>
                  <a:pt x="96" y="137"/>
                  <a:pt x="96" y="137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8" y="136"/>
                  <a:pt x="98" y="136"/>
                  <a:pt x="98" y="136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09" y="119"/>
                  <a:pt x="109" y="119"/>
                  <a:pt x="109" y="119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23" y="128"/>
                  <a:pt x="123" y="128"/>
                  <a:pt x="123" y="128"/>
                </a:cubicBezTo>
                <a:cubicBezTo>
                  <a:pt x="125" y="126"/>
                  <a:pt x="125" y="126"/>
                  <a:pt x="125" y="126"/>
                </a:cubicBezTo>
                <a:cubicBezTo>
                  <a:pt x="124" y="96"/>
                  <a:pt x="124" y="96"/>
                  <a:pt x="124" y="96"/>
                </a:cubicBezTo>
                <a:cubicBezTo>
                  <a:pt x="124" y="95"/>
                  <a:pt x="124" y="95"/>
                  <a:pt x="124" y="95"/>
                </a:cubicBezTo>
                <a:cubicBezTo>
                  <a:pt x="124" y="93"/>
                  <a:pt x="124" y="93"/>
                  <a:pt x="124" y="93"/>
                </a:cubicBezTo>
                <a:cubicBezTo>
                  <a:pt x="130" y="94"/>
                  <a:pt x="130" y="94"/>
                  <a:pt x="130" y="94"/>
                </a:cubicBezTo>
                <a:cubicBezTo>
                  <a:pt x="131" y="94"/>
                  <a:pt x="131" y="94"/>
                  <a:pt x="131" y="94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43" y="115"/>
                  <a:pt x="143" y="115"/>
                  <a:pt x="143" y="115"/>
                </a:cubicBezTo>
                <a:cubicBezTo>
                  <a:pt x="156" y="113"/>
                  <a:pt x="156" y="113"/>
                  <a:pt x="156" y="113"/>
                </a:cubicBezTo>
                <a:cubicBezTo>
                  <a:pt x="159" y="112"/>
                  <a:pt x="159" y="112"/>
                  <a:pt x="159" y="112"/>
                </a:cubicBezTo>
                <a:cubicBezTo>
                  <a:pt x="161" y="108"/>
                  <a:pt x="161" y="108"/>
                  <a:pt x="161" y="108"/>
                </a:cubicBezTo>
                <a:cubicBezTo>
                  <a:pt x="157" y="104"/>
                  <a:pt x="157" y="104"/>
                  <a:pt x="157" y="104"/>
                </a:cubicBezTo>
                <a:cubicBezTo>
                  <a:pt x="156" y="103"/>
                  <a:pt x="156" y="103"/>
                  <a:pt x="156" y="103"/>
                </a:cubicBezTo>
                <a:cubicBezTo>
                  <a:pt x="165" y="100"/>
                  <a:pt x="165" y="100"/>
                  <a:pt x="165" y="100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70" y="103"/>
                  <a:pt x="170" y="103"/>
                  <a:pt x="170" y="103"/>
                </a:cubicBezTo>
                <a:cubicBezTo>
                  <a:pt x="173" y="101"/>
                  <a:pt x="173" y="101"/>
                  <a:pt x="173" y="101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5" y="95"/>
                  <a:pt x="175" y="95"/>
                  <a:pt x="175" y="95"/>
                </a:cubicBezTo>
                <a:cubicBezTo>
                  <a:pt x="182" y="95"/>
                  <a:pt x="182" y="95"/>
                  <a:pt x="182" y="95"/>
                </a:cubicBezTo>
                <a:cubicBezTo>
                  <a:pt x="186" y="95"/>
                  <a:pt x="190" y="98"/>
                  <a:pt x="193" y="101"/>
                </a:cubicBezTo>
                <a:cubicBezTo>
                  <a:pt x="194" y="103"/>
                  <a:pt x="194" y="103"/>
                  <a:pt x="194" y="103"/>
                </a:cubicBezTo>
                <a:cubicBezTo>
                  <a:pt x="196" y="93"/>
                  <a:pt x="196" y="93"/>
                  <a:pt x="196" y="93"/>
                </a:cubicBezTo>
                <a:cubicBezTo>
                  <a:pt x="198" y="91"/>
                  <a:pt x="201" y="90"/>
                  <a:pt x="206" y="92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4"/>
                  <a:pt x="207" y="94"/>
                  <a:pt x="207" y="94"/>
                </a:cubicBezTo>
                <a:cubicBezTo>
                  <a:pt x="208" y="94"/>
                  <a:pt x="208" y="94"/>
                  <a:pt x="209" y="94"/>
                </a:cubicBezTo>
                <a:cubicBezTo>
                  <a:pt x="211" y="94"/>
                  <a:pt x="218" y="89"/>
                  <a:pt x="230" y="80"/>
                </a:cubicBezTo>
                <a:cubicBezTo>
                  <a:pt x="230" y="74"/>
                  <a:pt x="233" y="70"/>
                  <a:pt x="238" y="69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21"/>
          <p:cNvSpPr/>
          <p:nvPr/>
        </p:nvSpPr>
        <p:spPr>
          <a:xfrm>
            <a:off x="4290840" y="4051440"/>
            <a:ext cx="487440" cy="663480"/>
          </a:xfrm>
          <a:custGeom>
            <a:avLst/>
            <a:gdLst>
              <a:gd name="textAreaLeft" fmla="*/ 0 w 487440"/>
              <a:gd name="textAreaRight" fmla="*/ 487800 w 48744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152" h="207">
                <a:moveTo>
                  <a:pt x="120" y="8"/>
                </a:moveTo>
                <a:cubicBezTo>
                  <a:pt x="119" y="8"/>
                  <a:pt x="119" y="8"/>
                  <a:pt x="119" y="8"/>
                </a:cubicBezTo>
                <a:cubicBezTo>
                  <a:pt x="110" y="0"/>
                  <a:pt x="110" y="0"/>
                  <a:pt x="110" y="0"/>
                </a:cubicBezTo>
                <a:cubicBezTo>
                  <a:pt x="106" y="3"/>
                  <a:pt x="106" y="3"/>
                  <a:pt x="106" y="3"/>
                </a:cubicBezTo>
                <a:cubicBezTo>
                  <a:pt x="102" y="10"/>
                  <a:pt x="98" y="14"/>
                  <a:pt x="92" y="16"/>
                </a:cubicBezTo>
                <a:cubicBezTo>
                  <a:pt x="91" y="17"/>
                  <a:pt x="89" y="17"/>
                  <a:pt x="88" y="16"/>
                </a:cubicBezTo>
                <a:cubicBezTo>
                  <a:pt x="86" y="14"/>
                  <a:pt x="87" y="9"/>
                  <a:pt x="90" y="2"/>
                </a:cubicBezTo>
                <a:cubicBezTo>
                  <a:pt x="76" y="11"/>
                  <a:pt x="76" y="11"/>
                  <a:pt x="76" y="11"/>
                </a:cubicBezTo>
                <a:cubicBezTo>
                  <a:pt x="76" y="12"/>
                  <a:pt x="76" y="12"/>
                  <a:pt x="76" y="12"/>
                </a:cubicBezTo>
                <a:cubicBezTo>
                  <a:pt x="76" y="12"/>
                  <a:pt x="76" y="12"/>
                  <a:pt x="76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54" y="17"/>
                  <a:pt x="54" y="17"/>
                  <a:pt x="54" y="17"/>
                </a:cubicBezTo>
                <a:cubicBezTo>
                  <a:pt x="54" y="18"/>
                  <a:pt x="54" y="18"/>
                  <a:pt x="54" y="18"/>
                </a:cubicBezTo>
                <a:cubicBezTo>
                  <a:pt x="42" y="18"/>
                  <a:pt x="42" y="18"/>
                  <a:pt x="42" y="18"/>
                </a:cubicBezTo>
                <a:cubicBezTo>
                  <a:pt x="36" y="21"/>
                  <a:pt x="36" y="21"/>
                  <a:pt x="36" y="21"/>
                </a:cubicBezTo>
                <a:cubicBezTo>
                  <a:pt x="34" y="27"/>
                  <a:pt x="34" y="27"/>
                  <a:pt x="34" y="27"/>
                </a:cubicBezTo>
                <a:cubicBezTo>
                  <a:pt x="33" y="28"/>
                  <a:pt x="33" y="28"/>
                  <a:pt x="33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17" y="28"/>
                  <a:pt x="12" y="32"/>
                  <a:pt x="4" y="40"/>
                </a:cubicBezTo>
                <a:cubicBezTo>
                  <a:pt x="8" y="42"/>
                  <a:pt x="10" y="43"/>
                  <a:pt x="10" y="44"/>
                </a:cubicBezTo>
                <a:cubicBezTo>
                  <a:pt x="11" y="47"/>
                  <a:pt x="11" y="47"/>
                  <a:pt x="11" y="47"/>
                </a:cubicBezTo>
                <a:cubicBezTo>
                  <a:pt x="11" y="46"/>
                  <a:pt x="11" y="46"/>
                  <a:pt x="11" y="46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70"/>
                  <a:pt x="17" y="70"/>
                  <a:pt x="17" y="7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2"/>
                  <a:pt x="17" y="72"/>
                  <a:pt x="17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0" y="94"/>
                  <a:pt x="0" y="94"/>
                  <a:pt x="0" y="94"/>
                </a:cubicBezTo>
                <a:cubicBezTo>
                  <a:pt x="0" y="100"/>
                  <a:pt x="0" y="100"/>
                  <a:pt x="0" y="100"/>
                </a:cubicBezTo>
                <a:cubicBezTo>
                  <a:pt x="3" y="98"/>
                  <a:pt x="5" y="97"/>
                  <a:pt x="6" y="98"/>
                </a:cubicBezTo>
                <a:cubicBezTo>
                  <a:pt x="8" y="99"/>
                  <a:pt x="9" y="102"/>
                  <a:pt x="8" y="107"/>
                </a:cubicBezTo>
                <a:cubicBezTo>
                  <a:pt x="8" y="114"/>
                  <a:pt x="9" y="123"/>
                  <a:pt x="12" y="131"/>
                </a:cubicBezTo>
                <a:cubicBezTo>
                  <a:pt x="18" y="137"/>
                  <a:pt x="18" y="137"/>
                  <a:pt x="18" y="137"/>
                </a:cubicBezTo>
                <a:cubicBezTo>
                  <a:pt x="20" y="139"/>
                  <a:pt x="21" y="141"/>
                  <a:pt x="20" y="143"/>
                </a:cubicBezTo>
                <a:cubicBezTo>
                  <a:pt x="18" y="147"/>
                  <a:pt x="18" y="147"/>
                  <a:pt x="18" y="147"/>
                </a:cubicBezTo>
                <a:cubicBezTo>
                  <a:pt x="21" y="152"/>
                  <a:pt x="21" y="152"/>
                  <a:pt x="21" y="152"/>
                </a:cubicBezTo>
                <a:cubicBezTo>
                  <a:pt x="23" y="156"/>
                  <a:pt x="22" y="162"/>
                  <a:pt x="17" y="172"/>
                </a:cubicBezTo>
                <a:cubicBezTo>
                  <a:pt x="22" y="181"/>
                  <a:pt x="22" y="181"/>
                  <a:pt x="22" y="181"/>
                </a:cubicBezTo>
                <a:cubicBezTo>
                  <a:pt x="23" y="183"/>
                  <a:pt x="23" y="183"/>
                  <a:pt x="23" y="183"/>
                </a:cubicBezTo>
                <a:cubicBezTo>
                  <a:pt x="26" y="181"/>
                  <a:pt x="26" y="181"/>
                  <a:pt x="26" y="181"/>
                </a:cubicBezTo>
                <a:cubicBezTo>
                  <a:pt x="31" y="176"/>
                  <a:pt x="36" y="175"/>
                  <a:pt x="39" y="176"/>
                </a:cubicBezTo>
                <a:cubicBezTo>
                  <a:pt x="42" y="177"/>
                  <a:pt x="43" y="179"/>
                  <a:pt x="43" y="181"/>
                </a:cubicBezTo>
                <a:cubicBezTo>
                  <a:pt x="44" y="184"/>
                  <a:pt x="40" y="188"/>
                  <a:pt x="33" y="196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30" y="207"/>
                  <a:pt x="30" y="207"/>
                  <a:pt x="30" y="207"/>
                </a:cubicBezTo>
                <a:cubicBezTo>
                  <a:pt x="34" y="204"/>
                  <a:pt x="38" y="202"/>
                  <a:pt x="40" y="203"/>
                </a:cubicBezTo>
                <a:cubicBezTo>
                  <a:pt x="42" y="203"/>
                  <a:pt x="49" y="201"/>
                  <a:pt x="60" y="195"/>
                </a:cubicBezTo>
                <a:cubicBezTo>
                  <a:pt x="64" y="193"/>
                  <a:pt x="69" y="195"/>
                  <a:pt x="75" y="201"/>
                </a:cubicBezTo>
                <a:cubicBezTo>
                  <a:pt x="77" y="200"/>
                  <a:pt x="77" y="200"/>
                  <a:pt x="77" y="200"/>
                </a:cubicBezTo>
                <a:cubicBezTo>
                  <a:pt x="77" y="195"/>
                  <a:pt x="77" y="195"/>
                  <a:pt x="77" y="195"/>
                </a:cubicBezTo>
                <a:cubicBezTo>
                  <a:pt x="76" y="194"/>
                  <a:pt x="76" y="194"/>
                  <a:pt x="76" y="194"/>
                </a:cubicBezTo>
                <a:cubicBezTo>
                  <a:pt x="75" y="193"/>
                  <a:pt x="76" y="192"/>
                  <a:pt x="77" y="190"/>
                </a:cubicBezTo>
                <a:cubicBezTo>
                  <a:pt x="75" y="183"/>
                  <a:pt x="75" y="183"/>
                  <a:pt x="75" y="183"/>
                </a:cubicBezTo>
                <a:cubicBezTo>
                  <a:pt x="74" y="182"/>
                  <a:pt x="74" y="180"/>
                  <a:pt x="75" y="179"/>
                </a:cubicBezTo>
                <a:cubicBezTo>
                  <a:pt x="76" y="178"/>
                  <a:pt x="78" y="177"/>
                  <a:pt x="79" y="176"/>
                </a:cubicBezTo>
                <a:cubicBezTo>
                  <a:pt x="83" y="173"/>
                  <a:pt x="83" y="173"/>
                  <a:pt x="83" y="173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7"/>
                  <a:pt x="81" y="167"/>
                  <a:pt x="81" y="167"/>
                </a:cubicBezTo>
                <a:cubicBezTo>
                  <a:pt x="83" y="165"/>
                  <a:pt x="83" y="163"/>
                  <a:pt x="82" y="162"/>
                </a:cubicBezTo>
                <a:cubicBezTo>
                  <a:pt x="81" y="159"/>
                  <a:pt x="82" y="157"/>
                  <a:pt x="85" y="154"/>
                </a:cubicBezTo>
                <a:cubicBezTo>
                  <a:pt x="90" y="150"/>
                  <a:pt x="90" y="150"/>
                  <a:pt x="90" y="150"/>
                </a:cubicBezTo>
                <a:cubicBezTo>
                  <a:pt x="89" y="149"/>
                  <a:pt x="89" y="149"/>
                  <a:pt x="89" y="149"/>
                </a:cubicBezTo>
                <a:cubicBezTo>
                  <a:pt x="88" y="148"/>
                  <a:pt x="88" y="148"/>
                  <a:pt x="88" y="148"/>
                </a:cubicBezTo>
                <a:cubicBezTo>
                  <a:pt x="93" y="146"/>
                  <a:pt x="93" y="146"/>
                  <a:pt x="93" y="146"/>
                </a:cubicBezTo>
                <a:cubicBezTo>
                  <a:pt x="93" y="139"/>
                  <a:pt x="93" y="139"/>
                  <a:pt x="93" y="139"/>
                </a:cubicBezTo>
                <a:cubicBezTo>
                  <a:pt x="93" y="137"/>
                  <a:pt x="95" y="134"/>
                  <a:pt x="100" y="130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5" y="118"/>
                  <a:pt x="96" y="114"/>
                  <a:pt x="99" y="111"/>
                </a:cubicBezTo>
                <a:cubicBezTo>
                  <a:pt x="99" y="110"/>
                  <a:pt x="99" y="110"/>
                  <a:pt x="99" y="110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12" y="97"/>
                  <a:pt x="112" y="97"/>
                  <a:pt x="112" y="97"/>
                </a:cubicBezTo>
                <a:cubicBezTo>
                  <a:pt x="110" y="96"/>
                  <a:pt x="109" y="92"/>
                  <a:pt x="110" y="85"/>
                </a:cubicBezTo>
                <a:cubicBezTo>
                  <a:pt x="112" y="74"/>
                  <a:pt x="116" y="69"/>
                  <a:pt x="125" y="68"/>
                </a:cubicBezTo>
                <a:cubicBezTo>
                  <a:pt x="125" y="68"/>
                  <a:pt x="125" y="68"/>
                  <a:pt x="125" y="68"/>
                </a:cubicBezTo>
                <a:cubicBezTo>
                  <a:pt x="126" y="68"/>
                  <a:pt x="126" y="68"/>
                  <a:pt x="126" y="68"/>
                </a:cubicBezTo>
                <a:cubicBezTo>
                  <a:pt x="131" y="70"/>
                  <a:pt x="131" y="70"/>
                  <a:pt x="131" y="70"/>
                </a:cubicBezTo>
                <a:cubicBezTo>
                  <a:pt x="136" y="70"/>
                  <a:pt x="136" y="70"/>
                  <a:pt x="136" y="70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8" y="60"/>
                  <a:pt x="148" y="60"/>
                  <a:pt x="148" y="60"/>
                </a:cubicBezTo>
                <a:cubicBezTo>
                  <a:pt x="148" y="54"/>
                  <a:pt x="148" y="54"/>
                  <a:pt x="148" y="54"/>
                </a:cubicBezTo>
                <a:cubicBezTo>
                  <a:pt x="148" y="53"/>
                  <a:pt x="148" y="53"/>
                  <a:pt x="148" y="53"/>
                </a:cubicBezTo>
                <a:cubicBezTo>
                  <a:pt x="148" y="52"/>
                  <a:pt x="148" y="52"/>
                  <a:pt x="148" y="52"/>
                </a:cubicBezTo>
                <a:cubicBezTo>
                  <a:pt x="150" y="51"/>
                  <a:pt x="150" y="51"/>
                  <a:pt x="150" y="51"/>
                </a:cubicBezTo>
                <a:cubicBezTo>
                  <a:pt x="152" y="49"/>
                  <a:pt x="152" y="49"/>
                  <a:pt x="152" y="49"/>
                </a:cubicBezTo>
                <a:cubicBezTo>
                  <a:pt x="152" y="48"/>
                  <a:pt x="152" y="48"/>
                  <a:pt x="152" y="48"/>
                </a:cubicBezTo>
                <a:cubicBezTo>
                  <a:pt x="148" y="42"/>
                  <a:pt x="148" y="42"/>
                  <a:pt x="148" y="42"/>
                </a:cubicBezTo>
                <a:cubicBezTo>
                  <a:pt x="144" y="36"/>
                  <a:pt x="141" y="32"/>
                  <a:pt x="138" y="26"/>
                </a:cubicBezTo>
                <a:cubicBezTo>
                  <a:pt x="136" y="22"/>
                  <a:pt x="137" y="18"/>
                  <a:pt x="140" y="14"/>
                </a:cubicBezTo>
                <a:cubicBezTo>
                  <a:pt x="132" y="10"/>
                  <a:pt x="132" y="10"/>
                  <a:pt x="132" y="10"/>
                </a:cubicBezTo>
                <a:lnTo>
                  <a:pt x="120" y="8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Freeform 22"/>
          <p:cNvSpPr/>
          <p:nvPr/>
        </p:nvSpPr>
        <p:spPr>
          <a:xfrm>
            <a:off x="4543560" y="4224240"/>
            <a:ext cx="453960" cy="554040"/>
          </a:xfrm>
          <a:custGeom>
            <a:avLst/>
            <a:gdLst>
              <a:gd name="textAreaLeft" fmla="*/ 0 w 453960"/>
              <a:gd name="textAreaRight" fmla="*/ 454320 w 4539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41" h="173">
                <a:moveTo>
                  <a:pt x="73" y="8"/>
                </a:moveTo>
                <a:cubicBezTo>
                  <a:pt x="73" y="8"/>
                  <a:pt x="73" y="8"/>
                  <a:pt x="73" y="8"/>
                </a:cubicBezTo>
                <a:cubicBezTo>
                  <a:pt x="66" y="13"/>
                  <a:pt x="66" y="13"/>
                  <a:pt x="66" y="13"/>
                </a:cubicBezTo>
                <a:cubicBezTo>
                  <a:pt x="60" y="20"/>
                  <a:pt x="60" y="20"/>
                  <a:pt x="60" y="20"/>
                </a:cubicBezTo>
                <a:cubicBezTo>
                  <a:pt x="59" y="20"/>
                  <a:pt x="59" y="20"/>
                  <a:pt x="59" y="20"/>
                </a:cubicBezTo>
                <a:cubicBezTo>
                  <a:pt x="59" y="21"/>
                  <a:pt x="59" y="21"/>
                  <a:pt x="59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46" y="18"/>
                  <a:pt x="46" y="18"/>
                  <a:pt x="46" y="18"/>
                </a:cubicBezTo>
                <a:cubicBezTo>
                  <a:pt x="40" y="20"/>
                  <a:pt x="37" y="24"/>
                  <a:pt x="35" y="31"/>
                </a:cubicBezTo>
                <a:cubicBezTo>
                  <a:pt x="35" y="38"/>
                  <a:pt x="35" y="38"/>
                  <a:pt x="35" y="38"/>
                </a:cubicBezTo>
                <a:cubicBezTo>
                  <a:pt x="40" y="34"/>
                  <a:pt x="40" y="34"/>
                  <a:pt x="40" y="34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8"/>
                  <a:pt x="37" y="48"/>
                  <a:pt x="37" y="48"/>
                </a:cubicBezTo>
                <a:cubicBezTo>
                  <a:pt x="23" y="59"/>
                  <a:pt x="23" y="59"/>
                  <a:pt x="23" y="59"/>
                </a:cubicBezTo>
                <a:cubicBezTo>
                  <a:pt x="21" y="62"/>
                  <a:pt x="21" y="64"/>
                  <a:pt x="21" y="65"/>
                </a:cubicBezTo>
                <a:cubicBezTo>
                  <a:pt x="24" y="68"/>
                  <a:pt x="24" y="68"/>
                  <a:pt x="24" y="68"/>
                </a:cubicBezTo>
                <a:cubicBezTo>
                  <a:pt x="27" y="70"/>
                  <a:pt x="28" y="72"/>
                  <a:pt x="28" y="74"/>
                </a:cubicBezTo>
                <a:cubicBezTo>
                  <a:pt x="28" y="75"/>
                  <a:pt x="27" y="76"/>
                  <a:pt x="27" y="77"/>
                </a:cubicBezTo>
                <a:cubicBezTo>
                  <a:pt x="18" y="84"/>
                  <a:pt x="18" y="84"/>
                  <a:pt x="18" y="84"/>
                </a:cubicBezTo>
                <a:cubicBezTo>
                  <a:pt x="19" y="86"/>
                  <a:pt x="19" y="89"/>
                  <a:pt x="18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6"/>
                  <a:pt x="15" y="96"/>
                  <a:pt x="15" y="96"/>
                </a:cubicBezTo>
                <a:cubicBezTo>
                  <a:pt x="15" y="98"/>
                  <a:pt x="14" y="99"/>
                  <a:pt x="12" y="101"/>
                </a:cubicBezTo>
                <a:cubicBezTo>
                  <a:pt x="7" y="105"/>
                  <a:pt x="7" y="105"/>
                  <a:pt x="7" y="105"/>
                </a:cubicBezTo>
                <a:cubicBezTo>
                  <a:pt x="7" y="106"/>
                  <a:pt x="7" y="106"/>
                  <a:pt x="7" y="106"/>
                </a:cubicBezTo>
                <a:cubicBezTo>
                  <a:pt x="8" y="108"/>
                  <a:pt x="8" y="110"/>
                  <a:pt x="7" y="114"/>
                </a:cubicBezTo>
                <a:cubicBezTo>
                  <a:pt x="9" y="118"/>
                  <a:pt x="9" y="120"/>
                  <a:pt x="7" y="122"/>
                </a:cubicBezTo>
                <a:cubicBezTo>
                  <a:pt x="3" y="126"/>
                  <a:pt x="3" y="126"/>
                  <a:pt x="3" y="126"/>
                </a:cubicBezTo>
                <a:cubicBezTo>
                  <a:pt x="2" y="126"/>
                  <a:pt x="2" y="126"/>
                  <a:pt x="2" y="126"/>
                </a:cubicBezTo>
                <a:cubicBezTo>
                  <a:pt x="0" y="127"/>
                  <a:pt x="0" y="127"/>
                  <a:pt x="0" y="127"/>
                </a:cubicBezTo>
                <a:cubicBezTo>
                  <a:pt x="0" y="128"/>
                  <a:pt x="0" y="128"/>
                  <a:pt x="0" y="128"/>
                </a:cubicBezTo>
                <a:cubicBezTo>
                  <a:pt x="3" y="137"/>
                  <a:pt x="3" y="137"/>
                  <a:pt x="3" y="137"/>
                </a:cubicBezTo>
                <a:cubicBezTo>
                  <a:pt x="3" y="137"/>
                  <a:pt x="3" y="137"/>
                  <a:pt x="3" y="137"/>
                </a:cubicBezTo>
                <a:cubicBezTo>
                  <a:pt x="10" y="136"/>
                  <a:pt x="17" y="136"/>
                  <a:pt x="25" y="137"/>
                </a:cubicBezTo>
                <a:cubicBezTo>
                  <a:pt x="26" y="137"/>
                  <a:pt x="26" y="137"/>
                  <a:pt x="26" y="137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5" y="146"/>
                  <a:pt x="35" y="146"/>
                  <a:pt x="35" y="146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41" y="162"/>
                  <a:pt x="41" y="162"/>
                  <a:pt x="41" y="162"/>
                </a:cubicBezTo>
                <a:cubicBezTo>
                  <a:pt x="51" y="172"/>
                  <a:pt x="51" y="172"/>
                  <a:pt x="51" y="172"/>
                </a:cubicBezTo>
                <a:cubicBezTo>
                  <a:pt x="56" y="173"/>
                  <a:pt x="56" y="173"/>
                  <a:pt x="56" y="173"/>
                </a:cubicBezTo>
                <a:cubicBezTo>
                  <a:pt x="56" y="161"/>
                  <a:pt x="56" y="161"/>
                  <a:pt x="56" y="161"/>
                </a:cubicBezTo>
                <a:cubicBezTo>
                  <a:pt x="66" y="171"/>
                  <a:pt x="66" y="171"/>
                  <a:pt x="66" y="171"/>
                </a:cubicBezTo>
                <a:cubicBezTo>
                  <a:pt x="68" y="169"/>
                  <a:pt x="68" y="169"/>
                  <a:pt x="68" y="169"/>
                </a:cubicBezTo>
                <a:cubicBezTo>
                  <a:pt x="75" y="154"/>
                  <a:pt x="75" y="154"/>
                  <a:pt x="75" y="154"/>
                </a:cubicBezTo>
                <a:cubicBezTo>
                  <a:pt x="76" y="146"/>
                  <a:pt x="76" y="146"/>
                  <a:pt x="76" y="146"/>
                </a:cubicBezTo>
                <a:cubicBezTo>
                  <a:pt x="77" y="146"/>
                  <a:pt x="77" y="146"/>
                  <a:pt x="77" y="146"/>
                </a:cubicBezTo>
                <a:cubicBezTo>
                  <a:pt x="78" y="146"/>
                  <a:pt x="78" y="146"/>
                  <a:pt x="78" y="146"/>
                </a:cubicBezTo>
                <a:cubicBezTo>
                  <a:pt x="86" y="147"/>
                  <a:pt x="86" y="147"/>
                  <a:pt x="86" y="147"/>
                </a:cubicBezTo>
                <a:cubicBezTo>
                  <a:pt x="85" y="141"/>
                  <a:pt x="85" y="141"/>
                  <a:pt x="85" y="141"/>
                </a:cubicBezTo>
                <a:cubicBezTo>
                  <a:pt x="85" y="140"/>
                  <a:pt x="85" y="140"/>
                  <a:pt x="85" y="140"/>
                </a:cubicBezTo>
                <a:cubicBezTo>
                  <a:pt x="85" y="139"/>
                  <a:pt x="85" y="139"/>
                  <a:pt x="85" y="139"/>
                </a:cubicBezTo>
                <a:cubicBezTo>
                  <a:pt x="87" y="139"/>
                  <a:pt x="87" y="139"/>
                  <a:pt x="87" y="139"/>
                </a:cubicBezTo>
                <a:cubicBezTo>
                  <a:pt x="97" y="139"/>
                  <a:pt x="97" y="139"/>
                  <a:pt x="97" y="139"/>
                </a:cubicBezTo>
                <a:cubicBezTo>
                  <a:pt x="102" y="134"/>
                  <a:pt x="104" y="130"/>
                  <a:pt x="104" y="126"/>
                </a:cubicBezTo>
                <a:cubicBezTo>
                  <a:pt x="103" y="112"/>
                  <a:pt x="103" y="112"/>
                  <a:pt x="103" y="112"/>
                </a:cubicBezTo>
                <a:cubicBezTo>
                  <a:pt x="111" y="114"/>
                  <a:pt x="111" y="114"/>
                  <a:pt x="111" y="114"/>
                </a:cubicBezTo>
                <a:cubicBezTo>
                  <a:pt x="114" y="110"/>
                  <a:pt x="114" y="110"/>
                  <a:pt x="114" y="110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7" y="97"/>
                  <a:pt x="117" y="97"/>
                  <a:pt x="117" y="97"/>
                </a:cubicBezTo>
                <a:cubicBezTo>
                  <a:pt x="117" y="98"/>
                  <a:pt x="117" y="98"/>
                  <a:pt x="117" y="98"/>
                </a:cubicBezTo>
                <a:cubicBezTo>
                  <a:pt x="118" y="98"/>
                  <a:pt x="118" y="98"/>
                  <a:pt x="118" y="98"/>
                </a:cubicBezTo>
                <a:cubicBezTo>
                  <a:pt x="123" y="100"/>
                  <a:pt x="123" y="100"/>
                  <a:pt x="123" y="100"/>
                </a:cubicBezTo>
                <a:cubicBezTo>
                  <a:pt x="123" y="99"/>
                  <a:pt x="123" y="99"/>
                  <a:pt x="123" y="99"/>
                </a:cubicBezTo>
                <a:cubicBezTo>
                  <a:pt x="119" y="92"/>
                  <a:pt x="119" y="92"/>
                  <a:pt x="119" y="92"/>
                </a:cubicBezTo>
                <a:cubicBezTo>
                  <a:pt x="121" y="91"/>
                  <a:pt x="121" y="91"/>
                  <a:pt x="121" y="91"/>
                </a:cubicBezTo>
                <a:cubicBezTo>
                  <a:pt x="123" y="90"/>
                  <a:pt x="123" y="90"/>
                  <a:pt x="123" y="90"/>
                </a:cubicBezTo>
                <a:cubicBezTo>
                  <a:pt x="122" y="87"/>
                  <a:pt x="122" y="87"/>
                  <a:pt x="122" y="87"/>
                </a:cubicBezTo>
                <a:cubicBezTo>
                  <a:pt x="118" y="79"/>
                  <a:pt x="118" y="79"/>
                  <a:pt x="118" y="79"/>
                </a:cubicBezTo>
                <a:cubicBezTo>
                  <a:pt x="119" y="79"/>
                  <a:pt x="119" y="79"/>
                  <a:pt x="119" y="79"/>
                </a:cubicBezTo>
                <a:cubicBezTo>
                  <a:pt x="119" y="78"/>
                  <a:pt x="119" y="78"/>
                  <a:pt x="119" y="78"/>
                </a:cubicBezTo>
                <a:cubicBezTo>
                  <a:pt x="130" y="72"/>
                  <a:pt x="130" y="72"/>
                  <a:pt x="130" y="72"/>
                </a:cubicBezTo>
                <a:cubicBezTo>
                  <a:pt x="131" y="68"/>
                  <a:pt x="131" y="68"/>
                  <a:pt x="131" y="68"/>
                </a:cubicBezTo>
                <a:cubicBezTo>
                  <a:pt x="121" y="63"/>
                  <a:pt x="117" y="59"/>
                  <a:pt x="117" y="57"/>
                </a:cubicBezTo>
                <a:cubicBezTo>
                  <a:pt x="118" y="55"/>
                  <a:pt x="119" y="55"/>
                  <a:pt x="121" y="55"/>
                </a:cubicBezTo>
                <a:cubicBezTo>
                  <a:pt x="133" y="57"/>
                  <a:pt x="133" y="57"/>
                  <a:pt x="133" y="57"/>
                </a:cubicBezTo>
                <a:cubicBezTo>
                  <a:pt x="133" y="50"/>
                  <a:pt x="133" y="50"/>
                  <a:pt x="133" y="50"/>
                </a:cubicBezTo>
                <a:cubicBezTo>
                  <a:pt x="133" y="49"/>
                  <a:pt x="133" y="49"/>
                  <a:pt x="133" y="49"/>
                </a:cubicBezTo>
                <a:cubicBezTo>
                  <a:pt x="139" y="43"/>
                  <a:pt x="139" y="43"/>
                  <a:pt x="139" y="43"/>
                </a:cubicBezTo>
                <a:cubicBezTo>
                  <a:pt x="141" y="38"/>
                  <a:pt x="141" y="38"/>
                  <a:pt x="141" y="38"/>
                </a:cubicBezTo>
                <a:cubicBezTo>
                  <a:pt x="138" y="38"/>
                  <a:pt x="137" y="36"/>
                  <a:pt x="135" y="34"/>
                </a:cubicBezTo>
                <a:cubicBezTo>
                  <a:pt x="135" y="34"/>
                  <a:pt x="135" y="34"/>
                  <a:pt x="135" y="34"/>
                </a:cubicBezTo>
                <a:cubicBezTo>
                  <a:pt x="135" y="33"/>
                  <a:pt x="135" y="33"/>
                  <a:pt x="135" y="33"/>
                </a:cubicBezTo>
                <a:cubicBezTo>
                  <a:pt x="135" y="31"/>
                  <a:pt x="135" y="31"/>
                  <a:pt x="135" y="31"/>
                </a:cubicBezTo>
                <a:cubicBezTo>
                  <a:pt x="135" y="30"/>
                  <a:pt x="135" y="30"/>
                  <a:pt x="135" y="30"/>
                </a:cubicBezTo>
                <a:cubicBezTo>
                  <a:pt x="134" y="30"/>
                  <a:pt x="134" y="30"/>
                  <a:pt x="134" y="30"/>
                </a:cubicBezTo>
                <a:cubicBezTo>
                  <a:pt x="133" y="30"/>
                  <a:pt x="133" y="30"/>
                  <a:pt x="133" y="30"/>
                </a:cubicBezTo>
                <a:cubicBezTo>
                  <a:pt x="133" y="32"/>
                  <a:pt x="131" y="33"/>
                  <a:pt x="128" y="33"/>
                </a:cubicBezTo>
                <a:cubicBezTo>
                  <a:pt x="123" y="33"/>
                  <a:pt x="120" y="31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3" y="22"/>
                  <a:pt x="113" y="22"/>
                  <a:pt x="113" y="22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2" y="25"/>
                  <a:pt x="111" y="28"/>
                  <a:pt x="108" y="30"/>
                </a:cubicBezTo>
                <a:cubicBezTo>
                  <a:pt x="103" y="32"/>
                  <a:pt x="98" y="33"/>
                  <a:pt x="93" y="31"/>
                </a:cubicBezTo>
                <a:cubicBezTo>
                  <a:pt x="90" y="30"/>
                  <a:pt x="88" y="27"/>
                  <a:pt x="87" y="24"/>
                </a:cubicBezTo>
                <a:cubicBezTo>
                  <a:pt x="85" y="16"/>
                  <a:pt x="85" y="16"/>
                  <a:pt x="85" y="16"/>
                </a:cubicBezTo>
                <a:cubicBezTo>
                  <a:pt x="84" y="8"/>
                  <a:pt x="83" y="4"/>
                  <a:pt x="80" y="2"/>
                </a:cubicBezTo>
                <a:cubicBezTo>
                  <a:pt x="78" y="1"/>
                  <a:pt x="75" y="0"/>
                  <a:pt x="73" y="1"/>
                </a:cubicBezTo>
                <a:cubicBezTo>
                  <a:pt x="74" y="8"/>
                  <a:pt x="74" y="8"/>
                  <a:pt x="74" y="8"/>
                </a:cubicBezTo>
                <a:lnTo>
                  <a:pt x="73" y="8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reeform 23"/>
          <p:cNvSpPr/>
          <p:nvPr/>
        </p:nvSpPr>
        <p:spPr>
          <a:xfrm>
            <a:off x="4743360" y="3876840"/>
            <a:ext cx="393840" cy="450720"/>
          </a:xfrm>
          <a:custGeom>
            <a:avLst/>
            <a:gdLst>
              <a:gd name="textAreaLeft" fmla="*/ 0 w 393840"/>
              <a:gd name="textAreaRight" fmla="*/ 394200 w 39384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122" h="140">
                <a:moveTo>
                  <a:pt x="75" y="2"/>
                </a:moveTo>
                <a:cubicBezTo>
                  <a:pt x="70" y="4"/>
                  <a:pt x="67" y="5"/>
                  <a:pt x="64" y="6"/>
                </a:cubicBezTo>
                <a:cubicBezTo>
                  <a:pt x="61" y="6"/>
                  <a:pt x="57" y="5"/>
                  <a:pt x="52" y="3"/>
                </a:cubicBezTo>
                <a:cubicBezTo>
                  <a:pt x="43" y="2"/>
                  <a:pt x="43" y="2"/>
                  <a:pt x="43" y="2"/>
                </a:cubicBezTo>
                <a:cubicBezTo>
                  <a:pt x="40" y="3"/>
                  <a:pt x="37" y="7"/>
                  <a:pt x="32" y="14"/>
                </a:cubicBezTo>
                <a:cubicBezTo>
                  <a:pt x="38" y="26"/>
                  <a:pt x="38" y="26"/>
                  <a:pt x="38" y="26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2"/>
                  <a:pt x="28" y="32"/>
                  <a:pt x="28" y="32"/>
                </a:cubicBezTo>
                <a:cubicBezTo>
                  <a:pt x="20" y="30"/>
                  <a:pt x="20" y="30"/>
                  <a:pt x="20" y="30"/>
                </a:cubicBezTo>
                <a:cubicBezTo>
                  <a:pt x="23" y="36"/>
                  <a:pt x="24" y="39"/>
                  <a:pt x="23" y="41"/>
                </a:cubicBezTo>
                <a:cubicBezTo>
                  <a:pt x="22" y="44"/>
                  <a:pt x="22" y="44"/>
                  <a:pt x="22" y="44"/>
                </a:cubicBezTo>
                <a:cubicBezTo>
                  <a:pt x="20" y="49"/>
                  <a:pt x="18" y="52"/>
                  <a:pt x="17" y="53"/>
                </a:cubicBezTo>
                <a:cubicBezTo>
                  <a:pt x="3" y="66"/>
                  <a:pt x="3" y="66"/>
                  <a:pt x="3" y="66"/>
                </a:cubicBezTo>
                <a:cubicBezTo>
                  <a:pt x="6" y="68"/>
                  <a:pt x="6" y="68"/>
                  <a:pt x="6" y="68"/>
                </a:cubicBezTo>
                <a:cubicBezTo>
                  <a:pt x="4" y="70"/>
                  <a:pt x="4" y="70"/>
                  <a:pt x="4" y="70"/>
                </a:cubicBezTo>
                <a:cubicBezTo>
                  <a:pt x="1" y="72"/>
                  <a:pt x="0" y="76"/>
                  <a:pt x="1" y="78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6" y="101"/>
                  <a:pt x="16" y="101"/>
                  <a:pt x="16" y="101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3"/>
                  <a:pt x="16" y="103"/>
                  <a:pt x="16" y="103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5" y="105"/>
                  <a:pt x="15" y="105"/>
                  <a:pt x="15" y="105"/>
                </a:cubicBezTo>
                <a:cubicBezTo>
                  <a:pt x="17" y="105"/>
                  <a:pt x="19" y="106"/>
                  <a:pt x="21" y="107"/>
                </a:cubicBezTo>
                <a:cubicBezTo>
                  <a:pt x="24" y="109"/>
                  <a:pt x="26" y="114"/>
                  <a:pt x="27" y="123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30" y="133"/>
                  <a:pt x="31" y="134"/>
                  <a:pt x="33" y="135"/>
                </a:cubicBezTo>
                <a:cubicBezTo>
                  <a:pt x="36" y="136"/>
                  <a:pt x="40" y="136"/>
                  <a:pt x="43" y="134"/>
                </a:cubicBezTo>
                <a:cubicBezTo>
                  <a:pt x="45" y="132"/>
                  <a:pt x="47" y="131"/>
                  <a:pt x="46" y="130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46" y="129"/>
                  <a:pt x="46" y="129"/>
                  <a:pt x="46" y="129"/>
                </a:cubicBezTo>
                <a:cubicBezTo>
                  <a:pt x="53" y="124"/>
                  <a:pt x="53" y="124"/>
                  <a:pt x="53" y="124"/>
                </a:cubicBezTo>
                <a:cubicBezTo>
                  <a:pt x="53" y="125"/>
                  <a:pt x="53" y="125"/>
                  <a:pt x="53" y="125"/>
                </a:cubicBezTo>
                <a:cubicBezTo>
                  <a:pt x="59" y="134"/>
                  <a:pt x="59" y="134"/>
                  <a:pt x="59" y="134"/>
                </a:cubicBezTo>
                <a:cubicBezTo>
                  <a:pt x="61" y="135"/>
                  <a:pt x="63" y="136"/>
                  <a:pt x="66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6" y="131"/>
                  <a:pt x="66" y="131"/>
                  <a:pt x="66" y="131"/>
                </a:cubicBezTo>
                <a:cubicBezTo>
                  <a:pt x="74" y="134"/>
                  <a:pt x="74" y="134"/>
                  <a:pt x="74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35"/>
                  <a:pt x="77" y="135"/>
                  <a:pt x="77" y="135"/>
                </a:cubicBezTo>
                <a:cubicBezTo>
                  <a:pt x="84" y="140"/>
                  <a:pt x="84" y="140"/>
                  <a:pt x="84" y="140"/>
                </a:cubicBezTo>
                <a:cubicBezTo>
                  <a:pt x="86" y="137"/>
                  <a:pt x="86" y="137"/>
                  <a:pt x="86" y="137"/>
                </a:cubicBezTo>
                <a:cubicBezTo>
                  <a:pt x="85" y="124"/>
                  <a:pt x="85" y="124"/>
                  <a:pt x="85" y="124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91" y="117"/>
                  <a:pt x="91" y="117"/>
                  <a:pt x="91" y="117"/>
                </a:cubicBezTo>
                <a:cubicBezTo>
                  <a:pt x="91" y="116"/>
                  <a:pt x="91" y="115"/>
                  <a:pt x="89" y="113"/>
                </a:cubicBezTo>
                <a:cubicBezTo>
                  <a:pt x="87" y="112"/>
                  <a:pt x="87" y="112"/>
                  <a:pt x="87" y="112"/>
                </a:cubicBezTo>
                <a:cubicBezTo>
                  <a:pt x="88" y="111"/>
                  <a:pt x="88" y="111"/>
                  <a:pt x="88" y="111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90" y="110"/>
                  <a:pt x="90" y="110"/>
                  <a:pt x="90" y="110"/>
                </a:cubicBezTo>
                <a:cubicBezTo>
                  <a:pt x="100" y="93"/>
                  <a:pt x="100" y="93"/>
                  <a:pt x="100" y="93"/>
                </a:cubicBezTo>
                <a:cubicBezTo>
                  <a:pt x="101" y="94"/>
                  <a:pt x="101" y="94"/>
                  <a:pt x="101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5"/>
                  <a:pt x="103" y="95"/>
                  <a:pt x="103" y="95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15" y="92"/>
                  <a:pt x="115" y="92"/>
                  <a:pt x="115" y="92"/>
                </a:cubicBezTo>
                <a:cubicBezTo>
                  <a:pt x="114" y="86"/>
                  <a:pt x="114" y="86"/>
                  <a:pt x="114" y="86"/>
                </a:cubicBezTo>
                <a:cubicBezTo>
                  <a:pt x="112" y="86"/>
                  <a:pt x="112" y="86"/>
                  <a:pt x="112" y="86"/>
                </a:cubicBezTo>
                <a:cubicBezTo>
                  <a:pt x="108" y="87"/>
                  <a:pt x="108" y="87"/>
                  <a:pt x="108" y="87"/>
                </a:cubicBezTo>
                <a:cubicBezTo>
                  <a:pt x="115" y="68"/>
                  <a:pt x="115" y="68"/>
                  <a:pt x="115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8" y="68"/>
                  <a:pt x="108" y="68"/>
                  <a:pt x="108" y="68"/>
                </a:cubicBezTo>
                <a:cubicBezTo>
                  <a:pt x="108" y="67"/>
                  <a:pt x="108" y="67"/>
                  <a:pt x="108" y="67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2"/>
                  <a:pt x="105" y="60"/>
                  <a:pt x="106" y="58"/>
                </a:cubicBezTo>
                <a:cubicBezTo>
                  <a:pt x="116" y="58"/>
                  <a:pt x="116" y="58"/>
                  <a:pt x="116" y="58"/>
                </a:cubicBezTo>
                <a:cubicBezTo>
                  <a:pt x="122" y="58"/>
                  <a:pt x="122" y="58"/>
                  <a:pt x="122" y="58"/>
                </a:cubicBezTo>
                <a:cubicBezTo>
                  <a:pt x="122" y="56"/>
                  <a:pt x="121" y="52"/>
                  <a:pt x="117" y="46"/>
                </a:cubicBezTo>
                <a:cubicBezTo>
                  <a:pt x="109" y="43"/>
                  <a:pt x="109" y="43"/>
                  <a:pt x="109" y="43"/>
                </a:cubicBezTo>
                <a:cubicBezTo>
                  <a:pt x="117" y="35"/>
                  <a:pt x="117" y="35"/>
                  <a:pt x="117" y="35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3" y="34"/>
                  <a:pt x="113" y="34"/>
                  <a:pt x="113" y="34"/>
                </a:cubicBezTo>
                <a:cubicBezTo>
                  <a:pt x="111" y="34"/>
                  <a:pt x="111" y="34"/>
                  <a:pt x="111" y="34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2"/>
                  <a:pt x="111" y="32"/>
                  <a:pt x="111" y="32"/>
                </a:cubicBezTo>
                <a:cubicBezTo>
                  <a:pt x="109" y="28"/>
                  <a:pt x="107" y="25"/>
                  <a:pt x="103" y="24"/>
                </a:cubicBezTo>
                <a:cubicBezTo>
                  <a:pt x="87" y="24"/>
                  <a:pt x="87" y="24"/>
                  <a:pt x="87" y="24"/>
                </a:cubicBezTo>
                <a:cubicBezTo>
                  <a:pt x="81" y="32"/>
                  <a:pt x="81" y="32"/>
                  <a:pt x="81" y="32"/>
                </a:cubicBezTo>
                <a:cubicBezTo>
                  <a:pt x="81" y="32"/>
                  <a:pt x="81" y="32"/>
                  <a:pt x="81" y="32"/>
                </a:cubicBezTo>
                <a:cubicBezTo>
                  <a:pt x="79" y="32"/>
                  <a:pt x="79" y="32"/>
                  <a:pt x="79" y="32"/>
                </a:cubicBezTo>
                <a:cubicBezTo>
                  <a:pt x="53" y="24"/>
                  <a:pt x="53" y="24"/>
                  <a:pt x="53" y="24"/>
                </a:cubicBezTo>
                <a:cubicBezTo>
                  <a:pt x="78" y="18"/>
                  <a:pt x="78" y="18"/>
                  <a:pt x="78" y="18"/>
                </a:cubicBezTo>
                <a:cubicBezTo>
                  <a:pt x="79" y="18"/>
                  <a:pt x="83" y="14"/>
                  <a:pt x="90" y="6"/>
                </a:cubicBezTo>
                <a:cubicBezTo>
                  <a:pt x="82" y="0"/>
                  <a:pt x="82" y="0"/>
                  <a:pt x="82" y="0"/>
                </a:cubicBezTo>
                <a:lnTo>
                  <a:pt x="75" y="2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Freeform 24"/>
          <p:cNvSpPr/>
          <p:nvPr/>
        </p:nvSpPr>
        <p:spPr>
          <a:xfrm>
            <a:off x="4367160" y="3489480"/>
            <a:ext cx="492120" cy="598320"/>
          </a:xfrm>
          <a:custGeom>
            <a:avLst/>
            <a:gdLst>
              <a:gd name="textAreaLeft" fmla="*/ 0 w 492120"/>
              <a:gd name="textAreaRight" fmla="*/ 492480 w 492120"/>
              <a:gd name="textAreaTop" fmla="*/ 0 h 598320"/>
              <a:gd name="textAreaBottom" fmla="*/ 598680 h 598320"/>
            </a:gdLst>
            <a:ahLst/>
            <a:rect l="textAreaLeft" t="textAreaTop" r="textAreaRight" b="textAreaBottom"/>
            <a:pathLst>
              <a:path w="153" h="187">
                <a:moveTo>
                  <a:pt x="96" y="53"/>
                </a:moveTo>
                <a:cubicBezTo>
                  <a:pt x="96" y="53"/>
                  <a:pt x="96" y="53"/>
                  <a:pt x="96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2" y="37"/>
                  <a:pt x="88" y="29"/>
                  <a:pt x="85" y="28"/>
                </a:cubicBezTo>
                <a:cubicBezTo>
                  <a:pt x="71" y="23"/>
                  <a:pt x="71" y="23"/>
                  <a:pt x="71" y="23"/>
                </a:cubicBezTo>
                <a:cubicBezTo>
                  <a:pt x="63" y="21"/>
                  <a:pt x="57" y="19"/>
                  <a:pt x="55" y="17"/>
                </a:cubicBezTo>
                <a:cubicBezTo>
                  <a:pt x="51" y="15"/>
                  <a:pt x="46" y="9"/>
                  <a:pt x="40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4"/>
                  <a:pt x="42" y="9"/>
                  <a:pt x="48" y="17"/>
                </a:cubicBezTo>
                <a:cubicBezTo>
                  <a:pt x="49" y="18"/>
                  <a:pt x="49" y="18"/>
                  <a:pt x="49" y="18"/>
                </a:cubicBezTo>
                <a:cubicBezTo>
                  <a:pt x="49" y="19"/>
                  <a:pt x="49" y="19"/>
                  <a:pt x="49" y="19"/>
                </a:cubicBezTo>
                <a:cubicBezTo>
                  <a:pt x="43" y="30"/>
                  <a:pt x="43" y="30"/>
                  <a:pt x="43" y="30"/>
                </a:cubicBezTo>
                <a:cubicBezTo>
                  <a:pt x="40" y="35"/>
                  <a:pt x="38" y="37"/>
                  <a:pt x="36" y="36"/>
                </a:cubicBezTo>
                <a:cubicBezTo>
                  <a:pt x="34" y="35"/>
                  <a:pt x="31" y="31"/>
                  <a:pt x="26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9" y="25"/>
                  <a:pt x="20" y="29"/>
                  <a:pt x="23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7"/>
                  <a:pt x="23" y="37"/>
                  <a:pt x="23" y="37"/>
                </a:cubicBezTo>
                <a:cubicBezTo>
                  <a:pt x="22" y="41"/>
                  <a:pt x="22" y="41"/>
                  <a:pt x="22" y="41"/>
                </a:cubicBezTo>
                <a:cubicBezTo>
                  <a:pt x="14" y="44"/>
                  <a:pt x="14" y="44"/>
                  <a:pt x="14" y="44"/>
                </a:cubicBezTo>
                <a:cubicBezTo>
                  <a:pt x="14" y="44"/>
                  <a:pt x="14" y="44"/>
                  <a:pt x="14" y="44"/>
                </a:cubicBezTo>
                <a:cubicBezTo>
                  <a:pt x="12" y="45"/>
                  <a:pt x="12" y="45"/>
                  <a:pt x="12" y="45"/>
                </a:cubicBezTo>
                <a:cubicBezTo>
                  <a:pt x="11" y="46"/>
                  <a:pt x="11" y="48"/>
                  <a:pt x="11" y="51"/>
                </a:cubicBezTo>
                <a:cubicBezTo>
                  <a:pt x="12" y="57"/>
                  <a:pt x="12" y="60"/>
                  <a:pt x="10" y="62"/>
                </a:cubicBezTo>
                <a:cubicBezTo>
                  <a:pt x="10" y="63"/>
                  <a:pt x="9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3"/>
                  <a:pt x="2" y="64"/>
                  <a:pt x="4" y="65"/>
                </a:cubicBezTo>
                <a:cubicBezTo>
                  <a:pt x="8" y="69"/>
                  <a:pt x="11" y="74"/>
                  <a:pt x="14" y="80"/>
                </a:cubicBezTo>
                <a:cubicBezTo>
                  <a:pt x="14" y="81"/>
                  <a:pt x="14" y="81"/>
                  <a:pt x="14" y="81"/>
                </a:cubicBezTo>
                <a:cubicBezTo>
                  <a:pt x="14" y="81"/>
                  <a:pt x="14" y="81"/>
                  <a:pt x="14" y="81"/>
                </a:cubicBezTo>
                <a:cubicBezTo>
                  <a:pt x="18" y="81"/>
                  <a:pt x="18" y="81"/>
                  <a:pt x="18" y="81"/>
                </a:cubicBezTo>
                <a:cubicBezTo>
                  <a:pt x="22" y="80"/>
                  <a:pt x="26" y="81"/>
                  <a:pt x="30" y="83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36" y="101"/>
                  <a:pt x="36" y="103"/>
                  <a:pt x="36" y="105"/>
                </a:cubicBezTo>
                <a:cubicBezTo>
                  <a:pt x="35" y="107"/>
                  <a:pt x="33" y="108"/>
                  <a:pt x="30" y="109"/>
                </a:cubicBezTo>
                <a:cubicBezTo>
                  <a:pt x="27" y="109"/>
                  <a:pt x="26" y="111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2" y="122"/>
                  <a:pt x="22" y="122"/>
                  <a:pt x="22" y="122"/>
                </a:cubicBezTo>
                <a:cubicBezTo>
                  <a:pt x="26" y="127"/>
                  <a:pt x="26" y="127"/>
                  <a:pt x="26" y="127"/>
                </a:cubicBezTo>
                <a:cubicBezTo>
                  <a:pt x="37" y="129"/>
                  <a:pt x="37" y="129"/>
                  <a:pt x="37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43" y="134"/>
                  <a:pt x="43" y="134"/>
                  <a:pt x="43" y="134"/>
                </a:cubicBezTo>
                <a:cubicBezTo>
                  <a:pt x="36" y="144"/>
                  <a:pt x="36" y="144"/>
                  <a:pt x="36" y="144"/>
                </a:cubicBezTo>
                <a:cubicBezTo>
                  <a:pt x="51" y="176"/>
                  <a:pt x="51" y="176"/>
                  <a:pt x="51" y="176"/>
                </a:cubicBezTo>
                <a:cubicBezTo>
                  <a:pt x="52" y="177"/>
                  <a:pt x="52" y="177"/>
                  <a:pt x="52" y="177"/>
                </a:cubicBezTo>
                <a:cubicBezTo>
                  <a:pt x="49" y="179"/>
                  <a:pt x="49" y="179"/>
                  <a:pt x="49" y="179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78" y="165"/>
                  <a:pt x="78" y="165"/>
                  <a:pt x="78" y="165"/>
                </a:cubicBezTo>
                <a:cubicBezTo>
                  <a:pt x="73" y="173"/>
                  <a:pt x="73" y="173"/>
                  <a:pt x="73" y="173"/>
                </a:cubicBezTo>
                <a:cubicBezTo>
                  <a:pt x="70" y="179"/>
                  <a:pt x="68" y="184"/>
                  <a:pt x="67" y="187"/>
                </a:cubicBezTo>
                <a:cubicBezTo>
                  <a:pt x="72" y="185"/>
                  <a:pt x="76" y="182"/>
                  <a:pt x="78" y="175"/>
                </a:cubicBezTo>
                <a:cubicBezTo>
                  <a:pt x="78" y="175"/>
                  <a:pt x="78" y="175"/>
                  <a:pt x="78" y="175"/>
                </a:cubicBezTo>
                <a:cubicBezTo>
                  <a:pt x="79" y="175"/>
                  <a:pt x="79" y="175"/>
                  <a:pt x="79" y="175"/>
                </a:cubicBezTo>
                <a:cubicBezTo>
                  <a:pt x="86" y="171"/>
                  <a:pt x="86" y="171"/>
                  <a:pt x="86" y="171"/>
                </a:cubicBezTo>
                <a:cubicBezTo>
                  <a:pt x="87" y="170"/>
                  <a:pt x="87" y="170"/>
                  <a:pt x="87" y="170"/>
                </a:cubicBezTo>
                <a:cubicBezTo>
                  <a:pt x="98" y="179"/>
                  <a:pt x="98" y="179"/>
                  <a:pt x="98" y="179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6" y="184"/>
                  <a:pt x="116" y="184"/>
                  <a:pt x="116" y="184"/>
                </a:cubicBezTo>
                <a:cubicBezTo>
                  <a:pt x="130" y="171"/>
                  <a:pt x="130" y="171"/>
                  <a:pt x="130" y="171"/>
                </a:cubicBezTo>
                <a:cubicBezTo>
                  <a:pt x="132" y="170"/>
                  <a:pt x="133" y="167"/>
                  <a:pt x="134" y="163"/>
                </a:cubicBezTo>
                <a:cubicBezTo>
                  <a:pt x="136" y="160"/>
                  <a:pt x="136" y="160"/>
                  <a:pt x="136" y="160"/>
                </a:cubicBezTo>
                <a:cubicBezTo>
                  <a:pt x="136" y="159"/>
                  <a:pt x="134" y="155"/>
                  <a:pt x="130" y="148"/>
                </a:cubicBezTo>
                <a:cubicBezTo>
                  <a:pt x="127" y="143"/>
                  <a:pt x="127" y="143"/>
                  <a:pt x="127" y="143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4" y="135"/>
                  <a:pt x="144" y="135"/>
                  <a:pt x="144" y="135"/>
                </a:cubicBezTo>
                <a:cubicBezTo>
                  <a:pt x="144" y="134"/>
                  <a:pt x="144" y="134"/>
                  <a:pt x="144" y="134"/>
                </a:cubicBezTo>
                <a:cubicBezTo>
                  <a:pt x="153" y="123"/>
                  <a:pt x="153" y="123"/>
                  <a:pt x="153" y="123"/>
                </a:cubicBezTo>
                <a:cubicBezTo>
                  <a:pt x="149" y="117"/>
                  <a:pt x="149" y="117"/>
                  <a:pt x="149" y="117"/>
                </a:cubicBezTo>
                <a:cubicBezTo>
                  <a:pt x="146" y="113"/>
                  <a:pt x="143" y="111"/>
                  <a:pt x="142" y="111"/>
                </a:cubicBezTo>
                <a:cubicBezTo>
                  <a:pt x="141" y="111"/>
                  <a:pt x="141" y="111"/>
                  <a:pt x="141" y="111"/>
                </a:cubicBezTo>
                <a:cubicBezTo>
                  <a:pt x="136" y="116"/>
                  <a:pt x="136" y="116"/>
                  <a:pt x="136" y="116"/>
                </a:cubicBezTo>
                <a:cubicBezTo>
                  <a:pt x="136" y="115"/>
                  <a:pt x="136" y="115"/>
                  <a:pt x="136" y="115"/>
                </a:cubicBezTo>
                <a:cubicBezTo>
                  <a:pt x="135" y="115"/>
                  <a:pt x="135" y="115"/>
                  <a:pt x="135" y="115"/>
                </a:cubicBezTo>
                <a:cubicBezTo>
                  <a:pt x="128" y="113"/>
                  <a:pt x="128" y="113"/>
                  <a:pt x="128" y="113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3" y="106"/>
                  <a:pt x="120" y="105"/>
                  <a:pt x="118" y="102"/>
                </a:cubicBezTo>
                <a:cubicBezTo>
                  <a:pt x="113" y="99"/>
                  <a:pt x="113" y="99"/>
                  <a:pt x="113" y="99"/>
                </a:cubicBezTo>
                <a:cubicBezTo>
                  <a:pt x="110" y="97"/>
                  <a:pt x="108" y="95"/>
                  <a:pt x="108" y="93"/>
                </a:cubicBezTo>
                <a:cubicBezTo>
                  <a:pt x="107" y="91"/>
                  <a:pt x="108" y="88"/>
                  <a:pt x="110" y="85"/>
                </a:cubicBezTo>
                <a:cubicBezTo>
                  <a:pt x="114" y="78"/>
                  <a:pt x="117" y="73"/>
                  <a:pt x="117" y="69"/>
                </a:cubicBezTo>
                <a:cubicBezTo>
                  <a:pt x="117" y="64"/>
                  <a:pt x="117" y="64"/>
                  <a:pt x="117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29" y="65"/>
                  <a:pt x="129" y="65"/>
                  <a:pt x="129" y="65"/>
                </a:cubicBezTo>
                <a:cubicBezTo>
                  <a:pt x="130" y="64"/>
                  <a:pt x="131" y="60"/>
                  <a:pt x="132" y="53"/>
                </a:cubicBezTo>
                <a:cubicBezTo>
                  <a:pt x="130" y="52"/>
                  <a:pt x="130" y="52"/>
                  <a:pt x="130" y="52"/>
                </a:cubicBezTo>
                <a:cubicBezTo>
                  <a:pt x="123" y="57"/>
                  <a:pt x="118" y="59"/>
                  <a:pt x="115" y="61"/>
                </a:cubicBezTo>
                <a:cubicBezTo>
                  <a:pt x="110" y="62"/>
                  <a:pt x="105" y="59"/>
                  <a:pt x="97" y="54"/>
                </a:cubicBezTo>
                <a:cubicBezTo>
                  <a:pt x="97" y="53"/>
                  <a:pt x="97" y="53"/>
                  <a:pt x="97" y="53"/>
                </a:cubicBezTo>
                <a:lnTo>
                  <a:pt x="96" y="53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Freeform 25"/>
          <p:cNvSpPr/>
          <p:nvPr/>
        </p:nvSpPr>
        <p:spPr>
          <a:xfrm>
            <a:off x="4460760" y="2793960"/>
            <a:ext cx="133560" cy="187200"/>
          </a:xfrm>
          <a:custGeom>
            <a:avLst/>
            <a:gdLst>
              <a:gd name="textAreaLeft" fmla="*/ 0 w 133560"/>
              <a:gd name="textAreaRight" fmla="*/ 133560 w 1335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41" h="58">
                <a:moveTo>
                  <a:pt x="24" y="1"/>
                </a:moveTo>
                <a:cubicBezTo>
                  <a:pt x="23" y="0"/>
                  <a:pt x="23" y="0"/>
                  <a:pt x="23" y="0"/>
                </a:cubicBezTo>
                <a:cubicBezTo>
                  <a:pt x="21" y="0"/>
                  <a:pt x="19" y="2"/>
                  <a:pt x="17" y="7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7"/>
                  <a:pt x="15" y="7"/>
                  <a:pt x="15" y="7"/>
                </a:cubicBezTo>
                <a:cubicBezTo>
                  <a:pt x="12" y="10"/>
                  <a:pt x="12" y="10"/>
                  <a:pt x="12" y="10"/>
                </a:cubicBezTo>
                <a:cubicBezTo>
                  <a:pt x="10" y="11"/>
                  <a:pt x="10" y="11"/>
                  <a:pt x="10" y="11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16"/>
                  <a:pt x="5" y="16"/>
                  <a:pt x="5" y="16"/>
                </a:cubicBezTo>
                <a:cubicBezTo>
                  <a:pt x="6" y="21"/>
                  <a:pt x="5" y="24"/>
                  <a:pt x="3" y="25"/>
                </a:cubicBezTo>
                <a:cubicBezTo>
                  <a:pt x="1" y="30"/>
                  <a:pt x="1" y="30"/>
                  <a:pt x="1" y="30"/>
                </a:cubicBezTo>
                <a:cubicBezTo>
                  <a:pt x="1" y="31"/>
                  <a:pt x="0" y="34"/>
                  <a:pt x="1" y="39"/>
                </a:cubicBezTo>
                <a:cubicBezTo>
                  <a:pt x="3" y="51"/>
                  <a:pt x="3" y="51"/>
                  <a:pt x="3" y="51"/>
                </a:cubicBezTo>
                <a:cubicBezTo>
                  <a:pt x="4" y="52"/>
                  <a:pt x="6" y="54"/>
                  <a:pt x="10" y="56"/>
                </a:cubicBezTo>
                <a:cubicBezTo>
                  <a:pt x="19" y="58"/>
                  <a:pt x="19" y="58"/>
                  <a:pt x="19" y="58"/>
                </a:cubicBezTo>
                <a:cubicBezTo>
                  <a:pt x="21" y="58"/>
                  <a:pt x="25" y="57"/>
                  <a:pt x="28" y="55"/>
                </a:cubicBezTo>
                <a:cubicBezTo>
                  <a:pt x="26" y="50"/>
                  <a:pt x="26" y="50"/>
                  <a:pt x="26" y="50"/>
                </a:cubicBezTo>
                <a:cubicBezTo>
                  <a:pt x="26" y="49"/>
                  <a:pt x="26" y="49"/>
                  <a:pt x="26" y="49"/>
                </a:cubicBezTo>
                <a:cubicBezTo>
                  <a:pt x="26" y="49"/>
                  <a:pt x="26" y="49"/>
                  <a:pt x="26" y="49"/>
                </a:cubicBezTo>
                <a:cubicBezTo>
                  <a:pt x="27" y="45"/>
                  <a:pt x="27" y="45"/>
                  <a:pt x="27" y="45"/>
                </a:cubicBezTo>
                <a:cubicBezTo>
                  <a:pt x="27" y="45"/>
                  <a:pt x="27" y="45"/>
                  <a:pt x="27" y="45"/>
                </a:cubicBezTo>
                <a:cubicBezTo>
                  <a:pt x="31" y="37"/>
                  <a:pt x="31" y="37"/>
                  <a:pt x="31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41" y="37"/>
                  <a:pt x="41" y="37"/>
                  <a:pt x="41" y="37"/>
                </a:cubicBezTo>
                <a:cubicBezTo>
                  <a:pt x="40" y="34"/>
                  <a:pt x="37" y="30"/>
                  <a:pt x="33" y="24"/>
                </a:cubicBezTo>
                <a:cubicBezTo>
                  <a:pt x="30" y="20"/>
                  <a:pt x="30" y="20"/>
                  <a:pt x="30" y="20"/>
                </a:cubicBezTo>
                <a:cubicBezTo>
                  <a:pt x="29" y="17"/>
                  <a:pt x="27" y="13"/>
                  <a:pt x="27" y="9"/>
                </a:cubicBezTo>
                <a:cubicBezTo>
                  <a:pt x="26" y="5"/>
                  <a:pt x="25" y="3"/>
                  <a:pt x="24" y="1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Freeform 26"/>
          <p:cNvSpPr/>
          <p:nvPr/>
        </p:nvSpPr>
        <p:spPr>
          <a:xfrm>
            <a:off x="4335480" y="2711520"/>
            <a:ext cx="171360" cy="182520"/>
          </a:xfrm>
          <a:custGeom>
            <a:avLst/>
            <a:gdLst>
              <a:gd name="textAreaLeft" fmla="*/ 0 w 171360"/>
              <a:gd name="textAreaRight" fmla="*/ 171720 w 171360"/>
              <a:gd name="textAreaTop" fmla="*/ 0 h 182520"/>
              <a:gd name="textAreaBottom" fmla="*/ 182520 h 182520"/>
            </a:gdLst>
            <a:ahLst/>
            <a:rect l="textAreaLeft" t="textAreaTop" r="textAreaRight" b="textAreaBottom"/>
            <a:pathLst>
              <a:path w="53" h="57">
                <a:moveTo>
                  <a:pt x="26" y="12"/>
                </a:moveTo>
                <a:cubicBezTo>
                  <a:pt x="26" y="13"/>
                  <a:pt x="26" y="13"/>
                  <a:pt x="26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19" y="12"/>
                  <a:pt x="19" y="12"/>
                  <a:pt x="19" y="12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20"/>
                  <a:pt x="9" y="20"/>
                  <a:pt x="9" y="20"/>
                </a:cubicBezTo>
                <a:cubicBezTo>
                  <a:pt x="8" y="23"/>
                  <a:pt x="9" y="25"/>
                  <a:pt x="12" y="28"/>
                </a:cubicBezTo>
                <a:cubicBezTo>
                  <a:pt x="12" y="29"/>
                  <a:pt x="12" y="29"/>
                  <a:pt x="12" y="29"/>
                </a:cubicBezTo>
                <a:cubicBezTo>
                  <a:pt x="12" y="30"/>
                  <a:pt x="12" y="30"/>
                  <a:pt x="12" y="30"/>
                </a:cubicBezTo>
                <a:cubicBezTo>
                  <a:pt x="9" y="34"/>
                  <a:pt x="6" y="38"/>
                  <a:pt x="2" y="41"/>
                </a:cubicBezTo>
                <a:cubicBezTo>
                  <a:pt x="0" y="42"/>
                  <a:pt x="0" y="43"/>
                  <a:pt x="0" y="45"/>
                </a:cubicBezTo>
                <a:cubicBezTo>
                  <a:pt x="2" y="48"/>
                  <a:pt x="2" y="48"/>
                  <a:pt x="2" y="48"/>
                </a:cubicBezTo>
                <a:cubicBezTo>
                  <a:pt x="7" y="50"/>
                  <a:pt x="7" y="50"/>
                  <a:pt x="7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5" y="50"/>
                  <a:pt x="18" y="51"/>
                  <a:pt x="20" y="53"/>
                </a:cubicBezTo>
                <a:cubicBezTo>
                  <a:pt x="24" y="55"/>
                  <a:pt x="24" y="55"/>
                  <a:pt x="24" y="55"/>
                </a:cubicBezTo>
                <a:cubicBezTo>
                  <a:pt x="26" y="57"/>
                  <a:pt x="29" y="57"/>
                  <a:pt x="31" y="57"/>
                </a:cubicBezTo>
                <a:cubicBezTo>
                  <a:pt x="32" y="57"/>
                  <a:pt x="34" y="56"/>
                  <a:pt x="36" y="53"/>
                </a:cubicBezTo>
                <a:cubicBezTo>
                  <a:pt x="39" y="49"/>
                  <a:pt x="39" y="49"/>
                  <a:pt x="39" y="49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33"/>
                  <a:pt x="40" y="33"/>
                  <a:pt x="40" y="33"/>
                </a:cubicBezTo>
                <a:cubicBezTo>
                  <a:pt x="43" y="34"/>
                  <a:pt x="43" y="34"/>
                  <a:pt x="43" y="34"/>
                </a:cubicBezTo>
                <a:cubicBezTo>
                  <a:pt x="48" y="34"/>
                  <a:pt x="48" y="34"/>
                  <a:pt x="48" y="34"/>
                </a:cubicBezTo>
                <a:cubicBezTo>
                  <a:pt x="50" y="33"/>
                  <a:pt x="50" y="33"/>
                  <a:pt x="50" y="33"/>
                </a:cubicBezTo>
                <a:cubicBezTo>
                  <a:pt x="51" y="31"/>
                  <a:pt x="51" y="31"/>
                  <a:pt x="51" y="31"/>
                </a:cubicBezTo>
                <a:cubicBezTo>
                  <a:pt x="47" y="19"/>
                  <a:pt x="47" y="19"/>
                  <a:pt x="47" y="19"/>
                </a:cubicBezTo>
                <a:cubicBezTo>
                  <a:pt x="48" y="15"/>
                  <a:pt x="48" y="15"/>
                  <a:pt x="48" y="15"/>
                </a:cubicBezTo>
                <a:cubicBezTo>
                  <a:pt x="50" y="13"/>
                  <a:pt x="51" y="12"/>
                  <a:pt x="53" y="11"/>
                </a:cubicBezTo>
                <a:cubicBezTo>
                  <a:pt x="53" y="11"/>
                  <a:pt x="53" y="11"/>
                  <a:pt x="53" y="11"/>
                </a:cubicBezTo>
                <a:cubicBezTo>
                  <a:pt x="52" y="9"/>
                  <a:pt x="52" y="9"/>
                  <a:pt x="52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34" y="3"/>
                  <a:pt x="34" y="3"/>
                  <a:pt x="34" y="3"/>
                </a:cubicBezTo>
                <a:cubicBezTo>
                  <a:pt x="30" y="0"/>
                  <a:pt x="27" y="0"/>
                  <a:pt x="24" y="1"/>
                </a:cubicBezTo>
                <a:cubicBezTo>
                  <a:pt x="22" y="1"/>
                  <a:pt x="22" y="1"/>
                  <a:pt x="22" y="1"/>
                </a:cubicBezTo>
                <a:cubicBezTo>
                  <a:pt x="22" y="3"/>
                  <a:pt x="22" y="5"/>
                  <a:pt x="25" y="5"/>
                </a:cubicBezTo>
                <a:cubicBezTo>
                  <a:pt x="27" y="7"/>
                  <a:pt x="28" y="9"/>
                  <a:pt x="26" y="12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Freeform 27"/>
          <p:cNvSpPr/>
          <p:nvPr/>
        </p:nvSpPr>
        <p:spPr>
          <a:xfrm>
            <a:off x="4624560" y="2347920"/>
            <a:ext cx="603000" cy="574560"/>
          </a:xfrm>
          <a:custGeom>
            <a:avLst/>
            <a:gdLst>
              <a:gd name="textAreaLeft" fmla="*/ 0 w 603000"/>
              <a:gd name="textAreaRight" fmla="*/ 603360 w 603000"/>
              <a:gd name="textAreaTop" fmla="*/ 0 h 574560"/>
              <a:gd name="textAreaBottom" fmla="*/ 574560 h 574560"/>
            </a:gdLst>
            <a:ahLst/>
            <a:rect l="textAreaLeft" t="textAreaTop" r="textAreaRight" b="textAreaBottom"/>
            <a:pathLst>
              <a:path w="188" h="179">
                <a:moveTo>
                  <a:pt x="86" y="23"/>
                </a:moveTo>
                <a:cubicBezTo>
                  <a:pt x="81" y="30"/>
                  <a:pt x="81" y="30"/>
                  <a:pt x="81" y="30"/>
                </a:cubicBezTo>
                <a:cubicBezTo>
                  <a:pt x="80" y="31"/>
                  <a:pt x="80" y="33"/>
                  <a:pt x="80" y="37"/>
                </a:cubicBezTo>
                <a:cubicBezTo>
                  <a:pt x="80" y="40"/>
                  <a:pt x="80" y="40"/>
                  <a:pt x="80" y="40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4" y="38"/>
                  <a:pt x="64" y="38"/>
                  <a:pt x="64" y="38"/>
                </a:cubicBezTo>
                <a:cubicBezTo>
                  <a:pt x="58" y="46"/>
                  <a:pt x="58" y="46"/>
                  <a:pt x="58" y="46"/>
                </a:cubicBezTo>
                <a:cubicBezTo>
                  <a:pt x="58" y="46"/>
                  <a:pt x="58" y="46"/>
                  <a:pt x="58" y="46"/>
                </a:cubicBezTo>
                <a:cubicBezTo>
                  <a:pt x="51" y="50"/>
                  <a:pt x="51" y="50"/>
                  <a:pt x="51" y="50"/>
                </a:cubicBezTo>
                <a:cubicBezTo>
                  <a:pt x="46" y="56"/>
                  <a:pt x="46" y="56"/>
                  <a:pt x="46" y="56"/>
                </a:cubicBezTo>
                <a:cubicBezTo>
                  <a:pt x="46" y="56"/>
                  <a:pt x="46" y="56"/>
                  <a:pt x="46" y="56"/>
                </a:cubicBezTo>
                <a:cubicBezTo>
                  <a:pt x="45" y="58"/>
                  <a:pt x="45" y="58"/>
                  <a:pt x="45" y="58"/>
                </a:cubicBezTo>
                <a:cubicBezTo>
                  <a:pt x="45" y="58"/>
                  <a:pt x="45" y="58"/>
                  <a:pt x="45" y="58"/>
                </a:cubicBezTo>
                <a:cubicBezTo>
                  <a:pt x="35" y="69"/>
                  <a:pt x="35" y="69"/>
                  <a:pt x="35" y="69"/>
                </a:cubicBezTo>
                <a:cubicBezTo>
                  <a:pt x="35" y="70"/>
                  <a:pt x="35" y="70"/>
                  <a:pt x="35" y="70"/>
                </a:cubicBezTo>
                <a:cubicBezTo>
                  <a:pt x="34" y="70"/>
                  <a:pt x="34" y="70"/>
                  <a:pt x="34" y="70"/>
                </a:cubicBezTo>
                <a:cubicBezTo>
                  <a:pt x="27" y="74"/>
                  <a:pt x="27" y="74"/>
                  <a:pt x="27" y="74"/>
                </a:cubicBezTo>
                <a:cubicBezTo>
                  <a:pt x="21" y="70"/>
                  <a:pt x="21" y="70"/>
                  <a:pt x="21" y="70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15" y="63"/>
                  <a:pt x="15" y="63"/>
                  <a:pt x="15" y="63"/>
                </a:cubicBezTo>
                <a:cubicBezTo>
                  <a:pt x="12" y="61"/>
                  <a:pt x="12" y="61"/>
                  <a:pt x="12" y="61"/>
                </a:cubicBezTo>
                <a:cubicBezTo>
                  <a:pt x="14" y="78"/>
                  <a:pt x="14" y="78"/>
                  <a:pt x="14" y="78"/>
                </a:cubicBezTo>
                <a:cubicBezTo>
                  <a:pt x="17" y="86"/>
                  <a:pt x="17" y="86"/>
                  <a:pt x="17" y="86"/>
                </a:cubicBezTo>
                <a:cubicBezTo>
                  <a:pt x="11" y="92"/>
                  <a:pt x="11" y="92"/>
                  <a:pt x="11" y="92"/>
                </a:cubicBezTo>
                <a:cubicBezTo>
                  <a:pt x="2" y="104"/>
                  <a:pt x="2" y="104"/>
                  <a:pt x="2" y="104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0" y="113"/>
                  <a:pt x="0" y="113"/>
                  <a:pt x="0" y="113"/>
                </a:cubicBezTo>
                <a:cubicBezTo>
                  <a:pt x="1" y="116"/>
                  <a:pt x="1" y="116"/>
                  <a:pt x="1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7" y="119"/>
                  <a:pt x="17" y="119"/>
                  <a:pt x="17" y="119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20" y="122"/>
                  <a:pt x="20" y="122"/>
                  <a:pt x="20" y="122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5" y="126"/>
                  <a:pt x="26" y="127"/>
                  <a:pt x="26" y="129"/>
                </a:cubicBezTo>
                <a:cubicBezTo>
                  <a:pt x="27" y="132"/>
                  <a:pt x="27" y="132"/>
                  <a:pt x="27" y="132"/>
                </a:cubicBezTo>
                <a:cubicBezTo>
                  <a:pt x="39" y="136"/>
                  <a:pt x="39" y="136"/>
                  <a:pt x="39" y="136"/>
                </a:cubicBezTo>
                <a:cubicBezTo>
                  <a:pt x="43" y="135"/>
                  <a:pt x="43" y="135"/>
                  <a:pt x="43" y="135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61" y="105"/>
                  <a:pt x="61" y="105"/>
                  <a:pt x="61" y="105"/>
                </a:cubicBezTo>
                <a:cubicBezTo>
                  <a:pt x="69" y="102"/>
                  <a:pt x="69" y="102"/>
                  <a:pt x="69" y="102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76" y="98"/>
                  <a:pt x="78" y="96"/>
                  <a:pt x="80" y="96"/>
                </a:cubicBezTo>
                <a:cubicBezTo>
                  <a:pt x="81" y="96"/>
                  <a:pt x="83" y="97"/>
                  <a:pt x="86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87" y="100"/>
                  <a:pt x="87" y="100"/>
                  <a:pt x="87" y="10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1"/>
                  <a:pt x="94" y="111"/>
                  <a:pt x="94" y="111"/>
                </a:cubicBezTo>
                <a:cubicBezTo>
                  <a:pt x="95" y="119"/>
                  <a:pt x="95" y="119"/>
                  <a:pt x="95" y="119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87" y="142"/>
                  <a:pt x="87" y="142"/>
                  <a:pt x="87" y="142"/>
                </a:cubicBezTo>
                <a:cubicBezTo>
                  <a:pt x="84" y="147"/>
                  <a:pt x="84" y="147"/>
                  <a:pt x="84" y="14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6" y="156"/>
                  <a:pt x="86" y="156"/>
                </a:cubicBezTo>
                <a:cubicBezTo>
                  <a:pt x="88" y="154"/>
                  <a:pt x="88" y="154"/>
                  <a:pt x="88" y="154"/>
                </a:cubicBezTo>
                <a:cubicBezTo>
                  <a:pt x="92" y="152"/>
                  <a:pt x="92" y="152"/>
                  <a:pt x="92" y="152"/>
                </a:cubicBezTo>
                <a:cubicBezTo>
                  <a:pt x="92" y="151"/>
                  <a:pt x="92" y="151"/>
                  <a:pt x="92" y="151"/>
                </a:cubicBezTo>
                <a:cubicBezTo>
                  <a:pt x="93" y="150"/>
                  <a:pt x="93" y="150"/>
                  <a:pt x="93" y="150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60"/>
                  <a:pt x="97" y="160"/>
                  <a:pt x="97" y="160"/>
                </a:cubicBezTo>
                <a:cubicBezTo>
                  <a:pt x="96" y="160"/>
                  <a:pt x="96" y="160"/>
                  <a:pt x="96" y="160"/>
                </a:cubicBezTo>
                <a:cubicBezTo>
                  <a:pt x="93" y="162"/>
                  <a:pt x="93" y="162"/>
                  <a:pt x="93" y="162"/>
                </a:cubicBezTo>
                <a:cubicBezTo>
                  <a:pt x="92" y="164"/>
                  <a:pt x="92" y="164"/>
                  <a:pt x="92" y="164"/>
                </a:cubicBezTo>
                <a:cubicBezTo>
                  <a:pt x="92" y="167"/>
                  <a:pt x="92" y="167"/>
                  <a:pt x="92" y="167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89" y="172"/>
                  <a:pt x="89" y="172"/>
                  <a:pt x="89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4" y="173"/>
                  <a:pt x="84" y="173"/>
                  <a:pt x="84" y="173"/>
                </a:cubicBezTo>
                <a:cubicBezTo>
                  <a:pt x="81" y="174"/>
                  <a:pt x="81" y="174"/>
                  <a:pt x="81" y="174"/>
                </a:cubicBezTo>
                <a:cubicBezTo>
                  <a:pt x="79" y="178"/>
                  <a:pt x="79" y="178"/>
                  <a:pt x="79" y="178"/>
                </a:cubicBezTo>
                <a:cubicBezTo>
                  <a:pt x="79" y="179"/>
                  <a:pt x="79" y="179"/>
                  <a:pt x="79" y="179"/>
                </a:cubicBezTo>
                <a:cubicBezTo>
                  <a:pt x="92" y="177"/>
                  <a:pt x="92" y="177"/>
                  <a:pt x="92" y="177"/>
                </a:cubicBezTo>
                <a:cubicBezTo>
                  <a:pt x="95" y="175"/>
                  <a:pt x="95" y="175"/>
                  <a:pt x="95" y="17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29" y="133"/>
                  <a:pt x="129" y="133"/>
                  <a:pt x="129" y="133"/>
                </a:cubicBezTo>
                <a:cubicBezTo>
                  <a:pt x="130" y="133"/>
                  <a:pt x="130" y="133"/>
                  <a:pt x="130" y="133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42" y="130"/>
                  <a:pt x="142" y="130"/>
                  <a:pt x="142" y="130"/>
                </a:cubicBezTo>
                <a:cubicBezTo>
                  <a:pt x="147" y="129"/>
                  <a:pt x="147" y="129"/>
                  <a:pt x="147" y="129"/>
                </a:cubicBezTo>
                <a:cubicBezTo>
                  <a:pt x="152" y="126"/>
                  <a:pt x="152" y="126"/>
                  <a:pt x="152" y="126"/>
                </a:cubicBezTo>
                <a:cubicBezTo>
                  <a:pt x="156" y="122"/>
                  <a:pt x="156" y="122"/>
                  <a:pt x="156" y="122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6" y="64"/>
                  <a:pt x="186" y="64"/>
                  <a:pt x="186" y="64"/>
                </a:cubicBezTo>
                <a:cubicBezTo>
                  <a:pt x="185" y="63"/>
                  <a:pt x="183" y="62"/>
                  <a:pt x="182" y="61"/>
                </a:cubicBezTo>
                <a:cubicBezTo>
                  <a:pt x="182" y="60"/>
                  <a:pt x="182" y="60"/>
                  <a:pt x="182" y="60"/>
                </a:cubicBezTo>
                <a:cubicBezTo>
                  <a:pt x="182" y="61"/>
                  <a:pt x="182" y="61"/>
                  <a:pt x="182" y="61"/>
                </a:cubicBezTo>
                <a:cubicBezTo>
                  <a:pt x="178" y="61"/>
                  <a:pt x="178" y="61"/>
                  <a:pt x="178" y="61"/>
                </a:cubicBezTo>
                <a:cubicBezTo>
                  <a:pt x="176" y="60"/>
                  <a:pt x="174" y="60"/>
                  <a:pt x="173" y="58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1" y="54"/>
                  <a:pt x="171" y="54"/>
                  <a:pt x="171" y="54"/>
                </a:cubicBezTo>
                <a:cubicBezTo>
                  <a:pt x="171" y="33"/>
                  <a:pt x="171" y="33"/>
                  <a:pt x="171" y="33"/>
                </a:cubicBezTo>
                <a:cubicBezTo>
                  <a:pt x="169" y="32"/>
                  <a:pt x="166" y="30"/>
                  <a:pt x="164" y="28"/>
                </a:cubicBezTo>
                <a:cubicBezTo>
                  <a:pt x="158" y="22"/>
                  <a:pt x="158" y="22"/>
                  <a:pt x="158" y="22"/>
                </a:cubicBezTo>
                <a:cubicBezTo>
                  <a:pt x="154" y="15"/>
                  <a:pt x="154" y="15"/>
                  <a:pt x="154" y="15"/>
                </a:cubicBezTo>
                <a:cubicBezTo>
                  <a:pt x="153" y="14"/>
                  <a:pt x="153" y="11"/>
                  <a:pt x="153" y="8"/>
                </a:cubicBezTo>
                <a:cubicBezTo>
                  <a:pt x="154" y="6"/>
                  <a:pt x="154" y="6"/>
                  <a:pt x="154" y="6"/>
                </a:cubicBezTo>
                <a:cubicBezTo>
                  <a:pt x="151" y="2"/>
                  <a:pt x="151" y="2"/>
                  <a:pt x="151" y="2"/>
                </a:cubicBezTo>
                <a:cubicBezTo>
                  <a:pt x="150" y="5"/>
                  <a:pt x="150" y="5"/>
                  <a:pt x="150" y="5"/>
                </a:cubicBezTo>
                <a:cubicBezTo>
                  <a:pt x="147" y="12"/>
                  <a:pt x="147" y="12"/>
                  <a:pt x="147" y="12"/>
                </a:cubicBezTo>
                <a:cubicBezTo>
                  <a:pt x="146" y="12"/>
                  <a:pt x="146" y="12"/>
                  <a:pt x="146" y="12"/>
                </a:cubicBezTo>
                <a:cubicBezTo>
                  <a:pt x="143" y="12"/>
                  <a:pt x="140" y="12"/>
                  <a:pt x="137" y="10"/>
                </a:cubicBezTo>
                <a:cubicBezTo>
                  <a:pt x="135" y="10"/>
                  <a:pt x="134" y="8"/>
                  <a:pt x="134" y="5"/>
                </a:cubicBezTo>
                <a:cubicBezTo>
                  <a:pt x="134" y="4"/>
                  <a:pt x="134" y="4"/>
                  <a:pt x="134" y="4"/>
                </a:cubicBezTo>
                <a:cubicBezTo>
                  <a:pt x="132" y="4"/>
                  <a:pt x="132" y="4"/>
                  <a:pt x="132" y="4"/>
                </a:cubicBezTo>
                <a:cubicBezTo>
                  <a:pt x="124" y="6"/>
                  <a:pt x="124" y="6"/>
                  <a:pt x="124" y="6"/>
                </a:cubicBezTo>
                <a:cubicBezTo>
                  <a:pt x="118" y="0"/>
                  <a:pt x="118" y="0"/>
                  <a:pt x="118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4" y="2"/>
                  <a:pt x="114" y="2"/>
                  <a:pt x="114" y="2"/>
                </a:cubicBezTo>
                <a:cubicBezTo>
                  <a:pt x="117" y="6"/>
                  <a:pt x="117" y="6"/>
                  <a:pt x="117" y="6"/>
                </a:cubicBezTo>
                <a:cubicBezTo>
                  <a:pt x="118" y="7"/>
                  <a:pt x="118" y="7"/>
                  <a:pt x="118" y="7"/>
                </a:cubicBezTo>
                <a:cubicBezTo>
                  <a:pt x="114" y="15"/>
                  <a:pt x="114" y="15"/>
                  <a:pt x="114" y="15"/>
                </a:cubicBezTo>
                <a:cubicBezTo>
                  <a:pt x="113" y="15"/>
                  <a:pt x="113" y="15"/>
                  <a:pt x="113" y="15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06" y="24"/>
                  <a:pt x="106" y="24"/>
                  <a:pt x="106" y="24"/>
                </a:cubicBezTo>
                <a:cubicBezTo>
                  <a:pt x="105" y="24"/>
                  <a:pt x="105" y="24"/>
                  <a:pt x="105" y="24"/>
                </a:cubicBezTo>
                <a:cubicBezTo>
                  <a:pt x="104" y="24"/>
                  <a:pt x="104" y="24"/>
                  <a:pt x="104" y="24"/>
                </a:cubicBezTo>
                <a:cubicBezTo>
                  <a:pt x="93" y="25"/>
                  <a:pt x="93" y="25"/>
                  <a:pt x="93" y="25"/>
                </a:cubicBezTo>
                <a:lnTo>
                  <a:pt x="86" y="23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Freeform 28"/>
          <p:cNvSpPr/>
          <p:nvPr/>
        </p:nvSpPr>
        <p:spPr>
          <a:xfrm>
            <a:off x="4759200" y="2001960"/>
            <a:ext cx="860400" cy="583920"/>
          </a:xfrm>
          <a:custGeom>
            <a:avLst/>
            <a:gdLst>
              <a:gd name="textAreaLeft" fmla="*/ 0 w 860400"/>
              <a:gd name="textAreaRight" fmla="*/ 860760 w 860400"/>
              <a:gd name="textAreaTop" fmla="*/ 0 h 583920"/>
              <a:gd name="textAreaBottom" fmla="*/ 584280 h 583920"/>
            </a:gdLst>
            <a:ahLst/>
            <a:rect l="textAreaLeft" t="textAreaTop" r="textAreaRight" b="textAreaBottom"/>
            <a:pathLst>
              <a:path w="268" h="182">
                <a:moveTo>
                  <a:pt x="52" y="9"/>
                </a:moveTo>
                <a:cubicBezTo>
                  <a:pt x="51" y="0"/>
                  <a:pt x="51" y="0"/>
                  <a:pt x="51" y="0"/>
                </a:cubicBezTo>
                <a:cubicBezTo>
                  <a:pt x="47" y="3"/>
                  <a:pt x="47" y="3"/>
                  <a:pt x="47" y="3"/>
                </a:cubicBezTo>
                <a:cubicBezTo>
                  <a:pt x="46" y="3"/>
                  <a:pt x="46" y="3"/>
                  <a:pt x="46" y="3"/>
                </a:cubicBezTo>
                <a:cubicBezTo>
                  <a:pt x="37" y="6"/>
                  <a:pt x="37" y="6"/>
                  <a:pt x="37" y="6"/>
                </a:cubicBezTo>
                <a:cubicBezTo>
                  <a:pt x="36" y="6"/>
                  <a:pt x="36" y="6"/>
                  <a:pt x="36" y="6"/>
                </a:cubicBezTo>
                <a:cubicBezTo>
                  <a:pt x="35" y="5"/>
                  <a:pt x="35" y="5"/>
                  <a:pt x="35" y="5"/>
                </a:cubicBezTo>
                <a:cubicBezTo>
                  <a:pt x="35" y="10"/>
                  <a:pt x="35" y="10"/>
                  <a:pt x="35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8"/>
                  <a:pt x="29" y="18"/>
                  <a:pt x="29" y="18"/>
                </a:cubicBezTo>
                <a:cubicBezTo>
                  <a:pt x="22" y="24"/>
                  <a:pt x="22" y="24"/>
                  <a:pt x="22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5" y="22"/>
                  <a:pt x="12" y="19"/>
                  <a:pt x="11" y="17"/>
                </a:cubicBezTo>
                <a:cubicBezTo>
                  <a:pt x="10" y="16"/>
                  <a:pt x="10" y="16"/>
                  <a:pt x="9" y="16"/>
                </a:cubicBezTo>
                <a:cubicBezTo>
                  <a:pt x="4" y="17"/>
                  <a:pt x="4" y="17"/>
                  <a:pt x="4" y="17"/>
                </a:cubicBezTo>
                <a:cubicBezTo>
                  <a:pt x="0" y="20"/>
                  <a:pt x="0" y="20"/>
                  <a:pt x="0" y="20"/>
                </a:cubicBezTo>
                <a:cubicBezTo>
                  <a:pt x="9" y="27"/>
                  <a:pt x="9" y="27"/>
                  <a:pt x="9" y="27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7" y="32"/>
                  <a:pt x="17" y="32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52"/>
                  <a:pt x="18" y="52"/>
                  <a:pt x="18" y="52"/>
                </a:cubicBezTo>
                <a:cubicBezTo>
                  <a:pt x="20" y="59"/>
                  <a:pt x="20" y="59"/>
                  <a:pt x="20" y="59"/>
                </a:cubicBezTo>
                <a:cubicBezTo>
                  <a:pt x="25" y="70"/>
                  <a:pt x="25" y="70"/>
                  <a:pt x="25" y="70"/>
                </a:cubicBezTo>
                <a:cubicBezTo>
                  <a:pt x="30" y="76"/>
                  <a:pt x="30" y="76"/>
                  <a:pt x="30" y="76"/>
                </a:cubicBezTo>
                <a:cubicBezTo>
                  <a:pt x="35" y="72"/>
                  <a:pt x="35" y="72"/>
                  <a:pt x="35" y="72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44" y="61"/>
                  <a:pt x="44" y="61"/>
                  <a:pt x="44" y="61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54" y="76"/>
                  <a:pt x="54" y="76"/>
                  <a:pt x="54" y="76"/>
                </a:cubicBezTo>
                <a:cubicBezTo>
                  <a:pt x="60" y="78"/>
                  <a:pt x="60" y="78"/>
                  <a:pt x="60" y="7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2" y="97"/>
                  <a:pt x="62" y="97"/>
                  <a:pt x="62" y="97"/>
                </a:cubicBezTo>
                <a:cubicBezTo>
                  <a:pt x="62" y="98"/>
                  <a:pt x="62" y="98"/>
                  <a:pt x="62" y="98"/>
                </a:cubicBezTo>
                <a:cubicBezTo>
                  <a:pt x="62" y="98"/>
                  <a:pt x="62" y="98"/>
                  <a:pt x="62" y="98"/>
                </a:cubicBezTo>
                <a:cubicBezTo>
                  <a:pt x="60" y="106"/>
                  <a:pt x="60" y="106"/>
                  <a:pt x="60" y="106"/>
                </a:cubicBezTo>
                <a:cubicBezTo>
                  <a:pt x="64" y="110"/>
                  <a:pt x="64" y="110"/>
                  <a:pt x="64" y="110"/>
                </a:cubicBezTo>
                <a:cubicBezTo>
                  <a:pt x="69" y="107"/>
                  <a:pt x="69" y="107"/>
                  <a:pt x="69" y="107"/>
                </a:cubicBezTo>
                <a:cubicBezTo>
                  <a:pt x="74" y="102"/>
                  <a:pt x="74" y="102"/>
                  <a:pt x="74" y="102"/>
                </a:cubicBezTo>
                <a:cubicBezTo>
                  <a:pt x="75" y="103"/>
                  <a:pt x="75" y="103"/>
                  <a:pt x="75" y="103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84" y="109"/>
                  <a:pt x="84" y="109"/>
                  <a:pt x="84" y="109"/>
                </a:cubicBezTo>
                <a:cubicBezTo>
                  <a:pt x="89" y="108"/>
                  <a:pt x="89" y="108"/>
                  <a:pt x="89" y="108"/>
                </a:cubicBezTo>
                <a:cubicBezTo>
                  <a:pt x="93" y="106"/>
                  <a:pt x="95" y="108"/>
                  <a:pt x="96" y="110"/>
                </a:cubicBezTo>
                <a:cubicBezTo>
                  <a:pt x="96" y="114"/>
                  <a:pt x="96" y="114"/>
                  <a:pt x="96" y="114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5" y="111"/>
                  <a:pt x="105" y="111"/>
                  <a:pt x="105" y="111"/>
                </a:cubicBezTo>
                <a:cubicBezTo>
                  <a:pt x="105" y="109"/>
                  <a:pt x="105" y="109"/>
                  <a:pt x="105" y="109"/>
                </a:cubicBezTo>
                <a:cubicBezTo>
                  <a:pt x="105" y="107"/>
                  <a:pt x="105" y="106"/>
                  <a:pt x="106" y="105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14" y="108"/>
                  <a:pt x="116" y="110"/>
                  <a:pt x="116" y="114"/>
                </a:cubicBezTo>
                <a:cubicBezTo>
                  <a:pt x="116" y="116"/>
                  <a:pt x="116" y="116"/>
                  <a:pt x="116" y="116"/>
                </a:cubicBezTo>
                <a:cubicBezTo>
                  <a:pt x="116" y="121"/>
                  <a:pt x="116" y="121"/>
                  <a:pt x="116" y="121"/>
                </a:cubicBezTo>
                <a:cubicBezTo>
                  <a:pt x="120" y="128"/>
                  <a:pt x="120" y="128"/>
                  <a:pt x="120" y="128"/>
                </a:cubicBezTo>
                <a:cubicBezTo>
                  <a:pt x="125" y="133"/>
                  <a:pt x="125" y="133"/>
                  <a:pt x="125" y="133"/>
                </a:cubicBezTo>
                <a:cubicBezTo>
                  <a:pt x="127" y="135"/>
                  <a:pt x="129" y="136"/>
                  <a:pt x="131" y="137"/>
                </a:cubicBezTo>
                <a:cubicBezTo>
                  <a:pt x="132" y="137"/>
                  <a:pt x="132" y="137"/>
                  <a:pt x="132" y="137"/>
                </a:cubicBezTo>
                <a:cubicBezTo>
                  <a:pt x="133" y="138"/>
                  <a:pt x="134" y="140"/>
                  <a:pt x="134" y="144"/>
                </a:cubicBezTo>
                <a:cubicBezTo>
                  <a:pt x="134" y="162"/>
                  <a:pt x="134" y="162"/>
                  <a:pt x="134" y="162"/>
                </a:cubicBezTo>
                <a:cubicBezTo>
                  <a:pt x="134" y="164"/>
                  <a:pt x="136" y="165"/>
                  <a:pt x="137" y="165"/>
                </a:cubicBezTo>
                <a:cubicBezTo>
                  <a:pt x="138" y="165"/>
                  <a:pt x="138" y="165"/>
                  <a:pt x="138" y="165"/>
                </a:cubicBezTo>
                <a:cubicBezTo>
                  <a:pt x="140" y="164"/>
                  <a:pt x="142" y="164"/>
                  <a:pt x="144" y="166"/>
                </a:cubicBezTo>
                <a:cubicBezTo>
                  <a:pt x="145" y="167"/>
                  <a:pt x="145" y="167"/>
                  <a:pt x="145" y="167"/>
                </a:cubicBezTo>
                <a:cubicBezTo>
                  <a:pt x="147" y="168"/>
                  <a:pt x="148" y="169"/>
                  <a:pt x="149" y="172"/>
                </a:cubicBezTo>
                <a:cubicBezTo>
                  <a:pt x="150" y="182"/>
                  <a:pt x="150" y="182"/>
                  <a:pt x="150" y="182"/>
                </a:cubicBezTo>
                <a:cubicBezTo>
                  <a:pt x="159" y="164"/>
                  <a:pt x="159" y="164"/>
                  <a:pt x="159" y="164"/>
                </a:cubicBezTo>
                <a:cubicBezTo>
                  <a:pt x="162" y="154"/>
                  <a:pt x="165" y="148"/>
                  <a:pt x="169" y="147"/>
                </a:cubicBezTo>
                <a:cubicBezTo>
                  <a:pt x="173" y="146"/>
                  <a:pt x="178" y="148"/>
                  <a:pt x="186" y="152"/>
                </a:cubicBezTo>
                <a:cubicBezTo>
                  <a:pt x="212" y="154"/>
                  <a:pt x="212" y="154"/>
                  <a:pt x="212" y="154"/>
                </a:cubicBezTo>
                <a:cubicBezTo>
                  <a:pt x="212" y="148"/>
                  <a:pt x="212" y="148"/>
                  <a:pt x="212" y="148"/>
                </a:cubicBezTo>
                <a:cubicBezTo>
                  <a:pt x="200" y="136"/>
                  <a:pt x="200" y="136"/>
                  <a:pt x="200" y="136"/>
                </a:cubicBezTo>
                <a:cubicBezTo>
                  <a:pt x="195" y="133"/>
                  <a:pt x="192" y="131"/>
                  <a:pt x="193" y="129"/>
                </a:cubicBezTo>
                <a:cubicBezTo>
                  <a:pt x="202" y="130"/>
                  <a:pt x="202" y="130"/>
                  <a:pt x="202" y="130"/>
                </a:cubicBezTo>
                <a:cubicBezTo>
                  <a:pt x="211" y="132"/>
                  <a:pt x="219" y="128"/>
                  <a:pt x="226" y="114"/>
                </a:cubicBezTo>
                <a:cubicBezTo>
                  <a:pt x="226" y="114"/>
                  <a:pt x="226" y="114"/>
                  <a:pt x="226" y="114"/>
                </a:cubicBezTo>
                <a:cubicBezTo>
                  <a:pt x="227" y="114"/>
                  <a:pt x="227" y="114"/>
                  <a:pt x="227" y="114"/>
                </a:cubicBezTo>
                <a:cubicBezTo>
                  <a:pt x="236" y="106"/>
                  <a:pt x="236" y="106"/>
                  <a:pt x="236" y="106"/>
                </a:cubicBezTo>
                <a:cubicBezTo>
                  <a:pt x="237" y="87"/>
                  <a:pt x="237" y="87"/>
                  <a:pt x="237" y="87"/>
                </a:cubicBezTo>
                <a:cubicBezTo>
                  <a:pt x="237" y="85"/>
                  <a:pt x="237" y="85"/>
                  <a:pt x="237" y="85"/>
                </a:cubicBezTo>
                <a:cubicBezTo>
                  <a:pt x="238" y="85"/>
                  <a:pt x="238" y="85"/>
                  <a:pt x="238" y="85"/>
                </a:cubicBezTo>
                <a:cubicBezTo>
                  <a:pt x="239" y="85"/>
                  <a:pt x="239" y="85"/>
                  <a:pt x="239" y="85"/>
                </a:cubicBezTo>
                <a:cubicBezTo>
                  <a:pt x="246" y="84"/>
                  <a:pt x="246" y="84"/>
                  <a:pt x="246" y="84"/>
                </a:cubicBezTo>
                <a:cubicBezTo>
                  <a:pt x="247" y="84"/>
                  <a:pt x="247" y="84"/>
                  <a:pt x="247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62" y="99"/>
                  <a:pt x="262" y="99"/>
                  <a:pt x="262" y="99"/>
                </a:cubicBezTo>
                <a:cubicBezTo>
                  <a:pt x="266" y="98"/>
                  <a:pt x="266" y="98"/>
                  <a:pt x="266" y="98"/>
                </a:cubicBezTo>
                <a:cubicBezTo>
                  <a:pt x="266" y="95"/>
                  <a:pt x="266" y="95"/>
                  <a:pt x="266" y="95"/>
                </a:cubicBezTo>
                <a:cubicBezTo>
                  <a:pt x="259" y="88"/>
                  <a:pt x="259" y="88"/>
                  <a:pt x="259" y="88"/>
                </a:cubicBezTo>
                <a:cubicBezTo>
                  <a:pt x="258" y="87"/>
                  <a:pt x="258" y="87"/>
                  <a:pt x="258" y="87"/>
                </a:cubicBezTo>
                <a:cubicBezTo>
                  <a:pt x="257" y="86"/>
                  <a:pt x="257" y="86"/>
                  <a:pt x="257" y="86"/>
                </a:cubicBezTo>
                <a:cubicBezTo>
                  <a:pt x="268" y="79"/>
                  <a:pt x="268" y="79"/>
                  <a:pt x="268" y="79"/>
                </a:cubicBezTo>
                <a:cubicBezTo>
                  <a:pt x="268" y="62"/>
                  <a:pt x="268" y="62"/>
                  <a:pt x="268" y="62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2" y="63"/>
                  <a:pt x="262" y="63"/>
                  <a:pt x="262" y="63"/>
                </a:cubicBezTo>
                <a:cubicBezTo>
                  <a:pt x="256" y="60"/>
                  <a:pt x="256" y="60"/>
                  <a:pt x="256" y="60"/>
                </a:cubicBezTo>
                <a:cubicBezTo>
                  <a:pt x="254" y="60"/>
                  <a:pt x="250" y="58"/>
                  <a:pt x="246" y="55"/>
                </a:cubicBezTo>
                <a:cubicBezTo>
                  <a:pt x="243" y="54"/>
                  <a:pt x="242" y="53"/>
                  <a:pt x="242" y="51"/>
                </a:cubicBezTo>
                <a:cubicBezTo>
                  <a:pt x="242" y="52"/>
                  <a:pt x="242" y="52"/>
                  <a:pt x="242" y="52"/>
                </a:cubicBezTo>
                <a:cubicBezTo>
                  <a:pt x="242" y="53"/>
                  <a:pt x="241" y="54"/>
                  <a:pt x="240" y="54"/>
                </a:cubicBezTo>
                <a:cubicBezTo>
                  <a:pt x="239" y="55"/>
                  <a:pt x="238" y="56"/>
                  <a:pt x="235" y="56"/>
                </a:cubicBezTo>
                <a:cubicBezTo>
                  <a:pt x="234" y="56"/>
                  <a:pt x="234" y="56"/>
                  <a:pt x="234" y="56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28" y="51"/>
                  <a:pt x="228" y="51"/>
                  <a:pt x="228" y="51"/>
                </a:cubicBezTo>
                <a:cubicBezTo>
                  <a:pt x="223" y="55"/>
                  <a:pt x="223" y="55"/>
                  <a:pt x="223" y="55"/>
                </a:cubicBezTo>
                <a:cubicBezTo>
                  <a:pt x="221" y="57"/>
                  <a:pt x="219" y="59"/>
                  <a:pt x="219" y="60"/>
                </a:cubicBezTo>
                <a:cubicBezTo>
                  <a:pt x="222" y="66"/>
                  <a:pt x="222" y="66"/>
                  <a:pt x="222" y="66"/>
                </a:cubicBezTo>
                <a:cubicBezTo>
                  <a:pt x="223" y="67"/>
                  <a:pt x="223" y="68"/>
                  <a:pt x="222" y="69"/>
                </a:cubicBezTo>
                <a:cubicBezTo>
                  <a:pt x="222" y="70"/>
                  <a:pt x="220" y="72"/>
                  <a:pt x="217" y="72"/>
                </a:cubicBezTo>
                <a:cubicBezTo>
                  <a:pt x="214" y="73"/>
                  <a:pt x="214" y="73"/>
                  <a:pt x="214" y="73"/>
                </a:cubicBezTo>
                <a:cubicBezTo>
                  <a:pt x="212" y="74"/>
                  <a:pt x="209" y="74"/>
                  <a:pt x="208" y="72"/>
                </a:cubicBezTo>
                <a:cubicBezTo>
                  <a:pt x="207" y="70"/>
                  <a:pt x="207" y="70"/>
                  <a:pt x="207" y="70"/>
                </a:cubicBezTo>
                <a:cubicBezTo>
                  <a:pt x="196" y="60"/>
                  <a:pt x="196" y="60"/>
                  <a:pt x="196" y="60"/>
                </a:cubicBezTo>
                <a:cubicBezTo>
                  <a:pt x="192" y="58"/>
                  <a:pt x="189" y="56"/>
                  <a:pt x="188" y="54"/>
                </a:cubicBezTo>
                <a:cubicBezTo>
                  <a:pt x="187" y="52"/>
                  <a:pt x="186" y="51"/>
                  <a:pt x="187" y="50"/>
                </a:cubicBezTo>
                <a:cubicBezTo>
                  <a:pt x="186" y="47"/>
                  <a:pt x="186" y="44"/>
                  <a:pt x="185" y="43"/>
                </a:cubicBezTo>
                <a:cubicBezTo>
                  <a:pt x="183" y="44"/>
                  <a:pt x="183" y="44"/>
                  <a:pt x="183" y="44"/>
                </a:cubicBezTo>
                <a:cubicBezTo>
                  <a:pt x="182" y="45"/>
                  <a:pt x="182" y="45"/>
                  <a:pt x="182" y="45"/>
                </a:cubicBezTo>
                <a:cubicBezTo>
                  <a:pt x="182" y="46"/>
                  <a:pt x="183" y="48"/>
                  <a:pt x="184" y="49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4" y="51"/>
                  <a:pt x="184" y="51"/>
                  <a:pt x="184" y="51"/>
                </a:cubicBezTo>
                <a:cubicBezTo>
                  <a:pt x="179" y="60"/>
                  <a:pt x="179" y="60"/>
                  <a:pt x="179" y="60"/>
                </a:cubicBezTo>
                <a:cubicBezTo>
                  <a:pt x="170" y="58"/>
                  <a:pt x="170" y="58"/>
                  <a:pt x="170" y="58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6"/>
                  <a:pt x="168" y="56"/>
                  <a:pt x="168" y="56"/>
                </a:cubicBezTo>
                <a:cubicBezTo>
                  <a:pt x="168" y="54"/>
                  <a:pt x="168" y="52"/>
                  <a:pt x="168" y="50"/>
                </a:cubicBezTo>
                <a:cubicBezTo>
                  <a:pt x="166" y="47"/>
                  <a:pt x="166" y="47"/>
                  <a:pt x="166" y="47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158" y="41"/>
                  <a:pt x="158" y="41"/>
                  <a:pt x="158" y="41"/>
                </a:cubicBezTo>
                <a:cubicBezTo>
                  <a:pt x="158" y="42"/>
                  <a:pt x="157" y="42"/>
                  <a:pt x="156" y="43"/>
                </a:cubicBezTo>
                <a:cubicBezTo>
                  <a:pt x="149" y="42"/>
                  <a:pt x="149" y="42"/>
                  <a:pt x="149" y="42"/>
                </a:cubicBezTo>
                <a:cubicBezTo>
                  <a:pt x="146" y="42"/>
                  <a:pt x="145" y="41"/>
                  <a:pt x="144" y="40"/>
                </a:cubicBezTo>
                <a:cubicBezTo>
                  <a:pt x="144" y="39"/>
                  <a:pt x="144" y="37"/>
                  <a:pt x="144" y="35"/>
                </a:cubicBezTo>
                <a:cubicBezTo>
                  <a:pt x="145" y="34"/>
                  <a:pt x="145" y="34"/>
                  <a:pt x="145" y="34"/>
                </a:cubicBezTo>
                <a:cubicBezTo>
                  <a:pt x="142" y="28"/>
                  <a:pt x="142" y="28"/>
                  <a:pt x="142" y="28"/>
                </a:cubicBezTo>
                <a:cubicBezTo>
                  <a:pt x="128" y="29"/>
                  <a:pt x="128" y="29"/>
                  <a:pt x="128" y="29"/>
                </a:cubicBezTo>
                <a:cubicBezTo>
                  <a:pt x="128" y="31"/>
                  <a:pt x="128" y="32"/>
                  <a:pt x="127" y="34"/>
                </a:cubicBezTo>
                <a:cubicBezTo>
                  <a:pt x="126" y="35"/>
                  <a:pt x="125" y="36"/>
                  <a:pt x="124" y="36"/>
                </a:cubicBezTo>
                <a:cubicBezTo>
                  <a:pt x="122" y="36"/>
                  <a:pt x="119" y="36"/>
                  <a:pt x="117" y="34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4" y="30"/>
                  <a:pt x="112" y="27"/>
                  <a:pt x="112" y="24"/>
                </a:cubicBezTo>
                <a:cubicBezTo>
                  <a:pt x="110" y="20"/>
                  <a:pt x="110" y="20"/>
                  <a:pt x="110" y="20"/>
                </a:cubicBezTo>
                <a:cubicBezTo>
                  <a:pt x="106" y="23"/>
                  <a:pt x="106" y="23"/>
                  <a:pt x="106" y="23"/>
                </a:cubicBezTo>
                <a:cubicBezTo>
                  <a:pt x="102" y="25"/>
                  <a:pt x="100" y="25"/>
                  <a:pt x="98" y="24"/>
                </a:cubicBezTo>
                <a:cubicBezTo>
                  <a:pt x="97" y="23"/>
                  <a:pt x="97" y="23"/>
                  <a:pt x="97" y="23"/>
                </a:cubicBezTo>
                <a:cubicBezTo>
                  <a:pt x="93" y="24"/>
                  <a:pt x="93" y="24"/>
                  <a:pt x="93" y="24"/>
                </a:cubicBezTo>
                <a:cubicBezTo>
                  <a:pt x="82" y="27"/>
                  <a:pt x="82" y="27"/>
                  <a:pt x="82" y="27"/>
                </a:cubicBezTo>
                <a:cubicBezTo>
                  <a:pt x="80" y="29"/>
                  <a:pt x="78" y="29"/>
                  <a:pt x="76" y="29"/>
                </a:cubicBezTo>
                <a:cubicBezTo>
                  <a:pt x="75" y="29"/>
                  <a:pt x="75" y="29"/>
                  <a:pt x="75" y="29"/>
                </a:cubicBezTo>
                <a:cubicBezTo>
                  <a:pt x="71" y="29"/>
                  <a:pt x="68" y="28"/>
                  <a:pt x="67" y="26"/>
                </a:cubicBezTo>
                <a:cubicBezTo>
                  <a:pt x="60" y="21"/>
                  <a:pt x="60" y="21"/>
                  <a:pt x="60" y="21"/>
                </a:cubicBezTo>
                <a:lnTo>
                  <a:pt x="52" y="9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Freeform 29"/>
          <p:cNvSpPr/>
          <p:nvPr/>
        </p:nvSpPr>
        <p:spPr>
          <a:xfrm>
            <a:off x="4576680" y="1168560"/>
            <a:ext cx="1155960" cy="1054080"/>
          </a:xfrm>
          <a:custGeom>
            <a:avLst/>
            <a:gdLst>
              <a:gd name="textAreaLeft" fmla="*/ 0 w 1155960"/>
              <a:gd name="textAreaRight" fmla="*/ 1156320 w 1155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360" h="328">
                <a:moveTo>
                  <a:pt x="358" y="193"/>
                </a:moveTo>
                <a:cubicBezTo>
                  <a:pt x="352" y="153"/>
                  <a:pt x="352" y="153"/>
                  <a:pt x="352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6" y="148"/>
                  <a:pt x="357" y="145"/>
                  <a:pt x="357" y="142"/>
                </a:cubicBezTo>
                <a:cubicBezTo>
                  <a:pt x="355" y="139"/>
                  <a:pt x="355" y="139"/>
                  <a:pt x="355" y="139"/>
                </a:cubicBezTo>
                <a:cubicBezTo>
                  <a:pt x="351" y="137"/>
                  <a:pt x="349" y="130"/>
                  <a:pt x="350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3" y="119"/>
                  <a:pt x="340" y="120"/>
                  <a:pt x="337" y="122"/>
                </a:cubicBezTo>
                <a:cubicBezTo>
                  <a:pt x="334" y="125"/>
                  <a:pt x="332" y="127"/>
                  <a:pt x="331" y="129"/>
                </a:cubicBezTo>
                <a:cubicBezTo>
                  <a:pt x="330" y="134"/>
                  <a:pt x="325" y="137"/>
                  <a:pt x="316" y="140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3" y="153"/>
                  <a:pt x="313" y="153"/>
                  <a:pt x="313" y="153"/>
                </a:cubicBezTo>
                <a:cubicBezTo>
                  <a:pt x="309" y="161"/>
                  <a:pt x="309" y="161"/>
                  <a:pt x="309" y="161"/>
                </a:cubicBezTo>
                <a:cubicBezTo>
                  <a:pt x="309" y="162"/>
                  <a:pt x="309" y="162"/>
                  <a:pt x="309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55" y="156"/>
                  <a:pt x="255" y="156"/>
                  <a:pt x="255" y="156"/>
                </a:cubicBezTo>
                <a:cubicBezTo>
                  <a:pt x="259" y="153"/>
                  <a:pt x="259" y="153"/>
                  <a:pt x="259" y="153"/>
                </a:cubicBezTo>
                <a:cubicBezTo>
                  <a:pt x="254" y="147"/>
                  <a:pt x="254" y="147"/>
                  <a:pt x="254" y="147"/>
                </a:cubicBezTo>
                <a:cubicBezTo>
                  <a:pt x="249" y="143"/>
                  <a:pt x="249" y="143"/>
                  <a:pt x="249" y="143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1"/>
                  <a:pt x="248" y="141"/>
                  <a:pt x="248" y="141"/>
                </a:cubicBezTo>
                <a:cubicBezTo>
                  <a:pt x="246" y="131"/>
                  <a:pt x="246" y="131"/>
                  <a:pt x="246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26" y="125"/>
                  <a:pt x="226" y="125"/>
                  <a:pt x="226" y="125"/>
                </a:cubicBezTo>
                <a:cubicBezTo>
                  <a:pt x="194" y="120"/>
                  <a:pt x="194" y="120"/>
                  <a:pt x="194" y="120"/>
                </a:cubicBezTo>
                <a:cubicBezTo>
                  <a:pt x="168" y="119"/>
                  <a:pt x="168" y="119"/>
                  <a:pt x="168" y="119"/>
                </a:cubicBezTo>
                <a:cubicBezTo>
                  <a:pt x="167" y="119"/>
                  <a:pt x="167" y="119"/>
                  <a:pt x="167" y="119"/>
                </a:cubicBezTo>
                <a:cubicBezTo>
                  <a:pt x="166" y="119"/>
                  <a:pt x="165" y="119"/>
                  <a:pt x="165" y="118"/>
                </a:cubicBezTo>
                <a:cubicBezTo>
                  <a:pt x="149" y="84"/>
                  <a:pt x="149" y="84"/>
                  <a:pt x="149" y="84"/>
                </a:cubicBezTo>
                <a:cubicBezTo>
                  <a:pt x="148" y="81"/>
                  <a:pt x="141" y="72"/>
                  <a:pt x="129" y="57"/>
                </a:cubicBezTo>
                <a:cubicBezTo>
                  <a:pt x="117" y="42"/>
                  <a:pt x="110" y="34"/>
                  <a:pt x="108" y="33"/>
                </a:cubicBezTo>
                <a:cubicBezTo>
                  <a:pt x="85" y="11"/>
                  <a:pt x="85" y="11"/>
                  <a:pt x="85" y="11"/>
                </a:cubicBezTo>
                <a:cubicBezTo>
                  <a:pt x="82" y="9"/>
                  <a:pt x="82" y="9"/>
                  <a:pt x="82" y="9"/>
                </a:cubicBezTo>
                <a:cubicBezTo>
                  <a:pt x="54" y="8"/>
                  <a:pt x="54" y="8"/>
                  <a:pt x="54" y="8"/>
                </a:cubicBezTo>
                <a:cubicBezTo>
                  <a:pt x="53" y="8"/>
                  <a:pt x="53" y="8"/>
                  <a:pt x="53" y="8"/>
                </a:cubicBezTo>
                <a:cubicBezTo>
                  <a:pt x="53" y="7"/>
                  <a:pt x="53" y="7"/>
                  <a:pt x="53" y="7"/>
                </a:cubicBezTo>
                <a:cubicBezTo>
                  <a:pt x="50" y="5"/>
                  <a:pt x="46" y="3"/>
                  <a:pt x="40" y="2"/>
                </a:cubicBezTo>
                <a:cubicBezTo>
                  <a:pt x="35" y="0"/>
                  <a:pt x="23" y="4"/>
                  <a:pt x="4" y="14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6"/>
                  <a:pt x="1" y="40"/>
                  <a:pt x="2" y="43"/>
                </a:cubicBezTo>
                <a:cubicBezTo>
                  <a:pt x="5" y="45"/>
                  <a:pt x="5" y="45"/>
                  <a:pt x="5" y="45"/>
                </a:cubicBezTo>
                <a:cubicBezTo>
                  <a:pt x="11" y="45"/>
                  <a:pt x="11" y="45"/>
                  <a:pt x="11" y="45"/>
                </a:cubicBezTo>
                <a:cubicBezTo>
                  <a:pt x="16" y="46"/>
                  <a:pt x="16" y="46"/>
                  <a:pt x="16" y="46"/>
                </a:cubicBezTo>
                <a:cubicBezTo>
                  <a:pt x="18" y="45"/>
                  <a:pt x="18" y="45"/>
                  <a:pt x="18" y="45"/>
                </a:cubicBezTo>
                <a:cubicBezTo>
                  <a:pt x="18" y="41"/>
                  <a:pt x="19" y="38"/>
                  <a:pt x="21" y="37"/>
                </a:cubicBezTo>
                <a:cubicBezTo>
                  <a:pt x="25" y="37"/>
                  <a:pt x="25" y="37"/>
                  <a:pt x="25" y="37"/>
                </a:cubicBezTo>
                <a:cubicBezTo>
                  <a:pt x="39" y="41"/>
                  <a:pt x="39" y="41"/>
                  <a:pt x="39" y="41"/>
                </a:cubicBezTo>
                <a:cubicBezTo>
                  <a:pt x="42" y="42"/>
                  <a:pt x="42" y="42"/>
                  <a:pt x="42" y="42"/>
                </a:cubicBezTo>
                <a:cubicBezTo>
                  <a:pt x="37" y="49"/>
                  <a:pt x="37" y="49"/>
                  <a:pt x="37" y="49"/>
                </a:cubicBezTo>
                <a:cubicBezTo>
                  <a:pt x="37" y="59"/>
                  <a:pt x="37" y="59"/>
                  <a:pt x="37" y="59"/>
                </a:cubicBezTo>
                <a:cubicBezTo>
                  <a:pt x="37" y="61"/>
                  <a:pt x="41" y="65"/>
                  <a:pt x="48" y="72"/>
                </a:cubicBezTo>
                <a:cubicBezTo>
                  <a:pt x="53" y="75"/>
                  <a:pt x="55" y="77"/>
                  <a:pt x="58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62" y="76"/>
                  <a:pt x="62" y="76"/>
                  <a:pt x="62" y="76"/>
                </a:cubicBezTo>
                <a:cubicBezTo>
                  <a:pt x="69" y="69"/>
                  <a:pt x="69" y="69"/>
                  <a:pt x="69" y="69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85" y="64"/>
                  <a:pt x="85" y="64"/>
                  <a:pt x="85" y="64"/>
                </a:cubicBezTo>
                <a:cubicBezTo>
                  <a:pt x="88" y="57"/>
                  <a:pt x="88" y="57"/>
                  <a:pt x="88" y="57"/>
                </a:cubicBezTo>
                <a:cubicBezTo>
                  <a:pt x="97" y="52"/>
                  <a:pt x="97" y="52"/>
                  <a:pt x="97" y="52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7" y="57"/>
                  <a:pt x="107" y="57"/>
                  <a:pt x="107" y="57"/>
                </a:cubicBezTo>
                <a:cubicBezTo>
                  <a:pt x="115" y="71"/>
                  <a:pt x="115" y="71"/>
                  <a:pt x="115" y="71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1"/>
                  <a:pt x="118" y="81"/>
                  <a:pt x="118" y="81"/>
                </a:cubicBezTo>
                <a:cubicBezTo>
                  <a:pt x="116" y="93"/>
                  <a:pt x="116" y="93"/>
                  <a:pt x="116" y="93"/>
                </a:cubicBezTo>
                <a:cubicBezTo>
                  <a:pt x="119" y="100"/>
                  <a:pt x="119" y="100"/>
                  <a:pt x="119" y="100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10"/>
                  <a:pt x="117" y="110"/>
                  <a:pt x="117" y="110"/>
                </a:cubicBezTo>
                <a:cubicBezTo>
                  <a:pt x="117" y="118"/>
                  <a:pt x="117" y="118"/>
                  <a:pt x="117" y="118"/>
                </a:cubicBezTo>
                <a:cubicBezTo>
                  <a:pt x="119" y="125"/>
                  <a:pt x="121" y="130"/>
                  <a:pt x="121" y="131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9"/>
                  <a:pt x="120" y="139"/>
                  <a:pt x="120" y="139"/>
                </a:cubicBezTo>
                <a:cubicBezTo>
                  <a:pt x="116" y="144"/>
                  <a:pt x="116" y="144"/>
                  <a:pt x="116" y="144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2" y="149"/>
                  <a:pt x="112" y="149"/>
                  <a:pt x="112" y="149"/>
                </a:cubicBezTo>
                <a:cubicBezTo>
                  <a:pt x="111" y="158"/>
                  <a:pt x="111" y="158"/>
                  <a:pt x="111" y="158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1" y="182"/>
                  <a:pt x="111" y="182"/>
                  <a:pt x="111" y="182"/>
                </a:cubicBezTo>
                <a:cubicBezTo>
                  <a:pt x="109" y="184"/>
                  <a:pt x="109" y="184"/>
                  <a:pt x="109" y="184"/>
                </a:cubicBezTo>
                <a:cubicBezTo>
                  <a:pt x="108" y="185"/>
                  <a:pt x="106" y="185"/>
                  <a:pt x="103" y="184"/>
                </a:cubicBezTo>
                <a:cubicBezTo>
                  <a:pt x="103" y="184"/>
                  <a:pt x="103" y="184"/>
                  <a:pt x="103" y="184"/>
                </a:cubicBezTo>
                <a:cubicBezTo>
                  <a:pt x="99" y="180"/>
                  <a:pt x="99" y="180"/>
                  <a:pt x="99" y="180"/>
                </a:cubicBezTo>
                <a:cubicBezTo>
                  <a:pt x="95" y="181"/>
                  <a:pt x="95" y="181"/>
                  <a:pt x="95" y="181"/>
                </a:cubicBezTo>
                <a:cubicBezTo>
                  <a:pt x="90" y="187"/>
                  <a:pt x="90" y="187"/>
                  <a:pt x="90" y="187"/>
                </a:cubicBezTo>
                <a:cubicBezTo>
                  <a:pt x="84" y="203"/>
                  <a:pt x="84" y="203"/>
                  <a:pt x="84" y="203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78" y="209"/>
                  <a:pt x="78" y="209"/>
                  <a:pt x="78" y="209"/>
                </a:cubicBezTo>
                <a:cubicBezTo>
                  <a:pt x="77" y="209"/>
                  <a:pt x="77" y="209"/>
                  <a:pt x="77" y="209"/>
                </a:cubicBezTo>
                <a:cubicBezTo>
                  <a:pt x="74" y="209"/>
                  <a:pt x="74" y="209"/>
                  <a:pt x="74" y="209"/>
                </a:cubicBezTo>
                <a:cubicBezTo>
                  <a:pt x="68" y="219"/>
                  <a:pt x="68" y="219"/>
                  <a:pt x="68" y="219"/>
                </a:cubicBezTo>
                <a:cubicBezTo>
                  <a:pt x="71" y="225"/>
                  <a:pt x="71" y="225"/>
                  <a:pt x="71" y="225"/>
                </a:cubicBezTo>
                <a:cubicBezTo>
                  <a:pt x="72" y="225"/>
                  <a:pt x="72" y="225"/>
                  <a:pt x="72" y="225"/>
                </a:cubicBezTo>
                <a:cubicBezTo>
                  <a:pt x="80" y="235"/>
                  <a:pt x="80" y="235"/>
                  <a:pt x="80" y="235"/>
                </a:cubicBezTo>
                <a:cubicBezTo>
                  <a:pt x="80" y="236"/>
                  <a:pt x="80" y="236"/>
                  <a:pt x="80" y="236"/>
                </a:cubicBezTo>
                <a:cubicBezTo>
                  <a:pt x="80" y="239"/>
                  <a:pt x="80" y="239"/>
                  <a:pt x="80" y="239"/>
                </a:cubicBezTo>
                <a:cubicBezTo>
                  <a:pt x="89" y="240"/>
                  <a:pt x="89" y="240"/>
                  <a:pt x="89" y="240"/>
                </a:cubicBezTo>
                <a:cubicBezTo>
                  <a:pt x="90" y="248"/>
                  <a:pt x="90" y="248"/>
                  <a:pt x="90" y="248"/>
                </a:cubicBezTo>
                <a:cubicBezTo>
                  <a:pt x="90" y="249"/>
                  <a:pt x="90" y="249"/>
                  <a:pt x="90" y="249"/>
                </a:cubicBezTo>
                <a:cubicBezTo>
                  <a:pt x="91" y="258"/>
                  <a:pt x="91" y="258"/>
                  <a:pt x="91" y="258"/>
                </a:cubicBezTo>
                <a:cubicBezTo>
                  <a:pt x="94" y="260"/>
                  <a:pt x="94" y="260"/>
                  <a:pt x="94" y="260"/>
                </a:cubicBezTo>
                <a:cubicBezTo>
                  <a:pt x="102" y="258"/>
                  <a:pt x="102" y="258"/>
                  <a:pt x="102" y="258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11" y="253"/>
                  <a:pt x="111" y="253"/>
                  <a:pt x="111" y="253"/>
                </a:cubicBezTo>
                <a:cubicBezTo>
                  <a:pt x="113" y="266"/>
                  <a:pt x="113" y="266"/>
                  <a:pt x="113" y="266"/>
                </a:cubicBezTo>
                <a:cubicBezTo>
                  <a:pt x="117" y="271"/>
                  <a:pt x="117" y="271"/>
                  <a:pt x="117" y="271"/>
                </a:cubicBezTo>
                <a:cubicBezTo>
                  <a:pt x="118" y="272"/>
                  <a:pt x="118" y="272"/>
                  <a:pt x="118" y="272"/>
                </a:cubicBezTo>
                <a:cubicBezTo>
                  <a:pt x="121" y="277"/>
                  <a:pt x="121" y="277"/>
                  <a:pt x="121" y="277"/>
                </a:cubicBezTo>
                <a:cubicBezTo>
                  <a:pt x="127" y="282"/>
                  <a:pt x="127" y="282"/>
                  <a:pt x="127" y="282"/>
                </a:cubicBezTo>
                <a:cubicBezTo>
                  <a:pt x="127" y="283"/>
                  <a:pt x="129" y="283"/>
                  <a:pt x="131" y="283"/>
                </a:cubicBezTo>
                <a:cubicBezTo>
                  <a:pt x="133" y="284"/>
                  <a:pt x="133" y="284"/>
                  <a:pt x="133" y="284"/>
                </a:cubicBezTo>
                <a:cubicBezTo>
                  <a:pt x="137" y="282"/>
                  <a:pt x="137" y="282"/>
                  <a:pt x="137" y="282"/>
                </a:cubicBezTo>
                <a:cubicBezTo>
                  <a:pt x="140" y="281"/>
                  <a:pt x="143" y="280"/>
                  <a:pt x="146" y="279"/>
                </a:cubicBezTo>
                <a:cubicBezTo>
                  <a:pt x="148" y="278"/>
                  <a:pt x="148" y="278"/>
                  <a:pt x="148" y="278"/>
                </a:cubicBezTo>
                <a:cubicBezTo>
                  <a:pt x="154" y="278"/>
                  <a:pt x="154" y="278"/>
                  <a:pt x="154" y="278"/>
                </a:cubicBezTo>
                <a:cubicBezTo>
                  <a:pt x="156" y="278"/>
                  <a:pt x="157" y="278"/>
                  <a:pt x="158" y="279"/>
                </a:cubicBezTo>
                <a:cubicBezTo>
                  <a:pt x="166" y="274"/>
                  <a:pt x="166" y="274"/>
                  <a:pt x="166" y="274"/>
                </a:cubicBezTo>
                <a:cubicBezTo>
                  <a:pt x="167" y="274"/>
                  <a:pt x="167" y="274"/>
                  <a:pt x="167" y="274"/>
                </a:cubicBezTo>
                <a:cubicBezTo>
                  <a:pt x="167" y="275"/>
                  <a:pt x="167" y="275"/>
                  <a:pt x="167" y="275"/>
                </a:cubicBezTo>
                <a:cubicBezTo>
                  <a:pt x="168" y="274"/>
                  <a:pt x="168" y="274"/>
                  <a:pt x="168" y="274"/>
                </a:cubicBezTo>
                <a:cubicBezTo>
                  <a:pt x="169" y="275"/>
                  <a:pt x="169" y="275"/>
                  <a:pt x="169" y="275"/>
                </a:cubicBezTo>
                <a:cubicBezTo>
                  <a:pt x="172" y="279"/>
                  <a:pt x="173" y="282"/>
                  <a:pt x="173" y="283"/>
                </a:cubicBezTo>
                <a:cubicBezTo>
                  <a:pt x="177" y="289"/>
                  <a:pt x="177" y="289"/>
                  <a:pt x="177" y="289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1" y="290"/>
                  <a:pt x="181" y="290"/>
                  <a:pt x="181" y="290"/>
                </a:cubicBezTo>
                <a:cubicBezTo>
                  <a:pt x="180" y="289"/>
                  <a:pt x="180" y="289"/>
                  <a:pt x="180" y="289"/>
                </a:cubicBezTo>
                <a:cubicBezTo>
                  <a:pt x="179" y="287"/>
                  <a:pt x="179" y="286"/>
                  <a:pt x="180" y="285"/>
                </a:cubicBezTo>
                <a:cubicBezTo>
                  <a:pt x="181" y="284"/>
                  <a:pt x="182" y="283"/>
                  <a:pt x="185" y="283"/>
                </a:cubicBezTo>
                <a:cubicBezTo>
                  <a:pt x="199" y="283"/>
                  <a:pt x="199" y="283"/>
                  <a:pt x="199" y="283"/>
                </a:cubicBezTo>
                <a:cubicBezTo>
                  <a:pt x="200" y="283"/>
                  <a:pt x="200" y="283"/>
                  <a:pt x="200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6" y="292"/>
                  <a:pt x="206" y="292"/>
                  <a:pt x="206" y="292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6"/>
                  <a:pt x="211" y="295"/>
                  <a:pt x="211" y="295"/>
                </a:cubicBezTo>
                <a:cubicBezTo>
                  <a:pt x="213" y="294"/>
                  <a:pt x="213" y="294"/>
                  <a:pt x="213" y="294"/>
                </a:cubicBezTo>
                <a:cubicBezTo>
                  <a:pt x="227" y="303"/>
                  <a:pt x="227" y="303"/>
                  <a:pt x="227" y="303"/>
                </a:cubicBezTo>
                <a:cubicBezTo>
                  <a:pt x="228" y="305"/>
                  <a:pt x="229" y="306"/>
                  <a:pt x="229" y="308"/>
                </a:cubicBezTo>
                <a:cubicBezTo>
                  <a:pt x="229" y="314"/>
                  <a:pt x="229" y="314"/>
                  <a:pt x="229" y="314"/>
                </a:cubicBezTo>
                <a:cubicBezTo>
                  <a:pt x="234" y="315"/>
                  <a:pt x="234" y="315"/>
                  <a:pt x="234" y="315"/>
                </a:cubicBezTo>
                <a:cubicBezTo>
                  <a:pt x="237" y="310"/>
                  <a:pt x="237" y="310"/>
                  <a:pt x="237" y="310"/>
                </a:cubicBezTo>
                <a:cubicBezTo>
                  <a:pt x="235" y="307"/>
                  <a:pt x="235" y="305"/>
                  <a:pt x="235" y="303"/>
                </a:cubicBezTo>
                <a:cubicBezTo>
                  <a:pt x="235" y="302"/>
                  <a:pt x="236" y="301"/>
                  <a:pt x="237" y="300"/>
                </a:cubicBezTo>
                <a:cubicBezTo>
                  <a:pt x="239" y="299"/>
                  <a:pt x="239" y="299"/>
                  <a:pt x="239" y="299"/>
                </a:cubicBezTo>
                <a:cubicBezTo>
                  <a:pt x="239" y="298"/>
                  <a:pt x="239" y="297"/>
                  <a:pt x="240" y="297"/>
                </a:cubicBezTo>
                <a:cubicBezTo>
                  <a:pt x="243" y="297"/>
                  <a:pt x="243" y="297"/>
                  <a:pt x="243" y="297"/>
                </a:cubicBezTo>
                <a:cubicBezTo>
                  <a:pt x="245" y="299"/>
                  <a:pt x="247" y="303"/>
                  <a:pt x="248" y="309"/>
                </a:cubicBezTo>
                <a:cubicBezTo>
                  <a:pt x="248" y="310"/>
                  <a:pt x="248" y="310"/>
                  <a:pt x="248" y="310"/>
                </a:cubicBezTo>
                <a:cubicBezTo>
                  <a:pt x="249" y="311"/>
                  <a:pt x="249" y="311"/>
                  <a:pt x="249" y="311"/>
                </a:cubicBezTo>
                <a:cubicBezTo>
                  <a:pt x="249" y="312"/>
                  <a:pt x="251" y="313"/>
                  <a:pt x="255" y="315"/>
                </a:cubicBezTo>
                <a:cubicBezTo>
                  <a:pt x="255" y="315"/>
                  <a:pt x="255" y="315"/>
                  <a:pt x="255" y="315"/>
                </a:cubicBezTo>
                <a:cubicBezTo>
                  <a:pt x="256" y="315"/>
                  <a:pt x="256" y="315"/>
                  <a:pt x="256" y="315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75" y="326"/>
                  <a:pt x="275" y="326"/>
                  <a:pt x="275" y="326"/>
                </a:cubicBezTo>
                <a:cubicBezTo>
                  <a:pt x="274" y="324"/>
                  <a:pt x="274" y="324"/>
                  <a:pt x="274" y="324"/>
                </a:cubicBezTo>
                <a:cubicBezTo>
                  <a:pt x="272" y="322"/>
                  <a:pt x="272" y="320"/>
                  <a:pt x="272" y="319"/>
                </a:cubicBezTo>
                <a:cubicBezTo>
                  <a:pt x="272" y="316"/>
                  <a:pt x="274" y="313"/>
                  <a:pt x="278" y="311"/>
                </a:cubicBezTo>
                <a:cubicBezTo>
                  <a:pt x="285" y="305"/>
                  <a:pt x="285" y="305"/>
                  <a:pt x="285" y="305"/>
                </a:cubicBezTo>
                <a:cubicBezTo>
                  <a:pt x="293" y="310"/>
                  <a:pt x="293" y="310"/>
                  <a:pt x="293" y="310"/>
                </a:cubicBezTo>
                <a:cubicBezTo>
                  <a:pt x="294" y="310"/>
                  <a:pt x="294" y="310"/>
                  <a:pt x="294" y="310"/>
                </a:cubicBezTo>
                <a:cubicBezTo>
                  <a:pt x="296" y="301"/>
                  <a:pt x="296" y="301"/>
                  <a:pt x="296" y="301"/>
                </a:cubicBezTo>
                <a:cubicBezTo>
                  <a:pt x="296" y="300"/>
                  <a:pt x="296" y="300"/>
                  <a:pt x="296" y="300"/>
                </a:cubicBezTo>
                <a:cubicBezTo>
                  <a:pt x="297" y="299"/>
                  <a:pt x="297" y="299"/>
                  <a:pt x="297" y="299"/>
                </a:cubicBezTo>
                <a:cubicBezTo>
                  <a:pt x="304" y="300"/>
                  <a:pt x="304" y="300"/>
                  <a:pt x="304" y="300"/>
                </a:cubicBezTo>
                <a:cubicBezTo>
                  <a:pt x="305" y="301"/>
                  <a:pt x="306" y="303"/>
                  <a:pt x="306" y="305"/>
                </a:cubicBezTo>
                <a:cubicBezTo>
                  <a:pt x="306" y="306"/>
                  <a:pt x="305" y="308"/>
                  <a:pt x="303" y="310"/>
                </a:cubicBezTo>
                <a:cubicBezTo>
                  <a:pt x="305" y="311"/>
                  <a:pt x="305" y="311"/>
                  <a:pt x="305" y="311"/>
                </a:cubicBezTo>
                <a:cubicBezTo>
                  <a:pt x="309" y="313"/>
                  <a:pt x="312" y="314"/>
                  <a:pt x="314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20" y="317"/>
                  <a:pt x="320" y="317"/>
                  <a:pt x="320" y="317"/>
                </a:cubicBezTo>
                <a:cubicBezTo>
                  <a:pt x="324" y="317"/>
                  <a:pt x="324" y="317"/>
                  <a:pt x="324" y="317"/>
                </a:cubicBezTo>
                <a:cubicBezTo>
                  <a:pt x="318" y="288"/>
                  <a:pt x="318" y="288"/>
                  <a:pt x="318" y="288"/>
                </a:cubicBezTo>
                <a:cubicBezTo>
                  <a:pt x="314" y="285"/>
                  <a:pt x="310" y="281"/>
                  <a:pt x="307" y="275"/>
                </a:cubicBezTo>
                <a:cubicBezTo>
                  <a:pt x="304" y="270"/>
                  <a:pt x="305" y="263"/>
                  <a:pt x="312" y="255"/>
                </a:cubicBezTo>
                <a:cubicBezTo>
                  <a:pt x="315" y="251"/>
                  <a:pt x="320" y="247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6" y="245"/>
                  <a:pt x="336" y="245"/>
                  <a:pt x="336" y="245"/>
                </a:cubicBezTo>
                <a:cubicBezTo>
                  <a:pt x="346" y="245"/>
                  <a:pt x="346" y="245"/>
                  <a:pt x="346" y="245"/>
                </a:cubicBezTo>
                <a:cubicBezTo>
                  <a:pt x="350" y="243"/>
                  <a:pt x="353" y="237"/>
                  <a:pt x="357" y="228"/>
                </a:cubicBezTo>
                <a:cubicBezTo>
                  <a:pt x="360" y="222"/>
                  <a:pt x="360" y="211"/>
                  <a:pt x="358" y="193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Freeform 30"/>
          <p:cNvSpPr/>
          <p:nvPr/>
        </p:nvSpPr>
        <p:spPr>
          <a:xfrm>
            <a:off x="4348080" y="3054240"/>
            <a:ext cx="696960" cy="436680"/>
          </a:xfrm>
          <a:custGeom>
            <a:avLst/>
            <a:gdLst>
              <a:gd name="textAreaLeft" fmla="*/ 0 w 696960"/>
              <a:gd name="textAreaRight" fmla="*/ 697320 w 69696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217" h="136">
                <a:moveTo>
                  <a:pt x="198" y="4"/>
                </a:moveTo>
                <a:cubicBezTo>
                  <a:pt x="198" y="4"/>
                  <a:pt x="198" y="4"/>
                  <a:pt x="198" y="4"/>
                </a:cubicBezTo>
                <a:cubicBezTo>
                  <a:pt x="198" y="6"/>
                  <a:pt x="196" y="7"/>
                  <a:pt x="194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68" y="4"/>
                  <a:pt x="161" y="2"/>
                  <a:pt x="157" y="0"/>
                </a:cubicBezTo>
                <a:cubicBezTo>
                  <a:pt x="135" y="21"/>
                  <a:pt x="135" y="21"/>
                  <a:pt x="135" y="21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4" y="31"/>
                  <a:pt x="134" y="31"/>
                  <a:pt x="134" y="31"/>
                </a:cubicBezTo>
                <a:cubicBezTo>
                  <a:pt x="117" y="33"/>
                  <a:pt x="108" y="32"/>
                  <a:pt x="106" y="26"/>
                </a:cubicBezTo>
                <a:cubicBezTo>
                  <a:pt x="104" y="1"/>
                  <a:pt x="104" y="1"/>
                  <a:pt x="104" y="1"/>
                </a:cubicBezTo>
                <a:cubicBezTo>
                  <a:pt x="84" y="0"/>
                  <a:pt x="84" y="0"/>
                  <a:pt x="84" y="0"/>
                </a:cubicBezTo>
                <a:cubicBezTo>
                  <a:pt x="76" y="18"/>
                  <a:pt x="76" y="18"/>
                  <a:pt x="76" y="18"/>
                </a:cubicBezTo>
                <a:cubicBezTo>
                  <a:pt x="75" y="10"/>
                  <a:pt x="75" y="10"/>
                  <a:pt x="75" y="10"/>
                </a:cubicBezTo>
                <a:cubicBezTo>
                  <a:pt x="75" y="4"/>
                  <a:pt x="74" y="0"/>
                  <a:pt x="72" y="0"/>
                </a:cubicBezTo>
                <a:cubicBezTo>
                  <a:pt x="64" y="4"/>
                  <a:pt x="64" y="4"/>
                  <a:pt x="64" y="4"/>
                </a:cubicBezTo>
                <a:cubicBezTo>
                  <a:pt x="60" y="9"/>
                  <a:pt x="60" y="9"/>
                  <a:pt x="60" y="9"/>
                </a:cubicBezTo>
                <a:cubicBezTo>
                  <a:pt x="59" y="10"/>
                  <a:pt x="59" y="10"/>
                  <a:pt x="59" y="10"/>
                </a:cubicBezTo>
                <a:cubicBezTo>
                  <a:pt x="59" y="10"/>
                  <a:pt x="59" y="10"/>
                  <a:pt x="59" y="10"/>
                </a:cubicBezTo>
                <a:cubicBezTo>
                  <a:pt x="51" y="12"/>
                  <a:pt x="51" y="12"/>
                  <a:pt x="51" y="12"/>
                </a:cubicBezTo>
                <a:cubicBezTo>
                  <a:pt x="42" y="20"/>
                  <a:pt x="34" y="27"/>
                  <a:pt x="28" y="35"/>
                </a:cubicBezTo>
                <a:cubicBezTo>
                  <a:pt x="6" y="64"/>
                  <a:pt x="6" y="64"/>
                  <a:pt x="6" y="64"/>
                </a:cubicBezTo>
                <a:cubicBezTo>
                  <a:pt x="11" y="74"/>
                  <a:pt x="11" y="74"/>
                  <a:pt x="11" y="74"/>
                </a:cubicBezTo>
                <a:cubicBezTo>
                  <a:pt x="11" y="76"/>
                  <a:pt x="11" y="76"/>
                  <a:pt x="11" y="76"/>
                </a:cubicBezTo>
                <a:cubicBezTo>
                  <a:pt x="11" y="76"/>
                  <a:pt x="11" y="76"/>
                  <a:pt x="11" y="76"/>
                </a:cubicBezTo>
                <a:cubicBezTo>
                  <a:pt x="10" y="76"/>
                  <a:pt x="10" y="76"/>
                  <a:pt x="10" y="76"/>
                </a:cubicBezTo>
                <a:cubicBezTo>
                  <a:pt x="9" y="78"/>
                  <a:pt x="10" y="82"/>
                  <a:pt x="12" y="86"/>
                </a:cubicBezTo>
                <a:cubicBezTo>
                  <a:pt x="15" y="91"/>
                  <a:pt x="17" y="97"/>
                  <a:pt x="17" y="103"/>
                </a:cubicBezTo>
                <a:cubicBezTo>
                  <a:pt x="17" y="104"/>
                  <a:pt x="17" y="104"/>
                  <a:pt x="17" y="104"/>
                </a:cubicBezTo>
                <a:cubicBezTo>
                  <a:pt x="0" y="114"/>
                  <a:pt x="0" y="114"/>
                  <a:pt x="0" y="114"/>
                </a:cubicBezTo>
                <a:cubicBezTo>
                  <a:pt x="0" y="118"/>
                  <a:pt x="0" y="118"/>
                  <a:pt x="0" y="118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9" y="123"/>
                  <a:pt x="9" y="124"/>
                </a:cubicBezTo>
                <a:cubicBezTo>
                  <a:pt x="9" y="124"/>
                  <a:pt x="9" y="124"/>
                  <a:pt x="9" y="124"/>
                </a:cubicBezTo>
                <a:cubicBezTo>
                  <a:pt x="8" y="126"/>
                  <a:pt x="12" y="129"/>
                  <a:pt x="18" y="132"/>
                </a:cubicBezTo>
                <a:cubicBezTo>
                  <a:pt x="32" y="136"/>
                  <a:pt x="32" y="136"/>
                  <a:pt x="32" y="136"/>
                </a:cubicBezTo>
                <a:cubicBezTo>
                  <a:pt x="37" y="133"/>
                  <a:pt x="37" y="133"/>
                  <a:pt x="37" y="133"/>
                </a:cubicBezTo>
                <a:cubicBezTo>
                  <a:pt x="42" y="126"/>
                  <a:pt x="42" y="126"/>
                  <a:pt x="42" y="126"/>
                </a:cubicBezTo>
                <a:cubicBezTo>
                  <a:pt x="46" y="115"/>
                  <a:pt x="46" y="115"/>
                  <a:pt x="46" y="115"/>
                </a:cubicBezTo>
                <a:cubicBezTo>
                  <a:pt x="57" y="119"/>
                  <a:pt x="57" y="119"/>
                  <a:pt x="57" y="119"/>
                </a:cubicBezTo>
                <a:cubicBezTo>
                  <a:pt x="59" y="120"/>
                  <a:pt x="59" y="120"/>
                  <a:pt x="59" y="120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2"/>
                  <a:pt x="59" y="122"/>
                  <a:pt x="59" y="122"/>
                </a:cubicBezTo>
                <a:cubicBezTo>
                  <a:pt x="57" y="126"/>
                  <a:pt x="58" y="130"/>
                  <a:pt x="62" y="132"/>
                </a:cubicBezTo>
                <a:cubicBezTo>
                  <a:pt x="74" y="132"/>
                  <a:pt x="74" y="132"/>
                  <a:pt x="74" y="132"/>
                </a:cubicBezTo>
                <a:cubicBezTo>
                  <a:pt x="79" y="131"/>
                  <a:pt x="82" y="130"/>
                  <a:pt x="85" y="128"/>
                </a:cubicBezTo>
                <a:cubicBezTo>
                  <a:pt x="86" y="126"/>
                  <a:pt x="89" y="125"/>
                  <a:pt x="92" y="126"/>
                </a:cubicBezTo>
                <a:cubicBezTo>
                  <a:pt x="97" y="126"/>
                  <a:pt x="101" y="128"/>
                  <a:pt x="104" y="132"/>
                </a:cubicBezTo>
                <a:cubicBezTo>
                  <a:pt x="106" y="125"/>
                  <a:pt x="106" y="125"/>
                  <a:pt x="106" y="125"/>
                </a:cubicBezTo>
                <a:cubicBezTo>
                  <a:pt x="107" y="124"/>
                  <a:pt x="107" y="124"/>
                  <a:pt x="107" y="124"/>
                </a:cubicBezTo>
                <a:cubicBezTo>
                  <a:pt x="108" y="124"/>
                  <a:pt x="108" y="124"/>
                  <a:pt x="108" y="124"/>
                </a:cubicBezTo>
                <a:cubicBezTo>
                  <a:pt x="110" y="122"/>
                  <a:pt x="111" y="120"/>
                  <a:pt x="112" y="118"/>
                </a:cubicBezTo>
                <a:cubicBezTo>
                  <a:pt x="114" y="115"/>
                  <a:pt x="116" y="112"/>
                  <a:pt x="119" y="110"/>
                </a:cubicBezTo>
                <a:cubicBezTo>
                  <a:pt x="124" y="107"/>
                  <a:pt x="124" y="107"/>
                  <a:pt x="124" y="107"/>
                </a:cubicBezTo>
                <a:cubicBezTo>
                  <a:pt x="125" y="106"/>
                  <a:pt x="125" y="106"/>
                  <a:pt x="125" y="106"/>
                </a:cubicBezTo>
                <a:cubicBezTo>
                  <a:pt x="125" y="107"/>
                  <a:pt x="125" y="107"/>
                  <a:pt x="125" y="107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40" y="86"/>
                  <a:pt x="140" y="86"/>
                  <a:pt x="140" y="86"/>
                </a:cubicBezTo>
                <a:cubicBezTo>
                  <a:pt x="147" y="82"/>
                  <a:pt x="150" y="78"/>
                  <a:pt x="150" y="75"/>
                </a:cubicBezTo>
                <a:cubicBezTo>
                  <a:pt x="148" y="69"/>
                  <a:pt x="148" y="69"/>
                  <a:pt x="148" y="69"/>
                </a:cubicBezTo>
                <a:cubicBezTo>
                  <a:pt x="147" y="65"/>
                  <a:pt x="147" y="62"/>
                  <a:pt x="148" y="61"/>
                </a:cubicBezTo>
                <a:cubicBezTo>
                  <a:pt x="149" y="60"/>
                  <a:pt x="150" y="60"/>
                  <a:pt x="151" y="60"/>
                </a:cubicBezTo>
                <a:cubicBezTo>
                  <a:pt x="154" y="60"/>
                  <a:pt x="157" y="60"/>
                  <a:pt x="160" y="62"/>
                </a:cubicBezTo>
                <a:cubicBezTo>
                  <a:pt x="161" y="56"/>
                  <a:pt x="161" y="56"/>
                  <a:pt x="161" y="56"/>
                </a:cubicBezTo>
                <a:cubicBezTo>
                  <a:pt x="161" y="55"/>
                  <a:pt x="161" y="55"/>
                  <a:pt x="161" y="55"/>
                </a:cubicBezTo>
                <a:cubicBezTo>
                  <a:pt x="161" y="54"/>
                  <a:pt x="161" y="54"/>
                  <a:pt x="161" y="54"/>
                </a:cubicBezTo>
                <a:cubicBezTo>
                  <a:pt x="168" y="51"/>
                  <a:pt x="168" y="51"/>
                  <a:pt x="168" y="51"/>
                </a:cubicBezTo>
                <a:cubicBezTo>
                  <a:pt x="169" y="48"/>
                  <a:pt x="169" y="48"/>
                  <a:pt x="169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7"/>
                  <a:pt x="164" y="47"/>
                  <a:pt x="164" y="47"/>
                </a:cubicBezTo>
                <a:cubicBezTo>
                  <a:pt x="164" y="45"/>
                  <a:pt x="164" y="45"/>
                  <a:pt x="164" y="45"/>
                </a:cubicBezTo>
                <a:cubicBezTo>
                  <a:pt x="164" y="44"/>
                  <a:pt x="164" y="44"/>
                  <a:pt x="164" y="44"/>
                </a:cubicBezTo>
                <a:cubicBezTo>
                  <a:pt x="165" y="43"/>
                  <a:pt x="165" y="43"/>
                  <a:pt x="165" y="43"/>
                </a:cubicBezTo>
                <a:cubicBezTo>
                  <a:pt x="166" y="43"/>
                  <a:pt x="166" y="43"/>
                  <a:pt x="166" y="43"/>
                </a:cubicBezTo>
                <a:cubicBezTo>
                  <a:pt x="167" y="43"/>
                  <a:pt x="167" y="43"/>
                  <a:pt x="167" y="43"/>
                </a:cubicBezTo>
                <a:cubicBezTo>
                  <a:pt x="170" y="43"/>
                  <a:pt x="173" y="42"/>
                  <a:pt x="176" y="38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10" y="24"/>
                  <a:pt x="210" y="24"/>
                  <a:pt x="210" y="24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2" y="15"/>
                  <a:pt x="212" y="15"/>
                  <a:pt x="212" y="15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7" y="6"/>
                  <a:pt x="217" y="6"/>
                  <a:pt x="217" y="6"/>
                </a:cubicBezTo>
                <a:cubicBezTo>
                  <a:pt x="216" y="6"/>
                  <a:pt x="216" y="6"/>
                  <a:pt x="216" y="6"/>
                </a:cubicBezTo>
                <a:cubicBezTo>
                  <a:pt x="213" y="6"/>
                  <a:pt x="213" y="6"/>
                  <a:pt x="213" y="6"/>
                </a:cubicBezTo>
                <a:cubicBezTo>
                  <a:pt x="213" y="7"/>
                  <a:pt x="213" y="7"/>
                  <a:pt x="213" y="7"/>
                </a:cubicBezTo>
                <a:cubicBezTo>
                  <a:pt x="212" y="7"/>
                  <a:pt x="212" y="7"/>
                  <a:pt x="212" y="7"/>
                </a:cubicBezTo>
                <a:cubicBezTo>
                  <a:pt x="204" y="8"/>
                  <a:pt x="204" y="8"/>
                  <a:pt x="204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6"/>
                  <a:pt x="202" y="6"/>
                  <a:pt x="202" y="6"/>
                </a:cubicBezTo>
                <a:cubicBezTo>
                  <a:pt x="200" y="4"/>
                  <a:pt x="200" y="4"/>
                  <a:pt x="200" y="4"/>
                </a:cubicBezTo>
                <a:lnTo>
                  <a:pt x="198" y="4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Freeform 31"/>
          <p:cNvSpPr/>
          <p:nvPr/>
        </p:nvSpPr>
        <p:spPr>
          <a:xfrm>
            <a:off x="5000760" y="3778200"/>
            <a:ext cx="110880" cy="98640"/>
          </a:xfrm>
          <a:custGeom>
            <a:avLst/>
            <a:gdLst>
              <a:gd name="textAreaLeft" fmla="*/ 0 w 110880"/>
              <a:gd name="textAreaRight" fmla="*/ 111240 w 110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34" h="31">
                <a:moveTo>
                  <a:pt x="31" y="17"/>
                </a:move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24" y="5"/>
                  <a:pt x="24" y="5"/>
                  <a:pt x="24" y="5"/>
                </a:cubicBezTo>
                <a:cubicBezTo>
                  <a:pt x="19" y="1"/>
                  <a:pt x="14" y="0"/>
                  <a:pt x="11" y="1"/>
                </a:cubicBezTo>
                <a:cubicBezTo>
                  <a:pt x="7" y="2"/>
                  <a:pt x="7" y="2"/>
                  <a:pt x="7" y="2"/>
                </a:cubicBezTo>
                <a:cubicBezTo>
                  <a:pt x="7" y="11"/>
                  <a:pt x="7" y="11"/>
                  <a:pt x="7" y="11"/>
                </a:cubicBezTo>
                <a:cubicBezTo>
                  <a:pt x="6" y="13"/>
                  <a:pt x="5" y="17"/>
                  <a:pt x="2" y="19"/>
                </a:cubicBezTo>
                <a:cubicBezTo>
                  <a:pt x="0" y="21"/>
                  <a:pt x="0" y="21"/>
                  <a:pt x="0" y="21"/>
                </a:cubicBezTo>
                <a:cubicBezTo>
                  <a:pt x="4" y="25"/>
                  <a:pt x="4" y="25"/>
                  <a:pt x="4" y="25"/>
                </a:cubicBezTo>
                <a:cubicBezTo>
                  <a:pt x="5" y="25"/>
                  <a:pt x="5" y="25"/>
                  <a:pt x="5" y="25"/>
                </a:cubicBezTo>
                <a:cubicBezTo>
                  <a:pt x="6" y="29"/>
                  <a:pt x="6" y="29"/>
                  <a:pt x="6" y="29"/>
                </a:cubicBezTo>
                <a:cubicBezTo>
                  <a:pt x="11" y="31"/>
                  <a:pt x="11" y="31"/>
                  <a:pt x="11" y="31"/>
                </a:cubicBezTo>
                <a:cubicBezTo>
                  <a:pt x="13" y="29"/>
                  <a:pt x="15" y="28"/>
                  <a:pt x="17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1"/>
                  <a:pt x="29" y="18"/>
                  <a:pt x="31" y="17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Freeform 32"/>
          <p:cNvSpPr/>
          <p:nvPr/>
        </p:nvSpPr>
        <p:spPr>
          <a:xfrm>
            <a:off x="4489560" y="3411360"/>
            <a:ext cx="606240" cy="470160"/>
          </a:xfrm>
          <a:custGeom>
            <a:avLst/>
            <a:gdLst>
              <a:gd name="textAreaLeft" fmla="*/ 0 w 606240"/>
              <a:gd name="textAreaRight" fmla="*/ 606240 w 60624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189" h="146">
                <a:moveTo>
                  <a:pt x="132" y="43"/>
                </a:moveTo>
                <a:cubicBezTo>
                  <a:pt x="128" y="39"/>
                  <a:pt x="124" y="33"/>
                  <a:pt x="120" y="23"/>
                </a:cubicBezTo>
                <a:cubicBezTo>
                  <a:pt x="109" y="23"/>
                  <a:pt x="102" y="21"/>
                  <a:pt x="99" y="17"/>
                </a:cubicBezTo>
                <a:cubicBezTo>
                  <a:pt x="96" y="13"/>
                  <a:pt x="92" y="11"/>
                  <a:pt x="85" y="9"/>
                </a:cubicBezTo>
                <a:cubicBezTo>
                  <a:pt x="83" y="8"/>
                  <a:pt x="83" y="8"/>
                  <a:pt x="83" y="8"/>
                </a:cubicBezTo>
                <a:cubicBezTo>
                  <a:pt x="85" y="1"/>
                  <a:pt x="85" y="1"/>
                  <a:pt x="85" y="1"/>
                </a:cubicBezTo>
                <a:cubicBezTo>
                  <a:pt x="84" y="1"/>
                  <a:pt x="84" y="1"/>
                  <a:pt x="84" y="1"/>
                </a:cubicBezTo>
                <a:cubicBezTo>
                  <a:pt x="82" y="0"/>
                  <a:pt x="82" y="0"/>
                  <a:pt x="82" y="0"/>
                </a:cubicBezTo>
                <a:cubicBezTo>
                  <a:pt x="77" y="3"/>
                  <a:pt x="74" y="5"/>
                  <a:pt x="72" y="8"/>
                </a:cubicBezTo>
                <a:cubicBezTo>
                  <a:pt x="71" y="11"/>
                  <a:pt x="69" y="14"/>
                  <a:pt x="66" y="16"/>
                </a:cubicBezTo>
                <a:cubicBezTo>
                  <a:pt x="64" y="23"/>
                  <a:pt x="62" y="26"/>
                  <a:pt x="60" y="26"/>
                </a:cubicBezTo>
                <a:cubicBezTo>
                  <a:pt x="59" y="26"/>
                  <a:pt x="58" y="25"/>
                  <a:pt x="58" y="24"/>
                </a:cubicBezTo>
                <a:cubicBezTo>
                  <a:pt x="54" y="21"/>
                  <a:pt x="54" y="21"/>
                  <a:pt x="54" y="21"/>
                </a:cubicBezTo>
                <a:cubicBezTo>
                  <a:pt x="52" y="20"/>
                  <a:pt x="50" y="19"/>
                  <a:pt x="48" y="19"/>
                </a:cubicBezTo>
                <a:cubicBezTo>
                  <a:pt x="44" y="20"/>
                  <a:pt x="44" y="20"/>
                  <a:pt x="44" y="20"/>
                </a:cubicBezTo>
                <a:cubicBezTo>
                  <a:pt x="41" y="23"/>
                  <a:pt x="37" y="25"/>
                  <a:pt x="31" y="25"/>
                </a:cubicBezTo>
                <a:cubicBezTo>
                  <a:pt x="16" y="25"/>
                  <a:pt x="16" y="25"/>
                  <a:pt x="16" y="25"/>
                </a:cubicBezTo>
                <a:cubicBezTo>
                  <a:pt x="11" y="22"/>
                  <a:pt x="9" y="17"/>
                  <a:pt x="10" y="11"/>
                </a:cubicBezTo>
                <a:cubicBezTo>
                  <a:pt x="4" y="9"/>
                  <a:pt x="4" y="9"/>
                  <a:pt x="4" y="9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8"/>
                  <a:pt x="2" y="18"/>
                  <a:pt x="2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20"/>
                  <a:pt x="0" y="20"/>
                  <a:pt x="0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12" y="31"/>
                  <a:pt x="17" y="37"/>
                  <a:pt x="20" y="38"/>
                </a:cubicBezTo>
                <a:cubicBezTo>
                  <a:pt x="21" y="39"/>
                  <a:pt x="26" y="41"/>
                  <a:pt x="34" y="43"/>
                </a:cubicBezTo>
                <a:cubicBezTo>
                  <a:pt x="49" y="48"/>
                  <a:pt x="49" y="48"/>
                  <a:pt x="49" y="48"/>
                </a:cubicBezTo>
                <a:cubicBezTo>
                  <a:pt x="53" y="50"/>
                  <a:pt x="58" y="59"/>
                  <a:pt x="62" y="75"/>
                </a:cubicBezTo>
                <a:cubicBezTo>
                  <a:pt x="69" y="79"/>
                  <a:pt x="73" y="81"/>
                  <a:pt x="76" y="81"/>
                </a:cubicBezTo>
                <a:cubicBezTo>
                  <a:pt x="78" y="79"/>
                  <a:pt x="83" y="77"/>
                  <a:pt x="90" y="72"/>
                </a:cubicBezTo>
                <a:cubicBezTo>
                  <a:pt x="90" y="72"/>
                  <a:pt x="90" y="72"/>
                  <a:pt x="90" y="72"/>
                </a:cubicBezTo>
                <a:cubicBezTo>
                  <a:pt x="91" y="71"/>
                  <a:pt x="91" y="71"/>
                  <a:pt x="91" y="71"/>
                </a:cubicBezTo>
                <a:cubicBezTo>
                  <a:pt x="92" y="72"/>
                  <a:pt x="92" y="72"/>
                  <a:pt x="92" y="72"/>
                </a:cubicBezTo>
                <a:cubicBezTo>
                  <a:pt x="99" y="73"/>
                  <a:pt x="99" y="73"/>
                  <a:pt x="99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5"/>
                  <a:pt x="100" y="75"/>
                  <a:pt x="100" y="75"/>
                </a:cubicBezTo>
                <a:cubicBezTo>
                  <a:pt x="99" y="76"/>
                  <a:pt x="99" y="76"/>
                  <a:pt x="99" y="76"/>
                </a:cubicBezTo>
                <a:cubicBezTo>
                  <a:pt x="97" y="85"/>
                  <a:pt x="95" y="91"/>
                  <a:pt x="93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7"/>
                  <a:pt x="81" y="103"/>
                  <a:pt x="76" y="111"/>
                </a:cubicBezTo>
                <a:cubicBezTo>
                  <a:pt x="74" y="113"/>
                  <a:pt x="74" y="115"/>
                  <a:pt x="74" y="117"/>
                </a:cubicBezTo>
                <a:cubicBezTo>
                  <a:pt x="83" y="123"/>
                  <a:pt x="83" y="123"/>
                  <a:pt x="83" y="123"/>
                </a:cubicBezTo>
                <a:cubicBezTo>
                  <a:pt x="85" y="126"/>
                  <a:pt x="87" y="127"/>
                  <a:pt x="89" y="127"/>
                </a:cubicBezTo>
                <a:cubicBezTo>
                  <a:pt x="91" y="127"/>
                  <a:pt x="91" y="127"/>
                  <a:pt x="91" y="127"/>
                </a:cubicBezTo>
                <a:cubicBezTo>
                  <a:pt x="93" y="133"/>
                  <a:pt x="93" y="133"/>
                  <a:pt x="93" y="133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100" y="133"/>
                  <a:pt x="100" y="133"/>
                  <a:pt x="100" y="133"/>
                </a:cubicBezTo>
                <a:cubicBezTo>
                  <a:pt x="101" y="131"/>
                  <a:pt x="102" y="131"/>
                  <a:pt x="104" y="131"/>
                </a:cubicBezTo>
                <a:cubicBezTo>
                  <a:pt x="108" y="131"/>
                  <a:pt x="111" y="133"/>
                  <a:pt x="115" y="139"/>
                </a:cubicBezTo>
                <a:cubicBezTo>
                  <a:pt x="115" y="139"/>
                  <a:pt x="115" y="139"/>
                  <a:pt x="115" y="139"/>
                </a:cubicBezTo>
                <a:cubicBezTo>
                  <a:pt x="118" y="143"/>
                  <a:pt x="118" y="143"/>
                  <a:pt x="118" y="143"/>
                </a:cubicBezTo>
                <a:cubicBezTo>
                  <a:pt x="119" y="143"/>
                  <a:pt x="119" y="143"/>
                  <a:pt x="119" y="143"/>
                </a:cubicBezTo>
                <a:cubicBezTo>
                  <a:pt x="121" y="141"/>
                  <a:pt x="126" y="142"/>
                  <a:pt x="132" y="144"/>
                </a:cubicBezTo>
                <a:cubicBezTo>
                  <a:pt x="142" y="146"/>
                  <a:pt x="142" y="146"/>
                  <a:pt x="142" y="146"/>
                </a:cubicBezTo>
                <a:cubicBezTo>
                  <a:pt x="152" y="143"/>
                  <a:pt x="152" y="143"/>
                  <a:pt x="152" y="143"/>
                </a:cubicBezTo>
                <a:cubicBezTo>
                  <a:pt x="156" y="141"/>
                  <a:pt x="156" y="141"/>
                  <a:pt x="156" y="141"/>
                </a:cubicBezTo>
                <a:cubicBezTo>
                  <a:pt x="159" y="139"/>
                  <a:pt x="159" y="139"/>
                  <a:pt x="159" y="139"/>
                </a:cubicBezTo>
                <a:cubicBezTo>
                  <a:pt x="156" y="136"/>
                  <a:pt x="156" y="136"/>
                  <a:pt x="156" y="136"/>
                </a:cubicBezTo>
                <a:cubicBezTo>
                  <a:pt x="156" y="135"/>
                  <a:pt x="156" y="133"/>
                  <a:pt x="158" y="131"/>
                </a:cubicBezTo>
                <a:cubicBezTo>
                  <a:pt x="161" y="129"/>
                  <a:pt x="162" y="127"/>
                  <a:pt x="162" y="124"/>
                </a:cubicBezTo>
                <a:cubicBezTo>
                  <a:pt x="162" y="119"/>
                  <a:pt x="162" y="119"/>
                  <a:pt x="162" y="119"/>
                </a:cubicBezTo>
                <a:cubicBezTo>
                  <a:pt x="162" y="117"/>
                  <a:pt x="162" y="115"/>
                  <a:pt x="163" y="115"/>
                </a:cubicBezTo>
                <a:cubicBezTo>
                  <a:pt x="164" y="113"/>
                  <a:pt x="166" y="112"/>
                  <a:pt x="170" y="111"/>
                </a:cubicBezTo>
                <a:cubicBezTo>
                  <a:pt x="175" y="111"/>
                  <a:pt x="181" y="113"/>
                  <a:pt x="189" y="119"/>
                </a:cubicBezTo>
                <a:cubicBezTo>
                  <a:pt x="186" y="111"/>
                  <a:pt x="186" y="111"/>
                  <a:pt x="186" y="111"/>
                </a:cubicBezTo>
                <a:cubicBezTo>
                  <a:pt x="182" y="105"/>
                  <a:pt x="182" y="105"/>
                  <a:pt x="182" y="105"/>
                </a:cubicBezTo>
                <a:cubicBezTo>
                  <a:pt x="181" y="98"/>
                  <a:pt x="181" y="98"/>
                  <a:pt x="181" y="98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56" y="86"/>
                  <a:pt x="156" y="86"/>
                  <a:pt x="156" y="86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7" y="83"/>
                  <a:pt x="147" y="83"/>
                  <a:pt x="147" y="83"/>
                </a:cubicBezTo>
                <a:cubicBezTo>
                  <a:pt x="146" y="73"/>
                  <a:pt x="146" y="73"/>
                  <a:pt x="146" y="73"/>
                </a:cubicBezTo>
                <a:cubicBezTo>
                  <a:pt x="140" y="57"/>
                  <a:pt x="136" y="46"/>
                  <a:pt x="132" y="43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Freeform 33"/>
          <p:cNvSpPr/>
          <p:nvPr/>
        </p:nvSpPr>
        <p:spPr>
          <a:xfrm>
            <a:off x="4172040" y="2514600"/>
            <a:ext cx="565200" cy="808200"/>
          </a:xfrm>
          <a:custGeom>
            <a:avLst/>
            <a:gdLst>
              <a:gd name="textAreaLeft" fmla="*/ 0 w 565200"/>
              <a:gd name="textAreaRight" fmla="*/ 565560 w 565200"/>
              <a:gd name="textAreaTop" fmla="*/ 0 h 808200"/>
              <a:gd name="textAreaBottom" fmla="*/ 808560 h 808200"/>
            </a:gdLst>
            <a:ahLst/>
            <a:rect l="textAreaLeft" t="textAreaTop" r="textAreaRight" b="textAreaBottom"/>
            <a:pathLst>
              <a:path w="176" h="251">
                <a:moveTo>
                  <a:pt x="162" y="76"/>
                </a:moveTo>
                <a:cubicBezTo>
                  <a:pt x="159" y="74"/>
                  <a:pt x="159" y="74"/>
                  <a:pt x="159" y="74"/>
                </a:cubicBezTo>
                <a:cubicBezTo>
                  <a:pt x="159" y="74"/>
                  <a:pt x="159" y="74"/>
                  <a:pt x="159" y="74"/>
                </a:cubicBezTo>
                <a:cubicBezTo>
                  <a:pt x="158" y="74"/>
                  <a:pt x="158" y="74"/>
                  <a:pt x="158" y="74"/>
                </a:cubicBezTo>
                <a:cubicBezTo>
                  <a:pt x="156" y="72"/>
                  <a:pt x="156" y="72"/>
                  <a:pt x="156" y="72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2" y="68"/>
                  <a:pt x="142" y="68"/>
                  <a:pt x="142" y="68"/>
                </a:cubicBezTo>
                <a:cubicBezTo>
                  <a:pt x="140" y="69"/>
                  <a:pt x="140" y="69"/>
                  <a:pt x="140" y="69"/>
                </a:cubicBezTo>
                <a:cubicBezTo>
                  <a:pt x="135" y="61"/>
                  <a:pt x="135" y="61"/>
                  <a:pt x="135" y="61"/>
                </a:cubicBezTo>
                <a:cubicBezTo>
                  <a:pt x="136" y="60"/>
                  <a:pt x="136" y="60"/>
                  <a:pt x="136" y="60"/>
                </a:cubicBezTo>
                <a:cubicBezTo>
                  <a:pt x="139" y="56"/>
                  <a:pt x="139" y="56"/>
                  <a:pt x="139" y="56"/>
                </a:cubicBezTo>
                <a:cubicBezTo>
                  <a:pt x="139" y="52"/>
                  <a:pt x="139" y="52"/>
                  <a:pt x="139" y="52"/>
                </a:cubicBezTo>
                <a:cubicBezTo>
                  <a:pt x="139" y="51"/>
                  <a:pt x="139" y="51"/>
                  <a:pt x="139" y="51"/>
                </a:cubicBezTo>
                <a:cubicBezTo>
                  <a:pt x="141" y="48"/>
                  <a:pt x="141" y="48"/>
                  <a:pt x="141" y="48"/>
                </a:cubicBezTo>
                <a:cubicBezTo>
                  <a:pt x="140" y="47"/>
                  <a:pt x="140" y="47"/>
                  <a:pt x="140" y="47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5" y="34"/>
                  <a:pt x="115" y="34"/>
                  <a:pt x="115" y="34"/>
                </a:cubicBezTo>
                <a:cubicBezTo>
                  <a:pt x="114" y="32"/>
                  <a:pt x="114" y="32"/>
                  <a:pt x="114" y="32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17" y="18"/>
                  <a:pt x="117" y="18"/>
                  <a:pt x="117" y="18"/>
                </a:cubicBezTo>
                <a:cubicBezTo>
                  <a:pt x="117" y="16"/>
                  <a:pt x="117" y="16"/>
                  <a:pt x="117" y="16"/>
                </a:cubicBezTo>
                <a:cubicBezTo>
                  <a:pt x="114" y="20"/>
                  <a:pt x="114" y="20"/>
                  <a:pt x="114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3" y="21"/>
                  <a:pt x="113" y="21"/>
                  <a:pt x="113" y="21"/>
                </a:cubicBezTo>
                <a:cubicBezTo>
                  <a:pt x="112" y="20"/>
                  <a:pt x="112" y="20"/>
                  <a:pt x="112" y="20"/>
                </a:cubicBezTo>
                <a:cubicBezTo>
                  <a:pt x="111" y="20"/>
                  <a:pt x="111" y="20"/>
                  <a:pt x="111" y="20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4" y="14"/>
                  <a:pt x="104" y="14"/>
                  <a:pt x="104" y="14"/>
                </a:cubicBezTo>
                <a:cubicBezTo>
                  <a:pt x="104" y="13"/>
                  <a:pt x="104" y="13"/>
                  <a:pt x="104" y="13"/>
                </a:cubicBezTo>
                <a:cubicBezTo>
                  <a:pt x="103" y="4"/>
                  <a:pt x="103" y="4"/>
                  <a:pt x="103" y="4"/>
                </a:cubicBezTo>
                <a:cubicBezTo>
                  <a:pt x="100" y="0"/>
                  <a:pt x="100" y="0"/>
                  <a:pt x="100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0" y="7"/>
                  <a:pt x="90" y="7"/>
                  <a:pt x="90" y="7"/>
                </a:cubicBezTo>
                <a:cubicBezTo>
                  <a:pt x="90" y="8"/>
                  <a:pt x="90" y="8"/>
                  <a:pt x="90" y="8"/>
                </a:cubicBezTo>
                <a:cubicBezTo>
                  <a:pt x="89" y="8"/>
                  <a:pt x="89" y="8"/>
                  <a:pt x="89" y="8"/>
                </a:cubicBezTo>
                <a:cubicBezTo>
                  <a:pt x="80" y="6"/>
                  <a:pt x="80" y="6"/>
                  <a:pt x="80" y="6"/>
                </a:cubicBezTo>
                <a:cubicBezTo>
                  <a:pt x="78" y="15"/>
                  <a:pt x="78" y="15"/>
                  <a:pt x="78" y="15"/>
                </a:cubicBezTo>
                <a:cubicBezTo>
                  <a:pt x="78" y="24"/>
                  <a:pt x="78" y="24"/>
                  <a:pt x="78" y="24"/>
                </a:cubicBezTo>
                <a:cubicBezTo>
                  <a:pt x="78" y="24"/>
                  <a:pt x="78" y="24"/>
                  <a:pt x="78" y="24"/>
                </a:cubicBezTo>
                <a:cubicBezTo>
                  <a:pt x="73" y="32"/>
                  <a:pt x="73" y="32"/>
                  <a:pt x="73" y="32"/>
                </a:cubicBezTo>
                <a:cubicBezTo>
                  <a:pt x="73" y="33"/>
                  <a:pt x="73" y="33"/>
                  <a:pt x="73" y="33"/>
                </a:cubicBezTo>
                <a:cubicBezTo>
                  <a:pt x="72" y="33"/>
                  <a:pt x="72" y="33"/>
                  <a:pt x="72" y="33"/>
                </a:cubicBezTo>
                <a:cubicBezTo>
                  <a:pt x="71" y="33"/>
                  <a:pt x="71" y="33"/>
                  <a:pt x="71" y="33"/>
                </a:cubicBezTo>
                <a:cubicBezTo>
                  <a:pt x="65" y="34"/>
                  <a:pt x="65" y="34"/>
                  <a:pt x="65" y="34"/>
                </a:cubicBezTo>
                <a:cubicBezTo>
                  <a:pt x="59" y="38"/>
                  <a:pt x="59" y="38"/>
                  <a:pt x="59" y="38"/>
                </a:cubicBezTo>
                <a:cubicBezTo>
                  <a:pt x="59" y="39"/>
                  <a:pt x="59" y="39"/>
                  <a:pt x="59" y="39"/>
                </a:cubicBezTo>
                <a:cubicBezTo>
                  <a:pt x="59" y="39"/>
                  <a:pt x="59" y="39"/>
                  <a:pt x="59" y="39"/>
                </a:cubicBezTo>
                <a:cubicBezTo>
                  <a:pt x="58" y="39"/>
                  <a:pt x="58" y="39"/>
                  <a:pt x="58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46" y="35"/>
                  <a:pt x="46" y="35"/>
                  <a:pt x="46" y="35"/>
                </a:cubicBezTo>
                <a:cubicBezTo>
                  <a:pt x="45" y="39"/>
                  <a:pt x="45" y="39"/>
                  <a:pt x="45" y="39"/>
                </a:cubicBezTo>
                <a:cubicBezTo>
                  <a:pt x="45" y="40"/>
                  <a:pt x="45" y="40"/>
                  <a:pt x="45" y="40"/>
                </a:cubicBezTo>
                <a:cubicBezTo>
                  <a:pt x="40" y="48"/>
                  <a:pt x="40" y="48"/>
                  <a:pt x="40" y="48"/>
                </a:cubicBezTo>
                <a:cubicBezTo>
                  <a:pt x="39" y="49"/>
                  <a:pt x="38" y="50"/>
                  <a:pt x="37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25" y="47"/>
                  <a:pt x="25" y="47"/>
                  <a:pt x="25" y="47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5"/>
                  <a:pt x="24" y="45"/>
                  <a:pt x="24" y="45"/>
                </a:cubicBezTo>
                <a:cubicBezTo>
                  <a:pt x="23" y="36"/>
                  <a:pt x="23" y="36"/>
                  <a:pt x="23" y="36"/>
                </a:cubicBezTo>
                <a:cubicBezTo>
                  <a:pt x="21" y="28"/>
                  <a:pt x="21" y="28"/>
                  <a:pt x="21" y="28"/>
                </a:cubicBezTo>
                <a:cubicBezTo>
                  <a:pt x="19" y="26"/>
                  <a:pt x="19" y="26"/>
                  <a:pt x="19" y="26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2" y="38"/>
                  <a:pt x="12" y="38"/>
                  <a:pt x="12" y="3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7" y="48"/>
                  <a:pt x="7" y="48"/>
                  <a:pt x="7" y="48"/>
                </a:cubicBezTo>
                <a:cubicBezTo>
                  <a:pt x="4" y="54"/>
                  <a:pt x="4" y="54"/>
                  <a:pt x="4" y="54"/>
                </a:cubicBezTo>
                <a:cubicBezTo>
                  <a:pt x="4" y="55"/>
                  <a:pt x="3" y="58"/>
                  <a:pt x="0" y="61"/>
                </a:cubicBezTo>
                <a:cubicBezTo>
                  <a:pt x="3" y="70"/>
                  <a:pt x="3" y="70"/>
                  <a:pt x="3" y="70"/>
                </a:cubicBezTo>
                <a:cubicBezTo>
                  <a:pt x="15" y="84"/>
                  <a:pt x="15" y="84"/>
                  <a:pt x="15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9" y="92"/>
                  <a:pt x="19" y="92"/>
                  <a:pt x="19" y="92"/>
                </a:cubicBezTo>
                <a:cubicBezTo>
                  <a:pt x="19" y="93"/>
                  <a:pt x="19" y="93"/>
                  <a:pt x="19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8"/>
                  <a:pt x="15" y="98"/>
                  <a:pt x="15" y="98"/>
                </a:cubicBezTo>
                <a:cubicBezTo>
                  <a:pt x="14" y="98"/>
                  <a:pt x="14" y="98"/>
                  <a:pt x="14" y="98"/>
                </a:cubicBezTo>
                <a:cubicBezTo>
                  <a:pt x="6" y="100"/>
                  <a:pt x="6" y="100"/>
                  <a:pt x="6" y="100"/>
                </a:cubicBezTo>
                <a:cubicBezTo>
                  <a:pt x="7" y="106"/>
                  <a:pt x="7" y="106"/>
                  <a:pt x="7" y="106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21" y="112"/>
                  <a:pt x="21" y="112"/>
                  <a:pt x="21" y="112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19" y="140"/>
                  <a:pt x="19" y="140"/>
                  <a:pt x="19" y="140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18" y="142"/>
                  <a:pt x="18" y="142"/>
                  <a:pt x="18" y="142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7"/>
                  <a:pt x="8" y="147"/>
                  <a:pt x="8" y="147"/>
                </a:cubicBezTo>
                <a:cubicBezTo>
                  <a:pt x="5" y="156"/>
                  <a:pt x="5" y="156"/>
                  <a:pt x="5" y="156"/>
                </a:cubicBezTo>
                <a:cubicBezTo>
                  <a:pt x="4" y="166"/>
                  <a:pt x="4" y="166"/>
                  <a:pt x="4" y="166"/>
                </a:cubicBezTo>
                <a:cubicBezTo>
                  <a:pt x="6" y="172"/>
                  <a:pt x="6" y="172"/>
                  <a:pt x="6" y="172"/>
                </a:cubicBezTo>
                <a:cubicBezTo>
                  <a:pt x="18" y="179"/>
                  <a:pt x="18" y="179"/>
                  <a:pt x="18" y="179"/>
                </a:cubicBezTo>
                <a:cubicBezTo>
                  <a:pt x="19" y="180"/>
                  <a:pt x="19" y="180"/>
                  <a:pt x="19" y="180"/>
                </a:cubicBezTo>
                <a:cubicBezTo>
                  <a:pt x="24" y="188"/>
                  <a:pt x="24" y="188"/>
                  <a:pt x="24" y="188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90"/>
                  <a:pt x="24" y="190"/>
                  <a:pt x="24" y="190"/>
                </a:cubicBezTo>
                <a:cubicBezTo>
                  <a:pt x="17" y="204"/>
                  <a:pt x="17" y="204"/>
                  <a:pt x="17" y="204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2" y="217"/>
                  <a:pt x="12" y="217"/>
                  <a:pt x="12" y="217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8" y="227"/>
                  <a:pt x="7" y="228"/>
                  <a:pt x="6" y="231"/>
                </a:cubicBezTo>
                <a:cubicBezTo>
                  <a:pt x="5" y="232"/>
                  <a:pt x="5" y="232"/>
                  <a:pt x="6" y="233"/>
                </a:cubicBezTo>
                <a:cubicBezTo>
                  <a:pt x="7" y="234"/>
                  <a:pt x="7" y="234"/>
                  <a:pt x="7" y="234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5" y="246"/>
                  <a:pt x="15" y="246"/>
                  <a:pt x="15" y="246"/>
                </a:cubicBezTo>
                <a:cubicBezTo>
                  <a:pt x="18" y="248"/>
                  <a:pt x="18" y="248"/>
                  <a:pt x="18" y="248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7" y="251"/>
                  <a:pt x="42" y="250"/>
                  <a:pt x="47" y="248"/>
                </a:cubicBezTo>
                <a:cubicBezTo>
                  <a:pt x="51" y="246"/>
                  <a:pt x="56" y="245"/>
                  <a:pt x="61" y="246"/>
                </a:cubicBezTo>
                <a:cubicBezTo>
                  <a:pt x="61" y="243"/>
                  <a:pt x="61" y="243"/>
                  <a:pt x="61" y="243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79" y="200"/>
                  <a:pt x="79" y="200"/>
                  <a:pt x="79" y="200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12" y="174"/>
                  <a:pt x="112" y="174"/>
                  <a:pt x="112" y="174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9" y="166"/>
                  <a:pt x="122" y="165"/>
                  <a:pt x="125" y="164"/>
                </a:cubicBezTo>
                <a:cubicBezTo>
                  <a:pt x="123" y="162"/>
                  <a:pt x="123" y="162"/>
                  <a:pt x="123" y="162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3" y="151"/>
                  <a:pt x="113" y="151"/>
                  <a:pt x="113" y="151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5" y="147"/>
                  <a:pt x="115" y="147"/>
                  <a:pt x="115" y="147"/>
                </a:cubicBezTo>
                <a:cubicBezTo>
                  <a:pt x="109" y="148"/>
                  <a:pt x="109" y="148"/>
                  <a:pt x="109" y="148"/>
                </a:cubicBezTo>
                <a:cubicBezTo>
                  <a:pt x="98" y="146"/>
                  <a:pt x="98" y="146"/>
                  <a:pt x="98" y="146"/>
                </a:cubicBezTo>
                <a:cubicBezTo>
                  <a:pt x="94" y="144"/>
                  <a:pt x="91" y="141"/>
                  <a:pt x="90" y="138"/>
                </a:cubicBezTo>
                <a:cubicBezTo>
                  <a:pt x="88" y="131"/>
                  <a:pt x="87" y="125"/>
                  <a:pt x="87" y="119"/>
                </a:cubicBezTo>
                <a:cubicBezTo>
                  <a:pt x="86" y="121"/>
                  <a:pt x="84" y="122"/>
                  <a:pt x="82" y="122"/>
                </a:cubicBezTo>
                <a:cubicBezTo>
                  <a:pt x="73" y="120"/>
                  <a:pt x="73" y="120"/>
                  <a:pt x="73" y="120"/>
                </a:cubicBezTo>
                <a:cubicBezTo>
                  <a:pt x="68" y="116"/>
                  <a:pt x="68" y="116"/>
                  <a:pt x="68" y="116"/>
                </a:cubicBezTo>
                <a:cubicBezTo>
                  <a:pt x="61" y="114"/>
                  <a:pt x="61" y="114"/>
                  <a:pt x="61" y="114"/>
                </a:cubicBezTo>
                <a:cubicBezTo>
                  <a:pt x="58" y="114"/>
                  <a:pt x="58" y="114"/>
                  <a:pt x="58" y="114"/>
                </a:cubicBezTo>
                <a:cubicBezTo>
                  <a:pt x="56" y="114"/>
                  <a:pt x="53" y="113"/>
                  <a:pt x="52" y="112"/>
                </a:cubicBezTo>
                <a:cubicBezTo>
                  <a:pt x="49" y="110"/>
                  <a:pt x="48" y="108"/>
                  <a:pt x="48" y="107"/>
                </a:cubicBezTo>
                <a:cubicBezTo>
                  <a:pt x="47" y="104"/>
                  <a:pt x="48" y="102"/>
                  <a:pt x="51" y="100"/>
                </a:cubicBezTo>
                <a:cubicBezTo>
                  <a:pt x="53" y="98"/>
                  <a:pt x="57" y="94"/>
                  <a:pt x="59" y="90"/>
                </a:cubicBezTo>
                <a:cubicBezTo>
                  <a:pt x="57" y="87"/>
                  <a:pt x="55" y="83"/>
                  <a:pt x="57" y="80"/>
                </a:cubicBezTo>
                <a:cubicBezTo>
                  <a:pt x="57" y="79"/>
                  <a:pt x="57" y="79"/>
                  <a:pt x="57" y="79"/>
                </a:cubicBezTo>
                <a:cubicBezTo>
                  <a:pt x="57" y="77"/>
                  <a:pt x="61" y="76"/>
                  <a:pt x="67" y="74"/>
                </a:cubicBezTo>
                <a:cubicBezTo>
                  <a:pt x="67" y="72"/>
                  <a:pt x="68" y="70"/>
                  <a:pt x="69" y="70"/>
                </a:cubicBezTo>
                <a:cubicBezTo>
                  <a:pt x="75" y="70"/>
                  <a:pt x="75" y="70"/>
                  <a:pt x="75" y="70"/>
                </a:cubicBezTo>
                <a:cubicBezTo>
                  <a:pt x="74" y="70"/>
                  <a:pt x="74" y="70"/>
                  <a:pt x="74" y="70"/>
                </a:cubicBezTo>
                <a:cubicBezTo>
                  <a:pt x="70" y="67"/>
                  <a:pt x="69" y="64"/>
                  <a:pt x="71" y="61"/>
                </a:cubicBezTo>
                <a:cubicBezTo>
                  <a:pt x="74" y="59"/>
                  <a:pt x="74" y="59"/>
                  <a:pt x="74" y="59"/>
                </a:cubicBezTo>
                <a:cubicBezTo>
                  <a:pt x="77" y="58"/>
                  <a:pt x="82" y="58"/>
                  <a:pt x="86" y="60"/>
                </a:cubicBezTo>
                <a:cubicBezTo>
                  <a:pt x="95" y="67"/>
                  <a:pt x="95" y="67"/>
                  <a:pt x="95" y="67"/>
                </a:cubicBezTo>
                <a:cubicBezTo>
                  <a:pt x="104" y="67"/>
                  <a:pt x="104" y="67"/>
                  <a:pt x="104" y="67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7" y="72"/>
                  <a:pt x="107" y="72"/>
                  <a:pt x="107" y="72"/>
                </a:cubicBezTo>
                <a:cubicBezTo>
                  <a:pt x="107" y="74"/>
                  <a:pt x="106" y="76"/>
                  <a:pt x="105" y="76"/>
                </a:cubicBezTo>
                <a:cubicBezTo>
                  <a:pt x="103" y="76"/>
                  <a:pt x="102" y="78"/>
                  <a:pt x="101" y="80"/>
                </a:cubicBezTo>
                <a:cubicBezTo>
                  <a:pt x="105" y="90"/>
                  <a:pt x="105" y="90"/>
                  <a:pt x="105" y="90"/>
                </a:cubicBezTo>
                <a:cubicBezTo>
                  <a:pt x="108" y="86"/>
                  <a:pt x="110" y="84"/>
                  <a:pt x="113" y="84"/>
                </a:cubicBezTo>
                <a:cubicBezTo>
                  <a:pt x="114" y="84"/>
                  <a:pt x="115" y="84"/>
                  <a:pt x="117" y="86"/>
                </a:cubicBezTo>
                <a:cubicBezTo>
                  <a:pt x="118" y="88"/>
                  <a:pt x="119" y="92"/>
                  <a:pt x="120" y="95"/>
                </a:cubicBezTo>
                <a:cubicBezTo>
                  <a:pt x="120" y="100"/>
                  <a:pt x="121" y="103"/>
                  <a:pt x="123" y="105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31" y="116"/>
                  <a:pt x="133" y="120"/>
                  <a:pt x="134" y="124"/>
                </a:cubicBezTo>
                <a:cubicBezTo>
                  <a:pt x="150" y="122"/>
                  <a:pt x="150" y="122"/>
                  <a:pt x="150" y="122"/>
                </a:cubicBezTo>
                <a:cubicBezTo>
                  <a:pt x="157" y="118"/>
                  <a:pt x="157" y="118"/>
                  <a:pt x="157" y="118"/>
                </a:cubicBezTo>
                <a:cubicBezTo>
                  <a:pt x="163" y="110"/>
                  <a:pt x="163" y="110"/>
                  <a:pt x="163" y="110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8" y="94"/>
                  <a:pt x="168" y="94"/>
                  <a:pt x="168" y="94"/>
                </a:cubicBezTo>
                <a:cubicBezTo>
                  <a:pt x="168" y="93"/>
                  <a:pt x="168" y="93"/>
                  <a:pt x="168" y="93"/>
                </a:cubicBezTo>
                <a:cubicBezTo>
                  <a:pt x="168" y="92"/>
                  <a:pt x="168" y="92"/>
                  <a:pt x="168" y="92"/>
                </a:cubicBezTo>
                <a:cubicBezTo>
                  <a:pt x="169" y="92"/>
                  <a:pt x="169" y="92"/>
                  <a:pt x="169" y="92"/>
                </a:cubicBezTo>
                <a:cubicBezTo>
                  <a:pt x="175" y="88"/>
                  <a:pt x="175" y="88"/>
                  <a:pt x="175" y="88"/>
                </a:cubicBezTo>
                <a:cubicBezTo>
                  <a:pt x="176" y="88"/>
                  <a:pt x="176" y="88"/>
                  <a:pt x="176" y="88"/>
                </a:cubicBezTo>
                <a:cubicBezTo>
                  <a:pt x="175" y="87"/>
                  <a:pt x="175" y="87"/>
                  <a:pt x="175" y="87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3" y="78"/>
                  <a:pt x="163" y="78"/>
                  <a:pt x="163" y="78"/>
                </a:cubicBezTo>
                <a:lnTo>
                  <a:pt x="162" y="76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Freeform 34"/>
          <p:cNvSpPr/>
          <p:nvPr/>
        </p:nvSpPr>
        <p:spPr>
          <a:xfrm>
            <a:off x="3911760" y="3289320"/>
            <a:ext cx="596880" cy="587520"/>
          </a:xfrm>
          <a:custGeom>
            <a:avLst/>
            <a:gdLst>
              <a:gd name="textAreaLeft" fmla="*/ 0 w 596880"/>
              <a:gd name="textAreaRight" fmla="*/ 597240 w 59688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186" h="183">
                <a:moveTo>
                  <a:pt x="42" y="60"/>
                </a:moveTo>
                <a:cubicBezTo>
                  <a:pt x="41" y="60"/>
                  <a:pt x="41" y="60"/>
                  <a:pt x="41" y="60"/>
                </a:cubicBezTo>
                <a:cubicBezTo>
                  <a:pt x="11" y="73"/>
                  <a:pt x="11" y="73"/>
                  <a:pt x="11" y="73"/>
                </a:cubicBezTo>
                <a:cubicBezTo>
                  <a:pt x="2" y="81"/>
                  <a:pt x="2" y="81"/>
                  <a:pt x="2" y="81"/>
                </a:cubicBezTo>
                <a:cubicBezTo>
                  <a:pt x="0" y="95"/>
                  <a:pt x="2" y="103"/>
                  <a:pt x="6" y="105"/>
                </a:cubicBezTo>
                <a:cubicBezTo>
                  <a:pt x="15" y="111"/>
                  <a:pt x="15" y="111"/>
                  <a:pt x="15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8" y="126"/>
                  <a:pt x="18" y="126"/>
                  <a:pt x="18" y="126"/>
                </a:cubicBezTo>
                <a:cubicBezTo>
                  <a:pt x="26" y="136"/>
                  <a:pt x="31" y="141"/>
                  <a:pt x="34" y="143"/>
                </a:cubicBezTo>
                <a:cubicBezTo>
                  <a:pt x="42" y="145"/>
                  <a:pt x="42" y="145"/>
                  <a:pt x="42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5" y="147"/>
                  <a:pt x="48" y="149"/>
                  <a:pt x="53" y="150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94" y="151"/>
                  <a:pt x="104" y="153"/>
                  <a:pt x="106" y="155"/>
                </a:cubicBezTo>
                <a:cubicBezTo>
                  <a:pt x="108" y="156"/>
                  <a:pt x="109" y="160"/>
                  <a:pt x="108" y="166"/>
                </a:cubicBezTo>
                <a:cubicBezTo>
                  <a:pt x="108" y="170"/>
                  <a:pt x="108" y="173"/>
                  <a:pt x="109" y="173"/>
                </a:cubicBezTo>
                <a:cubicBezTo>
                  <a:pt x="118" y="171"/>
                  <a:pt x="118" y="171"/>
                  <a:pt x="118" y="171"/>
                </a:cubicBezTo>
                <a:cubicBezTo>
                  <a:pt x="124" y="169"/>
                  <a:pt x="128" y="169"/>
                  <a:pt x="130" y="171"/>
                </a:cubicBezTo>
                <a:cubicBezTo>
                  <a:pt x="134" y="175"/>
                  <a:pt x="134" y="175"/>
                  <a:pt x="134" y="175"/>
                </a:cubicBezTo>
                <a:cubicBezTo>
                  <a:pt x="138" y="181"/>
                  <a:pt x="142" y="183"/>
                  <a:pt x="142" y="183"/>
                </a:cubicBezTo>
                <a:cubicBezTo>
                  <a:pt x="145" y="182"/>
                  <a:pt x="148" y="179"/>
                  <a:pt x="150" y="175"/>
                </a:cubicBezTo>
                <a:cubicBezTo>
                  <a:pt x="151" y="174"/>
                  <a:pt x="151" y="174"/>
                  <a:pt x="151" y="174"/>
                </a:cubicBezTo>
                <a:cubicBezTo>
                  <a:pt x="158" y="179"/>
                  <a:pt x="158" y="179"/>
                  <a:pt x="158" y="179"/>
                </a:cubicBezTo>
                <a:cubicBezTo>
                  <a:pt x="163" y="175"/>
                  <a:pt x="163" y="175"/>
                  <a:pt x="163" y="175"/>
                </a:cubicBezTo>
                <a:cubicBezTo>
                  <a:pt x="164" y="169"/>
                  <a:pt x="167" y="167"/>
                  <a:pt x="172" y="166"/>
                </a:cubicBezTo>
                <a:cubicBezTo>
                  <a:pt x="174" y="165"/>
                  <a:pt x="174" y="165"/>
                  <a:pt x="174" y="165"/>
                </a:cubicBezTo>
                <a:cubicBezTo>
                  <a:pt x="173" y="164"/>
                  <a:pt x="173" y="164"/>
                  <a:pt x="173" y="164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3" y="153"/>
                  <a:pt x="173" y="153"/>
                  <a:pt x="173" y="153"/>
                </a:cubicBezTo>
                <a:cubicBezTo>
                  <a:pt x="170" y="148"/>
                  <a:pt x="166" y="146"/>
                  <a:pt x="161" y="147"/>
                </a:cubicBezTo>
                <a:cubicBezTo>
                  <a:pt x="157" y="148"/>
                  <a:pt x="154" y="148"/>
                  <a:pt x="152" y="147"/>
                </a:cubicBezTo>
                <a:cubicBezTo>
                  <a:pt x="152" y="145"/>
                  <a:pt x="152" y="145"/>
                  <a:pt x="152" y="143"/>
                </a:cubicBezTo>
                <a:cubicBezTo>
                  <a:pt x="149" y="138"/>
                  <a:pt x="146" y="134"/>
                  <a:pt x="142" y="131"/>
                </a:cubicBezTo>
                <a:cubicBezTo>
                  <a:pt x="138" y="127"/>
                  <a:pt x="136" y="123"/>
                  <a:pt x="138" y="119"/>
                </a:cubicBezTo>
                <a:cubicBezTo>
                  <a:pt x="138" y="118"/>
                  <a:pt x="138" y="118"/>
                  <a:pt x="138" y="118"/>
                </a:cubicBezTo>
                <a:cubicBezTo>
                  <a:pt x="150" y="120"/>
                  <a:pt x="150" y="120"/>
                  <a:pt x="150" y="120"/>
                </a:cubicBezTo>
                <a:cubicBezTo>
                  <a:pt x="149" y="113"/>
                  <a:pt x="149" y="113"/>
                  <a:pt x="149" y="113"/>
                </a:cubicBezTo>
                <a:cubicBezTo>
                  <a:pt x="148" y="109"/>
                  <a:pt x="149" y="107"/>
                  <a:pt x="151" y="105"/>
                </a:cubicBezTo>
                <a:cubicBezTo>
                  <a:pt x="152" y="103"/>
                  <a:pt x="154" y="102"/>
                  <a:pt x="156" y="102"/>
                </a:cubicBezTo>
                <a:cubicBezTo>
                  <a:pt x="160" y="100"/>
                  <a:pt x="160" y="100"/>
                  <a:pt x="160" y="100"/>
                </a:cubicBezTo>
                <a:cubicBezTo>
                  <a:pt x="160" y="98"/>
                  <a:pt x="160" y="98"/>
                  <a:pt x="160" y="98"/>
                </a:cubicBezTo>
                <a:cubicBezTo>
                  <a:pt x="157" y="91"/>
                  <a:pt x="156" y="85"/>
                  <a:pt x="157" y="83"/>
                </a:cubicBezTo>
                <a:cubicBezTo>
                  <a:pt x="160" y="81"/>
                  <a:pt x="160" y="81"/>
                  <a:pt x="160" y="81"/>
                </a:cubicBezTo>
                <a:cubicBezTo>
                  <a:pt x="161" y="80"/>
                  <a:pt x="165" y="81"/>
                  <a:pt x="170" y="83"/>
                </a:cubicBezTo>
                <a:cubicBezTo>
                  <a:pt x="170" y="83"/>
                  <a:pt x="170" y="83"/>
                  <a:pt x="170" y="83"/>
                </a:cubicBezTo>
                <a:cubicBezTo>
                  <a:pt x="171" y="83"/>
                  <a:pt x="171" y="83"/>
                  <a:pt x="171" y="83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5" y="89"/>
                  <a:pt x="178" y="93"/>
                  <a:pt x="179" y="93"/>
                </a:cubicBezTo>
                <a:cubicBezTo>
                  <a:pt x="186" y="81"/>
                  <a:pt x="186" y="81"/>
                  <a:pt x="186" y="81"/>
                </a:cubicBezTo>
                <a:cubicBezTo>
                  <a:pt x="180" y="73"/>
                  <a:pt x="176" y="67"/>
                  <a:pt x="175" y="64"/>
                </a:cubicBezTo>
                <a:cubicBezTo>
                  <a:pt x="169" y="68"/>
                  <a:pt x="169" y="68"/>
                  <a:pt x="169" y="68"/>
                </a:cubicBezTo>
                <a:cubicBezTo>
                  <a:pt x="168" y="67"/>
                  <a:pt x="168" y="67"/>
                  <a:pt x="168" y="67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45" y="60"/>
                  <a:pt x="141" y="56"/>
                  <a:pt x="140" y="53"/>
                </a:cubicBezTo>
                <a:cubicBezTo>
                  <a:pt x="131" y="48"/>
                  <a:pt x="131" y="48"/>
                  <a:pt x="131" y="48"/>
                </a:cubicBezTo>
                <a:cubicBezTo>
                  <a:pt x="131" y="39"/>
                  <a:pt x="131" y="39"/>
                  <a:pt x="131" y="39"/>
                </a:cubicBezTo>
                <a:cubicBezTo>
                  <a:pt x="148" y="29"/>
                  <a:pt x="148" y="29"/>
                  <a:pt x="148" y="29"/>
                </a:cubicBezTo>
                <a:cubicBezTo>
                  <a:pt x="148" y="24"/>
                  <a:pt x="146" y="19"/>
                  <a:pt x="144" y="15"/>
                </a:cubicBezTo>
                <a:cubicBezTo>
                  <a:pt x="142" y="9"/>
                  <a:pt x="142" y="9"/>
                  <a:pt x="142" y="9"/>
                </a:cubicBezTo>
                <a:cubicBezTo>
                  <a:pt x="130" y="11"/>
                  <a:pt x="130" y="11"/>
                  <a:pt x="130" y="11"/>
                </a:cubicBezTo>
                <a:cubicBezTo>
                  <a:pt x="124" y="13"/>
                  <a:pt x="119" y="14"/>
                  <a:pt x="114" y="14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101" y="7"/>
                  <a:pt x="101" y="7"/>
                  <a:pt x="101" y="7"/>
                </a:cubicBezTo>
                <a:cubicBezTo>
                  <a:pt x="99" y="7"/>
                  <a:pt x="99" y="7"/>
                  <a:pt x="99" y="7"/>
                </a:cubicBezTo>
                <a:cubicBezTo>
                  <a:pt x="96" y="5"/>
                  <a:pt x="96" y="5"/>
                  <a:pt x="96" y="5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0"/>
                  <a:pt x="94" y="0"/>
                  <a:pt x="94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3" y="11"/>
                  <a:pt x="93" y="11"/>
                  <a:pt x="93" y="11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6"/>
                  <a:pt x="91" y="17"/>
                  <a:pt x="92" y="18"/>
                </a:cubicBezTo>
                <a:cubicBezTo>
                  <a:pt x="94" y="21"/>
                  <a:pt x="93" y="24"/>
                  <a:pt x="91" y="27"/>
                </a:cubicBezTo>
                <a:cubicBezTo>
                  <a:pt x="93" y="34"/>
                  <a:pt x="93" y="34"/>
                  <a:pt x="93" y="34"/>
                </a:cubicBezTo>
                <a:cubicBezTo>
                  <a:pt x="92" y="34"/>
                  <a:pt x="92" y="34"/>
                  <a:pt x="92" y="34"/>
                </a:cubicBezTo>
                <a:cubicBezTo>
                  <a:pt x="92" y="35"/>
                  <a:pt x="92" y="35"/>
                  <a:pt x="92" y="35"/>
                </a:cubicBezTo>
                <a:cubicBezTo>
                  <a:pt x="87" y="39"/>
                  <a:pt x="87" y="39"/>
                  <a:pt x="87" y="39"/>
                </a:cubicBezTo>
                <a:cubicBezTo>
                  <a:pt x="87" y="48"/>
                  <a:pt x="87" y="48"/>
                  <a:pt x="87" y="48"/>
                </a:cubicBezTo>
                <a:cubicBezTo>
                  <a:pt x="86" y="49"/>
                  <a:pt x="86" y="49"/>
                  <a:pt x="86" y="49"/>
                </a:cubicBezTo>
                <a:cubicBezTo>
                  <a:pt x="77" y="53"/>
                  <a:pt x="71" y="55"/>
                  <a:pt x="67" y="55"/>
                </a:cubicBezTo>
                <a:cubicBezTo>
                  <a:pt x="50" y="53"/>
                  <a:pt x="50" y="53"/>
                  <a:pt x="50" y="53"/>
                </a:cubicBezTo>
                <a:cubicBezTo>
                  <a:pt x="42" y="60"/>
                  <a:pt x="42" y="60"/>
                  <a:pt x="42" y="60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Freeform 35"/>
          <p:cNvSpPr/>
          <p:nvPr/>
        </p:nvSpPr>
        <p:spPr>
          <a:xfrm>
            <a:off x="5032440" y="4545000"/>
            <a:ext cx="171360" cy="411120"/>
          </a:xfrm>
          <a:custGeom>
            <a:avLst/>
            <a:gdLst>
              <a:gd name="textAreaLeft" fmla="*/ 0 w 171360"/>
              <a:gd name="textAreaRight" fmla="*/ 171720 w 17136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53" h="128">
                <a:moveTo>
                  <a:pt x="40" y="0"/>
                </a:moveTo>
                <a:cubicBezTo>
                  <a:pt x="27" y="9"/>
                  <a:pt x="18" y="21"/>
                  <a:pt x="12" y="35"/>
                </a:cubicBezTo>
                <a:cubicBezTo>
                  <a:pt x="7" y="47"/>
                  <a:pt x="3" y="53"/>
                  <a:pt x="0" y="54"/>
                </a:cubicBezTo>
                <a:cubicBezTo>
                  <a:pt x="3" y="76"/>
                  <a:pt x="3" y="76"/>
                  <a:pt x="3" y="76"/>
                </a:cubicBezTo>
                <a:cubicBezTo>
                  <a:pt x="3" y="77"/>
                  <a:pt x="3" y="77"/>
                  <a:pt x="3" y="77"/>
                </a:cubicBezTo>
                <a:cubicBezTo>
                  <a:pt x="3" y="77"/>
                  <a:pt x="3" y="77"/>
                  <a:pt x="3" y="77"/>
                </a:cubicBezTo>
                <a:cubicBezTo>
                  <a:pt x="1" y="92"/>
                  <a:pt x="1" y="92"/>
                  <a:pt x="1" y="92"/>
                </a:cubicBezTo>
                <a:cubicBezTo>
                  <a:pt x="0" y="97"/>
                  <a:pt x="1" y="100"/>
                  <a:pt x="2" y="101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9" y="112"/>
                  <a:pt x="19" y="112"/>
                  <a:pt x="19" y="112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20" y="116"/>
                  <a:pt x="22" y="120"/>
                  <a:pt x="25" y="124"/>
                </a:cubicBezTo>
                <a:cubicBezTo>
                  <a:pt x="27" y="126"/>
                  <a:pt x="29" y="127"/>
                  <a:pt x="31" y="128"/>
                </a:cubicBezTo>
                <a:cubicBezTo>
                  <a:pt x="33" y="102"/>
                  <a:pt x="33" y="102"/>
                  <a:pt x="33" y="102"/>
                </a:cubicBezTo>
                <a:cubicBezTo>
                  <a:pt x="33" y="101"/>
                  <a:pt x="33" y="101"/>
                  <a:pt x="33" y="101"/>
                </a:cubicBezTo>
                <a:cubicBezTo>
                  <a:pt x="45" y="73"/>
                  <a:pt x="45" y="73"/>
                  <a:pt x="45" y="73"/>
                </a:cubicBezTo>
                <a:cubicBezTo>
                  <a:pt x="49" y="40"/>
                  <a:pt x="49" y="40"/>
                  <a:pt x="49" y="40"/>
                </a:cubicBezTo>
                <a:cubicBezTo>
                  <a:pt x="49" y="39"/>
                  <a:pt x="49" y="39"/>
                  <a:pt x="49" y="39"/>
                </a:cubicBezTo>
                <a:cubicBezTo>
                  <a:pt x="49" y="39"/>
                  <a:pt x="49" y="39"/>
                  <a:pt x="49" y="39"/>
                </a:cubicBezTo>
                <a:cubicBezTo>
                  <a:pt x="53" y="30"/>
                  <a:pt x="53" y="30"/>
                  <a:pt x="53" y="30"/>
                </a:cubicBezTo>
                <a:cubicBezTo>
                  <a:pt x="50" y="22"/>
                  <a:pt x="50" y="22"/>
                  <a:pt x="50" y="22"/>
                </a:cubicBezTo>
                <a:cubicBezTo>
                  <a:pt x="50" y="22"/>
                  <a:pt x="50" y="22"/>
                  <a:pt x="50" y="22"/>
                </a:cubicBezTo>
                <a:cubicBezTo>
                  <a:pt x="49" y="22"/>
                  <a:pt x="49" y="22"/>
                  <a:pt x="49" y="22"/>
                </a:cubicBezTo>
                <a:cubicBezTo>
                  <a:pt x="49" y="12"/>
                  <a:pt x="49" y="12"/>
                  <a:pt x="49" y="12"/>
                </a:cubicBezTo>
                <a:cubicBezTo>
                  <a:pt x="49" y="11"/>
                  <a:pt x="49" y="11"/>
                  <a:pt x="49" y="11"/>
                </a:cubicBezTo>
                <a:cubicBezTo>
                  <a:pt x="49" y="11"/>
                  <a:pt x="49" y="11"/>
                  <a:pt x="49" y="11"/>
                </a:cubicBezTo>
                <a:cubicBezTo>
                  <a:pt x="51" y="8"/>
                  <a:pt x="51" y="8"/>
                  <a:pt x="51" y="8"/>
                </a:cubicBezTo>
                <a:cubicBezTo>
                  <a:pt x="53" y="6"/>
                  <a:pt x="53" y="6"/>
                  <a:pt x="53" y="6"/>
                </a:cubicBezTo>
                <a:lnTo>
                  <a:pt x="40" y="0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Freeform 36"/>
          <p:cNvSpPr/>
          <p:nvPr/>
        </p:nvSpPr>
        <p:spPr>
          <a:xfrm>
            <a:off x="3776760" y="5273640"/>
            <a:ext cx="263520" cy="225360"/>
          </a:xfrm>
          <a:custGeom>
            <a:avLst/>
            <a:gdLst>
              <a:gd name="textAreaLeft" fmla="*/ 0 w 263520"/>
              <a:gd name="textAreaRight" fmla="*/ 263880 w 2635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82" h="70">
                <a:moveTo>
                  <a:pt x="37" y="7"/>
                </a:moveTo>
                <a:cubicBezTo>
                  <a:pt x="36" y="9"/>
                  <a:pt x="36" y="9"/>
                  <a:pt x="36" y="9"/>
                </a:cubicBezTo>
                <a:cubicBezTo>
                  <a:pt x="36" y="9"/>
                  <a:pt x="36" y="9"/>
                  <a:pt x="36" y="9"/>
                </a:cubicBezTo>
                <a:cubicBezTo>
                  <a:pt x="35" y="10"/>
                  <a:pt x="35" y="10"/>
                  <a:pt x="35" y="10"/>
                </a:cubicBezTo>
                <a:cubicBezTo>
                  <a:pt x="19" y="14"/>
                  <a:pt x="19" y="14"/>
                  <a:pt x="19" y="14"/>
                </a:cubicBezTo>
                <a:cubicBezTo>
                  <a:pt x="20" y="16"/>
                  <a:pt x="20" y="16"/>
                  <a:pt x="20" y="16"/>
                </a:cubicBezTo>
                <a:cubicBezTo>
                  <a:pt x="25" y="22"/>
                  <a:pt x="25" y="22"/>
                  <a:pt x="25" y="22"/>
                </a:cubicBezTo>
                <a:cubicBezTo>
                  <a:pt x="24" y="22"/>
                  <a:pt x="24" y="23"/>
                  <a:pt x="23" y="23"/>
                </a:cubicBezTo>
                <a:cubicBezTo>
                  <a:pt x="16" y="27"/>
                  <a:pt x="16" y="27"/>
                  <a:pt x="16" y="27"/>
                </a:cubicBezTo>
                <a:cubicBezTo>
                  <a:pt x="4" y="36"/>
                  <a:pt x="4" y="36"/>
                  <a:pt x="4" y="36"/>
                </a:cubicBezTo>
                <a:cubicBezTo>
                  <a:pt x="0" y="41"/>
                  <a:pt x="0" y="49"/>
                  <a:pt x="6" y="63"/>
                </a:cubicBezTo>
                <a:cubicBezTo>
                  <a:pt x="18" y="64"/>
                  <a:pt x="18" y="64"/>
                  <a:pt x="18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31" y="70"/>
                  <a:pt x="31" y="70"/>
                  <a:pt x="31" y="70"/>
                </a:cubicBezTo>
                <a:cubicBezTo>
                  <a:pt x="44" y="68"/>
                  <a:pt x="44" y="68"/>
                  <a:pt x="44" y="68"/>
                </a:cubicBezTo>
                <a:cubicBezTo>
                  <a:pt x="49" y="67"/>
                  <a:pt x="55" y="62"/>
                  <a:pt x="62" y="53"/>
                </a:cubicBezTo>
                <a:cubicBezTo>
                  <a:pt x="63" y="53"/>
                  <a:pt x="63" y="53"/>
                  <a:pt x="63" y="53"/>
                </a:cubicBezTo>
                <a:cubicBezTo>
                  <a:pt x="64" y="52"/>
                  <a:pt x="64" y="52"/>
                  <a:pt x="64" y="52"/>
                </a:cubicBezTo>
                <a:cubicBezTo>
                  <a:pt x="69" y="50"/>
                  <a:pt x="69" y="50"/>
                  <a:pt x="69" y="50"/>
                </a:cubicBezTo>
                <a:cubicBezTo>
                  <a:pt x="68" y="33"/>
                  <a:pt x="68" y="33"/>
                  <a:pt x="68" y="33"/>
                </a:cubicBezTo>
                <a:cubicBezTo>
                  <a:pt x="68" y="33"/>
                  <a:pt x="68" y="33"/>
                  <a:pt x="68" y="33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81" y="17"/>
                  <a:pt x="81" y="17"/>
                  <a:pt x="81" y="17"/>
                </a:cubicBezTo>
                <a:cubicBezTo>
                  <a:pt x="82" y="13"/>
                  <a:pt x="81" y="8"/>
                  <a:pt x="79" y="5"/>
                </a:cubicBezTo>
                <a:cubicBezTo>
                  <a:pt x="78" y="1"/>
                  <a:pt x="76" y="0"/>
                  <a:pt x="74" y="0"/>
                </a:cubicBezTo>
                <a:cubicBezTo>
                  <a:pt x="74" y="6"/>
                  <a:pt x="74" y="6"/>
                  <a:pt x="74" y="6"/>
                </a:cubicBezTo>
                <a:cubicBezTo>
                  <a:pt x="64" y="4"/>
                  <a:pt x="64" y="4"/>
                  <a:pt x="64" y="4"/>
                </a:cubicBezTo>
                <a:cubicBezTo>
                  <a:pt x="59" y="7"/>
                  <a:pt x="59" y="7"/>
                  <a:pt x="59" y="7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7"/>
                  <a:pt x="58" y="7"/>
                  <a:pt x="58" y="7"/>
                </a:cubicBezTo>
                <a:lnTo>
                  <a:pt x="37" y="7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直接连接符 35"/>
          <p:cNvSpPr/>
          <p:nvPr/>
        </p:nvSpPr>
        <p:spPr>
          <a:xfrm>
            <a:off x="6118200" y="1144440"/>
            <a:ext cx="1440" cy="439596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矩形 51"/>
          <p:cNvSpPr/>
          <p:nvPr/>
        </p:nvSpPr>
        <p:spPr>
          <a:xfrm>
            <a:off x="6998760" y="1744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矩形 52"/>
          <p:cNvSpPr/>
          <p:nvPr/>
        </p:nvSpPr>
        <p:spPr>
          <a:xfrm>
            <a:off x="6497640" y="2378160"/>
            <a:ext cx="5022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直接连接符 40"/>
          <p:cNvSpPr/>
          <p:nvPr/>
        </p:nvSpPr>
        <p:spPr>
          <a:xfrm>
            <a:off x="6605640" y="225432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Freeform 109"/>
          <p:cNvSpPr/>
          <p:nvPr/>
        </p:nvSpPr>
        <p:spPr>
          <a:xfrm>
            <a:off x="3152880" y="1227240"/>
            <a:ext cx="5886360" cy="2909880"/>
          </a:xfrm>
          <a:custGeom>
            <a:avLst/>
            <a:gdLst>
              <a:gd name="textAreaLeft" fmla="*/ 0 w 5886360"/>
              <a:gd name="textAreaRight" fmla="*/ 5886360 w 5886360"/>
              <a:gd name="textAreaTop" fmla="*/ 0 h 2909880"/>
              <a:gd name="textAreaBottom" fmla="*/ 2910240 h 2909880"/>
            </a:gdLst>
            <a:ahLst/>
            <a:rect l="textAreaLeft" t="textAreaTop" r="textAreaRight" b="textAreaBottom"/>
            <a:pathLst>
              <a:path w="1530" h="755">
                <a:moveTo>
                  <a:pt x="3" y="235"/>
                </a:moveTo>
                <a:cubicBezTo>
                  <a:pt x="6" y="234"/>
                  <a:pt x="7" y="232"/>
                  <a:pt x="6" y="231"/>
                </a:cubicBezTo>
                <a:cubicBezTo>
                  <a:pt x="5" y="231"/>
                  <a:pt x="4" y="232"/>
                  <a:pt x="3" y="233"/>
                </a:cubicBezTo>
                <a:cubicBezTo>
                  <a:pt x="3" y="234"/>
                  <a:pt x="3" y="235"/>
                  <a:pt x="3" y="235"/>
                </a:cubicBezTo>
                <a:moveTo>
                  <a:pt x="19" y="226"/>
                </a:moveTo>
                <a:cubicBezTo>
                  <a:pt x="17" y="225"/>
                  <a:pt x="12" y="229"/>
                  <a:pt x="14" y="229"/>
                </a:cubicBezTo>
                <a:cubicBezTo>
                  <a:pt x="15" y="229"/>
                  <a:pt x="16" y="228"/>
                  <a:pt x="17" y="228"/>
                </a:cubicBezTo>
                <a:cubicBezTo>
                  <a:pt x="19" y="228"/>
                  <a:pt x="21" y="227"/>
                  <a:pt x="19" y="226"/>
                </a:cubicBezTo>
                <a:moveTo>
                  <a:pt x="67" y="204"/>
                </a:moveTo>
                <a:cubicBezTo>
                  <a:pt x="67" y="203"/>
                  <a:pt x="66" y="203"/>
                  <a:pt x="64" y="205"/>
                </a:cubicBezTo>
                <a:cubicBezTo>
                  <a:pt x="62" y="207"/>
                  <a:pt x="60" y="208"/>
                  <a:pt x="60" y="210"/>
                </a:cubicBezTo>
                <a:cubicBezTo>
                  <a:pt x="60" y="210"/>
                  <a:pt x="59" y="210"/>
                  <a:pt x="59" y="210"/>
                </a:cubicBezTo>
                <a:cubicBezTo>
                  <a:pt x="58" y="210"/>
                  <a:pt x="57" y="210"/>
                  <a:pt x="57" y="211"/>
                </a:cubicBezTo>
                <a:cubicBezTo>
                  <a:pt x="56" y="212"/>
                  <a:pt x="57" y="215"/>
                  <a:pt x="59" y="214"/>
                </a:cubicBezTo>
                <a:cubicBezTo>
                  <a:pt x="60" y="213"/>
                  <a:pt x="60" y="214"/>
                  <a:pt x="61" y="214"/>
                </a:cubicBezTo>
                <a:cubicBezTo>
                  <a:pt x="62" y="214"/>
                  <a:pt x="66" y="211"/>
                  <a:pt x="67" y="210"/>
                </a:cubicBezTo>
                <a:cubicBezTo>
                  <a:pt x="67" y="209"/>
                  <a:pt x="65" y="208"/>
                  <a:pt x="65" y="207"/>
                </a:cubicBezTo>
                <a:cubicBezTo>
                  <a:pt x="65" y="207"/>
                  <a:pt x="67" y="207"/>
                  <a:pt x="68" y="206"/>
                </a:cubicBezTo>
                <a:cubicBezTo>
                  <a:pt x="69" y="205"/>
                  <a:pt x="67" y="205"/>
                  <a:pt x="67" y="204"/>
                </a:cubicBezTo>
                <a:moveTo>
                  <a:pt x="7" y="193"/>
                </a:moveTo>
                <a:cubicBezTo>
                  <a:pt x="7" y="191"/>
                  <a:pt x="3" y="193"/>
                  <a:pt x="3" y="194"/>
                </a:cubicBezTo>
                <a:cubicBezTo>
                  <a:pt x="4" y="196"/>
                  <a:pt x="8" y="197"/>
                  <a:pt x="9" y="196"/>
                </a:cubicBezTo>
                <a:cubicBezTo>
                  <a:pt x="11" y="195"/>
                  <a:pt x="11" y="194"/>
                  <a:pt x="10" y="193"/>
                </a:cubicBezTo>
                <a:cubicBezTo>
                  <a:pt x="10" y="193"/>
                  <a:pt x="9" y="193"/>
                  <a:pt x="8" y="193"/>
                </a:cubicBezTo>
                <a:cubicBezTo>
                  <a:pt x="8" y="193"/>
                  <a:pt x="7" y="194"/>
                  <a:pt x="7" y="193"/>
                </a:cubicBezTo>
                <a:moveTo>
                  <a:pt x="187" y="110"/>
                </a:moveTo>
                <a:cubicBezTo>
                  <a:pt x="190" y="110"/>
                  <a:pt x="191" y="116"/>
                  <a:pt x="193" y="116"/>
                </a:cubicBezTo>
                <a:cubicBezTo>
                  <a:pt x="194" y="116"/>
                  <a:pt x="193" y="114"/>
                  <a:pt x="196" y="114"/>
                </a:cubicBezTo>
                <a:cubicBezTo>
                  <a:pt x="198" y="114"/>
                  <a:pt x="198" y="113"/>
                  <a:pt x="200" y="113"/>
                </a:cubicBezTo>
                <a:cubicBezTo>
                  <a:pt x="202" y="113"/>
                  <a:pt x="204" y="113"/>
                  <a:pt x="204" y="110"/>
                </a:cubicBezTo>
                <a:cubicBezTo>
                  <a:pt x="204" y="107"/>
                  <a:pt x="206" y="107"/>
                  <a:pt x="208" y="106"/>
                </a:cubicBezTo>
                <a:cubicBezTo>
                  <a:pt x="210" y="105"/>
                  <a:pt x="208" y="103"/>
                  <a:pt x="211" y="102"/>
                </a:cubicBezTo>
                <a:cubicBezTo>
                  <a:pt x="215" y="101"/>
                  <a:pt x="223" y="97"/>
                  <a:pt x="225" y="96"/>
                </a:cubicBezTo>
                <a:cubicBezTo>
                  <a:pt x="226" y="95"/>
                  <a:pt x="223" y="94"/>
                  <a:pt x="220" y="91"/>
                </a:cubicBezTo>
                <a:cubicBezTo>
                  <a:pt x="216" y="89"/>
                  <a:pt x="214" y="89"/>
                  <a:pt x="211" y="90"/>
                </a:cubicBezTo>
                <a:cubicBezTo>
                  <a:pt x="210" y="91"/>
                  <a:pt x="209" y="91"/>
                  <a:pt x="209" y="90"/>
                </a:cubicBezTo>
                <a:cubicBezTo>
                  <a:pt x="209" y="90"/>
                  <a:pt x="209" y="89"/>
                  <a:pt x="208" y="90"/>
                </a:cubicBezTo>
                <a:cubicBezTo>
                  <a:pt x="206" y="90"/>
                  <a:pt x="201" y="88"/>
                  <a:pt x="200" y="87"/>
                </a:cubicBezTo>
                <a:cubicBezTo>
                  <a:pt x="199" y="86"/>
                  <a:pt x="189" y="89"/>
                  <a:pt x="186" y="89"/>
                </a:cubicBezTo>
                <a:cubicBezTo>
                  <a:pt x="184" y="89"/>
                  <a:pt x="187" y="92"/>
                  <a:pt x="188" y="93"/>
                </a:cubicBezTo>
                <a:cubicBezTo>
                  <a:pt x="190" y="94"/>
                  <a:pt x="184" y="99"/>
                  <a:pt x="185" y="100"/>
                </a:cubicBezTo>
                <a:cubicBezTo>
                  <a:pt x="186" y="100"/>
                  <a:pt x="184" y="103"/>
                  <a:pt x="182" y="106"/>
                </a:cubicBezTo>
                <a:cubicBezTo>
                  <a:pt x="179" y="109"/>
                  <a:pt x="183" y="109"/>
                  <a:pt x="187" y="110"/>
                </a:cubicBezTo>
                <a:moveTo>
                  <a:pt x="281" y="125"/>
                </a:moveTo>
                <a:cubicBezTo>
                  <a:pt x="281" y="124"/>
                  <a:pt x="283" y="125"/>
                  <a:pt x="284" y="125"/>
                </a:cubicBezTo>
                <a:cubicBezTo>
                  <a:pt x="285" y="126"/>
                  <a:pt x="287" y="126"/>
                  <a:pt x="287" y="125"/>
                </a:cubicBezTo>
                <a:cubicBezTo>
                  <a:pt x="287" y="122"/>
                  <a:pt x="282" y="121"/>
                  <a:pt x="279" y="119"/>
                </a:cubicBezTo>
                <a:cubicBezTo>
                  <a:pt x="277" y="118"/>
                  <a:pt x="276" y="118"/>
                  <a:pt x="273" y="116"/>
                </a:cubicBezTo>
                <a:cubicBezTo>
                  <a:pt x="269" y="113"/>
                  <a:pt x="274" y="112"/>
                  <a:pt x="271" y="110"/>
                </a:cubicBezTo>
                <a:cubicBezTo>
                  <a:pt x="268" y="108"/>
                  <a:pt x="267" y="102"/>
                  <a:pt x="269" y="100"/>
                </a:cubicBezTo>
                <a:cubicBezTo>
                  <a:pt x="271" y="98"/>
                  <a:pt x="273" y="95"/>
                  <a:pt x="270" y="94"/>
                </a:cubicBezTo>
                <a:cubicBezTo>
                  <a:pt x="266" y="93"/>
                  <a:pt x="261" y="95"/>
                  <a:pt x="262" y="96"/>
                </a:cubicBezTo>
                <a:cubicBezTo>
                  <a:pt x="262" y="97"/>
                  <a:pt x="267" y="99"/>
                  <a:pt x="267" y="100"/>
                </a:cubicBezTo>
                <a:cubicBezTo>
                  <a:pt x="267" y="101"/>
                  <a:pt x="266" y="100"/>
                  <a:pt x="264" y="99"/>
                </a:cubicBezTo>
                <a:cubicBezTo>
                  <a:pt x="263" y="99"/>
                  <a:pt x="262" y="98"/>
                  <a:pt x="261" y="98"/>
                </a:cubicBezTo>
                <a:cubicBezTo>
                  <a:pt x="260" y="99"/>
                  <a:pt x="260" y="98"/>
                  <a:pt x="259" y="98"/>
                </a:cubicBezTo>
                <a:cubicBezTo>
                  <a:pt x="258" y="98"/>
                  <a:pt x="257" y="97"/>
                  <a:pt x="256" y="98"/>
                </a:cubicBezTo>
                <a:cubicBezTo>
                  <a:pt x="255" y="100"/>
                  <a:pt x="258" y="107"/>
                  <a:pt x="259" y="109"/>
                </a:cubicBezTo>
                <a:cubicBezTo>
                  <a:pt x="260" y="110"/>
                  <a:pt x="258" y="110"/>
                  <a:pt x="257" y="111"/>
                </a:cubicBezTo>
                <a:cubicBezTo>
                  <a:pt x="255" y="111"/>
                  <a:pt x="255" y="106"/>
                  <a:pt x="253" y="103"/>
                </a:cubicBezTo>
                <a:cubicBezTo>
                  <a:pt x="252" y="101"/>
                  <a:pt x="246" y="99"/>
                  <a:pt x="246" y="100"/>
                </a:cubicBezTo>
                <a:cubicBezTo>
                  <a:pt x="245" y="102"/>
                  <a:pt x="249" y="102"/>
                  <a:pt x="249" y="104"/>
                </a:cubicBezTo>
                <a:cubicBezTo>
                  <a:pt x="248" y="105"/>
                  <a:pt x="248" y="105"/>
                  <a:pt x="247" y="104"/>
                </a:cubicBezTo>
                <a:cubicBezTo>
                  <a:pt x="246" y="104"/>
                  <a:pt x="245" y="104"/>
                  <a:pt x="244" y="104"/>
                </a:cubicBezTo>
                <a:cubicBezTo>
                  <a:pt x="242" y="106"/>
                  <a:pt x="242" y="105"/>
                  <a:pt x="243" y="103"/>
                </a:cubicBezTo>
                <a:cubicBezTo>
                  <a:pt x="243" y="102"/>
                  <a:pt x="240" y="100"/>
                  <a:pt x="236" y="100"/>
                </a:cubicBezTo>
                <a:cubicBezTo>
                  <a:pt x="232" y="100"/>
                  <a:pt x="234" y="103"/>
                  <a:pt x="233" y="104"/>
                </a:cubicBezTo>
                <a:cubicBezTo>
                  <a:pt x="232" y="105"/>
                  <a:pt x="226" y="103"/>
                  <a:pt x="230" y="103"/>
                </a:cubicBezTo>
                <a:cubicBezTo>
                  <a:pt x="233" y="102"/>
                  <a:pt x="232" y="100"/>
                  <a:pt x="231" y="98"/>
                </a:cubicBezTo>
                <a:cubicBezTo>
                  <a:pt x="229" y="96"/>
                  <a:pt x="226" y="98"/>
                  <a:pt x="220" y="100"/>
                </a:cubicBezTo>
                <a:cubicBezTo>
                  <a:pt x="214" y="102"/>
                  <a:pt x="211" y="105"/>
                  <a:pt x="212" y="105"/>
                </a:cubicBezTo>
                <a:cubicBezTo>
                  <a:pt x="213" y="105"/>
                  <a:pt x="213" y="106"/>
                  <a:pt x="211" y="108"/>
                </a:cubicBezTo>
                <a:cubicBezTo>
                  <a:pt x="208" y="110"/>
                  <a:pt x="211" y="111"/>
                  <a:pt x="213" y="111"/>
                </a:cubicBezTo>
                <a:cubicBezTo>
                  <a:pt x="215" y="111"/>
                  <a:pt x="213" y="113"/>
                  <a:pt x="215" y="113"/>
                </a:cubicBezTo>
                <a:cubicBezTo>
                  <a:pt x="215" y="114"/>
                  <a:pt x="217" y="113"/>
                  <a:pt x="219" y="113"/>
                </a:cubicBezTo>
                <a:cubicBezTo>
                  <a:pt x="221" y="112"/>
                  <a:pt x="223" y="111"/>
                  <a:pt x="224" y="112"/>
                </a:cubicBezTo>
                <a:cubicBezTo>
                  <a:pt x="226" y="113"/>
                  <a:pt x="213" y="114"/>
                  <a:pt x="213" y="116"/>
                </a:cubicBezTo>
                <a:cubicBezTo>
                  <a:pt x="213" y="119"/>
                  <a:pt x="221" y="120"/>
                  <a:pt x="226" y="119"/>
                </a:cubicBezTo>
                <a:cubicBezTo>
                  <a:pt x="231" y="118"/>
                  <a:pt x="240" y="120"/>
                  <a:pt x="240" y="121"/>
                </a:cubicBezTo>
                <a:cubicBezTo>
                  <a:pt x="240" y="123"/>
                  <a:pt x="234" y="122"/>
                  <a:pt x="229" y="122"/>
                </a:cubicBezTo>
                <a:cubicBezTo>
                  <a:pt x="225" y="122"/>
                  <a:pt x="217" y="123"/>
                  <a:pt x="217" y="125"/>
                </a:cubicBezTo>
                <a:cubicBezTo>
                  <a:pt x="217" y="126"/>
                  <a:pt x="218" y="126"/>
                  <a:pt x="223" y="129"/>
                </a:cubicBezTo>
                <a:cubicBezTo>
                  <a:pt x="225" y="130"/>
                  <a:pt x="227" y="130"/>
                  <a:pt x="229" y="129"/>
                </a:cubicBezTo>
                <a:cubicBezTo>
                  <a:pt x="231" y="129"/>
                  <a:pt x="233" y="129"/>
                  <a:pt x="233" y="131"/>
                </a:cubicBezTo>
                <a:cubicBezTo>
                  <a:pt x="232" y="134"/>
                  <a:pt x="235" y="135"/>
                  <a:pt x="242" y="135"/>
                </a:cubicBezTo>
                <a:cubicBezTo>
                  <a:pt x="245" y="135"/>
                  <a:pt x="248" y="134"/>
                  <a:pt x="249" y="134"/>
                </a:cubicBezTo>
                <a:cubicBezTo>
                  <a:pt x="251" y="133"/>
                  <a:pt x="253" y="132"/>
                  <a:pt x="255" y="132"/>
                </a:cubicBezTo>
                <a:cubicBezTo>
                  <a:pt x="258" y="132"/>
                  <a:pt x="259" y="132"/>
                  <a:pt x="261" y="129"/>
                </a:cubicBezTo>
                <a:cubicBezTo>
                  <a:pt x="262" y="127"/>
                  <a:pt x="264" y="129"/>
                  <a:pt x="264" y="130"/>
                </a:cubicBezTo>
                <a:cubicBezTo>
                  <a:pt x="264" y="131"/>
                  <a:pt x="269" y="131"/>
                  <a:pt x="269" y="132"/>
                </a:cubicBezTo>
                <a:cubicBezTo>
                  <a:pt x="272" y="134"/>
                  <a:pt x="280" y="133"/>
                  <a:pt x="283" y="132"/>
                </a:cubicBezTo>
                <a:cubicBezTo>
                  <a:pt x="286" y="130"/>
                  <a:pt x="282" y="126"/>
                  <a:pt x="280" y="128"/>
                </a:cubicBezTo>
                <a:cubicBezTo>
                  <a:pt x="279" y="130"/>
                  <a:pt x="277" y="129"/>
                  <a:pt x="277" y="128"/>
                </a:cubicBezTo>
                <a:cubicBezTo>
                  <a:pt x="276" y="127"/>
                  <a:pt x="280" y="126"/>
                  <a:pt x="281" y="125"/>
                </a:cubicBezTo>
                <a:moveTo>
                  <a:pt x="209" y="79"/>
                </a:moveTo>
                <a:cubicBezTo>
                  <a:pt x="213" y="79"/>
                  <a:pt x="216" y="76"/>
                  <a:pt x="216" y="74"/>
                </a:cubicBezTo>
                <a:cubicBezTo>
                  <a:pt x="216" y="73"/>
                  <a:pt x="208" y="78"/>
                  <a:pt x="209" y="79"/>
                </a:cubicBezTo>
                <a:moveTo>
                  <a:pt x="194" y="73"/>
                </a:moveTo>
                <a:cubicBezTo>
                  <a:pt x="195" y="74"/>
                  <a:pt x="194" y="77"/>
                  <a:pt x="195" y="76"/>
                </a:cubicBezTo>
                <a:cubicBezTo>
                  <a:pt x="197" y="75"/>
                  <a:pt x="197" y="75"/>
                  <a:pt x="198" y="75"/>
                </a:cubicBezTo>
                <a:cubicBezTo>
                  <a:pt x="200" y="76"/>
                  <a:pt x="201" y="74"/>
                  <a:pt x="202" y="73"/>
                </a:cubicBezTo>
                <a:cubicBezTo>
                  <a:pt x="203" y="72"/>
                  <a:pt x="202" y="77"/>
                  <a:pt x="205" y="77"/>
                </a:cubicBezTo>
                <a:cubicBezTo>
                  <a:pt x="207" y="77"/>
                  <a:pt x="206" y="72"/>
                  <a:pt x="208" y="73"/>
                </a:cubicBezTo>
                <a:cubicBezTo>
                  <a:pt x="210" y="75"/>
                  <a:pt x="211" y="73"/>
                  <a:pt x="211" y="71"/>
                </a:cubicBezTo>
                <a:cubicBezTo>
                  <a:pt x="211" y="70"/>
                  <a:pt x="211" y="68"/>
                  <a:pt x="214" y="68"/>
                </a:cubicBezTo>
                <a:cubicBezTo>
                  <a:pt x="216" y="67"/>
                  <a:pt x="214" y="70"/>
                  <a:pt x="215" y="71"/>
                </a:cubicBezTo>
                <a:cubicBezTo>
                  <a:pt x="216" y="74"/>
                  <a:pt x="219" y="71"/>
                  <a:pt x="219" y="70"/>
                </a:cubicBezTo>
                <a:cubicBezTo>
                  <a:pt x="219" y="69"/>
                  <a:pt x="222" y="70"/>
                  <a:pt x="222" y="69"/>
                </a:cubicBezTo>
                <a:cubicBezTo>
                  <a:pt x="222" y="67"/>
                  <a:pt x="223" y="67"/>
                  <a:pt x="222" y="65"/>
                </a:cubicBezTo>
                <a:cubicBezTo>
                  <a:pt x="221" y="64"/>
                  <a:pt x="224" y="64"/>
                  <a:pt x="225" y="63"/>
                </a:cubicBezTo>
                <a:cubicBezTo>
                  <a:pt x="226" y="62"/>
                  <a:pt x="223" y="63"/>
                  <a:pt x="221" y="61"/>
                </a:cubicBezTo>
                <a:cubicBezTo>
                  <a:pt x="220" y="60"/>
                  <a:pt x="219" y="62"/>
                  <a:pt x="219" y="63"/>
                </a:cubicBezTo>
                <a:cubicBezTo>
                  <a:pt x="219" y="64"/>
                  <a:pt x="215" y="63"/>
                  <a:pt x="213" y="62"/>
                </a:cubicBezTo>
                <a:cubicBezTo>
                  <a:pt x="211" y="62"/>
                  <a:pt x="208" y="65"/>
                  <a:pt x="205" y="66"/>
                </a:cubicBezTo>
                <a:cubicBezTo>
                  <a:pt x="202" y="68"/>
                  <a:pt x="202" y="71"/>
                  <a:pt x="199" y="70"/>
                </a:cubicBezTo>
                <a:cubicBezTo>
                  <a:pt x="197" y="70"/>
                  <a:pt x="192" y="73"/>
                  <a:pt x="194" y="73"/>
                </a:cubicBezTo>
                <a:moveTo>
                  <a:pt x="223" y="72"/>
                </a:moveTo>
                <a:cubicBezTo>
                  <a:pt x="221" y="73"/>
                  <a:pt x="221" y="75"/>
                  <a:pt x="224" y="75"/>
                </a:cubicBezTo>
                <a:cubicBezTo>
                  <a:pt x="227" y="75"/>
                  <a:pt x="228" y="76"/>
                  <a:pt x="223" y="76"/>
                </a:cubicBezTo>
                <a:cubicBezTo>
                  <a:pt x="221" y="76"/>
                  <a:pt x="220" y="77"/>
                  <a:pt x="219" y="77"/>
                </a:cubicBezTo>
                <a:cubicBezTo>
                  <a:pt x="218" y="78"/>
                  <a:pt x="219" y="79"/>
                  <a:pt x="220" y="79"/>
                </a:cubicBezTo>
                <a:cubicBezTo>
                  <a:pt x="223" y="78"/>
                  <a:pt x="227" y="78"/>
                  <a:pt x="224" y="79"/>
                </a:cubicBezTo>
                <a:cubicBezTo>
                  <a:pt x="222" y="80"/>
                  <a:pt x="216" y="80"/>
                  <a:pt x="217" y="81"/>
                </a:cubicBezTo>
                <a:cubicBezTo>
                  <a:pt x="218" y="82"/>
                  <a:pt x="220" y="82"/>
                  <a:pt x="222" y="83"/>
                </a:cubicBezTo>
                <a:cubicBezTo>
                  <a:pt x="225" y="84"/>
                  <a:pt x="226" y="84"/>
                  <a:pt x="228" y="82"/>
                </a:cubicBezTo>
                <a:cubicBezTo>
                  <a:pt x="230" y="80"/>
                  <a:pt x="233" y="78"/>
                  <a:pt x="232" y="81"/>
                </a:cubicBezTo>
                <a:cubicBezTo>
                  <a:pt x="231" y="84"/>
                  <a:pt x="235" y="82"/>
                  <a:pt x="240" y="81"/>
                </a:cubicBezTo>
                <a:cubicBezTo>
                  <a:pt x="245" y="81"/>
                  <a:pt x="239" y="84"/>
                  <a:pt x="234" y="85"/>
                </a:cubicBezTo>
                <a:cubicBezTo>
                  <a:pt x="228" y="85"/>
                  <a:pt x="229" y="88"/>
                  <a:pt x="233" y="89"/>
                </a:cubicBezTo>
                <a:cubicBezTo>
                  <a:pt x="237" y="90"/>
                  <a:pt x="246" y="86"/>
                  <a:pt x="248" y="84"/>
                </a:cubicBezTo>
                <a:cubicBezTo>
                  <a:pt x="249" y="83"/>
                  <a:pt x="251" y="83"/>
                  <a:pt x="252" y="84"/>
                </a:cubicBezTo>
                <a:cubicBezTo>
                  <a:pt x="253" y="84"/>
                  <a:pt x="253" y="84"/>
                  <a:pt x="254" y="84"/>
                </a:cubicBezTo>
                <a:cubicBezTo>
                  <a:pt x="256" y="83"/>
                  <a:pt x="257" y="83"/>
                  <a:pt x="259" y="83"/>
                </a:cubicBezTo>
                <a:cubicBezTo>
                  <a:pt x="261" y="83"/>
                  <a:pt x="262" y="83"/>
                  <a:pt x="264" y="83"/>
                </a:cubicBezTo>
                <a:cubicBezTo>
                  <a:pt x="268" y="82"/>
                  <a:pt x="268" y="76"/>
                  <a:pt x="266" y="74"/>
                </a:cubicBezTo>
                <a:cubicBezTo>
                  <a:pt x="263" y="73"/>
                  <a:pt x="263" y="76"/>
                  <a:pt x="261" y="76"/>
                </a:cubicBezTo>
                <a:cubicBezTo>
                  <a:pt x="259" y="77"/>
                  <a:pt x="258" y="74"/>
                  <a:pt x="256" y="72"/>
                </a:cubicBezTo>
                <a:cubicBezTo>
                  <a:pt x="254" y="71"/>
                  <a:pt x="255" y="67"/>
                  <a:pt x="253" y="68"/>
                </a:cubicBezTo>
                <a:cubicBezTo>
                  <a:pt x="250" y="68"/>
                  <a:pt x="245" y="72"/>
                  <a:pt x="248" y="72"/>
                </a:cubicBezTo>
                <a:cubicBezTo>
                  <a:pt x="252" y="73"/>
                  <a:pt x="250" y="74"/>
                  <a:pt x="249" y="75"/>
                </a:cubicBezTo>
                <a:cubicBezTo>
                  <a:pt x="247" y="76"/>
                  <a:pt x="253" y="77"/>
                  <a:pt x="252" y="78"/>
                </a:cubicBezTo>
                <a:cubicBezTo>
                  <a:pt x="251" y="80"/>
                  <a:pt x="243" y="79"/>
                  <a:pt x="242" y="77"/>
                </a:cubicBezTo>
                <a:cubicBezTo>
                  <a:pt x="242" y="75"/>
                  <a:pt x="235" y="71"/>
                  <a:pt x="232" y="72"/>
                </a:cubicBezTo>
                <a:cubicBezTo>
                  <a:pt x="229" y="73"/>
                  <a:pt x="231" y="70"/>
                  <a:pt x="228" y="70"/>
                </a:cubicBezTo>
                <a:cubicBezTo>
                  <a:pt x="225" y="70"/>
                  <a:pt x="226" y="72"/>
                  <a:pt x="223" y="72"/>
                </a:cubicBezTo>
                <a:moveTo>
                  <a:pt x="233" y="59"/>
                </a:moveTo>
                <a:cubicBezTo>
                  <a:pt x="234" y="57"/>
                  <a:pt x="227" y="57"/>
                  <a:pt x="227" y="58"/>
                </a:cubicBezTo>
                <a:cubicBezTo>
                  <a:pt x="229" y="59"/>
                  <a:pt x="232" y="61"/>
                  <a:pt x="233" y="59"/>
                </a:cubicBezTo>
                <a:moveTo>
                  <a:pt x="249" y="58"/>
                </a:moveTo>
                <a:cubicBezTo>
                  <a:pt x="251" y="58"/>
                  <a:pt x="250" y="56"/>
                  <a:pt x="246" y="56"/>
                </a:cubicBezTo>
                <a:cubicBezTo>
                  <a:pt x="242" y="57"/>
                  <a:pt x="235" y="57"/>
                  <a:pt x="235" y="60"/>
                </a:cubicBezTo>
                <a:cubicBezTo>
                  <a:pt x="235" y="62"/>
                  <a:pt x="237" y="63"/>
                  <a:pt x="241" y="63"/>
                </a:cubicBezTo>
                <a:cubicBezTo>
                  <a:pt x="245" y="64"/>
                  <a:pt x="249" y="60"/>
                  <a:pt x="247" y="60"/>
                </a:cubicBezTo>
                <a:cubicBezTo>
                  <a:pt x="245" y="60"/>
                  <a:pt x="246" y="58"/>
                  <a:pt x="249" y="58"/>
                </a:cubicBezTo>
                <a:moveTo>
                  <a:pt x="239" y="54"/>
                </a:moveTo>
                <a:cubicBezTo>
                  <a:pt x="240" y="55"/>
                  <a:pt x="241" y="54"/>
                  <a:pt x="242" y="54"/>
                </a:cubicBezTo>
                <a:cubicBezTo>
                  <a:pt x="243" y="54"/>
                  <a:pt x="244" y="53"/>
                  <a:pt x="244" y="54"/>
                </a:cubicBezTo>
                <a:cubicBezTo>
                  <a:pt x="246" y="55"/>
                  <a:pt x="252" y="56"/>
                  <a:pt x="252" y="53"/>
                </a:cubicBezTo>
                <a:cubicBezTo>
                  <a:pt x="252" y="50"/>
                  <a:pt x="244" y="49"/>
                  <a:pt x="242" y="51"/>
                </a:cubicBezTo>
                <a:cubicBezTo>
                  <a:pt x="240" y="52"/>
                  <a:pt x="232" y="52"/>
                  <a:pt x="234" y="54"/>
                </a:cubicBezTo>
                <a:cubicBezTo>
                  <a:pt x="235" y="55"/>
                  <a:pt x="236" y="54"/>
                  <a:pt x="237" y="54"/>
                </a:cubicBezTo>
                <a:cubicBezTo>
                  <a:pt x="238" y="54"/>
                  <a:pt x="238" y="54"/>
                  <a:pt x="239" y="54"/>
                </a:cubicBezTo>
                <a:moveTo>
                  <a:pt x="271" y="48"/>
                </a:moveTo>
                <a:cubicBezTo>
                  <a:pt x="273" y="47"/>
                  <a:pt x="277" y="49"/>
                  <a:pt x="276" y="51"/>
                </a:cubicBezTo>
                <a:cubicBezTo>
                  <a:pt x="276" y="52"/>
                  <a:pt x="274" y="52"/>
                  <a:pt x="272" y="52"/>
                </a:cubicBezTo>
                <a:cubicBezTo>
                  <a:pt x="271" y="52"/>
                  <a:pt x="269" y="52"/>
                  <a:pt x="270" y="52"/>
                </a:cubicBezTo>
                <a:cubicBezTo>
                  <a:pt x="270" y="53"/>
                  <a:pt x="271" y="55"/>
                  <a:pt x="275" y="54"/>
                </a:cubicBezTo>
                <a:cubicBezTo>
                  <a:pt x="280" y="52"/>
                  <a:pt x="283" y="53"/>
                  <a:pt x="286" y="56"/>
                </a:cubicBezTo>
                <a:cubicBezTo>
                  <a:pt x="289" y="58"/>
                  <a:pt x="292" y="59"/>
                  <a:pt x="294" y="57"/>
                </a:cubicBezTo>
                <a:cubicBezTo>
                  <a:pt x="296" y="54"/>
                  <a:pt x="292" y="54"/>
                  <a:pt x="293" y="52"/>
                </a:cubicBezTo>
                <a:cubicBezTo>
                  <a:pt x="294" y="50"/>
                  <a:pt x="290" y="49"/>
                  <a:pt x="288" y="49"/>
                </a:cubicBezTo>
                <a:cubicBezTo>
                  <a:pt x="286" y="49"/>
                  <a:pt x="285" y="45"/>
                  <a:pt x="283" y="46"/>
                </a:cubicBezTo>
                <a:cubicBezTo>
                  <a:pt x="281" y="47"/>
                  <a:pt x="280" y="48"/>
                  <a:pt x="280" y="46"/>
                </a:cubicBezTo>
                <a:cubicBezTo>
                  <a:pt x="280" y="43"/>
                  <a:pt x="270" y="43"/>
                  <a:pt x="268" y="44"/>
                </a:cubicBezTo>
                <a:cubicBezTo>
                  <a:pt x="266" y="45"/>
                  <a:pt x="269" y="50"/>
                  <a:pt x="271" y="48"/>
                </a:cubicBezTo>
                <a:moveTo>
                  <a:pt x="272" y="64"/>
                </a:moveTo>
                <a:cubicBezTo>
                  <a:pt x="274" y="62"/>
                  <a:pt x="266" y="56"/>
                  <a:pt x="266" y="59"/>
                </a:cubicBezTo>
                <a:cubicBezTo>
                  <a:pt x="265" y="62"/>
                  <a:pt x="271" y="66"/>
                  <a:pt x="272" y="64"/>
                </a:cubicBezTo>
                <a:moveTo>
                  <a:pt x="297" y="40"/>
                </a:moveTo>
                <a:cubicBezTo>
                  <a:pt x="298" y="37"/>
                  <a:pt x="289" y="36"/>
                  <a:pt x="291" y="38"/>
                </a:cubicBezTo>
                <a:cubicBezTo>
                  <a:pt x="292" y="39"/>
                  <a:pt x="295" y="42"/>
                  <a:pt x="297" y="40"/>
                </a:cubicBezTo>
                <a:moveTo>
                  <a:pt x="275" y="82"/>
                </a:moveTo>
                <a:cubicBezTo>
                  <a:pt x="277" y="81"/>
                  <a:pt x="273" y="78"/>
                  <a:pt x="271" y="80"/>
                </a:cubicBezTo>
                <a:cubicBezTo>
                  <a:pt x="270" y="83"/>
                  <a:pt x="274" y="84"/>
                  <a:pt x="275" y="82"/>
                </a:cubicBezTo>
                <a:moveTo>
                  <a:pt x="297" y="69"/>
                </a:moveTo>
                <a:cubicBezTo>
                  <a:pt x="296" y="71"/>
                  <a:pt x="292" y="69"/>
                  <a:pt x="289" y="68"/>
                </a:cubicBezTo>
                <a:cubicBezTo>
                  <a:pt x="285" y="66"/>
                  <a:pt x="287" y="70"/>
                  <a:pt x="290" y="72"/>
                </a:cubicBezTo>
                <a:cubicBezTo>
                  <a:pt x="293" y="75"/>
                  <a:pt x="289" y="74"/>
                  <a:pt x="285" y="71"/>
                </a:cubicBezTo>
                <a:cubicBezTo>
                  <a:pt x="282" y="69"/>
                  <a:pt x="282" y="73"/>
                  <a:pt x="284" y="74"/>
                </a:cubicBezTo>
                <a:cubicBezTo>
                  <a:pt x="285" y="75"/>
                  <a:pt x="283" y="77"/>
                  <a:pt x="281" y="74"/>
                </a:cubicBezTo>
                <a:cubicBezTo>
                  <a:pt x="279" y="71"/>
                  <a:pt x="278" y="68"/>
                  <a:pt x="274" y="68"/>
                </a:cubicBezTo>
                <a:cubicBezTo>
                  <a:pt x="270" y="68"/>
                  <a:pt x="272" y="71"/>
                  <a:pt x="273" y="73"/>
                </a:cubicBezTo>
                <a:cubicBezTo>
                  <a:pt x="275" y="76"/>
                  <a:pt x="277" y="76"/>
                  <a:pt x="280" y="78"/>
                </a:cubicBezTo>
                <a:cubicBezTo>
                  <a:pt x="282" y="79"/>
                  <a:pt x="284" y="78"/>
                  <a:pt x="286" y="78"/>
                </a:cubicBezTo>
                <a:cubicBezTo>
                  <a:pt x="288" y="78"/>
                  <a:pt x="289" y="77"/>
                  <a:pt x="290" y="78"/>
                </a:cubicBezTo>
                <a:cubicBezTo>
                  <a:pt x="293" y="78"/>
                  <a:pt x="288" y="81"/>
                  <a:pt x="289" y="83"/>
                </a:cubicBezTo>
                <a:cubicBezTo>
                  <a:pt x="291" y="85"/>
                  <a:pt x="295" y="84"/>
                  <a:pt x="298" y="83"/>
                </a:cubicBezTo>
                <a:cubicBezTo>
                  <a:pt x="302" y="83"/>
                  <a:pt x="300" y="81"/>
                  <a:pt x="302" y="80"/>
                </a:cubicBezTo>
                <a:cubicBezTo>
                  <a:pt x="304" y="79"/>
                  <a:pt x="300" y="79"/>
                  <a:pt x="302" y="76"/>
                </a:cubicBezTo>
                <a:cubicBezTo>
                  <a:pt x="303" y="72"/>
                  <a:pt x="297" y="67"/>
                  <a:pt x="297" y="69"/>
                </a:cubicBezTo>
                <a:moveTo>
                  <a:pt x="305" y="58"/>
                </a:moveTo>
                <a:cubicBezTo>
                  <a:pt x="307" y="58"/>
                  <a:pt x="310" y="58"/>
                  <a:pt x="312" y="57"/>
                </a:cubicBezTo>
                <a:cubicBezTo>
                  <a:pt x="315" y="56"/>
                  <a:pt x="311" y="56"/>
                  <a:pt x="312" y="54"/>
                </a:cubicBezTo>
                <a:cubicBezTo>
                  <a:pt x="314" y="51"/>
                  <a:pt x="308" y="51"/>
                  <a:pt x="308" y="52"/>
                </a:cubicBezTo>
                <a:cubicBezTo>
                  <a:pt x="308" y="52"/>
                  <a:pt x="306" y="51"/>
                  <a:pt x="304" y="50"/>
                </a:cubicBezTo>
                <a:cubicBezTo>
                  <a:pt x="302" y="49"/>
                  <a:pt x="300" y="48"/>
                  <a:pt x="299" y="49"/>
                </a:cubicBezTo>
                <a:cubicBezTo>
                  <a:pt x="298" y="51"/>
                  <a:pt x="302" y="58"/>
                  <a:pt x="305" y="58"/>
                </a:cubicBezTo>
                <a:moveTo>
                  <a:pt x="320" y="59"/>
                </a:moveTo>
                <a:cubicBezTo>
                  <a:pt x="319" y="58"/>
                  <a:pt x="305" y="60"/>
                  <a:pt x="307" y="61"/>
                </a:cubicBezTo>
                <a:cubicBezTo>
                  <a:pt x="311" y="64"/>
                  <a:pt x="320" y="60"/>
                  <a:pt x="320" y="59"/>
                </a:cubicBezTo>
                <a:moveTo>
                  <a:pt x="318" y="87"/>
                </a:moveTo>
                <a:cubicBezTo>
                  <a:pt x="321" y="86"/>
                  <a:pt x="319" y="82"/>
                  <a:pt x="316" y="79"/>
                </a:cubicBezTo>
                <a:cubicBezTo>
                  <a:pt x="312" y="77"/>
                  <a:pt x="303" y="82"/>
                  <a:pt x="305" y="84"/>
                </a:cubicBezTo>
                <a:cubicBezTo>
                  <a:pt x="307" y="85"/>
                  <a:pt x="314" y="87"/>
                  <a:pt x="318" y="87"/>
                </a:cubicBezTo>
                <a:moveTo>
                  <a:pt x="294" y="113"/>
                </a:moveTo>
                <a:cubicBezTo>
                  <a:pt x="296" y="115"/>
                  <a:pt x="297" y="113"/>
                  <a:pt x="298" y="112"/>
                </a:cubicBezTo>
                <a:cubicBezTo>
                  <a:pt x="298" y="112"/>
                  <a:pt x="299" y="111"/>
                  <a:pt x="301" y="111"/>
                </a:cubicBezTo>
                <a:cubicBezTo>
                  <a:pt x="306" y="111"/>
                  <a:pt x="306" y="103"/>
                  <a:pt x="307" y="100"/>
                </a:cubicBezTo>
                <a:cubicBezTo>
                  <a:pt x="308" y="98"/>
                  <a:pt x="303" y="98"/>
                  <a:pt x="304" y="100"/>
                </a:cubicBezTo>
                <a:cubicBezTo>
                  <a:pt x="305" y="102"/>
                  <a:pt x="304" y="104"/>
                  <a:pt x="304" y="102"/>
                </a:cubicBezTo>
                <a:cubicBezTo>
                  <a:pt x="303" y="100"/>
                  <a:pt x="302" y="100"/>
                  <a:pt x="301" y="100"/>
                </a:cubicBezTo>
                <a:cubicBezTo>
                  <a:pt x="300" y="100"/>
                  <a:pt x="299" y="100"/>
                  <a:pt x="298" y="100"/>
                </a:cubicBezTo>
                <a:cubicBezTo>
                  <a:pt x="297" y="98"/>
                  <a:pt x="302" y="97"/>
                  <a:pt x="304" y="95"/>
                </a:cubicBezTo>
                <a:cubicBezTo>
                  <a:pt x="305" y="93"/>
                  <a:pt x="299" y="93"/>
                  <a:pt x="301" y="91"/>
                </a:cubicBezTo>
                <a:cubicBezTo>
                  <a:pt x="302" y="89"/>
                  <a:pt x="292" y="91"/>
                  <a:pt x="295" y="92"/>
                </a:cubicBezTo>
                <a:cubicBezTo>
                  <a:pt x="298" y="94"/>
                  <a:pt x="295" y="95"/>
                  <a:pt x="293" y="93"/>
                </a:cubicBezTo>
                <a:cubicBezTo>
                  <a:pt x="290" y="91"/>
                  <a:pt x="283" y="94"/>
                  <a:pt x="286" y="97"/>
                </a:cubicBezTo>
                <a:cubicBezTo>
                  <a:pt x="288" y="98"/>
                  <a:pt x="294" y="95"/>
                  <a:pt x="290" y="100"/>
                </a:cubicBezTo>
                <a:cubicBezTo>
                  <a:pt x="288" y="103"/>
                  <a:pt x="287" y="102"/>
                  <a:pt x="285" y="101"/>
                </a:cubicBezTo>
                <a:cubicBezTo>
                  <a:pt x="284" y="100"/>
                  <a:pt x="283" y="99"/>
                  <a:pt x="282" y="100"/>
                </a:cubicBezTo>
                <a:cubicBezTo>
                  <a:pt x="278" y="100"/>
                  <a:pt x="280" y="104"/>
                  <a:pt x="285" y="106"/>
                </a:cubicBezTo>
                <a:cubicBezTo>
                  <a:pt x="290" y="107"/>
                  <a:pt x="289" y="110"/>
                  <a:pt x="294" y="113"/>
                </a:cubicBezTo>
                <a:moveTo>
                  <a:pt x="324" y="83"/>
                </a:moveTo>
                <a:cubicBezTo>
                  <a:pt x="325" y="85"/>
                  <a:pt x="326" y="85"/>
                  <a:pt x="327" y="85"/>
                </a:cubicBezTo>
                <a:cubicBezTo>
                  <a:pt x="328" y="85"/>
                  <a:pt x="328" y="85"/>
                  <a:pt x="329" y="85"/>
                </a:cubicBezTo>
                <a:cubicBezTo>
                  <a:pt x="331" y="87"/>
                  <a:pt x="334" y="88"/>
                  <a:pt x="336" y="86"/>
                </a:cubicBezTo>
                <a:cubicBezTo>
                  <a:pt x="338" y="85"/>
                  <a:pt x="339" y="84"/>
                  <a:pt x="339" y="85"/>
                </a:cubicBezTo>
                <a:cubicBezTo>
                  <a:pt x="340" y="87"/>
                  <a:pt x="344" y="87"/>
                  <a:pt x="353" y="88"/>
                </a:cubicBezTo>
                <a:cubicBezTo>
                  <a:pt x="357" y="88"/>
                  <a:pt x="359" y="87"/>
                  <a:pt x="360" y="86"/>
                </a:cubicBezTo>
                <a:cubicBezTo>
                  <a:pt x="361" y="85"/>
                  <a:pt x="361" y="85"/>
                  <a:pt x="363" y="85"/>
                </a:cubicBezTo>
                <a:cubicBezTo>
                  <a:pt x="365" y="87"/>
                  <a:pt x="371" y="87"/>
                  <a:pt x="374" y="86"/>
                </a:cubicBezTo>
                <a:cubicBezTo>
                  <a:pt x="377" y="86"/>
                  <a:pt x="378" y="82"/>
                  <a:pt x="378" y="80"/>
                </a:cubicBezTo>
                <a:cubicBezTo>
                  <a:pt x="378" y="77"/>
                  <a:pt x="357" y="76"/>
                  <a:pt x="354" y="78"/>
                </a:cubicBezTo>
                <a:cubicBezTo>
                  <a:pt x="352" y="79"/>
                  <a:pt x="349" y="79"/>
                  <a:pt x="347" y="78"/>
                </a:cubicBezTo>
                <a:cubicBezTo>
                  <a:pt x="345" y="78"/>
                  <a:pt x="343" y="78"/>
                  <a:pt x="342" y="78"/>
                </a:cubicBezTo>
                <a:cubicBezTo>
                  <a:pt x="339" y="80"/>
                  <a:pt x="340" y="77"/>
                  <a:pt x="335" y="76"/>
                </a:cubicBezTo>
                <a:cubicBezTo>
                  <a:pt x="330" y="76"/>
                  <a:pt x="335" y="74"/>
                  <a:pt x="336" y="72"/>
                </a:cubicBezTo>
                <a:cubicBezTo>
                  <a:pt x="337" y="71"/>
                  <a:pt x="328" y="68"/>
                  <a:pt x="325" y="69"/>
                </a:cubicBezTo>
                <a:cubicBezTo>
                  <a:pt x="321" y="70"/>
                  <a:pt x="319" y="68"/>
                  <a:pt x="316" y="66"/>
                </a:cubicBezTo>
                <a:cubicBezTo>
                  <a:pt x="312" y="65"/>
                  <a:pt x="303" y="65"/>
                  <a:pt x="305" y="68"/>
                </a:cubicBezTo>
                <a:cubicBezTo>
                  <a:pt x="306" y="70"/>
                  <a:pt x="317" y="74"/>
                  <a:pt x="318" y="72"/>
                </a:cubicBezTo>
                <a:cubicBezTo>
                  <a:pt x="320" y="70"/>
                  <a:pt x="322" y="74"/>
                  <a:pt x="324" y="76"/>
                </a:cubicBezTo>
                <a:cubicBezTo>
                  <a:pt x="326" y="78"/>
                  <a:pt x="323" y="79"/>
                  <a:pt x="324" y="83"/>
                </a:cubicBezTo>
                <a:moveTo>
                  <a:pt x="334" y="61"/>
                </a:moveTo>
                <a:cubicBezTo>
                  <a:pt x="331" y="59"/>
                  <a:pt x="326" y="62"/>
                  <a:pt x="330" y="64"/>
                </a:cubicBezTo>
                <a:cubicBezTo>
                  <a:pt x="333" y="65"/>
                  <a:pt x="337" y="62"/>
                  <a:pt x="334" y="61"/>
                </a:cubicBezTo>
                <a:moveTo>
                  <a:pt x="307" y="39"/>
                </a:moveTo>
                <a:cubicBezTo>
                  <a:pt x="310" y="41"/>
                  <a:pt x="308" y="43"/>
                  <a:pt x="311" y="44"/>
                </a:cubicBezTo>
                <a:cubicBezTo>
                  <a:pt x="312" y="45"/>
                  <a:pt x="315" y="44"/>
                  <a:pt x="317" y="44"/>
                </a:cubicBezTo>
                <a:cubicBezTo>
                  <a:pt x="320" y="44"/>
                  <a:pt x="323" y="43"/>
                  <a:pt x="323" y="44"/>
                </a:cubicBezTo>
                <a:cubicBezTo>
                  <a:pt x="324" y="46"/>
                  <a:pt x="315" y="47"/>
                  <a:pt x="316" y="48"/>
                </a:cubicBezTo>
                <a:cubicBezTo>
                  <a:pt x="317" y="49"/>
                  <a:pt x="323" y="51"/>
                  <a:pt x="322" y="52"/>
                </a:cubicBezTo>
                <a:cubicBezTo>
                  <a:pt x="321" y="54"/>
                  <a:pt x="331" y="57"/>
                  <a:pt x="332" y="55"/>
                </a:cubicBezTo>
                <a:cubicBezTo>
                  <a:pt x="333" y="54"/>
                  <a:pt x="335" y="54"/>
                  <a:pt x="338" y="55"/>
                </a:cubicBezTo>
                <a:cubicBezTo>
                  <a:pt x="339" y="56"/>
                  <a:pt x="340" y="54"/>
                  <a:pt x="340" y="53"/>
                </a:cubicBezTo>
                <a:cubicBezTo>
                  <a:pt x="341" y="51"/>
                  <a:pt x="341" y="50"/>
                  <a:pt x="342" y="50"/>
                </a:cubicBezTo>
                <a:cubicBezTo>
                  <a:pt x="344" y="52"/>
                  <a:pt x="344" y="48"/>
                  <a:pt x="347" y="47"/>
                </a:cubicBezTo>
                <a:cubicBezTo>
                  <a:pt x="349" y="46"/>
                  <a:pt x="353" y="46"/>
                  <a:pt x="354" y="44"/>
                </a:cubicBezTo>
                <a:cubicBezTo>
                  <a:pt x="354" y="43"/>
                  <a:pt x="353" y="42"/>
                  <a:pt x="350" y="42"/>
                </a:cubicBezTo>
                <a:cubicBezTo>
                  <a:pt x="346" y="43"/>
                  <a:pt x="344" y="42"/>
                  <a:pt x="345" y="40"/>
                </a:cubicBezTo>
                <a:cubicBezTo>
                  <a:pt x="347" y="38"/>
                  <a:pt x="342" y="37"/>
                  <a:pt x="344" y="36"/>
                </a:cubicBezTo>
                <a:cubicBezTo>
                  <a:pt x="345" y="34"/>
                  <a:pt x="340" y="33"/>
                  <a:pt x="340" y="35"/>
                </a:cubicBezTo>
                <a:cubicBezTo>
                  <a:pt x="341" y="37"/>
                  <a:pt x="337" y="35"/>
                  <a:pt x="337" y="33"/>
                </a:cubicBezTo>
                <a:cubicBezTo>
                  <a:pt x="336" y="31"/>
                  <a:pt x="328" y="30"/>
                  <a:pt x="323" y="26"/>
                </a:cubicBezTo>
                <a:cubicBezTo>
                  <a:pt x="318" y="21"/>
                  <a:pt x="313" y="24"/>
                  <a:pt x="316" y="25"/>
                </a:cubicBezTo>
                <a:cubicBezTo>
                  <a:pt x="319" y="25"/>
                  <a:pt x="319" y="27"/>
                  <a:pt x="316" y="27"/>
                </a:cubicBezTo>
                <a:cubicBezTo>
                  <a:pt x="314" y="26"/>
                  <a:pt x="309" y="27"/>
                  <a:pt x="313" y="28"/>
                </a:cubicBezTo>
                <a:cubicBezTo>
                  <a:pt x="317" y="30"/>
                  <a:pt x="313" y="30"/>
                  <a:pt x="310" y="30"/>
                </a:cubicBezTo>
                <a:cubicBezTo>
                  <a:pt x="307" y="30"/>
                  <a:pt x="306" y="35"/>
                  <a:pt x="311" y="35"/>
                </a:cubicBezTo>
                <a:cubicBezTo>
                  <a:pt x="315" y="36"/>
                  <a:pt x="312" y="38"/>
                  <a:pt x="308" y="37"/>
                </a:cubicBezTo>
                <a:cubicBezTo>
                  <a:pt x="305" y="36"/>
                  <a:pt x="304" y="38"/>
                  <a:pt x="307" y="39"/>
                </a:cubicBezTo>
                <a:moveTo>
                  <a:pt x="330" y="21"/>
                </a:moveTo>
                <a:cubicBezTo>
                  <a:pt x="332" y="19"/>
                  <a:pt x="334" y="20"/>
                  <a:pt x="332" y="21"/>
                </a:cubicBezTo>
                <a:cubicBezTo>
                  <a:pt x="330" y="23"/>
                  <a:pt x="331" y="23"/>
                  <a:pt x="334" y="23"/>
                </a:cubicBezTo>
                <a:cubicBezTo>
                  <a:pt x="337" y="23"/>
                  <a:pt x="332" y="24"/>
                  <a:pt x="332" y="26"/>
                </a:cubicBezTo>
                <a:cubicBezTo>
                  <a:pt x="332" y="28"/>
                  <a:pt x="336" y="27"/>
                  <a:pt x="336" y="29"/>
                </a:cubicBezTo>
                <a:cubicBezTo>
                  <a:pt x="337" y="30"/>
                  <a:pt x="345" y="31"/>
                  <a:pt x="347" y="29"/>
                </a:cubicBezTo>
                <a:cubicBezTo>
                  <a:pt x="350" y="27"/>
                  <a:pt x="349" y="29"/>
                  <a:pt x="348" y="31"/>
                </a:cubicBezTo>
                <a:cubicBezTo>
                  <a:pt x="348" y="32"/>
                  <a:pt x="360" y="34"/>
                  <a:pt x="360" y="32"/>
                </a:cubicBezTo>
                <a:cubicBezTo>
                  <a:pt x="361" y="30"/>
                  <a:pt x="363" y="31"/>
                  <a:pt x="365" y="31"/>
                </a:cubicBezTo>
                <a:cubicBezTo>
                  <a:pt x="367" y="32"/>
                  <a:pt x="378" y="29"/>
                  <a:pt x="379" y="27"/>
                </a:cubicBezTo>
                <a:cubicBezTo>
                  <a:pt x="379" y="25"/>
                  <a:pt x="382" y="28"/>
                  <a:pt x="379" y="31"/>
                </a:cubicBezTo>
                <a:cubicBezTo>
                  <a:pt x="375" y="33"/>
                  <a:pt x="368" y="33"/>
                  <a:pt x="365" y="34"/>
                </a:cubicBezTo>
                <a:cubicBezTo>
                  <a:pt x="361" y="35"/>
                  <a:pt x="367" y="37"/>
                  <a:pt x="370" y="39"/>
                </a:cubicBezTo>
                <a:cubicBezTo>
                  <a:pt x="373" y="42"/>
                  <a:pt x="366" y="40"/>
                  <a:pt x="363" y="37"/>
                </a:cubicBezTo>
                <a:cubicBezTo>
                  <a:pt x="360" y="34"/>
                  <a:pt x="353" y="34"/>
                  <a:pt x="349" y="34"/>
                </a:cubicBezTo>
                <a:cubicBezTo>
                  <a:pt x="346" y="34"/>
                  <a:pt x="347" y="41"/>
                  <a:pt x="350" y="41"/>
                </a:cubicBezTo>
                <a:cubicBezTo>
                  <a:pt x="352" y="41"/>
                  <a:pt x="355" y="42"/>
                  <a:pt x="357" y="46"/>
                </a:cubicBezTo>
                <a:cubicBezTo>
                  <a:pt x="360" y="50"/>
                  <a:pt x="366" y="49"/>
                  <a:pt x="366" y="51"/>
                </a:cubicBezTo>
                <a:cubicBezTo>
                  <a:pt x="366" y="53"/>
                  <a:pt x="358" y="50"/>
                  <a:pt x="354" y="49"/>
                </a:cubicBezTo>
                <a:cubicBezTo>
                  <a:pt x="350" y="48"/>
                  <a:pt x="344" y="51"/>
                  <a:pt x="343" y="54"/>
                </a:cubicBezTo>
                <a:cubicBezTo>
                  <a:pt x="343" y="57"/>
                  <a:pt x="349" y="56"/>
                  <a:pt x="353" y="54"/>
                </a:cubicBezTo>
                <a:cubicBezTo>
                  <a:pt x="358" y="52"/>
                  <a:pt x="355" y="55"/>
                  <a:pt x="353" y="57"/>
                </a:cubicBezTo>
                <a:cubicBezTo>
                  <a:pt x="350" y="58"/>
                  <a:pt x="357" y="60"/>
                  <a:pt x="357" y="62"/>
                </a:cubicBezTo>
                <a:cubicBezTo>
                  <a:pt x="357" y="65"/>
                  <a:pt x="352" y="64"/>
                  <a:pt x="352" y="62"/>
                </a:cubicBezTo>
                <a:cubicBezTo>
                  <a:pt x="351" y="60"/>
                  <a:pt x="349" y="58"/>
                  <a:pt x="344" y="58"/>
                </a:cubicBezTo>
                <a:cubicBezTo>
                  <a:pt x="340" y="58"/>
                  <a:pt x="341" y="62"/>
                  <a:pt x="344" y="62"/>
                </a:cubicBezTo>
                <a:cubicBezTo>
                  <a:pt x="347" y="62"/>
                  <a:pt x="347" y="65"/>
                  <a:pt x="344" y="65"/>
                </a:cubicBezTo>
                <a:cubicBezTo>
                  <a:pt x="340" y="65"/>
                  <a:pt x="333" y="67"/>
                  <a:pt x="335" y="69"/>
                </a:cubicBezTo>
                <a:cubicBezTo>
                  <a:pt x="336" y="70"/>
                  <a:pt x="340" y="70"/>
                  <a:pt x="343" y="70"/>
                </a:cubicBezTo>
                <a:cubicBezTo>
                  <a:pt x="346" y="70"/>
                  <a:pt x="348" y="70"/>
                  <a:pt x="349" y="71"/>
                </a:cubicBezTo>
                <a:cubicBezTo>
                  <a:pt x="351" y="72"/>
                  <a:pt x="355" y="73"/>
                  <a:pt x="357" y="71"/>
                </a:cubicBezTo>
                <a:cubicBezTo>
                  <a:pt x="358" y="69"/>
                  <a:pt x="361" y="70"/>
                  <a:pt x="365" y="70"/>
                </a:cubicBezTo>
                <a:cubicBezTo>
                  <a:pt x="369" y="70"/>
                  <a:pt x="370" y="71"/>
                  <a:pt x="372" y="72"/>
                </a:cubicBezTo>
                <a:cubicBezTo>
                  <a:pt x="373" y="74"/>
                  <a:pt x="376" y="73"/>
                  <a:pt x="378" y="71"/>
                </a:cubicBezTo>
                <a:cubicBezTo>
                  <a:pt x="380" y="70"/>
                  <a:pt x="380" y="70"/>
                  <a:pt x="383" y="70"/>
                </a:cubicBezTo>
                <a:cubicBezTo>
                  <a:pt x="386" y="70"/>
                  <a:pt x="386" y="68"/>
                  <a:pt x="385" y="66"/>
                </a:cubicBezTo>
                <a:cubicBezTo>
                  <a:pt x="384" y="65"/>
                  <a:pt x="383" y="66"/>
                  <a:pt x="382" y="66"/>
                </a:cubicBezTo>
                <a:cubicBezTo>
                  <a:pt x="381" y="66"/>
                  <a:pt x="380" y="67"/>
                  <a:pt x="380" y="66"/>
                </a:cubicBezTo>
                <a:cubicBezTo>
                  <a:pt x="379" y="64"/>
                  <a:pt x="376" y="64"/>
                  <a:pt x="371" y="65"/>
                </a:cubicBezTo>
                <a:cubicBezTo>
                  <a:pt x="368" y="65"/>
                  <a:pt x="368" y="64"/>
                  <a:pt x="368" y="63"/>
                </a:cubicBezTo>
                <a:cubicBezTo>
                  <a:pt x="368" y="62"/>
                  <a:pt x="370" y="62"/>
                  <a:pt x="371" y="62"/>
                </a:cubicBezTo>
                <a:cubicBezTo>
                  <a:pt x="374" y="63"/>
                  <a:pt x="379" y="63"/>
                  <a:pt x="382" y="62"/>
                </a:cubicBezTo>
                <a:cubicBezTo>
                  <a:pt x="386" y="61"/>
                  <a:pt x="383" y="59"/>
                  <a:pt x="383" y="58"/>
                </a:cubicBezTo>
                <a:cubicBezTo>
                  <a:pt x="383" y="56"/>
                  <a:pt x="388" y="57"/>
                  <a:pt x="391" y="57"/>
                </a:cubicBezTo>
                <a:cubicBezTo>
                  <a:pt x="394" y="57"/>
                  <a:pt x="399" y="52"/>
                  <a:pt x="399" y="48"/>
                </a:cubicBezTo>
                <a:cubicBezTo>
                  <a:pt x="400" y="45"/>
                  <a:pt x="392" y="46"/>
                  <a:pt x="388" y="46"/>
                </a:cubicBezTo>
                <a:cubicBezTo>
                  <a:pt x="384" y="46"/>
                  <a:pt x="391" y="43"/>
                  <a:pt x="398" y="43"/>
                </a:cubicBezTo>
                <a:cubicBezTo>
                  <a:pt x="405" y="44"/>
                  <a:pt x="402" y="41"/>
                  <a:pt x="403" y="39"/>
                </a:cubicBezTo>
                <a:cubicBezTo>
                  <a:pt x="404" y="39"/>
                  <a:pt x="405" y="39"/>
                  <a:pt x="407" y="40"/>
                </a:cubicBezTo>
                <a:cubicBezTo>
                  <a:pt x="408" y="40"/>
                  <a:pt x="410" y="40"/>
                  <a:pt x="411" y="40"/>
                </a:cubicBezTo>
                <a:cubicBezTo>
                  <a:pt x="415" y="39"/>
                  <a:pt x="412" y="36"/>
                  <a:pt x="415" y="36"/>
                </a:cubicBezTo>
                <a:cubicBezTo>
                  <a:pt x="417" y="36"/>
                  <a:pt x="421" y="34"/>
                  <a:pt x="428" y="29"/>
                </a:cubicBezTo>
                <a:cubicBezTo>
                  <a:pt x="436" y="25"/>
                  <a:pt x="442" y="26"/>
                  <a:pt x="442" y="23"/>
                </a:cubicBezTo>
                <a:cubicBezTo>
                  <a:pt x="443" y="22"/>
                  <a:pt x="439" y="22"/>
                  <a:pt x="435" y="22"/>
                </a:cubicBezTo>
                <a:cubicBezTo>
                  <a:pt x="433" y="23"/>
                  <a:pt x="431" y="23"/>
                  <a:pt x="430" y="23"/>
                </a:cubicBezTo>
                <a:cubicBezTo>
                  <a:pt x="428" y="22"/>
                  <a:pt x="437" y="20"/>
                  <a:pt x="440" y="20"/>
                </a:cubicBezTo>
                <a:cubicBezTo>
                  <a:pt x="442" y="21"/>
                  <a:pt x="445" y="20"/>
                  <a:pt x="453" y="16"/>
                </a:cubicBezTo>
                <a:cubicBezTo>
                  <a:pt x="460" y="13"/>
                  <a:pt x="457" y="12"/>
                  <a:pt x="454" y="12"/>
                </a:cubicBezTo>
                <a:cubicBezTo>
                  <a:pt x="451" y="13"/>
                  <a:pt x="447" y="12"/>
                  <a:pt x="447" y="10"/>
                </a:cubicBezTo>
                <a:cubicBezTo>
                  <a:pt x="447" y="9"/>
                  <a:pt x="446" y="9"/>
                  <a:pt x="444" y="9"/>
                </a:cubicBezTo>
                <a:cubicBezTo>
                  <a:pt x="443" y="9"/>
                  <a:pt x="442" y="9"/>
                  <a:pt x="442" y="8"/>
                </a:cubicBezTo>
                <a:cubicBezTo>
                  <a:pt x="442" y="7"/>
                  <a:pt x="438" y="8"/>
                  <a:pt x="433" y="10"/>
                </a:cubicBezTo>
                <a:cubicBezTo>
                  <a:pt x="428" y="12"/>
                  <a:pt x="432" y="8"/>
                  <a:pt x="434" y="7"/>
                </a:cubicBezTo>
                <a:cubicBezTo>
                  <a:pt x="437" y="6"/>
                  <a:pt x="422" y="7"/>
                  <a:pt x="420" y="5"/>
                </a:cubicBezTo>
                <a:cubicBezTo>
                  <a:pt x="418" y="5"/>
                  <a:pt x="417" y="5"/>
                  <a:pt x="416" y="6"/>
                </a:cubicBezTo>
                <a:cubicBezTo>
                  <a:pt x="415" y="6"/>
                  <a:pt x="413" y="7"/>
                  <a:pt x="412" y="6"/>
                </a:cubicBezTo>
                <a:cubicBezTo>
                  <a:pt x="410" y="4"/>
                  <a:pt x="404" y="6"/>
                  <a:pt x="405" y="7"/>
                </a:cubicBezTo>
                <a:cubicBezTo>
                  <a:pt x="405" y="9"/>
                  <a:pt x="404" y="9"/>
                  <a:pt x="402" y="7"/>
                </a:cubicBezTo>
                <a:cubicBezTo>
                  <a:pt x="400" y="6"/>
                  <a:pt x="398" y="6"/>
                  <a:pt x="396" y="7"/>
                </a:cubicBezTo>
                <a:cubicBezTo>
                  <a:pt x="394" y="7"/>
                  <a:pt x="393" y="7"/>
                  <a:pt x="391" y="7"/>
                </a:cubicBezTo>
                <a:cubicBezTo>
                  <a:pt x="389" y="6"/>
                  <a:pt x="389" y="7"/>
                  <a:pt x="388" y="8"/>
                </a:cubicBezTo>
                <a:cubicBezTo>
                  <a:pt x="387" y="8"/>
                  <a:pt x="387" y="9"/>
                  <a:pt x="384" y="8"/>
                </a:cubicBezTo>
                <a:cubicBezTo>
                  <a:pt x="380" y="6"/>
                  <a:pt x="375" y="7"/>
                  <a:pt x="377" y="8"/>
                </a:cubicBezTo>
                <a:cubicBezTo>
                  <a:pt x="378" y="8"/>
                  <a:pt x="376" y="9"/>
                  <a:pt x="374" y="9"/>
                </a:cubicBezTo>
                <a:cubicBezTo>
                  <a:pt x="373" y="8"/>
                  <a:pt x="371" y="9"/>
                  <a:pt x="372" y="11"/>
                </a:cubicBezTo>
                <a:cubicBezTo>
                  <a:pt x="372" y="12"/>
                  <a:pt x="371" y="12"/>
                  <a:pt x="369" y="12"/>
                </a:cubicBezTo>
                <a:cubicBezTo>
                  <a:pt x="367" y="11"/>
                  <a:pt x="365" y="11"/>
                  <a:pt x="365" y="12"/>
                </a:cubicBezTo>
                <a:cubicBezTo>
                  <a:pt x="365" y="14"/>
                  <a:pt x="362" y="16"/>
                  <a:pt x="360" y="14"/>
                </a:cubicBezTo>
                <a:cubicBezTo>
                  <a:pt x="357" y="12"/>
                  <a:pt x="350" y="11"/>
                  <a:pt x="352" y="13"/>
                </a:cubicBezTo>
                <a:cubicBezTo>
                  <a:pt x="354" y="15"/>
                  <a:pt x="346" y="14"/>
                  <a:pt x="348" y="15"/>
                </a:cubicBezTo>
                <a:cubicBezTo>
                  <a:pt x="350" y="17"/>
                  <a:pt x="345" y="18"/>
                  <a:pt x="345" y="17"/>
                </a:cubicBezTo>
                <a:cubicBezTo>
                  <a:pt x="345" y="16"/>
                  <a:pt x="341" y="15"/>
                  <a:pt x="339" y="16"/>
                </a:cubicBezTo>
                <a:cubicBezTo>
                  <a:pt x="337" y="18"/>
                  <a:pt x="336" y="20"/>
                  <a:pt x="335" y="19"/>
                </a:cubicBezTo>
                <a:cubicBezTo>
                  <a:pt x="334" y="18"/>
                  <a:pt x="330" y="18"/>
                  <a:pt x="326" y="20"/>
                </a:cubicBezTo>
                <a:cubicBezTo>
                  <a:pt x="322" y="21"/>
                  <a:pt x="327" y="23"/>
                  <a:pt x="330" y="21"/>
                </a:cubicBezTo>
                <a:moveTo>
                  <a:pt x="377" y="183"/>
                </a:moveTo>
                <a:cubicBezTo>
                  <a:pt x="378" y="183"/>
                  <a:pt x="381" y="178"/>
                  <a:pt x="378" y="179"/>
                </a:cubicBezTo>
                <a:cubicBezTo>
                  <a:pt x="374" y="179"/>
                  <a:pt x="375" y="184"/>
                  <a:pt x="377" y="183"/>
                </a:cubicBezTo>
                <a:moveTo>
                  <a:pt x="360" y="179"/>
                </a:moveTo>
                <a:cubicBezTo>
                  <a:pt x="363" y="181"/>
                  <a:pt x="368" y="176"/>
                  <a:pt x="368" y="174"/>
                </a:cubicBezTo>
                <a:cubicBezTo>
                  <a:pt x="367" y="173"/>
                  <a:pt x="357" y="177"/>
                  <a:pt x="360" y="179"/>
                </a:cubicBezTo>
                <a:moveTo>
                  <a:pt x="374" y="169"/>
                </a:moveTo>
                <a:cubicBezTo>
                  <a:pt x="374" y="167"/>
                  <a:pt x="368" y="166"/>
                  <a:pt x="368" y="164"/>
                </a:cubicBezTo>
                <a:cubicBezTo>
                  <a:pt x="369" y="162"/>
                  <a:pt x="362" y="160"/>
                  <a:pt x="360" y="159"/>
                </a:cubicBezTo>
                <a:cubicBezTo>
                  <a:pt x="358" y="158"/>
                  <a:pt x="355" y="158"/>
                  <a:pt x="355" y="155"/>
                </a:cubicBezTo>
                <a:cubicBezTo>
                  <a:pt x="355" y="153"/>
                  <a:pt x="350" y="155"/>
                  <a:pt x="350" y="158"/>
                </a:cubicBezTo>
                <a:cubicBezTo>
                  <a:pt x="350" y="161"/>
                  <a:pt x="348" y="161"/>
                  <a:pt x="349" y="164"/>
                </a:cubicBezTo>
                <a:cubicBezTo>
                  <a:pt x="350" y="167"/>
                  <a:pt x="345" y="168"/>
                  <a:pt x="345" y="170"/>
                </a:cubicBezTo>
                <a:cubicBezTo>
                  <a:pt x="346" y="171"/>
                  <a:pt x="348" y="169"/>
                  <a:pt x="350" y="169"/>
                </a:cubicBezTo>
                <a:cubicBezTo>
                  <a:pt x="353" y="169"/>
                  <a:pt x="350" y="173"/>
                  <a:pt x="353" y="173"/>
                </a:cubicBezTo>
                <a:cubicBezTo>
                  <a:pt x="355" y="173"/>
                  <a:pt x="359" y="170"/>
                  <a:pt x="360" y="169"/>
                </a:cubicBezTo>
                <a:cubicBezTo>
                  <a:pt x="361" y="167"/>
                  <a:pt x="363" y="167"/>
                  <a:pt x="365" y="169"/>
                </a:cubicBezTo>
                <a:cubicBezTo>
                  <a:pt x="368" y="171"/>
                  <a:pt x="374" y="171"/>
                  <a:pt x="374" y="169"/>
                </a:cubicBezTo>
                <a:moveTo>
                  <a:pt x="409" y="116"/>
                </a:moveTo>
                <a:cubicBezTo>
                  <a:pt x="411" y="116"/>
                  <a:pt x="413" y="115"/>
                  <a:pt x="413" y="113"/>
                </a:cubicBezTo>
                <a:cubicBezTo>
                  <a:pt x="412" y="111"/>
                  <a:pt x="407" y="111"/>
                  <a:pt x="406" y="113"/>
                </a:cubicBezTo>
                <a:cubicBezTo>
                  <a:pt x="405" y="115"/>
                  <a:pt x="402" y="111"/>
                  <a:pt x="402" y="109"/>
                </a:cubicBezTo>
                <a:cubicBezTo>
                  <a:pt x="402" y="107"/>
                  <a:pt x="395" y="109"/>
                  <a:pt x="396" y="106"/>
                </a:cubicBezTo>
                <a:cubicBezTo>
                  <a:pt x="397" y="103"/>
                  <a:pt x="389" y="103"/>
                  <a:pt x="387" y="103"/>
                </a:cubicBezTo>
                <a:cubicBezTo>
                  <a:pt x="385" y="103"/>
                  <a:pt x="382" y="104"/>
                  <a:pt x="382" y="106"/>
                </a:cubicBezTo>
                <a:cubicBezTo>
                  <a:pt x="383" y="108"/>
                  <a:pt x="380" y="107"/>
                  <a:pt x="380" y="105"/>
                </a:cubicBezTo>
                <a:cubicBezTo>
                  <a:pt x="379" y="103"/>
                  <a:pt x="374" y="107"/>
                  <a:pt x="373" y="107"/>
                </a:cubicBezTo>
                <a:cubicBezTo>
                  <a:pt x="371" y="107"/>
                  <a:pt x="374" y="102"/>
                  <a:pt x="373" y="100"/>
                </a:cubicBezTo>
                <a:cubicBezTo>
                  <a:pt x="372" y="99"/>
                  <a:pt x="371" y="98"/>
                  <a:pt x="370" y="95"/>
                </a:cubicBezTo>
                <a:cubicBezTo>
                  <a:pt x="369" y="92"/>
                  <a:pt x="363" y="94"/>
                  <a:pt x="362" y="95"/>
                </a:cubicBezTo>
                <a:cubicBezTo>
                  <a:pt x="360" y="97"/>
                  <a:pt x="355" y="96"/>
                  <a:pt x="353" y="99"/>
                </a:cubicBezTo>
                <a:cubicBezTo>
                  <a:pt x="350" y="101"/>
                  <a:pt x="353" y="104"/>
                  <a:pt x="354" y="105"/>
                </a:cubicBezTo>
                <a:cubicBezTo>
                  <a:pt x="355" y="106"/>
                  <a:pt x="350" y="107"/>
                  <a:pt x="352" y="109"/>
                </a:cubicBezTo>
                <a:cubicBezTo>
                  <a:pt x="353" y="110"/>
                  <a:pt x="356" y="110"/>
                  <a:pt x="356" y="112"/>
                </a:cubicBezTo>
                <a:cubicBezTo>
                  <a:pt x="357" y="115"/>
                  <a:pt x="350" y="111"/>
                  <a:pt x="349" y="109"/>
                </a:cubicBezTo>
                <a:cubicBezTo>
                  <a:pt x="348" y="107"/>
                  <a:pt x="350" y="105"/>
                  <a:pt x="348" y="104"/>
                </a:cubicBezTo>
                <a:cubicBezTo>
                  <a:pt x="347" y="102"/>
                  <a:pt x="348" y="100"/>
                  <a:pt x="350" y="98"/>
                </a:cubicBezTo>
                <a:cubicBezTo>
                  <a:pt x="353" y="95"/>
                  <a:pt x="355" y="96"/>
                  <a:pt x="355" y="94"/>
                </a:cubicBezTo>
                <a:cubicBezTo>
                  <a:pt x="355" y="93"/>
                  <a:pt x="344" y="93"/>
                  <a:pt x="338" y="98"/>
                </a:cubicBezTo>
                <a:cubicBezTo>
                  <a:pt x="332" y="104"/>
                  <a:pt x="334" y="111"/>
                  <a:pt x="334" y="113"/>
                </a:cubicBezTo>
                <a:cubicBezTo>
                  <a:pt x="334" y="114"/>
                  <a:pt x="340" y="114"/>
                  <a:pt x="343" y="115"/>
                </a:cubicBezTo>
                <a:cubicBezTo>
                  <a:pt x="346" y="116"/>
                  <a:pt x="345" y="117"/>
                  <a:pt x="342" y="116"/>
                </a:cubicBezTo>
                <a:cubicBezTo>
                  <a:pt x="340" y="116"/>
                  <a:pt x="336" y="115"/>
                  <a:pt x="336" y="117"/>
                </a:cubicBezTo>
                <a:cubicBezTo>
                  <a:pt x="336" y="119"/>
                  <a:pt x="341" y="122"/>
                  <a:pt x="344" y="121"/>
                </a:cubicBezTo>
                <a:cubicBezTo>
                  <a:pt x="347" y="120"/>
                  <a:pt x="347" y="120"/>
                  <a:pt x="348" y="122"/>
                </a:cubicBezTo>
                <a:cubicBezTo>
                  <a:pt x="350" y="124"/>
                  <a:pt x="353" y="123"/>
                  <a:pt x="357" y="123"/>
                </a:cubicBezTo>
                <a:cubicBezTo>
                  <a:pt x="360" y="124"/>
                  <a:pt x="365" y="125"/>
                  <a:pt x="366" y="125"/>
                </a:cubicBezTo>
                <a:cubicBezTo>
                  <a:pt x="368" y="125"/>
                  <a:pt x="370" y="124"/>
                  <a:pt x="371" y="123"/>
                </a:cubicBezTo>
                <a:cubicBezTo>
                  <a:pt x="371" y="123"/>
                  <a:pt x="373" y="123"/>
                  <a:pt x="376" y="124"/>
                </a:cubicBezTo>
                <a:cubicBezTo>
                  <a:pt x="377" y="124"/>
                  <a:pt x="379" y="125"/>
                  <a:pt x="380" y="125"/>
                </a:cubicBezTo>
                <a:cubicBezTo>
                  <a:pt x="382" y="124"/>
                  <a:pt x="381" y="123"/>
                  <a:pt x="380" y="122"/>
                </a:cubicBezTo>
                <a:cubicBezTo>
                  <a:pt x="378" y="121"/>
                  <a:pt x="379" y="119"/>
                  <a:pt x="381" y="120"/>
                </a:cubicBezTo>
                <a:cubicBezTo>
                  <a:pt x="382" y="121"/>
                  <a:pt x="385" y="121"/>
                  <a:pt x="386" y="123"/>
                </a:cubicBezTo>
                <a:cubicBezTo>
                  <a:pt x="386" y="125"/>
                  <a:pt x="388" y="124"/>
                  <a:pt x="388" y="125"/>
                </a:cubicBezTo>
                <a:cubicBezTo>
                  <a:pt x="388" y="126"/>
                  <a:pt x="394" y="128"/>
                  <a:pt x="394" y="129"/>
                </a:cubicBezTo>
                <a:cubicBezTo>
                  <a:pt x="395" y="131"/>
                  <a:pt x="389" y="132"/>
                  <a:pt x="390" y="133"/>
                </a:cubicBezTo>
                <a:cubicBezTo>
                  <a:pt x="392" y="134"/>
                  <a:pt x="395" y="131"/>
                  <a:pt x="397" y="131"/>
                </a:cubicBezTo>
                <a:cubicBezTo>
                  <a:pt x="398" y="131"/>
                  <a:pt x="398" y="132"/>
                  <a:pt x="399" y="133"/>
                </a:cubicBezTo>
                <a:cubicBezTo>
                  <a:pt x="399" y="134"/>
                  <a:pt x="400" y="136"/>
                  <a:pt x="401" y="135"/>
                </a:cubicBezTo>
                <a:cubicBezTo>
                  <a:pt x="403" y="134"/>
                  <a:pt x="405" y="136"/>
                  <a:pt x="407" y="139"/>
                </a:cubicBezTo>
                <a:cubicBezTo>
                  <a:pt x="409" y="143"/>
                  <a:pt x="407" y="146"/>
                  <a:pt x="407" y="147"/>
                </a:cubicBezTo>
                <a:cubicBezTo>
                  <a:pt x="407" y="148"/>
                  <a:pt x="412" y="148"/>
                  <a:pt x="414" y="146"/>
                </a:cubicBezTo>
                <a:cubicBezTo>
                  <a:pt x="417" y="145"/>
                  <a:pt x="419" y="148"/>
                  <a:pt x="421" y="149"/>
                </a:cubicBezTo>
                <a:cubicBezTo>
                  <a:pt x="423" y="151"/>
                  <a:pt x="414" y="154"/>
                  <a:pt x="415" y="152"/>
                </a:cubicBezTo>
                <a:cubicBezTo>
                  <a:pt x="415" y="151"/>
                  <a:pt x="409" y="146"/>
                  <a:pt x="404" y="148"/>
                </a:cubicBezTo>
                <a:cubicBezTo>
                  <a:pt x="398" y="151"/>
                  <a:pt x="402" y="154"/>
                  <a:pt x="403" y="156"/>
                </a:cubicBezTo>
                <a:cubicBezTo>
                  <a:pt x="403" y="158"/>
                  <a:pt x="398" y="159"/>
                  <a:pt x="393" y="158"/>
                </a:cubicBezTo>
                <a:cubicBezTo>
                  <a:pt x="388" y="156"/>
                  <a:pt x="389" y="159"/>
                  <a:pt x="387" y="159"/>
                </a:cubicBezTo>
                <a:cubicBezTo>
                  <a:pt x="385" y="159"/>
                  <a:pt x="383" y="162"/>
                  <a:pt x="385" y="164"/>
                </a:cubicBezTo>
                <a:cubicBezTo>
                  <a:pt x="386" y="165"/>
                  <a:pt x="388" y="165"/>
                  <a:pt x="390" y="165"/>
                </a:cubicBezTo>
                <a:cubicBezTo>
                  <a:pt x="392" y="165"/>
                  <a:pt x="393" y="164"/>
                  <a:pt x="394" y="165"/>
                </a:cubicBezTo>
                <a:cubicBezTo>
                  <a:pt x="397" y="165"/>
                  <a:pt x="398" y="166"/>
                  <a:pt x="398" y="164"/>
                </a:cubicBezTo>
                <a:cubicBezTo>
                  <a:pt x="399" y="162"/>
                  <a:pt x="402" y="163"/>
                  <a:pt x="405" y="163"/>
                </a:cubicBezTo>
                <a:cubicBezTo>
                  <a:pt x="407" y="164"/>
                  <a:pt x="406" y="167"/>
                  <a:pt x="409" y="168"/>
                </a:cubicBezTo>
                <a:cubicBezTo>
                  <a:pt x="412" y="168"/>
                  <a:pt x="410" y="171"/>
                  <a:pt x="412" y="173"/>
                </a:cubicBezTo>
                <a:cubicBezTo>
                  <a:pt x="414" y="175"/>
                  <a:pt x="420" y="174"/>
                  <a:pt x="422" y="176"/>
                </a:cubicBezTo>
                <a:cubicBezTo>
                  <a:pt x="424" y="179"/>
                  <a:pt x="434" y="183"/>
                  <a:pt x="435" y="181"/>
                </a:cubicBezTo>
                <a:cubicBezTo>
                  <a:pt x="437" y="180"/>
                  <a:pt x="427" y="171"/>
                  <a:pt x="424" y="170"/>
                </a:cubicBezTo>
                <a:cubicBezTo>
                  <a:pt x="421" y="169"/>
                  <a:pt x="427" y="168"/>
                  <a:pt x="431" y="171"/>
                </a:cubicBezTo>
                <a:cubicBezTo>
                  <a:pt x="434" y="174"/>
                  <a:pt x="439" y="175"/>
                  <a:pt x="442" y="172"/>
                </a:cubicBezTo>
                <a:cubicBezTo>
                  <a:pt x="445" y="169"/>
                  <a:pt x="440" y="170"/>
                  <a:pt x="440" y="167"/>
                </a:cubicBezTo>
                <a:cubicBezTo>
                  <a:pt x="440" y="165"/>
                  <a:pt x="438" y="161"/>
                  <a:pt x="435" y="161"/>
                </a:cubicBezTo>
                <a:cubicBezTo>
                  <a:pt x="433" y="161"/>
                  <a:pt x="426" y="156"/>
                  <a:pt x="428" y="155"/>
                </a:cubicBezTo>
                <a:cubicBezTo>
                  <a:pt x="431" y="154"/>
                  <a:pt x="428" y="152"/>
                  <a:pt x="430" y="150"/>
                </a:cubicBezTo>
                <a:cubicBezTo>
                  <a:pt x="431" y="148"/>
                  <a:pt x="433" y="152"/>
                  <a:pt x="436" y="152"/>
                </a:cubicBezTo>
                <a:cubicBezTo>
                  <a:pt x="438" y="152"/>
                  <a:pt x="438" y="155"/>
                  <a:pt x="442" y="158"/>
                </a:cubicBezTo>
                <a:cubicBezTo>
                  <a:pt x="445" y="161"/>
                  <a:pt x="446" y="159"/>
                  <a:pt x="446" y="157"/>
                </a:cubicBezTo>
                <a:cubicBezTo>
                  <a:pt x="447" y="155"/>
                  <a:pt x="451" y="157"/>
                  <a:pt x="451" y="155"/>
                </a:cubicBezTo>
                <a:cubicBezTo>
                  <a:pt x="450" y="153"/>
                  <a:pt x="454" y="150"/>
                  <a:pt x="456" y="149"/>
                </a:cubicBezTo>
                <a:cubicBezTo>
                  <a:pt x="458" y="148"/>
                  <a:pt x="454" y="146"/>
                  <a:pt x="451" y="146"/>
                </a:cubicBezTo>
                <a:cubicBezTo>
                  <a:pt x="448" y="146"/>
                  <a:pt x="448" y="144"/>
                  <a:pt x="448" y="143"/>
                </a:cubicBezTo>
                <a:cubicBezTo>
                  <a:pt x="448" y="142"/>
                  <a:pt x="442" y="139"/>
                  <a:pt x="440" y="139"/>
                </a:cubicBezTo>
                <a:cubicBezTo>
                  <a:pt x="438" y="140"/>
                  <a:pt x="435" y="137"/>
                  <a:pt x="433" y="136"/>
                </a:cubicBezTo>
                <a:cubicBezTo>
                  <a:pt x="430" y="136"/>
                  <a:pt x="427" y="134"/>
                  <a:pt x="427" y="132"/>
                </a:cubicBezTo>
                <a:cubicBezTo>
                  <a:pt x="427" y="130"/>
                  <a:pt x="428" y="131"/>
                  <a:pt x="430" y="131"/>
                </a:cubicBezTo>
                <a:cubicBezTo>
                  <a:pt x="431" y="131"/>
                  <a:pt x="432" y="131"/>
                  <a:pt x="433" y="130"/>
                </a:cubicBezTo>
                <a:cubicBezTo>
                  <a:pt x="434" y="128"/>
                  <a:pt x="428" y="129"/>
                  <a:pt x="428" y="128"/>
                </a:cubicBezTo>
                <a:cubicBezTo>
                  <a:pt x="428" y="126"/>
                  <a:pt x="429" y="127"/>
                  <a:pt x="430" y="126"/>
                </a:cubicBezTo>
                <a:cubicBezTo>
                  <a:pt x="431" y="125"/>
                  <a:pt x="429" y="123"/>
                  <a:pt x="428" y="123"/>
                </a:cubicBezTo>
                <a:cubicBezTo>
                  <a:pt x="427" y="122"/>
                  <a:pt x="426" y="124"/>
                  <a:pt x="425" y="124"/>
                </a:cubicBezTo>
                <a:cubicBezTo>
                  <a:pt x="424" y="124"/>
                  <a:pt x="425" y="122"/>
                  <a:pt x="426" y="121"/>
                </a:cubicBezTo>
                <a:cubicBezTo>
                  <a:pt x="427" y="119"/>
                  <a:pt x="421" y="118"/>
                  <a:pt x="419" y="119"/>
                </a:cubicBezTo>
                <a:cubicBezTo>
                  <a:pt x="417" y="119"/>
                  <a:pt x="416" y="118"/>
                  <a:pt x="416" y="116"/>
                </a:cubicBezTo>
                <a:cubicBezTo>
                  <a:pt x="416" y="115"/>
                  <a:pt x="412" y="116"/>
                  <a:pt x="411" y="118"/>
                </a:cubicBezTo>
                <a:cubicBezTo>
                  <a:pt x="409" y="119"/>
                  <a:pt x="407" y="116"/>
                  <a:pt x="409" y="116"/>
                </a:cubicBezTo>
                <a:moveTo>
                  <a:pt x="396" y="143"/>
                </a:moveTo>
                <a:cubicBezTo>
                  <a:pt x="398" y="143"/>
                  <a:pt x="398" y="139"/>
                  <a:pt x="396" y="138"/>
                </a:cubicBezTo>
                <a:cubicBezTo>
                  <a:pt x="395" y="136"/>
                  <a:pt x="393" y="136"/>
                  <a:pt x="391" y="136"/>
                </a:cubicBezTo>
                <a:cubicBezTo>
                  <a:pt x="389" y="136"/>
                  <a:pt x="385" y="140"/>
                  <a:pt x="387" y="143"/>
                </a:cubicBezTo>
                <a:cubicBezTo>
                  <a:pt x="389" y="146"/>
                  <a:pt x="394" y="144"/>
                  <a:pt x="396" y="143"/>
                </a:cubicBezTo>
                <a:moveTo>
                  <a:pt x="372" y="94"/>
                </a:moveTo>
                <a:cubicBezTo>
                  <a:pt x="371" y="97"/>
                  <a:pt x="375" y="97"/>
                  <a:pt x="375" y="100"/>
                </a:cubicBezTo>
                <a:cubicBezTo>
                  <a:pt x="375" y="102"/>
                  <a:pt x="379" y="103"/>
                  <a:pt x="381" y="102"/>
                </a:cubicBezTo>
                <a:cubicBezTo>
                  <a:pt x="383" y="101"/>
                  <a:pt x="385" y="101"/>
                  <a:pt x="387" y="101"/>
                </a:cubicBezTo>
                <a:cubicBezTo>
                  <a:pt x="389" y="101"/>
                  <a:pt x="392" y="101"/>
                  <a:pt x="392" y="100"/>
                </a:cubicBezTo>
                <a:cubicBezTo>
                  <a:pt x="392" y="98"/>
                  <a:pt x="384" y="94"/>
                  <a:pt x="381" y="95"/>
                </a:cubicBezTo>
                <a:cubicBezTo>
                  <a:pt x="380" y="95"/>
                  <a:pt x="378" y="94"/>
                  <a:pt x="377" y="94"/>
                </a:cubicBezTo>
                <a:cubicBezTo>
                  <a:pt x="375" y="93"/>
                  <a:pt x="373" y="93"/>
                  <a:pt x="372" y="94"/>
                </a:cubicBezTo>
                <a:moveTo>
                  <a:pt x="443" y="255"/>
                </a:moveTo>
                <a:cubicBezTo>
                  <a:pt x="443" y="256"/>
                  <a:pt x="454" y="261"/>
                  <a:pt x="455" y="258"/>
                </a:cubicBezTo>
                <a:cubicBezTo>
                  <a:pt x="455" y="256"/>
                  <a:pt x="443" y="253"/>
                  <a:pt x="443" y="255"/>
                </a:cubicBezTo>
                <a:moveTo>
                  <a:pt x="400" y="400"/>
                </a:moveTo>
                <a:cubicBezTo>
                  <a:pt x="401" y="399"/>
                  <a:pt x="395" y="395"/>
                  <a:pt x="392" y="395"/>
                </a:cubicBezTo>
                <a:cubicBezTo>
                  <a:pt x="389" y="395"/>
                  <a:pt x="380" y="389"/>
                  <a:pt x="372" y="387"/>
                </a:cubicBezTo>
                <a:cubicBezTo>
                  <a:pt x="363" y="385"/>
                  <a:pt x="356" y="391"/>
                  <a:pt x="357" y="392"/>
                </a:cubicBezTo>
                <a:cubicBezTo>
                  <a:pt x="358" y="394"/>
                  <a:pt x="362" y="391"/>
                  <a:pt x="364" y="389"/>
                </a:cubicBezTo>
                <a:cubicBezTo>
                  <a:pt x="366" y="387"/>
                  <a:pt x="368" y="390"/>
                  <a:pt x="368" y="391"/>
                </a:cubicBezTo>
                <a:cubicBezTo>
                  <a:pt x="368" y="392"/>
                  <a:pt x="371" y="392"/>
                  <a:pt x="375" y="392"/>
                </a:cubicBezTo>
                <a:cubicBezTo>
                  <a:pt x="380" y="393"/>
                  <a:pt x="380" y="396"/>
                  <a:pt x="384" y="397"/>
                </a:cubicBezTo>
                <a:cubicBezTo>
                  <a:pt x="389" y="398"/>
                  <a:pt x="384" y="400"/>
                  <a:pt x="386" y="400"/>
                </a:cubicBezTo>
                <a:cubicBezTo>
                  <a:pt x="389" y="401"/>
                  <a:pt x="399" y="401"/>
                  <a:pt x="400" y="400"/>
                </a:cubicBezTo>
                <a:moveTo>
                  <a:pt x="383" y="408"/>
                </a:moveTo>
                <a:cubicBezTo>
                  <a:pt x="383" y="410"/>
                  <a:pt x="391" y="412"/>
                  <a:pt x="391" y="410"/>
                </a:cubicBezTo>
                <a:cubicBezTo>
                  <a:pt x="392" y="408"/>
                  <a:pt x="382" y="407"/>
                  <a:pt x="383" y="408"/>
                </a:cubicBezTo>
                <a:moveTo>
                  <a:pt x="431" y="409"/>
                </a:moveTo>
                <a:cubicBezTo>
                  <a:pt x="433" y="411"/>
                  <a:pt x="438" y="410"/>
                  <a:pt x="438" y="409"/>
                </a:cubicBezTo>
                <a:cubicBezTo>
                  <a:pt x="439" y="407"/>
                  <a:pt x="429" y="406"/>
                  <a:pt x="431" y="409"/>
                </a:cubicBezTo>
                <a:moveTo>
                  <a:pt x="405" y="409"/>
                </a:moveTo>
                <a:cubicBezTo>
                  <a:pt x="408" y="408"/>
                  <a:pt x="410" y="410"/>
                  <a:pt x="411" y="410"/>
                </a:cubicBezTo>
                <a:cubicBezTo>
                  <a:pt x="413" y="411"/>
                  <a:pt x="413" y="410"/>
                  <a:pt x="416" y="408"/>
                </a:cubicBezTo>
                <a:cubicBezTo>
                  <a:pt x="418" y="408"/>
                  <a:pt x="419" y="408"/>
                  <a:pt x="421" y="408"/>
                </a:cubicBezTo>
                <a:cubicBezTo>
                  <a:pt x="423" y="408"/>
                  <a:pt x="425" y="408"/>
                  <a:pt x="425" y="407"/>
                </a:cubicBezTo>
                <a:cubicBezTo>
                  <a:pt x="425" y="404"/>
                  <a:pt x="416" y="401"/>
                  <a:pt x="414" y="402"/>
                </a:cubicBezTo>
                <a:cubicBezTo>
                  <a:pt x="413" y="402"/>
                  <a:pt x="411" y="402"/>
                  <a:pt x="410" y="401"/>
                </a:cubicBezTo>
                <a:cubicBezTo>
                  <a:pt x="408" y="401"/>
                  <a:pt x="406" y="400"/>
                  <a:pt x="405" y="401"/>
                </a:cubicBezTo>
                <a:cubicBezTo>
                  <a:pt x="403" y="402"/>
                  <a:pt x="408" y="405"/>
                  <a:pt x="408" y="407"/>
                </a:cubicBezTo>
                <a:cubicBezTo>
                  <a:pt x="408" y="407"/>
                  <a:pt x="406" y="407"/>
                  <a:pt x="404" y="407"/>
                </a:cubicBezTo>
                <a:cubicBezTo>
                  <a:pt x="402" y="407"/>
                  <a:pt x="400" y="407"/>
                  <a:pt x="399" y="408"/>
                </a:cubicBezTo>
                <a:cubicBezTo>
                  <a:pt x="399" y="409"/>
                  <a:pt x="402" y="410"/>
                  <a:pt x="405" y="409"/>
                </a:cubicBezTo>
                <a:moveTo>
                  <a:pt x="464" y="734"/>
                </a:moveTo>
                <a:cubicBezTo>
                  <a:pt x="465" y="735"/>
                  <a:pt x="471" y="732"/>
                  <a:pt x="471" y="731"/>
                </a:cubicBezTo>
                <a:cubicBezTo>
                  <a:pt x="469" y="728"/>
                  <a:pt x="462" y="733"/>
                  <a:pt x="464" y="734"/>
                </a:cubicBezTo>
                <a:moveTo>
                  <a:pt x="463" y="729"/>
                </a:moveTo>
                <a:cubicBezTo>
                  <a:pt x="461" y="728"/>
                  <a:pt x="456" y="733"/>
                  <a:pt x="458" y="734"/>
                </a:cubicBezTo>
                <a:cubicBezTo>
                  <a:pt x="460" y="735"/>
                  <a:pt x="465" y="729"/>
                  <a:pt x="463" y="729"/>
                </a:cubicBezTo>
                <a:moveTo>
                  <a:pt x="327" y="487"/>
                </a:moveTo>
                <a:cubicBezTo>
                  <a:pt x="325" y="490"/>
                  <a:pt x="329" y="493"/>
                  <a:pt x="330" y="492"/>
                </a:cubicBezTo>
                <a:cubicBezTo>
                  <a:pt x="331" y="490"/>
                  <a:pt x="329" y="484"/>
                  <a:pt x="327" y="487"/>
                </a:cubicBezTo>
                <a:moveTo>
                  <a:pt x="624" y="123"/>
                </a:moveTo>
                <a:cubicBezTo>
                  <a:pt x="623" y="124"/>
                  <a:pt x="619" y="124"/>
                  <a:pt x="617" y="123"/>
                </a:cubicBezTo>
                <a:cubicBezTo>
                  <a:pt x="614" y="123"/>
                  <a:pt x="610" y="120"/>
                  <a:pt x="607" y="122"/>
                </a:cubicBezTo>
                <a:cubicBezTo>
                  <a:pt x="604" y="124"/>
                  <a:pt x="606" y="120"/>
                  <a:pt x="609" y="119"/>
                </a:cubicBezTo>
                <a:cubicBezTo>
                  <a:pt x="611" y="119"/>
                  <a:pt x="610" y="118"/>
                  <a:pt x="609" y="115"/>
                </a:cubicBezTo>
                <a:cubicBezTo>
                  <a:pt x="609" y="113"/>
                  <a:pt x="613" y="114"/>
                  <a:pt x="615" y="117"/>
                </a:cubicBezTo>
                <a:cubicBezTo>
                  <a:pt x="617" y="120"/>
                  <a:pt x="621" y="121"/>
                  <a:pt x="625" y="120"/>
                </a:cubicBezTo>
                <a:cubicBezTo>
                  <a:pt x="628" y="119"/>
                  <a:pt x="625" y="117"/>
                  <a:pt x="626" y="115"/>
                </a:cubicBezTo>
                <a:cubicBezTo>
                  <a:pt x="628" y="113"/>
                  <a:pt x="616" y="107"/>
                  <a:pt x="615" y="105"/>
                </a:cubicBezTo>
                <a:cubicBezTo>
                  <a:pt x="615" y="103"/>
                  <a:pt x="618" y="104"/>
                  <a:pt x="621" y="106"/>
                </a:cubicBezTo>
                <a:cubicBezTo>
                  <a:pt x="625" y="107"/>
                  <a:pt x="625" y="103"/>
                  <a:pt x="625" y="101"/>
                </a:cubicBezTo>
                <a:cubicBezTo>
                  <a:pt x="625" y="100"/>
                  <a:pt x="618" y="99"/>
                  <a:pt x="615" y="101"/>
                </a:cubicBezTo>
                <a:cubicBezTo>
                  <a:pt x="612" y="103"/>
                  <a:pt x="609" y="99"/>
                  <a:pt x="613" y="98"/>
                </a:cubicBezTo>
                <a:cubicBezTo>
                  <a:pt x="618" y="98"/>
                  <a:pt x="614" y="96"/>
                  <a:pt x="615" y="95"/>
                </a:cubicBezTo>
                <a:cubicBezTo>
                  <a:pt x="616" y="94"/>
                  <a:pt x="617" y="95"/>
                  <a:pt x="619" y="96"/>
                </a:cubicBezTo>
                <a:cubicBezTo>
                  <a:pt x="621" y="97"/>
                  <a:pt x="623" y="98"/>
                  <a:pt x="624" y="98"/>
                </a:cubicBezTo>
                <a:cubicBezTo>
                  <a:pt x="627" y="97"/>
                  <a:pt x="629" y="98"/>
                  <a:pt x="632" y="96"/>
                </a:cubicBezTo>
                <a:cubicBezTo>
                  <a:pt x="634" y="94"/>
                  <a:pt x="627" y="92"/>
                  <a:pt x="626" y="91"/>
                </a:cubicBezTo>
                <a:cubicBezTo>
                  <a:pt x="625" y="89"/>
                  <a:pt x="633" y="90"/>
                  <a:pt x="635" y="90"/>
                </a:cubicBezTo>
                <a:cubicBezTo>
                  <a:pt x="637" y="90"/>
                  <a:pt x="637" y="89"/>
                  <a:pt x="638" y="88"/>
                </a:cubicBezTo>
                <a:cubicBezTo>
                  <a:pt x="638" y="87"/>
                  <a:pt x="638" y="86"/>
                  <a:pt x="636" y="87"/>
                </a:cubicBezTo>
                <a:cubicBezTo>
                  <a:pt x="634" y="88"/>
                  <a:pt x="627" y="84"/>
                  <a:pt x="629" y="82"/>
                </a:cubicBezTo>
                <a:cubicBezTo>
                  <a:pt x="630" y="81"/>
                  <a:pt x="631" y="81"/>
                  <a:pt x="632" y="81"/>
                </a:cubicBezTo>
                <a:cubicBezTo>
                  <a:pt x="633" y="81"/>
                  <a:pt x="635" y="82"/>
                  <a:pt x="636" y="81"/>
                </a:cubicBezTo>
                <a:cubicBezTo>
                  <a:pt x="639" y="79"/>
                  <a:pt x="636" y="73"/>
                  <a:pt x="634" y="73"/>
                </a:cubicBezTo>
                <a:cubicBezTo>
                  <a:pt x="632" y="73"/>
                  <a:pt x="627" y="72"/>
                  <a:pt x="627" y="71"/>
                </a:cubicBezTo>
                <a:cubicBezTo>
                  <a:pt x="627" y="70"/>
                  <a:pt x="622" y="69"/>
                  <a:pt x="624" y="68"/>
                </a:cubicBezTo>
                <a:cubicBezTo>
                  <a:pt x="624" y="67"/>
                  <a:pt x="625" y="68"/>
                  <a:pt x="626" y="68"/>
                </a:cubicBezTo>
                <a:cubicBezTo>
                  <a:pt x="626" y="68"/>
                  <a:pt x="628" y="68"/>
                  <a:pt x="629" y="67"/>
                </a:cubicBezTo>
                <a:cubicBezTo>
                  <a:pt x="631" y="66"/>
                  <a:pt x="634" y="66"/>
                  <a:pt x="637" y="67"/>
                </a:cubicBezTo>
                <a:cubicBezTo>
                  <a:pt x="638" y="67"/>
                  <a:pt x="640" y="67"/>
                  <a:pt x="641" y="67"/>
                </a:cubicBezTo>
                <a:cubicBezTo>
                  <a:pt x="644" y="67"/>
                  <a:pt x="640" y="62"/>
                  <a:pt x="638" y="63"/>
                </a:cubicBezTo>
                <a:cubicBezTo>
                  <a:pt x="637" y="63"/>
                  <a:pt x="632" y="64"/>
                  <a:pt x="631" y="61"/>
                </a:cubicBezTo>
                <a:cubicBezTo>
                  <a:pt x="631" y="60"/>
                  <a:pt x="633" y="60"/>
                  <a:pt x="634" y="60"/>
                </a:cubicBezTo>
                <a:cubicBezTo>
                  <a:pt x="635" y="60"/>
                  <a:pt x="637" y="60"/>
                  <a:pt x="637" y="60"/>
                </a:cubicBezTo>
                <a:cubicBezTo>
                  <a:pt x="638" y="59"/>
                  <a:pt x="630" y="55"/>
                  <a:pt x="628" y="58"/>
                </a:cubicBezTo>
                <a:cubicBezTo>
                  <a:pt x="627" y="61"/>
                  <a:pt x="623" y="60"/>
                  <a:pt x="625" y="58"/>
                </a:cubicBezTo>
                <a:cubicBezTo>
                  <a:pt x="627" y="57"/>
                  <a:pt x="628" y="52"/>
                  <a:pt x="628" y="50"/>
                </a:cubicBezTo>
                <a:cubicBezTo>
                  <a:pt x="627" y="48"/>
                  <a:pt x="636" y="48"/>
                  <a:pt x="635" y="45"/>
                </a:cubicBezTo>
                <a:cubicBezTo>
                  <a:pt x="634" y="41"/>
                  <a:pt x="639" y="40"/>
                  <a:pt x="642" y="40"/>
                </a:cubicBezTo>
                <a:cubicBezTo>
                  <a:pt x="645" y="40"/>
                  <a:pt x="642" y="37"/>
                  <a:pt x="639" y="37"/>
                </a:cubicBezTo>
                <a:cubicBezTo>
                  <a:pt x="637" y="37"/>
                  <a:pt x="634" y="40"/>
                  <a:pt x="632" y="39"/>
                </a:cubicBezTo>
                <a:cubicBezTo>
                  <a:pt x="631" y="38"/>
                  <a:pt x="636" y="36"/>
                  <a:pt x="638" y="36"/>
                </a:cubicBezTo>
                <a:cubicBezTo>
                  <a:pt x="641" y="36"/>
                  <a:pt x="647" y="35"/>
                  <a:pt x="649" y="34"/>
                </a:cubicBezTo>
                <a:cubicBezTo>
                  <a:pt x="651" y="33"/>
                  <a:pt x="645" y="32"/>
                  <a:pt x="641" y="32"/>
                </a:cubicBezTo>
                <a:cubicBezTo>
                  <a:pt x="637" y="33"/>
                  <a:pt x="637" y="31"/>
                  <a:pt x="643" y="31"/>
                </a:cubicBezTo>
                <a:cubicBezTo>
                  <a:pt x="649" y="31"/>
                  <a:pt x="648" y="29"/>
                  <a:pt x="652" y="29"/>
                </a:cubicBezTo>
                <a:cubicBezTo>
                  <a:pt x="657" y="28"/>
                  <a:pt x="655" y="27"/>
                  <a:pt x="658" y="27"/>
                </a:cubicBezTo>
                <a:cubicBezTo>
                  <a:pt x="660" y="26"/>
                  <a:pt x="667" y="24"/>
                  <a:pt x="667" y="22"/>
                </a:cubicBezTo>
                <a:cubicBezTo>
                  <a:pt x="667" y="21"/>
                  <a:pt x="657" y="18"/>
                  <a:pt x="653" y="18"/>
                </a:cubicBezTo>
                <a:cubicBezTo>
                  <a:pt x="648" y="18"/>
                  <a:pt x="644" y="19"/>
                  <a:pt x="644" y="22"/>
                </a:cubicBezTo>
                <a:cubicBezTo>
                  <a:pt x="644" y="24"/>
                  <a:pt x="642" y="23"/>
                  <a:pt x="640" y="23"/>
                </a:cubicBezTo>
                <a:cubicBezTo>
                  <a:pt x="638" y="22"/>
                  <a:pt x="637" y="22"/>
                  <a:pt x="635" y="23"/>
                </a:cubicBezTo>
                <a:cubicBezTo>
                  <a:pt x="634" y="23"/>
                  <a:pt x="634" y="22"/>
                  <a:pt x="634" y="22"/>
                </a:cubicBezTo>
                <a:cubicBezTo>
                  <a:pt x="633" y="21"/>
                  <a:pt x="633" y="21"/>
                  <a:pt x="632" y="21"/>
                </a:cubicBezTo>
                <a:cubicBezTo>
                  <a:pt x="629" y="22"/>
                  <a:pt x="626" y="25"/>
                  <a:pt x="623" y="27"/>
                </a:cubicBezTo>
                <a:cubicBezTo>
                  <a:pt x="620" y="28"/>
                  <a:pt x="618" y="31"/>
                  <a:pt x="616" y="31"/>
                </a:cubicBezTo>
                <a:cubicBezTo>
                  <a:pt x="614" y="32"/>
                  <a:pt x="620" y="26"/>
                  <a:pt x="623" y="23"/>
                </a:cubicBezTo>
                <a:cubicBezTo>
                  <a:pt x="626" y="20"/>
                  <a:pt x="625" y="16"/>
                  <a:pt x="621" y="16"/>
                </a:cubicBezTo>
                <a:cubicBezTo>
                  <a:pt x="617" y="17"/>
                  <a:pt x="618" y="19"/>
                  <a:pt x="615" y="20"/>
                </a:cubicBezTo>
                <a:cubicBezTo>
                  <a:pt x="613" y="20"/>
                  <a:pt x="602" y="26"/>
                  <a:pt x="602" y="24"/>
                </a:cubicBezTo>
                <a:cubicBezTo>
                  <a:pt x="601" y="22"/>
                  <a:pt x="611" y="20"/>
                  <a:pt x="610" y="19"/>
                </a:cubicBezTo>
                <a:cubicBezTo>
                  <a:pt x="610" y="17"/>
                  <a:pt x="599" y="17"/>
                  <a:pt x="593" y="18"/>
                </a:cubicBezTo>
                <a:cubicBezTo>
                  <a:pt x="588" y="19"/>
                  <a:pt x="579" y="22"/>
                  <a:pt x="579" y="20"/>
                </a:cubicBezTo>
                <a:cubicBezTo>
                  <a:pt x="578" y="19"/>
                  <a:pt x="589" y="17"/>
                  <a:pt x="595" y="16"/>
                </a:cubicBezTo>
                <a:cubicBezTo>
                  <a:pt x="601" y="15"/>
                  <a:pt x="611" y="16"/>
                  <a:pt x="615" y="15"/>
                </a:cubicBezTo>
                <a:cubicBezTo>
                  <a:pt x="619" y="13"/>
                  <a:pt x="626" y="13"/>
                  <a:pt x="627" y="11"/>
                </a:cubicBezTo>
                <a:cubicBezTo>
                  <a:pt x="628" y="10"/>
                  <a:pt x="622" y="8"/>
                  <a:pt x="619" y="8"/>
                </a:cubicBezTo>
                <a:cubicBezTo>
                  <a:pt x="616" y="8"/>
                  <a:pt x="613" y="8"/>
                  <a:pt x="613" y="6"/>
                </a:cubicBezTo>
                <a:cubicBezTo>
                  <a:pt x="613" y="5"/>
                  <a:pt x="608" y="5"/>
                  <a:pt x="608" y="3"/>
                </a:cubicBezTo>
                <a:cubicBezTo>
                  <a:pt x="607" y="2"/>
                  <a:pt x="598" y="3"/>
                  <a:pt x="596" y="2"/>
                </a:cubicBezTo>
                <a:cubicBezTo>
                  <a:pt x="594" y="1"/>
                  <a:pt x="588" y="0"/>
                  <a:pt x="583" y="0"/>
                </a:cubicBezTo>
                <a:cubicBezTo>
                  <a:pt x="578" y="1"/>
                  <a:pt x="568" y="1"/>
                  <a:pt x="565" y="1"/>
                </a:cubicBezTo>
                <a:cubicBezTo>
                  <a:pt x="563" y="1"/>
                  <a:pt x="561" y="2"/>
                  <a:pt x="559" y="2"/>
                </a:cubicBezTo>
                <a:cubicBezTo>
                  <a:pt x="557" y="2"/>
                  <a:pt x="554" y="3"/>
                  <a:pt x="555" y="4"/>
                </a:cubicBezTo>
                <a:cubicBezTo>
                  <a:pt x="557" y="6"/>
                  <a:pt x="552" y="7"/>
                  <a:pt x="552" y="6"/>
                </a:cubicBezTo>
                <a:cubicBezTo>
                  <a:pt x="552" y="4"/>
                  <a:pt x="547" y="3"/>
                  <a:pt x="546" y="4"/>
                </a:cubicBezTo>
                <a:cubicBezTo>
                  <a:pt x="545" y="5"/>
                  <a:pt x="542" y="5"/>
                  <a:pt x="540" y="4"/>
                </a:cubicBezTo>
                <a:cubicBezTo>
                  <a:pt x="537" y="4"/>
                  <a:pt x="535" y="3"/>
                  <a:pt x="534" y="4"/>
                </a:cubicBezTo>
                <a:cubicBezTo>
                  <a:pt x="533" y="6"/>
                  <a:pt x="523" y="5"/>
                  <a:pt x="520" y="6"/>
                </a:cubicBezTo>
                <a:cubicBezTo>
                  <a:pt x="517" y="6"/>
                  <a:pt x="524" y="9"/>
                  <a:pt x="524" y="10"/>
                </a:cubicBezTo>
                <a:cubicBezTo>
                  <a:pt x="524" y="11"/>
                  <a:pt x="515" y="10"/>
                  <a:pt x="517" y="12"/>
                </a:cubicBezTo>
                <a:cubicBezTo>
                  <a:pt x="519" y="14"/>
                  <a:pt x="525" y="16"/>
                  <a:pt x="528" y="19"/>
                </a:cubicBezTo>
                <a:cubicBezTo>
                  <a:pt x="530" y="22"/>
                  <a:pt x="525" y="20"/>
                  <a:pt x="522" y="18"/>
                </a:cubicBezTo>
                <a:cubicBezTo>
                  <a:pt x="519" y="16"/>
                  <a:pt x="515" y="16"/>
                  <a:pt x="513" y="14"/>
                </a:cubicBezTo>
                <a:cubicBezTo>
                  <a:pt x="511" y="12"/>
                  <a:pt x="503" y="11"/>
                  <a:pt x="501" y="12"/>
                </a:cubicBezTo>
                <a:cubicBezTo>
                  <a:pt x="499" y="13"/>
                  <a:pt x="506" y="16"/>
                  <a:pt x="506" y="18"/>
                </a:cubicBezTo>
                <a:cubicBezTo>
                  <a:pt x="506" y="19"/>
                  <a:pt x="505" y="18"/>
                  <a:pt x="503" y="18"/>
                </a:cubicBezTo>
                <a:cubicBezTo>
                  <a:pt x="502" y="18"/>
                  <a:pt x="501" y="18"/>
                  <a:pt x="500" y="18"/>
                </a:cubicBezTo>
                <a:cubicBezTo>
                  <a:pt x="500" y="19"/>
                  <a:pt x="495" y="14"/>
                  <a:pt x="493" y="14"/>
                </a:cubicBezTo>
                <a:cubicBezTo>
                  <a:pt x="490" y="14"/>
                  <a:pt x="492" y="16"/>
                  <a:pt x="492" y="19"/>
                </a:cubicBezTo>
                <a:cubicBezTo>
                  <a:pt x="492" y="22"/>
                  <a:pt x="487" y="24"/>
                  <a:pt x="489" y="22"/>
                </a:cubicBezTo>
                <a:cubicBezTo>
                  <a:pt x="490" y="20"/>
                  <a:pt x="489" y="14"/>
                  <a:pt x="486" y="13"/>
                </a:cubicBezTo>
                <a:cubicBezTo>
                  <a:pt x="485" y="13"/>
                  <a:pt x="482" y="13"/>
                  <a:pt x="479" y="14"/>
                </a:cubicBezTo>
                <a:cubicBezTo>
                  <a:pt x="477" y="15"/>
                  <a:pt x="475" y="15"/>
                  <a:pt x="474" y="15"/>
                </a:cubicBezTo>
                <a:cubicBezTo>
                  <a:pt x="470" y="15"/>
                  <a:pt x="465" y="16"/>
                  <a:pt x="468" y="18"/>
                </a:cubicBezTo>
                <a:cubicBezTo>
                  <a:pt x="471" y="20"/>
                  <a:pt x="468" y="21"/>
                  <a:pt x="466" y="19"/>
                </a:cubicBezTo>
                <a:cubicBezTo>
                  <a:pt x="463" y="17"/>
                  <a:pt x="454" y="19"/>
                  <a:pt x="456" y="20"/>
                </a:cubicBezTo>
                <a:cubicBezTo>
                  <a:pt x="458" y="21"/>
                  <a:pt x="458" y="25"/>
                  <a:pt x="457" y="27"/>
                </a:cubicBezTo>
                <a:cubicBezTo>
                  <a:pt x="457" y="27"/>
                  <a:pt x="455" y="27"/>
                  <a:pt x="453" y="26"/>
                </a:cubicBezTo>
                <a:cubicBezTo>
                  <a:pt x="452" y="26"/>
                  <a:pt x="451" y="25"/>
                  <a:pt x="449" y="25"/>
                </a:cubicBezTo>
                <a:cubicBezTo>
                  <a:pt x="446" y="26"/>
                  <a:pt x="429" y="34"/>
                  <a:pt x="430" y="36"/>
                </a:cubicBezTo>
                <a:cubicBezTo>
                  <a:pt x="431" y="37"/>
                  <a:pt x="433" y="37"/>
                  <a:pt x="436" y="37"/>
                </a:cubicBezTo>
                <a:cubicBezTo>
                  <a:pt x="437" y="37"/>
                  <a:pt x="439" y="37"/>
                  <a:pt x="440" y="37"/>
                </a:cubicBezTo>
                <a:cubicBezTo>
                  <a:pt x="443" y="39"/>
                  <a:pt x="440" y="43"/>
                  <a:pt x="437" y="45"/>
                </a:cubicBezTo>
                <a:cubicBezTo>
                  <a:pt x="434" y="47"/>
                  <a:pt x="424" y="45"/>
                  <a:pt x="424" y="48"/>
                </a:cubicBezTo>
                <a:cubicBezTo>
                  <a:pt x="423" y="50"/>
                  <a:pt x="407" y="50"/>
                  <a:pt x="407" y="54"/>
                </a:cubicBezTo>
                <a:cubicBezTo>
                  <a:pt x="407" y="55"/>
                  <a:pt x="408" y="57"/>
                  <a:pt x="410" y="57"/>
                </a:cubicBezTo>
                <a:cubicBezTo>
                  <a:pt x="412" y="57"/>
                  <a:pt x="415" y="57"/>
                  <a:pt x="417" y="59"/>
                </a:cubicBezTo>
                <a:cubicBezTo>
                  <a:pt x="419" y="61"/>
                  <a:pt x="425" y="61"/>
                  <a:pt x="428" y="60"/>
                </a:cubicBezTo>
                <a:cubicBezTo>
                  <a:pt x="432" y="58"/>
                  <a:pt x="435" y="60"/>
                  <a:pt x="435" y="62"/>
                </a:cubicBezTo>
                <a:cubicBezTo>
                  <a:pt x="435" y="64"/>
                  <a:pt x="433" y="63"/>
                  <a:pt x="430" y="63"/>
                </a:cubicBezTo>
                <a:cubicBezTo>
                  <a:pt x="427" y="63"/>
                  <a:pt x="425" y="62"/>
                  <a:pt x="424" y="63"/>
                </a:cubicBezTo>
                <a:cubicBezTo>
                  <a:pt x="421" y="65"/>
                  <a:pt x="413" y="63"/>
                  <a:pt x="413" y="65"/>
                </a:cubicBezTo>
                <a:cubicBezTo>
                  <a:pt x="414" y="67"/>
                  <a:pt x="418" y="67"/>
                  <a:pt x="421" y="67"/>
                </a:cubicBezTo>
                <a:cubicBezTo>
                  <a:pt x="424" y="68"/>
                  <a:pt x="421" y="69"/>
                  <a:pt x="421" y="71"/>
                </a:cubicBezTo>
                <a:cubicBezTo>
                  <a:pt x="421" y="72"/>
                  <a:pt x="423" y="72"/>
                  <a:pt x="426" y="73"/>
                </a:cubicBezTo>
                <a:cubicBezTo>
                  <a:pt x="429" y="75"/>
                  <a:pt x="435" y="76"/>
                  <a:pt x="433" y="74"/>
                </a:cubicBezTo>
                <a:cubicBezTo>
                  <a:pt x="431" y="72"/>
                  <a:pt x="436" y="72"/>
                  <a:pt x="437" y="74"/>
                </a:cubicBezTo>
                <a:cubicBezTo>
                  <a:pt x="438" y="74"/>
                  <a:pt x="439" y="74"/>
                  <a:pt x="440" y="73"/>
                </a:cubicBezTo>
                <a:cubicBezTo>
                  <a:pt x="441" y="73"/>
                  <a:pt x="442" y="72"/>
                  <a:pt x="443" y="73"/>
                </a:cubicBezTo>
                <a:cubicBezTo>
                  <a:pt x="444" y="73"/>
                  <a:pt x="445" y="72"/>
                  <a:pt x="445" y="72"/>
                </a:cubicBezTo>
                <a:cubicBezTo>
                  <a:pt x="446" y="71"/>
                  <a:pt x="447" y="71"/>
                  <a:pt x="448" y="72"/>
                </a:cubicBezTo>
                <a:cubicBezTo>
                  <a:pt x="450" y="73"/>
                  <a:pt x="459" y="74"/>
                  <a:pt x="462" y="75"/>
                </a:cubicBezTo>
                <a:cubicBezTo>
                  <a:pt x="465" y="77"/>
                  <a:pt x="469" y="77"/>
                  <a:pt x="469" y="80"/>
                </a:cubicBezTo>
                <a:cubicBezTo>
                  <a:pt x="468" y="82"/>
                  <a:pt x="471" y="84"/>
                  <a:pt x="474" y="85"/>
                </a:cubicBezTo>
                <a:cubicBezTo>
                  <a:pt x="478" y="87"/>
                  <a:pt x="478" y="90"/>
                  <a:pt x="478" y="92"/>
                </a:cubicBezTo>
                <a:cubicBezTo>
                  <a:pt x="478" y="94"/>
                  <a:pt x="482" y="96"/>
                  <a:pt x="481" y="97"/>
                </a:cubicBezTo>
                <a:cubicBezTo>
                  <a:pt x="481" y="98"/>
                  <a:pt x="481" y="99"/>
                  <a:pt x="483" y="101"/>
                </a:cubicBezTo>
                <a:cubicBezTo>
                  <a:pt x="486" y="103"/>
                  <a:pt x="480" y="105"/>
                  <a:pt x="481" y="106"/>
                </a:cubicBezTo>
                <a:cubicBezTo>
                  <a:pt x="483" y="108"/>
                  <a:pt x="479" y="112"/>
                  <a:pt x="483" y="112"/>
                </a:cubicBezTo>
                <a:cubicBezTo>
                  <a:pt x="487" y="113"/>
                  <a:pt x="487" y="109"/>
                  <a:pt x="490" y="109"/>
                </a:cubicBezTo>
                <a:cubicBezTo>
                  <a:pt x="493" y="109"/>
                  <a:pt x="490" y="112"/>
                  <a:pt x="491" y="114"/>
                </a:cubicBezTo>
                <a:cubicBezTo>
                  <a:pt x="493" y="115"/>
                  <a:pt x="496" y="115"/>
                  <a:pt x="499" y="118"/>
                </a:cubicBezTo>
                <a:cubicBezTo>
                  <a:pt x="503" y="120"/>
                  <a:pt x="501" y="122"/>
                  <a:pt x="498" y="119"/>
                </a:cubicBezTo>
                <a:cubicBezTo>
                  <a:pt x="495" y="117"/>
                  <a:pt x="486" y="118"/>
                  <a:pt x="486" y="118"/>
                </a:cubicBezTo>
                <a:cubicBezTo>
                  <a:pt x="486" y="119"/>
                  <a:pt x="496" y="125"/>
                  <a:pt x="498" y="124"/>
                </a:cubicBezTo>
                <a:cubicBezTo>
                  <a:pt x="500" y="123"/>
                  <a:pt x="503" y="127"/>
                  <a:pt x="502" y="128"/>
                </a:cubicBezTo>
                <a:cubicBezTo>
                  <a:pt x="500" y="129"/>
                  <a:pt x="501" y="133"/>
                  <a:pt x="501" y="134"/>
                </a:cubicBezTo>
                <a:cubicBezTo>
                  <a:pt x="500" y="135"/>
                  <a:pt x="499" y="135"/>
                  <a:pt x="498" y="135"/>
                </a:cubicBezTo>
                <a:cubicBezTo>
                  <a:pt x="497" y="134"/>
                  <a:pt x="496" y="134"/>
                  <a:pt x="495" y="134"/>
                </a:cubicBezTo>
                <a:cubicBezTo>
                  <a:pt x="493" y="135"/>
                  <a:pt x="492" y="135"/>
                  <a:pt x="492" y="137"/>
                </a:cubicBezTo>
                <a:cubicBezTo>
                  <a:pt x="492" y="139"/>
                  <a:pt x="489" y="141"/>
                  <a:pt x="488" y="144"/>
                </a:cubicBezTo>
                <a:cubicBezTo>
                  <a:pt x="488" y="146"/>
                  <a:pt x="491" y="146"/>
                  <a:pt x="492" y="147"/>
                </a:cubicBezTo>
                <a:cubicBezTo>
                  <a:pt x="494" y="148"/>
                  <a:pt x="489" y="149"/>
                  <a:pt x="489" y="151"/>
                </a:cubicBezTo>
                <a:cubicBezTo>
                  <a:pt x="489" y="153"/>
                  <a:pt x="493" y="156"/>
                  <a:pt x="495" y="157"/>
                </a:cubicBezTo>
                <a:cubicBezTo>
                  <a:pt x="497" y="158"/>
                  <a:pt x="495" y="162"/>
                  <a:pt x="496" y="164"/>
                </a:cubicBezTo>
                <a:cubicBezTo>
                  <a:pt x="496" y="165"/>
                  <a:pt x="497" y="165"/>
                  <a:pt x="497" y="165"/>
                </a:cubicBezTo>
                <a:cubicBezTo>
                  <a:pt x="498" y="165"/>
                  <a:pt x="499" y="165"/>
                  <a:pt x="498" y="167"/>
                </a:cubicBezTo>
                <a:cubicBezTo>
                  <a:pt x="498" y="169"/>
                  <a:pt x="500" y="169"/>
                  <a:pt x="501" y="171"/>
                </a:cubicBezTo>
                <a:cubicBezTo>
                  <a:pt x="501" y="173"/>
                  <a:pt x="505" y="172"/>
                  <a:pt x="504" y="175"/>
                </a:cubicBezTo>
                <a:cubicBezTo>
                  <a:pt x="503" y="177"/>
                  <a:pt x="505" y="179"/>
                  <a:pt x="506" y="180"/>
                </a:cubicBezTo>
                <a:cubicBezTo>
                  <a:pt x="507" y="181"/>
                  <a:pt x="510" y="183"/>
                  <a:pt x="511" y="185"/>
                </a:cubicBezTo>
                <a:cubicBezTo>
                  <a:pt x="511" y="186"/>
                  <a:pt x="513" y="189"/>
                  <a:pt x="515" y="188"/>
                </a:cubicBezTo>
                <a:cubicBezTo>
                  <a:pt x="517" y="188"/>
                  <a:pt x="517" y="188"/>
                  <a:pt x="518" y="188"/>
                </a:cubicBezTo>
                <a:cubicBezTo>
                  <a:pt x="518" y="189"/>
                  <a:pt x="519" y="189"/>
                  <a:pt x="519" y="189"/>
                </a:cubicBezTo>
                <a:cubicBezTo>
                  <a:pt x="521" y="189"/>
                  <a:pt x="524" y="190"/>
                  <a:pt x="524" y="191"/>
                </a:cubicBezTo>
                <a:cubicBezTo>
                  <a:pt x="525" y="193"/>
                  <a:pt x="530" y="194"/>
                  <a:pt x="532" y="194"/>
                </a:cubicBezTo>
                <a:cubicBezTo>
                  <a:pt x="533" y="194"/>
                  <a:pt x="534" y="192"/>
                  <a:pt x="535" y="191"/>
                </a:cubicBezTo>
                <a:cubicBezTo>
                  <a:pt x="536" y="190"/>
                  <a:pt x="536" y="185"/>
                  <a:pt x="537" y="184"/>
                </a:cubicBezTo>
                <a:cubicBezTo>
                  <a:pt x="538" y="184"/>
                  <a:pt x="538" y="178"/>
                  <a:pt x="537" y="178"/>
                </a:cubicBezTo>
                <a:cubicBezTo>
                  <a:pt x="536" y="177"/>
                  <a:pt x="536" y="175"/>
                  <a:pt x="539" y="175"/>
                </a:cubicBezTo>
                <a:cubicBezTo>
                  <a:pt x="542" y="176"/>
                  <a:pt x="541" y="173"/>
                  <a:pt x="542" y="173"/>
                </a:cubicBezTo>
                <a:cubicBezTo>
                  <a:pt x="544" y="172"/>
                  <a:pt x="543" y="170"/>
                  <a:pt x="544" y="169"/>
                </a:cubicBezTo>
                <a:cubicBezTo>
                  <a:pt x="545" y="169"/>
                  <a:pt x="545" y="167"/>
                  <a:pt x="544" y="166"/>
                </a:cubicBezTo>
                <a:cubicBezTo>
                  <a:pt x="543" y="165"/>
                  <a:pt x="544" y="165"/>
                  <a:pt x="546" y="164"/>
                </a:cubicBezTo>
                <a:cubicBezTo>
                  <a:pt x="547" y="164"/>
                  <a:pt x="547" y="162"/>
                  <a:pt x="545" y="161"/>
                </a:cubicBezTo>
                <a:cubicBezTo>
                  <a:pt x="543" y="160"/>
                  <a:pt x="543" y="158"/>
                  <a:pt x="545" y="160"/>
                </a:cubicBezTo>
                <a:cubicBezTo>
                  <a:pt x="547" y="161"/>
                  <a:pt x="549" y="160"/>
                  <a:pt x="548" y="158"/>
                </a:cubicBezTo>
                <a:cubicBezTo>
                  <a:pt x="547" y="157"/>
                  <a:pt x="549" y="156"/>
                  <a:pt x="552" y="156"/>
                </a:cubicBezTo>
                <a:cubicBezTo>
                  <a:pt x="554" y="156"/>
                  <a:pt x="556" y="154"/>
                  <a:pt x="555" y="152"/>
                </a:cubicBezTo>
                <a:cubicBezTo>
                  <a:pt x="555" y="150"/>
                  <a:pt x="558" y="150"/>
                  <a:pt x="558" y="152"/>
                </a:cubicBezTo>
                <a:cubicBezTo>
                  <a:pt x="557" y="154"/>
                  <a:pt x="557" y="156"/>
                  <a:pt x="558" y="154"/>
                </a:cubicBezTo>
                <a:cubicBezTo>
                  <a:pt x="560" y="153"/>
                  <a:pt x="562" y="154"/>
                  <a:pt x="566" y="153"/>
                </a:cubicBezTo>
                <a:cubicBezTo>
                  <a:pt x="571" y="152"/>
                  <a:pt x="575" y="148"/>
                  <a:pt x="576" y="145"/>
                </a:cubicBezTo>
                <a:cubicBezTo>
                  <a:pt x="577" y="141"/>
                  <a:pt x="582" y="142"/>
                  <a:pt x="581" y="139"/>
                </a:cubicBezTo>
                <a:cubicBezTo>
                  <a:pt x="580" y="137"/>
                  <a:pt x="582" y="136"/>
                  <a:pt x="585" y="138"/>
                </a:cubicBezTo>
                <a:cubicBezTo>
                  <a:pt x="588" y="139"/>
                  <a:pt x="586" y="137"/>
                  <a:pt x="589" y="137"/>
                </a:cubicBezTo>
                <a:cubicBezTo>
                  <a:pt x="593" y="137"/>
                  <a:pt x="592" y="135"/>
                  <a:pt x="595" y="135"/>
                </a:cubicBezTo>
                <a:cubicBezTo>
                  <a:pt x="599" y="135"/>
                  <a:pt x="608" y="134"/>
                  <a:pt x="611" y="131"/>
                </a:cubicBezTo>
                <a:cubicBezTo>
                  <a:pt x="614" y="129"/>
                  <a:pt x="620" y="127"/>
                  <a:pt x="623" y="125"/>
                </a:cubicBezTo>
                <a:cubicBezTo>
                  <a:pt x="625" y="123"/>
                  <a:pt x="626" y="122"/>
                  <a:pt x="624" y="123"/>
                </a:cubicBezTo>
                <a:moveTo>
                  <a:pt x="496" y="127"/>
                </a:moveTo>
                <a:cubicBezTo>
                  <a:pt x="496" y="125"/>
                  <a:pt x="494" y="127"/>
                  <a:pt x="493" y="124"/>
                </a:cubicBezTo>
                <a:cubicBezTo>
                  <a:pt x="492" y="122"/>
                  <a:pt x="485" y="121"/>
                  <a:pt x="485" y="123"/>
                </a:cubicBezTo>
                <a:cubicBezTo>
                  <a:pt x="484" y="124"/>
                  <a:pt x="482" y="125"/>
                  <a:pt x="484" y="126"/>
                </a:cubicBezTo>
                <a:cubicBezTo>
                  <a:pt x="486" y="128"/>
                  <a:pt x="487" y="127"/>
                  <a:pt x="489" y="129"/>
                </a:cubicBezTo>
                <a:cubicBezTo>
                  <a:pt x="491" y="131"/>
                  <a:pt x="496" y="129"/>
                  <a:pt x="496" y="127"/>
                </a:cubicBezTo>
                <a:moveTo>
                  <a:pt x="733" y="308"/>
                </a:moveTo>
                <a:cubicBezTo>
                  <a:pt x="733" y="306"/>
                  <a:pt x="728" y="308"/>
                  <a:pt x="729" y="309"/>
                </a:cubicBezTo>
                <a:cubicBezTo>
                  <a:pt x="731" y="310"/>
                  <a:pt x="733" y="310"/>
                  <a:pt x="733" y="308"/>
                </a:cubicBezTo>
                <a:moveTo>
                  <a:pt x="758" y="299"/>
                </a:moveTo>
                <a:cubicBezTo>
                  <a:pt x="760" y="299"/>
                  <a:pt x="760" y="291"/>
                  <a:pt x="759" y="291"/>
                </a:cubicBezTo>
                <a:cubicBezTo>
                  <a:pt x="758" y="291"/>
                  <a:pt x="758" y="292"/>
                  <a:pt x="756" y="293"/>
                </a:cubicBezTo>
                <a:cubicBezTo>
                  <a:pt x="755" y="294"/>
                  <a:pt x="756" y="299"/>
                  <a:pt x="758" y="299"/>
                </a:cubicBezTo>
                <a:moveTo>
                  <a:pt x="754" y="302"/>
                </a:moveTo>
                <a:cubicBezTo>
                  <a:pt x="753" y="303"/>
                  <a:pt x="756" y="305"/>
                  <a:pt x="755" y="308"/>
                </a:cubicBezTo>
                <a:cubicBezTo>
                  <a:pt x="755" y="310"/>
                  <a:pt x="756" y="313"/>
                  <a:pt x="757" y="312"/>
                </a:cubicBezTo>
                <a:cubicBezTo>
                  <a:pt x="758" y="310"/>
                  <a:pt x="759" y="311"/>
                  <a:pt x="760" y="310"/>
                </a:cubicBezTo>
                <a:cubicBezTo>
                  <a:pt x="761" y="309"/>
                  <a:pt x="760" y="305"/>
                  <a:pt x="761" y="303"/>
                </a:cubicBezTo>
                <a:cubicBezTo>
                  <a:pt x="761" y="301"/>
                  <a:pt x="758" y="300"/>
                  <a:pt x="757" y="301"/>
                </a:cubicBezTo>
                <a:cubicBezTo>
                  <a:pt x="756" y="302"/>
                  <a:pt x="755" y="302"/>
                  <a:pt x="755" y="302"/>
                </a:cubicBezTo>
                <a:cubicBezTo>
                  <a:pt x="754" y="302"/>
                  <a:pt x="754" y="302"/>
                  <a:pt x="754" y="302"/>
                </a:cubicBezTo>
                <a:moveTo>
                  <a:pt x="781" y="316"/>
                </a:moveTo>
                <a:cubicBezTo>
                  <a:pt x="778" y="316"/>
                  <a:pt x="777" y="316"/>
                  <a:pt x="776" y="316"/>
                </a:cubicBezTo>
                <a:cubicBezTo>
                  <a:pt x="774" y="315"/>
                  <a:pt x="772" y="316"/>
                  <a:pt x="772" y="317"/>
                </a:cubicBezTo>
                <a:cubicBezTo>
                  <a:pt x="773" y="318"/>
                  <a:pt x="774" y="319"/>
                  <a:pt x="777" y="320"/>
                </a:cubicBezTo>
                <a:cubicBezTo>
                  <a:pt x="780" y="321"/>
                  <a:pt x="780" y="323"/>
                  <a:pt x="781" y="323"/>
                </a:cubicBezTo>
                <a:cubicBezTo>
                  <a:pt x="783" y="323"/>
                  <a:pt x="783" y="322"/>
                  <a:pt x="783" y="320"/>
                </a:cubicBezTo>
                <a:cubicBezTo>
                  <a:pt x="782" y="318"/>
                  <a:pt x="784" y="316"/>
                  <a:pt x="784" y="316"/>
                </a:cubicBezTo>
                <a:cubicBezTo>
                  <a:pt x="785" y="316"/>
                  <a:pt x="784" y="315"/>
                  <a:pt x="781" y="316"/>
                </a:cubicBezTo>
                <a:moveTo>
                  <a:pt x="829" y="329"/>
                </a:moveTo>
                <a:cubicBezTo>
                  <a:pt x="829" y="329"/>
                  <a:pt x="828" y="329"/>
                  <a:pt x="828" y="329"/>
                </a:cubicBezTo>
                <a:cubicBezTo>
                  <a:pt x="827" y="329"/>
                  <a:pt x="827" y="329"/>
                  <a:pt x="826" y="329"/>
                </a:cubicBezTo>
                <a:cubicBezTo>
                  <a:pt x="826" y="329"/>
                  <a:pt x="825" y="329"/>
                  <a:pt x="823" y="329"/>
                </a:cubicBezTo>
                <a:cubicBezTo>
                  <a:pt x="822" y="329"/>
                  <a:pt x="820" y="329"/>
                  <a:pt x="819" y="328"/>
                </a:cubicBezTo>
                <a:cubicBezTo>
                  <a:pt x="818" y="327"/>
                  <a:pt x="816" y="329"/>
                  <a:pt x="817" y="329"/>
                </a:cubicBezTo>
                <a:cubicBezTo>
                  <a:pt x="818" y="330"/>
                  <a:pt x="821" y="331"/>
                  <a:pt x="823" y="331"/>
                </a:cubicBezTo>
                <a:cubicBezTo>
                  <a:pt x="825" y="331"/>
                  <a:pt x="829" y="330"/>
                  <a:pt x="829" y="329"/>
                </a:cubicBezTo>
                <a:moveTo>
                  <a:pt x="861" y="331"/>
                </a:moveTo>
                <a:cubicBezTo>
                  <a:pt x="860" y="330"/>
                  <a:pt x="861" y="329"/>
                  <a:pt x="863" y="328"/>
                </a:cubicBezTo>
                <a:cubicBezTo>
                  <a:pt x="864" y="327"/>
                  <a:pt x="864" y="326"/>
                  <a:pt x="863" y="327"/>
                </a:cubicBezTo>
                <a:cubicBezTo>
                  <a:pt x="862" y="328"/>
                  <a:pt x="860" y="329"/>
                  <a:pt x="857" y="329"/>
                </a:cubicBezTo>
                <a:cubicBezTo>
                  <a:pt x="854" y="329"/>
                  <a:pt x="853" y="331"/>
                  <a:pt x="855" y="332"/>
                </a:cubicBezTo>
                <a:cubicBezTo>
                  <a:pt x="857" y="333"/>
                  <a:pt x="861" y="331"/>
                  <a:pt x="861" y="331"/>
                </a:cubicBezTo>
                <a:moveTo>
                  <a:pt x="654" y="165"/>
                </a:moveTo>
                <a:cubicBezTo>
                  <a:pt x="656" y="165"/>
                  <a:pt x="656" y="163"/>
                  <a:pt x="657" y="163"/>
                </a:cubicBezTo>
                <a:cubicBezTo>
                  <a:pt x="658" y="163"/>
                  <a:pt x="660" y="161"/>
                  <a:pt x="661" y="160"/>
                </a:cubicBezTo>
                <a:cubicBezTo>
                  <a:pt x="661" y="158"/>
                  <a:pt x="660" y="156"/>
                  <a:pt x="658" y="156"/>
                </a:cubicBezTo>
                <a:cubicBezTo>
                  <a:pt x="657" y="156"/>
                  <a:pt x="656" y="155"/>
                  <a:pt x="656" y="154"/>
                </a:cubicBezTo>
                <a:cubicBezTo>
                  <a:pt x="656" y="153"/>
                  <a:pt x="655" y="152"/>
                  <a:pt x="655" y="151"/>
                </a:cubicBezTo>
                <a:cubicBezTo>
                  <a:pt x="655" y="151"/>
                  <a:pt x="653" y="151"/>
                  <a:pt x="652" y="152"/>
                </a:cubicBezTo>
                <a:cubicBezTo>
                  <a:pt x="652" y="152"/>
                  <a:pt x="651" y="151"/>
                  <a:pt x="650" y="151"/>
                </a:cubicBezTo>
                <a:cubicBezTo>
                  <a:pt x="650" y="150"/>
                  <a:pt x="649" y="149"/>
                  <a:pt x="648" y="150"/>
                </a:cubicBezTo>
                <a:cubicBezTo>
                  <a:pt x="647" y="150"/>
                  <a:pt x="648" y="151"/>
                  <a:pt x="648" y="152"/>
                </a:cubicBezTo>
                <a:cubicBezTo>
                  <a:pt x="648" y="153"/>
                  <a:pt x="647" y="152"/>
                  <a:pt x="647" y="152"/>
                </a:cubicBezTo>
                <a:cubicBezTo>
                  <a:pt x="646" y="152"/>
                  <a:pt x="645" y="152"/>
                  <a:pt x="645" y="152"/>
                </a:cubicBezTo>
                <a:cubicBezTo>
                  <a:pt x="645" y="153"/>
                  <a:pt x="644" y="153"/>
                  <a:pt x="644" y="152"/>
                </a:cubicBezTo>
                <a:cubicBezTo>
                  <a:pt x="643" y="152"/>
                  <a:pt x="641" y="152"/>
                  <a:pt x="641" y="153"/>
                </a:cubicBezTo>
                <a:cubicBezTo>
                  <a:pt x="641" y="154"/>
                  <a:pt x="640" y="153"/>
                  <a:pt x="639" y="152"/>
                </a:cubicBezTo>
                <a:cubicBezTo>
                  <a:pt x="638" y="151"/>
                  <a:pt x="636" y="153"/>
                  <a:pt x="636" y="154"/>
                </a:cubicBezTo>
                <a:cubicBezTo>
                  <a:pt x="636" y="155"/>
                  <a:pt x="636" y="155"/>
                  <a:pt x="634" y="153"/>
                </a:cubicBezTo>
                <a:cubicBezTo>
                  <a:pt x="633" y="151"/>
                  <a:pt x="632" y="153"/>
                  <a:pt x="633" y="154"/>
                </a:cubicBezTo>
                <a:cubicBezTo>
                  <a:pt x="633" y="156"/>
                  <a:pt x="633" y="157"/>
                  <a:pt x="632" y="156"/>
                </a:cubicBezTo>
                <a:cubicBezTo>
                  <a:pt x="631" y="156"/>
                  <a:pt x="630" y="157"/>
                  <a:pt x="629" y="158"/>
                </a:cubicBezTo>
                <a:cubicBezTo>
                  <a:pt x="629" y="159"/>
                  <a:pt x="627" y="155"/>
                  <a:pt x="628" y="154"/>
                </a:cubicBezTo>
                <a:cubicBezTo>
                  <a:pt x="630" y="153"/>
                  <a:pt x="623" y="150"/>
                  <a:pt x="622" y="150"/>
                </a:cubicBezTo>
                <a:cubicBezTo>
                  <a:pt x="620" y="150"/>
                  <a:pt x="621" y="151"/>
                  <a:pt x="622" y="152"/>
                </a:cubicBezTo>
                <a:cubicBezTo>
                  <a:pt x="623" y="153"/>
                  <a:pt x="621" y="153"/>
                  <a:pt x="621" y="152"/>
                </a:cubicBezTo>
                <a:cubicBezTo>
                  <a:pt x="620" y="151"/>
                  <a:pt x="619" y="152"/>
                  <a:pt x="618" y="153"/>
                </a:cubicBezTo>
                <a:cubicBezTo>
                  <a:pt x="617" y="155"/>
                  <a:pt x="616" y="155"/>
                  <a:pt x="616" y="156"/>
                </a:cubicBezTo>
                <a:cubicBezTo>
                  <a:pt x="616" y="157"/>
                  <a:pt x="618" y="158"/>
                  <a:pt x="620" y="157"/>
                </a:cubicBezTo>
                <a:cubicBezTo>
                  <a:pt x="622" y="156"/>
                  <a:pt x="624" y="156"/>
                  <a:pt x="625" y="157"/>
                </a:cubicBezTo>
                <a:cubicBezTo>
                  <a:pt x="626" y="158"/>
                  <a:pt x="623" y="158"/>
                  <a:pt x="624" y="159"/>
                </a:cubicBezTo>
                <a:cubicBezTo>
                  <a:pt x="625" y="160"/>
                  <a:pt x="624" y="161"/>
                  <a:pt x="622" y="160"/>
                </a:cubicBezTo>
                <a:cubicBezTo>
                  <a:pt x="620" y="160"/>
                  <a:pt x="617" y="161"/>
                  <a:pt x="617" y="162"/>
                </a:cubicBezTo>
                <a:cubicBezTo>
                  <a:pt x="617" y="162"/>
                  <a:pt x="619" y="162"/>
                  <a:pt x="620" y="162"/>
                </a:cubicBezTo>
                <a:cubicBezTo>
                  <a:pt x="622" y="162"/>
                  <a:pt x="623" y="161"/>
                  <a:pt x="623" y="162"/>
                </a:cubicBezTo>
                <a:cubicBezTo>
                  <a:pt x="623" y="163"/>
                  <a:pt x="623" y="164"/>
                  <a:pt x="625" y="163"/>
                </a:cubicBezTo>
                <a:cubicBezTo>
                  <a:pt x="626" y="163"/>
                  <a:pt x="625" y="165"/>
                  <a:pt x="626" y="165"/>
                </a:cubicBezTo>
                <a:cubicBezTo>
                  <a:pt x="627" y="165"/>
                  <a:pt x="627" y="167"/>
                  <a:pt x="625" y="167"/>
                </a:cubicBezTo>
                <a:cubicBezTo>
                  <a:pt x="623" y="167"/>
                  <a:pt x="622" y="167"/>
                  <a:pt x="622" y="168"/>
                </a:cubicBezTo>
                <a:cubicBezTo>
                  <a:pt x="624" y="169"/>
                  <a:pt x="626" y="169"/>
                  <a:pt x="628" y="168"/>
                </a:cubicBezTo>
                <a:cubicBezTo>
                  <a:pt x="630" y="168"/>
                  <a:pt x="633" y="170"/>
                  <a:pt x="636" y="171"/>
                </a:cubicBezTo>
                <a:cubicBezTo>
                  <a:pt x="638" y="172"/>
                  <a:pt x="642" y="171"/>
                  <a:pt x="643" y="169"/>
                </a:cubicBezTo>
                <a:cubicBezTo>
                  <a:pt x="643" y="168"/>
                  <a:pt x="647" y="169"/>
                  <a:pt x="648" y="168"/>
                </a:cubicBezTo>
                <a:cubicBezTo>
                  <a:pt x="650" y="167"/>
                  <a:pt x="651" y="166"/>
                  <a:pt x="654" y="165"/>
                </a:cubicBezTo>
                <a:moveTo>
                  <a:pt x="679" y="245"/>
                </a:moveTo>
                <a:cubicBezTo>
                  <a:pt x="680" y="245"/>
                  <a:pt x="684" y="244"/>
                  <a:pt x="686" y="242"/>
                </a:cubicBezTo>
                <a:cubicBezTo>
                  <a:pt x="687" y="241"/>
                  <a:pt x="688" y="241"/>
                  <a:pt x="689" y="241"/>
                </a:cubicBezTo>
                <a:cubicBezTo>
                  <a:pt x="690" y="241"/>
                  <a:pt x="691" y="241"/>
                  <a:pt x="691" y="241"/>
                </a:cubicBezTo>
                <a:cubicBezTo>
                  <a:pt x="693" y="240"/>
                  <a:pt x="692" y="232"/>
                  <a:pt x="691" y="231"/>
                </a:cubicBezTo>
                <a:cubicBezTo>
                  <a:pt x="691" y="229"/>
                  <a:pt x="693" y="229"/>
                  <a:pt x="695" y="228"/>
                </a:cubicBezTo>
                <a:cubicBezTo>
                  <a:pt x="696" y="227"/>
                  <a:pt x="694" y="225"/>
                  <a:pt x="692" y="223"/>
                </a:cubicBezTo>
                <a:cubicBezTo>
                  <a:pt x="691" y="222"/>
                  <a:pt x="690" y="223"/>
                  <a:pt x="689" y="224"/>
                </a:cubicBezTo>
                <a:cubicBezTo>
                  <a:pt x="688" y="224"/>
                  <a:pt x="687" y="224"/>
                  <a:pt x="686" y="224"/>
                </a:cubicBezTo>
                <a:cubicBezTo>
                  <a:pt x="685" y="223"/>
                  <a:pt x="682" y="223"/>
                  <a:pt x="682" y="225"/>
                </a:cubicBezTo>
                <a:cubicBezTo>
                  <a:pt x="682" y="227"/>
                  <a:pt x="684" y="226"/>
                  <a:pt x="684" y="227"/>
                </a:cubicBezTo>
                <a:cubicBezTo>
                  <a:pt x="684" y="228"/>
                  <a:pt x="682" y="228"/>
                  <a:pt x="681" y="229"/>
                </a:cubicBezTo>
                <a:cubicBezTo>
                  <a:pt x="680" y="229"/>
                  <a:pt x="679" y="229"/>
                  <a:pt x="678" y="229"/>
                </a:cubicBezTo>
                <a:cubicBezTo>
                  <a:pt x="678" y="229"/>
                  <a:pt x="677" y="228"/>
                  <a:pt x="676" y="229"/>
                </a:cubicBezTo>
                <a:cubicBezTo>
                  <a:pt x="675" y="230"/>
                  <a:pt x="678" y="230"/>
                  <a:pt x="677" y="232"/>
                </a:cubicBezTo>
                <a:cubicBezTo>
                  <a:pt x="676" y="234"/>
                  <a:pt x="677" y="234"/>
                  <a:pt x="679" y="235"/>
                </a:cubicBezTo>
                <a:cubicBezTo>
                  <a:pt x="680" y="237"/>
                  <a:pt x="677" y="237"/>
                  <a:pt x="677" y="239"/>
                </a:cubicBezTo>
                <a:cubicBezTo>
                  <a:pt x="677" y="240"/>
                  <a:pt x="675" y="240"/>
                  <a:pt x="675" y="241"/>
                </a:cubicBezTo>
                <a:cubicBezTo>
                  <a:pt x="674" y="243"/>
                  <a:pt x="677" y="245"/>
                  <a:pt x="679" y="245"/>
                </a:cubicBezTo>
                <a:moveTo>
                  <a:pt x="691" y="209"/>
                </a:moveTo>
                <a:cubicBezTo>
                  <a:pt x="689" y="210"/>
                  <a:pt x="692" y="212"/>
                  <a:pt x="694" y="212"/>
                </a:cubicBezTo>
                <a:cubicBezTo>
                  <a:pt x="695" y="212"/>
                  <a:pt x="692" y="213"/>
                  <a:pt x="692" y="215"/>
                </a:cubicBezTo>
                <a:cubicBezTo>
                  <a:pt x="692" y="217"/>
                  <a:pt x="694" y="216"/>
                  <a:pt x="694" y="217"/>
                </a:cubicBezTo>
                <a:cubicBezTo>
                  <a:pt x="694" y="218"/>
                  <a:pt x="691" y="219"/>
                  <a:pt x="691" y="220"/>
                </a:cubicBezTo>
                <a:cubicBezTo>
                  <a:pt x="691" y="221"/>
                  <a:pt x="693" y="219"/>
                  <a:pt x="694" y="219"/>
                </a:cubicBezTo>
                <a:cubicBezTo>
                  <a:pt x="694" y="219"/>
                  <a:pt x="694" y="219"/>
                  <a:pt x="694" y="220"/>
                </a:cubicBezTo>
                <a:cubicBezTo>
                  <a:pt x="694" y="221"/>
                  <a:pt x="695" y="222"/>
                  <a:pt x="696" y="221"/>
                </a:cubicBezTo>
                <a:cubicBezTo>
                  <a:pt x="698" y="221"/>
                  <a:pt x="697" y="218"/>
                  <a:pt x="698" y="218"/>
                </a:cubicBezTo>
                <a:cubicBezTo>
                  <a:pt x="699" y="218"/>
                  <a:pt x="698" y="220"/>
                  <a:pt x="698" y="221"/>
                </a:cubicBezTo>
                <a:cubicBezTo>
                  <a:pt x="699" y="222"/>
                  <a:pt x="697" y="224"/>
                  <a:pt x="697" y="225"/>
                </a:cubicBezTo>
                <a:cubicBezTo>
                  <a:pt x="697" y="226"/>
                  <a:pt x="702" y="226"/>
                  <a:pt x="703" y="225"/>
                </a:cubicBezTo>
                <a:cubicBezTo>
                  <a:pt x="704" y="223"/>
                  <a:pt x="705" y="225"/>
                  <a:pt x="704" y="226"/>
                </a:cubicBezTo>
                <a:cubicBezTo>
                  <a:pt x="703" y="227"/>
                  <a:pt x="704" y="228"/>
                  <a:pt x="705" y="229"/>
                </a:cubicBezTo>
                <a:cubicBezTo>
                  <a:pt x="706" y="229"/>
                  <a:pt x="706" y="229"/>
                  <a:pt x="706" y="230"/>
                </a:cubicBezTo>
                <a:cubicBezTo>
                  <a:pt x="705" y="231"/>
                  <a:pt x="706" y="233"/>
                  <a:pt x="706" y="234"/>
                </a:cubicBezTo>
                <a:cubicBezTo>
                  <a:pt x="705" y="235"/>
                  <a:pt x="701" y="235"/>
                  <a:pt x="701" y="234"/>
                </a:cubicBezTo>
                <a:cubicBezTo>
                  <a:pt x="701" y="234"/>
                  <a:pt x="699" y="234"/>
                  <a:pt x="700" y="235"/>
                </a:cubicBezTo>
                <a:cubicBezTo>
                  <a:pt x="700" y="236"/>
                  <a:pt x="699" y="237"/>
                  <a:pt x="699" y="238"/>
                </a:cubicBezTo>
                <a:cubicBezTo>
                  <a:pt x="699" y="238"/>
                  <a:pt x="701" y="238"/>
                  <a:pt x="701" y="239"/>
                </a:cubicBezTo>
                <a:cubicBezTo>
                  <a:pt x="701" y="240"/>
                  <a:pt x="699" y="241"/>
                  <a:pt x="697" y="242"/>
                </a:cubicBezTo>
                <a:cubicBezTo>
                  <a:pt x="695" y="243"/>
                  <a:pt x="698" y="245"/>
                  <a:pt x="699" y="244"/>
                </a:cubicBezTo>
                <a:cubicBezTo>
                  <a:pt x="700" y="243"/>
                  <a:pt x="700" y="244"/>
                  <a:pt x="701" y="244"/>
                </a:cubicBezTo>
                <a:cubicBezTo>
                  <a:pt x="703" y="244"/>
                  <a:pt x="704" y="246"/>
                  <a:pt x="706" y="245"/>
                </a:cubicBezTo>
                <a:cubicBezTo>
                  <a:pt x="707" y="244"/>
                  <a:pt x="707" y="245"/>
                  <a:pt x="706" y="246"/>
                </a:cubicBezTo>
                <a:cubicBezTo>
                  <a:pt x="705" y="247"/>
                  <a:pt x="704" y="247"/>
                  <a:pt x="703" y="246"/>
                </a:cubicBezTo>
                <a:cubicBezTo>
                  <a:pt x="703" y="246"/>
                  <a:pt x="702" y="246"/>
                  <a:pt x="701" y="247"/>
                </a:cubicBezTo>
                <a:cubicBezTo>
                  <a:pt x="700" y="247"/>
                  <a:pt x="695" y="252"/>
                  <a:pt x="696" y="253"/>
                </a:cubicBezTo>
                <a:cubicBezTo>
                  <a:pt x="697" y="254"/>
                  <a:pt x="697" y="252"/>
                  <a:pt x="699" y="252"/>
                </a:cubicBezTo>
                <a:cubicBezTo>
                  <a:pt x="701" y="251"/>
                  <a:pt x="701" y="252"/>
                  <a:pt x="702" y="252"/>
                </a:cubicBezTo>
                <a:cubicBezTo>
                  <a:pt x="703" y="252"/>
                  <a:pt x="703" y="252"/>
                  <a:pt x="703" y="251"/>
                </a:cubicBezTo>
                <a:cubicBezTo>
                  <a:pt x="703" y="251"/>
                  <a:pt x="704" y="250"/>
                  <a:pt x="704" y="250"/>
                </a:cubicBezTo>
                <a:cubicBezTo>
                  <a:pt x="704" y="250"/>
                  <a:pt x="705" y="250"/>
                  <a:pt x="705" y="250"/>
                </a:cubicBezTo>
                <a:cubicBezTo>
                  <a:pt x="706" y="250"/>
                  <a:pt x="706" y="250"/>
                  <a:pt x="707" y="250"/>
                </a:cubicBezTo>
                <a:cubicBezTo>
                  <a:pt x="709" y="250"/>
                  <a:pt x="710" y="250"/>
                  <a:pt x="711" y="249"/>
                </a:cubicBezTo>
                <a:cubicBezTo>
                  <a:pt x="711" y="249"/>
                  <a:pt x="712" y="249"/>
                  <a:pt x="712" y="249"/>
                </a:cubicBezTo>
                <a:cubicBezTo>
                  <a:pt x="713" y="250"/>
                  <a:pt x="714" y="250"/>
                  <a:pt x="714" y="250"/>
                </a:cubicBezTo>
                <a:cubicBezTo>
                  <a:pt x="715" y="249"/>
                  <a:pt x="717" y="249"/>
                  <a:pt x="719" y="249"/>
                </a:cubicBezTo>
                <a:cubicBezTo>
                  <a:pt x="720" y="249"/>
                  <a:pt x="724" y="247"/>
                  <a:pt x="725" y="246"/>
                </a:cubicBezTo>
                <a:cubicBezTo>
                  <a:pt x="726" y="246"/>
                  <a:pt x="724" y="245"/>
                  <a:pt x="723" y="246"/>
                </a:cubicBezTo>
                <a:cubicBezTo>
                  <a:pt x="721" y="246"/>
                  <a:pt x="722" y="244"/>
                  <a:pt x="723" y="243"/>
                </a:cubicBezTo>
                <a:cubicBezTo>
                  <a:pt x="724" y="242"/>
                  <a:pt x="726" y="241"/>
                  <a:pt x="727" y="239"/>
                </a:cubicBezTo>
                <a:cubicBezTo>
                  <a:pt x="727" y="237"/>
                  <a:pt x="723" y="236"/>
                  <a:pt x="722" y="237"/>
                </a:cubicBezTo>
                <a:cubicBezTo>
                  <a:pt x="722" y="238"/>
                  <a:pt x="721" y="238"/>
                  <a:pt x="720" y="237"/>
                </a:cubicBezTo>
                <a:cubicBezTo>
                  <a:pt x="719" y="235"/>
                  <a:pt x="721" y="234"/>
                  <a:pt x="720" y="234"/>
                </a:cubicBezTo>
                <a:cubicBezTo>
                  <a:pt x="719" y="234"/>
                  <a:pt x="718" y="232"/>
                  <a:pt x="719" y="232"/>
                </a:cubicBezTo>
                <a:cubicBezTo>
                  <a:pt x="719" y="231"/>
                  <a:pt x="718" y="227"/>
                  <a:pt x="715" y="227"/>
                </a:cubicBezTo>
                <a:cubicBezTo>
                  <a:pt x="713" y="226"/>
                  <a:pt x="713" y="223"/>
                  <a:pt x="713" y="222"/>
                </a:cubicBezTo>
                <a:cubicBezTo>
                  <a:pt x="712" y="220"/>
                  <a:pt x="711" y="221"/>
                  <a:pt x="710" y="219"/>
                </a:cubicBezTo>
                <a:cubicBezTo>
                  <a:pt x="709" y="218"/>
                  <a:pt x="707" y="219"/>
                  <a:pt x="706" y="219"/>
                </a:cubicBezTo>
                <a:cubicBezTo>
                  <a:pt x="705" y="219"/>
                  <a:pt x="706" y="217"/>
                  <a:pt x="707" y="216"/>
                </a:cubicBezTo>
                <a:cubicBezTo>
                  <a:pt x="709" y="215"/>
                  <a:pt x="711" y="210"/>
                  <a:pt x="711" y="209"/>
                </a:cubicBezTo>
                <a:cubicBezTo>
                  <a:pt x="711" y="208"/>
                  <a:pt x="704" y="208"/>
                  <a:pt x="703" y="208"/>
                </a:cubicBezTo>
                <a:cubicBezTo>
                  <a:pt x="702" y="209"/>
                  <a:pt x="700" y="207"/>
                  <a:pt x="701" y="207"/>
                </a:cubicBezTo>
                <a:cubicBezTo>
                  <a:pt x="702" y="206"/>
                  <a:pt x="705" y="204"/>
                  <a:pt x="705" y="203"/>
                </a:cubicBezTo>
                <a:cubicBezTo>
                  <a:pt x="704" y="202"/>
                  <a:pt x="706" y="202"/>
                  <a:pt x="705" y="201"/>
                </a:cubicBezTo>
                <a:cubicBezTo>
                  <a:pt x="704" y="200"/>
                  <a:pt x="704" y="202"/>
                  <a:pt x="703" y="203"/>
                </a:cubicBezTo>
                <a:cubicBezTo>
                  <a:pt x="703" y="203"/>
                  <a:pt x="701" y="203"/>
                  <a:pt x="699" y="203"/>
                </a:cubicBezTo>
                <a:cubicBezTo>
                  <a:pt x="697" y="202"/>
                  <a:pt x="696" y="205"/>
                  <a:pt x="696" y="206"/>
                </a:cubicBezTo>
                <a:cubicBezTo>
                  <a:pt x="696" y="207"/>
                  <a:pt x="694" y="208"/>
                  <a:pt x="694" y="209"/>
                </a:cubicBezTo>
                <a:cubicBezTo>
                  <a:pt x="695" y="210"/>
                  <a:pt x="694" y="211"/>
                  <a:pt x="693" y="210"/>
                </a:cubicBezTo>
                <a:cubicBezTo>
                  <a:pt x="693" y="210"/>
                  <a:pt x="692" y="208"/>
                  <a:pt x="691" y="209"/>
                </a:cubicBezTo>
                <a:moveTo>
                  <a:pt x="689" y="207"/>
                </a:moveTo>
                <a:cubicBezTo>
                  <a:pt x="691" y="207"/>
                  <a:pt x="692" y="204"/>
                  <a:pt x="692" y="204"/>
                </a:cubicBezTo>
                <a:cubicBezTo>
                  <a:pt x="691" y="203"/>
                  <a:pt x="690" y="204"/>
                  <a:pt x="689" y="206"/>
                </a:cubicBezTo>
                <a:cubicBezTo>
                  <a:pt x="689" y="206"/>
                  <a:pt x="688" y="207"/>
                  <a:pt x="689" y="207"/>
                </a:cubicBezTo>
                <a:moveTo>
                  <a:pt x="713" y="194"/>
                </a:moveTo>
                <a:cubicBezTo>
                  <a:pt x="714" y="193"/>
                  <a:pt x="715" y="189"/>
                  <a:pt x="714" y="189"/>
                </a:cubicBezTo>
                <a:cubicBezTo>
                  <a:pt x="712" y="190"/>
                  <a:pt x="713" y="194"/>
                  <a:pt x="713" y="194"/>
                </a:cubicBezTo>
                <a:moveTo>
                  <a:pt x="768" y="225"/>
                </a:moveTo>
                <a:cubicBezTo>
                  <a:pt x="766" y="225"/>
                  <a:pt x="767" y="226"/>
                  <a:pt x="769" y="227"/>
                </a:cubicBezTo>
                <a:cubicBezTo>
                  <a:pt x="770" y="227"/>
                  <a:pt x="772" y="224"/>
                  <a:pt x="772" y="223"/>
                </a:cubicBezTo>
                <a:cubicBezTo>
                  <a:pt x="772" y="222"/>
                  <a:pt x="773" y="219"/>
                  <a:pt x="773" y="219"/>
                </a:cubicBezTo>
                <a:cubicBezTo>
                  <a:pt x="772" y="218"/>
                  <a:pt x="772" y="219"/>
                  <a:pt x="771" y="220"/>
                </a:cubicBezTo>
                <a:cubicBezTo>
                  <a:pt x="771" y="220"/>
                  <a:pt x="771" y="219"/>
                  <a:pt x="771" y="219"/>
                </a:cubicBezTo>
                <a:cubicBezTo>
                  <a:pt x="770" y="218"/>
                  <a:pt x="770" y="218"/>
                  <a:pt x="770" y="219"/>
                </a:cubicBezTo>
                <a:cubicBezTo>
                  <a:pt x="770" y="219"/>
                  <a:pt x="769" y="219"/>
                  <a:pt x="769" y="219"/>
                </a:cubicBezTo>
                <a:cubicBezTo>
                  <a:pt x="768" y="219"/>
                  <a:pt x="768" y="219"/>
                  <a:pt x="767" y="220"/>
                </a:cubicBezTo>
                <a:cubicBezTo>
                  <a:pt x="766" y="222"/>
                  <a:pt x="768" y="223"/>
                  <a:pt x="769" y="224"/>
                </a:cubicBezTo>
                <a:cubicBezTo>
                  <a:pt x="770" y="224"/>
                  <a:pt x="769" y="225"/>
                  <a:pt x="768" y="225"/>
                </a:cubicBezTo>
                <a:moveTo>
                  <a:pt x="798" y="207"/>
                </a:moveTo>
                <a:cubicBezTo>
                  <a:pt x="796" y="207"/>
                  <a:pt x="795" y="212"/>
                  <a:pt x="795" y="213"/>
                </a:cubicBezTo>
                <a:cubicBezTo>
                  <a:pt x="795" y="213"/>
                  <a:pt x="797" y="211"/>
                  <a:pt x="798" y="210"/>
                </a:cubicBezTo>
                <a:cubicBezTo>
                  <a:pt x="799" y="208"/>
                  <a:pt x="799" y="207"/>
                  <a:pt x="798" y="207"/>
                </a:cubicBezTo>
                <a:moveTo>
                  <a:pt x="811" y="206"/>
                </a:moveTo>
                <a:cubicBezTo>
                  <a:pt x="812" y="206"/>
                  <a:pt x="815" y="204"/>
                  <a:pt x="816" y="203"/>
                </a:cubicBezTo>
                <a:cubicBezTo>
                  <a:pt x="816" y="202"/>
                  <a:pt x="815" y="201"/>
                  <a:pt x="813" y="202"/>
                </a:cubicBezTo>
                <a:cubicBezTo>
                  <a:pt x="811" y="203"/>
                  <a:pt x="810" y="206"/>
                  <a:pt x="811" y="206"/>
                </a:cubicBezTo>
                <a:moveTo>
                  <a:pt x="815" y="200"/>
                </a:moveTo>
                <a:cubicBezTo>
                  <a:pt x="815" y="199"/>
                  <a:pt x="811" y="200"/>
                  <a:pt x="812" y="201"/>
                </a:cubicBezTo>
                <a:cubicBezTo>
                  <a:pt x="813" y="201"/>
                  <a:pt x="814" y="201"/>
                  <a:pt x="815" y="200"/>
                </a:cubicBezTo>
                <a:moveTo>
                  <a:pt x="1515" y="157"/>
                </a:moveTo>
                <a:cubicBezTo>
                  <a:pt x="1517" y="159"/>
                  <a:pt x="1519" y="158"/>
                  <a:pt x="1520" y="158"/>
                </a:cubicBezTo>
                <a:cubicBezTo>
                  <a:pt x="1521" y="158"/>
                  <a:pt x="1520" y="157"/>
                  <a:pt x="1519" y="157"/>
                </a:cubicBezTo>
                <a:cubicBezTo>
                  <a:pt x="1518" y="157"/>
                  <a:pt x="1519" y="156"/>
                  <a:pt x="1520" y="157"/>
                </a:cubicBezTo>
                <a:cubicBezTo>
                  <a:pt x="1521" y="158"/>
                  <a:pt x="1522" y="158"/>
                  <a:pt x="1522" y="157"/>
                </a:cubicBezTo>
                <a:cubicBezTo>
                  <a:pt x="1523" y="156"/>
                  <a:pt x="1523" y="155"/>
                  <a:pt x="1525" y="155"/>
                </a:cubicBezTo>
                <a:cubicBezTo>
                  <a:pt x="1526" y="155"/>
                  <a:pt x="1526" y="154"/>
                  <a:pt x="1525" y="154"/>
                </a:cubicBezTo>
                <a:cubicBezTo>
                  <a:pt x="1524" y="153"/>
                  <a:pt x="1520" y="151"/>
                  <a:pt x="1519" y="149"/>
                </a:cubicBezTo>
                <a:cubicBezTo>
                  <a:pt x="1518" y="148"/>
                  <a:pt x="1513" y="147"/>
                  <a:pt x="1513" y="148"/>
                </a:cubicBezTo>
                <a:cubicBezTo>
                  <a:pt x="1513" y="149"/>
                  <a:pt x="1511" y="148"/>
                  <a:pt x="1511" y="147"/>
                </a:cubicBezTo>
                <a:cubicBezTo>
                  <a:pt x="1511" y="146"/>
                  <a:pt x="1506" y="146"/>
                  <a:pt x="1506" y="147"/>
                </a:cubicBezTo>
                <a:cubicBezTo>
                  <a:pt x="1505" y="148"/>
                  <a:pt x="1507" y="148"/>
                  <a:pt x="1507" y="149"/>
                </a:cubicBezTo>
                <a:cubicBezTo>
                  <a:pt x="1508" y="150"/>
                  <a:pt x="1506" y="150"/>
                  <a:pt x="1507" y="151"/>
                </a:cubicBezTo>
                <a:cubicBezTo>
                  <a:pt x="1507" y="153"/>
                  <a:pt x="1505" y="151"/>
                  <a:pt x="1504" y="150"/>
                </a:cubicBezTo>
                <a:cubicBezTo>
                  <a:pt x="1503" y="150"/>
                  <a:pt x="1504" y="147"/>
                  <a:pt x="1504" y="146"/>
                </a:cubicBezTo>
                <a:cubicBezTo>
                  <a:pt x="1504" y="145"/>
                  <a:pt x="1502" y="145"/>
                  <a:pt x="1502" y="144"/>
                </a:cubicBezTo>
                <a:cubicBezTo>
                  <a:pt x="1502" y="142"/>
                  <a:pt x="1496" y="140"/>
                  <a:pt x="1494" y="139"/>
                </a:cubicBezTo>
                <a:cubicBezTo>
                  <a:pt x="1492" y="138"/>
                  <a:pt x="1489" y="137"/>
                  <a:pt x="1488" y="136"/>
                </a:cubicBezTo>
                <a:cubicBezTo>
                  <a:pt x="1487" y="134"/>
                  <a:pt x="1483" y="134"/>
                  <a:pt x="1481" y="133"/>
                </a:cubicBezTo>
                <a:cubicBezTo>
                  <a:pt x="1479" y="131"/>
                  <a:pt x="1472" y="128"/>
                  <a:pt x="1469" y="128"/>
                </a:cubicBezTo>
                <a:cubicBezTo>
                  <a:pt x="1466" y="128"/>
                  <a:pt x="1467" y="126"/>
                  <a:pt x="1465" y="126"/>
                </a:cubicBezTo>
                <a:cubicBezTo>
                  <a:pt x="1464" y="126"/>
                  <a:pt x="1457" y="126"/>
                  <a:pt x="1455" y="126"/>
                </a:cubicBezTo>
                <a:cubicBezTo>
                  <a:pt x="1454" y="126"/>
                  <a:pt x="1454" y="126"/>
                  <a:pt x="1453" y="126"/>
                </a:cubicBezTo>
                <a:cubicBezTo>
                  <a:pt x="1453" y="126"/>
                  <a:pt x="1452" y="127"/>
                  <a:pt x="1451" y="126"/>
                </a:cubicBezTo>
                <a:cubicBezTo>
                  <a:pt x="1450" y="126"/>
                  <a:pt x="1443" y="123"/>
                  <a:pt x="1442" y="124"/>
                </a:cubicBezTo>
                <a:cubicBezTo>
                  <a:pt x="1441" y="125"/>
                  <a:pt x="1441" y="127"/>
                  <a:pt x="1440" y="127"/>
                </a:cubicBezTo>
                <a:cubicBezTo>
                  <a:pt x="1439" y="127"/>
                  <a:pt x="1440" y="128"/>
                  <a:pt x="1442" y="130"/>
                </a:cubicBezTo>
                <a:cubicBezTo>
                  <a:pt x="1444" y="132"/>
                  <a:pt x="1443" y="133"/>
                  <a:pt x="1441" y="134"/>
                </a:cubicBezTo>
                <a:cubicBezTo>
                  <a:pt x="1439" y="135"/>
                  <a:pt x="1436" y="134"/>
                  <a:pt x="1435" y="132"/>
                </a:cubicBezTo>
                <a:cubicBezTo>
                  <a:pt x="1435" y="131"/>
                  <a:pt x="1432" y="131"/>
                  <a:pt x="1431" y="129"/>
                </a:cubicBezTo>
                <a:cubicBezTo>
                  <a:pt x="1431" y="128"/>
                  <a:pt x="1432" y="127"/>
                  <a:pt x="1433" y="128"/>
                </a:cubicBezTo>
                <a:cubicBezTo>
                  <a:pt x="1435" y="129"/>
                  <a:pt x="1436" y="128"/>
                  <a:pt x="1436" y="127"/>
                </a:cubicBezTo>
                <a:cubicBezTo>
                  <a:pt x="1437" y="126"/>
                  <a:pt x="1433" y="125"/>
                  <a:pt x="1431" y="125"/>
                </a:cubicBezTo>
                <a:cubicBezTo>
                  <a:pt x="1429" y="125"/>
                  <a:pt x="1428" y="128"/>
                  <a:pt x="1426" y="129"/>
                </a:cubicBezTo>
                <a:cubicBezTo>
                  <a:pt x="1424" y="130"/>
                  <a:pt x="1416" y="128"/>
                  <a:pt x="1415" y="128"/>
                </a:cubicBezTo>
                <a:cubicBezTo>
                  <a:pt x="1415" y="127"/>
                  <a:pt x="1404" y="128"/>
                  <a:pt x="1403" y="128"/>
                </a:cubicBezTo>
                <a:cubicBezTo>
                  <a:pt x="1402" y="129"/>
                  <a:pt x="1402" y="132"/>
                  <a:pt x="1402" y="132"/>
                </a:cubicBezTo>
                <a:cubicBezTo>
                  <a:pt x="1401" y="133"/>
                  <a:pt x="1401" y="129"/>
                  <a:pt x="1401" y="128"/>
                </a:cubicBezTo>
                <a:cubicBezTo>
                  <a:pt x="1401" y="128"/>
                  <a:pt x="1399" y="127"/>
                  <a:pt x="1397" y="127"/>
                </a:cubicBezTo>
                <a:cubicBezTo>
                  <a:pt x="1395" y="127"/>
                  <a:pt x="1394" y="127"/>
                  <a:pt x="1395" y="126"/>
                </a:cubicBezTo>
                <a:cubicBezTo>
                  <a:pt x="1396" y="125"/>
                  <a:pt x="1394" y="125"/>
                  <a:pt x="1396" y="124"/>
                </a:cubicBezTo>
                <a:cubicBezTo>
                  <a:pt x="1397" y="122"/>
                  <a:pt x="1393" y="119"/>
                  <a:pt x="1389" y="117"/>
                </a:cubicBezTo>
                <a:cubicBezTo>
                  <a:pt x="1385" y="116"/>
                  <a:pt x="1375" y="117"/>
                  <a:pt x="1373" y="118"/>
                </a:cubicBezTo>
                <a:cubicBezTo>
                  <a:pt x="1371" y="118"/>
                  <a:pt x="1368" y="118"/>
                  <a:pt x="1365" y="118"/>
                </a:cubicBezTo>
                <a:cubicBezTo>
                  <a:pt x="1364" y="118"/>
                  <a:pt x="1364" y="118"/>
                  <a:pt x="1363" y="118"/>
                </a:cubicBezTo>
                <a:cubicBezTo>
                  <a:pt x="1361" y="118"/>
                  <a:pt x="1363" y="117"/>
                  <a:pt x="1362" y="116"/>
                </a:cubicBezTo>
                <a:cubicBezTo>
                  <a:pt x="1361" y="115"/>
                  <a:pt x="1357" y="114"/>
                  <a:pt x="1357" y="114"/>
                </a:cubicBezTo>
                <a:cubicBezTo>
                  <a:pt x="1356" y="115"/>
                  <a:pt x="1355" y="114"/>
                  <a:pt x="1355" y="114"/>
                </a:cubicBezTo>
                <a:cubicBezTo>
                  <a:pt x="1355" y="113"/>
                  <a:pt x="1351" y="112"/>
                  <a:pt x="1350" y="112"/>
                </a:cubicBezTo>
                <a:cubicBezTo>
                  <a:pt x="1348" y="112"/>
                  <a:pt x="1347" y="111"/>
                  <a:pt x="1349" y="111"/>
                </a:cubicBezTo>
                <a:cubicBezTo>
                  <a:pt x="1351" y="111"/>
                  <a:pt x="1354" y="111"/>
                  <a:pt x="1353" y="109"/>
                </a:cubicBezTo>
                <a:cubicBezTo>
                  <a:pt x="1351" y="107"/>
                  <a:pt x="1340" y="106"/>
                  <a:pt x="1339" y="107"/>
                </a:cubicBezTo>
                <a:cubicBezTo>
                  <a:pt x="1338" y="107"/>
                  <a:pt x="1339" y="109"/>
                  <a:pt x="1336" y="111"/>
                </a:cubicBezTo>
                <a:cubicBezTo>
                  <a:pt x="1334" y="113"/>
                  <a:pt x="1332" y="112"/>
                  <a:pt x="1332" y="111"/>
                </a:cubicBezTo>
                <a:cubicBezTo>
                  <a:pt x="1332" y="109"/>
                  <a:pt x="1335" y="110"/>
                  <a:pt x="1335" y="108"/>
                </a:cubicBezTo>
                <a:cubicBezTo>
                  <a:pt x="1335" y="107"/>
                  <a:pt x="1331" y="108"/>
                  <a:pt x="1330" y="107"/>
                </a:cubicBezTo>
                <a:cubicBezTo>
                  <a:pt x="1330" y="106"/>
                  <a:pt x="1331" y="105"/>
                  <a:pt x="1333" y="106"/>
                </a:cubicBezTo>
                <a:cubicBezTo>
                  <a:pt x="1334" y="106"/>
                  <a:pt x="1337" y="107"/>
                  <a:pt x="1337" y="106"/>
                </a:cubicBezTo>
                <a:cubicBezTo>
                  <a:pt x="1337" y="105"/>
                  <a:pt x="1336" y="105"/>
                  <a:pt x="1333" y="105"/>
                </a:cubicBezTo>
                <a:cubicBezTo>
                  <a:pt x="1330" y="104"/>
                  <a:pt x="1324" y="103"/>
                  <a:pt x="1321" y="103"/>
                </a:cubicBezTo>
                <a:cubicBezTo>
                  <a:pt x="1318" y="103"/>
                  <a:pt x="1317" y="102"/>
                  <a:pt x="1315" y="102"/>
                </a:cubicBezTo>
                <a:cubicBezTo>
                  <a:pt x="1313" y="102"/>
                  <a:pt x="1313" y="103"/>
                  <a:pt x="1314" y="104"/>
                </a:cubicBezTo>
                <a:cubicBezTo>
                  <a:pt x="1315" y="105"/>
                  <a:pt x="1312" y="105"/>
                  <a:pt x="1310" y="105"/>
                </a:cubicBezTo>
                <a:cubicBezTo>
                  <a:pt x="1308" y="105"/>
                  <a:pt x="1305" y="106"/>
                  <a:pt x="1306" y="108"/>
                </a:cubicBezTo>
                <a:cubicBezTo>
                  <a:pt x="1307" y="109"/>
                  <a:pt x="1308" y="108"/>
                  <a:pt x="1308" y="108"/>
                </a:cubicBezTo>
                <a:cubicBezTo>
                  <a:pt x="1309" y="108"/>
                  <a:pt x="1309" y="107"/>
                  <a:pt x="1310" y="108"/>
                </a:cubicBezTo>
                <a:cubicBezTo>
                  <a:pt x="1311" y="108"/>
                  <a:pt x="1307" y="109"/>
                  <a:pt x="1308" y="110"/>
                </a:cubicBezTo>
                <a:cubicBezTo>
                  <a:pt x="1310" y="111"/>
                  <a:pt x="1310" y="112"/>
                  <a:pt x="1310" y="113"/>
                </a:cubicBezTo>
                <a:cubicBezTo>
                  <a:pt x="1310" y="114"/>
                  <a:pt x="1307" y="114"/>
                  <a:pt x="1306" y="113"/>
                </a:cubicBezTo>
                <a:cubicBezTo>
                  <a:pt x="1306" y="112"/>
                  <a:pt x="1305" y="112"/>
                  <a:pt x="1304" y="112"/>
                </a:cubicBezTo>
                <a:cubicBezTo>
                  <a:pt x="1303" y="113"/>
                  <a:pt x="1303" y="113"/>
                  <a:pt x="1302" y="113"/>
                </a:cubicBezTo>
                <a:cubicBezTo>
                  <a:pt x="1301" y="112"/>
                  <a:pt x="1299" y="113"/>
                  <a:pt x="1301" y="114"/>
                </a:cubicBezTo>
                <a:cubicBezTo>
                  <a:pt x="1303" y="114"/>
                  <a:pt x="1304" y="115"/>
                  <a:pt x="1301" y="115"/>
                </a:cubicBezTo>
                <a:cubicBezTo>
                  <a:pt x="1300" y="115"/>
                  <a:pt x="1299" y="115"/>
                  <a:pt x="1299" y="114"/>
                </a:cubicBezTo>
                <a:cubicBezTo>
                  <a:pt x="1299" y="114"/>
                  <a:pt x="1298" y="113"/>
                  <a:pt x="1298" y="113"/>
                </a:cubicBezTo>
                <a:cubicBezTo>
                  <a:pt x="1297" y="113"/>
                  <a:pt x="1296" y="113"/>
                  <a:pt x="1294" y="113"/>
                </a:cubicBezTo>
                <a:cubicBezTo>
                  <a:pt x="1293" y="112"/>
                  <a:pt x="1292" y="112"/>
                  <a:pt x="1291" y="112"/>
                </a:cubicBezTo>
                <a:cubicBezTo>
                  <a:pt x="1289" y="112"/>
                  <a:pt x="1289" y="114"/>
                  <a:pt x="1286" y="114"/>
                </a:cubicBezTo>
                <a:cubicBezTo>
                  <a:pt x="1284" y="114"/>
                  <a:pt x="1281" y="113"/>
                  <a:pt x="1280" y="111"/>
                </a:cubicBezTo>
                <a:cubicBezTo>
                  <a:pt x="1279" y="110"/>
                  <a:pt x="1279" y="110"/>
                  <a:pt x="1278" y="111"/>
                </a:cubicBezTo>
                <a:cubicBezTo>
                  <a:pt x="1276" y="113"/>
                  <a:pt x="1276" y="115"/>
                  <a:pt x="1275" y="115"/>
                </a:cubicBezTo>
                <a:cubicBezTo>
                  <a:pt x="1274" y="116"/>
                  <a:pt x="1274" y="118"/>
                  <a:pt x="1272" y="119"/>
                </a:cubicBezTo>
                <a:cubicBezTo>
                  <a:pt x="1272" y="119"/>
                  <a:pt x="1272" y="119"/>
                  <a:pt x="1271" y="118"/>
                </a:cubicBezTo>
                <a:cubicBezTo>
                  <a:pt x="1271" y="118"/>
                  <a:pt x="1270" y="118"/>
                  <a:pt x="1270" y="118"/>
                </a:cubicBezTo>
                <a:cubicBezTo>
                  <a:pt x="1268" y="118"/>
                  <a:pt x="1264" y="114"/>
                  <a:pt x="1264" y="112"/>
                </a:cubicBezTo>
                <a:cubicBezTo>
                  <a:pt x="1263" y="111"/>
                  <a:pt x="1260" y="108"/>
                  <a:pt x="1260" y="108"/>
                </a:cubicBezTo>
                <a:cubicBezTo>
                  <a:pt x="1259" y="107"/>
                  <a:pt x="1260" y="107"/>
                  <a:pt x="1261" y="108"/>
                </a:cubicBezTo>
                <a:cubicBezTo>
                  <a:pt x="1262" y="109"/>
                  <a:pt x="1263" y="109"/>
                  <a:pt x="1264" y="108"/>
                </a:cubicBezTo>
                <a:cubicBezTo>
                  <a:pt x="1265" y="108"/>
                  <a:pt x="1265" y="105"/>
                  <a:pt x="1264" y="105"/>
                </a:cubicBezTo>
                <a:cubicBezTo>
                  <a:pt x="1262" y="105"/>
                  <a:pt x="1263" y="104"/>
                  <a:pt x="1263" y="104"/>
                </a:cubicBezTo>
                <a:cubicBezTo>
                  <a:pt x="1264" y="103"/>
                  <a:pt x="1261" y="101"/>
                  <a:pt x="1263" y="101"/>
                </a:cubicBezTo>
                <a:cubicBezTo>
                  <a:pt x="1264" y="100"/>
                  <a:pt x="1263" y="99"/>
                  <a:pt x="1262" y="99"/>
                </a:cubicBezTo>
                <a:cubicBezTo>
                  <a:pt x="1260" y="99"/>
                  <a:pt x="1259" y="98"/>
                  <a:pt x="1259" y="97"/>
                </a:cubicBezTo>
                <a:cubicBezTo>
                  <a:pt x="1259" y="97"/>
                  <a:pt x="1253" y="96"/>
                  <a:pt x="1253" y="97"/>
                </a:cubicBezTo>
                <a:cubicBezTo>
                  <a:pt x="1253" y="98"/>
                  <a:pt x="1251" y="98"/>
                  <a:pt x="1252" y="97"/>
                </a:cubicBezTo>
                <a:cubicBezTo>
                  <a:pt x="1252" y="96"/>
                  <a:pt x="1250" y="97"/>
                  <a:pt x="1247" y="96"/>
                </a:cubicBezTo>
                <a:cubicBezTo>
                  <a:pt x="1244" y="95"/>
                  <a:pt x="1244" y="93"/>
                  <a:pt x="1243" y="93"/>
                </a:cubicBezTo>
                <a:cubicBezTo>
                  <a:pt x="1243" y="93"/>
                  <a:pt x="1242" y="94"/>
                  <a:pt x="1242" y="94"/>
                </a:cubicBezTo>
                <a:cubicBezTo>
                  <a:pt x="1242" y="95"/>
                  <a:pt x="1242" y="95"/>
                  <a:pt x="1241" y="95"/>
                </a:cubicBezTo>
                <a:cubicBezTo>
                  <a:pt x="1240" y="94"/>
                  <a:pt x="1238" y="96"/>
                  <a:pt x="1239" y="97"/>
                </a:cubicBezTo>
                <a:cubicBezTo>
                  <a:pt x="1240" y="99"/>
                  <a:pt x="1239" y="99"/>
                  <a:pt x="1239" y="100"/>
                </a:cubicBezTo>
                <a:cubicBezTo>
                  <a:pt x="1239" y="102"/>
                  <a:pt x="1238" y="101"/>
                  <a:pt x="1236" y="101"/>
                </a:cubicBezTo>
                <a:cubicBezTo>
                  <a:pt x="1235" y="100"/>
                  <a:pt x="1235" y="101"/>
                  <a:pt x="1235" y="101"/>
                </a:cubicBezTo>
                <a:cubicBezTo>
                  <a:pt x="1234" y="101"/>
                  <a:pt x="1233" y="102"/>
                  <a:pt x="1231" y="101"/>
                </a:cubicBezTo>
                <a:cubicBezTo>
                  <a:pt x="1228" y="100"/>
                  <a:pt x="1226" y="101"/>
                  <a:pt x="1225" y="100"/>
                </a:cubicBezTo>
                <a:cubicBezTo>
                  <a:pt x="1225" y="99"/>
                  <a:pt x="1224" y="99"/>
                  <a:pt x="1224" y="100"/>
                </a:cubicBezTo>
                <a:cubicBezTo>
                  <a:pt x="1223" y="101"/>
                  <a:pt x="1218" y="100"/>
                  <a:pt x="1218" y="99"/>
                </a:cubicBezTo>
                <a:cubicBezTo>
                  <a:pt x="1217" y="98"/>
                  <a:pt x="1219" y="97"/>
                  <a:pt x="1219" y="97"/>
                </a:cubicBezTo>
                <a:cubicBezTo>
                  <a:pt x="1220" y="97"/>
                  <a:pt x="1218" y="96"/>
                  <a:pt x="1216" y="96"/>
                </a:cubicBezTo>
                <a:cubicBezTo>
                  <a:pt x="1214" y="96"/>
                  <a:pt x="1213" y="96"/>
                  <a:pt x="1212" y="96"/>
                </a:cubicBezTo>
                <a:cubicBezTo>
                  <a:pt x="1211" y="95"/>
                  <a:pt x="1209" y="95"/>
                  <a:pt x="1208" y="95"/>
                </a:cubicBezTo>
                <a:cubicBezTo>
                  <a:pt x="1205" y="95"/>
                  <a:pt x="1198" y="96"/>
                  <a:pt x="1197" y="96"/>
                </a:cubicBezTo>
                <a:cubicBezTo>
                  <a:pt x="1196" y="97"/>
                  <a:pt x="1198" y="99"/>
                  <a:pt x="1196" y="99"/>
                </a:cubicBezTo>
                <a:cubicBezTo>
                  <a:pt x="1195" y="99"/>
                  <a:pt x="1196" y="96"/>
                  <a:pt x="1196" y="95"/>
                </a:cubicBezTo>
                <a:cubicBezTo>
                  <a:pt x="1196" y="93"/>
                  <a:pt x="1193" y="93"/>
                  <a:pt x="1194" y="94"/>
                </a:cubicBezTo>
                <a:cubicBezTo>
                  <a:pt x="1194" y="95"/>
                  <a:pt x="1190" y="95"/>
                  <a:pt x="1189" y="95"/>
                </a:cubicBezTo>
                <a:cubicBezTo>
                  <a:pt x="1188" y="94"/>
                  <a:pt x="1187" y="93"/>
                  <a:pt x="1184" y="92"/>
                </a:cubicBezTo>
                <a:cubicBezTo>
                  <a:pt x="1182" y="91"/>
                  <a:pt x="1179" y="94"/>
                  <a:pt x="1180" y="95"/>
                </a:cubicBezTo>
                <a:cubicBezTo>
                  <a:pt x="1180" y="96"/>
                  <a:pt x="1182" y="95"/>
                  <a:pt x="1182" y="96"/>
                </a:cubicBezTo>
                <a:cubicBezTo>
                  <a:pt x="1182" y="97"/>
                  <a:pt x="1177" y="96"/>
                  <a:pt x="1177" y="97"/>
                </a:cubicBezTo>
                <a:cubicBezTo>
                  <a:pt x="1177" y="98"/>
                  <a:pt x="1172" y="99"/>
                  <a:pt x="1170" y="99"/>
                </a:cubicBezTo>
                <a:cubicBezTo>
                  <a:pt x="1166" y="100"/>
                  <a:pt x="1165" y="100"/>
                  <a:pt x="1164" y="101"/>
                </a:cubicBezTo>
                <a:cubicBezTo>
                  <a:pt x="1162" y="103"/>
                  <a:pt x="1163" y="100"/>
                  <a:pt x="1165" y="99"/>
                </a:cubicBezTo>
                <a:cubicBezTo>
                  <a:pt x="1166" y="97"/>
                  <a:pt x="1168" y="98"/>
                  <a:pt x="1169" y="96"/>
                </a:cubicBezTo>
                <a:cubicBezTo>
                  <a:pt x="1169" y="95"/>
                  <a:pt x="1171" y="95"/>
                  <a:pt x="1173" y="95"/>
                </a:cubicBezTo>
                <a:cubicBezTo>
                  <a:pt x="1176" y="95"/>
                  <a:pt x="1175" y="93"/>
                  <a:pt x="1177" y="93"/>
                </a:cubicBezTo>
                <a:cubicBezTo>
                  <a:pt x="1178" y="92"/>
                  <a:pt x="1180" y="91"/>
                  <a:pt x="1181" y="90"/>
                </a:cubicBezTo>
                <a:cubicBezTo>
                  <a:pt x="1181" y="89"/>
                  <a:pt x="1187" y="87"/>
                  <a:pt x="1188" y="87"/>
                </a:cubicBezTo>
                <a:cubicBezTo>
                  <a:pt x="1189" y="87"/>
                  <a:pt x="1190" y="85"/>
                  <a:pt x="1190" y="85"/>
                </a:cubicBezTo>
                <a:cubicBezTo>
                  <a:pt x="1191" y="85"/>
                  <a:pt x="1194" y="83"/>
                  <a:pt x="1195" y="83"/>
                </a:cubicBezTo>
                <a:cubicBezTo>
                  <a:pt x="1197" y="82"/>
                  <a:pt x="1197" y="81"/>
                  <a:pt x="1197" y="80"/>
                </a:cubicBezTo>
                <a:cubicBezTo>
                  <a:pt x="1197" y="79"/>
                  <a:pt x="1196" y="80"/>
                  <a:pt x="1195" y="79"/>
                </a:cubicBezTo>
                <a:cubicBezTo>
                  <a:pt x="1195" y="78"/>
                  <a:pt x="1196" y="79"/>
                  <a:pt x="1198" y="78"/>
                </a:cubicBezTo>
                <a:cubicBezTo>
                  <a:pt x="1199" y="78"/>
                  <a:pt x="1198" y="76"/>
                  <a:pt x="1197" y="76"/>
                </a:cubicBezTo>
                <a:cubicBezTo>
                  <a:pt x="1195" y="76"/>
                  <a:pt x="1197" y="75"/>
                  <a:pt x="1196" y="74"/>
                </a:cubicBezTo>
                <a:cubicBezTo>
                  <a:pt x="1196" y="73"/>
                  <a:pt x="1195" y="74"/>
                  <a:pt x="1194" y="74"/>
                </a:cubicBezTo>
                <a:cubicBezTo>
                  <a:pt x="1194" y="74"/>
                  <a:pt x="1193" y="74"/>
                  <a:pt x="1193" y="74"/>
                </a:cubicBezTo>
                <a:cubicBezTo>
                  <a:pt x="1193" y="72"/>
                  <a:pt x="1193" y="71"/>
                  <a:pt x="1193" y="70"/>
                </a:cubicBezTo>
                <a:cubicBezTo>
                  <a:pt x="1192" y="70"/>
                  <a:pt x="1192" y="70"/>
                  <a:pt x="1191" y="70"/>
                </a:cubicBezTo>
                <a:cubicBezTo>
                  <a:pt x="1190" y="71"/>
                  <a:pt x="1190" y="71"/>
                  <a:pt x="1189" y="70"/>
                </a:cubicBezTo>
                <a:cubicBezTo>
                  <a:pt x="1187" y="69"/>
                  <a:pt x="1183" y="68"/>
                  <a:pt x="1183" y="69"/>
                </a:cubicBezTo>
                <a:cubicBezTo>
                  <a:pt x="1183" y="69"/>
                  <a:pt x="1182" y="69"/>
                  <a:pt x="1181" y="69"/>
                </a:cubicBezTo>
                <a:cubicBezTo>
                  <a:pt x="1181" y="68"/>
                  <a:pt x="1180" y="68"/>
                  <a:pt x="1180" y="69"/>
                </a:cubicBezTo>
                <a:cubicBezTo>
                  <a:pt x="1180" y="69"/>
                  <a:pt x="1176" y="69"/>
                  <a:pt x="1175" y="69"/>
                </a:cubicBezTo>
                <a:cubicBezTo>
                  <a:pt x="1174" y="68"/>
                  <a:pt x="1172" y="69"/>
                  <a:pt x="1172" y="70"/>
                </a:cubicBezTo>
                <a:cubicBezTo>
                  <a:pt x="1172" y="71"/>
                  <a:pt x="1168" y="71"/>
                  <a:pt x="1167" y="71"/>
                </a:cubicBezTo>
                <a:cubicBezTo>
                  <a:pt x="1166" y="71"/>
                  <a:pt x="1170" y="67"/>
                  <a:pt x="1170" y="67"/>
                </a:cubicBezTo>
                <a:cubicBezTo>
                  <a:pt x="1170" y="66"/>
                  <a:pt x="1168" y="67"/>
                  <a:pt x="1167" y="67"/>
                </a:cubicBezTo>
                <a:cubicBezTo>
                  <a:pt x="1165" y="67"/>
                  <a:pt x="1163" y="67"/>
                  <a:pt x="1163" y="66"/>
                </a:cubicBezTo>
                <a:cubicBezTo>
                  <a:pt x="1162" y="66"/>
                  <a:pt x="1159" y="65"/>
                  <a:pt x="1158" y="66"/>
                </a:cubicBezTo>
                <a:cubicBezTo>
                  <a:pt x="1156" y="66"/>
                  <a:pt x="1158" y="65"/>
                  <a:pt x="1159" y="65"/>
                </a:cubicBezTo>
                <a:cubicBezTo>
                  <a:pt x="1160" y="65"/>
                  <a:pt x="1162" y="64"/>
                  <a:pt x="1163" y="63"/>
                </a:cubicBezTo>
                <a:cubicBezTo>
                  <a:pt x="1164" y="63"/>
                  <a:pt x="1164" y="63"/>
                  <a:pt x="1164" y="62"/>
                </a:cubicBezTo>
                <a:cubicBezTo>
                  <a:pt x="1163" y="61"/>
                  <a:pt x="1161" y="61"/>
                  <a:pt x="1160" y="61"/>
                </a:cubicBezTo>
                <a:cubicBezTo>
                  <a:pt x="1158" y="61"/>
                  <a:pt x="1157" y="60"/>
                  <a:pt x="1155" y="60"/>
                </a:cubicBezTo>
                <a:cubicBezTo>
                  <a:pt x="1154" y="60"/>
                  <a:pt x="1153" y="60"/>
                  <a:pt x="1150" y="61"/>
                </a:cubicBezTo>
                <a:cubicBezTo>
                  <a:pt x="1147" y="62"/>
                  <a:pt x="1147" y="64"/>
                  <a:pt x="1145" y="65"/>
                </a:cubicBezTo>
                <a:cubicBezTo>
                  <a:pt x="1144" y="65"/>
                  <a:pt x="1141" y="68"/>
                  <a:pt x="1142" y="68"/>
                </a:cubicBezTo>
                <a:cubicBezTo>
                  <a:pt x="1144" y="69"/>
                  <a:pt x="1143" y="69"/>
                  <a:pt x="1143" y="70"/>
                </a:cubicBezTo>
                <a:cubicBezTo>
                  <a:pt x="1143" y="71"/>
                  <a:pt x="1142" y="71"/>
                  <a:pt x="1141" y="71"/>
                </a:cubicBezTo>
                <a:cubicBezTo>
                  <a:pt x="1139" y="71"/>
                  <a:pt x="1134" y="71"/>
                  <a:pt x="1134" y="72"/>
                </a:cubicBezTo>
                <a:cubicBezTo>
                  <a:pt x="1134" y="73"/>
                  <a:pt x="1137" y="73"/>
                  <a:pt x="1137" y="74"/>
                </a:cubicBezTo>
                <a:cubicBezTo>
                  <a:pt x="1137" y="74"/>
                  <a:pt x="1135" y="74"/>
                  <a:pt x="1134" y="73"/>
                </a:cubicBezTo>
                <a:cubicBezTo>
                  <a:pt x="1133" y="73"/>
                  <a:pt x="1131" y="73"/>
                  <a:pt x="1130" y="74"/>
                </a:cubicBezTo>
                <a:cubicBezTo>
                  <a:pt x="1130" y="75"/>
                  <a:pt x="1128" y="75"/>
                  <a:pt x="1127" y="75"/>
                </a:cubicBezTo>
                <a:cubicBezTo>
                  <a:pt x="1127" y="74"/>
                  <a:pt x="1127" y="75"/>
                  <a:pt x="1126" y="75"/>
                </a:cubicBezTo>
                <a:cubicBezTo>
                  <a:pt x="1126" y="75"/>
                  <a:pt x="1125" y="75"/>
                  <a:pt x="1125" y="75"/>
                </a:cubicBezTo>
                <a:cubicBezTo>
                  <a:pt x="1124" y="74"/>
                  <a:pt x="1126" y="73"/>
                  <a:pt x="1126" y="72"/>
                </a:cubicBezTo>
                <a:cubicBezTo>
                  <a:pt x="1125" y="72"/>
                  <a:pt x="1122" y="72"/>
                  <a:pt x="1122" y="73"/>
                </a:cubicBezTo>
                <a:cubicBezTo>
                  <a:pt x="1122" y="74"/>
                  <a:pt x="1121" y="74"/>
                  <a:pt x="1120" y="73"/>
                </a:cubicBezTo>
                <a:cubicBezTo>
                  <a:pt x="1120" y="73"/>
                  <a:pt x="1119" y="73"/>
                  <a:pt x="1119" y="73"/>
                </a:cubicBezTo>
                <a:cubicBezTo>
                  <a:pt x="1118" y="73"/>
                  <a:pt x="1117" y="74"/>
                  <a:pt x="1116" y="74"/>
                </a:cubicBezTo>
                <a:cubicBezTo>
                  <a:pt x="1116" y="75"/>
                  <a:pt x="1115" y="75"/>
                  <a:pt x="1114" y="74"/>
                </a:cubicBezTo>
                <a:cubicBezTo>
                  <a:pt x="1113" y="74"/>
                  <a:pt x="1112" y="74"/>
                  <a:pt x="1112" y="75"/>
                </a:cubicBezTo>
                <a:cubicBezTo>
                  <a:pt x="1112" y="76"/>
                  <a:pt x="1115" y="76"/>
                  <a:pt x="1115" y="77"/>
                </a:cubicBezTo>
                <a:cubicBezTo>
                  <a:pt x="1115" y="77"/>
                  <a:pt x="1108" y="77"/>
                  <a:pt x="1108" y="78"/>
                </a:cubicBezTo>
                <a:cubicBezTo>
                  <a:pt x="1107" y="78"/>
                  <a:pt x="1105" y="78"/>
                  <a:pt x="1102" y="78"/>
                </a:cubicBezTo>
                <a:cubicBezTo>
                  <a:pt x="1099" y="78"/>
                  <a:pt x="1101" y="80"/>
                  <a:pt x="1098" y="80"/>
                </a:cubicBezTo>
                <a:cubicBezTo>
                  <a:pt x="1096" y="81"/>
                  <a:pt x="1095" y="81"/>
                  <a:pt x="1094" y="82"/>
                </a:cubicBezTo>
                <a:cubicBezTo>
                  <a:pt x="1094" y="83"/>
                  <a:pt x="1092" y="83"/>
                  <a:pt x="1091" y="82"/>
                </a:cubicBezTo>
                <a:cubicBezTo>
                  <a:pt x="1090" y="81"/>
                  <a:pt x="1088" y="83"/>
                  <a:pt x="1089" y="83"/>
                </a:cubicBezTo>
                <a:cubicBezTo>
                  <a:pt x="1090" y="83"/>
                  <a:pt x="1089" y="84"/>
                  <a:pt x="1089" y="84"/>
                </a:cubicBezTo>
                <a:cubicBezTo>
                  <a:pt x="1088" y="84"/>
                  <a:pt x="1088" y="84"/>
                  <a:pt x="1087" y="84"/>
                </a:cubicBezTo>
                <a:cubicBezTo>
                  <a:pt x="1087" y="85"/>
                  <a:pt x="1087" y="85"/>
                  <a:pt x="1087" y="85"/>
                </a:cubicBezTo>
                <a:cubicBezTo>
                  <a:pt x="1088" y="85"/>
                  <a:pt x="1089" y="86"/>
                  <a:pt x="1088" y="86"/>
                </a:cubicBezTo>
                <a:cubicBezTo>
                  <a:pt x="1088" y="87"/>
                  <a:pt x="1087" y="87"/>
                  <a:pt x="1086" y="86"/>
                </a:cubicBezTo>
                <a:cubicBezTo>
                  <a:pt x="1086" y="86"/>
                  <a:pt x="1085" y="86"/>
                  <a:pt x="1085" y="86"/>
                </a:cubicBezTo>
                <a:cubicBezTo>
                  <a:pt x="1084" y="87"/>
                  <a:pt x="1086" y="88"/>
                  <a:pt x="1087" y="88"/>
                </a:cubicBezTo>
                <a:cubicBezTo>
                  <a:pt x="1088" y="87"/>
                  <a:pt x="1089" y="88"/>
                  <a:pt x="1089" y="89"/>
                </a:cubicBezTo>
                <a:cubicBezTo>
                  <a:pt x="1089" y="89"/>
                  <a:pt x="1088" y="89"/>
                  <a:pt x="1087" y="89"/>
                </a:cubicBezTo>
                <a:cubicBezTo>
                  <a:pt x="1087" y="89"/>
                  <a:pt x="1086" y="89"/>
                  <a:pt x="1086" y="89"/>
                </a:cubicBezTo>
                <a:cubicBezTo>
                  <a:pt x="1085" y="90"/>
                  <a:pt x="1086" y="90"/>
                  <a:pt x="1087" y="90"/>
                </a:cubicBezTo>
                <a:cubicBezTo>
                  <a:pt x="1088" y="90"/>
                  <a:pt x="1088" y="91"/>
                  <a:pt x="1089" y="92"/>
                </a:cubicBezTo>
                <a:cubicBezTo>
                  <a:pt x="1089" y="92"/>
                  <a:pt x="1089" y="92"/>
                  <a:pt x="1089" y="92"/>
                </a:cubicBezTo>
                <a:cubicBezTo>
                  <a:pt x="1090" y="93"/>
                  <a:pt x="1088" y="93"/>
                  <a:pt x="1088" y="94"/>
                </a:cubicBezTo>
                <a:cubicBezTo>
                  <a:pt x="1089" y="95"/>
                  <a:pt x="1087" y="95"/>
                  <a:pt x="1087" y="94"/>
                </a:cubicBezTo>
                <a:cubicBezTo>
                  <a:pt x="1087" y="94"/>
                  <a:pt x="1084" y="93"/>
                  <a:pt x="1083" y="94"/>
                </a:cubicBezTo>
                <a:cubicBezTo>
                  <a:pt x="1083" y="95"/>
                  <a:pt x="1082" y="96"/>
                  <a:pt x="1081" y="95"/>
                </a:cubicBezTo>
                <a:cubicBezTo>
                  <a:pt x="1080" y="94"/>
                  <a:pt x="1078" y="95"/>
                  <a:pt x="1075" y="95"/>
                </a:cubicBezTo>
                <a:cubicBezTo>
                  <a:pt x="1072" y="95"/>
                  <a:pt x="1066" y="95"/>
                  <a:pt x="1064" y="96"/>
                </a:cubicBezTo>
                <a:cubicBezTo>
                  <a:pt x="1062" y="97"/>
                  <a:pt x="1061" y="99"/>
                  <a:pt x="1062" y="100"/>
                </a:cubicBezTo>
                <a:cubicBezTo>
                  <a:pt x="1064" y="102"/>
                  <a:pt x="1063" y="102"/>
                  <a:pt x="1063" y="103"/>
                </a:cubicBezTo>
                <a:cubicBezTo>
                  <a:pt x="1063" y="104"/>
                  <a:pt x="1066" y="106"/>
                  <a:pt x="1068" y="106"/>
                </a:cubicBezTo>
                <a:cubicBezTo>
                  <a:pt x="1070" y="107"/>
                  <a:pt x="1072" y="109"/>
                  <a:pt x="1071" y="110"/>
                </a:cubicBezTo>
                <a:cubicBezTo>
                  <a:pt x="1070" y="112"/>
                  <a:pt x="1066" y="110"/>
                  <a:pt x="1064" y="108"/>
                </a:cubicBezTo>
                <a:cubicBezTo>
                  <a:pt x="1061" y="106"/>
                  <a:pt x="1056" y="105"/>
                  <a:pt x="1054" y="106"/>
                </a:cubicBezTo>
                <a:cubicBezTo>
                  <a:pt x="1053" y="106"/>
                  <a:pt x="1053" y="105"/>
                  <a:pt x="1052" y="105"/>
                </a:cubicBezTo>
                <a:cubicBezTo>
                  <a:pt x="1052" y="104"/>
                  <a:pt x="1052" y="104"/>
                  <a:pt x="1051" y="104"/>
                </a:cubicBezTo>
                <a:cubicBezTo>
                  <a:pt x="1048" y="104"/>
                  <a:pt x="1046" y="106"/>
                  <a:pt x="1048" y="106"/>
                </a:cubicBezTo>
                <a:cubicBezTo>
                  <a:pt x="1050" y="106"/>
                  <a:pt x="1051" y="106"/>
                  <a:pt x="1050" y="107"/>
                </a:cubicBezTo>
                <a:cubicBezTo>
                  <a:pt x="1049" y="108"/>
                  <a:pt x="1050" y="107"/>
                  <a:pt x="1052" y="108"/>
                </a:cubicBezTo>
                <a:cubicBezTo>
                  <a:pt x="1054" y="109"/>
                  <a:pt x="1051" y="110"/>
                  <a:pt x="1049" y="109"/>
                </a:cubicBezTo>
                <a:cubicBezTo>
                  <a:pt x="1047" y="108"/>
                  <a:pt x="1045" y="109"/>
                  <a:pt x="1044" y="110"/>
                </a:cubicBezTo>
                <a:cubicBezTo>
                  <a:pt x="1043" y="111"/>
                  <a:pt x="1046" y="114"/>
                  <a:pt x="1050" y="114"/>
                </a:cubicBezTo>
                <a:cubicBezTo>
                  <a:pt x="1053" y="115"/>
                  <a:pt x="1052" y="116"/>
                  <a:pt x="1054" y="116"/>
                </a:cubicBezTo>
                <a:cubicBezTo>
                  <a:pt x="1055" y="117"/>
                  <a:pt x="1054" y="117"/>
                  <a:pt x="1053" y="118"/>
                </a:cubicBezTo>
                <a:cubicBezTo>
                  <a:pt x="1052" y="118"/>
                  <a:pt x="1050" y="116"/>
                  <a:pt x="1048" y="115"/>
                </a:cubicBezTo>
                <a:cubicBezTo>
                  <a:pt x="1047" y="115"/>
                  <a:pt x="1046" y="115"/>
                  <a:pt x="1044" y="115"/>
                </a:cubicBezTo>
                <a:cubicBezTo>
                  <a:pt x="1043" y="115"/>
                  <a:pt x="1041" y="115"/>
                  <a:pt x="1041" y="114"/>
                </a:cubicBezTo>
                <a:cubicBezTo>
                  <a:pt x="1040" y="113"/>
                  <a:pt x="1041" y="112"/>
                  <a:pt x="1041" y="112"/>
                </a:cubicBezTo>
                <a:cubicBezTo>
                  <a:pt x="1040" y="111"/>
                  <a:pt x="1040" y="109"/>
                  <a:pt x="1042" y="107"/>
                </a:cubicBezTo>
                <a:cubicBezTo>
                  <a:pt x="1043" y="106"/>
                  <a:pt x="1041" y="103"/>
                  <a:pt x="1040" y="102"/>
                </a:cubicBezTo>
                <a:cubicBezTo>
                  <a:pt x="1038" y="102"/>
                  <a:pt x="1038" y="103"/>
                  <a:pt x="1039" y="104"/>
                </a:cubicBezTo>
                <a:cubicBezTo>
                  <a:pt x="1039" y="104"/>
                  <a:pt x="1039" y="107"/>
                  <a:pt x="1038" y="108"/>
                </a:cubicBezTo>
                <a:cubicBezTo>
                  <a:pt x="1036" y="110"/>
                  <a:pt x="1032" y="110"/>
                  <a:pt x="1032" y="111"/>
                </a:cubicBezTo>
                <a:cubicBezTo>
                  <a:pt x="1032" y="112"/>
                  <a:pt x="1030" y="113"/>
                  <a:pt x="1031" y="114"/>
                </a:cubicBezTo>
                <a:cubicBezTo>
                  <a:pt x="1032" y="114"/>
                  <a:pt x="1035" y="118"/>
                  <a:pt x="1036" y="119"/>
                </a:cubicBezTo>
                <a:cubicBezTo>
                  <a:pt x="1036" y="121"/>
                  <a:pt x="1032" y="124"/>
                  <a:pt x="1033" y="127"/>
                </a:cubicBezTo>
                <a:cubicBezTo>
                  <a:pt x="1034" y="129"/>
                  <a:pt x="1033" y="130"/>
                  <a:pt x="1033" y="131"/>
                </a:cubicBezTo>
                <a:cubicBezTo>
                  <a:pt x="1034" y="131"/>
                  <a:pt x="1034" y="131"/>
                  <a:pt x="1035" y="131"/>
                </a:cubicBezTo>
                <a:cubicBezTo>
                  <a:pt x="1036" y="131"/>
                  <a:pt x="1036" y="131"/>
                  <a:pt x="1037" y="131"/>
                </a:cubicBezTo>
                <a:cubicBezTo>
                  <a:pt x="1038" y="132"/>
                  <a:pt x="1039" y="131"/>
                  <a:pt x="1041" y="130"/>
                </a:cubicBezTo>
                <a:cubicBezTo>
                  <a:pt x="1044" y="130"/>
                  <a:pt x="1048" y="132"/>
                  <a:pt x="1050" y="133"/>
                </a:cubicBezTo>
                <a:cubicBezTo>
                  <a:pt x="1051" y="134"/>
                  <a:pt x="1050" y="135"/>
                  <a:pt x="1051" y="136"/>
                </a:cubicBezTo>
                <a:cubicBezTo>
                  <a:pt x="1052" y="138"/>
                  <a:pt x="1049" y="138"/>
                  <a:pt x="1049" y="140"/>
                </a:cubicBezTo>
                <a:cubicBezTo>
                  <a:pt x="1049" y="141"/>
                  <a:pt x="1054" y="142"/>
                  <a:pt x="1054" y="143"/>
                </a:cubicBezTo>
                <a:cubicBezTo>
                  <a:pt x="1054" y="143"/>
                  <a:pt x="1051" y="143"/>
                  <a:pt x="1049" y="142"/>
                </a:cubicBezTo>
                <a:cubicBezTo>
                  <a:pt x="1048" y="142"/>
                  <a:pt x="1048" y="140"/>
                  <a:pt x="1047" y="140"/>
                </a:cubicBezTo>
                <a:cubicBezTo>
                  <a:pt x="1047" y="139"/>
                  <a:pt x="1048" y="138"/>
                  <a:pt x="1048" y="137"/>
                </a:cubicBezTo>
                <a:cubicBezTo>
                  <a:pt x="1049" y="135"/>
                  <a:pt x="1047" y="135"/>
                  <a:pt x="1046" y="134"/>
                </a:cubicBezTo>
                <a:cubicBezTo>
                  <a:pt x="1046" y="133"/>
                  <a:pt x="1045" y="132"/>
                  <a:pt x="1044" y="132"/>
                </a:cubicBezTo>
                <a:cubicBezTo>
                  <a:pt x="1043" y="132"/>
                  <a:pt x="1038" y="133"/>
                  <a:pt x="1037" y="134"/>
                </a:cubicBezTo>
                <a:cubicBezTo>
                  <a:pt x="1036" y="135"/>
                  <a:pt x="1037" y="138"/>
                  <a:pt x="1038" y="140"/>
                </a:cubicBezTo>
                <a:cubicBezTo>
                  <a:pt x="1039" y="141"/>
                  <a:pt x="1034" y="144"/>
                  <a:pt x="1034" y="145"/>
                </a:cubicBezTo>
                <a:cubicBezTo>
                  <a:pt x="1035" y="146"/>
                  <a:pt x="1033" y="147"/>
                  <a:pt x="1031" y="148"/>
                </a:cubicBezTo>
                <a:cubicBezTo>
                  <a:pt x="1029" y="149"/>
                  <a:pt x="1027" y="149"/>
                  <a:pt x="1027" y="151"/>
                </a:cubicBezTo>
                <a:cubicBezTo>
                  <a:pt x="1027" y="153"/>
                  <a:pt x="1025" y="152"/>
                  <a:pt x="1024" y="151"/>
                </a:cubicBezTo>
                <a:cubicBezTo>
                  <a:pt x="1023" y="151"/>
                  <a:pt x="1022" y="151"/>
                  <a:pt x="1021" y="151"/>
                </a:cubicBezTo>
                <a:cubicBezTo>
                  <a:pt x="1020" y="151"/>
                  <a:pt x="1019" y="151"/>
                  <a:pt x="1019" y="151"/>
                </a:cubicBezTo>
                <a:cubicBezTo>
                  <a:pt x="1017" y="151"/>
                  <a:pt x="1017" y="150"/>
                  <a:pt x="1015" y="150"/>
                </a:cubicBezTo>
                <a:cubicBezTo>
                  <a:pt x="1014" y="151"/>
                  <a:pt x="1013" y="150"/>
                  <a:pt x="1013" y="149"/>
                </a:cubicBezTo>
                <a:cubicBezTo>
                  <a:pt x="1014" y="147"/>
                  <a:pt x="1015" y="148"/>
                  <a:pt x="1015" y="149"/>
                </a:cubicBezTo>
                <a:cubicBezTo>
                  <a:pt x="1016" y="150"/>
                  <a:pt x="1017" y="150"/>
                  <a:pt x="1018" y="149"/>
                </a:cubicBezTo>
                <a:cubicBezTo>
                  <a:pt x="1019" y="148"/>
                  <a:pt x="1019" y="150"/>
                  <a:pt x="1020" y="150"/>
                </a:cubicBezTo>
                <a:cubicBezTo>
                  <a:pt x="1021" y="150"/>
                  <a:pt x="1021" y="150"/>
                  <a:pt x="1022" y="149"/>
                </a:cubicBezTo>
                <a:cubicBezTo>
                  <a:pt x="1022" y="149"/>
                  <a:pt x="1022" y="149"/>
                  <a:pt x="1023" y="149"/>
                </a:cubicBezTo>
                <a:cubicBezTo>
                  <a:pt x="1024" y="149"/>
                  <a:pt x="1024" y="149"/>
                  <a:pt x="1024" y="148"/>
                </a:cubicBezTo>
                <a:cubicBezTo>
                  <a:pt x="1023" y="147"/>
                  <a:pt x="1025" y="147"/>
                  <a:pt x="1025" y="146"/>
                </a:cubicBezTo>
                <a:cubicBezTo>
                  <a:pt x="1026" y="146"/>
                  <a:pt x="1026" y="145"/>
                  <a:pt x="1027" y="144"/>
                </a:cubicBezTo>
                <a:cubicBezTo>
                  <a:pt x="1028" y="144"/>
                  <a:pt x="1027" y="143"/>
                  <a:pt x="1028" y="143"/>
                </a:cubicBezTo>
                <a:cubicBezTo>
                  <a:pt x="1029" y="143"/>
                  <a:pt x="1029" y="141"/>
                  <a:pt x="1030" y="141"/>
                </a:cubicBezTo>
                <a:cubicBezTo>
                  <a:pt x="1031" y="141"/>
                  <a:pt x="1031" y="140"/>
                  <a:pt x="1031" y="139"/>
                </a:cubicBezTo>
                <a:cubicBezTo>
                  <a:pt x="1030" y="139"/>
                  <a:pt x="1031" y="137"/>
                  <a:pt x="1032" y="137"/>
                </a:cubicBezTo>
                <a:cubicBezTo>
                  <a:pt x="1033" y="136"/>
                  <a:pt x="1033" y="136"/>
                  <a:pt x="1032" y="135"/>
                </a:cubicBezTo>
                <a:cubicBezTo>
                  <a:pt x="1031" y="134"/>
                  <a:pt x="1028" y="133"/>
                  <a:pt x="1029" y="131"/>
                </a:cubicBezTo>
                <a:cubicBezTo>
                  <a:pt x="1029" y="130"/>
                  <a:pt x="1028" y="128"/>
                  <a:pt x="1029" y="127"/>
                </a:cubicBezTo>
                <a:cubicBezTo>
                  <a:pt x="1029" y="126"/>
                  <a:pt x="1029" y="124"/>
                  <a:pt x="1028" y="123"/>
                </a:cubicBezTo>
                <a:cubicBezTo>
                  <a:pt x="1028" y="122"/>
                  <a:pt x="1029" y="121"/>
                  <a:pt x="1030" y="119"/>
                </a:cubicBezTo>
                <a:cubicBezTo>
                  <a:pt x="1030" y="117"/>
                  <a:pt x="1027" y="114"/>
                  <a:pt x="1026" y="114"/>
                </a:cubicBezTo>
                <a:cubicBezTo>
                  <a:pt x="1025" y="113"/>
                  <a:pt x="1026" y="112"/>
                  <a:pt x="1027" y="111"/>
                </a:cubicBezTo>
                <a:cubicBezTo>
                  <a:pt x="1029" y="109"/>
                  <a:pt x="1029" y="104"/>
                  <a:pt x="1029" y="103"/>
                </a:cubicBezTo>
                <a:cubicBezTo>
                  <a:pt x="1029" y="102"/>
                  <a:pt x="1025" y="101"/>
                  <a:pt x="1024" y="102"/>
                </a:cubicBezTo>
                <a:cubicBezTo>
                  <a:pt x="1023" y="102"/>
                  <a:pt x="1017" y="101"/>
                  <a:pt x="1016" y="101"/>
                </a:cubicBezTo>
                <a:cubicBezTo>
                  <a:pt x="1015" y="101"/>
                  <a:pt x="1014" y="102"/>
                  <a:pt x="1014" y="104"/>
                </a:cubicBezTo>
                <a:cubicBezTo>
                  <a:pt x="1013" y="105"/>
                  <a:pt x="1012" y="107"/>
                  <a:pt x="1011" y="110"/>
                </a:cubicBezTo>
                <a:cubicBezTo>
                  <a:pt x="1010" y="112"/>
                  <a:pt x="1007" y="113"/>
                  <a:pt x="1005" y="114"/>
                </a:cubicBezTo>
                <a:cubicBezTo>
                  <a:pt x="1004" y="115"/>
                  <a:pt x="1003" y="117"/>
                  <a:pt x="1003" y="118"/>
                </a:cubicBezTo>
                <a:cubicBezTo>
                  <a:pt x="1004" y="118"/>
                  <a:pt x="1004" y="118"/>
                  <a:pt x="1005" y="118"/>
                </a:cubicBezTo>
                <a:cubicBezTo>
                  <a:pt x="1005" y="118"/>
                  <a:pt x="1005" y="118"/>
                  <a:pt x="1006" y="118"/>
                </a:cubicBezTo>
                <a:cubicBezTo>
                  <a:pt x="1006" y="119"/>
                  <a:pt x="1006" y="121"/>
                  <a:pt x="1005" y="122"/>
                </a:cubicBezTo>
                <a:cubicBezTo>
                  <a:pt x="1005" y="122"/>
                  <a:pt x="1006" y="123"/>
                  <a:pt x="1005" y="124"/>
                </a:cubicBezTo>
                <a:cubicBezTo>
                  <a:pt x="1004" y="124"/>
                  <a:pt x="1003" y="126"/>
                  <a:pt x="1003" y="127"/>
                </a:cubicBezTo>
                <a:cubicBezTo>
                  <a:pt x="1004" y="127"/>
                  <a:pt x="1007" y="128"/>
                  <a:pt x="1009" y="128"/>
                </a:cubicBezTo>
                <a:cubicBezTo>
                  <a:pt x="1010" y="129"/>
                  <a:pt x="1009" y="131"/>
                  <a:pt x="1010" y="132"/>
                </a:cubicBezTo>
                <a:cubicBezTo>
                  <a:pt x="1011" y="133"/>
                  <a:pt x="1012" y="132"/>
                  <a:pt x="1013" y="133"/>
                </a:cubicBezTo>
                <a:cubicBezTo>
                  <a:pt x="1013" y="134"/>
                  <a:pt x="1011" y="137"/>
                  <a:pt x="1010" y="137"/>
                </a:cubicBezTo>
                <a:cubicBezTo>
                  <a:pt x="1009" y="138"/>
                  <a:pt x="1006" y="134"/>
                  <a:pt x="1005" y="133"/>
                </a:cubicBezTo>
                <a:cubicBezTo>
                  <a:pt x="1004" y="133"/>
                  <a:pt x="1000" y="131"/>
                  <a:pt x="998" y="130"/>
                </a:cubicBezTo>
                <a:cubicBezTo>
                  <a:pt x="996" y="129"/>
                  <a:pt x="995" y="129"/>
                  <a:pt x="993" y="128"/>
                </a:cubicBezTo>
                <a:cubicBezTo>
                  <a:pt x="990" y="127"/>
                  <a:pt x="989" y="126"/>
                  <a:pt x="985" y="126"/>
                </a:cubicBezTo>
                <a:cubicBezTo>
                  <a:pt x="983" y="126"/>
                  <a:pt x="981" y="126"/>
                  <a:pt x="980" y="126"/>
                </a:cubicBezTo>
                <a:cubicBezTo>
                  <a:pt x="979" y="125"/>
                  <a:pt x="978" y="125"/>
                  <a:pt x="977" y="125"/>
                </a:cubicBezTo>
                <a:cubicBezTo>
                  <a:pt x="976" y="125"/>
                  <a:pt x="976" y="124"/>
                  <a:pt x="974" y="123"/>
                </a:cubicBezTo>
                <a:cubicBezTo>
                  <a:pt x="972" y="122"/>
                  <a:pt x="970" y="121"/>
                  <a:pt x="969" y="121"/>
                </a:cubicBezTo>
                <a:cubicBezTo>
                  <a:pt x="967" y="122"/>
                  <a:pt x="968" y="124"/>
                  <a:pt x="970" y="125"/>
                </a:cubicBezTo>
                <a:cubicBezTo>
                  <a:pt x="972" y="125"/>
                  <a:pt x="971" y="126"/>
                  <a:pt x="973" y="126"/>
                </a:cubicBezTo>
                <a:cubicBezTo>
                  <a:pt x="975" y="126"/>
                  <a:pt x="976" y="127"/>
                  <a:pt x="976" y="128"/>
                </a:cubicBezTo>
                <a:cubicBezTo>
                  <a:pt x="976" y="129"/>
                  <a:pt x="977" y="131"/>
                  <a:pt x="978" y="131"/>
                </a:cubicBezTo>
                <a:cubicBezTo>
                  <a:pt x="979" y="132"/>
                  <a:pt x="978" y="134"/>
                  <a:pt x="976" y="134"/>
                </a:cubicBezTo>
                <a:cubicBezTo>
                  <a:pt x="975" y="134"/>
                  <a:pt x="973" y="134"/>
                  <a:pt x="974" y="135"/>
                </a:cubicBezTo>
                <a:cubicBezTo>
                  <a:pt x="974" y="136"/>
                  <a:pt x="973" y="137"/>
                  <a:pt x="971" y="136"/>
                </a:cubicBezTo>
                <a:cubicBezTo>
                  <a:pt x="970" y="136"/>
                  <a:pt x="971" y="134"/>
                  <a:pt x="971" y="134"/>
                </a:cubicBezTo>
                <a:cubicBezTo>
                  <a:pt x="972" y="133"/>
                  <a:pt x="970" y="132"/>
                  <a:pt x="969" y="132"/>
                </a:cubicBezTo>
                <a:cubicBezTo>
                  <a:pt x="968" y="131"/>
                  <a:pt x="963" y="134"/>
                  <a:pt x="962" y="135"/>
                </a:cubicBezTo>
                <a:cubicBezTo>
                  <a:pt x="962" y="135"/>
                  <a:pt x="961" y="135"/>
                  <a:pt x="960" y="135"/>
                </a:cubicBezTo>
                <a:cubicBezTo>
                  <a:pt x="958" y="135"/>
                  <a:pt x="957" y="135"/>
                  <a:pt x="955" y="135"/>
                </a:cubicBezTo>
                <a:cubicBezTo>
                  <a:pt x="952" y="136"/>
                  <a:pt x="952" y="138"/>
                  <a:pt x="951" y="138"/>
                </a:cubicBezTo>
                <a:cubicBezTo>
                  <a:pt x="951" y="138"/>
                  <a:pt x="950" y="138"/>
                  <a:pt x="949" y="138"/>
                </a:cubicBezTo>
                <a:cubicBezTo>
                  <a:pt x="948" y="138"/>
                  <a:pt x="946" y="138"/>
                  <a:pt x="945" y="137"/>
                </a:cubicBezTo>
                <a:cubicBezTo>
                  <a:pt x="944" y="137"/>
                  <a:pt x="945" y="136"/>
                  <a:pt x="946" y="136"/>
                </a:cubicBezTo>
                <a:cubicBezTo>
                  <a:pt x="948" y="136"/>
                  <a:pt x="948" y="136"/>
                  <a:pt x="947" y="135"/>
                </a:cubicBezTo>
                <a:cubicBezTo>
                  <a:pt x="947" y="134"/>
                  <a:pt x="948" y="133"/>
                  <a:pt x="948" y="132"/>
                </a:cubicBezTo>
                <a:cubicBezTo>
                  <a:pt x="948" y="131"/>
                  <a:pt x="943" y="133"/>
                  <a:pt x="943" y="134"/>
                </a:cubicBezTo>
                <a:cubicBezTo>
                  <a:pt x="942" y="134"/>
                  <a:pt x="943" y="136"/>
                  <a:pt x="942" y="136"/>
                </a:cubicBezTo>
                <a:cubicBezTo>
                  <a:pt x="941" y="137"/>
                  <a:pt x="941" y="135"/>
                  <a:pt x="940" y="135"/>
                </a:cubicBezTo>
                <a:cubicBezTo>
                  <a:pt x="939" y="135"/>
                  <a:pt x="932" y="136"/>
                  <a:pt x="930" y="138"/>
                </a:cubicBezTo>
                <a:cubicBezTo>
                  <a:pt x="929" y="140"/>
                  <a:pt x="926" y="140"/>
                  <a:pt x="926" y="140"/>
                </a:cubicBezTo>
                <a:cubicBezTo>
                  <a:pt x="926" y="141"/>
                  <a:pt x="923" y="141"/>
                  <a:pt x="921" y="142"/>
                </a:cubicBezTo>
                <a:cubicBezTo>
                  <a:pt x="920" y="143"/>
                  <a:pt x="921" y="145"/>
                  <a:pt x="921" y="146"/>
                </a:cubicBezTo>
                <a:cubicBezTo>
                  <a:pt x="920" y="147"/>
                  <a:pt x="917" y="147"/>
                  <a:pt x="915" y="147"/>
                </a:cubicBezTo>
                <a:cubicBezTo>
                  <a:pt x="914" y="147"/>
                  <a:pt x="914" y="147"/>
                  <a:pt x="913" y="147"/>
                </a:cubicBezTo>
                <a:cubicBezTo>
                  <a:pt x="912" y="147"/>
                  <a:pt x="911" y="144"/>
                  <a:pt x="910" y="144"/>
                </a:cubicBezTo>
                <a:cubicBezTo>
                  <a:pt x="909" y="144"/>
                  <a:pt x="909" y="142"/>
                  <a:pt x="910" y="141"/>
                </a:cubicBezTo>
                <a:cubicBezTo>
                  <a:pt x="910" y="141"/>
                  <a:pt x="911" y="141"/>
                  <a:pt x="913" y="140"/>
                </a:cubicBezTo>
                <a:cubicBezTo>
                  <a:pt x="914" y="140"/>
                  <a:pt x="914" y="140"/>
                  <a:pt x="915" y="140"/>
                </a:cubicBezTo>
                <a:cubicBezTo>
                  <a:pt x="916" y="140"/>
                  <a:pt x="916" y="140"/>
                  <a:pt x="917" y="140"/>
                </a:cubicBezTo>
                <a:cubicBezTo>
                  <a:pt x="917" y="139"/>
                  <a:pt x="914" y="138"/>
                  <a:pt x="914" y="136"/>
                </a:cubicBezTo>
                <a:cubicBezTo>
                  <a:pt x="914" y="134"/>
                  <a:pt x="910" y="134"/>
                  <a:pt x="909" y="134"/>
                </a:cubicBezTo>
                <a:cubicBezTo>
                  <a:pt x="907" y="135"/>
                  <a:pt x="905" y="135"/>
                  <a:pt x="903" y="134"/>
                </a:cubicBezTo>
                <a:cubicBezTo>
                  <a:pt x="902" y="133"/>
                  <a:pt x="902" y="135"/>
                  <a:pt x="904" y="136"/>
                </a:cubicBezTo>
                <a:cubicBezTo>
                  <a:pt x="906" y="136"/>
                  <a:pt x="905" y="138"/>
                  <a:pt x="905" y="139"/>
                </a:cubicBezTo>
                <a:cubicBezTo>
                  <a:pt x="906" y="139"/>
                  <a:pt x="905" y="142"/>
                  <a:pt x="904" y="143"/>
                </a:cubicBezTo>
                <a:cubicBezTo>
                  <a:pt x="903" y="145"/>
                  <a:pt x="903" y="145"/>
                  <a:pt x="905" y="145"/>
                </a:cubicBezTo>
                <a:cubicBezTo>
                  <a:pt x="907" y="145"/>
                  <a:pt x="907" y="147"/>
                  <a:pt x="907" y="148"/>
                </a:cubicBezTo>
                <a:cubicBezTo>
                  <a:pt x="907" y="150"/>
                  <a:pt x="905" y="151"/>
                  <a:pt x="905" y="152"/>
                </a:cubicBezTo>
                <a:cubicBezTo>
                  <a:pt x="905" y="152"/>
                  <a:pt x="905" y="152"/>
                  <a:pt x="904" y="152"/>
                </a:cubicBezTo>
                <a:cubicBezTo>
                  <a:pt x="904" y="152"/>
                  <a:pt x="904" y="151"/>
                  <a:pt x="903" y="152"/>
                </a:cubicBezTo>
                <a:cubicBezTo>
                  <a:pt x="903" y="152"/>
                  <a:pt x="902" y="151"/>
                  <a:pt x="902" y="150"/>
                </a:cubicBezTo>
                <a:cubicBezTo>
                  <a:pt x="902" y="149"/>
                  <a:pt x="899" y="150"/>
                  <a:pt x="898" y="150"/>
                </a:cubicBezTo>
                <a:cubicBezTo>
                  <a:pt x="897" y="149"/>
                  <a:pt x="896" y="150"/>
                  <a:pt x="895" y="151"/>
                </a:cubicBezTo>
                <a:cubicBezTo>
                  <a:pt x="895" y="152"/>
                  <a:pt x="893" y="152"/>
                  <a:pt x="891" y="153"/>
                </a:cubicBezTo>
                <a:cubicBezTo>
                  <a:pt x="890" y="153"/>
                  <a:pt x="889" y="155"/>
                  <a:pt x="887" y="156"/>
                </a:cubicBezTo>
                <a:cubicBezTo>
                  <a:pt x="886" y="156"/>
                  <a:pt x="886" y="158"/>
                  <a:pt x="888" y="159"/>
                </a:cubicBezTo>
                <a:cubicBezTo>
                  <a:pt x="889" y="161"/>
                  <a:pt x="890" y="162"/>
                  <a:pt x="889" y="163"/>
                </a:cubicBezTo>
                <a:cubicBezTo>
                  <a:pt x="889" y="163"/>
                  <a:pt x="885" y="163"/>
                  <a:pt x="884" y="162"/>
                </a:cubicBezTo>
                <a:cubicBezTo>
                  <a:pt x="884" y="161"/>
                  <a:pt x="881" y="161"/>
                  <a:pt x="880" y="161"/>
                </a:cubicBezTo>
                <a:cubicBezTo>
                  <a:pt x="879" y="161"/>
                  <a:pt x="876" y="158"/>
                  <a:pt x="875" y="158"/>
                </a:cubicBezTo>
                <a:cubicBezTo>
                  <a:pt x="874" y="158"/>
                  <a:pt x="873" y="160"/>
                  <a:pt x="873" y="161"/>
                </a:cubicBezTo>
                <a:cubicBezTo>
                  <a:pt x="872" y="162"/>
                  <a:pt x="873" y="162"/>
                  <a:pt x="874" y="163"/>
                </a:cubicBezTo>
                <a:cubicBezTo>
                  <a:pt x="874" y="165"/>
                  <a:pt x="877" y="165"/>
                  <a:pt x="878" y="165"/>
                </a:cubicBezTo>
                <a:cubicBezTo>
                  <a:pt x="879" y="165"/>
                  <a:pt x="879" y="166"/>
                  <a:pt x="878" y="167"/>
                </a:cubicBezTo>
                <a:cubicBezTo>
                  <a:pt x="878" y="168"/>
                  <a:pt x="876" y="169"/>
                  <a:pt x="875" y="168"/>
                </a:cubicBezTo>
                <a:cubicBezTo>
                  <a:pt x="874" y="167"/>
                  <a:pt x="872" y="168"/>
                  <a:pt x="872" y="167"/>
                </a:cubicBezTo>
                <a:cubicBezTo>
                  <a:pt x="872" y="166"/>
                  <a:pt x="870" y="164"/>
                  <a:pt x="868" y="165"/>
                </a:cubicBezTo>
                <a:cubicBezTo>
                  <a:pt x="866" y="165"/>
                  <a:pt x="866" y="164"/>
                  <a:pt x="866" y="162"/>
                </a:cubicBezTo>
                <a:cubicBezTo>
                  <a:pt x="866" y="161"/>
                  <a:pt x="865" y="160"/>
                  <a:pt x="865" y="159"/>
                </a:cubicBezTo>
                <a:cubicBezTo>
                  <a:pt x="865" y="158"/>
                  <a:pt x="864" y="157"/>
                  <a:pt x="865" y="156"/>
                </a:cubicBezTo>
                <a:cubicBezTo>
                  <a:pt x="866" y="156"/>
                  <a:pt x="865" y="154"/>
                  <a:pt x="865" y="154"/>
                </a:cubicBezTo>
                <a:cubicBezTo>
                  <a:pt x="865" y="153"/>
                  <a:pt x="863" y="151"/>
                  <a:pt x="862" y="151"/>
                </a:cubicBezTo>
                <a:cubicBezTo>
                  <a:pt x="860" y="151"/>
                  <a:pt x="861" y="150"/>
                  <a:pt x="859" y="149"/>
                </a:cubicBezTo>
                <a:cubicBezTo>
                  <a:pt x="858" y="149"/>
                  <a:pt x="855" y="147"/>
                  <a:pt x="855" y="146"/>
                </a:cubicBezTo>
                <a:cubicBezTo>
                  <a:pt x="855" y="145"/>
                  <a:pt x="853" y="145"/>
                  <a:pt x="854" y="144"/>
                </a:cubicBezTo>
                <a:cubicBezTo>
                  <a:pt x="854" y="144"/>
                  <a:pt x="856" y="145"/>
                  <a:pt x="857" y="146"/>
                </a:cubicBezTo>
                <a:cubicBezTo>
                  <a:pt x="858" y="147"/>
                  <a:pt x="860" y="148"/>
                  <a:pt x="863" y="148"/>
                </a:cubicBezTo>
                <a:cubicBezTo>
                  <a:pt x="866" y="149"/>
                  <a:pt x="867" y="150"/>
                  <a:pt x="870" y="151"/>
                </a:cubicBezTo>
                <a:cubicBezTo>
                  <a:pt x="874" y="151"/>
                  <a:pt x="876" y="151"/>
                  <a:pt x="880" y="152"/>
                </a:cubicBezTo>
                <a:cubicBezTo>
                  <a:pt x="885" y="153"/>
                  <a:pt x="891" y="148"/>
                  <a:pt x="893" y="147"/>
                </a:cubicBezTo>
                <a:cubicBezTo>
                  <a:pt x="894" y="145"/>
                  <a:pt x="892" y="143"/>
                  <a:pt x="892" y="142"/>
                </a:cubicBezTo>
                <a:cubicBezTo>
                  <a:pt x="892" y="141"/>
                  <a:pt x="890" y="141"/>
                  <a:pt x="890" y="140"/>
                </a:cubicBezTo>
                <a:cubicBezTo>
                  <a:pt x="889" y="139"/>
                  <a:pt x="888" y="138"/>
                  <a:pt x="886" y="138"/>
                </a:cubicBezTo>
                <a:cubicBezTo>
                  <a:pt x="884" y="138"/>
                  <a:pt x="884" y="136"/>
                  <a:pt x="883" y="136"/>
                </a:cubicBezTo>
                <a:cubicBezTo>
                  <a:pt x="881" y="136"/>
                  <a:pt x="880" y="135"/>
                  <a:pt x="876" y="133"/>
                </a:cubicBezTo>
                <a:cubicBezTo>
                  <a:pt x="873" y="130"/>
                  <a:pt x="868" y="128"/>
                  <a:pt x="867" y="129"/>
                </a:cubicBezTo>
                <a:cubicBezTo>
                  <a:pt x="866" y="129"/>
                  <a:pt x="865" y="129"/>
                  <a:pt x="864" y="128"/>
                </a:cubicBezTo>
                <a:cubicBezTo>
                  <a:pt x="864" y="128"/>
                  <a:pt x="862" y="128"/>
                  <a:pt x="861" y="128"/>
                </a:cubicBezTo>
                <a:cubicBezTo>
                  <a:pt x="861" y="129"/>
                  <a:pt x="860" y="129"/>
                  <a:pt x="860" y="128"/>
                </a:cubicBezTo>
                <a:cubicBezTo>
                  <a:pt x="859" y="128"/>
                  <a:pt x="858" y="128"/>
                  <a:pt x="857" y="128"/>
                </a:cubicBezTo>
                <a:cubicBezTo>
                  <a:pt x="856" y="129"/>
                  <a:pt x="855" y="127"/>
                  <a:pt x="855" y="127"/>
                </a:cubicBezTo>
                <a:cubicBezTo>
                  <a:pt x="856" y="126"/>
                  <a:pt x="858" y="127"/>
                  <a:pt x="858" y="126"/>
                </a:cubicBezTo>
                <a:cubicBezTo>
                  <a:pt x="858" y="125"/>
                  <a:pt x="857" y="126"/>
                  <a:pt x="855" y="125"/>
                </a:cubicBezTo>
                <a:cubicBezTo>
                  <a:pt x="854" y="124"/>
                  <a:pt x="853" y="124"/>
                  <a:pt x="852" y="125"/>
                </a:cubicBezTo>
                <a:cubicBezTo>
                  <a:pt x="852" y="126"/>
                  <a:pt x="851" y="126"/>
                  <a:pt x="850" y="125"/>
                </a:cubicBezTo>
                <a:cubicBezTo>
                  <a:pt x="849" y="124"/>
                  <a:pt x="847" y="124"/>
                  <a:pt x="846" y="125"/>
                </a:cubicBezTo>
                <a:cubicBezTo>
                  <a:pt x="846" y="126"/>
                  <a:pt x="844" y="126"/>
                  <a:pt x="844" y="125"/>
                </a:cubicBezTo>
                <a:cubicBezTo>
                  <a:pt x="844" y="124"/>
                  <a:pt x="842" y="123"/>
                  <a:pt x="842" y="123"/>
                </a:cubicBezTo>
                <a:cubicBezTo>
                  <a:pt x="842" y="122"/>
                  <a:pt x="843" y="122"/>
                  <a:pt x="844" y="123"/>
                </a:cubicBezTo>
                <a:cubicBezTo>
                  <a:pt x="845" y="123"/>
                  <a:pt x="845" y="123"/>
                  <a:pt x="847" y="122"/>
                </a:cubicBezTo>
                <a:cubicBezTo>
                  <a:pt x="848" y="121"/>
                  <a:pt x="849" y="122"/>
                  <a:pt x="849" y="121"/>
                </a:cubicBezTo>
                <a:cubicBezTo>
                  <a:pt x="850" y="120"/>
                  <a:pt x="848" y="119"/>
                  <a:pt x="847" y="119"/>
                </a:cubicBezTo>
                <a:cubicBezTo>
                  <a:pt x="847" y="118"/>
                  <a:pt x="845" y="117"/>
                  <a:pt x="844" y="118"/>
                </a:cubicBezTo>
                <a:cubicBezTo>
                  <a:pt x="843" y="118"/>
                  <a:pt x="843" y="117"/>
                  <a:pt x="842" y="117"/>
                </a:cubicBezTo>
                <a:cubicBezTo>
                  <a:pt x="841" y="116"/>
                  <a:pt x="839" y="117"/>
                  <a:pt x="839" y="119"/>
                </a:cubicBezTo>
                <a:cubicBezTo>
                  <a:pt x="839" y="121"/>
                  <a:pt x="837" y="120"/>
                  <a:pt x="837" y="119"/>
                </a:cubicBezTo>
                <a:cubicBezTo>
                  <a:pt x="838" y="118"/>
                  <a:pt x="837" y="117"/>
                  <a:pt x="838" y="117"/>
                </a:cubicBezTo>
                <a:cubicBezTo>
                  <a:pt x="839" y="117"/>
                  <a:pt x="839" y="115"/>
                  <a:pt x="836" y="114"/>
                </a:cubicBezTo>
                <a:cubicBezTo>
                  <a:pt x="834" y="114"/>
                  <a:pt x="833" y="116"/>
                  <a:pt x="834" y="117"/>
                </a:cubicBezTo>
                <a:cubicBezTo>
                  <a:pt x="834" y="117"/>
                  <a:pt x="832" y="120"/>
                  <a:pt x="831" y="120"/>
                </a:cubicBezTo>
                <a:cubicBezTo>
                  <a:pt x="830" y="120"/>
                  <a:pt x="831" y="118"/>
                  <a:pt x="831" y="117"/>
                </a:cubicBezTo>
                <a:cubicBezTo>
                  <a:pt x="831" y="115"/>
                  <a:pt x="830" y="116"/>
                  <a:pt x="828" y="118"/>
                </a:cubicBezTo>
                <a:cubicBezTo>
                  <a:pt x="827" y="120"/>
                  <a:pt x="825" y="122"/>
                  <a:pt x="824" y="122"/>
                </a:cubicBezTo>
                <a:cubicBezTo>
                  <a:pt x="823" y="122"/>
                  <a:pt x="823" y="120"/>
                  <a:pt x="825" y="119"/>
                </a:cubicBezTo>
                <a:cubicBezTo>
                  <a:pt x="827" y="118"/>
                  <a:pt x="827" y="116"/>
                  <a:pt x="828" y="116"/>
                </a:cubicBezTo>
                <a:cubicBezTo>
                  <a:pt x="829" y="116"/>
                  <a:pt x="829" y="115"/>
                  <a:pt x="827" y="114"/>
                </a:cubicBezTo>
                <a:cubicBezTo>
                  <a:pt x="826" y="114"/>
                  <a:pt x="826" y="116"/>
                  <a:pt x="825" y="116"/>
                </a:cubicBezTo>
                <a:cubicBezTo>
                  <a:pt x="825" y="117"/>
                  <a:pt x="824" y="116"/>
                  <a:pt x="823" y="116"/>
                </a:cubicBezTo>
                <a:cubicBezTo>
                  <a:pt x="823" y="116"/>
                  <a:pt x="822" y="116"/>
                  <a:pt x="822" y="116"/>
                </a:cubicBezTo>
                <a:cubicBezTo>
                  <a:pt x="822" y="116"/>
                  <a:pt x="821" y="117"/>
                  <a:pt x="821" y="118"/>
                </a:cubicBezTo>
                <a:cubicBezTo>
                  <a:pt x="822" y="119"/>
                  <a:pt x="821" y="119"/>
                  <a:pt x="820" y="118"/>
                </a:cubicBezTo>
                <a:cubicBezTo>
                  <a:pt x="820" y="117"/>
                  <a:pt x="818" y="118"/>
                  <a:pt x="817" y="119"/>
                </a:cubicBezTo>
                <a:cubicBezTo>
                  <a:pt x="817" y="120"/>
                  <a:pt x="816" y="120"/>
                  <a:pt x="816" y="121"/>
                </a:cubicBezTo>
                <a:cubicBezTo>
                  <a:pt x="817" y="121"/>
                  <a:pt x="817" y="123"/>
                  <a:pt x="816" y="123"/>
                </a:cubicBezTo>
                <a:cubicBezTo>
                  <a:pt x="815" y="123"/>
                  <a:pt x="815" y="123"/>
                  <a:pt x="815" y="122"/>
                </a:cubicBezTo>
                <a:cubicBezTo>
                  <a:pt x="815" y="121"/>
                  <a:pt x="815" y="120"/>
                  <a:pt x="814" y="121"/>
                </a:cubicBezTo>
                <a:cubicBezTo>
                  <a:pt x="814" y="121"/>
                  <a:pt x="814" y="119"/>
                  <a:pt x="815" y="119"/>
                </a:cubicBezTo>
                <a:cubicBezTo>
                  <a:pt x="816" y="119"/>
                  <a:pt x="818" y="117"/>
                  <a:pt x="818" y="117"/>
                </a:cubicBezTo>
                <a:cubicBezTo>
                  <a:pt x="817" y="116"/>
                  <a:pt x="816" y="116"/>
                  <a:pt x="816" y="117"/>
                </a:cubicBezTo>
                <a:cubicBezTo>
                  <a:pt x="816" y="118"/>
                  <a:pt x="814" y="118"/>
                  <a:pt x="813" y="118"/>
                </a:cubicBezTo>
                <a:cubicBezTo>
                  <a:pt x="811" y="118"/>
                  <a:pt x="811" y="120"/>
                  <a:pt x="813" y="121"/>
                </a:cubicBezTo>
                <a:cubicBezTo>
                  <a:pt x="815" y="122"/>
                  <a:pt x="813" y="122"/>
                  <a:pt x="812" y="122"/>
                </a:cubicBezTo>
                <a:cubicBezTo>
                  <a:pt x="811" y="121"/>
                  <a:pt x="809" y="121"/>
                  <a:pt x="808" y="122"/>
                </a:cubicBezTo>
                <a:cubicBezTo>
                  <a:pt x="807" y="122"/>
                  <a:pt x="811" y="123"/>
                  <a:pt x="811" y="124"/>
                </a:cubicBezTo>
                <a:cubicBezTo>
                  <a:pt x="811" y="124"/>
                  <a:pt x="810" y="124"/>
                  <a:pt x="810" y="124"/>
                </a:cubicBezTo>
                <a:cubicBezTo>
                  <a:pt x="809" y="123"/>
                  <a:pt x="809" y="123"/>
                  <a:pt x="809" y="123"/>
                </a:cubicBezTo>
                <a:cubicBezTo>
                  <a:pt x="808" y="124"/>
                  <a:pt x="807" y="123"/>
                  <a:pt x="807" y="122"/>
                </a:cubicBezTo>
                <a:cubicBezTo>
                  <a:pt x="806" y="121"/>
                  <a:pt x="804" y="123"/>
                  <a:pt x="805" y="123"/>
                </a:cubicBezTo>
                <a:cubicBezTo>
                  <a:pt x="807" y="123"/>
                  <a:pt x="806" y="124"/>
                  <a:pt x="806" y="126"/>
                </a:cubicBezTo>
                <a:cubicBezTo>
                  <a:pt x="806" y="127"/>
                  <a:pt x="804" y="126"/>
                  <a:pt x="805" y="125"/>
                </a:cubicBezTo>
                <a:cubicBezTo>
                  <a:pt x="805" y="124"/>
                  <a:pt x="804" y="124"/>
                  <a:pt x="802" y="125"/>
                </a:cubicBezTo>
                <a:cubicBezTo>
                  <a:pt x="801" y="125"/>
                  <a:pt x="803" y="123"/>
                  <a:pt x="802" y="122"/>
                </a:cubicBezTo>
                <a:cubicBezTo>
                  <a:pt x="802" y="121"/>
                  <a:pt x="800" y="122"/>
                  <a:pt x="799" y="122"/>
                </a:cubicBezTo>
                <a:cubicBezTo>
                  <a:pt x="798" y="123"/>
                  <a:pt x="797" y="123"/>
                  <a:pt x="798" y="124"/>
                </a:cubicBezTo>
                <a:cubicBezTo>
                  <a:pt x="799" y="124"/>
                  <a:pt x="799" y="126"/>
                  <a:pt x="798" y="126"/>
                </a:cubicBezTo>
                <a:cubicBezTo>
                  <a:pt x="796" y="125"/>
                  <a:pt x="796" y="126"/>
                  <a:pt x="796" y="127"/>
                </a:cubicBezTo>
                <a:cubicBezTo>
                  <a:pt x="796" y="128"/>
                  <a:pt x="795" y="128"/>
                  <a:pt x="795" y="127"/>
                </a:cubicBezTo>
                <a:cubicBezTo>
                  <a:pt x="794" y="126"/>
                  <a:pt x="792" y="126"/>
                  <a:pt x="792" y="127"/>
                </a:cubicBezTo>
                <a:cubicBezTo>
                  <a:pt x="791" y="128"/>
                  <a:pt x="789" y="129"/>
                  <a:pt x="790" y="130"/>
                </a:cubicBezTo>
                <a:cubicBezTo>
                  <a:pt x="790" y="131"/>
                  <a:pt x="790" y="130"/>
                  <a:pt x="791" y="130"/>
                </a:cubicBezTo>
                <a:cubicBezTo>
                  <a:pt x="791" y="130"/>
                  <a:pt x="792" y="130"/>
                  <a:pt x="792" y="130"/>
                </a:cubicBezTo>
                <a:cubicBezTo>
                  <a:pt x="793" y="130"/>
                  <a:pt x="792" y="131"/>
                  <a:pt x="793" y="131"/>
                </a:cubicBezTo>
                <a:cubicBezTo>
                  <a:pt x="793" y="132"/>
                  <a:pt x="793" y="133"/>
                  <a:pt x="792" y="132"/>
                </a:cubicBezTo>
                <a:cubicBezTo>
                  <a:pt x="792" y="132"/>
                  <a:pt x="790" y="131"/>
                  <a:pt x="790" y="133"/>
                </a:cubicBezTo>
                <a:cubicBezTo>
                  <a:pt x="790" y="134"/>
                  <a:pt x="789" y="132"/>
                  <a:pt x="788" y="132"/>
                </a:cubicBezTo>
                <a:cubicBezTo>
                  <a:pt x="788" y="131"/>
                  <a:pt x="788" y="132"/>
                  <a:pt x="787" y="132"/>
                </a:cubicBezTo>
                <a:cubicBezTo>
                  <a:pt x="787" y="133"/>
                  <a:pt x="786" y="133"/>
                  <a:pt x="786" y="133"/>
                </a:cubicBezTo>
                <a:cubicBezTo>
                  <a:pt x="785" y="132"/>
                  <a:pt x="788" y="130"/>
                  <a:pt x="787" y="129"/>
                </a:cubicBezTo>
                <a:cubicBezTo>
                  <a:pt x="786" y="128"/>
                  <a:pt x="786" y="130"/>
                  <a:pt x="785" y="131"/>
                </a:cubicBezTo>
                <a:cubicBezTo>
                  <a:pt x="783" y="133"/>
                  <a:pt x="781" y="133"/>
                  <a:pt x="782" y="133"/>
                </a:cubicBezTo>
                <a:cubicBezTo>
                  <a:pt x="783" y="134"/>
                  <a:pt x="780" y="134"/>
                  <a:pt x="780" y="136"/>
                </a:cubicBezTo>
                <a:cubicBezTo>
                  <a:pt x="780" y="137"/>
                  <a:pt x="777" y="137"/>
                  <a:pt x="775" y="138"/>
                </a:cubicBezTo>
                <a:cubicBezTo>
                  <a:pt x="773" y="140"/>
                  <a:pt x="775" y="140"/>
                  <a:pt x="776" y="139"/>
                </a:cubicBezTo>
                <a:cubicBezTo>
                  <a:pt x="777" y="137"/>
                  <a:pt x="778" y="138"/>
                  <a:pt x="779" y="137"/>
                </a:cubicBezTo>
                <a:cubicBezTo>
                  <a:pt x="781" y="136"/>
                  <a:pt x="783" y="135"/>
                  <a:pt x="784" y="135"/>
                </a:cubicBezTo>
                <a:cubicBezTo>
                  <a:pt x="784" y="136"/>
                  <a:pt x="785" y="136"/>
                  <a:pt x="786" y="135"/>
                </a:cubicBezTo>
                <a:cubicBezTo>
                  <a:pt x="787" y="134"/>
                  <a:pt x="788" y="134"/>
                  <a:pt x="789" y="135"/>
                </a:cubicBezTo>
                <a:cubicBezTo>
                  <a:pt x="789" y="136"/>
                  <a:pt x="787" y="136"/>
                  <a:pt x="788" y="137"/>
                </a:cubicBezTo>
                <a:cubicBezTo>
                  <a:pt x="789" y="138"/>
                  <a:pt x="787" y="139"/>
                  <a:pt x="787" y="138"/>
                </a:cubicBezTo>
                <a:cubicBezTo>
                  <a:pt x="787" y="137"/>
                  <a:pt x="786" y="136"/>
                  <a:pt x="785" y="137"/>
                </a:cubicBezTo>
                <a:cubicBezTo>
                  <a:pt x="785" y="138"/>
                  <a:pt x="784" y="139"/>
                  <a:pt x="783" y="139"/>
                </a:cubicBezTo>
                <a:cubicBezTo>
                  <a:pt x="783" y="139"/>
                  <a:pt x="782" y="140"/>
                  <a:pt x="782" y="142"/>
                </a:cubicBezTo>
                <a:cubicBezTo>
                  <a:pt x="782" y="143"/>
                  <a:pt x="781" y="143"/>
                  <a:pt x="781" y="143"/>
                </a:cubicBezTo>
                <a:cubicBezTo>
                  <a:pt x="781" y="143"/>
                  <a:pt x="780" y="143"/>
                  <a:pt x="780" y="143"/>
                </a:cubicBezTo>
                <a:cubicBezTo>
                  <a:pt x="780" y="144"/>
                  <a:pt x="778" y="147"/>
                  <a:pt x="776" y="148"/>
                </a:cubicBezTo>
                <a:cubicBezTo>
                  <a:pt x="774" y="150"/>
                  <a:pt x="776" y="151"/>
                  <a:pt x="776" y="152"/>
                </a:cubicBezTo>
                <a:cubicBezTo>
                  <a:pt x="775" y="152"/>
                  <a:pt x="774" y="152"/>
                  <a:pt x="774" y="152"/>
                </a:cubicBezTo>
                <a:cubicBezTo>
                  <a:pt x="773" y="152"/>
                  <a:pt x="772" y="152"/>
                  <a:pt x="772" y="152"/>
                </a:cubicBezTo>
                <a:cubicBezTo>
                  <a:pt x="772" y="153"/>
                  <a:pt x="773" y="155"/>
                  <a:pt x="772" y="156"/>
                </a:cubicBezTo>
                <a:cubicBezTo>
                  <a:pt x="771" y="157"/>
                  <a:pt x="772" y="158"/>
                  <a:pt x="772" y="159"/>
                </a:cubicBezTo>
                <a:cubicBezTo>
                  <a:pt x="772" y="159"/>
                  <a:pt x="771" y="159"/>
                  <a:pt x="770" y="159"/>
                </a:cubicBezTo>
                <a:cubicBezTo>
                  <a:pt x="770" y="159"/>
                  <a:pt x="769" y="159"/>
                  <a:pt x="769" y="159"/>
                </a:cubicBezTo>
                <a:cubicBezTo>
                  <a:pt x="769" y="160"/>
                  <a:pt x="767" y="160"/>
                  <a:pt x="766" y="160"/>
                </a:cubicBezTo>
                <a:cubicBezTo>
                  <a:pt x="765" y="161"/>
                  <a:pt x="767" y="162"/>
                  <a:pt x="768" y="163"/>
                </a:cubicBezTo>
                <a:cubicBezTo>
                  <a:pt x="770" y="164"/>
                  <a:pt x="767" y="165"/>
                  <a:pt x="767" y="164"/>
                </a:cubicBezTo>
                <a:cubicBezTo>
                  <a:pt x="767" y="162"/>
                  <a:pt x="765" y="164"/>
                  <a:pt x="763" y="165"/>
                </a:cubicBezTo>
                <a:cubicBezTo>
                  <a:pt x="761" y="166"/>
                  <a:pt x="762" y="168"/>
                  <a:pt x="761" y="168"/>
                </a:cubicBezTo>
                <a:cubicBezTo>
                  <a:pt x="759" y="168"/>
                  <a:pt x="760" y="170"/>
                  <a:pt x="759" y="171"/>
                </a:cubicBezTo>
                <a:cubicBezTo>
                  <a:pt x="758" y="172"/>
                  <a:pt x="758" y="169"/>
                  <a:pt x="756" y="169"/>
                </a:cubicBezTo>
                <a:cubicBezTo>
                  <a:pt x="755" y="169"/>
                  <a:pt x="755" y="170"/>
                  <a:pt x="756" y="171"/>
                </a:cubicBezTo>
                <a:cubicBezTo>
                  <a:pt x="757" y="173"/>
                  <a:pt x="754" y="172"/>
                  <a:pt x="754" y="173"/>
                </a:cubicBezTo>
                <a:cubicBezTo>
                  <a:pt x="753" y="174"/>
                  <a:pt x="750" y="173"/>
                  <a:pt x="749" y="174"/>
                </a:cubicBezTo>
                <a:cubicBezTo>
                  <a:pt x="749" y="175"/>
                  <a:pt x="751" y="175"/>
                  <a:pt x="752" y="176"/>
                </a:cubicBezTo>
                <a:cubicBezTo>
                  <a:pt x="752" y="177"/>
                  <a:pt x="749" y="176"/>
                  <a:pt x="748" y="176"/>
                </a:cubicBezTo>
                <a:cubicBezTo>
                  <a:pt x="747" y="176"/>
                  <a:pt x="747" y="176"/>
                  <a:pt x="747" y="177"/>
                </a:cubicBezTo>
                <a:cubicBezTo>
                  <a:pt x="747" y="177"/>
                  <a:pt x="746" y="178"/>
                  <a:pt x="746" y="178"/>
                </a:cubicBezTo>
                <a:cubicBezTo>
                  <a:pt x="745" y="177"/>
                  <a:pt x="743" y="179"/>
                  <a:pt x="744" y="180"/>
                </a:cubicBezTo>
                <a:cubicBezTo>
                  <a:pt x="745" y="181"/>
                  <a:pt x="743" y="181"/>
                  <a:pt x="742" y="180"/>
                </a:cubicBezTo>
                <a:cubicBezTo>
                  <a:pt x="741" y="180"/>
                  <a:pt x="741" y="181"/>
                  <a:pt x="740" y="182"/>
                </a:cubicBezTo>
                <a:cubicBezTo>
                  <a:pt x="740" y="183"/>
                  <a:pt x="742" y="184"/>
                  <a:pt x="742" y="184"/>
                </a:cubicBezTo>
                <a:cubicBezTo>
                  <a:pt x="742" y="185"/>
                  <a:pt x="740" y="185"/>
                  <a:pt x="741" y="186"/>
                </a:cubicBezTo>
                <a:cubicBezTo>
                  <a:pt x="743" y="186"/>
                  <a:pt x="742" y="187"/>
                  <a:pt x="741" y="187"/>
                </a:cubicBezTo>
                <a:cubicBezTo>
                  <a:pt x="740" y="188"/>
                  <a:pt x="740" y="188"/>
                  <a:pt x="741" y="189"/>
                </a:cubicBezTo>
                <a:cubicBezTo>
                  <a:pt x="742" y="190"/>
                  <a:pt x="740" y="190"/>
                  <a:pt x="741" y="192"/>
                </a:cubicBezTo>
                <a:cubicBezTo>
                  <a:pt x="741" y="193"/>
                  <a:pt x="742" y="192"/>
                  <a:pt x="742" y="192"/>
                </a:cubicBezTo>
                <a:cubicBezTo>
                  <a:pt x="742" y="192"/>
                  <a:pt x="743" y="192"/>
                  <a:pt x="743" y="193"/>
                </a:cubicBezTo>
                <a:cubicBezTo>
                  <a:pt x="743" y="194"/>
                  <a:pt x="745" y="193"/>
                  <a:pt x="746" y="191"/>
                </a:cubicBezTo>
                <a:cubicBezTo>
                  <a:pt x="747" y="191"/>
                  <a:pt x="747" y="191"/>
                  <a:pt x="747" y="192"/>
                </a:cubicBezTo>
                <a:cubicBezTo>
                  <a:pt x="747" y="192"/>
                  <a:pt x="747" y="193"/>
                  <a:pt x="747" y="193"/>
                </a:cubicBezTo>
                <a:cubicBezTo>
                  <a:pt x="746" y="193"/>
                  <a:pt x="744" y="193"/>
                  <a:pt x="744" y="194"/>
                </a:cubicBezTo>
                <a:cubicBezTo>
                  <a:pt x="745" y="196"/>
                  <a:pt x="743" y="195"/>
                  <a:pt x="743" y="194"/>
                </a:cubicBezTo>
                <a:cubicBezTo>
                  <a:pt x="743" y="193"/>
                  <a:pt x="740" y="194"/>
                  <a:pt x="741" y="195"/>
                </a:cubicBezTo>
                <a:cubicBezTo>
                  <a:pt x="742" y="196"/>
                  <a:pt x="741" y="197"/>
                  <a:pt x="741" y="198"/>
                </a:cubicBezTo>
                <a:cubicBezTo>
                  <a:pt x="741" y="199"/>
                  <a:pt x="743" y="199"/>
                  <a:pt x="743" y="197"/>
                </a:cubicBezTo>
                <a:cubicBezTo>
                  <a:pt x="744" y="196"/>
                  <a:pt x="745" y="197"/>
                  <a:pt x="746" y="198"/>
                </a:cubicBezTo>
                <a:cubicBezTo>
                  <a:pt x="746" y="199"/>
                  <a:pt x="745" y="198"/>
                  <a:pt x="745" y="199"/>
                </a:cubicBezTo>
                <a:cubicBezTo>
                  <a:pt x="745" y="201"/>
                  <a:pt x="744" y="200"/>
                  <a:pt x="743" y="201"/>
                </a:cubicBezTo>
                <a:cubicBezTo>
                  <a:pt x="742" y="202"/>
                  <a:pt x="746" y="204"/>
                  <a:pt x="747" y="204"/>
                </a:cubicBezTo>
                <a:cubicBezTo>
                  <a:pt x="749" y="205"/>
                  <a:pt x="750" y="206"/>
                  <a:pt x="752" y="206"/>
                </a:cubicBezTo>
                <a:cubicBezTo>
                  <a:pt x="755" y="205"/>
                  <a:pt x="760" y="201"/>
                  <a:pt x="760" y="200"/>
                </a:cubicBezTo>
                <a:cubicBezTo>
                  <a:pt x="760" y="199"/>
                  <a:pt x="761" y="199"/>
                  <a:pt x="762" y="199"/>
                </a:cubicBezTo>
                <a:cubicBezTo>
                  <a:pt x="762" y="199"/>
                  <a:pt x="763" y="199"/>
                  <a:pt x="763" y="199"/>
                </a:cubicBezTo>
                <a:cubicBezTo>
                  <a:pt x="764" y="198"/>
                  <a:pt x="763" y="196"/>
                  <a:pt x="764" y="196"/>
                </a:cubicBezTo>
                <a:cubicBezTo>
                  <a:pt x="765" y="196"/>
                  <a:pt x="765" y="198"/>
                  <a:pt x="766" y="198"/>
                </a:cubicBezTo>
                <a:cubicBezTo>
                  <a:pt x="766" y="199"/>
                  <a:pt x="767" y="199"/>
                  <a:pt x="767" y="201"/>
                </a:cubicBezTo>
                <a:cubicBezTo>
                  <a:pt x="767" y="202"/>
                  <a:pt x="767" y="204"/>
                  <a:pt x="769" y="205"/>
                </a:cubicBezTo>
                <a:cubicBezTo>
                  <a:pt x="770" y="206"/>
                  <a:pt x="769" y="208"/>
                  <a:pt x="770" y="209"/>
                </a:cubicBezTo>
                <a:cubicBezTo>
                  <a:pt x="771" y="211"/>
                  <a:pt x="771" y="212"/>
                  <a:pt x="772" y="213"/>
                </a:cubicBezTo>
                <a:cubicBezTo>
                  <a:pt x="774" y="214"/>
                  <a:pt x="774" y="215"/>
                  <a:pt x="773" y="216"/>
                </a:cubicBezTo>
                <a:cubicBezTo>
                  <a:pt x="773" y="218"/>
                  <a:pt x="774" y="217"/>
                  <a:pt x="774" y="218"/>
                </a:cubicBezTo>
                <a:cubicBezTo>
                  <a:pt x="775" y="219"/>
                  <a:pt x="774" y="221"/>
                  <a:pt x="775" y="222"/>
                </a:cubicBezTo>
                <a:cubicBezTo>
                  <a:pt x="775" y="223"/>
                  <a:pt x="776" y="222"/>
                  <a:pt x="778" y="222"/>
                </a:cubicBezTo>
                <a:cubicBezTo>
                  <a:pt x="780" y="222"/>
                  <a:pt x="779" y="221"/>
                  <a:pt x="779" y="219"/>
                </a:cubicBezTo>
                <a:cubicBezTo>
                  <a:pt x="779" y="218"/>
                  <a:pt x="780" y="219"/>
                  <a:pt x="781" y="218"/>
                </a:cubicBezTo>
                <a:cubicBezTo>
                  <a:pt x="781" y="217"/>
                  <a:pt x="783" y="217"/>
                  <a:pt x="784" y="218"/>
                </a:cubicBezTo>
                <a:cubicBezTo>
                  <a:pt x="786" y="218"/>
                  <a:pt x="786" y="217"/>
                  <a:pt x="787" y="216"/>
                </a:cubicBezTo>
                <a:cubicBezTo>
                  <a:pt x="787" y="214"/>
                  <a:pt x="788" y="216"/>
                  <a:pt x="788" y="216"/>
                </a:cubicBezTo>
                <a:cubicBezTo>
                  <a:pt x="789" y="217"/>
                  <a:pt x="790" y="214"/>
                  <a:pt x="791" y="212"/>
                </a:cubicBezTo>
                <a:cubicBezTo>
                  <a:pt x="791" y="211"/>
                  <a:pt x="791" y="211"/>
                  <a:pt x="789" y="213"/>
                </a:cubicBezTo>
                <a:cubicBezTo>
                  <a:pt x="788" y="214"/>
                  <a:pt x="788" y="211"/>
                  <a:pt x="789" y="210"/>
                </a:cubicBezTo>
                <a:cubicBezTo>
                  <a:pt x="790" y="208"/>
                  <a:pt x="790" y="204"/>
                  <a:pt x="790" y="204"/>
                </a:cubicBezTo>
                <a:cubicBezTo>
                  <a:pt x="790" y="203"/>
                  <a:pt x="790" y="201"/>
                  <a:pt x="792" y="201"/>
                </a:cubicBezTo>
                <a:cubicBezTo>
                  <a:pt x="794" y="201"/>
                  <a:pt x="796" y="198"/>
                  <a:pt x="796" y="197"/>
                </a:cubicBezTo>
                <a:cubicBezTo>
                  <a:pt x="796" y="196"/>
                  <a:pt x="798" y="195"/>
                  <a:pt x="798" y="194"/>
                </a:cubicBezTo>
                <a:cubicBezTo>
                  <a:pt x="798" y="193"/>
                  <a:pt x="795" y="190"/>
                  <a:pt x="794" y="189"/>
                </a:cubicBezTo>
                <a:cubicBezTo>
                  <a:pt x="793" y="189"/>
                  <a:pt x="791" y="189"/>
                  <a:pt x="791" y="189"/>
                </a:cubicBezTo>
                <a:cubicBezTo>
                  <a:pt x="792" y="188"/>
                  <a:pt x="791" y="185"/>
                  <a:pt x="791" y="184"/>
                </a:cubicBezTo>
                <a:cubicBezTo>
                  <a:pt x="791" y="183"/>
                  <a:pt x="792" y="181"/>
                  <a:pt x="792" y="180"/>
                </a:cubicBezTo>
                <a:cubicBezTo>
                  <a:pt x="792" y="178"/>
                  <a:pt x="792" y="177"/>
                  <a:pt x="794" y="176"/>
                </a:cubicBezTo>
                <a:cubicBezTo>
                  <a:pt x="795" y="176"/>
                  <a:pt x="794" y="175"/>
                  <a:pt x="796" y="175"/>
                </a:cubicBezTo>
                <a:cubicBezTo>
                  <a:pt x="797" y="174"/>
                  <a:pt x="797" y="172"/>
                  <a:pt x="799" y="171"/>
                </a:cubicBezTo>
                <a:cubicBezTo>
                  <a:pt x="800" y="171"/>
                  <a:pt x="800" y="170"/>
                  <a:pt x="803" y="169"/>
                </a:cubicBezTo>
                <a:cubicBezTo>
                  <a:pt x="805" y="168"/>
                  <a:pt x="808" y="165"/>
                  <a:pt x="809" y="164"/>
                </a:cubicBezTo>
                <a:cubicBezTo>
                  <a:pt x="810" y="163"/>
                  <a:pt x="807" y="161"/>
                  <a:pt x="809" y="160"/>
                </a:cubicBezTo>
                <a:cubicBezTo>
                  <a:pt x="811" y="159"/>
                  <a:pt x="809" y="157"/>
                  <a:pt x="810" y="156"/>
                </a:cubicBezTo>
                <a:cubicBezTo>
                  <a:pt x="812" y="156"/>
                  <a:pt x="812" y="155"/>
                  <a:pt x="813" y="154"/>
                </a:cubicBezTo>
                <a:cubicBezTo>
                  <a:pt x="814" y="154"/>
                  <a:pt x="814" y="154"/>
                  <a:pt x="815" y="154"/>
                </a:cubicBezTo>
                <a:cubicBezTo>
                  <a:pt x="816" y="154"/>
                  <a:pt x="817" y="154"/>
                  <a:pt x="818" y="154"/>
                </a:cubicBezTo>
                <a:cubicBezTo>
                  <a:pt x="820" y="153"/>
                  <a:pt x="822" y="155"/>
                  <a:pt x="823" y="155"/>
                </a:cubicBezTo>
                <a:cubicBezTo>
                  <a:pt x="825" y="156"/>
                  <a:pt x="825" y="157"/>
                  <a:pt x="825" y="159"/>
                </a:cubicBezTo>
                <a:cubicBezTo>
                  <a:pt x="825" y="160"/>
                  <a:pt x="825" y="161"/>
                  <a:pt x="824" y="160"/>
                </a:cubicBezTo>
                <a:cubicBezTo>
                  <a:pt x="823" y="160"/>
                  <a:pt x="822" y="160"/>
                  <a:pt x="822" y="162"/>
                </a:cubicBezTo>
                <a:cubicBezTo>
                  <a:pt x="821" y="164"/>
                  <a:pt x="819" y="166"/>
                  <a:pt x="817" y="166"/>
                </a:cubicBezTo>
                <a:cubicBezTo>
                  <a:pt x="816" y="166"/>
                  <a:pt x="816" y="168"/>
                  <a:pt x="815" y="168"/>
                </a:cubicBezTo>
                <a:cubicBezTo>
                  <a:pt x="814" y="169"/>
                  <a:pt x="813" y="169"/>
                  <a:pt x="813" y="171"/>
                </a:cubicBezTo>
                <a:cubicBezTo>
                  <a:pt x="813" y="172"/>
                  <a:pt x="811" y="172"/>
                  <a:pt x="810" y="172"/>
                </a:cubicBezTo>
                <a:cubicBezTo>
                  <a:pt x="808" y="172"/>
                  <a:pt x="809" y="174"/>
                  <a:pt x="808" y="175"/>
                </a:cubicBezTo>
                <a:cubicBezTo>
                  <a:pt x="807" y="175"/>
                  <a:pt x="807" y="176"/>
                  <a:pt x="808" y="177"/>
                </a:cubicBezTo>
                <a:cubicBezTo>
                  <a:pt x="809" y="178"/>
                  <a:pt x="808" y="179"/>
                  <a:pt x="808" y="180"/>
                </a:cubicBezTo>
                <a:cubicBezTo>
                  <a:pt x="809" y="181"/>
                  <a:pt x="810" y="183"/>
                  <a:pt x="809" y="185"/>
                </a:cubicBezTo>
                <a:cubicBezTo>
                  <a:pt x="808" y="187"/>
                  <a:pt x="807" y="189"/>
                  <a:pt x="808" y="189"/>
                </a:cubicBezTo>
                <a:cubicBezTo>
                  <a:pt x="808" y="189"/>
                  <a:pt x="809" y="190"/>
                  <a:pt x="810" y="190"/>
                </a:cubicBezTo>
                <a:cubicBezTo>
                  <a:pt x="811" y="190"/>
                  <a:pt x="811" y="191"/>
                  <a:pt x="812" y="191"/>
                </a:cubicBezTo>
                <a:cubicBezTo>
                  <a:pt x="812" y="191"/>
                  <a:pt x="813" y="191"/>
                  <a:pt x="813" y="192"/>
                </a:cubicBezTo>
                <a:cubicBezTo>
                  <a:pt x="813" y="192"/>
                  <a:pt x="814" y="192"/>
                  <a:pt x="814" y="192"/>
                </a:cubicBezTo>
                <a:cubicBezTo>
                  <a:pt x="815" y="192"/>
                  <a:pt x="815" y="192"/>
                  <a:pt x="816" y="193"/>
                </a:cubicBezTo>
                <a:cubicBezTo>
                  <a:pt x="817" y="193"/>
                  <a:pt x="818" y="193"/>
                  <a:pt x="819" y="193"/>
                </a:cubicBezTo>
                <a:cubicBezTo>
                  <a:pt x="823" y="193"/>
                  <a:pt x="830" y="190"/>
                  <a:pt x="832" y="190"/>
                </a:cubicBezTo>
                <a:cubicBezTo>
                  <a:pt x="835" y="190"/>
                  <a:pt x="837" y="190"/>
                  <a:pt x="838" y="189"/>
                </a:cubicBezTo>
                <a:cubicBezTo>
                  <a:pt x="839" y="189"/>
                  <a:pt x="840" y="191"/>
                  <a:pt x="841" y="192"/>
                </a:cubicBezTo>
                <a:cubicBezTo>
                  <a:pt x="842" y="193"/>
                  <a:pt x="844" y="192"/>
                  <a:pt x="844" y="193"/>
                </a:cubicBezTo>
                <a:cubicBezTo>
                  <a:pt x="845" y="193"/>
                  <a:pt x="844" y="194"/>
                  <a:pt x="842" y="193"/>
                </a:cubicBezTo>
                <a:cubicBezTo>
                  <a:pt x="841" y="193"/>
                  <a:pt x="840" y="194"/>
                  <a:pt x="838" y="195"/>
                </a:cubicBezTo>
                <a:cubicBezTo>
                  <a:pt x="836" y="195"/>
                  <a:pt x="837" y="196"/>
                  <a:pt x="835" y="197"/>
                </a:cubicBezTo>
                <a:cubicBezTo>
                  <a:pt x="834" y="197"/>
                  <a:pt x="833" y="197"/>
                  <a:pt x="831" y="196"/>
                </a:cubicBezTo>
                <a:cubicBezTo>
                  <a:pt x="830" y="196"/>
                  <a:pt x="828" y="196"/>
                  <a:pt x="827" y="196"/>
                </a:cubicBezTo>
                <a:cubicBezTo>
                  <a:pt x="825" y="196"/>
                  <a:pt x="820" y="196"/>
                  <a:pt x="819" y="197"/>
                </a:cubicBezTo>
                <a:cubicBezTo>
                  <a:pt x="818" y="199"/>
                  <a:pt x="815" y="199"/>
                  <a:pt x="817" y="200"/>
                </a:cubicBezTo>
                <a:cubicBezTo>
                  <a:pt x="818" y="201"/>
                  <a:pt x="817" y="201"/>
                  <a:pt x="818" y="203"/>
                </a:cubicBezTo>
                <a:cubicBezTo>
                  <a:pt x="818" y="204"/>
                  <a:pt x="819" y="204"/>
                  <a:pt x="820" y="204"/>
                </a:cubicBezTo>
                <a:cubicBezTo>
                  <a:pt x="821" y="204"/>
                  <a:pt x="822" y="204"/>
                  <a:pt x="821" y="206"/>
                </a:cubicBezTo>
                <a:cubicBezTo>
                  <a:pt x="820" y="207"/>
                  <a:pt x="821" y="208"/>
                  <a:pt x="820" y="210"/>
                </a:cubicBezTo>
                <a:cubicBezTo>
                  <a:pt x="820" y="212"/>
                  <a:pt x="818" y="212"/>
                  <a:pt x="817" y="212"/>
                </a:cubicBezTo>
                <a:cubicBezTo>
                  <a:pt x="816" y="212"/>
                  <a:pt x="814" y="208"/>
                  <a:pt x="813" y="207"/>
                </a:cubicBezTo>
                <a:cubicBezTo>
                  <a:pt x="813" y="206"/>
                  <a:pt x="811" y="208"/>
                  <a:pt x="809" y="209"/>
                </a:cubicBezTo>
                <a:cubicBezTo>
                  <a:pt x="808" y="210"/>
                  <a:pt x="808" y="212"/>
                  <a:pt x="807" y="213"/>
                </a:cubicBezTo>
                <a:cubicBezTo>
                  <a:pt x="806" y="213"/>
                  <a:pt x="806" y="215"/>
                  <a:pt x="807" y="217"/>
                </a:cubicBezTo>
                <a:cubicBezTo>
                  <a:pt x="808" y="218"/>
                  <a:pt x="808" y="220"/>
                  <a:pt x="807" y="221"/>
                </a:cubicBezTo>
                <a:cubicBezTo>
                  <a:pt x="806" y="223"/>
                  <a:pt x="807" y="222"/>
                  <a:pt x="807" y="223"/>
                </a:cubicBezTo>
                <a:cubicBezTo>
                  <a:pt x="808" y="224"/>
                  <a:pt x="805" y="224"/>
                  <a:pt x="806" y="226"/>
                </a:cubicBezTo>
                <a:cubicBezTo>
                  <a:pt x="807" y="227"/>
                  <a:pt x="804" y="227"/>
                  <a:pt x="804" y="226"/>
                </a:cubicBezTo>
                <a:cubicBezTo>
                  <a:pt x="804" y="224"/>
                  <a:pt x="801" y="225"/>
                  <a:pt x="801" y="226"/>
                </a:cubicBezTo>
                <a:cubicBezTo>
                  <a:pt x="801" y="227"/>
                  <a:pt x="800" y="228"/>
                  <a:pt x="799" y="228"/>
                </a:cubicBezTo>
                <a:cubicBezTo>
                  <a:pt x="797" y="228"/>
                  <a:pt x="797" y="226"/>
                  <a:pt x="797" y="225"/>
                </a:cubicBezTo>
                <a:cubicBezTo>
                  <a:pt x="797" y="224"/>
                  <a:pt x="789" y="226"/>
                  <a:pt x="787" y="228"/>
                </a:cubicBezTo>
                <a:cubicBezTo>
                  <a:pt x="785" y="230"/>
                  <a:pt x="781" y="229"/>
                  <a:pt x="781" y="230"/>
                </a:cubicBezTo>
                <a:cubicBezTo>
                  <a:pt x="781" y="231"/>
                  <a:pt x="779" y="232"/>
                  <a:pt x="779" y="231"/>
                </a:cubicBezTo>
                <a:cubicBezTo>
                  <a:pt x="779" y="230"/>
                  <a:pt x="778" y="229"/>
                  <a:pt x="777" y="229"/>
                </a:cubicBezTo>
                <a:cubicBezTo>
                  <a:pt x="775" y="229"/>
                  <a:pt x="778" y="228"/>
                  <a:pt x="777" y="227"/>
                </a:cubicBezTo>
                <a:cubicBezTo>
                  <a:pt x="777" y="226"/>
                  <a:pt x="776" y="227"/>
                  <a:pt x="775" y="227"/>
                </a:cubicBezTo>
                <a:cubicBezTo>
                  <a:pt x="775" y="228"/>
                  <a:pt x="774" y="228"/>
                  <a:pt x="773" y="228"/>
                </a:cubicBezTo>
                <a:cubicBezTo>
                  <a:pt x="772" y="227"/>
                  <a:pt x="770" y="230"/>
                  <a:pt x="768" y="231"/>
                </a:cubicBezTo>
                <a:cubicBezTo>
                  <a:pt x="767" y="232"/>
                  <a:pt x="765" y="230"/>
                  <a:pt x="766" y="229"/>
                </a:cubicBezTo>
                <a:cubicBezTo>
                  <a:pt x="767" y="227"/>
                  <a:pt x="766" y="228"/>
                  <a:pt x="765" y="228"/>
                </a:cubicBezTo>
                <a:cubicBezTo>
                  <a:pt x="763" y="229"/>
                  <a:pt x="761" y="228"/>
                  <a:pt x="762" y="227"/>
                </a:cubicBezTo>
                <a:cubicBezTo>
                  <a:pt x="762" y="225"/>
                  <a:pt x="760" y="224"/>
                  <a:pt x="760" y="223"/>
                </a:cubicBezTo>
                <a:cubicBezTo>
                  <a:pt x="760" y="223"/>
                  <a:pt x="761" y="223"/>
                  <a:pt x="762" y="224"/>
                </a:cubicBezTo>
                <a:cubicBezTo>
                  <a:pt x="763" y="225"/>
                  <a:pt x="765" y="225"/>
                  <a:pt x="765" y="224"/>
                </a:cubicBezTo>
                <a:cubicBezTo>
                  <a:pt x="765" y="223"/>
                  <a:pt x="765" y="221"/>
                  <a:pt x="763" y="221"/>
                </a:cubicBezTo>
                <a:cubicBezTo>
                  <a:pt x="762" y="222"/>
                  <a:pt x="762" y="222"/>
                  <a:pt x="761" y="221"/>
                </a:cubicBezTo>
                <a:cubicBezTo>
                  <a:pt x="761" y="220"/>
                  <a:pt x="762" y="219"/>
                  <a:pt x="763" y="218"/>
                </a:cubicBezTo>
                <a:cubicBezTo>
                  <a:pt x="763" y="217"/>
                  <a:pt x="765" y="218"/>
                  <a:pt x="765" y="217"/>
                </a:cubicBezTo>
                <a:cubicBezTo>
                  <a:pt x="766" y="216"/>
                  <a:pt x="764" y="215"/>
                  <a:pt x="763" y="215"/>
                </a:cubicBezTo>
                <a:cubicBezTo>
                  <a:pt x="763" y="214"/>
                  <a:pt x="762" y="212"/>
                  <a:pt x="763" y="212"/>
                </a:cubicBezTo>
                <a:cubicBezTo>
                  <a:pt x="764" y="211"/>
                  <a:pt x="764" y="209"/>
                  <a:pt x="764" y="208"/>
                </a:cubicBezTo>
                <a:cubicBezTo>
                  <a:pt x="763" y="208"/>
                  <a:pt x="761" y="208"/>
                  <a:pt x="761" y="210"/>
                </a:cubicBezTo>
                <a:cubicBezTo>
                  <a:pt x="760" y="212"/>
                  <a:pt x="759" y="211"/>
                  <a:pt x="758" y="211"/>
                </a:cubicBezTo>
                <a:cubicBezTo>
                  <a:pt x="758" y="212"/>
                  <a:pt x="759" y="212"/>
                  <a:pt x="758" y="213"/>
                </a:cubicBezTo>
                <a:cubicBezTo>
                  <a:pt x="757" y="214"/>
                  <a:pt x="757" y="212"/>
                  <a:pt x="756" y="212"/>
                </a:cubicBezTo>
                <a:cubicBezTo>
                  <a:pt x="754" y="212"/>
                  <a:pt x="754" y="214"/>
                  <a:pt x="754" y="215"/>
                </a:cubicBezTo>
                <a:cubicBezTo>
                  <a:pt x="753" y="216"/>
                  <a:pt x="753" y="218"/>
                  <a:pt x="754" y="220"/>
                </a:cubicBezTo>
                <a:cubicBezTo>
                  <a:pt x="754" y="221"/>
                  <a:pt x="756" y="222"/>
                  <a:pt x="755" y="223"/>
                </a:cubicBezTo>
                <a:cubicBezTo>
                  <a:pt x="755" y="225"/>
                  <a:pt x="757" y="226"/>
                  <a:pt x="757" y="227"/>
                </a:cubicBezTo>
                <a:cubicBezTo>
                  <a:pt x="756" y="228"/>
                  <a:pt x="757" y="229"/>
                  <a:pt x="758" y="231"/>
                </a:cubicBezTo>
                <a:cubicBezTo>
                  <a:pt x="759" y="233"/>
                  <a:pt x="756" y="232"/>
                  <a:pt x="756" y="233"/>
                </a:cubicBezTo>
                <a:cubicBezTo>
                  <a:pt x="756" y="234"/>
                  <a:pt x="754" y="233"/>
                  <a:pt x="753" y="232"/>
                </a:cubicBezTo>
                <a:cubicBezTo>
                  <a:pt x="752" y="232"/>
                  <a:pt x="750" y="232"/>
                  <a:pt x="750" y="233"/>
                </a:cubicBezTo>
                <a:cubicBezTo>
                  <a:pt x="750" y="233"/>
                  <a:pt x="749" y="235"/>
                  <a:pt x="748" y="234"/>
                </a:cubicBezTo>
                <a:cubicBezTo>
                  <a:pt x="747" y="234"/>
                  <a:pt x="746" y="234"/>
                  <a:pt x="744" y="234"/>
                </a:cubicBezTo>
                <a:cubicBezTo>
                  <a:pt x="742" y="235"/>
                  <a:pt x="742" y="236"/>
                  <a:pt x="742" y="237"/>
                </a:cubicBezTo>
                <a:cubicBezTo>
                  <a:pt x="743" y="238"/>
                  <a:pt x="741" y="238"/>
                  <a:pt x="740" y="237"/>
                </a:cubicBezTo>
                <a:cubicBezTo>
                  <a:pt x="740" y="236"/>
                  <a:pt x="738" y="237"/>
                  <a:pt x="738" y="238"/>
                </a:cubicBezTo>
                <a:cubicBezTo>
                  <a:pt x="739" y="240"/>
                  <a:pt x="736" y="240"/>
                  <a:pt x="736" y="242"/>
                </a:cubicBezTo>
                <a:cubicBezTo>
                  <a:pt x="737" y="243"/>
                  <a:pt x="734" y="245"/>
                  <a:pt x="733" y="246"/>
                </a:cubicBezTo>
                <a:cubicBezTo>
                  <a:pt x="732" y="246"/>
                  <a:pt x="730" y="247"/>
                  <a:pt x="729" y="247"/>
                </a:cubicBezTo>
                <a:cubicBezTo>
                  <a:pt x="727" y="247"/>
                  <a:pt x="726" y="249"/>
                  <a:pt x="726" y="251"/>
                </a:cubicBezTo>
                <a:cubicBezTo>
                  <a:pt x="726" y="254"/>
                  <a:pt x="724" y="254"/>
                  <a:pt x="722" y="254"/>
                </a:cubicBezTo>
                <a:cubicBezTo>
                  <a:pt x="719" y="254"/>
                  <a:pt x="720" y="256"/>
                  <a:pt x="719" y="257"/>
                </a:cubicBezTo>
                <a:cubicBezTo>
                  <a:pt x="718" y="258"/>
                  <a:pt x="714" y="257"/>
                  <a:pt x="714" y="255"/>
                </a:cubicBezTo>
                <a:cubicBezTo>
                  <a:pt x="713" y="254"/>
                  <a:pt x="710" y="255"/>
                  <a:pt x="711" y="257"/>
                </a:cubicBezTo>
                <a:cubicBezTo>
                  <a:pt x="713" y="258"/>
                  <a:pt x="713" y="261"/>
                  <a:pt x="712" y="261"/>
                </a:cubicBezTo>
                <a:cubicBezTo>
                  <a:pt x="711" y="262"/>
                  <a:pt x="711" y="261"/>
                  <a:pt x="710" y="261"/>
                </a:cubicBezTo>
                <a:cubicBezTo>
                  <a:pt x="709" y="261"/>
                  <a:pt x="709" y="261"/>
                  <a:pt x="708" y="261"/>
                </a:cubicBezTo>
                <a:cubicBezTo>
                  <a:pt x="707" y="262"/>
                  <a:pt x="707" y="260"/>
                  <a:pt x="705" y="260"/>
                </a:cubicBezTo>
                <a:cubicBezTo>
                  <a:pt x="705" y="260"/>
                  <a:pt x="704" y="260"/>
                  <a:pt x="703" y="260"/>
                </a:cubicBezTo>
                <a:cubicBezTo>
                  <a:pt x="703" y="260"/>
                  <a:pt x="702" y="260"/>
                  <a:pt x="701" y="260"/>
                </a:cubicBezTo>
                <a:cubicBezTo>
                  <a:pt x="699" y="260"/>
                  <a:pt x="698" y="261"/>
                  <a:pt x="699" y="262"/>
                </a:cubicBezTo>
                <a:cubicBezTo>
                  <a:pt x="699" y="263"/>
                  <a:pt x="699" y="264"/>
                  <a:pt x="699" y="265"/>
                </a:cubicBezTo>
                <a:cubicBezTo>
                  <a:pt x="700" y="266"/>
                  <a:pt x="703" y="266"/>
                  <a:pt x="705" y="267"/>
                </a:cubicBezTo>
                <a:cubicBezTo>
                  <a:pt x="707" y="268"/>
                  <a:pt x="707" y="267"/>
                  <a:pt x="708" y="268"/>
                </a:cubicBezTo>
                <a:cubicBezTo>
                  <a:pt x="710" y="269"/>
                  <a:pt x="710" y="268"/>
                  <a:pt x="710" y="270"/>
                </a:cubicBezTo>
                <a:cubicBezTo>
                  <a:pt x="710" y="271"/>
                  <a:pt x="711" y="273"/>
                  <a:pt x="713" y="273"/>
                </a:cubicBezTo>
                <a:cubicBezTo>
                  <a:pt x="715" y="274"/>
                  <a:pt x="714" y="275"/>
                  <a:pt x="714" y="277"/>
                </a:cubicBezTo>
                <a:cubicBezTo>
                  <a:pt x="715" y="278"/>
                  <a:pt x="713" y="280"/>
                  <a:pt x="714" y="282"/>
                </a:cubicBezTo>
                <a:cubicBezTo>
                  <a:pt x="714" y="283"/>
                  <a:pt x="713" y="289"/>
                  <a:pt x="712" y="289"/>
                </a:cubicBezTo>
                <a:cubicBezTo>
                  <a:pt x="711" y="290"/>
                  <a:pt x="710" y="289"/>
                  <a:pt x="708" y="289"/>
                </a:cubicBezTo>
                <a:cubicBezTo>
                  <a:pt x="707" y="289"/>
                  <a:pt x="705" y="288"/>
                  <a:pt x="704" y="289"/>
                </a:cubicBezTo>
                <a:cubicBezTo>
                  <a:pt x="703" y="289"/>
                  <a:pt x="700" y="289"/>
                  <a:pt x="697" y="289"/>
                </a:cubicBezTo>
                <a:cubicBezTo>
                  <a:pt x="694" y="288"/>
                  <a:pt x="692" y="288"/>
                  <a:pt x="690" y="288"/>
                </a:cubicBezTo>
                <a:cubicBezTo>
                  <a:pt x="687" y="289"/>
                  <a:pt x="687" y="287"/>
                  <a:pt x="685" y="287"/>
                </a:cubicBezTo>
                <a:cubicBezTo>
                  <a:pt x="683" y="287"/>
                  <a:pt x="684" y="289"/>
                  <a:pt x="681" y="289"/>
                </a:cubicBezTo>
                <a:cubicBezTo>
                  <a:pt x="679" y="289"/>
                  <a:pt x="679" y="291"/>
                  <a:pt x="680" y="292"/>
                </a:cubicBezTo>
                <a:cubicBezTo>
                  <a:pt x="682" y="294"/>
                  <a:pt x="681" y="298"/>
                  <a:pt x="681" y="299"/>
                </a:cubicBezTo>
                <a:cubicBezTo>
                  <a:pt x="682" y="301"/>
                  <a:pt x="680" y="308"/>
                  <a:pt x="679" y="310"/>
                </a:cubicBezTo>
                <a:cubicBezTo>
                  <a:pt x="677" y="312"/>
                  <a:pt x="679" y="312"/>
                  <a:pt x="680" y="313"/>
                </a:cubicBezTo>
                <a:cubicBezTo>
                  <a:pt x="682" y="315"/>
                  <a:pt x="681" y="319"/>
                  <a:pt x="681" y="321"/>
                </a:cubicBezTo>
                <a:cubicBezTo>
                  <a:pt x="681" y="322"/>
                  <a:pt x="682" y="321"/>
                  <a:pt x="684" y="321"/>
                </a:cubicBezTo>
                <a:cubicBezTo>
                  <a:pt x="686" y="321"/>
                  <a:pt x="688" y="320"/>
                  <a:pt x="690" y="321"/>
                </a:cubicBezTo>
                <a:cubicBezTo>
                  <a:pt x="692" y="322"/>
                  <a:pt x="693" y="326"/>
                  <a:pt x="695" y="326"/>
                </a:cubicBezTo>
                <a:cubicBezTo>
                  <a:pt x="696" y="326"/>
                  <a:pt x="696" y="325"/>
                  <a:pt x="696" y="324"/>
                </a:cubicBezTo>
                <a:cubicBezTo>
                  <a:pt x="697" y="324"/>
                  <a:pt x="697" y="324"/>
                  <a:pt x="698" y="324"/>
                </a:cubicBezTo>
                <a:cubicBezTo>
                  <a:pt x="699" y="324"/>
                  <a:pt x="700" y="323"/>
                  <a:pt x="702" y="323"/>
                </a:cubicBezTo>
                <a:cubicBezTo>
                  <a:pt x="705" y="323"/>
                  <a:pt x="706" y="323"/>
                  <a:pt x="708" y="323"/>
                </a:cubicBezTo>
                <a:cubicBezTo>
                  <a:pt x="709" y="323"/>
                  <a:pt x="710" y="322"/>
                  <a:pt x="711" y="321"/>
                </a:cubicBezTo>
                <a:cubicBezTo>
                  <a:pt x="711" y="320"/>
                  <a:pt x="712" y="319"/>
                  <a:pt x="714" y="319"/>
                </a:cubicBezTo>
                <a:cubicBezTo>
                  <a:pt x="716" y="319"/>
                  <a:pt x="716" y="317"/>
                  <a:pt x="716" y="316"/>
                </a:cubicBezTo>
                <a:cubicBezTo>
                  <a:pt x="716" y="315"/>
                  <a:pt x="719" y="313"/>
                  <a:pt x="719" y="313"/>
                </a:cubicBezTo>
                <a:cubicBezTo>
                  <a:pt x="719" y="312"/>
                  <a:pt x="717" y="309"/>
                  <a:pt x="719" y="306"/>
                </a:cubicBezTo>
                <a:cubicBezTo>
                  <a:pt x="721" y="304"/>
                  <a:pt x="722" y="304"/>
                  <a:pt x="722" y="302"/>
                </a:cubicBezTo>
                <a:cubicBezTo>
                  <a:pt x="722" y="301"/>
                  <a:pt x="724" y="300"/>
                  <a:pt x="726" y="300"/>
                </a:cubicBezTo>
                <a:cubicBezTo>
                  <a:pt x="728" y="300"/>
                  <a:pt x="729" y="298"/>
                  <a:pt x="731" y="298"/>
                </a:cubicBezTo>
                <a:cubicBezTo>
                  <a:pt x="733" y="297"/>
                  <a:pt x="733" y="295"/>
                  <a:pt x="732" y="293"/>
                </a:cubicBezTo>
                <a:cubicBezTo>
                  <a:pt x="732" y="291"/>
                  <a:pt x="734" y="289"/>
                  <a:pt x="736" y="289"/>
                </a:cubicBezTo>
                <a:cubicBezTo>
                  <a:pt x="738" y="288"/>
                  <a:pt x="743" y="290"/>
                  <a:pt x="744" y="291"/>
                </a:cubicBezTo>
                <a:cubicBezTo>
                  <a:pt x="745" y="291"/>
                  <a:pt x="747" y="291"/>
                  <a:pt x="749" y="289"/>
                </a:cubicBezTo>
                <a:cubicBezTo>
                  <a:pt x="751" y="287"/>
                  <a:pt x="752" y="287"/>
                  <a:pt x="753" y="287"/>
                </a:cubicBezTo>
                <a:cubicBezTo>
                  <a:pt x="755" y="286"/>
                  <a:pt x="754" y="285"/>
                  <a:pt x="756" y="284"/>
                </a:cubicBezTo>
                <a:cubicBezTo>
                  <a:pt x="759" y="283"/>
                  <a:pt x="761" y="285"/>
                  <a:pt x="762" y="287"/>
                </a:cubicBezTo>
                <a:cubicBezTo>
                  <a:pt x="763" y="288"/>
                  <a:pt x="763" y="288"/>
                  <a:pt x="764" y="289"/>
                </a:cubicBezTo>
                <a:cubicBezTo>
                  <a:pt x="764" y="290"/>
                  <a:pt x="765" y="292"/>
                  <a:pt x="768" y="294"/>
                </a:cubicBezTo>
                <a:cubicBezTo>
                  <a:pt x="771" y="296"/>
                  <a:pt x="772" y="298"/>
                  <a:pt x="773" y="299"/>
                </a:cubicBezTo>
                <a:cubicBezTo>
                  <a:pt x="775" y="300"/>
                  <a:pt x="777" y="300"/>
                  <a:pt x="777" y="301"/>
                </a:cubicBezTo>
                <a:cubicBezTo>
                  <a:pt x="778" y="302"/>
                  <a:pt x="780" y="303"/>
                  <a:pt x="781" y="303"/>
                </a:cubicBezTo>
                <a:cubicBezTo>
                  <a:pt x="783" y="304"/>
                  <a:pt x="783" y="306"/>
                  <a:pt x="784" y="306"/>
                </a:cubicBezTo>
                <a:cubicBezTo>
                  <a:pt x="786" y="306"/>
                  <a:pt x="785" y="307"/>
                  <a:pt x="786" y="308"/>
                </a:cubicBezTo>
                <a:cubicBezTo>
                  <a:pt x="786" y="309"/>
                  <a:pt x="787" y="312"/>
                  <a:pt x="786" y="313"/>
                </a:cubicBezTo>
                <a:cubicBezTo>
                  <a:pt x="785" y="314"/>
                  <a:pt x="785" y="316"/>
                  <a:pt x="786" y="316"/>
                </a:cubicBezTo>
                <a:cubicBezTo>
                  <a:pt x="787" y="316"/>
                  <a:pt x="788" y="314"/>
                  <a:pt x="788" y="313"/>
                </a:cubicBezTo>
                <a:cubicBezTo>
                  <a:pt x="788" y="312"/>
                  <a:pt x="790" y="312"/>
                  <a:pt x="791" y="310"/>
                </a:cubicBezTo>
                <a:cubicBezTo>
                  <a:pt x="792" y="309"/>
                  <a:pt x="789" y="309"/>
                  <a:pt x="789" y="307"/>
                </a:cubicBezTo>
                <a:cubicBezTo>
                  <a:pt x="788" y="305"/>
                  <a:pt x="790" y="304"/>
                  <a:pt x="793" y="305"/>
                </a:cubicBezTo>
                <a:cubicBezTo>
                  <a:pt x="795" y="307"/>
                  <a:pt x="796" y="308"/>
                  <a:pt x="796" y="305"/>
                </a:cubicBezTo>
                <a:cubicBezTo>
                  <a:pt x="796" y="303"/>
                  <a:pt x="789" y="300"/>
                  <a:pt x="787" y="299"/>
                </a:cubicBezTo>
                <a:cubicBezTo>
                  <a:pt x="786" y="298"/>
                  <a:pt x="787" y="297"/>
                  <a:pt x="784" y="297"/>
                </a:cubicBezTo>
                <a:cubicBezTo>
                  <a:pt x="782" y="297"/>
                  <a:pt x="779" y="294"/>
                  <a:pt x="778" y="290"/>
                </a:cubicBezTo>
                <a:cubicBezTo>
                  <a:pt x="777" y="286"/>
                  <a:pt x="773" y="286"/>
                  <a:pt x="772" y="284"/>
                </a:cubicBezTo>
                <a:cubicBezTo>
                  <a:pt x="771" y="282"/>
                  <a:pt x="773" y="282"/>
                  <a:pt x="772" y="280"/>
                </a:cubicBezTo>
                <a:cubicBezTo>
                  <a:pt x="771" y="278"/>
                  <a:pt x="775" y="277"/>
                  <a:pt x="776" y="277"/>
                </a:cubicBezTo>
                <a:cubicBezTo>
                  <a:pt x="778" y="278"/>
                  <a:pt x="777" y="280"/>
                  <a:pt x="778" y="280"/>
                </a:cubicBezTo>
                <a:cubicBezTo>
                  <a:pt x="779" y="280"/>
                  <a:pt x="781" y="280"/>
                  <a:pt x="781" y="281"/>
                </a:cubicBezTo>
                <a:cubicBezTo>
                  <a:pt x="781" y="283"/>
                  <a:pt x="784" y="286"/>
                  <a:pt x="785" y="287"/>
                </a:cubicBezTo>
                <a:cubicBezTo>
                  <a:pt x="786" y="289"/>
                  <a:pt x="788" y="288"/>
                  <a:pt x="788" y="289"/>
                </a:cubicBezTo>
                <a:cubicBezTo>
                  <a:pt x="788" y="290"/>
                  <a:pt x="790" y="291"/>
                  <a:pt x="792" y="291"/>
                </a:cubicBezTo>
                <a:cubicBezTo>
                  <a:pt x="794" y="291"/>
                  <a:pt x="797" y="295"/>
                  <a:pt x="799" y="296"/>
                </a:cubicBezTo>
                <a:cubicBezTo>
                  <a:pt x="801" y="297"/>
                  <a:pt x="802" y="297"/>
                  <a:pt x="800" y="299"/>
                </a:cubicBezTo>
                <a:cubicBezTo>
                  <a:pt x="799" y="300"/>
                  <a:pt x="799" y="304"/>
                  <a:pt x="800" y="305"/>
                </a:cubicBezTo>
                <a:cubicBezTo>
                  <a:pt x="802" y="306"/>
                  <a:pt x="802" y="308"/>
                  <a:pt x="803" y="309"/>
                </a:cubicBezTo>
                <a:cubicBezTo>
                  <a:pt x="805" y="309"/>
                  <a:pt x="806" y="311"/>
                  <a:pt x="805" y="312"/>
                </a:cubicBezTo>
                <a:cubicBezTo>
                  <a:pt x="805" y="314"/>
                  <a:pt x="807" y="314"/>
                  <a:pt x="808" y="313"/>
                </a:cubicBezTo>
                <a:cubicBezTo>
                  <a:pt x="809" y="312"/>
                  <a:pt x="812" y="314"/>
                  <a:pt x="812" y="315"/>
                </a:cubicBezTo>
                <a:cubicBezTo>
                  <a:pt x="812" y="315"/>
                  <a:pt x="812" y="315"/>
                  <a:pt x="811" y="315"/>
                </a:cubicBezTo>
                <a:cubicBezTo>
                  <a:pt x="810" y="314"/>
                  <a:pt x="809" y="314"/>
                  <a:pt x="808" y="315"/>
                </a:cubicBezTo>
                <a:cubicBezTo>
                  <a:pt x="806" y="316"/>
                  <a:pt x="809" y="317"/>
                  <a:pt x="809" y="319"/>
                </a:cubicBezTo>
                <a:cubicBezTo>
                  <a:pt x="808" y="320"/>
                  <a:pt x="809" y="322"/>
                  <a:pt x="811" y="321"/>
                </a:cubicBezTo>
                <a:cubicBezTo>
                  <a:pt x="812" y="321"/>
                  <a:pt x="812" y="322"/>
                  <a:pt x="813" y="322"/>
                </a:cubicBezTo>
                <a:cubicBezTo>
                  <a:pt x="814" y="323"/>
                  <a:pt x="814" y="324"/>
                  <a:pt x="815" y="323"/>
                </a:cubicBezTo>
                <a:cubicBezTo>
                  <a:pt x="816" y="323"/>
                  <a:pt x="814" y="320"/>
                  <a:pt x="814" y="319"/>
                </a:cubicBezTo>
                <a:cubicBezTo>
                  <a:pt x="814" y="319"/>
                  <a:pt x="815" y="319"/>
                  <a:pt x="815" y="319"/>
                </a:cubicBezTo>
                <a:cubicBezTo>
                  <a:pt x="816" y="319"/>
                  <a:pt x="817" y="319"/>
                  <a:pt x="817" y="319"/>
                </a:cubicBezTo>
                <a:cubicBezTo>
                  <a:pt x="818" y="318"/>
                  <a:pt x="816" y="317"/>
                  <a:pt x="815" y="317"/>
                </a:cubicBezTo>
                <a:cubicBezTo>
                  <a:pt x="815" y="317"/>
                  <a:pt x="814" y="317"/>
                  <a:pt x="815" y="317"/>
                </a:cubicBezTo>
                <a:cubicBezTo>
                  <a:pt x="815" y="316"/>
                  <a:pt x="816" y="316"/>
                  <a:pt x="817" y="316"/>
                </a:cubicBezTo>
                <a:cubicBezTo>
                  <a:pt x="818" y="317"/>
                  <a:pt x="819" y="316"/>
                  <a:pt x="820" y="316"/>
                </a:cubicBezTo>
                <a:cubicBezTo>
                  <a:pt x="820" y="316"/>
                  <a:pt x="821" y="313"/>
                  <a:pt x="818" y="313"/>
                </a:cubicBezTo>
                <a:cubicBezTo>
                  <a:pt x="817" y="312"/>
                  <a:pt x="817" y="313"/>
                  <a:pt x="816" y="313"/>
                </a:cubicBezTo>
                <a:cubicBezTo>
                  <a:pt x="816" y="313"/>
                  <a:pt x="816" y="314"/>
                  <a:pt x="815" y="313"/>
                </a:cubicBezTo>
                <a:cubicBezTo>
                  <a:pt x="813" y="311"/>
                  <a:pt x="816" y="312"/>
                  <a:pt x="816" y="310"/>
                </a:cubicBezTo>
                <a:cubicBezTo>
                  <a:pt x="816" y="309"/>
                  <a:pt x="814" y="307"/>
                  <a:pt x="813" y="306"/>
                </a:cubicBezTo>
                <a:cubicBezTo>
                  <a:pt x="812" y="304"/>
                  <a:pt x="814" y="303"/>
                  <a:pt x="815" y="305"/>
                </a:cubicBezTo>
                <a:cubicBezTo>
                  <a:pt x="816" y="306"/>
                  <a:pt x="817" y="305"/>
                  <a:pt x="818" y="305"/>
                </a:cubicBezTo>
                <a:cubicBezTo>
                  <a:pt x="819" y="305"/>
                  <a:pt x="817" y="303"/>
                  <a:pt x="819" y="302"/>
                </a:cubicBezTo>
                <a:cubicBezTo>
                  <a:pt x="821" y="301"/>
                  <a:pt x="821" y="302"/>
                  <a:pt x="822" y="303"/>
                </a:cubicBezTo>
                <a:cubicBezTo>
                  <a:pt x="822" y="303"/>
                  <a:pt x="823" y="301"/>
                  <a:pt x="825" y="301"/>
                </a:cubicBezTo>
                <a:cubicBezTo>
                  <a:pt x="827" y="301"/>
                  <a:pt x="828" y="304"/>
                  <a:pt x="830" y="304"/>
                </a:cubicBezTo>
                <a:cubicBezTo>
                  <a:pt x="832" y="304"/>
                  <a:pt x="833" y="302"/>
                  <a:pt x="834" y="301"/>
                </a:cubicBezTo>
                <a:cubicBezTo>
                  <a:pt x="835" y="301"/>
                  <a:pt x="836" y="301"/>
                  <a:pt x="837" y="301"/>
                </a:cubicBezTo>
                <a:cubicBezTo>
                  <a:pt x="838" y="301"/>
                  <a:pt x="839" y="301"/>
                  <a:pt x="840" y="301"/>
                </a:cubicBezTo>
                <a:cubicBezTo>
                  <a:pt x="841" y="300"/>
                  <a:pt x="838" y="299"/>
                  <a:pt x="837" y="298"/>
                </a:cubicBezTo>
                <a:cubicBezTo>
                  <a:pt x="836" y="297"/>
                  <a:pt x="836" y="295"/>
                  <a:pt x="835" y="295"/>
                </a:cubicBezTo>
                <a:cubicBezTo>
                  <a:pt x="834" y="295"/>
                  <a:pt x="833" y="292"/>
                  <a:pt x="834" y="292"/>
                </a:cubicBezTo>
                <a:cubicBezTo>
                  <a:pt x="835" y="291"/>
                  <a:pt x="836" y="288"/>
                  <a:pt x="838" y="288"/>
                </a:cubicBezTo>
                <a:cubicBezTo>
                  <a:pt x="839" y="288"/>
                  <a:pt x="838" y="286"/>
                  <a:pt x="838" y="285"/>
                </a:cubicBezTo>
                <a:cubicBezTo>
                  <a:pt x="839" y="284"/>
                  <a:pt x="839" y="282"/>
                  <a:pt x="841" y="281"/>
                </a:cubicBezTo>
                <a:cubicBezTo>
                  <a:pt x="842" y="281"/>
                  <a:pt x="843" y="281"/>
                  <a:pt x="843" y="279"/>
                </a:cubicBezTo>
                <a:cubicBezTo>
                  <a:pt x="843" y="277"/>
                  <a:pt x="843" y="277"/>
                  <a:pt x="845" y="276"/>
                </a:cubicBezTo>
                <a:cubicBezTo>
                  <a:pt x="847" y="274"/>
                  <a:pt x="847" y="272"/>
                  <a:pt x="848" y="271"/>
                </a:cubicBezTo>
                <a:cubicBezTo>
                  <a:pt x="850" y="271"/>
                  <a:pt x="851" y="270"/>
                  <a:pt x="853" y="271"/>
                </a:cubicBezTo>
                <a:cubicBezTo>
                  <a:pt x="856" y="271"/>
                  <a:pt x="852" y="273"/>
                  <a:pt x="854" y="273"/>
                </a:cubicBezTo>
                <a:cubicBezTo>
                  <a:pt x="854" y="274"/>
                  <a:pt x="856" y="274"/>
                  <a:pt x="857" y="274"/>
                </a:cubicBezTo>
                <a:cubicBezTo>
                  <a:pt x="859" y="274"/>
                  <a:pt x="860" y="274"/>
                  <a:pt x="860" y="274"/>
                </a:cubicBezTo>
                <a:cubicBezTo>
                  <a:pt x="861" y="276"/>
                  <a:pt x="855" y="277"/>
                  <a:pt x="855" y="278"/>
                </a:cubicBezTo>
                <a:cubicBezTo>
                  <a:pt x="855" y="278"/>
                  <a:pt x="858" y="279"/>
                  <a:pt x="859" y="280"/>
                </a:cubicBezTo>
                <a:cubicBezTo>
                  <a:pt x="860" y="280"/>
                  <a:pt x="859" y="282"/>
                  <a:pt x="859" y="283"/>
                </a:cubicBezTo>
                <a:cubicBezTo>
                  <a:pt x="860" y="283"/>
                  <a:pt x="861" y="283"/>
                  <a:pt x="863" y="282"/>
                </a:cubicBezTo>
                <a:cubicBezTo>
                  <a:pt x="864" y="281"/>
                  <a:pt x="865" y="281"/>
                  <a:pt x="867" y="280"/>
                </a:cubicBezTo>
                <a:cubicBezTo>
                  <a:pt x="868" y="280"/>
                  <a:pt x="869" y="280"/>
                  <a:pt x="870" y="280"/>
                </a:cubicBezTo>
                <a:cubicBezTo>
                  <a:pt x="871" y="280"/>
                  <a:pt x="872" y="280"/>
                  <a:pt x="872" y="279"/>
                </a:cubicBezTo>
                <a:cubicBezTo>
                  <a:pt x="873" y="279"/>
                  <a:pt x="871" y="278"/>
                  <a:pt x="868" y="278"/>
                </a:cubicBezTo>
                <a:cubicBezTo>
                  <a:pt x="865" y="279"/>
                  <a:pt x="865" y="275"/>
                  <a:pt x="865" y="275"/>
                </a:cubicBezTo>
                <a:cubicBezTo>
                  <a:pt x="865" y="274"/>
                  <a:pt x="868" y="272"/>
                  <a:pt x="870" y="271"/>
                </a:cubicBezTo>
                <a:cubicBezTo>
                  <a:pt x="872" y="271"/>
                  <a:pt x="874" y="271"/>
                  <a:pt x="875" y="270"/>
                </a:cubicBezTo>
                <a:cubicBezTo>
                  <a:pt x="877" y="269"/>
                  <a:pt x="883" y="268"/>
                  <a:pt x="883" y="269"/>
                </a:cubicBezTo>
                <a:cubicBezTo>
                  <a:pt x="884" y="270"/>
                  <a:pt x="879" y="272"/>
                  <a:pt x="878" y="272"/>
                </a:cubicBezTo>
                <a:cubicBezTo>
                  <a:pt x="877" y="272"/>
                  <a:pt x="880" y="273"/>
                  <a:pt x="880" y="274"/>
                </a:cubicBezTo>
                <a:cubicBezTo>
                  <a:pt x="880" y="275"/>
                  <a:pt x="877" y="275"/>
                  <a:pt x="877" y="277"/>
                </a:cubicBezTo>
                <a:cubicBezTo>
                  <a:pt x="877" y="278"/>
                  <a:pt x="876" y="279"/>
                  <a:pt x="875" y="279"/>
                </a:cubicBezTo>
                <a:cubicBezTo>
                  <a:pt x="873" y="279"/>
                  <a:pt x="873" y="279"/>
                  <a:pt x="874" y="280"/>
                </a:cubicBezTo>
                <a:cubicBezTo>
                  <a:pt x="874" y="280"/>
                  <a:pt x="874" y="282"/>
                  <a:pt x="877" y="282"/>
                </a:cubicBezTo>
                <a:cubicBezTo>
                  <a:pt x="880" y="283"/>
                  <a:pt x="883" y="285"/>
                  <a:pt x="885" y="288"/>
                </a:cubicBezTo>
                <a:cubicBezTo>
                  <a:pt x="887" y="290"/>
                  <a:pt x="892" y="289"/>
                  <a:pt x="893" y="292"/>
                </a:cubicBezTo>
                <a:cubicBezTo>
                  <a:pt x="893" y="295"/>
                  <a:pt x="895" y="294"/>
                  <a:pt x="894" y="297"/>
                </a:cubicBezTo>
                <a:cubicBezTo>
                  <a:pt x="894" y="299"/>
                  <a:pt x="887" y="302"/>
                  <a:pt x="885" y="301"/>
                </a:cubicBezTo>
                <a:cubicBezTo>
                  <a:pt x="884" y="300"/>
                  <a:pt x="880" y="301"/>
                  <a:pt x="878" y="301"/>
                </a:cubicBezTo>
                <a:cubicBezTo>
                  <a:pt x="875" y="301"/>
                  <a:pt x="875" y="299"/>
                  <a:pt x="873" y="299"/>
                </a:cubicBezTo>
                <a:cubicBezTo>
                  <a:pt x="871" y="300"/>
                  <a:pt x="871" y="298"/>
                  <a:pt x="869" y="298"/>
                </a:cubicBezTo>
                <a:cubicBezTo>
                  <a:pt x="867" y="298"/>
                  <a:pt x="869" y="297"/>
                  <a:pt x="863" y="296"/>
                </a:cubicBezTo>
                <a:cubicBezTo>
                  <a:pt x="857" y="295"/>
                  <a:pt x="852" y="298"/>
                  <a:pt x="850" y="300"/>
                </a:cubicBezTo>
                <a:cubicBezTo>
                  <a:pt x="849" y="301"/>
                  <a:pt x="846" y="301"/>
                  <a:pt x="843" y="301"/>
                </a:cubicBezTo>
                <a:cubicBezTo>
                  <a:pt x="842" y="301"/>
                  <a:pt x="841" y="300"/>
                  <a:pt x="841" y="301"/>
                </a:cubicBezTo>
                <a:cubicBezTo>
                  <a:pt x="840" y="301"/>
                  <a:pt x="841" y="303"/>
                  <a:pt x="839" y="304"/>
                </a:cubicBezTo>
                <a:cubicBezTo>
                  <a:pt x="837" y="304"/>
                  <a:pt x="835" y="304"/>
                  <a:pt x="834" y="304"/>
                </a:cubicBezTo>
                <a:cubicBezTo>
                  <a:pt x="832" y="304"/>
                  <a:pt x="830" y="304"/>
                  <a:pt x="830" y="305"/>
                </a:cubicBezTo>
                <a:cubicBezTo>
                  <a:pt x="828" y="305"/>
                  <a:pt x="827" y="308"/>
                  <a:pt x="829" y="308"/>
                </a:cubicBezTo>
                <a:cubicBezTo>
                  <a:pt x="830" y="308"/>
                  <a:pt x="831" y="308"/>
                  <a:pt x="830" y="309"/>
                </a:cubicBezTo>
                <a:cubicBezTo>
                  <a:pt x="830" y="310"/>
                  <a:pt x="832" y="311"/>
                  <a:pt x="831" y="312"/>
                </a:cubicBezTo>
                <a:cubicBezTo>
                  <a:pt x="830" y="313"/>
                  <a:pt x="830" y="314"/>
                  <a:pt x="831" y="315"/>
                </a:cubicBezTo>
                <a:cubicBezTo>
                  <a:pt x="832" y="316"/>
                  <a:pt x="832" y="317"/>
                  <a:pt x="831" y="317"/>
                </a:cubicBezTo>
                <a:cubicBezTo>
                  <a:pt x="830" y="317"/>
                  <a:pt x="833" y="319"/>
                  <a:pt x="833" y="320"/>
                </a:cubicBezTo>
                <a:cubicBezTo>
                  <a:pt x="833" y="320"/>
                  <a:pt x="836" y="320"/>
                  <a:pt x="836" y="321"/>
                </a:cubicBezTo>
                <a:cubicBezTo>
                  <a:pt x="836" y="322"/>
                  <a:pt x="837" y="322"/>
                  <a:pt x="838" y="322"/>
                </a:cubicBezTo>
                <a:cubicBezTo>
                  <a:pt x="839" y="321"/>
                  <a:pt x="840" y="323"/>
                  <a:pt x="841" y="325"/>
                </a:cubicBezTo>
                <a:cubicBezTo>
                  <a:pt x="841" y="326"/>
                  <a:pt x="846" y="325"/>
                  <a:pt x="846" y="324"/>
                </a:cubicBezTo>
                <a:cubicBezTo>
                  <a:pt x="846" y="322"/>
                  <a:pt x="847" y="322"/>
                  <a:pt x="850" y="322"/>
                </a:cubicBezTo>
                <a:cubicBezTo>
                  <a:pt x="852" y="322"/>
                  <a:pt x="854" y="325"/>
                  <a:pt x="855" y="325"/>
                </a:cubicBezTo>
                <a:cubicBezTo>
                  <a:pt x="856" y="326"/>
                  <a:pt x="858" y="325"/>
                  <a:pt x="860" y="325"/>
                </a:cubicBezTo>
                <a:cubicBezTo>
                  <a:pt x="861" y="325"/>
                  <a:pt x="863" y="323"/>
                  <a:pt x="864" y="322"/>
                </a:cubicBezTo>
                <a:cubicBezTo>
                  <a:pt x="864" y="322"/>
                  <a:pt x="865" y="322"/>
                  <a:pt x="865" y="323"/>
                </a:cubicBezTo>
                <a:cubicBezTo>
                  <a:pt x="866" y="323"/>
                  <a:pt x="866" y="323"/>
                  <a:pt x="867" y="323"/>
                </a:cubicBezTo>
                <a:cubicBezTo>
                  <a:pt x="868" y="322"/>
                  <a:pt x="869" y="322"/>
                  <a:pt x="870" y="322"/>
                </a:cubicBezTo>
                <a:cubicBezTo>
                  <a:pt x="871" y="322"/>
                  <a:pt x="868" y="324"/>
                  <a:pt x="869" y="325"/>
                </a:cubicBezTo>
                <a:cubicBezTo>
                  <a:pt x="870" y="326"/>
                  <a:pt x="868" y="328"/>
                  <a:pt x="869" y="329"/>
                </a:cubicBezTo>
                <a:cubicBezTo>
                  <a:pt x="870" y="330"/>
                  <a:pt x="869" y="331"/>
                  <a:pt x="869" y="333"/>
                </a:cubicBezTo>
                <a:cubicBezTo>
                  <a:pt x="869" y="334"/>
                  <a:pt x="865" y="338"/>
                  <a:pt x="865" y="341"/>
                </a:cubicBezTo>
                <a:cubicBezTo>
                  <a:pt x="864" y="344"/>
                  <a:pt x="862" y="349"/>
                  <a:pt x="861" y="349"/>
                </a:cubicBezTo>
                <a:cubicBezTo>
                  <a:pt x="861" y="350"/>
                  <a:pt x="860" y="349"/>
                  <a:pt x="859" y="349"/>
                </a:cubicBezTo>
                <a:cubicBezTo>
                  <a:pt x="859" y="349"/>
                  <a:pt x="858" y="349"/>
                  <a:pt x="857" y="349"/>
                </a:cubicBezTo>
                <a:cubicBezTo>
                  <a:pt x="855" y="350"/>
                  <a:pt x="853" y="349"/>
                  <a:pt x="851" y="348"/>
                </a:cubicBezTo>
                <a:cubicBezTo>
                  <a:pt x="849" y="347"/>
                  <a:pt x="843" y="348"/>
                  <a:pt x="842" y="349"/>
                </a:cubicBezTo>
                <a:cubicBezTo>
                  <a:pt x="842" y="351"/>
                  <a:pt x="840" y="351"/>
                  <a:pt x="838" y="350"/>
                </a:cubicBezTo>
                <a:cubicBezTo>
                  <a:pt x="836" y="349"/>
                  <a:pt x="833" y="348"/>
                  <a:pt x="830" y="348"/>
                </a:cubicBezTo>
                <a:cubicBezTo>
                  <a:pt x="826" y="347"/>
                  <a:pt x="824" y="347"/>
                  <a:pt x="823" y="346"/>
                </a:cubicBezTo>
                <a:cubicBezTo>
                  <a:pt x="823" y="345"/>
                  <a:pt x="821" y="345"/>
                  <a:pt x="818" y="344"/>
                </a:cubicBezTo>
                <a:cubicBezTo>
                  <a:pt x="814" y="344"/>
                  <a:pt x="815" y="341"/>
                  <a:pt x="811" y="341"/>
                </a:cubicBezTo>
                <a:cubicBezTo>
                  <a:pt x="807" y="341"/>
                  <a:pt x="802" y="344"/>
                  <a:pt x="802" y="346"/>
                </a:cubicBezTo>
                <a:cubicBezTo>
                  <a:pt x="802" y="348"/>
                  <a:pt x="804" y="350"/>
                  <a:pt x="802" y="351"/>
                </a:cubicBezTo>
                <a:cubicBezTo>
                  <a:pt x="801" y="353"/>
                  <a:pt x="798" y="353"/>
                  <a:pt x="796" y="351"/>
                </a:cubicBezTo>
                <a:cubicBezTo>
                  <a:pt x="794" y="350"/>
                  <a:pt x="790" y="349"/>
                  <a:pt x="788" y="349"/>
                </a:cubicBezTo>
                <a:cubicBezTo>
                  <a:pt x="785" y="349"/>
                  <a:pt x="783" y="347"/>
                  <a:pt x="784" y="346"/>
                </a:cubicBezTo>
                <a:cubicBezTo>
                  <a:pt x="784" y="344"/>
                  <a:pt x="783" y="344"/>
                  <a:pt x="781" y="343"/>
                </a:cubicBezTo>
                <a:cubicBezTo>
                  <a:pt x="779" y="343"/>
                  <a:pt x="777" y="341"/>
                  <a:pt x="773" y="342"/>
                </a:cubicBezTo>
                <a:cubicBezTo>
                  <a:pt x="769" y="342"/>
                  <a:pt x="767" y="340"/>
                  <a:pt x="767" y="339"/>
                </a:cubicBezTo>
                <a:cubicBezTo>
                  <a:pt x="767" y="338"/>
                  <a:pt x="765" y="337"/>
                  <a:pt x="765" y="337"/>
                </a:cubicBezTo>
                <a:cubicBezTo>
                  <a:pt x="764" y="338"/>
                  <a:pt x="762" y="337"/>
                  <a:pt x="762" y="336"/>
                </a:cubicBezTo>
                <a:cubicBezTo>
                  <a:pt x="761" y="334"/>
                  <a:pt x="763" y="334"/>
                  <a:pt x="765" y="333"/>
                </a:cubicBezTo>
                <a:cubicBezTo>
                  <a:pt x="767" y="331"/>
                  <a:pt x="767" y="329"/>
                  <a:pt x="765" y="327"/>
                </a:cubicBezTo>
                <a:cubicBezTo>
                  <a:pt x="763" y="326"/>
                  <a:pt x="764" y="325"/>
                  <a:pt x="766" y="324"/>
                </a:cubicBezTo>
                <a:cubicBezTo>
                  <a:pt x="767" y="322"/>
                  <a:pt x="766" y="321"/>
                  <a:pt x="765" y="322"/>
                </a:cubicBezTo>
                <a:cubicBezTo>
                  <a:pt x="764" y="323"/>
                  <a:pt x="763" y="323"/>
                  <a:pt x="763" y="321"/>
                </a:cubicBezTo>
                <a:cubicBezTo>
                  <a:pt x="763" y="320"/>
                  <a:pt x="759" y="320"/>
                  <a:pt x="757" y="321"/>
                </a:cubicBezTo>
                <a:cubicBezTo>
                  <a:pt x="756" y="322"/>
                  <a:pt x="752" y="321"/>
                  <a:pt x="751" y="321"/>
                </a:cubicBezTo>
                <a:cubicBezTo>
                  <a:pt x="750" y="321"/>
                  <a:pt x="748" y="321"/>
                  <a:pt x="747" y="321"/>
                </a:cubicBezTo>
                <a:cubicBezTo>
                  <a:pt x="745" y="321"/>
                  <a:pt x="742" y="324"/>
                  <a:pt x="741" y="323"/>
                </a:cubicBezTo>
                <a:cubicBezTo>
                  <a:pt x="740" y="321"/>
                  <a:pt x="728" y="323"/>
                  <a:pt x="725" y="323"/>
                </a:cubicBezTo>
                <a:cubicBezTo>
                  <a:pt x="722" y="324"/>
                  <a:pt x="720" y="327"/>
                  <a:pt x="718" y="327"/>
                </a:cubicBezTo>
                <a:cubicBezTo>
                  <a:pt x="716" y="327"/>
                  <a:pt x="713" y="329"/>
                  <a:pt x="712" y="330"/>
                </a:cubicBezTo>
                <a:cubicBezTo>
                  <a:pt x="710" y="332"/>
                  <a:pt x="707" y="330"/>
                  <a:pt x="705" y="330"/>
                </a:cubicBezTo>
                <a:cubicBezTo>
                  <a:pt x="704" y="330"/>
                  <a:pt x="704" y="330"/>
                  <a:pt x="703" y="330"/>
                </a:cubicBezTo>
                <a:cubicBezTo>
                  <a:pt x="701" y="330"/>
                  <a:pt x="699" y="331"/>
                  <a:pt x="698" y="329"/>
                </a:cubicBezTo>
                <a:cubicBezTo>
                  <a:pt x="696" y="327"/>
                  <a:pt x="695" y="327"/>
                  <a:pt x="694" y="327"/>
                </a:cubicBezTo>
                <a:cubicBezTo>
                  <a:pt x="693" y="328"/>
                  <a:pt x="691" y="334"/>
                  <a:pt x="689" y="336"/>
                </a:cubicBezTo>
                <a:cubicBezTo>
                  <a:pt x="688" y="338"/>
                  <a:pt x="685" y="339"/>
                  <a:pt x="683" y="339"/>
                </a:cubicBezTo>
                <a:cubicBezTo>
                  <a:pt x="681" y="339"/>
                  <a:pt x="681" y="342"/>
                  <a:pt x="680" y="343"/>
                </a:cubicBezTo>
                <a:cubicBezTo>
                  <a:pt x="678" y="344"/>
                  <a:pt x="679" y="346"/>
                  <a:pt x="677" y="347"/>
                </a:cubicBezTo>
                <a:cubicBezTo>
                  <a:pt x="676" y="348"/>
                  <a:pt x="676" y="352"/>
                  <a:pt x="677" y="353"/>
                </a:cubicBezTo>
                <a:cubicBezTo>
                  <a:pt x="678" y="355"/>
                  <a:pt x="674" y="359"/>
                  <a:pt x="672" y="360"/>
                </a:cubicBezTo>
                <a:cubicBezTo>
                  <a:pt x="670" y="362"/>
                  <a:pt x="669" y="364"/>
                  <a:pt x="666" y="364"/>
                </a:cubicBezTo>
                <a:cubicBezTo>
                  <a:pt x="663" y="365"/>
                  <a:pt x="661" y="368"/>
                  <a:pt x="661" y="370"/>
                </a:cubicBezTo>
                <a:cubicBezTo>
                  <a:pt x="660" y="372"/>
                  <a:pt x="655" y="375"/>
                  <a:pt x="655" y="378"/>
                </a:cubicBezTo>
                <a:cubicBezTo>
                  <a:pt x="655" y="380"/>
                  <a:pt x="650" y="385"/>
                  <a:pt x="647" y="391"/>
                </a:cubicBezTo>
                <a:cubicBezTo>
                  <a:pt x="645" y="397"/>
                  <a:pt x="647" y="398"/>
                  <a:pt x="649" y="400"/>
                </a:cubicBezTo>
                <a:cubicBezTo>
                  <a:pt x="650" y="401"/>
                  <a:pt x="648" y="404"/>
                  <a:pt x="650" y="407"/>
                </a:cubicBezTo>
                <a:cubicBezTo>
                  <a:pt x="651" y="409"/>
                  <a:pt x="649" y="413"/>
                  <a:pt x="648" y="415"/>
                </a:cubicBezTo>
                <a:cubicBezTo>
                  <a:pt x="647" y="416"/>
                  <a:pt x="648" y="420"/>
                  <a:pt x="646" y="422"/>
                </a:cubicBezTo>
                <a:cubicBezTo>
                  <a:pt x="645" y="424"/>
                  <a:pt x="647" y="427"/>
                  <a:pt x="648" y="428"/>
                </a:cubicBezTo>
                <a:cubicBezTo>
                  <a:pt x="649" y="429"/>
                  <a:pt x="647" y="432"/>
                  <a:pt x="648" y="433"/>
                </a:cubicBezTo>
                <a:cubicBezTo>
                  <a:pt x="650" y="435"/>
                  <a:pt x="650" y="436"/>
                  <a:pt x="652" y="436"/>
                </a:cubicBezTo>
                <a:cubicBezTo>
                  <a:pt x="655" y="437"/>
                  <a:pt x="652" y="438"/>
                  <a:pt x="654" y="440"/>
                </a:cubicBezTo>
                <a:cubicBezTo>
                  <a:pt x="656" y="441"/>
                  <a:pt x="656" y="442"/>
                  <a:pt x="657" y="444"/>
                </a:cubicBezTo>
                <a:cubicBezTo>
                  <a:pt x="659" y="445"/>
                  <a:pt x="662" y="447"/>
                  <a:pt x="663" y="451"/>
                </a:cubicBezTo>
                <a:cubicBezTo>
                  <a:pt x="664" y="454"/>
                  <a:pt x="665" y="455"/>
                  <a:pt x="666" y="456"/>
                </a:cubicBezTo>
                <a:cubicBezTo>
                  <a:pt x="668" y="457"/>
                  <a:pt x="672" y="459"/>
                  <a:pt x="675" y="462"/>
                </a:cubicBezTo>
                <a:cubicBezTo>
                  <a:pt x="678" y="464"/>
                  <a:pt x="683" y="467"/>
                  <a:pt x="685" y="468"/>
                </a:cubicBezTo>
                <a:cubicBezTo>
                  <a:pt x="687" y="469"/>
                  <a:pt x="692" y="467"/>
                  <a:pt x="699" y="465"/>
                </a:cubicBezTo>
                <a:cubicBezTo>
                  <a:pt x="705" y="464"/>
                  <a:pt x="709" y="467"/>
                  <a:pt x="710" y="467"/>
                </a:cubicBezTo>
                <a:cubicBezTo>
                  <a:pt x="711" y="467"/>
                  <a:pt x="716" y="465"/>
                  <a:pt x="718" y="464"/>
                </a:cubicBezTo>
                <a:cubicBezTo>
                  <a:pt x="720" y="463"/>
                  <a:pt x="723" y="462"/>
                  <a:pt x="724" y="461"/>
                </a:cubicBezTo>
                <a:cubicBezTo>
                  <a:pt x="725" y="460"/>
                  <a:pt x="728" y="460"/>
                  <a:pt x="729" y="460"/>
                </a:cubicBezTo>
                <a:cubicBezTo>
                  <a:pt x="731" y="460"/>
                  <a:pt x="731" y="458"/>
                  <a:pt x="732" y="459"/>
                </a:cubicBezTo>
                <a:cubicBezTo>
                  <a:pt x="733" y="460"/>
                  <a:pt x="736" y="460"/>
                  <a:pt x="739" y="461"/>
                </a:cubicBezTo>
                <a:cubicBezTo>
                  <a:pt x="741" y="461"/>
                  <a:pt x="743" y="464"/>
                  <a:pt x="743" y="465"/>
                </a:cubicBezTo>
                <a:cubicBezTo>
                  <a:pt x="742" y="466"/>
                  <a:pt x="744" y="468"/>
                  <a:pt x="745" y="469"/>
                </a:cubicBezTo>
                <a:cubicBezTo>
                  <a:pt x="746" y="469"/>
                  <a:pt x="748" y="468"/>
                  <a:pt x="749" y="468"/>
                </a:cubicBezTo>
                <a:cubicBezTo>
                  <a:pt x="750" y="468"/>
                  <a:pt x="754" y="468"/>
                  <a:pt x="755" y="467"/>
                </a:cubicBezTo>
                <a:cubicBezTo>
                  <a:pt x="756" y="466"/>
                  <a:pt x="756" y="468"/>
                  <a:pt x="757" y="469"/>
                </a:cubicBezTo>
                <a:cubicBezTo>
                  <a:pt x="758" y="470"/>
                  <a:pt x="759" y="470"/>
                  <a:pt x="759" y="470"/>
                </a:cubicBezTo>
                <a:cubicBezTo>
                  <a:pt x="760" y="470"/>
                  <a:pt x="760" y="470"/>
                  <a:pt x="760" y="470"/>
                </a:cubicBezTo>
                <a:cubicBezTo>
                  <a:pt x="761" y="470"/>
                  <a:pt x="762" y="473"/>
                  <a:pt x="762" y="474"/>
                </a:cubicBezTo>
                <a:cubicBezTo>
                  <a:pt x="761" y="475"/>
                  <a:pt x="760" y="477"/>
                  <a:pt x="761" y="478"/>
                </a:cubicBezTo>
                <a:cubicBezTo>
                  <a:pt x="762" y="479"/>
                  <a:pt x="761" y="480"/>
                  <a:pt x="760" y="481"/>
                </a:cubicBezTo>
                <a:cubicBezTo>
                  <a:pt x="759" y="481"/>
                  <a:pt x="759" y="483"/>
                  <a:pt x="760" y="483"/>
                </a:cubicBezTo>
                <a:cubicBezTo>
                  <a:pt x="761" y="483"/>
                  <a:pt x="760" y="484"/>
                  <a:pt x="759" y="485"/>
                </a:cubicBezTo>
                <a:cubicBezTo>
                  <a:pt x="759" y="485"/>
                  <a:pt x="760" y="486"/>
                  <a:pt x="761" y="487"/>
                </a:cubicBezTo>
                <a:cubicBezTo>
                  <a:pt x="761" y="488"/>
                  <a:pt x="758" y="487"/>
                  <a:pt x="758" y="489"/>
                </a:cubicBezTo>
                <a:cubicBezTo>
                  <a:pt x="759" y="490"/>
                  <a:pt x="758" y="491"/>
                  <a:pt x="757" y="491"/>
                </a:cubicBezTo>
                <a:cubicBezTo>
                  <a:pt x="756" y="492"/>
                  <a:pt x="759" y="494"/>
                  <a:pt x="759" y="495"/>
                </a:cubicBezTo>
                <a:cubicBezTo>
                  <a:pt x="759" y="496"/>
                  <a:pt x="760" y="497"/>
                  <a:pt x="762" y="499"/>
                </a:cubicBezTo>
                <a:cubicBezTo>
                  <a:pt x="764" y="501"/>
                  <a:pt x="763" y="502"/>
                  <a:pt x="767" y="504"/>
                </a:cubicBezTo>
                <a:cubicBezTo>
                  <a:pt x="770" y="507"/>
                  <a:pt x="771" y="511"/>
                  <a:pt x="772" y="514"/>
                </a:cubicBezTo>
                <a:cubicBezTo>
                  <a:pt x="772" y="516"/>
                  <a:pt x="775" y="522"/>
                  <a:pt x="776" y="523"/>
                </a:cubicBezTo>
                <a:cubicBezTo>
                  <a:pt x="776" y="524"/>
                  <a:pt x="775" y="525"/>
                  <a:pt x="775" y="527"/>
                </a:cubicBezTo>
                <a:cubicBezTo>
                  <a:pt x="775" y="530"/>
                  <a:pt x="777" y="534"/>
                  <a:pt x="777" y="536"/>
                </a:cubicBezTo>
                <a:cubicBezTo>
                  <a:pt x="778" y="539"/>
                  <a:pt x="776" y="541"/>
                  <a:pt x="774" y="542"/>
                </a:cubicBezTo>
                <a:cubicBezTo>
                  <a:pt x="773" y="544"/>
                  <a:pt x="771" y="548"/>
                  <a:pt x="771" y="551"/>
                </a:cubicBezTo>
                <a:cubicBezTo>
                  <a:pt x="771" y="553"/>
                  <a:pt x="769" y="555"/>
                  <a:pt x="769" y="557"/>
                </a:cubicBezTo>
                <a:cubicBezTo>
                  <a:pt x="769" y="558"/>
                  <a:pt x="769" y="561"/>
                  <a:pt x="769" y="562"/>
                </a:cubicBezTo>
                <a:cubicBezTo>
                  <a:pt x="768" y="564"/>
                  <a:pt x="770" y="566"/>
                  <a:pt x="771" y="568"/>
                </a:cubicBezTo>
                <a:cubicBezTo>
                  <a:pt x="772" y="570"/>
                  <a:pt x="774" y="574"/>
                  <a:pt x="775" y="577"/>
                </a:cubicBezTo>
                <a:cubicBezTo>
                  <a:pt x="776" y="580"/>
                  <a:pt x="779" y="583"/>
                  <a:pt x="779" y="585"/>
                </a:cubicBezTo>
                <a:cubicBezTo>
                  <a:pt x="780" y="588"/>
                  <a:pt x="779" y="591"/>
                  <a:pt x="780" y="593"/>
                </a:cubicBezTo>
                <a:cubicBezTo>
                  <a:pt x="780" y="594"/>
                  <a:pt x="781" y="597"/>
                  <a:pt x="781" y="599"/>
                </a:cubicBezTo>
                <a:cubicBezTo>
                  <a:pt x="782" y="602"/>
                  <a:pt x="782" y="607"/>
                  <a:pt x="784" y="610"/>
                </a:cubicBezTo>
                <a:cubicBezTo>
                  <a:pt x="786" y="612"/>
                  <a:pt x="789" y="616"/>
                  <a:pt x="790" y="620"/>
                </a:cubicBezTo>
                <a:cubicBezTo>
                  <a:pt x="791" y="623"/>
                  <a:pt x="793" y="626"/>
                  <a:pt x="794" y="628"/>
                </a:cubicBezTo>
                <a:cubicBezTo>
                  <a:pt x="795" y="630"/>
                  <a:pt x="795" y="632"/>
                  <a:pt x="794" y="632"/>
                </a:cubicBezTo>
                <a:cubicBezTo>
                  <a:pt x="793" y="632"/>
                  <a:pt x="793" y="633"/>
                  <a:pt x="794" y="636"/>
                </a:cubicBezTo>
                <a:cubicBezTo>
                  <a:pt x="795" y="638"/>
                  <a:pt x="794" y="639"/>
                  <a:pt x="795" y="639"/>
                </a:cubicBezTo>
                <a:cubicBezTo>
                  <a:pt x="797" y="639"/>
                  <a:pt x="796" y="640"/>
                  <a:pt x="797" y="640"/>
                </a:cubicBezTo>
                <a:cubicBezTo>
                  <a:pt x="798" y="640"/>
                  <a:pt x="799" y="641"/>
                  <a:pt x="799" y="642"/>
                </a:cubicBezTo>
                <a:cubicBezTo>
                  <a:pt x="800" y="643"/>
                  <a:pt x="802" y="643"/>
                  <a:pt x="802" y="642"/>
                </a:cubicBezTo>
                <a:cubicBezTo>
                  <a:pt x="803" y="641"/>
                  <a:pt x="805" y="641"/>
                  <a:pt x="807" y="641"/>
                </a:cubicBezTo>
                <a:cubicBezTo>
                  <a:pt x="809" y="641"/>
                  <a:pt x="809" y="640"/>
                  <a:pt x="811" y="639"/>
                </a:cubicBezTo>
                <a:cubicBezTo>
                  <a:pt x="813" y="638"/>
                  <a:pt x="816" y="638"/>
                  <a:pt x="818" y="639"/>
                </a:cubicBezTo>
                <a:cubicBezTo>
                  <a:pt x="819" y="640"/>
                  <a:pt x="821" y="639"/>
                  <a:pt x="822" y="638"/>
                </a:cubicBezTo>
                <a:cubicBezTo>
                  <a:pt x="822" y="638"/>
                  <a:pt x="823" y="638"/>
                  <a:pt x="823" y="638"/>
                </a:cubicBezTo>
                <a:cubicBezTo>
                  <a:pt x="824" y="639"/>
                  <a:pt x="824" y="639"/>
                  <a:pt x="824" y="638"/>
                </a:cubicBezTo>
                <a:cubicBezTo>
                  <a:pt x="825" y="636"/>
                  <a:pt x="826" y="637"/>
                  <a:pt x="828" y="637"/>
                </a:cubicBezTo>
                <a:cubicBezTo>
                  <a:pt x="830" y="637"/>
                  <a:pt x="834" y="634"/>
                  <a:pt x="837" y="631"/>
                </a:cubicBezTo>
                <a:cubicBezTo>
                  <a:pt x="840" y="628"/>
                  <a:pt x="845" y="622"/>
                  <a:pt x="847" y="619"/>
                </a:cubicBezTo>
                <a:cubicBezTo>
                  <a:pt x="849" y="616"/>
                  <a:pt x="851" y="613"/>
                  <a:pt x="853" y="612"/>
                </a:cubicBezTo>
                <a:cubicBezTo>
                  <a:pt x="854" y="611"/>
                  <a:pt x="855" y="605"/>
                  <a:pt x="855" y="603"/>
                </a:cubicBezTo>
                <a:cubicBezTo>
                  <a:pt x="855" y="602"/>
                  <a:pt x="855" y="602"/>
                  <a:pt x="854" y="602"/>
                </a:cubicBezTo>
                <a:cubicBezTo>
                  <a:pt x="854" y="602"/>
                  <a:pt x="854" y="602"/>
                  <a:pt x="853" y="601"/>
                </a:cubicBezTo>
                <a:cubicBezTo>
                  <a:pt x="853" y="600"/>
                  <a:pt x="856" y="598"/>
                  <a:pt x="860" y="596"/>
                </a:cubicBezTo>
                <a:cubicBezTo>
                  <a:pt x="864" y="595"/>
                  <a:pt x="865" y="594"/>
                  <a:pt x="865" y="593"/>
                </a:cubicBezTo>
                <a:cubicBezTo>
                  <a:pt x="866" y="592"/>
                  <a:pt x="865" y="588"/>
                  <a:pt x="866" y="587"/>
                </a:cubicBezTo>
                <a:cubicBezTo>
                  <a:pt x="866" y="586"/>
                  <a:pt x="866" y="585"/>
                  <a:pt x="865" y="582"/>
                </a:cubicBezTo>
                <a:cubicBezTo>
                  <a:pt x="865" y="578"/>
                  <a:pt x="863" y="578"/>
                  <a:pt x="863" y="576"/>
                </a:cubicBezTo>
                <a:cubicBezTo>
                  <a:pt x="862" y="574"/>
                  <a:pt x="863" y="573"/>
                  <a:pt x="864" y="573"/>
                </a:cubicBezTo>
                <a:cubicBezTo>
                  <a:pt x="865" y="573"/>
                  <a:pt x="865" y="572"/>
                  <a:pt x="866" y="571"/>
                </a:cubicBezTo>
                <a:cubicBezTo>
                  <a:pt x="867" y="569"/>
                  <a:pt x="868" y="570"/>
                  <a:pt x="869" y="568"/>
                </a:cubicBezTo>
                <a:cubicBezTo>
                  <a:pt x="871" y="567"/>
                  <a:pt x="871" y="566"/>
                  <a:pt x="874" y="564"/>
                </a:cubicBezTo>
                <a:cubicBezTo>
                  <a:pt x="876" y="562"/>
                  <a:pt x="879" y="562"/>
                  <a:pt x="882" y="560"/>
                </a:cubicBezTo>
                <a:cubicBezTo>
                  <a:pt x="885" y="558"/>
                  <a:pt x="889" y="552"/>
                  <a:pt x="889" y="551"/>
                </a:cubicBezTo>
                <a:cubicBezTo>
                  <a:pt x="888" y="550"/>
                  <a:pt x="887" y="545"/>
                  <a:pt x="888" y="543"/>
                </a:cubicBezTo>
                <a:cubicBezTo>
                  <a:pt x="888" y="541"/>
                  <a:pt x="887" y="535"/>
                  <a:pt x="887" y="533"/>
                </a:cubicBezTo>
                <a:cubicBezTo>
                  <a:pt x="887" y="530"/>
                  <a:pt x="884" y="531"/>
                  <a:pt x="884" y="529"/>
                </a:cubicBezTo>
                <a:cubicBezTo>
                  <a:pt x="884" y="526"/>
                  <a:pt x="883" y="526"/>
                  <a:pt x="883" y="524"/>
                </a:cubicBezTo>
                <a:cubicBezTo>
                  <a:pt x="883" y="523"/>
                  <a:pt x="883" y="521"/>
                  <a:pt x="882" y="521"/>
                </a:cubicBezTo>
                <a:cubicBezTo>
                  <a:pt x="882" y="521"/>
                  <a:pt x="882" y="519"/>
                  <a:pt x="883" y="518"/>
                </a:cubicBezTo>
                <a:cubicBezTo>
                  <a:pt x="884" y="516"/>
                  <a:pt x="881" y="516"/>
                  <a:pt x="881" y="514"/>
                </a:cubicBezTo>
                <a:cubicBezTo>
                  <a:pt x="880" y="512"/>
                  <a:pt x="886" y="500"/>
                  <a:pt x="887" y="498"/>
                </a:cubicBezTo>
                <a:cubicBezTo>
                  <a:pt x="888" y="497"/>
                  <a:pt x="889" y="497"/>
                  <a:pt x="889" y="496"/>
                </a:cubicBezTo>
                <a:cubicBezTo>
                  <a:pt x="890" y="496"/>
                  <a:pt x="890" y="496"/>
                  <a:pt x="890" y="496"/>
                </a:cubicBezTo>
                <a:cubicBezTo>
                  <a:pt x="891" y="496"/>
                  <a:pt x="891" y="496"/>
                  <a:pt x="892" y="495"/>
                </a:cubicBezTo>
                <a:cubicBezTo>
                  <a:pt x="893" y="493"/>
                  <a:pt x="898" y="488"/>
                  <a:pt x="902" y="484"/>
                </a:cubicBezTo>
                <a:cubicBezTo>
                  <a:pt x="905" y="480"/>
                  <a:pt x="907" y="480"/>
                  <a:pt x="909" y="479"/>
                </a:cubicBezTo>
                <a:cubicBezTo>
                  <a:pt x="911" y="478"/>
                  <a:pt x="916" y="473"/>
                  <a:pt x="919" y="468"/>
                </a:cubicBezTo>
                <a:cubicBezTo>
                  <a:pt x="922" y="465"/>
                  <a:pt x="924" y="462"/>
                  <a:pt x="924" y="460"/>
                </a:cubicBezTo>
                <a:cubicBezTo>
                  <a:pt x="925" y="458"/>
                  <a:pt x="927" y="456"/>
                  <a:pt x="928" y="454"/>
                </a:cubicBezTo>
                <a:cubicBezTo>
                  <a:pt x="930" y="452"/>
                  <a:pt x="932" y="447"/>
                  <a:pt x="932" y="445"/>
                </a:cubicBezTo>
                <a:cubicBezTo>
                  <a:pt x="932" y="444"/>
                  <a:pt x="933" y="441"/>
                  <a:pt x="934" y="438"/>
                </a:cubicBezTo>
                <a:cubicBezTo>
                  <a:pt x="934" y="435"/>
                  <a:pt x="932" y="435"/>
                  <a:pt x="931" y="436"/>
                </a:cubicBezTo>
                <a:cubicBezTo>
                  <a:pt x="930" y="438"/>
                  <a:pt x="925" y="439"/>
                  <a:pt x="921" y="439"/>
                </a:cubicBezTo>
                <a:cubicBezTo>
                  <a:pt x="918" y="439"/>
                  <a:pt x="916" y="439"/>
                  <a:pt x="915" y="441"/>
                </a:cubicBezTo>
                <a:cubicBezTo>
                  <a:pt x="914" y="441"/>
                  <a:pt x="913" y="441"/>
                  <a:pt x="912" y="441"/>
                </a:cubicBezTo>
                <a:cubicBezTo>
                  <a:pt x="911" y="441"/>
                  <a:pt x="910" y="441"/>
                  <a:pt x="909" y="442"/>
                </a:cubicBezTo>
                <a:cubicBezTo>
                  <a:pt x="908" y="443"/>
                  <a:pt x="903" y="444"/>
                  <a:pt x="902" y="441"/>
                </a:cubicBezTo>
                <a:cubicBezTo>
                  <a:pt x="901" y="438"/>
                  <a:pt x="898" y="438"/>
                  <a:pt x="898" y="438"/>
                </a:cubicBezTo>
                <a:cubicBezTo>
                  <a:pt x="897" y="437"/>
                  <a:pt x="899" y="436"/>
                  <a:pt x="900" y="436"/>
                </a:cubicBezTo>
                <a:cubicBezTo>
                  <a:pt x="901" y="435"/>
                  <a:pt x="901" y="434"/>
                  <a:pt x="900" y="433"/>
                </a:cubicBezTo>
                <a:cubicBezTo>
                  <a:pt x="899" y="432"/>
                  <a:pt x="897" y="431"/>
                  <a:pt x="895" y="428"/>
                </a:cubicBezTo>
                <a:cubicBezTo>
                  <a:pt x="892" y="425"/>
                  <a:pt x="889" y="423"/>
                  <a:pt x="888" y="423"/>
                </a:cubicBezTo>
                <a:cubicBezTo>
                  <a:pt x="886" y="423"/>
                  <a:pt x="886" y="420"/>
                  <a:pt x="885" y="420"/>
                </a:cubicBezTo>
                <a:cubicBezTo>
                  <a:pt x="884" y="420"/>
                  <a:pt x="882" y="416"/>
                  <a:pt x="882" y="414"/>
                </a:cubicBezTo>
                <a:cubicBezTo>
                  <a:pt x="882" y="412"/>
                  <a:pt x="878" y="408"/>
                  <a:pt x="877" y="407"/>
                </a:cubicBezTo>
                <a:cubicBezTo>
                  <a:pt x="875" y="406"/>
                  <a:pt x="874" y="404"/>
                  <a:pt x="874" y="400"/>
                </a:cubicBezTo>
                <a:cubicBezTo>
                  <a:pt x="874" y="397"/>
                  <a:pt x="874" y="394"/>
                  <a:pt x="873" y="393"/>
                </a:cubicBezTo>
                <a:cubicBezTo>
                  <a:pt x="873" y="392"/>
                  <a:pt x="872" y="390"/>
                  <a:pt x="870" y="389"/>
                </a:cubicBezTo>
                <a:cubicBezTo>
                  <a:pt x="868" y="388"/>
                  <a:pt x="867" y="386"/>
                  <a:pt x="867" y="384"/>
                </a:cubicBezTo>
                <a:cubicBezTo>
                  <a:pt x="868" y="382"/>
                  <a:pt x="866" y="382"/>
                  <a:pt x="865" y="379"/>
                </a:cubicBezTo>
                <a:cubicBezTo>
                  <a:pt x="865" y="376"/>
                  <a:pt x="861" y="372"/>
                  <a:pt x="861" y="371"/>
                </a:cubicBezTo>
                <a:cubicBezTo>
                  <a:pt x="861" y="369"/>
                  <a:pt x="859" y="368"/>
                  <a:pt x="859" y="366"/>
                </a:cubicBezTo>
                <a:cubicBezTo>
                  <a:pt x="859" y="364"/>
                  <a:pt x="858" y="364"/>
                  <a:pt x="856" y="362"/>
                </a:cubicBezTo>
                <a:cubicBezTo>
                  <a:pt x="854" y="359"/>
                  <a:pt x="854" y="354"/>
                  <a:pt x="854" y="354"/>
                </a:cubicBezTo>
                <a:cubicBezTo>
                  <a:pt x="855" y="354"/>
                  <a:pt x="856" y="358"/>
                  <a:pt x="857" y="359"/>
                </a:cubicBezTo>
                <a:cubicBezTo>
                  <a:pt x="858" y="361"/>
                  <a:pt x="860" y="365"/>
                  <a:pt x="861" y="365"/>
                </a:cubicBezTo>
                <a:cubicBezTo>
                  <a:pt x="863" y="365"/>
                  <a:pt x="863" y="358"/>
                  <a:pt x="864" y="359"/>
                </a:cubicBezTo>
                <a:cubicBezTo>
                  <a:pt x="864" y="359"/>
                  <a:pt x="864" y="363"/>
                  <a:pt x="865" y="364"/>
                </a:cubicBezTo>
                <a:cubicBezTo>
                  <a:pt x="866" y="364"/>
                  <a:pt x="866" y="366"/>
                  <a:pt x="868" y="368"/>
                </a:cubicBezTo>
                <a:cubicBezTo>
                  <a:pt x="870" y="370"/>
                  <a:pt x="874" y="376"/>
                  <a:pt x="874" y="378"/>
                </a:cubicBezTo>
                <a:cubicBezTo>
                  <a:pt x="874" y="379"/>
                  <a:pt x="875" y="381"/>
                  <a:pt x="877" y="382"/>
                </a:cubicBezTo>
                <a:cubicBezTo>
                  <a:pt x="880" y="384"/>
                  <a:pt x="880" y="386"/>
                  <a:pt x="881" y="387"/>
                </a:cubicBezTo>
                <a:cubicBezTo>
                  <a:pt x="883" y="388"/>
                  <a:pt x="882" y="389"/>
                  <a:pt x="882" y="392"/>
                </a:cubicBezTo>
                <a:cubicBezTo>
                  <a:pt x="882" y="394"/>
                  <a:pt x="884" y="397"/>
                  <a:pt x="886" y="399"/>
                </a:cubicBezTo>
                <a:cubicBezTo>
                  <a:pt x="888" y="400"/>
                  <a:pt x="890" y="402"/>
                  <a:pt x="891" y="404"/>
                </a:cubicBezTo>
                <a:cubicBezTo>
                  <a:pt x="892" y="407"/>
                  <a:pt x="893" y="409"/>
                  <a:pt x="895" y="411"/>
                </a:cubicBezTo>
                <a:cubicBezTo>
                  <a:pt x="896" y="412"/>
                  <a:pt x="895" y="413"/>
                  <a:pt x="896" y="414"/>
                </a:cubicBezTo>
                <a:cubicBezTo>
                  <a:pt x="897" y="415"/>
                  <a:pt x="898" y="418"/>
                  <a:pt x="898" y="419"/>
                </a:cubicBezTo>
                <a:cubicBezTo>
                  <a:pt x="897" y="421"/>
                  <a:pt x="898" y="424"/>
                  <a:pt x="899" y="426"/>
                </a:cubicBezTo>
                <a:cubicBezTo>
                  <a:pt x="900" y="428"/>
                  <a:pt x="900" y="432"/>
                  <a:pt x="900" y="432"/>
                </a:cubicBezTo>
                <a:cubicBezTo>
                  <a:pt x="901" y="433"/>
                  <a:pt x="906" y="433"/>
                  <a:pt x="908" y="431"/>
                </a:cubicBezTo>
                <a:cubicBezTo>
                  <a:pt x="910" y="430"/>
                  <a:pt x="912" y="430"/>
                  <a:pt x="914" y="430"/>
                </a:cubicBezTo>
                <a:cubicBezTo>
                  <a:pt x="915" y="430"/>
                  <a:pt x="918" y="428"/>
                  <a:pt x="918" y="427"/>
                </a:cubicBezTo>
                <a:cubicBezTo>
                  <a:pt x="919" y="427"/>
                  <a:pt x="921" y="427"/>
                  <a:pt x="923" y="427"/>
                </a:cubicBezTo>
                <a:cubicBezTo>
                  <a:pt x="924" y="427"/>
                  <a:pt x="925" y="426"/>
                  <a:pt x="926" y="424"/>
                </a:cubicBezTo>
                <a:cubicBezTo>
                  <a:pt x="927" y="423"/>
                  <a:pt x="931" y="423"/>
                  <a:pt x="935" y="422"/>
                </a:cubicBezTo>
                <a:cubicBezTo>
                  <a:pt x="939" y="420"/>
                  <a:pt x="938" y="418"/>
                  <a:pt x="939" y="417"/>
                </a:cubicBezTo>
                <a:cubicBezTo>
                  <a:pt x="940" y="416"/>
                  <a:pt x="941" y="417"/>
                  <a:pt x="944" y="415"/>
                </a:cubicBezTo>
                <a:cubicBezTo>
                  <a:pt x="946" y="414"/>
                  <a:pt x="949" y="415"/>
                  <a:pt x="951" y="414"/>
                </a:cubicBezTo>
                <a:cubicBezTo>
                  <a:pt x="952" y="414"/>
                  <a:pt x="951" y="412"/>
                  <a:pt x="952" y="411"/>
                </a:cubicBezTo>
                <a:cubicBezTo>
                  <a:pt x="953" y="410"/>
                  <a:pt x="954" y="410"/>
                  <a:pt x="955" y="410"/>
                </a:cubicBezTo>
                <a:cubicBezTo>
                  <a:pt x="956" y="410"/>
                  <a:pt x="956" y="410"/>
                  <a:pt x="957" y="410"/>
                </a:cubicBezTo>
                <a:cubicBezTo>
                  <a:pt x="958" y="410"/>
                  <a:pt x="958" y="407"/>
                  <a:pt x="960" y="406"/>
                </a:cubicBezTo>
                <a:cubicBezTo>
                  <a:pt x="961" y="406"/>
                  <a:pt x="962" y="406"/>
                  <a:pt x="962" y="405"/>
                </a:cubicBezTo>
                <a:cubicBezTo>
                  <a:pt x="962" y="404"/>
                  <a:pt x="962" y="399"/>
                  <a:pt x="964" y="399"/>
                </a:cubicBezTo>
                <a:cubicBezTo>
                  <a:pt x="965" y="399"/>
                  <a:pt x="967" y="397"/>
                  <a:pt x="967" y="397"/>
                </a:cubicBezTo>
                <a:cubicBezTo>
                  <a:pt x="967" y="396"/>
                  <a:pt x="970" y="393"/>
                  <a:pt x="971" y="392"/>
                </a:cubicBezTo>
                <a:cubicBezTo>
                  <a:pt x="971" y="390"/>
                  <a:pt x="972" y="390"/>
                  <a:pt x="970" y="389"/>
                </a:cubicBezTo>
                <a:cubicBezTo>
                  <a:pt x="969" y="389"/>
                  <a:pt x="967" y="386"/>
                  <a:pt x="967" y="385"/>
                </a:cubicBezTo>
                <a:cubicBezTo>
                  <a:pt x="966" y="384"/>
                  <a:pt x="963" y="385"/>
                  <a:pt x="960" y="382"/>
                </a:cubicBezTo>
                <a:cubicBezTo>
                  <a:pt x="957" y="380"/>
                  <a:pt x="957" y="373"/>
                  <a:pt x="956" y="373"/>
                </a:cubicBezTo>
                <a:cubicBezTo>
                  <a:pt x="955" y="372"/>
                  <a:pt x="952" y="376"/>
                  <a:pt x="951" y="378"/>
                </a:cubicBezTo>
                <a:cubicBezTo>
                  <a:pt x="950" y="381"/>
                  <a:pt x="946" y="383"/>
                  <a:pt x="943" y="382"/>
                </a:cubicBezTo>
                <a:cubicBezTo>
                  <a:pt x="940" y="381"/>
                  <a:pt x="939" y="383"/>
                  <a:pt x="938" y="383"/>
                </a:cubicBezTo>
                <a:cubicBezTo>
                  <a:pt x="937" y="384"/>
                  <a:pt x="935" y="381"/>
                  <a:pt x="935" y="379"/>
                </a:cubicBezTo>
                <a:cubicBezTo>
                  <a:pt x="936" y="378"/>
                  <a:pt x="937" y="374"/>
                  <a:pt x="935" y="374"/>
                </a:cubicBezTo>
                <a:cubicBezTo>
                  <a:pt x="933" y="373"/>
                  <a:pt x="932" y="377"/>
                  <a:pt x="932" y="378"/>
                </a:cubicBezTo>
                <a:cubicBezTo>
                  <a:pt x="932" y="379"/>
                  <a:pt x="929" y="374"/>
                  <a:pt x="930" y="373"/>
                </a:cubicBezTo>
                <a:cubicBezTo>
                  <a:pt x="931" y="372"/>
                  <a:pt x="929" y="370"/>
                  <a:pt x="928" y="369"/>
                </a:cubicBezTo>
                <a:cubicBezTo>
                  <a:pt x="926" y="368"/>
                  <a:pt x="924" y="365"/>
                  <a:pt x="923" y="364"/>
                </a:cubicBezTo>
                <a:cubicBezTo>
                  <a:pt x="923" y="362"/>
                  <a:pt x="921" y="358"/>
                  <a:pt x="921" y="357"/>
                </a:cubicBezTo>
                <a:cubicBezTo>
                  <a:pt x="921" y="356"/>
                  <a:pt x="923" y="355"/>
                  <a:pt x="924" y="355"/>
                </a:cubicBezTo>
                <a:cubicBezTo>
                  <a:pt x="925" y="355"/>
                  <a:pt x="925" y="353"/>
                  <a:pt x="926" y="354"/>
                </a:cubicBezTo>
                <a:cubicBezTo>
                  <a:pt x="927" y="355"/>
                  <a:pt x="928" y="354"/>
                  <a:pt x="929" y="354"/>
                </a:cubicBezTo>
                <a:cubicBezTo>
                  <a:pt x="930" y="354"/>
                  <a:pt x="932" y="359"/>
                  <a:pt x="933" y="361"/>
                </a:cubicBezTo>
                <a:cubicBezTo>
                  <a:pt x="934" y="363"/>
                  <a:pt x="934" y="364"/>
                  <a:pt x="936" y="365"/>
                </a:cubicBezTo>
                <a:cubicBezTo>
                  <a:pt x="937" y="366"/>
                  <a:pt x="939" y="365"/>
                  <a:pt x="941" y="367"/>
                </a:cubicBezTo>
                <a:cubicBezTo>
                  <a:pt x="943" y="369"/>
                  <a:pt x="948" y="371"/>
                  <a:pt x="951" y="371"/>
                </a:cubicBezTo>
                <a:cubicBezTo>
                  <a:pt x="952" y="371"/>
                  <a:pt x="953" y="370"/>
                  <a:pt x="954" y="370"/>
                </a:cubicBezTo>
                <a:cubicBezTo>
                  <a:pt x="955" y="369"/>
                  <a:pt x="956" y="369"/>
                  <a:pt x="957" y="369"/>
                </a:cubicBezTo>
                <a:cubicBezTo>
                  <a:pt x="960" y="370"/>
                  <a:pt x="960" y="373"/>
                  <a:pt x="961" y="375"/>
                </a:cubicBezTo>
                <a:cubicBezTo>
                  <a:pt x="962" y="376"/>
                  <a:pt x="973" y="377"/>
                  <a:pt x="975" y="377"/>
                </a:cubicBezTo>
                <a:cubicBezTo>
                  <a:pt x="977" y="378"/>
                  <a:pt x="987" y="378"/>
                  <a:pt x="988" y="377"/>
                </a:cubicBezTo>
                <a:cubicBezTo>
                  <a:pt x="989" y="376"/>
                  <a:pt x="990" y="376"/>
                  <a:pt x="991" y="377"/>
                </a:cubicBezTo>
                <a:cubicBezTo>
                  <a:pt x="992" y="377"/>
                  <a:pt x="996" y="378"/>
                  <a:pt x="998" y="377"/>
                </a:cubicBezTo>
                <a:cubicBezTo>
                  <a:pt x="1000" y="375"/>
                  <a:pt x="1001" y="377"/>
                  <a:pt x="1001" y="378"/>
                </a:cubicBezTo>
                <a:cubicBezTo>
                  <a:pt x="1001" y="379"/>
                  <a:pt x="1002" y="379"/>
                  <a:pt x="1003" y="380"/>
                </a:cubicBezTo>
                <a:cubicBezTo>
                  <a:pt x="1004" y="381"/>
                  <a:pt x="1004" y="382"/>
                  <a:pt x="1004" y="383"/>
                </a:cubicBezTo>
                <a:cubicBezTo>
                  <a:pt x="1005" y="384"/>
                  <a:pt x="1006" y="384"/>
                  <a:pt x="1008" y="384"/>
                </a:cubicBezTo>
                <a:cubicBezTo>
                  <a:pt x="1010" y="385"/>
                  <a:pt x="1010" y="388"/>
                  <a:pt x="1012" y="388"/>
                </a:cubicBezTo>
                <a:cubicBezTo>
                  <a:pt x="1014" y="389"/>
                  <a:pt x="1015" y="389"/>
                  <a:pt x="1015" y="388"/>
                </a:cubicBezTo>
                <a:cubicBezTo>
                  <a:pt x="1016" y="388"/>
                  <a:pt x="1017" y="388"/>
                  <a:pt x="1017" y="389"/>
                </a:cubicBezTo>
                <a:cubicBezTo>
                  <a:pt x="1017" y="391"/>
                  <a:pt x="1011" y="390"/>
                  <a:pt x="1011" y="391"/>
                </a:cubicBezTo>
                <a:cubicBezTo>
                  <a:pt x="1011" y="391"/>
                  <a:pt x="1017" y="399"/>
                  <a:pt x="1020" y="398"/>
                </a:cubicBezTo>
                <a:cubicBezTo>
                  <a:pt x="1023" y="398"/>
                  <a:pt x="1026" y="394"/>
                  <a:pt x="1025" y="394"/>
                </a:cubicBezTo>
                <a:cubicBezTo>
                  <a:pt x="1024" y="393"/>
                  <a:pt x="1025" y="391"/>
                  <a:pt x="1026" y="392"/>
                </a:cubicBezTo>
                <a:cubicBezTo>
                  <a:pt x="1027" y="392"/>
                  <a:pt x="1026" y="395"/>
                  <a:pt x="1027" y="396"/>
                </a:cubicBezTo>
                <a:cubicBezTo>
                  <a:pt x="1028" y="397"/>
                  <a:pt x="1028" y="398"/>
                  <a:pt x="1027" y="400"/>
                </a:cubicBezTo>
                <a:cubicBezTo>
                  <a:pt x="1026" y="402"/>
                  <a:pt x="1028" y="405"/>
                  <a:pt x="1028" y="407"/>
                </a:cubicBezTo>
                <a:cubicBezTo>
                  <a:pt x="1028" y="409"/>
                  <a:pt x="1029" y="412"/>
                  <a:pt x="1030" y="415"/>
                </a:cubicBezTo>
                <a:cubicBezTo>
                  <a:pt x="1030" y="417"/>
                  <a:pt x="1032" y="423"/>
                  <a:pt x="1034" y="426"/>
                </a:cubicBezTo>
                <a:cubicBezTo>
                  <a:pt x="1036" y="429"/>
                  <a:pt x="1037" y="435"/>
                  <a:pt x="1038" y="437"/>
                </a:cubicBezTo>
                <a:cubicBezTo>
                  <a:pt x="1039" y="438"/>
                  <a:pt x="1042" y="443"/>
                  <a:pt x="1042" y="446"/>
                </a:cubicBezTo>
                <a:cubicBezTo>
                  <a:pt x="1042" y="449"/>
                  <a:pt x="1045" y="453"/>
                  <a:pt x="1046" y="453"/>
                </a:cubicBezTo>
                <a:cubicBezTo>
                  <a:pt x="1047" y="454"/>
                  <a:pt x="1050" y="453"/>
                  <a:pt x="1050" y="451"/>
                </a:cubicBezTo>
                <a:cubicBezTo>
                  <a:pt x="1051" y="449"/>
                  <a:pt x="1054" y="448"/>
                  <a:pt x="1054" y="447"/>
                </a:cubicBezTo>
                <a:cubicBezTo>
                  <a:pt x="1054" y="445"/>
                  <a:pt x="1055" y="444"/>
                  <a:pt x="1056" y="444"/>
                </a:cubicBezTo>
                <a:cubicBezTo>
                  <a:pt x="1057" y="444"/>
                  <a:pt x="1057" y="443"/>
                  <a:pt x="1057" y="441"/>
                </a:cubicBezTo>
                <a:cubicBezTo>
                  <a:pt x="1057" y="439"/>
                  <a:pt x="1057" y="437"/>
                  <a:pt x="1058" y="436"/>
                </a:cubicBezTo>
                <a:cubicBezTo>
                  <a:pt x="1059" y="434"/>
                  <a:pt x="1059" y="430"/>
                  <a:pt x="1059" y="429"/>
                </a:cubicBezTo>
                <a:cubicBezTo>
                  <a:pt x="1058" y="427"/>
                  <a:pt x="1058" y="425"/>
                  <a:pt x="1059" y="423"/>
                </a:cubicBezTo>
                <a:cubicBezTo>
                  <a:pt x="1060" y="422"/>
                  <a:pt x="1059" y="420"/>
                  <a:pt x="1061" y="420"/>
                </a:cubicBezTo>
                <a:cubicBezTo>
                  <a:pt x="1062" y="420"/>
                  <a:pt x="1063" y="419"/>
                  <a:pt x="1065" y="417"/>
                </a:cubicBezTo>
                <a:cubicBezTo>
                  <a:pt x="1066" y="415"/>
                  <a:pt x="1070" y="413"/>
                  <a:pt x="1071" y="412"/>
                </a:cubicBezTo>
                <a:cubicBezTo>
                  <a:pt x="1073" y="411"/>
                  <a:pt x="1077" y="407"/>
                  <a:pt x="1078" y="405"/>
                </a:cubicBezTo>
                <a:cubicBezTo>
                  <a:pt x="1079" y="403"/>
                  <a:pt x="1083" y="402"/>
                  <a:pt x="1085" y="400"/>
                </a:cubicBezTo>
                <a:cubicBezTo>
                  <a:pt x="1086" y="399"/>
                  <a:pt x="1086" y="398"/>
                  <a:pt x="1086" y="396"/>
                </a:cubicBezTo>
                <a:cubicBezTo>
                  <a:pt x="1086" y="394"/>
                  <a:pt x="1091" y="393"/>
                  <a:pt x="1093" y="393"/>
                </a:cubicBezTo>
                <a:cubicBezTo>
                  <a:pt x="1095" y="393"/>
                  <a:pt x="1096" y="393"/>
                  <a:pt x="1097" y="393"/>
                </a:cubicBezTo>
                <a:cubicBezTo>
                  <a:pt x="1099" y="393"/>
                  <a:pt x="1101" y="392"/>
                  <a:pt x="1101" y="391"/>
                </a:cubicBezTo>
                <a:cubicBezTo>
                  <a:pt x="1101" y="389"/>
                  <a:pt x="1102" y="388"/>
                  <a:pt x="1103" y="389"/>
                </a:cubicBezTo>
                <a:cubicBezTo>
                  <a:pt x="1104" y="389"/>
                  <a:pt x="1105" y="393"/>
                  <a:pt x="1106" y="395"/>
                </a:cubicBezTo>
                <a:cubicBezTo>
                  <a:pt x="1106" y="396"/>
                  <a:pt x="1108" y="400"/>
                  <a:pt x="1110" y="401"/>
                </a:cubicBezTo>
                <a:cubicBezTo>
                  <a:pt x="1113" y="402"/>
                  <a:pt x="1114" y="407"/>
                  <a:pt x="1115" y="410"/>
                </a:cubicBezTo>
                <a:cubicBezTo>
                  <a:pt x="1116" y="412"/>
                  <a:pt x="1115" y="415"/>
                  <a:pt x="1114" y="416"/>
                </a:cubicBezTo>
                <a:cubicBezTo>
                  <a:pt x="1114" y="418"/>
                  <a:pt x="1115" y="418"/>
                  <a:pt x="1116" y="419"/>
                </a:cubicBezTo>
                <a:cubicBezTo>
                  <a:pt x="1118" y="419"/>
                  <a:pt x="1119" y="420"/>
                  <a:pt x="1120" y="418"/>
                </a:cubicBezTo>
                <a:cubicBezTo>
                  <a:pt x="1121" y="417"/>
                  <a:pt x="1124" y="416"/>
                  <a:pt x="1124" y="414"/>
                </a:cubicBezTo>
                <a:cubicBezTo>
                  <a:pt x="1124" y="412"/>
                  <a:pt x="1125" y="415"/>
                  <a:pt x="1126" y="416"/>
                </a:cubicBezTo>
                <a:cubicBezTo>
                  <a:pt x="1127" y="416"/>
                  <a:pt x="1128" y="418"/>
                  <a:pt x="1128" y="420"/>
                </a:cubicBezTo>
                <a:cubicBezTo>
                  <a:pt x="1128" y="422"/>
                  <a:pt x="1128" y="428"/>
                  <a:pt x="1130" y="429"/>
                </a:cubicBezTo>
                <a:cubicBezTo>
                  <a:pt x="1132" y="431"/>
                  <a:pt x="1132" y="435"/>
                  <a:pt x="1132" y="436"/>
                </a:cubicBezTo>
                <a:cubicBezTo>
                  <a:pt x="1131" y="438"/>
                  <a:pt x="1133" y="440"/>
                  <a:pt x="1132" y="441"/>
                </a:cubicBezTo>
                <a:cubicBezTo>
                  <a:pt x="1132" y="443"/>
                  <a:pt x="1131" y="447"/>
                  <a:pt x="1131" y="449"/>
                </a:cubicBezTo>
                <a:cubicBezTo>
                  <a:pt x="1130" y="451"/>
                  <a:pt x="1130" y="452"/>
                  <a:pt x="1131" y="452"/>
                </a:cubicBezTo>
                <a:cubicBezTo>
                  <a:pt x="1132" y="453"/>
                  <a:pt x="1134" y="455"/>
                  <a:pt x="1137" y="458"/>
                </a:cubicBezTo>
                <a:cubicBezTo>
                  <a:pt x="1139" y="461"/>
                  <a:pt x="1139" y="464"/>
                  <a:pt x="1139" y="466"/>
                </a:cubicBezTo>
                <a:cubicBezTo>
                  <a:pt x="1139" y="469"/>
                  <a:pt x="1143" y="473"/>
                  <a:pt x="1143" y="475"/>
                </a:cubicBezTo>
                <a:cubicBezTo>
                  <a:pt x="1144" y="476"/>
                  <a:pt x="1145" y="477"/>
                  <a:pt x="1147" y="479"/>
                </a:cubicBezTo>
                <a:cubicBezTo>
                  <a:pt x="1150" y="480"/>
                  <a:pt x="1155" y="483"/>
                  <a:pt x="1156" y="483"/>
                </a:cubicBezTo>
                <a:cubicBezTo>
                  <a:pt x="1157" y="482"/>
                  <a:pt x="1154" y="478"/>
                  <a:pt x="1153" y="477"/>
                </a:cubicBezTo>
                <a:cubicBezTo>
                  <a:pt x="1151" y="475"/>
                  <a:pt x="1153" y="471"/>
                  <a:pt x="1153" y="468"/>
                </a:cubicBezTo>
                <a:cubicBezTo>
                  <a:pt x="1153" y="466"/>
                  <a:pt x="1150" y="466"/>
                  <a:pt x="1149" y="464"/>
                </a:cubicBezTo>
                <a:cubicBezTo>
                  <a:pt x="1149" y="462"/>
                  <a:pt x="1148" y="463"/>
                  <a:pt x="1147" y="462"/>
                </a:cubicBezTo>
                <a:cubicBezTo>
                  <a:pt x="1147" y="461"/>
                  <a:pt x="1144" y="459"/>
                  <a:pt x="1142" y="458"/>
                </a:cubicBezTo>
                <a:cubicBezTo>
                  <a:pt x="1140" y="458"/>
                  <a:pt x="1139" y="455"/>
                  <a:pt x="1139" y="454"/>
                </a:cubicBezTo>
                <a:cubicBezTo>
                  <a:pt x="1139" y="452"/>
                  <a:pt x="1138" y="451"/>
                  <a:pt x="1138" y="450"/>
                </a:cubicBezTo>
                <a:cubicBezTo>
                  <a:pt x="1138" y="448"/>
                  <a:pt x="1136" y="448"/>
                  <a:pt x="1135" y="448"/>
                </a:cubicBezTo>
                <a:cubicBezTo>
                  <a:pt x="1133" y="447"/>
                  <a:pt x="1135" y="443"/>
                  <a:pt x="1135" y="441"/>
                </a:cubicBezTo>
                <a:cubicBezTo>
                  <a:pt x="1136" y="439"/>
                  <a:pt x="1139" y="434"/>
                  <a:pt x="1138" y="432"/>
                </a:cubicBezTo>
                <a:cubicBezTo>
                  <a:pt x="1137" y="431"/>
                  <a:pt x="1141" y="429"/>
                  <a:pt x="1141" y="431"/>
                </a:cubicBezTo>
                <a:cubicBezTo>
                  <a:pt x="1142" y="433"/>
                  <a:pt x="1142" y="434"/>
                  <a:pt x="1145" y="434"/>
                </a:cubicBezTo>
                <a:cubicBezTo>
                  <a:pt x="1147" y="434"/>
                  <a:pt x="1147" y="436"/>
                  <a:pt x="1149" y="436"/>
                </a:cubicBezTo>
                <a:cubicBezTo>
                  <a:pt x="1151" y="437"/>
                  <a:pt x="1150" y="439"/>
                  <a:pt x="1151" y="440"/>
                </a:cubicBezTo>
                <a:cubicBezTo>
                  <a:pt x="1151" y="441"/>
                  <a:pt x="1152" y="441"/>
                  <a:pt x="1153" y="441"/>
                </a:cubicBezTo>
                <a:cubicBezTo>
                  <a:pt x="1154" y="440"/>
                  <a:pt x="1153" y="442"/>
                  <a:pt x="1153" y="443"/>
                </a:cubicBezTo>
                <a:cubicBezTo>
                  <a:pt x="1154" y="443"/>
                  <a:pt x="1154" y="443"/>
                  <a:pt x="1155" y="443"/>
                </a:cubicBezTo>
                <a:cubicBezTo>
                  <a:pt x="1156" y="443"/>
                  <a:pt x="1156" y="443"/>
                  <a:pt x="1157" y="443"/>
                </a:cubicBezTo>
                <a:cubicBezTo>
                  <a:pt x="1157" y="444"/>
                  <a:pt x="1158" y="445"/>
                  <a:pt x="1159" y="445"/>
                </a:cubicBezTo>
                <a:cubicBezTo>
                  <a:pt x="1160" y="446"/>
                  <a:pt x="1158" y="447"/>
                  <a:pt x="1158" y="449"/>
                </a:cubicBezTo>
                <a:cubicBezTo>
                  <a:pt x="1158" y="451"/>
                  <a:pt x="1159" y="451"/>
                  <a:pt x="1160" y="451"/>
                </a:cubicBezTo>
                <a:cubicBezTo>
                  <a:pt x="1160" y="450"/>
                  <a:pt x="1163" y="448"/>
                  <a:pt x="1164" y="448"/>
                </a:cubicBezTo>
                <a:cubicBezTo>
                  <a:pt x="1165" y="447"/>
                  <a:pt x="1164" y="446"/>
                  <a:pt x="1165" y="446"/>
                </a:cubicBezTo>
                <a:cubicBezTo>
                  <a:pt x="1166" y="446"/>
                  <a:pt x="1165" y="445"/>
                  <a:pt x="1166" y="444"/>
                </a:cubicBezTo>
                <a:cubicBezTo>
                  <a:pt x="1166" y="443"/>
                  <a:pt x="1167" y="443"/>
                  <a:pt x="1169" y="443"/>
                </a:cubicBezTo>
                <a:cubicBezTo>
                  <a:pt x="1170" y="443"/>
                  <a:pt x="1172" y="442"/>
                  <a:pt x="1174" y="441"/>
                </a:cubicBezTo>
                <a:cubicBezTo>
                  <a:pt x="1176" y="439"/>
                  <a:pt x="1177" y="439"/>
                  <a:pt x="1178" y="435"/>
                </a:cubicBezTo>
                <a:cubicBezTo>
                  <a:pt x="1178" y="431"/>
                  <a:pt x="1177" y="426"/>
                  <a:pt x="1177" y="425"/>
                </a:cubicBezTo>
                <a:cubicBezTo>
                  <a:pt x="1177" y="424"/>
                  <a:pt x="1174" y="418"/>
                  <a:pt x="1173" y="418"/>
                </a:cubicBezTo>
                <a:cubicBezTo>
                  <a:pt x="1172" y="418"/>
                  <a:pt x="1167" y="413"/>
                  <a:pt x="1166" y="413"/>
                </a:cubicBezTo>
                <a:cubicBezTo>
                  <a:pt x="1165" y="412"/>
                  <a:pt x="1165" y="410"/>
                  <a:pt x="1164" y="409"/>
                </a:cubicBezTo>
                <a:cubicBezTo>
                  <a:pt x="1163" y="408"/>
                  <a:pt x="1162" y="406"/>
                  <a:pt x="1163" y="404"/>
                </a:cubicBezTo>
                <a:cubicBezTo>
                  <a:pt x="1163" y="402"/>
                  <a:pt x="1166" y="401"/>
                  <a:pt x="1166" y="400"/>
                </a:cubicBezTo>
                <a:cubicBezTo>
                  <a:pt x="1166" y="399"/>
                  <a:pt x="1166" y="397"/>
                  <a:pt x="1167" y="397"/>
                </a:cubicBezTo>
                <a:cubicBezTo>
                  <a:pt x="1169" y="397"/>
                  <a:pt x="1170" y="396"/>
                  <a:pt x="1171" y="395"/>
                </a:cubicBezTo>
                <a:cubicBezTo>
                  <a:pt x="1171" y="395"/>
                  <a:pt x="1172" y="395"/>
                  <a:pt x="1172" y="395"/>
                </a:cubicBezTo>
                <a:cubicBezTo>
                  <a:pt x="1173" y="395"/>
                  <a:pt x="1174" y="395"/>
                  <a:pt x="1174" y="394"/>
                </a:cubicBezTo>
                <a:cubicBezTo>
                  <a:pt x="1174" y="393"/>
                  <a:pt x="1175" y="393"/>
                  <a:pt x="1176" y="394"/>
                </a:cubicBezTo>
                <a:cubicBezTo>
                  <a:pt x="1177" y="395"/>
                  <a:pt x="1177" y="395"/>
                  <a:pt x="1179" y="394"/>
                </a:cubicBezTo>
                <a:cubicBezTo>
                  <a:pt x="1180" y="393"/>
                  <a:pt x="1180" y="395"/>
                  <a:pt x="1180" y="396"/>
                </a:cubicBezTo>
                <a:cubicBezTo>
                  <a:pt x="1179" y="397"/>
                  <a:pt x="1179" y="399"/>
                  <a:pt x="1181" y="400"/>
                </a:cubicBezTo>
                <a:cubicBezTo>
                  <a:pt x="1182" y="401"/>
                  <a:pt x="1182" y="399"/>
                  <a:pt x="1182" y="398"/>
                </a:cubicBezTo>
                <a:cubicBezTo>
                  <a:pt x="1181" y="397"/>
                  <a:pt x="1184" y="396"/>
                  <a:pt x="1188" y="394"/>
                </a:cubicBezTo>
                <a:cubicBezTo>
                  <a:pt x="1192" y="393"/>
                  <a:pt x="1196" y="390"/>
                  <a:pt x="1196" y="390"/>
                </a:cubicBezTo>
                <a:cubicBezTo>
                  <a:pt x="1196" y="389"/>
                  <a:pt x="1197" y="389"/>
                  <a:pt x="1197" y="390"/>
                </a:cubicBezTo>
                <a:cubicBezTo>
                  <a:pt x="1198" y="390"/>
                  <a:pt x="1199" y="390"/>
                  <a:pt x="1200" y="390"/>
                </a:cubicBezTo>
                <a:cubicBezTo>
                  <a:pt x="1201" y="389"/>
                  <a:pt x="1206" y="388"/>
                  <a:pt x="1207" y="388"/>
                </a:cubicBezTo>
                <a:cubicBezTo>
                  <a:pt x="1209" y="388"/>
                  <a:pt x="1209" y="387"/>
                  <a:pt x="1210" y="386"/>
                </a:cubicBezTo>
                <a:cubicBezTo>
                  <a:pt x="1211" y="385"/>
                  <a:pt x="1211" y="385"/>
                  <a:pt x="1212" y="384"/>
                </a:cubicBezTo>
                <a:cubicBezTo>
                  <a:pt x="1214" y="384"/>
                  <a:pt x="1215" y="382"/>
                  <a:pt x="1215" y="382"/>
                </a:cubicBezTo>
                <a:cubicBezTo>
                  <a:pt x="1215" y="381"/>
                  <a:pt x="1218" y="381"/>
                  <a:pt x="1218" y="380"/>
                </a:cubicBezTo>
                <a:cubicBezTo>
                  <a:pt x="1218" y="379"/>
                  <a:pt x="1220" y="379"/>
                  <a:pt x="1220" y="378"/>
                </a:cubicBezTo>
                <a:cubicBezTo>
                  <a:pt x="1220" y="377"/>
                  <a:pt x="1221" y="377"/>
                  <a:pt x="1222" y="376"/>
                </a:cubicBezTo>
                <a:cubicBezTo>
                  <a:pt x="1222" y="375"/>
                  <a:pt x="1221" y="373"/>
                  <a:pt x="1222" y="373"/>
                </a:cubicBezTo>
                <a:cubicBezTo>
                  <a:pt x="1223" y="373"/>
                  <a:pt x="1222" y="371"/>
                  <a:pt x="1222" y="371"/>
                </a:cubicBezTo>
                <a:cubicBezTo>
                  <a:pt x="1222" y="370"/>
                  <a:pt x="1224" y="370"/>
                  <a:pt x="1225" y="369"/>
                </a:cubicBezTo>
                <a:cubicBezTo>
                  <a:pt x="1226" y="369"/>
                  <a:pt x="1226" y="368"/>
                  <a:pt x="1227" y="367"/>
                </a:cubicBezTo>
                <a:cubicBezTo>
                  <a:pt x="1227" y="365"/>
                  <a:pt x="1229" y="364"/>
                  <a:pt x="1229" y="364"/>
                </a:cubicBezTo>
                <a:cubicBezTo>
                  <a:pt x="1230" y="364"/>
                  <a:pt x="1231" y="362"/>
                  <a:pt x="1230" y="360"/>
                </a:cubicBezTo>
                <a:cubicBezTo>
                  <a:pt x="1230" y="359"/>
                  <a:pt x="1232" y="359"/>
                  <a:pt x="1231" y="359"/>
                </a:cubicBezTo>
                <a:cubicBezTo>
                  <a:pt x="1230" y="358"/>
                  <a:pt x="1231" y="357"/>
                  <a:pt x="1233" y="356"/>
                </a:cubicBezTo>
                <a:cubicBezTo>
                  <a:pt x="1234" y="356"/>
                  <a:pt x="1232" y="355"/>
                  <a:pt x="1231" y="356"/>
                </a:cubicBezTo>
                <a:cubicBezTo>
                  <a:pt x="1231" y="356"/>
                  <a:pt x="1230" y="356"/>
                  <a:pt x="1230" y="355"/>
                </a:cubicBezTo>
                <a:cubicBezTo>
                  <a:pt x="1229" y="355"/>
                  <a:pt x="1229" y="354"/>
                  <a:pt x="1229" y="355"/>
                </a:cubicBezTo>
                <a:cubicBezTo>
                  <a:pt x="1228" y="356"/>
                  <a:pt x="1226" y="354"/>
                  <a:pt x="1227" y="354"/>
                </a:cubicBezTo>
                <a:cubicBezTo>
                  <a:pt x="1228" y="354"/>
                  <a:pt x="1231" y="352"/>
                  <a:pt x="1232" y="352"/>
                </a:cubicBezTo>
                <a:cubicBezTo>
                  <a:pt x="1232" y="352"/>
                  <a:pt x="1230" y="349"/>
                  <a:pt x="1229" y="350"/>
                </a:cubicBezTo>
                <a:cubicBezTo>
                  <a:pt x="1228" y="350"/>
                  <a:pt x="1226" y="347"/>
                  <a:pt x="1225" y="347"/>
                </a:cubicBezTo>
                <a:cubicBezTo>
                  <a:pt x="1224" y="347"/>
                  <a:pt x="1226" y="346"/>
                  <a:pt x="1228" y="347"/>
                </a:cubicBezTo>
                <a:cubicBezTo>
                  <a:pt x="1229" y="347"/>
                  <a:pt x="1231" y="348"/>
                  <a:pt x="1231" y="347"/>
                </a:cubicBezTo>
                <a:cubicBezTo>
                  <a:pt x="1232" y="347"/>
                  <a:pt x="1229" y="344"/>
                  <a:pt x="1228" y="343"/>
                </a:cubicBezTo>
                <a:cubicBezTo>
                  <a:pt x="1227" y="342"/>
                  <a:pt x="1228" y="341"/>
                  <a:pt x="1227" y="341"/>
                </a:cubicBezTo>
                <a:cubicBezTo>
                  <a:pt x="1226" y="340"/>
                  <a:pt x="1225" y="337"/>
                  <a:pt x="1224" y="336"/>
                </a:cubicBezTo>
                <a:cubicBezTo>
                  <a:pt x="1224" y="334"/>
                  <a:pt x="1221" y="334"/>
                  <a:pt x="1221" y="333"/>
                </a:cubicBezTo>
                <a:cubicBezTo>
                  <a:pt x="1220" y="332"/>
                  <a:pt x="1221" y="330"/>
                  <a:pt x="1223" y="329"/>
                </a:cubicBezTo>
                <a:cubicBezTo>
                  <a:pt x="1225" y="328"/>
                  <a:pt x="1224" y="327"/>
                  <a:pt x="1225" y="327"/>
                </a:cubicBezTo>
                <a:cubicBezTo>
                  <a:pt x="1225" y="327"/>
                  <a:pt x="1226" y="327"/>
                  <a:pt x="1227" y="325"/>
                </a:cubicBezTo>
                <a:cubicBezTo>
                  <a:pt x="1228" y="324"/>
                  <a:pt x="1229" y="325"/>
                  <a:pt x="1229" y="324"/>
                </a:cubicBezTo>
                <a:cubicBezTo>
                  <a:pt x="1230" y="323"/>
                  <a:pt x="1233" y="323"/>
                  <a:pt x="1234" y="322"/>
                </a:cubicBezTo>
                <a:cubicBezTo>
                  <a:pt x="1235" y="322"/>
                  <a:pt x="1233" y="319"/>
                  <a:pt x="1232" y="320"/>
                </a:cubicBezTo>
                <a:cubicBezTo>
                  <a:pt x="1230" y="320"/>
                  <a:pt x="1229" y="320"/>
                  <a:pt x="1228" y="318"/>
                </a:cubicBezTo>
                <a:cubicBezTo>
                  <a:pt x="1227" y="316"/>
                  <a:pt x="1224" y="321"/>
                  <a:pt x="1222" y="322"/>
                </a:cubicBezTo>
                <a:cubicBezTo>
                  <a:pt x="1220" y="323"/>
                  <a:pt x="1219" y="320"/>
                  <a:pt x="1219" y="318"/>
                </a:cubicBezTo>
                <a:cubicBezTo>
                  <a:pt x="1220" y="317"/>
                  <a:pt x="1218" y="317"/>
                  <a:pt x="1215" y="317"/>
                </a:cubicBezTo>
                <a:cubicBezTo>
                  <a:pt x="1212" y="317"/>
                  <a:pt x="1213" y="312"/>
                  <a:pt x="1215" y="312"/>
                </a:cubicBezTo>
                <a:cubicBezTo>
                  <a:pt x="1215" y="311"/>
                  <a:pt x="1216" y="312"/>
                  <a:pt x="1217" y="312"/>
                </a:cubicBezTo>
                <a:cubicBezTo>
                  <a:pt x="1218" y="312"/>
                  <a:pt x="1220" y="312"/>
                  <a:pt x="1220" y="310"/>
                </a:cubicBezTo>
                <a:cubicBezTo>
                  <a:pt x="1221" y="307"/>
                  <a:pt x="1223" y="309"/>
                  <a:pt x="1225" y="307"/>
                </a:cubicBezTo>
                <a:cubicBezTo>
                  <a:pt x="1228" y="304"/>
                  <a:pt x="1230" y="302"/>
                  <a:pt x="1232" y="304"/>
                </a:cubicBezTo>
                <a:cubicBezTo>
                  <a:pt x="1235" y="305"/>
                  <a:pt x="1230" y="308"/>
                  <a:pt x="1230" y="309"/>
                </a:cubicBezTo>
                <a:cubicBezTo>
                  <a:pt x="1229" y="311"/>
                  <a:pt x="1230" y="312"/>
                  <a:pt x="1229" y="313"/>
                </a:cubicBezTo>
                <a:cubicBezTo>
                  <a:pt x="1228" y="314"/>
                  <a:pt x="1229" y="314"/>
                  <a:pt x="1232" y="313"/>
                </a:cubicBezTo>
                <a:cubicBezTo>
                  <a:pt x="1234" y="311"/>
                  <a:pt x="1237" y="309"/>
                  <a:pt x="1240" y="308"/>
                </a:cubicBezTo>
                <a:cubicBezTo>
                  <a:pt x="1242" y="307"/>
                  <a:pt x="1245" y="309"/>
                  <a:pt x="1247" y="310"/>
                </a:cubicBezTo>
                <a:cubicBezTo>
                  <a:pt x="1248" y="312"/>
                  <a:pt x="1245" y="314"/>
                  <a:pt x="1244" y="315"/>
                </a:cubicBezTo>
                <a:cubicBezTo>
                  <a:pt x="1243" y="316"/>
                  <a:pt x="1245" y="316"/>
                  <a:pt x="1245" y="318"/>
                </a:cubicBezTo>
                <a:cubicBezTo>
                  <a:pt x="1245" y="319"/>
                  <a:pt x="1246" y="320"/>
                  <a:pt x="1247" y="319"/>
                </a:cubicBezTo>
                <a:cubicBezTo>
                  <a:pt x="1248" y="318"/>
                  <a:pt x="1249" y="318"/>
                  <a:pt x="1250" y="318"/>
                </a:cubicBezTo>
                <a:cubicBezTo>
                  <a:pt x="1252" y="318"/>
                  <a:pt x="1251" y="321"/>
                  <a:pt x="1253" y="321"/>
                </a:cubicBezTo>
                <a:cubicBezTo>
                  <a:pt x="1254" y="321"/>
                  <a:pt x="1254" y="323"/>
                  <a:pt x="1252" y="323"/>
                </a:cubicBezTo>
                <a:cubicBezTo>
                  <a:pt x="1251" y="322"/>
                  <a:pt x="1251" y="325"/>
                  <a:pt x="1252" y="327"/>
                </a:cubicBezTo>
                <a:cubicBezTo>
                  <a:pt x="1253" y="328"/>
                  <a:pt x="1250" y="331"/>
                  <a:pt x="1251" y="332"/>
                </a:cubicBezTo>
                <a:cubicBezTo>
                  <a:pt x="1252" y="333"/>
                  <a:pt x="1251" y="334"/>
                  <a:pt x="1251" y="335"/>
                </a:cubicBezTo>
                <a:cubicBezTo>
                  <a:pt x="1252" y="335"/>
                  <a:pt x="1257" y="334"/>
                  <a:pt x="1259" y="332"/>
                </a:cubicBezTo>
                <a:cubicBezTo>
                  <a:pt x="1262" y="329"/>
                  <a:pt x="1262" y="330"/>
                  <a:pt x="1264" y="330"/>
                </a:cubicBezTo>
                <a:cubicBezTo>
                  <a:pt x="1265" y="330"/>
                  <a:pt x="1266" y="329"/>
                  <a:pt x="1265" y="328"/>
                </a:cubicBezTo>
                <a:cubicBezTo>
                  <a:pt x="1265" y="327"/>
                  <a:pt x="1264" y="325"/>
                  <a:pt x="1264" y="322"/>
                </a:cubicBezTo>
                <a:cubicBezTo>
                  <a:pt x="1264" y="319"/>
                  <a:pt x="1258" y="312"/>
                  <a:pt x="1256" y="311"/>
                </a:cubicBezTo>
                <a:cubicBezTo>
                  <a:pt x="1255" y="311"/>
                  <a:pt x="1256" y="308"/>
                  <a:pt x="1257" y="308"/>
                </a:cubicBezTo>
                <a:cubicBezTo>
                  <a:pt x="1259" y="307"/>
                  <a:pt x="1263" y="304"/>
                  <a:pt x="1265" y="303"/>
                </a:cubicBezTo>
                <a:cubicBezTo>
                  <a:pt x="1266" y="302"/>
                  <a:pt x="1265" y="300"/>
                  <a:pt x="1266" y="298"/>
                </a:cubicBezTo>
                <a:cubicBezTo>
                  <a:pt x="1267" y="296"/>
                  <a:pt x="1274" y="291"/>
                  <a:pt x="1275" y="291"/>
                </a:cubicBezTo>
                <a:cubicBezTo>
                  <a:pt x="1277" y="291"/>
                  <a:pt x="1279" y="293"/>
                  <a:pt x="1280" y="294"/>
                </a:cubicBezTo>
                <a:cubicBezTo>
                  <a:pt x="1282" y="294"/>
                  <a:pt x="1290" y="288"/>
                  <a:pt x="1290" y="287"/>
                </a:cubicBezTo>
                <a:cubicBezTo>
                  <a:pt x="1290" y="286"/>
                  <a:pt x="1295" y="282"/>
                  <a:pt x="1297" y="280"/>
                </a:cubicBezTo>
                <a:cubicBezTo>
                  <a:pt x="1299" y="277"/>
                  <a:pt x="1302" y="274"/>
                  <a:pt x="1303" y="271"/>
                </a:cubicBezTo>
                <a:cubicBezTo>
                  <a:pt x="1304" y="270"/>
                  <a:pt x="1307" y="267"/>
                  <a:pt x="1308" y="265"/>
                </a:cubicBezTo>
                <a:cubicBezTo>
                  <a:pt x="1309" y="264"/>
                  <a:pt x="1309" y="264"/>
                  <a:pt x="1310" y="261"/>
                </a:cubicBezTo>
                <a:cubicBezTo>
                  <a:pt x="1312" y="258"/>
                  <a:pt x="1312" y="250"/>
                  <a:pt x="1312" y="250"/>
                </a:cubicBezTo>
                <a:cubicBezTo>
                  <a:pt x="1313" y="249"/>
                  <a:pt x="1312" y="248"/>
                  <a:pt x="1313" y="247"/>
                </a:cubicBezTo>
                <a:cubicBezTo>
                  <a:pt x="1314" y="246"/>
                  <a:pt x="1313" y="245"/>
                  <a:pt x="1315" y="244"/>
                </a:cubicBezTo>
                <a:cubicBezTo>
                  <a:pt x="1316" y="243"/>
                  <a:pt x="1316" y="242"/>
                  <a:pt x="1315" y="241"/>
                </a:cubicBezTo>
                <a:cubicBezTo>
                  <a:pt x="1315" y="241"/>
                  <a:pt x="1315" y="239"/>
                  <a:pt x="1315" y="238"/>
                </a:cubicBezTo>
                <a:cubicBezTo>
                  <a:pt x="1315" y="238"/>
                  <a:pt x="1315" y="237"/>
                  <a:pt x="1316" y="237"/>
                </a:cubicBezTo>
                <a:cubicBezTo>
                  <a:pt x="1316" y="236"/>
                  <a:pt x="1315" y="235"/>
                  <a:pt x="1314" y="235"/>
                </a:cubicBezTo>
                <a:cubicBezTo>
                  <a:pt x="1313" y="234"/>
                  <a:pt x="1312" y="234"/>
                  <a:pt x="1311" y="233"/>
                </a:cubicBezTo>
                <a:cubicBezTo>
                  <a:pt x="1311" y="231"/>
                  <a:pt x="1310" y="230"/>
                  <a:pt x="1308" y="230"/>
                </a:cubicBezTo>
                <a:cubicBezTo>
                  <a:pt x="1308" y="230"/>
                  <a:pt x="1307" y="230"/>
                  <a:pt x="1306" y="230"/>
                </a:cubicBezTo>
                <a:cubicBezTo>
                  <a:pt x="1305" y="230"/>
                  <a:pt x="1304" y="230"/>
                  <a:pt x="1305" y="230"/>
                </a:cubicBezTo>
                <a:cubicBezTo>
                  <a:pt x="1305" y="231"/>
                  <a:pt x="1304" y="232"/>
                  <a:pt x="1304" y="232"/>
                </a:cubicBezTo>
                <a:cubicBezTo>
                  <a:pt x="1303" y="232"/>
                  <a:pt x="1303" y="232"/>
                  <a:pt x="1302" y="233"/>
                </a:cubicBezTo>
                <a:cubicBezTo>
                  <a:pt x="1301" y="235"/>
                  <a:pt x="1298" y="235"/>
                  <a:pt x="1299" y="234"/>
                </a:cubicBezTo>
                <a:cubicBezTo>
                  <a:pt x="1301" y="232"/>
                  <a:pt x="1299" y="232"/>
                  <a:pt x="1299" y="231"/>
                </a:cubicBezTo>
                <a:cubicBezTo>
                  <a:pt x="1300" y="230"/>
                  <a:pt x="1301" y="229"/>
                  <a:pt x="1299" y="229"/>
                </a:cubicBezTo>
                <a:cubicBezTo>
                  <a:pt x="1298" y="230"/>
                  <a:pt x="1298" y="232"/>
                  <a:pt x="1297" y="232"/>
                </a:cubicBezTo>
                <a:cubicBezTo>
                  <a:pt x="1295" y="233"/>
                  <a:pt x="1296" y="229"/>
                  <a:pt x="1296" y="228"/>
                </a:cubicBezTo>
                <a:cubicBezTo>
                  <a:pt x="1296" y="227"/>
                  <a:pt x="1295" y="228"/>
                  <a:pt x="1294" y="228"/>
                </a:cubicBezTo>
                <a:cubicBezTo>
                  <a:pt x="1293" y="228"/>
                  <a:pt x="1292" y="228"/>
                  <a:pt x="1291" y="228"/>
                </a:cubicBezTo>
                <a:cubicBezTo>
                  <a:pt x="1289" y="228"/>
                  <a:pt x="1289" y="226"/>
                  <a:pt x="1291" y="225"/>
                </a:cubicBezTo>
                <a:cubicBezTo>
                  <a:pt x="1294" y="224"/>
                  <a:pt x="1293" y="223"/>
                  <a:pt x="1294" y="222"/>
                </a:cubicBezTo>
                <a:cubicBezTo>
                  <a:pt x="1295" y="222"/>
                  <a:pt x="1298" y="220"/>
                  <a:pt x="1300" y="219"/>
                </a:cubicBezTo>
                <a:cubicBezTo>
                  <a:pt x="1301" y="218"/>
                  <a:pt x="1302" y="217"/>
                  <a:pt x="1302" y="216"/>
                </a:cubicBezTo>
                <a:cubicBezTo>
                  <a:pt x="1302" y="215"/>
                  <a:pt x="1305" y="213"/>
                  <a:pt x="1308" y="211"/>
                </a:cubicBezTo>
                <a:cubicBezTo>
                  <a:pt x="1311" y="209"/>
                  <a:pt x="1312" y="208"/>
                  <a:pt x="1313" y="207"/>
                </a:cubicBezTo>
                <a:cubicBezTo>
                  <a:pt x="1313" y="205"/>
                  <a:pt x="1317" y="204"/>
                  <a:pt x="1317" y="203"/>
                </a:cubicBezTo>
                <a:cubicBezTo>
                  <a:pt x="1317" y="202"/>
                  <a:pt x="1322" y="199"/>
                  <a:pt x="1325" y="198"/>
                </a:cubicBezTo>
                <a:cubicBezTo>
                  <a:pt x="1329" y="198"/>
                  <a:pt x="1334" y="199"/>
                  <a:pt x="1335" y="200"/>
                </a:cubicBezTo>
                <a:cubicBezTo>
                  <a:pt x="1336" y="200"/>
                  <a:pt x="1336" y="200"/>
                  <a:pt x="1337" y="199"/>
                </a:cubicBezTo>
                <a:cubicBezTo>
                  <a:pt x="1337" y="199"/>
                  <a:pt x="1339" y="199"/>
                  <a:pt x="1341" y="199"/>
                </a:cubicBezTo>
                <a:cubicBezTo>
                  <a:pt x="1342" y="200"/>
                  <a:pt x="1342" y="199"/>
                  <a:pt x="1343" y="199"/>
                </a:cubicBezTo>
                <a:cubicBezTo>
                  <a:pt x="1344" y="199"/>
                  <a:pt x="1344" y="199"/>
                  <a:pt x="1345" y="199"/>
                </a:cubicBezTo>
                <a:cubicBezTo>
                  <a:pt x="1346" y="199"/>
                  <a:pt x="1348" y="200"/>
                  <a:pt x="1348" y="198"/>
                </a:cubicBezTo>
                <a:cubicBezTo>
                  <a:pt x="1349" y="196"/>
                  <a:pt x="1353" y="196"/>
                  <a:pt x="1354" y="197"/>
                </a:cubicBezTo>
                <a:cubicBezTo>
                  <a:pt x="1355" y="198"/>
                  <a:pt x="1356" y="199"/>
                  <a:pt x="1358" y="198"/>
                </a:cubicBezTo>
                <a:cubicBezTo>
                  <a:pt x="1359" y="197"/>
                  <a:pt x="1359" y="199"/>
                  <a:pt x="1360" y="199"/>
                </a:cubicBezTo>
                <a:cubicBezTo>
                  <a:pt x="1362" y="199"/>
                  <a:pt x="1361" y="201"/>
                  <a:pt x="1360" y="201"/>
                </a:cubicBezTo>
                <a:cubicBezTo>
                  <a:pt x="1358" y="200"/>
                  <a:pt x="1357" y="201"/>
                  <a:pt x="1358" y="202"/>
                </a:cubicBezTo>
                <a:cubicBezTo>
                  <a:pt x="1359" y="203"/>
                  <a:pt x="1360" y="202"/>
                  <a:pt x="1361" y="202"/>
                </a:cubicBezTo>
                <a:cubicBezTo>
                  <a:pt x="1362" y="202"/>
                  <a:pt x="1362" y="201"/>
                  <a:pt x="1363" y="201"/>
                </a:cubicBezTo>
                <a:cubicBezTo>
                  <a:pt x="1364" y="202"/>
                  <a:pt x="1366" y="202"/>
                  <a:pt x="1367" y="201"/>
                </a:cubicBezTo>
                <a:cubicBezTo>
                  <a:pt x="1368" y="200"/>
                  <a:pt x="1368" y="200"/>
                  <a:pt x="1369" y="201"/>
                </a:cubicBezTo>
                <a:cubicBezTo>
                  <a:pt x="1369" y="201"/>
                  <a:pt x="1370" y="201"/>
                  <a:pt x="1370" y="201"/>
                </a:cubicBezTo>
                <a:cubicBezTo>
                  <a:pt x="1371" y="200"/>
                  <a:pt x="1373" y="199"/>
                  <a:pt x="1374" y="200"/>
                </a:cubicBezTo>
                <a:cubicBezTo>
                  <a:pt x="1376" y="200"/>
                  <a:pt x="1375" y="198"/>
                  <a:pt x="1373" y="198"/>
                </a:cubicBezTo>
                <a:cubicBezTo>
                  <a:pt x="1371" y="198"/>
                  <a:pt x="1371" y="197"/>
                  <a:pt x="1372" y="195"/>
                </a:cubicBezTo>
                <a:cubicBezTo>
                  <a:pt x="1374" y="192"/>
                  <a:pt x="1377" y="191"/>
                  <a:pt x="1379" y="189"/>
                </a:cubicBezTo>
                <a:cubicBezTo>
                  <a:pt x="1381" y="188"/>
                  <a:pt x="1382" y="188"/>
                  <a:pt x="1382" y="187"/>
                </a:cubicBezTo>
                <a:cubicBezTo>
                  <a:pt x="1382" y="186"/>
                  <a:pt x="1383" y="183"/>
                  <a:pt x="1384" y="183"/>
                </a:cubicBezTo>
                <a:cubicBezTo>
                  <a:pt x="1384" y="183"/>
                  <a:pt x="1385" y="183"/>
                  <a:pt x="1386" y="183"/>
                </a:cubicBezTo>
                <a:cubicBezTo>
                  <a:pt x="1387" y="184"/>
                  <a:pt x="1390" y="184"/>
                  <a:pt x="1391" y="183"/>
                </a:cubicBezTo>
                <a:cubicBezTo>
                  <a:pt x="1393" y="182"/>
                  <a:pt x="1393" y="184"/>
                  <a:pt x="1394" y="184"/>
                </a:cubicBezTo>
                <a:cubicBezTo>
                  <a:pt x="1394" y="184"/>
                  <a:pt x="1395" y="184"/>
                  <a:pt x="1395" y="183"/>
                </a:cubicBezTo>
                <a:cubicBezTo>
                  <a:pt x="1396" y="183"/>
                  <a:pt x="1396" y="182"/>
                  <a:pt x="1397" y="183"/>
                </a:cubicBezTo>
                <a:cubicBezTo>
                  <a:pt x="1398" y="183"/>
                  <a:pt x="1395" y="185"/>
                  <a:pt x="1395" y="187"/>
                </a:cubicBezTo>
                <a:cubicBezTo>
                  <a:pt x="1394" y="189"/>
                  <a:pt x="1396" y="188"/>
                  <a:pt x="1397" y="188"/>
                </a:cubicBezTo>
                <a:cubicBezTo>
                  <a:pt x="1398" y="189"/>
                  <a:pt x="1396" y="190"/>
                  <a:pt x="1396" y="190"/>
                </a:cubicBezTo>
                <a:cubicBezTo>
                  <a:pt x="1396" y="191"/>
                  <a:pt x="1399" y="191"/>
                  <a:pt x="1401" y="188"/>
                </a:cubicBezTo>
                <a:cubicBezTo>
                  <a:pt x="1404" y="185"/>
                  <a:pt x="1407" y="184"/>
                  <a:pt x="1408" y="185"/>
                </a:cubicBezTo>
                <a:cubicBezTo>
                  <a:pt x="1410" y="185"/>
                  <a:pt x="1409" y="183"/>
                  <a:pt x="1409" y="180"/>
                </a:cubicBezTo>
                <a:cubicBezTo>
                  <a:pt x="1409" y="178"/>
                  <a:pt x="1415" y="177"/>
                  <a:pt x="1416" y="178"/>
                </a:cubicBezTo>
                <a:cubicBezTo>
                  <a:pt x="1418" y="179"/>
                  <a:pt x="1418" y="179"/>
                  <a:pt x="1416" y="179"/>
                </a:cubicBezTo>
                <a:cubicBezTo>
                  <a:pt x="1415" y="178"/>
                  <a:pt x="1413" y="180"/>
                  <a:pt x="1413" y="182"/>
                </a:cubicBezTo>
                <a:cubicBezTo>
                  <a:pt x="1413" y="184"/>
                  <a:pt x="1412" y="185"/>
                  <a:pt x="1413" y="186"/>
                </a:cubicBezTo>
                <a:cubicBezTo>
                  <a:pt x="1413" y="186"/>
                  <a:pt x="1411" y="187"/>
                  <a:pt x="1411" y="188"/>
                </a:cubicBezTo>
                <a:cubicBezTo>
                  <a:pt x="1411" y="188"/>
                  <a:pt x="1411" y="189"/>
                  <a:pt x="1410" y="189"/>
                </a:cubicBezTo>
                <a:cubicBezTo>
                  <a:pt x="1409" y="190"/>
                  <a:pt x="1405" y="190"/>
                  <a:pt x="1404" y="192"/>
                </a:cubicBezTo>
                <a:cubicBezTo>
                  <a:pt x="1404" y="194"/>
                  <a:pt x="1402" y="194"/>
                  <a:pt x="1401" y="196"/>
                </a:cubicBezTo>
                <a:cubicBezTo>
                  <a:pt x="1400" y="198"/>
                  <a:pt x="1396" y="199"/>
                  <a:pt x="1393" y="203"/>
                </a:cubicBezTo>
                <a:cubicBezTo>
                  <a:pt x="1390" y="207"/>
                  <a:pt x="1386" y="207"/>
                  <a:pt x="1386" y="208"/>
                </a:cubicBezTo>
                <a:cubicBezTo>
                  <a:pt x="1386" y="209"/>
                  <a:pt x="1383" y="208"/>
                  <a:pt x="1382" y="209"/>
                </a:cubicBezTo>
                <a:cubicBezTo>
                  <a:pt x="1381" y="209"/>
                  <a:pt x="1383" y="211"/>
                  <a:pt x="1381" y="214"/>
                </a:cubicBezTo>
                <a:cubicBezTo>
                  <a:pt x="1378" y="216"/>
                  <a:pt x="1377" y="220"/>
                  <a:pt x="1377" y="223"/>
                </a:cubicBezTo>
                <a:cubicBezTo>
                  <a:pt x="1377" y="227"/>
                  <a:pt x="1378" y="237"/>
                  <a:pt x="1379" y="239"/>
                </a:cubicBezTo>
                <a:cubicBezTo>
                  <a:pt x="1380" y="241"/>
                  <a:pt x="1380" y="245"/>
                  <a:pt x="1381" y="246"/>
                </a:cubicBezTo>
                <a:cubicBezTo>
                  <a:pt x="1381" y="247"/>
                  <a:pt x="1381" y="249"/>
                  <a:pt x="1382" y="249"/>
                </a:cubicBezTo>
                <a:cubicBezTo>
                  <a:pt x="1382" y="250"/>
                  <a:pt x="1385" y="247"/>
                  <a:pt x="1386" y="246"/>
                </a:cubicBezTo>
                <a:cubicBezTo>
                  <a:pt x="1388" y="244"/>
                  <a:pt x="1387" y="244"/>
                  <a:pt x="1388" y="243"/>
                </a:cubicBezTo>
                <a:cubicBezTo>
                  <a:pt x="1389" y="242"/>
                  <a:pt x="1389" y="240"/>
                  <a:pt x="1389" y="239"/>
                </a:cubicBezTo>
                <a:cubicBezTo>
                  <a:pt x="1390" y="238"/>
                  <a:pt x="1391" y="238"/>
                  <a:pt x="1392" y="237"/>
                </a:cubicBezTo>
                <a:cubicBezTo>
                  <a:pt x="1393" y="236"/>
                  <a:pt x="1394" y="237"/>
                  <a:pt x="1395" y="236"/>
                </a:cubicBezTo>
                <a:cubicBezTo>
                  <a:pt x="1396" y="236"/>
                  <a:pt x="1395" y="234"/>
                  <a:pt x="1395" y="233"/>
                </a:cubicBezTo>
                <a:cubicBezTo>
                  <a:pt x="1395" y="231"/>
                  <a:pt x="1397" y="230"/>
                  <a:pt x="1399" y="229"/>
                </a:cubicBezTo>
                <a:cubicBezTo>
                  <a:pt x="1400" y="228"/>
                  <a:pt x="1400" y="228"/>
                  <a:pt x="1401" y="229"/>
                </a:cubicBezTo>
                <a:cubicBezTo>
                  <a:pt x="1402" y="229"/>
                  <a:pt x="1403" y="229"/>
                  <a:pt x="1404" y="228"/>
                </a:cubicBezTo>
                <a:cubicBezTo>
                  <a:pt x="1406" y="226"/>
                  <a:pt x="1404" y="225"/>
                  <a:pt x="1403" y="224"/>
                </a:cubicBezTo>
                <a:cubicBezTo>
                  <a:pt x="1403" y="223"/>
                  <a:pt x="1405" y="219"/>
                  <a:pt x="1406" y="219"/>
                </a:cubicBezTo>
                <a:cubicBezTo>
                  <a:pt x="1407" y="218"/>
                  <a:pt x="1407" y="219"/>
                  <a:pt x="1408" y="219"/>
                </a:cubicBezTo>
                <a:cubicBezTo>
                  <a:pt x="1408" y="219"/>
                  <a:pt x="1409" y="219"/>
                  <a:pt x="1410" y="218"/>
                </a:cubicBezTo>
                <a:cubicBezTo>
                  <a:pt x="1411" y="217"/>
                  <a:pt x="1408" y="215"/>
                  <a:pt x="1408" y="216"/>
                </a:cubicBezTo>
                <a:cubicBezTo>
                  <a:pt x="1407" y="216"/>
                  <a:pt x="1406" y="212"/>
                  <a:pt x="1408" y="211"/>
                </a:cubicBezTo>
                <a:cubicBezTo>
                  <a:pt x="1410" y="209"/>
                  <a:pt x="1410" y="209"/>
                  <a:pt x="1408" y="209"/>
                </a:cubicBezTo>
                <a:cubicBezTo>
                  <a:pt x="1407" y="208"/>
                  <a:pt x="1407" y="209"/>
                  <a:pt x="1406" y="209"/>
                </a:cubicBezTo>
                <a:cubicBezTo>
                  <a:pt x="1405" y="209"/>
                  <a:pt x="1403" y="207"/>
                  <a:pt x="1405" y="204"/>
                </a:cubicBezTo>
                <a:cubicBezTo>
                  <a:pt x="1407" y="202"/>
                  <a:pt x="1408" y="202"/>
                  <a:pt x="1409" y="201"/>
                </a:cubicBezTo>
                <a:cubicBezTo>
                  <a:pt x="1409" y="199"/>
                  <a:pt x="1411" y="196"/>
                  <a:pt x="1412" y="195"/>
                </a:cubicBezTo>
                <a:cubicBezTo>
                  <a:pt x="1412" y="195"/>
                  <a:pt x="1413" y="195"/>
                  <a:pt x="1414" y="195"/>
                </a:cubicBezTo>
                <a:cubicBezTo>
                  <a:pt x="1415" y="195"/>
                  <a:pt x="1415" y="195"/>
                  <a:pt x="1416" y="195"/>
                </a:cubicBezTo>
                <a:cubicBezTo>
                  <a:pt x="1416" y="195"/>
                  <a:pt x="1416" y="195"/>
                  <a:pt x="1416" y="196"/>
                </a:cubicBezTo>
                <a:cubicBezTo>
                  <a:pt x="1416" y="196"/>
                  <a:pt x="1417" y="196"/>
                  <a:pt x="1417" y="196"/>
                </a:cubicBezTo>
                <a:cubicBezTo>
                  <a:pt x="1418" y="195"/>
                  <a:pt x="1420" y="192"/>
                  <a:pt x="1421" y="192"/>
                </a:cubicBezTo>
                <a:cubicBezTo>
                  <a:pt x="1423" y="192"/>
                  <a:pt x="1422" y="194"/>
                  <a:pt x="1422" y="195"/>
                </a:cubicBezTo>
                <a:cubicBezTo>
                  <a:pt x="1423" y="197"/>
                  <a:pt x="1424" y="195"/>
                  <a:pt x="1426" y="193"/>
                </a:cubicBezTo>
                <a:cubicBezTo>
                  <a:pt x="1429" y="191"/>
                  <a:pt x="1435" y="191"/>
                  <a:pt x="1437" y="192"/>
                </a:cubicBezTo>
                <a:cubicBezTo>
                  <a:pt x="1439" y="193"/>
                  <a:pt x="1439" y="195"/>
                  <a:pt x="1440" y="195"/>
                </a:cubicBezTo>
                <a:cubicBezTo>
                  <a:pt x="1442" y="195"/>
                  <a:pt x="1440" y="193"/>
                  <a:pt x="1442" y="193"/>
                </a:cubicBezTo>
                <a:cubicBezTo>
                  <a:pt x="1443" y="192"/>
                  <a:pt x="1446" y="190"/>
                  <a:pt x="1448" y="189"/>
                </a:cubicBezTo>
                <a:cubicBezTo>
                  <a:pt x="1450" y="188"/>
                  <a:pt x="1449" y="189"/>
                  <a:pt x="1450" y="187"/>
                </a:cubicBezTo>
                <a:cubicBezTo>
                  <a:pt x="1452" y="186"/>
                  <a:pt x="1453" y="187"/>
                  <a:pt x="1453" y="186"/>
                </a:cubicBezTo>
                <a:cubicBezTo>
                  <a:pt x="1453" y="185"/>
                  <a:pt x="1456" y="183"/>
                  <a:pt x="1460" y="183"/>
                </a:cubicBezTo>
                <a:cubicBezTo>
                  <a:pt x="1464" y="182"/>
                  <a:pt x="1469" y="179"/>
                  <a:pt x="1469" y="178"/>
                </a:cubicBezTo>
                <a:cubicBezTo>
                  <a:pt x="1469" y="177"/>
                  <a:pt x="1470" y="177"/>
                  <a:pt x="1471" y="178"/>
                </a:cubicBezTo>
                <a:cubicBezTo>
                  <a:pt x="1471" y="179"/>
                  <a:pt x="1472" y="178"/>
                  <a:pt x="1474" y="179"/>
                </a:cubicBezTo>
                <a:cubicBezTo>
                  <a:pt x="1476" y="179"/>
                  <a:pt x="1477" y="180"/>
                  <a:pt x="1479" y="178"/>
                </a:cubicBezTo>
                <a:cubicBezTo>
                  <a:pt x="1481" y="177"/>
                  <a:pt x="1479" y="176"/>
                  <a:pt x="1479" y="175"/>
                </a:cubicBezTo>
                <a:cubicBezTo>
                  <a:pt x="1479" y="174"/>
                  <a:pt x="1476" y="172"/>
                  <a:pt x="1476" y="171"/>
                </a:cubicBezTo>
                <a:cubicBezTo>
                  <a:pt x="1477" y="170"/>
                  <a:pt x="1474" y="166"/>
                  <a:pt x="1474" y="167"/>
                </a:cubicBezTo>
                <a:cubicBezTo>
                  <a:pt x="1473" y="168"/>
                  <a:pt x="1471" y="166"/>
                  <a:pt x="1471" y="165"/>
                </a:cubicBezTo>
                <a:cubicBezTo>
                  <a:pt x="1471" y="164"/>
                  <a:pt x="1471" y="163"/>
                  <a:pt x="1470" y="164"/>
                </a:cubicBezTo>
                <a:cubicBezTo>
                  <a:pt x="1469" y="165"/>
                  <a:pt x="1467" y="164"/>
                  <a:pt x="1466" y="163"/>
                </a:cubicBezTo>
                <a:cubicBezTo>
                  <a:pt x="1466" y="162"/>
                  <a:pt x="1468" y="161"/>
                  <a:pt x="1470" y="162"/>
                </a:cubicBezTo>
                <a:cubicBezTo>
                  <a:pt x="1472" y="163"/>
                  <a:pt x="1472" y="163"/>
                  <a:pt x="1473" y="164"/>
                </a:cubicBezTo>
                <a:cubicBezTo>
                  <a:pt x="1474" y="165"/>
                  <a:pt x="1476" y="164"/>
                  <a:pt x="1477" y="164"/>
                </a:cubicBezTo>
                <a:cubicBezTo>
                  <a:pt x="1479" y="163"/>
                  <a:pt x="1482" y="162"/>
                  <a:pt x="1483" y="161"/>
                </a:cubicBezTo>
                <a:cubicBezTo>
                  <a:pt x="1484" y="160"/>
                  <a:pt x="1483" y="159"/>
                  <a:pt x="1484" y="159"/>
                </a:cubicBezTo>
                <a:cubicBezTo>
                  <a:pt x="1486" y="158"/>
                  <a:pt x="1485" y="157"/>
                  <a:pt x="1484" y="156"/>
                </a:cubicBezTo>
                <a:cubicBezTo>
                  <a:pt x="1482" y="156"/>
                  <a:pt x="1483" y="154"/>
                  <a:pt x="1484" y="154"/>
                </a:cubicBezTo>
                <a:cubicBezTo>
                  <a:pt x="1485" y="154"/>
                  <a:pt x="1485" y="153"/>
                  <a:pt x="1485" y="153"/>
                </a:cubicBezTo>
                <a:cubicBezTo>
                  <a:pt x="1486" y="153"/>
                  <a:pt x="1486" y="153"/>
                  <a:pt x="1486" y="153"/>
                </a:cubicBezTo>
                <a:cubicBezTo>
                  <a:pt x="1486" y="153"/>
                  <a:pt x="1487" y="153"/>
                  <a:pt x="1488" y="153"/>
                </a:cubicBezTo>
                <a:cubicBezTo>
                  <a:pt x="1489" y="152"/>
                  <a:pt x="1488" y="154"/>
                  <a:pt x="1487" y="155"/>
                </a:cubicBezTo>
                <a:cubicBezTo>
                  <a:pt x="1486" y="156"/>
                  <a:pt x="1488" y="157"/>
                  <a:pt x="1489" y="158"/>
                </a:cubicBezTo>
                <a:cubicBezTo>
                  <a:pt x="1489" y="158"/>
                  <a:pt x="1492" y="159"/>
                  <a:pt x="1493" y="158"/>
                </a:cubicBezTo>
                <a:cubicBezTo>
                  <a:pt x="1495" y="157"/>
                  <a:pt x="1499" y="159"/>
                  <a:pt x="1500" y="160"/>
                </a:cubicBezTo>
                <a:cubicBezTo>
                  <a:pt x="1500" y="161"/>
                  <a:pt x="1501" y="163"/>
                  <a:pt x="1503" y="164"/>
                </a:cubicBezTo>
                <a:cubicBezTo>
                  <a:pt x="1505" y="165"/>
                  <a:pt x="1507" y="164"/>
                  <a:pt x="1507" y="165"/>
                </a:cubicBezTo>
                <a:cubicBezTo>
                  <a:pt x="1507" y="166"/>
                  <a:pt x="1508" y="167"/>
                  <a:pt x="1509" y="166"/>
                </a:cubicBezTo>
                <a:cubicBezTo>
                  <a:pt x="1510" y="166"/>
                  <a:pt x="1510" y="166"/>
                  <a:pt x="1510" y="167"/>
                </a:cubicBezTo>
                <a:cubicBezTo>
                  <a:pt x="1511" y="167"/>
                  <a:pt x="1511" y="167"/>
                  <a:pt x="1512" y="167"/>
                </a:cubicBezTo>
                <a:cubicBezTo>
                  <a:pt x="1512" y="166"/>
                  <a:pt x="1512" y="166"/>
                  <a:pt x="1513" y="166"/>
                </a:cubicBezTo>
                <a:cubicBezTo>
                  <a:pt x="1513" y="166"/>
                  <a:pt x="1513" y="167"/>
                  <a:pt x="1514" y="166"/>
                </a:cubicBezTo>
                <a:cubicBezTo>
                  <a:pt x="1515" y="165"/>
                  <a:pt x="1512" y="165"/>
                  <a:pt x="1512" y="164"/>
                </a:cubicBezTo>
                <a:cubicBezTo>
                  <a:pt x="1512" y="163"/>
                  <a:pt x="1513" y="164"/>
                  <a:pt x="1513" y="164"/>
                </a:cubicBezTo>
                <a:cubicBezTo>
                  <a:pt x="1514" y="164"/>
                  <a:pt x="1514" y="164"/>
                  <a:pt x="1514" y="164"/>
                </a:cubicBezTo>
                <a:cubicBezTo>
                  <a:pt x="1515" y="164"/>
                  <a:pt x="1514" y="162"/>
                  <a:pt x="1515" y="162"/>
                </a:cubicBezTo>
                <a:cubicBezTo>
                  <a:pt x="1515" y="162"/>
                  <a:pt x="1515" y="158"/>
                  <a:pt x="1514" y="158"/>
                </a:cubicBezTo>
                <a:cubicBezTo>
                  <a:pt x="1513" y="158"/>
                  <a:pt x="1514" y="156"/>
                  <a:pt x="1515" y="157"/>
                </a:cubicBezTo>
                <a:moveTo>
                  <a:pt x="847" y="523"/>
                </a:moveTo>
                <a:cubicBezTo>
                  <a:pt x="845" y="524"/>
                  <a:pt x="844" y="518"/>
                  <a:pt x="841" y="517"/>
                </a:cubicBezTo>
                <a:cubicBezTo>
                  <a:pt x="839" y="516"/>
                  <a:pt x="839" y="502"/>
                  <a:pt x="840" y="502"/>
                </a:cubicBezTo>
                <a:cubicBezTo>
                  <a:pt x="841" y="501"/>
                  <a:pt x="841" y="513"/>
                  <a:pt x="844" y="515"/>
                </a:cubicBezTo>
                <a:cubicBezTo>
                  <a:pt x="846" y="516"/>
                  <a:pt x="845" y="519"/>
                  <a:pt x="846" y="520"/>
                </a:cubicBezTo>
                <a:cubicBezTo>
                  <a:pt x="846" y="521"/>
                  <a:pt x="848" y="523"/>
                  <a:pt x="847" y="523"/>
                </a:cubicBezTo>
                <a:moveTo>
                  <a:pt x="865" y="548"/>
                </a:moveTo>
                <a:cubicBezTo>
                  <a:pt x="864" y="550"/>
                  <a:pt x="861" y="545"/>
                  <a:pt x="860" y="542"/>
                </a:cubicBezTo>
                <a:cubicBezTo>
                  <a:pt x="860" y="539"/>
                  <a:pt x="862" y="537"/>
                  <a:pt x="861" y="534"/>
                </a:cubicBezTo>
                <a:cubicBezTo>
                  <a:pt x="859" y="531"/>
                  <a:pt x="859" y="528"/>
                  <a:pt x="860" y="528"/>
                </a:cubicBezTo>
                <a:cubicBezTo>
                  <a:pt x="862" y="528"/>
                  <a:pt x="864" y="536"/>
                  <a:pt x="863" y="538"/>
                </a:cubicBezTo>
                <a:cubicBezTo>
                  <a:pt x="862" y="541"/>
                  <a:pt x="866" y="547"/>
                  <a:pt x="865" y="548"/>
                </a:cubicBezTo>
                <a:moveTo>
                  <a:pt x="854" y="487"/>
                </a:moveTo>
                <a:cubicBezTo>
                  <a:pt x="857" y="486"/>
                  <a:pt x="863" y="487"/>
                  <a:pt x="863" y="488"/>
                </a:cubicBezTo>
                <a:cubicBezTo>
                  <a:pt x="862" y="489"/>
                  <a:pt x="860" y="489"/>
                  <a:pt x="860" y="491"/>
                </a:cubicBezTo>
                <a:cubicBezTo>
                  <a:pt x="860" y="493"/>
                  <a:pt x="859" y="495"/>
                  <a:pt x="858" y="495"/>
                </a:cubicBezTo>
                <a:cubicBezTo>
                  <a:pt x="856" y="496"/>
                  <a:pt x="859" y="498"/>
                  <a:pt x="858" y="498"/>
                </a:cubicBezTo>
                <a:cubicBezTo>
                  <a:pt x="857" y="498"/>
                  <a:pt x="856" y="498"/>
                  <a:pt x="855" y="498"/>
                </a:cubicBezTo>
                <a:cubicBezTo>
                  <a:pt x="854" y="497"/>
                  <a:pt x="852" y="497"/>
                  <a:pt x="851" y="498"/>
                </a:cubicBezTo>
                <a:cubicBezTo>
                  <a:pt x="848" y="499"/>
                  <a:pt x="851" y="487"/>
                  <a:pt x="854" y="487"/>
                </a:cubicBezTo>
                <a:moveTo>
                  <a:pt x="950" y="303"/>
                </a:moveTo>
                <a:cubicBezTo>
                  <a:pt x="949" y="303"/>
                  <a:pt x="949" y="303"/>
                  <a:pt x="948" y="303"/>
                </a:cubicBezTo>
                <a:cubicBezTo>
                  <a:pt x="947" y="304"/>
                  <a:pt x="947" y="304"/>
                  <a:pt x="946" y="304"/>
                </a:cubicBezTo>
                <a:cubicBezTo>
                  <a:pt x="944" y="303"/>
                  <a:pt x="942" y="302"/>
                  <a:pt x="942" y="304"/>
                </a:cubicBezTo>
                <a:cubicBezTo>
                  <a:pt x="941" y="305"/>
                  <a:pt x="941" y="307"/>
                  <a:pt x="943" y="307"/>
                </a:cubicBezTo>
                <a:cubicBezTo>
                  <a:pt x="945" y="307"/>
                  <a:pt x="944" y="308"/>
                  <a:pt x="943" y="310"/>
                </a:cubicBezTo>
                <a:cubicBezTo>
                  <a:pt x="942" y="310"/>
                  <a:pt x="943" y="310"/>
                  <a:pt x="944" y="310"/>
                </a:cubicBezTo>
                <a:cubicBezTo>
                  <a:pt x="944" y="310"/>
                  <a:pt x="945" y="310"/>
                  <a:pt x="945" y="311"/>
                </a:cubicBezTo>
                <a:cubicBezTo>
                  <a:pt x="946" y="312"/>
                  <a:pt x="947" y="312"/>
                  <a:pt x="946" y="314"/>
                </a:cubicBezTo>
                <a:cubicBezTo>
                  <a:pt x="946" y="316"/>
                  <a:pt x="947" y="321"/>
                  <a:pt x="946" y="322"/>
                </a:cubicBezTo>
                <a:cubicBezTo>
                  <a:pt x="945" y="323"/>
                  <a:pt x="941" y="324"/>
                  <a:pt x="937" y="324"/>
                </a:cubicBezTo>
                <a:cubicBezTo>
                  <a:pt x="933" y="324"/>
                  <a:pt x="933" y="319"/>
                  <a:pt x="929" y="319"/>
                </a:cubicBezTo>
                <a:cubicBezTo>
                  <a:pt x="925" y="319"/>
                  <a:pt x="923" y="314"/>
                  <a:pt x="925" y="312"/>
                </a:cubicBezTo>
                <a:cubicBezTo>
                  <a:pt x="927" y="309"/>
                  <a:pt x="929" y="305"/>
                  <a:pt x="927" y="303"/>
                </a:cubicBezTo>
                <a:cubicBezTo>
                  <a:pt x="926" y="301"/>
                  <a:pt x="918" y="293"/>
                  <a:pt x="919" y="291"/>
                </a:cubicBezTo>
                <a:cubicBezTo>
                  <a:pt x="919" y="288"/>
                  <a:pt x="920" y="287"/>
                  <a:pt x="917" y="285"/>
                </a:cubicBezTo>
                <a:cubicBezTo>
                  <a:pt x="914" y="282"/>
                  <a:pt x="917" y="281"/>
                  <a:pt x="919" y="279"/>
                </a:cubicBezTo>
                <a:cubicBezTo>
                  <a:pt x="921" y="276"/>
                  <a:pt x="925" y="275"/>
                  <a:pt x="927" y="273"/>
                </a:cubicBezTo>
                <a:cubicBezTo>
                  <a:pt x="930" y="272"/>
                  <a:pt x="933" y="270"/>
                  <a:pt x="936" y="271"/>
                </a:cubicBezTo>
                <a:cubicBezTo>
                  <a:pt x="937" y="271"/>
                  <a:pt x="939" y="271"/>
                  <a:pt x="939" y="271"/>
                </a:cubicBezTo>
                <a:cubicBezTo>
                  <a:pt x="941" y="271"/>
                  <a:pt x="942" y="271"/>
                  <a:pt x="943" y="272"/>
                </a:cubicBezTo>
                <a:cubicBezTo>
                  <a:pt x="944" y="274"/>
                  <a:pt x="943" y="277"/>
                  <a:pt x="943" y="278"/>
                </a:cubicBezTo>
                <a:cubicBezTo>
                  <a:pt x="944" y="279"/>
                  <a:pt x="941" y="279"/>
                  <a:pt x="939" y="279"/>
                </a:cubicBezTo>
                <a:cubicBezTo>
                  <a:pt x="937" y="279"/>
                  <a:pt x="933" y="280"/>
                  <a:pt x="934" y="281"/>
                </a:cubicBezTo>
                <a:cubicBezTo>
                  <a:pt x="934" y="282"/>
                  <a:pt x="936" y="285"/>
                  <a:pt x="933" y="283"/>
                </a:cubicBezTo>
                <a:cubicBezTo>
                  <a:pt x="931" y="282"/>
                  <a:pt x="930" y="285"/>
                  <a:pt x="931" y="285"/>
                </a:cubicBezTo>
                <a:cubicBezTo>
                  <a:pt x="933" y="285"/>
                  <a:pt x="934" y="286"/>
                  <a:pt x="934" y="288"/>
                </a:cubicBezTo>
                <a:cubicBezTo>
                  <a:pt x="934" y="289"/>
                  <a:pt x="935" y="291"/>
                  <a:pt x="936" y="291"/>
                </a:cubicBezTo>
                <a:cubicBezTo>
                  <a:pt x="936" y="291"/>
                  <a:pt x="937" y="291"/>
                  <a:pt x="937" y="292"/>
                </a:cubicBezTo>
                <a:cubicBezTo>
                  <a:pt x="938" y="292"/>
                  <a:pt x="938" y="293"/>
                  <a:pt x="939" y="293"/>
                </a:cubicBezTo>
                <a:cubicBezTo>
                  <a:pt x="941" y="293"/>
                  <a:pt x="942" y="293"/>
                  <a:pt x="941" y="295"/>
                </a:cubicBezTo>
                <a:cubicBezTo>
                  <a:pt x="939" y="296"/>
                  <a:pt x="942" y="301"/>
                  <a:pt x="942" y="300"/>
                </a:cubicBezTo>
                <a:cubicBezTo>
                  <a:pt x="943" y="299"/>
                  <a:pt x="942" y="296"/>
                  <a:pt x="945" y="296"/>
                </a:cubicBezTo>
                <a:cubicBezTo>
                  <a:pt x="948" y="297"/>
                  <a:pt x="946" y="300"/>
                  <a:pt x="948" y="300"/>
                </a:cubicBezTo>
                <a:cubicBezTo>
                  <a:pt x="950" y="300"/>
                  <a:pt x="952" y="303"/>
                  <a:pt x="950" y="303"/>
                </a:cubicBezTo>
                <a:moveTo>
                  <a:pt x="975" y="285"/>
                </a:moveTo>
                <a:cubicBezTo>
                  <a:pt x="971" y="287"/>
                  <a:pt x="968" y="287"/>
                  <a:pt x="969" y="284"/>
                </a:cubicBezTo>
                <a:cubicBezTo>
                  <a:pt x="970" y="281"/>
                  <a:pt x="971" y="278"/>
                  <a:pt x="969" y="278"/>
                </a:cubicBezTo>
                <a:cubicBezTo>
                  <a:pt x="967" y="278"/>
                  <a:pt x="968" y="284"/>
                  <a:pt x="967" y="284"/>
                </a:cubicBezTo>
                <a:cubicBezTo>
                  <a:pt x="966" y="285"/>
                  <a:pt x="966" y="279"/>
                  <a:pt x="967" y="277"/>
                </a:cubicBezTo>
                <a:cubicBezTo>
                  <a:pt x="968" y="275"/>
                  <a:pt x="970" y="277"/>
                  <a:pt x="971" y="277"/>
                </a:cubicBezTo>
                <a:cubicBezTo>
                  <a:pt x="971" y="277"/>
                  <a:pt x="971" y="277"/>
                  <a:pt x="971" y="276"/>
                </a:cubicBezTo>
                <a:cubicBezTo>
                  <a:pt x="972" y="276"/>
                  <a:pt x="972" y="275"/>
                  <a:pt x="973" y="275"/>
                </a:cubicBezTo>
                <a:cubicBezTo>
                  <a:pt x="974" y="275"/>
                  <a:pt x="972" y="278"/>
                  <a:pt x="974" y="278"/>
                </a:cubicBezTo>
                <a:cubicBezTo>
                  <a:pt x="975" y="278"/>
                  <a:pt x="978" y="283"/>
                  <a:pt x="975" y="285"/>
                </a:cubicBezTo>
                <a:moveTo>
                  <a:pt x="979" y="274"/>
                </a:moveTo>
                <a:cubicBezTo>
                  <a:pt x="979" y="275"/>
                  <a:pt x="974" y="274"/>
                  <a:pt x="973" y="273"/>
                </a:cubicBezTo>
                <a:cubicBezTo>
                  <a:pt x="973" y="272"/>
                  <a:pt x="980" y="273"/>
                  <a:pt x="979" y="274"/>
                </a:cubicBezTo>
                <a:moveTo>
                  <a:pt x="1050" y="274"/>
                </a:moveTo>
                <a:cubicBezTo>
                  <a:pt x="1047" y="274"/>
                  <a:pt x="1039" y="272"/>
                  <a:pt x="1036" y="276"/>
                </a:cubicBezTo>
                <a:cubicBezTo>
                  <a:pt x="1033" y="279"/>
                  <a:pt x="1035" y="281"/>
                  <a:pt x="1034" y="281"/>
                </a:cubicBezTo>
                <a:cubicBezTo>
                  <a:pt x="1032" y="281"/>
                  <a:pt x="1031" y="276"/>
                  <a:pt x="1033" y="274"/>
                </a:cubicBezTo>
                <a:cubicBezTo>
                  <a:pt x="1035" y="272"/>
                  <a:pt x="1041" y="272"/>
                  <a:pt x="1044" y="272"/>
                </a:cubicBezTo>
                <a:cubicBezTo>
                  <a:pt x="1046" y="273"/>
                  <a:pt x="1049" y="273"/>
                  <a:pt x="1051" y="272"/>
                </a:cubicBezTo>
                <a:cubicBezTo>
                  <a:pt x="1053" y="272"/>
                  <a:pt x="1054" y="272"/>
                  <a:pt x="1055" y="272"/>
                </a:cubicBezTo>
                <a:cubicBezTo>
                  <a:pt x="1056" y="272"/>
                  <a:pt x="1054" y="274"/>
                  <a:pt x="1050" y="274"/>
                </a:cubicBezTo>
                <a:moveTo>
                  <a:pt x="1175" y="236"/>
                </a:moveTo>
                <a:cubicBezTo>
                  <a:pt x="1171" y="239"/>
                  <a:pt x="1164" y="240"/>
                  <a:pt x="1164" y="243"/>
                </a:cubicBezTo>
                <a:cubicBezTo>
                  <a:pt x="1164" y="245"/>
                  <a:pt x="1156" y="247"/>
                  <a:pt x="1155" y="245"/>
                </a:cubicBezTo>
                <a:cubicBezTo>
                  <a:pt x="1154" y="244"/>
                  <a:pt x="1161" y="244"/>
                  <a:pt x="1163" y="240"/>
                </a:cubicBezTo>
                <a:cubicBezTo>
                  <a:pt x="1165" y="237"/>
                  <a:pt x="1171" y="235"/>
                  <a:pt x="1174" y="230"/>
                </a:cubicBezTo>
                <a:cubicBezTo>
                  <a:pt x="1176" y="226"/>
                  <a:pt x="1178" y="221"/>
                  <a:pt x="1180" y="221"/>
                </a:cubicBezTo>
                <a:cubicBezTo>
                  <a:pt x="1181" y="221"/>
                  <a:pt x="1179" y="233"/>
                  <a:pt x="1175" y="236"/>
                </a:cubicBezTo>
                <a:moveTo>
                  <a:pt x="770" y="45"/>
                </a:moveTo>
                <a:cubicBezTo>
                  <a:pt x="772" y="45"/>
                  <a:pt x="768" y="47"/>
                  <a:pt x="768" y="49"/>
                </a:cubicBezTo>
                <a:cubicBezTo>
                  <a:pt x="767" y="50"/>
                  <a:pt x="771" y="52"/>
                  <a:pt x="772" y="53"/>
                </a:cubicBezTo>
                <a:cubicBezTo>
                  <a:pt x="774" y="55"/>
                  <a:pt x="777" y="55"/>
                  <a:pt x="778" y="54"/>
                </a:cubicBezTo>
                <a:cubicBezTo>
                  <a:pt x="779" y="53"/>
                  <a:pt x="779" y="50"/>
                  <a:pt x="781" y="50"/>
                </a:cubicBezTo>
                <a:cubicBezTo>
                  <a:pt x="782" y="51"/>
                  <a:pt x="781" y="49"/>
                  <a:pt x="783" y="49"/>
                </a:cubicBezTo>
                <a:cubicBezTo>
                  <a:pt x="784" y="48"/>
                  <a:pt x="784" y="50"/>
                  <a:pt x="783" y="51"/>
                </a:cubicBezTo>
                <a:cubicBezTo>
                  <a:pt x="782" y="52"/>
                  <a:pt x="785" y="52"/>
                  <a:pt x="787" y="51"/>
                </a:cubicBezTo>
                <a:cubicBezTo>
                  <a:pt x="788" y="49"/>
                  <a:pt x="789" y="51"/>
                  <a:pt x="788" y="52"/>
                </a:cubicBezTo>
                <a:cubicBezTo>
                  <a:pt x="788" y="54"/>
                  <a:pt x="785" y="53"/>
                  <a:pt x="783" y="55"/>
                </a:cubicBezTo>
                <a:cubicBezTo>
                  <a:pt x="782" y="56"/>
                  <a:pt x="778" y="55"/>
                  <a:pt x="777" y="57"/>
                </a:cubicBezTo>
                <a:cubicBezTo>
                  <a:pt x="775" y="59"/>
                  <a:pt x="778" y="59"/>
                  <a:pt x="781" y="58"/>
                </a:cubicBezTo>
                <a:cubicBezTo>
                  <a:pt x="783" y="58"/>
                  <a:pt x="787" y="58"/>
                  <a:pt x="789" y="58"/>
                </a:cubicBezTo>
                <a:cubicBezTo>
                  <a:pt x="791" y="58"/>
                  <a:pt x="788" y="59"/>
                  <a:pt x="785" y="59"/>
                </a:cubicBezTo>
                <a:cubicBezTo>
                  <a:pt x="782" y="59"/>
                  <a:pt x="781" y="60"/>
                  <a:pt x="781" y="60"/>
                </a:cubicBezTo>
                <a:cubicBezTo>
                  <a:pt x="782" y="61"/>
                  <a:pt x="781" y="61"/>
                  <a:pt x="780" y="61"/>
                </a:cubicBezTo>
                <a:cubicBezTo>
                  <a:pt x="779" y="60"/>
                  <a:pt x="777" y="60"/>
                  <a:pt x="777" y="61"/>
                </a:cubicBezTo>
                <a:cubicBezTo>
                  <a:pt x="777" y="63"/>
                  <a:pt x="781" y="64"/>
                  <a:pt x="782" y="65"/>
                </a:cubicBezTo>
                <a:cubicBezTo>
                  <a:pt x="782" y="65"/>
                  <a:pt x="783" y="65"/>
                  <a:pt x="784" y="65"/>
                </a:cubicBezTo>
                <a:cubicBezTo>
                  <a:pt x="785" y="65"/>
                  <a:pt x="785" y="65"/>
                  <a:pt x="786" y="65"/>
                </a:cubicBezTo>
                <a:cubicBezTo>
                  <a:pt x="787" y="66"/>
                  <a:pt x="784" y="66"/>
                  <a:pt x="784" y="67"/>
                </a:cubicBezTo>
                <a:cubicBezTo>
                  <a:pt x="783" y="67"/>
                  <a:pt x="787" y="68"/>
                  <a:pt x="787" y="69"/>
                </a:cubicBezTo>
                <a:cubicBezTo>
                  <a:pt x="788" y="70"/>
                  <a:pt x="790" y="69"/>
                  <a:pt x="790" y="68"/>
                </a:cubicBezTo>
                <a:cubicBezTo>
                  <a:pt x="790" y="66"/>
                  <a:pt x="792" y="61"/>
                  <a:pt x="795" y="60"/>
                </a:cubicBezTo>
                <a:cubicBezTo>
                  <a:pt x="798" y="59"/>
                  <a:pt x="796" y="58"/>
                  <a:pt x="796" y="57"/>
                </a:cubicBezTo>
                <a:cubicBezTo>
                  <a:pt x="797" y="55"/>
                  <a:pt x="799" y="56"/>
                  <a:pt x="798" y="55"/>
                </a:cubicBezTo>
                <a:cubicBezTo>
                  <a:pt x="798" y="54"/>
                  <a:pt x="798" y="53"/>
                  <a:pt x="800" y="52"/>
                </a:cubicBezTo>
                <a:cubicBezTo>
                  <a:pt x="802" y="50"/>
                  <a:pt x="803" y="51"/>
                  <a:pt x="805" y="50"/>
                </a:cubicBezTo>
                <a:cubicBezTo>
                  <a:pt x="807" y="49"/>
                  <a:pt x="808" y="51"/>
                  <a:pt x="806" y="51"/>
                </a:cubicBezTo>
                <a:cubicBezTo>
                  <a:pt x="804" y="51"/>
                  <a:pt x="805" y="54"/>
                  <a:pt x="807" y="54"/>
                </a:cubicBezTo>
                <a:cubicBezTo>
                  <a:pt x="808" y="55"/>
                  <a:pt x="807" y="55"/>
                  <a:pt x="808" y="56"/>
                </a:cubicBezTo>
                <a:cubicBezTo>
                  <a:pt x="809" y="56"/>
                  <a:pt x="809" y="58"/>
                  <a:pt x="807" y="60"/>
                </a:cubicBezTo>
                <a:cubicBezTo>
                  <a:pt x="806" y="62"/>
                  <a:pt x="808" y="62"/>
                  <a:pt x="811" y="61"/>
                </a:cubicBezTo>
                <a:cubicBezTo>
                  <a:pt x="815" y="59"/>
                  <a:pt x="813" y="62"/>
                  <a:pt x="814" y="63"/>
                </a:cubicBezTo>
                <a:cubicBezTo>
                  <a:pt x="815" y="64"/>
                  <a:pt x="818" y="62"/>
                  <a:pt x="819" y="60"/>
                </a:cubicBezTo>
                <a:cubicBezTo>
                  <a:pt x="821" y="58"/>
                  <a:pt x="823" y="59"/>
                  <a:pt x="823" y="58"/>
                </a:cubicBezTo>
                <a:cubicBezTo>
                  <a:pt x="823" y="57"/>
                  <a:pt x="821" y="56"/>
                  <a:pt x="820" y="57"/>
                </a:cubicBezTo>
                <a:cubicBezTo>
                  <a:pt x="818" y="58"/>
                  <a:pt x="815" y="57"/>
                  <a:pt x="816" y="56"/>
                </a:cubicBezTo>
                <a:cubicBezTo>
                  <a:pt x="817" y="55"/>
                  <a:pt x="817" y="54"/>
                  <a:pt x="815" y="55"/>
                </a:cubicBezTo>
                <a:cubicBezTo>
                  <a:pt x="814" y="55"/>
                  <a:pt x="811" y="54"/>
                  <a:pt x="812" y="53"/>
                </a:cubicBezTo>
                <a:cubicBezTo>
                  <a:pt x="814" y="53"/>
                  <a:pt x="811" y="51"/>
                  <a:pt x="810" y="51"/>
                </a:cubicBezTo>
                <a:cubicBezTo>
                  <a:pt x="808" y="51"/>
                  <a:pt x="809" y="50"/>
                  <a:pt x="809" y="48"/>
                </a:cubicBezTo>
                <a:cubicBezTo>
                  <a:pt x="809" y="47"/>
                  <a:pt x="805" y="47"/>
                  <a:pt x="806" y="47"/>
                </a:cubicBezTo>
                <a:cubicBezTo>
                  <a:pt x="807" y="46"/>
                  <a:pt x="804" y="45"/>
                  <a:pt x="804" y="46"/>
                </a:cubicBezTo>
                <a:cubicBezTo>
                  <a:pt x="803" y="47"/>
                  <a:pt x="802" y="47"/>
                  <a:pt x="802" y="46"/>
                </a:cubicBezTo>
                <a:cubicBezTo>
                  <a:pt x="802" y="44"/>
                  <a:pt x="799" y="45"/>
                  <a:pt x="798" y="45"/>
                </a:cubicBezTo>
                <a:cubicBezTo>
                  <a:pt x="797" y="45"/>
                  <a:pt x="798" y="42"/>
                  <a:pt x="796" y="42"/>
                </a:cubicBezTo>
                <a:cubicBezTo>
                  <a:pt x="796" y="41"/>
                  <a:pt x="795" y="42"/>
                  <a:pt x="794" y="42"/>
                </a:cubicBezTo>
                <a:cubicBezTo>
                  <a:pt x="794" y="43"/>
                  <a:pt x="793" y="43"/>
                  <a:pt x="793" y="43"/>
                </a:cubicBezTo>
                <a:cubicBezTo>
                  <a:pt x="792" y="43"/>
                  <a:pt x="794" y="41"/>
                  <a:pt x="794" y="40"/>
                </a:cubicBezTo>
                <a:cubicBezTo>
                  <a:pt x="795" y="39"/>
                  <a:pt x="790" y="37"/>
                  <a:pt x="790" y="39"/>
                </a:cubicBezTo>
                <a:cubicBezTo>
                  <a:pt x="789" y="40"/>
                  <a:pt x="788" y="37"/>
                  <a:pt x="787" y="37"/>
                </a:cubicBezTo>
                <a:cubicBezTo>
                  <a:pt x="786" y="36"/>
                  <a:pt x="787" y="38"/>
                  <a:pt x="786" y="39"/>
                </a:cubicBezTo>
                <a:cubicBezTo>
                  <a:pt x="786" y="39"/>
                  <a:pt x="784" y="40"/>
                  <a:pt x="786" y="41"/>
                </a:cubicBezTo>
                <a:cubicBezTo>
                  <a:pt x="787" y="42"/>
                  <a:pt x="789" y="46"/>
                  <a:pt x="788" y="47"/>
                </a:cubicBezTo>
                <a:cubicBezTo>
                  <a:pt x="788" y="48"/>
                  <a:pt x="784" y="44"/>
                  <a:pt x="784" y="42"/>
                </a:cubicBezTo>
                <a:cubicBezTo>
                  <a:pt x="784" y="40"/>
                  <a:pt x="781" y="38"/>
                  <a:pt x="781" y="39"/>
                </a:cubicBezTo>
                <a:cubicBezTo>
                  <a:pt x="780" y="41"/>
                  <a:pt x="779" y="41"/>
                  <a:pt x="779" y="43"/>
                </a:cubicBezTo>
                <a:cubicBezTo>
                  <a:pt x="780" y="44"/>
                  <a:pt x="778" y="45"/>
                  <a:pt x="778" y="44"/>
                </a:cubicBezTo>
                <a:cubicBezTo>
                  <a:pt x="778" y="42"/>
                  <a:pt x="776" y="41"/>
                  <a:pt x="775" y="41"/>
                </a:cubicBezTo>
                <a:cubicBezTo>
                  <a:pt x="774" y="41"/>
                  <a:pt x="777" y="40"/>
                  <a:pt x="778" y="40"/>
                </a:cubicBezTo>
                <a:cubicBezTo>
                  <a:pt x="780" y="39"/>
                  <a:pt x="777" y="38"/>
                  <a:pt x="776" y="39"/>
                </a:cubicBezTo>
                <a:cubicBezTo>
                  <a:pt x="775" y="39"/>
                  <a:pt x="775" y="39"/>
                  <a:pt x="774" y="39"/>
                </a:cubicBezTo>
                <a:cubicBezTo>
                  <a:pt x="773" y="39"/>
                  <a:pt x="773" y="39"/>
                  <a:pt x="772" y="39"/>
                </a:cubicBezTo>
                <a:cubicBezTo>
                  <a:pt x="772" y="40"/>
                  <a:pt x="771" y="39"/>
                  <a:pt x="769" y="39"/>
                </a:cubicBezTo>
                <a:cubicBezTo>
                  <a:pt x="769" y="39"/>
                  <a:pt x="768" y="39"/>
                  <a:pt x="768" y="40"/>
                </a:cubicBezTo>
                <a:cubicBezTo>
                  <a:pt x="767" y="40"/>
                  <a:pt x="766" y="41"/>
                  <a:pt x="766" y="41"/>
                </a:cubicBezTo>
                <a:cubicBezTo>
                  <a:pt x="765" y="40"/>
                  <a:pt x="764" y="43"/>
                  <a:pt x="766" y="45"/>
                </a:cubicBezTo>
                <a:cubicBezTo>
                  <a:pt x="767" y="46"/>
                  <a:pt x="768" y="46"/>
                  <a:pt x="769" y="45"/>
                </a:cubicBezTo>
                <a:cubicBezTo>
                  <a:pt x="769" y="45"/>
                  <a:pt x="770" y="44"/>
                  <a:pt x="770" y="45"/>
                </a:cubicBezTo>
                <a:moveTo>
                  <a:pt x="766" y="52"/>
                </a:moveTo>
                <a:cubicBezTo>
                  <a:pt x="768" y="52"/>
                  <a:pt x="768" y="54"/>
                  <a:pt x="770" y="54"/>
                </a:cubicBezTo>
                <a:cubicBezTo>
                  <a:pt x="770" y="54"/>
                  <a:pt x="768" y="52"/>
                  <a:pt x="767" y="51"/>
                </a:cubicBezTo>
                <a:cubicBezTo>
                  <a:pt x="765" y="49"/>
                  <a:pt x="766" y="48"/>
                  <a:pt x="764" y="48"/>
                </a:cubicBezTo>
                <a:cubicBezTo>
                  <a:pt x="762" y="49"/>
                  <a:pt x="765" y="52"/>
                  <a:pt x="766" y="52"/>
                </a:cubicBezTo>
                <a:moveTo>
                  <a:pt x="796" y="37"/>
                </a:moveTo>
                <a:cubicBezTo>
                  <a:pt x="797" y="38"/>
                  <a:pt x="795" y="38"/>
                  <a:pt x="796" y="39"/>
                </a:cubicBezTo>
                <a:cubicBezTo>
                  <a:pt x="798" y="40"/>
                  <a:pt x="802" y="40"/>
                  <a:pt x="806" y="39"/>
                </a:cubicBezTo>
                <a:cubicBezTo>
                  <a:pt x="809" y="39"/>
                  <a:pt x="811" y="39"/>
                  <a:pt x="811" y="39"/>
                </a:cubicBezTo>
                <a:cubicBezTo>
                  <a:pt x="813" y="40"/>
                  <a:pt x="802" y="41"/>
                  <a:pt x="803" y="42"/>
                </a:cubicBezTo>
                <a:cubicBezTo>
                  <a:pt x="803" y="43"/>
                  <a:pt x="812" y="44"/>
                  <a:pt x="813" y="43"/>
                </a:cubicBezTo>
                <a:cubicBezTo>
                  <a:pt x="813" y="43"/>
                  <a:pt x="815" y="45"/>
                  <a:pt x="818" y="45"/>
                </a:cubicBezTo>
                <a:cubicBezTo>
                  <a:pt x="821" y="45"/>
                  <a:pt x="820" y="44"/>
                  <a:pt x="822" y="44"/>
                </a:cubicBezTo>
                <a:cubicBezTo>
                  <a:pt x="825" y="44"/>
                  <a:pt x="828" y="43"/>
                  <a:pt x="828" y="41"/>
                </a:cubicBezTo>
                <a:cubicBezTo>
                  <a:pt x="828" y="40"/>
                  <a:pt x="834" y="39"/>
                  <a:pt x="834" y="37"/>
                </a:cubicBezTo>
                <a:cubicBezTo>
                  <a:pt x="833" y="35"/>
                  <a:pt x="831" y="35"/>
                  <a:pt x="829" y="35"/>
                </a:cubicBezTo>
                <a:cubicBezTo>
                  <a:pt x="827" y="35"/>
                  <a:pt x="826" y="35"/>
                  <a:pt x="825" y="35"/>
                </a:cubicBezTo>
                <a:cubicBezTo>
                  <a:pt x="824" y="34"/>
                  <a:pt x="820" y="33"/>
                  <a:pt x="819" y="34"/>
                </a:cubicBezTo>
                <a:cubicBezTo>
                  <a:pt x="818" y="36"/>
                  <a:pt x="817" y="36"/>
                  <a:pt x="817" y="36"/>
                </a:cubicBezTo>
                <a:cubicBezTo>
                  <a:pt x="816" y="35"/>
                  <a:pt x="817" y="32"/>
                  <a:pt x="814" y="33"/>
                </a:cubicBezTo>
                <a:cubicBezTo>
                  <a:pt x="812" y="34"/>
                  <a:pt x="814" y="37"/>
                  <a:pt x="813" y="37"/>
                </a:cubicBezTo>
                <a:cubicBezTo>
                  <a:pt x="813" y="37"/>
                  <a:pt x="810" y="36"/>
                  <a:pt x="810" y="35"/>
                </a:cubicBezTo>
                <a:cubicBezTo>
                  <a:pt x="810" y="34"/>
                  <a:pt x="809" y="35"/>
                  <a:pt x="809" y="35"/>
                </a:cubicBezTo>
                <a:cubicBezTo>
                  <a:pt x="808" y="35"/>
                  <a:pt x="807" y="36"/>
                  <a:pt x="807" y="35"/>
                </a:cubicBezTo>
                <a:cubicBezTo>
                  <a:pt x="806" y="33"/>
                  <a:pt x="803" y="32"/>
                  <a:pt x="802" y="32"/>
                </a:cubicBezTo>
                <a:cubicBezTo>
                  <a:pt x="801" y="32"/>
                  <a:pt x="803" y="33"/>
                  <a:pt x="802" y="34"/>
                </a:cubicBezTo>
                <a:cubicBezTo>
                  <a:pt x="802" y="35"/>
                  <a:pt x="800" y="33"/>
                  <a:pt x="799" y="33"/>
                </a:cubicBezTo>
                <a:cubicBezTo>
                  <a:pt x="798" y="33"/>
                  <a:pt x="800" y="35"/>
                  <a:pt x="799" y="36"/>
                </a:cubicBezTo>
                <a:cubicBezTo>
                  <a:pt x="799" y="36"/>
                  <a:pt x="797" y="33"/>
                  <a:pt x="796" y="33"/>
                </a:cubicBezTo>
                <a:cubicBezTo>
                  <a:pt x="795" y="33"/>
                  <a:pt x="795" y="35"/>
                  <a:pt x="794" y="35"/>
                </a:cubicBezTo>
                <a:cubicBezTo>
                  <a:pt x="793" y="35"/>
                  <a:pt x="796" y="36"/>
                  <a:pt x="796" y="37"/>
                </a:cubicBezTo>
                <a:moveTo>
                  <a:pt x="924" y="132"/>
                </a:moveTo>
                <a:cubicBezTo>
                  <a:pt x="927" y="135"/>
                  <a:pt x="930" y="131"/>
                  <a:pt x="932" y="131"/>
                </a:cubicBezTo>
                <a:cubicBezTo>
                  <a:pt x="933" y="130"/>
                  <a:pt x="931" y="129"/>
                  <a:pt x="928" y="128"/>
                </a:cubicBezTo>
                <a:cubicBezTo>
                  <a:pt x="925" y="127"/>
                  <a:pt x="921" y="130"/>
                  <a:pt x="924" y="132"/>
                </a:cubicBezTo>
                <a:moveTo>
                  <a:pt x="946" y="99"/>
                </a:moveTo>
                <a:cubicBezTo>
                  <a:pt x="946" y="100"/>
                  <a:pt x="945" y="101"/>
                  <a:pt x="943" y="101"/>
                </a:cubicBezTo>
                <a:cubicBezTo>
                  <a:pt x="940" y="101"/>
                  <a:pt x="944" y="102"/>
                  <a:pt x="944" y="104"/>
                </a:cubicBezTo>
                <a:cubicBezTo>
                  <a:pt x="944" y="105"/>
                  <a:pt x="942" y="104"/>
                  <a:pt x="942" y="106"/>
                </a:cubicBezTo>
                <a:cubicBezTo>
                  <a:pt x="941" y="108"/>
                  <a:pt x="937" y="106"/>
                  <a:pt x="936" y="109"/>
                </a:cubicBezTo>
                <a:cubicBezTo>
                  <a:pt x="936" y="112"/>
                  <a:pt x="939" y="111"/>
                  <a:pt x="941" y="111"/>
                </a:cubicBezTo>
                <a:cubicBezTo>
                  <a:pt x="943" y="112"/>
                  <a:pt x="940" y="113"/>
                  <a:pt x="941" y="115"/>
                </a:cubicBezTo>
                <a:cubicBezTo>
                  <a:pt x="943" y="116"/>
                  <a:pt x="944" y="115"/>
                  <a:pt x="943" y="113"/>
                </a:cubicBezTo>
                <a:cubicBezTo>
                  <a:pt x="942" y="111"/>
                  <a:pt x="948" y="114"/>
                  <a:pt x="946" y="116"/>
                </a:cubicBezTo>
                <a:cubicBezTo>
                  <a:pt x="944" y="117"/>
                  <a:pt x="949" y="118"/>
                  <a:pt x="952" y="119"/>
                </a:cubicBezTo>
                <a:cubicBezTo>
                  <a:pt x="954" y="119"/>
                  <a:pt x="963" y="121"/>
                  <a:pt x="963" y="119"/>
                </a:cubicBezTo>
                <a:cubicBezTo>
                  <a:pt x="963" y="117"/>
                  <a:pt x="960" y="116"/>
                  <a:pt x="957" y="113"/>
                </a:cubicBezTo>
                <a:cubicBezTo>
                  <a:pt x="954" y="111"/>
                  <a:pt x="953" y="106"/>
                  <a:pt x="956" y="104"/>
                </a:cubicBezTo>
                <a:cubicBezTo>
                  <a:pt x="959" y="102"/>
                  <a:pt x="956" y="102"/>
                  <a:pt x="959" y="99"/>
                </a:cubicBezTo>
                <a:cubicBezTo>
                  <a:pt x="962" y="97"/>
                  <a:pt x="960" y="95"/>
                  <a:pt x="963" y="95"/>
                </a:cubicBezTo>
                <a:cubicBezTo>
                  <a:pt x="965" y="95"/>
                  <a:pt x="962" y="93"/>
                  <a:pt x="965" y="92"/>
                </a:cubicBezTo>
                <a:cubicBezTo>
                  <a:pt x="967" y="92"/>
                  <a:pt x="968" y="89"/>
                  <a:pt x="968" y="88"/>
                </a:cubicBezTo>
                <a:cubicBezTo>
                  <a:pt x="967" y="87"/>
                  <a:pt x="970" y="88"/>
                  <a:pt x="972" y="87"/>
                </a:cubicBezTo>
                <a:cubicBezTo>
                  <a:pt x="973" y="85"/>
                  <a:pt x="976" y="86"/>
                  <a:pt x="977" y="84"/>
                </a:cubicBezTo>
                <a:cubicBezTo>
                  <a:pt x="978" y="82"/>
                  <a:pt x="993" y="77"/>
                  <a:pt x="1001" y="75"/>
                </a:cubicBezTo>
                <a:cubicBezTo>
                  <a:pt x="1009" y="73"/>
                  <a:pt x="1015" y="70"/>
                  <a:pt x="1012" y="68"/>
                </a:cubicBezTo>
                <a:cubicBezTo>
                  <a:pt x="1009" y="65"/>
                  <a:pt x="1001" y="68"/>
                  <a:pt x="999" y="70"/>
                </a:cubicBezTo>
                <a:cubicBezTo>
                  <a:pt x="997" y="72"/>
                  <a:pt x="994" y="71"/>
                  <a:pt x="992" y="72"/>
                </a:cubicBezTo>
                <a:cubicBezTo>
                  <a:pt x="990" y="73"/>
                  <a:pt x="986" y="74"/>
                  <a:pt x="983" y="72"/>
                </a:cubicBezTo>
                <a:cubicBezTo>
                  <a:pt x="982" y="72"/>
                  <a:pt x="981" y="72"/>
                  <a:pt x="980" y="73"/>
                </a:cubicBezTo>
                <a:cubicBezTo>
                  <a:pt x="979" y="73"/>
                  <a:pt x="978" y="74"/>
                  <a:pt x="977" y="74"/>
                </a:cubicBezTo>
                <a:cubicBezTo>
                  <a:pt x="976" y="74"/>
                  <a:pt x="975" y="74"/>
                  <a:pt x="975" y="75"/>
                </a:cubicBezTo>
                <a:cubicBezTo>
                  <a:pt x="974" y="75"/>
                  <a:pt x="973" y="75"/>
                  <a:pt x="972" y="75"/>
                </a:cubicBezTo>
                <a:cubicBezTo>
                  <a:pt x="970" y="75"/>
                  <a:pt x="967" y="77"/>
                  <a:pt x="966" y="78"/>
                </a:cubicBezTo>
                <a:cubicBezTo>
                  <a:pt x="966" y="79"/>
                  <a:pt x="963" y="79"/>
                  <a:pt x="963" y="80"/>
                </a:cubicBezTo>
                <a:cubicBezTo>
                  <a:pt x="963" y="81"/>
                  <a:pt x="961" y="82"/>
                  <a:pt x="959" y="81"/>
                </a:cubicBezTo>
                <a:cubicBezTo>
                  <a:pt x="958" y="80"/>
                  <a:pt x="957" y="82"/>
                  <a:pt x="958" y="84"/>
                </a:cubicBezTo>
                <a:cubicBezTo>
                  <a:pt x="960" y="86"/>
                  <a:pt x="955" y="86"/>
                  <a:pt x="956" y="87"/>
                </a:cubicBezTo>
                <a:cubicBezTo>
                  <a:pt x="957" y="88"/>
                  <a:pt x="954" y="88"/>
                  <a:pt x="955" y="89"/>
                </a:cubicBezTo>
                <a:cubicBezTo>
                  <a:pt x="955" y="91"/>
                  <a:pt x="953" y="91"/>
                  <a:pt x="951" y="91"/>
                </a:cubicBezTo>
                <a:cubicBezTo>
                  <a:pt x="949" y="92"/>
                  <a:pt x="948" y="94"/>
                  <a:pt x="951" y="94"/>
                </a:cubicBezTo>
                <a:cubicBezTo>
                  <a:pt x="953" y="95"/>
                  <a:pt x="949" y="95"/>
                  <a:pt x="949" y="97"/>
                </a:cubicBezTo>
                <a:cubicBezTo>
                  <a:pt x="950" y="99"/>
                  <a:pt x="946" y="97"/>
                  <a:pt x="946" y="99"/>
                </a:cubicBezTo>
                <a:moveTo>
                  <a:pt x="1018" y="100"/>
                </a:moveTo>
                <a:cubicBezTo>
                  <a:pt x="1019" y="100"/>
                  <a:pt x="1024" y="100"/>
                  <a:pt x="1024" y="99"/>
                </a:cubicBezTo>
                <a:cubicBezTo>
                  <a:pt x="1025" y="98"/>
                  <a:pt x="1023" y="97"/>
                  <a:pt x="1020" y="97"/>
                </a:cubicBezTo>
                <a:cubicBezTo>
                  <a:pt x="1017" y="97"/>
                  <a:pt x="1016" y="100"/>
                  <a:pt x="1018" y="100"/>
                </a:cubicBezTo>
                <a:moveTo>
                  <a:pt x="1054" y="102"/>
                </a:moveTo>
                <a:cubicBezTo>
                  <a:pt x="1056" y="103"/>
                  <a:pt x="1058" y="103"/>
                  <a:pt x="1058" y="101"/>
                </a:cubicBezTo>
                <a:cubicBezTo>
                  <a:pt x="1057" y="99"/>
                  <a:pt x="1053" y="101"/>
                  <a:pt x="1054" y="102"/>
                </a:cubicBezTo>
                <a:moveTo>
                  <a:pt x="917" y="32"/>
                </a:moveTo>
                <a:cubicBezTo>
                  <a:pt x="919" y="30"/>
                  <a:pt x="921" y="31"/>
                  <a:pt x="922" y="31"/>
                </a:cubicBezTo>
                <a:cubicBezTo>
                  <a:pt x="923" y="31"/>
                  <a:pt x="924" y="31"/>
                  <a:pt x="924" y="31"/>
                </a:cubicBezTo>
                <a:cubicBezTo>
                  <a:pt x="925" y="29"/>
                  <a:pt x="919" y="29"/>
                  <a:pt x="917" y="30"/>
                </a:cubicBezTo>
                <a:cubicBezTo>
                  <a:pt x="915" y="31"/>
                  <a:pt x="910" y="30"/>
                  <a:pt x="910" y="32"/>
                </a:cubicBezTo>
                <a:cubicBezTo>
                  <a:pt x="911" y="33"/>
                  <a:pt x="914" y="35"/>
                  <a:pt x="917" y="32"/>
                </a:cubicBezTo>
                <a:moveTo>
                  <a:pt x="929" y="31"/>
                </a:moveTo>
                <a:cubicBezTo>
                  <a:pt x="931" y="32"/>
                  <a:pt x="924" y="32"/>
                  <a:pt x="923" y="33"/>
                </a:cubicBezTo>
                <a:cubicBezTo>
                  <a:pt x="922" y="34"/>
                  <a:pt x="919" y="34"/>
                  <a:pt x="919" y="35"/>
                </a:cubicBezTo>
                <a:cubicBezTo>
                  <a:pt x="920" y="37"/>
                  <a:pt x="926" y="37"/>
                  <a:pt x="926" y="36"/>
                </a:cubicBezTo>
                <a:cubicBezTo>
                  <a:pt x="926" y="34"/>
                  <a:pt x="930" y="35"/>
                  <a:pt x="930" y="34"/>
                </a:cubicBezTo>
                <a:cubicBezTo>
                  <a:pt x="930" y="33"/>
                  <a:pt x="931" y="32"/>
                  <a:pt x="935" y="32"/>
                </a:cubicBezTo>
                <a:cubicBezTo>
                  <a:pt x="938" y="31"/>
                  <a:pt x="938" y="30"/>
                  <a:pt x="935" y="29"/>
                </a:cubicBezTo>
                <a:cubicBezTo>
                  <a:pt x="932" y="27"/>
                  <a:pt x="927" y="30"/>
                  <a:pt x="929" y="31"/>
                </a:cubicBezTo>
                <a:moveTo>
                  <a:pt x="964" y="29"/>
                </a:moveTo>
                <a:cubicBezTo>
                  <a:pt x="965" y="27"/>
                  <a:pt x="963" y="28"/>
                  <a:pt x="961" y="28"/>
                </a:cubicBezTo>
                <a:cubicBezTo>
                  <a:pt x="960" y="28"/>
                  <a:pt x="959" y="28"/>
                  <a:pt x="957" y="27"/>
                </a:cubicBezTo>
                <a:cubicBezTo>
                  <a:pt x="954" y="26"/>
                  <a:pt x="952" y="26"/>
                  <a:pt x="954" y="28"/>
                </a:cubicBezTo>
                <a:cubicBezTo>
                  <a:pt x="955" y="29"/>
                  <a:pt x="949" y="29"/>
                  <a:pt x="950" y="30"/>
                </a:cubicBezTo>
                <a:cubicBezTo>
                  <a:pt x="952" y="33"/>
                  <a:pt x="964" y="32"/>
                  <a:pt x="964" y="29"/>
                </a:cubicBezTo>
                <a:moveTo>
                  <a:pt x="962" y="27"/>
                </a:moveTo>
                <a:cubicBezTo>
                  <a:pt x="965" y="27"/>
                  <a:pt x="964" y="25"/>
                  <a:pt x="966" y="25"/>
                </a:cubicBezTo>
                <a:cubicBezTo>
                  <a:pt x="968" y="25"/>
                  <a:pt x="971" y="25"/>
                  <a:pt x="970" y="24"/>
                </a:cubicBezTo>
                <a:cubicBezTo>
                  <a:pt x="969" y="23"/>
                  <a:pt x="962" y="23"/>
                  <a:pt x="963" y="24"/>
                </a:cubicBezTo>
                <a:cubicBezTo>
                  <a:pt x="963" y="25"/>
                  <a:pt x="957" y="25"/>
                  <a:pt x="957" y="25"/>
                </a:cubicBezTo>
                <a:cubicBezTo>
                  <a:pt x="957" y="26"/>
                  <a:pt x="959" y="27"/>
                  <a:pt x="962" y="27"/>
                </a:cubicBezTo>
                <a:moveTo>
                  <a:pt x="947" y="35"/>
                </a:moveTo>
                <a:cubicBezTo>
                  <a:pt x="947" y="33"/>
                  <a:pt x="940" y="35"/>
                  <a:pt x="941" y="36"/>
                </a:cubicBezTo>
                <a:cubicBezTo>
                  <a:pt x="943" y="36"/>
                  <a:pt x="947" y="37"/>
                  <a:pt x="947" y="35"/>
                </a:cubicBezTo>
                <a:moveTo>
                  <a:pt x="963" y="33"/>
                </a:moveTo>
                <a:cubicBezTo>
                  <a:pt x="963" y="34"/>
                  <a:pt x="962" y="34"/>
                  <a:pt x="960" y="34"/>
                </a:cubicBezTo>
                <a:cubicBezTo>
                  <a:pt x="957" y="34"/>
                  <a:pt x="956" y="36"/>
                  <a:pt x="957" y="37"/>
                </a:cubicBezTo>
                <a:cubicBezTo>
                  <a:pt x="959" y="38"/>
                  <a:pt x="965" y="38"/>
                  <a:pt x="967" y="36"/>
                </a:cubicBezTo>
                <a:cubicBezTo>
                  <a:pt x="968" y="35"/>
                  <a:pt x="971" y="36"/>
                  <a:pt x="971" y="34"/>
                </a:cubicBezTo>
                <a:cubicBezTo>
                  <a:pt x="972" y="33"/>
                  <a:pt x="963" y="32"/>
                  <a:pt x="963" y="33"/>
                </a:cubicBezTo>
                <a:moveTo>
                  <a:pt x="984" y="31"/>
                </a:moveTo>
                <a:cubicBezTo>
                  <a:pt x="985" y="30"/>
                  <a:pt x="983" y="30"/>
                  <a:pt x="983" y="29"/>
                </a:cubicBezTo>
                <a:cubicBezTo>
                  <a:pt x="982" y="28"/>
                  <a:pt x="975" y="27"/>
                  <a:pt x="976" y="29"/>
                </a:cubicBezTo>
                <a:cubicBezTo>
                  <a:pt x="976" y="30"/>
                  <a:pt x="971" y="31"/>
                  <a:pt x="972" y="32"/>
                </a:cubicBezTo>
                <a:cubicBezTo>
                  <a:pt x="975" y="35"/>
                  <a:pt x="984" y="32"/>
                  <a:pt x="984" y="31"/>
                </a:cubicBezTo>
                <a:moveTo>
                  <a:pt x="994" y="30"/>
                </a:moveTo>
                <a:cubicBezTo>
                  <a:pt x="998" y="30"/>
                  <a:pt x="998" y="27"/>
                  <a:pt x="996" y="27"/>
                </a:cubicBezTo>
                <a:cubicBezTo>
                  <a:pt x="994" y="26"/>
                  <a:pt x="994" y="27"/>
                  <a:pt x="993" y="27"/>
                </a:cubicBezTo>
                <a:cubicBezTo>
                  <a:pt x="993" y="28"/>
                  <a:pt x="992" y="28"/>
                  <a:pt x="992" y="28"/>
                </a:cubicBezTo>
                <a:cubicBezTo>
                  <a:pt x="990" y="28"/>
                  <a:pt x="986" y="29"/>
                  <a:pt x="987" y="30"/>
                </a:cubicBezTo>
                <a:cubicBezTo>
                  <a:pt x="988" y="31"/>
                  <a:pt x="991" y="31"/>
                  <a:pt x="994" y="30"/>
                </a:cubicBezTo>
                <a:moveTo>
                  <a:pt x="1111" y="36"/>
                </a:moveTo>
                <a:cubicBezTo>
                  <a:pt x="1113" y="37"/>
                  <a:pt x="1112" y="38"/>
                  <a:pt x="1110" y="38"/>
                </a:cubicBezTo>
                <a:cubicBezTo>
                  <a:pt x="1107" y="38"/>
                  <a:pt x="1105" y="38"/>
                  <a:pt x="1107" y="39"/>
                </a:cubicBezTo>
                <a:cubicBezTo>
                  <a:pt x="1108" y="40"/>
                  <a:pt x="1108" y="41"/>
                  <a:pt x="1110" y="42"/>
                </a:cubicBezTo>
                <a:cubicBezTo>
                  <a:pt x="1113" y="42"/>
                  <a:pt x="1116" y="40"/>
                  <a:pt x="1115" y="39"/>
                </a:cubicBezTo>
                <a:cubicBezTo>
                  <a:pt x="1115" y="37"/>
                  <a:pt x="1125" y="36"/>
                  <a:pt x="1127" y="35"/>
                </a:cubicBezTo>
                <a:cubicBezTo>
                  <a:pt x="1130" y="34"/>
                  <a:pt x="1125" y="32"/>
                  <a:pt x="1128" y="32"/>
                </a:cubicBezTo>
                <a:cubicBezTo>
                  <a:pt x="1131" y="31"/>
                  <a:pt x="1130" y="30"/>
                  <a:pt x="1126" y="30"/>
                </a:cubicBezTo>
                <a:cubicBezTo>
                  <a:pt x="1123" y="29"/>
                  <a:pt x="1124" y="26"/>
                  <a:pt x="1123" y="25"/>
                </a:cubicBezTo>
                <a:cubicBezTo>
                  <a:pt x="1122" y="24"/>
                  <a:pt x="1122" y="26"/>
                  <a:pt x="1117" y="27"/>
                </a:cubicBezTo>
                <a:cubicBezTo>
                  <a:pt x="1113" y="28"/>
                  <a:pt x="1111" y="29"/>
                  <a:pt x="1112" y="30"/>
                </a:cubicBezTo>
                <a:cubicBezTo>
                  <a:pt x="1114" y="31"/>
                  <a:pt x="1112" y="33"/>
                  <a:pt x="1110" y="33"/>
                </a:cubicBezTo>
                <a:cubicBezTo>
                  <a:pt x="1109" y="33"/>
                  <a:pt x="1108" y="35"/>
                  <a:pt x="1111" y="36"/>
                </a:cubicBezTo>
                <a:moveTo>
                  <a:pt x="1117" y="40"/>
                </a:moveTo>
                <a:cubicBezTo>
                  <a:pt x="1117" y="41"/>
                  <a:pt x="1113" y="42"/>
                  <a:pt x="1114" y="43"/>
                </a:cubicBezTo>
                <a:cubicBezTo>
                  <a:pt x="1115" y="44"/>
                  <a:pt x="1116" y="44"/>
                  <a:pt x="1117" y="44"/>
                </a:cubicBezTo>
                <a:cubicBezTo>
                  <a:pt x="1119" y="44"/>
                  <a:pt x="1119" y="48"/>
                  <a:pt x="1122" y="47"/>
                </a:cubicBezTo>
                <a:cubicBezTo>
                  <a:pt x="1124" y="47"/>
                  <a:pt x="1130" y="50"/>
                  <a:pt x="1134" y="50"/>
                </a:cubicBezTo>
                <a:cubicBezTo>
                  <a:pt x="1137" y="50"/>
                  <a:pt x="1138" y="47"/>
                  <a:pt x="1137" y="46"/>
                </a:cubicBezTo>
                <a:cubicBezTo>
                  <a:pt x="1135" y="46"/>
                  <a:pt x="1136" y="45"/>
                  <a:pt x="1138" y="42"/>
                </a:cubicBezTo>
                <a:cubicBezTo>
                  <a:pt x="1140" y="39"/>
                  <a:pt x="1132" y="37"/>
                  <a:pt x="1132" y="39"/>
                </a:cubicBezTo>
                <a:cubicBezTo>
                  <a:pt x="1132" y="41"/>
                  <a:pt x="1130" y="38"/>
                  <a:pt x="1129" y="37"/>
                </a:cubicBezTo>
                <a:cubicBezTo>
                  <a:pt x="1128" y="36"/>
                  <a:pt x="1117" y="38"/>
                  <a:pt x="1117" y="40"/>
                </a:cubicBezTo>
                <a:moveTo>
                  <a:pt x="1137" y="57"/>
                </a:moveTo>
                <a:cubicBezTo>
                  <a:pt x="1138" y="58"/>
                  <a:pt x="1140" y="57"/>
                  <a:pt x="1143" y="57"/>
                </a:cubicBezTo>
                <a:cubicBezTo>
                  <a:pt x="1144" y="56"/>
                  <a:pt x="1146" y="56"/>
                  <a:pt x="1148" y="56"/>
                </a:cubicBezTo>
                <a:cubicBezTo>
                  <a:pt x="1152" y="56"/>
                  <a:pt x="1162" y="53"/>
                  <a:pt x="1163" y="51"/>
                </a:cubicBezTo>
                <a:cubicBezTo>
                  <a:pt x="1163" y="49"/>
                  <a:pt x="1159" y="49"/>
                  <a:pt x="1157" y="48"/>
                </a:cubicBezTo>
                <a:cubicBezTo>
                  <a:pt x="1155" y="46"/>
                  <a:pt x="1152" y="47"/>
                  <a:pt x="1151" y="49"/>
                </a:cubicBezTo>
                <a:cubicBezTo>
                  <a:pt x="1150" y="50"/>
                  <a:pt x="1149" y="49"/>
                  <a:pt x="1151" y="47"/>
                </a:cubicBezTo>
                <a:cubicBezTo>
                  <a:pt x="1154" y="44"/>
                  <a:pt x="1149" y="42"/>
                  <a:pt x="1149" y="44"/>
                </a:cubicBezTo>
                <a:cubicBezTo>
                  <a:pt x="1149" y="45"/>
                  <a:pt x="1144" y="44"/>
                  <a:pt x="1144" y="45"/>
                </a:cubicBezTo>
                <a:cubicBezTo>
                  <a:pt x="1144" y="47"/>
                  <a:pt x="1143" y="47"/>
                  <a:pt x="1143" y="49"/>
                </a:cubicBezTo>
                <a:cubicBezTo>
                  <a:pt x="1143" y="49"/>
                  <a:pt x="1142" y="49"/>
                  <a:pt x="1142" y="49"/>
                </a:cubicBezTo>
                <a:cubicBezTo>
                  <a:pt x="1141" y="49"/>
                  <a:pt x="1140" y="49"/>
                  <a:pt x="1140" y="51"/>
                </a:cubicBezTo>
                <a:cubicBezTo>
                  <a:pt x="1140" y="54"/>
                  <a:pt x="1135" y="56"/>
                  <a:pt x="1137" y="57"/>
                </a:cubicBezTo>
                <a:moveTo>
                  <a:pt x="1107" y="27"/>
                </a:moveTo>
                <a:cubicBezTo>
                  <a:pt x="1108" y="25"/>
                  <a:pt x="1099" y="26"/>
                  <a:pt x="1102" y="28"/>
                </a:cubicBezTo>
                <a:cubicBezTo>
                  <a:pt x="1102" y="28"/>
                  <a:pt x="1107" y="29"/>
                  <a:pt x="1107" y="27"/>
                </a:cubicBezTo>
                <a:moveTo>
                  <a:pt x="1191" y="89"/>
                </a:moveTo>
                <a:cubicBezTo>
                  <a:pt x="1190" y="90"/>
                  <a:pt x="1188" y="90"/>
                  <a:pt x="1188" y="91"/>
                </a:cubicBezTo>
                <a:cubicBezTo>
                  <a:pt x="1190" y="92"/>
                  <a:pt x="1196" y="91"/>
                  <a:pt x="1196" y="89"/>
                </a:cubicBezTo>
                <a:cubicBezTo>
                  <a:pt x="1196" y="87"/>
                  <a:pt x="1191" y="88"/>
                  <a:pt x="1191" y="89"/>
                </a:cubicBezTo>
                <a:moveTo>
                  <a:pt x="1325" y="99"/>
                </a:moveTo>
                <a:cubicBezTo>
                  <a:pt x="1327" y="99"/>
                  <a:pt x="1323" y="95"/>
                  <a:pt x="1319" y="94"/>
                </a:cubicBezTo>
                <a:cubicBezTo>
                  <a:pt x="1315" y="93"/>
                  <a:pt x="1312" y="96"/>
                  <a:pt x="1312" y="97"/>
                </a:cubicBezTo>
                <a:cubicBezTo>
                  <a:pt x="1313" y="99"/>
                  <a:pt x="1323" y="100"/>
                  <a:pt x="1325" y="99"/>
                </a:cubicBezTo>
                <a:moveTo>
                  <a:pt x="1315" y="91"/>
                </a:moveTo>
                <a:cubicBezTo>
                  <a:pt x="1315" y="89"/>
                  <a:pt x="1308" y="92"/>
                  <a:pt x="1311" y="93"/>
                </a:cubicBezTo>
                <a:cubicBezTo>
                  <a:pt x="1312" y="93"/>
                  <a:pt x="1315" y="93"/>
                  <a:pt x="1315" y="91"/>
                </a:cubicBezTo>
                <a:moveTo>
                  <a:pt x="1299" y="83"/>
                </a:moveTo>
                <a:cubicBezTo>
                  <a:pt x="1300" y="84"/>
                  <a:pt x="1301" y="85"/>
                  <a:pt x="1302" y="86"/>
                </a:cubicBezTo>
                <a:cubicBezTo>
                  <a:pt x="1303" y="87"/>
                  <a:pt x="1307" y="85"/>
                  <a:pt x="1308" y="85"/>
                </a:cubicBezTo>
                <a:cubicBezTo>
                  <a:pt x="1309" y="85"/>
                  <a:pt x="1309" y="85"/>
                  <a:pt x="1310" y="85"/>
                </a:cubicBezTo>
                <a:cubicBezTo>
                  <a:pt x="1310" y="86"/>
                  <a:pt x="1311" y="86"/>
                  <a:pt x="1312" y="86"/>
                </a:cubicBezTo>
                <a:cubicBezTo>
                  <a:pt x="1315" y="84"/>
                  <a:pt x="1317" y="85"/>
                  <a:pt x="1320" y="85"/>
                </a:cubicBezTo>
                <a:cubicBezTo>
                  <a:pt x="1323" y="85"/>
                  <a:pt x="1319" y="81"/>
                  <a:pt x="1320" y="80"/>
                </a:cubicBezTo>
                <a:cubicBezTo>
                  <a:pt x="1320" y="78"/>
                  <a:pt x="1323" y="79"/>
                  <a:pt x="1322" y="81"/>
                </a:cubicBezTo>
                <a:cubicBezTo>
                  <a:pt x="1321" y="82"/>
                  <a:pt x="1323" y="85"/>
                  <a:pt x="1327" y="85"/>
                </a:cubicBezTo>
                <a:cubicBezTo>
                  <a:pt x="1331" y="84"/>
                  <a:pt x="1328" y="82"/>
                  <a:pt x="1330" y="81"/>
                </a:cubicBezTo>
                <a:cubicBezTo>
                  <a:pt x="1332" y="80"/>
                  <a:pt x="1332" y="79"/>
                  <a:pt x="1329" y="77"/>
                </a:cubicBezTo>
                <a:cubicBezTo>
                  <a:pt x="1326" y="76"/>
                  <a:pt x="1323" y="77"/>
                  <a:pt x="1320" y="76"/>
                </a:cubicBezTo>
                <a:cubicBezTo>
                  <a:pt x="1317" y="74"/>
                  <a:pt x="1314" y="74"/>
                  <a:pt x="1314" y="77"/>
                </a:cubicBezTo>
                <a:cubicBezTo>
                  <a:pt x="1314" y="80"/>
                  <a:pt x="1309" y="74"/>
                  <a:pt x="1306" y="73"/>
                </a:cubicBezTo>
                <a:cubicBezTo>
                  <a:pt x="1303" y="72"/>
                  <a:pt x="1295" y="81"/>
                  <a:pt x="1299" y="83"/>
                </a:cubicBezTo>
                <a:moveTo>
                  <a:pt x="1337" y="83"/>
                </a:moveTo>
                <a:cubicBezTo>
                  <a:pt x="1340" y="83"/>
                  <a:pt x="1341" y="86"/>
                  <a:pt x="1347" y="86"/>
                </a:cubicBezTo>
                <a:cubicBezTo>
                  <a:pt x="1353" y="87"/>
                  <a:pt x="1357" y="86"/>
                  <a:pt x="1357" y="84"/>
                </a:cubicBezTo>
                <a:cubicBezTo>
                  <a:pt x="1357" y="83"/>
                  <a:pt x="1352" y="81"/>
                  <a:pt x="1350" y="82"/>
                </a:cubicBezTo>
                <a:cubicBezTo>
                  <a:pt x="1349" y="83"/>
                  <a:pt x="1349" y="82"/>
                  <a:pt x="1348" y="82"/>
                </a:cubicBezTo>
                <a:cubicBezTo>
                  <a:pt x="1347" y="81"/>
                  <a:pt x="1346" y="81"/>
                  <a:pt x="1345" y="81"/>
                </a:cubicBezTo>
                <a:cubicBezTo>
                  <a:pt x="1343" y="82"/>
                  <a:pt x="1341" y="82"/>
                  <a:pt x="1340" y="80"/>
                </a:cubicBezTo>
                <a:cubicBezTo>
                  <a:pt x="1339" y="78"/>
                  <a:pt x="1335" y="83"/>
                  <a:pt x="1337" y="83"/>
                </a:cubicBezTo>
                <a:moveTo>
                  <a:pt x="1477" y="118"/>
                </a:moveTo>
                <a:cubicBezTo>
                  <a:pt x="1478" y="119"/>
                  <a:pt x="1479" y="118"/>
                  <a:pt x="1480" y="118"/>
                </a:cubicBezTo>
                <a:cubicBezTo>
                  <a:pt x="1481" y="118"/>
                  <a:pt x="1482" y="117"/>
                  <a:pt x="1483" y="118"/>
                </a:cubicBezTo>
                <a:cubicBezTo>
                  <a:pt x="1485" y="119"/>
                  <a:pt x="1490" y="117"/>
                  <a:pt x="1492" y="117"/>
                </a:cubicBezTo>
                <a:cubicBezTo>
                  <a:pt x="1494" y="117"/>
                  <a:pt x="1493" y="114"/>
                  <a:pt x="1487" y="113"/>
                </a:cubicBezTo>
                <a:cubicBezTo>
                  <a:pt x="1481" y="113"/>
                  <a:pt x="1474" y="117"/>
                  <a:pt x="1477" y="118"/>
                </a:cubicBezTo>
                <a:moveTo>
                  <a:pt x="1523" y="171"/>
                </a:moveTo>
                <a:cubicBezTo>
                  <a:pt x="1522" y="172"/>
                  <a:pt x="1516" y="172"/>
                  <a:pt x="1517" y="173"/>
                </a:cubicBezTo>
                <a:cubicBezTo>
                  <a:pt x="1518" y="174"/>
                  <a:pt x="1523" y="174"/>
                  <a:pt x="1525" y="175"/>
                </a:cubicBezTo>
                <a:cubicBezTo>
                  <a:pt x="1527" y="176"/>
                  <a:pt x="1530" y="175"/>
                  <a:pt x="1530" y="174"/>
                </a:cubicBezTo>
                <a:cubicBezTo>
                  <a:pt x="1530" y="173"/>
                  <a:pt x="1523" y="171"/>
                  <a:pt x="1523" y="171"/>
                </a:cubicBezTo>
                <a:moveTo>
                  <a:pt x="1319" y="248"/>
                </a:moveTo>
                <a:cubicBezTo>
                  <a:pt x="1320" y="250"/>
                  <a:pt x="1318" y="262"/>
                  <a:pt x="1319" y="264"/>
                </a:cubicBezTo>
                <a:cubicBezTo>
                  <a:pt x="1320" y="266"/>
                  <a:pt x="1317" y="275"/>
                  <a:pt x="1318" y="276"/>
                </a:cubicBezTo>
                <a:cubicBezTo>
                  <a:pt x="1320" y="278"/>
                  <a:pt x="1319" y="273"/>
                  <a:pt x="1321" y="273"/>
                </a:cubicBezTo>
                <a:cubicBezTo>
                  <a:pt x="1323" y="273"/>
                  <a:pt x="1323" y="276"/>
                  <a:pt x="1324" y="276"/>
                </a:cubicBezTo>
                <a:cubicBezTo>
                  <a:pt x="1325" y="277"/>
                  <a:pt x="1325" y="275"/>
                  <a:pt x="1325" y="274"/>
                </a:cubicBezTo>
                <a:cubicBezTo>
                  <a:pt x="1325" y="273"/>
                  <a:pt x="1324" y="272"/>
                  <a:pt x="1324" y="272"/>
                </a:cubicBezTo>
                <a:cubicBezTo>
                  <a:pt x="1322" y="273"/>
                  <a:pt x="1321" y="269"/>
                  <a:pt x="1321" y="267"/>
                </a:cubicBezTo>
                <a:cubicBezTo>
                  <a:pt x="1320" y="265"/>
                  <a:pt x="1322" y="263"/>
                  <a:pt x="1322" y="260"/>
                </a:cubicBezTo>
                <a:cubicBezTo>
                  <a:pt x="1322" y="258"/>
                  <a:pt x="1325" y="258"/>
                  <a:pt x="1327" y="260"/>
                </a:cubicBezTo>
                <a:cubicBezTo>
                  <a:pt x="1329" y="262"/>
                  <a:pt x="1329" y="261"/>
                  <a:pt x="1328" y="259"/>
                </a:cubicBezTo>
                <a:cubicBezTo>
                  <a:pt x="1328" y="258"/>
                  <a:pt x="1325" y="248"/>
                  <a:pt x="1324" y="244"/>
                </a:cubicBezTo>
                <a:cubicBezTo>
                  <a:pt x="1323" y="241"/>
                  <a:pt x="1326" y="237"/>
                  <a:pt x="1323" y="235"/>
                </a:cubicBezTo>
                <a:cubicBezTo>
                  <a:pt x="1321" y="233"/>
                  <a:pt x="1322" y="229"/>
                  <a:pt x="1321" y="230"/>
                </a:cubicBezTo>
                <a:cubicBezTo>
                  <a:pt x="1319" y="231"/>
                  <a:pt x="1321" y="234"/>
                  <a:pt x="1319" y="235"/>
                </a:cubicBezTo>
                <a:cubicBezTo>
                  <a:pt x="1317" y="235"/>
                  <a:pt x="1319" y="237"/>
                  <a:pt x="1318" y="239"/>
                </a:cubicBezTo>
                <a:cubicBezTo>
                  <a:pt x="1317" y="242"/>
                  <a:pt x="1318" y="245"/>
                  <a:pt x="1319" y="248"/>
                </a:cubicBezTo>
                <a:moveTo>
                  <a:pt x="1312" y="291"/>
                </a:moveTo>
                <a:cubicBezTo>
                  <a:pt x="1310" y="292"/>
                  <a:pt x="1312" y="293"/>
                  <a:pt x="1310" y="294"/>
                </a:cubicBezTo>
                <a:cubicBezTo>
                  <a:pt x="1308" y="295"/>
                  <a:pt x="1309" y="296"/>
                  <a:pt x="1309" y="296"/>
                </a:cubicBezTo>
                <a:cubicBezTo>
                  <a:pt x="1310" y="297"/>
                  <a:pt x="1310" y="298"/>
                  <a:pt x="1309" y="300"/>
                </a:cubicBezTo>
                <a:cubicBezTo>
                  <a:pt x="1309" y="301"/>
                  <a:pt x="1311" y="300"/>
                  <a:pt x="1312" y="299"/>
                </a:cubicBezTo>
                <a:cubicBezTo>
                  <a:pt x="1312" y="298"/>
                  <a:pt x="1313" y="298"/>
                  <a:pt x="1313" y="298"/>
                </a:cubicBezTo>
                <a:cubicBezTo>
                  <a:pt x="1313" y="299"/>
                  <a:pt x="1314" y="299"/>
                  <a:pt x="1314" y="298"/>
                </a:cubicBezTo>
                <a:cubicBezTo>
                  <a:pt x="1314" y="297"/>
                  <a:pt x="1311" y="296"/>
                  <a:pt x="1311" y="295"/>
                </a:cubicBezTo>
                <a:cubicBezTo>
                  <a:pt x="1311" y="294"/>
                  <a:pt x="1312" y="295"/>
                  <a:pt x="1313" y="295"/>
                </a:cubicBezTo>
                <a:cubicBezTo>
                  <a:pt x="1313" y="295"/>
                  <a:pt x="1314" y="295"/>
                  <a:pt x="1315" y="295"/>
                </a:cubicBezTo>
                <a:cubicBezTo>
                  <a:pt x="1316" y="294"/>
                  <a:pt x="1319" y="295"/>
                  <a:pt x="1321" y="296"/>
                </a:cubicBezTo>
                <a:cubicBezTo>
                  <a:pt x="1323" y="298"/>
                  <a:pt x="1324" y="297"/>
                  <a:pt x="1324" y="295"/>
                </a:cubicBezTo>
                <a:cubicBezTo>
                  <a:pt x="1324" y="293"/>
                  <a:pt x="1327" y="292"/>
                  <a:pt x="1330" y="292"/>
                </a:cubicBezTo>
                <a:cubicBezTo>
                  <a:pt x="1333" y="292"/>
                  <a:pt x="1333" y="291"/>
                  <a:pt x="1332" y="290"/>
                </a:cubicBezTo>
                <a:cubicBezTo>
                  <a:pt x="1332" y="290"/>
                  <a:pt x="1337" y="286"/>
                  <a:pt x="1337" y="285"/>
                </a:cubicBezTo>
                <a:cubicBezTo>
                  <a:pt x="1337" y="284"/>
                  <a:pt x="1336" y="285"/>
                  <a:pt x="1335" y="286"/>
                </a:cubicBezTo>
                <a:cubicBezTo>
                  <a:pt x="1335" y="286"/>
                  <a:pt x="1334" y="287"/>
                  <a:pt x="1333" y="286"/>
                </a:cubicBezTo>
                <a:cubicBezTo>
                  <a:pt x="1332" y="285"/>
                  <a:pt x="1331" y="287"/>
                  <a:pt x="1329" y="287"/>
                </a:cubicBezTo>
                <a:cubicBezTo>
                  <a:pt x="1327" y="287"/>
                  <a:pt x="1321" y="283"/>
                  <a:pt x="1320" y="280"/>
                </a:cubicBezTo>
                <a:cubicBezTo>
                  <a:pt x="1318" y="278"/>
                  <a:pt x="1316" y="280"/>
                  <a:pt x="1317" y="282"/>
                </a:cubicBezTo>
                <a:cubicBezTo>
                  <a:pt x="1318" y="283"/>
                  <a:pt x="1317" y="284"/>
                  <a:pt x="1317" y="286"/>
                </a:cubicBezTo>
                <a:cubicBezTo>
                  <a:pt x="1317" y="288"/>
                  <a:pt x="1315" y="288"/>
                  <a:pt x="1315" y="290"/>
                </a:cubicBezTo>
                <a:cubicBezTo>
                  <a:pt x="1316" y="291"/>
                  <a:pt x="1313" y="291"/>
                  <a:pt x="1312" y="291"/>
                </a:cubicBezTo>
                <a:moveTo>
                  <a:pt x="1289" y="329"/>
                </a:moveTo>
                <a:cubicBezTo>
                  <a:pt x="1290" y="328"/>
                  <a:pt x="1287" y="328"/>
                  <a:pt x="1284" y="330"/>
                </a:cubicBezTo>
                <a:cubicBezTo>
                  <a:pt x="1283" y="330"/>
                  <a:pt x="1282" y="330"/>
                  <a:pt x="1281" y="330"/>
                </a:cubicBezTo>
                <a:cubicBezTo>
                  <a:pt x="1280" y="329"/>
                  <a:pt x="1279" y="329"/>
                  <a:pt x="1278" y="330"/>
                </a:cubicBezTo>
                <a:cubicBezTo>
                  <a:pt x="1276" y="332"/>
                  <a:pt x="1274" y="334"/>
                  <a:pt x="1272" y="335"/>
                </a:cubicBezTo>
                <a:cubicBezTo>
                  <a:pt x="1269" y="335"/>
                  <a:pt x="1271" y="338"/>
                  <a:pt x="1272" y="337"/>
                </a:cubicBezTo>
                <a:cubicBezTo>
                  <a:pt x="1273" y="337"/>
                  <a:pt x="1275" y="337"/>
                  <a:pt x="1276" y="336"/>
                </a:cubicBezTo>
                <a:cubicBezTo>
                  <a:pt x="1277" y="335"/>
                  <a:pt x="1283" y="334"/>
                  <a:pt x="1287" y="334"/>
                </a:cubicBezTo>
                <a:cubicBezTo>
                  <a:pt x="1291" y="333"/>
                  <a:pt x="1288" y="335"/>
                  <a:pt x="1289" y="337"/>
                </a:cubicBezTo>
                <a:cubicBezTo>
                  <a:pt x="1289" y="339"/>
                  <a:pt x="1292" y="339"/>
                  <a:pt x="1294" y="337"/>
                </a:cubicBezTo>
                <a:cubicBezTo>
                  <a:pt x="1295" y="335"/>
                  <a:pt x="1297" y="335"/>
                  <a:pt x="1295" y="334"/>
                </a:cubicBezTo>
                <a:cubicBezTo>
                  <a:pt x="1294" y="333"/>
                  <a:pt x="1295" y="332"/>
                  <a:pt x="1296" y="334"/>
                </a:cubicBezTo>
                <a:cubicBezTo>
                  <a:pt x="1297" y="335"/>
                  <a:pt x="1301" y="335"/>
                  <a:pt x="1302" y="333"/>
                </a:cubicBezTo>
                <a:cubicBezTo>
                  <a:pt x="1303" y="332"/>
                  <a:pt x="1303" y="332"/>
                  <a:pt x="1304" y="333"/>
                </a:cubicBezTo>
                <a:cubicBezTo>
                  <a:pt x="1304" y="333"/>
                  <a:pt x="1304" y="333"/>
                  <a:pt x="1305" y="333"/>
                </a:cubicBezTo>
                <a:cubicBezTo>
                  <a:pt x="1306" y="333"/>
                  <a:pt x="1307" y="330"/>
                  <a:pt x="1307" y="331"/>
                </a:cubicBezTo>
                <a:cubicBezTo>
                  <a:pt x="1308" y="332"/>
                  <a:pt x="1310" y="332"/>
                  <a:pt x="1311" y="330"/>
                </a:cubicBezTo>
                <a:cubicBezTo>
                  <a:pt x="1313" y="329"/>
                  <a:pt x="1312" y="326"/>
                  <a:pt x="1313" y="324"/>
                </a:cubicBezTo>
                <a:cubicBezTo>
                  <a:pt x="1314" y="323"/>
                  <a:pt x="1315" y="320"/>
                  <a:pt x="1314" y="318"/>
                </a:cubicBezTo>
                <a:cubicBezTo>
                  <a:pt x="1313" y="316"/>
                  <a:pt x="1316" y="315"/>
                  <a:pt x="1317" y="313"/>
                </a:cubicBezTo>
                <a:cubicBezTo>
                  <a:pt x="1319" y="312"/>
                  <a:pt x="1316" y="304"/>
                  <a:pt x="1315" y="302"/>
                </a:cubicBezTo>
                <a:cubicBezTo>
                  <a:pt x="1315" y="300"/>
                  <a:pt x="1311" y="303"/>
                  <a:pt x="1310" y="303"/>
                </a:cubicBezTo>
                <a:cubicBezTo>
                  <a:pt x="1309" y="304"/>
                  <a:pt x="1308" y="308"/>
                  <a:pt x="1309" y="309"/>
                </a:cubicBezTo>
                <a:cubicBezTo>
                  <a:pt x="1311" y="310"/>
                  <a:pt x="1307" y="312"/>
                  <a:pt x="1307" y="315"/>
                </a:cubicBezTo>
                <a:cubicBezTo>
                  <a:pt x="1307" y="317"/>
                  <a:pt x="1305" y="317"/>
                  <a:pt x="1305" y="319"/>
                </a:cubicBezTo>
                <a:cubicBezTo>
                  <a:pt x="1304" y="321"/>
                  <a:pt x="1303" y="320"/>
                  <a:pt x="1301" y="322"/>
                </a:cubicBezTo>
                <a:cubicBezTo>
                  <a:pt x="1299" y="323"/>
                  <a:pt x="1297" y="322"/>
                  <a:pt x="1298" y="320"/>
                </a:cubicBezTo>
                <a:cubicBezTo>
                  <a:pt x="1298" y="319"/>
                  <a:pt x="1295" y="321"/>
                  <a:pt x="1295" y="324"/>
                </a:cubicBezTo>
                <a:cubicBezTo>
                  <a:pt x="1295" y="327"/>
                  <a:pt x="1291" y="327"/>
                  <a:pt x="1292" y="328"/>
                </a:cubicBezTo>
                <a:cubicBezTo>
                  <a:pt x="1293" y="329"/>
                  <a:pt x="1289" y="330"/>
                  <a:pt x="1289" y="329"/>
                </a:cubicBezTo>
                <a:moveTo>
                  <a:pt x="1280" y="342"/>
                </a:moveTo>
                <a:cubicBezTo>
                  <a:pt x="1281" y="340"/>
                  <a:pt x="1283" y="340"/>
                  <a:pt x="1284" y="340"/>
                </a:cubicBezTo>
                <a:cubicBezTo>
                  <a:pt x="1285" y="341"/>
                  <a:pt x="1287" y="338"/>
                  <a:pt x="1287" y="336"/>
                </a:cubicBezTo>
                <a:cubicBezTo>
                  <a:pt x="1287" y="335"/>
                  <a:pt x="1283" y="335"/>
                  <a:pt x="1282" y="336"/>
                </a:cubicBezTo>
                <a:cubicBezTo>
                  <a:pt x="1282" y="337"/>
                  <a:pt x="1280" y="337"/>
                  <a:pt x="1278" y="337"/>
                </a:cubicBezTo>
                <a:cubicBezTo>
                  <a:pt x="1276" y="337"/>
                  <a:pt x="1276" y="342"/>
                  <a:pt x="1278" y="343"/>
                </a:cubicBezTo>
                <a:cubicBezTo>
                  <a:pt x="1279" y="343"/>
                  <a:pt x="1280" y="343"/>
                  <a:pt x="1280" y="342"/>
                </a:cubicBezTo>
                <a:moveTo>
                  <a:pt x="1267" y="340"/>
                </a:moveTo>
                <a:cubicBezTo>
                  <a:pt x="1265" y="341"/>
                  <a:pt x="1265" y="341"/>
                  <a:pt x="1265" y="343"/>
                </a:cubicBezTo>
                <a:cubicBezTo>
                  <a:pt x="1266" y="344"/>
                  <a:pt x="1267" y="343"/>
                  <a:pt x="1268" y="341"/>
                </a:cubicBezTo>
                <a:cubicBezTo>
                  <a:pt x="1268" y="340"/>
                  <a:pt x="1269" y="343"/>
                  <a:pt x="1268" y="346"/>
                </a:cubicBezTo>
                <a:cubicBezTo>
                  <a:pt x="1267" y="348"/>
                  <a:pt x="1268" y="351"/>
                  <a:pt x="1270" y="351"/>
                </a:cubicBezTo>
                <a:cubicBezTo>
                  <a:pt x="1271" y="351"/>
                  <a:pt x="1273" y="346"/>
                  <a:pt x="1275" y="344"/>
                </a:cubicBezTo>
                <a:cubicBezTo>
                  <a:pt x="1277" y="341"/>
                  <a:pt x="1274" y="342"/>
                  <a:pt x="1274" y="341"/>
                </a:cubicBezTo>
                <a:cubicBezTo>
                  <a:pt x="1274" y="340"/>
                  <a:pt x="1271" y="340"/>
                  <a:pt x="1271" y="339"/>
                </a:cubicBezTo>
                <a:cubicBezTo>
                  <a:pt x="1271" y="338"/>
                  <a:pt x="1269" y="338"/>
                  <a:pt x="1267" y="340"/>
                </a:cubicBezTo>
                <a:moveTo>
                  <a:pt x="1227" y="392"/>
                </a:moveTo>
                <a:cubicBezTo>
                  <a:pt x="1228" y="391"/>
                  <a:pt x="1233" y="380"/>
                  <a:pt x="1232" y="379"/>
                </a:cubicBezTo>
                <a:cubicBezTo>
                  <a:pt x="1231" y="377"/>
                  <a:pt x="1226" y="379"/>
                  <a:pt x="1224" y="384"/>
                </a:cubicBezTo>
                <a:cubicBezTo>
                  <a:pt x="1223" y="389"/>
                  <a:pt x="1226" y="392"/>
                  <a:pt x="1227" y="392"/>
                </a:cubicBezTo>
                <a:moveTo>
                  <a:pt x="1183" y="407"/>
                </a:moveTo>
                <a:cubicBezTo>
                  <a:pt x="1183" y="405"/>
                  <a:pt x="1185" y="403"/>
                  <a:pt x="1185" y="402"/>
                </a:cubicBezTo>
                <a:cubicBezTo>
                  <a:pt x="1185" y="401"/>
                  <a:pt x="1181" y="401"/>
                  <a:pt x="1180" y="401"/>
                </a:cubicBezTo>
                <a:cubicBezTo>
                  <a:pt x="1178" y="401"/>
                  <a:pt x="1174" y="404"/>
                  <a:pt x="1175" y="407"/>
                </a:cubicBezTo>
                <a:cubicBezTo>
                  <a:pt x="1177" y="411"/>
                  <a:pt x="1183" y="408"/>
                  <a:pt x="1183" y="407"/>
                </a:cubicBezTo>
                <a:moveTo>
                  <a:pt x="1223" y="418"/>
                </a:moveTo>
                <a:cubicBezTo>
                  <a:pt x="1222" y="419"/>
                  <a:pt x="1223" y="424"/>
                  <a:pt x="1224" y="424"/>
                </a:cubicBezTo>
                <a:cubicBezTo>
                  <a:pt x="1225" y="424"/>
                  <a:pt x="1226" y="425"/>
                  <a:pt x="1225" y="427"/>
                </a:cubicBezTo>
                <a:cubicBezTo>
                  <a:pt x="1224" y="429"/>
                  <a:pt x="1227" y="429"/>
                  <a:pt x="1229" y="428"/>
                </a:cubicBezTo>
                <a:cubicBezTo>
                  <a:pt x="1231" y="428"/>
                  <a:pt x="1231" y="428"/>
                  <a:pt x="1231" y="429"/>
                </a:cubicBezTo>
                <a:cubicBezTo>
                  <a:pt x="1232" y="429"/>
                  <a:pt x="1232" y="430"/>
                  <a:pt x="1233" y="430"/>
                </a:cubicBezTo>
                <a:cubicBezTo>
                  <a:pt x="1236" y="429"/>
                  <a:pt x="1239" y="432"/>
                  <a:pt x="1238" y="433"/>
                </a:cubicBezTo>
                <a:cubicBezTo>
                  <a:pt x="1238" y="435"/>
                  <a:pt x="1239" y="438"/>
                  <a:pt x="1240" y="437"/>
                </a:cubicBezTo>
                <a:cubicBezTo>
                  <a:pt x="1241" y="436"/>
                  <a:pt x="1243" y="437"/>
                  <a:pt x="1241" y="439"/>
                </a:cubicBezTo>
                <a:cubicBezTo>
                  <a:pt x="1240" y="441"/>
                  <a:pt x="1243" y="442"/>
                  <a:pt x="1244" y="444"/>
                </a:cubicBezTo>
                <a:cubicBezTo>
                  <a:pt x="1244" y="446"/>
                  <a:pt x="1245" y="445"/>
                  <a:pt x="1245" y="443"/>
                </a:cubicBezTo>
                <a:cubicBezTo>
                  <a:pt x="1245" y="442"/>
                  <a:pt x="1245" y="442"/>
                  <a:pt x="1247" y="441"/>
                </a:cubicBezTo>
                <a:cubicBezTo>
                  <a:pt x="1248" y="440"/>
                  <a:pt x="1247" y="438"/>
                  <a:pt x="1246" y="436"/>
                </a:cubicBezTo>
                <a:cubicBezTo>
                  <a:pt x="1245" y="433"/>
                  <a:pt x="1241" y="434"/>
                  <a:pt x="1241" y="432"/>
                </a:cubicBezTo>
                <a:cubicBezTo>
                  <a:pt x="1241" y="430"/>
                  <a:pt x="1238" y="429"/>
                  <a:pt x="1238" y="428"/>
                </a:cubicBezTo>
                <a:cubicBezTo>
                  <a:pt x="1238" y="427"/>
                  <a:pt x="1234" y="426"/>
                  <a:pt x="1232" y="427"/>
                </a:cubicBezTo>
                <a:cubicBezTo>
                  <a:pt x="1230" y="429"/>
                  <a:pt x="1231" y="425"/>
                  <a:pt x="1230" y="423"/>
                </a:cubicBezTo>
                <a:cubicBezTo>
                  <a:pt x="1228" y="422"/>
                  <a:pt x="1231" y="419"/>
                  <a:pt x="1233" y="417"/>
                </a:cubicBezTo>
                <a:cubicBezTo>
                  <a:pt x="1235" y="415"/>
                  <a:pt x="1232" y="412"/>
                  <a:pt x="1233" y="411"/>
                </a:cubicBezTo>
                <a:cubicBezTo>
                  <a:pt x="1233" y="409"/>
                  <a:pt x="1233" y="409"/>
                  <a:pt x="1232" y="409"/>
                </a:cubicBezTo>
                <a:cubicBezTo>
                  <a:pt x="1231" y="409"/>
                  <a:pt x="1230" y="409"/>
                  <a:pt x="1229" y="409"/>
                </a:cubicBezTo>
                <a:cubicBezTo>
                  <a:pt x="1228" y="408"/>
                  <a:pt x="1227" y="408"/>
                  <a:pt x="1226" y="409"/>
                </a:cubicBezTo>
                <a:cubicBezTo>
                  <a:pt x="1224" y="410"/>
                  <a:pt x="1226" y="418"/>
                  <a:pt x="1225" y="418"/>
                </a:cubicBezTo>
                <a:cubicBezTo>
                  <a:pt x="1224" y="419"/>
                  <a:pt x="1224" y="418"/>
                  <a:pt x="1224" y="418"/>
                </a:cubicBezTo>
                <a:cubicBezTo>
                  <a:pt x="1223" y="418"/>
                  <a:pt x="1223" y="417"/>
                  <a:pt x="1223" y="418"/>
                </a:cubicBezTo>
                <a:moveTo>
                  <a:pt x="1225" y="431"/>
                </a:moveTo>
                <a:cubicBezTo>
                  <a:pt x="1226" y="433"/>
                  <a:pt x="1226" y="436"/>
                  <a:pt x="1229" y="435"/>
                </a:cubicBezTo>
                <a:cubicBezTo>
                  <a:pt x="1232" y="434"/>
                  <a:pt x="1225" y="429"/>
                  <a:pt x="1225" y="431"/>
                </a:cubicBezTo>
                <a:moveTo>
                  <a:pt x="1232" y="437"/>
                </a:moveTo>
                <a:cubicBezTo>
                  <a:pt x="1230" y="438"/>
                  <a:pt x="1231" y="443"/>
                  <a:pt x="1232" y="443"/>
                </a:cubicBezTo>
                <a:cubicBezTo>
                  <a:pt x="1233" y="443"/>
                  <a:pt x="1234" y="443"/>
                  <a:pt x="1235" y="442"/>
                </a:cubicBezTo>
                <a:cubicBezTo>
                  <a:pt x="1235" y="440"/>
                  <a:pt x="1236" y="444"/>
                  <a:pt x="1235" y="445"/>
                </a:cubicBezTo>
                <a:cubicBezTo>
                  <a:pt x="1234" y="446"/>
                  <a:pt x="1234" y="449"/>
                  <a:pt x="1236" y="450"/>
                </a:cubicBezTo>
                <a:cubicBezTo>
                  <a:pt x="1237" y="450"/>
                  <a:pt x="1241" y="444"/>
                  <a:pt x="1240" y="443"/>
                </a:cubicBezTo>
                <a:cubicBezTo>
                  <a:pt x="1240" y="442"/>
                  <a:pt x="1239" y="443"/>
                  <a:pt x="1239" y="443"/>
                </a:cubicBezTo>
                <a:cubicBezTo>
                  <a:pt x="1239" y="443"/>
                  <a:pt x="1238" y="443"/>
                  <a:pt x="1238" y="442"/>
                </a:cubicBezTo>
                <a:cubicBezTo>
                  <a:pt x="1239" y="441"/>
                  <a:pt x="1234" y="437"/>
                  <a:pt x="1232" y="437"/>
                </a:cubicBezTo>
                <a:moveTo>
                  <a:pt x="1217" y="445"/>
                </a:moveTo>
                <a:cubicBezTo>
                  <a:pt x="1216" y="448"/>
                  <a:pt x="1211" y="451"/>
                  <a:pt x="1212" y="452"/>
                </a:cubicBezTo>
                <a:cubicBezTo>
                  <a:pt x="1213" y="454"/>
                  <a:pt x="1217" y="447"/>
                  <a:pt x="1220" y="445"/>
                </a:cubicBezTo>
                <a:cubicBezTo>
                  <a:pt x="1222" y="444"/>
                  <a:pt x="1222" y="442"/>
                  <a:pt x="1221" y="441"/>
                </a:cubicBezTo>
                <a:cubicBezTo>
                  <a:pt x="1220" y="439"/>
                  <a:pt x="1219" y="443"/>
                  <a:pt x="1217" y="445"/>
                </a:cubicBezTo>
                <a:moveTo>
                  <a:pt x="1243" y="446"/>
                </a:moveTo>
                <a:cubicBezTo>
                  <a:pt x="1242" y="445"/>
                  <a:pt x="1239" y="447"/>
                  <a:pt x="1240" y="448"/>
                </a:cubicBezTo>
                <a:cubicBezTo>
                  <a:pt x="1240" y="449"/>
                  <a:pt x="1244" y="447"/>
                  <a:pt x="1243" y="446"/>
                </a:cubicBezTo>
                <a:moveTo>
                  <a:pt x="1247" y="448"/>
                </a:moveTo>
                <a:cubicBezTo>
                  <a:pt x="1248" y="450"/>
                  <a:pt x="1245" y="448"/>
                  <a:pt x="1245" y="450"/>
                </a:cubicBezTo>
                <a:cubicBezTo>
                  <a:pt x="1244" y="452"/>
                  <a:pt x="1242" y="451"/>
                  <a:pt x="1242" y="452"/>
                </a:cubicBezTo>
                <a:cubicBezTo>
                  <a:pt x="1242" y="454"/>
                  <a:pt x="1240" y="452"/>
                  <a:pt x="1238" y="451"/>
                </a:cubicBezTo>
                <a:cubicBezTo>
                  <a:pt x="1237" y="450"/>
                  <a:pt x="1235" y="454"/>
                  <a:pt x="1233" y="454"/>
                </a:cubicBezTo>
                <a:cubicBezTo>
                  <a:pt x="1232" y="455"/>
                  <a:pt x="1231" y="459"/>
                  <a:pt x="1232" y="458"/>
                </a:cubicBezTo>
                <a:cubicBezTo>
                  <a:pt x="1233" y="458"/>
                  <a:pt x="1234" y="456"/>
                  <a:pt x="1236" y="456"/>
                </a:cubicBezTo>
                <a:cubicBezTo>
                  <a:pt x="1236" y="457"/>
                  <a:pt x="1237" y="456"/>
                  <a:pt x="1237" y="456"/>
                </a:cubicBezTo>
                <a:cubicBezTo>
                  <a:pt x="1237" y="456"/>
                  <a:pt x="1238" y="455"/>
                  <a:pt x="1239" y="455"/>
                </a:cubicBezTo>
                <a:cubicBezTo>
                  <a:pt x="1241" y="456"/>
                  <a:pt x="1239" y="462"/>
                  <a:pt x="1242" y="463"/>
                </a:cubicBezTo>
                <a:cubicBezTo>
                  <a:pt x="1245" y="463"/>
                  <a:pt x="1245" y="465"/>
                  <a:pt x="1247" y="465"/>
                </a:cubicBezTo>
                <a:cubicBezTo>
                  <a:pt x="1248" y="465"/>
                  <a:pt x="1246" y="461"/>
                  <a:pt x="1247" y="459"/>
                </a:cubicBezTo>
                <a:cubicBezTo>
                  <a:pt x="1247" y="458"/>
                  <a:pt x="1250" y="459"/>
                  <a:pt x="1251" y="458"/>
                </a:cubicBezTo>
                <a:cubicBezTo>
                  <a:pt x="1253" y="456"/>
                  <a:pt x="1250" y="451"/>
                  <a:pt x="1250" y="448"/>
                </a:cubicBezTo>
                <a:cubicBezTo>
                  <a:pt x="1250" y="445"/>
                  <a:pt x="1246" y="446"/>
                  <a:pt x="1247" y="448"/>
                </a:cubicBezTo>
                <a:moveTo>
                  <a:pt x="1126" y="482"/>
                </a:moveTo>
                <a:cubicBezTo>
                  <a:pt x="1126" y="483"/>
                  <a:pt x="1127" y="487"/>
                  <a:pt x="1128" y="486"/>
                </a:cubicBezTo>
                <a:cubicBezTo>
                  <a:pt x="1130" y="484"/>
                  <a:pt x="1126" y="481"/>
                  <a:pt x="1126" y="482"/>
                </a:cubicBezTo>
                <a:moveTo>
                  <a:pt x="1132" y="493"/>
                </a:moveTo>
                <a:cubicBezTo>
                  <a:pt x="1132" y="494"/>
                  <a:pt x="1133" y="496"/>
                  <a:pt x="1134" y="495"/>
                </a:cubicBezTo>
                <a:cubicBezTo>
                  <a:pt x="1135" y="495"/>
                  <a:pt x="1133" y="491"/>
                  <a:pt x="1132" y="493"/>
                </a:cubicBezTo>
                <a:moveTo>
                  <a:pt x="1163" y="507"/>
                </a:moveTo>
                <a:cubicBezTo>
                  <a:pt x="1163" y="505"/>
                  <a:pt x="1164" y="503"/>
                  <a:pt x="1164" y="503"/>
                </a:cubicBezTo>
                <a:cubicBezTo>
                  <a:pt x="1164" y="502"/>
                  <a:pt x="1164" y="501"/>
                  <a:pt x="1166" y="502"/>
                </a:cubicBezTo>
                <a:cubicBezTo>
                  <a:pt x="1167" y="502"/>
                  <a:pt x="1167" y="499"/>
                  <a:pt x="1166" y="499"/>
                </a:cubicBezTo>
                <a:cubicBezTo>
                  <a:pt x="1165" y="499"/>
                  <a:pt x="1164" y="496"/>
                  <a:pt x="1162" y="496"/>
                </a:cubicBezTo>
                <a:cubicBezTo>
                  <a:pt x="1160" y="496"/>
                  <a:pt x="1160" y="497"/>
                  <a:pt x="1162" y="497"/>
                </a:cubicBezTo>
                <a:cubicBezTo>
                  <a:pt x="1163" y="498"/>
                  <a:pt x="1164" y="499"/>
                  <a:pt x="1163" y="499"/>
                </a:cubicBezTo>
                <a:cubicBezTo>
                  <a:pt x="1163" y="500"/>
                  <a:pt x="1163" y="500"/>
                  <a:pt x="1162" y="499"/>
                </a:cubicBezTo>
                <a:cubicBezTo>
                  <a:pt x="1162" y="499"/>
                  <a:pt x="1161" y="499"/>
                  <a:pt x="1161" y="499"/>
                </a:cubicBezTo>
                <a:cubicBezTo>
                  <a:pt x="1159" y="499"/>
                  <a:pt x="1160" y="497"/>
                  <a:pt x="1158" y="496"/>
                </a:cubicBezTo>
                <a:cubicBezTo>
                  <a:pt x="1156" y="496"/>
                  <a:pt x="1156" y="493"/>
                  <a:pt x="1154" y="493"/>
                </a:cubicBezTo>
                <a:cubicBezTo>
                  <a:pt x="1152" y="493"/>
                  <a:pt x="1152" y="491"/>
                  <a:pt x="1153" y="490"/>
                </a:cubicBezTo>
                <a:cubicBezTo>
                  <a:pt x="1155" y="488"/>
                  <a:pt x="1151" y="487"/>
                  <a:pt x="1151" y="486"/>
                </a:cubicBezTo>
                <a:cubicBezTo>
                  <a:pt x="1151" y="484"/>
                  <a:pt x="1149" y="485"/>
                  <a:pt x="1149" y="484"/>
                </a:cubicBezTo>
                <a:cubicBezTo>
                  <a:pt x="1149" y="483"/>
                  <a:pt x="1148" y="483"/>
                  <a:pt x="1147" y="482"/>
                </a:cubicBezTo>
                <a:cubicBezTo>
                  <a:pt x="1146" y="481"/>
                  <a:pt x="1146" y="481"/>
                  <a:pt x="1145" y="481"/>
                </a:cubicBezTo>
                <a:cubicBezTo>
                  <a:pt x="1145" y="481"/>
                  <a:pt x="1145" y="481"/>
                  <a:pt x="1144" y="480"/>
                </a:cubicBezTo>
                <a:cubicBezTo>
                  <a:pt x="1143" y="479"/>
                  <a:pt x="1142" y="479"/>
                  <a:pt x="1141" y="479"/>
                </a:cubicBezTo>
                <a:cubicBezTo>
                  <a:pt x="1140" y="479"/>
                  <a:pt x="1138" y="477"/>
                  <a:pt x="1137" y="475"/>
                </a:cubicBezTo>
                <a:cubicBezTo>
                  <a:pt x="1137" y="474"/>
                  <a:pt x="1131" y="471"/>
                  <a:pt x="1130" y="469"/>
                </a:cubicBezTo>
                <a:cubicBezTo>
                  <a:pt x="1129" y="467"/>
                  <a:pt x="1127" y="466"/>
                  <a:pt x="1124" y="466"/>
                </a:cubicBezTo>
                <a:cubicBezTo>
                  <a:pt x="1123" y="466"/>
                  <a:pt x="1122" y="466"/>
                  <a:pt x="1121" y="465"/>
                </a:cubicBezTo>
                <a:cubicBezTo>
                  <a:pt x="1120" y="464"/>
                  <a:pt x="1119" y="464"/>
                  <a:pt x="1118" y="465"/>
                </a:cubicBezTo>
                <a:cubicBezTo>
                  <a:pt x="1117" y="467"/>
                  <a:pt x="1122" y="471"/>
                  <a:pt x="1124" y="473"/>
                </a:cubicBezTo>
                <a:cubicBezTo>
                  <a:pt x="1126" y="474"/>
                  <a:pt x="1128" y="478"/>
                  <a:pt x="1130" y="479"/>
                </a:cubicBezTo>
                <a:cubicBezTo>
                  <a:pt x="1133" y="479"/>
                  <a:pt x="1133" y="487"/>
                  <a:pt x="1135" y="487"/>
                </a:cubicBezTo>
                <a:cubicBezTo>
                  <a:pt x="1137" y="488"/>
                  <a:pt x="1141" y="494"/>
                  <a:pt x="1141" y="497"/>
                </a:cubicBezTo>
                <a:cubicBezTo>
                  <a:pt x="1142" y="500"/>
                  <a:pt x="1146" y="502"/>
                  <a:pt x="1147" y="504"/>
                </a:cubicBezTo>
                <a:cubicBezTo>
                  <a:pt x="1149" y="507"/>
                  <a:pt x="1154" y="510"/>
                  <a:pt x="1155" y="511"/>
                </a:cubicBezTo>
                <a:cubicBezTo>
                  <a:pt x="1156" y="512"/>
                  <a:pt x="1157" y="514"/>
                  <a:pt x="1157" y="513"/>
                </a:cubicBezTo>
                <a:cubicBezTo>
                  <a:pt x="1158" y="512"/>
                  <a:pt x="1160" y="513"/>
                  <a:pt x="1162" y="513"/>
                </a:cubicBezTo>
                <a:cubicBezTo>
                  <a:pt x="1163" y="513"/>
                  <a:pt x="1163" y="509"/>
                  <a:pt x="1163" y="507"/>
                </a:cubicBezTo>
                <a:moveTo>
                  <a:pt x="1175" y="486"/>
                </a:moveTo>
                <a:cubicBezTo>
                  <a:pt x="1177" y="487"/>
                  <a:pt x="1177" y="490"/>
                  <a:pt x="1178" y="492"/>
                </a:cubicBezTo>
                <a:cubicBezTo>
                  <a:pt x="1179" y="493"/>
                  <a:pt x="1181" y="493"/>
                  <a:pt x="1181" y="496"/>
                </a:cubicBezTo>
                <a:cubicBezTo>
                  <a:pt x="1181" y="498"/>
                  <a:pt x="1184" y="503"/>
                  <a:pt x="1185" y="501"/>
                </a:cubicBezTo>
                <a:cubicBezTo>
                  <a:pt x="1187" y="500"/>
                  <a:pt x="1188" y="502"/>
                  <a:pt x="1189" y="503"/>
                </a:cubicBezTo>
                <a:cubicBezTo>
                  <a:pt x="1189" y="504"/>
                  <a:pt x="1190" y="503"/>
                  <a:pt x="1192" y="503"/>
                </a:cubicBezTo>
                <a:cubicBezTo>
                  <a:pt x="1193" y="503"/>
                  <a:pt x="1194" y="502"/>
                  <a:pt x="1194" y="502"/>
                </a:cubicBezTo>
                <a:cubicBezTo>
                  <a:pt x="1196" y="503"/>
                  <a:pt x="1199" y="503"/>
                  <a:pt x="1200" y="505"/>
                </a:cubicBezTo>
                <a:cubicBezTo>
                  <a:pt x="1200" y="506"/>
                  <a:pt x="1203" y="505"/>
                  <a:pt x="1206" y="504"/>
                </a:cubicBezTo>
                <a:cubicBezTo>
                  <a:pt x="1208" y="503"/>
                  <a:pt x="1207" y="496"/>
                  <a:pt x="1209" y="495"/>
                </a:cubicBezTo>
                <a:cubicBezTo>
                  <a:pt x="1211" y="493"/>
                  <a:pt x="1212" y="491"/>
                  <a:pt x="1212" y="488"/>
                </a:cubicBezTo>
                <a:cubicBezTo>
                  <a:pt x="1211" y="485"/>
                  <a:pt x="1217" y="485"/>
                  <a:pt x="1218" y="484"/>
                </a:cubicBezTo>
                <a:cubicBezTo>
                  <a:pt x="1219" y="483"/>
                  <a:pt x="1217" y="482"/>
                  <a:pt x="1215" y="481"/>
                </a:cubicBezTo>
                <a:cubicBezTo>
                  <a:pt x="1214" y="480"/>
                  <a:pt x="1215" y="479"/>
                  <a:pt x="1214" y="478"/>
                </a:cubicBezTo>
                <a:cubicBezTo>
                  <a:pt x="1213" y="477"/>
                  <a:pt x="1211" y="474"/>
                  <a:pt x="1212" y="474"/>
                </a:cubicBezTo>
                <a:cubicBezTo>
                  <a:pt x="1214" y="474"/>
                  <a:pt x="1211" y="471"/>
                  <a:pt x="1213" y="471"/>
                </a:cubicBezTo>
                <a:cubicBezTo>
                  <a:pt x="1214" y="470"/>
                  <a:pt x="1217" y="469"/>
                  <a:pt x="1216" y="468"/>
                </a:cubicBezTo>
                <a:cubicBezTo>
                  <a:pt x="1215" y="467"/>
                  <a:pt x="1219" y="468"/>
                  <a:pt x="1220" y="466"/>
                </a:cubicBezTo>
                <a:cubicBezTo>
                  <a:pt x="1220" y="465"/>
                  <a:pt x="1218" y="463"/>
                  <a:pt x="1217" y="464"/>
                </a:cubicBezTo>
                <a:cubicBezTo>
                  <a:pt x="1216" y="464"/>
                  <a:pt x="1213" y="464"/>
                  <a:pt x="1213" y="463"/>
                </a:cubicBezTo>
                <a:cubicBezTo>
                  <a:pt x="1213" y="462"/>
                  <a:pt x="1211" y="459"/>
                  <a:pt x="1209" y="459"/>
                </a:cubicBezTo>
                <a:cubicBezTo>
                  <a:pt x="1208" y="459"/>
                  <a:pt x="1206" y="462"/>
                  <a:pt x="1206" y="464"/>
                </a:cubicBezTo>
                <a:cubicBezTo>
                  <a:pt x="1206" y="465"/>
                  <a:pt x="1203" y="465"/>
                  <a:pt x="1204" y="467"/>
                </a:cubicBezTo>
                <a:cubicBezTo>
                  <a:pt x="1204" y="468"/>
                  <a:pt x="1201" y="468"/>
                  <a:pt x="1201" y="469"/>
                </a:cubicBezTo>
                <a:cubicBezTo>
                  <a:pt x="1201" y="470"/>
                  <a:pt x="1199" y="468"/>
                  <a:pt x="1198" y="468"/>
                </a:cubicBezTo>
                <a:cubicBezTo>
                  <a:pt x="1197" y="468"/>
                  <a:pt x="1194" y="472"/>
                  <a:pt x="1194" y="474"/>
                </a:cubicBezTo>
                <a:cubicBezTo>
                  <a:pt x="1193" y="476"/>
                  <a:pt x="1191" y="476"/>
                  <a:pt x="1188" y="476"/>
                </a:cubicBezTo>
                <a:cubicBezTo>
                  <a:pt x="1184" y="476"/>
                  <a:pt x="1186" y="480"/>
                  <a:pt x="1185" y="481"/>
                </a:cubicBezTo>
                <a:cubicBezTo>
                  <a:pt x="1184" y="482"/>
                  <a:pt x="1183" y="482"/>
                  <a:pt x="1181" y="481"/>
                </a:cubicBezTo>
                <a:cubicBezTo>
                  <a:pt x="1180" y="480"/>
                  <a:pt x="1179" y="480"/>
                  <a:pt x="1178" y="480"/>
                </a:cubicBezTo>
                <a:cubicBezTo>
                  <a:pt x="1176" y="480"/>
                  <a:pt x="1174" y="484"/>
                  <a:pt x="1175" y="486"/>
                </a:cubicBezTo>
                <a:moveTo>
                  <a:pt x="1173" y="501"/>
                </a:moveTo>
                <a:cubicBezTo>
                  <a:pt x="1173" y="500"/>
                  <a:pt x="1170" y="500"/>
                  <a:pt x="1171" y="502"/>
                </a:cubicBezTo>
                <a:cubicBezTo>
                  <a:pt x="1172" y="503"/>
                  <a:pt x="1173" y="502"/>
                  <a:pt x="1173" y="501"/>
                </a:cubicBezTo>
                <a:moveTo>
                  <a:pt x="1199" y="525"/>
                </a:moveTo>
                <a:cubicBezTo>
                  <a:pt x="1199" y="524"/>
                  <a:pt x="1200" y="525"/>
                  <a:pt x="1201" y="525"/>
                </a:cubicBezTo>
                <a:cubicBezTo>
                  <a:pt x="1201" y="526"/>
                  <a:pt x="1203" y="526"/>
                  <a:pt x="1204" y="525"/>
                </a:cubicBezTo>
                <a:cubicBezTo>
                  <a:pt x="1206" y="523"/>
                  <a:pt x="1200" y="524"/>
                  <a:pt x="1200" y="522"/>
                </a:cubicBezTo>
                <a:cubicBezTo>
                  <a:pt x="1200" y="522"/>
                  <a:pt x="1198" y="522"/>
                  <a:pt x="1196" y="522"/>
                </a:cubicBezTo>
                <a:cubicBezTo>
                  <a:pt x="1195" y="522"/>
                  <a:pt x="1193" y="522"/>
                  <a:pt x="1192" y="521"/>
                </a:cubicBezTo>
                <a:cubicBezTo>
                  <a:pt x="1190" y="520"/>
                  <a:pt x="1195" y="519"/>
                  <a:pt x="1196" y="518"/>
                </a:cubicBezTo>
                <a:cubicBezTo>
                  <a:pt x="1198" y="517"/>
                  <a:pt x="1195" y="517"/>
                  <a:pt x="1191" y="518"/>
                </a:cubicBezTo>
                <a:cubicBezTo>
                  <a:pt x="1190" y="519"/>
                  <a:pt x="1187" y="518"/>
                  <a:pt x="1186" y="518"/>
                </a:cubicBezTo>
                <a:cubicBezTo>
                  <a:pt x="1184" y="517"/>
                  <a:pt x="1183" y="516"/>
                  <a:pt x="1183" y="517"/>
                </a:cubicBezTo>
                <a:cubicBezTo>
                  <a:pt x="1183" y="519"/>
                  <a:pt x="1175" y="516"/>
                  <a:pt x="1174" y="515"/>
                </a:cubicBezTo>
                <a:cubicBezTo>
                  <a:pt x="1172" y="514"/>
                  <a:pt x="1165" y="512"/>
                  <a:pt x="1164" y="515"/>
                </a:cubicBezTo>
                <a:cubicBezTo>
                  <a:pt x="1162" y="517"/>
                  <a:pt x="1161" y="515"/>
                  <a:pt x="1162" y="517"/>
                </a:cubicBezTo>
                <a:cubicBezTo>
                  <a:pt x="1162" y="519"/>
                  <a:pt x="1164" y="518"/>
                  <a:pt x="1165" y="518"/>
                </a:cubicBezTo>
                <a:cubicBezTo>
                  <a:pt x="1166" y="518"/>
                  <a:pt x="1165" y="520"/>
                  <a:pt x="1167" y="520"/>
                </a:cubicBezTo>
                <a:cubicBezTo>
                  <a:pt x="1169" y="521"/>
                  <a:pt x="1174" y="522"/>
                  <a:pt x="1175" y="521"/>
                </a:cubicBezTo>
                <a:cubicBezTo>
                  <a:pt x="1175" y="520"/>
                  <a:pt x="1180" y="521"/>
                  <a:pt x="1183" y="523"/>
                </a:cubicBezTo>
                <a:cubicBezTo>
                  <a:pt x="1185" y="525"/>
                  <a:pt x="1191" y="525"/>
                  <a:pt x="1193" y="525"/>
                </a:cubicBezTo>
                <a:cubicBezTo>
                  <a:pt x="1194" y="525"/>
                  <a:pt x="1195" y="525"/>
                  <a:pt x="1196" y="525"/>
                </a:cubicBezTo>
                <a:cubicBezTo>
                  <a:pt x="1197" y="525"/>
                  <a:pt x="1198" y="526"/>
                  <a:pt x="1199" y="525"/>
                </a:cubicBezTo>
                <a:moveTo>
                  <a:pt x="1212" y="524"/>
                </a:moveTo>
                <a:cubicBezTo>
                  <a:pt x="1212" y="525"/>
                  <a:pt x="1210" y="525"/>
                  <a:pt x="1208" y="524"/>
                </a:cubicBezTo>
                <a:cubicBezTo>
                  <a:pt x="1207" y="523"/>
                  <a:pt x="1206" y="525"/>
                  <a:pt x="1206" y="526"/>
                </a:cubicBezTo>
                <a:cubicBezTo>
                  <a:pt x="1207" y="527"/>
                  <a:pt x="1209" y="529"/>
                  <a:pt x="1213" y="527"/>
                </a:cubicBezTo>
                <a:cubicBezTo>
                  <a:pt x="1216" y="526"/>
                  <a:pt x="1218" y="527"/>
                  <a:pt x="1219" y="526"/>
                </a:cubicBezTo>
                <a:cubicBezTo>
                  <a:pt x="1219" y="524"/>
                  <a:pt x="1213" y="522"/>
                  <a:pt x="1212" y="524"/>
                </a:cubicBezTo>
                <a:moveTo>
                  <a:pt x="1238" y="525"/>
                </a:moveTo>
                <a:cubicBezTo>
                  <a:pt x="1240" y="525"/>
                  <a:pt x="1242" y="524"/>
                  <a:pt x="1239" y="524"/>
                </a:cubicBezTo>
                <a:cubicBezTo>
                  <a:pt x="1237" y="524"/>
                  <a:pt x="1236" y="524"/>
                  <a:pt x="1235" y="524"/>
                </a:cubicBezTo>
                <a:cubicBezTo>
                  <a:pt x="1233" y="525"/>
                  <a:pt x="1232" y="525"/>
                  <a:pt x="1230" y="525"/>
                </a:cubicBezTo>
                <a:cubicBezTo>
                  <a:pt x="1226" y="523"/>
                  <a:pt x="1221" y="525"/>
                  <a:pt x="1222" y="526"/>
                </a:cubicBezTo>
                <a:cubicBezTo>
                  <a:pt x="1222" y="527"/>
                  <a:pt x="1225" y="527"/>
                  <a:pt x="1229" y="527"/>
                </a:cubicBezTo>
                <a:cubicBezTo>
                  <a:pt x="1232" y="527"/>
                  <a:pt x="1235" y="525"/>
                  <a:pt x="1238" y="525"/>
                </a:cubicBezTo>
                <a:moveTo>
                  <a:pt x="1222" y="532"/>
                </a:moveTo>
                <a:cubicBezTo>
                  <a:pt x="1223" y="532"/>
                  <a:pt x="1226" y="534"/>
                  <a:pt x="1226" y="532"/>
                </a:cubicBezTo>
                <a:cubicBezTo>
                  <a:pt x="1226" y="530"/>
                  <a:pt x="1218" y="528"/>
                  <a:pt x="1219" y="530"/>
                </a:cubicBezTo>
                <a:cubicBezTo>
                  <a:pt x="1219" y="531"/>
                  <a:pt x="1221" y="531"/>
                  <a:pt x="1222" y="532"/>
                </a:cubicBezTo>
                <a:moveTo>
                  <a:pt x="1239" y="533"/>
                </a:moveTo>
                <a:cubicBezTo>
                  <a:pt x="1241" y="534"/>
                  <a:pt x="1243" y="530"/>
                  <a:pt x="1245" y="529"/>
                </a:cubicBezTo>
                <a:cubicBezTo>
                  <a:pt x="1246" y="527"/>
                  <a:pt x="1254" y="525"/>
                  <a:pt x="1254" y="524"/>
                </a:cubicBezTo>
                <a:cubicBezTo>
                  <a:pt x="1255" y="524"/>
                  <a:pt x="1253" y="524"/>
                  <a:pt x="1251" y="524"/>
                </a:cubicBezTo>
                <a:cubicBezTo>
                  <a:pt x="1250" y="524"/>
                  <a:pt x="1249" y="524"/>
                  <a:pt x="1248" y="524"/>
                </a:cubicBezTo>
                <a:cubicBezTo>
                  <a:pt x="1246" y="524"/>
                  <a:pt x="1245" y="527"/>
                  <a:pt x="1242" y="528"/>
                </a:cubicBezTo>
                <a:cubicBezTo>
                  <a:pt x="1239" y="528"/>
                  <a:pt x="1237" y="532"/>
                  <a:pt x="1239" y="533"/>
                </a:cubicBezTo>
                <a:moveTo>
                  <a:pt x="1221" y="491"/>
                </a:moveTo>
                <a:cubicBezTo>
                  <a:pt x="1220" y="492"/>
                  <a:pt x="1220" y="496"/>
                  <a:pt x="1218" y="499"/>
                </a:cubicBezTo>
                <a:cubicBezTo>
                  <a:pt x="1216" y="503"/>
                  <a:pt x="1219" y="504"/>
                  <a:pt x="1221" y="504"/>
                </a:cubicBezTo>
                <a:cubicBezTo>
                  <a:pt x="1222" y="504"/>
                  <a:pt x="1222" y="507"/>
                  <a:pt x="1222" y="508"/>
                </a:cubicBezTo>
                <a:cubicBezTo>
                  <a:pt x="1221" y="510"/>
                  <a:pt x="1221" y="514"/>
                  <a:pt x="1222" y="513"/>
                </a:cubicBezTo>
                <a:cubicBezTo>
                  <a:pt x="1224" y="512"/>
                  <a:pt x="1226" y="510"/>
                  <a:pt x="1224" y="509"/>
                </a:cubicBezTo>
                <a:cubicBezTo>
                  <a:pt x="1223" y="508"/>
                  <a:pt x="1223" y="503"/>
                  <a:pt x="1224" y="501"/>
                </a:cubicBezTo>
                <a:cubicBezTo>
                  <a:pt x="1224" y="500"/>
                  <a:pt x="1228" y="501"/>
                  <a:pt x="1227" y="503"/>
                </a:cubicBezTo>
                <a:cubicBezTo>
                  <a:pt x="1226" y="505"/>
                  <a:pt x="1229" y="505"/>
                  <a:pt x="1229" y="507"/>
                </a:cubicBezTo>
                <a:cubicBezTo>
                  <a:pt x="1229" y="510"/>
                  <a:pt x="1231" y="508"/>
                  <a:pt x="1233" y="508"/>
                </a:cubicBezTo>
                <a:cubicBezTo>
                  <a:pt x="1235" y="507"/>
                  <a:pt x="1234" y="506"/>
                  <a:pt x="1233" y="504"/>
                </a:cubicBezTo>
                <a:cubicBezTo>
                  <a:pt x="1232" y="503"/>
                  <a:pt x="1234" y="501"/>
                  <a:pt x="1232" y="500"/>
                </a:cubicBezTo>
                <a:cubicBezTo>
                  <a:pt x="1230" y="498"/>
                  <a:pt x="1229" y="496"/>
                  <a:pt x="1231" y="496"/>
                </a:cubicBezTo>
                <a:cubicBezTo>
                  <a:pt x="1232" y="496"/>
                  <a:pt x="1238" y="493"/>
                  <a:pt x="1237" y="491"/>
                </a:cubicBezTo>
                <a:cubicBezTo>
                  <a:pt x="1237" y="490"/>
                  <a:pt x="1229" y="492"/>
                  <a:pt x="1228" y="494"/>
                </a:cubicBezTo>
                <a:cubicBezTo>
                  <a:pt x="1228" y="496"/>
                  <a:pt x="1223" y="494"/>
                  <a:pt x="1223" y="490"/>
                </a:cubicBezTo>
                <a:cubicBezTo>
                  <a:pt x="1224" y="486"/>
                  <a:pt x="1234" y="485"/>
                  <a:pt x="1237" y="487"/>
                </a:cubicBezTo>
                <a:cubicBezTo>
                  <a:pt x="1240" y="488"/>
                  <a:pt x="1244" y="484"/>
                  <a:pt x="1245" y="482"/>
                </a:cubicBezTo>
                <a:cubicBezTo>
                  <a:pt x="1246" y="480"/>
                  <a:pt x="1242" y="483"/>
                  <a:pt x="1240" y="484"/>
                </a:cubicBezTo>
                <a:cubicBezTo>
                  <a:pt x="1238" y="485"/>
                  <a:pt x="1232" y="484"/>
                  <a:pt x="1229" y="483"/>
                </a:cubicBezTo>
                <a:cubicBezTo>
                  <a:pt x="1227" y="482"/>
                  <a:pt x="1227" y="485"/>
                  <a:pt x="1224" y="485"/>
                </a:cubicBezTo>
                <a:cubicBezTo>
                  <a:pt x="1222" y="485"/>
                  <a:pt x="1222" y="491"/>
                  <a:pt x="1221" y="491"/>
                </a:cubicBezTo>
                <a:moveTo>
                  <a:pt x="1249" y="503"/>
                </a:moveTo>
                <a:cubicBezTo>
                  <a:pt x="1249" y="505"/>
                  <a:pt x="1253" y="506"/>
                  <a:pt x="1254" y="504"/>
                </a:cubicBezTo>
                <a:cubicBezTo>
                  <a:pt x="1255" y="502"/>
                  <a:pt x="1248" y="500"/>
                  <a:pt x="1249" y="503"/>
                </a:cubicBezTo>
                <a:moveTo>
                  <a:pt x="1257" y="502"/>
                </a:moveTo>
                <a:cubicBezTo>
                  <a:pt x="1258" y="504"/>
                  <a:pt x="1261" y="503"/>
                  <a:pt x="1263" y="503"/>
                </a:cubicBezTo>
                <a:cubicBezTo>
                  <a:pt x="1266" y="503"/>
                  <a:pt x="1267" y="505"/>
                  <a:pt x="1269" y="505"/>
                </a:cubicBezTo>
                <a:cubicBezTo>
                  <a:pt x="1270" y="505"/>
                  <a:pt x="1269" y="502"/>
                  <a:pt x="1266" y="501"/>
                </a:cubicBezTo>
                <a:cubicBezTo>
                  <a:pt x="1263" y="500"/>
                  <a:pt x="1257" y="501"/>
                  <a:pt x="1257" y="502"/>
                </a:cubicBezTo>
                <a:moveTo>
                  <a:pt x="1258" y="483"/>
                </a:moveTo>
                <a:cubicBezTo>
                  <a:pt x="1258" y="482"/>
                  <a:pt x="1257" y="478"/>
                  <a:pt x="1255" y="481"/>
                </a:cubicBezTo>
                <a:cubicBezTo>
                  <a:pt x="1253" y="484"/>
                  <a:pt x="1256" y="491"/>
                  <a:pt x="1257" y="490"/>
                </a:cubicBezTo>
                <a:cubicBezTo>
                  <a:pt x="1259" y="490"/>
                  <a:pt x="1256" y="487"/>
                  <a:pt x="1259" y="487"/>
                </a:cubicBezTo>
                <a:cubicBezTo>
                  <a:pt x="1262" y="487"/>
                  <a:pt x="1261" y="485"/>
                  <a:pt x="1261" y="484"/>
                </a:cubicBezTo>
                <a:cubicBezTo>
                  <a:pt x="1261" y="483"/>
                  <a:pt x="1260" y="483"/>
                  <a:pt x="1259" y="483"/>
                </a:cubicBezTo>
                <a:cubicBezTo>
                  <a:pt x="1259" y="483"/>
                  <a:pt x="1258" y="483"/>
                  <a:pt x="1258" y="483"/>
                </a:cubicBezTo>
                <a:moveTo>
                  <a:pt x="1340" y="518"/>
                </a:moveTo>
                <a:cubicBezTo>
                  <a:pt x="1343" y="518"/>
                  <a:pt x="1343" y="516"/>
                  <a:pt x="1341" y="515"/>
                </a:cubicBezTo>
                <a:cubicBezTo>
                  <a:pt x="1339" y="513"/>
                  <a:pt x="1333" y="513"/>
                  <a:pt x="1333" y="510"/>
                </a:cubicBezTo>
                <a:cubicBezTo>
                  <a:pt x="1333" y="508"/>
                  <a:pt x="1321" y="502"/>
                  <a:pt x="1316" y="501"/>
                </a:cubicBezTo>
                <a:cubicBezTo>
                  <a:pt x="1311" y="500"/>
                  <a:pt x="1300" y="495"/>
                  <a:pt x="1298" y="495"/>
                </a:cubicBezTo>
                <a:cubicBezTo>
                  <a:pt x="1297" y="495"/>
                  <a:pt x="1296" y="498"/>
                  <a:pt x="1295" y="498"/>
                </a:cubicBezTo>
                <a:cubicBezTo>
                  <a:pt x="1293" y="498"/>
                  <a:pt x="1291" y="502"/>
                  <a:pt x="1288" y="503"/>
                </a:cubicBezTo>
                <a:cubicBezTo>
                  <a:pt x="1285" y="504"/>
                  <a:pt x="1285" y="494"/>
                  <a:pt x="1283" y="492"/>
                </a:cubicBezTo>
                <a:cubicBezTo>
                  <a:pt x="1282" y="490"/>
                  <a:pt x="1274" y="489"/>
                  <a:pt x="1274" y="491"/>
                </a:cubicBezTo>
                <a:cubicBezTo>
                  <a:pt x="1273" y="493"/>
                  <a:pt x="1270" y="492"/>
                  <a:pt x="1270" y="494"/>
                </a:cubicBezTo>
                <a:cubicBezTo>
                  <a:pt x="1270" y="495"/>
                  <a:pt x="1271" y="495"/>
                  <a:pt x="1272" y="495"/>
                </a:cubicBezTo>
                <a:cubicBezTo>
                  <a:pt x="1274" y="495"/>
                  <a:pt x="1274" y="496"/>
                  <a:pt x="1275" y="498"/>
                </a:cubicBezTo>
                <a:cubicBezTo>
                  <a:pt x="1275" y="499"/>
                  <a:pt x="1280" y="498"/>
                  <a:pt x="1281" y="498"/>
                </a:cubicBezTo>
                <a:cubicBezTo>
                  <a:pt x="1282" y="498"/>
                  <a:pt x="1282" y="498"/>
                  <a:pt x="1282" y="499"/>
                </a:cubicBezTo>
                <a:cubicBezTo>
                  <a:pt x="1283" y="499"/>
                  <a:pt x="1282" y="500"/>
                  <a:pt x="1281" y="499"/>
                </a:cubicBezTo>
                <a:cubicBezTo>
                  <a:pt x="1280" y="499"/>
                  <a:pt x="1279" y="499"/>
                  <a:pt x="1279" y="500"/>
                </a:cubicBezTo>
                <a:cubicBezTo>
                  <a:pt x="1278" y="500"/>
                  <a:pt x="1278" y="500"/>
                  <a:pt x="1277" y="500"/>
                </a:cubicBezTo>
                <a:cubicBezTo>
                  <a:pt x="1276" y="500"/>
                  <a:pt x="1274" y="500"/>
                  <a:pt x="1275" y="501"/>
                </a:cubicBezTo>
                <a:cubicBezTo>
                  <a:pt x="1276" y="502"/>
                  <a:pt x="1277" y="502"/>
                  <a:pt x="1277" y="504"/>
                </a:cubicBezTo>
                <a:cubicBezTo>
                  <a:pt x="1277" y="506"/>
                  <a:pt x="1280" y="506"/>
                  <a:pt x="1280" y="504"/>
                </a:cubicBezTo>
                <a:cubicBezTo>
                  <a:pt x="1280" y="503"/>
                  <a:pt x="1282" y="505"/>
                  <a:pt x="1285" y="506"/>
                </a:cubicBezTo>
                <a:cubicBezTo>
                  <a:pt x="1288" y="506"/>
                  <a:pt x="1286" y="508"/>
                  <a:pt x="1288" y="508"/>
                </a:cubicBezTo>
                <a:cubicBezTo>
                  <a:pt x="1291" y="508"/>
                  <a:pt x="1298" y="510"/>
                  <a:pt x="1300" y="512"/>
                </a:cubicBezTo>
                <a:cubicBezTo>
                  <a:pt x="1303" y="514"/>
                  <a:pt x="1301" y="515"/>
                  <a:pt x="1303" y="517"/>
                </a:cubicBezTo>
                <a:cubicBezTo>
                  <a:pt x="1304" y="519"/>
                  <a:pt x="1305" y="521"/>
                  <a:pt x="1303" y="521"/>
                </a:cubicBezTo>
                <a:cubicBezTo>
                  <a:pt x="1300" y="521"/>
                  <a:pt x="1298" y="523"/>
                  <a:pt x="1299" y="524"/>
                </a:cubicBezTo>
                <a:cubicBezTo>
                  <a:pt x="1299" y="525"/>
                  <a:pt x="1307" y="523"/>
                  <a:pt x="1308" y="523"/>
                </a:cubicBezTo>
                <a:cubicBezTo>
                  <a:pt x="1310" y="523"/>
                  <a:pt x="1312" y="528"/>
                  <a:pt x="1317" y="528"/>
                </a:cubicBezTo>
                <a:cubicBezTo>
                  <a:pt x="1323" y="529"/>
                  <a:pt x="1322" y="526"/>
                  <a:pt x="1323" y="526"/>
                </a:cubicBezTo>
                <a:cubicBezTo>
                  <a:pt x="1324" y="526"/>
                  <a:pt x="1324" y="524"/>
                  <a:pt x="1325" y="522"/>
                </a:cubicBezTo>
                <a:cubicBezTo>
                  <a:pt x="1326" y="521"/>
                  <a:pt x="1331" y="522"/>
                  <a:pt x="1334" y="524"/>
                </a:cubicBezTo>
                <a:cubicBezTo>
                  <a:pt x="1337" y="527"/>
                  <a:pt x="1340" y="533"/>
                  <a:pt x="1343" y="533"/>
                </a:cubicBezTo>
                <a:cubicBezTo>
                  <a:pt x="1345" y="532"/>
                  <a:pt x="1347" y="533"/>
                  <a:pt x="1348" y="533"/>
                </a:cubicBezTo>
                <a:cubicBezTo>
                  <a:pt x="1350" y="534"/>
                  <a:pt x="1351" y="534"/>
                  <a:pt x="1352" y="534"/>
                </a:cubicBezTo>
                <a:cubicBezTo>
                  <a:pt x="1355" y="534"/>
                  <a:pt x="1353" y="532"/>
                  <a:pt x="1352" y="532"/>
                </a:cubicBezTo>
                <a:cubicBezTo>
                  <a:pt x="1351" y="531"/>
                  <a:pt x="1349" y="530"/>
                  <a:pt x="1349" y="529"/>
                </a:cubicBezTo>
                <a:cubicBezTo>
                  <a:pt x="1349" y="528"/>
                  <a:pt x="1346" y="528"/>
                  <a:pt x="1344" y="527"/>
                </a:cubicBezTo>
                <a:cubicBezTo>
                  <a:pt x="1343" y="526"/>
                  <a:pt x="1343" y="522"/>
                  <a:pt x="1341" y="521"/>
                </a:cubicBezTo>
                <a:cubicBezTo>
                  <a:pt x="1339" y="520"/>
                  <a:pt x="1338" y="518"/>
                  <a:pt x="1340" y="518"/>
                </a:cubicBezTo>
                <a:moveTo>
                  <a:pt x="1359" y="509"/>
                </a:moveTo>
                <a:cubicBezTo>
                  <a:pt x="1359" y="510"/>
                  <a:pt x="1357" y="511"/>
                  <a:pt x="1354" y="512"/>
                </a:cubicBezTo>
                <a:cubicBezTo>
                  <a:pt x="1352" y="513"/>
                  <a:pt x="1350" y="513"/>
                  <a:pt x="1348" y="512"/>
                </a:cubicBezTo>
                <a:cubicBezTo>
                  <a:pt x="1346" y="512"/>
                  <a:pt x="1345" y="512"/>
                  <a:pt x="1345" y="513"/>
                </a:cubicBezTo>
                <a:cubicBezTo>
                  <a:pt x="1344" y="514"/>
                  <a:pt x="1348" y="516"/>
                  <a:pt x="1352" y="516"/>
                </a:cubicBezTo>
                <a:cubicBezTo>
                  <a:pt x="1355" y="516"/>
                  <a:pt x="1360" y="512"/>
                  <a:pt x="1360" y="511"/>
                </a:cubicBezTo>
                <a:cubicBezTo>
                  <a:pt x="1360" y="510"/>
                  <a:pt x="1362" y="509"/>
                  <a:pt x="1362" y="508"/>
                </a:cubicBezTo>
                <a:cubicBezTo>
                  <a:pt x="1361" y="507"/>
                  <a:pt x="1359" y="508"/>
                  <a:pt x="1359" y="509"/>
                </a:cubicBezTo>
                <a:moveTo>
                  <a:pt x="1362" y="505"/>
                </a:moveTo>
                <a:cubicBezTo>
                  <a:pt x="1364" y="507"/>
                  <a:pt x="1363" y="509"/>
                  <a:pt x="1364" y="509"/>
                </a:cubicBezTo>
                <a:cubicBezTo>
                  <a:pt x="1367" y="508"/>
                  <a:pt x="1365" y="506"/>
                  <a:pt x="1363" y="505"/>
                </a:cubicBezTo>
                <a:cubicBezTo>
                  <a:pt x="1361" y="503"/>
                  <a:pt x="1359" y="502"/>
                  <a:pt x="1362" y="505"/>
                </a:cubicBezTo>
                <a:moveTo>
                  <a:pt x="1372" y="512"/>
                </a:moveTo>
                <a:cubicBezTo>
                  <a:pt x="1372" y="513"/>
                  <a:pt x="1376" y="519"/>
                  <a:pt x="1377" y="519"/>
                </a:cubicBezTo>
                <a:cubicBezTo>
                  <a:pt x="1380" y="517"/>
                  <a:pt x="1372" y="511"/>
                  <a:pt x="1372" y="512"/>
                </a:cubicBezTo>
                <a:moveTo>
                  <a:pt x="1059" y="447"/>
                </a:moveTo>
                <a:cubicBezTo>
                  <a:pt x="1057" y="447"/>
                  <a:pt x="1058" y="449"/>
                  <a:pt x="1057" y="451"/>
                </a:cubicBezTo>
                <a:cubicBezTo>
                  <a:pt x="1056" y="452"/>
                  <a:pt x="1057" y="454"/>
                  <a:pt x="1057" y="456"/>
                </a:cubicBezTo>
                <a:cubicBezTo>
                  <a:pt x="1057" y="459"/>
                  <a:pt x="1057" y="461"/>
                  <a:pt x="1059" y="463"/>
                </a:cubicBezTo>
                <a:cubicBezTo>
                  <a:pt x="1061" y="464"/>
                  <a:pt x="1065" y="460"/>
                  <a:pt x="1066" y="457"/>
                </a:cubicBezTo>
                <a:cubicBezTo>
                  <a:pt x="1066" y="453"/>
                  <a:pt x="1060" y="447"/>
                  <a:pt x="1059" y="447"/>
                </a:cubicBezTo>
                <a:moveTo>
                  <a:pt x="925" y="539"/>
                </a:moveTo>
                <a:cubicBezTo>
                  <a:pt x="925" y="537"/>
                  <a:pt x="924" y="540"/>
                  <a:pt x="924" y="541"/>
                </a:cubicBezTo>
                <a:cubicBezTo>
                  <a:pt x="923" y="541"/>
                  <a:pt x="923" y="543"/>
                  <a:pt x="923" y="544"/>
                </a:cubicBezTo>
                <a:cubicBezTo>
                  <a:pt x="923" y="545"/>
                  <a:pt x="921" y="546"/>
                  <a:pt x="920" y="546"/>
                </a:cubicBezTo>
                <a:cubicBezTo>
                  <a:pt x="919" y="545"/>
                  <a:pt x="918" y="546"/>
                  <a:pt x="918" y="547"/>
                </a:cubicBezTo>
                <a:cubicBezTo>
                  <a:pt x="919" y="549"/>
                  <a:pt x="918" y="549"/>
                  <a:pt x="918" y="550"/>
                </a:cubicBezTo>
                <a:cubicBezTo>
                  <a:pt x="919" y="551"/>
                  <a:pt x="917" y="552"/>
                  <a:pt x="915" y="552"/>
                </a:cubicBezTo>
                <a:cubicBezTo>
                  <a:pt x="913" y="552"/>
                  <a:pt x="911" y="556"/>
                  <a:pt x="909" y="555"/>
                </a:cubicBezTo>
                <a:cubicBezTo>
                  <a:pt x="908" y="555"/>
                  <a:pt x="907" y="555"/>
                  <a:pt x="906" y="556"/>
                </a:cubicBezTo>
                <a:cubicBezTo>
                  <a:pt x="905" y="556"/>
                  <a:pt x="905" y="556"/>
                  <a:pt x="904" y="556"/>
                </a:cubicBezTo>
                <a:cubicBezTo>
                  <a:pt x="902" y="556"/>
                  <a:pt x="903" y="560"/>
                  <a:pt x="902" y="562"/>
                </a:cubicBezTo>
                <a:cubicBezTo>
                  <a:pt x="901" y="564"/>
                  <a:pt x="901" y="567"/>
                  <a:pt x="903" y="570"/>
                </a:cubicBezTo>
                <a:cubicBezTo>
                  <a:pt x="904" y="572"/>
                  <a:pt x="905" y="575"/>
                  <a:pt x="902" y="578"/>
                </a:cubicBezTo>
                <a:cubicBezTo>
                  <a:pt x="899" y="582"/>
                  <a:pt x="899" y="586"/>
                  <a:pt x="900" y="588"/>
                </a:cubicBezTo>
                <a:cubicBezTo>
                  <a:pt x="901" y="591"/>
                  <a:pt x="901" y="595"/>
                  <a:pt x="903" y="596"/>
                </a:cubicBezTo>
                <a:cubicBezTo>
                  <a:pt x="904" y="598"/>
                  <a:pt x="909" y="600"/>
                  <a:pt x="910" y="598"/>
                </a:cubicBezTo>
                <a:cubicBezTo>
                  <a:pt x="912" y="597"/>
                  <a:pt x="913" y="599"/>
                  <a:pt x="915" y="597"/>
                </a:cubicBezTo>
                <a:cubicBezTo>
                  <a:pt x="916" y="595"/>
                  <a:pt x="919" y="585"/>
                  <a:pt x="921" y="579"/>
                </a:cubicBezTo>
                <a:cubicBezTo>
                  <a:pt x="923" y="572"/>
                  <a:pt x="926" y="564"/>
                  <a:pt x="925" y="562"/>
                </a:cubicBezTo>
                <a:cubicBezTo>
                  <a:pt x="925" y="561"/>
                  <a:pt x="927" y="559"/>
                  <a:pt x="926" y="558"/>
                </a:cubicBezTo>
                <a:cubicBezTo>
                  <a:pt x="925" y="556"/>
                  <a:pt x="926" y="553"/>
                  <a:pt x="927" y="555"/>
                </a:cubicBezTo>
                <a:cubicBezTo>
                  <a:pt x="928" y="556"/>
                  <a:pt x="929" y="556"/>
                  <a:pt x="930" y="554"/>
                </a:cubicBezTo>
                <a:cubicBezTo>
                  <a:pt x="930" y="552"/>
                  <a:pt x="928" y="549"/>
                  <a:pt x="928" y="546"/>
                </a:cubicBezTo>
                <a:cubicBezTo>
                  <a:pt x="928" y="543"/>
                  <a:pt x="926" y="541"/>
                  <a:pt x="925" y="539"/>
                </a:cubicBezTo>
                <a:moveTo>
                  <a:pt x="480" y="247"/>
                </a:moveTo>
                <a:cubicBezTo>
                  <a:pt x="482" y="246"/>
                  <a:pt x="480" y="244"/>
                  <a:pt x="478" y="245"/>
                </a:cubicBezTo>
                <a:cubicBezTo>
                  <a:pt x="476" y="246"/>
                  <a:pt x="471" y="253"/>
                  <a:pt x="471" y="255"/>
                </a:cubicBezTo>
                <a:cubicBezTo>
                  <a:pt x="471" y="257"/>
                  <a:pt x="471" y="259"/>
                  <a:pt x="469" y="259"/>
                </a:cubicBezTo>
                <a:cubicBezTo>
                  <a:pt x="467" y="259"/>
                  <a:pt x="465" y="260"/>
                  <a:pt x="467" y="261"/>
                </a:cubicBezTo>
                <a:cubicBezTo>
                  <a:pt x="468" y="262"/>
                  <a:pt x="463" y="265"/>
                  <a:pt x="466" y="266"/>
                </a:cubicBezTo>
                <a:cubicBezTo>
                  <a:pt x="467" y="267"/>
                  <a:pt x="468" y="267"/>
                  <a:pt x="469" y="266"/>
                </a:cubicBezTo>
                <a:cubicBezTo>
                  <a:pt x="470" y="266"/>
                  <a:pt x="471" y="266"/>
                  <a:pt x="472" y="266"/>
                </a:cubicBezTo>
                <a:cubicBezTo>
                  <a:pt x="474" y="267"/>
                  <a:pt x="476" y="267"/>
                  <a:pt x="478" y="265"/>
                </a:cubicBezTo>
                <a:cubicBezTo>
                  <a:pt x="479" y="264"/>
                  <a:pt x="480" y="265"/>
                  <a:pt x="480" y="266"/>
                </a:cubicBezTo>
                <a:cubicBezTo>
                  <a:pt x="481" y="266"/>
                  <a:pt x="481" y="266"/>
                  <a:pt x="482" y="266"/>
                </a:cubicBezTo>
                <a:cubicBezTo>
                  <a:pt x="484" y="266"/>
                  <a:pt x="481" y="268"/>
                  <a:pt x="481" y="269"/>
                </a:cubicBezTo>
                <a:cubicBezTo>
                  <a:pt x="481" y="271"/>
                  <a:pt x="483" y="269"/>
                  <a:pt x="485" y="268"/>
                </a:cubicBezTo>
                <a:cubicBezTo>
                  <a:pt x="486" y="267"/>
                  <a:pt x="488" y="268"/>
                  <a:pt x="487" y="269"/>
                </a:cubicBezTo>
                <a:cubicBezTo>
                  <a:pt x="487" y="270"/>
                  <a:pt x="491" y="272"/>
                  <a:pt x="493" y="270"/>
                </a:cubicBezTo>
                <a:cubicBezTo>
                  <a:pt x="494" y="268"/>
                  <a:pt x="491" y="264"/>
                  <a:pt x="491" y="266"/>
                </a:cubicBezTo>
                <a:cubicBezTo>
                  <a:pt x="490" y="267"/>
                  <a:pt x="489" y="265"/>
                  <a:pt x="490" y="264"/>
                </a:cubicBezTo>
                <a:cubicBezTo>
                  <a:pt x="492" y="262"/>
                  <a:pt x="490" y="262"/>
                  <a:pt x="489" y="263"/>
                </a:cubicBezTo>
                <a:cubicBezTo>
                  <a:pt x="487" y="263"/>
                  <a:pt x="488" y="259"/>
                  <a:pt x="489" y="258"/>
                </a:cubicBezTo>
                <a:cubicBezTo>
                  <a:pt x="490" y="258"/>
                  <a:pt x="486" y="256"/>
                  <a:pt x="486" y="257"/>
                </a:cubicBezTo>
                <a:cubicBezTo>
                  <a:pt x="486" y="259"/>
                  <a:pt x="482" y="258"/>
                  <a:pt x="482" y="257"/>
                </a:cubicBezTo>
                <a:cubicBezTo>
                  <a:pt x="481" y="255"/>
                  <a:pt x="479" y="255"/>
                  <a:pt x="480" y="254"/>
                </a:cubicBezTo>
                <a:cubicBezTo>
                  <a:pt x="481" y="253"/>
                  <a:pt x="477" y="253"/>
                  <a:pt x="477" y="254"/>
                </a:cubicBezTo>
                <a:cubicBezTo>
                  <a:pt x="476" y="256"/>
                  <a:pt x="475" y="253"/>
                  <a:pt x="477" y="251"/>
                </a:cubicBezTo>
                <a:cubicBezTo>
                  <a:pt x="479" y="249"/>
                  <a:pt x="478" y="248"/>
                  <a:pt x="480" y="247"/>
                </a:cubicBezTo>
                <a:moveTo>
                  <a:pt x="944" y="434"/>
                </a:moveTo>
                <a:cubicBezTo>
                  <a:pt x="945" y="436"/>
                  <a:pt x="948" y="434"/>
                  <a:pt x="948" y="434"/>
                </a:cubicBezTo>
                <a:cubicBezTo>
                  <a:pt x="948" y="433"/>
                  <a:pt x="942" y="433"/>
                  <a:pt x="944" y="434"/>
                </a:cubicBezTo>
                <a:moveTo>
                  <a:pt x="53" y="401"/>
                </a:moveTo>
                <a:cubicBezTo>
                  <a:pt x="51" y="401"/>
                  <a:pt x="52" y="407"/>
                  <a:pt x="53" y="406"/>
                </a:cubicBezTo>
                <a:cubicBezTo>
                  <a:pt x="54" y="405"/>
                  <a:pt x="56" y="405"/>
                  <a:pt x="56" y="404"/>
                </a:cubicBezTo>
                <a:cubicBezTo>
                  <a:pt x="57" y="403"/>
                  <a:pt x="55" y="400"/>
                  <a:pt x="53" y="401"/>
                </a:cubicBezTo>
                <a:moveTo>
                  <a:pt x="50" y="397"/>
                </a:moveTo>
                <a:cubicBezTo>
                  <a:pt x="49" y="397"/>
                  <a:pt x="49" y="400"/>
                  <a:pt x="50" y="399"/>
                </a:cubicBezTo>
                <a:cubicBezTo>
                  <a:pt x="52" y="398"/>
                  <a:pt x="51" y="397"/>
                  <a:pt x="50" y="397"/>
                </a:cubicBezTo>
                <a:moveTo>
                  <a:pt x="35" y="392"/>
                </a:moveTo>
                <a:cubicBezTo>
                  <a:pt x="36" y="394"/>
                  <a:pt x="37" y="393"/>
                  <a:pt x="38" y="392"/>
                </a:cubicBezTo>
                <a:cubicBezTo>
                  <a:pt x="38" y="391"/>
                  <a:pt x="34" y="391"/>
                  <a:pt x="35" y="392"/>
                </a:cubicBezTo>
                <a:moveTo>
                  <a:pt x="42" y="395"/>
                </a:moveTo>
                <a:cubicBezTo>
                  <a:pt x="43" y="397"/>
                  <a:pt x="44" y="397"/>
                  <a:pt x="45" y="396"/>
                </a:cubicBezTo>
                <a:cubicBezTo>
                  <a:pt x="45" y="394"/>
                  <a:pt x="41" y="394"/>
                  <a:pt x="42" y="395"/>
                </a:cubicBezTo>
                <a:moveTo>
                  <a:pt x="556" y="746"/>
                </a:moveTo>
                <a:cubicBezTo>
                  <a:pt x="556" y="747"/>
                  <a:pt x="558" y="747"/>
                  <a:pt x="560" y="748"/>
                </a:cubicBezTo>
                <a:cubicBezTo>
                  <a:pt x="561" y="749"/>
                  <a:pt x="563" y="752"/>
                  <a:pt x="565" y="750"/>
                </a:cubicBezTo>
                <a:cubicBezTo>
                  <a:pt x="566" y="747"/>
                  <a:pt x="556" y="745"/>
                  <a:pt x="556" y="746"/>
                </a:cubicBezTo>
                <a:moveTo>
                  <a:pt x="1010" y="716"/>
                </a:moveTo>
                <a:cubicBezTo>
                  <a:pt x="1010" y="715"/>
                  <a:pt x="1005" y="719"/>
                  <a:pt x="1009" y="721"/>
                </a:cubicBezTo>
                <a:cubicBezTo>
                  <a:pt x="1009" y="721"/>
                  <a:pt x="1010" y="721"/>
                  <a:pt x="1011" y="721"/>
                </a:cubicBezTo>
                <a:cubicBezTo>
                  <a:pt x="1011" y="720"/>
                  <a:pt x="1012" y="720"/>
                  <a:pt x="1012" y="721"/>
                </a:cubicBezTo>
                <a:cubicBezTo>
                  <a:pt x="1013" y="722"/>
                  <a:pt x="1015" y="721"/>
                  <a:pt x="1016" y="719"/>
                </a:cubicBezTo>
                <a:cubicBezTo>
                  <a:pt x="1016" y="717"/>
                  <a:pt x="1011" y="717"/>
                  <a:pt x="1010" y="716"/>
                </a:cubicBezTo>
                <a:moveTo>
                  <a:pt x="1380" y="518"/>
                </a:moveTo>
                <a:cubicBezTo>
                  <a:pt x="1380" y="518"/>
                  <a:pt x="1383" y="521"/>
                  <a:pt x="1383" y="521"/>
                </a:cubicBezTo>
                <a:cubicBezTo>
                  <a:pt x="1384" y="520"/>
                  <a:pt x="1380" y="517"/>
                  <a:pt x="1380" y="518"/>
                </a:cubicBezTo>
                <a:moveTo>
                  <a:pt x="1394" y="525"/>
                </a:moveTo>
                <a:cubicBezTo>
                  <a:pt x="1395" y="524"/>
                  <a:pt x="1388" y="521"/>
                  <a:pt x="1388" y="522"/>
                </a:cubicBezTo>
                <a:cubicBezTo>
                  <a:pt x="1388" y="523"/>
                  <a:pt x="1393" y="526"/>
                  <a:pt x="1394" y="525"/>
                </a:cubicBezTo>
                <a:moveTo>
                  <a:pt x="1393" y="529"/>
                </a:moveTo>
                <a:cubicBezTo>
                  <a:pt x="1394" y="531"/>
                  <a:pt x="1396" y="532"/>
                  <a:pt x="1398" y="532"/>
                </a:cubicBezTo>
                <a:cubicBezTo>
                  <a:pt x="1399" y="531"/>
                  <a:pt x="1393" y="527"/>
                  <a:pt x="1393" y="529"/>
                </a:cubicBezTo>
                <a:moveTo>
                  <a:pt x="1401" y="533"/>
                </a:moveTo>
                <a:cubicBezTo>
                  <a:pt x="1401" y="534"/>
                  <a:pt x="1404" y="536"/>
                  <a:pt x="1405" y="535"/>
                </a:cubicBezTo>
                <a:cubicBezTo>
                  <a:pt x="1406" y="534"/>
                  <a:pt x="1401" y="533"/>
                  <a:pt x="1401" y="533"/>
                </a:cubicBezTo>
                <a:moveTo>
                  <a:pt x="1398" y="525"/>
                </a:moveTo>
                <a:cubicBezTo>
                  <a:pt x="1397" y="527"/>
                  <a:pt x="1401" y="531"/>
                  <a:pt x="1401" y="531"/>
                </a:cubicBezTo>
                <a:cubicBezTo>
                  <a:pt x="1401" y="531"/>
                  <a:pt x="1401" y="529"/>
                  <a:pt x="1400" y="528"/>
                </a:cubicBezTo>
                <a:cubicBezTo>
                  <a:pt x="1399" y="526"/>
                  <a:pt x="1398" y="524"/>
                  <a:pt x="1398" y="525"/>
                </a:cubicBezTo>
                <a:moveTo>
                  <a:pt x="1366" y="612"/>
                </a:moveTo>
                <a:cubicBezTo>
                  <a:pt x="1367" y="611"/>
                  <a:pt x="1366" y="608"/>
                  <a:pt x="1365" y="609"/>
                </a:cubicBezTo>
                <a:cubicBezTo>
                  <a:pt x="1365" y="609"/>
                  <a:pt x="1365" y="604"/>
                  <a:pt x="1365" y="602"/>
                </a:cubicBezTo>
                <a:cubicBezTo>
                  <a:pt x="1365" y="599"/>
                  <a:pt x="1365" y="600"/>
                  <a:pt x="1364" y="601"/>
                </a:cubicBezTo>
                <a:cubicBezTo>
                  <a:pt x="1363" y="602"/>
                  <a:pt x="1361" y="598"/>
                  <a:pt x="1361" y="597"/>
                </a:cubicBezTo>
                <a:cubicBezTo>
                  <a:pt x="1361" y="597"/>
                  <a:pt x="1359" y="594"/>
                  <a:pt x="1358" y="594"/>
                </a:cubicBezTo>
                <a:cubicBezTo>
                  <a:pt x="1357" y="594"/>
                  <a:pt x="1357" y="594"/>
                  <a:pt x="1357" y="593"/>
                </a:cubicBezTo>
                <a:cubicBezTo>
                  <a:pt x="1357" y="593"/>
                  <a:pt x="1357" y="592"/>
                  <a:pt x="1356" y="592"/>
                </a:cubicBezTo>
                <a:cubicBezTo>
                  <a:pt x="1354" y="593"/>
                  <a:pt x="1354" y="590"/>
                  <a:pt x="1354" y="588"/>
                </a:cubicBezTo>
                <a:cubicBezTo>
                  <a:pt x="1354" y="587"/>
                  <a:pt x="1354" y="587"/>
                  <a:pt x="1354" y="587"/>
                </a:cubicBezTo>
                <a:cubicBezTo>
                  <a:pt x="1353" y="587"/>
                  <a:pt x="1353" y="587"/>
                  <a:pt x="1353" y="586"/>
                </a:cubicBezTo>
                <a:cubicBezTo>
                  <a:pt x="1352" y="586"/>
                  <a:pt x="1351" y="586"/>
                  <a:pt x="1350" y="587"/>
                </a:cubicBezTo>
                <a:cubicBezTo>
                  <a:pt x="1349" y="587"/>
                  <a:pt x="1349" y="585"/>
                  <a:pt x="1349" y="584"/>
                </a:cubicBezTo>
                <a:cubicBezTo>
                  <a:pt x="1349" y="583"/>
                  <a:pt x="1349" y="582"/>
                  <a:pt x="1348" y="581"/>
                </a:cubicBezTo>
                <a:cubicBezTo>
                  <a:pt x="1346" y="580"/>
                  <a:pt x="1346" y="579"/>
                  <a:pt x="1346" y="578"/>
                </a:cubicBezTo>
                <a:cubicBezTo>
                  <a:pt x="1346" y="576"/>
                  <a:pt x="1338" y="572"/>
                  <a:pt x="1336" y="572"/>
                </a:cubicBezTo>
                <a:cubicBezTo>
                  <a:pt x="1335" y="571"/>
                  <a:pt x="1336" y="570"/>
                  <a:pt x="1335" y="569"/>
                </a:cubicBezTo>
                <a:cubicBezTo>
                  <a:pt x="1335" y="568"/>
                  <a:pt x="1334" y="566"/>
                  <a:pt x="1334" y="564"/>
                </a:cubicBezTo>
                <a:cubicBezTo>
                  <a:pt x="1334" y="562"/>
                  <a:pt x="1332" y="561"/>
                  <a:pt x="1332" y="559"/>
                </a:cubicBezTo>
                <a:cubicBezTo>
                  <a:pt x="1332" y="558"/>
                  <a:pt x="1331" y="556"/>
                  <a:pt x="1331" y="554"/>
                </a:cubicBezTo>
                <a:cubicBezTo>
                  <a:pt x="1331" y="552"/>
                  <a:pt x="1328" y="552"/>
                  <a:pt x="1328" y="551"/>
                </a:cubicBezTo>
                <a:cubicBezTo>
                  <a:pt x="1328" y="550"/>
                  <a:pt x="1327" y="551"/>
                  <a:pt x="1325" y="551"/>
                </a:cubicBezTo>
                <a:cubicBezTo>
                  <a:pt x="1323" y="551"/>
                  <a:pt x="1323" y="549"/>
                  <a:pt x="1324" y="547"/>
                </a:cubicBezTo>
                <a:cubicBezTo>
                  <a:pt x="1324" y="544"/>
                  <a:pt x="1323" y="541"/>
                  <a:pt x="1322" y="540"/>
                </a:cubicBezTo>
                <a:cubicBezTo>
                  <a:pt x="1320" y="539"/>
                  <a:pt x="1320" y="535"/>
                  <a:pt x="1320" y="535"/>
                </a:cubicBezTo>
                <a:cubicBezTo>
                  <a:pt x="1319" y="534"/>
                  <a:pt x="1317" y="536"/>
                  <a:pt x="1317" y="538"/>
                </a:cubicBezTo>
                <a:cubicBezTo>
                  <a:pt x="1317" y="539"/>
                  <a:pt x="1317" y="540"/>
                  <a:pt x="1316" y="541"/>
                </a:cubicBezTo>
                <a:cubicBezTo>
                  <a:pt x="1315" y="542"/>
                  <a:pt x="1316" y="545"/>
                  <a:pt x="1315" y="546"/>
                </a:cubicBezTo>
                <a:cubicBezTo>
                  <a:pt x="1314" y="547"/>
                  <a:pt x="1315" y="551"/>
                  <a:pt x="1315" y="553"/>
                </a:cubicBezTo>
                <a:cubicBezTo>
                  <a:pt x="1315" y="556"/>
                  <a:pt x="1315" y="558"/>
                  <a:pt x="1314" y="560"/>
                </a:cubicBezTo>
                <a:cubicBezTo>
                  <a:pt x="1312" y="561"/>
                  <a:pt x="1312" y="564"/>
                  <a:pt x="1310" y="565"/>
                </a:cubicBezTo>
                <a:cubicBezTo>
                  <a:pt x="1308" y="566"/>
                  <a:pt x="1305" y="564"/>
                  <a:pt x="1305" y="563"/>
                </a:cubicBezTo>
                <a:cubicBezTo>
                  <a:pt x="1305" y="561"/>
                  <a:pt x="1302" y="561"/>
                  <a:pt x="1301" y="561"/>
                </a:cubicBezTo>
                <a:cubicBezTo>
                  <a:pt x="1300" y="561"/>
                  <a:pt x="1299" y="559"/>
                  <a:pt x="1297" y="558"/>
                </a:cubicBezTo>
                <a:cubicBezTo>
                  <a:pt x="1296" y="557"/>
                  <a:pt x="1295" y="557"/>
                  <a:pt x="1294" y="557"/>
                </a:cubicBezTo>
                <a:cubicBezTo>
                  <a:pt x="1294" y="557"/>
                  <a:pt x="1293" y="557"/>
                  <a:pt x="1293" y="556"/>
                </a:cubicBezTo>
                <a:cubicBezTo>
                  <a:pt x="1292" y="554"/>
                  <a:pt x="1291" y="554"/>
                  <a:pt x="1290" y="553"/>
                </a:cubicBezTo>
                <a:cubicBezTo>
                  <a:pt x="1288" y="552"/>
                  <a:pt x="1289" y="552"/>
                  <a:pt x="1290" y="551"/>
                </a:cubicBezTo>
                <a:cubicBezTo>
                  <a:pt x="1292" y="550"/>
                  <a:pt x="1291" y="548"/>
                  <a:pt x="1291" y="547"/>
                </a:cubicBezTo>
                <a:cubicBezTo>
                  <a:pt x="1290" y="546"/>
                  <a:pt x="1291" y="546"/>
                  <a:pt x="1293" y="545"/>
                </a:cubicBezTo>
                <a:cubicBezTo>
                  <a:pt x="1295" y="544"/>
                  <a:pt x="1293" y="543"/>
                  <a:pt x="1295" y="542"/>
                </a:cubicBezTo>
                <a:cubicBezTo>
                  <a:pt x="1296" y="542"/>
                  <a:pt x="1295" y="541"/>
                  <a:pt x="1294" y="540"/>
                </a:cubicBezTo>
                <a:cubicBezTo>
                  <a:pt x="1292" y="540"/>
                  <a:pt x="1293" y="542"/>
                  <a:pt x="1292" y="542"/>
                </a:cubicBezTo>
                <a:cubicBezTo>
                  <a:pt x="1292" y="542"/>
                  <a:pt x="1292" y="542"/>
                  <a:pt x="1291" y="541"/>
                </a:cubicBezTo>
                <a:cubicBezTo>
                  <a:pt x="1291" y="540"/>
                  <a:pt x="1291" y="540"/>
                  <a:pt x="1291" y="540"/>
                </a:cubicBezTo>
                <a:cubicBezTo>
                  <a:pt x="1290" y="540"/>
                  <a:pt x="1288" y="542"/>
                  <a:pt x="1287" y="541"/>
                </a:cubicBezTo>
                <a:cubicBezTo>
                  <a:pt x="1286" y="540"/>
                  <a:pt x="1281" y="539"/>
                  <a:pt x="1279" y="539"/>
                </a:cubicBezTo>
                <a:cubicBezTo>
                  <a:pt x="1277" y="538"/>
                  <a:pt x="1276" y="536"/>
                  <a:pt x="1275" y="536"/>
                </a:cubicBezTo>
                <a:cubicBezTo>
                  <a:pt x="1274" y="537"/>
                  <a:pt x="1275" y="537"/>
                  <a:pt x="1277" y="539"/>
                </a:cubicBezTo>
                <a:cubicBezTo>
                  <a:pt x="1278" y="540"/>
                  <a:pt x="1272" y="541"/>
                  <a:pt x="1270" y="541"/>
                </a:cubicBezTo>
                <a:cubicBezTo>
                  <a:pt x="1269" y="541"/>
                  <a:pt x="1269" y="541"/>
                  <a:pt x="1270" y="541"/>
                </a:cubicBezTo>
                <a:cubicBezTo>
                  <a:pt x="1270" y="542"/>
                  <a:pt x="1270" y="542"/>
                  <a:pt x="1269" y="542"/>
                </a:cubicBezTo>
                <a:cubicBezTo>
                  <a:pt x="1267" y="542"/>
                  <a:pt x="1267" y="545"/>
                  <a:pt x="1266" y="546"/>
                </a:cubicBezTo>
                <a:cubicBezTo>
                  <a:pt x="1265" y="547"/>
                  <a:pt x="1266" y="548"/>
                  <a:pt x="1264" y="549"/>
                </a:cubicBezTo>
                <a:cubicBezTo>
                  <a:pt x="1263" y="550"/>
                  <a:pt x="1263" y="551"/>
                  <a:pt x="1264" y="553"/>
                </a:cubicBezTo>
                <a:cubicBezTo>
                  <a:pt x="1266" y="554"/>
                  <a:pt x="1264" y="555"/>
                  <a:pt x="1262" y="553"/>
                </a:cubicBezTo>
                <a:cubicBezTo>
                  <a:pt x="1261" y="552"/>
                  <a:pt x="1259" y="552"/>
                  <a:pt x="1260" y="553"/>
                </a:cubicBezTo>
                <a:cubicBezTo>
                  <a:pt x="1260" y="555"/>
                  <a:pt x="1258" y="554"/>
                  <a:pt x="1258" y="552"/>
                </a:cubicBezTo>
                <a:cubicBezTo>
                  <a:pt x="1258" y="551"/>
                  <a:pt x="1256" y="551"/>
                  <a:pt x="1256" y="550"/>
                </a:cubicBezTo>
                <a:cubicBezTo>
                  <a:pt x="1255" y="549"/>
                  <a:pt x="1253" y="548"/>
                  <a:pt x="1252" y="548"/>
                </a:cubicBezTo>
                <a:cubicBezTo>
                  <a:pt x="1251" y="548"/>
                  <a:pt x="1251" y="549"/>
                  <a:pt x="1250" y="549"/>
                </a:cubicBezTo>
                <a:cubicBezTo>
                  <a:pt x="1249" y="549"/>
                  <a:pt x="1248" y="550"/>
                  <a:pt x="1248" y="551"/>
                </a:cubicBezTo>
                <a:cubicBezTo>
                  <a:pt x="1249" y="552"/>
                  <a:pt x="1248" y="552"/>
                  <a:pt x="1247" y="551"/>
                </a:cubicBezTo>
                <a:cubicBezTo>
                  <a:pt x="1246" y="551"/>
                  <a:pt x="1246" y="551"/>
                  <a:pt x="1245" y="551"/>
                </a:cubicBezTo>
                <a:cubicBezTo>
                  <a:pt x="1244" y="551"/>
                  <a:pt x="1245" y="553"/>
                  <a:pt x="1244" y="553"/>
                </a:cubicBezTo>
                <a:cubicBezTo>
                  <a:pt x="1244" y="553"/>
                  <a:pt x="1244" y="555"/>
                  <a:pt x="1242" y="555"/>
                </a:cubicBezTo>
                <a:cubicBezTo>
                  <a:pt x="1241" y="555"/>
                  <a:pt x="1241" y="557"/>
                  <a:pt x="1242" y="559"/>
                </a:cubicBezTo>
                <a:cubicBezTo>
                  <a:pt x="1242" y="560"/>
                  <a:pt x="1241" y="559"/>
                  <a:pt x="1240" y="559"/>
                </a:cubicBezTo>
                <a:cubicBezTo>
                  <a:pt x="1240" y="559"/>
                  <a:pt x="1239" y="558"/>
                  <a:pt x="1238" y="558"/>
                </a:cubicBezTo>
                <a:cubicBezTo>
                  <a:pt x="1237" y="559"/>
                  <a:pt x="1239" y="560"/>
                  <a:pt x="1239" y="562"/>
                </a:cubicBezTo>
                <a:cubicBezTo>
                  <a:pt x="1239" y="563"/>
                  <a:pt x="1238" y="563"/>
                  <a:pt x="1238" y="564"/>
                </a:cubicBezTo>
                <a:cubicBezTo>
                  <a:pt x="1237" y="564"/>
                  <a:pt x="1236" y="562"/>
                  <a:pt x="1236" y="561"/>
                </a:cubicBezTo>
                <a:cubicBezTo>
                  <a:pt x="1236" y="559"/>
                  <a:pt x="1235" y="560"/>
                  <a:pt x="1233" y="562"/>
                </a:cubicBezTo>
                <a:cubicBezTo>
                  <a:pt x="1231" y="564"/>
                  <a:pt x="1233" y="567"/>
                  <a:pt x="1233" y="567"/>
                </a:cubicBezTo>
                <a:cubicBezTo>
                  <a:pt x="1232" y="568"/>
                  <a:pt x="1228" y="571"/>
                  <a:pt x="1227" y="573"/>
                </a:cubicBezTo>
                <a:cubicBezTo>
                  <a:pt x="1225" y="576"/>
                  <a:pt x="1220" y="574"/>
                  <a:pt x="1219" y="575"/>
                </a:cubicBezTo>
                <a:cubicBezTo>
                  <a:pt x="1218" y="576"/>
                  <a:pt x="1216" y="576"/>
                  <a:pt x="1215" y="577"/>
                </a:cubicBezTo>
                <a:cubicBezTo>
                  <a:pt x="1214" y="578"/>
                  <a:pt x="1211" y="580"/>
                  <a:pt x="1211" y="578"/>
                </a:cubicBezTo>
                <a:cubicBezTo>
                  <a:pt x="1211" y="577"/>
                  <a:pt x="1207" y="578"/>
                  <a:pt x="1206" y="580"/>
                </a:cubicBezTo>
                <a:cubicBezTo>
                  <a:pt x="1204" y="581"/>
                  <a:pt x="1202" y="583"/>
                  <a:pt x="1201" y="583"/>
                </a:cubicBezTo>
                <a:cubicBezTo>
                  <a:pt x="1199" y="583"/>
                  <a:pt x="1199" y="585"/>
                  <a:pt x="1198" y="586"/>
                </a:cubicBezTo>
                <a:cubicBezTo>
                  <a:pt x="1198" y="586"/>
                  <a:pt x="1198" y="584"/>
                  <a:pt x="1198" y="583"/>
                </a:cubicBezTo>
                <a:cubicBezTo>
                  <a:pt x="1198" y="582"/>
                  <a:pt x="1196" y="584"/>
                  <a:pt x="1196" y="586"/>
                </a:cubicBezTo>
                <a:cubicBezTo>
                  <a:pt x="1195" y="588"/>
                  <a:pt x="1197" y="589"/>
                  <a:pt x="1196" y="591"/>
                </a:cubicBezTo>
                <a:cubicBezTo>
                  <a:pt x="1194" y="593"/>
                  <a:pt x="1193" y="595"/>
                  <a:pt x="1195" y="598"/>
                </a:cubicBezTo>
                <a:cubicBezTo>
                  <a:pt x="1197" y="600"/>
                  <a:pt x="1198" y="602"/>
                  <a:pt x="1197" y="603"/>
                </a:cubicBezTo>
                <a:cubicBezTo>
                  <a:pt x="1197" y="604"/>
                  <a:pt x="1197" y="603"/>
                  <a:pt x="1196" y="602"/>
                </a:cubicBezTo>
                <a:cubicBezTo>
                  <a:pt x="1196" y="602"/>
                  <a:pt x="1195" y="601"/>
                  <a:pt x="1195" y="601"/>
                </a:cubicBezTo>
                <a:cubicBezTo>
                  <a:pt x="1194" y="602"/>
                  <a:pt x="1197" y="603"/>
                  <a:pt x="1196" y="604"/>
                </a:cubicBezTo>
                <a:cubicBezTo>
                  <a:pt x="1196" y="605"/>
                  <a:pt x="1195" y="604"/>
                  <a:pt x="1195" y="603"/>
                </a:cubicBezTo>
                <a:cubicBezTo>
                  <a:pt x="1194" y="602"/>
                  <a:pt x="1193" y="602"/>
                  <a:pt x="1193" y="602"/>
                </a:cubicBezTo>
                <a:cubicBezTo>
                  <a:pt x="1193" y="603"/>
                  <a:pt x="1197" y="609"/>
                  <a:pt x="1197" y="612"/>
                </a:cubicBezTo>
                <a:cubicBezTo>
                  <a:pt x="1198" y="614"/>
                  <a:pt x="1201" y="616"/>
                  <a:pt x="1201" y="620"/>
                </a:cubicBezTo>
                <a:cubicBezTo>
                  <a:pt x="1201" y="623"/>
                  <a:pt x="1204" y="628"/>
                  <a:pt x="1205" y="629"/>
                </a:cubicBezTo>
                <a:cubicBezTo>
                  <a:pt x="1205" y="630"/>
                  <a:pt x="1204" y="632"/>
                  <a:pt x="1204" y="635"/>
                </a:cubicBezTo>
                <a:cubicBezTo>
                  <a:pt x="1204" y="638"/>
                  <a:pt x="1203" y="638"/>
                  <a:pt x="1201" y="638"/>
                </a:cubicBezTo>
                <a:cubicBezTo>
                  <a:pt x="1200" y="638"/>
                  <a:pt x="1201" y="641"/>
                  <a:pt x="1203" y="641"/>
                </a:cubicBezTo>
                <a:cubicBezTo>
                  <a:pt x="1204" y="641"/>
                  <a:pt x="1204" y="643"/>
                  <a:pt x="1206" y="644"/>
                </a:cubicBezTo>
                <a:cubicBezTo>
                  <a:pt x="1208" y="645"/>
                  <a:pt x="1212" y="645"/>
                  <a:pt x="1214" y="645"/>
                </a:cubicBezTo>
                <a:cubicBezTo>
                  <a:pt x="1216" y="645"/>
                  <a:pt x="1216" y="642"/>
                  <a:pt x="1218" y="642"/>
                </a:cubicBezTo>
                <a:cubicBezTo>
                  <a:pt x="1220" y="642"/>
                  <a:pt x="1220" y="642"/>
                  <a:pt x="1221" y="640"/>
                </a:cubicBezTo>
                <a:cubicBezTo>
                  <a:pt x="1222" y="639"/>
                  <a:pt x="1227" y="639"/>
                  <a:pt x="1232" y="640"/>
                </a:cubicBezTo>
                <a:cubicBezTo>
                  <a:pt x="1237" y="640"/>
                  <a:pt x="1239" y="638"/>
                  <a:pt x="1240" y="636"/>
                </a:cubicBezTo>
                <a:cubicBezTo>
                  <a:pt x="1241" y="635"/>
                  <a:pt x="1244" y="634"/>
                  <a:pt x="1246" y="633"/>
                </a:cubicBezTo>
                <a:cubicBezTo>
                  <a:pt x="1247" y="632"/>
                  <a:pt x="1248" y="632"/>
                  <a:pt x="1252" y="632"/>
                </a:cubicBezTo>
                <a:cubicBezTo>
                  <a:pt x="1256" y="632"/>
                  <a:pt x="1259" y="630"/>
                  <a:pt x="1261" y="629"/>
                </a:cubicBezTo>
                <a:cubicBezTo>
                  <a:pt x="1264" y="628"/>
                  <a:pt x="1268" y="629"/>
                  <a:pt x="1270" y="628"/>
                </a:cubicBezTo>
                <a:cubicBezTo>
                  <a:pt x="1272" y="628"/>
                  <a:pt x="1272" y="628"/>
                  <a:pt x="1273" y="629"/>
                </a:cubicBezTo>
                <a:cubicBezTo>
                  <a:pt x="1274" y="630"/>
                  <a:pt x="1274" y="631"/>
                  <a:pt x="1276" y="631"/>
                </a:cubicBezTo>
                <a:cubicBezTo>
                  <a:pt x="1277" y="630"/>
                  <a:pt x="1278" y="631"/>
                  <a:pt x="1279" y="631"/>
                </a:cubicBezTo>
                <a:cubicBezTo>
                  <a:pt x="1279" y="631"/>
                  <a:pt x="1280" y="631"/>
                  <a:pt x="1281" y="631"/>
                </a:cubicBezTo>
                <a:cubicBezTo>
                  <a:pt x="1282" y="631"/>
                  <a:pt x="1282" y="632"/>
                  <a:pt x="1283" y="632"/>
                </a:cubicBezTo>
                <a:cubicBezTo>
                  <a:pt x="1284" y="633"/>
                  <a:pt x="1284" y="634"/>
                  <a:pt x="1283" y="635"/>
                </a:cubicBezTo>
                <a:cubicBezTo>
                  <a:pt x="1282" y="636"/>
                  <a:pt x="1285" y="636"/>
                  <a:pt x="1287" y="639"/>
                </a:cubicBezTo>
                <a:cubicBezTo>
                  <a:pt x="1289" y="641"/>
                  <a:pt x="1287" y="641"/>
                  <a:pt x="1288" y="643"/>
                </a:cubicBezTo>
                <a:cubicBezTo>
                  <a:pt x="1289" y="645"/>
                  <a:pt x="1290" y="645"/>
                  <a:pt x="1292" y="642"/>
                </a:cubicBezTo>
                <a:cubicBezTo>
                  <a:pt x="1293" y="639"/>
                  <a:pt x="1296" y="641"/>
                  <a:pt x="1296" y="639"/>
                </a:cubicBezTo>
                <a:cubicBezTo>
                  <a:pt x="1296" y="637"/>
                  <a:pt x="1298" y="634"/>
                  <a:pt x="1299" y="635"/>
                </a:cubicBezTo>
                <a:cubicBezTo>
                  <a:pt x="1301" y="636"/>
                  <a:pt x="1298" y="637"/>
                  <a:pt x="1298" y="641"/>
                </a:cubicBezTo>
                <a:cubicBezTo>
                  <a:pt x="1297" y="646"/>
                  <a:pt x="1295" y="643"/>
                  <a:pt x="1295" y="644"/>
                </a:cubicBezTo>
                <a:cubicBezTo>
                  <a:pt x="1295" y="646"/>
                  <a:pt x="1299" y="646"/>
                  <a:pt x="1299" y="644"/>
                </a:cubicBezTo>
                <a:cubicBezTo>
                  <a:pt x="1299" y="642"/>
                  <a:pt x="1300" y="641"/>
                  <a:pt x="1301" y="643"/>
                </a:cubicBezTo>
                <a:cubicBezTo>
                  <a:pt x="1303" y="645"/>
                  <a:pt x="1300" y="647"/>
                  <a:pt x="1301" y="648"/>
                </a:cubicBezTo>
                <a:cubicBezTo>
                  <a:pt x="1301" y="648"/>
                  <a:pt x="1302" y="648"/>
                  <a:pt x="1302" y="648"/>
                </a:cubicBezTo>
                <a:cubicBezTo>
                  <a:pt x="1303" y="648"/>
                  <a:pt x="1303" y="647"/>
                  <a:pt x="1304" y="647"/>
                </a:cubicBezTo>
                <a:cubicBezTo>
                  <a:pt x="1305" y="648"/>
                  <a:pt x="1308" y="651"/>
                  <a:pt x="1307" y="653"/>
                </a:cubicBezTo>
                <a:cubicBezTo>
                  <a:pt x="1307" y="655"/>
                  <a:pt x="1306" y="657"/>
                  <a:pt x="1310" y="659"/>
                </a:cubicBezTo>
                <a:cubicBezTo>
                  <a:pt x="1313" y="660"/>
                  <a:pt x="1312" y="661"/>
                  <a:pt x="1314" y="661"/>
                </a:cubicBezTo>
                <a:cubicBezTo>
                  <a:pt x="1316" y="661"/>
                  <a:pt x="1321" y="662"/>
                  <a:pt x="1323" y="664"/>
                </a:cubicBezTo>
                <a:cubicBezTo>
                  <a:pt x="1324" y="665"/>
                  <a:pt x="1327" y="663"/>
                  <a:pt x="1328" y="660"/>
                </a:cubicBezTo>
                <a:cubicBezTo>
                  <a:pt x="1329" y="658"/>
                  <a:pt x="1331" y="660"/>
                  <a:pt x="1330" y="661"/>
                </a:cubicBezTo>
                <a:cubicBezTo>
                  <a:pt x="1328" y="662"/>
                  <a:pt x="1330" y="664"/>
                  <a:pt x="1330" y="662"/>
                </a:cubicBezTo>
                <a:cubicBezTo>
                  <a:pt x="1331" y="661"/>
                  <a:pt x="1331" y="660"/>
                  <a:pt x="1332" y="662"/>
                </a:cubicBezTo>
                <a:cubicBezTo>
                  <a:pt x="1332" y="663"/>
                  <a:pt x="1334" y="663"/>
                  <a:pt x="1334" y="664"/>
                </a:cubicBezTo>
                <a:cubicBezTo>
                  <a:pt x="1335" y="665"/>
                  <a:pt x="1336" y="666"/>
                  <a:pt x="1336" y="665"/>
                </a:cubicBezTo>
                <a:cubicBezTo>
                  <a:pt x="1336" y="664"/>
                  <a:pt x="1336" y="663"/>
                  <a:pt x="1338" y="663"/>
                </a:cubicBezTo>
                <a:cubicBezTo>
                  <a:pt x="1339" y="662"/>
                  <a:pt x="1340" y="661"/>
                  <a:pt x="1342" y="660"/>
                </a:cubicBezTo>
                <a:cubicBezTo>
                  <a:pt x="1343" y="659"/>
                  <a:pt x="1350" y="658"/>
                  <a:pt x="1351" y="658"/>
                </a:cubicBezTo>
                <a:cubicBezTo>
                  <a:pt x="1351" y="658"/>
                  <a:pt x="1352" y="653"/>
                  <a:pt x="1352" y="650"/>
                </a:cubicBezTo>
                <a:cubicBezTo>
                  <a:pt x="1352" y="647"/>
                  <a:pt x="1355" y="646"/>
                  <a:pt x="1355" y="643"/>
                </a:cubicBezTo>
                <a:cubicBezTo>
                  <a:pt x="1356" y="640"/>
                  <a:pt x="1359" y="634"/>
                  <a:pt x="1360" y="634"/>
                </a:cubicBezTo>
                <a:cubicBezTo>
                  <a:pt x="1361" y="634"/>
                  <a:pt x="1362" y="633"/>
                  <a:pt x="1362" y="631"/>
                </a:cubicBezTo>
                <a:cubicBezTo>
                  <a:pt x="1362" y="629"/>
                  <a:pt x="1365" y="627"/>
                  <a:pt x="1365" y="625"/>
                </a:cubicBezTo>
                <a:cubicBezTo>
                  <a:pt x="1365" y="623"/>
                  <a:pt x="1366" y="621"/>
                  <a:pt x="1366" y="620"/>
                </a:cubicBezTo>
                <a:cubicBezTo>
                  <a:pt x="1365" y="619"/>
                  <a:pt x="1365" y="617"/>
                  <a:pt x="1366" y="616"/>
                </a:cubicBezTo>
                <a:cubicBezTo>
                  <a:pt x="1367" y="614"/>
                  <a:pt x="1365" y="612"/>
                  <a:pt x="1366" y="612"/>
                </a:cubicBezTo>
                <a:moveTo>
                  <a:pt x="1266" y="539"/>
                </a:moveTo>
                <a:cubicBezTo>
                  <a:pt x="1267" y="540"/>
                  <a:pt x="1272" y="539"/>
                  <a:pt x="1272" y="538"/>
                </a:cubicBezTo>
                <a:cubicBezTo>
                  <a:pt x="1272" y="537"/>
                  <a:pt x="1265" y="538"/>
                  <a:pt x="1266" y="539"/>
                </a:cubicBezTo>
                <a:moveTo>
                  <a:pt x="1293" y="650"/>
                </a:moveTo>
                <a:cubicBezTo>
                  <a:pt x="1294" y="651"/>
                  <a:pt x="1298" y="650"/>
                  <a:pt x="1298" y="649"/>
                </a:cubicBezTo>
                <a:cubicBezTo>
                  <a:pt x="1299" y="648"/>
                  <a:pt x="1292" y="649"/>
                  <a:pt x="1293" y="650"/>
                </a:cubicBezTo>
                <a:moveTo>
                  <a:pt x="1336" y="676"/>
                </a:moveTo>
                <a:cubicBezTo>
                  <a:pt x="1334" y="676"/>
                  <a:pt x="1333" y="675"/>
                  <a:pt x="1331" y="675"/>
                </a:cubicBezTo>
                <a:cubicBezTo>
                  <a:pt x="1330" y="674"/>
                  <a:pt x="1329" y="674"/>
                  <a:pt x="1328" y="674"/>
                </a:cubicBezTo>
                <a:cubicBezTo>
                  <a:pt x="1327" y="674"/>
                  <a:pt x="1332" y="680"/>
                  <a:pt x="1330" y="682"/>
                </a:cubicBezTo>
                <a:cubicBezTo>
                  <a:pt x="1329" y="684"/>
                  <a:pt x="1334" y="688"/>
                  <a:pt x="1336" y="689"/>
                </a:cubicBezTo>
                <a:cubicBezTo>
                  <a:pt x="1337" y="689"/>
                  <a:pt x="1337" y="688"/>
                  <a:pt x="1337" y="688"/>
                </a:cubicBezTo>
                <a:cubicBezTo>
                  <a:pt x="1338" y="687"/>
                  <a:pt x="1338" y="687"/>
                  <a:pt x="1338" y="687"/>
                </a:cubicBezTo>
                <a:cubicBezTo>
                  <a:pt x="1340" y="687"/>
                  <a:pt x="1339" y="686"/>
                  <a:pt x="1339" y="685"/>
                </a:cubicBezTo>
                <a:cubicBezTo>
                  <a:pt x="1339" y="684"/>
                  <a:pt x="1340" y="685"/>
                  <a:pt x="1340" y="685"/>
                </a:cubicBezTo>
                <a:cubicBezTo>
                  <a:pt x="1341" y="685"/>
                  <a:pt x="1341" y="686"/>
                  <a:pt x="1342" y="685"/>
                </a:cubicBezTo>
                <a:cubicBezTo>
                  <a:pt x="1343" y="685"/>
                  <a:pt x="1341" y="681"/>
                  <a:pt x="1343" y="681"/>
                </a:cubicBezTo>
                <a:cubicBezTo>
                  <a:pt x="1344" y="681"/>
                  <a:pt x="1343" y="676"/>
                  <a:pt x="1343" y="674"/>
                </a:cubicBezTo>
                <a:cubicBezTo>
                  <a:pt x="1342" y="673"/>
                  <a:pt x="1338" y="675"/>
                  <a:pt x="1336" y="676"/>
                </a:cubicBezTo>
                <a:moveTo>
                  <a:pt x="1454" y="675"/>
                </a:moveTo>
                <a:cubicBezTo>
                  <a:pt x="1453" y="674"/>
                  <a:pt x="1452" y="675"/>
                  <a:pt x="1451" y="676"/>
                </a:cubicBezTo>
                <a:cubicBezTo>
                  <a:pt x="1450" y="676"/>
                  <a:pt x="1449" y="676"/>
                  <a:pt x="1449" y="675"/>
                </a:cubicBezTo>
                <a:cubicBezTo>
                  <a:pt x="1448" y="674"/>
                  <a:pt x="1447" y="673"/>
                  <a:pt x="1446" y="674"/>
                </a:cubicBezTo>
                <a:cubicBezTo>
                  <a:pt x="1445" y="676"/>
                  <a:pt x="1446" y="676"/>
                  <a:pt x="1444" y="678"/>
                </a:cubicBezTo>
                <a:cubicBezTo>
                  <a:pt x="1442" y="680"/>
                  <a:pt x="1443" y="680"/>
                  <a:pt x="1441" y="684"/>
                </a:cubicBezTo>
                <a:cubicBezTo>
                  <a:pt x="1438" y="688"/>
                  <a:pt x="1430" y="690"/>
                  <a:pt x="1429" y="692"/>
                </a:cubicBezTo>
                <a:cubicBezTo>
                  <a:pt x="1428" y="694"/>
                  <a:pt x="1424" y="695"/>
                  <a:pt x="1424" y="697"/>
                </a:cubicBezTo>
                <a:cubicBezTo>
                  <a:pt x="1424" y="698"/>
                  <a:pt x="1421" y="699"/>
                  <a:pt x="1423" y="701"/>
                </a:cubicBezTo>
                <a:cubicBezTo>
                  <a:pt x="1424" y="703"/>
                  <a:pt x="1425" y="702"/>
                  <a:pt x="1427" y="703"/>
                </a:cubicBezTo>
                <a:cubicBezTo>
                  <a:pt x="1428" y="704"/>
                  <a:pt x="1429" y="703"/>
                  <a:pt x="1430" y="704"/>
                </a:cubicBezTo>
                <a:cubicBezTo>
                  <a:pt x="1430" y="705"/>
                  <a:pt x="1434" y="705"/>
                  <a:pt x="1437" y="702"/>
                </a:cubicBezTo>
                <a:cubicBezTo>
                  <a:pt x="1440" y="700"/>
                  <a:pt x="1439" y="698"/>
                  <a:pt x="1440" y="697"/>
                </a:cubicBezTo>
                <a:cubicBezTo>
                  <a:pt x="1441" y="697"/>
                  <a:pt x="1442" y="694"/>
                  <a:pt x="1442" y="693"/>
                </a:cubicBezTo>
                <a:cubicBezTo>
                  <a:pt x="1443" y="692"/>
                  <a:pt x="1444" y="690"/>
                  <a:pt x="1447" y="690"/>
                </a:cubicBezTo>
                <a:cubicBezTo>
                  <a:pt x="1450" y="690"/>
                  <a:pt x="1449" y="689"/>
                  <a:pt x="1448" y="688"/>
                </a:cubicBezTo>
                <a:cubicBezTo>
                  <a:pt x="1448" y="686"/>
                  <a:pt x="1451" y="686"/>
                  <a:pt x="1451" y="684"/>
                </a:cubicBezTo>
                <a:cubicBezTo>
                  <a:pt x="1451" y="682"/>
                  <a:pt x="1455" y="680"/>
                  <a:pt x="1455" y="678"/>
                </a:cubicBezTo>
                <a:cubicBezTo>
                  <a:pt x="1454" y="677"/>
                  <a:pt x="1455" y="676"/>
                  <a:pt x="1454" y="675"/>
                </a:cubicBezTo>
                <a:moveTo>
                  <a:pt x="1427" y="707"/>
                </a:moveTo>
                <a:cubicBezTo>
                  <a:pt x="1427" y="708"/>
                  <a:pt x="1430" y="707"/>
                  <a:pt x="1428" y="705"/>
                </a:cubicBezTo>
                <a:cubicBezTo>
                  <a:pt x="1427" y="704"/>
                  <a:pt x="1425" y="707"/>
                  <a:pt x="1427" y="707"/>
                </a:cubicBezTo>
                <a:moveTo>
                  <a:pt x="1469" y="660"/>
                </a:moveTo>
                <a:cubicBezTo>
                  <a:pt x="1469" y="661"/>
                  <a:pt x="1467" y="659"/>
                  <a:pt x="1465" y="659"/>
                </a:cubicBezTo>
                <a:cubicBezTo>
                  <a:pt x="1464" y="659"/>
                  <a:pt x="1463" y="658"/>
                  <a:pt x="1463" y="657"/>
                </a:cubicBezTo>
                <a:cubicBezTo>
                  <a:pt x="1463" y="655"/>
                  <a:pt x="1462" y="653"/>
                  <a:pt x="1461" y="653"/>
                </a:cubicBezTo>
                <a:cubicBezTo>
                  <a:pt x="1459" y="654"/>
                  <a:pt x="1461" y="655"/>
                  <a:pt x="1461" y="656"/>
                </a:cubicBezTo>
                <a:cubicBezTo>
                  <a:pt x="1460" y="657"/>
                  <a:pt x="1460" y="655"/>
                  <a:pt x="1459" y="655"/>
                </a:cubicBezTo>
                <a:cubicBezTo>
                  <a:pt x="1458" y="655"/>
                  <a:pt x="1457" y="654"/>
                  <a:pt x="1457" y="652"/>
                </a:cubicBezTo>
                <a:cubicBezTo>
                  <a:pt x="1457" y="650"/>
                  <a:pt x="1456" y="650"/>
                  <a:pt x="1456" y="648"/>
                </a:cubicBezTo>
                <a:cubicBezTo>
                  <a:pt x="1456" y="646"/>
                  <a:pt x="1452" y="644"/>
                  <a:pt x="1451" y="644"/>
                </a:cubicBezTo>
                <a:cubicBezTo>
                  <a:pt x="1449" y="644"/>
                  <a:pt x="1451" y="648"/>
                  <a:pt x="1452" y="649"/>
                </a:cubicBezTo>
                <a:cubicBezTo>
                  <a:pt x="1453" y="650"/>
                  <a:pt x="1455" y="651"/>
                  <a:pt x="1455" y="652"/>
                </a:cubicBezTo>
                <a:cubicBezTo>
                  <a:pt x="1455" y="653"/>
                  <a:pt x="1456" y="655"/>
                  <a:pt x="1457" y="655"/>
                </a:cubicBezTo>
                <a:cubicBezTo>
                  <a:pt x="1458" y="656"/>
                  <a:pt x="1457" y="659"/>
                  <a:pt x="1457" y="662"/>
                </a:cubicBezTo>
                <a:cubicBezTo>
                  <a:pt x="1457" y="664"/>
                  <a:pt x="1455" y="664"/>
                  <a:pt x="1453" y="665"/>
                </a:cubicBezTo>
                <a:cubicBezTo>
                  <a:pt x="1452" y="667"/>
                  <a:pt x="1457" y="669"/>
                  <a:pt x="1459" y="670"/>
                </a:cubicBezTo>
                <a:cubicBezTo>
                  <a:pt x="1461" y="672"/>
                  <a:pt x="1457" y="676"/>
                  <a:pt x="1458" y="677"/>
                </a:cubicBezTo>
                <a:cubicBezTo>
                  <a:pt x="1458" y="678"/>
                  <a:pt x="1459" y="678"/>
                  <a:pt x="1461" y="678"/>
                </a:cubicBezTo>
                <a:cubicBezTo>
                  <a:pt x="1464" y="677"/>
                  <a:pt x="1465" y="673"/>
                  <a:pt x="1466" y="671"/>
                </a:cubicBezTo>
                <a:cubicBezTo>
                  <a:pt x="1468" y="670"/>
                  <a:pt x="1467" y="668"/>
                  <a:pt x="1467" y="667"/>
                </a:cubicBezTo>
                <a:cubicBezTo>
                  <a:pt x="1468" y="666"/>
                  <a:pt x="1469" y="666"/>
                  <a:pt x="1470" y="666"/>
                </a:cubicBezTo>
                <a:cubicBezTo>
                  <a:pt x="1471" y="666"/>
                  <a:pt x="1471" y="663"/>
                  <a:pt x="1472" y="663"/>
                </a:cubicBezTo>
                <a:cubicBezTo>
                  <a:pt x="1473" y="663"/>
                  <a:pt x="1473" y="662"/>
                  <a:pt x="1473" y="660"/>
                </a:cubicBezTo>
                <a:cubicBezTo>
                  <a:pt x="1474" y="658"/>
                  <a:pt x="1470" y="658"/>
                  <a:pt x="1469" y="660"/>
                </a:cubicBezTo>
                <a:moveTo>
                  <a:pt x="1469" y="567"/>
                </a:moveTo>
                <a:cubicBezTo>
                  <a:pt x="1471" y="569"/>
                  <a:pt x="1474" y="569"/>
                  <a:pt x="1474" y="566"/>
                </a:cubicBezTo>
                <a:cubicBezTo>
                  <a:pt x="1474" y="563"/>
                  <a:pt x="1468" y="566"/>
                  <a:pt x="1469" y="567"/>
                </a:cubicBezTo>
                <a:moveTo>
                  <a:pt x="1475" y="562"/>
                </a:moveTo>
                <a:cubicBezTo>
                  <a:pt x="1476" y="563"/>
                  <a:pt x="1479" y="562"/>
                  <a:pt x="1479" y="560"/>
                </a:cubicBezTo>
                <a:cubicBezTo>
                  <a:pt x="1479" y="558"/>
                  <a:pt x="1473" y="562"/>
                  <a:pt x="1475" y="562"/>
                </a:cubicBezTo>
                <a:moveTo>
                  <a:pt x="150" y="231"/>
                </a:moveTo>
                <a:cubicBezTo>
                  <a:pt x="147" y="233"/>
                  <a:pt x="155" y="242"/>
                  <a:pt x="157" y="240"/>
                </a:cubicBezTo>
                <a:cubicBezTo>
                  <a:pt x="158" y="240"/>
                  <a:pt x="155" y="236"/>
                  <a:pt x="155" y="234"/>
                </a:cubicBezTo>
                <a:cubicBezTo>
                  <a:pt x="155" y="232"/>
                  <a:pt x="154" y="229"/>
                  <a:pt x="150" y="231"/>
                </a:cubicBezTo>
                <a:moveTo>
                  <a:pt x="565" y="510"/>
                </a:moveTo>
                <a:cubicBezTo>
                  <a:pt x="563" y="510"/>
                  <a:pt x="559" y="509"/>
                  <a:pt x="554" y="504"/>
                </a:cubicBezTo>
                <a:cubicBezTo>
                  <a:pt x="550" y="499"/>
                  <a:pt x="545" y="500"/>
                  <a:pt x="542" y="500"/>
                </a:cubicBezTo>
                <a:cubicBezTo>
                  <a:pt x="539" y="501"/>
                  <a:pt x="536" y="499"/>
                  <a:pt x="534" y="498"/>
                </a:cubicBezTo>
                <a:cubicBezTo>
                  <a:pt x="532" y="498"/>
                  <a:pt x="530" y="501"/>
                  <a:pt x="528" y="501"/>
                </a:cubicBezTo>
                <a:cubicBezTo>
                  <a:pt x="527" y="502"/>
                  <a:pt x="529" y="499"/>
                  <a:pt x="529" y="497"/>
                </a:cubicBezTo>
                <a:cubicBezTo>
                  <a:pt x="529" y="495"/>
                  <a:pt x="523" y="493"/>
                  <a:pt x="519" y="491"/>
                </a:cubicBezTo>
                <a:cubicBezTo>
                  <a:pt x="515" y="489"/>
                  <a:pt x="513" y="490"/>
                  <a:pt x="513" y="493"/>
                </a:cubicBezTo>
                <a:cubicBezTo>
                  <a:pt x="513" y="494"/>
                  <a:pt x="512" y="494"/>
                  <a:pt x="512" y="494"/>
                </a:cubicBezTo>
                <a:cubicBezTo>
                  <a:pt x="511" y="494"/>
                  <a:pt x="510" y="494"/>
                  <a:pt x="510" y="495"/>
                </a:cubicBezTo>
                <a:cubicBezTo>
                  <a:pt x="508" y="498"/>
                  <a:pt x="506" y="496"/>
                  <a:pt x="508" y="495"/>
                </a:cubicBezTo>
                <a:cubicBezTo>
                  <a:pt x="509" y="494"/>
                  <a:pt x="511" y="492"/>
                  <a:pt x="511" y="490"/>
                </a:cubicBezTo>
                <a:cubicBezTo>
                  <a:pt x="512" y="488"/>
                  <a:pt x="505" y="487"/>
                  <a:pt x="503" y="488"/>
                </a:cubicBezTo>
                <a:cubicBezTo>
                  <a:pt x="500" y="489"/>
                  <a:pt x="502" y="492"/>
                  <a:pt x="500" y="491"/>
                </a:cubicBezTo>
                <a:cubicBezTo>
                  <a:pt x="498" y="490"/>
                  <a:pt x="500" y="488"/>
                  <a:pt x="501" y="488"/>
                </a:cubicBezTo>
                <a:cubicBezTo>
                  <a:pt x="503" y="488"/>
                  <a:pt x="504" y="485"/>
                  <a:pt x="505" y="483"/>
                </a:cubicBezTo>
                <a:cubicBezTo>
                  <a:pt x="506" y="480"/>
                  <a:pt x="503" y="480"/>
                  <a:pt x="502" y="478"/>
                </a:cubicBezTo>
                <a:cubicBezTo>
                  <a:pt x="500" y="476"/>
                  <a:pt x="500" y="471"/>
                  <a:pt x="499" y="470"/>
                </a:cubicBezTo>
                <a:cubicBezTo>
                  <a:pt x="497" y="469"/>
                  <a:pt x="494" y="465"/>
                  <a:pt x="491" y="464"/>
                </a:cubicBezTo>
                <a:cubicBezTo>
                  <a:pt x="489" y="464"/>
                  <a:pt x="486" y="462"/>
                  <a:pt x="484" y="462"/>
                </a:cubicBezTo>
                <a:cubicBezTo>
                  <a:pt x="481" y="462"/>
                  <a:pt x="479" y="463"/>
                  <a:pt x="478" y="462"/>
                </a:cubicBezTo>
                <a:cubicBezTo>
                  <a:pt x="477" y="461"/>
                  <a:pt x="476" y="461"/>
                  <a:pt x="475" y="462"/>
                </a:cubicBezTo>
                <a:cubicBezTo>
                  <a:pt x="474" y="463"/>
                  <a:pt x="472" y="459"/>
                  <a:pt x="471" y="459"/>
                </a:cubicBezTo>
                <a:cubicBezTo>
                  <a:pt x="470" y="459"/>
                  <a:pt x="468" y="458"/>
                  <a:pt x="468" y="456"/>
                </a:cubicBezTo>
                <a:cubicBezTo>
                  <a:pt x="469" y="454"/>
                  <a:pt x="466" y="454"/>
                  <a:pt x="464" y="452"/>
                </a:cubicBezTo>
                <a:cubicBezTo>
                  <a:pt x="463" y="451"/>
                  <a:pt x="458" y="451"/>
                  <a:pt x="457" y="451"/>
                </a:cubicBezTo>
                <a:cubicBezTo>
                  <a:pt x="455" y="451"/>
                  <a:pt x="458" y="449"/>
                  <a:pt x="458" y="447"/>
                </a:cubicBezTo>
                <a:cubicBezTo>
                  <a:pt x="458" y="446"/>
                  <a:pt x="453" y="445"/>
                  <a:pt x="451" y="445"/>
                </a:cubicBezTo>
                <a:cubicBezTo>
                  <a:pt x="450" y="445"/>
                  <a:pt x="450" y="443"/>
                  <a:pt x="452" y="443"/>
                </a:cubicBezTo>
                <a:cubicBezTo>
                  <a:pt x="454" y="443"/>
                  <a:pt x="451" y="441"/>
                  <a:pt x="448" y="442"/>
                </a:cubicBezTo>
                <a:cubicBezTo>
                  <a:pt x="446" y="442"/>
                  <a:pt x="442" y="443"/>
                  <a:pt x="440" y="445"/>
                </a:cubicBezTo>
                <a:cubicBezTo>
                  <a:pt x="439" y="445"/>
                  <a:pt x="438" y="444"/>
                  <a:pt x="436" y="443"/>
                </a:cubicBezTo>
                <a:cubicBezTo>
                  <a:pt x="435" y="443"/>
                  <a:pt x="433" y="442"/>
                  <a:pt x="432" y="442"/>
                </a:cubicBezTo>
                <a:cubicBezTo>
                  <a:pt x="430" y="443"/>
                  <a:pt x="426" y="443"/>
                  <a:pt x="427" y="441"/>
                </a:cubicBezTo>
                <a:cubicBezTo>
                  <a:pt x="427" y="439"/>
                  <a:pt x="426" y="438"/>
                  <a:pt x="423" y="438"/>
                </a:cubicBezTo>
                <a:cubicBezTo>
                  <a:pt x="421" y="438"/>
                  <a:pt x="421" y="436"/>
                  <a:pt x="420" y="436"/>
                </a:cubicBezTo>
                <a:cubicBezTo>
                  <a:pt x="418" y="436"/>
                  <a:pt x="420" y="438"/>
                  <a:pt x="418" y="438"/>
                </a:cubicBezTo>
                <a:cubicBezTo>
                  <a:pt x="417" y="439"/>
                  <a:pt x="413" y="440"/>
                  <a:pt x="413" y="442"/>
                </a:cubicBezTo>
                <a:cubicBezTo>
                  <a:pt x="412" y="443"/>
                  <a:pt x="415" y="446"/>
                  <a:pt x="414" y="448"/>
                </a:cubicBezTo>
                <a:cubicBezTo>
                  <a:pt x="413" y="450"/>
                  <a:pt x="410" y="448"/>
                  <a:pt x="410" y="446"/>
                </a:cubicBezTo>
                <a:cubicBezTo>
                  <a:pt x="409" y="445"/>
                  <a:pt x="412" y="442"/>
                  <a:pt x="411" y="441"/>
                </a:cubicBezTo>
                <a:cubicBezTo>
                  <a:pt x="411" y="440"/>
                  <a:pt x="410" y="437"/>
                  <a:pt x="412" y="437"/>
                </a:cubicBezTo>
                <a:cubicBezTo>
                  <a:pt x="414" y="437"/>
                  <a:pt x="415" y="435"/>
                  <a:pt x="413" y="434"/>
                </a:cubicBezTo>
                <a:cubicBezTo>
                  <a:pt x="411" y="433"/>
                  <a:pt x="410" y="436"/>
                  <a:pt x="408" y="437"/>
                </a:cubicBezTo>
                <a:cubicBezTo>
                  <a:pt x="406" y="437"/>
                  <a:pt x="406" y="438"/>
                  <a:pt x="405" y="439"/>
                </a:cubicBezTo>
                <a:cubicBezTo>
                  <a:pt x="403" y="439"/>
                  <a:pt x="401" y="439"/>
                  <a:pt x="401" y="440"/>
                </a:cubicBezTo>
                <a:cubicBezTo>
                  <a:pt x="401" y="441"/>
                  <a:pt x="400" y="440"/>
                  <a:pt x="399" y="440"/>
                </a:cubicBezTo>
                <a:cubicBezTo>
                  <a:pt x="398" y="439"/>
                  <a:pt x="395" y="442"/>
                  <a:pt x="395" y="443"/>
                </a:cubicBezTo>
                <a:cubicBezTo>
                  <a:pt x="395" y="445"/>
                  <a:pt x="395" y="446"/>
                  <a:pt x="393" y="447"/>
                </a:cubicBezTo>
                <a:cubicBezTo>
                  <a:pt x="391" y="449"/>
                  <a:pt x="390" y="451"/>
                  <a:pt x="389" y="452"/>
                </a:cubicBezTo>
                <a:cubicBezTo>
                  <a:pt x="388" y="454"/>
                  <a:pt x="387" y="452"/>
                  <a:pt x="385" y="449"/>
                </a:cubicBezTo>
                <a:cubicBezTo>
                  <a:pt x="384" y="447"/>
                  <a:pt x="381" y="447"/>
                  <a:pt x="379" y="446"/>
                </a:cubicBezTo>
                <a:cubicBezTo>
                  <a:pt x="378" y="446"/>
                  <a:pt x="376" y="447"/>
                  <a:pt x="373" y="449"/>
                </a:cubicBezTo>
                <a:cubicBezTo>
                  <a:pt x="371" y="451"/>
                  <a:pt x="369" y="450"/>
                  <a:pt x="367" y="449"/>
                </a:cubicBezTo>
                <a:cubicBezTo>
                  <a:pt x="365" y="447"/>
                  <a:pt x="360" y="442"/>
                  <a:pt x="360" y="440"/>
                </a:cubicBezTo>
                <a:cubicBezTo>
                  <a:pt x="359" y="439"/>
                  <a:pt x="360" y="437"/>
                  <a:pt x="361" y="435"/>
                </a:cubicBezTo>
                <a:cubicBezTo>
                  <a:pt x="361" y="433"/>
                  <a:pt x="360" y="429"/>
                  <a:pt x="361" y="428"/>
                </a:cubicBezTo>
                <a:cubicBezTo>
                  <a:pt x="362" y="427"/>
                  <a:pt x="362" y="426"/>
                  <a:pt x="362" y="423"/>
                </a:cubicBezTo>
                <a:cubicBezTo>
                  <a:pt x="363" y="421"/>
                  <a:pt x="360" y="422"/>
                  <a:pt x="358" y="420"/>
                </a:cubicBezTo>
                <a:cubicBezTo>
                  <a:pt x="355" y="417"/>
                  <a:pt x="351" y="418"/>
                  <a:pt x="348" y="419"/>
                </a:cubicBezTo>
                <a:cubicBezTo>
                  <a:pt x="347" y="420"/>
                  <a:pt x="346" y="420"/>
                  <a:pt x="345" y="419"/>
                </a:cubicBezTo>
                <a:cubicBezTo>
                  <a:pt x="344" y="419"/>
                  <a:pt x="342" y="419"/>
                  <a:pt x="341" y="420"/>
                </a:cubicBezTo>
                <a:cubicBezTo>
                  <a:pt x="338" y="421"/>
                  <a:pt x="338" y="418"/>
                  <a:pt x="340" y="417"/>
                </a:cubicBezTo>
                <a:cubicBezTo>
                  <a:pt x="342" y="415"/>
                  <a:pt x="339" y="410"/>
                  <a:pt x="341" y="410"/>
                </a:cubicBezTo>
                <a:cubicBezTo>
                  <a:pt x="343" y="409"/>
                  <a:pt x="344" y="406"/>
                  <a:pt x="344" y="403"/>
                </a:cubicBezTo>
                <a:cubicBezTo>
                  <a:pt x="344" y="401"/>
                  <a:pt x="344" y="400"/>
                  <a:pt x="345" y="399"/>
                </a:cubicBezTo>
                <a:cubicBezTo>
                  <a:pt x="346" y="397"/>
                  <a:pt x="348" y="397"/>
                  <a:pt x="347" y="395"/>
                </a:cubicBezTo>
                <a:cubicBezTo>
                  <a:pt x="347" y="394"/>
                  <a:pt x="346" y="394"/>
                  <a:pt x="345" y="394"/>
                </a:cubicBezTo>
                <a:cubicBezTo>
                  <a:pt x="345" y="394"/>
                  <a:pt x="344" y="394"/>
                  <a:pt x="344" y="394"/>
                </a:cubicBezTo>
                <a:cubicBezTo>
                  <a:pt x="342" y="393"/>
                  <a:pt x="341" y="394"/>
                  <a:pt x="337" y="394"/>
                </a:cubicBezTo>
                <a:cubicBezTo>
                  <a:pt x="333" y="395"/>
                  <a:pt x="331" y="397"/>
                  <a:pt x="331" y="399"/>
                </a:cubicBezTo>
                <a:cubicBezTo>
                  <a:pt x="332" y="402"/>
                  <a:pt x="330" y="401"/>
                  <a:pt x="330" y="403"/>
                </a:cubicBezTo>
                <a:cubicBezTo>
                  <a:pt x="330" y="405"/>
                  <a:pt x="327" y="406"/>
                  <a:pt x="327" y="407"/>
                </a:cubicBezTo>
                <a:cubicBezTo>
                  <a:pt x="327" y="408"/>
                  <a:pt x="325" y="407"/>
                  <a:pt x="324" y="407"/>
                </a:cubicBezTo>
                <a:cubicBezTo>
                  <a:pt x="323" y="406"/>
                  <a:pt x="315" y="408"/>
                  <a:pt x="314" y="409"/>
                </a:cubicBezTo>
                <a:cubicBezTo>
                  <a:pt x="314" y="409"/>
                  <a:pt x="313" y="408"/>
                  <a:pt x="312" y="408"/>
                </a:cubicBezTo>
                <a:cubicBezTo>
                  <a:pt x="311" y="407"/>
                  <a:pt x="310" y="406"/>
                  <a:pt x="309" y="406"/>
                </a:cubicBezTo>
                <a:cubicBezTo>
                  <a:pt x="308" y="407"/>
                  <a:pt x="307" y="404"/>
                  <a:pt x="307" y="402"/>
                </a:cubicBezTo>
                <a:cubicBezTo>
                  <a:pt x="307" y="400"/>
                  <a:pt x="304" y="398"/>
                  <a:pt x="302" y="397"/>
                </a:cubicBezTo>
                <a:cubicBezTo>
                  <a:pt x="301" y="395"/>
                  <a:pt x="301" y="391"/>
                  <a:pt x="301" y="388"/>
                </a:cubicBezTo>
                <a:cubicBezTo>
                  <a:pt x="301" y="386"/>
                  <a:pt x="300" y="381"/>
                  <a:pt x="302" y="376"/>
                </a:cubicBezTo>
                <a:cubicBezTo>
                  <a:pt x="304" y="371"/>
                  <a:pt x="299" y="371"/>
                  <a:pt x="301" y="369"/>
                </a:cubicBezTo>
                <a:cubicBezTo>
                  <a:pt x="304" y="367"/>
                  <a:pt x="301" y="366"/>
                  <a:pt x="302" y="365"/>
                </a:cubicBezTo>
                <a:cubicBezTo>
                  <a:pt x="303" y="364"/>
                  <a:pt x="305" y="364"/>
                  <a:pt x="305" y="362"/>
                </a:cubicBezTo>
                <a:cubicBezTo>
                  <a:pt x="305" y="361"/>
                  <a:pt x="306" y="361"/>
                  <a:pt x="308" y="362"/>
                </a:cubicBezTo>
                <a:cubicBezTo>
                  <a:pt x="310" y="362"/>
                  <a:pt x="312" y="359"/>
                  <a:pt x="312" y="358"/>
                </a:cubicBezTo>
                <a:cubicBezTo>
                  <a:pt x="312" y="357"/>
                  <a:pt x="312" y="357"/>
                  <a:pt x="314" y="357"/>
                </a:cubicBezTo>
                <a:cubicBezTo>
                  <a:pt x="315" y="357"/>
                  <a:pt x="315" y="357"/>
                  <a:pt x="316" y="356"/>
                </a:cubicBezTo>
                <a:cubicBezTo>
                  <a:pt x="316" y="356"/>
                  <a:pt x="316" y="355"/>
                  <a:pt x="317" y="355"/>
                </a:cubicBezTo>
                <a:cubicBezTo>
                  <a:pt x="318" y="356"/>
                  <a:pt x="319" y="357"/>
                  <a:pt x="319" y="356"/>
                </a:cubicBezTo>
                <a:cubicBezTo>
                  <a:pt x="319" y="355"/>
                  <a:pt x="320" y="355"/>
                  <a:pt x="321" y="356"/>
                </a:cubicBezTo>
                <a:cubicBezTo>
                  <a:pt x="322" y="357"/>
                  <a:pt x="324" y="358"/>
                  <a:pt x="325" y="356"/>
                </a:cubicBezTo>
                <a:cubicBezTo>
                  <a:pt x="325" y="355"/>
                  <a:pt x="326" y="356"/>
                  <a:pt x="327" y="358"/>
                </a:cubicBezTo>
                <a:cubicBezTo>
                  <a:pt x="328" y="359"/>
                  <a:pt x="329" y="359"/>
                  <a:pt x="330" y="359"/>
                </a:cubicBezTo>
                <a:cubicBezTo>
                  <a:pt x="330" y="359"/>
                  <a:pt x="331" y="359"/>
                  <a:pt x="331" y="359"/>
                </a:cubicBezTo>
                <a:cubicBezTo>
                  <a:pt x="333" y="359"/>
                  <a:pt x="333" y="358"/>
                  <a:pt x="333" y="357"/>
                </a:cubicBezTo>
                <a:cubicBezTo>
                  <a:pt x="333" y="356"/>
                  <a:pt x="335" y="360"/>
                  <a:pt x="337" y="360"/>
                </a:cubicBezTo>
                <a:cubicBezTo>
                  <a:pt x="338" y="360"/>
                  <a:pt x="337" y="359"/>
                  <a:pt x="336" y="358"/>
                </a:cubicBezTo>
                <a:cubicBezTo>
                  <a:pt x="334" y="357"/>
                  <a:pt x="336" y="356"/>
                  <a:pt x="335" y="355"/>
                </a:cubicBezTo>
                <a:cubicBezTo>
                  <a:pt x="334" y="354"/>
                  <a:pt x="336" y="353"/>
                  <a:pt x="339" y="353"/>
                </a:cubicBezTo>
                <a:cubicBezTo>
                  <a:pt x="341" y="353"/>
                  <a:pt x="341" y="354"/>
                  <a:pt x="342" y="353"/>
                </a:cubicBezTo>
                <a:cubicBezTo>
                  <a:pt x="342" y="351"/>
                  <a:pt x="343" y="353"/>
                  <a:pt x="343" y="354"/>
                </a:cubicBezTo>
                <a:cubicBezTo>
                  <a:pt x="343" y="355"/>
                  <a:pt x="347" y="353"/>
                  <a:pt x="349" y="353"/>
                </a:cubicBezTo>
                <a:cubicBezTo>
                  <a:pt x="351" y="353"/>
                  <a:pt x="353" y="355"/>
                  <a:pt x="353" y="356"/>
                </a:cubicBezTo>
                <a:cubicBezTo>
                  <a:pt x="353" y="357"/>
                  <a:pt x="354" y="358"/>
                  <a:pt x="356" y="356"/>
                </a:cubicBezTo>
                <a:cubicBezTo>
                  <a:pt x="357" y="355"/>
                  <a:pt x="358" y="354"/>
                  <a:pt x="360" y="355"/>
                </a:cubicBezTo>
                <a:cubicBezTo>
                  <a:pt x="361" y="356"/>
                  <a:pt x="362" y="358"/>
                  <a:pt x="364" y="360"/>
                </a:cubicBezTo>
                <a:cubicBezTo>
                  <a:pt x="366" y="361"/>
                  <a:pt x="363" y="363"/>
                  <a:pt x="364" y="365"/>
                </a:cubicBezTo>
                <a:cubicBezTo>
                  <a:pt x="365" y="366"/>
                  <a:pt x="364" y="368"/>
                  <a:pt x="366" y="369"/>
                </a:cubicBezTo>
                <a:cubicBezTo>
                  <a:pt x="368" y="370"/>
                  <a:pt x="366" y="373"/>
                  <a:pt x="368" y="373"/>
                </a:cubicBezTo>
                <a:cubicBezTo>
                  <a:pt x="369" y="374"/>
                  <a:pt x="370" y="376"/>
                  <a:pt x="370" y="377"/>
                </a:cubicBezTo>
                <a:cubicBezTo>
                  <a:pt x="371" y="378"/>
                  <a:pt x="373" y="379"/>
                  <a:pt x="374" y="378"/>
                </a:cubicBezTo>
                <a:cubicBezTo>
                  <a:pt x="374" y="376"/>
                  <a:pt x="375" y="374"/>
                  <a:pt x="376" y="373"/>
                </a:cubicBezTo>
                <a:cubicBezTo>
                  <a:pt x="376" y="371"/>
                  <a:pt x="374" y="366"/>
                  <a:pt x="373" y="364"/>
                </a:cubicBezTo>
                <a:cubicBezTo>
                  <a:pt x="372" y="362"/>
                  <a:pt x="373" y="362"/>
                  <a:pt x="372" y="360"/>
                </a:cubicBezTo>
                <a:cubicBezTo>
                  <a:pt x="370" y="358"/>
                  <a:pt x="369" y="354"/>
                  <a:pt x="370" y="352"/>
                </a:cubicBezTo>
                <a:cubicBezTo>
                  <a:pt x="370" y="349"/>
                  <a:pt x="373" y="344"/>
                  <a:pt x="375" y="343"/>
                </a:cubicBezTo>
                <a:cubicBezTo>
                  <a:pt x="376" y="341"/>
                  <a:pt x="378" y="342"/>
                  <a:pt x="378" y="341"/>
                </a:cubicBezTo>
                <a:cubicBezTo>
                  <a:pt x="379" y="339"/>
                  <a:pt x="381" y="337"/>
                  <a:pt x="382" y="337"/>
                </a:cubicBezTo>
                <a:cubicBezTo>
                  <a:pt x="383" y="337"/>
                  <a:pt x="384" y="337"/>
                  <a:pt x="384" y="336"/>
                </a:cubicBezTo>
                <a:cubicBezTo>
                  <a:pt x="385" y="335"/>
                  <a:pt x="386" y="334"/>
                  <a:pt x="389" y="333"/>
                </a:cubicBezTo>
                <a:cubicBezTo>
                  <a:pt x="391" y="333"/>
                  <a:pt x="390" y="331"/>
                  <a:pt x="389" y="330"/>
                </a:cubicBezTo>
                <a:cubicBezTo>
                  <a:pt x="389" y="329"/>
                  <a:pt x="390" y="328"/>
                  <a:pt x="390" y="329"/>
                </a:cubicBezTo>
                <a:cubicBezTo>
                  <a:pt x="391" y="330"/>
                  <a:pt x="392" y="330"/>
                  <a:pt x="393" y="329"/>
                </a:cubicBezTo>
                <a:cubicBezTo>
                  <a:pt x="394" y="328"/>
                  <a:pt x="396" y="327"/>
                  <a:pt x="394" y="326"/>
                </a:cubicBezTo>
                <a:cubicBezTo>
                  <a:pt x="392" y="326"/>
                  <a:pt x="392" y="326"/>
                  <a:pt x="393" y="325"/>
                </a:cubicBezTo>
                <a:cubicBezTo>
                  <a:pt x="394" y="325"/>
                  <a:pt x="393" y="322"/>
                  <a:pt x="391" y="322"/>
                </a:cubicBezTo>
                <a:cubicBezTo>
                  <a:pt x="390" y="322"/>
                  <a:pt x="390" y="321"/>
                  <a:pt x="391" y="320"/>
                </a:cubicBezTo>
                <a:cubicBezTo>
                  <a:pt x="392" y="319"/>
                  <a:pt x="390" y="317"/>
                  <a:pt x="389" y="316"/>
                </a:cubicBezTo>
                <a:cubicBezTo>
                  <a:pt x="387" y="316"/>
                  <a:pt x="389" y="315"/>
                  <a:pt x="390" y="315"/>
                </a:cubicBezTo>
                <a:cubicBezTo>
                  <a:pt x="391" y="315"/>
                  <a:pt x="390" y="310"/>
                  <a:pt x="391" y="309"/>
                </a:cubicBezTo>
                <a:cubicBezTo>
                  <a:pt x="391" y="308"/>
                  <a:pt x="393" y="308"/>
                  <a:pt x="392" y="309"/>
                </a:cubicBezTo>
                <a:cubicBezTo>
                  <a:pt x="392" y="310"/>
                  <a:pt x="391" y="312"/>
                  <a:pt x="392" y="314"/>
                </a:cubicBezTo>
                <a:cubicBezTo>
                  <a:pt x="393" y="315"/>
                  <a:pt x="394" y="316"/>
                  <a:pt x="393" y="319"/>
                </a:cubicBezTo>
                <a:cubicBezTo>
                  <a:pt x="393" y="321"/>
                  <a:pt x="394" y="320"/>
                  <a:pt x="395" y="317"/>
                </a:cubicBezTo>
                <a:cubicBezTo>
                  <a:pt x="396" y="315"/>
                  <a:pt x="397" y="312"/>
                  <a:pt x="396" y="312"/>
                </a:cubicBezTo>
                <a:cubicBezTo>
                  <a:pt x="395" y="312"/>
                  <a:pt x="395" y="309"/>
                  <a:pt x="396" y="310"/>
                </a:cubicBezTo>
                <a:cubicBezTo>
                  <a:pt x="397" y="311"/>
                  <a:pt x="397" y="312"/>
                  <a:pt x="399" y="310"/>
                </a:cubicBezTo>
                <a:cubicBezTo>
                  <a:pt x="400" y="308"/>
                  <a:pt x="402" y="305"/>
                  <a:pt x="401" y="305"/>
                </a:cubicBezTo>
                <a:cubicBezTo>
                  <a:pt x="400" y="304"/>
                  <a:pt x="402" y="303"/>
                  <a:pt x="403" y="303"/>
                </a:cubicBezTo>
                <a:cubicBezTo>
                  <a:pt x="405" y="303"/>
                  <a:pt x="409" y="302"/>
                  <a:pt x="410" y="302"/>
                </a:cubicBezTo>
                <a:cubicBezTo>
                  <a:pt x="410" y="301"/>
                  <a:pt x="408" y="301"/>
                  <a:pt x="406" y="301"/>
                </a:cubicBezTo>
                <a:cubicBezTo>
                  <a:pt x="405" y="302"/>
                  <a:pt x="403" y="302"/>
                  <a:pt x="403" y="302"/>
                </a:cubicBezTo>
                <a:cubicBezTo>
                  <a:pt x="403" y="300"/>
                  <a:pt x="408" y="299"/>
                  <a:pt x="410" y="299"/>
                </a:cubicBezTo>
                <a:cubicBezTo>
                  <a:pt x="412" y="299"/>
                  <a:pt x="411" y="296"/>
                  <a:pt x="412" y="298"/>
                </a:cubicBezTo>
                <a:cubicBezTo>
                  <a:pt x="413" y="299"/>
                  <a:pt x="415" y="299"/>
                  <a:pt x="416" y="298"/>
                </a:cubicBezTo>
                <a:cubicBezTo>
                  <a:pt x="417" y="297"/>
                  <a:pt x="416" y="295"/>
                  <a:pt x="415" y="295"/>
                </a:cubicBezTo>
                <a:cubicBezTo>
                  <a:pt x="413" y="294"/>
                  <a:pt x="416" y="293"/>
                  <a:pt x="415" y="292"/>
                </a:cubicBezTo>
                <a:cubicBezTo>
                  <a:pt x="415" y="292"/>
                  <a:pt x="416" y="288"/>
                  <a:pt x="418" y="288"/>
                </a:cubicBezTo>
                <a:cubicBezTo>
                  <a:pt x="420" y="287"/>
                  <a:pt x="419" y="286"/>
                  <a:pt x="420" y="286"/>
                </a:cubicBezTo>
                <a:cubicBezTo>
                  <a:pt x="422" y="286"/>
                  <a:pt x="422" y="284"/>
                  <a:pt x="423" y="283"/>
                </a:cubicBezTo>
                <a:cubicBezTo>
                  <a:pt x="424" y="283"/>
                  <a:pt x="425" y="283"/>
                  <a:pt x="426" y="283"/>
                </a:cubicBezTo>
                <a:cubicBezTo>
                  <a:pt x="427" y="284"/>
                  <a:pt x="428" y="284"/>
                  <a:pt x="429" y="283"/>
                </a:cubicBezTo>
                <a:cubicBezTo>
                  <a:pt x="431" y="281"/>
                  <a:pt x="435" y="279"/>
                  <a:pt x="436" y="279"/>
                </a:cubicBezTo>
                <a:cubicBezTo>
                  <a:pt x="438" y="279"/>
                  <a:pt x="441" y="277"/>
                  <a:pt x="441" y="276"/>
                </a:cubicBezTo>
                <a:cubicBezTo>
                  <a:pt x="442" y="274"/>
                  <a:pt x="443" y="277"/>
                  <a:pt x="442" y="277"/>
                </a:cubicBezTo>
                <a:cubicBezTo>
                  <a:pt x="440" y="278"/>
                  <a:pt x="443" y="279"/>
                  <a:pt x="445" y="279"/>
                </a:cubicBezTo>
                <a:cubicBezTo>
                  <a:pt x="447" y="279"/>
                  <a:pt x="446" y="279"/>
                  <a:pt x="446" y="279"/>
                </a:cubicBezTo>
                <a:cubicBezTo>
                  <a:pt x="445" y="279"/>
                  <a:pt x="443" y="280"/>
                  <a:pt x="442" y="280"/>
                </a:cubicBezTo>
                <a:cubicBezTo>
                  <a:pt x="440" y="280"/>
                  <a:pt x="439" y="280"/>
                  <a:pt x="437" y="282"/>
                </a:cubicBezTo>
                <a:cubicBezTo>
                  <a:pt x="434" y="285"/>
                  <a:pt x="435" y="286"/>
                  <a:pt x="436" y="287"/>
                </a:cubicBezTo>
                <a:cubicBezTo>
                  <a:pt x="438" y="289"/>
                  <a:pt x="440" y="288"/>
                  <a:pt x="442" y="286"/>
                </a:cubicBezTo>
                <a:cubicBezTo>
                  <a:pt x="444" y="284"/>
                  <a:pt x="444" y="283"/>
                  <a:pt x="446" y="283"/>
                </a:cubicBezTo>
                <a:cubicBezTo>
                  <a:pt x="448" y="283"/>
                  <a:pt x="453" y="281"/>
                  <a:pt x="456" y="280"/>
                </a:cubicBezTo>
                <a:cubicBezTo>
                  <a:pt x="458" y="279"/>
                  <a:pt x="457" y="279"/>
                  <a:pt x="457" y="278"/>
                </a:cubicBezTo>
                <a:cubicBezTo>
                  <a:pt x="457" y="277"/>
                  <a:pt x="461" y="277"/>
                  <a:pt x="462" y="276"/>
                </a:cubicBezTo>
                <a:cubicBezTo>
                  <a:pt x="464" y="275"/>
                  <a:pt x="462" y="274"/>
                  <a:pt x="461" y="274"/>
                </a:cubicBezTo>
                <a:cubicBezTo>
                  <a:pt x="459" y="274"/>
                  <a:pt x="460" y="272"/>
                  <a:pt x="461" y="271"/>
                </a:cubicBezTo>
                <a:cubicBezTo>
                  <a:pt x="461" y="270"/>
                  <a:pt x="458" y="272"/>
                  <a:pt x="458" y="273"/>
                </a:cubicBezTo>
                <a:cubicBezTo>
                  <a:pt x="458" y="274"/>
                  <a:pt x="455" y="275"/>
                  <a:pt x="455" y="275"/>
                </a:cubicBezTo>
                <a:cubicBezTo>
                  <a:pt x="455" y="278"/>
                  <a:pt x="455" y="276"/>
                  <a:pt x="454" y="277"/>
                </a:cubicBezTo>
                <a:cubicBezTo>
                  <a:pt x="452" y="278"/>
                  <a:pt x="446" y="277"/>
                  <a:pt x="446" y="276"/>
                </a:cubicBezTo>
                <a:cubicBezTo>
                  <a:pt x="446" y="274"/>
                  <a:pt x="442" y="274"/>
                  <a:pt x="442" y="272"/>
                </a:cubicBezTo>
                <a:cubicBezTo>
                  <a:pt x="441" y="270"/>
                  <a:pt x="439" y="270"/>
                  <a:pt x="441" y="268"/>
                </a:cubicBezTo>
                <a:cubicBezTo>
                  <a:pt x="443" y="266"/>
                  <a:pt x="441" y="265"/>
                  <a:pt x="439" y="266"/>
                </a:cubicBezTo>
                <a:cubicBezTo>
                  <a:pt x="437" y="268"/>
                  <a:pt x="437" y="265"/>
                  <a:pt x="439" y="265"/>
                </a:cubicBezTo>
                <a:cubicBezTo>
                  <a:pt x="441" y="264"/>
                  <a:pt x="445" y="263"/>
                  <a:pt x="443" y="259"/>
                </a:cubicBezTo>
                <a:cubicBezTo>
                  <a:pt x="441" y="255"/>
                  <a:pt x="428" y="260"/>
                  <a:pt x="424" y="262"/>
                </a:cubicBezTo>
                <a:cubicBezTo>
                  <a:pt x="421" y="264"/>
                  <a:pt x="417" y="270"/>
                  <a:pt x="415" y="270"/>
                </a:cubicBezTo>
                <a:cubicBezTo>
                  <a:pt x="413" y="270"/>
                  <a:pt x="418" y="267"/>
                  <a:pt x="419" y="266"/>
                </a:cubicBezTo>
                <a:cubicBezTo>
                  <a:pt x="420" y="264"/>
                  <a:pt x="419" y="263"/>
                  <a:pt x="420" y="264"/>
                </a:cubicBezTo>
                <a:cubicBezTo>
                  <a:pt x="421" y="264"/>
                  <a:pt x="424" y="260"/>
                  <a:pt x="426" y="258"/>
                </a:cubicBezTo>
                <a:cubicBezTo>
                  <a:pt x="427" y="257"/>
                  <a:pt x="428" y="257"/>
                  <a:pt x="429" y="257"/>
                </a:cubicBezTo>
                <a:cubicBezTo>
                  <a:pt x="430" y="257"/>
                  <a:pt x="430" y="257"/>
                  <a:pt x="430" y="257"/>
                </a:cubicBezTo>
                <a:cubicBezTo>
                  <a:pt x="431" y="256"/>
                  <a:pt x="432" y="255"/>
                  <a:pt x="433" y="253"/>
                </a:cubicBezTo>
                <a:cubicBezTo>
                  <a:pt x="435" y="251"/>
                  <a:pt x="458" y="252"/>
                  <a:pt x="460" y="252"/>
                </a:cubicBezTo>
                <a:cubicBezTo>
                  <a:pt x="462" y="252"/>
                  <a:pt x="466" y="249"/>
                  <a:pt x="468" y="247"/>
                </a:cubicBezTo>
                <a:cubicBezTo>
                  <a:pt x="469" y="245"/>
                  <a:pt x="470" y="245"/>
                  <a:pt x="473" y="245"/>
                </a:cubicBezTo>
                <a:cubicBezTo>
                  <a:pt x="476" y="245"/>
                  <a:pt x="478" y="243"/>
                  <a:pt x="479" y="242"/>
                </a:cubicBezTo>
                <a:cubicBezTo>
                  <a:pt x="481" y="241"/>
                  <a:pt x="480" y="240"/>
                  <a:pt x="479" y="240"/>
                </a:cubicBezTo>
                <a:cubicBezTo>
                  <a:pt x="478" y="240"/>
                  <a:pt x="476" y="239"/>
                  <a:pt x="478" y="239"/>
                </a:cubicBezTo>
                <a:cubicBezTo>
                  <a:pt x="479" y="239"/>
                  <a:pt x="480" y="238"/>
                  <a:pt x="480" y="236"/>
                </a:cubicBezTo>
                <a:cubicBezTo>
                  <a:pt x="481" y="234"/>
                  <a:pt x="480" y="235"/>
                  <a:pt x="478" y="233"/>
                </a:cubicBezTo>
                <a:cubicBezTo>
                  <a:pt x="477" y="231"/>
                  <a:pt x="476" y="232"/>
                  <a:pt x="475" y="233"/>
                </a:cubicBezTo>
                <a:cubicBezTo>
                  <a:pt x="475" y="233"/>
                  <a:pt x="474" y="234"/>
                  <a:pt x="474" y="233"/>
                </a:cubicBezTo>
                <a:cubicBezTo>
                  <a:pt x="472" y="233"/>
                  <a:pt x="475" y="231"/>
                  <a:pt x="473" y="230"/>
                </a:cubicBezTo>
                <a:cubicBezTo>
                  <a:pt x="472" y="229"/>
                  <a:pt x="469" y="230"/>
                  <a:pt x="467" y="232"/>
                </a:cubicBezTo>
                <a:cubicBezTo>
                  <a:pt x="466" y="233"/>
                  <a:pt x="465" y="233"/>
                  <a:pt x="465" y="233"/>
                </a:cubicBezTo>
                <a:cubicBezTo>
                  <a:pt x="464" y="233"/>
                  <a:pt x="464" y="232"/>
                  <a:pt x="463" y="233"/>
                </a:cubicBezTo>
                <a:cubicBezTo>
                  <a:pt x="461" y="235"/>
                  <a:pt x="461" y="232"/>
                  <a:pt x="462" y="232"/>
                </a:cubicBezTo>
                <a:cubicBezTo>
                  <a:pt x="463" y="231"/>
                  <a:pt x="463" y="232"/>
                  <a:pt x="464" y="231"/>
                </a:cubicBezTo>
                <a:cubicBezTo>
                  <a:pt x="465" y="230"/>
                  <a:pt x="466" y="231"/>
                  <a:pt x="468" y="229"/>
                </a:cubicBezTo>
                <a:cubicBezTo>
                  <a:pt x="470" y="228"/>
                  <a:pt x="472" y="229"/>
                  <a:pt x="473" y="228"/>
                </a:cubicBezTo>
                <a:cubicBezTo>
                  <a:pt x="473" y="226"/>
                  <a:pt x="472" y="225"/>
                  <a:pt x="470" y="226"/>
                </a:cubicBezTo>
                <a:cubicBezTo>
                  <a:pt x="469" y="226"/>
                  <a:pt x="468" y="225"/>
                  <a:pt x="467" y="225"/>
                </a:cubicBezTo>
                <a:cubicBezTo>
                  <a:pt x="466" y="224"/>
                  <a:pt x="465" y="223"/>
                  <a:pt x="465" y="224"/>
                </a:cubicBezTo>
                <a:cubicBezTo>
                  <a:pt x="464" y="224"/>
                  <a:pt x="464" y="224"/>
                  <a:pt x="463" y="223"/>
                </a:cubicBezTo>
                <a:cubicBezTo>
                  <a:pt x="463" y="223"/>
                  <a:pt x="463" y="223"/>
                  <a:pt x="462" y="223"/>
                </a:cubicBezTo>
                <a:cubicBezTo>
                  <a:pt x="461" y="224"/>
                  <a:pt x="460" y="223"/>
                  <a:pt x="459" y="221"/>
                </a:cubicBezTo>
                <a:cubicBezTo>
                  <a:pt x="458" y="219"/>
                  <a:pt x="454" y="216"/>
                  <a:pt x="452" y="216"/>
                </a:cubicBezTo>
                <a:cubicBezTo>
                  <a:pt x="450" y="215"/>
                  <a:pt x="451" y="214"/>
                  <a:pt x="452" y="215"/>
                </a:cubicBezTo>
                <a:cubicBezTo>
                  <a:pt x="454" y="215"/>
                  <a:pt x="455" y="214"/>
                  <a:pt x="456" y="213"/>
                </a:cubicBezTo>
                <a:cubicBezTo>
                  <a:pt x="456" y="212"/>
                  <a:pt x="455" y="211"/>
                  <a:pt x="454" y="211"/>
                </a:cubicBezTo>
                <a:cubicBezTo>
                  <a:pt x="453" y="211"/>
                  <a:pt x="453" y="209"/>
                  <a:pt x="454" y="208"/>
                </a:cubicBezTo>
                <a:cubicBezTo>
                  <a:pt x="454" y="208"/>
                  <a:pt x="451" y="206"/>
                  <a:pt x="451" y="205"/>
                </a:cubicBezTo>
                <a:cubicBezTo>
                  <a:pt x="451" y="204"/>
                  <a:pt x="449" y="204"/>
                  <a:pt x="449" y="203"/>
                </a:cubicBezTo>
                <a:cubicBezTo>
                  <a:pt x="449" y="202"/>
                  <a:pt x="448" y="201"/>
                  <a:pt x="448" y="200"/>
                </a:cubicBezTo>
                <a:cubicBezTo>
                  <a:pt x="448" y="199"/>
                  <a:pt x="445" y="196"/>
                  <a:pt x="445" y="195"/>
                </a:cubicBezTo>
                <a:cubicBezTo>
                  <a:pt x="445" y="194"/>
                  <a:pt x="443" y="193"/>
                  <a:pt x="443" y="191"/>
                </a:cubicBezTo>
                <a:cubicBezTo>
                  <a:pt x="442" y="190"/>
                  <a:pt x="441" y="190"/>
                  <a:pt x="441" y="193"/>
                </a:cubicBezTo>
                <a:cubicBezTo>
                  <a:pt x="440" y="195"/>
                  <a:pt x="438" y="195"/>
                  <a:pt x="439" y="195"/>
                </a:cubicBezTo>
                <a:cubicBezTo>
                  <a:pt x="440" y="197"/>
                  <a:pt x="439" y="197"/>
                  <a:pt x="438" y="198"/>
                </a:cubicBezTo>
                <a:cubicBezTo>
                  <a:pt x="437" y="199"/>
                  <a:pt x="439" y="200"/>
                  <a:pt x="437" y="200"/>
                </a:cubicBezTo>
                <a:cubicBezTo>
                  <a:pt x="436" y="200"/>
                  <a:pt x="437" y="203"/>
                  <a:pt x="436" y="202"/>
                </a:cubicBezTo>
                <a:cubicBezTo>
                  <a:pt x="435" y="201"/>
                  <a:pt x="433" y="201"/>
                  <a:pt x="433" y="202"/>
                </a:cubicBezTo>
                <a:cubicBezTo>
                  <a:pt x="433" y="204"/>
                  <a:pt x="430" y="205"/>
                  <a:pt x="429" y="205"/>
                </a:cubicBezTo>
                <a:cubicBezTo>
                  <a:pt x="428" y="205"/>
                  <a:pt x="428" y="202"/>
                  <a:pt x="427" y="203"/>
                </a:cubicBezTo>
                <a:cubicBezTo>
                  <a:pt x="426" y="203"/>
                  <a:pt x="426" y="203"/>
                  <a:pt x="426" y="202"/>
                </a:cubicBezTo>
                <a:cubicBezTo>
                  <a:pt x="425" y="201"/>
                  <a:pt x="425" y="201"/>
                  <a:pt x="424" y="201"/>
                </a:cubicBezTo>
                <a:cubicBezTo>
                  <a:pt x="423" y="201"/>
                  <a:pt x="422" y="201"/>
                  <a:pt x="422" y="199"/>
                </a:cubicBezTo>
                <a:cubicBezTo>
                  <a:pt x="423" y="198"/>
                  <a:pt x="419" y="197"/>
                  <a:pt x="420" y="196"/>
                </a:cubicBezTo>
                <a:cubicBezTo>
                  <a:pt x="421" y="196"/>
                  <a:pt x="420" y="194"/>
                  <a:pt x="420" y="192"/>
                </a:cubicBezTo>
                <a:cubicBezTo>
                  <a:pt x="420" y="189"/>
                  <a:pt x="421" y="189"/>
                  <a:pt x="421" y="188"/>
                </a:cubicBezTo>
                <a:cubicBezTo>
                  <a:pt x="421" y="187"/>
                  <a:pt x="420" y="187"/>
                  <a:pt x="419" y="188"/>
                </a:cubicBezTo>
                <a:cubicBezTo>
                  <a:pt x="418" y="188"/>
                  <a:pt x="418" y="188"/>
                  <a:pt x="418" y="187"/>
                </a:cubicBezTo>
                <a:cubicBezTo>
                  <a:pt x="417" y="187"/>
                  <a:pt x="417" y="187"/>
                  <a:pt x="417" y="187"/>
                </a:cubicBezTo>
                <a:cubicBezTo>
                  <a:pt x="415" y="187"/>
                  <a:pt x="412" y="187"/>
                  <a:pt x="412" y="185"/>
                </a:cubicBezTo>
                <a:cubicBezTo>
                  <a:pt x="411" y="183"/>
                  <a:pt x="410" y="184"/>
                  <a:pt x="410" y="183"/>
                </a:cubicBezTo>
                <a:cubicBezTo>
                  <a:pt x="409" y="181"/>
                  <a:pt x="408" y="182"/>
                  <a:pt x="408" y="181"/>
                </a:cubicBezTo>
                <a:cubicBezTo>
                  <a:pt x="408" y="180"/>
                  <a:pt x="407" y="180"/>
                  <a:pt x="406" y="179"/>
                </a:cubicBezTo>
                <a:cubicBezTo>
                  <a:pt x="405" y="179"/>
                  <a:pt x="404" y="178"/>
                  <a:pt x="403" y="178"/>
                </a:cubicBezTo>
                <a:cubicBezTo>
                  <a:pt x="401" y="178"/>
                  <a:pt x="399" y="179"/>
                  <a:pt x="399" y="179"/>
                </a:cubicBezTo>
                <a:cubicBezTo>
                  <a:pt x="398" y="180"/>
                  <a:pt x="397" y="179"/>
                  <a:pt x="397" y="179"/>
                </a:cubicBezTo>
                <a:cubicBezTo>
                  <a:pt x="396" y="179"/>
                  <a:pt x="395" y="178"/>
                  <a:pt x="395" y="179"/>
                </a:cubicBezTo>
                <a:cubicBezTo>
                  <a:pt x="394" y="179"/>
                  <a:pt x="394" y="178"/>
                  <a:pt x="391" y="178"/>
                </a:cubicBezTo>
                <a:cubicBezTo>
                  <a:pt x="389" y="177"/>
                  <a:pt x="386" y="177"/>
                  <a:pt x="386" y="178"/>
                </a:cubicBezTo>
                <a:cubicBezTo>
                  <a:pt x="385" y="178"/>
                  <a:pt x="384" y="179"/>
                  <a:pt x="384" y="181"/>
                </a:cubicBezTo>
                <a:cubicBezTo>
                  <a:pt x="384" y="183"/>
                  <a:pt x="386" y="182"/>
                  <a:pt x="387" y="184"/>
                </a:cubicBezTo>
                <a:cubicBezTo>
                  <a:pt x="387" y="185"/>
                  <a:pt x="386" y="184"/>
                  <a:pt x="386" y="186"/>
                </a:cubicBezTo>
                <a:cubicBezTo>
                  <a:pt x="385" y="187"/>
                  <a:pt x="384" y="187"/>
                  <a:pt x="384" y="188"/>
                </a:cubicBezTo>
                <a:cubicBezTo>
                  <a:pt x="384" y="189"/>
                  <a:pt x="385" y="188"/>
                  <a:pt x="386" y="190"/>
                </a:cubicBezTo>
                <a:cubicBezTo>
                  <a:pt x="386" y="192"/>
                  <a:pt x="387" y="192"/>
                  <a:pt x="387" y="194"/>
                </a:cubicBezTo>
                <a:cubicBezTo>
                  <a:pt x="387" y="196"/>
                  <a:pt x="386" y="196"/>
                  <a:pt x="386" y="196"/>
                </a:cubicBezTo>
                <a:cubicBezTo>
                  <a:pt x="385" y="196"/>
                  <a:pt x="386" y="197"/>
                  <a:pt x="384" y="199"/>
                </a:cubicBezTo>
                <a:cubicBezTo>
                  <a:pt x="383" y="200"/>
                  <a:pt x="382" y="202"/>
                  <a:pt x="383" y="203"/>
                </a:cubicBezTo>
                <a:cubicBezTo>
                  <a:pt x="384" y="204"/>
                  <a:pt x="388" y="205"/>
                  <a:pt x="389" y="208"/>
                </a:cubicBezTo>
                <a:cubicBezTo>
                  <a:pt x="391" y="211"/>
                  <a:pt x="391" y="215"/>
                  <a:pt x="390" y="217"/>
                </a:cubicBezTo>
                <a:cubicBezTo>
                  <a:pt x="390" y="220"/>
                  <a:pt x="387" y="221"/>
                  <a:pt x="384" y="223"/>
                </a:cubicBezTo>
                <a:cubicBezTo>
                  <a:pt x="382" y="226"/>
                  <a:pt x="379" y="225"/>
                  <a:pt x="378" y="225"/>
                </a:cubicBezTo>
                <a:cubicBezTo>
                  <a:pt x="377" y="226"/>
                  <a:pt x="378" y="228"/>
                  <a:pt x="379" y="230"/>
                </a:cubicBezTo>
                <a:cubicBezTo>
                  <a:pt x="381" y="231"/>
                  <a:pt x="380" y="232"/>
                  <a:pt x="381" y="234"/>
                </a:cubicBezTo>
                <a:cubicBezTo>
                  <a:pt x="381" y="236"/>
                  <a:pt x="381" y="237"/>
                  <a:pt x="382" y="239"/>
                </a:cubicBezTo>
                <a:cubicBezTo>
                  <a:pt x="383" y="241"/>
                  <a:pt x="382" y="241"/>
                  <a:pt x="381" y="242"/>
                </a:cubicBezTo>
                <a:cubicBezTo>
                  <a:pt x="379" y="244"/>
                  <a:pt x="381" y="243"/>
                  <a:pt x="381" y="245"/>
                </a:cubicBezTo>
                <a:cubicBezTo>
                  <a:pt x="382" y="246"/>
                  <a:pt x="381" y="245"/>
                  <a:pt x="380" y="244"/>
                </a:cubicBezTo>
                <a:cubicBezTo>
                  <a:pt x="378" y="244"/>
                  <a:pt x="377" y="246"/>
                  <a:pt x="377" y="247"/>
                </a:cubicBezTo>
                <a:cubicBezTo>
                  <a:pt x="377" y="248"/>
                  <a:pt x="376" y="247"/>
                  <a:pt x="375" y="247"/>
                </a:cubicBezTo>
                <a:cubicBezTo>
                  <a:pt x="375" y="246"/>
                  <a:pt x="374" y="246"/>
                  <a:pt x="374" y="246"/>
                </a:cubicBezTo>
                <a:cubicBezTo>
                  <a:pt x="373" y="246"/>
                  <a:pt x="374" y="244"/>
                  <a:pt x="372" y="243"/>
                </a:cubicBezTo>
                <a:cubicBezTo>
                  <a:pt x="370" y="242"/>
                  <a:pt x="369" y="241"/>
                  <a:pt x="369" y="240"/>
                </a:cubicBezTo>
                <a:cubicBezTo>
                  <a:pt x="369" y="239"/>
                  <a:pt x="366" y="238"/>
                  <a:pt x="366" y="236"/>
                </a:cubicBezTo>
                <a:cubicBezTo>
                  <a:pt x="366" y="235"/>
                  <a:pt x="367" y="231"/>
                  <a:pt x="366" y="230"/>
                </a:cubicBezTo>
                <a:cubicBezTo>
                  <a:pt x="365" y="229"/>
                  <a:pt x="366" y="227"/>
                  <a:pt x="366" y="226"/>
                </a:cubicBezTo>
                <a:cubicBezTo>
                  <a:pt x="367" y="225"/>
                  <a:pt x="366" y="224"/>
                  <a:pt x="364" y="224"/>
                </a:cubicBezTo>
                <a:cubicBezTo>
                  <a:pt x="362" y="224"/>
                  <a:pt x="360" y="223"/>
                  <a:pt x="358" y="223"/>
                </a:cubicBezTo>
                <a:cubicBezTo>
                  <a:pt x="355" y="223"/>
                  <a:pt x="354" y="223"/>
                  <a:pt x="353" y="222"/>
                </a:cubicBezTo>
                <a:cubicBezTo>
                  <a:pt x="352" y="222"/>
                  <a:pt x="350" y="220"/>
                  <a:pt x="347" y="220"/>
                </a:cubicBezTo>
                <a:cubicBezTo>
                  <a:pt x="344" y="219"/>
                  <a:pt x="343" y="217"/>
                  <a:pt x="343" y="216"/>
                </a:cubicBezTo>
                <a:cubicBezTo>
                  <a:pt x="343" y="216"/>
                  <a:pt x="340" y="215"/>
                  <a:pt x="339" y="214"/>
                </a:cubicBezTo>
                <a:cubicBezTo>
                  <a:pt x="338" y="213"/>
                  <a:pt x="336" y="213"/>
                  <a:pt x="334" y="213"/>
                </a:cubicBezTo>
                <a:cubicBezTo>
                  <a:pt x="334" y="213"/>
                  <a:pt x="333" y="212"/>
                  <a:pt x="332" y="212"/>
                </a:cubicBezTo>
                <a:cubicBezTo>
                  <a:pt x="331" y="211"/>
                  <a:pt x="330" y="211"/>
                  <a:pt x="329" y="211"/>
                </a:cubicBezTo>
                <a:cubicBezTo>
                  <a:pt x="327" y="211"/>
                  <a:pt x="323" y="213"/>
                  <a:pt x="322" y="213"/>
                </a:cubicBezTo>
                <a:cubicBezTo>
                  <a:pt x="322" y="213"/>
                  <a:pt x="323" y="211"/>
                  <a:pt x="323" y="211"/>
                </a:cubicBezTo>
                <a:cubicBezTo>
                  <a:pt x="323" y="210"/>
                  <a:pt x="322" y="207"/>
                  <a:pt x="321" y="205"/>
                </a:cubicBezTo>
                <a:cubicBezTo>
                  <a:pt x="321" y="203"/>
                  <a:pt x="320" y="201"/>
                  <a:pt x="318" y="202"/>
                </a:cubicBezTo>
                <a:cubicBezTo>
                  <a:pt x="316" y="202"/>
                  <a:pt x="314" y="201"/>
                  <a:pt x="313" y="200"/>
                </a:cubicBezTo>
                <a:cubicBezTo>
                  <a:pt x="313" y="200"/>
                  <a:pt x="313" y="195"/>
                  <a:pt x="313" y="192"/>
                </a:cubicBezTo>
                <a:cubicBezTo>
                  <a:pt x="314" y="190"/>
                  <a:pt x="316" y="187"/>
                  <a:pt x="316" y="185"/>
                </a:cubicBezTo>
                <a:cubicBezTo>
                  <a:pt x="316" y="184"/>
                  <a:pt x="318" y="183"/>
                  <a:pt x="319" y="183"/>
                </a:cubicBezTo>
                <a:cubicBezTo>
                  <a:pt x="320" y="182"/>
                  <a:pt x="319" y="180"/>
                  <a:pt x="321" y="180"/>
                </a:cubicBezTo>
                <a:cubicBezTo>
                  <a:pt x="322" y="179"/>
                  <a:pt x="322" y="179"/>
                  <a:pt x="323" y="178"/>
                </a:cubicBezTo>
                <a:cubicBezTo>
                  <a:pt x="323" y="177"/>
                  <a:pt x="324" y="177"/>
                  <a:pt x="324" y="176"/>
                </a:cubicBezTo>
                <a:cubicBezTo>
                  <a:pt x="323" y="175"/>
                  <a:pt x="323" y="175"/>
                  <a:pt x="326" y="175"/>
                </a:cubicBezTo>
                <a:cubicBezTo>
                  <a:pt x="328" y="175"/>
                  <a:pt x="331" y="174"/>
                  <a:pt x="330" y="172"/>
                </a:cubicBezTo>
                <a:cubicBezTo>
                  <a:pt x="330" y="170"/>
                  <a:pt x="324" y="172"/>
                  <a:pt x="324" y="170"/>
                </a:cubicBezTo>
                <a:cubicBezTo>
                  <a:pt x="324" y="168"/>
                  <a:pt x="317" y="168"/>
                  <a:pt x="318" y="167"/>
                </a:cubicBezTo>
                <a:cubicBezTo>
                  <a:pt x="318" y="166"/>
                  <a:pt x="325" y="168"/>
                  <a:pt x="327" y="169"/>
                </a:cubicBezTo>
                <a:cubicBezTo>
                  <a:pt x="330" y="170"/>
                  <a:pt x="330" y="169"/>
                  <a:pt x="332" y="169"/>
                </a:cubicBezTo>
                <a:cubicBezTo>
                  <a:pt x="334" y="169"/>
                  <a:pt x="333" y="167"/>
                  <a:pt x="333" y="166"/>
                </a:cubicBezTo>
                <a:cubicBezTo>
                  <a:pt x="334" y="165"/>
                  <a:pt x="335" y="166"/>
                  <a:pt x="336" y="166"/>
                </a:cubicBezTo>
                <a:cubicBezTo>
                  <a:pt x="337" y="167"/>
                  <a:pt x="339" y="167"/>
                  <a:pt x="340" y="167"/>
                </a:cubicBezTo>
                <a:cubicBezTo>
                  <a:pt x="342" y="166"/>
                  <a:pt x="344" y="162"/>
                  <a:pt x="346" y="161"/>
                </a:cubicBezTo>
                <a:cubicBezTo>
                  <a:pt x="347" y="159"/>
                  <a:pt x="346" y="158"/>
                  <a:pt x="342" y="158"/>
                </a:cubicBezTo>
                <a:cubicBezTo>
                  <a:pt x="339" y="159"/>
                  <a:pt x="337" y="157"/>
                  <a:pt x="335" y="156"/>
                </a:cubicBezTo>
                <a:cubicBezTo>
                  <a:pt x="333" y="155"/>
                  <a:pt x="333" y="153"/>
                  <a:pt x="335" y="154"/>
                </a:cubicBezTo>
                <a:cubicBezTo>
                  <a:pt x="337" y="154"/>
                  <a:pt x="342" y="158"/>
                  <a:pt x="344" y="158"/>
                </a:cubicBezTo>
                <a:cubicBezTo>
                  <a:pt x="346" y="158"/>
                  <a:pt x="349" y="154"/>
                  <a:pt x="350" y="153"/>
                </a:cubicBezTo>
                <a:cubicBezTo>
                  <a:pt x="352" y="152"/>
                  <a:pt x="349" y="152"/>
                  <a:pt x="348" y="151"/>
                </a:cubicBezTo>
                <a:cubicBezTo>
                  <a:pt x="347" y="150"/>
                  <a:pt x="350" y="149"/>
                  <a:pt x="351" y="149"/>
                </a:cubicBezTo>
                <a:cubicBezTo>
                  <a:pt x="353" y="149"/>
                  <a:pt x="353" y="151"/>
                  <a:pt x="354" y="151"/>
                </a:cubicBezTo>
                <a:cubicBezTo>
                  <a:pt x="354" y="152"/>
                  <a:pt x="357" y="151"/>
                  <a:pt x="358" y="151"/>
                </a:cubicBezTo>
                <a:cubicBezTo>
                  <a:pt x="360" y="151"/>
                  <a:pt x="358" y="149"/>
                  <a:pt x="356" y="148"/>
                </a:cubicBezTo>
                <a:cubicBezTo>
                  <a:pt x="354" y="147"/>
                  <a:pt x="356" y="145"/>
                  <a:pt x="357" y="147"/>
                </a:cubicBezTo>
                <a:cubicBezTo>
                  <a:pt x="357" y="148"/>
                  <a:pt x="359" y="148"/>
                  <a:pt x="360" y="149"/>
                </a:cubicBezTo>
                <a:cubicBezTo>
                  <a:pt x="361" y="151"/>
                  <a:pt x="361" y="150"/>
                  <a:pt x="363" y="149"/>
                </a:cubicBezTo>
                <a:cubicBezTo>
                  <a:pt x="365" y="149"/>
                  <a:pt x="366" y="148"/>
                  <a:pt x="367" y="146"/>
                </a:cubicBezTo>
                <a:cubicBezTo>
                  <a:pt x="368" y="145"/>
                  <a:pt x="368" y="147"/>
                  <a:pt x="370" y="145"/>
                </a:cubicBezTo>
                <a:cubicBezTo>
                  <a:pt x="371" y="143"/>
                  <a:pt x="369" y="141"/>
                  <a:pt x="368" y="140"/>
                </a:cubicBezTo>
                <a:cubicBezTo>
                  <a:pt x="366" y="139"/>
                  <a:pt x="368" y="138"/>
                  <a:pt x="366" y="137"/>
                </a:cubicBezTo>
                <a:cubicBezTo>
                  <a:pt x="365" y="136"/>
                  <a:pt x="364" y="135"/>
                  <a:pt x="366" y="135"/>
                </a:cubicBezTo>
                <a:cubicBezTo>
                  <a:pt x="368" y="136"/>
                  <a:pt x="370" y="135"/>
                  <a:pt x="370" y="134"/>
                </a:cubicBezTo>
                <a:cubicBezTo>
                  <a:pt x="371" y="133"/>
                  <a:pt x="368" y="132"/>
                  <a:pt x="369" y="131"/>
                </a:cubicBezTo>
                <a:cubicBezTo>
                  <a:pt x="371" y="130"/>
                  <a:pt x="370" y="129"/>
                  <a:pt x="368" y="129"/>
                </a:cubicBezTo>
                <a:cubicBezTo>
                  <a:pt x="366" y="129"/>
                  <a:pt x="365" y="129"/>
                  <a:pt x="365" y="127"/>
                </a:cubicBezTo>
                <a:cubicBezTo>
                  <a:pt x="365" y="126"/>
                  <a:pt x="362" y="127"/>
                  <a:pt x="360" y="126"/>
                </a:cubicBezTo>
                <a:cubicBezTo>
                  <a:pt x="358" y="125"/>
                  <a:pt x="354" y="125"/>
                  <a:pt x="353" y="125"/>
                </a:cubicBezTo>
                <a:cubicBezTo>
                  <a:pt x="352" y="125"/>
                  <a:pt x="352" y="129"/>
                  <a:pt x="354" y="129"/>
                </a:cubicBezTo>
                <a:cubicBezTo>
                  <a:pt x="355" y="129"/>
                  <a:pt x="356" y="131"/>
                  <a:pt x="355" y="131"/>
                </a:cubicBezTo>
                <a:cubicBezTo>
                  <a:pt x="354" y="132"/>
                  <a:pt x="355" y="133"/>
                  <a:pt x="354" y="133"/>
                </a:cubicBezTo>
                <a:cubicBezTo>
                  <a:pt x="353" y="133"/>
                  <a:pt x="352" y="133"/>
                  <a:pt x="351" y="135"/>
                </a:cubicBezTo>
                <a:cubicBezTo>
                  <a:pt x="351" y="138"/>
                  <a:pt x="351" y="139"/>
                  <a:pt x="349" y="139"/>
                </a:cubicBezTo>
                <a:cubicBezTo>
                  <a:pt x="348" y="140"/>
                  <a:pt x="348" y="139"/>
                  <a:pt x="348" y="138"/>
                </a:cubicBezTo>
                <a:cubicBezTo>
                  <a:pt x="348" y="137"/>
                  <a:pt x="348" y="137"/>
                  <a:pt x="347" y="137"/>
                </a:cubicBezTo>
                <a:cubicBezTo>
                  <a:pt x="346" y="137"/>
                  <a:pt x="346" y="140"/>
                  <a:pt x="347" y="140"/>
                </a:cubicBezTo>
                <a:cubicBezTo>
                  <a:pt x="348" y="140"/>
                  <a:pt x="348" y="141"/>
                  <a:pt x="348" y="143"/>
                </a:cubicBezTo>
                <a:cubicBezTo>
                  <a:pt x="349" y="144"/>
                  <a:pt x="346" y="143"/>
                  <a:pt x="345" y="145"/>
                </a:cubicBezTo>
                <a:cubicBezTo>
                  <a:pt x="345" y="147"/>
                  <a:pt x="344" y="144"/>
                  <a:pt x="343" y="143"/>
                </a:cubicBezTo>
                <a:cubicBezTo>
                  <a:pt x="342" y="142"/>
                  <a:pt x="340" y="140"/>
                  <a:pt x="340" y="139"/>
                </a:cubicBezTo>
                <a:cubicBezTo>
                  <a:pt x="340" y="137"/>
                  <a:pt x="341" y="137"/>
                  <a:pt x="342" y="137"/>
                </a:cubicBezTo>
                <a:cubicBezTo>
                  <a:pt x="343" y="136"/>
                  <a:pt x="342" y="136"/>
                  <a:pt x="342" y="134"/>
                </a:cubicBezTo>
                <a:cubicBezTo>
                  <a:pt x="342" y="132"/>
                  <a:pt x="341" y="133"/>
                  <a:pt x="339" y="131"/>
                </a:cubicBezTo>
                <a:cubicBezTo>
                  <a:pt x="338" y="129"/>
                  <a:pt x="336" y="129"/>
                  <a:pt x="335" y="130"/>
                </a:cubicBezTo>
                <a:cubicBezTo>
                  <a:pt x="334" y="131"/>
                  <a:pt x="335" y="132"/>
                  <a:pt x="334" y="133"/>
                </a:cubicBezTo>
                <a:cubicBezTo>
                  <a:pt x="332" y="134"/>
                  <a:pt x="333" y="136"/>
                  <a:pt x="332" y="136"/>
                </a:cubicBezTo>
                <a:cubicBezTo>
                  <a:pt x="331" y="137"/>
                  <a:pt x="331" y="132"/>
                  <a:pt x="330" y="131"/>
                </a:cubicBezTo>
                <a:cubicBezTo>
                  <a:pt x="329" y="131"/>
                  <a:pt x="329" y="130"/>
                  <a:pt x="331" y="129"/>
                </a:cubicBezTo>
                <a:cubicBezTo>
                  <a:pt x="332" y="129"/>
                  <a:pt x="333" y="128"/>
                  <a:pt x="332" y="128"/>
                </a:cubicBezTo>
                <a:cubicBezTo>
                  <a:pt x="331" y="128"/>
                  <a:pt x="329" y="126"/>
                  <a:pt x="328" y="126"/>
                </a:cubicBezTo>
                <a:cubicBezTo>
                  <a:pt x="327" y="126"/>
                  <a:pt x="327" y="126"/>
                  <a:pt x="326" y="127"/>
                </a:cubicBezTo>
                <a:cubicBezTo>
                  <a:pt x="326" y="127"/>
                  <a:pt x="325" y="127"/>
                  <a:pt x="324" y="127"/>
                </a:cubicBezTo>
                <a:cubicBezTo>
                  <a:pt x="324" y="126"/>
                  <a:pt x="325" y="124"/>
                  <a:pt x="325" y="123"/>
                </a:cubicBezTo>
                <a:cubicBezTo>
                  <a:pt x="325" y="123"/>
                  <a:pt x="325" y="123"/>
                  <a:pt x="326" y="123"/>
                </a:cubicBezTo>
                <a:cubicBezTo>
                  <a:pt x="326" y="123"/>
                  <a:pt x="327" y="123"/>
                  <a:pt x="327" y="122"/>
                </a:cubicBezTo>
                <a:cubicBezTo>
                  <a:pt x="328" y="121"/>
                  <a:pt x="324" y="121"/>
                  <a:pt x="324" y="120"/>
                </a:cubicBezTo>
                <a:cubicBezTo>
                  <a:pt x="324" y="118"/>
                  <a:pt x="322" y="118"/>
                  <a:pt x="321" y="117"/>
                </a:cubicBezTo>
                <a:cubicBezTo>
                  <a:pt x="320" y="117"/>
                  <a:pt x="321" y="115"/>
                  <a:pt x="321" y="114"/>
                </a:cubicBezTo>
                <a:cubicBezTo>
                  <a:pt x="320" y="113"/>
                  <a:pt x="317" y="110"/>
                  <a:pt x="315" y="110"/>
                </a:cubicBezTo>
                <a:cubicBezTo>
                  <a:pt x="315" y="110"/>
                  <a:pt x="314" y="109"/>
                  <a:pt x="314" y="109"/>
                </a:cubicBezTo>
                <a:cubicBezTo>
                  <a:pt x="314" y="108"/>
                  <a:pt x="314" y="108"/>
                  <a:pt x="314" y="108"/>
                </a:cubicBezTo>
                <a:cubicBezTo>
                  <a:pt x="315" y="108"/>
                  <a:pt x="316" y="108"/>
                  <a:pt x="318" y="106"/>
                </a:cubicBezTo>
                <a:cubicBezTo>
                  <a:pt x="319" y="104"/>
                  <a:pt x="319" y="103"/>
                  <a:pt x="318" y="103"/>
                </a:cubicBezTo>
                <a:cubicBezTo>
                  <a:pt x="317" y="103"/>
                  <a:pt x="316" y="102"/>
                  <a:pt x="318" y="102"/>
                </a:cubicBezTo>
                <a:cubicBezTo>
                  <a:pt x="320" y="102"/>
                  <a:pt x="324" y="103"/>
                  <a:pt x="325" y="102"/>
                </a:cubicBezTo>
                <a:cubicBezTo>
                  <a:pt x="326" y="101"/>
                  <a:pt x="330" y="96"/>
                  <a:pt x="331" y="94"/>
                </a:cubicBezTo>
                <a:cubicBezTo>
                  <a:pt x="333" y="92"/>
                  <a:pt x="330" y="92"/>
                  <a:pt x="327" y="92"/>
                </a:cubicBezTo>
                <a:cubicBezTo>
                  <a:pt x="323" y="92"/>
                  <a:pt x="323" y="91"/>
                  <a:pt x="320" y="90"/>
                </a:cubicBezTo>
                <a:cubicBezTo>
                  <a:pt x="317" y="90"/>
                  <a:pt x="312" y="91"/>
                  <a:pt x="311" y="92"/>
                </a:cubicBezTo>
                <a:cubicBezTo>
                  <a:pt x="310" y="93"/>
                  <a:pt x="312" y="93"/>
                  <a:pt x="312" y="94"/>
                </a:cubicBezTo>
                <a:cubicBezTo>
                  <a:pt x="312" y="95"/>
                  <a:pt x="311" y="95"/>
                  <a:pt x="311" y="94"/>
                </a:cubicBezTo>
                <a:cubicBezTo>
                  <a:pt x="310" y="94"/>
                  <a:pt x="310" y="94"/>
                  <a:pt x="309" y="94"/>
                </a:cubicBezTo>
                <a:cubicBezTo>
                  <a:pt x="309" y="94"/>
                  <a:pt x="310" y="96"/>
                  <a:pt x="309" y="99"/>
                </a:cubicBezTo>
                <a:cubicBezTo>
                  <a:pt x="309" y="102"/>
                  <a:pt x="310" y="102"/>
                  <a:pt x="311" y="104"/>
                </a:cubicBezTo>
                <a:cubicBezTo>
                  <a:pt x="312" y="105"/>
                  <a:pt x="312" y="107"/>
                  <a:pt x="312" y="109"/>
                </a:cubicBezTo>
                <a:cubicBezTo>
                  <a:pt x="312" y="111"/>
                  <a:pt x="310" y="111"/>
                  <a:pt x="309" y="111"/>
                </a:cubicBezTo>
                <a:cubicBezTo>
                  <a:pt x="308" y="111"/>
                  <a:pt x="311" y="112"/>
                  <a:pt x="310" y="114"/>
                </a:cubicBezTo>
                <a:cubicBezTo>
                  <a:pt x="310" y="114"/>
                  <a:pt x="309" y="114"/>
                  <a:pt x="309" y="114"/>
                </a:cubicBezTo>
                <a:cubicBezTo>
                  <a:pt x="308" y="113"/>
                  <a:pt x="307" y="113"/>
                  <a:pt x="307" y="113"/>
                </a:cubicBezTo>
                <a:cubicBezTo>
                  <a:pt x="306" y="114"/>
                  <a:pt x="305" y="117"/>
                  <a:pt x="306" y="118"/>
                </a:cubicBezTo>
                <a:cubicBezTo>
                  <a:pt x="307" y="119"/>
                  <a:pt x="308" y="119"/>
                  <a:pt x="307" y="120"/>
                </a:cubicBezTo>
                <a:cubicBezTo>
                  <a:pt x="306" y="121"/>
                  <a:pt x="305" y="123"/>
                  <a:pt x="307" y="125"/>
                </a:cubicBezTo>
                <a:cubicBezTo>
                  <a:pt x="309" y="126"/>
                  <a:pt x="313" y="126"/>
                  <a:pt x="316" y="128"/>
                </a:cubicBezTo>
                <a:cubicBezTo>
                  <a:pt x="318" y="129"/>
                  <a:pt x="315" y="128"/>
                  <a:pt x="316" y="130"/>
                </a:cubicBezTo>
                <a:cubicBezTo>
                  <a:pt x="316" y="131"/>
                  <a:pt x="314" y="132"/>
                  <a:pt x="314" y="133"/>
                </a:cubicBezTo>
                <a:cubicBezTo>
                  <a:pt x="314" y="134"/>
                  <a:pt x="315" y="134"/>
                  <a:pt x="316" y="132"/>
                </a:cubicBezTo>
                <a:cubicBezTo>
                  <a:pt x="317" y="130"/>
                  <a:pt x="318" y="132"/>
                  <a:pt x="318" y="134"/>
                </a:cubicBezTo>
                <a:cubicBezTo>
                  <a:pt x="318" y="136"/>
                  <a:pt x="316" y="135"/>
                  <a:pt x="315" y="137"/>
                </a:cubicBezTo>
                <a:cubicBezTo>
                  <a:pt x="314" y="138"/>
                  <a:pt x="313" y="139"/>
                  <a:pt x="311" y="138"/>
                </a:cubicBezTo>
                <a:cubicBezTo>
                  <a:pt x="309" y="138"/>
                  <a:pt x="310" y="141"/>
                  <a:pt x="311" y="142"/>
                </a:cubicBezTo>
                <a:cubicBezTo>
                  <a:pt x="312" y="144"/>
                  <a:pt x="311" y="145"/>
                  <a:pt x="309" y="144"/>
                </a:cubicBezTo>
                <a:cubicBezTo>
                  <a:pt x="307" y="144"/>
                  <a:pt x="306" y="142"/>
                  <a:pt x="307" y="141"/>
                </a:cubicBezTo>
                <a:cubicBezTo>
                  <a:pt x="308" y="139"/>
                  <a:pt x="308" y="137"/>
                  <a:pt x="307" y="137"/>
                </a:cubicBezTo>
                <a:cubicBezTo>
                  <a:pt x="306" y="137"/>
                  <a:pt x="303" y="137"/>
                  <a:pt x="302" y="136"/>
                </a:cubicBezTo>
                <a:cubicBezTo>
                  <a:pt x="301" y="135"/>
                  <a:pt x="303" y="135"/>
                  <a:pt x="305" y="135"/>
                </a:cubicBezTo>
                <a:cubicBezTo>
                  <a:pt x="308" y="136"/>
                  <a:pt x="306" y="134"/>
                  <a:pt x="308" y="134"/>
                </a:cubicBezTo>
                <a:cubicBezTo>
                  <a:pt x="310" y="134"/>
                  <a:pt x="311" y="135"/>
                  <a:pt x="313" y="133"/>
                </a:cubicBezTo>
                <a:cubicBezTo>
                  <a:pt x="314" y="132"/>
                  <a:pt x="311" y="129"/>
                  <a:pt x="310" y="130"/>
                </a:cubicBezTo>
                <a:cubicBezTo>
                  <a:pt x="309" y="130"/>
                  <a:pt x="307" y="131"/>
                  <a:pt x="307" y="129"/>
                </a:cubicBezTo>
                <a:cubicBezTo>
                  <a:pt x="307" y="129"/>
                  <a:pt x="308" y="129"/>
                  <a:pt x="309" y="129"/>
                </a:cubicBezTo>
                <a:cubicBezTo>
                  <a:pt x="309" y="129"/>
                  <a:pt x="310" y="129"/>
                  <a:pt x="310" y="129"/>
                </a:cubicBezTo>
                <a:cubicBezTo>
                  <a:pt x="311" y="128"/>
                  <a:pt x="310" y="127"/>
                  <a:pt x="308" y="127"/>
                </a:cubicBezTo>
                <a:cubicBezTo>
                  <a:pt x="306" y="128"/>
                  <a:pt x="305" y="128"/>
                  <a:pt x="303" y="126"/>
                </a:cubicBezTo>
                <a:cubicBezTo>
                  <a:pt x="302" y="125"/>
                  <a:pt x="299" y="124"/>
                  <a:pt x="298" y="127"/>
                </a:cubicBezTo>
                <a:cubicBezTo>
                  <a:pt x="297" y="131"/>
                  <a:pt x="295" y="129"/>
                  <a:pt x="294" y="130"/>
                </a:cubicBezTo>
                <a:cubicBezTo>
                  <a:pt x="293" y="131"/>
                  <a:pt x="295" y="132"/>
                  <a:pt x="298" y="132"/>
                </a:cubicBezTo>
                <a:cubicBezTo>
                  <a:pt x="300" y="132"/>
                  <a:pt x="302" y="135"/>
                  <a:pt x="301" y="135"/>
                </a:cubicBezTo>
                <a:cubicBezTo>
                  <a:pt x="300" y="135"/>
                  <a:pt x="300" y="137"/>
                  <a:pt x="299" y="136"/>
                </a:cubicBezTo>
                <a:cubicBezTo>
                  <a:pt x="297" y="135"/>
                  <a:pt x="296" y="136"/>
                  <a:pt x="297" y="137"/>
                </a:cubicBezTo>
                <a:cubicBezTo>
                  <a:pt x="298" y="138"/>
                  <a:pt x="297" y="139"/>
                  <a:pt x="297" y="140"/>
                </a:cubicBezTo>
                <a:cubicBezTo>
                  <a:pt x="297" y="141"/>
                  <a:pt x="295" y="140"/>
                  <a:pt x="293" y="140"/>
                </a:cubicBezTo>
                <a:cubicBezTo>
                  <a:pt x="291" y="140"/>
                  <a:pt x="287" y="140"/>
                  <a:pt x="285" y="141"/>
                </a:cubicBezTo>
                <a:cubicBezTo>
                  <a:pt x="282" y="141"/>
                  <a:pt x="279" y="140"/>
                  <a:pt x="278" y="139"/>
                </a:cubicBezTo>
                <a:cubicBezTo>
                  <a:pt x="277" y="138"/>
                  <a:pt x="275" y="138"/>
                  <a:pt x="273" y="138"/>
                </a:cubicBezTo>
                <a:cubicBezTo>
                  <a:pt x="271" y="138"/>
                  <a:pt x="272" y="136"/>
                  <a:pt x="270" y="136"/>
                </a:cubicBezTo>
                <a:cubicBezTo>
                  <a:pt x="267" y="136"/>
                  <a:pt x="268" y="134"/>
                  <a:pt x="267" y="133"/>
                </a:cubicBezTo>
                <a:cubicBezTo>
                  <a:pt x="267" y="132"/>
                  <a:pt x="262" y="132"/>
                  <a:pt x="260" y="133"/>
                </a:cubicBezTo>
                <a:cubicBezTo>
                  <a:pt x="259" y="134"/>
                  <a:pt x="255" y="134"/>
                  <a:pt x="254" y="136"/>
                </a:cubicBezTo>
                <a:cubicBezTo>
                  <a:pt x="253" y="138"/>
                  <a:pt x="255" y="138"/>
                  <a:pt x="256" y="138"/>
                </a:cubicBezTo>
                <a:cubicBezTo>
                  <a:pt x="258" y="138"/>
                  <a:pt x="257" y="136"/>
                  <a:pt x="260" y="136"/>
                </a:cubicBezTo>
                <a:cubicBezTo>
                  <a:pt x="261" y="137"/>
                  <a:pt x="262" y="136"/>
                  <a:pt x="263" y="135"/>
                </a:cubicBezTo>
                <a:cubicBezTo>
                  <a:pt x="264" y="135"/>
                  <a:pt x="265" y="134"/>
                  <a:pt x="266" y="135"/>
                </a:cubicBezTo>
                <a:cubicBezTo>
                  <a:pt x="267" y="136"/>
                  <a:pt x="261" y="138"/>
                  <a:pt x="259" y="138"/>
                </a:cubicBezTo>
                <a:cubicBezTo>
                  <a:pt x="256" y="139"/>
                  <a:pt x="257" y="141"/>
                  <a:pt x="259" y="144"/>
                </a:cubicBezTo>
                <a:cubicBezTo>
                  <a:pt x="262" y="148"/>
                  <a:pt x="258" y="146"/>
                  <a:pt x="258" y="147"/>
                </a:cubicBezTo>
                <a:cubicBezTo>
                  <a:pt x="258" y="149"/>
                  <a:pt x="254" y="147"/>
                  <a:pt x="256" y="146"/>
                </a:cubicBezTo>
                <a:cubicBezTo>
                  <a:pt x="257" y="146"/>
                  <a:pt x="256" y="144"/>
                  <a:pt x="255" y="143"/>
                </a:cubicBezTo>
                <a:cubicBezTo>
                  <a:pt x="254" y="142"/>
                  <a:pt x="253" y="143"/>
                  <a:pt x="253" y="142"/>
                </a:cubicBezTo>
                <a:cubicBezTo>
                  <a:pt x="253" y="141"/>
                  <a:pt x="253" y="141"/>
                  <a:pt x="252" y="141"/>
                </a:cubicBezTo>
                <a:cubicBezTo>
                  <a:pt x="251" y="141"/>
                  <a:pt x="251" y="141"/>
                  <a:pt x="250" y="141"/>
                </a:cubicBezTo>
                <a:cubicBezTo>
                  <a:pt x="249" y="140"/>
                  <a:pt x="248" y="139"/>
                  <a:pt x="246" y="140"/>
                </a:cubicBezTo>
                <a:cubicBezTo>
                  <a:pt x="245" y="141"/>
                  <a:pt x="242" y="140"/>
                  <a:pt x="239" y="141"/>
                </a:cubicBezTo>
                <a:cubicBezTo>
                  <a:pt x="235" y="142"/>
                  <a:pt x="227" y="142"/>
                  <a:pt x="226" y="140"/>
                </a:cubicBezTo>
                <a:cubicBezTo>
                  <a:pt x="225" y="139"/>
                  <a:pt x="229" y="137"/>
                  <a:pt x="231" y="137"/>
                </a:cubicBezTo>
                <a:cubicBezTo>
                  <a:pt x="232" y="137"/>
                  <a:pt x="231" y="135"/>
                  <a:pt x="229" y="134"/>
                </a:cubicBezTo>
                <a:cubicBezTo>
                  <a:pt x="227" y="132"/>
                  <a:pt x="222" y="131"/>
                  <a:pt x="222" y="132"/>
                </a:cubicBezTo>
                <a:cubicBezTo>
                  <a:pt x="222" y="133"/>
                  <a:pt x="220" y="132"/>
                  <a:pt x="216" y="131"/>
                </a:cubicBezTo>
                <a:cubicBezTo>
                  <a:pt x="213" y="131"/>
                  <a:pt x="212" y="130"/>
                  <a:pt x="210" y="129"/>
                </a:cubicBezTo>
                <a:cubicBezTo>
                  <a:pt x="208" y="129"/>
                  <a:pt x="204" y="129"/>
                  <a:pt x="202" y="127"/>
                </a:cubicBezTo>
                <a:cubicBezTo>
                  <a:pt x="199" y="125"/>
                  <a:pt x="193" y="125"/>
                  <a:pt x="192" y="127"/>
                </a:cubicBezTo>
                <a:cubicBezTo>
                  <a:pt x="191" y="129"/>
                  <a:pt x="189" y="129"/>
                  <a:pt x="187" y="129"/>
                </a:cubicBezTo>
                <a:cubicBezTo>
                  <a:pt x="185" y="129"/>
                  <a:pt x="188" y="126"/>
                  <a:pt x="187" y="126"/>
                </a:cubicBezTo>
                <a:cubicBezTo>
                  <a:pt x="186" y="126"/>
                  <a:pt x="187" y="123"/>
                  <a:pt x="186" y="123"/>
                </a:cubicBezTo>
                <a:cubicBezTo>
                  <a:pt x="185" y="123"/>
                  <a:pt x="184" y="124"/>
                  <a:pt x="183" y="126"/>
                </a:cubicBezTo>
                <a:cubicBezTo>
                  <a:pt x="183" y="127"/>
                  <a:pt x="182" y="129"/>
                  <a:pt x="180" y="129"/>
                </a:cubicBezTo>
                <a:cubicBezTo>
                  <a:pt x="177" y="129"/>
                  <a:pt x="176" y="122"/>
                  <a:pt x="174" y="120"/>
                </a:cubicBezTo>
                <a:cubicBezTo>
                  <a:pt x="171" y="119"/>
                  <a:pt x="169" y="119"/>
                  <a:pt x="171" y="121"/>
                </a:cubicBezTo>
                <a:cubicBezTo>
                  <a:pt x="173" y="124"/>
                  <a:pt x="169" y="122"/>
                  <a:pt x="170" y="124"/>
                </a:cubicBezTo>
                <a:cubicBezTo>
                  <a:pt x="170" y="125"/>
                  <a:pt x="166" y="127"/>
                  <a:pt x="167" y="126"/>
                </a:cubicBezTo>
                <a:cubicBezTo>
                  <a:pt x="167" y="125"/>
                  <a:pt x="165" y="124"/>
                  <a:pt x="162" y="127"/>
                </a:cubicBezTo>
                <a:cubicBezTo>
                  <a:pt x="160" y="130"/>
                  <a:pt x="159" y="129"/>
                  <a:pt x="158" y="128"/>
                </a:cubicBezTo>
                <a:cubicBezTo>
                  <a:pt x="158" y="127"/>
                  <a:pt x="152" y="131"/>
                  <a:pt x="152" y="132"/>
                </a:cubicBezTo>
                <a:cubicBezTo>
                  <a:pt x="152" y="133"/>
                  <a:pt x="151" y="134"/>
                  <a:pt x="149" y="134"/>
                </a:cubicBezTo>
                <a:cubicBezTo>
                  <a:pt x="147" y="134"/>
                  <a:pt x="149" y="132"/>
                  <a:pt x="150" y="131"/>
                </a:cubicBezTo>
                <a:cubicBezTo>
                  <a:pt x="152" y="131"/>
                  <a:pt x="156" y="127"/>
                  <a:pt x="158" y="127"/>
                </a:cubicBezTo>
                <a:cubicBezTo>
                  <a:pt x="160" y="126"/>
                  <a:pt x="165" y="124"/>
                  <a:pt x="165" y="123"/>
                </a:cubicBezTo>
                <a:cubicBezTo>
                  <a:pt x="165" y="123"/>
                  <a:pt x="164" y="123"/>
                  <a:pt x="163" y="123"/>
                </a:cubicBezTo>
                <a:cubicBezTo>
                  <a:pt x="162" y="123"/>
                  <a:pt x="162" y="123"/>
                  <a:pt x="161" y="123"/>
                </a:cubicBezTo>
                <a:cubicBezTo>
                  <a:pt x="160" y="123"/>
                  <a:pt x="157" y="124"/>
                  <a:pt x="155" y="126"/>
                </a:cubicBezTo>
                <a:cubicBezTo>
                  <a:pt x="152" y="127"/>
                  <a:pt x="149" y="126"/>
                  <a:pt x="150" y="128"/>
                </a:cubicBezTo>
                <a:cubicBezTo>
                  <a:pt x="150" y="129"/>
                  <a:pt x="149" y="128"/>
                  <a:pt x="149" y="128"/>
                </a:cubicBezTo>
                <a:cubicBezTo>
                  <a:pt x="148" y="128"/>
                  <a:pt x="147" y="128"/>
                  <a:pt x="147" y="129"/>
                </a:cubicBezTo>
                <a:cubicBezTo>
                  <a:pt x="146" y="130"/>
                  <a:pt x="145" y="129"/>
                  <a:pt x="146" y="128"/>
                </a:cubicBezTo>
                <a:cubicBezTo>
                  <a:pt x="147" y="127"/>
                  <a:pt x="144" y="126"/>
                  <a:pt x="144" y="127"/>
                </a:cubicBezTo>
                <a:cubicBezTo>
                  <a:pt x="144" y="128"/>
                  <a:pt x="143" y="129"/>
                  <a:pt x="141" y="129"/>
                </a:cubicBezTo>
                <a:cubicBezTo>
                  <a:pt x="139" y="129"/>
                  <a:pt x="136" y="130"/>
                  <a:pt x="138" y="131"/>
                </a:cubicBezTo>
                <a:cubicBezTo>
                  <a:pt x="139" y="132"/>
                  <a:pt x="140" y="133"/>
                  <a:pt x="139" y="134"/>
                </a:cubicBezTo>
                <a:cubicBezTo>
                  <a:pt x="139" y="134"/>
                  <a:pt x="138" y="134"/>
                  <a:pt x="137" y="133"/>
                </a:cubicBezTo>
                <a:cubicBezTo>
                  <a:pt x="136" y="132"/>
                  <a:pt x="135" y="132"/>
                  <a:pt x="133" y="132"/>
                </a:cubicBezTo>
                <a:cubicBezTo>
                  <a:pt x="130" y="132"/>
                  <a:pt x="123" y="128"/>
                  <a:pt x="123" y="127"/>
                </a:cubicBezTo>
                <a:cubicBezTo>
                  <a:pt x="123" y="126"/>
                  <a:pt x="116" y="127"/>
                  <a:pt x="113" y="126"/>
                </a:cubicBezTo>
                <a:cubicBezTo>
                  <a:pt x="111" y="125"/>
                  <a:pt x="107" y="123"/>
                  <a:pt x="104" y="124"/>
                </a:cubicBezTo>
                <a:cubicBezTo>
                  <a:pt x="102" y="124"/>
                  <a:pt x="98" y="125"/>
                  <a:pt x="96" y="124"/>
                </a:cubicBezTo>
                <a:cubicBezTo>
                  <a:pt x="95" y="123"/>
                  <a:pt x="93" y="123"/>
                  <a:pt x="90" y="123"/>
                </a:cubicBezTo>
                <a:cubicBezTo>
                  <a:pt x="87" y="124"/>
                  <a:pt x="85" y="122"/>
                  <a:pt x="81" y="121"/>
                </a:cubicBezTo>
                <a:cubicBezTo>
                  <a:pt x="77" y="120"/>
                  <a:pt x="71" y="121"/>
                  <a:pt x="70" y="121"/>
                </a:cubicBezTo>
                <a:cubicBezTo>
                  <a:pt x="69" y="122"/>
                  <a:pt x="69" y="121"/>
                  <a:pt x="69" y="121"/>
                </a:cubicBezTo>
                <a:cubicBezTo>
                  <a:pt x="68" y="120"/>
                  <a:pt x="68" y="120"/>
                  <a:pt x="67" y="120"/>
                </a:cubicBezTo>
                <a:cubicBezTo>
                  <a:pt x="65" y="120"/>
                  <a:pt x="67" y="119"/>
                  <a:pt x="66" y="118"/>
                </a:cubicBezTo>
                <a:cubicBezTo>
                  <a:pt x="65" y="117"/>
                  <a:pt x="60" y="118"/>
                  <a:pt x="58" y="118"/>
                </a:cubicBezTo>
                <a:cubicBezTo>
                  <a:pt x="57" y="118"/>
                  <a:pt x="56" y="117"/>
                  <a:pt x="56" y="116"/>
                </a:cubicBezTo>
                <a:cubicBezTo>
                  <a:pt x="56" y="116"/>
                  <a:pt x="55" y="116"/>
                  <a:pt x="54" y="117"/>
                </a:cubicBezTo>
                <a:cubicBezTo>
                  <a:pt x="54" y="118"/>
                  <a:pt x="52" y="118"/>
                  <a:pt x="51" y="118"/>
                </a:cubicBezTo>
                <a:cubicBezTo>
                  <a:pt x="50" y="117"/>
                  <a:pt x="53" y="116"/>
                  <a:pt x="53" y="116"/>
                </a:cubicBezTo>
                <a:cubicBezTo>
                  <a:pt x="53" y="115"/>
                  <a:pt x="50" y="114"/>
                  <a:pt x="49" y="114"/>
                </a:cubicBezTo>
                <a:cubicBezTo>
                  <a:pt x="48" y="114"/>
                  <a:pt x="47" y="115"/>
                  <a:pt x="45" y="117"/>
                </a:cubicBezTo>
                <a:cubicBezTo>
                  <a:pt x="43" y="119"/>
                  <a:pt x="40" y="118"/>
                  <a:pt x="38" y="118"/>
                </a:cubicBezTo>
                <a:cubicBezTo>
                  <a:pt x="36" y="118"/>
                  <a:pt x="34" y="118"/>
                  <a:pt x="34" y="119"/>
                </a:cubicBezTo>
                <a:cubicBezTo>
                  <a:pt x="34" y="120"/>
                  <a:pt x="36" y="120"/>
                  <a:pt x="35" y="122"/>
                </a:cubicBezTo>
                <a:cubicBezTo>
                  <a:pt x="34" y="122"/>
                  <a:pt x="34" y="122"/>
                  <a:pt x="34" y="121"/>
                </a:cubicBezTo>
                <a:cubicBezTo>
                  <a:pt x="33" y="121"/>
                  <a:pt x="33" y="121"/>
                  <a:pt x="32" y="121"/>
                </a:cubicBezTo>
                <a:cubicBezTo>
                  <a:pt x="31" y="123"/>
                  <a:pt x="27" y="123"/>
                  <a:pt x="26" y="122"/>
                </a:cubicBezTo>
                <a:cubicBezTo>
                  <a:pt x="25" y="122"/>
                  <a:pt x="22" y="126"/>
                  <a:pt x="21" y="127"/>
                </a:cubicBezTo>
                <a:cubicBezTo>
                  <a:pt x="20" y="127"/>
                  <a:pt x="22" y="128"/>
                  <a:pt x="19" y="131"/>
                </a:cubicBezTo>
                <a:cubicBezTo>
                  <a:pt x="16" y="134"/>
                  <a:pt x="10" y="133"/>
                  <a:pt x="8" y="133"/>
                </a:cubicBezTo>
                <a:cubicBezTo>
                  <a:pt x="7" y="133"/>
                  <a:pt x="8" y="135"/>
                  <a:pt x="7" y="136"/>
                </a:cubicBezTo>
                <a:cubicBezTo>
                  <a:pt x="6" y="137"/>
                  <a:pt x="8" y="138"/>
                  <a:pt x="12" y="139"/>
                </a:cubicBezTo>
                <a:cubicBezTo>
                  <a:pt x="16" y="140"/>
                  <a:pt x="18" y="145"/>
                  <a:pt x="19" y="146"/>
                </a:cubicBezTo>
                <a:cubicBezTo>
                  <a:pt x="19" y="147"/>
                  <a:pt x="21" y="147"/>
                  <a:pt x="23" y="147"/>
                </a:cubicBezTo>
                <a:cubicBezTo>
                  <a:pt x="24" y="146"/>
                  <a:pt x="25" y="146"/>
                  <a:pt x="26" y="146"/>
                </a:cubicBezTo>
                <a:cubicBezTo>
                  <a:pt x="28" y="147"/>
                  <a:pt x="26" y="149"/>
                  <a:pt x="27" y="150"/>
                </a:cubicBezTo>
                <a:cubicBezTo>
                  <a:pt x="28" y="150"/>
                  <a:pt x="29" y="150"/>
                  <a:pt x="30" y="150"/>
                </a:cubicBezTo>
                <a:cubicBezTo>
                  <a:pt x="31" y="150"/>
                  <a:pt x="32" y="150"/>
                  <a:pt x="32" y="151"/>
                </a:cubicBezTo>
                <a:cubicBezTo>
                  <a:pt x="32" y="152"/>
                  <a:pt x="29" y="151"/>
                  <a:pt x="27" y="152"/>
                </a:cubicBezTo>
                <a:cubicBezTo>
                  <a:pt x="25" y="154"/>
                  <a:pt x="24" y="155"/>
                  <a:pt x="23" y="153"/>
                </a:cubicBezTo>
                <a:cubicBezTo>
                  <a:pt x="22" y="152"/>
                  <a:pt x="19" y="153"/>
                  <a:pt x="18" y="153"/>
                </a:cubicBezTo>
                <a:cubicBezTo>
                  <a:pt x="16" y="153"/>
                  <a:pt x="18" y="151"/>
                  <a:pt x="18" y="150"/>
                </a:cubicBezTo>
                <a:cubicBezTo>
                  <a:pt x="18" y="149"/>
                  <a:pt x="16" y="149"/>
                  <a:pt x="13" y="151"/>
                </a:cubicBezTo>
                <a:cubicBezTo>
                  <a:pt x="9" y="152"/>
                  <a:pt x="11" y="152"/>
                  <a:pt x="10" y="153"/>
                </a:cubicBezTo>
                <a:cubicBezTo>
                  <a:pt x="10" y="154"/>
                  <a:pt x="10" y="154"/>
                  <a:pt x="9" y="153"/>
                </a:cubicBezTo>
                <a:cubicBezTo>
                  <a:pt x="8" y="153"/>
                  <a:pt x="7" y="153"/>
                  <a:pt x="6" y="153"/>
                </a:cubicBezTo>
                <a:cubicBezTo>
                  <a:pt x="5" y="155"/>
                  <a:pt x="1" y="156"/>
                  <a:pt x="1" y="157"/>
                </a:cubicBezTo>
                <a:cubicBezTo>
                  <a:pt x="0" y="158"/>
                  <a:pt x="5" y="159"/>
                  <a:pt x="7" y="159"/>
                </a:cubicBezTo>
                <a:cubicBezTo>
                  <a:pt x="9" y="160"/>
                  <a:pt x="5" y="161"/>
                  <a:pt x="6" y="161"/>
                </a:cubicBezTo>
                <a:cubicBezTo>
                  <a:pt x="8" y="162"/>
                  <a:pt x="7" y="163"/>
                  <a:pt x="9" y="164"/>
                </a:cubicBezTo>
                <a:cubicBezTo>
                  <a:pt x="12" y="166"/>
                  <a:pt x="17" y="164"/>
                  <a:pt x="18" y="164"/>
                </a:cubicBezTo>
                <a:cubicBezTo>
                  <a:pt x="20" y="164"/>
                  <a:pt x="21" y="166"/>
                  <a:pt x="22" y="165"/>
                </a:cubicBezTo>
                <a:cubicBezTo>
                  <a:pt x="23" y="164"/>
                  <a:pt x="28" y="160"/>
                  <a:pt x="30" y="162"/>
                </a:cubicBezTo>
                <a:cubicBezTo>
                  <a:pt x="32" y="164"/>
                  <a:pt x="27" y="164"/>
                  <a:pt x="29" y="165"/>
                </a:cubicBezTo>
                <a:cubicBezTo>
                  <a:pt x="30" y="166"/>
                  <a:pt x="31" y="169"/>
                  <a:pt x="29" y="171"/>
                </a:cubicBezTo>
                <a:cubicBezTo>
                  <a:pt x="27" y="172"/>
                  <a:pt x="25" y="171"/>
                  <a:pt x="24" y="171"/>
                </a:cubicBezTo>
                <a:cubicBezTo>
                  <a:pt x="23" y="171"/>
                  <a:pt x="23" y="173"/>
                  <a:pt x="22" y="175"/>
                </a:cubicBezTo>
                <a:cubicBezTo>
                  <a:pt x="20" y="176"/>
                  <a:pt x="18" y="173"/>
                  <a:pt x="16" y="173"/>
                </a:cubicBezTo>
                <a:cubicBezTo>
                  <a:pt x="14" y="173"/>
                  <a:pt x="14" y="176"/>
                  <a:pt x="14" y="178"/>
                </a:cubicBezTo>
                <a:cubicBezTo>
                  <a:pt x="15" y="179"/>
                  <a:pt x="11" y="177"/>
                  <a:pt x="10" y="181"/>
                </a:cubicBezTo>
                <a:cubicBezTo>
                  <a:pt x="9" y="184"/>
                  <a:pt x="6" y="181"/>
                  <a:pt x="8" y="184"/>
                </a:cubicBezTo>
                <a:cubicBezTo>
                  <a:pt x="11" y="188"/>
                  <a:pt x="10" y="186"/>
                  <a:pt x="12" y="187"/>
                </a:cubicBezTo>
                <a:cubicBezTo>
                  <a:pt x="14" y="188"/>
                  <a:pt x="10" y="191"/>
                  <a:pt x="12" y="191"/>
                </a:cubicBezTo>
                <a:cubicBezTo>
                  <a:pt x="14" y="191"/>
                  <a:pt x="16" y="195"/>
                  <a:pt x="17" y="196"/>
                </a:cubicBezTo>
                <a:cubicBezTo>
                  <a:pt x="18" y="197"/>
                  <a:pt x="20" y="195"/>
                  <a:pt x="22" y="195"/>
                </a:cubicBezTo>
                <a:cubicBezTo>
                  <a:pt x="24" y="195"/>
                  <a:pt x="23" y="192"/>
                  <a:pt x="24" y="193"/>
                </a:cubicBezTo>
                <a:cubicBezTo>
                  <a:pt x="25" y="194"/>
                  <a:pt x="27" y="197"/>
                  <a:pt x="26" y="198"/>
                </a:cubicBezTo>
                <a:cubicBezTo>
                  <a:pt x="25" y="199"/>
                  <a:pt x="26" y="201"/>
                  <a:pt x="26" y="202"/>
                </a:cubicBezTo>
                <a:cubicBezTo>
                  <a:pt x="25" y="204"/>
                  <a:pt x="30" y="203"/>
                  <a:pt x="30" y="202"/>
                </a:cubicBezTo>
                <a:cubicBezTo>
                  <a:pt x="31" y="201"/>
                  <a:pt x="34" y="200"/>
                  <a:pt x="36" y="202"/>
                </a:cubicBezTo>
                <a:cubicBezTo>
                  <a:pt x="38" y="205"/>
                  <a:pt x="39" y="205"/>
                  <a:pt x="39" y="203"/>
                </a:cubicBezTo>
                <a:cubicBezTo>
                  <a:pt x="39" y="202"/>
                  <a:pt x="40" y="200"/>
                  <a:pt x="40" y="201"/>
                </a:cubicBezTo>
                <a:cubicBezTo>
                  <a:pt x="41" y="202"/>
                  <a:pt x="42" y="203"/>
                  <a:pt x="45" y="202"/>
                </a:cubicBezTo>
                <a:cubicBezTo>
                  <a:pt x="48" y="200"/>
                  <a:pt x="47" y="202"/>
                  <a:pt x="45" y="203"/>
                </a:cubicBezTo>
                <a:cubicBezTo>
                  <a:pt x="43" y="206"/>
                  <a:pt x="45" y="210"/>
                  <a:pt x="44" y="210"/>
                </a:cubicBezTo>
                <a:cubicBezTo>
                  <a:pt x="42" y="211"/>
                  <a:pt x="41" y="215"/>
                  <a:pt x="39" y="215"/>
                </a:cubicBezTo>
                <a:cubicBezTo>
                  <a:pt x="36" y="215"/>
                  <a:pt x="32" y="220"/>
                  <a:pt x="31" y="220"/>
                </a:cubicBezTo>
                <a:cubicBezTo>
                  <a:pt x="31" y="221"/>
                  <a:pt x="30" y="221"/>
                  <a:pt x="29" y="220"/>
                </a:cubicBezTo>
                <a:cubicBezTo>
                  <a:pt x="27" y="220"/>
                  <a:pt x="25" y="220"/>
                  <a:pt x="25" y="221"/>
                </a:cubicBezTo>
                <a:cubicBezTo>
                  <a:pt x="24" y="223"/>
                  <a:pt x="21" y="225"/>
                  <a:pt x="22" y="226"/>
                </a:cubicBezTo>
                <a:cubicBezTo>
                  <a:pt x="22" y="226"/>
                  <a:pt x="27" y="224"/>
                  <a:pt x="27" y="223"/>
                </a:cubicBezTo>
                <a:cubicBezTo>
                  <a:pt x="27" y="222"/>
                  <a:pt x="27" y="222"/>
                  <a:pt x="28" y="223"/>
                </a:cubicBezTo>
                <a:cubicBezTo>
                  <a:pt x="29" y="224"/>
                  <a:pt x="31" y="223"/>
                  <a:pt x="32" y="222"/>
                </a:cubicBezTo>
                <a:cubicBezTo>
                  <a:pt x="33" y="221"/>
                  <a:pt x="34" y="221"/>
                  <a:pt x="35" y="221"/>
                </a:cubicBezTo>
                <a:cubicBezTo>
                  <a:pt x="36" y="221"/>
                  <a:pt x="36" y="220"/>
                  <a:pt x="39" y="220"/>
                </a:cubicBezTo>
                <a:cubicBezTo>
                  <a:pt x="41" y="219"/>
                  <a:pt x="41" y="219"/>
                  <a:pt x="41" y="217"/>
                </a:cubicBezTo>
                <a:cubicBezTo>
                  <a:pt x="42" y="216"/>
                  <a:pt x="48" y="213"/>
                  <a:pt x="49" y="213"/>
                </a:cubicBezTo>
                <a:cubicBezTo>
                  <a:pt x="50" y="213"/>
                  <a:pt x="49" y="211"/>
                  <a:pt x="51" y="211"/>
                </a:cubicBezTo>
                <a:cubicBezTo>
                  <a:pt x="52" y="211"/>
                  <a:pt x="54" y="209"/>
                  <a:pt x="55" y="208"/>
                </a:cubicBezTo>
                <a:cubicBezTo>
                  <a:pt x="57" y="206"/>
                  <a:pt x="57" y="207"/>
                  <a:pt x="58" y="207"/>
                </a:cubicBezTo>
                <a:cubicBezTo>
                  <a:pt x="60" y="206"/>
                  <a:pt x="59" y="204"/>
                  <a:pt x="60" y="203"/>
                </a:cubicBezTo>
                <a:cubicBezTo>
                  <a:pt x="61" y="203"/>
                  <a:pt x="62" y="202"/>
                  <a:pt x="62" y="201"/>
                </a:cubicBezTo>
                <a:cubicBezTo>
                  <a:pt x="62" y="200"/>
                  <a:pt x="59" y="200"/>
                  <a:pt x="59" y="200"/>
                </a:cubicBezTo>
                <a:cubicBezTo>
                  <a:pt x="58" y="199"/>
                  <a:pt x="61" y="196"/>
                  <a:pt x="62" y="197"/>
                </a:cubicBezTo>
                <a:cubicBezTo>
                  <a:pt x="63" y="197"/>
                  <a:pt x="65" y="195"/>
                  <a:pt x="65" y="194"/>
                </a:cubicBezTo>
                <a:cubicBezTo>
                  <a:pt x="65" y="192"/>
                  <a:pt x="67" y="192"/>
                  <a:pt x="68" y="191"/>
                </a:cubicBezTo>
                <a:cubicBezTo>
                  <a:pt x="69" y="190"/>
                  <a:pt x="69" y="188"/>
                  <a:pt x="70" y="188"/>
                </a:cubicBezTo>
                <a:cubicBezTo>
                  <a:pt x="71" y="188"/>
                  <a:pt x="72" y="187"/>
                  <a:pt x="74" y="186"/>
                </a:cubicBezTo>
                <a:cubicBezTo>
                  <a:pt x="75" y="185"/>
                  <a:pt x="74" y="187"/>
                  <a:pt x="76" y="187"/>
                </a:cubicBezTo>
                <a:cubicBezTo>
                  <a:pt x="79" y="187"/>
                  <a:pt x="78" y="189"/>
                  <a:pt x="76" y="188"/>
                </a:cubicBezTo>
                <a:cubicBezTo>
                  <a:pt x="74" y="188"/>
                  <a:pt x="74" y="188"/>
                  <a:pt x="72" y="189"/>
                </a:cubicBezTo>
                <a:cubicBezTo>
                  <a:pt x="70" y="191"/>
                  <a:pt x="72" y="191"/>
                  <a:pt x="70" y="193"/>
                </a:cubicBezTo>
                <a:cubicBezTo>
                  <a:pt x="69" y="195"/>
                  <a:pt x="69" y="196"/>
                  <a:pt x="71" y="196"/>
                </a:cubicBezTo>
                <a:cubicBezTo>
                  <a:pt x="72" y="196"/>
                  <a:pt x="71" y="198"/>
                  <a:pt x="69" y="198"/>
                </a:cubicBezTo>
                <a:cubicBezTo>
                  <a:pt x="67" y="199"/>
                  <a:pt x="69" y="200"/>
                  <a:pt x="71" y="200"/>
                </a:cubicBezTo>
                <a:cubicBezTo>
                  <a:pt x="73" y="200"/>
                  <a:pt x="76" y="196"/>
                  <a:pt x="79" y="195"/>
                </a:cubicBezTo>
                <a:cubicBezTo>
                  <a:pt x="81" y="194"/>
                  <a:pt x="83" y="194"/>
                  <a:pt x="84" y="194"/>
                </a:cubicBezTo>
                <a:cubicBezTo>
                  <a:pt x="84" y="195"/>
                  <a:pt x="85" y="195"/>
                  <a:pt x="85" y="195"/>
                </a:cubicBezTo>
                <a:cubicBezTo>
                  <a:pt x="86" y="194"/>
                  <a:pt x="84" y="193"/>
                  <a:pt x="85" y="192"/>
                </a:cubicBezTo>
                <a:cubicBezTo>
                  <a:pt x="86" y="192"/>
                  <a:pt x="84" y="192"/>
                  <a:pt x="83" y="190"/>
                </a:cubicBezTo>
                <a:cubicBezTo>
                  <a:pt x="83" y="188"/>
                  <a:pt x="84" y="189"/>
                  <a:pt x="85" y="188"/>
                </a:cubicBezTo>
                <a:cubicBezTo>
                  <a:pt x="85" y="186"/>
                  <a:pt x="86" y="187"/>
                  <a:pt x="87" y="188"/>
                </a:cubicBezTo>
                <a:cubicBezTo>
                  <a:pt x="88" y="188"/>
                  <a:pt x="88" y="188"/>
                  <a:pt x="88" y="188"/>
                </a:cubicBezTo>
                <a:cubicBezTo>
                  <a:pt x="89" y="188"/>
                  <a:pt x="90" y="188"/>
                  <a:pt x="90" y="189"/>
                </a:cubicBezTo>
                <a:cubicBezTo>
                  <a:pt x="91" y="190"/>
                  <a:pt x="91" y="190"/>
                  <a:pt x="92" y="189"/>
                </a:cubicBezTo>
                <a:cubicBezTo>
                  <a:pt x="92" y="189"/>
                  <a:pt x="93" y="189"/>
                  <a:pt x="94" y="190"/>
                </a:cubicBezTo>
                <a:cubicBezTo>
                  <a:pt x="95" y="191"/>
                  <a:pt x="93" y="191"/>
                  <a:pt x="92" y="191"/>
                </a:cubicBezTo>
                <a:cubicBezTo>
                  <a:pt x="90" y="191"/>
                  <a:pt x="91" y="194"/>
                  <a:pt x="92" y="192"/>
                </a:cubicBezTo>
                <a:cubicBezTo>
                  <a:pt x="93" y="191"/>
                  <a:pt x="94" y="191"/>
                  <a:pt x="96" y="192"/>
                </a:cubicBezTo>
                <a:cubicBezTo>
                  <a:pt x="97" y="193"/>
                  <a:pt x="97" y="192"/>
                  <a:pt x="98" y="191"/>
                </a:cubicBezTo>
                <a:cubicBezTo>
                  <a:pt x="99" y="190"/>
                  <a:pt x="99" y="192"/>
                  <a:pt x="99" y="192"/>
                </a:cubicBezTo>
                <a:cubicBezTo>
                  <a:pt x="99" y="193"/>
                  <a:pt x="101" y="193"/>
                  <a:pt x="104" y="194"/>
                </a:cubicBezTo>
                <a:cubicBezTo>
                  <a:pt x="107" y="194"/>
                  <a:pt x="112" y="194"/>
                  <a:pt x="113" y="194"/>
                </a:cubicBezTo>
                <a:cubicBezTo>
                  <a:pt x="114" y="193"/>
                  <a:pt x="114" y="195"/>
                  <a:pt x="117" y="196"/>
                </a:cubicBezTo>
                <a:cubicBezTo>
                  <a:pt x="118" y="196"/>
                  <a:pt x="119" y="196"/>
                  <a:pt x="120" y="195"/>
                </a:cubicBezTo>
                <a:cubicBezTo>
                  <a:pt x="121" y="194"/>
                  <a:pt x="121" y="194"/>
                  <a:pt x="122" y="194"/>
                </a:cubicBezTo>
                <a:cubicBezTo>
                  <a:pt x="124" y="196"/>
                  <a:pt x="122" y="196"/>
                  <a:pt x="121" y="197"/>
                </a:cubicBezTo>
                <a:cubicBezTo>
                  <a:pt x="120" y="198"/>
                  <a:pt x="122" y="198"/>
                  <a:pt x="123" y="198"/>
                </a:cubicBezTo>
                <a:cubicBezTo>
                  <a:pt x="124" y="199"/>
                  <a:pt x="127" y="200"/>
                  <a:pt x="128" y="201"/>
                </a:cubicBezTo>
                <a:cubicBezTo>
                  <a:pt x="129" y="202"/>
                  <a:pt x="130" y="203"/>
                  <a:pt x="133" y="205"/>
                </a:cubicBezTo>
                <a:cubicBezTo>
                  <a:pt x="135" y="206"/>
                  <a:pt x="135" y="205"/>
                  <a:pt x="135" y="204"/>
                </a:cubicBezTo>
                <a:cubicBezTo>
                  <a:pt x="135" y="203"/>
                  <a:pt x="134" y="202"/>
                  <a:pt x="136" y="203"/>
                </a:cubicBezTo>
                <a:cubicBezTo>
                  <a:pt x="138" y="205"/>
                  <a:pt x="137" y="203"/>
                  <a:pt x="139" y="205"/>
                </a:cubicBezTo>
                <a:cubicBezTo>
                  <a:pt x="141" y="206"/>
                  <a:pt x="140" y="204"/>
                  <a:pt x="139" y="201"/>
                </a:cubicBezTo>
                <a:cubicBezTo>
                  <a:pt x="139" y="198"/>
                  <a:pt x="140" y="200"/>
                  <a:pt x="141" y="202"/>
                </a:cubicBezTo>
                <a:cubicBezTo>
                  <a:pt x="142" y="203"/>
                  <a:pt x="142" y="205"/>
                  <a:pt x="141" y="207"/>
                </a:cubicBezTo>
                <a:cubicBezTo>
                  <a:pt x="141" y="209"/>
                  <a:pt x="138" y="207"/>
                  <a:pt x="138" y="206"/>
                </a:cubicBezTo>
                <a:cubicBezTo>
                  <a:pt x="139" y="205"/>
                  <a:pt x="135" y="206"/>
                  <a:pt x="135" y="207"/>
                </a:cubicBezTo>
                <a:cubicBezTo>
                  <a:pt x="135" y="208"/>
                  <a:pt x="137" y="211"/>
                  <a:pt x="139" y="211"/>
                </a:cubicBezTo>
                <a:cubicBezTo>
                  <a:pt x="140" y="212"/>
                  <a:pt x="139" y="214"/>
                  <a:pt x="140" y="214"/>
                </a:cubicBezTo>
                <a:cubicBezTo>
                  <a:pt x="141" y="215"/>
                  <a:pt x="141" y="217"/>
                  <a:pt x="142" y="217"/>
                </a:cubicBezTo>
                <a:cubicBezTo>
                  <a:pt x="143" y="216"/>
                  <a:pt x="143" y="213"/>
                  <a:pt x="142" y="212"/>
                </a:cubicBezTo>
                <a:cubicBezTo>
                  <a:pt x="141" y="211"/>
                  <a:pt x="141" y="209"/>
                  <a:pt x="142" y="209"/>
                </a:cubicBezTo>
                <a:cubicBezTo>
                  <a:pt x="144" y="210"/>
                  <a:pt x="142" y="212"/>
                  <a:pt x="143" y="212"/>
                </a:cubicBezTo>
                <a:cubicBezTo>
                  <a:pt x="144" y="213"/>
                  <a:pt x="144" y="212"/>
                  <a:pt x="146" y="211"/>
                </a:cubicBezTo>
                <a:cubicBezTo>
                  <a:pt x="147" y="210"/>
                  <a:pt x="145" y="208"/>
                  <a:pt x="145" y="207"/>
                </a:cubicBezTo>
                <a:cubicBezTo>
                  <a:pt x="146" y="206"/>
                  <a:pt x="147" y="208"/>
                  <a:pt x="148" y="210"/>
                </a:cubicBezTo>
                <a:cubicBezTo>
                  <a:pt x="149" y="212"/>
                  <a:pt x="147" y="212"/>
                  <a:pt x="147" y="213"/>
                </a:cubicBezTo>
                <a:cubicBezTo>
                  <a:pt x="147" y="214"/>
                  <a:pt x="145" y="213"/>
                  <a:pt x="144" y="214"/>
                </a:cubicBezTo>
                <a:cubicBezTo>
                  <a:pt x="144" y="214"/>
                  <a:pt x="144" y="218"/>
                  <a:pt x="145" y="218"/>
                </a:cubicBezTo>
                <a:cubicBezTo>
                  <a:pt x="145" y="218"/>
                  <a:pt x="145" y="218"/>
                  <a:pt x="146" y="217"/>
                </a:cubicBezTo>
                <a:cubicBezTo>
                  <a:pt x="146" y="216"/>
                  <a:pt x="146" y="216"/>
                  <a:pt x="146" y="217"/>
                </a:cubicBezTo>
                <a:cubicBezTo>
                  <a:pt x="147" y="217"/>
                  <a:pt x="147" y="217"/>
                  <a:pt x="148" y="216"/>
                </a:cubicBezTo>
                <a:cubicBezTo>
                  <a:pt x="148" y="216"/>
                  <a:pt x="149" y="215"/>
                  <a:pt x="149" y="216"/>
                </a:cubicBezTo>
                <a:cubicBezTo>
                  <a:pt x="150" y="218"/>
                  <a:pt x="152" y="219"/>
                  <a:pt x="153" y="219"/>
                </a:cubicBezTo>
                <a:cubicBezTo>
                  <a:pt x="154" y="219"/>
                  <a:pt x="152" y="217"/>
                  <a:pt x="151" y="217"/>
                </a:cubicBezTo>
                <a:cubicBezTo>
                  <a:pt x="150" y="217"/>
                  <a:pt x="150" y="215"/>
                  <a:pt x="151" y="215"/>
                </a:cubicBezTo>
                <a:cubicBezTo>
                  <a:pt x="152" y="214"/>
                  <a:pt x="155" y="218"/>
                  <a:pt x="154" y="219"/>
                </a:cubicBezTo>
                <a:cubicBezTo>
                  <a:pt x="154" y="220"/>
                  <a:pt x="153" y="220"/>
                  <a:pt x="152" y="221"/>
                </a:cubicBezTo>
                <a:cubicBezTo>
                  <a:pt x="152" y="222"/>
                  <a:pt x="151" y="221"/>
                  <a:pt x="150" y="220"/>
                </a:cubicBezTo>
                <a:cubicBezTo>
                  <a:pt x="150" y="220"/>
                  <a:pt x="149" y="219"/>
                  <a:pt x="149" y="219"/>
                </a:cubicBezTo>
                <a:cubicBezTo>
                  <a:pt x="147" y="219"/>
                  <a:pt x="149" y="221"/>
                  <a:pt x="149" y="222"/>
                </a:cubicBezTo>
                <a:cubicBezTo>
                  <a:pt x="150" y="224"/>
                  <a:pt x="148" y="226"/>
                  <a:pt x="149" y="227"/>
                </a:cubicBezTo>
                <a:cubicBezTo>
                  <a:pt x="151" y="228"/>
                  <a:pt x="150" y="226"/>
                  <a:pt x="151" y="225"/>
                </a:cubicBezTo>
                <a:cubicBezTo>
                  <a:pt x="151" y="224"/>
                  <a:pt x="152" y="225"/>
                  <a:pt x="153" y="226"/>
                </a:cubicBezTo>
                <a:cubicBezTo>
                  <a:pt x="154" y="227"/>
                  <a:pt x="154" y="224"/>
                  <a:pt x="154" y="224"/>
                </a:cubicBezTo>
                <a:cubicBezTo>
                  <a:pt x="154" y="223"/>
                  <a:pt x="155" y="223"/>
                  <a:pt x="156" y="224"/>
                </a:cubicBezTo>
                <a:cubicBezTo>
                  <a:pt x="157" y="225"/>
                  <a:pt x="157" y="225"/>
                  <a:pt x="157" y="224"/>
                </a:cubicBezTo>
                <a:cubicBezTo>
                  <a:pt x="157" y="224"/>
                  <a:pt x="158" y="223"/>
                  <a:pt x="158" y="223"/>
                </a:cubicBezTo>
                <a:cubicBezTo>
                  <a:pt x="159" y="224"/>
                  <a:pt x="158" y="225"/>
                  <a:pt x="158" y="226"/>
                </a:cubicBezTo>
                <a:cubicBezTo>
                  <a:pt x="158" y="227"/>
                  <a:pt x="159" y="227"/>
                  <a:pt x="159" y="226"/>
                </a:cubicBezTo>
                <a:cubicBezTo>
                  <a:pt x="160" y="226"/>
                  <a:pt x="160" y="226"/>
                  <a:pt x="160" y="227"/>
                </a:cubicBezTo>
                <a:cubicBezTo>
                  <a:pt x="160" y="228"/>
                  <a:pt x="161" y="228"/>
                  <a:pt x="162" y="229"/>
                </a:cubicBezTo>
                <a:cubicBezTo>
                  <a:pt x="163" y="230"/>
                  <a:pt x="160" y="230"/>
                  <a:pt x="161" y="231"/>
                </a:cubicBezTo>
                <a:cubicBezTo>
                  <a:pt x="162" y="232"/>
                  <a:pt x="161" y="233"/>
                  <a:pt x="162" y="234"/>
                </a:cubicBezTo>
                <a:cubicBezTo>
                  <a:pt x="163" y="235"/>
                  <a:pt x="164" y="235"/>
                  <a:pt x="165" y="234"/>
                </a:cubicBezTo>
                <a:cubicBezTo>
                  <a:pt x="166" y="233"/>
                  <a:pt x="167" y="235"/>
                  <a:pt x="166" y="237"/>
                </a:cubicBezTo>
                <a:cubicBezTo>
                  <a:pt x="165" y="238"/>
                  <a:pt x="167" y="239"/>
                  <a:pt x="168" y="238"/>
                </a:cubicBezTo>
                <a:cubicBezTo>
                  <a:pt x="169" y="237"/>
                  <a:pt x="171" y="240"/>
                  <a:pt x="172" y="240"/>
                </a:cubicBezTo>
                <a:cubicBezTo>
                  <a:pt x="172" y="241"/>
                  <a:pt x="173" y="242"/>
                  <a:pt x="172" y="242"/>
                </a:cubicBezTo>
                <a:cubicBezTo>
                  <a:pt x="170" y="242"/>
                  <a:pt x="171" y="244"/>
                  <a:pt x="172" y="245"/>
                </a:cubicBezTo>
                <a:cubicBezTo>
                  <a:pt x="173" y="245"/>
                  <a:pt x="173" y="246"/>
                  <a:pt x="173" y="247"/>
                </a:cubicBezTo>
                <a:cubicBezTo>
                  <a:pt x="173" y="248"/>
                  <a:pt x="176" y="249"/>
                  <a:pt x="177" y="249"/>
                </a:cubicBezTo>
                <a:cubicBezTo>
                  <a:pt x="178" y="248"/>
                  <a:pt x="179" y="249"/>
                  <a:pt x="180" y="250"/>
                </a:cubicBezTo>
                <a:cubicBezTo>
                  <a:pt x="181" y="251"/>
                  <a:pt x="183" y="252"/>
                  <a:pt x="184" y="251"/>
                </a:cubicBezTo>
                <a:cubicBezTo>
                  <a:pt x="185" y="251"/>
                  <a:pt x="185" y="253"/>
                  <a:pt x="185" y="254"/>
                </a:cubicBezTo>
                <a:cubicBezTo>
                  <a:pt x="185" y="255"/>
                  <a:pt x="187" y="255"/>
                  <a:pt x="189" y="254"/>
                </a:cubicBezTo>
                <a:cubicBezTo>
                  <a:pt x="189" y="254"/>
                  <a:pt x="189" y="255"/>
                  <a:pt x="190" y="255"/>
                </a:cubicBezTo>
                <a:cubicBezTo>
                  <a:pt x="190" y="255"/>
                  <a:pt x="191" y="256"/>
                  <a:pt x="191" y="256"/>
                </a:cubicBezTo>
                <a:cubicBezTo>
                  <a:pt x="193" y="255"/>
                  <a:pt x="193" y="259"/>
                  <a:pt x="195" y="260"/>
                </a:cubicBezTo>
                <a:cubicBezTo>
                  <a:pt x="196" y="262"/>
                  <a:pt x="195" y="263"/>
                  <a:pt x="195" y="265"/>
                </a:cubicBezTo>
                <a:cubicBezTo>
                  <a:pt x="196" y="266"/>
                  <a:pt x="196" y="269"/>
                  <a:pt x="194" y="269"/>
                </a:cubicBezTo>
                <a:cubicBezTo>
                  <a:pt x="193" y="269"/>
                  <a:pt x="193" y="267"/>
                  <a:pt x="194" y="267"/>
                </a:cubicBezTo>
                <a:cubicBezTo>
                  <a:pt x="195" y="266"/>
                  <a:pt x="194" y="264"/>
                  <a:pt x="193" y="264"/>
                </a:cubicBezTo>
                <a:cubicBezTo>
                  <a:pt x="192" y="264"/>
                  <a:pt x="192" y="262"/>
                  <a:pt x="193" y="261"/>
                </a:cubicBezTo>
                <a:cubicBezTo>
                  <a:pt x="193" y="260"/>
                  <a:pt x="191" y="260"/>
                  <a:pt x="190" y="259"/>
                </a:cubicBezTo>
                <a:cubicBezTo>
                  <a:pt x="189" y="258"/>
                  <a:pt x="186" y="258"/>
                  <a:pt x="185" y="257"/>
                </a:cubicBezTo>
                <a:cubicBezTo>
                  <a:pt x="185" y="256"/>
                  <a:pt x="182" y="251"/>
                  <a:pt x="180" y="251"/>
                </a:cubicBezTo>
                <a:cubicBezTo>
                  <a:pt x="179" y="251"/>
                  <a:pt x="176" y="252"/>
                  <a:pt x="175" y="250"/>
                </a:cubicBezTo>
                <a:cubicBezTo>
                  <a:pt x="173" y="249"/>
                  <a:pt x="171" y="249"/>
                  <a:pt x="170" y="249"/>
                </a:cubicBezTo>
                <a:cubicBezTo>
                  <a:pt x="169" y="250"/>
                  <a:pt x="172" y="250"/>
                  <a:pt x="171" y="251"/>
                </a:cubicBezTo>
                <a:cubicBezTo>
                  <a:pt x="171" y="252"/>
                  <a:pt x="172" y="253"/>
                  <a:pt x="173" y="253"/>
                </a:cubicBezTo>
                <a:cubicBezTo>
                  <a:pt x="175" y="253"/>
                  <a:pt x="175" y="255"/>
                  <a:pt x="176" y="255"/>
                </a:cubicBezTo>
                <a:cubicBezTo>
                  <a:pt x="177" y="255"/>
                  <a:pt x="178" y="257"/>
                  <a:pt x="179" y="257"/>
                </a:cubicBezTo>
                <a:cubicBezTo>
                  <a:pt x="181" y="257"/>
                  <a:pt x="181" y="258"/>
                  <a:pt x="181" y="259"/>
                </a:cubicBezTo>
                <a:cubicBezTo>
                  <a:pt x="182" y="260"/>
                  <a:pt x="184" y="259"/>
                  <a:pt x="184" y="260"/>
                </a:cubicBezTo>
                <a:cubicBezTo>
                  <a:pt x="184" y="261"/>
                  <a:pt x="185" y="262"/>
                  <a:pt x="186" y="263"/>
                </a:cubicBezTo>
                <a:cubicBezTo>
                  <a:pt x="186" y="264"/>
                  <a:pt x="186" y="267"/>
                  <a:pt x="188" y="269"/>
                </a:cubicBezTo>
                <a:cubicBezTo>
                  <a:pt x="189" y="271"/>
                  <a:pt x="188" y="272"/>
                  <a:pt x="190" y="273"/>
                </a:cubicBezTo>
                <a:cubicBezTo>
                  <a:pt x="191" y="273"/>
                  <a:pt x="191" y="274"/>
                  <a:pt x="190" y="274"/>
                </a:cubicBezTo>
                <a:cubicBezTo>
                  <a:pt x="188" y="274"/>
                  <a:pt x="189" y="275"/>
                  <a:pt x="189" y="278"/>
                </a:cubicBezTo>
                <a:cubicBezTo>
                  <a:pt x="188" y="281"/>
                  <a:pt x="188" y="286"/>
                  <a:pt x="188" y="288"/>
                </a:cubicBezTo>
                <a:cubicBezTo>
                  <a:pt x="188" y="290"/>
                  <a:pt x="186" y="293"/>
                  <a:pt x="187" y="295"/>
                </a:cubicBezTo>
                <a:cubicBezTo>
                  <a:pt x="188" y="297"/>
                  <a:pt x="189" y="299"/>
                  <a:pt x="188" y="302"/>
                </a:cubicBezTo>
                <a:cubicBezTo>
                  <a:pt x="188" y="304"/>
                  <a:pt x="188" y="305"/>
                  <a:pt x="189" y="307"/>
                </a:cubicBezTo>
                <a:cubicBezTo>
                  <a:pt x="190" y="309"/>
                  <a:pt x="189" y="312"/>
                  <a:pt x="190" y="313"/>
                </a:cubicBezTo>
                <a:cubicBezTo>
                  <a:pt x="191" y="313"/>
                  <a:pt x="192" y="315"/>
                  <a:pt x="193" y="316"/>
                </a:cubicBezTo>
                <a:cubicBezTo>
                  <a:pt x="194" y="318"/>
                  <a:pt x="195" y="317"/>
                  <a:pt x="196" y="319"/>
                </a:cubicBezTo>
                <a:cubicBezTo>
                  <a:pt x="196" y="321"/>
                  <a:pt x="196" y="321"/>
                  <a:pt x="197" y="321"/>
                </a:cubicBezTo>
                <a:cubicBezTo>
                  <a:pt x="199" y="322"/>
                  <a:pt x="198" y="324"/>
                  <a:pt x="198" y="325"/>
                </a:cubicBezTo>
                <a:cubicBezTo>
                  <a:pt x="198" y="326"/>
                  <a:pt x="200" y="327"/>
                  <a:pt x="202" y="330"/>
                </a:cubicBezTo>
                <a:cubicBezTo>
                  <a:pt x="205" y="332"/>
                  <a:pt x="203" y="334"/>
                  <a:pt x="204" y="334"/>
                </a:cubicBezTo>
                <a:cubicBezTo>
                  <a:pt x="206" y="334"/>
                  <a:pt x="208" y="335"/>
                  <a:pt x="210" y="336"/>
                </a:cubicBezTo>
                <a:cubicBezTo>
                  <a:pt x="211" y="336"/>
                  <a:pt x="212" y="336"/>
                  <a:pt x="212" y="336"/>
                </a:cubicBezTo>
                <a:cubicBezTo>
                  <a:pt x="213" y="336"/>
                  <a:pt x="213" y="336"/>
                  <a:pt x="213" y="336"/>
                </a:cubicBezTo>
                <a:cubicBezTo>
                  <a:pt x="215" y="337"/>
                  <a:pt x="217" y="339"/>
                  <a:pt x="217" y="341"/>
                </a:cubicBezTo>
                <a:cubicBezTo>
                  <a:pt x="218" y="343"/>
                  <a:pt x="218" y="345"/>
                  <a:pt x="220" y="347"/>
                </a:cubicBezTo>
                <a:cubicBezTo>
                  <a:pt x="222" y="350"/>
                  <a:pt x="224" y="354"/>
                  <a:pt x="224" y="356"/>
                </a:cubicBezTo>
                <a:cubicBezTo>
                  <a:pt x="224" y="357"/>
                  <a:pt x="227" y="358"/>
                  <a:pt x="229" y="360"/>
                </a:cubicBezTo>
                <a:cubicBezTo>
                  <a:pt x="232" y="361"/>
                  <a:pt x="232" y="365"/>
                  <a:pt x="231" y="366"/>
                </a:cubicBezTo>
                <a:cubicBezTo>
                  <a:pt x="231" y="366"/>
                  <a:pt x="230" y="366"/>
                  <a:pt x="230" y="366"/>
                </a:cubicBezTo>
                <a:cubicBezTo>
                  <a:pt x="229" y="366"/>
                  <a:pt x="228" y="365"/>
                  <a:pt x="228" y="366"/>
                </a:cubicBezTo>
                <a:cubicBezTo>
                  <a:pt x="228" y="367"/>
                  <a:pt x="232" y="370"/>
                  <a:pt x="233" y="370"/>
                </a:cubicBezTo>
                <a:cubicBezTo>
                  <a:pt x="235" y="370"/>
                  <a:pt x="236" y="371"/>
                  <a:pt x="238" y="373"/>
                </a:cubicBezTo>
                <a:cubicBezTo>
                  <a:pt x="240" y="375"/>
                  <a:pt x="240" y="377"/>
                  <a:pt x="239" y="378"/>
                </a:cubicBezTo>
                <a:cubicBezTo>
                  <a:pt x="238" y="379"/>
                  <a:pt x="241" y="380"/>
                  <a:pt x="244" y="382"/>
                </a:cubicBezTo>
                <a:cubicBezTo>
                  <a:pt x="247" y="384"/>
                  <a:pt x="248" y="387"/>
                  <a:pt x="248" y="388"/>
                </a:cubicBezTo>
                <a:cubicBezTo>
                  <a:pt x="249" y="389"/>
                  <a:pt x="250" y="388"/>
                  <a:pt x="251" y="386"/>
                </a:cubicBezTo>
                <a:cubicBezTo>
                  <a:pt x="251" y="385"/>
                  <a:pt x="250" y="385"/>
                  <a:pt x="250" y="383"/>
                </a:cubicBezTo>
                <a:cubicBezTo>
                  <a:pt x="250" y="381"/>
                  <a:pt x="247" y="382"/>
                  <a:pt x="246" y="381"/>
                </a:cubicBezTo>
                <a:cubicBezTo>
                  <a:pt x="245" y="381"/>
                  <a:pt x="246" y="379"/>
                  <a:pt x="245" y="378"/>
                </a:cubicBezTo>
                <a:cubicBezTo>
                  <a:pt x="244" y="377"/>
                  <a:pt x="243" y="374"/>
                  <a:pt x="242" y="372"/>
                </a:cubicBezTo>
                <a:cubicBezTo>
                  <a:pt x="242" y="370"/>
                  <a:pt x="239" y="368"/>
                  <a:pt x="238" y="365"/>
                </a:cubicBezTo>
                <a:cubicBezTo>
                  <a:pt x="236" y="363"/>
                  <a:pt x="235" y="361"/>
                  <a:pt x="234" y="361"/>
                </a:cubicBezTo>
                <a:cubicBezTo>
                  <a:pt x="233" y="360"/>
                  <a:pt x="235" y="359"/>
                  <a:pt x="235" y="358"/>
                </a:cubicBezTo>
                <a:cubicBezTo>
                  <a:pt x="234" y="358"/>
                  <a:pt x="233" y="358"/>
                  <a:pt x="231" y="357"/>
                </a:cubicBezTo>
                <a:cubicBezTo>
                  <a:pt x="230" y="356"/>
                  <a:pt x="229" y="355"/>
                  <a:pt x="229" y="354"/>
                </a:cubicBezTo>
                <a:cubicBezTo>
                  <a:pt x="229" y="352"/>
                  <a:pt x="228" y="349"/>
                  <a:pt x="228" y="347"/>
                </a:cubicBezTo>
                <a:cubicBezTo>
                  <a:pt x="227" y="346"/>
                  <a:pt x="229" y="346"/>
                  <a:pt x="229" y="347"/>
                </a:cubicBezTo>
                <a:cubicBezTo>
                  <a:pt x="230" y="347"/>
                  <a:pt x="230" y="348"/>
                  <a:pt x="231" y="348"/>
                </a:cubicBezTo>
                <a:cubicBezTo>
                  <a:pt x="231" y="347"/>
                  <a:pt x="232" y="348"/>
                  <a:pt x="233" y="349"/>
                </a:cubicBezTo>
                <a:cubicBezTo>
                  <a:pt x="233" y="349"/>
                  <a:pt x="234" y="349"/>
                  <a:pt x="234" y="349"/>
                </a:cubicBezTo>
                <a:cubicBezTo>
                  <a:pt x="235" y="349"/>
                  <a:pt x="235" y="349"/>
                  <a:pt x="236" y="349"/>
                </a:cubicBezTo>
                <a:cubicBezTo>
                  <a:pt x="236" y="350"/>
                  <a:pt x="234" y="350"/>
                  <a:pt x="236" y="355"/>
                </a:cubicBezTo>
                <a:cubicBezTo>
                  <a:pt x="239" y="359"/>
                  <a:pt x="237" y="356"/>
                  <a:pt x="237" y="359"/>
                </a:cubicBezTo>
                <a:cubicBezTo>
                  <a:pt x="237" y="362"/>
                  <a:pt x="239" y="361"/>
                  <a:pt x="239" y="360"/>
                </a:cubicBezTo>
                <a:cubicBezTo>
                  <a:pt x="240" y="360"/>
                  <a:pt x="241" y="361"/>
                  <a:pt x="242" y="363"/>
                </a:cubicBezTo>
                <a:cubicBezTo>
                  <a:pt x="243" y="364"/>
                  <a:pt x="246" y="365"/>
                  <a:pt x="246" y="365"/>
                </a:cubicBezTo>
                <a:cubicBezTo>
                  <a:pt x="246" y="366"/>
                  <a:pt x="246" y="368"/>
                  <a:pt x="248" y="368"/>
                </a:cubicBezTo>
                <a:cubicBezTo>
                  <a:pt x="249" y="368"/>
                  <a:pt x="250" y="370"/>
                  <a:pt x="251" y="370"/>
                </a:cubicBezTo>
                <a:cubicBezTo>
                  <a:pt x="252" y="371"/>
                  <a:pt x="252" y="372"/>
                  <a:pt x="251" y="373"/>
                </a:cubicBezTo>
                <a:cubicBezTo>
                  <a:pt x="251" y="374"/>
                  <a:pt x="251" y="375"/>
                  <a:pt x="254" y="376"/>
                </a:cubicBezTo>
                <a:cubicBezTo>
                  <a:pt x="257" y="377"/>
                  <a:pt x="255" y="378"/>
                  <a:pt x="258" y="379"/>
                </a:cubicBezTo>
                <a:cubicBezTo>
                  <a:pt x="260" y="381"/>
                  <a:pt x="265" y="388"/>
                  <a:pt x="267" y="390"/>
                </a:cubicBezTo>
                <a:cubicBezTo>
                  <a:pt x="268" y="391"/>
                  <a:pt x="268" y="393"/>
                  <a:pt x="269" y="394"/>
                </a:cubicBezTo>
                <a:cubicBezTo>
                  <a:pt x="269" y="396"/>
                  <a:pt x="268" y="396"/>
                  <a:pt x="269" y="397"/>
                </a:cubicBezTo>
                <a:cubicBezTo>
                  <a:pt x="269" y="399"/>
                  <a:pt x="267" y="398"/>
                  <a:pt x="267" y="399"/>
                </a:cubicBezTo>
                <a:cubicBezTo>
                  <a:pt x="267" y="400"/>
                  <a:pt x="269" y="404"/>
                  <a:pt x="271" y="404"/>
                </a:cubicBezTo>
                <a:cubicBezTo>
                  <a:pt x="273" y="404"/>
                  <a:pt x="275" y="407"/>
                  <a:pt x="277" y="408"/>
                </a:cubicBezTo>
                <a:cubicBezTo>
                  <a:pt x="278" y="410"/>
                  <a:pt x="281" y="409"/>
                  <a:pt x="284" y="410"/>
                </a:cubicBezTo>
                <a:cubicBezTo>
                  <a:pt x="286" y="411"/>
                  <a:pt x="288" y="414"/>
                  <a:pt x="292" y="415"/>
                </a:cubicBezTo>
                <a:cubicBezTo>
                  <a:pt x="296" y="416"/>
                  <a:pt x="299" y="417"/>
                  <a:pt x="302" y="419"/>
                </a:cubicBezTo>
                <a:cubicBezTo>
                  <a:pt x="304" y="420"/>
                  <a:pt x="307" y="420"/>
                  <a:pt x="310" y="418"/>
                </a:cubicBezTo>
                <a:cubicBezTo>
                  <a:pt x="313" y="417"/>
                  <a:pt x="316" y="419"/>
                  <a:pt x="318" y="419"/>
                </a:cubicBezTo>
                <a:cubicBezTo>
                  <a:pt x="320" y="420"/>
                  <a:pt x="325" y="426"/>
                  <a:pt x="327" y="427"/>
                </a:cubicBezTo>
                <a:cubicBezTo>
                  <a:pt x="328" y="428"/>
                  <a:pt x="329" y="427"/>
                  <a:pt x="330" y="427"/>
                </a:cubicBezTo>
                <a:cubicBezTo>
                  <a:pt x="331" y="427"/>
                  <a:pt x="332" y="427"/>
                  <a:pt x="333" y="428"/>
                </a:cubicBezTo>
                <a:cubicBezTo>
                  <a:pt x="334" y="429"/>
                  <a:pt x="340" y="431"/>
                  <a:pt x="341" y="431"/>
                </a:cubicBezTo>
                <a:cubicBezTo>
                  <a:pt x="343" y="431"/>
                  <a:pt x="343" y="429"/>
                  <a:pt x="344" y="430"/>
                </a:cubicBezTo>
                <a:cubicBezTo>
                  <a:pt x="345" y="431"/>
                  <a:pt x="344" y="433"/>
                  <a:pt x="345" y="434"/>
                </a:cubicBezTo>
                <a:cubicBezTo>
                  <a:pt x="347" y="434"/>
                  <a:pt x="349" y="438"/>
                  <a:pt x="350" y="439"/>
                </a:cubicBezTo>
                <a:cubicBezTo>
                  <a:pt x="352" y="439"/>
                  <a:pt x="352" y="441"/>
                  <a:pt x="351" y="442"/>
                </a:cubicBezTo>
                <a:cubicBezTo>
                  <a:pt x="350" y="442"/>
                  <a:pt x="350" y="445"/>
                  <a:pt x="352" y="446"/>
                </a:cubicBezTo>
                <a:cubicBezTo>
                  <a:pt x="355" y="446"/>
                  <a:pt x="354" y="445"/>
                  <a:pt x="355" y="445"/>
                </a:cubicBezTo>
                <a:cubicBezTo>
                  <a:pt x="356" y="445"/>
                  <a:pt x="356" y="447"/>
                  <a:pt x="357" y="447"/>
                </a:cubicBezTo>
                <a:cubicBezTo>
                  <a:pt x="358" y="447"/>
                  <a:pt x="360" y="448"/>
                  <a:pt x="360" y="449"/>
                </a:cubicBezTo>
                <a:cubicBezTo>
                  <a:pt x="360" y="451"/>
                  <a:pt x="361" y="452"/>
                  <a:pt x="362" y="452"/>
                </a:cubicBezTo>
                <a:cubicBezTo>
                  <a:pt x="364" y="452"/>
                  <a:pt x="367" y="452"/>
                  <a:pt x="369" y="454"/>
                </a:cubicBezTo>
                <a:cubicBezTo>
                  <a:pt x="370" y="456"/>
                  <a:pt x="371" y="455"/>
                  <a:pt x="372" y="456"/>
                </a:cubicBezTo>
                <a:cubicBezTo>
                  <a:pt x="373" y="458"/>
                  <a:pt x="375" y="456"/>
                  <a:pt x="375" y="455"/>
                </a:cubicBezTo>
                <a:cubicBezTo>
                  <a:pt x="376" y="454"/>
                  <a:pt x="374" y="454"/>
                  <a:pt x="374" y="453"/>
                </a:cubicBezTo>
                <a:cubicBezTo>
                  <a:pt x="374" y="452"/>
                  <a:pt x="376" y="452"/>
                  <a:pt x="376" y="451"/>
                </a:cubicBezTo>
                <a:cubicBezTo>
                  <a:pt x="377" y="449"/>
                  <a:pt x="380" y="449"/>
                  <a:pt x="381" y="449"/>
                </a:cubicBezTo>
                <a:cubicBezTo>
                  <a:pt x="382" y="450"/>
                  <a:pt x="383" y="451"/>
                  <a:pt x="382" y="452"/>
                </a:cubicBezTo>
                <a:cubicBezTo>
                  <a:pt x="381" y="454"/>
                  <a:pt x="385" y="457"/>
                  <a:pt x="386" y="458"/>
                </a:cubicBezTo>
                <a:cubicBezTo>
                  <a:pt x="387" y="459"/>
                  <a:pt x="386" y="461"/>
                  <a:pt x="387" y="461"/>
                </a:cubicBezTo>
                <a:cubicBezTo>
                  <a:pt x="387" y="462"/>
                  <a:pt x="388" y="463"/>
                  <a:pt x="387" y="464"/>
                </a:cubicBezTo>
                <a:cubicBezTo>
                  <a:pt x="386" y="464"/>
                  <a:pt x="387" y="469"/>
                  <a:pt x="388" y="470"/>
                </a:cubicBezTo>
                <a:cubicBezTo>
                  <a:pt x="388" y="471"/>
                  <a:pt x="388" y="472"/>
                  <a:pt x="387" y="474"/>
                </a:cubicBezTo>
                <a:cubicBezTo>
                  <a:pt x="386" y="476"/>
                  <a:pt x="385" y="477"/>
                  <a:pt x="383" y="477"/>
                </a:cubicBezTo>
                <a:cubicBezTo>
                  <a:pt x="381" y="477"/>
                  <a:pt x="382" y="479"/>
                  <a:pt x="381" y="479"/>
                </a:cubicBezTo>
                <a:cubicBezTo>
                  <a:pt x="380" y="479"/>
                  <a:pt x="380" y="481"/>
                  <a:pt x="380" y="482"/>
                </a:cubicBezTo>
                <a:cubicBezTo>
                  <a:pt x="380" y="483"/>
                  <a:pt x="379" y="483"/>
                  <a:pt x="377" y="483"/>
                </a:cubicBezTo>
                <a:cubicBezTo>
                  <a:pt x="376" y="483"/>
                  <a:pt x="376" y="485"/>
                  <a:pt x="376" y="486"/>
                </a:cubicBezTo>
                <a:cubicBezTo>
                  <a:pt x="376" y="488"/>
                  <a:pt x="374" y="488"/>
                  <a:pt x="374" y="489"/>
                </a:cubicBezTo>
                <a:cubicBezTo>
                  <a:pt x="373" y="490"/>
                  <a:pt x="374" y="491"/>
                  <a:pt x="373" y="491"/>
                </a:cubicBezTo>
                <a:cubicBezTo>
                  <a:pt x="371" y="492"/>
                  <a:pt x="371" y="493"/>
                  <a:pt x="372" y="494"/>
                </a:cubicBezTo>
                <a:cubicBezTo>
                  <a:pt x="373" y="495"/>
                  <a:pt x="372" y="496"/>
                  <a:pt x="372" y="497"/>
                </a:cubicBezTo>
                <a:cubicBezTo>
                  <a:pt x="371" y="498"/>
                  <a:pt x="373" y="498"/>
                  <a:pt x="374" y="499"/>
                </a:cubicBezTo>
                <a:cubicBezTo>
                  <a:pt x="375" y="500"/>
                  <a:pt x="375" y="500"/>
                  <a:pt x="375" y="499"/>
                </a:cubicBezTo>
                <a:cubicBezTo>
                  <a:pt x="376" y="499"/>
                  <a:pt x="376" y="499"/>
                  <a:pt x="376" y="500"/>
                </a:cubicBezTo>
                <a:cubicBezTo>
                  <a:pt x="377" y="501"/>
                  <a:pt x="376" y="502"/>
                  <a:pt x="374" y="502"/>
                </a:cubicBezTo>
                <a:cubicBezTo>
                  <a:pt x="373" y="502"/>
                  <a:pt x="371" y="504"/>
                  <a:pt x="370" y="506"/>
                </a:cubicBezTo>
                <a:cubicBezTo>
                  <a:pt x="370" y="508"/>
                  <a:pt x="372" y="511"/>
                  <a:pt x="372" y="512"/>
                </a:cubicBezTo>
                <a:cubicBezTo>
                  <a:pt x="372" y="513"/>
                  <a:pt x="371" y="512"/>
                  <a:pt x="371" y="513"/>
                </a:cubicBezTo>
                <a:cubicBezTo>
                  <a:pt x="370" y="514"/>
                  <a:pt x="374" y="516"/>
                  <a:pt x="375" y="517"/>
                </a:cubicBezTo>
                <a:cubicBezTo>
                  <a:pt x="377" y="518"/>
                  <a:pt x="378" y="521"/>
                  <a:pt x="379" y="523"/>
                </a:cubicBezTo>
                <a:cubicBezTo>
                  <a:pt x="381" y="524"/>
                  <a:pt x="381" y="525"/>
                  <a:pt x="382" y="529"/>
                </a:cubicBezTo>
                <a:cubicBezTo>
                  <a:pt x="384" y="533"/>
                  <a:pt x="387" y="539"/>
                  <a:pt x="389" y="542"/>
                </a:cubicBezTo>
                <a:cubicBezTo>
                  <a:pt x="391" y="544"/>
                  <a:pt x="392" y="546"/>
                  <a:pt x="392" y="547"/>
                </a:cubicBezTo>
                <a:cubicBezTo>
                  <a:pt x="391" y="548"/>
                  <a:pt x="392" y="550"/>
                  <a:pt x="393" y="551"/>
                </a:cubicBezTo>
                <a:cubicBezTo>
                  <a:pt x="395" y="552"/>
                  <a:pt x="396" y="554"/>
                  <a:pt x="400" y="556"/>
                </a:cubicBezTo>
                <a:cubicBezTo>
                  <a:pt x="404" y="558"/>
                  <a:pt x="411" y="561"/>
                  <a:pt x="412" y="563"/>
                </a:cubicBezTo>
                <a:cubicBezTo>
                  <a:pt x="413" y="565"/>
                  <a:pt x="417" y="567"/>
                  <a:pt x="417" y="567"/>
                </a:cubicBezTo>
                <a:cubicBezTo>
                  <a:pt x="418" y="567"/>
                  <a:pt x="417" y="570"/>
                  <a:pt x="418" y="572"/>
                </a:cubicBezTo>
                <a:cubicBezTo>
                  <a:pt x="418" y="573"/>
                  <a:pt x="418" y="580"/>
                  <a:pt x="418" y="583"/>
                </a:cubicBezTo>
                <a:cubicBezTo>
                  <a:pt x="417" y="585"/>
                  <a:pt x="417" y="587"/>
                  <a:pt x="416" y="589"/>
                </a:cubicBezTo>
                <a:cubicBezTo>
                  <a:pt x="416" y="591"/>
                  <a:pt x="417" y="591"/>
                  <a:pt x="417" y="591"/>
                </a:cubicBezTo>
                <a:cubicBezTo>
                  <a:pt x="416" y="592"/>
                  <a:pt x="416" y="594"/>
                  <a:pt x="416" y="597"/>
                </a:cubicBezTo>
                <a:cubicBezTo>
                  <a:pt x="416" y="600"/>
                  <a:pt x="414" y="605"/>
                  <a:pt x="414" y="607"/>
                </a:cubicBezTo>
                <a:cubicBezTo>
                  <a:pt x="414" y="608"/>
                  <a:pt x="413" y="609"/>
                  <a:pt x="413" y="611"/>
                </a:cubicBezTo>
                <a:cubicBezTo>
                  <a:pt x="413" y="613"/>
                  <a:pt x="412" y="614"/>
                  <a:pt x="411" y="615"/>
                </a:cubicBezTo>
                <a:cubicBezTo>
                  <a:pt x="410" y="616"/>
                  <a:pt x="413" y="618"/>
                  <a:pt x="413" y="620"/>
                </a:cubicBezTo>
                <a:cubicBezTo>
                  <a:pt x="413" y="621"/>
                  <a:pt x="411" y="622"/>
                  <a:pt x="411" y="625"/>
                </a:cubicBezTo>
                <a:cubicBezTo>
                  <a:pt x="412" y="628"/>
                  <a:pt x="411" y="633"/>
                  <a:pt x="411" y="634"/>
                </a:cubicBezTo>
                <a:cubicBezTo>
                  <a:pt x="411" y="635"/>
                  <a:pt x="410" y="635"/>
                  <a:pt x="410" y="637"/>
                </a:cubicBezTo>
                <a:cubicBezTo>
                  <a:pt x="411" y="639"/>
                  <a:pt x="409" y="639"/>
                  <a:pt x="409" y="642"/>
                </a:cubicBezTo>
                <a:cubicBezTo>
                  <a:pt x="409" y="645"/>
                  <a:pt x="406" y="649"/>
                  <a:pt x="406" y="651"/>
                </a:cubicBezTo>
                <a:cubicBezTo>
                  <a:pt x="405" y="653"/>
                  <a:pt x="405" y="654"/>
                  <a:pt x="404" y="654"/>
                </a:cubicBezTo>
                <a:cubicBezTo>
                  <a:pt x="402" y="654"/>
                  <a:pt x="402" y="656"/>
                  <a:pt x="403" y="658"/>
                </a:cubicBezTo>
                <a:cubicBezTo>
                  <a:pt x="404" y="659"/>
                  <a:pt x="402" y="661"/>
                  <a:pt x="404" y="663"/>
                </a:cubicBezTo>
                <a:cubicBezTo>
                  <a:pt x="405" y="665"/>
                  <a:pt x="404" y="665"/>
                  <a:pt x="404" y="667"/>
                </a:cubicBezTo>
                <a:cubicBezTo>
                  <a:pt x="403" y="669"/>
                  <a:pt x="402" y="669"/>
                  <a:pt x="402" y="671"/>
                </a:cubicBezTo>
                <a:cubicBezTo>
                  <a:pt x="402" y="673"/>
                  <a:pt x="401" y="674"/>
                  <a:pt x="402" y="676"/>
                </a:cubicBezTo>
                <a:cubicBezTo>
                  <a:pt x="403" y="678"/>
                  <a:pt x="402" y="678"/>
                  <a:pt x="402" y="678"/>
                </a:cubicBezTo>
                <a:cubicBezTo>
                  <a:pt x="401" y="678"/>
                  <a:pt x="400" y="680"/>
                  <a:pt x="400" y="683"/>
                </a:cubicBezTo>
                <a:cubicBezTo>
                  <a:pt x="399" y="686"/>
                  <a:pt x="399" y="686"/>
                  <a:pt x="402" y="686"/>
                </a:cubicBezTo>
                <a:cubicBezTo>
                  <a:pt x="404" y="686"/>
                  <a:pt x="402" y="678"/>
                  <a:pt x="404" y="678"/>
                </a:cubicBezTo>
                <a:cubicBezTo>
                  <a:pt x="405" y="678"/>
                  <a:pt x="404" y="677"/>
                  <a:pt x="405" y="677"/>
                </a:cubicBezTo>
                <a:cubicBezTo>
                  <a:pt x="407" y="676"/>
                  <a:pt x="405" y="678"/>
                  <a:pt x="406" y="678"/>
                </a:cubicBezTo>
                <a:cubicBezTo>
                  <a:pt x="407" y="678"/>
                  <a:pt x="408" y="679"/>
                  <a:pt x="407" y="680"/>
                </a:cubicBezTo>
                <a:cubicBezTo>
                  <a:pt x="405" y="681"/>
                  <a:pt x="407" y="683"/>
                  <a:pt x="406" y="684"/>
                </a:cubicBezTo>
                <a:cubicBezTo>
                  <a:pt x="406" y="685"/>
                  <a:pt x="405" y="686"/>
                  <a:pt x="405" y="687"/>
                </a:cubicBezTo>
                <a:cubicBezTo>
                  <a:pt x="406" y="688"/>
                  <a:pt x="405" y="688"/>
                  <a:pt x="404" y="690"/>
                </a:cubicBezTo>
                <a:cubicBezTo>
                  <a:pt x="404" y="691"/>
                  <a:pt x="405" y="691"/>
                  <a:pt x="405" y="692"/>
                </a:cubicBezTo>
                <a:cubicBezTo>
                  <a:pt x="404" y="692"/>
                  <a:pt x="405" y="693"/>
                  <a:pt x="405" y="694"/>
                </a:cubicBezTo>
                <a:cubicBezTo>
                  <a:pt x="404" y="694"/>
                  <a:pt x="404" y="695"/>
                  <a:pt x="405" y="696"/>
                </a:cubicBezTo>
                <a:cubicBezTo>
                  <a:pt x="405" y="697"/>
                  <a:pt x="403" y="697"/>
                  <a:pt x="403" y="697"/>
                </a:cubicBezTo>
                <a:cubicBezTo>
                  <a:pt x="402" y="698"/>
                  <a:pt x="403" y="699"/>
                  <a:pt x="403" y="700"/>
                </a:cubicBezTo>
                <a:cubicBezTo>
                  <a:pt x="402" y="701"/>
                  <a:pt x="401" y="700"/>
                  <a:pt x="400" y="699"/>
                </a:cubicBezTo>
                <a:cubicBezTo>
                  <a:pt x="400" y="699"/>
                  <a:pt x="401" y="697"/>
                  <a:pt x="402" y="696"/>
                </a:cubicBezTo>
                <a:cubicBezTo>
                  <a:pt x="403" y="695"/>
                  <a:pt x="401" y="693"/>
                  <a:pt x="400" y="693"/>
                </a:cubicBezTo>
                <a:cubicBezTo>
                  <a:pt x="398" y="694"/>
                  <a:pt x="401" y="695"/>
                  <a:pt x="401" y="697"/>
                </a:cubicBezTo>
                <a:cubicBezTo>
                  <a:pt x="401" y="697"/>
                  <a:pt x="401" y="697"/>
                  <a:pt x="400" y="697"/>
                </a:cubicBezTo>
                <a:cubicBezTo>
                  <a:pt x="400" y="697"/>
                  <a:pt x="399" y="697"/>
                  <a:pt x="399" y="698"/>
                </a:cubicBezTo>
                <a:cubicBezTo>
                  <a:pt x="399" y="699"/>
                  <a:pt x="397" y="698"/>
                  <a:pt x="397" y="699"/>
                </a:cubicBezTo>
                <a:cubicBezTo>
                  <a:pt x="396" y="700"/>
                  <a:pt x="398" y="701"/>
                  <a:pt x="397" y="701"/>
                </a:cubicBezTo>
                <a:cubicBezTo>
                  <a:pt x="396" y="702"/>
                  <a:pt x="394" y="703"/>
                  <a:pt x="394" y="704"/>
                </a:cubicBezTo>
                <a:cubicBezTo>
                  <a:pt x="394" y="705"/>
                  <a:pt x="395" y="705"/>
                  <a:pt x="395" y="704"/>
                </a:cubicBezTo>
                <a:cubicBezTo>
                  <a:pt x="395" y="703"/>
                  <a:pt x="397" y="703"/>
                  <a:pt x="397" y="704"/>
                </a:cubicBezTo>
                <a:cubicBezTo>
                  <a:pt x="397" y="705"/>
                  <a:pt x="398" y="705"/>
                  <a:pt x="398" y="705"/>
                </a:cubicBezTo>
                <a:cubicBezTo>
                  <a:pt x="399" y="704"/>
                  <a:pt x="399" y="704"/>
                  <a:pt x="400" y="704"/>
                </a:cubicBezTo>
                <a:cubicBezTo>
                  <a:pt x="401" y="705"/>
                  <a:pt x="401" y="707"/>
                  <a:pt x="400" y="707"/>
                </a:cubicBezTo>
                <a:cubicBezTo>
                  <a:pt x="399" y="707"/>
                  <a:pt x="398" y="708"/>
                  <a:pt x="399" y="709"/>
                </a:cubicBezTo>
                <a:cubicBezTo>
                  <a:pt x="399" y="710"/>
                  <a:pt x="400" y="710"/>
                  <a:pt x="401" y="710"/>
                </a:cubicBezTo>
                <a:cubicBezTo>
                  <a:pt x="401" y="710"/>
                  <a:pt x="402" y="709"/>
                  <a:pt x="403" y="710"/>
                </a:cubicBezTo>
                <a:cubicBezTo>
                  <a:pt x="404" y="710"/>
                  <a:pt x="403" y="712"/>
                  <a:pt x="403" y="711"/>
                </a:cubicBezTo>
                <a:cubicBezTo>
                  <a:pt x="402" y="711"/>
                  <a:pt x="400" y="710"/>
                  <a:pt x="400" y="711"/>
                </a:cubicBezTo>
                <a:cubicBezTo>
                  <a:pt x="399" y="712"/>
                  <a:pt x="398" y="711"/>
                  <a:pt x="397" y="711"/>
                </a:cubicBezTo>
                <a:cubicBezTo>
                  <a:pt x="396" y="710"/>
                  <a:pt x="393" y="712"/>
                  <a:pt x="394" y="713"/>
                </a:cubicBezTo>
                <a:cubicBezTo>
                  <a:pt x="395" y="714"/>
                  <a:pt x="395" y="715"/>
                  <a:pt x="396" y="715"/>
                </a:cubicBezTo>
                <a:cubicBezTo>
                  <a:pt x="397" y="715"/>
                  <a:pt x="398" y="715"/>
                  <a:pt x="398" y="714"/>
                </a:cubicBezTo>
                <a:cubicBezTo>
                  <a:pt x="399" y="713"/>
                  <a:pt x="400" y="712"/>
                  <a:pt x="400" y="714"/>
                </a:cubicBezTo>
                <a:cubicBezTo>
                  <a:pt x="400" y="716"/>
                  <a:pt x="398" y="715"/>
                  <a:pt x="398" y="716"/>
                </a:cubicBezTo>
                <a:cubicBezTo>
                  <a:pt x="397" y="717"/>
                  <a:pt x="397" y="717"/>
                  <a:pt x="395" y="718"/>
                </a:cubicBezTo>
                <a:cubicBezTo>
                  <a:pt x="394" y="719"/>
                  <a:pt x="395" y="721"/>
                  <a:pt x="396" y="720"/>
                </a:cubicBezTo>
                <a:cubicBezTo>
                  <a:pt x="397" y="720"/>
                  <a:pt x="396" y="721"/>
                  <a:pt x="397" y="721"/>
                </a:cubicBezTo>
                <a:cubicBezTo>
                  <a:pt x="399" y="722"/>
                  <a:pt x="399" y="721"/>
                  <a:pt x="399" y="720"/>
                </a:cubicBezTo>
                <a:cubicBezTo>
                  <a:pt x="399" y="719"/>
                  <a:pt x="399" y="717"/>
                  <a:pt x="401" y="718"/>
                </a:cubicBezTo>
                <a:cubicBezTo>
                  <a:pt x="402" y="719"/>
                  <a:pt x="400" y="720"/>
                  <a:pt x="400" y="721"/>
                </a:cubicBezTo>
                <a:cubicBezTo>
                  <a:pt x="400" y="722"/>
                  <a:pt x="399" y="723"/>
                  <a:pt x="399" y="724"/>
                </a:cubicBezTo>
                <a:cubicBezTo>
                  <a:pt x="399" y="725"/>
                  <a:pt x="398" y="724"/>
                  <a:pt x="398" y="726"/>
                </a:cubicBezTo>
                <a:cubicBezTo>
                  <a:pt x="398" y="727"/>
                  <a:pt x="396" y="726"/>
                  <a:pt x="397" y="727"/>
                </a:cubicBezTo>
                <a:cubicBezTo>
                  <a:pt x="398" y="727"/>
                  <a:pt x="396" y="728"/>
                  <a:pt x="397" y="729"/>
                </a:cubicBezTo>
                <a:cubicBezTo>
                  <a:pt x="397" y="730"/>
                  <a:pt x="397" y="729"/>
                  <a:pt x="398" y="729"/>
                </a:cubicBezTo>
                <a:cubicBezTo>
                  <a:pt x="398" y="729"/>
                  <a:pt x="398" y="728"/>
                  <a:pt x="399" y="729"/>
                </a:cubicBezTo>
                <a:cubicBezTo>
                  <a:pt x="400" y="729"/>
                  <a:pt x="400" y="729"/>
                  <a:pt x="401" y="729"/>
                </a:cubicBezTo>
                <a:cubicBezTo>
                  <a:pt x="402" y="728"/>
                  <a:pt x="403" y="730"/>
                  <a:pt x="402" y="730"/>
                </a:cubicBezTo>
                <a:cubicBezTo>
                  <a:pt x="401" y="730"/>
                  <a:pt x="399" y="732"/>
                  <a:pt x="400" y="732"/>
                </a:cubicBezTo>
                <a:cubicBezTo>
                  <a:pt x="400" y="732"/>
                  <a:pt x="401" y="732"/>
                  <a:pt x="401" y="732"/>
                </a:cubicBezTo>
                <a:cubicBezTo>
                  <a:pt x="402" y="732"/>
                  <a:pt x="402" y="732"/>
                  <a:pt x="403" y="732"/>
                </a:cubicBezTo>
                <a:cubicBezTo>
                  <a:pt x="403" y="734"/>
                  <a:pt x="404" y="733"/>
                  <a:pt x="404" y="732"/>
                </a:cubicBezTo>
                <a:cubicBezTo>
                  <a:pt x="404" y="731"/>
                  <a:pt x="406" y="732"/>
                  <a:pt x="407" y="733"/>
                </a:cubicBezTo>
                <a:cubicBezTo>
                  <a:pt x="407" y="734"/>
                  <a:pt x="404" y="735"/>
                  <a:pt x="403" y="734"/>
                </a:cubicBezTo>
                <a:cubicBezTo>
                  <a:pt x="402" y="734"/>
                  <a:pt x="401" y="736"/>
                  <a:pt x="402" y="737"/>
                </a:cubicBezTo>
                <a:cubicBezTo>
                  <a:pt x="403" y="738"/>
                  <a:pt x="404" y="737"/>
                  <a:pt x="405" y="736"/>
                </a:cubicBezTo>
                <a:cubicBezTo>
                  <a:pt x="406" y="735"/>
                  <a:pt x="411" y="735"/>
                  <a:pt x="411" y="736"/>
                </a:cubicBezTo>
                <a:cubicBezTo>
                  <a:pt x="412" y="737"/>
                  <a:pt x="411" y="737"/>
                  <a:pt x="410" y="737"/>
                </a:cubicBezTo>
                <a:cubicBezTo>
                  <a:pt x="409" y="737"/>
                  <a:pt x="409" y="737"/>
                  <a:pt x="409" y="737"/>
                </a:cubicBezTo>
                <a:cubicBezTo>
                  <a:pt x="408" y="738"/>
                  <a:pt x="406" y="738"/>
                  <a:pt x="406" y="738"/>
                </a:cubicBezTo>
                <a:cubicBezTo>
                  <a:pt x="406" y="737"/>
                  <a:pt x="404" y="738"/>
                  <a:pt x="404" y="739"/>
                </a:cubicBezTo>
                <a:cubicBezTo>
                  <a:pt x="404" y="740"/>
                  <a:pt x="402" y="740"/>
                  <a:pt x="404" y="741"/>
                </a:cubicBezTo>
                <a:cubicBezTo>
                  <a:pt x="405" y="741"/>
                  <a:pt x="405" y="740"/>
                  <a:pt x="405" y="740"/>
                </a:cubicBezTo>
                <a:cubicBezTo>
                  <a:pt x="406" y="739"/>
                  <a:pt x="406" y="739"/>
                  <a:pt x="408" y="739"/>
                </a:cubicBezTo>
                <a:cubicBezTo>
                  <a:pt x="409" y="739"/>
                  <a:pt x="410" y="739"/>
                  <a:pt x="410" y="738"/>
                </a:cubicBezTo>
                <a:cubicBezTo>
                  <a:pt x="411" y="738"/>
                  <a:pt x="412" y="737"/>
                  <a:pt x="412" y="738"/>
                </a:cubicBezTo>
                <a:cubicBezTo>
                  <a:pt x="413" y="740"/>
                  <a:pt x="410" y="741"/>
                  <a:pt x="409" y="740"/>
                </a:cubicBezTo>
                <a:cubicBezTo>
                  <a:pt x="408" y="739"/>
                  <a:pt x="407" y="741"/>
                  <a:pt x="407" y="742"/>
                </a:cubicBezTo>
                <a:cubicBezTo>
                  <a:pt x="407" y="743"/>
                  <a:pt x="404" y="742"/>
                  <a:pt x="403" y="741"/>
                </a:cubicBezTo>
                <a:cubicBezTo>
                  <a:pt x="401" y="741"/>
                  <a:pt x="402" y="743"/>
                  <a:pt x="403" y="744"/>
                </a:cubicBezTo>
                <a:cubicBezTo>
                  <a:pt x="404" y="745"/>
                  <a:pt x="404" y="745"/>
                  <a:pt x="405" y="745"/>
                </a:cubicBezTo>
                <a:cubicBezTo>
                  <a:pt x="405" y="745"/>
                  <a:pt x="406" y="745"/>
                  <a:pt x="407" y="745"/>
                </a:cubicBezTo>
                <a:cubicBezTo>
                  <a:pt x="408" y="746"/>
                  <a:pt x="408" y="747"/>
                  <a:pt x="409" y="746"/>
                </a:cubicBezTo>
                <a:cubicBezTo>
                  <a:pt x="411" y="745"/>
                  <a:pt x="409" y="745"/>
                  <a:pt x="409" y="745"/>
                </a:cubicBezTo>
                <a:cubicBezTo>
                  <a:pt x="408" y="744"/>
                  <a:pt x="409" y="743"/>
                  <a:pt x="410" y="744"/>
                </a:cubicBezTo>
                <a:cubicBezTo>
                  <a:pt x="412" y="744"/>
                  <a:pt x="414" y="743"/>
                  <a:pt x="414" y="741"/>
                </a:cubicBezTo>
                <a:cubicBezTo>
                  <a:pt x="413" y="738"/>
                  <a:pt x="415" y="737"/>
                  <a:pt x="417" y="737"/>
                </a:cubicBezTo>
                <a:cubicBezTo>
                  <a:pt x="420" y="736"/>
                  <a:pt x="418" y="738"/>
                  <a:pt x="417" y="739"/>
                </a:cubicBezTo>
                <a:cubicBezTo>
                  <a:pt x="415" y="739"/>
                  <a:pt x="415" y="740"/>
                  <a:pt x="416" y="741"/>
                </a:cubicBezTo>
                <a:cubicBezTo>
                  <a:pt x="417" y="742"/>
                  <a:pt x="418" y="742"/>
                  <a:pt x="418" y="741"/>
                </a:cubicBezTo>
                <a:cubicBezTo>
                  <a:pt x="419" y="741"/>
                  <a:pt x="420" y="741"/>
                  <a:pt x="420" y="741"/>
                </a:cubicBezTo>
                <a:cubicBezTo>
                  <a:pt x="421" y="742"/>
                  <a:pt x="418" y="742"/>
                  <a:pt x="418" y="743"/>
                </a:cubicBezTo>
                <a:cubicBezTo>
                  <a:pt x="417" y="744"/>
                  <a:pt x="419" y="745"/>
                  <a:pt x="418" y="746"/>
                </a:cubicBezTo>
                <a:cubicBezTo>
                  <a:pt x="416" y="747"/>
                  <a:pt x="417" y="743"/>
                  <a:pt x="416" y="743"/>
                </a:cubicBezTo>
                <a:cubicBezTo>
                  <a:pt x="415" y="742"/>
                  <a:pt x="414" y="743"/>
                  <a:pt x="415" y="745"/>
                </a:cubicBezTo>
                <a:cubicBezTo>
                  <a:pt x="416" y="747"/>
                  <a:pt x="414" y="746"/>
                  <a:pt x="413" y="745"/>
                </a:cubicBezTo>
                <a:cubicBezTo>
                  <a:pt x="412" y="744"/>
                  <a:pt x="411" y="745"/>
                  <a:pt x="412" y="746"/>
                </a:cubicBezTo>
                <a:cubicBezTo>
                  <a:pt x="413" y="747"/>
                  <a:pt x="410" y="746"/>
                  <a:pt x="410" y="748"/>
                </a:cubicBezTo>
                <a:cubicBezTo>
                  <a:pt x="410" y="749"/>
                  <a:pt x="410" y="749"/>
                  <a:pt x="411" y="749"/>
                </a:cubicBezTo>
                <a:cubicBezTo>
                  <a:pt x="412" y="748"/>
                  <a:pt x="412" y="748"/>
                  <a:pt x="413" y="749"/>
                </a:cubicBezTo>
                <a:cubicBezTo>
                  <a:pt x="415" y="749"/>
                  <a:pt x="414" y="751"/>
                  <a:pt x="415" y="752"/>
                </a:cubicBezTo>
                <a:cubicBezTo>
                  <a:pt x="416" y="753"/>
                  <a:pt x="415" y="749"/>
                  <a:pt x="417" y="749"/>
                </a:cubicBezTo>
                <a:cubicBezTo>
                  <a:pt x="418" y="749"/>
                  <a:pt x="417" y="752"/>
                  <a:pt x="420" y="753"/>
                </a:cubicBezTo>
                <a:cubicBezTo>
                  <a:pt x="423" y="754"/>
                  <a:pt x="420" y="752"/>
                  <a:pt x="421" y="751"/>
                </a:cubicBezTo>
                <a:cubicBezTo>
                  <a:pt x="423" y="751"/>
                  <a:pt x="424" y="754"/>
                  <a:pt x="426" y="755"/>
                </a:cubicBezTo>
                <a:cubicBezTo>
                  <a:pt x="427" y="755"/>
                  <a:pt x="426" y="753"/>
                  <a:pt x="425" y="752"/>
                </a:cubicBezTo>
                <a:cubicBezTo>
                  <a:pt x="424" y="751"/>
                  <a:pt x="426" y="751"/>
                  <a:pt x="428" y="752"/>
                </a:cubicBezTo>
                <a:cubicBezTo>
                  <a:pt x="429" y="752"/>
                  <a:pt x="430" y="752"/>
                  <a:pt x="430" y="751"/>
                </a:cubicBezTo>
                <a:cubicBezTo>
                  <a:pt x="430" y="751"/>
                  <a:pt x="431" y="751"/>
                  <a:pt x="431" y="751"/>
                </a:cubicBezTo>
                <a:cubicBezTo>
                  <a:pt x="432" y="751"/>
                  <a:pt x="432" y="752"/>
                  <a:pt x="433" y="751"/>
                </a:cubicBezTo>
                <a:cubicBezTo>
                  <a:pt x="434" y="750"/>
                  <a:pt x="437" y="751"/>
                  <a:pt x="438" y="750"/>
                </a:cubicBezTo>
                <a:cubicBezTo>
                  <a:pt x="440" y="749"/>
                  <a:pt x="438" y="749"/>
                  <a:pt x="435" y="748"/>
                </a:cubicBezTo>
                <a:cubicBezTo>
                  <a:pt x="433" y="748"/>
                  <a:pt x="428" y="744"/>
                  <a:pt x="427" y="743"/>
                </a:cubicBezTo>
                <a:cubicBezTo>
                  <a:pt x="426" y="742"/>
                  <a:pt x="427" y="741"/>
                  <a:pt x="425" y="741"/>
                </a:cubicBezTo>
                <a:cubicBezTo>
                  <a:pt x="423" y="741"/>
                  <a:pt x="424" y="740"/>
                  <a:pt x="425" y="739"/>
                </a:cubicBezTo>
                <a:cubicBezTo>
                  <a:pt x="426" y="739"/>
                  <a:pt x="425" y="737"/>
                  <a:pt x="424" y="737"/>
                </a:cubicBezTo>
                <a:cubicBezTo>
                  <a:pt x="422" y="737"/>
                  <a:pt x="420" y="737"/>
                  <a:pt x="420" y="735"/>
                </a:cubicBezTo>
                <a:cubicBezTo>
                  <a:pt x="420" y="734"/>
                  <a:pt x="422" y="734"/>
                  <a:pt x="423" y="735"/>
                </a:cubicBezTo>
                <a:cubicBezTo>
                  <a:pt x="424" y="735"/>
                  <a:pt x="424" y="735"/>
                  <a:pt x="425" y="735"/>
                </a:cubicBezTo>
                <a:cubicBezTo>
                  <a:pt x="425" y="734"/>
                  <a:pt x="422" y="732"/>
                  <a:pt x="422" y="731"/>
                </a:cubicBezTo>
                <a:cubicBezTo>
                  <a:pt x="422" y="730"/>
                  <a:pt x="422" y="729"/>
                  <a:pt x="422" y="728"/>
                </a:cubicBezTo>
                <a:cubicBezTo>
                  <a:pt x="422" y="727"/>
                  <a:pt x="421" y="725"/>
                  <a:pt x="423" y="724"/>
                </a:cubicBezTo>
                <a:cubicBezTo>
                  <a:pt x="424" y="723"/>
                  <a:pt x="424" y="722"/>
                  <a:pt x="425" y="722"/>
                </a:cubicBezTo>
                <a:cubicBezTo>
                  <a:pt x="426" y="722"/>
                  <a:pt x="428" y="721"/>
                  <a:pt x="428" y="719"/>
                </a:cubicBezTo>
                <a:cubicBezTo>
                  <a:pt x="428" y="717"/>
                  <a:pt x="429" y="716"/>
                  <a:pt x="431" y="715"/>
                </a:cubicBezTo>
                <a:cubicBezTo>
                  <a:pt x="433" y="713"/>
                  <a:pt x="436" y="711"/>
                  <a:pt x="436" y="710"/>
                </a:cubicBezTo>
                <a:cubicBezTo>
                  <a:pt x="435" y="710"/>
                  <a:pt x="436" y="707"/>
                  <a:pt x="436" y="706"/>
                </a:cubicBezTo>
                <a:cubicBezTo>
                  <a:pt x="436" y="705"/>
                  <a:pt x="433" y="705"/>
                  <a:pt x="432" y="705"/>
                </a:cubicBezTo>
                <a:cubicBezTo>
                  <a:pt x="431" y="705"/>
                  <a:pt x="427" y="702"/>
                  <a:pt x="429" y="699"/>
                </a:cubicBezTo>
                <a:cubicBezTo>
                  <a:pt x="431" y="695"/>
                  <a:pt x="435" y="695"/>
                  <a:pt x="436" y="695"/>
                </a:cubicBezTo>
                <a:cubicBezTo>
                  <a:pt x="437" y="695"/>
                  <a:pt x="436" y="693"/>
                  <a:pt x="437" y="692"/>
                </a:cubicBezTo>
                <a:cubicBezTo>
                  <a:pt x="438" y="692"/>
                  <a:pt x="438" y="691"/>
                  <a:pt x="438" y="689"/>
                </a:cubicBezTo>
                <a:cubicBezTo>
                  <a:pt x="438" y="688"/>
                  <a:pt x="438" y="685"/>
                  <a:pt x="440" y="685"/>
                </a:cubicBezTo>
                <a:cubicBezTo>
                  <a:pt x="442" y="685"/>
                  <a:pt x="442" y="684"/>
                  <a:pt x="441" y="684"/>
                </a:cubicBezTo>
                <a:cubicBezTo>
                  <a:pt x="440" y="683"/>
                  <a:pt x="440" y="682"/>
                  <a:pt x="441" y="682"/>
                </a:cubicBezTo>
                <a:cubicBezTo>
                  <a:pt x="443" y="682"/>
                  <a:pt x="442" y="683"/>
                  <a:pt x="444" y="683"/>
                </a:cubicBezTo>
                <a:cubicBezTo>
                  <a:pt x="445" y="683"/>
                  <a:pt x="447" y="681"/>
                  <a:pt x="445" y="680"/>
                </a:cubicBezTo>
                <a:cubicBezTo>
                  <a:pt x="444" y="679"/>
                  <a:pt x="443" y="681"/>
                  <a:pt x="442" y="681"/>
                </a:cubicBezTo>
                <a:cubicBezTo>
                  <a:pt x="442" y="681"/>
                  <a:pt x="441" y="680"/>
                  <a:pt x="440" y="680"/>
                </a:cubicBezTo>
                <a:cubicBezTo>
                  <a:pt x="439" y="680"/>
                  <a:pt x="440" y="677"/>
                  <a:pt x="439" y="677"/>
                </a:cubicBezTo>
                <a:cubicBezTo>
                  <a:pt x="439" y="676"/>
                  <a:pt x="439" y="674"/>
                  <a:pt x="439" y="673"/>
                </a:cubicBezTo>
                <a:cubicBezTo>
                  <a:pt x="440" y="672"/>
                  <a:pt x="443" y="674"/>
                  <a:pt x="446" y="674"/>
                </a:cubicBezTo>
                <a:cubicBezTo>
                  <a:pt x="449" y="675"/>
                  <a:pt x="451" y="673"/>
                  <a:pt x="451" y="672"/>
                </a:cubicBezTo>
                <a:cubicBezTo>
                  <a:pt x="451" y="671"/>
                  <a:pt x="450" y="669"/>
                  <a:pt x="451" y="668"/>
                </a:cubicBezTo>
                <a:cubicBezTo>
                  <a:pt x="453" y="667"/>
                  <a:pt x="452" y="666"/>
                  <a:pt x="451" y="665"/>
                </a:cubicBezTo>
                <a:cubicBezTo>
                  <a:pt x="451" y="663"/>
                  <a:pt x="452" y="662"/>
                  <a:pt x="453" y="663"/>
                </a:cubicBezTo>
                <a:cubicBezTo>
                  <a:pt x="453" y="664"/>
                  <a:pt x="459" y="663"/>
                  <a:pt x="464" y="663"/>
                </a:cubicBezTo>
                <a:cubicBezTo>
                  <a:pt x="468" y="662"/>
                  <a:pt x="471" y="660"/>
                  <a:pt x="472" y="659"/>
                </a:cubicBezTo>
                <a:cubicBezTo>
                  <a:pt x="472" y="657"/>
                  <a:pt x="475" y="654"/>
                  <a:pt x="476" y="653"/>
                </a:cubicBezTo>
                <a:cubicBezTo>
                  <a:pt x="476" y="652"/>
                  <a:pt x="476" y="651"/>
                  <a:pt x="474" y="650"/>
                </a:cubicBezTo>
                <a:cubicBezTo>
                  <a:pt x="472" y="650"/>
                  <a:pt x="472" y="648"/>
                  <a:pt x="473" y="647"/>
                </a:cubicBezTo>
                <a:cubicBezTo>
                  <a:pt x="474" y="645"/>
                  <a:pt x="472" y="644"/>
                  <a:pt x="471" y="644"/>
                </a:cubicBezTo>
                <a:cubicBezTo>
                  <a:pt x="469" y="644"/>
                  <a:pt x="466" y="643"/>
                  <a:pt x="468" y="641"/>
                </a:cubicBezTo>
                <a:cubicBezTo>
                  <a:pt x="469" y="640"/>
                  <a:pt x="469" y="641"/>
                  <a:pt x="469" y="641"/>
                </a:cubicBezTo>
                <a:cubicBezTo>
                  <a:pt x="470" y="641"/>
                  <a:pt x="470" y="642"/>
                  <a:pt x="471" y="642"/>
                </a:cubicBezTo>
                <a:cubicBezTo>
                  <a:pt x="473" y="641"/>
                  <a:pt x="474" y="642"/>
                  <a:pt x="476" y="643"/>
                </a:cubicBezTo>
                <a:cubicBezTo>
                  <a:pt x="478" y="644"/>
                  <a:pt x="478" y="643"/>
                  <a:pt x="478" y="643"/>
                </a:cubicBezTo>
                <a:cubicBezTo>
                  <a:pt x="478" y="643"/>
                  <a:pt x="479" y="643"/>
                  <a:pt x="480" y="643"/>
                </a:cubicBezTo>
                <a:cubicBezTo>
                  <a:pt x="482" y="643"/>
                  <a:pt x="484" y="644"/>
                  <a:pt x="486" y="642"/>
                </a:cubicBezTo>
                <a:cubicBezTo>
                  <a:pt x="488" y="641"/>
                  <a:pt x="489" y="638"/>
                  <a:pt x="491" y="636"/>
                </a:cubicBezTo>
                <a:cubicBezTo>
                  <a:pt x="494" y="634"/>
                  <a:pt x="493" y="633"/>
                  <a:pt x="495" y="631"/>
                </a:cubicBezTo>
                <a:cubicBezTo>
                  <a:pt x="496" y="629"/>
                  <a:pt x="495" y="628"/>
                  <a:pt x="497" y="626"/>
                </a:cubicBezTo>
                <a:cubicBezTo>
                  <a:pt x="499" y="624"/>
                  <a:pt x="496" y="623"/>
                  <a:pt x="499" y="621"/>
                </a:cubicBezTo>
                <a:cubicBezTo>
                  <a:pt x="502" y="620"/>
                  <a:pt x="501" y="622"/>
                  <a:pt x="499" y="625"/>
                </a:cubicBezTo>
                <a:cubicBezTo>
                  <a:pt x="497" y="628"/>
                  <a:pt x="497" y="629"/>
                  <a:pt x="499" y="627"/>
                </a:cubicBezTo>
                <a:cubicBezTo>
                  <a:pt x="502" y="625"/>
                  <a:pt x="503" y="622"/>
                  <a:pt x="505" y="618"/>
                </a:cubicBezTo>
                <a:cubicBezTo>
                  <a:pt x="507" y="615"/>
                  <a:pt x="508" y="614"/>
                  <a:pt x="509" y="614"/>
                </a:cubicBezTo>
                <a:cubicBezTo>
                  <a:pt x="511" y="614"/>
                  <a:pt x="511" y="610"/>
                  <a:pt x="510" y="608"/>
                </a:cubicBezTo>
                <a:cubicBezTo>
                  <a:pt x="510" y="605"/>
                  <a:pt x="509" y="603"/>
                  <a:pt x="510" y="601"/>
                </a:cubicBezTo>
                <a:cubicBezTo>
                  <a:pt x="511" y="600"/>
                  <a:pt x="510" y="598"/>
                  <a:pt x="512" y="598"/>
                </a:cubicBezTo>
                <a:cubicBezTo>
                  <a:pt x="513" y="598"/>
                  <a:pt x="515" y="596"/>
                  <a:pt x="517" y="594"/>
                </a:cubicBezTo>
                <a:cubicBezTo>
                  <a:pt x="519" y="592"/>
                  <a:pt x="521" y="592"/>
                  <a:pt x="523" y="592"/>
                </a:cubicBezTo>
                <a:cubicBezTo>
                  <a:pt x="525" y="592"/>
                  <a:pt x="524" y="591"/>
                  <a:pt x="525" y="590"/>
                </a:cubicBezTo>
                <a:cubicBezTo>
                  <a:pt x="526" y="590"/>
                  <a:pt x="527" y="589"/>
                  <a:pt x="528" y="588"/>
                </a:cubicBezTo>
                <a:cubicBezTo>
                  <a:pt x="529" y="587"/>
                  <a:pt x="533" y="588"/>
                  <a:pt x="535" y="588"/>
                </a:cubicBezTo>
                <a:cubicBezTo>
                  <a:pt x="538" y="588"/>
                  <a:pt x="539" y="588"/>
                  <a:pt x="539" y="587"/>
                </a:cubicBezTo>
                <a:cubicBezTo>
                  <a:pt x="539" y="585"/>
                  <a:pt x="540" y="584"/>
                  <a:pt x="542" y="584"/>
                </a:cubicBezTo>
                <a:cubicBezTo>
                  <a:pt x="543" y="584"/>
                  <a:pt x="543" y="584"/>
                  <a:pt x="543" y="582"/>
                </a:cubicBezTo>
                <a:cubicBezTo>
                  <a:pt x="543" y="580"/>
                  <a:pt x="544" y="579"/>
                  <a:pt x="545" y="578"/>
                </a:cubicBezTo>
                <a:cubicBezTo>
                  <a:pt x="546" y="577"/>
                  <a:pt x="546" y="575"/>
                  <a:pt x="547" y="574"/>
                </a:cubicBezTo>
                <a:cubicBezTo>
                  <a:pt x="547" y="573"/>
                  <a:pt x="548" y="574"/>
                  <a:pt x="548" y="572"/>
                </a:cubicBezTo>
                <a:cubicBezTo>
                  <a:pt x="548" y="570"/>
                  <a:pt x="549" y="568"/>
                  <a:pt x="549" y="567"/>
                </a:cubicBezTo>
                <a:cubicBezTo>
                  <a:pt x="549" y="565"/>
                  <a:pt x="551" y="565"/>
                  <a:pt x="551" y="564"/>
                </a:cubicBezTo>
                <a:cubicBezTo>
                  <a:pt x="552" y="563"/>
                  <a:pt x="551" y="562"/>
                  <a:pt x="552" y="559"/>
                </a:cubicBezTo>
                <a:cubicBezTo>
                  <a:pt x="553" y="556"/>
                  <a:pt x="552" y="554"/>
                  <a:pt x="552" y="551"/>
                </a:cubicBezTo>
                <a:cubicBezTo>
                  <a:pt x="552" y="548"/>
                  <a:pt x="552" y="546"/>
                  <a:pt x="553" y="545"/>
                </a:cubicBezTo>
                <a:cubicBezTo>
                  <a:pt x="554" y="544"/>
                  <a:pt x="553" y="543"/>
                  <a:pt x="552" y="543"/>
                </a:cubicBezTo>
                <a:cubicBezTo>
                  <a:pt x="552" y="543"/>
                  <a:pt x="552" y="542"/>
                  <a:pt x="553" y="542"/>
                </a:cubicBezTo>
                <a:cubicBezTo>
                  <a:pt x="554" y="542"/>
                  <a:pt x="555" y="543"/>
                  <a:pt x="556" y="543"/>
                </a:cubicBezTo>
                <a:cubicBezTo>
                  <a:pt x="557" y="542"/>
                  <a:pt x="558" y="539"/>
                  <a:pt x="559" y="536"/>
                </a:cubicBezTo>
                <a:cubicBezTo>
                  <a:pt x="560" y="533"/>
                  <a:pt x="562" y="533"/>
                  <a:pt x="563" y="533"/>
                </a:cubicBezTo>
                <a:cubicBezTo>
                  <a:pt x="565" y="532"/>
                  <a:pt x="567" y="529"/>
                  <a:pt x="569" y="524"/>
                </a:cubicBezTo>
                <a:cubicBezTo>
                  <a:pt x="571" y="520"/>
                  <a:pt x="569" y="515"/>
                  <a:pt x="568" y="512"/>
                </a:cubicBezTo>
                <a:cubicBezTo>
                  <a:pt x="568" y="509"/>
                  <a:pt x="566" y="510"/>
                  <a:pt x="565" y="510"/>
                </a:cubicBezTo>
                <a:moveTo>
                  <a:pt x="386" y="285"/>
                </a:moveTo>
                <a:cubicBezTo>
                  <a:pt x="387" y="286"/>
                  <a:pt x="388" y="285"/>
                  <a:pt x="389" y="285"/>
                </a:cubicBezTo>
                <a:cubicBezTo>
                  <a:pt x="390" y="285"/>
                  <a:pt x="391" y="284"/>
                  <a:pt x="392" y="285"/>
                </a:cubicBezTo>
                <a:cubicBezTo>
                  <a:pt x="393" y="288"/>
                  <a:pt x="388" y="289"/>
                  <a:pt x="384" y="289"/>
                </a:cubicBezTo>
                <a:cubicBezTo>
                  <a:pt x="379" y="290"/>
                  <a:pt x="378" y="291"/>
                  <a:pt x="377" y="289"/>
                </a:cubicBezTo>
                <a:cubicBezTo>
                  <a:pt x="376" y="287"/>
                  <a:pt x="383" y="285"/>
                  <a:pt x="386" y="285"/>
                </a:cubicBezTo>
                <a:moveTo>
                  <a:pt x="379" y="292"/>
                </a:moveTo>
                <a:cubicBezTo>
                  <a:pt x="380" y="293"/>
                  <a:pt x="373" y="297"/>
                  <a:pt x="369" y="298"/>
                </a:cubicBezTo>
                <a:cubicBezTo>
                  <a:pt x="366" y="300"/>
                  <a:pt x="361" y="299"/>
                  <a:pt x="361" y="297"/>
                </a:cubicBezTo>
                <a:cubicBezTo>
                  <a:pt x="361" y="294"/>
                  <a:pt x="364" y="294"/>
                  <a:pt x="364" y="296"/>
                </a:cubicBezTo>
                <a:cubicBezTo>
                  <a:pt x="365" y="296"/>
                  <a:pt x="366" y="295"/>
                  <a:pt x="367" y="294"/>
                </a:cubicBezTo>
                <a:cubicBezTo>
                  <a:pt x="369" y="293"/>
                  <a:pt x="370" y="292"/>
                  <a:pt x="371" y="292"/>
                </a:cubicBezTo>
                <a:cubicBezTo>
                  <a:pt x="374" y="293"/>
                  <a:pt x="375" y="294"/>
                  <a:pt x="377" y="293"/>
                </a:cubicBezTo>
                <a:cubicBezTo>
                  <a:pt x="379" y="292"/>
                  <a:pt x="379" y="291"/>
                  <a:pt x="379" y="292"/>
                </a:cubicBezTo>
                <a:moveTo>
                  <a:pt x="359" y="274"/>
                </a:moveTo>
                <a:cubicBezTo>
                  <a:pt x="359" y="273"/>
                  <a:pt x="363" y="274"/>
                  <a:pt x="366" y="275"/>
                </a:cubicBezTo>
                <a:cubicBezTo>
                  <a:pt x="367" y="275"/>
                  <a:pt x="368" y="275"/>
                  <a:pt x="369" y="275"/>
                </a:cubicBezTo>
                <a:cubicBezTo>
                  <a:pt x="371" y="275"/>
                  <a:pt x="373" y="275"/>
                  <a:pt x="374" y="277"/>
                </a:cubicBezTo>
                <a:cubicBezTo>
                  <a:pt x="375" y="280"/>
                  <a:pt x="378" y="283"/>
                  <a:pt x="375" y="283"/>
                </a:cubicBezTo>
                <a:cubicBezTo>
                  <a:pt x="374" y="283"/>
                  <a:pt x="373" y="282"/>
                  <a:pt x="372" y="282"/>
                </a:cubicBezTo>
                <a:cubicBezTo>
                  <a:pt x="371" y="281"/>
                  <a:pt x="370" y="280"/>
                  <a:pt x="370" y="281"/>
                </a:cubicBezTo>
                <a:cubicBezTo>
                  <a:pt x="370" y="283"/>
                  <a:pt x="368" y="282"/>
                  <a:pt x="368" y="285"/>
                </a:cubicBezTo>
                <a:cubicBezTo>
                  <a:pt x="368" y="288"/>
                  <a:pt x="366" y="292"/>
                  <a:pt x="365" y="292"/>
                </a:cubicBezTo>
                <a:cubicBezTo>
                  <a:pt x="364" y="292"/>
                  <a:pt x="366" y="287"/>
                  <a:pt x="364" y="286"/>
                </a:cubicBezTo>
                <a:cubicBezTo>
                  <a:pt x="363" y="286"/>
                  <a:pt x="362" y="287"/>
                  <a:pt x="361" y="287"/>
                </a:cubicBezTo>
                <a:cubicBezTo>
                  <a:pt x="360" y="288"/>
                  <a:pt x="359" y="289"/>
                  <a:pt x="359" y="287"/>
                </a:cubicBezTo>
                <a:cubicBezTo>
                  <a:pt x="360" y="285"/>
                  <a:pt x="363" y="283"/>
                  <a:pt x="361" y="279"/>
                </a:cubicBezTo>
                <a:cubicBezTo>
                  <a:pt x="359" y="276"/>
                  <a:pt x="355" y="276"/>
                  <a:pt x="354" y="279"/>
                </a:cubicBezTo>
                <a:cubicBezTo>
                  <a:pt x="353" y="281"/>
                  <a:pt x="351" y="280"/>
                  <a:pt x="350" y="282"/>
                </a:cubicBezTo>
                <a:cubicBezTo>
                  <a:pt x="349" y="284"/>
                  <a:pt x="348" y="288"/>
                  <a:pt x="349" y="291"/>
                </a:cubicBezTo>
                <a:cubicBezTo>
                  <a:pt x="350" y="294"/>
                  <a:pt x="349" y="295"/>
                  <a:pt x="346" y="297"/>
                </a:cubicBezTo>
                <a:cubicBezTo>
                  <a:pt x="343" y="299"/>
                  <a:pt x="341" y="294"/>
                  <a:pt x="343" y="289"/>
                </a:cubicBezTo>
                <a:cubicBezTo>
                  <a:pt x="343" y="285"/>
                  <a:pt x="345" y="282"/>
                  <a:pt x="344" y="282"/>
                </a:cubicBezTo>
                <a:cubicBezTo>
                  <a:pt x="342" y="282"/>
                  <a:pt x="346" y="277"/>
                  <a:pt x="350" y="276"/>
                </a:cubicBezTo>
                <a:cubicBezTo>
                  <a:pt x="354" y="275"/>
                  <a:pt x="359" y="276"/>
                  <a:pt x="359" y="274"/>
                </a:cubicBezTo>
                <a:moveTo>
                  <a:pt x="333" y="265"/>
                </a:moveTo>
                <a:cubicBezTo>
                  <a:pt x="336" y="266"/>
                  <a:pt x="338" y="259"/>
                  <a:pt x="341" y="259"/>
                </a:cubicBezTo>
                <a:cubicBezTo>
                  <a:pt x="343" y="259"/>
                  <a:pt x="350" y="260"/>
                  <a:pt x="350" y="263"/>
                </a:cubicBezTo>
                <a:cubicBezTo>
                  <a:pt x="350" y="266"/>
                  <a:pt x="354" y="263"/>
                  <a:pt x="354" y="266"/>
                </a:cubicBezTo>
                <a:cubicBezTo>
                  <a:pt x="355" y="269"/>
                  <a:pt x="358" y="272"/>
                  <a:pt x="356" y="273"/>
                </a:cubicBezTo>
                <a:cubicBezTo>
                  <a:pt x="355" y="274"/>
                  <a:pt x="355" y="271"/>
                  <a:pt x="352" y="271"/>
                </a:cubicBezTo>
                <a:cubicBezTo>
                  <a:pt x="350" y="271"/>
                  <a:pt x="347" y="274"/>
                  <a:pt x="344" y="273"/>
                </a:cubicBezTo>
                <a:cubicBezTo>
                  <a:pt x="342" y="272"/>
                  <a:pt x="343" y="270"/>
                  <a:pt x="341" y="270"/>
                </a:cubicBezTo>
                <a:cubicBezTo>
                  <a:pt x="339" y="270"/>
                  <a:pt x="343" y="266"/>
                  <a:pt x="340" y="268"/>
                </a:cubicBezTo>
                <a:cubicBezTo>
                  <a:pt x="337" y="270"/>
                  <a:pt x="332" y="274"/>
                  <a:pt x="330" y="272"/>
                </a:cubicBezTo>
                <a:cubicBezTo>
                  <a:pt x="329" y="271"/>
                  <a:pt x="328" y="271"/>
                  <a:pt x="327" y="271"/>
                </a:cubicBezTo>
                <a:cubicBezTo>
                  <a:pt x="326" y="271"/>
                  <a:pt x="325" y="272"/>
                  <a:pt x="325" y="271"/>
                </a:cubicBezTo>
                <a:cubicBezTo>
                  <a:pt x="323" y="269"/>
                  <a:pt x="330" y="265"/>
                  <a:pt x="333" y="265"/>
                </a:cubicBezTo>
                <a:moveTo>
                  <a:pt x="216" y="152"/>
                </a:moveTo>
                <a:cubicBezTo>
                  <a:pt x="213" y="155"/>
                  <a:pt x="212" y="156"/>
                  <a:pt x="210" y="155"/>
                </a:cubicBezTo>
                <a:cubicBezTo>
                  <a:pt x="207" y="155"/>
                  <a:pt x="206" y="156"/>
                  <a:pt x="207" y="157"/>
                </a:cubicBezTo>
                <a:cubicBezTo>
                  <a:pt x="208" y="158"/>
                  <a:pt x="208" y="159"/>
                  <a:pt x="206" y="159"/>
                </a:cubicBezTo>
                <a:cubicBezTo>
                  <a:pt x="203" y="160"/>
                  <a:pt x="201" y="162"/>
                  <a:pt x="200" y="161"/>
                </a:cubicBezTo>
                <a:cubicBezTo>
                  <a:pt x="199" y="161"/>
                  <a:pt x="205" y="157"/>
                  <a:pt x="203" y="156"/>
                </a:cubicBezTo>
                <a:cubicBezTo>
                  <a:pt x="202" y="155"/>
                  <a:pt x="198" y="158"/>
                  <a:pt x="198" y="159"/>
                </a:cubicBezTo>
                <a:cubicBezTo>
                  <a:pt x="198" y="161"/>
                  <a:pt x="196" y="161"/>
                  <a:pt x="194" y="161"/>
                </a:cubicBezTo>
                <a:cubicBezTo>
                  <a:pt x="193" y="161"/>
                  <a:pt x="191" y="159"/>
                  <a:pt x="193" y="159"/>
                </a:cubicBezTo>
                <a:cubicBezTo>
                  <a:pt x="194" y="159"/>
                  <a:pt x="193" y="157"/>
                  <a:pt x="195" y="157"/>
                </a:cubicBezTo>
                <a:cubicBezTo>
                  <a:pt x="197" y="156"/>
                  <a:pt x="195" y="155"/>
                  <a:pt x="195" y="154"/>
                </a:cubicBezTo>
                <a:cubicBezTo>
                  <a:pt x="195" y="154"/>
                  <a:pt x="196" y="154"/>
                  <a:pt x="197" y="154"/>
                </a:cubicBezTo>
                <a:cubicBezTo>
                  <a:pt x="199" y="154"/>
                  <a:pt x="200" y="154"/>
                  <a:pt x="200" y="153"/>
                </a:cubicBezTo>
                <a:cubicBezTo>
                  <a:pt x="200" y="152"/>
                  <a:pt x="196" y="150"/>
                  <a:pt x="195" y="151"/>
                </a:cubicBezTo>
                <a:cubicBezTo>
                  <a:pt x="193" y="152"/>
                  <a:pt x="190" y="154"/>
                  <a:pt x="186" y="153"/>
                </a:cubicBezTo>
                <a:cubicBezTo>
                  <a:pt x="185" y="152"/>
                  <a:pt x="196" y="151"/>
                  <a:pt x="198" y="149"/>
                </a:cubicBezTo>
                <a:cubicBezTo>
                  <a:pt x="199" y="148"/>
                  <a:pt x="207" y="146"/>
                  <a:pt x="208" y="147"/>
                </a:cubicBezTo>
                <a:cubicBezTo>
                  <a:pt x="209" y="149"/>
                  <a:pt x="204" y="150"/>
                  <a:pt x="206" y="151"/>
                </a:cubicBezTo>
                <a:cubicBezTo>
                  <a:pt x="208" y="153"/>
                  <a:pt x="212" y="152"/>
                  <a:pt x="213" y="150"/>
                </a:cubicBezTo>
                <a:cubicBezTo>
                  <a:pt x="214" y="149"/>
                  <a:pt x="218" y="149"/>
                  <a:pt x="216" y="152"/>
                </a:cubicBezTo>
                <a:moveTo>
                  <a:pt x="239" y="182"/>
                </a:moveTo>
                <a:cubicBezTo>
                  <a:pt x="236" y="185"/>
                  <a:pt x="237" y="184"/>
                  <a:pt x="234" y="185"/>
                </a:cubicBezTo>
                <a:cubicBezTo>
                  <a:pt x="232" y="185"/>
                  <a:pt x="234" y="188"/>
                  <a:pt x="231" y="188"/>
                </a:cubicBezTo>
                <a:cubicBezTo>
                  <a:pt x="227" y="188"/>
                  <a:pt x="220" y="188"/>
                  <a:pt x="219" y="187"/>
                </a:cubicBezTo>
                <a:cubicBezTo>
                  <a:pt x="219" y="186"/>
                  <a:pt x="223" y="187"/>
                  <a:pt x="223" y="185"/>
                </a:cubicBezTo>
                <a:cubicBezTo>
                  <a:pt x="224" y="184"/>
                  <a:pt x="225" y="182"/>
                  <a:pt x="227" y="182"/>
                </a:cubicBezTo>
                <a:cubicBezTo>
                  <a:pt x="229" y="182"/>
                  <a:pt x="228" y="179"/>
                  <a:pt x="225" y="178"/>
                </a:cubicBezTo>
                <a:cubicBezTo>
                  <a:pt x="222" y="176"/>
                  <a:pt x="230" y="175"/>
                  <a:pt x="232" y="178"/>
                </a:cubicBezTo>
                <a:cubicBezTo>
                  <a:pt x="233" y="180"/>
                  <a:pt x="236" y="182"/>
                  <a:pt x="238" y="180"/>
                </a:cubicBezTo>
                <a:cubicBezTo>
                  <a:pt x="240" y="179"/>
                  <a:pt x="250" y="174"/>
                  <a:pt x="250" y="176"/>
                </a:cubicBezTo>
                <a:cubicBezTo>
                  <a:pt x="250" y="178"/>
                  <a:pt x="242" y="180"/>
                  <a:pt x="239" y="182"/>
                </a:cubicBezTo>
                <a:moveTo>
                  <a:pt x="295" y="234"/>
                </a:moveTo>
                <a:cubicBezTo>
                  <a:pt x="295" y="231"/>
                  <a:pt x="299" y="230"/>
                  <a:pt x="300" y="232"/>
                </a:cubicBezTo>
                <a:cubicBezTo>
                  <a:pt x="302" y="234"/>
                  <a:pt x="304" y="242"/>
                  <a:pt x="305" y="244"/>
                </a:cubicBezTo>
                <a:cubicBezTo>
                  <a:pt x="307" y="247"/>
                  <a:pt x="307" y="251"/>
                  <a:pt x="305" y="251"/>
                </a:cubicBezTo>
                <a:cubicBezTo>
                  <a:pt x="303" y="251"/>
                  <a:pt x="305" y="245"/>
                  <a:pt x="301" y="243"/>
                </a:cubicBezTo>
                <a:cubicBezTo>
                  <a:pt x="297" y="241"/>
                  <a:pt x="295" y="236"/>
                  <a:pt x="295" y="234"/>
                </a:cubicBezTo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标注 4"/>
          <p:cNvSpPr/>
          <p:nvPr/>
        </p:nvSpPr>
        <p:spPr>
          <a:xfrm>
            <a:off x="8513640" y="1859040"/>
            <a:ext cx="1089000" cy="59688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文本框 6"/>
          <p:cNvSpPr/>
          <p:nvPr/>
        </p:nvSpPr>
        <p:spPr>
          <a:xfrm>
            <a:off x="8556480" y="1897200"/>
            <a:ext cx="9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矩形标注 6"/>
          <p:cNvSpPr/>
          <p:nvPr/>
        </p:nvSpPr>
        <p:spPr>
          <a:xfrm>
            <a:off x="8629560" y="3297240"/>
            <a:ext cx="1728720" cy="596880"/>
          </a:xfrm>
          <a:prstGeom prst="wedgeRectCallout">
            <a:avLst>
              <a:gd name="adj1" fmla="val -66462"/>
              <a:gd name="adj2" fmla="val -9023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文本框 8"/>
          <p:cNvSpPr/>
          <p:nvPr/>
        </p:nvSpPr>
        <p:spPr>
          <a:xfrm>
            <a:off x="8686800" y="333360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矩形标注 8"/>
          <p:cNvSpPr/>
          <p:nvPr/>
        </p:nvSpPr>
        <p:spPr>
          <a:xfrm>
            <a:off x="6751800" y="2759040"/>
            <a:ext cx="1145880" cy="99216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文本框 10"/>
          <p:cNvSpPr/>
          <p:nvPr/>
        </p:nvSpPr>
        <p:spPr>
          <a:xfrm>
            <a:off x="6808680" y="2781360"/>
            <a:ext cx="10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矩形标注 10"/>
          <p:cNvSpPr/>
          <p:nvPr/>
        </p:nvSpPr>
        <p:spPr>
          <a:xfrm flipH="1">
            <a:off x="3152160" y="3057480"/>
            <a:ext cx="126972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文本框 12"/>
          <p:cNvSpPr/>
          <p:nvPr/>
        </p:nvSpPr>
        <p:spPr>
          <a:xfrm>
            <a:off x="3182760" y="302580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矩形标注 12"/>
          <p:cNvSpPr/>
          <p:nvPr/>
        </p:nvSpPr>
        <p:spPr>
          <a:xfrm flipH="1">
            <a:off x="1978920" y="1468440"/>
            <a:ext cx="126828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文本框 14"/>
          <p:cNvSpPr/>
          <p:nvPr/>
        </p:nvSpPr>
        <p:spPr>
          <a:xfrm>
            <a:off x="2008080" y="143676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矩形 132"/>
          <p:cNvSpPr/>
          <p:nvPr/>
        </p:nvSpPr>
        <p:spPr>
          <a:xfrm>
            <a:off x="1632960" y="4560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直接连接符 15"/>
          <p:cNvSpPr/>
          <p:nvPr/>
        </p:nvSpPr>
        <p:spPr>
          <a:xfrm>
            <a:off x="1192320" y="50385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矩形 44"/>
          <p:cNvSpPr/>
          <p:nvPr/>
        </p:nvSpPr>
        <p:spPr>
          <a:xfrm>
            <a:off x="1192320" y="5105520"/>
            <a:ext cx="9837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文本框 3"/>
          <p:cNvSpPr/>
          <p:nvPr/>
        </p:nvSpPr>
        <p:spPr>
          <a:xfrm>
            <a:off x="5002920" y="313380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a79d"/>
                </a:solidFill>
                <a:latin typeface="微软雅黑"/>
                <a:ea typeface="微软雅黑"/>
              </a:rPr>
              <a:t>谢谢欣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文本框 16"/>
          <p:cNvSpPr/>
          <p:nvPr/>
        </p:nvSpPr>
        <p:spPr>
          <a:xfrm>
            <a:off x="4443840" y="415908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a79d"/>
                </a:solidFill>
                <a:latin typeface="微软雅黑"/>
                <a:ea typeface="微软雅黑"/>
              </a:rPr>
              <a:t>THANK YOU FOR W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组合 31"/>
          <p:cNvGrpSpPr/>
          <p:nvPr/>
        </p:nvGrpSpPr>
        <p:grpSpPr>
          <a:xfrm>
            <a:off x="5278320" y="1150920"/>
            <a:ext cx="1854360" cy="1784520"/>
            <a:chOff x="5278320" y="1150920"/>
            <a:chExt cx="1854360" cy="1784520"/>
          </a:xfrm>
        </p:grpSpPr>
        <p:sp>
          <p:nvSpPr>
            <p:cNvPr id="979" name="Rectangle 23"/>
            <p:cNvSpPr/>
            <p:nvPr/>
          </p:nvSpPr>
          <p:spPr>
            <a:xfrm>
              <a:off x="6246720" y="1776600"/>
              <a:ext cx="156240" cy="1148040"/>
            </a:xfrm>
            <a:prstGeom prst="rect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24"/>
            <p:cNvSpPr/>
            <p:nvPr/>
          </p:nvSpPr>
          <p:spPr>
            <a:xfrm>
              <a:off x="6206760" y="2018160"/>
              <a:ext cx="238680" cy="124560"/>
            </a:xfrm>
            <a:prstGeom prst="rect">
              <a:avLst/>
            </a:prstGeom>
            <a:solidFill>
              <a:srgbClr val="e0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25"/>
            <p:cNvSpPr/>
            <p:nvPr/>
          </p:nvSpPr>
          <p:spPr>
            <a:xfrm>
              <a:off x="6206760" y="2362680"/>
              <a:ext cx="238680" cy="124560"/>
            </a:xfrm>
            <a:prstGeom prst="rect">
              <a:avLst/>
            </a:prstGeom>
            <a:solidFill>
              <a:srgbClr val="e0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26"/>
            <p:cNvSpPr/>
            <p:nvPr/>
          </p:nvSpPr>
          <p:spPr>
            <a:xfrm>
              <a:off x="6206760" y="2654640"/>
              <a:ext cx="238680" cy="124560"/>
            </a:xfrm>
            <a:prstGeom prst="rect">
              <a:avLst/>
            </a:prstGeom>
            <a:solidFill>
              <a:srgbClr val="e0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27"/>
            <p:cNvSpPr/>
            <p:nvPr/>
          </p:nvSpPr>
          <p:spPr>
            <a:xfrm>
              <a:off x="6424560" y="1506240"/>
              <a:ext cx="708120" cy="344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68" h="33">
                  <a:moveTo>
                    <a:pt x="34" y="0"/>
                  </a:moveTo>
                  <a:cubicBezTo>
                    <a:pt x="53" y="0"/>
                    <a:pt x="68" y="15"/>
                    <a:pt x="68" y="33"/>
                  </a:cubicBezTo>
                  <a:cubicBezTo>
                    <a:pt x="57" y="33"/>
                    <a:pt x="57" y="33"/>
                    <a:pt x="57" y="33"/>
                  </a:cubicBezTo>
                  <a:cubicBezTo>
                    <a:pt x="52" y="24"/>
                    <a:pt x="52" y="24"/>
                    <a:pt x="52" y="24"/>
                  </a:cubicBezTo>
                  <a:cubicBezTo>
                    <a:pt x="46" y="33"/>
                    <a:pt x="46" y="33"/>
                    <a:pt x="46" y="33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28" y="33"/>
                    <a:pt x="28" y="33"/>
                    <a:pt x="28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4" y="0"/>
                  </a:cubicBezTo>
                  <a:close/>
                </a:path>
              </a:pathLst>
            </a:custGeom>
            <a:solidFill>
              <a:srgbClr val="00b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17000" y="1506240"/>
              <a:ext cx="708120" cy="344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68" h="33">
                  <a:moveTo>
                    <a:pt x="34" y="0"/>
                  </a:moveTo>
                  <a:cubicBezTo>
                    <a:pt x="53" y="0"/>
                    <a:pt x="68" y="15"/>
                    <a:pt x="68" y="33"/>
                  </a:cubicBezTo>
                  <a:cubicBezTo>
                    <a:pt x="57" y="33"/>
                    <a:pt x="57" y="33"/>
                    <a:pt x="57" y="33"/>
                  </a:cubicBezTo>
                  <a:cubicBezTo>
                    <a:pt x="52" y="24"/>
                    <a:pt x="52" y="24"/>
                    <a:pt x="52" y="24"/>
                  </a:cubicBezTo>
                  <a:cubicBezTo>
                    <a:pt x="46" y="33"/>
                    <a:pt x="46" y="33"/>
                    <a:pt x="46" y="33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28" y="33"/>
                    <a:pt x="28" y="33"/>
                    <a:pt x="28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4" y="0"/>
                  </a:cubicBezTo>
                  <a:close/>
                </a:path>
              </a:pathLst>
            </a:custGeom>
            <a:solidFill>
              <a:srgbClr val="00b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5830200" y="1150920"/>
              <a:ext cx="594000" cy="689400"/>
            </a:xfrm>
            <a:custGeom>
              <a:avLst/>
              <a:gdLst>
                <a:gd name="textAreaLeft" fmla="*/ 0 w 594000"/>
                <a:gd name="textAreaRight" fmla="*/ 594360 w 594000"/>
                <a:gd name="textAreaTop" fmla="*/ 0 h 689400"/>
                <a:gd name="textAreaBottom" fmla="*/ 689760 h 689400"/>
              </a:gdLst>
              <a:ahLst/>
              <a:rect l="textAreaLeft" t="textAreaTop" r="textAreaRight" b="textAreaBottom"/>
              <a:pathLst>
                <a:path w="57" h="66">
                  <a:moveTo>
                    <a:pt x="47" y="20"/>
                  </a:moveTo>
                  <a:cubicBezTo>
                    <a:pt x="57" y="35"/>
                    <a:pt x="53" y="56"/>
                    <a:pt x="38" y="66"/>
                  </a:cubicBezTo>
                  <a:cubicBezTo>
                    <a:pt x="32" y="58"/>
                    <a:pt x="32" y="58"/>
                    <a:pt x="32" y="58"/>
                  </a:cubicBezTo>
                  <a:cubicBezTo>
                    <a:pt x="37" y="48"/>
                    <a:pt x="37" y="48"/>
                    <a:pt x="37" y="48"/>
                  </a:cubicBezTo>
                  <a:cubicBezTo>
                    <a:pt x="25" y="49"/>
                    <a:pt x="25" y="49"/>
                    <a:pt x="25" y="49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5" y="0"/>
                    <a:pt x="36" y="4"/>
                    <a:pt x="47" y="20"/>
                  </a:cubicBezTo>
                  <a:close/>
                </a:path>
              </a:pathLst>
            </a:custGeom>
            <a:solidFill>
              <a:srgbClr val="aad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6235920" y="1150920"/>
              <a:ext cx="604800" cy="689400"/>
            </a:xfrm>
            <a:custGeom>
              <a:avLst/>
              <a:gdLst>
                <a:gd name="textAreaLeft" fmla="*/ 0 w 604800"/>
                <a:gd name="textAreaRight" fmla="*/ 605160 w 604800"/>
                <a:gd name="textAreaTop" fmla="*/ 0 h 689400"/>
                <a:gd name="textAreaBottom" fmla="*/ 689760 h 689400"/>
              </a:gdLst>
              <a:ahLst/>
              <a:rect l="textAreaLeft" t="textAreaTop" r="textAreaRight" b="textAreaBottom"/>
              <a:pathLst>
                <a:path w="58" h="66">
                  <a:moveTo>
                    <a:pt x="11" y="20"/>
                  </a:moveTo>
                  <a:cubicBezTo>
                    <a:pt x="0" y="35"/>
                    <a:pt x="4" y="56"/>
                    <a:pt x="20" y="66"/>
                  </a:cubicBezTo>
                  <a:cubicBezTo>
                    <a:pt x="26" y="58"/>
                    <a:pt x="26" y="58"/>
                    <a:pt x="26" y="58"/>
                  </a:cubicBezTo>
                  <a:cubicBezTo>
                    <a:pt x="21" y="48"/>
                    <a:pt x="21" y="48"/>
                    <a:pt x="21" y="48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6" y="43"/>
                    <a:pt x="36" y="43"/>
                    <a:pt x="36" y="43"/>
                  </a:cubicBezTo>
                  <a:cubicBezTo>
                    <a:pt x="31" y="33"/>
                    <a:pt x="31" y="33"/>
                    <a:pt x="31" y="33"/>
                  </a:cubicBezTo>
                  <a:cubicBezTo>
                    <a:pt x="42" y="34"/>
                    <a:pt x="42" y="34"/>
                    <a:pt x="42" y="34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52" y="18"/>
                    <a:pt x="52" y="18"/>
                    <a:pt x="52" y="18"/>
                  </a:cubicBezTo>
                  <a:cubicBezTo>
                    <a:pt x="58" y="11"/>
                    <a:pt x="58" y="11"/>
                    <a:pt x="58" y="11"/>
                  </a:cubicBezTo>
                  <a:cubicBezTo>
                    <a:pt x="42" y="0"/>
                    <a:pt x="21" y="4"/>
                    <a:pt x="11" y="20"/>
                  </a:cubicBezTo>
                  <a:close/>
                </a:path>
              </a:pathLst>
            </a:custGeom>
            <a:solidFill>
              <a:srgbClr val="aad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31"/>
            <p:cNvSpPr/>
            <p:nvPr/>
          </p:nvSpPr>
          <p:spPr>
            <a:xfrm>
              <a:off x="6320880" y="1723680"/>
              <a:ext cx="217440" cy="219960"/>
            </a:xfrm>
            <a:prstGeom prst="ellipse">
              <a:avLst/>
            </a:prstGeom>
            <a:solidFill>
              <a:srgbClr val="6e5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32"/>
            <p:cNvSpPr/>
            <p:nvPr/>
          </p:nvSpPr>
          <p:spPr>
            <a:xfrm>
              <a:off x="6090120" y="1723680"/>
              <a:ext cx="230760" cy="219960"/>
            </a:xfrm>
            <a:prstGeom prst="ellipse">
              <a:avLst/>
            </a:prstGeom>
            <a:solidFill>
              <a:srgbClr val="6e5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Oval 33"/>
            <p:cNvSpPr/>
            <p:nvPr/>
          </p:nvSpPr>
          <p:spPr>
            <a:xfrm>
              <a:off x="6214680" y="1609560"/>
              <a:ext cx="219960" cy="219960"/>
            </a:xfrm>
            <a:prstGeom prst="ellipse">
              <a:avLst/>
            </a:prstGeom>
            <a:solidFill>
              <a:srgbClr val="b06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143"/>
            <p:cNvSpPr/>
            <p:nvPr/>
          </p:nvSpPr>
          <p:spPr>
            <a:xfrm>
              <a:off x="5694840" y="2267280"/>
              <a:ext cx="113760" cy="668160"/>
            </a:xfrm>
            <a:prstGeom prst="rect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Rectangle 144"/>
            <p:cNvSpPr/>
            <p:nvPr/>
          </p:nvSpPr>
          <p:spPr>
            <a:xfrm>
              <a:off x="5662800" y="2402640"/>
              <a:ext cx="177480" cy="74160"/>
            </a:xfrm>
            <a:prstGeom prst="rect">
              <a:avLst/>
            </a:prstGeom>
            <a:solidFill>
              <a:srgbClr val="e0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145"/>
            <p:cNvSpPr/>
            <p:nvPr/>
          </p:nvSpPr>
          <p:spPr>
            <a:xfrm>
              <a:off x="5662800" y="2590920"/>
              <a:ext cx="177480" cy="74160"/>
            </a:xfrm>
            <a:prstGeom prst="rect">
              <a:avLst/>
            </a:prstGeom>
            <a:solidFill>
              <a:srgbClr val="e0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Rectangle 146"/>
            <p:cNvSpPr/>
            <p:nvPr/>
          </p:nvSpPr>
          <p:spPr>
            <a:xfrm>
              <a:off x="5662800" y="2757960"/>
              <a:ext cx="177480" cy="74160"/>
            </a:xfrm>
            <a:prstGeom prst="rect">
              <a:avLst/>
            </a:prstGeom>
            <a:solidFill>
              <a:srgbClr val="e0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47"/>
            <p:cNvSpPr/>
            <p:nvPr/>
          </p:nvSpPr>
          <p:spPr>
            <a:xfrm>
              <a:off x="5808960" y="2100240"/>
              <a:ext cx="416520" cy="20916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40" h="20">
                  <a:moveTo>
                    <a:pt x="20" y="0"/>
                  </a:moveTo>
                  <a:cubicBezTo>
                    <a:pt x="31" y="0"/>
                    <a:pt x="40" y="9"/>
                    <a:pt x="40" y="20"/>
                  </a:cubicBezTo>
                  <a:cubicBezTo>
                    <a:pt x="34" y="20"/>
                    <a:pt x="34" y="20"/>
                    <a:pt x="34" y="20"/>
                  </a:cubicBezTo>
                  <a:cubicBezTo>
                    <a:pt x="30" y="14"/>
                    <a:pt x="30" y="14"/>
                    <a:pt x="30" y="14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2" y="20"/>
                    <a:pt x="12" y="20"/>
                    <a:pt x="12" y="20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lose/>
                </a:path>
              </a:pathLst>
            </a:custGeom>
            <a:solidFill>
              <a:srgbClr val="00b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48"/>
            <p:cNvSpPr/>
            <p:nvPr/>
          </p:nvSpPr>
          <p:spPr>
            <a:xfrm>
              <a:off x="5278320" y="2100240"/>
              <a:ext cx="416520" cy="20916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40" h="20">
                  <a:moveTo>
                    <a:pt x="20" y="0"/>
                  </a:moveTo>
                  <a:cubicBezTo>
                    <a:pt x="31" y="0"/>
                    <a:pt x="40" y="9"/>
                    <a:pt x="40" y="20"/>
                  </a:cubicBezTo>
                  <a:cubicBezTo>
                    <a:pt x="33" y="20"/>
                    <a:pt x="33" y="20"/>
                    <a:pt x="33" y="20"/>
                  </a:cubicBezTo>
                  <a:cubicBezTo>
                    <a:pt x="30" y="14"/>
                    <a:pt x="30" y="14"/>
                    <a:pt x="30" y="14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2" y="20"/>
                    <a:pt x="12" y="20"/>
                    <a:pt x="12" y="20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lose/>
                </a:path>
              </a:pathLst>
            </a:custGeom>
            <a:solidFill>
              <a:srgbClr val="00b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149"/>
            <p:cNvSpPr/>
            <p:nvPr/>
          </p:nvSpPr>
          <p:spPr>
            <a:xfrm>
              <a:off x="5455800" y="1890720"/>
              <a:ext cx="352800" cy="408240"/>
            </a:xfrm>
            <a:custGeom>
              <a:avLst/>
              <a:gdLst>
                <a:gd name="textAreaLeft" fmla="*/ 0 w 352800"/>
                <a:gd name="textAreaRight" fmla="*/ 353160 w 35280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34" h="39">
                  <a:moveTo>
                    <a:pt x="28" y="12"/>
                  </a:moveTo>
                  <a:cubicBezTo>
                    <a:pt x="34" y="21"/>
                    <a:pt x="32" y="33"/>
                    <a:pt x="23" y="39"/>
                  </a:cubicBezTo>
                  <a:cubicBezTo>
                    <a:pt x="19" y="34"/>
                    <a:pt x="19" y="34"/>
                    <a:pt x="19" y="34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15" y="29"/>
                    <a:pt x="15" y="29"/>
                    <a:pt x="15" y="29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0" y="20"/>
                    <a:pt x="10" y="20"/>
                    <a:pt x="10" y="20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9" y="0"/>
                    <a:pt x="22" y="3"/>
                    <a:pt x="28" y="12"/>
                  </a:cubicBezTo>
                  <a:close/>
                </a:path>
              </a:pathLst>
            </a:custGeom>
            <a:solidFill>
              <a:srgbClr val="aad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50"/>
            <p:cNvSpPr/>
            <p:nvPr/>
          </p:nvSpPr>
          <p:spPr>
            <a:xfrm>
              <a:off x="5705280" y="1890720"/>
              <a:ext cx="344880" cy="40824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33" h="39">
                  <a:moveTo>
                    <a:pt x="6" y="12"/>
                  </a:moveTo>
                  <a:cubicBezTo>
                    <a:pt x="0" y="21"/>
                    <a:pt x="2" y="33"/>
                    <a:pt x="11" y="39"/>
                  </a:cubicBezTo>
                  <a:cubicBezTo>
                    <a:pt x="14" y="34"/>
                    <a:pt x="14" y="34"/>
                    <a:pt x="14" y="34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24" y="0"/>
                    <a:pt x="12" y="3"/>
                    <a:pt x="6" y="12"/>
                  </a:cubicBezTo>
                  <a:close/>
                </a:path>
              </a:pathLst>
            </a:custGeom>
            <a:solidFill>
              <a:srgbClr val="aad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Oval 151"/>
            <p:cNvSpPr/>
            <p:nvPr/>
          </p:nvSpPr>
          <p:spPr>
            <a:xfrm>
              <a:off x="5747760" y="2224800"/>
              <a:ext cx="124560" cy="137880"/>
            </a:xfrm>
            <a:prstGeom prst="ellipse">
              <a:avLst/>
            </a:prstGeom>
            <a:solidFill>
              <a:srgbClr val="6e5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152"/>
            <p:cNvSpPr/>
            <p:nvPr/>
          </p:nvSpPr>
          <p:spPr>
            <a:xfrm>
              <a:off x="5609880" y="2224800"/>
              <a:ext cx="137880" cy="137880"/>
            </a:xfrm>
            <a:prstGeom prst="ellipse">
              <a:avLst/>
            </a:prstGeom>
            <a:solidFill>
              <a:srgbClr val="6e5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Oval 153"/>
            <p:cNvSpPr/>
            <p:nvPr/>
          </p:nvSpPr>
          <p:spPr>
            <a:xfrm>
              <a:off x="5684040" y="2163960"/>
              <a:ext cx="135000" cy="135000"/>
            </a:xfrm>
            <a:prstGeom prst="ellipse">
              <a:avLst/>
            </a:prstGeom>
            <a:solidFill>
              <a:srgbClr val="b06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1" name="Freeform 73"/>
          <p:cNvSpPr/>
          <p:nvPr/>
        </p:nvSpPr>
        <p:spPr>
          <a:xfrm>
            <a:off x="4365720" y="2833560"/>
            <a:ext cx="3405240" cy="265320"/>
          </a:xfrm>
          <a:custGeom>
            <a:avLst/>
            <a:gdLst>
              <a:gd name="textAreaLeft" fmla="*/ 0 w 3405240"/>
              <a:gd name="textAreaRight" fmla="*/ 3405600 w 340524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393" h="69">
                <a:moveTo>
                  <a:pt x="1366" y="0"/>
                </a:moveTo>
                <a:cubicBezTo>
                  <a:pt x="28" y="0"/>
                  <a:pt x="28" y="0"/>
                  <a:pt x="28" y="0"/>
                </a:cubicBezTo>
                <a:cubicBezTo>
                  <a:pt x="13" y="0"/>
                  <a:pt x="0" y="12"/>
                  <a:pt x="0" y="27"/>
                </a:cubicBezTo>
                <a:cubicBezTo>
                  <a:pt x="0" y="69"/>
                  <a:pt x="0" y="69"/>
                  <a:pt x="0" y="69"/>
                </a:cubicBezTo>
                <a:cubicBezTo>
                  <a:pt x="1393" y="69"/>
                  <a:pt x="1393" y="69"/>
                  <a:pt x="1393" y="69"/>
                </a:cubicBezTo>
                <a:cubicBezTo>
                  <a:pt x="1393" y="27"/>
                  <a:pt x="1393" y="27"/>
                  <a:pt x="1393" y="27"/>
                </a:cubicBezTo>
                <a:cubicBezTo>
                  <a:pt x="1393" y="12"/>
                  <a:pt x="1381" y="0"/>
                  <a:pt x="1366" y="0"/>
                </a:cubicBezTo>
                <a:close/>
              </a:path>
            </a:pathLst>
          </a:custGeom>
          <a:solidFill>
            <a:srgbClr val="00c2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组合 3"/>
          <p:cNvGrpSpPr/>
          <p:nvPr/>
        </p:nvGrpSpPr>
        <p:grpSpPr>
          <a:xfrm>
            <a:off x="5394960" y="404640"/>
            <a:ext cx="1386720" cy="520560"/>
            <a:chOff x="5394960" y="404640"/>
            <a:chExt cx="1386720" cy="520560"/>
          </a:xfrm>
        </p:grpSpPr>
        <p:sp>
          <p:nvSpPr>
            <p:cNvPr id="1003" name="矩形 4"/>
            <p:cNvSpPr/>
            <p:nvPr/>
          </p:nvSpPr>
          <p:spPr>
            <a:xfrm>
              <a:off x="5394960" y="514080"/>
              <a:ext cx="1386720" cy="305280"/>
            </a:xfrm>
            <a:prstGeom prst="rect">
              <a:avLst/>
            </a:prstGeom>
            <a:solidFill>
              <a:srgbClr val="4939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文本框 5"/>
            <p:cNvSpPr/>
            <p:nvPr/>
          </p:nvSpPr>
          <p:spPr>
            <a:xfrm>
              <a:off x="5579640" y="404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eee88a"/>
                  </a:solidFill>
                  <a:latin typeface="微软雅黑"/>
                  <a:ea typeface="微软雅黑"/>
                </a:rPr>
                <a:t>设计规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5" name="矩形 6"/>
          <p:cNvSpPr/>
          <p:nvPr/>
        </p:nvSpPr>
        <p:spPr>
          <a:xfrm>
            <a:off x="1590840" y="1538280"/>
            <a:ext cx="426960" cy="426960"/>
          </a:xfrm>
          <a:prstGeom prst="rect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矩形 7"/>
          <p:cNvSpPr/>
          <p:nvPr/>
        </p:nvSpPr>
        <p:spPr>
          <a:xfrm>
            <a:off x="2849400" y="1538280"/>
            <a:ext cx="427320" cy="426960"/>
          </a:xfrm>
          <a:prstGeom prst="rect">
            <a:avLst/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矩形 8"/>
          <p:cNvSpPr/>
          <p:nvPr/>
        </p:nvSpPr>
        <p:spPr>
          <a:xfrm>
            <a:off x="3478320" y="1538280"/>
            <a:ext cx="426960" cy="426960"/>
          </a:xfrm>
          <a:prstGeom prst="rect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文本框 9"/>
          <p:cNvSpPr/>
          <p:nvPr/>
        </p:nvSpPr>
        <p:spPr>
          <a:xfrm>
            <a:off x="1502280" y="202716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文本框 10"/>
          <p:cNvSpPr/>
          <p:nvPr/>
        </p:nvSpPr>
        <p:spPr>
          <a:xfrm>
            <a:off x="2109960" y="202716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1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2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文本框 11"/>
          <p:cNvSpPr/>
          <p:nvPr/>
        </p:nvSpPr>
        <p:spPr>
          <a:xfrm>
            <a:off x="2749680" y="2022480"/>
            <a:ext cx="71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1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文本框 12"/>
          <p:cNvSpPr/>
          <p:nvPr/>
        </p:nvSpPr>
        <p:spPr>
          <a:xfrm>
            <a:off x="3368880" y="201924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矩形 13"/>
          <p:cNvSpPr/>
          <p:nvPr/>
        </p:nvSpPr>
        <p:spPr>
          <a:xfrm>
            <a:off x="2219400" y="1538280"/>
            <a:ext cx="428400" cy="426960"/>
          </a:xfrm>
          <a:prstGeom prst="rect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文本框 14"/>
          <p:cNvSpPr/>
          <p:nvPr/>
        </p:nvSpPr>
        <p:spPr>
          <a:xfrm>
            <a:off x="8597520" y="1752480"/>
            <a:ext cx="168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字体：微软雅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文字体：宋体（正文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reeform 11"/>
          <p:cNvSpPr/>
          <p:nvPr/>
        </p:nvSpPr>
        <p:spPr>
          <a:xfrm>
            <a:off x="6321600" y="4711680"/>
            <a:ext cx="691920" cy="1555920"/>
          </a:xfrm>
          <a:custGeom>
            <a:avLst/>
            <a:gdLst>
              <a:gd name="textAreaLeft" fmla="*/ 0 w 691920"/>
              <a:gd name="textAreaRight" fmla="*/ 691920 w 691920"/>
              <a:gd name="textAreaTop" fmla="*/ 0 h 1555920"/>
              <a:gd name="textAreaBottom" fmla="*/ 1556280 h 1555920"/>
            </a:gdLst>
            <a:ahLst/>
            <a:rect l="textAreaLeft" t="textAreaTop" r="textAreaRight" b="textAreaBottom"/>
            <a:pathLst>
              <a:path w="120" h="269">
                <a:moveTo>
                  <a:pt x="100" y="269"/>
                </a:moveTo>
                <a:cubicBezTo>
                  <a:pt x="20" y="269"/>
                  <a:pt x="20" y="269"/>
                  <a:pt x="20" y="269"/>
                </a:cubicBezTo>
                <a:cubicBezTo>
                  <a:pt x="9" y="269"/>
                  <a:pt x="0" y="260"/>
                  <a:pt x="0" y="249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27"/>
                  <a:pt x="27" y="0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93" y="0"/>
                  <a:pt x="120" y="27"/>
                  <a:pt x="120" y="60"/>
                </a:cubicBezTo>
                <a:cubicBezTo>
                  <a:pt x="120" y="249"/>
                  <a:pt x="120" y="249"/>
                  <a:pt x="120" y="249"/>
                </a:cubicBezTo>
                <a:cubicBezTo>
                  <a:pt x="120" y="260"/>
                  <a:pt x="111" y="269"/>
                  <a:pt x="100" y="269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15"/>
          <p:cNvSpPr/>
          <p:nvPr/>
        </p:nvSpPr>
        <p:spPr>
          <a:xfrm>
            <a:off x="6753240" y="3432240"/>
            <a:ext cx="4822920" cy="3200400"/>
          </a:xfrm>
          <a:custGeom>
            <a:avLst/>
            <a:gdLst>
              <a:gd name="textAreaLeft" fmla="*/ 0 w 4822920"/>
              <a:gd name="textAreaRight" fmla="*/ 4823280 w 482292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835" h="553">
                <a:moveTo>
                  <a:pt x="777" y="374"/>
                </a:moveTo>
                <a:cubicBezTo>
                  <a:pt x="684" y="374"/>
                  <a:pt x="684" y="374"/>
                  <a:pt x="684" y="374"/>
                </a:cubicBezTo>
                <a:cubicBezTo>
                  <a:pt x="684" y="323"/>
                  <a:pt x="684" y="323"/>
                  <a:pt x="684" y="323"/>
                </a:cubicBezTo>
                <a:cubicBezTo>
                  <a:pt x="684" y="277"/>
                  <a:pt x="647" y="240"/>
                  <a:pt x="601" y="240"/>
                </a:cubicBezTo>
                <a:cubicBezTo>
                  <a:pt x="493" y="240"/>
                  <a:pt x="493" y="240"/>
                  <a:pt x="493" y="240"/>
                </a:cubicBezTo>
                <a:cubicBezTo>
                  <a:pt x="493" y="183"/>
                  <a:pt x="493" y="183"/>
                  <a:pt x="493" y="183"/>
                </a:cubicBezTo>
                <a:cubicBezTo>
                  <a:pt x="493" y="153"/>
                  <a:pt x="469" y="129"/>
                  <a:pt x="440" y="129"/>
                </a:cubicBezTo>
                <a:cubicBezTo>
                  <a:pt x="435" y="129"/>
                  <a:pt x="435" y="129"/>
                  <a:pt x="435" y="129"/>
                </a:cubicBezTo>
                <a:cubicBezTo>
                  <a:pt x="435" y="92"/>
                  <a:pt x="435" y="92"/>
                  <a:pt x="435" y="92"/>
                </a:cubicBezTo>
                <a:cubicBezTo>
                  <a:pt x="435" y="45"/>
                  <a:pt x="398" y="5"/>
                  <a:pt x="351" y="2"/>
                </a:cubicBezTo>
                <a:cubicBezTo>
                  <a:pt x="301" y="0"/>
                  <a:pt x="260" y="40"/>
                  <a:pt x="260" y="90"/>
                </a:cubicBezTo>
                <a:cubicBezTo>
                  <a:pt x="260" y="98"/>
                  <a:pt x="260" y="98"/>
                  <a:pt x="260" y="98"/>
                </a:cubicBezTo>
                <a:cubicBezTo>
                  <a:pt x="257" y="98"/>
                  <a:pt x="257" y="98"/>
                  <a:pt x="257" y="98"/>
                </a:cubicBezTo>
                <a:cubicBezTo>
                  <a:pt x="217" y="98"/>
                  <a:pt x="185" y="130"/>
                  <a:pt x="185" y="170"/>
                </a:cubicBezTo>
                <a:cubicBezTo>
                  <a:pt x="185" y="214"/>
                  <a:pt x="185" y="214"/>
                  <a:pt x="185" y="214"/>
                </a:cubicBezTo>
                <a:cubicBezTo>
                  <a:pt x="162" y="214"/>
                  <a:pt x="162" y="214"/>
                  <a:pt x="162" y="214"/>
                </a:cubicBezTo>
                <a:cubicBezTo>
                  <a:pt x="128" y="214"/>
                  <a:pt x="100" y="242"/>
                  <a:pt x="100" y="275"/>
                </a:cubicBezTo>
                <a:cubicBezTo>
                  <a:pt x="100" y="324"/>
                  <a:pt x="100" y="324"/>
                  <a:pt x="100" y="324"/>
                </a:cubicBezTo>
                <a:cubicBezTo>
                  <a:pt x="58" y="324"/>
                  <a:pt x="58" y="324"/>
                  <a:pt x="58" y="324"/>
                </a:cubicBezTo>
                <a:cubicBezTo>
                  <a:pt x="26" y="324"/>
                  <a:pt x="0" y="349"/>
                  <a:pt x="0" y="381"/>
                </a:cubicBezTo>
                <a:cubicBezTo>
                  <a:pt x="0" y="502"/>
                  <a:pt x="0" y="502"/>
                  <a:pt x="0" y="502"/>
                </a:cubicBezTo>
                <a:cubicBezTo>
                  <a:pt x="124" y="502"/>
                  <a:pt x="124" y="502"/>
                  <a:pt x="124" y="502"/>
                </a:cubicBezTo>
                <a:cubicBezTo>
                  <a:pt x="124" y="498"/>
                  <a:pt x="124" y="498"/>
                  <a:pt x="124" y="498"/>
                </a:cubicBezTo>
                <a:cubicBezTo>
                  <a:pt x="185" y="498"/>
                  <a:pt x="185" y="498"/>
                  <a:pt x="185" y="498"/>
                </a:cubicBezTo>
                <a:cubicBezTo>
                  <a:pt x="185" y="524"/>
                  <a:pt x="185" y="524"/>
                  <a:pt x="185" y="524"/>
                </a:cubicBezTo>
                <a:cubicBezTo>
                  <a:pt x="300" y="524"/>
                  <a:pt x="300" y="524"/>
                  <a:pt x="300" y="524"/>
                </a:cubicBezTo>
                <a:cubicBezTo>
                  <a:pt x="300" y="512"/>
                  <a:pt x="300" y="512"/>
                  <a:pt x="300" y="512"/>
                </a:cubicBezTo>
                <a:cubicBezTo>
                  <a:pt x="435" y="512"/>
                  <a:pt x="435" y="512"/>
                  <a:pt x="435" y="512"/>
                </a:cubicBezTo>
                <a:cubicBezTo>
                  <a:pt x="435" y="490"/>
                  <a:pt x="435" y="490"/>
                  <a:pt x="435" y="490"/>
                </a:cubicBezTo>
                <a:cubicBezTo>
                  <a:pt x="470" y="490"/>
                  <a:pt x="470" y="490"/>
                  <a:pt x="470" y="490"/>
                </a:cubicBezTo>
                <a:cubicBezTo>
                  <a:pt x="470" y="527"/>
                  <a:pt x="470" y="527"/>
                  <a:pt x="470" y="527"/>
                </a:cubicBezTo>
                <a:cubicBezTo>
                  <a:pt x="646" y="527"/>
                  <a:pt x="646" y="527"/>
                  <a:pt x="646" y="527"/>
                </a:cubicBezTo>
                <a:cubicBezTo>
                  <a:pt x="646" y="553"/>
                  <a:pt x="646" y="553"/>
                  <a:pt x="646" y="553"/>
                </a:cubicBezTo>
                <a:cubicBezTo>
                  <a:pt x="835" y="553"/>
                  <a:pt x="835" y="553"/>
                  <a:pt x="835" y="553"/>
                </a:cubicBezTo>
                <a:cubicBezTo>
                  <a:pt x="835" y="433"/>
                  <a:pt x="835" y="433"/>
                  <a:pt x="835" y="433"/>
                </a:cubicBezTo>
                <a:cubicBezTo>
                  <a:pt x="835" y="401"/>
                  <a:pt x="809" y="374"/>
                  <a:pt x="777" y="374"/>
                </a:cubicBez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16"/>
          <p:cNvSpPr/>
          <p:nvPr/>
        </p:nvSpPr>
        <p:spPr>
          <a:xfrm>
            <a:off x="8775720" y="3444840"/>
            <a:ext cx="2800440" cy="3036960"/>
          </a:xfrm>
          <a:custGeom>
            <a:avLst/>
            <a:gdLst>
              <a:gd name="textAreaLeft" fmla="*/ 0 w 2800440"/>
              <a:gd name="textAreaRight" fmla="*/ 2800800 w 2800440"/>
              <a:gd name="textAreaTop" fmla="*/ 0 h 3036960"/>
              <a:gd name="textAreaBottom" fmla="*/ 3037320 h 3036960"/>
            </a:gdLst>
            <a:ahLst/>
            <a:rect l="textAreaLeft" t="textAreaTop" r="textAreaRight" b="textAreaBottom"/>
            <a:pathLst>
              <a:path w="485" h="525">
                <a:moveTo>
                  <a:pt x="427" y="372"/>
                </a:moveTo>
                <a:cubicBezTo>
                  <a:pt x="334" y="372"/>
                  <a:pt x="334" y="372"/>
                  <a:pt x="334" y="372"/>
                </a:cubicBezTo>
                <a:cubicBezTo>
                  <a:pt x="334" y="321"/>
                  <a:pt x="334" y="321"/>
                  <a:pt x="334" y="321"/>
                </a:cubicBezTo>
                <a:cubicBezTo>
                  <a:pt x="334" y="275"/>
                  <a:pt x="297" y="238"/>
                  <a:pt x="251" y="238"/>
                </a:cubicBezTo>
                <a:cubicBezTo>
                  <a:pt x="143" y="238"/>
                  <a:pt x="143" y="238"/>
                  <a:pt x="143" y="238"/>
                </a:cubicBezTo>
                <a:cubicBezTo>
                  <a:pt x="143" y="181"/>
                  <a:pt x="143" y="181"/>
                  <a:pt x="143" y="181"/>
                </a:cubicBezTo>
                <a:cubicBezTo>
                  <a:pt x="143" y="151"/>
                  <a:pt x="119" y="127"/>
                  <a:pt x="90" y="127"/>
                </a:cubicBezTo>
                <a:cubicBezTo>
                  <a:pt x="85" y="127"/>
                  <a:pt x="85" y="127"/>
                  <a:pt x="85" y="127"/>
                </a:cubicBezTo>
                <a:cubicBezTo>
                  <a:pt x="85" y="90"/>
                  <a:pt x="85" y="90"/>
                  <a:pt x="85" y="90"/>
                </a:cubicBezTo>
                <a:cubicBezTo>
                  <a:pt x="85" y="43"/>
                  <a:pt x="48" y="3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510"/>
                  <a:pt x="0" y="510"/>
                  <a:pt x="0" y="510"/>
                </a:cubicBezTo>
                <a:cubicBezTo>
                  <a:pt x="85" y="510"/>
                  <a:pt x="85" y="510"/>
                  <a:pt x="85" y="510"/>
                </a:cubicBezTo>
                <a:cubicBezTo>
                  <a:pt x="85" y="488"/>
                  <a:pt x="85" y="488"/>
                  <a:pt x="85" y="488"/>
                </a:cubicBezTo>
                <a:cubicBezTo>
                  <a:pt x="120" y="488"/>
                  <a:pt x="120" y="488"/>
                  <a:pt x="120" y="488"/>
                </a:cubicBezTo>
                <a:cubicBezTo>
                  <a:pt x="120" y="525"/>
                  <a:pt x="120" y="525"/>
                  <a:pt x="120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485" y="525"/>
                  <a:pt x="485" y="525"/>
                  <a:pt x="485" y="525"/>
                </a:cubicBezTo>
                <a:cubicBezTo>
                  <a:pt x="485" y="431"/>
                  <a:pt x="485" y="431"/>
                  <a:pt x="485" y="431"/>
                </a:cubicBezTo>
                <a:cubicBezTo>
                  <a:pt x="485" y="399"/>
                  <a:pt x="459" y="372"/>
                  <a:pt x="427" y="372"/>
                </a:cubicBezTo>
                <a:close/>
              </a:path>
            </a:pathLst>
          </a:custGeom>
          <a:solidFill>
            <a:srgbClr val="46b3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17"/>
          <p:cNvSpPr/>
          <p:nvPr/>
        </p:nvSpPr>
        <p:spPr>
          <a:xfrm>
            <a:off x="7324560" y="4591080"/>
            <a:ext cx="514440" cy="1249200"/>
          </a:xfrm>
          <a:custGeom>
            <a:avLst/>
            <a:gdLst>
              <a:gd name="textAreaLeft" fmla="*/ 0 w 514440"/>
              <a:gd name="textAreaRight" fmla="*/ 514800 w 514440"/>
              <a:gd name="textAreaTop" fmla="*/ 0 h 1249200"/>
              <a:gd name="textAreaBottom" fmla="*/ 1249200 h 1249200"/>
            </a:gdLst>
            <a:ahLst/>
            <a:rect l="textAreaLeft" t="textAreaTop" r="textAreaRight" b="textAreaBottom"/>
            <a:pathLst>
              <a:path w="89" h="216">
                <a:moveTo>
                  <a:pt x="89" y="0"/>
                </a:moveTo>
                <a:cubicBezTo>
                  <a:pt x="88" y="0"/>
                  <a:pt x="87" y="0"/>
                  <a:pt x="86" y="0"/>
                </a:cubicBezTo>
                <a:cubicBezTo>
                  <a:pt x="86" y="14"/>
                  <a:pt x="86" y="14"/>
                  <a:pt x="86" y="14"/>
                </a:cubicBezTo>
                <a:cubicBezTo>
                  <a:pt x="63" y="14"/>
                  <a:pt x="63" y="14"/>
                  <a:pt x="63" y="14"/>
                </a:cubicBezTo>
                <a:cubicBezTo>
                  <a:pt x="45" y="14"/>
                  <a:pt x="29" y="21"/>
                  <a:pt x="18" y="33"/>
                </a:cubicBezTo>
                <a:cubicBezTo>
                  <a:pt x="11" y="42"/>
                  <a:pt x="5" y="53"/>
                  <a:pt x="2" y="65"/>
                </a:cubicBezTo>
                <a:cubicBezTo>
                  <a:pt x="2" y="68"/>
                  <a:pt x="1" y="72"/>
                  <a:pt x="1" y="75"/>
                </a:cubicBezTo>
                <a:cubicBezTo>
                  <a:pt x="1" y="124"/>
                  <a:pt x="1" y="124"/>
                  <a:pt x="1" y="124"/>
                </a:cubicBezTo>
                <a:cubicBezTo>
                  <a:pt x="0" y="124"/>
                  <a:pt x="0" y="124"/>
                  <a:pt x="0" y="124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18"/>
          <p:cNvSpPr/>
          <p:nvPr/>
        </p:nvSpPr>
        <p:spPr>
          <a:xfrm>
            <a:off x="7821720" y="3930480"/>
            <a:ext cx="520560" cy="1249560"/>
          </a:xfrm>
          <a:custGeom>
            <a:avLst/>
            <a:gdLst>
              <a:gd name="textAreaLeft" fmla="*/ 0 w 520560"/>
              <a:gd name="textAreaRight" fmla="*/ 520920 w 520560"/>
              <a:gd name="textAreaTop" fmla="*/ 0 h 1249560"/>
              <a:gd name="textAreaBottom" fmla="*/ 1249560 h 1249560"/>
            </a:gdLst>
            <a:ahLst/>
            <a:rect l="textAreaLeft" t="textAreaTop" r="textAreaRight" b="textAreaBottom"/>
            <a:pathLst>
              <a:path w="90" h="216">
                <a:moveTo>
                  <a:pt x="89" y="0"/>
                </a:moveTo>
                <a:cubicBezTo>
                  <a:pt x="84" y="0"/>
                  <a:pt x="90" y="3"/>
                  <a:pt x="85" y="3"/>
                </a:cubicBezTo>
                <a:cubicBezTo>
                  <a:pt x="85" y="4"/>
                  <a:pt x="86" y="9"/>
                  <a:pt x="86" y="10"/>
                </a:cubicBezTo>
                <a:cubicBezTo>
                  <a:pt x="73" y="12"/>
                  <a:pt x="73" y="12"/>
                  <a:pt x="73" y="12"/>
                </a:cubicBezTo>
                <a:cubicBezTo>
                  <a:pt x="70" y="12"/>
                  <a:pt x="70" y="12"/>
                  <a:pt x="70" y="12"/>
                </a:cubicBezTo>
                <a:cubicBezTo>
                  <a:pt x="47" y="12"/>
                  <a:pt x="26" y="23"/>
                  <a:pt x="13" y="41"/>
                </a:cubicBezTo>
                <a:cubicBezTo>
                  <a:pt x="6" y="52"/>
                  <a:pt x="1" y="65"/>
                  <a:pt x="0" y="79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c5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19"/>
          <p:cNvSpPr/>
          <p:nvPr/>
        </p:nvSpPr>
        <p:spPr>
          <a:xfrm>
            <a:off x="8255160" y="3438360"/>
            <a:ext cx="520560" cy="1257480"/>
          </a:xfrm>
          <a:custGeom>
            <a:avLst/>
            <a:gdLst>
              <a:gd name="textAreaLeft" fmla="*/ 0 w 520560"/>
              <a:gd name="textAreaRight" fmla="*/ 520920 w 520560"/>
              <a:gd name="textAreaTop" fmla="*/ 0 h 1257480"/>
              <a:gd name="textAreaBottom" fmla="*/ 1257840 h 1257480"/>
            </a:gdLst>
            <a:ahLst/>
            <a:rect l="textAreaLeft" t="textAreaTop" r="textAreaRight" b="textAreaBottom"/>
            <a:pathLst>
              <a:path w="90" h="217">
                <a:moveTo>
                  <a:pt x="90" y="1"/>
                </a:moveTo>
                <a:cubicBezTo>
                  <a:pt x="43" y="0"/>
                  <a:pt x="5" y="35"/>
                  <a:pt x="0" y="80"/>
                </a:cubicBezTo>
                <a:cubicBezTo>
                  <a:pt x="0" y="217"/>
                  <a:pt x="0" y="217"/>
                  <a:pt x="0" y="217"/>
                </a:cubicBezTo>
                <a:cubicBezTo>
                  <a:pt x="90" y="217"/>
                  <a:pt x="90" y="217"/>
                  <a:pt x="90" y="217"/>
                </a:cubicBezTo>
                <a:lnTo>
                  <a:pt x="90" y="1"/>
                </a:lnTo>
                <a:close/>
              </a:path>
            </a:pathLst>
          </a:custGeom>
          <a:solidFill>
            <a:srgbClr val="9cd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20"/>
          <p:cNvSpPr/>
          <p:nvPr/>
        </p:nvSpPr>
        <p:spPr>
          <a:xfrm>
            <a:off x="7142040" y="4208400"/>
            <a:ext cx="3678480" cy="2424240"/>
          </a:xfrm>
          <a:custGeom>
            <a:avLst/>
            <a:gdLst>
              <a:gd name="textAreaLeft" fmla="*/ 0 w 3678480"/>
              <a:gd name="textAreaRight" fmla="*/ 3678840 w 3678480"/>
              <a:gd name="textAreaTop" fmla="*/ 0 h 2424240"/>
              <a:gd name="textAreaBottom" fmla="*/ 2424600 h 2424240"/>
            </a:gdLst>
            <a:ahLst/>
            <a:rect l="textAreaLeft" t="textAreaTop" r="textAreaRight" b="textAreaBottom"/>
            <a:pathLst>
              <a:path w="637" h="419">
                <a:moveTo>
                  <a:pt x="593" y="284"/>
                </a:moveTo>
                <a:cubicBezTo>
                  <a:pt x="522" y="284"/>
                  <a:pt x="522" y="284"/>
                  <a:pt x="522" y="284"/>
                </a:cubicBezTo>
                <a:cubicBezTo>
                  <a:pt x="522" y="245"/>
                  <a:pt x="522" y="245"/>
                  <a:pt x="522" y="245"/>
                </a:cubicBezTo>
                <a:cubicBezTo>
                  <a:pt x="522" y="210"/>
                  <a:pt x="494" y="182"/>
                  <a:pt x="459" y="182"/>
                </a:cubicBezTo>
                <a:cubicBezTo>
                  <a:pt x="378" y="182"/>
                  <a:pt x="378" y="182"/>
                  <a:pt x="378" y="182"/>
                </a:cubicBezTo>
                <a:cubicBezTo>
                  <a:pt x="378" y="138"/>
                  <a:pt x="378" y="138"/>
                  <a:pt x="378" y="138"/>
                </a:cubicBezTo>
                <a:cubicBezTo>
                  <a:pt x="378" y="116"/>
                  <a:pt x="359" y="98"/>
                  <a:pt x="337" y="98"/>
                </a:cubicBezTo>
                <a:cubicBezTo>
                  <a:pt x="333" y="98"/>
                  <a:pt x="333" y="98"/>
                  <a:pt x="333" y="98"/>
                </a:cubicBezTo>
                <a:cubicBezTo>
                  <a:pt x="333" y="70"/>
                  <a:pt x="333" y="70"/>
                  <a:pt x="333" y="70"/>
                </a:cubicBezTo>
                <a:cubicBezTo>
                  <a:pt x="333" y="34"/>
                  <a:pt x="306" y="3"/>
                  <a:pt x="270" y="2"/>
                </a:cubicBezTo>
                <a:cubicBezTo>
                  <a:pt x="232" y="0"/>
                  <a:pt x="201" y="30"/>
                  <a:pt x="201" y="68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168" y="74"/>
                  <a:pt x="144" y="98"/>
                  <a:pt x="144" y="128"/>
                </a:cubicBezTo>
                <a:cubicBezTo>
                  <a:pt x="144" y="162"/>
                  <a:pt x="144" y="162"/>
                  <a:pt x="144" y="162"/>
                </a:cubicBezTo>
                <a:cubicBezTo>
                  <a:pt x="126" y="162"/>
                  <a:pt x="126" y="162"/>
                  <a:pt x="126" y="162"/>
                </a:cubicBezTo>
                <a:cubicBezTo>
                  <a:pt x="101" y="162"/>
                  <a:pt x="80" y="183"/>
                  <a:pt x="80" y="209"/>
                </a:cubicBezTo>
                <a:cubicBezTo>
                  <a:pt x="80" y="245"/>
                  <a:pt x="80" y="245"/>
                  <a:pt x="80" y="245"/>
                </a:cubicBezTo>
                <a:cubicBezTo>
                  <a:pt x="47" y="245"/>
                  <a:pt x="47" y="245"/>
                  <a:pt x="47" y="245"/>
                </a:cubicBezTo>
                <a:cubicBezTo>
                  <a:pt x="23" y="245"/>
                  <a:pt x="4" y="264"/>
                  <a:pt x="0" y="289"/>
                </a:cubicBezTo>
                <a:cubicBezTo>
                  <a:pt x="0" y="380"/>
                  <a:pt x="0" y="380"/>
                  <a:pt x="0" y="380"/>
                </a:cubicBezTo>
                <a:cubicBezTo>
                  <a:pt x="98" y="380"/>
                  <a:pt x="98" y="380"/>
                  <a:pt x="98" y="380"/>
                </a:cubicBezTo>
                <a:cubicBezTo>
                  <a:pt x="98" y="377"/>
                  <a:pt x="98" y="377"/>
                  <a:pt x="98" y="377"/>
                </a:cubicBezTo>
                <a:cubicBezTo>
                  <a:pt x="144" y="377"/>
                  <a:pt x="144" y="377"/>
                  <a:pt x="144" y="377"/>
                </a:cubicBezTo>
                <a:cubicBezTo>
                  <a:pt x="144" y="397"/>
                  <a:pt x="144" y="397"/>
                  <a:pt x="144" y="397"/>
                </a:cubicBezTo>
                <a:cubicBezTo>
                  <a:pt x="231" y="397"/>
                  <a:pt x="231" y="397"/>
                  <a:pt x="231" y="397"/>
                </a:cubicBezTo>
                <a:cubicBezTo>
                  <a:pt x="231" y="388"/>
                  <a:pt x="231" y="388"/>
                  <a:pt x="231" y="388"/>
                </a:cubicBezTo>
                <a:cubicBezTo>
                  <a:pt x="333" y="388"/>
                  <a:pt x="333" y="388"/>
                  <a:pt x="333" y="388"/>
                </a:cubicBezTo>
                <a:cubicBezTo>
                  <a:pt x="333" y="371"/>
                  <a:pt x="333" y="371"/>
                  <a:pt x="333" y="371"/>
                </a:cubicBezTo>
                <a:cubicBezTo>
                  <a:pt x="360" y="371"/>
                  <a:pt x="360" y="371"/>
                  <a:pt x="360" y="371"/>
                </a:cubicBezTo>
                <a:cubicBezTo>
                  <a:pt x="360" y="399"/>
                  <a:pt x="360" y="399"/>
                  <a:pt x="360" y="399"/>
                </a:cubicBezTo>
                <a:cubicBezTo>
                  <a:pt x="494" y="399"/>
                  <a:pt x="494" y="399"/>
                  <a:pt x="494" y="399"/>
                </a:cubicBezTo>
                <a:cubicBezTo>
                  <a:pt x="494" y="419"/>
                  <a:pt x="494" y="419"/>
                  <a:pt x="494" y="419"/>
                </a:cubicBezTo>
                <a:cubicBezTo>
                  <a:pt x="637" y="419"/>
                  <a:pt x="637" y="419"/>
                  <a:pt x="637" y="419"/>
                </a:cubicBezTo>
                <a:cubicBezTo>
                  <a:pt x="637" y="328"/>
                  <a:pt x="637" y="328"/>
                  <a:pt x="637" y="328"/>
                </a:cubicBezTo>
                <a:cubicBezTo>
                  <a:pt x="637" y="303"/>
                  <a:pt x="617" y="284"/>
                  <a:pt x="593" y="284"/>
                </a:cubicBezTo>
                <a:close/>
              </a:path>
            </a:pathLst>
          </a:custGeom>
          <a:solidFill>
            <a:srgbClr val="8db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21"/>
          <p:cNvSpPr/>
          <p:nvPr/>
        </p:nvSpPr>
        <p:spPr>
          <a:xfrm>
            <a:off x="8670960" y="4214880"/>
            <a:ext cx="2149560" cy="212256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2122560"/>
              <a:gd name="textAreaBottom" fmla="*/ 2122920 h 2122560"/>
            </a:gdLst>
            <a:ahLst/>
            <a:rect l="textAreaLeft" t="textAreaTop" r="textAreaRight" b="textAreaBottom"/>
            <a:pathLst>
              <a:path w="372" h="367">
                <a:moveTo>
                  <a:pt x="328" y="283"/>
                </a:moveTo>
                <a:cubicBezTo>
                  <a:pt x="257" y="283"/>
                  <a:pt x="257" y="283"/>
                  <a:pt x="257" y="283"/>
                </a:cubicBezTo>
                <a:cubicBezTo>
                  <a:pt x="257" y="244"/>
                  <a:pt x="257" y="244"/>
                  <a:pt x="257" y="244"/>
                </a:cubicBezTo>
                <a:cubicBezTo>
                  <a:pt x="257" y="209"/>
                  <a:pt x="229" y="181"/>
                  <a:pt x="194" y="181"/>
                </a:cubicBezTo>
                <a:cubicBezTo>
                  <a:pt x="113" y="181"/>
                  <a:pt x="113" y="181"/>
                  <a:pt x="113" y="181"/>
                </a:cubicBezTo>
                <a:cubicBezTo>
                  <a:pt x="113" y="137"/>
                  <a:pt x="113" y="137"/>
                  <a:pt x="113" y="137"/>
                </a:cubicBezTo>
                <a:cubicBezTo>
                  <a:pt x="113" y="115"/>
                  <a:pt x="94" y="97"/>
                  <a:pt x="72" y="97"/>
                </a:cubicBezTo>
                <a:cubicBezTo>
                  <a:pt x="68" y="97"/>
                  <a:pt x="68" y="97"/>
                  <a:pt x="68" y="9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3"/>
                  <a:pt x="41" y="2"/>
                  <a:pt x="5" y="1"/>
                </a:cubicBezTo>
                <a:cubicBezTo>
                  <a:pt x="3" y="0"/>
                  <a:pt x="2" y="1"/>
                  <a:pt x="0" y="1"/>
                </a:cubicBezTo>
                <a:cubicBezTo>
                  <a:pt x="0" y="367"/>
                  <a:pt x="0" y="367"/>
                  <a:pt x="0" y="367"/>
                </a:cubicBezTo>
                <a:cubicBezTo>
                  <a:pt x="372" y="367"/>
                  <a:pt x="372" y="367"/>
                  <a:pt x="372" y="367"/>
                </a:cubicBezTo>
                <a:cubicBezTo>
                  <a:pt x="372" y="327"/>
                  <a:pt x="372" y="327"/>
                  <a:pt x="372" y="327"/>
                </a:cubicBezTo>
                <a:cubicBezTo>
                  <a:pt x="372" y="302"/>
                  <a:pt x="352" y="283"/>
                  <a:pt x="328" y="283"/>
                </a:cubicBezTo>
                <a:close/>
              </a:path>
            </a:pathLst>
          </a:custGeom>
          <a:solidFill>
            <a:srgbClr val="5693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22"/>
          <p:cNvSpPr/>
          <p:nvPr/>
        </p:nvSpPr>
        <p:spPr>
          <a:xfrm>
            <a:off x="7701120" y="4897440"/>
            <a:ext cx="2616120" cy="1735200"/>
          </a:xfrm>
          <a:custGeom>
            <a:avLst/>
            <a:gdLst>
              <a:gd name="textAreaLeft" fmla="*/ 0 w 2616120"/>
              <a:gd name="textAreaRight" fmla="*/ 2616480 w 2616120"/>
              <a:gd name="textAreaTop" fmla="*/ 0 h 1735200"/>
              <a:gd name="textAreaBottom" fmla="*/ 1735560 h 1735200"/>
            </a:gdLst>
            <a:ahLst/>
            <a:rect l="textAreaLeft" t="textAreaTop" r="textAreaRight" b="textAreaBottom"/>
            <a:pathLst>
              <a:path w="453" h="300">
                <a:moveTo>
                  <a:pt x="421" y="203"/>
                </a:moveTo>
                <a:cubicBezTo>
                  <a:pt x="371" y="203"/>
                  <a:pt x="371" y="203"/>
                  <a:pt x="371" y="203"/>
                </a:cubicBezTo>
                <a:cubicBezTo>
                  <a:pt x="371" y="175"/>
                  <a:pt x="371" y="175"/>
                  <a:pt x="371" y="175"/>
                </a:cubicBezTo>
                <a:cubicBezTo>
                  <a:pt x="371" y="150"/>
                  <a:pt x="351" y="130"/>
                  <a:pt x="326" y="130"/>
                </a:cubicBezTo>
                <a:cubicBezTo>
                  <a:pt x="268" y="130"/>
                  <a:pt x="268" y="130"/>
                  <a:pt x="268" y="130"/>
                </a:cubicBezTo>
                <a:cubicBezTo>
                  <a:pt x="268" y="99"/>
                  <a:pt x="268" y="99"/>
                  <a:pt x="268" y="99"/>
                </a:cubicBezTo>
                <a:cubicBezTo>
                  <a:pt x="268" y="83"/>
                  <a:pt x="255" y="70"/>
                  <a:pt x="239" y="70"/>
                </a:cubicBezTo>
                <a:cubicBezTo>
                  <a:pt x="236" y="70"/>
                  <a:pt x="236" y="70"/>
                  <a:pt x="236" y="70"/>
                </a:cubicBezTo>
                <a:cubicBezTo>
                  <a:pt x="236" y="50"/>
                  <a:pt x="236" y="50"/>
                  <a:pt x="236" y="50"/>
                </a:cubicBezTo>
                <a:cubicBezTo>
                  <a:pt x="236" y="24"/>
                  <a:pt x="216" y="2"/>
                  <a:pt x="191" y="1"/>
                </a:cubicBezTo>
                <a:cubicBezTo>
                  <a:pt x="163" y="0"/>
                  <a:pt x="141" y="22"/>
                  <a:pt x="141" y="48"/>
                </a:cubicBezTo>
                <a:cubicBezTo>
                  <a:pt x="141" y="53"/>
                  <a:pt x="141" y="53"/>
                  <a:pt x="141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18" y="53"/>
                  <a:pt x="100" y="70"/>
                  <a:pt x="100" y="92"/>
                </a:cubicBezTo>
                <a:cubicBezTo>
                  <a:pt x="100" y="116"/>
                  <a:pt x="100" y="116"/>
                  <a:pt x="100" y="116"/>
                </a:cubicBezTo>
                <a:cubicBezTo>
                  <a:pt x="88" y="116"/>
                  <a:pt x="88" y="116"/>
                  <a:pt x="88" y="116"/>
                </a:cubicBezTo>
                <a:cubicBezTo>
                  <a:pt x="69" y="116"/>
                  <a:pt x="54" y="131"/>
                  <a:pt x="54" y="149"/>
                </a:cubicBezTo>
                <a:cubicBezTo>
                  <a:pt x="54" y="175"/>
                  <a:pt x="54" y="175"/>
                  <a:pt x="54" y="175"/>
                </a:cubicBezTo>
                <a:cubicBezTo>
                  <a:pt x="31" y="175"/>
                  <a:pt x="31" y="175"/>
                  <a:pt x="31" y="175"/>
                </a:cubicBezTo>
                <a:cubicBezTo>
                  <a:pt x="14" y="175"/>
                  <a:pt x="0" y="189"/>
                  <a:pt x="0" y="207"/>
                </a:cubicBezTo>
                <a:cubicBezTo>
                  <a:pt x="0" y="272"/>
                  <a:pt x="0" y="272"/>
                  <a:pt x="0" y="272"/>
                </a:cubicBezTo>
                <a:cubicBezTo>
                  <a:pt x="67" y="272"/>
                  <a:pt x="67" y="272"/>
                  <a:pt x="67" y="272"/>
                </a:cubicBezTo>
                <a:cubicBezTo>
                  <a:pt x="67" y="270"/>
                  <a:pt x="67" y="270"/>
                  <a:pt x="67" y="270"/>
                </a:cubicBezTo>
                <a:cubicBezTo>
                  <a:pt x="100" y="270"/>
                  <a:pt x="100" y="270"/>
                  <a:pt x="100" y="270"/>
                </a:cubicBezTo>
                <a:cubicBezTo>
                  <a:pt x="100" y="284"/>
                  <a:pt x="100" y="284"/>
                  <a:pt x="100" y="284"/>
                </a:cubicBezTo>
                <a:cubicBezTo>
                  <a:pt x="163" y="284"/>
                  <a:pt x="163" y="284"/>
                  <a:pt x="163" y="284"/>
                </a:cubicBezTo>
                <a:cubicBezTo>
                  <a:pt x="163" y="278"/>
                  <a:pt x="163" y="278"/>
                  <a:pt x="163" y="278"/>
                </a:cubicBezTo>
                <a:cubicBezTo>
                  <a:pt x="236" y="278"/>
                  <a:pt x="236" y="278"/>
                  <a:pt x="236" y="278"/>
                </a:cubicBezTo>
                <a:cubicBezTo>
                  <a:pt x="236" y="265"/>
                  <a:pt x="236" y="265"/>
                  <a:pt x="236" y="265"/>
                </a:cubicBezTo>
                <a:cubicBezTo>
                  <a:pt x="255" y="265"/>
                  <a:pt x="255" y="265"/>
                  <a:pt x="255" y="265"/>
                </a:cubicBezTo>
                <a:cubicBezTo>
                  <a:pt x="255" y="286"/>
                  <a:pt x="255" y="286"/>
                  <a:pt x="255" y="286"/>
                </a:cubicBezTo>
                <a:cubicBezTo>
                  <a:pt x="351" y="286"/>
                  <a:pt x="351" y="286"/>
                  <a:pt x="351" y="286"/>
                </a:cubicBezTo>
                <a:cubicBezTo>
                  <a:pt x="351" y="300"/>
                  <a:pt x="351" y="300"/>
                  <a:pt x="351" y="300"/>
                </a:cubicBezTo>
                <a:cubicBezTo>
                  <a:pt x="453" y="300"/>
                  <a:pt x="453" y="300"/>
                  <a:pt x="453" y="300"/>
                </a:cubicBezTo>
                <a:cubicBezTo>
                  <a:pt x="453" y="235"/>
                  <a:pt x="453" y="235"/>
                  <a:pt x="453" y="235"/>
                </a:cubicBezTo>
                <a:cubicBezTo>
                  <a:pt x="453" y="217"/>
                  <a:pt x="439" y="203"/>
                  <a:pt x="421" y="203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34"/>
          <p:cNvSpPr/>
          <p:nvPr/>
        </p:nvSpPr>
        <p:spPr>
          <a:xfrm>
            <a:off x="8775720" y="4903920"/>
            <a:ext cx="1541520" cy="1728720"/>
          </a:xfrm>
          <a:custGeom>
            <a:avLst/>
            <a:gdLst>
              <a:gd name="textAreaLeft" fmla="*/ 0 w 1541520"/>
              <a:gd name="textAreaRight" fmla="*/ 1541880 w 154152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267" h="299">
                <a:moveTo>
                  <a:pt x="235" y="202"/>
                </a:moveTo>
                <a:cubicBezTo>
                  <a:pt x="185" y="202"/>
                  <a:pt x="185" y="202"/>
                  <a:pt x="185" y="202"/>
                </a:cubicBezTo>
                <a:cubicBezTo>
                  <a:pt x="185" y="174"/>
                  <a:pt x="185" y="174"/>
                  <a:pt x="185" y="174"/>
                </a:cubicBezTo>
                <a:cubicBezTo>
                  <a:pt x="185" y="149"/>
                  <a:pt x="165" y="129"/>
                  <a:pt x="140" y="129"/>
                </a:cubicBezTo>
                <a:cubicBezTo>
                  <a:pt x="82" y="129"/>
                  <a:pt x="82" y="129"/>
                  <a:pt x="82" y="129"/>
                </a:cubicBezTo>
                <a:cubicBezTo>
                  <a:pt x="82" y="98"/>
                  <a:pt x="82" y="98"/>
                  <a:pt x="82" y="98"/>
                </a:cubicBezTo>
                <a:cubicBezTo>
                  <a:pt x="82" y="82"/>
                  <a:pt x="69" y="69"/>
                  <a:pt x="53" y="69"/>
                </a:cubicBezTo>
                <a:cubicBezTo>
                  <a:pt x="50" y="69"/>
                  <a:pt x="50" y="69"/>
                  <a:pt x="50" y="69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23"/>
                  <a:pt x="30" y="1"/>
                  <a:pt x="5" y="0"/>
                </a:cubicBezTo>
                <a:cubicBezTo>
                  <a:pt x="3" y="0"/>
                  <a:pt x="1" y="0"/>
                  <a:pt x="0" y="0"/>
                </a:cubicBezTo>
                <a:cubicBezTo>
                  <a:pt x="0" y="277"/>
                  <a:pt x="0" y="277"/>
                  <a:pt x="0" y="277"/>
                </a:cubicBezTo>
                <a:cubicBezTo>
                  <a:pt x="50" y="277"/>
                  <a:pt x="50" y="277"/>
                  <a:pt x="50" y="277"/>
                </a:cubicBezTo>
                <a:cubicBezTo>
                  <a:pt x="50" y="264"/>
                  <a:pt x="50" y="264"/>
                  <a:pt x="50" y="264"/>
                </a:cubicBezTo>
                <a:cubicBezTo>
                  <a:pt x="69" y="264"/>
                  <a:pt x="69" y="264"/>
                  <a:pt x="69" y="264"/>
                </a:cubicBezTo>
                <a:cubicBezTo>
                  <a:pt x="69" y="285"/>
                  <a:pt x="69" y="285"/>
                  <a:pt x="69" y="285"/>
                </a:cubicBezTo>
                <a:cubicBezTo>
                  <a:pt x="165" y="285"/>
                  <a:pt x="165" y="285"/>
                  <a:pt x="165" y="285"/>
                </a:cubicBezTo>
                <a:cubicBezTo>
                  <a:pt x="165" y="299"/>
                  <a:pt x="165" y="299"/>
                  <a:pt x="165" y="299"/>
                </a:cubicBezTo>
                <a:cubicBezTo>
                  <a:pt x="267" y="299"/>
                  <a:pt x="267" y="299"/>
                  <a:pt x="267" y="299"/>
                </a:cubicBezTo>
                <a:cubicBezTo>
                  <a:pt x="267" y="234"/>
                  <a:pt x="267" y="234"/>
                  <a:pt x="267" y="234"/>
                </a:cubicBezTo>
                <a:cubicBezTo>
                  <a:pt x="267" y="216"/>
                  <a:pt x="253" y="202"/>
                  <a:pt x="235" y="202"/>
                </a:cubicBezTo>
                <a:close/>
              </a:path>
            </a:pathLst>
          </a:custGeom>
          <a:solidFill>
            <a:srgbClr val="4866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74"/>
          <p:cNvSpPr/>
          <p:nvPr/>
        </p:nvSpPr>
        <p:spPr>
          <a:xfrm>
            <a:off x="11315880" y="4527720"/>
            <a:ext cx="137880" cy="726840"/>
          </a:xfrm>
          <a:custGeom>
            <a:avLst/>
            <a:gdLst/>
            <a:ahLst/>
            <a:rect l="l" t="t" r="r" b="b"/>
            <a:pathLst>
              <a:path w="94" h="496">
                <a:moveTo>
                  <a:pt x="0" y="496"/>
                </a:moveTo>
                <a:lnTo>
                  <a:pt x="94" y="409"/>
                </a:lnTo>
                <a:lnTo>
                  <a:pt x="94" y="0"/>
                </a:lnTo>
                <a:lnTo>
                  <a:pt x="4" y="0"/>
                </a:lnTo>
                <a:lnTo>
                  <a:pt x="0" y="496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75"/>
          <p:cNvSpPr/>
          <p:nvPr/>
        </p:nvSpPr>
        <p:spPr>
          <a:xfrm>
            <a:off x="10137600" y="4178160"/>
            <a:ext cx="293760" cy="1417680"/>
          </a:xfrm>
          <a:custGeom>
            <a:avLst/>
            <a:gdLst>
              <a:gd name="textAreaLeft" fmla="*/ 0 w 293760"/>
              <a:gd name="textAreaRight" fmla="*/ 294120 w 293760"/>
              <a:gd name="textAreaTop" fmla="*/ 0 h 1417680"/>
              <a:gd name="textAreaBottom" fmla="*/ 1417680 h 1417680"/>
            </a:gdLst>
            <a:ahLst/>
            <a:rect l="textAreaLeft" t="textAreaTop" r="textAreaRight" b="textAreaBottom"/>
            <a:pathLst>
              <a:path w="200" h="965">
                <a:moveTo>
                  <a:pt x="200" y="965"/>
                </a:moveTo>
                <a:lnTo>
                  <a:pt x="0" y="792"/>
                </a:lnTo>
                <a:lnTo>
                  <a:pt x="0" y="0"/>
                </a:lnTo>
                <a:lnTo>
                  <a:pt x="200" y="0"/>
                </a:lnTo>
                <a:lnTo>
                  <a:pt x="200" y="965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76"/>
          <p:cNvSpPr/>
          <p:nvPr/>
        </p:nvSpPr>
        <p:spPr>
          <a:xfrm>
            <a:off x="10503000" y="4757760"/>
            <a:ext cx="374400" cy="1771560"/>
          </a:xfrm>
          <a:custGeom>
            <a:avLst/>
            <a:gdLst>
              <a:gd name="textAreaLeft" fmla="*/ 0 w 374400"/>
              <a:gd name="textAreaRight" fmla="*/ 374760 w 374400"/>
              <a:gd name="textAreaTop" fmla="*/ 0 h 1771560"/>
              <a:gd name="textAreaBottom" fmla="*/ 1771920 h 1771560"/>
            </a:gdLst>
            <a:ahLst/>
            <a:rect l="textAreaLeft" t="textAreaTop" r="textAreaRight" b="textAreaBottom"/>
            <a:pathLst>
              <a:path w="255" h="1206">
                <a:moveTo>
                  <a:pt x="255" y="0"/>
                </a:moveTo>
                <a:lnTo>
                  <a:pt x="0" y="0"/>
                </a:lnTo>
                <a:lnTo>
                  <a:pt x="3" y="890"/>
                </a:lnTo>
                <a:lnTo>
                  <a:pt x="78" y="969"/>
                </a:lnTo>
                <a:lnTo>
                  <a:pt x="78" y="1206"/>
                </a:lnTo>
                <a:lnTo>
                  <a:pt x="255" y="1206"/>
                </a:lnTo>
                <a:lnTo>
                  <a:pt x="255" y="1146"/>
                </a:lnTo>
                <a:lnTo>
                  <a:pt x="255" y="1146"/>
                </a:lnTo>
                <a:lnTo>
                  <a:pt x="255" y="0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77"/>
          <p:cNvSpPr/>
          <p:nvPr/>
        </p:nvSpPr>
        <p:spPr>
          <a:xfrm>
            <a:off x="10871280" y="4127400"/>
            <a:ext cx="450720" cy="2401920"/>
          </a:xfrm>
          <a:custGeom>
            <a:avLst/>
            <a:gdLst>
              <a:gd name="textAreaLeft" fmla="*/ 0 w 450720"/>
              <a:gd name="textAreaRight" fmla="*/ 450720 w 450720"/>
              <a:gd name="textAreaTop" fmla="*/ 0 h 2401920"/>
              <a:gd name="textAreaBottom" fmla="*/ 2402280 h 2401920"/>
            </a:gdLst>
            <a:ahLst/>
            <a:rect l="textAreaLeft" t="textAreaTop" r="textAreaRight" b="textAreaBottom"/>
            <a:pathLst>
              <a:path w="307" h="1635">
                <a:moveTo>
                  <a:pt x="4" y="1635"/>
                </a:moveTo>
                <a:lnTo>
                  <a:pt x="134" y="1635"/>
                </a:lnTo>
                <a:lnTo>
                  <a:pt x="303" y="1473"/>
                </a:lnTo>
                <a:lnTo>
                  <a:pt x="307" y="0"/>
                </a:lnTo>
                <a:lnTo>
                  <a:pt x="0" y="0"/>
                </a:lnTo>
                <a:lnTo>
                  <a:pt x="4" y="1635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78"/>
          <p:cNvSpPr/>
          <p:nvPr/>
        </p:nvSpPr>
        <p:spPr>
          <a:xfrm>
            <a:off x="10323360" y="4578480"/>
            <a:ext cx="293760" cy="1380960"/>
          </a:xfrm>
          <a:custGeom>
            <a:avLst/>
            <a:gdLst>
              <a:gd name="textAreaLeft" fmla="*/ 0 w 293760"/>
              <a:gd name="textAreaRight" fmla="*/ 294120 w 29376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w="200" h="941">
                <a:moveTo>
                  <a:pt x="200" y="941"/>
                </a:moveTo>
                <a:lnTo>
                  <a:pt x="0" y="764"/>
                </a:lnTo>
                <a:lnTo>
                  <a:pt x="0" y="0"/>
                </a:lnTo>
                <a:lnTo>
                  <a:pt x="200" y="0"/>
                </a:lnTo>
                <a:lnTo>
                  <a:pt x="200" y="94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79"/>
          <p:cNvSpPr/>
          <p:nvPr/>
        </p:nvSpPr>
        <p:spPr>
          <a:xfrm>
            <a:off x="10503000" y="4289400"/>
            <a:ext cx="374400" cy="1682640"/>
          </a:xfrm>
          <a:custGeom>
            <a:avLst/>
            <a:gdLst>
              <a:gd name="textAreaLeft" fmla="*/ 0 w 374400"/>
              <a:gd name="textAreaRight" fmla="*/ 374760 w 3744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255" h="1146">
                <a:moveTo>
                  <a:pt x="255" y="1146"/>
                </a:moveTo>
                <a:lnTo>
                  <a:pt x="3" y="890"/>
                </a:lnTo>
                <a:lnTo>
                  <a:pt x="0" y="0"/>
                </a:lnTo>
                <a:lnTo>
                  <a:pt x="255" y="0"/>
                </a:lnTo>
                <a:lnTo>
                  <a:pt x="255" y="1146"/>
                </a:lnTo>
                <a:close/>
              </a:path>
            </a:pathLst>
          </a:custGeom>
          <a:solidFill>
            <a:srgbClr val="8b6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80"/>
          <p:cNvSpPr/>
          <p:nvPr/>
        </p:nvSpPr>
        <p:spPr>
          <a:xfrm>
            <a:off x="10877400" y="4289400"/>
            <a:ext cx="295560" cy="1892160"/>
          </a:xfrm>
          <a:custGeom>
            <a:avLst/>
            <a:gdLst>
              <a:gd name="textAreaLeft" fmla="*/ 0 w 295560"/>
              <a:gd name="textAreaRight" fmla="*/ 295920 w 29556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201" h="1288">
                <a:moveTo>
                  <a:pt x="0" y="1288"/>
                </a:moveTo>
                <a:lnTo>
                  <a:pt x="201" y="1115"/>
                </a:lnTo>
                <a:lnTo>
                  <a:pt x="201" y="0"/>
                </a:lnTo>
                <a:lnTo>
                  <a:pt x="0" y="0"/>
                </a:lnTo>
                <a:lnTo>
                  <a:pt x="0" y="1288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81"/>
          <p:cNvSpPr/>
          <p:nvPr/>
        </p:nvSpPr>
        <p:spPr>
          <a:xfrm>
            <a:off x="10715760" y="4289400"/>
            <a:ext cx="160200" cy="1347840"/>
          </a:xfrm>
          <a:custGeom>
            <a:avLst/>
            <a:gdLst>
              <a:gd name="textAreaLeft" fmla="*/ 0 w 160200"/>
              <a:gd name="textAreaRight" fmla="*/ 160560 w 160200"/>
              <a:gd name="textAreaTop" fmla="*/ 0 h 1347840"/>
              <a:gd name="textAreaBottom" fmla="*/ 1348200 h 1347840"/>
            </a:gdLst>
            <a:ahLst/>
            <a:rect l="textAreaLeft" t="textAreaTop" r="textAreaRight" b="textAreaBottom"/>
            <a:pathLst>
              <a:path w="110" h="918">
                <a:moveTo>
                  <a:pt x="110" y="918"/>
                </a:moveTo>
                <a:lnTo>
                  <a:pt x="0" y="796"/>
                </a:lnTo>
                <a:lnTo>
                  <a:pt x="0" y="0"/>
                </a:lnTo>
                <a:lnTo>
                  <a:pt x="110" y="0"/>
                </a:lnTo>
                <a:lnTo>
                  <a:pt x="110" y="918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82"/>
          <p:cNvSpPr/>
          <p:nvPr/>
        </p:nvSpPr>
        <p:spPr>
          <a:xfrm>
            <a:off x="10877400" y="4289400"/>
            <a:ext cx="214560" cy="1515960"/>
          </a:xfrm>
          <a:custGeom>
            <a:avLst/>
            <a:gdLst>
              <a:gd name="textAreaLeft" fmla="*/ 0 w 214560"/>
              <a:gd name="textAreaRight" fmla="*/ 214920 w 21456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46" h="1032">
                <a:moveTo>
                  <a:pt x="0" y="1032"/>
                </a:moveTo>
                <a:lnTo>
                  <a:pt x="142" y="890"/>
                </a:lnTo>
                <a:lnTo>
                  <a:pt x="146" y="0"/>
                </a:lnTo>
                <a:lnTo>
                  <a:pt x="0" y="0"/>
                </a:lnTo>
                <a:lnTo>
                  <a:pt x="0" y="1032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83"/>
          <p:cNvSpPr/>
          <p:nvPr/>
        </p:nvSpPr>
        <p:spPr>
          <a:xfrm>
            <a:off x="9890280" y="3375000"/>
            <a:ext cx="1638000" cy="1389240"/>
          </a:xfrm>
          <a:custGeom>
            <a:avLst/>
            <a:gdLst>
              <a:gd name="textAreaLeft" fmla="*/ 0 w 1638000"/>
              <a:gd name="textAreaRight" fmla="*/ 1638360 w 1638000"/>
              <a:gd name="textAreaTop" fmla="*/ 0 h 1389240"/>
              <a:gd name="textAreaBottom" fmla="*/ 1389240 h 1389240"/>
            </a:gdLst>
            <a:ahLst/>
            <a:rect l="textAreaLeft" t="textAreaTop" r="textAreaRight" b="textAreaBottom"/>
            <a:pathLst>
              <a:path w="284" h="240">
                <a:moveTo>
                  <a:pt x="284" y="97"/>
                </a:moveTo>
                <a:cubicBezTo>
                  <a:pt x="284" y="75"/>
                  <a:pt x="266" y="58"/>
                  <a:pt x="245" y="58"/>
                </a:cubicBezTo>
                <a:cubicBezTo>
                  <a:pt x="234" y="58"/>
                  <a:pt x="224" y="62"/>
                  <a:pt x="217" y="69"/>
                </a:cubicBezTo>
                <a:cubicBezTo>
                  <a:pt x="216" y="68"/>
                  <a:pt x="214" y="67"/>
                  <a:pt x="212" y="66"/>
                </a:cubicBezTo>
                <a:cubicBezTo>
                  <a:pt x="212" y="65"/>
                  <a:pt x="213" y="64"/>
                  <a:pt x="213" y="62"/>
                </a:cubicBezTo>
                <a:cubicBezTo>
                  <a:pt x="213" y="46"/>
                  <a:pt x="200" y="34"/>
                  <a:pt x="184" y="34"/>
                </a:cubicBezTo>
                <a:cubicBezTo>
                  <a:pt x="181" y="34"/>
                  <a:pt x="178" y="34"/>
                  <a:pt x="176" y="35"/>
                </a:cubicBezTo>
                <a:cubicBezTo>
                  <a:pt x="176" y="35"/>
                  <a:pt x="176" y="34"/>
                  <a:pt x="176" y="34"/>
                </a:cubicBezTo>
                <a:cubicBezTo>
                  <a:pt x="176" y="15"/>
                  <a:pt x="161" y="0"/>
                  <a:pt x="142" y="0"/>
                </a:cubicBezTo>
                <a:cubicBezTo>
                  <a:pt x="124" y="0"/>
                  <a:pt x="109" y="15"/>
                  <a:pt x="109" y="34"/>
                </a:cubicBezTo>
                <a:cubicBezTo>
                  <a:pt x="109" y="42"/>
                  <a:pt x="112" y="49"/>
                  <a:pt x="117" y="55"/>
                </a:cubicBezTo>
                <a:cubicBezTo>
                  <a:pt x="111" y="50"/>
                  <a:pt x="105" y="47"/>
                  <a:pt x="97" y="47"/>
                </a:cubicBezTo>
                <a:cubicBezTo>
                  <a:pt x="80" y="47"/>
                  <a:pt x="67" y="61"/>
                  <a:pt x="67" y="77"/>
                </a:cubicBezTo>
                <a:cubicBezTo>
                  <a:pt x="67" y="83"/>
                  <a:pt x="68" y="87"/>
                  <a:pt x="71" y="91"/>
                </a:cubicBezTo>
                <a:cubicBezTo>
                  <a:pt x="68" y="92"/>
                  <a:pt x="65" y="93"/>
                  <a:pt x="63" y="94"/>
                </a:cubicBezTo>
                <a:cubicBezTo>
                  <a:pt x="57" y="84"/>
                  <a:pt x="46" y="77"/>
                  <a:pt x="34" y="77"/>
                </a:cubicBezTo>
                <a:cubicBezTo>
                  <a:pt x="15" y="77"/>
                  <a:pt x="0" y="92"/>
                  <a:pt x="0" y="111"/>
                </a:cubicBezTo>
                <a:cubicBezTo>
                  <a:pt x="0" y="125"/>
                  <a:pt x="10" y="138"/>
                  <a:pt x="23" y="142"/>
                </a:cubicBezTo>
                <a:cubicBezTo>
                  <a:pt x="12" y="147"/>
                  <a:pt x="4" y="157"/>
                  <a:pt x="4" y="170"/>
                </a:cubicBezTo>
                <a:cubicBezTo>
                  <a:pt x="4" y="186"/>
                  <a:pt x="17" y="199"/>
                  <a:pt x="34" y="199"/>
                </a:cubicBezTo>
                <a:cubicBezTo>
                  <a:pt x="43" y="199"/>
                  <a:pt x="51" y="195"/>
                  <a:pt x="57" y="188"/>
                </a:cubicBezTo>
                <a:cubicBezTo>
                  <a:pt x="60" y="193"/>
                  <a:pt x="66" y="196"/>
                  <a:pt x="73" y="196"/>
                </a:cubicBezTo>
                <a:cubicBezTo>
                  <a:pt x="73" y="220"/>
                  <a:pt x="73" y="220"/>
                  <a:pt x="73" y="220"/>
                </a:cubicBezTo>
                <a:cubicBezTo>
                  <a:pt x="73" y="231"/>
                  <a:pt x="82" y="240"/>
                  <a:pt x="92" y="240"/>
                </a:cubicBezTo>
                <a:cubicBezTo>
                  <a:pt x="103" y="240"/>
                  <a:pt x="112" y="231"/>
                  <a:pt x="112" y="220"/>
                </a:cubicBezTo>
                <a:cubicBezTo>
                  <a:pt x="112" y="196"/>
                  <a:pt x="112" y="196"/>
                  <a:pt x="112" y="196"/>
                </a:cubicBezTo>
                <a:cubicBezTo>
                  <a:pt x="113" y="196"/>
                  <a:pt x="113" y="196"/>
                  <a:pt x="114" y="196"/>
                </a:cubicBezTo>
                <a:cubicBezTo>
                  <a:pt x="115" y="196"/>
                  <a:pt x="116" y="196"/>
                  <a:pt x="117" y="196"/>
                </a:cubicBezTo>
                <a:cubicBezTo>
                  <a:pt x="119" y="207"/>
                  <a:pt x="128" y="214"/>
                  <a:pt x="139" y="214"/>
                </a:cubicBezTo>
                <a:cubicBezTo>
                  <a:pt x="151" y="214"/>
                  <a:pt x="161" y="205"/>
                  <a:pt x="161" y="193"/>
                </a:cubicBezTo>
                <a:cubicBezTo>
                  <a:pt x="161" y="193"/>
                  <a:pt x="162" y="193"/>
                  <a:pt x="162" y="193"/>
                </a:cubicBezTo>
                <a:cubicBezTo>
                  <a:pt x="162" y="205"/>
                  <a:pt x="172" y="214"/>
                  <a:pt x="184" y="214"/>
                </a:cubicBezTo>
                <a:cubicBezTo>
                  <a:pt x="195" y="214"/>
                  <a:pt x="205" y="206"/>
                  <a:pt x="206" y="195"/>
                </a:cubicBezTo>
                <a:cubicBezTo>
                  <a:pt x="209" y="196"/>
                  <a:pt x="211" y="196"/>
                  <a:pt x="214" y="196"/>
                </a:cubicBezTo>
                <a:cubicBezTo>
                  <a:pt x="240" y="196"/>
                  <a:pt x="262" y="174"/>
                  <a:pt x="262" y="148"/>
                </a:cubicBezTo>
                <a:cubicBezTo>
                  <a:pt x="262" y="143"/>
                  <a:pt x="261" y="138"/>
                  <a:pt x="260" y="133"/>
                </a:cubicBezTo>
                <a:cubicBezTo>
                  <a:pt x="274" y="127"/>
                  <a:pt x="284" y="113"/>
                  <a:pt x="284" y="97"/>
                </a:cubicBezTo>
                <a:close/>
              </a:path>
            </a:pathLst>
          </a:custGeom>
          <a:solidFill>
            <a:srgbClr val="00b9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84"/>
          <p:cNvSpPr/>
          <p:nvPr/>
        </p:nvSpPr>
        <p:spPr>
          <a:xfrm>
            <a:off x="10431360" y="3375000"/>
            <a:ext cx="1096920" cy="1389240"/>
          </a:xfrm>
          <a:custGeom>
            <a:avLst/>
            <a:gdLst/>
            <a:ahLst/>
            <a:rect l="l" t="t" r="r" b="b"/>
            <a:pathLst>
              <a:path w="190" h="240">
                <a:moveTo>
                  <a:pt x="151" y="58"/>
                </a:moveTo>
                <a:cubicBezTo>
                  <a:pt x="140" y="58"/>
                  <a:pt x="130" y="62"/>
                  <a:pt x="123" y="69"/>
                </a:cubicBezTo>
                <a:cubicBezTo>
                  <a:pt x="122" y="68"/>
                  <a:pt x="120" y="67"/>
                  <a:pt x="118" y="66"/>
                </a:cubicBezTo>
                <a:cubicBezTo>
                  <a:pt x="118" y="65"/>
                  <a:pt x="119" y="64"/>
                  <a:pt x="119" y="62"/>
                </a:cubicBezTo>
                <a:cubicBezTo>
                  <a:pt x="119" y="46"/>
                  <a:pt x="106" y="34"/>
                  <a:pt x="90" y="34"/>
                </a:cubicBezTo>
                <a:cubicBezTo>
                  <a:pt x="87" y="34"/>
                  <a:pt x="84" y="34"/>
                  <a:pt x="82" y="35"/>
                </a:cubicBezTo>
                <a:cubicBezTo>
                  <a:pt x="82" y="35"/>
                  <a:pt x="82" y="34"/>
                  <a:pt x="82" y="34"/>
                </a:cubicBezTo>
                <a:cubicBezTo>
                  <a:pt x="82" y="15"/>
                  <a:pt x="67" y="0"/>
                  <a:pt x="48" y="0"/>
                </a:cubicBezTo>
                <a:cubicBezTo>
                  <a:pt x="30" y="0"/>
                  <a:pt x="15" y="15"/>
                  <a:pt x="15" y="34"/>
                </a:cubicBezTo>
                <a:cubicBezTo>
                  <a:pt x="15" y="42"/>
                  <a:pt x="18" y="49"/>
                  <a:pt x="23" y="55"/>
                </a:cubicBezTo>
                <a:cubicBezTo>
                  <a:pt x="17" y="50"/>
                  <a:pt x="11" y="47"/>
                  <a:pt x="3" y="47"/>
                </a:cubicBezTo>
                <a:cubicBezTo>
                  <a:pt x="2" y="47"/>
                  <a:pt x="1" y="48"/>
                  <a:pt x="0" y="48"/>
                </a:cubicBezTo>
                <a:cubicBezTo>
                  <a:pt x="0" y="240"/>
                  <a:pt x="0" y="240"/>
                  <a:pt x="0" y="240"/>
                </a:cubicBezTo>
                <a:cubicBezTo>
                  <a:pt x="10" y="240"/>
                  <a:pt x="18" y="231"/>
                  <a:pt x="18" y="220"/>
                </a:cubicBezTo>
                <a:cubicBezTo>
                  <a:pt x="18" y="196"/>
                  <a:pt x="18" y="196"/>
                  <a:pt x="18" y="196"/>
                </a:cubicBezTo>
                <a:cubicBezTo>
                  <a:pt x="19" y="196"/>
                  <a:pt x="19" y="196"/>
                  <a:pt x="20" y="196"/>
                </a:cubicBezTo>
                <a:cubicBezTo>
                  <a:pt x="21" y="196"/>
                  <a:pt x="22" y="196"/>
                  <a:pt x="23" y="196"/>
                </a:cubicBezTo>
                <a:cubicBezTo>
                  <a:pt x="25" y="207"/>
                  <a:pt x="34" y="214"/>
                  <a:pt x="45" y="214"/>
                </a:cubicBezTo>
                <a:cubicBezTo>
                  <a:pt x="57" y="214"/>
                  <a:pt x="67" y="205"/>
                  <a:pt x="67" y="193"/>
                </a:cubicBezTo>
                <a:cubicBezTo>
                  <a:pt x="67" y="193"/>
                  <a:pt x="68" y="193"/>
                  <a:pt x="68" y="193"/>
                </a:cubicBezTo>
                <a:cubicBezTo>
                  <a:pt x="68" y="205"/>
                  <a:pt x="78" y="214"/>
                  <a:pt x="90" y="214"/>
                </a:cubicBezTo>
                <a:cubicBezTo>
                  <a:pt x="101" y="214"/>
                  <a:pt x="111" y="206"/>
                  <a:pt x="112" y="195"/>
                </a:cubicBezTo>
                <a:cubicBezTo>
                  <a:pt x="115" y="196"/>
                  <a:pt x="117" y="196"/>
                  <a:pt x="120" y="196"/>
                </a:cubicBezTo>
                <a:cubicBezTo>
                  <a:pt x="146" y="196"/>
                  <a:pt x="168" y="174"/>
                  <a:pt x="168" y="148"/>
                </a:cubicBezTo>
                <a:cubicBezTo>
                  <a:pt x="168" y="143"/>
                  <a:pt x="167" y="138"/>
                  <a:pt x="166" y="133"/>
                </a:cubicBezTo>
                <a:cubicBezTo>
                  <a:pt x="180" y="127"/>
                  <a:pt x="190" y="113"/>
                  <a:pt x="190" y="97"/>
                </a:cubicBezTo>
                <a:cubicBezTo>
                  <a:pt x="190" y="75"/>
                  <a:pt x="172" y="58"/>
                  <a:pt x="151" y="58"/>
                </a:cubicBezTo>
                <a:close/>
              </a:path>
            </a:pathLst>
          </a:custGeom>
          <a:solidFill>
            <a:srgbClr val="009a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85"/>
          <p:cNvSpPr/>
          <p:nvPr/>
        </p:nvSpPr>
        <p:spPr>
          <a:xfrm>
            <a:off x="11004480" y="3578400"/>
            <a:ext cx="523800" cy="1023840"/>
          </a:xfrm>
          <a:custGeom>
            <a:avLst/>
            <a:gdLst>
              <a:gd name="textAreaLeft" fmla="*/ 0 w 523800"/>
              <a:gd name="textAreaRight" fmla="*/ 524160 w 52380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91" h="177">
                <a:moveTo>
                  <a:pt x="52" y="23"/>
                </a:moveTo>
                <a:cubicBezTo>
                  <a:pt x="41" y="23"/>
                  <a:pt x="31" y="27"/>
                  <a:pt x="24" y="34"/>
                </a:cubicBezTo>
                <a:cubicBezTo>
                  <a:pt x="23" y="33"/>
                  <a:pt x="21" y="32"/>
                  <a:pt x="19" y="31"/>
                </a:cubicBezTo>
                <a:cubicBezTo>
                  <a:pt x="19" y="30"/>
                  <a:pt x="20" y="29"/>
                  <a:pt x="20" y="27"/>
                </a:cubicBezTo>
                <a:cubicBezTo>
                  <a:pt x="20" y="14"/>
                  <a:pt x="11" y="4"/>
                  <a:pt x="0" y="0"/>
                </a:cubicBezTo>
                <a:cubicBezTo>
                  <a:pt x="0" y="177"/>
                  <a:pt x="0" y="177"/>
                  <a:pt x="0" y="177"/>
                </a:cubicBezTo>
                <a:cubicBezTo>
                  <a:pt x="7" y="174"/>
                  <a:pt x="12" y="168"/>
                  <a:pt x="13" y="160"/>
                </a:cubicBezTo>
                <a:cubicBezTo>
                  <a:pt x="16" y="161"/>
                  <a:pt x="18" y="161"/>
                  <a:pt x="21" y="161"/>
                </a:cubicBezTo>
                <a:cubicBezTo>
                  <a:pt x="47" y="161"/>
                  <a:pt x="69" y="139"/>
                  <a:pt x="69" y="113"/>
                </a:cubicBezTo>
                <a:cubicBezTo>
                  <a:pt x="69" y="108"/>
                  <a:pt x="68" y="103"/>
                  <a:pt x="67" y="98"/>
                </a:cubicBezTo>
                <a:cubicBezTo>
                  <a:pt x="81" y="92"/>
                  <a:pt x="91" y="78"/>
                  <a:pt x="91" y="62"/>
                </a:cubicBezTo>
                <a:cubicBezTo>
                  <a:pt x="91" y="40"/>
                  <a:pt x="73" y="23"/>
                  <a:pt x="52" y="23"/>
                </a:cubicBezTo>
                <a:close/>
              </a:path>
            </a:pathLst>
          </a:cu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86"/>
          <p:cNvSpPr/>
          <p:nvPr/>
        </p:nvSpPr>
        <p:spPr>
          <a:xfrm>
            <a:off x="11079000" y="4202280"/>
            <a:ext cx="530280" cy="561960"/>
          </a:xfrm>
          <a:custGeom>
            <a:avLst/>
            <a:gdLst>
              <a:gd name="textAreaLeft" fmla="*/ 0 w 530280"/>
              <a:gd name="textAreaRight" fmla="*/ 530640 w 53028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92" h="97">
                <a:moveTo>
                  <a:pt x="63" y="12"/>
                </a:moveTo>
                <a:cubicBezTo>
                  <a:pt x="57" y="12"/>
                  <a:pt x="51" y="13"/>
                  <a:pt x="47" y="16"/>
                </a:cubicBezTo>
                <a:cubicBezTo>
                  <a:pt x="44" y="7"/>
                  <a:pt x="35" y="0"/>
                  <a:pt x="24" y="0"/>
                </a:cubicBezTo>
                <a:cubicBezTo>
                  <a:pt x="10" y="0"/>
                  <a:pt x="0" y="11"/>
                  <a:pt x="0" y="24"/>
                </a:cubicBezTo>
                <a:cubicBezTo>
                  <a:pt x="0" y="35"/>
                  <a:pt x="7" y="45"/>
                  <a:pt x="17" y="47"/>
                </a:cubicBezTo>
                <a:cubicBezTo>
                  <a:pt x="11" y="53"/>
                  <a:pt x="7" y="60"/>
                  <a:pt x="7" y="69"/>
                </a:cubicBezTo>
                <a:cubicBezTo>
                  <a:pt x="7" y="85"/>
                  <a:pt x="19" y="97"/>
                  <a:pt x="35" y="97"/>
                </a:cubicBezTo>
                <a:cubicBezTo>
                  <a:pt x="49" y="97"/>
                  <a:pt x="62" y="86"/>
                  <a:pt x="62" y="71"/>
                </a:cubicBezTo>
                <a:cubicBezTo>
                  <a:pt x="62" y="71"/>
                  <a:pt x="63" y="71"/>
                  <a:pt x="63" y="71"/>
                </a:cubicBezTo>
                <a:cubicBezTo>
                  <a:pt x="79" y="71"/>
                  <a:pt x="92" y="58"/>
                  <a:pt x="92" y="41"/>
                </a:cubicBezTo>
                <a:cubicBezTo>
                  <a:pt x="92" y="25"/>
                  <a:pt x="79" y="12"/>
                  <a:pt x="63" y="12"/>
                </a:cubicBezTo>
                <a:close/>
              </a:path>
            </a:pathLst>
          </a:cu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87"/>
          <p:cNvSpPr/>
          <p:nvPr/>
        </p:nvSpPr>
        <p:spPr>
          <a:xfrm>
            <a:off x="11661840" y="4243320"/>
            <a:ext cx="155520" cy="150840"/>
          </a:xfrm>
          <a:prstGeom prst="ellipse">
            <a:avLst/>
          </a:pr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88"/>
          <p:cNvSpPr/>
          <p:nvPr/>
        </p:nvSpPr>
        <p:spPr>
          <a:xfrm>
            <a:off x="10385280" y="4849920"/>
            <a:ext cx="174600" cy="1792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89"/>
          <p:cNvSpPr/>
          <p:nvPr/>
        </p:nvSpPr>
        <p:spPr>
          <a:xfrm>
            <a:off x="9941040" y="3594240"/>
            <a:ext cx="144360" cy="1396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90"/>
          <p:cNvSpPr/>
          <p:nvPr/>
        </p:nvSpPr>
        <p:spPr>
          <a:xfrm>
            <a:off x="10652040" y="3733920"/>
            <a:ext cx="168480" cy="16812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91"/>
          <p:cNvSpPr/>
          <p:nvPr/>
        </p:nvSpPr>
        <p:spPr>
          <a:xfrm>
            <a:off x="10559880" y="3987720"/>
            <a:ext cx="392400" cy="38916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92"/>
          <p:cNvSpPr/>
          <p:nvPr/>
        </p:nvSpPr>
        <p:spPr>
          <a:xfrm>
            <a:off x="9109080" y="5648400"/>
            <a:ext cx="98280" cy="301680"/>
          </a:xfrm>
          <a:custGeom>
            <a:avLst/>
            <a:gdLst>
              <a:gd name="textAreaLeft" fmla="*/ 0 w 98280"/>
              <a:gd name="textAreaRight" fmla="*/ 98640 w 9828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67" h="205">
                <a:moveTo>
                  <a:pt x="67" y="205"/>
                </a:moveTo>
                <a:lnTo>
                  <a:pt x="0" y="153"/>
                </a:lnTo>
                <a:lnTo>
                  <a:pt x="0" y="51"/>
                </a:lnTo>
                <a:lnTo>
                  <a:pt x="67" y="0"/>
                </a:lnTo>
                <a:lnTo>
                  <a:pt x="67" y="205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93"/>
          <p:cNvSpPr/>
          <p:nvPr/>
        </p:nvSpPr>
        <p:spPr>
          <a:xfrm>
            <a:off x="9202680" y="5208480"/>
            <a:ext cx="345960" cy="1638360"/>
          </a:xfrm>
          <a:custGeom>
            <a:avLst/>
            <a:gdLst>
              <a:gd name="textAreaLeft" fmla="*/ 0 w 345960"/>
              <a:gd name="textAreaRight" fmla="*/ 346320 w 34596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236" h="1115">
                <a:moveTo>
                  <a:pt x="236" y="863"/>
                </a:moveTo>
                <a:lnTo>
                  <a:pt x="232" y="0"/>
                </a:lnTo>
                <a:lnTo>
                  <a:pt x="0" y="0"/>
                </a:lnTo>
                <a:lnTo>
                  <a:pt x="0" y="631"/>
                </a:lnTo>
                <a:lnTo>
                  <a:pt x="94" y="709"/>
                </a:lnTo>
                <a:lnTo>
                  <a:pt x="94" y="1115"/>
                </a:lnTo>
                <a:lnTo>
                  <a:pt x="236" y="1115"/>
                </a:lnTo>
                <a:lnTo>
                  <a:pt x="236" y="863"/>
                </a:lnTo>
                <a:lnTo>
                  <a:pt x="236" y="863"/>
                </a:lnTo>
                <a:close/>
              </a:path>
            </a:pathLst>
          </a:custGeom>
          <a:solidFill>
            <a:srgbClr val="9b7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94"/>
          <p:cNvSpPr/>
          <p:nvPr/>
        </p:nvSpPr>
        <p:spPr>
          <a:xfrm>
            <a:off x="9543960" y="5208480"/>
            <a:ext cx="352440" cy="1211400"/>
          </a:xfrm>
          <a:custGeom>
            <a:avLst/>
            <a:gdLst/>
            <a:ahLst/>
            <a:rect l="l" t="t" r="r" b="b"/>
            <a:pathLst>
              <a:path w="240" h="824">
                <a:moveTo>
                  <a:pt x="0" y="824"/>
                </a:moveTo>
                <a:lnTo>
                  <a:pt x="236" y="583"/>
                </a:lnTo>
                <a:lnTo>
                  <a:pt x="240" y="0"/>
                </a:lnTo>
                <a:lnTo>
                  <a:pt x="4" y="0"/>
                </a:lnTo>
                <a:lnTo>
                  <a:pt x="0" y="824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95"/>
          <p:cNvSpPr/>
          <p:nvPr/>
        </p:nvSpPr>
        <p:spPr>
          <a:xfrm>
            <a:off x="9543960" y="5208480"/>
            <a:ext cx="212760" cy="933480"/>
          </a:xfrm>
          <a:custGeom>
            <a:avLst/>
            <a:gdLst>
              <a:gd name="textAreaLeft" fmla="*/ 0 w 212760"/>
              <a:gd name="textAreaRight" fmla="*/ 213120 w 21276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145" h="635">
                <a:moveTo>
                  <a:pt x="145" y="509"/>
                </a:moveTo>
                <a:lnTo>
                  <a:pt x="145" y="0"/>
                </a:lnTo>
                <a:lnTo>
                  <a:pt x="0" y="0"/>
                </a:lnTo>
                <a:lnTo>
                  <a:pt x="4" y="635"/>
                </a:lnTo>
                <a:lnTo>
                  <a:pt x="145" y="509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96"/>
          <p:cNvSpPr/>
          <p:nvPr/>
        </p:nvSpPr>
        <p:spPr>
          <a:xfrm>
            <a:off x="9369360" y="5208480"/>
            <a:ext cx="179280" cy="868320"/>
          </a:xfrm>
          <a:custGeom>
            <a:avLst/>
            <a:gdLst>
              <a:gd name="textAreaLeft" fmla="*/ 0 w 179280"/>
              <a:gd name="textAreaRight" fmla="*/ 179640 w 17928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22" h="591">
                <a:moveTo>
                  <a:pt x="122" y="591"/>
                </a:moveTo>
                <a:lnTo>
                  <a:pt x="4" y="477"/>
                </a:lnTo>
                <a:lnTo>
                  <a:pt x="0" y="0"/>
                </a:lnTo>
                <a:lnTo>
                  <a:pt x="118" y="0"/>
                </a:lnTo>
                <a:lnTo>
                  <a:pt x="122" y="59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97"/>
          <p:cNvSpPr/>
          <p:nvPr/>
        </p:nvSpPr>
        <p:spPr>
          <a:xfrm>
            <a:off x="9294840" y="5208480"/>
            <a:ext cx="253800" cy="642960"/>
          </a:xfrm>
          <a:custGeom>
            <a:avLst/>
            <a:gdLst>
              <a:gd name="textAreaLeft" fmla="*/ 0 w 253800"/>
              <a:gd name="textAreaRight" fmla="*/ 254160 w 2538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73" h="438">
                <a:moveTo>
                  <a:pt x="169" y="438"/>
                </a:moveTo>
                <a:lnTo>
                  <a:pt x="0" y="280"/>
                </a:lnTo>
                <a:lnTo>
                  <a:pt x="0" y="0"/>
                </a:lnTo>
                <a:lnTo>
                  <a:pt x="173" y="0"/>
                </a:lnTo>
                <a:lnTo>
                  <a:pt x="169" y="438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98"/>
          <p:cNvSpPr/>
          <p:nvPr/>
        </p:nvSpPr>
        <p:spPr>
          <a:xfrm>
            <a:off x="9548640" y="5602320"/>
            <a:ext cx="87480" cy="369720"/>
          </a:xfrm>
          <a:custGeom>
            <a:avLst/>
            <a:gdLst>
              <a:gd name="textAreaLeft" fmla="*/ 0 w 87480"/>
              <a:gd name="textAreaRight" fmla="*/ 87480 w 8748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59" h="252">
                <a:moveTo>
                  <a:pt x="0" y="252"/>
                </a:moveTo>
                <a:lnTo>
                  <a:pt x="59" y="201"/>
                </a:lnTo>
                <a:lnTo>
                  <a:pt x="59" y="55"/>
                </a:lnTo>
                <a:lnTo>
                  <a:pt x="0" y="0"/>
                </a:lnTo>
                <a:lnTo>
                  <a:pt x="0" y="252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99"/>
          <p:cNvSpPr/>
          <p:nvPr/>
        </p:nvSpPr>
        <p:spPr>
          <a:xfrm>
            <a:off x="10051920" y="5551560"/>
            <a:ext cx="200160" cy="2016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100"/>
          <p:cNvSpPr/>
          <p:nvPr/>
        </p:nvSpPr>
        <p:spPr>
          <a:xfrm>
            <a:off x="8556480" y="4429080"/>
            <a:ext cx="230400" cy="2304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104"/>
          <p:cNvSpPr/>
          <p:nvPr/>
        </p:nvSpPr>
        <p:spPr>
          <a:xfrm>
            <a:off x="9097920" y="428940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105"/>
          <p:cNvSpPr/>
          <p:nvPr/>
        </p:nvSpPr>
        <p:spPr>
          <a:xfrm>
            <a:off x="8169120" y="483228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106"/>
          <p:cNvSpPr/>
          <p:nvPr/>
        </p:nvSpPr>
        <p:spPr>
          <a:xfrm>
            <a:off x="7839000" y="5291280"/>
            <a:ext cx="209520" cy="102960"/>
          </a:xfrm>
          <a:custGeom>
            <a:avLst/>
            <a:gdLst>
              <a:gd name="textAreaLeft" fmla="*/ 0 w 209520"/>
              <a:gd name="textAreaRight" fmla="*/ 209880 w 209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107"/>
          <p:cNvSpPr/>
          <p:nvPr/>
        </p:nvSpPr>
        <p:spPr>
          <a:xfrm>
            <a:off x="8400960" y="5527800"/>
            <a:ext cx="182520" cy="91800"/>
          </a:xfrm>
          <a:custGeom>
            <a:avLst/>
            <a:gdLst>
              <a:gd name="textAreaLeft" fmla="*/ 0 w 182520"/>
              <a:gd name="textAreaRight" fmla="*/ 182880 w 1825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4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108"/>
          <p:cNvSpPr/>
          <p:nvPr/>
        </p:nvSpPr>
        <p:spPr>
          <a:xfrm>
            <a:off x="8694720" y="528012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109"/>
          <p:cNvSpPr/>
          <p:nvPr/>
        </p:nvSpPr>
        <p:spPr>
          <a:xfrm>
            <a:off x="8694720" y="568944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10"/>
          <p:cNvSpPr/>
          <p:nvPr/>
        </p:nvSpPr>
        <p:spPr>
          <a:xfrm>
            <a:off x="8677440" y="3733920"/>
            <a:ext cx="196560" cy="98280"/>
          </a:xfrm>
          <a:custGeom>
            <a:avLst/>
            <a:gdLst>
              <a:gd name="textAreaLeft" fmla="*/ 0 w 196560"/>
              <a:gd name="textAreaRight" fmla="*/ 196920 w 1965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34" h="17">
                <a:moveTo>
                  <a:pt x="17" y="0"/>
                </a:moveTo>
                <a:cubicBezTo>
                  <a:pt x="7" y="0"/>
                  <a:pt x="0" y="8"/>
                  <a:pt x="0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8"/>
                  <a:pt x="26" y="0"/>
                  <a:pt x="17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11"/>
          <p:cNvSpPr/>
          <p:nvPr/>
        </p:nvSpPr>
        <p:spPr>
          <a:xfrm>
            <a:off x="7943760" y="5965920"/>
            <a:ext cx="69840" cy="163440"/>
          </a:xfrm>
          <a:custGeom>
            <a:avLst/>
            <a:gdLst>
              <a:gd name="textAreaLeft" fmla="*/ 0 w 69840"/>
              <a:gd name="textAreaRight" fmla="*/ 70200 w 698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12"/>
          <p:cNvSpPr/>
          <p:nvPr/>
        </p:nvSpPr>
        <p:spPr>
          <a:xfrm>
            <a:off x="7978680" y="6094440"/>
            <a:ext cx="39960" cy="6840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113"/>
          <p:cNvSpPr/>
          <p:nvPr/>
        </p:nvSpPr>
        <p:spPr>
          <a:xfrm>
            <a:off x="7378560" y="6002280"/>
            <a:ext cx="160560" cy="98640"/>
          </a:xfrm>
          <a:custGeom>
            <a:avLst/>
            <a:gdLst>
              <a:gd name="textAreaLeft" fmla="*/ 0 w 160560"/>
              <a:gd name="textAreaRight" fmla="*/ 160920 w 1605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8" h="17">
                <a:moveTo>
                  <a:pt x="4" y="13"/>
                </a:moveTo>
                <a:cubicBezTo>
                  <a:pt x="3" y="13"/>
                  <a:pt x="2" y="13"/>
                  <a:pt x="0" y="13"/>
                </a:cubicBezTo>
                <a:cubicBezTo>
                  <a:pt x="3" y="15"/>
                  <a:pt x="7" y="17"/>
                  <a:pt x="11" y="17"/>
                </a:cubicBezTo>
                <a:cubicBezTo>
                  <a:pt x="20" y="17"/>
                  <a:pt x="28" y="9"/>
                  <a:pt x="28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14"/>
          <p:cNvSpPr/>
          <p:nvPr/>
        </p:nvSpPr>
        <p:spPr>
          <a:xfrm>
            <a:off x="7794720" y="6041880"/>
            <a:ext cx="79200" cy="2192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15"/>
          <p:cNvSpPr/>
          <p:nvPr/>
        </p:nvSpPr>
        <p:spPr>
          <a:xfrm>
            <a:off x="7567560" y="5989680"/>
            <a:ext cx="81000" cy="2714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116"/>
          <p:cNvSpPr/>
          <p:nvPr/>
        </p:nvSpPr>
        <p:spPr>
          <a:xfrm>
            <a:off x="7632720" y="5891040"/>
            <a:ext cx="322200" cy="370080"/>
          </a:xfrm>
          <a:custGeom>
            <a:avLst/>
            <a:gdLst>
              <a:gd name="textAreaLeft" fmla="*/ 0 w 322200"/>
              <a:gd name="textAreaRight" fmla="*/ 322560 w 32220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6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2" y="34"/>
                </a:cubicBezTo>
                <a:cubicBezTo>
                  <a:pt x="35" y="34"/>
                  <a:pt x="35" y="34"/>
                  <a:pt x="35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6" y="34"/>
                  <a:pt x="56" y="34"/>
                  <a:pt x="56" y="34"/>
                </a:cubicBezTo>
                <a:cubicBezTo>
                  <a:pt x="56" y="26"/>
                  <a:pt x="56" y="26"/>
                  <a:pt x="56" y="26"/>
                </a:cubicBezTo>
                <a:cubicBezTo>
                  <a:pt x="56" y="17"/>
                  <a:pt x="56" y="17"/>
                  <a:pt x="56" y="17"/>
                </a:cubicBezTo>
                <a:cubicBezTo>
                  <a:pt x="56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117"/>
          <p:cNvSpPr/>
          <p:nvPr/>
        </p:nvSpPr>
        <p:spPr>
          <a:xfrm>
            <a:off x="7632720" y="6105600"/>
            <a:ext cx="74520" cy="87120"/>
          </a:xfrm>
          <a:custGeom>
            <a:avLst/>
            <a:gdLst>
              <a:gd name="textAreaLeft" fmla="*/ 0 w 74520"/>
              <a:gd name="textAreaRight" fmla="*/ 74880 w 7452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3" h="15">
                <a:moveTo>
                  <a:pt x="13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3" y="15"/>
                  <a:pt x="13" y="15"/>
                  <a:pt x="13" y="15"/>
                </a:cubicBezTo>
                <a:lnTo>
                  <a:pt x="13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118"/>
          <p:cNvSpPr/>
          <p:nvPr/>
        </p:nvSpPr>
        <p:spPr>
          <a:xfrm>
            <a:off x="763272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119"/>
          <p:cNvSpPr/>
          <p:nvPr/>
        </p:nvSpPr>
        <p:spPr>
          <a:xfrm>
            <a:off x="7453440" y="5694480"/>
            <a:ext cx="137880" cy="284040"/>
          </a:xfrm>
          <a:custGeom>
            <a:avLst/>
            <a:gdLst>
              <a:gd name="textAreaLeft" fmla="*/ 0 w 137880"/>
              <a:gd name="textAreaRight" fmla="*/ 138240 w 13788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120"/>
          <p:cNvSpPr/>
          <p:nvPr/>
        </p:nvSpPr>
        <p:spPr>
          <a:xfrm>
            <a:off x="7499520" y="5816520"/>
            <a:ext cx="166680" cy="365040"/>
          </a:xfrm>
          <a:custGeom>
            <a:avLst/>
            <a:gdLst>
              <a:gd name="textAreaLeft" fmla="*/ 0 w 166680"/>
              <a:gd name="textAreaRight" fmla="*/ 167040 w 16668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9" h="63">
                <a:moveTo>
                  <a:pt x="29" y="23"/>
                </a:moveTo>
                <a:cubicBezTo>
                  <a:pt x="29" y="6"/>
                  <a:pt x="29" y="6"/>
                  <a:pt x="29" y="6"/>
                </a:cubicBezTo>
                <a:cubicBezTo>
                  <a:pt x="29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3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4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5" y="32"/>
                  <a:pt x="29" y="28"/>
                  <a:pt x="29" y="23"/>
                </a:cubicBez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121"/>
          <p:cNvSpPr/>
          <p:nvPr/>
        </p:nvSpPr>
        <p:spPr>
          <a:xfrm>
            <a:off x="7615080" y="5694480"/>
            <a:ext cx="138240" cy="284040"/>
          </a:xfrm>
          <a:custGeom>
            <a:avLst/>
            <a:gdLst>
              <a:gd name="textAreaLeft" fmla="*/ 0 w 138240"/>
              <a:gd name="textAreaRight" fmla="*/ 138600 w 1382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122"/>
          <p:cNvSpPr/>
          <p:nvPr/>
        </p:nvSpPr>
        <p:spPr>
          <a:xfrm>
            <a:off x="7558200" y="5897520"/>
            <a:ext cx="2700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123"/>
          <p:cNvSpPr/>
          <p:nvPr/>
        </p:nvSpPr>
        <p:spPr>
          <a:xfrm>
            <a:off x="7453440" y="6002280"/>
            <a:ext cx="155520" cy="98640"/>
          </a:xfrm>
          <a:custGeom>
            <a:avLst/>
            <a:gdLst>
              <a:gd name="textAreaLeft" fmla="*/ 0 w 155520"/>
              <a:gd name="textAreaRight" fmla="*/ 155880 w 1555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3" y="13"/>
                </a:moveTo>
                <a:cubicBezTo>
                  <a:pt x="2" y="13"/>
                  <a:pt x="1" y="13"/>
                  <a:pt x="0" y="13"/>
                </a:cubicBezTo>
                <a:cubicBezTo>
                  <a:pt x="2" y="15"/>
                  <a:pt x="6" y="17"/>
                  <a:pt x="10" y="17"/>
                </a:cubicBezTo>
                <a:cubicBezTo>
                  <a:pt x="19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7"/>
                  <a:pt x="11" y="13"/>
                  <a:pt x="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24"/>
          <p:cNvSpPr/>
          <p:nvPr/>
        </p:nvSpPr>
        <p:spPr>
          <a:xfrm>
            <a:off x="8699400" y="6094440"/>
            <a:ext cx="39960" cy="6840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125"/>
          <p:cNvSpPr/>
          <p:nvPr/>
        </p:nvSpPr>
        <p:spPr>
          <a:xfrm>
            <a:off x="8658360" y="5965920"/>
            <a:ext cx="71280" cy="163440"/>
          </a:xfrm>
          <a:custGeom>
            <a:avLst/>
            <a:gdLst>
              <a:gd name="textAreaLeft" fmla="*/ 0 w 71280"/>
              <a:gd name="textAreaRight" fmla="*/ 71640 w 712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126"/>
          <p:cNvSpPr/>
          <p:nvPr/>
        </p:nvSpPr>
        <p:spPr>
          <a:xfrm>
            <a:off x="809928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27"/>
          <p:cNvSpPr/>
          <p:nvPr/>
        </p:nvSpPr>
        <p:spPr>
          <a:xfrm>
            <a:off x="8515440" y="6041880"/>
            <a:ext cx="81000" cy="2192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28"/>
          <p:cNvSpPr/>
          <p:nvPr/>
        </p:nvSpPr>
        <p:spPr>
          <a:xfrm>
            <a:off x="8283600" y="5989680"/>
            <a:ext cx="87120" cy="2714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129"/>
          <p:cNvSpPr/>
          <p:nvPr/>
        </p:nvSpPr>
        <p:spPr>
          <a:xfrm>
            <a:off x="8353440" y="5891040"/>
            <a:ext cx="317520" cy="370080"/>
          </a:xfrm>
          <a:custGeom>
            <a:avLst/>
            <a:gdLst>
              <a:gd name="textAreaLeft" fmla="*/ 0 w 317520"/>
              <a:gd name="textAreaRight" fmla="*/ 317880 w 31752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5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1" y="34"/>
                </a:cubicBezTo>
                <a:cubicBezTo>
                  <a:pt x="34" y="34"/>
                  <a:pt x="34" y="34"/>
                  <a:pt x="34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5" y="64"/>
                  <a:pt x="55" y="64"/>
                  <a:pt x="55" y="64"/>
                </a:cubicBezTo>
                <a:cubicBezTo>
                  <a:pt x="55" y="34"/>
                  <a:pt x="55" y="34"/>
                  <a:pt x="55" y="34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17"/>
                  <a:pt x="55" y="17"/>
                  <a:pt x="55" y="17"/>
                </a:cubicBezTo>
                <a:cubicBezTo>
                  <a:pt x="55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130"/>
          <p:cNvSpPr/>
          <p:nvPr/>
        </p:nvSpPr>
        <p:spPr>
          <a:xfrm>
            <a:off x="8353440" y="6105600"/>
            <a:ext cx="69840" cy="87120"/>
          </a:xfrm>
          <a:custGeom>
            <a:avLst/>
            <a:gdLst>
              <a:gd name="textAreaLeft" fmla="*/ 0 w 69840"/>
              <a:gd name="textAreaRight" fmla="*/ 70200 w 6984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2" h="15">
                <a:moveTo>
                  <a:pt x="1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2" y="15"/>
                  <a:pt x="12" y="15"/>
                  <a:pt x="12" y="15"/>
                </a:cubicBezTo>
                <a:lnTo>
                  <a:pt x="12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131"/>
          <p:cNvSpPr/>
          <p:nvPr/>
        </p:nvSpPr>
        <p:spPr>
          <a:xfrm>
            <a:off x="835344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132"/>
          <p:cNvSpPr/>
          <p:nvPr/>
        </p:nvSpPr>
        <p:spPr>
          <a:xfrm>
            <a:off x="8169120" y="5694480"/>
            <a:ext cx="144720" cy="284040"/>
          </a:xfrm>
          <a:custGeom>
            <a:avLst/>
            <a:gdLst>
              <a:gd name="textAreaLeft" fmla="*/ 0 w 144720"/>
              <a:gd name="textAreaRight" fmla="*/ 145080 w 1447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133"/>
          <p:cNvSpPr/>
          <p:nvPr/>
        </p:nvSpPr>
        <p:spPr>
          <a:xfrm>
            <a:off x="8215200" y="5816520"/>
            <a:ext cx="173160" cy="365040"/>
          </a:xfrm>
          <a:custGeom>
            <a:avLst/>
            <a:gdLst>
              <a:gd name="textAreaLeft" fmla="*/ 0 w 173160"/>
              <a:gd name="textAreaRight" fmla="*/ 173520 w 1731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30" h="63">
                <a:moveTo>
                  <a:pt x="30" y="23"/>
                </a:moveTo>
                <a:cubicBezTo>
                  <a:pt x="30" y="6"/>
                  <a:pt x="30" y="6"/>
                  <a:pt x="30" y="6"/>
                </a:cubicBezTo>
                <a:cubicBezTo>
                  <a:pt x="30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4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5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6" y="32"/>
                  <a:pt x="30" y="28"/>
                  <a:pt x="30" y="23"/>
                </a:cubicBez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134"/>
          <p:cNvSpPr/>
          <p:nvPr/>
        </p:nvSpPr>
        <p:spPr>
          <a:xfrm>
            <a:off x="8329680" y="5694480"/>
            <a:ext cx="146160" cy="284040"/>
          </a:xfrm>
          <a:custGeom>
            <a:avLst/>
            <a:gdLst>
              <a:gd name="textAreaLeft" fmla="*/ 0 w 146160"/>
              <a:gd name="textAreaRight" fmla="*/ 146520 w 146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135"/>
          <p:cNvSpPr/>
          <p:nvPr/>
        </p:nvSpPr>
        <p:spPr>
          <a:xfrm>
            <a:off x="8278920" y="5897520"/>
            <a:ext cx="2376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136"/>
          <p:cNvSpPr/>
          <p:nvPr/>
        </p:nvSpPr>
        <p:spPr>
          <a:xfrm>
            <a:off x="816912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141"/>
          <p:cNvSpPr/>
          <p:nvPr/>
        </p:nvSpPr>
        <p:spPr>
          <a:xfrm>
            <a:off x="7626240" y="3219480"/>
            <a:ext cx="571680" cy="317520"/>
          </a:xfrm>
          <a:custGeom>
            <a:avLst/>
            <a:gdLst>
              <a:gd name="textAreaLeft" fmla="*/ 0 w 571680"/>
              <a:gd name="textAreaRight" fmla="*/ 572040 w 57168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99" h="55">
                <a:moveTo>
                  <a:pt x="82" y="21"/>
                </a:moveTo>
                <a:cubicBezTo>
                  <a:pt x="80" y="21"/>
                  <a:pt x="78" y="21"/>
                  <a:pt x="77" y="22"/>
                </a:cubicBezTo>
                <a:cubicBezTo>
                  <a:pt x="74" y="9"/>
                  <a:pt x="63" y="0"/>
                  <a:pt x="49" y="0"/>
                </a:cubicBezTo>
                <a:cubicBezTo>
                  <a:pt x="36" y="0"/>
                  <a:pt x="25" y="9"/>
                  <a:pt x="22" y="21"/>
                </a:cubicBezTo>
                <a:cubicBezTo>
                  <a:pt x="21" y="21"/>
                  <a:pt x="19" y="21"/>
                  <a:pt x="18" y="21"/>
                </a:cubicBezTo>
                <a:cubicBezTo>
                  <a:pt x="8" y="21"/>
                  <a:pt x="0" y="29"/>
                  <a:pt x="0" y="38"/>
                </a:cubicBezTo>
                <a:cubicBezTo>
                  <a:pt x="0" y="48"/>
                  <a:pt x="8" y="55"/>
                  <a:pt x="18" y="55"/>
                </a:cubicBezTo>
                <a:cubicBezTo>
                  <a:pt x="23" y="55"/>
                  <a:pt x="76" y="55"/>
                  <a:pt x="82" y="55"/>
                </a:cubicBezTo>
                <a:cubicBezTo>
                  <a:pt x="92" y="55"/>
                  <a:pt x="99" y="48"/>
                  <a:pt x="99" y="38"/>
                </a:cubicBezTo>
                <a:cubicBezTo>
                  <a:pt x="99" y="29"/>
                  <a:pt x="92" y="21"/>
                  <a:pt x="8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142"/>
          <p:cNvSpPr/>
          <p:nvPr/>
        </p:nvSpPr>
        <p:spPr>
          <a:xfrm>
            <a:off x="9118440" y="2924280"/>
            <a:ext cx="374760" cy="207720"/>
          </a:xfrm>
          <a:custGeom>
            <a:avLst/>
            <a:gdLst>
              <a:gd name="textAreaLeft" fmla="*/ 0 w 374760"/>
              <a:gd name="textAreaRight" fmla="*/ 375120 w 37476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65" h="36">
                <a:moveTo>
                  <a:pt x="54" y="14"/>
                </a:moveTo>
                <a:cubicBezTo>
                  <a:pt x="53" y="14"/>
                  <a:pt x="52" y="14"/>
                  <a:pt x="51" y="14"/>
                </a:cubicBezTo>
                <a:cubicBezTo>
                  <a:pt x="49" y="6"/>
                  <a:pt x="41" y="0"/>
                  <a:pt x="33" y="0"/>
                </a:cubicBezTo>
                <a:cubicBezTo>
                  <a:pt x="24" y="0"/>
                  <a:pt x="16" y="6"/>
                  <a:pt x="15" y="14"/>
                </a:cubicBezTo>
                <a:cubicBezTo>
                  <a:pt x="14" y="14"/>
                  <a:pt x="13" y="14"/>
                  <a:pt x="12" y="14"/>
                </a:cubicBezTo>
                <a:cubicBezTo>
                  <a:pt x="5" y="14"/>
                  <a:pt x="0" y="19"/>
                  <a:pt x="0" y="25"/>
                </a:cubicBezTo>
                <a:cubicBezTo>
                  <a:pt x="0" y="31"/>
                  <a:pt x="5" y="36"/>
                  <a:pt x="12" y="36"/>
                </a:cubicBezTo>
                <a:cubicBezTo>
                  <a:pt x="15" y="36"/>
                  <a:pt x="50" y="36"/>
                  <a:pt x="54" y="36"/>
                </a:cubicBezTo>
                <a:cubicBezTo>
                  <a:pt x="60" y="36"/>
                  <a:pt x="65" y="31"/>
                  <a:pt x="65" y="25"/>
                </a:cubicBezTo>
                <a:cubicBezTo>
                  <a:pt x="65" y="19"/>
                  <a:pt x="60" y="14"/>
                  <a:pt x="54" y="14"/>
                </a:cubicBezTo>
                <a:close/>
              </a:path>
            </a:pathLst>
          </a:custGeom>
          <a:solidFill>
            <a:srgbClr val="29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187"/>
          <p:cNvSpPr/>
          <p:nvPr/>
        </p:nvSpPr>
        <p:spPr>
          <a:xfrm>
            <a:off x="9774360" y="3033720"/>
            <a:ext cx="565200" cy="324000"/>
          </a:xfrm>
          <a:custGeom>
            <a:avLst/>
            <a:gdLst>
              <a:gd name="textAreaLeft" fmla="*/ 0 w 565200"/>
              <a:gd name="textAreaRight" fmla="*/ 565560 w 56520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98" h="56">
                <a:moveTo>
                  <a:pt x="81" y="21"/>
                </a:moveTo>
                <a:cubicBezTo>
                  <a:pt x="79" y="21"/>
                  <a:pt x="78" y="21"/>
                  <a:pt x="76" y="22"/>
                </a:cubicBezTo>
                <a:cubicBezTo>
                  <a:pt x="73" y="9"/>
                  <a:pt x="62" y="0"/>
                  <a:pt x="49" y="0"/>
                </a:cubicBezTo>
                <a:cubicBezTo>
                  <a:pt x="35" y="0"/>
                  <a:pt x="24" y="9"/>
                  <a:pt x="21" y="22"/>
                </a:cubicBezTo>
                <a:cubicBezTo>
                  <a:pt x="20" y="21"/>
                  <a:pt x="18" y="21"/>
                  <a:pt x="17" y="21"/>
                </a:cubicBezTo>
                <a:cubicBezTo>
                  <a:pt x="7" y="21"/>
                  <a:pt x="0" y="29"/>
                  <a:pt x="0" y="38"/>
                </a:cubicBezTo>
                <a:cubicBezTo>
                  <a:pt x="0" y="48"/>
                  <a:pt x="7" y="56"/>
                  <a:pt x="17" y="56"/>
                </a:cubicBezTo>
                <a:cubicBezTo>
                  <a:pt x="22" y="56"/>
                  <a:pt x="75" y="56"/>
                  <a:pt x="81" y="56"/>
                </a:cubicBezTo>
                <a:cubicBezTo>
                  <a:pt x="91" y="56"/>
                  <a:pt x="98" y="48"/>
                  <a:pt x="98" y="38"/>
                </a:cubicBezTo>
                <a:cubicBezTo>
                  <a:pt x="98" y="29"/>
                  <a:pt x="91" y="21"/>
                  <a:pt x="81" y="21"/>
                </a:cubicBezTo>
                <a:close/>
              </a:path>
            </a:pathLst>
          </a:custGeom>
          <a:solidFill>
            <a:srgbClr val="64d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188"/>
          <p:cNvSpPr/>
          <p:nvPr/>
        </p:nvSpPr>
        <p:spPr>
          <a:xfrm>
            <a:off x="9034560" y="4444920"/>
            <a:ext cx="965160" cy="990720"/>
          </a:xfrm>
          <a:custGeom>
            <a:avLst/>
            <a:gdLst>
              <a:gd name="textAreaLeft" fmla="*/ 0 w 965160"/>
              <a:gd name="textAreaRight" fmla="*/ 965520 w 9651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167" h="171">
                <a:moveTo>
                  <a:pt x="156" y="106"/>
                </a:moveTo>
                <a:cubicBezTo>
                  <a:pt x="158" y="101"/>
                  <a:pt x="160" y="95"/>
                  <a:pt x="160" y="90"/>
                </a:cubicBezTo>
                <a:cubicBezTo>
                  <a:pt x="160" y="70"/>
                  <a:pt x="144" y="54"/>
                  <a:pt x="124" y="54"/>
                </a:cubicBezTo>
                <a:cubicBezTo>
                  <a:pt x="122" y="54"/>
                  <a:pt x="120" y="54"/>
                  <a:pt x="118" y="54"/>
                </a:cubicBezTo>
                <a:cubicBezTo>
                  <a:pt x="118" y="54"/>
                  <a:pt x="118" y="54"/>
                  <a:pt x="118" y="54"/>
                </a:cubicBezTo>
                <a:cubicBezTo>
                  <a:pt x="128" y="50"/>
                  <a:pt x="135" y="40"/>
                  <a:pt x="135" y="28"/>
                </a:cubicBezTo>
                <a:cubicBezTo>
                  <a:pt x="135" y="12"/>
                  <a:pt x="122" y="0"/>
                  <a:pt x="106" y="0"/>
                </a:cubicBezTo>
                <a:cubicBezTo>
                  <a:pt x="90" y="0"/>
                  <a:pt x="78" y="12"/>
                  <a:pt x="78" y="28"/>
                </a:cubicBezTo>
                <a:cubicBezTo>
                  <a:pt x="78" y="31"/>
                  <a:pt x="78" y="33"/>
                  <a:pt x="79" y="36"/>
                </a:cubicBezTo>
                <a:cubicBezTo>
                  <a:pt x="69" y="37"/>
                  <a:pt x="61" y="42"/>
                  <a:pt x="55" y="48"/>
                </a:cubicBezTo>
                <a:cubicBezTo>
                  <a:pt x="49" y="43"/>
                  <a:pt x="42" y="40"/>
                  <a:pt x="34" y="40"/>
                </a:cubicBezTo>
                <a:cubicBezTo>
                  <a:pt x="15" y="40"/>
                  <a:pt x="0" y="55"/>
                  <a:pt x="0" y="74"/>
                </a:cubicBezTo>
                <a:cubicBezTo>
                  <a:pt x="0" y="85"/>
                  <a:pt x="6" y="95"/>
                  <a:pt x="15" y="101"/>
                </a:cubicBezTo>
                <a:cubicBezTo>
                  <a:pt x="13" y="105"/>
                  <a:pt x="12" y="110"/>
                  <a:pt x="12" y="115"/>
                </a:cubicBezTo>
                <a:cubicBezTo>
                  <a:pt x="12" y="133"/>
                  <a:pt x="26" y="148"/>
                  <a:pt x="44" y="148"/>
                </a:cubicBezTo>
                <a:cubicBezTo>
                  <a:pt x="50" y="148"/>
                  <a:pt x="56" y="146"/>
                  <a:pt x="60" y="144"/>
                </a:cubicBezTo>
                <a:cubicBezTo>
                  <a:pt x="66" y="160"/>
                  <a:pt x="81" y="171"/>
                  <a:pt x="99" y="171"/>
                </a:cubicBezTo>
                <a:cubicBezTo>
                  <a:pt x="115" y="171"/>
                  <a:pt x="128" y="162"/>
                  <a:pt x="135" y="149"/>
                </a:cubicBezTo>
                <a:cubicBezTo>
                  <a:pt x="137" y="149"/>
                  <a:pt x="140" y="150"/>
                  <a:pt x="142" y="150"/>
                </a:cubicBezTo>
                <a:cubicBezTo>
                  <a:pt x="156" y="150"/>
                  <a:pt x="167" y="139"/>
                  <a:pt x="167" y="126"/>
                </a:cubicBezTo>
                <a:cubicBezTo>
                  <a:pt x="167" y="117"/>
                  <a:pt x="162" y="110"/>
                  <a:pt x="156" y="106"/>
                </a:cubicBezTo>
                <a:close/>
              </a:path>
            </a:pathLst>
          </a:custGeom>
          <a:solidFill>
            <a:srgbClr val="0dd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189"/>
          <p:cNvSpPr/>
          <p:nvPr/>
        </p:nvSpPr>
        <p:spPr>
          <a:xfrm>
            <a:off x="9548640" y="4444920"/>
            <a:ext cx="451080" cy="990720"/>
          </a:xfrm>
          <a:custGeom>
            <a:avLst/>
            <a:gdLst>
              <a:gd name="textAreaLeft" fmla="*/ 0 w 451080"/>
              <a:gd name="textAreaRight" fmla="*/ 451440 w 4510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78" h="171">
                <a:moveTo>
                  <a:pt x="67" y="106"/>
                </a:moveTo>
                <a:cubicBezTo>
                  <a:pt x="69" y="101"/>
                  <a:pt x="71" y="95"/>
                  <a:pt x="71" y="90"/>
                </a:cubicBezTo>
                <a:cubicBezTo>
                  <a:pt x="71" y="70"/>
                  <a:pt x="55" y="54"/>
                  <a:pt x="35" y="54"/>
                </a:cubicBezTo>
                <a:cubicBezTo>
                  <a:pt x="33" y="54"/>
                  <a:pt x="31" y="54"/>
                  <a:pt x="29" y="54"/>
                </a:cubicBezTo>
                <a:cubicBezTo>
                  <a:pt x="29" y="54"/>
                  <a:pt x="29" y="54"/>
                  <a:pt x="29" y="54"/>
                </a:cubicBezTo>
                <a:cubicBezTo>
                  <a:pt x="39" y="50"/>
                  <a:pt x="46" y="40"/>
                  <a:pt x="46" y="28"/>
                </a:cubicBezTo>
                <a:cubicBezTo>
                  <a:pt x="46" y="12"/>
                  <a:pt x="33" y="0"/>
                  <a:pt x="17" y="0"/>
                </a:cubicBezTo>
                <a:cubicBezTo>
                  <a:pt x="11" y="0"/>
                  <a:pt x="4" y="2"/>
                  <a:pt x="0" y="6"/>
                </a:cubicBezTo>
                <a:cubicBezTo>
                  <a:pt x="0" y="170"/>
                  <a:pt x="0" y="170"/>
                  <a:pt x="0" y="170"/>
                </a:cubicBezTo>
                <a:cubicBezTo>
                  <a:pt x="3" y="171"/>
                  <a:pt x="6" y="171"/>
                  <a:pt x="10" y="171"/>
                </a:cubicBezTo>
                <a:cubicBezTo>
                  <a:pt x="26" y="171"/>
                  <a:pt x="39" y="162"/>
                  <a:pt x="46" y="149"/>
                </a:cubicBezTo>
                <a:cubicBezTo>
                  <a:pt x="48" y="149"/>
                  <a:pt x="51" y="150"/>
                  <a:pt x="53" y="150"/>
                </a:cubicBezTo>
                <a:cubicBezTo>
                  <a:pt x="67" y="150"/>
                  <a:pt x="78" y="139"/>
                  <a:pt x="78" y="126"/>
                </a:cubicBezTo>
                <a:cubicBezTo>
                  <a:pt x="78" y="117"/>
                  <a:pt x="73" y="110"/>
                  <a:pt x="67" y="106"/>
                </a:cubicBezTo>
                <a:close/>
              </a:path>
            </a:pathLst>
          </a:custGeom>
          <a:solidFill>
            <a:srgbClr val="0d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190"/>
          <p:cNvSpPr/>
          <p:nvPr/>
        </p:nvSpPr>
        <p:spPr>
          <a:xfrm>
            <a:off x="9433080" y="5000760"/>
            <a:ext cx="225360" cy="23148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191"/>
          <p:cNvSpPr/>
          <p:nvPr/>
        </p:nvSpPr>
        <p:spPr>
          <a:xfrm>
            <a:off x="9485280" y="4788000"/>
            <a:ext cx="131760" cy="127080"/>
          </a:xfrm>
          <a:prstGeom prst="ellipse">
            <a:avLst/>
          </a:prstGeom>
          <a:solidFill>
            <a:srgbClr val="76f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73"/>
          <p:cNvSpPr/>
          <p:nvPr/>
        </p:nvSpPr>
        <p:spPr>
          <a:xfrm>
            <a:off x="3886200" y="6267600"/>
            <a:ext cx="8042400" cy="3999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393" h="69">
                <a:moveTo>
                  <a:pt x="1366" y="0"/>
                </a:moveTo>
                <a:cubicBezTo>
                  <a:pt x="28" y="0"/>
                  <a:pt x="28" y="0"/>
                  <a:pt x="28" y="0"/>
                </a:cubicBezTo>
                <a:cubicBezTo>
                  <a:pt x="13" y="0"/>
                  <a:pt x="0" y="12"/>
                  <a:pt x="0" y="27"/>
                </a:cubicBezTo>
                <a:cubicBezTo>
                  <a:pt x="0" y="69"/>
                  <a:pt x="0" y="69"/>
                  <a:pt x="0" y="69"/>
                </a:cubicBezTo>
                <a:cubicBezTo>
                  <a:pt x="1393" y="69"/>
                  <a:pt x="1393" y="69"/>
                  <a:pt x="1393" y="69"/>
                </a:cubicBezTo>
                <a:cubicBezTo>
                  <a:pt x="1393" y="27"/>
                  <a:pt x="1393" y="27"/>
                  <a:pt x="1393" y="27"/>
                </a:cubicBezTo>
                <a:cubicBezTo>
                  <a:pt x="1393" y="12"/>
                  <a:pt x="1381" y="0"/>
                  <a:pt x="1366" y="0"/>
                </a:cubicBezTo>
                <a:close/>
              </a:path>
            </a:pathLst>
          </a:custGeom>
          <a:solidFill>
            <a:srgbClr val="00c2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101"/>
          <p:cNvSpPr/>
          <p:nvPr/>
        </p:nvSpPr>
        <p:spPr>
          <a:xfrm>
            <a:off x="3886200" y="6383160"/>
            <a:ext cx="8042400" cy="3765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560"/>
              <a:gd name="textAreaBottom" fmla="*/ 376920 h 376560"/>
            </a:gdLst>
            <a:ahLst/>
            <a:rect l="textAreaLeft" t="textAreaTop" r="textAreaRight" b="textAreaBottom"/>
            <a:pathLst>
              <a:path w="1393" h="65">
                <a:moveTo>
                  <a:pt x="1393" y="23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3"/>
                  <a:pt x="0" y="23"/>
                  <a:pt x="0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20" y="23"/>
                  <a:pt x="20" y="0"/>
                  <a:pt x="37" y="0"/>
                </a:cubicBezTo>
                <a:cubicBezTo>
                  <a:pt x="55" y="0"/>
                  <a:pt x="55" y="23"/>
                  <a:pt x="72" y="23"/>
                </a:cubicBezTo>
                <a:cubicBezTo>
                  <a:pt x="89" y="23"/>
                  <a:pt x="89" y="0"/>
                  <a:pt x="107" y="0"/>
                </a:cubicBezTo>
                <a:cubicBezTo>
                  <a:pt x="124" y="0"/>
                  <a:pt x="124" y="23"/>
                  <a:pt x="141" y="23"/>
                </a:cubicBezTo>
                <a:cubicBezTo>
                  <a:pt x="159" y="23"/>
                  <a:pt x="159" y="0"/>
                  <a:pt x="176" y="0"/>
                </a:cubicBezTo>
                <a:cubicBezTo>
                  <a:pt x="194" y="0"/>
                  <a:pt x="194" y="23"/>
                  <a:pt x="211" y="23"/>
                </a:cubicBezTo>
                <a:cubicBezTo>
                  <a:pt x="228" y="23"/>
                  <a:pt x="228" y="0"/>
                  <a:pt x="246" y="0"/>
                </a:cubicBezTo>
                <a:cubicBezTo>
                  <a:pt x="263" y="0"/>
                  <a:pt x="263" y="23"/>
                  <a:pt x="280" y="23"/>
                </a:cubicBezTo>
                <a:cubicBezTo>
                  <a:pt x="298" y="23"/>
                  <a:pt x="298" y="0"/>
                  <a:pt x="315" y="0"/>
                </a:cubicBezTo>
                <a:cubicBezTo>
                  <a:pt x="333" y="0"/>
                  <a:pt x="333" y="23"/>
                  <a:pt x="350" y="23"/>
                </a:cubicBezTo>
                <a:cubicBezTo>
                  <a:pt x="367" y="23"/>
                  <a:pt x="367" y="0"/>
                  <a:pt x="385" y="0"/>
                </a:cubicBezTo>
                <a:cubicBezTo>
                  <a:pt x="402" y="0"/>
                  <a:pt x="402" y="23"/>
                  <a:pt x="419" y="23"/>
                </a:cubicBezTo>
                <a:cubicBezTo>
                  <a:pt x="437" y="23"/>
                  <a:pt x="437" y="0"/>
                  <a:pt x="454" y="0"/>
                </a:cubicBezTo>
                <a:cubicBezTo>
                  <a:pt x="472" y="0"/>
                  <a:pt x="472" y="23"/>
                  <a:pt x="489" y="23"/>
                </a:cubicBezTo>
                <a:cubicBezTo>
                  <a:pt x="506" y="23"/>
                  <a:pt x="506" y="0"/>
                  <a:pt x="524" y="0"/>
                </a:cubicBezTo>
                <a:cubicBezTo>
                  <a:pt x="541" y="0"/>
                  <a:pt x="541" y="23"/>
                  <a:pt x="558" y="23"/>
                </a:cubicBezTo>
                <a:cubicBezTo>
                  <a:pt x="576" y="23"/>
                  <a:pt x="576" y="0"/>
                  <a:pt x="593" y="0"/>
                </a:cubicBezTo>
                <a:cubicBezTo>
                  <a:pt x="611" y="0"/>
                  <a:pt x="611" y="23"/>
                  <a:pt x="628" y="23"/>
                </a:cubicBezTo>
                <a:cubicBezTo>
                  <a:pt x="645" y="23"/>
                  <a:pt x="645" y="0"/>
                  <a:pt x="663" y="0"/>
                </a:cubicBezTo>
                <a:cubicBezTo>
                  <a:pt x="680" y="0"/>
                  <a:pt x="680" y="23"/>
                  <a:pt x="698" y="23"/>
                </a:cubicBezTo>
                <a:cubicBezTo>
                  <a:pt x="715" y="23"/>
                  <a:pt x="715" y="0"/>
                  <a:pt x="732" y="0"/>
                </a:cubicBezTo>
                <a:cubicBezTo>
                  <a:pt x="750" y="0"/>
                  <a:pt x="750" y="23"/>
                  <a:pt x="767" y="23"/>
                </a:cubicBezTo>
                <a:cubicBezTo>
                  <a:pt x="784" y="23"/>
                  <a:pt x="784" y="0"/>
                  <a:pt x="802" y="0"/>
                </a:cubicBezTo>
                <a:cubicBezTo>
                  <a:pt x="819" y="0"/>
                  <a:pt x="819" y="23"/>
                  <a:pt x="837" y="23"/>
                </a:cubicBezTo>
                <a:cubicBezTo>
                  <a:pt x="854" y="23"/>
                  <a:pt x="854" y="0"/>
                  <a:pt x="871" y="0"/>
                </a:cubicBezTo>
                <a:cubicBezTo>
                  <a:pt x="889" y="0"/>
                  <a:pt x="889" y="23"/>
                  <a:pt x="906" y="23"/>
                </a:cubicBezTo>
                <a:cubicBezTo>
                  <a:pt x="924" y="23"/>
                  <a:pt x="924" y="0"/>
                  <a:pt x="941" y="0"/>
                </a:cubicBezTo>
                <a:cubicBezTo>
                  <a:pt x="958" y="0"/>
                  <a:pt x="958" y="23"/>
                  <a:pt x="976" y="23"/>
                </a:cubicBezTo>
                <a:cubicBezTo>
                  <a:pt x="993" y="23"/>
                  <a:pt x="993" y="0"/>
                  <a:pt x="1011" y="0"/>
                </a:cubicBezTo>
                <a:cubicBezTo>
                  <a:pt x="1028" y="0"/>
                  <a:pt x="1028" y="23"/>
                  <a:pt x="1045" y="23"/>
                </a:cubicBezTo>
                <a:cubicBezTo>
                  <a:pt x="1063" y="23"/>
                  <a:pt x="1063" y="0"/>
                  <a:pt x="1080" y="0"/>
                </a:cubicBezTo>
                <a:cubicBezTo>
                  <a:pt x="1097" y="0"/>
                  <a:pt x="1097" y="23"/>
                  <a:pt x="1115" y="23"/>
                </a:cubicBezTo>
                <a:cubicBezTo>
                  <a:pt x="1132" y="23"/>
                  <a:pt x="1132" y="0"/>
                  <a:pt x="1150" y="0"/>
                </a:cubicBezTo>
                <a:cubicBezTo>
                  <a:pt x="1167" y="0"/>
                  <a:pt x="1167" y="23"/>
                  <a:pt x="1184" y="23"/>
                </a:cubicBezTo>
                <a:cubicBezTo>
                  <a:pt x="1202" y="23"/>
                  <a:pt x="1202" y="0"/>
                  <a:pt x="1219" y="0"/>
                </a:cubicBezTo>
                <a:cubicBezTo>
                  <a:pt x="1237" y="0"/>
                  <a:pt x="1237" y="23"/>
                  <a:pt x="1254" y="23"/>
                </a:cubicBezTo>
                <a:cubicBezTo>
                  <a:pt x="1271" y="23"/>
                  <a:pt x="1271" y="0"/>
                  <a:pt x="1289" y="0"/>
                </a:cubicBezTo>
                <a:cubicBezTo>
                  <a:pt x="1306" y="0"/>
                  <a:pt x="1306" y="23"/>
                  <a:pt x="1324" y="23"/>
                </a:cubicBezTo>
                <a:cubicBezTo>
                  <a:pt x="1341" y="23"/>
                  <a:pt x="1341" y="0"/>
                  <a:pt x="1358" y="0"/>
                </a:cubicBezTo>
                <a:cubicBezTo>
                  <a:pt x="1376" y="0"/>
                  <a:pt x="1376" y="23"/>
                  <a:pt x="1393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102"/>
          <p:cNvSpPr/>
          <p:nvPr/>
        </p:nvSpPr>
        <p:spPr>
          <a:xfrm>
            <a:off x="3886200" y="6481800"/>
            <a:ext cx="8042400" cy="37620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1393" h="65">
                <a:moveTo>
                  <a:pt x="1393" y="22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2"/>
                  <a:pt x="0" y="22"/>
                  <a:pt x="0" y="22"/>
                </a:cubicBezTo>
                <a:cubicBezTo>
                  <a:pt x="2" y="22"/>
                  <a:pt x="2" y="22"/>
                  <a:pt x="2" y="22"/>
                </a:cubicBezTo>
                <a:cubicBezTo>
                  <a:pt x="20" y="22"/>
                  <a:pt x="20" y="0"/>
                  <a:pt x="37" y="0"/>
                </a:cubicBezTo>
                <a:cubicBezTo>
                  <a:pt x="55" y="0"/>
                  <a:pt x="55" y="22"/>
                  <a:pt x="72" y="22"/>
                </a:cubicBezTo>
                <a:cubicBezTo>
                  <a:pt x="89" y="22"/>
                  <a:pt x="89" y="0"/>
                  <a:pt x="107" y="0"/>
                </a:cubicBezTo>
                <a:cubicBezTo>
                  <a:pt x="124" y="0"/>
                  <a:pt x="124" y="22"/>
                  <a:pt x="141" y="22"/>
                </a:cubicBezTo>
                <a:cubicBezTo>
                  <a:pt x="159" y="22"/>
                  <a:pt x="159" y="0"/>
                  <a:pt x="176" y="0"/>
                </a:cubicBezTo>
                <a:cubicBezTo>
                  <a:pt x="194" y="0"/>
                  <a:pt x="194" y="22"/>
                  <a:pt x="211" y="22"/>
                </a:cubicBezTo>
                <a:cubicBezTo>
                  <a:pt x="228" y="22"/>
                  <a:pt x="228" y="0"/>
                  <a:pt x="246" y="0"/>
                </a:cubicBezTo>
                <a:cubicBezTo>
                  <a:pt x="263" y="0"/>
                  <a:pt x="263" y="22"/>
                  <a:pt x="280" y="22"/>
                </a:cubicBezTo>
                <a:cubicBezTo>
                  <a:pt x="298" y="22"/>
                  <a:pt x="298" y="0"/>
                  <a:pt x="315" y="0"/>
                </a:cubicBezTo>
                <a:cubicBezTo>
                  <a:pt x="333" y="0"/>
                  <a:pt x="333" y="22"/>
                  <a:pt x="350" y="22"/>
                </a:cubicBezTo>
                <a:cubicBezTo>
                  <a:pt x="367" y="22"/>
                  <a:pt x="367" y="0"/>
                  <a:pt x="385" y="0"/>
                </a:cubicBezTo>
                <a:cubicBezTo>
                  <a:pt x="402" y="0"/>
                  <a:pt x="402" y="22"/>
                  <a:pt x="419" y="22"/>
                </a:cubicBezTo>
                <a:cubicBezTo>
                  <a:pt x="437" y="22"/>
                  <a:pt x="437" y="0"/>
                  <a:pt x="454" y="0"/>
                </a:cubicBezTo>
                <a:cubicBezTo>
                  <a:pt x="472" y="0"/>
                  <a:pt x="472" y="22"/>
                  <a:pt x="489" y="22"/>
                </a:cubicBezTo>
                <a:cubicBezTo>
                  <a:pt x="506" y="22"/>
                  <a:pt x="506" y="0"/>
                  <a:pt x="524" y="0"/>
                </a:cubicBezTo>
                <a:cubicBezTo>
                  <a:pt x="541" y="0"/>
                  <a:pt x="541" y="22"/>
                  <a:pt x="558" y="22"/>
                </a:cubicBezTo>
                <a:cubicBezTo>
                  <a:pt x="576" y="22"/>
                  <a:pt x="576" y="0"/>
                  <a:pt x="593" y="0"/>
                </a:cubicBezTo>
                <a:cubicBezTo>
                  <a:pt x="611" y="0"/>
                  <a:pt x="611" y="22"/>
                  <a:pt x="628" y="22"/>
                </a:cubicBezTo>
                <a:cubicBezTo>
                  <a:pt x="645" y="22"/>
                  <a:pt x="645" y="0"/>
                  <a:pt x="663" y="0"/>
                </a:cubicBezTo>
                <a:cubicBezTo>
                  <a:pt x="680" y="0"/>
                  <a:pt x="680" y="22"/>
                  <a:pt x="698" y="22"/>
                </a:cubicBezTo>
                <a:cubicBezTo>
                  <a:pt x="715" y="22"/>
                  <a:pt x="715" y="0"/>
                  <a:pt x="732" y="0"/>
                </a:cubicBezTo>
                <a:cubicBezTo>
                  <a:pt x="750" y="0"/>
                  <a:pt x="750" y="22"/>
                  <a:pt x="767" y="22"/>
                </a:cubicBezTo>
                <a:cubicBezTo>
                  <a:pt x="784" y="22"/>
                  <a:pt x="784" y="0"/>
                  <a:pt x="802" y="0"/>
                </a:cubicBezTo>
                <a:cubicBezTo>
                  <a:pt x="819" y="0"/>
                  <a:pt x="819" y="22"/>
                  <a:pt x="837" y="22"/>
                </a:cubicBezTo>
                <a:cubicBezTo>
                  <a:pt x="854" y="22"/>
                  <a:pt x="854" y="0"/>
                  <a:pt x="871" y="0"/>
                </a:cubicBezTo>
                <a:cubicBezTo>
                  <a:pt x="889" y="0"/>
                  <a:pt x="889" y="22"/>
                  <a:pt x="906" y="22"/>
                </a:cubicBezTo>
                <a:cubicBezTo>
                  <a:pt x="924" y="22"/>
                  <a:pt x="924" y="0"/>
                  <a:pt x="941" y="0"/>
                </a:cubicBezTo>
                <a:cubicBezTo>
                  <a:pt x="958" y="0"/>
                  <a:pt x="958" y="22"/>
                  <a:pt x="976" y="22"/>
                </a:cubicBezTo>
                <a:cubicBezTo>
                  <a:pt x="993" y="22"/>
                  <a:pt x="993" y="0"/>
                  <a:pt x="1011" y="0"/>
                </a:cubicBezTo>
                <a:cubicBezTo>
                  <a:pt x="1028" y="0"/>
                  <a:pt x="1028" y="22"/>
                  <a:pt x="1045" y="22"/>
                </a:cubicBezTo>
                <a:cubicBezTo>
                  <a:pt x="1063" y="22"/>
                  <a:pt x="1063" y="0"/>
                  <a:pt x="1080" y="0"/>
                </a:cubicBezTo>
                <a:cubicBezTo>
                  <a:pt x="1097" y="0"/>
                  <a:pt x="1097" y="22"/>
                  <a:pt x="1115" y="22"/>
                </a:cubicBezTo>
                <a:cubicBezTo>
                  <a:pt x="1132" y="22"/>
                  <a:pt x="1132" y="0"/>
                  <a:pt x="1150" y="0"/>
                </a:cubicBezTo>
                <a:cubicBezTo>
                  <a:pt x="1167" y="0"/>
                  <a:pt x="1167" y="22"/>
                  <a:pt x="1184" y="22"/>
                </a:cubicBezTo>
                <a:cubicBezTo>
                  <a:pt x="1202" y="22"/>
                  <a:pt x="1202" y="0"/>
                  <a:pt x="1219" y="0"/>
                </a:cubicBezTo>
                <a:cubicBezTo>
                  <a:pt x="1237" y="0"/>
                  <a:pt x="1237" y="22"/>
                  <a:pt x="1254" y="22"/>
                </a:cubicBezTo>
                <a:cubicBezTo>
                  <a:pt x="1271" y="22"/>
                  <a:pt x="1271" y="0"/>
                  <a:pt x="1289" y="0"/>
                </a:cubicBezTo>
                <a:cubicBezTo>
                  <a:pt x="1306" y="0"/>
                  <a:pt x="1306" y="22"/>
                  <a:pt x="1324" y="22"/>
                </a:cubicBezTo>
                <a:cubicBezTo>
                  <a:pt x="1341" y="22"/>
                  <a:pt x="1341" y="0"/>
                  <a:pt x="1358" y="0"/>
                </a:cubicBezTo>
                <a:cubicBezTo>
                  <a:pt x="1376" y="0"/>
                  <a:pt x="1376" y="22"/>
                  <a:pt x="1393" y="22"/>
                </a:cubicBezTo>
                <a:close/>
              </a:path>
            </a:pathLst>
          </a:custGeom>
          <a:solidFill>
            <a:srgbClr val="39a1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103"/>
          <p:cNvSpPr/>
          <p:nvPr/>
        </p:nvSpPr>
        <p:spPr>
          <a:xfrm>
            <a:off x="3886200" y="6654960"/>
            <a:ext cx="8042400" cy="20304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393" h="35">
                <a:moveTo>
                  <a:pt x="1358" y="0"/>
                </a:moveTo>
                <a:cubicBezTo>
                  <a:pt x="1341" y="0"/>
                  <a:pt x="1341" y="22"/>
                  <a:pt x="1324" y="22"/>
                </a:cubicBezTo>
                <a:cubicBezTo>
                  <a:pt x="1306" y="22"/>
                  <a:pt x="1306" y="0"/>
                  <a:pt x="1289" y="0"/>
                </a:cubicBezTo>
                <a:cubicBezTo>
                  <a:pt x="1271" y="0"/>
                  <a:pt x="1271" y="22"/>
                  <a:pt x="1254" y="22"/>
                </a:cubicBezTo>
                <a:cubicBezTo>
                  <a:pt x="1237" y="22"/>
                  <a:pt x="1237" y="0"/>
                  <a:pt x="1219" y="0"/>
                </a:cubicBezTo>
                <a:cubicBezTo>
                  <a:pt x="1202" y="0"/>
                  <a:pt x="1202" y="22"/>
                  <a:pt x="1184" y="22"/>
                </a:cubicBezTo>
                <a:cubicBezTo>
                  <a:pt x="1167" y="22"/>
                  <a:pt x="1167" y="0"/>
                  <a:pt x="1150" y="0"/>
                </a:cubicBezTo>
                <a:cubicBezTo>
                  <a:pt x="1132" y="0"/>
                  <a:pt x="1132" y="22"/>
                  <a:pt x="1115" y="22"/>
                </a:cubicBezTo>
                <a:cubicBezTo>
                  <a:pt x="1097" y="22"/>
                  <a:pt x="1097" y="0"/>
                  <a:pt x="1080" y="0"/>
                </a:cubicBezTo>
                <a:cubicBezTo>
                  <a:pt x="1063" y="0"/>
                  <a:pt x="1063" y="22"/>
                  <a:pt x="1045" y="22"/>
                </a:cubicBezTo>
                <a:cubicBezTo>
                  <a:pt x="1028" y="22"/>
                  <a:pt x="1028" y="0"/>
                  <a:pt x="1011" y="0"/>
                </a:cubicBezTo>
                <a:cubicBezTo>
                  <a:pt x="993" y="0"/>
                  <a:pt x="993" y="22"/>
                  <a:pt x="976" y="22"/>
                </a:cubicBezTo>
                <a:cubicBezTo>
                  <a:pt x="958" y="22"/>
                  <a:pt x="958" y="0"/>
                  <a:pt x="941" y="0"/>
                </a:cubicBezTo>
                <a:cubicBezTo>
                  <a:pt x="924" y="0"/>
                  <a:pt x="924" y="22"/>
                  <a:pt x="906" y="22"/>
                </a:cubicBezTo>
                <a:cubicBezTo>
                  <a:pt x="889" y="22"/>
                  <a:pt x="889" y="0"/>
                  <a:pt x="871" y="0"/>
                </a:cubicBezTo>
                <a:cubicBezTo>
                  <a:pt x="854" y="0"/>
                  <a:pt x="854" y="22"/>
                  <a:pt x="837" y="22"/>
                </a:cubicBezTo>
                <a:cubicBezTo>
                  <a:pt x="819" y="22"/>
                  <a:pt x="819" y="0"/>
                  <a:pt x="802" y="0"/>
                </a:cubicBezTo>
                <a:cubicBezTo>
                  <a:pt x="784" y="0"/>
                  <a:pt x="784" y="22"/>
                  <a:pt x="767" y="22"/>
                </a:cubicBezTo>
                <a:cubicBezTo>
                  <a:pt x="750" y="22"/>
                  <a:pt x="750" y="0"/>
                  <a:pt x="732" y="0"/>
                </a:cubicBezTo>
                <a:cubicBezTo>
                  <a:pt x="715" y="0"/>
                  <a:pt x="715" y="22"/>
                  <a:pt x="698" y="22"/>
                </a:cubicBezTo>
                <a:cubicBezTo>
                  <a:pt x="680" y="22"/>
                  <a:pt x="680" y="0"/>
                  <a:pt x="663" y="0"/>
                </a:cubicBezTo>
                <a:cubicBezTo>
                  <a:pt x="645" y="0"/>
                  <a:pt x="645" y="22"/>
                  <a:pt x="628" y="22"/>
                </a:cubicBezTo>
                <a:cubicBezTo>
                  <a:pt x="611" y="22"/>
                  <a:pt x="611" y="0"/>
                  <a:pt x="593" y="0"/>
                </a:cubicBezTo>
                <a:cubicBezTo>
                  <a:pt x="576" y="0"/>
                  <a:pt x="576" y="22"/>
                  <a:pt x="558" y="22"/>
                </a:cubicBezTo>
                <a:cubicBezTo>
                  <a:pt x="541" y="22"/>
                  <a:pt x="541" y="0"/>
                  <a:pt x="524" y="0"/>
                </a:cubicBezTo>
                <a:cubicBezTo>
                  <a:pt x="506" y="0"/>
                  <a:pt x="506" y="22"/>
                  <a:pt x="489" y="22"/>
                </a:cubicBezTo>
                <a:cubicBezTo>
                  <a:pt x="472" y="22"/>
                  <a:pt x="472" y="0"/>
                  <a:pt x="454" y="0"/>
                </a:cubicBezTo>
                <a:cubicBezTo>
                  <a:pt x="437" y="0"/>
                  <a:pt x="437" y="22"/>
                  <a:pt x="419" y="22"/>
                </a:cubicBezTo>
                <a:cubicBezTo>
                  <a:pt x="402" y="22"/>
                  <a:pt x="402" y="0"/>
                  <a:pt x="385" y="0"/>
                </a:cubicBezTo>
                <a:cubicBezTo>
                  <a:pt x="367" y="0"/>
                  <a:pt x="367" y="22"/>
                  <a:pt x="350" y="22"/>
                </a:cubicBezTo>
                <a:cubicBezTo>
                  <a:pt x="333" y="22"/>
                  <a:pt x="333" y="0"/>
                  <a:pt x="315" y="0"/>
                </a:cubicBezTo>
                <a:cubicBezTo>
                  <a:pt x="298" y="0"/>
                  <a:pt x="298" y="22"/>
                  <a:pt x="280" y="22"/>
                </a:cubicBezTo>
                <a:cubicBezTo>
                  <a:pt x="263" y="22"/>
                  <a:pt x="263" y="0"/>
                  <a:pt x="246" y="0"/>
                </a:cubicBezTo>
                <a:cubicBezTo>
                  <a:pt x="228" y="0"/>
                  <a:pt x="228" y="22"/>
                  <a:pt x="211" y="22"/>
                </a:cubicBezTo>
                <a:cubicBezTo>
                  <a:pt x="194" y="22"/>
                  <a:pt x="194" y="0"/>
                  <a:pt x="176" y="0"/>
                </a:cubicBezTo>
                <a:cubicBezTo>
                  <a:pt x="159" y="0"/>
                  <a:pt x="159" y="22"/>
                  <a:pt x="141" y="22"/>
                </a:cubicBezTo>
                <a:cubicBezTo>
                  <a:pt x="124" y="22"/>
                  <a:pt x="124" y="0"/>
                  <a:pt x="107" y="0"/>
                </a:cubicBezTo>
                <a:cubicBezTo>
                  <a:pt x="89" y="0"/>
                  <a:pt x="89" y="22"/>
                  <a:pt x="72" y="22"/>
                </a:cubicBezTo>
                <a:cubicBezTo>
                  <a:pt x="55" y="22"/>
                  <a:pt x="55" y="0"/>
                  <a:pt x="37" y="0"/>
                </a:cubicBezTo>
                <a:cubicBezTo>
                  <a:pt x="20" y="0"/>
                  <a:pt x="20" y="22"/>
                  <a:pt x="2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5"/>
                  <a:pt x="0" y="35"/>
                  <a:pt x="0" y="35"/>
                </a:cubicBezTo>
                <a:cubicBezTo>
                  <a:pt x="1393" y="35"/>
                  <a:pt x="1393" y="35"/>
                  <a:pt x="1393" y="35"/>
                </a:cubicBezTo>
                <a:cubicBezTo>
                  <a:pt x="1393" y="22"/>
                  <a:pt x="1393" y="22"/>
                  <a:pt x="1393" y="22"/>
                </a:cubicBezTo>
                <a:cubicBezTo>
                  <a:pt x="1376" y="22"/>
                  <a:pt x="1376" y="0"/>
                  <a:pt x="1358" y="0"/>
                </a:cubicBezTo>
                <a:close/>
              </a:path>
            </a:pathLst>
          </a:custGeom>
          <a:solidFill>
            <a:srgbClr val="005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MH_Number_1"/>
          <p:cNvSpPr/>
          <p:nvPr/>
        </p:nvSpPr>
        <p:spPr>
          <a:xfrm flipH="1">
            <a:off x="480960" y="1498680"/>
            <a:ext cx="2610000" cy="2608200"/>
          </a:xfrm>
          <a:prstGeom prst="roundRect">
            <a:avLst>
              <a:gd name="adj" fmla="val 16667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MH_Entry_1"/>
          <p:cNvSpPr/>
          <p:nvPr/>
        </p:nvSpPr>
        <p:spPr>
          <a:xfrm flipH="1">
            <a:off x="3368520" y="1498680"/>
            <a:ext cx="6353280" cy="965160"/>
          </a:xfrm>
          <a:prstGeom prst="roundRect">
            <a:avLst>
              <a:gd name="adj" fmla="val 16667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108"/>
          <p:cNvSpPr/>
          <p:nvPr/>
        </p:nvSpPr>
        <p:spPr>
          <a:xfrm>
            <a:off x="3992040" y="27273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95be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895be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109"/>
          <p:cNvSpPr/>
          <p:nvPr/>
        </p:nvSpPr>
        <p:spPr>
          <a:xfrm>
            <a:off x="3992040" y="32529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95be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0895be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110"/>
          <p:cNvSpPr/>
          <p:nvPr/>
        </p:nvSpPr>
        <p:spPr>
          <a:xfrm>
            <a:off x="3992040" y="373680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95be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0895be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直接连接符 13"/>
          <p:cNvSpPr/>
          <p:nvPr/>
        </p:nvSpPr>
        <p:spPr>
          <a:xfrm>
            <a:off x="1481040" y="3429000"/>
            <a:ext cx="9144000" cy="0"/>
          </a:xfrm>
          <a:prstGeom prst="line">
            <a:avLst/>
          </a:prstGeom>
          <a:ln w="223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45"/>
          <p:cNvSpPr/>
          <p:nvPr/>
        </p:nvSpPr>
        <p:spPr>
          <a:xfrm>
            <a:off x="3094200" y="3038400"/>
            <a:ext cx="812520" cy="403200"/>
          </a:xfrm>
          <a:prstGeom prst="rect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46"/>
          <p:cNvSpPr/>
          <p:nvPr/>
        </p:nvSpPr>
        <p:spPr>
          <a:xfrm>
            <a:off x="5686560" y="3038400"/>
            <a:ext cx="812520" cy="403200"/>
          </a:xfrm>
          <a:prstGeom prst="rect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47"/>
          <p:cNvSpPr/>
          <p:nvPr/>
        </p:nvSpPr>
        <p:spPr>
          <a:xfrm>
            <a:off x="8280360" y="3038400"/>
            <a:ext cx="812880" cy="403200"/>
          </a:xfrm>
          <a:prstGeom prst="rect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矩形 48"/>
          <p:cNvSpPr/>
          <p:nvPr/>
        </p:nvSpPr>
        <p:spPr>
          <a:xfrm>
            <a:off x="4390920" y="3419640"/>
            <a:ext cx="812880" cy="401400"/>
          </a:xfrm>
          <a:prstGeom prst="rect">
            <a:avLst/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49"/>
          <p:cNvSpPr/>
          <p:nvPr/>
        </p:nvSpPr>
        <p:spPr>
          <a:xfrm>
            <a:off x="6983280" y="3419640"/>
            <a:ext cx="812880" cy="401400"/>
          </a:xfrm>
          <a:prstGeom prst="rect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50"/>
          <p:cNvSpPr/>
          <p:nvPr/>
        </p:nvSpPr>
        <p:spPr>
          <a:xfrm>
            <a:off x="2641680" y="2036880"/>
            <a:ext cx="17110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51"/>
          <p:cNvSpPr/>
          <p:nvPr/>
        </p:nvSpPr>
        <p:spPr>
          <a:xfrm>
            <a:off x="522144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52"/>
          <p:cNvSpPr/>
          <p:nvPr/>
        </p:nvSpPr>
        <p:spPr>
          <a:xfrm>
            <a:off x="779940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53"/>
          <p:cNvSpPr/>
          <p:nvPr/>
        </p:nvSpPr>
        <p:spPr>
          <a:xfrm>
            <a:off x="391176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54"/>
          <p:cNvSpPr/>
          <p:nvPr/>
        </p:nvSpPr>
        <p:spPr>
          <a:xfrm>
            <a:off x="656280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7CB7-75F3-47D3-9BE6-98192648086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5"/>
          <p:cNvSpPr/>
          <p:nvPr/>
        </p:nvSpPr>
        <p:spPr>
          <a:xfrm>
            <a:off x="4799160" y="2298600"/>
            <a:ext cx="2619360" cy="3044880"/>
          </a:xfrm>
          <a:custGeom>
            <a:avLst/>
            <a:gdLst>
              <a:gd name="textAreaLeft" fmla="*/ 0 w 2619360"/>
              <a:gd name="textAreaRight" fmla="*/ 2619720 w 2619360"/>
              <a:gd name="textAreaTop" fmla="*/ 0 h 3044880"/>
              <a:gd name="textAreaBottom" fmla="*/ 3045240 h 3044880"/>
            </a:gdLst>
            <a:ahLst/>
            <a:rect l="textAreaLeft" t="textAreaTop" r="textAreaRight" b="textAreaBottom"/>
            <a:pathLst>
              <a:path w="5977" h="6949">
                <a:moveTo>
                  <a:pt x="2785" y="0"/>
                </a:moveTo>
                <a:cubicBezTo>
                  <a:pt x="2841" y="42"/>
                  <a:pt x="2858" y="134"/>
                  <a:pt x="2880" y="366"/>
                </a:cubicBezTo>
                <a:cubicBezTo>
                  <a:pt x="2910" y="674"/>
                  <a:pt x="2891" y="857"/>
                  <a:pt x="2760" y="1513"/>
                </a:cubicBezTo>
                <a:cubicBezTo>
                  <a:pt x="2638" y="2133"/>
                  <a:pt x="2639" y="2130"/>
                  <a:pt x="2537" y="1873"/>
                </a:cubicBezTo>
                <a:cubicBezTo>
                  <a:pt x="2413" y="1562"/>
                  <a:pt x="2149" y="1060"/>
                  <a:pt x="1997" y="847"/>
                </a:cubicBezTo>
                <a:cubicBezTo>
                  <a:pt x="1912" y="730"/>
                  <a:pt x="1834" y="619"/>
                  <a:pt x="1824" y="603"/>
                </a:cubicBezTo>
                <a:cubicBezTo>
                  <a:pt x="1821" y="599"/>
                  <a:pt x="1822" y="588"/>
                  <a:pt x="1825" y="573"/>
                </a:cubicBezTo>
                <a:cubicBezTo>
                  <a:pt x="1802" y="607"/>
                  <a:pt x="1779" y="639"/>
                  <a:pt x="1753" y="670"/>
                </a:cubicBezTo>
                <a:cubicBezTo>
                  <a:pt x="1818" y="723"/>
                  <a:pt x="2054" y="1118"/>
                  <a:pt x="2190" y="1400"/>
                </a:cubicBezTo>
                <a:cubicBezTo>
                  <a:pt x="2346" y="1724"/>
                  <a:pt x="2539" y="2359"/>
                  <a:pt x="2538" y="2541"/>
                </a:cubicBezTo>
                <a:cubicBezTo>
                  <a:pt x="2537" y="2685"/>
                  <a:pt x="2494" y="2855"/>
                  <a:pt x="2446" y="2903"/>
                </a:cubicBezTo>
                <a:cubicBezTo>
                  <a:pt x="2409" y="2940"/>
                  <a:pt x="2382" y="2926"/>
                  <a:pt x="2222" y="2790"/>
                </a:cubicBezTo>
                <a:cubicBezTo>
                  <a:pt x="1978" y="2584"/>
                  <a:pt x="1756" y="2436"/>
                  <a:pt x="1436" y="2266"/>
                </a:cubicBezTo>
                <a:cubicBezTo>
                  <a:pt x="1187" y="2133"/>
                  <a:pt x="694" y="1925"/>
                  <a:pt x="535" y="1885"/>
                </a:cubicBezTo>
                <a:cubicBezTo>
                  <a:pt x="470" y="1868"/>
                  <a:pt x="435" y="1856"/>
                  <a:pt x="420" y="1823"/>
                </a:cubicBezTo>
                <a:cubicBezTo>
                  <a:pt x="408" y="1868"/>
                  <a:pt x="393" y="1913"/>
                  <a:pt x="376" y="1956"/>
                </a:cubicBezTo>
                <a:cubicBezTo>
                  <a:pt x="383" y="1953"/>
                  <a:pt x="389" y="1951"/>
                  <a:pt x="395" y="1951"/>
                </a:cubicBezTo>
                <a:cubicBezTo>
                  <a:pt x="549" y="1951"/>
                  <a:pt x="1204" y="2247"/>
                  <a:pt x="1565" y="2480"/>
                </a:cubicBezTo>
                <a:cubicBezTo>
                  <a:pt x="1801" y="2632"/>
                  <a:pt x="2168" y="2981"/>
                  <a:pt x="2287" y="3167"/>
                </a:cubicBezTo>
                <a:cubicBezTo>
                  <a:pt x="2358" y="3279"/>
                  <a:pt x="2375" y="3338"/>
                  <a:pt x="2389" y="3537"/>
                </a:cubicBezTo>
                <a:cubicBezTo>
                  <a:pt x="2407" y="3784"/>
                  <a:pt x="2356" y="4253"/>
                  <a:pt x="2309" y="4282"/>
                </a:cubicBezTo>
                <a:cubicBezTo>
                  <a:pt x="2294" y="4291"/>
                  <a:pt x="2216" y="4272"/>
                  <a:pt x="2135" y="4240"/>
                </a:cubicBezTo>
                <a:cubicBezTo>
                  <a:pt x="1771" y="4095"/>
                  <a:pt x="1129" y="3975"/>
                  <a:pt x="401" y="3915"/>
                </a:cubicBezTo>
                <a:cubicBezTo>
                  <a:pt x="234" y="3901"/>
                  <a:pt x="89" y="3886"/>
                  <a:pt x="12" y="3875"/>
                </a:cubicBezTo>
                <a:cubicBezTo>
                  <a:pt x="12" y="3877"/>
                  <a:pt x="12" y="3878"/>
                  <a:pt x="12" y="3880"/>
                </a:cubicBezTo>
                <a:cubicBezTo>
                  <a:pt x="12" y="3939"/>
                  <a:pt x="8" y="3997"/>
                  <a:pt x="0" y="4054"/>
                </a:cubicBezTo>
                <a:lnTo>
                  <a:pt x="229" y="4057"/>
                </a:lnTo>
                <a:cubicBezTo>
                  <a:pt x="1035" y="4066"/>
                  <a:pt x="1849" y="4284"/>
                  <a:pt x="2184" y="4580"/>
                </a:cubicBezTo>
                <a:cubicBezTo>
                  <a:pt x="2296" y="4678"/>
                  <a:pt x="2311" y="4707"/>
                  <a:pt x="2329" y="4848"/>
                </a:cubicBezTo>
                <a:cubicBezTo>
                  <a:pt x="2353" y="5035"/>
                  <a:pt x="2303" y="5720"/>
                  <a:pt x="2243" y="6033"/>
                </a:cubicBezTo>
                <a:cubicBezTo>
                  <a:pt x="2219" y="6155"/>
                  <a:pt x="2177" y="6286"/>
                  <a:pt x="2148" y="6324"/>
                </a:cubicBezTo>
                <a:cubicBezTo>
                  <a:pt x="2078" y="6419"/>
                  <a:pt x="1739" y="6599"/>
                  <a:pt x="1565" y="6635"/>
                </a:cubicBezTo>
                <a:cubicBezTo>
                  <a:pt x="1488" y="6651"/>
                  <a:pt x="1312" y="6682"/>
                  <a:pt x="1175" y="6704"/>
                </a:cubicBezTo>
                <a:cubicBezTo>
                  <a:pt x="1037" y="6727"/>
                  <a:pt x="917" y="6752"/>
                  <a:pt x="908" y="6761"/>
                </a:cubicBezTo>
                <a:cubicBezTo>
                  <a:pt x="846" y="6823"/>
                  <a:pt x="1154" y="6882"/>
                  <a:pt x="1733" y="6919"/>
                </a:cubicBezTo>
                <a:cubicBezTo>
                  <a:pt x="2214" y="6949"/>
                  <a:pt x="3600" y="6930"/>
                  <a:pt x="3978" y="6888"/>
                </a:cubicBezTo>
                <a:cubicBezTo>
                  <a:pt x="4141" y="6870"/>
                  <a:pt x="4313" y="6840"/>
                  <a:pt x="4359" y="6821"/>
                </a:cubicBezTo>
                <a:lnTo>
                  <a:pt x="4444" y="6786"/>
                </a:lnTo>
                <a:lnTo>
                  <a:pt x="4380" y="6752"/>
                </a:lnTo>
                <a:cubicBezTo>
                  <a:pt x="4344" y="6733"/>
                  <a:pt x="4169" y="6699"/>
                  <a:pt x="3990" y="6677"/>
                </a:cubicBezTo>
                <a:cubicBezTo>
                  <a:pt x="3636" y="6633"/>
                  <a:pt x="3384" y="6538"/>
                  <a:pt x="3223" y="6387"/>
                </a:cubicBezTo>
                <a:cubicBezTo>
                  <a:pt x="3147" y="6317"/>
                  <a:pt x="3136" y="6284"/>
                  <a:pt x="3121" y="6098"/>
                </a:cubicBezTo>
                <a:cubicBezTo>
                  <a:pt x="3098" y="5808"/>
                  <a:pt x="3092" y="5584"/>
                  <a:pt x="3098" y="5147"/>
                </a:cubicBezTo>
                <a:lnTo>
                  <a:pt x="3103" y="4773"/>
                </a:lnTo>
                <a:lnTo>
                  <a:pt x="3201" y="4665"/>
                </a:lnTo>
                <a:cubicBezTo>
                  <a:pt x="3389" y="4458"/>
                  <a:pt x="3879" y="4281"/>
                  <a:pt x="4614" y="4157"/>
                </a:cubicBezTo>
                <a:cubicBezTo>
                  <a:pt x="4997" y="4092"/>
                  <a:pt x="5912" y="4000"/>
                  <a:pt x="5966" y="4021"/>
                </a:cubicBezTo>
                <a:cubicBezTo>
                  <a:pt x="5969" y="4022"/>
                  <a:pt x="5973" y="4026"/>
                  <a:pt x="5977" y="4030"/>
                </a:cubicBezTo>
                <a:cubicBezTo>
                  <a:pt x="5971" y="3983"/>
                  <a:pt x="5968" y="3935"/>
                  <a:pt x="5968" y="3887"/>
                </a:cubicBezTo>
                <a:cubicBezTo>
                  <a:pt x="5968" y="3867"/>
                  <a:pt x="5969" y="3848"/>
                  <a:pt x="5970" y="3829"/>
                </a:cubicBezTo>
                <a:cubicBezTo>
                  <a:pt x="5961" y="3854"/>
                  <a:pt x="5951" y="3871"/>
                  <a:pt x="5942" y="3877"/>
                </a:cubicBezTo>
                <a:cubicBezTo>
                  <a:pt x="5925" y="3888"/>
                  <a:pt x="5821" y="3898"/>
                  <a:pt x="5710" y="3898"/>
                </a:cubicBezTo>
                <a:cubicBezTo>
                  <a:pt x="5247" y="3899"/>
                  <a:pt x="4355" y="4013"/>
                  <a:pt x="3586" y="4169"/>
                </a:cubicBezTo>
                <a:cubicBezTo>
                  <a:pt x="3302" y="4226"/>
                  <a:pt x="3085" y="4257"/>
                  <a:pt x="3071" y="4243"/>
                </a:cubicBezTo>
                <a:cubicBezTo>
                  <a:pt x="3043" y="4215"/>
                  <a:pt x="2962" y="3612"/>
                  <a:pt x="2962" y="3431"/>
                </a:cubicBezTo>
                <a:cubicBezTo>
                  <a:pt x="2962" y="3287"/>
                  <a:pt x="3037" y="3185"/>
                  <a:pt x="3308" y="2959"/>
                </a:cubicBezTo>
                <a:cubicBezTo>
                  <a:pt x="3708" y="2626"/>
                  <a:pt x="4264" y="2412"/>
                  <a:pt x="5130" y="2260"/>
                </a:cubicBezTo>
                <a:lnTo>
                  <a:pt x="5462" y="2202"/>
                </a:lnTo>
                <a:cubicBezTo>
                  <a:pt x="5441" y="2169"/>
                  <a:pt x="5420" y="2136"/>
                  <a:pt x="5403" y="2101"/>
                </a:cubicBezTo>
                <a:cubicBezTo>
                  <a:pt x="5400" y="2110"/>
                  <a:pt x="5397" y="2116"/>
                  <a:pt x="5391" y="2119"/>
                </a:cubicBezTo>
                <a:cubicBezTo>
                  <a:pt x="5374" y="2130"/>
                  <a:pt x="5204" y="2161"/>
                  <a:pt x="5015" y="2189"/>
                </a:cubicBezTo>
                <a:cubicBezTo>
                  <a:pt x="4603" y="2249"/>
                  <a:pt x="4090" y="2371"/>
                  <a:pt x="3824" y="2471"/>
                </a:cubicBezTo>
                <a:cubicBezTo>
                  <a:pt x="3718" y="2511"/>
                  <a:pt x="3480" y="2623"/>
                  <a:pt x="3296" y="2720"/>
                </a:cubicBezTo>
                <a:cubicBezTo>
                  <a:pt x="2967" y="2892"/>
                  <a:pt x="2959" y="2895"/>
                  <a:pt x="2916" y="2840"/>
                </a:cubicBezTo>
                <a:cubicBezTo>
                  <a:pt x="2888" y="2802"/>
                  <a:pt x="2878" y="2747"/>
                  <a:pt x="2887" y="2673"/>
                </a:cubicBezTo>
                <a:cubicBezTo>
                  <a:pt x="2899" y="2585"/>
                  <a:pt x="2938" y="2526"/>
                  <a:pt x="3083" y="2377"/>
                </a:cubicBezTo>
                <a:cubicBezTo>
                  <a:pt x="3474" y="1976"/>
                  <a:pt x="3779" y="1561"/>
                  <a:pt x="3990" y="1139"/>
                </a:cubicBezTo>
                <a:cubicBezTo>
                  <a:pt x="4014" y="1091"/>
                  <a:pt x="4038" y="1048"/>
                  <a:pt x="4059" y="1013"/>
                </a:cubicBezTo>
                <a:cubicBezTo>
                  <a:pt x="4029" y="994"/>
                  <a:pt x="4001" y="975"/>
                  <a:pt x="3973" y="953"/>
                </a:cubicBezTo>
                <a:cubicBezTo>
                  <a:pt x="3895" y="1157"/>
                  <a:pt x="3635" y="1579"/>
                  <a:pt x="3418" y="1832"/>
                </a:cubicBezTo>
                <a:cubicBezTo>
                  <a:pt x="3264" y="2012"/>
                  <a:pt x="2893" y="2318"/>
                  <a:pt x="2830" y="2318"/>
                </a:cubicBezTo>
                <a:cubicBezTo>
                  <a:pt x="2793" y="2318"/>
                  <a:pt x="2789" y="2289"/>
                  <a:pt x="2806" y="2127"/>
                </a:cubicBezTo>
                <a:cubicBezTo>
                  <a:pt x="2817" y="2022"/>
                  <a:pt x="2845" y="1835"/>
                  <a:pt x="2867" y="1711"/>
                </a:cubicBezTo>
                <a:cubicBezTo>
                  <a:pt x="2974" y="1120"/>
                  <a:pt x="2996" y="891"/>
                  <a:pt x="2979" y="540"/>
                </a:cubicBezTo>
                <a:cubicBezTo>
                  <a:pt x="2970" y="346"/>
                  <a:pt x="2955" y="140"/>
                  <a:pt x="2946" y="84"/>
                </a:cubicBezTo>
                <a:lnTo>
                  <a:pt x="2932" y="1"/>
                </a:lnTo>
                <a:cubicBezTo>
                  <a:pt x="2909" y="2"/>
                  <a:pt x="2886" y="3"/>
                  <a:pt x="2863" y="3"/>
                </a:cubicBezTo>
                <a:cubicBezTo>
                  <a:pt x="2836" y="3"/>
                  <a:pt x="2811" y="2"/>
                  <a:pt x="2785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橢圓 3"/>
          <p:cNvSpPr/>
          <p:nvPr/>
        </p:nvSpPr>
        <p:spPr>
          <a:xfrm>
            <a:off x="4143240" y="3635280"/>
            <a:ext cx="711360" cy="712800"/>
          </a:xfrm>
          <a:prstGeom prst="ellipse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橢圓 4"/>
          <p:cNvSpPr/>
          <p:nvPr/>
        </p:nvSpPr>
        <p:spPr>
          <a:xfrm>
            <a:off x="4338720" y="2673360"/>
            <a:ext cx="7128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橢圓 5"/>
          <p:cNvSpPr/>
          <p:nvPr/>
        </p:nvSpPr>
        <p:spPr>
          <a:xfrm>
            <a:off x="4959360" y="2143080"/>
            <a:ext cx="714240" cy="711360"/>
          </a:xfrm>
          <a:prstGeom prst="ellipse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橢圓 6"/>
          <p:cNvSpPr/>
          <p:nvPr/>
        </p:nvSpPr>
        <p:spPr>
          <a:xfrm>
            <a:off x="5751360" y="1708200"/>
            <a:ext cx="712800" cy="7128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橢圓 7"/>
          <p:cNvSpPr/>
          <p:nvPr/>
        </p:nvSpPr>
        <p:spPr>
          <a:xfrm>
            <a:off x="6464160" y="2295360"/>
            <a:ext cx="714600" cy="712800"/>
          </a:xfrm>
          <a:prstGeom prst="ellipse">
            <a:avLst/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橢圓 8"/>
          <p:cNvSpPr/>
          <p:nvPr/>
        </p:nvSpPr>
        <p:spPr>
          <a:xfrm>
            <a:off x="7061040" y="2914560"/>
            <a:ext cx="7146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橢圓 9"/>
          <p:cNvSpPr/>
          <p:nvPr/>
        </p:nvSpPr>
        <p:spPr>
          <a:xfrm>
            <a:off x="7176960" y="3822840"/>
            <a:ext cx="711360" cy="711000"/>
          </a:xfrm>
          <a:prstGeom prst="ellipse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文本框 26"/>
          <p:cNvSpPr/>
          <p:nvPr/>
        </p:nvSpPr>
        <p:spPr>
          <a:xfrm>
            <a:off x="815328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27"/>
          <p:cNvSpPr/>
          <p:nvPr/>
        </p:nvSpPr>
        <p:spPr>
          <a:xfrm>
            <a:off x="303192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8"/>
          <p:cNvSpPr/>
          <p:nvPr/>
        </p:nvSpPr>
        <p:spPr>
          <a:xfrm>
            <a:off x="74739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19"/>
          <p:cNvSpPr/>
          <p:nvPr/>
        </p:nvSpPr>
        <p:spPr>
          <a:xfrm>
            <a:off x="38217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KSO_Shape"/>
          <p:cNvSpPr/>
          <p:nvPr/>
        </p:nvSpPr>
        <p:spPr>
          <a:xfrm>
            <a:off x="4268880" y="3800520"/>
            <a:ext cx="458640" cy="385560"/>
          </a:xfrm>
          <a:custGeom>
            <a:avLst/>
            <a:gdLst>
              <a:gd name="textAreaLeft" fmla="*/ 0 w 458640"/>
              <a:gd name="textAreaRight" fmla="*/ 459000 w 458640"/>
              <a:gd name="textAreaTop" fmla="*/ 0 h 385560"/>
              <a:gd name="textAreaBottom" fmla="*/ 385920 h 385560"/>
            </a:gdLst>
            <a:ahLst/>
            <a:rect l="textAreaLeft" t="textAreaTop" r="textAreaRight" b="textAreaBottom"/>
            <a:pathLst>
              <a:path w="2300288" h="1936750">
                <a:moveTo>
                  <a:pt x="1352860" y="1166813"/>
                </a:moveTo>
                <a:lnTo>
                  <a:pt x="1355725" y="1166813"/>
                </a:lnTo>
                <a:lnTo>
                  <a:pt x="1358272" y="1166813"/>
                </a:lnTo>
                <a:lnTo>
                  <a:pt x="1361456" y="1167131"/>
                </a:lnTo>
                <a:lnTo>
                  <a:pt x="1364003" y="1168083"/>
                </a:lnTo>
                <a:lnTo>
                  <a:pt x="1366869" y="1168718"/>
                </a:lnTo>
                <a:lnTo>
                  <a:pt x="1369416" y="1170306"/>
                </a:lnTo>
                <a:lnTo>
                  <a:pt x="1371644" y="1171258"/>
                </a:lnTo>
                <a:lnTo>
                  <a:pt x="1374192" y="1173163"/>
                </a:lnTo>
                <a:lnTo>
                  <a:pt x="1376420" y="1175386"/>
                </a:lnTo>
                <a:lnTo>
                  <a:pt x="1461429" y="1260158"/>
                </a:lnTo>
                <a:lnTo>
                  <a:pt x="1463339" y="1262381"/>
                </a:lnTo>
                <a:lnTo>
                  <a:pt x="1465249" y="1264603"/>
                </a:lnTo>
                <a:lnTo>
                  <a:pt x="1466841" y="1267143"/>
                </a:lnTo>
                <a:lnTo>
                  <a:pt x="1467797" y="1269683"/>
                </a:lnTo>
                <a:lnTo>
                  <a:pt x="1469070" y="1272223"/>
                </a:lnTo>
                <a:lnTo>
                  <a:pt x="1469388" y="1275081"/>
                </a:lnTo>
                <a:lnTo>
                  <a:pt x="1469707" y="1277938"/>
                </a:lnTo>
                <a:lnTo>
                  <a:pt x="1470025" y="1280478"/>
                </a:lnTo>
                <a:lnTo>
                  <a:pt x="1469707" y="1283336"/>
                </a:lnTo>
                <a:lnTo>
                  <a:pt x="1469388" y="1285876"/>
                </a:lnTo>
                <a:lnTo>
                  <a:pt x="1469070" y="1289051"/>
                </a:lnTo>
                <a:lnTo>
                  <a:pt x="1467797" y="1291591"/>
                </a:lnTo>
                <a:lnTo>
                  <a:pt x="1466841" y="1294131"/>
                </a:lnTo>
                <a:lnTo>
                  <a:pt x="1465249" y="1296671"/>
                </a:lnTo>
                <a:lnTo>
                  <a:pt x="1463339" y="1298893"/>
                </a:lnTo>
                <a:lnTo>
                  <a:pt x="1461429" y="1301116"/>
                </a:lnTo>
                <a:lnTo>
                  <a:pt x="1390111" y="1372236"/>
                </a:lnTo>
                <a:lnTo>
                  <a:pt x="1396160" y="1386206"/>
                </a:lnTo>
                <a:lnTo>
                  <a:pt x="1401573" y="1402081"/>
                </a:lnTo>
                <a:lnTo>
                  <a:pt x="1407304" y="1420178"/>
                </a:lnTo>
                <a:lnTo>
                  <a:pt x="1412716" y="1439228"/>
                </a:lnTo>
                <a:lnTo>
                  <a:pt x="1418447" y="1460501"/>
                </a:lnTo>
                <a:lnTo>
                  <a:pt x="1423541" y="1483043"/>
                </a:lnTo>
                <a:lnTo>
                  <a:pt x="1428317" y="1506538"/>
                </a:lnTo>
                <a:lnTo>
                  <a:pt x="1433093" y="1531938"/>
                </a:lnTo>
                <a:lnTo>
                  <a:pt x="1437550" y="1558608"/>
                </a:lnTo>
                <a:lnTo>
                  <a:pt x="1441689" y="1586231"/>
                </a:lnTo>
                <a:lnTo>
                  <a:pt x="1445191" y="1614806"/>
                </a:lnTo>
                <a:lnTo>
                  <a:pt x="1448693" y="1644651"/>
                </a:lnTo>
                <a:lnTo>
                  <a:pt x="1451559" y="1675448"/>
                </a:lnTo>
                <a:lnTo>
                  <a:pt x="1454106" y="1707516"/>
                </a:lnTo>
                <a:lnTo>
                  <a:pt x="1456016" y="1739901"/>
                </a:lnTo>
                <a:lnTo>
                  <a:pt x="1457608" y="1773238"/>
                </a:lnTo>
                <a:lnTo>
                  <a:pt x="1254161" y="1773238"/>
                </a:lnTo>
                <a:lnTo>
                  <a:pt x="1255753" y="1739901"/>
                </a:lnTo>
                <a:lnTo>
                  <a:pt x="1257344" y="1707516"/>
                </a:lnTo>
                <a:lnTo>
                  <a:pt x="1260210" y="1675448"/>
                </a:lnTo>
                <a:lnTo>
                  <a:pt x="1263075" y="1644651"/>
                </a:lnTo>
                <a:lnTo>
                  <a:pt x="1266259" y="1614806"/>
                </a:lnTo>
                <a:lnTo>
                  <a:pt x="1270080" y="1586231"/>
                </a:lnTo>
                <a:lnTo>
                  <a:pt x="1274219" y="1558608"/>
                </a:lnTo>
                <a:lnTo>
                  <a:pt x="1278676" y="1531938"/>
                </a:lnTo>
                <a:lnTo>
                  <a:pt x="1283452" y="1506538"/>
                </a:lnTo>
                <a:lnTo>
                  <a:pt x="1288228" y="1483043"/>
                </a:lnTo>
                <a:lnTo>
                  <a:pt x="1293322" y="1460501"/>
                </a:lnTo>
                <a:lnTo>
                  <a:pt x="1298734" y="1439228"/>
                </a:lnTo>
                <a:lnTo>
                  <a:pt x="1304465" y="1419861"/>
                </a:lnTo>
                <a:lnTo>
                  <a:pt x="1309878" y="1402081"/>
                </a:lnTo>
                <a:lnTo>
                  <a:pt x="1315609" y="1386206"/>
                </a:lnTo>
                <a:lnTo>
                  <a:pt x="1321340" y="1371918"/>
                </a:lnTo>
                <a:lnTo>
                  <a:pt x="1250022" y="1301116"/>
                </a:lnTo>
                <a:lnTo>
                  <a:pt x="1248111" y="1298893"/>
                </a:lnTo>
                <a:lnTo>
                  <a:pt x="1246519" y="1296671"/>
                </a:lnTo>
                <a:lnTo>
                  <a:pt x="1244927" y="1294131"/>
                </a:lnTo>
                <a:lnTo>
                  <a:pt x="1243654" y="1291591"/>
                </a:lnTo>
                <a:lnTo>
                  <a:pt x="1242699" y="1289051"/>
                </a:lnTo>
                <a:lnTo>
                  <a:pt x="1242380" y="1285876"/>
                </a:lnTo>
                <a:lnTo>
                  <a:pt x="1242062" y="1283336"/>
                </a:lnTo>
                <a:lnTo>
                  <a:pt x="1241425" y="1280478"/>
                </a:lnTo>
                <a:lnTo>
                  <a:pt x="1242062" y="1277938"/>
                </a:lnTo>
                <a:lnTo>
                  <a:pt x="1242380" y="1275081"/>
                </a:lnTo>
                <a:lnTo>
                  <a:pt x="1243017" y="1272223"/>
                </a:lnTo>
                <a:lnTo>
                  <a:pt x="1243654" y="1269683"/>
                </a:lnTo>
                <a:lnTo>
                  <a:pt x="1244927" y="1267143"/>
                </a:lnTo>
                <a:lnTo>
                  <a:pt x="1246519" y="1264603"/>
                </a:lnTo>
                <a:lnTo>
                  <a:pt x="1248111" y="1262381"/>
                </a:lnTo>
                <a:lnTo>
                  <a:pt x="1250340" y="1260158"/>
                </a:lnTo>
                <a:lnTo>
                  <a:pt x="1335030" y="1175386"/>
                </a:lnTo>
                <a:lnTo>
                  <a:pt x="1337259" y="1173163"/>
                </a:lnTo>
                <a:lnTo>
                  <a:pt x="1339806" y="1171258"/>
                </a:lnTo>
                <a:lnTo>
                  <a:pt x="1342035" y="1170306"/>
                </a:lnTo>
                <a:lnTo>
                  <a:pt x="1344582" y="1168718"/>
                </a:lnTo>
                <a:lnTo>
                  <a:pt x="1347766" y="1168083"/>
                </a:lnTo>
                <a:lnTo>
                  <a:pt x="1350313" y="1167131"/>
                </a:lnTo>
                <a:lnTo>
                  <a:pt x="1352860" y="1166813"/>
                </a:lnTo>
                <a:close/>
                <a:moveTo>
                  <a:pt x="1634223" y="1009650"/>
                </a:moveTo>
                <a:lnTo>
                  <a:pt x="1652963" y="1018533"/>
                </a:lnTo>
                <a:lnTo>
                  <a:pt x="1672339" y="1027098"/>
                </a:lnTo>
                <a:lnTo>
                  <a:pt x="1691079" y="1034712"/>
                </a:lnTo>
                <a:lnTo>
                  <a:pt x="1709819" y="1042326"/>
                </a:lnTo>
                <a:lnTo>
                  <a:pt x="1728241" y="1049939"/>
                </a:lnTo>
                <a:lnTo>
                  <a:pt x="1746663" y="1057236"/>
                </a:lnTo>
                <a:lnTo>
                  <a:pt x="1783191" y="1070560"/>
                </a:lnTo>
                <a:lnTo>
                  <a:pt x="1819083" y="1082932"/>
                </a:lnTo>
                <a:lnTo>
                  <a:pt x="1854022" y="1094670"/>
                </a:lnTo>
                <a:lnTo>
                  <a:pt x="1888325" y="1105773"/>
                </a:lnTo>
                <a:lnTo>
                  <a:pt x="1921994" y="1116242"/>
                </a:lnTo>
                <a:lnTo>
                  <a:pt x="1986155" y="1136545"/>
                </a:lnTo>
                <a:lnTo>
                  <a:pt x="2017282" y="1146379"/>
                </a:lnTo>
                <a:lnTo>
                  <a:pt x="2046821" y="1156213"/>
                </a:lnTo>
                <a:lnTo>
                  <a:pt x="2075408" y="1166682"/>
                </a:lnTo>
                <a:lnTo>
                  <a:pt x="2103042" y="1176834"/>
                </a:lnTo>
                <a:lnTo>
                  <a:pt x="2116700" y="1182544"/>
                </a:lnTo>
                <a:lnTo>
                  <a:pt x="2129722" y="1187937"/>
                </a:lnTo>
                <a:lnTo>
                  <a:pt x="2142427" y="1193965"/>
                </a:lnTo>
                <a:lnTo>
                  <a:pt x="2155132" y="1199675"/>
                </a:lnTo>
                <a:lnTo>
                  <a:pt x="2161167" y="1203164"/>
                </a:lnTo>
                <a:lnTo>
                  <a:pt x="2166885" y="1206337"/>
                </a:lnTo>
                <a:lnTo>
                  <a:pt x="2172920" y="1210461"/>
                </a:lnTo>
                <a:lnTo>
                  <a:pt x="2178319" y="1214585"/>
                </a:lnTo>
                <a:lnTo>
                  <a:pt x="2184037" y="1219026"/>
                </a:lnTo>
                <a:lnTo>
                  <a:pt x="2189119" y="1223785"/>
                </a:lnTo>
                <a:lnTo>
                  <a:pt x="2194201" y="1228861"/>
                </a:lnTo>
                <a:lnTo>
                  <a:pt x="2198965" y="1233936"/>
                </a:lnTo>
                <a:lnTo>
                  <a:pt x="2203729" y="1239647"/>
                </a:lnTo>
                <a:lnTo>
                  <a:pt x="2208494" y="1245357"/>
                </a:lnTo>
                <a:lnTo>
                  <a:pt x="2212941" y="1251384"/>
                </a:lnTo>
                <a:lnTo>
                  <a:pt x="2217387" y="1257729"/>
                </a:lnTo>
                <a:lnTo>
                  <a:pt x="2221517" y="1264391"/>
                </a:lnTo>
                <a:lnTo>
                  <a:pt x="2225646" y="1271053"/>
                </a:lnTo>
                <a:lnTo>
                  <a:pt x="2233269" y="1285011"/>
                </a:lnTo>
                <a:lnTo>
                  <a:pt x="2240257" y="1299287"/>
                </a:lnTo>
                <a:lnTo>
                  <a:pt x="2246927" y="1314832"/>
                </a:lnTo>
                <a:lnTo>
                  <a:pt x="2253279" y="1330693"/>
                </a:lnTo>
                <a:lnTo>
                  <a:pt x="2258679" y="1346555"/>
                </a:lnTo>
                <a:lnTo>
                  <a:pt x="2264079" y="1363052"/>
                </a:lnTo>
                <a:lnTo>
                  <a:pt x="2268843" y="1379865"/>
                </a:lnTo>
                <a:lnTo>
                  <a:pt x="2273290" y="1396996"/>
                </a:lnTo>
                <a:lnTo>
                  <a:pt x="2277101" y="1413809"/>
                </a:lnTo>
                <a:lnTo>
                  <a:pt x="2280595" y="1430940"/>
                </a:lnTo>
                <a:lnTo>
                  <a:pt x="2283772" y="1447754"/>
                </a:lnTo>
                <a:lnTo>
                  <a:pt x="2286948" y="1464567"/>
                </a:lnTo>
                <a:lnTo>
                  <a:pt x="2288854" y="1481381"/>
                </a:lnTo>
                <a:lnTo>
                  <a:pt x="2291077" y="1497243"/>
                </a:lnTo>
                <a:lnTo>
                  <a:pt x="2293300" y="1513104"/>
                </a:lnTo>
                <a:lnTo>
                  <a:pt x="2296477" y="1542925"/>
                </a:lnTo>
                <a:lnTo>
                  <a:pt x="2298382" y="1570207"/>
                </a:lnTo>
                <a:lnTo>
                  <a:pt x="2299653" y="1593682"/>
                </a:lnTo>
                <a:lnTo>
                  <a:pt x="2300288" y="1613351"/>
                </a:lnTo>
                <a:lnTo>
                  <a:pt x="2300288" y="1627944"/>
                </a:lnTo>
                <a:lnTo>
                  <a:pt x="2300288" y="1630799"/>
                </a:lnTo>
                <a:lnTo>
                  <a:pt x="2299653" y="1633971"/>
                </a:lnTo>
                <a:lnTo>
                  <a:pt x="2299018" y="1636827"/>
                </a:lnTo>
                <a:lnTo>
                  <a:pt x="2297430" y="1639999"/>
                </a:lnTo>
                <a:lnTo>
                  <a:pt x="2296159" y="1643171"/>
                </a:lnTo>
                <a:lnTo>
                  <a:pt x="2293936" y="1646344"/>
                </a:lnTo>
                <a:lnTo>
                  <a:pt x="2291077" y="1649199"/>
                </a:lnTo>
                <a:lnTo>
                  <a:pt x="2288536" y="1652688"/>
                </a:lnTo>
                <a:lnTo>
                  <a:pt x="2285360" y="1655544"/>
                </a:lnTo>
                <a:lnTo>
                  <a:pt x="2281548" y="1659033"/>
                </a:lnTo>
                <a:lnTo>
                  <a:pt x="2278054" y="1661888"/>
                </a:lnTo>
                <a:lnTo>
                  <a:pt x="2273608" y="1665061"/>
                </a:lnTo>
                <a:lnTo>
                  <a:pt x="2263443" y="1671405"/>
                </a:lnTo>
                <a:lnTo>
                  <a:pt x="2252644" y="1677750"/>
                </a:lnTo>
                <a:lnTo>
                  <a:pt x="2239621" y="1684095"/>
                </a:lnTo>
                <a:lnTo>
                  <a:pt x="2225328" y="1690122"/>
                </a:lnTo>
                <a:lnTo>
                  <a:pt x="2208811" y="1696150"/>
                </a:lnTo>
                <a:lnTo>
                  <a:pt x="2191660" y="1701860"/>
                </a:lnTo>
                <a:lnTo>
                  <a:pt x="2172602" y="1707888"/>
                </a:lnTo>
                <a:lnTo>
                  <a:pt x="2151639" y="1713915"/>
                </a:lnTo>
                <a:lnTo>
                  <a:pt x="2129722" y="1719308"/>
                </a:lnTo>
                <a:lnTo>
                  <a:pt x="2105900" y="1724384"/>
                </a:lnTo>
                <a:lnTo>
                  <a:pt x="2080490" y="1730094"/>
                </a:lnTo>
                <a:lnTo>
                  <a:pt x="2053809" y="1734853"/>
                </a:lnTo>
                <a:lnTo>
                  <a:pt x="2025223" y="1739611"/>
                </a:lnTo>
                <a:lnTo>
                  <a:pt x="1995048" y="1744052"/>
                </a:lnTo>
                <a:lnTo>
                  <a:pt x="1963285" y="1748494"/>
                </a:lnTo>
                <a:lnTo>
                  <a:pt x="1930252" y="1752618"/>
                </a:lnTo>
                <a:lnTo>
                  <a:pt x="1895313" y="1756107"/>
                </a:lnTo>
                <a:lnTo>
                  <a:pt x="1858786" y="1759597"/>
                </a:lnTo>
                <a:lnTo>
                  <a:pt x="1820671" y="1762452"/>
                </a:lnTo>
                <a:lnTo>
                  <a:pt x="1780967" y="1765307"/>
                </a:lnTo>
                <a:lnTo>
                  <a:pt x="1739676" y="1767528"/>
                </a:lnTo>
                <a:lnTo>
                  <a:pt x="1696478" y="1769431"/>
                </a:lnTo>
                <a:lnTo>
                  <a:pt x="1652011" y="1771335"/>
                </a:lnTo>
                <a:lnTo>
                  <a:pt x="1605955" y="1772287"/>
                </a:lnTo>
                <a:lnTo>
                  <a:pt x="1557993" y="1773238"/>
                </a:lnTo>
                <a:lnTo>
                  <a:pt x="1508125" y="1773238"/>
                </a:lnTo>
                <a:lnTo>
                  <a:pt x="1634223" y="1009650"/>
                </a:lnTo>
                <a:close/>
                <a:moveTo>
                  <a:pt x="969658" y="942975"/>
                </a:moveTo>
                <a:lnTo>
                  <a:pt x="1145815" y="1851606"/>
                </a:lnTo>
                <a:lnTo>
                  <a:pt x="1263254" y="1851606"/>
                </a:lnTo>
                <a:lnTo>
                  <a:pt x="2020888" y="1851606"/>
                </a:lnTo>
                <a:lnTo>
                  <a:pt x="2020888" y="1936750"/>
                </a:lnTo>
                <a:lnTo>
                  <a:pt x="1163907" y="1936750"/>
                </a:lnTo>
                <a:lnTo>
                  <a:pt x="194249" y="1936750"/>
                </a:lnTo>
                <a:lnTo>
                  <a:pt x="0" y="1009057"/>
                </a:lnTo>
                <a:lnTo>
                  <a:pt x="116804" y="1009057"/>
                </a:lnTo>
                <a:lnTo>
                  <a:pt x="969658" y="942975"/>
                </a:lnTo>
                <a:close/>
                <a:moveTo>
                  <a:pt x="1346346" y="0"/>
                </a:moveTo>
                <a:lnTo>
                  <a:pt x="1355566" y="0"/>
                </a:lnTo>
                <a:lnTo>
                  <a:pt x="1364786" y="0"/>
                </a:lnTo>
                <a:lnTo>
                  <a:pt x="1373688" y="317"/>
                </a:lnTo>
                <a:lnTo>
                  <a:pt x="1382908" y="952"/>
                </a:lnTo>
                <a:lnTo>
                  <a:pt x="1391810" y="1904"/>
                </a:lnTo>
                <a:lnTo>
                  <a:pt x="1400712" y="3174"/>
                </a:lnTo>
                <a:lnTo>
                  <a:pt x="1409613" y="4444"/>
                </a:lnTo>
                <a:lnTo>
                  <a:pt x="1418515" y="6348"/>
                </a:lnTo>
                <a:lnTo>
                  <a:pt x="1426782" y="8252"/>
                </a:lnTo>
                <a:lnTo>
                  <a:pt x="1435684" y="10474"/>
                </a:lnTo>
                <a:lnTo>
                  <a:pt x="1444268" y="12379"/>
                </a:lnTo>
                <a:lnTo>
                  <a:pt x="1452852" y="15236"/>
                </a:lnTo>
                <a:lnTo>
                  <a:pt x="1460800" y="18092"/>
                </a:lnTo>
                <a:lnTo>
                  <a:pt x="1469384" y="21266"/>
                </a:lnTo>
                <a:lnTo>
                  <a:pt x="1477650" y="24758"/>
                </a:lnTo>
                <a:lnTo>
                  <a:pt x="1485598" y="27932"/>
                </a:lnTo>
                <a:lnTo>
                  <a:pt x="1493228" y="31741"/>
                </a:lnTo>
                <a:lnTo>
                  <a:pt x="1501495" y="35867"/>
                </a:lnTo>
                <a:lnTo>
                  <a:pt x="1509125" y="39676"/>
                </a:lnTo>
                <a:lnTo>
                  <a:pt x="1517073" y="44120"/>
                </a:lnTo>
                <a:lnTo>
                  <a:pt x="1524385" y="48881"/>
                </a:lnTo>
                <a:lnTo>
                  <a:pt x="1531698" y="53960"/>
                </a:lnTo>
                <a:lnTo>
                  <a:pt x="1539010" y="58721"/>
                </a:lnTo>
                <a:lnTo>
                  <a:pt x="1546640" y="63800"/>
                </a:lnTo>
                <a:lnTo>
                  <a:pt x="1553635" y="69196"/>
                </a:lnTo>
                <a:lnTo>
                  <a:pt x="1560629" y="74909"/>
                </a:lnTo>
                <a:lnTo>
                  <a:pt x="1567624" y="80305"/>
                </a:lnTo>
                <a:lnTo>
                  <a:pt x="1580976" y="92684"/>
                </a:lnTo>
                <a:lnTo>
                  <a:pt x="1593694" y="105380"/>
                </a:lnTo>
                <a:lnTo>
                  <a:pt x="1606093" y="118712"/>
                </a:lnTo>
                <a:lnTo>
                  <a:pt x="1617856" y="132678"/>
                </a:lnTo>
                <a:lnTo>
                  <a:pt x="1628984" y="147596"/>
                </a:lnTo>
                <a:lnTo>
                  <a:pt x="1639157" y="162832"/>
                </a:lnTo>
                <a:lnTo>
                  <a:pt x="1649331" y="178703"/>
                </a:lnTo>
                <a:lnTo>
                  <a:pt x="1658551" y="195525"/>
                </a:lnTo>
                <a:lnTo>
                  <a:pt x="1666817" y="212348"/>
                </a:lnTo>
                <a:lnTo>
                  <a:pt x="1674765" y="229806"/>
                </a:lnTo>
                <a:lnTo>
                  <a:pt x="1682078" y="247581"/>
                </a:lnTo>
                <a:lnTo>
                  <a:pt x="1688436" y="266308"/>
                </a:lnTo>
                <a:lnTo>
                  <a:pt x="1693841" y="285036"/>
                </a:lnTo>
                <a:lnTo>
                  <a:pt x="1698610" y="304080"/>
                </a:lnTo>
                <a:lnTo>
                  <a:pt x="1700517" y="314237"/>
                </a:lnTo>
                <a:lnTo>
                  <a:pt x="1702743" y="324077"/>
                </a:lnTo>
                <a:lnTo>
                  <a:pt x="1704332" y="333917"/>
                </a:lnTo>
                <a:lnTo>
                  <a:pt x="1705604" y="344074"/>
                </a:lnTo>
                <a:lnTo>
                  <a:pt x="1706876" y="353914"/>
                </a:lnTo>
                <a:lnTo>
                  <a:pt x="1707830" y="364071"/>
                </a:lnTo>
                <a:lnTo>
                  <a:pt x="1708466" y="374546"/>
                </a:lnTo>
                <a:lnTo>
                  <a:pt x="1709419" y="385020"/>
                </a:lnTo>
                <a:lnTo>
                  <a:pt x="1709737" y="395178"/>
                </a:lnTo>
                <a:lnTo>
                  <a:pt x="1709737" y="405652"/>
                </a:lnTo>
                <a:lnTo>
                  <a:pt x="1709737" y="418031"/>
                </a:lnTo>
                <a:lnTo>
                  <a:pt x="1709101" y="431045"/>
                </a:lnTo>
                <a:lnTo>
                  <a:pt x="1708148" y="443742"/>
                </a:lnTo>
                <a:lnTo>
                  <a:pt x="1707194" y="456755"/>
                </a:lnTo>
                <a:lnTo>
                  <a:pt x="1705604" y="470087"/>
                </a:lnTo>
                <a:lnTo>
                  <a:pt x="1703697" y="482783"/>
                </a:lnTo>
                <a:lnTo>
                  <a:pt x="1702107" y="496114"/>
                </a:lnTo>
                <a:lnTo>
                  <a:pt x="1699881" y="509446"/>
                </a:lnTo>
                <a:lnTo>
                  <a:pt x="1696702" y="522777"/>
                </a:lnTo>
                <a:lnTo>
                  <a:pt x="1693841" y="536426"/>
                </a:lnTo>
                <a:lnTo>
                  <a:pt x="1690979" y="549757"/>
                </a:lnTo>
                <a:lnTo>
                  <a:pt x="1687164" y="562771"/>
                </a:lnTo>
                <a:lnTo>
                  <a:pt x="1683667" y="576420"/>
                </a:lnTo>
                <a:lnTo>
                  <a:pt x="1679534" y="589751"/>
                </a:lnTo>
                <a:lnTo>
                  <a:pt x="1675401" y="603082"/>
                </a:lnTo>
                <a:lnTo>
                  <a:pt x="1670632" y="616414"/>
                </a:lnTo>
                <a:lnTo>
                  <a:pt x="1665863" y="629745"/>
                </a:lnTo>
                <a:lnTo>
                  <a:pt x="1661094" y="642441"/>
                </a:lnTo>
                <a:lnTo>
                  <a:pt x="1655372" y="655773"/>
                </a:lnTo>
                <a:lnTo>
                  <a:pt x="1650285" y="668787"/>
                </a:lnTo>
                <a:lnTo>
                  <a:pt x="1644244" y="681166"/>
                </a:lnTo>
                <a:lnTo>
                  <a:pt x="1638521" y="693862"/>
                </a:lnTo>
                <a:lnTo>
                  <a:pt x="1632163" y="706241"/>
                </a:lnTo>
                <a:lnTo>
                  <a:pt x="1625486" y="718938"/>
                </a:lnTo>
                <a:lnTo>
                  <a:pt x="1618810" y="730682"/>
                </a:lnTo>
                <a:lnTo>
                  <a:pt x="1612133" y="742744"/>
                </a:lnTo>
                <a:lnTo>
                  <a:pt x="1605139" y="754170"/>
                </a:lnTo>
                <a:lnTo>
                  <a:pt x="1597827" y="765597"/>
                </a:lnTo>
                <a:lnTo>
                  <a:pt x="1590514" y="777024"/>
                </a:lnTo>
                <a:lnTo>
                  <a:pt x="1582566" y="787816"/>
                </a:lnTo>
                <a:lnTo>
                  <a:pt x="1574936" y="798608"/>
                </a:lnTo>
                <a:lnTo>
                  <a:pt x="1566988" y="808765"/>
                </a:lnTo>
                <a:lnTo>
                  <a:pt x="1566988" y="950966"/>
                </a:lnTo>
                <a:lnTo>
                  <a:pt x="1559357" y="959219"/>
                </a:lnTo>
                <a:lnTo>
                  <a:pt x="1539964" y="980485"/>
                </a:lnTo>
                <a:lnTo>
                  <a:pt x="1511350" y="1011274"/>
                </a:lnTo>
                <a:lnTo>
                  <a:pt x="1495136" y="1028415"/>
                </a:lnTo>
                <a:lnTo>
                  <a:pt x="1477968" y="1046190"/>
                </a:lnTo>
                <a:lnTo>
                  <a:pt x="1459846" y="1063965"/>
                </a:lnTo>
                <a:lnTo>
                  <a:pt x="1441724" y="1081105"/>
                </a:lnTo>
                <a:lnTo>
                  <a:pt x="1423920" y="1096976"/>
                </a:lnTo>
                <a:lnTo>
                  <a:pt x="1407388" y="1111576"/>
                </a:lnTo>
                <a:lnTo>
                  <a:pt x="1399122" y="1118242"/>
                </a:lnTo>
                <a:lnTo>
                  <a:pt x="1391492" y="1123638"/>
                </a:lnTo>
                <a:lnTo>
                  <a:pt x="1384179" y="1128717"/>
                </a:lnTo>
                <a:lnTo>
                  <a:pt x="1377503" y="1133160"/>
                </a:lnTo>
                <a:lnTo>
                  <a:pt x="1371144" y="1136652"/>
                </a:lnTo>
                <a:lnTo>
                  <a:pt x="1365104" y="1139191"/>
                </a:lnTo>
                <a:lnTo>
                  <a:pt x="1360017" y="1140461"/>
                </a:lnTo>
                <a:lnTo>
                  <a:pt x="1357791" y="1141096"/>
                </a:lnTo>
                <a:lnTo>
                  <a:pt x="1355566" y="1141413"/>
                </a:lnTo>
                <a:lnTo>
                  <a:pt x="1353340" y="1141096"/>
                </a:lnTo>
                <a:lnTo>
                  <a:pt x="1351115" y="1140461"/>
                </a:lnTo>
                <a:lnTo>
                  <a:pt x="1346028" y="1139191"/>
                </a:lnTo>
                <a:lnTo>
                  <a:pt x="1340305" y="1136652"/>
                </a:lnTo>
                <a:lnTo>
                  <a:pt x="1333947" y="1133160"/>
                </a:lnTo>
                <a:lnTo>
                  <a:pt x="1327270" y="1128717"/>
                </a:lnTo>
                <a:lnTo>
                  <a:pt x="1319958" y="1123638"/>
                </a:lnTo>
                <a:lnTo>
                  <a:pt x="1312010" y="1118242"/>
                </a:lnTo>
                <a:lnTo>
                  <a:pt x="1304061" y="1111576"/>
                </a:lnTo>
                <a:lnTo>
                  <a:pt x="1287211" y="1096976"/>
                </a:lnTo>
                <a:lnTo>
                  <a:pt x="1269725" y="1081105"/>
                </a:lnTo>
                <a:lnTo>
                  <a:pt x="1251603" y="1063965"/>
                </a:lnTo>
                <a:lnTo>
                  <a:pt x="1233482" y="1046190"/>
                </a:lnTo>
                <a:lnTo>
                  <a:pt x="1215996" y="1028415"/>
                </a:lnTo>
                <a:lnTo>
                  <a:pt x="1199781" y="1011274"/>
                </a:lnTo>
                <a:lnTo>
                  <a:pt x="1171486" y="980485"/>
                </a:lnTo>
                <a:lnTo>
                  <a:pt x="1151774" y="959219"/>
                </a:lnTo>
                <a:lnTo>
                  <a:pt x="1144462" y="950966"/>
                </a:lnTo>
                <a:lnTo>
                  <a:pt x="1144462" y="808765"/>
                </a:lnTo>
                <a:lnTo>
                  <a:pt x="1136196" y="798608"/>
                </a:lnTo>
                <a:lnTo>
                  <a:pt x="1128565" y="787816"/>
                </a:lnTo>
                <a:lnTo>
                  <a:pt x="1120935" y="777024"/>
                </a:lnTo>
                <a:lnTo>
                  <a:pt x="1113305" y="765597"/>
                </a:lnTo>
                <a:lnTo>
                  <a:pt x="1105993" y="754170"/>
                </a:lnTo>
                <a:lnTo>
                  <a:pt x="1098998" y="742744"/>
                </a:lnTo>
                <a:lnTo>
                  <a:pt x="1092322" y="730682"/>
                </a:lnTo>
                <a:lnTo>
                  <a:pt x="1085645" y="718938"/>
                </a:lnTo>
                <a:lnTo>
                  <a:pt x="1078969" y="706241"/>
                </a:lnTo>
                <a:lnTo>
                  <a:pt x="1072928" y="693862"/>
                </a:lnTo>
                <a:lnTo>
                  <a:pt x="1066887" y="681166"/>
                </a:lnTo>
                <a:lnTo>
                  <a:pt x="1061165" y="668787"/>
                </a:lnTo>
                <a:lnTo>
                  <a:pt x="1055442" y="655773"/>
                </a:lnTo>
                <a:lnTo>
                  <a:pt x="1050355" y="642441"/>
                </a:lnTo>
                <a:lnTo>
                  <a:pt x="1045268" y="629745"/>
                </a:lnTo>
                <a:lnTo>
                  <a:pt x="1040499" y="616414"/>
                </a:lnTo>
                <a:lnTo>
                  <a:pt x="1036048" y="603082"/>
                </a:lnTo>
                <a:lnTo>
                  <a:pt x="1031915" y="589751"/>
                </a:lnTo>
                <a:lnTo>
                  <a:pt x="1027782" y="576420"/>
                </a:lnTo>
                <a:lnTo>
                  <a:pt x="1023967" y="562771"/>
                </a:lnTo>
                <a:lnTo>
                  <a:pt x="1020470" y="549757"/>
                </a:lnTo>
                <a:lnTo>
                  <a:pt x="1016973" y="536426"/>
                </a:lnTo>
                <a:lnTo>
                  <a:pt x="1014429" y="522777"/>
                </a:lnTo>
                <a:lnTo>
                  <a:pt x="1011568" y="509446"/>
                </a:lnTo>
                <a:lnTo>
                  <a:pt x="1009343" y="496114"/>
                </a:lnTo>
                <a:lnTo>
                  <a:pt x="1007435" y="482783"/>
                </a:lnTo>
                <a:lnTo>
                  <a:pt x="1005527" y="470087"/>
                </a:lnTo>
                <a:lnTo>
                  <a:pt x="1004256" y="456755"/>
                </a:lnTo>
                <a:lnTo>
                  <a:pt x="1002984" y="443742"/>
                </a:lnTo>
                <a:lnTo>
                  <a:pt x="1002348" y="431045"/>
                </a:lnTo>
                <a:lnTo>
                  <a:pt x="1001712" y="418031"/>
                </a:lnTo>
                <a:lnTo>
                  <a:pt x="1001712" y="405652"/>
                </a:lnTo>
                <a:lnTo>
                  <a:pt x="1001712" y="395178"/>
                </a:lnTo>
                <a:lnTo>
                  <a:pt x="1002030" y="385020"/>
                </a:lnTo>
                <a:lnTo>
                  <a:pt x="1002666" y="374546"/>
                </a:lnTo>
                <a:lnTo>
                  <a:pt x="1003302" y="364071"/>
                </a:lnTo>
                <a:lnTo>
                  <a:pt x="1004574" y="353914"/>
                </a:lnTo>
                <a:lnTo>
                  <a:pt x="1005527" y="344074"/>
                </a:lnTo>
                <a:lnTo>
                  <a:pt x="1007117" y="333917"/>
                </a:lnTo>
                <a:lnTo>
                  <a:pt x="1008707" y="324077"/>
                </a:lnTo>
                <a:lnTo>
                  <a:pt x="1010296" y="314237"/>
                </a:lnTo>
                <a:lnTo>
                  <a:pt x="1012522" y="304080"/>
                </a:lnTo>
                <a:lnTo>
                  <a:pt x="1017609" y="285036"/>
                </a:lnTo>
                <a:lnTo>
                  <a:pt x="1023013" y="266308"/>
                </a:lnTo>
                <a:lnTo>
                  <a:pt x="1029372" y="247581"/>
                </a:lnTo>
                <a:lnTo>
                  <a:pt x="1036366" y="229806"/>
                </a:lnTo>
                <a:lnTo>
                  <a:pt x="1044315" y="212348"/>
                </a:lnTo>
                <a:lnTo>
                  <a:pt x="1052899" y="195525"/>
                </a:lnTo>
                <a:lnTo>
                  <a:pt x="1062119" y="178703"/>
                </a:lnTo>
                <a:lnTo>
                  <a:pt x="1071656" y="162832"/>
                </a:lnTo>
                <a:lnTo>
                  <a:pt x="1082466" y="147596"/>
                </a:lnTo>
                <a:lnTo>
                  <a:pt x="1093593" y="132678"/>
                </a:lnTo>
                <a:lnTo>
                  <a:pt x="1105357" y="118712"/>
                </a:lnTo>
                <a:lnTo>
                  <a:pt x="1117438" y="105380"/>
                </a:lnTo>
                <a:lnTo>
                  <a:pt x="1130473" y="92684"/>
                </a:lnTo>
                <a:lnTo>
                  <a:pt x="1143826" y="80305"/>
                </a:lnTo>
                <a:lnTo>
                  <a:pt x="1150820" y="74909"/>
                </a:lnTo>
                <a:lnTo>
                  <a:pt x="1157815" y="69196"/>
                </a:lnTo>
                <a:lnTo>
                  <a:pt x="1164809" y="63800"/>
                </a:lnTo>
                <a:lnTo>
                  <a:pt x="1172121" y="58721"/>
                </a:lnTo>
                <a:lnTo>
                  <a:pt x="1179434" y="53960"/>
                </a:lnTo>
                <a:lnTo>
                  <a:pt x="1187064" y="48881"/>
                </a:lnTo>
                <a:lnTo>
                  <a:pt x="1194376" y="44120"/>
                </a:lnTo>
                <a:lnTo>
                  <a:pt x="1202007" y="39676"/>
                </a:lnTo>
                <a:lnTo>
                  <a:pt x="1209955" y="35867"/>
                </a:lnTo>
                <a:lnTo>
                  <a:pt x="1217903" y="31741"/>
                </a:lnTo>
                <a:lnTo>
                  <a:pt x="1225851" y="27932"/>
                </a:lnTo>
                <a:lnTo>
                  <a:pt x="1233799" y="24758"/>
                </a:lnTo>
                <a:lnTo>
                  <a:pt x="1242066" y="21266"/>
                </a:lnTo>
                <a:lnTo>
                  <a:pt x="1250332" y="18092"/>
                </a:lnTo>
                <a:lnTo>
                  <a:pt x="1258916" y="15236"/>
                </a:lnTo>
                <a:lnTo>
                  <a:pt x="1267182" y="12379"/>
                </a:lnTo>
                <a:lnTo>
                  <a:pt x="1275766" y="10474"/>
                </a:lnTo>
                <a:lnTo>
                  <a:pt x="1284350" y="8252"/>
                </a:lnTo>
                <a:lnTo>
                  <a:pt x="1292934" y="6348"/>
                </a:lnTo>
                <a:lnTo>
                  <a:pt x="1301836" y="4444"/>
                </a:lnTo>
                <a:lnTo>
                  <a:pt x="1310738" y="3174"/>
                </a:lnTo>
                <a:lnTo>
                  <a:pt x="1319322" y="1904"/>
                </a:lnTo>
                <a:lnTo>
                  <a:pt x="1328224" y="952"/>
                </a:lnTo>
                <a:lnTo>
                  <a:pt x="1337444" y="317"/>
                </a:lnTo>
                <a:lnTo>
                  <a:pt x="13463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KSO_Shape"/>
          <p:cNvSpPr/>
          <p:nvPr/>
        </p:nvSpPr>
        <p:spPr>
          <a:xfrm>
            <a:off x="5170320" y="2336760"/>
            <a:ext cx="289080" cy="324000"/>
          </a:xfrm>
          <a:custGeom>
            <a:avLst/>
            <a:gdLst>
              <a:gd name="textAreaLeft" fmla="*/ 0 w 289080"/>
              <a:gd name="textAreaRight" fmla="*/ 289440 w 28908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2033587" h="2276475">
                <a:moveTo>
                  <a:pt x="312737" y="1411287"/>
                </a:moveTo>
                <a:lnTo>
                  <a:pt x="1422400" y="1411287"/>
                </a:lnTo>
                <a:lnTo>
                  <a:pt x="1422400" y="1552575"/>
                </a:lnTo>
                <a:lnTo>
                  <a:pt x="312737" y="1552575"/>
                </a:lnTo>
                <a:lnTo>
                  <a:pt x="312737" y="1411287"/>
                </a:lnTo>
                <a:close/>
                <a:moveTo>
                  <a:pt x="296862" y="1128712"/>
                </a:moveTo>
                <a:lnTo>
                  <a:pt x="1404937" y="1128712"/>
                </a:lnTo>
                <a:lnTo>
                  <a:pt x="1404937" y="1270000"/>
                </a:lnTo>
                <a:lnTo>
                  <a:pt x="296862" y="1270000"/>
                </a:lnTo>
                <a:lnTo>
                  <a:pt x="296862" y="1128712"/>
                </a:lnTo>
                <a:close/>
                <a:moveTo>
                  <a:pt x="296862" y="847725"/>
                </a:moveTo>
                <a:lnTo>
                  <a:pt x="1404937" y="847725"/>
                </a:lnTo>
                <a:lnTo>
                  <a:pt x="1404937" y="987425"/>
                </a:lnTo>
                <a:lnTo>
                  <a:pt x="296862" y="987425"/>
                </a:lnTo>
                <a:lnTo>
                  <a:pt x="296862" y="847725"/>
                </a:lnTo>
                <a:close/>
                <a:moveTo>
                  <a:pt x="869950" y="565150"/>
                </a:moveTo>
                <a:lnTo>
                  <a:pt x="1408113" y="565150"/>
                </a:lnTo>
                <a:lnTo>
                  <a:pt x="1408113" y="706438"/>
                </a:lnTo>
                <a:lnTo>
                  <a:pt x="869950" y="706438"/>
                </a:lnTo>
                <a:lnTo>
                  <a:pt x="869950" y="565150"/>
                </a:lnTo>
                <a:close/>
                <a:moveTo>
                  <a:pt x="1869440" y="276225"/>
                </a:moveTo>
                <a:lnTo>
                  <a:pt x="1877695" y="276543"/>
                </a:lnTo>
                <a:lnTo>
                  <a:pt x="1885950" y="276860"/>
                </a:lnTo>
                <a:lnTo>
                  <a:pt x="1894522" y="278130"/>
                </a:lnTo>
                <a:lnTo>
                  <a:pt x="1902460" y="279400"/>
                </a:lnTo>
                <a:lnTo>
                  <a:pt x="1910080" y="281305"/>
                </a:lnTo>
                <a:lnTo>
                  <a:pt x="1918017" y="283528"/>
                </a:lnTo>
                <a:lnTo>
                  <a:pt x="1925955" y="286068"/>
                </a:lnTo>
                <a:lnTo>
                  <a:pt x="1933257" y="288925"/>
                </a:lnTo>
                <a:lnTo>
                  <a:pt x="1940242" y="292418"/>
                </a:lnTo>
                <a:lnTo>
                  <a:pt x="1947545" y="296228"/>
                </a:lnTo>
                <a:lnTo>
                  <a:pt x="1954530" y="299720"/>
                </a:lnTo>
                <a:lnTo>
                  <a:pt x="1961197" y="304165"/>
                </a:lnTo>
                <a:lnTo>
                  <a:pt x="1967865" y="308928"/>
                </a:lnTo>
                <a:lnTo>
                  <a:pt x="1973897" y="313690"/>
                </a:lnTo>
                <a:lnTo>
                  <a:pt x="1979612" y="318770"/>
                </a:lnTo>
                <a:lnTo>
                  <a:pt x="1985645" y="324168"/>
                </a:lnTo>
                <a:lnTo>
                  <a:pt x="1991042" y="330200"/>
                </a:lnTo>
                <a:lnTo>
                  <a:pt x="1996122" y="335915"/>
                </a:lnTo>
                <a:lnTo>
                  <a:pt x="2000885" y="342265"/>
                </a:lnTo>
                <a:lnTo>
                  <a:pt x="2005647" y="348615"/>
                </a:lnTo>
                <a:lnTo>
                  <a:pt x="2010092" y="355283"/>
                </a:lnTo>
                <a:lnTo>
                  <a:pt x="2013585" y="362268"/>
                </a:lnTo>
                <a:lnTo>
                  <a:pt x="2017395" y="369570"/>
                </a:lnTo>
                <a:lnTo>
                  <a:pt x="2020570" y="376873"/>
                </a:lnTo>
                <a:lnTo>
                  <a:pt x="2023745" y="384175"/>
                </a:lnTo>
                <a:lnTo>
                  <a:pt x="2026285" y="391795"/>
                </a:lnTo>
                <a:lnTo>
                  <a:pt x="2028507" y="399733"/>
                </a:lnTo>
                <a:lnTo>
                  <a:pt x="2030412" y="407670"/>
                </a:lnTo>
                <a:lnTo>
                  <a:pt x="2032000" y="415608"/>
                </a:lnTo>
                <a:lnTo>
                  <a:pt x="2032952" y="423863"/>
                </a:lnTo>
                <a:lnTo>
                  <a:pt x="2033270" y="432118"/>
                </a:lnTo>
                <a:lnTo>
                  <a:pt x="2033587" y="440373"/>
                </a:lnTo>
                <a:lnTo>
                  <a:pt x="2033587" y="2112328"/>
                </a:lnTo>
                <a:lnTo>
                  <a:pt x="2033270" y="2120583"/>
                </a:lnTo>
                <a:lnTo>
                  <a:pt x="2032952" y="2128838"/>
                </a:lnTo>
                <a:lnTo>
                  <a:pt x="2032000" y="2137410"/>
                </a:lnTo>
                <a:lnTo>
                  <a:pt x="2030412" y="2145348"/>
                </a:lnTo>
                <a:lnTo>
                  <a:pt x="2028507" y="2153285"/>
                </a:lnTo>
                <a:lnTo>
                  <a:pt x="2026285" y="2160905"/>
                </a:lnTo>
                <a:lnTo>
                  <a:pt x="2023745" y="2168525"/>
                </a:lnTo>
                <a:lnTo>
                  <a:pt x="2020570" y="2175828"/>
                </a:lnTo>
                <a:lnTo>
                  <a:pt x="2017395" y="2183130"/>
                </a:lnTo>
                <a:lnTo>
                  <a:pt x="2013585" y="2190433"/>
                </a:lnTo>
                <a:lnTo>
                  <a:pt x="2010092" y="2197418"/>
                </a:lnTo>
                <a:lnTo>
                  <a:pt x="2005647" y="2204085"/>
                </a:lnTo>
                <a:lnTo>
                  <a:pt x="2000885" y="2210435"/>
                </a:lnTo>
                <a:lnTo>
                  <a:pt x="1996122" y="2216785"/>
                </a:lnTo>
                <a:lnTo>
                  <a:pt x="1991042" y="2222500"/>
                </a:lnTo>
                <a:lnTo>
                  <a:pt x="1985645" y="2228533"/>
                </a:lnTo>
                <a:lnTo>
                  <a:pt x="1979612" y="2233930"/>
                </a:lnTo>
                <a:lnTo>
                  <a:pt x="1973897" y="2239010"/>
                </a:lnTo>
                <a:lnTo>
                  <a:pt x="1967865" y="2243773"/>
                </a:lnTo>
                <a:lnTo>
                  <a:pt x="1961197" y="2248535"/>
                </a:lnTo>
                <a:lnTo>
                  <a:pt x="1954530" y="2252980"/>
                </a:lnTo>
                <a:lnTo>
                  <a:pt x="1947545" y="2256790"/>
                </a:lnTo>
                <a:lnTo>
                  <a:pt x="1940242" y="2260600"/>
                </a:lnTo>
                <a:lnTo>
                  <a:pt x="1933257" y="2263775"/>
                </a:lnTo>
                <a:lnTo>
                  <a:pt x="1925955" y="2266633"/>
                </a:lnTo>
                <a:lnTo>
                  <a:pt x="1918017" y="2269173"/>
                </a:lnTo>
                <a:lnTo>
                  <a:pt x="1910080" y="2271395"/>
                </a:lnTo>
                <a:lnTo>
                  <a:pt x="1902460" y="2273300"/>
                </a:lnTo>
                <a:lnTo>
                  <a:pt x="1894522" y="2274888"/>
                </a:lnTo>
                <a:lnTo>
                  <a:pt x="1885950" y="2275840"/>
                </a:lnTo>
                <a:lnTo>
                  <a:pt x="1877695" y="2276475"/>
                </a:lnTo>
                <a:lnTo>
                  <a:pt x="1869440" y="2276475"/>
                </a:lnTo>
                <a:lnTo>
                  <a:pt x="480377" y="2276475"/>
                </a:lnTo>
                <a:lnTo>
                  <a:pt x="471805" y="2276475"/>
                </a:lnTo>
                <a:lnTo>
                  <a:pt x="463550" y="2275840"/>
                </a:lnTo>
                <a:lnTo>
                  <a:pt x="455295" y="2274888"/>
                </a:lnTo>
                <a:lnTo>
                  <a:pt x="447040" y="2273300"/>
                </a:lnTo>
                <a:lnTo>
                  <a:pt x="439102" y="2271395"/>
                </a:lnTo>
                <a:lnTo>
                  <a:pt x="431482" y="2269173"/>
                </a:lnTo>
                <a:lnTo>
                  <a:pt x="423862" y="2266633"/>
                </a:lnTo>
                <a:lnTo>
                  <a:pt x="416242" y="2263775"/>
                </a:lnTo>
                <a:lnTo>
                  <a:pt x="408940" y="2260600"/>
                </a:lnTo>
                <a:lnTo>
                  <a:pt x="401955" y="2256790"/>
                </a:lnTo>
                <a:lnTo>
                  <a:pt x="394970" y="2252980"/>
                </a:lnTo>
                <a:lnTo>
                  <a:pt x="388620" y="2248535"/>
                </a:lnTo>
                <a:lnTo>
                  <a:pt x="381952" y="2243773"/>
                </a:lnTo>
                <a:lnTo>
                  <a:pt x="375602" y="2239010"/>
                </a:lnTo>
                <a:lnTo>
                  <a:pt x="369887" y="2233930"/>
                </a:lnTo>
                <a:lnTo>
                  <a:pt x="364172" y="2228533"/>
                </a:lnTo>
                <a:lnTo>
                  <a:pt x="358457" y="2222500"/>
                </a:lnTo>
                <a:lnTo>
                  <a:pt x="353377" y="2216785"/>
                </a:lnTo>
                <a:lnTo>
                  <a:pt x="348297" y="2210435"/>
                </a:lnTo>
                <a:lnTo>
                  <a:pt x="343852" y="2204085"/>
                </a:lnTo>
                <a:lnTo>
                  <a:pt x="339725" y="2197418"/>
                </a:lnTo>
                <a:lnTo>
                  <a:pt x="335597" y="2190433"/>
                </a:lnTo>
                <a:lnTo>
                  <a:pt x="332105" y="2183130"/>
                </a:lnTo>
                <a:lnTo>
                  <a:pt x="328612" y="2175828"/>
                </a:lnTo>
                <a:lnTo>
                  <a:pt x="325755" y="2168525"/>
                </a:lnTo>
                <a:lnTo>
                  <a:pt x="323215" y="2160905"/>
                </a:lnTo>
                <a:lnTo>
                  <a:pt x="320992" y="2153285"/>
                </a:lnTo>
                <a:lnTo>
                  <a:pt x="319087" y="2145348"/>
                </a:lnTo>
                <a:lnTo>
                  <a:pt x="317817" y="2137410"/>
                </a:lnTo>
                <a:lnTo>
                  <a:pt x="316547" y="2128838"/>
                </a:lnTo>
                <a:lnTo>
                  <a:pt x="315912" y="2120583"/>
                </a:lnTo>
                <a:lnTo>
                  <a:pt x="315912" y="2112328"/>
                </a:lnTo>
                <a:lnTo>
                  <a:pt x="456565" y="2112328"/>
                </a:lnTo>
                <a:lnTo>
                  <a:pt x="456882" y="2114868"/>
                </a:lnTo>
                <a:lnTo>
                  <a:pt x="457200" y="2116773"/>
                </a:lnTo>
                <a:lnTo>
                  <a:pt x="457835" y="2118995"/>
                </a:lnTo>
                <a:lnTo>
                  <a:pt x="458470" y="2121218"/>
                </a:lnTo>
                <a:lnTo>
                  <a:pt x="459422" y="2123440"/>
                </a:lnTo>
                <a:lnTo>
                  <a:pt x="460692" y="2125345"/>
                </a:lnTo>
                <a:lnTo>
                  <a:pt x="463550" y="2128838"/>
                </a:lnTo>
                <a:lnTo>
                  <a:pt x="467042" y="2132013"/>
                </a:lnTo>
                <a:lnTo>
                  <a:pt x="468947" y="2132965"/>
                </a:lnTo>
                <a:lnTo>
                  <a:pt x="471170" y="2133918"/>
                </a:lnTo>
                <a:lnTo>
                  <a:pt x="473392" y="2134870"/>
                </a:lnTo>
                <a:lnTo>
                  <a:pt x="475615" y="2135188"/>
                </a:lnTo>
                <a:lnTo>
                  <a:pt x="477837" y="2135505"/>
                </a:lnTo>
                <a:lnTo>
                  <a:pt x="480377" y="2135823"/>
                </a:lnTo>
                <a:lnTo>
                  <a:pt x="1869440" y="2135823"/>
                </a:lnTo>
                <a:lnTo>
                  <a:pt x="1871980" y="2135505"/>
                </a:lnTo>
                <a:lnTo>
                  <a:pt x="1874202" y="2135188"/>
                </a:lnTo>
                <a:lnTo>
                  <a:pt x="1876107" y="2134870"/>
                </a:lnTo>
                <a:lnTo>
                  <a:pt x="1878330" y="2133918"/>
                </a:lnTo>
                <a:lnTo>
                  <a:pt x="1880552" y="2132965"/>
                </a:lnTo>
                <a:lnTo>
                  <a:pt x="1882457" y="2132013"/>
                </a:lnTo>
                <a:lnTo>
                  <a:pt x="1885950" y="2128838"/>
                </a:lnTo>
                <a:lnTo>
                  <a:pt x="1888490" y="2125345"/>
                </a:lnTo>
                <a:lnTo>
                  <a:pt x="1890077" y="2123440"/>
                </a:lnTo>
                <a:lnTo>
                  <a:pt x="1890712" y="2121218"/>
                </a:lnTo>
                <a:lnTo>
                  <a:pt x="1891982" y="2118995"/>
                </a:lnTo>
                <a:lnTo>
                  <a:pt x="1892300" y="2116773"/>
                </a:lnTo>
                <a:lnTo>
                  <a:pt x="1892617" y="2114868"/>
                </a:lnTo>
                <a:lnTo>
                  <a:pt x="1892617" y="2112328"/>
                </a:lnTo>
                <a:lnTo>
                  <a:pt x="1892617" y="440373"/>
                </a:lnTo>
                <a:lnTo>
                  <a:pt x="1892617" y="438468"/>
                </a:lnTo>
                <a:lnTo>
                  <a:pt x="1892300" y="435928"/>
                </a:lnTo>
                <a:lnTo>
                  <a:pt x="1891982" y="433705"/>
                </a:lnTo>
                <a:lnTo>
                  <a:pt x="1890712" y="431483"/>
                </a:lnTo>
                <a:lnTo>
                  <a:pt x="1890077" y="429578"/>
                </a:lnTo>
                <a:lnTo>
                  <a:pt x="1888490" y="427355"/>
                </a:lnTo>
                <a:lnTo>
                  <a:pt x="1885950" y="424180"/>
                </a:lnTo>
                <a:lnTo>
                  <a:pt x="1882457" y="421323"/>
                </a:lnTo>
                <a:lnTo>
                  <a:pt x="1880552" y="420053"/>
                </a:lnTo>
                <a:lnTo>
                  <a:pt x="1878330" y="419100"/>
                </a:lnTo>
                <a:lnTo>
                  <a:pt x="1876107" y="418148"/>
                </a:lnTo>
                <a:lnTo>
                  <a:pt x="1874202" y="417513"/>
                </a:lnTo>
                <a:lnTo>
                  <a:pt x="1871980" y="417195"/>
                </a:lnTo>
                <a:lnTo>
                  <a:pt x="1869440" y="417195"/>
                </a:lnTo>
                <a:lnTo>
                  <a:pt x="1869440" y="276225"/>
                </a:lnTo>
                <a:close/>
                <a:moveTo>
                  <a:pt x="589072" y="140970"/>
                </a:moveTo>
                <a:lnTo>
                  <a:pt x="589072" y="424815"/>
                </a:lnTo>
                <a:lnTo>
                  <a:pt x="588754" y="433070"/>
                </a:lnTo>
                <a:lnTo>
                  <a:pt x="588436" y="441643"/>
                </a:lnTo>
                <a:lnTo>
                  <a:pt x="587166" y="449580"/>
                </a:lnTo>
                <a:lnTo>
                  <a:pt x="585896" y="458153"/>
                </a:lnTo>
                <a:lnTo>
                  <a:pt x="583991" y="465773"/>
                </a:lnTo>
                <a:lnTo>
                  <a:pt x="581768" y="473710"/>
                </a:lnTo>
                <a:lnTo>
                  <a:pt x="579227" y="481330"/>
                </a:lnTo>
                <a:lnTo>
                  <a:pt x="576052" y="488633"/>
                </a:lnTo>
                <a:lnTo>
                  <a:pt x="572876" y="495935"/>
                </a:lnTo>
                <a:lnTo>
                  <a:pt x="569065" y="503238"/>
                </a:lnTo>
                <a:lnTo>
                  <a:pt x="565572" y="509905"/>
                </a:lnTo>
                <a:lnTo>
                  <a:pt x="561126" y="516573"/>
                </a:lnTo>
                <a:lnTo>
                  <a:pt x="556363" y="522923"/>
                </a:lnTo>
                <a:lnTo>
                  <a:pt x="551600" y="528955"/>
                </a:lnTo>
                <a:lnTo>
                  <a:pt x="546519" y="535305"/>
                </a:lnTo>
                <a:lnTo>
                  <a:pt x="541120" y="541020"/>
                </a:lnTo>
                <a:lnTo>
                  <a:pt x="535087" y="546100"/>
                </a:lnTo>
                <a:lnTo>
                  <a:pt x="529371" y="551815"/>
                </a:lnTo>
                <a:lnTo>
                  <a:pt x="522702" y="556260"/>
                </a:lnTo>
                <a:lnTo>
                  <a:pt x="516668" y="561023"/>
                </a:lnTo>
                <a:lnTo>
                  <a:pt x="509682" y="565150"/>
                </a:lnTo>
                <a:lnTo>
                  <a:pt x="503013" y="569278"/>
                </a:lnTo>
                <a:lnTo>
                  <a:pt x="495709" y="572770"/>
                </a:lnTo>
                <a:lnTo>
                  <a:pt x="488406" y="575945"/>
                </a:lnTo>
                <a:lnTo>
                  <a:pt x="481102" y="579120"/>
                </a:lnTo>
                <a:lnTo>
                  <a:pt x="473480" y="581978"/>
                </a:lnTo>
                <a:lnTo>
                  <a:pt x="465541" y="584200"/>
                </a:lnTo>
                <a:lnTo>
                  <a:pt x="457602" y="585788"/>
                </a:lnTo>
                <a:lnTo>
                  <a:pt x="449663" y="587375"/>
                </a:lnTo>
                <a:lnTo>
                  <a:pt x="441407" y="588328"/>
                </a:lnTo>
                <a:lnTo>
                  <a:pt x="433150" y="588963"/>
                </a:lnTo>
                <a:lnTo>
                  <a:pt x="424576" y="589280"/>
                </a:lnTo>
                <a:lnTo>
                  <a:pt x="140678" y="589280"/>
                </a:lnTo>
                <a:lnTo>
                  <a:pt x="140678" y="1836103"/>
                </a:lnTo>
                <a:lnTo>
                  <a:pt x="140678" y="1838643"/>
                </a:lnTo>
                <a:lnTo>
                  <a:pt x="140996" y="1840548"/>
                </a:lnTo>
                <a:lnTo>
                  <a:pt x="141948" y="1842770"/>
                </a:lnTo>
                <a:lnTo>
                  <a:pt x="142584" y="1844993"/>
                </a:lnTo>
                <a:lnTo>
                  <a:pt x="143536" y="1847215"/>
                </a:lnTo>
                <a:lnTo>
                  <a:pt x="144807" y="1849120"/>
                </a:lnTo>
                <a:lnTo>
                  <a:pt x="147665" y="1852613"/>
                </a:lnTo>
                <a:lnTo>
                  <a:pt x="151475" y="1855470"/>
                </a:lnTo>
                <a:lnTo>
                  <a:pt x="153063" y="1856740"/>
                </a:lnTo>
                <a:lnTo>
                  <a:pt x="155286" y="1857693"/>
                </a:lnTo>
                <a:lnTo>
                  <a:pt x="157191" y="1858645"/>
                </a:lnTo>
                <a:lnTo>
                  <a:pt x="159732" y="1858963"/>
                </a:lnTo>
                <a:lnTo>
                  <a:pt x="161955" y="1859280"/>
                </a:lnTo>
                <a:lnTo>
                  <a:pt x="164495" y="1859598"/>
                </a:lnTo>
                <a:lnTo>
                  <a:pt x="1553180" y="1859598"/>
                </a:lnTo>
                <a:lnTo>
                  <a:pt x="1556038" y="1859280"/>
                </a:lnTo>
                <a:lnTo>
                  <a:pt x="1557943" y="1858963"/>
                </a:lnTo>
                <a:lnTo>
                  <a:pt x="1560484" y="1858645"/>
                </a:lnTo>
                <a:lnTo>
                  <a:pt x="1562389" y="1857693"/>
                </a:lnTo>
                <a:lnTo>
                  <a:pt x="1564612" y="1856740"/>
                </a:lnTo>
                <a:lnTo>
                  <a:pt x="1566517" y="1855470"/>
                </a:lnTo>
                <a:lnTo>
                  <a:pt x="1570010" y="1852613"/>
                </a:lnTo>
                <a:lnTo>
                  <a:pt x="1572868" y="1849120"/>
                </a:lnTo>
                <a:lnTo>
                  <a:pt x="1574139" y="1847215"/>
                </a:lnTo>
                <a:lnTo>
                  <a:pt x="1575091" y="1844993"/>
                </a:lnTo>
                <a:lnTo>
                  <a:pt x="1576044" y="1842770"/>
                </a:lnTo>
                <a:lnTo>
                  <a:pt x="1576679" y="1840548"/>
                </a:lnTo>
                <a:lnTo>
                  <a:pt x="1576997" y="1838643"/>
                </a:lnTo>
                <a:lnTo>
                  <a:pt x="1576997" y="1836103"/>
                </a:lnTo>
                <a:lnTo>
                  <a:pt x="1576997" y="164782"/>
                </a:lnTo>
                <a:lnTo>
                  <a:pt x="1576997" y="161925"/>
                </a:lnTo>
                <a:lnTo>
                  <a:pt x="1576679" y="160020"/>
                </a:lnTo>
                <a:lnTo>
                  <a:pt x="1576044" y="157480"/>
                </a:lnTo>
                <a:lnTo>
                  <a:pt x="1575091" y="155257"/>
                </a:lnTo>
                <a:lnTo>
                  <a:pt x="1574139" y="153352"/>
                </a:lnTo>
                <a:lnTo>
                  <a:pt x="1572868" y="151447"/>
                </a:lnTo>
                <a:lnTo>
                  <a:pt x="1570010" y="147955"/>
                </a:lnTo>
                <a:lnTo>
                  <a:pt x="1566517" y="145097"/>
                </a:lnTo>
                <a:lnTo>
                  <a:pt x="1564612" y="143827"/>
                </a:lnTo>
                <a:lnTo>
                  <a:pt x="1562389" y="142875"/>
                </a:lnTo>
                <a:lnTo>
                  <a:pt x="1560484" y="141922"/>
                </a:lnTo>
                <a:lnTo>
                  <a:pt x="1557943" y="141287"/>
                </a:lnTo>
                <a:lnTo>
                  <a:pt x="1556038" y="140970"/>
                </a:lnTo>
                <a:lnTo>
                  <a:pt x="1553180" y="140970"/>
                </a:lnTo>
                <a:lnTo>
                  <a:pt x="589072" y="140970"/>
                </a:lnTo>
                <a:close/>
                <a:moveTo>
                  <a:pt x="489358" y="0"/>
                </a:moveTo>
                <a:lnTo>
                  <a:pt x="1553180" y="0"/>
                </a:lnTo>
                <a:lnTo>
                  <a:pt x="1562071" y="317"/>
                </a:lnTo>
                <a:lnTo>
                  <a:pt x="1570010" y="952"/>
                </a:lnTo>
                <a:lnTo>
                  <a:pt x="1578584" y="2222"/>
                </a:lnTo>
                <a:lnTo>
                  <a:pt x="1586523" y="3492"/>
                </a:lnTo>
                <a:lnTo>
                  <a:pt x="1594462" y="5397"/>
                </a:lnTo>
                <a:lnTo>
                  <a:pt x="1602084" y="7620"/>
                </a:lnTo>
                <a:lnTo>
                  <a:pt x="1609705" y="10160"/>
                </a:lnTo>
                <a:lnTo>
                  <a:pt x="1617644" y="13017"/>
                </a:lnTo>
                <a:lnTo>
                  <a:pt x="1624630" y="16192"/>
                </a:lnTo>
                <a:lnTo>
                  <a:pt x="1631617" y="20002"/>
                </a:lnTo>
                <a:lnTo>
                  <a:pt x="1638603" y="23812"/>
                </a:lnTo>
                <a:lnTo>
                  <a:pt x="1645589" y="28257"/>
                </a:lnTo>
                <a:lnTo>
                  <a:pt x="1651623" y="32702"/>
                </a:lnTo>
                <a:lnTo>
                  <a:pt x="1657974" y="37782"/>
                </a:lnTo>
                <a:lnTo>
                  <a:pt x="1664008" y="42862"/>
                </a:lnTo>
                <a:lnTo>
                  <a:pt x="1669724" y="48260"/>
                </a:lnTo>
                <a:lnTo>
                  <a:pt x="1675122" y="53975"/>
                </a:lnTo>
                <a:lnTo>
                  <a:pt x="1680203" y="60007"/>
                </a:lnTo>
                <a:lnTo>
                  <a:pt x="1685284" y="66357"/>
                </a:lnTo>
                <a:lnTo>
                  <a:pt x="1689730" y="72390"/>
                </a:lnTo>
                <a:lnTo>
                  <a:pt x="1694176" y="79375"/>
                </a:lnTo>
                <a:lnTo>
                  <a:pt x="1697987" y="86360"/>
                </a:lnTo>
                <a:lnTo>
                  <a:pt x="1701797" y="93345"/>
                </a:lnTo>
                <a:lnTo>
                  <a:pt x="1704973" y="100647"/>
                </a:lnTo>
                <a:lnTo>
                  <a:pt x="1707831" y="108267"/>
                </a:lnTo>
                <a:lnTo>
                  <a:pt x="1710371" y="115570"/>
                </a:lnTo>
                <a:lnTo>
                  <a:pt x="1712594" y="123507"/>
                </a:lnTo>
                <a:lnTo>
                  <a:pt x="1714500" y="131445"/>
                </a:lnTo>
                <a:lnTo>
                  <a:pt x="1715770" y="139382"/>
                </a:lnTo>
                <a:lnTo>
                  <a:pt x="1717040" y="147637"/>
                </a:lnTo>
                <a:lnTo>
                  <a:pt x="1717675" y="155892"/>
                </a:lnTo>
                <a:lnTo>
                  <a:pt x="1717675" y="164782"/>
                </a:lnTo>
                <a:lnTo>
                  <a:pt x="1717675" y="1836103"/>
                </a:lnTo>
                <a:lnTo>
                  <a:pt x="1717675" y="1844358"/>
                </a:lnTo>
                <a:lnTo>
                  <a:pt x="1717040" y="1852613"/>
                </a:lnTo>
                <a:lnTo>
                  <a:pt x="1715770" y="1861185"/>
                </a:lnTo>
                <a:lnTo>
                  <a:pt x="1714500" y="1869123"/>
                </a:lnTo>
                <a:lnTo>
                  <a:pt x="1712594" y="1877060"/>
                </a:lnTo>
                <a:lnTo>
                  <a:pt x="1710371" y="1884680"/>
                </a:lnTo>
                <a:lnTo>
                  <a:pt x="1707831" y="1892300"/>
                </a:lnTo>
                <a:lnTo>
                  <a:pt x="1704973" y="1900238"/>
                </a:lnTo>
                <a:lnTo>
                  <a:pt x="1701797" y="1907223"/>
                </a:lnTo>
                <a:lnTo>
                  <a:pt x="1697987" y="1914208"/>
                </a:lnTo>
                <a:lnTo>
                  <a:pt x="1694176" y="1921193"/>
                </a:lnTo>
                <a:lnTo>
                  <a:pt x="1689730" y="1927860"/>
                </a:lnTo>
                <a:lnTo>
                  <a:pt x="1685284" y="1934210"/>
                </a:lnTo>
                <a:lnTo>
                  <a:pt x="1680203" y="1940560"/>
                </a:lnTo>
                <a:lnTo>
                  <a:pt x="1675122" y="1946275"/>
                </a:lnTo>
                <a:lnTo>
                  <a:pt x="1669724" y="1952308"/>
                </a:lnTo>
                <a:lnTo>
                  <a:pt x="1664008" y="1957705"/>
                </a:lnTo>
                <a:lnTo>
                  <a:pt x="1657974" y="1962785"/>
                </a:lnTo>
                <a:lnTo>
                  <a:pt x="1651623" y="1967865"/>
                </a:lnTo>
                <a:lnTo>
                  <a:pt x="1645589" y="1972310"/>
                </a:lnTo>
                <a:lnTo>
                  <a:pt x="1638603" y="1976755"/>
                </a:lnTo>
                <a:lnTo>
                  <a:pt x="1631617" y="1980565"/>
                </a:lnTo>
                <a:lnTo>
                  <a:pt x="1624630" y="1984375"/>
                </a:lnTo>
                <a:lnTo>
                  <a:pt x="1617644" y="1987550"/>
                </a:lnTo>
                <a:lnTo>
                  <a:pt x="1609705" y="1990408"/>
                </a:lnTo>
                <a:lnTo>
                  <a:pt x="1602084" y="1992948"/>
                </a:lnTo>
                <a:lnTo>
                  <a:pt x="1594462" y="1995170"/>
                </a:lnTo>
                <a:lnTo>
                  <a:pt x="1586523" y="1997075"/>
                </a:lnTo>
                <a:lnTo>
                  <a:pt x="1578584" y="1998345"/>
                </a:lnTo>
                <a:lnTo>
                  <a:pt x="1570010" y="1999615"/>
                </a:lnTo>
                <a:lnTo>
                  <a:pt x="1562071" y="2000250"/>
                </a:lnTo>
                <a:lnTo>
                  <a:pt x="1553180" y="2000250"/>
                </a:lnTo>
                <a:lnTo>
                  <a:pt x="164495" y="2000250"/>
                </a:lnTo>
                <a:lnTo>
                  <a:pt x="155604" y="2000250"/>
                </a:lnTo>
                <a:lnTo>
                  <a:pt x="147665" y="1999615"/>
                </a:lnTo>
                <a:lnTo>
                  <a:pt x="139408" y="1998345"/>
                </a:lnTo>
                <a:lnTo>
                  <a:pt x="131152" y="1997075"/>
                </a:lnTo>
                <a:lnTo>
                  <a:pt x="123213" y="1995170"/>
                </a:lnTo>
                <a:lnTo>
                  <a:pt x="115591" y="1992948"/>
                </a:lnTo>
                <a:lnTo>
                  <a:pt x="107970" y="1990408"/>
                </a:lnTo>
                <a:lnTo>
                  <a:pt x="100348" y="1987550"/>
                </a:lnTo>
                <a:lnTo>
                  <a:pt x="93044" y="1984375"/>
                </a:lnTo>
                <a:lnTo>
                  <a:pt x="86058" y="1980565"/>
                </a:lnTo>
                <a:lnTo>
                  <a:pt x="79072" y="1976755"/>
                </a:lnTo>
                <a:lnTo>
                  <a:pt x="72721" y="1972310"/>
                </a:lnTo>
                <a:lnTo>
                  <a:pt x="66052" y="1967865"/>
                </a:lnTo>
                <a:lnTo>
                  <a:pt x="59701" y="1962785"/>
                </a:lnTo>
                <a:lnTo>
                  <a:pt x="53667" y="1957705"/>
                </a:lnTo>
                <a:lnTo>
                  <a:pt x="48269" y="1952308"/>
                </a:lnTo>
                <a:lnTo>
                  <a:pt x="42553" y="1946275"/>
                </a:lnTo>
                <a:lnTo>
                  <a:pt x="37472" y="1940560"/>
                </a:lnTo>
                <a:lnTo>
                  <a:pt x="32391" y="1934210"/>
                </a:lnTo>
                <a:lnTo>
                  <a:pt x="27945" y="1927860"/>
                </a:lnTo>
                <a:lnTo>
                  <a:pt x="23817" y="1921193"/>
                </a:lnTo>
                <a:lnTo>
                  <a:pt x="19688" y="1914208"/>
                </a:lnTo>
                <a:lnTo>
                  <a:pt x="16195" y="1907223"/>
                </a:lnTo>
                <a:lnTo>
                  <a:pt x="12702" y="1900238"/>
                </a:lnTo>
                <a:lnTo>
                  <a:pt x="9844" y="1892300"/>
                </a:lnTo>
                <a:lnTo>
                  <a:pt x="7304" y="1884680"/>
                </a:lnTo>
                <a:lnTo>
                  <a:pt x="5081" y="1877060"/>
                </a:lnTo>
                <a:lnTo>
                  <a:pt x="3175" y="1869123"/>
                </a:lnTo>
                <a:lnTo>
                  <a:pt x="1905" y="1861185"/>
                </a:lnTo>
                <a:lnTo>
                  <a:pt x="635" y="1852613"/>
                </a:lnTo>
                <a:lnTo>
                  <a:pt x="0" y="1844358"/>
                </a:lnTo>
                <a:lnTo>
                  <a:pt x="0" y="1836103"/>
                </a:lnTo>
                <a:lnTo>
                  <a:pt x="0" y="489585"/>
                </a:lnTo>
                <a:lnTo>
                  <a:pt x="48935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KSO_Shape"/>
          <p:cNvSpPr/>
          <p:nvPr/>
        </p:nvSpPr>
        <p:spPr>
          <a:xfrm>
            <a:off x="6630840" y="2460600"/>
            <a:ext cx="414360" cy="352440"/>
          </a:xfrm>
          <a:custGeom>
            <a:avLst/>
            <a:gdLst>
              <a:gd name="textAreaLeft" fmla="*/ 0 w 414360"/>
              <a:gd name="textAreaRight" fmla="*/ 414720 w 414360"/>
              <a:gd name="textAreaTop" fmla="*/ 0 h 352440"/>
              <a:gd name="textAreaBottom" fmla="*/ 352440 h 352440"/>
            </a:gdLst>
            <a:ahLst/>
            <a:rect l="textAreaLeft" t="textAreaTop" r="textAreaRight" b="textAreaBottom"/>
            <a:pathLst>
              <a:path w="2276475" h="1936751">
                <a:moveTo>
                  <a:pt x="872202" y="1555750"/>
                </a:moveTo>
                <a:lnTo>
                  <a:pt x="879190" y="1555750"/>
                </a:lnTo>
                <a:lnTo>
                  <a:pt x="1397284" y="1555750"/>
                </a:lnTo>
                <a:lnTo>
                  <a:pt x="1404272" y="1555750"/>
                </a:lnTo>
                <a:lnTo>
                  <a:pt x="1410943" y="1557024"/>
                </a:lnTo>
                <a:lnTo>
                  <a:pt x="1417614" y="1557979"/>
                </a:lnTo>
                <a:lnTo>
                  <a:pt x="1423649" y="1560208"/>
                </a:lnTo>
                <a:lnTo>
                  <a:pt x="1430002" y="1562437"/>
                </a:lnTo>
                <a:lnTo>
                  <a:pt x="1435403" y="1565303"/>
                </a:lnTo>
                <a:lnTo>
                  <a:pt x="1440485" y="1568168"/>
                </a:lnTo>
                <a:lnTo>
                  <a:pt x="1445567" y="1571989"/>
                </a:lnTo>
                <a:lnTo>
                  <a:pt x="1450015" y="1576128"/>
                </a:lnTo>
                <a:lnTo>
                  <a:pt x="1453509" y="1580268"/>
                </a:lnTo>
                <a:lnTo>
                  <a:pt x="1457321" y="1584726"/>
                </a:lnTo>
                <a:lnTo>
                  <a:pt x="1460180" y="1589502"/>
                </a:lnTo>
                <a:lnTo>
                  <a:pt x="1462403" y="1594915"/>
                </a:lnTo>
                <a:lnTo>
                  <a:pt x="1463674" y="1600009"/>
                </a:lnTo>
                <a:lnTo>
                  <a:pt x="1464944" y="1605741"/>
                </a:lnTo>
                <a:lnTo>
                  <a:pt x="1465262" y="1611472"/>
                </a:lnTo>
                <a:lnTo>
                  <a:pt x="1464944" y="1617203"/>
                </a:lnTo>
                <a:lnTo>
                  <a:pt x="1463674" y="1622935"/>
                </a:lnTo>
                <a:lnTo>
                  <a:pt x="1462403" y="1628029"/>
                </a:lnTo>
                <a:lnTo>
                  <a:pt x="1460180" y="1633124"/>
                </a:lnTo>
                <a:lnTo>
                  <a:pt x="1457321" y="1638218"/>
                </a:lnTo>
                <a:lnTo>
                  <a:pt x="1453509" y="1642358"/>
                </a:lnTo>
                <a:lnTo>
                  <a:pt x="1450015" y="1646815"/>
                </a:lnTo>
                <a:lnTo>
                  <a:pt x="1445567" y="1650955"/>
                </a:lnTo>
                <a:lnTo>
                  <a:pt x="1440485" y="1654457"/>
                </a:lnTo>
                <a:lnTo>
                  <a:pt x="1435403" y="1657641"/>
                </a:lnTo>
                <a:lnTo>
                  <a:pt x="1430002" y="1660507"/>
                </a:lnTo>
                <a:lnTo>
                  <a:pt x="1423649" y="1662736"/>
                </a:lnTo>
                <a:lnTo>
                  <a:pt x="1417614" y="1664328"/>
                </a:lnTo>
                <a:lnTo>
                  <a:pt x="1410943" y="1665920"/>
                </a:lnTo>
                <a:lnTo>
                  <a:pt x="1404272" y="1666875"/>
                </a:lnTo>
                <a:lnTo>
                  <a:pt x="1397284" y="1666875"/>
                </a:lnTo>
                <a:lnTo>
                  <a:pt x="879190" y="1666875"/>
                </a:lnTo>
                <a:lnTo>
                  <a:pt x="872202" y="1666875"/>
                </a:lnTo>
                <a:lnTo>
                  <a:pt x="865531" y="1665920"/>
                </a:lnTo>
                <a:lnTo>
                  <a:pt x="858860" y="1664328"/>
                </a:lnTo>
                <a:lnTo>
                  <a:pt x="852507" y="1662736"/>
                </a:lnTo>
                <a:lnTo>
                  <a:pt x="846790" y="1660507"/>
                </a:lnTo>
                <a:lnTo>
                  <a:pt x="841389" y="1657641"/>
                </a:lnTo>
                <a:lnTo>
                  <a:pt x="835989" y="1654139"/>
                </a:lnTo>
                <a:lnTo>
                  <a:pt x="831224" y="1650955"/>
                </a:lnTo>
                <a:lnTo>
                  <a:pt x="826777" y="1646815"/>
                </a:lnTo>
                <a:lnTo>
                  <a:pt x="822648" y="1642358"/>
                </a:lnTo>
                <a:lnTo>
                  <a:pt x="819471" y="1637900"/>
                </a:lnTo>
                <a:lnTo>
                  <a:pt x="816612" y="1633124"/>
                </a:lnTo>
                <a:lnTo>
                  <a:pt x="814389" y="1628029"/>
                </a:lnTo>
                <a:lnTo>
                  <a:pt x="812483" y="1622935"/>
                </a:lnTo>
                <a:lnTo>
                  <a:pt x="811530" y="1617203"/>
                </a:lnTo>
                <a:lnTo>
                  <a:pt x="811212" y="1611472"/>
                </a:lnTo>
                <a:lnTo>
                  <a:pt x="811530" y="1605741"/>
                </a:lnTo>
                <a:lnTo>
                  <a:pt x="812483" y="1600009"/>
                </a:lnTo>
                <a:lnTo>
                  <a:pt x="814389" y="1594915"/>
                </a:lnTo>
                <a:lnTo>
                  <a:pt x="816612" y="1589820"/>
                </a:lnTo>
                <a:lnTo>
                  <a:pt x="819471" y="1584726"/>
                </a:lnTo>
                <a:lnTo>
                  <a:pt x="822648" y="1580268"/>
                </a:lnTo>
                <a:lnTo>
                  <a:pt x="826777" y="1576128"/>
                </a:lnTo>
                <a:lnTo>
                  <a:pt x="831224" y="1571989"/>
                </a:lnTo>
                <a:lnTo>
                  <a:pt x="835989" y="1568168"/>
                </a:lnTo>
                <a:lnTo>
                  <a:pt x="841389" y="1565303"/>
                </a:lnTo>
                <a:lnTo>
                  <a:pt x="846790" y="1562437"/>
                </a:lnTo>
                <a:lnTo>
                  <a:pt x="852507" y="1560208"/>
                </a:lnTo>
                <a:lnTo>
                  <a:pt x="858860" y="1558298"/>
                </a:lnTo>
                <a:lnTo>
                  <a:pt x="865531" y="1557024"/>
                </a:lnTo>
                <a:lnTo>
                  <a:pt x="872202" y="1555750"/>
                </a:lnTo>
                <a:close/>
                <a:moveTo>
                  <a:pt x="984211" y="1325563"/>
                </a:moveTo>
                <a:lnTo>
                  <a:pt x="1292263" y="1325563"/>
                </a:lnTo>
                <a:lnTo>
                  <a:pt x="1297339" y="1325880"/>
                </a:lnTo>
                <a:lnTo>
                  <a:pt x="1302415" y="1326513"/>
                </a:lnTo>
                <a:lnTo>
                  <a:pt x="1307174" y="1327779"/>
                </a:lnTo>
                <a:lnTo>
                  <a:pt x="1311615" y="1329361"/>
                </a:lnTo>
                <a:lnTo>
                  <a:pt x="1315740" y="1331260"/>
                </a:lnTo>
                <a:lnTo>
                  <a:pt x="1319864" y="1333792"/>
                </a:lnTo>
                <a:lnTo>
                  <a:pt x="1323671" y="1336640"/>
                </a:lnTo>
                <a:lnTo>
                  <a:pt x="1327161" y="1340121"/>
                </a:lnTo>
                <a:lnTo>
                  <a:pt x="1330333" y="1343286"/>
                </a:lnTo>
                <a:lnTo>
                  <a:pt x="1332871" y="1347400"/>
                </a:lnTo>
                <a:lnTo>
                  <a:pt x="1335409" y="1351198"/>
                </a:lnTo>
                <a:lnTo>
                  <a:pt x="1337630" y="1355629"/>
                </a:lnTo>
                <a:lnTo>
                  <a:pt x="1339216" y="1360059"/>
                </a:lnTo>
                <a:lnTo>
                  <a:pt x="1340485" y="1364807"/>
                </a:lnTo>
                <a:lnTo>
                  <a:pt x="1341437" y="1369870"/>
                </a:lnTo>
                <a:lnTo>
                  <a:pt x="1341437" y="1374934"/>
                </a:lnTo>
                <a:lnTo>
                  <a:pt x="1341437" y="1379681"/>
                </a:lnTo>
                <a:lnTo>
                  <a:pt x="1340485" y="1384745"/>
                </a:lnTo>
                <a:lnTo>
                  <a:pt x="1339216" y="1389492"/>
                </a:lnTo>
                <a:lnTo>
                  <a:pt x="1337630" y="1393923"/>
                </a:lnTo>
                <a:lnTo>
                  <a:pt x="1335409" y="1398037"/>
                </a:lnTo>
                <a:lnTo>
                  <a:pt x="1332871" y="1402151"/>
                </a:lnTo>
                <a:lnTo>
                  <a:pt x="1330016" y="1405632"/>
                </a:lnTo>
                <a:lnTo>
                  <a:pt x="1327161" y="1409430"/>
                </a:lnTo>
                <a:lnTo>
                  <a:pt x="1323671" y="1412595"/>
                </a:lnTo>
                <a:lnTo>
                  <a:pt x="1319864" y="1415443"/>
                </a:lnTo>
                <a:lnTo>
                  <a:pt x="1315740" y="1417659"/>
                </a:lnTo>
                <a:lnTo>
                  <a:pt x="1311615" y="1419874"/>
                </a:lnTo>
                <a:lnTo>
                  <a:pt x="1306857" y="1421773"/>
                </a:lnTo>
                <a:lnTo>
                  <a:pt x="1302415" y="1422722"/>
                </a:lnTo>
                <a:lnTo>
                  <a:pt x="1297339" y="1423672"/>
                </a:lnTo>
                <a:lnTo>
                  <a:pt x="1292263" y="1423988"/>
                </a:lnTo>
                <a:lnTo>
                  <a:pt x="984211" y="1423988"/>
                </a:lnTo>
                <a:lnTo>
                  <a:pt x="979453" y="1423672"/>
                </a:lnTo>
                <a:lnTo>
                  <a:pt x="974377" y="1422722"/>
                </a:lnTo>
                <a:lnTo>
                  <a:pt x="969618" y="1421773"/>
                </a:lnTo>
                <a:lnTo>
                  <a:pt x="965176" y="1419874"/>
                </a:lnTo>
                <a:lnTo>
                  <a:pt x="960735" y="1417659"/>
                </a:lnTo>
                <a:lnTo>
                  <a:pt x="956928" y="1415443"/>
                </a:lnTo>
                <a:lnTo>
                  <a:pt x="952803" y="1412595"/>
                </a:lnTo>
                <a:lnTo>
                  <a:pt x="949631" y="1409430"/>
                </a:lnTo>
                <a:lnTo>
                  <a:pt x="946141" y="1405632"/>
                </a:lnTo>
                <a:lnTo>
                  <a:pt x="943286" y="1402151"/>
                </a:lnTo>
                <a:lnTo>
                  <a:pt x="941065" y="1398037"/>
                </a:lnTo>
                <a:lnTo>
                  <a:pt x="938844" y="1393923"/>
                </a:lnTo>
                <a:lnTo>
                  <a:pt x="937258" y="1389492"/>
                </a:lnTo>
                <a:lnTo>
                  <a:pt x="935989" y="1384745"/>
                </a:lnTo>
                <a:lnTo>
                  <a:pt x="935355" y="1379681"/>
                </a:lnTo>
                <a:lnTo>
                  <a:pt x="935037" y="1374934"/>
                </a:lnTo>
                <a:lnTo>
                  <a:pt x="935355" y="1369870"/>
                </a:lnTo>
                <a:lnTo>
                  <a:pt x="935989" y="1364807"/>
                </a:lnTo>
                <a:lnTo>
                  <a:pt x="937258" y="1360059"/>
                </a:lnTo>
                <a:lnTo>
                  <a:pt x="938844" y="1355629"/>
                </a:lnTo>
                <a:lnTo>
                  <a:pt x="940748" y="1351198"/>
                </a:lnTo>
                <a:lnTo>
                  <a:pt x="943286" y="1347400"/>
                </a:lnTo>
                <a:lnTo>
                  <a:pt x="946141" y="1343286"/>
                </a:lnTo>
                <a:lnTo>
                  <a:pt x="949631" y="1340121"/>
                </a:lnTo>
                <a:lnTo>
                  <a:pt x="952803" y="1336640"/>
                </a:lnTo>
                <a:lnTo>
                  <a:pt x="956928" y="1333792"/>
                </a:lnTo>
                <a:lnTo>
                  <a:pt x="960735" y="1331260"/>
                </a:lnTo>
                <a:lnTo>
                  <a:pt x="965176" y="1329361"/>
                </a:lnTo>
                <a:lnTo>
                  <a:pt x="969618" y="1327779"/>
                </a:lnTo>
                <a:lnTo>
                  <a:pt x="974377" y="1326513"/>
                </a:lnTo>
                <a:lnTo>
                  <a:pt x="979453" y="1325880"/>
                </a:lnTo>
                <a:lnTo>
                  <a:pt x="984211" y="1325563"/>
                </a:lnTo>
                <a:close/>
                <a:moveTo>
                  <a:pt x="369286" y="1074738"/>
                </a:moveTo>
                <a:lnTo>
                  <a:pt x="887697" y="1074738"/>
                </a:lnTo>
                <a:lnTo>
                  <a:pt x="894368" y="1075056"/>
                </a:lnTo>
                <a:lnTo>
                  <a:pt x="901356" y="1076008"/>
                </a:lnTo>
                <a:lnTo>
                  <a:pt x="908027" y="1077278"/>
                </a:lnTo>
                <a:lnTo>
                  <a:pt x="914063" y="1079183"/>
                </a:lnTo>
                <a:lnTo>
                  <a:pt x="920098" y="1081406"/>
                </a:lnTo>
                <a:lnTo>
                  <a:pt x="925816" y="1084263"/>
                </a:lnTo>
                <a:lnTo>
                  <a:pt x="930898" y="1087438"/>
                </a:lnTo>
                <a:lnTo>
                  <a:pt x="935663" y="1090931"/>
                </a:lnTo>
                <a:lnTo>
                  <a:pt x="940110" y="1094741"/>
                </a:lnTo>
                <a:lnTo>
                  <a:pt x="944240" y="1099186"/>
                </a:lnTo>
                <a:lnTo>
                  <a:pt x="947416" y="1103948"/>
                </a:lnTo>
                <a:lnTo>
                  <a:pt x="950275" y="1108711"/>
                </a:lnTo>
                <a:lnTo>
                  <a:pt x="952499" y="1113791"/>
                </a:lnTo>
                <a:lnTo>
                  <a:pt x="954405" y="1118871"/>
                </a:lnTo>
                <a:lnTo>
                  <a:pt x="955358" y="1124903"/>
                </a:lnTo>
                <a:lnTo>
                  <a:pt x="955675" y="1130301"/>
                </a:lnTo>
                <a:lnTo>
                  <a:pt x="955358" y="1136016"/>
                </a:lnTo>
                <a:lnTo>
                  <a:pt x="954405" y="1141413"/>
                </a:lnTo>
                <a:lnTo>
                  <a:pt x="952499" y="1147128"/>
                </a:lnTo>
                <a:lnTo>
                  <a:pt x="950275" y="1152208"/>
                </a:lnTo>
                <a:lnTo>
                  <a:pt x="947416" y="1156971"/>
                </a:lnTo>
                <a:lnTo>
                  <a:pt x="944240" y="1161098"/>
                </a:lnTo>
                <a:lnTo>
                  <a:pt x="940110" y="1165543"/>
                </a:lnTo>
                <a:lnTo>
                  <a:pt x="935663" y="1169671"/>
                </a:lnTo>
                <a:lnTo>
                  <a:pt x="930898" y="1173163"/>
                </a:lnTo>
                <a:lnTo>
                  <a:pt x="925816" y="1176656"/>
                </a:lnTo>
                <a:lnTo>
                  <a:pt x="920098" y="1179196"/>
                </a:lnTo>
                <a:lnTo>
                  <a:pt x="914063" y="1181736"/>
                </a:lnTo>
                <a:lnTo>
                  <a:pt x="908027" y="1183323"/>
                </a:lnTo>
                <a:lnTo>
                  <a:pt x="901356" y="1184593"/>
                </a:lnTo>
                <a:lnTo>
                  <a:pt x="894368" y="1185546"/>
                </a:lnTo>
                <a:lnTo>
                  <a:pt x="887697" y="1185863"/>
                </a:lnTo>
                <a:lnTo>
                  <a:pt x="369286" y="1185863"/>
                </a:lnTo>
                <a:lnTo>
                  <a:pt x="362615" y="1185546"/>
                </a:lnTo>
                <a:lnTo>
                  <a:pt x="355944" y="1184593"/>
                </a:lnTo>
                <a:lnTo>
                  <a:pt x="349273" y="1183323"/>
                </a:lnTo>
                <a:lnTo>
                  <a:pt x="343238" y="1181736"/>
                </a:lnTo>
                <a:lnTo>
                  <a:pt x="337203" y="1179196"/>
                </a:lnTo>
                <a:lnTo>
                  <a:pt x="331485" y="1176656"/>
                </a:lnTo>
                <a:lnTo>
                  <a:pt x="326402" y="1173163"/>
                </a:lnTo>
                <a:lnTo>
                  <a:pt x="321637" y="1169671"/>
                </a:lnTo>
                <a:lnTo>
                  <a:pt x="317190" y="1165543"/>
                </a:lnTo>
                <a:lnTo>
                  <a:pt x="313378" y="1161098"/>
                </a:lnTo>
                <a:lnTo>
                  <a:pt x="309884" y="1156971"/>
                </a:lnTo>
                <a:lnTo>
                  <a:pt x="307025" y="1152208"/>
                </a:lnTo>
                <a:lnTo>
                  <a:pt x="304802" y="1147128"/>
                </a:lnTo>
                <a:lnTo>
                  <a:pt x="302896" y="1141413"/>
                </a:lnTo>
                <a:lnTo>
                  <a:pt x="301943" y="1136016"/>
                </a:lnTo>
                <a:lnTo>
                  <a:pt x="301625" y="1130301"/>
                </a:lnTo>
                <a:lnTo>
                  <a:pt x="301943" y="1124903"/>
                </a:lnTo>
                <a:lnTo>
                  <a:pt x="302896" y="1119188"/>
                </a:lnTo>
                <a:lnTo>
                  <a:pt x="304802" y="1113791"/>
                </a:lnTo>
                <a:lnTo>
                  <a:pt x="307025" y="1108711"/>
                </a:lnTo>
                <a:lnTo>
                  <a:pt x="309884" y="1103948"/>
                </a:lnTo>
                <a:lnTo>
                  <a:pt x="313378" y="1099186"/>
                </a:lnTo>
                <a:lnTo>
                  <a:pt x="317190" y="1094741"/>
                </a:lnTo>
                <a:lnTo>
                  <a:pt x="321637" y="1091248"/>
                </a:lnTo>
                <a:lnTo>
                  <a:pt x="326402" y="1087438"/>
                </a:lnTo>
                <a:lnTo>
                  <a:pt x="331485" y="1084263"/>
                </a:lnTo>
                <a:lnTo>
                  <a:pt x="337203" y="1081406"/>
                </a:lnTo>
                <a:lnTo>
                  <a:pt x="343238" y="1079183"/>
                </a:lnTo>
                <a:lnTo>
                  <a:pt x="349273" y="1077278"/>
                </a:lnTo>
                <a:lnTo>
                  <a:pt x="355944" y="1076008"/>
                </a:lnTo>
                <a:lnTo>
                  <a:pt x="362615" y="1075056"/>
                </a:lnTo>
                <a:lnTo>
                  <a:pt x="369286" y="1074738"/>
                </a:lnTo>
                <a:close/>
                <a:moveTo>
                  <a:pt x="1261435" y="965200"/>
                </a:moveTo>
                <a:lnTo>
                  <a:pt x="1264624" y="965200"/>
                </a:lnTo>
                <a:lnTo>
                  <a:pt x="1267814" y="965200"/>
                </a:lnTo>
                <a:lnTo>
                  <a:pt x="1271322" y="965838"/>
                </a:lnTo>
                <a:lnTo>
                  <a:pt x="1275149" y="967114"/>
                </a:lnTo>
                <a:lnTo>
                  <a:pt x="1278977" y="968390"/>
                </a:lnTo>
                <a:lnTo>
                  <a:pt x="1282804" y="969984"/>
                </a:lnTo>
                <a:lnTo>
                  <a:pt x="1290777" y="973811"/>
                </a:lnTo>
                <a:lnTo>
                  <a:pt x="1298113" y="978277"/>
                </a:lnTo>
                <a:lnTo>
                  <a:pt x="1304491" y="982742"/>
                </a:lnTo>
                <a:lnTo>
                  <a:pt x="1308637" y="986250"/>
                </a:lnTo>
                <a:lnTo>
                  <a:pt x="1312784" y="990715"/>
                </a:lnTo>
                <a:lnTo>
                  <a:pt x="1317249" y="997094"/>
                </a:lnTo>
                <a:lnTo>
                  <a:pt x="1321395" y="1004429"/>
                </a:lnTo>
                <a:lnTo>
                  <a:pt x="1325222" y="1012403"/>
                </a:lnTo>
                <a:lnTo>
                  <a:pt x="1326817" y="1016549"/>
                </a:lnTo>
                <a:lnTo>
                  <a:pt x="1328092" y="1020057"/>
                </a:lnTo>
                <a:lnTo>
                  <a:pt x="1329368" y="1024203"/>
                </a:lnTo>
                <a:lnTo>
                  <a:pt x="1330006" y="1027711"/>
                </a:lnTo>
                <a:lnTo>
                  <a:pt x="1330325" y="1030901"/>
                </a:lnTo>
                <a:lnTo>
                  <a:pt x="1330006" y="1034090"/>
                </a:lnTo>
                <a:lnTo>
                  <a:pt x="1329368" y="1036004"/>
                </a:lnTo>
                <a:lnTo>
                  <a:pt x="1327774" y="1038236"/>
                </a:lnTo>
                <a:lnTo>
                  <a:pt x="1228904" y="1099472"/>
                </a:lnTo>
                <a:lnTo>
                  <a:pt x="1226990" y="1101066"/>
                </a:lnTo>
                <a:lnTo>
                  <a:pt x="1225396" y="1102342"/>
                </a:lnTo>
                <a:lnTo>
                  <a:pt x="1223163" y="1103618"/>
                </a:lnTo>
                <a:lnTo>
                  <a:pt x="1220930" y="1104575"/>
                </a:lnTo>
                <a:lnTo>
                  <a:pt x="1219017" y="1105213"/>
                </a:lnTo>
                <a:lnTo>
                  <a:pt x="1216784" y="1105850"/>
                </a:lnTo>
                <a:lnTo>
                  <a:pt x="1212000" y="1106488"/>
                </a:lnTo>
                <a:lnTo>
                  <a:pt x="1207854" y="1105850"/>
                </a:lnTo>
                <a:lnTo>
                  <a:pt x="1205622" y="1105213"/>
                </a:lnTo>
                <a:lnTo>
                  <a:pt x="1203389" y="1104575"/>
                </a:lnTo>
                <a:lnTo>
                  <a:pt x="1201475" y="1103618"/>
                </a:lnTo>
                <a:lnTo>
                  <a:pt x="1199243" y="1102342"/>
                </a:lnTo>
                <a:lnTo>
                  <a:pt x="1197329" y="1101066"/>
                </a:lnTo>
                <a:lnTo>
                  <a:pt x="1195735" y="1099472"/>
                </a:lnTo>
                <a:lnTo>
                  <a:pt x="1194140" y="1097558"/>
                </a:lnTo>
                <a:lnTo>
                  <a:pt x="1192864" y="1095963"/>
                </a:lnTo>
                <a:lnTo>
                  <a:pt x="1191588" y="1093731"/>
                </a:lnTo>
                <a:lnTo>
                  <a:pt x="1190632" y="1091817"/>
                </a:lnTo>
                <a:lnTo>
                  <a:pt x="1189356" y="1087352"/>
                </a:lnTo>
                <a:lnTo>
                  <a:pt x="1189037" y="1082887"/>
                </a:lnTo>
                <a:lnTo>
                  <a:pt x="1189356" y="1078741"/>
                </a:lnTo>
                <a:lnTo>
                  <a:pt x="1190632" y="1074276"/>
                </a:lnTo>
                <a:lnTo>
                  <a:pt x="1191588" y="1072043"/>
                </a:lnTo>
                <a:lnTo>
                  <a:pt x="1192864" y="1070130"/>
                </a:lnTo>
                <a:lnTo>
                  <a:pt x="1194140" y="1068535"/>
                </a:lnTo>
                <a:lnTo>
                  <a:pt x="1195735" y="1066621"/>
                </a:lnTo>
                <a:lnTo>
                  <a:pt x="1257289" y="967433"/>
                </a:lnTo>
                <a:lnTo>
                  <a:pt x="1258884" y="965838"/>
                </a:lnTo>
                <a:lnTo>
                  <a:pt x="1261435" y="965200"/>
                </a:lnTo>
                <a:close/>
                <a:moveTo>
                  <a:pt x="346041" y="844550"/>
                </a:moveTo>
                <a:lnTo>
                  <a:pt x="350799" y="844550"/>
                </a:lnTo>
                <a:lnTo>
                  <a:pt x="658851" y="844550"/>
                </a:lnTo>
                <a:lnTo>
                  <a:pt x="663927" y="844550"/>
                </a:lnTo>
                <a:lnTo>
                  <a:pt x="669003" y="845185"/>
                </a:lnTo>
                <a:lnTo>
                  <a:pt x="673762" y="846773"/>
                </a:lnTo>
                <a:lnTo>
                  <a:pt x="678204" y="848043"/>
                </a:lnTo>
                <a:lnTo>
                  <a:pt x="682645" y="850265"/>
                </a:lnTo>
                <a:lnTo>
                  <a:pt x="686452" y="852805"/>
                </a:lnTo>
                <a:lnTo>
                  <a:pt x="690259" y="855345"/>
                </a:lnTo>
                <a:lnTo>
                  <a:pt x="693749" y="858838"/>
                </a:lnTo>
                <a:lnTo>
                  <a:pt x="697239" y="862330"/>
                </a:lnTo>
                <a:lnTo>
                  <a:pt x="699777" y="865823"/>
                </a:lnTo>
                <a:lnTo>
                  <a:pt x="702315" y="869950"/>
                </a:lnTo>
                <a:lnTo>
                  <a:pt x="704218" y="874395"/>
                </a:lnTo>
                <a:lnTo>
                  <a:pt x="705804" y="879158"/>
                </a:lnTo>
                <a:lnTo>
                  <a:pt x="707391" y="883920"/>
                </a:lnTo>
                <a:lnTo>
                  <a:pt x="708025" y="888683"/>
                </a:lnTo>
                <a:lnTo>
                  <a:pt x="708025" y="893763"/>
                </a:lnTo>
                <a:lnTo>
                  <a:pt x="708025" y="898843"/>
                </a:lnTo>
                <a:lnTo>
                  <a:pt x="707391" y="903605"/>
                </a:lnTo>
                <a:lnTo>
                  <a:pt x="705804" y="908368"/>
                </a:lnTo>
                <a:lnTo>
                  <a:pt x="704218" y="912495"/>
                </a:lnTo>
                <a:lnTo>
                  <a:pt x="702315" y="916940"/>
                </a:lnTo>
                <a:lnTo>
                  <a:pt x="699777" y="921068"/>
                </a:lnTo>
                <a:lnTo>
                  <a:pt x="697239" y="924878"/>
                </a:lnTo>
                <a:lnTo>
                  <a:pt x="693749" y="928370"/>
                </a:lnTo>
                <a:lnTo>
                  <a:pt x="690259" y="931545"/>
                </a:lnTo>
                <a:lnTo>
                  <a:pt x="686452" y="934403"/>
                </a:lnTo>
                <a:lnTo>
                  <a:pt x="682645" y="936943"/>
                </a:lnTo>
                <a:lnTo>
                  <a:pt x="678204" y="938848"/>
                </a:lnTo>
                <a:lnTo>
                  <a:pt x="673762" y="940753"/>
                </a:lnTo>
                <a:lnTo>
                  <a:pt x="669003" y="941705"/>
                </a:lnTo>
                <a:lnTo>
                  <a:pt x="663927" y="942658"/>
                </a:lnTo>
                <a:lnTo>
                  <a:pt x="658851" y="942975"/>
                </a:lnTo>
                <a:lnTo>
                  <a:pt x="350799" y="942975"/>
                </a:lnTo>
                <a:lnTo>
                  <a:pt x="346041" y="942658"/>
                </a:lnTo>
                <a:lnTo>
                  <a:pt x="340965" y="941705"/>
                </a:lnTo>
                <a:lnTo>
                  <a:pt x="336206" y="940753"/>
                </a:lnTo>
                <a:lnTo>
                  <a:pt x="331764" y="938848"/>
                </a:lnTo>
                <a:lnTo>
                  <a:pt x="327323" y="936943"/>
                </a:lnTo>
                <a:lnTo>
                  <a:pt x="323516" y="934403"/>
                </a:lnTo>
                <a:lnTo>
                  <a:pt x="319391" y="931545"/>
                </a:lnTo>
                <a:lnTo>
                  <a:pt x="316219" y="928370"/>
                </a:lnTo>
                <a:lnTo>
                  <a:pt x="312729" y="924878"/>
                </a:lnTo>
                <a:lnTo>
                  <a:pt x="309874" y="921068"/>
                </a:lnTo>
                <a:lnTo>
                  <a:pt x="307653" y="916940"/>
                </a:lnTo>
                <a:lnTo>
                  <a:pt x="305432" y="912495"/>
                </a:lnTo>
                <a:lnTo>
                  <a:pt x="303846" y="908368"/>
                </a:lnTo>
                <a:lnTo>
                  <a:pt x="302577" y="903605"/>
                </a:lnTo>
                <a:lnTo>
                  <a:pt x="301943" y="898843"/>
                </a:lnTo>
                <a:lnTo>
                  <a:pt x="301625" y="893763"/>
                </a:lnTo>
                <a:lnTo>
                  <a:pt x="301943" y="888683"/>
                </a:lnTo>
                <a:lnTo>
                  <a:pt x="302577" y="883920"/>
                </a:lnTo>
                <a:lnTo>
                  <a:pt x="303846" y="879158"/>
                </a:lnTo>
                <a:lnTo>
                  <a:pt x="305432" y="874395"/>
                </a:lnTo>
                <a:lnTo>
                  <a:pt x="307336" y="869950"/>
                </a:lnTo>
                <a:lnTo>
                  <a:pt x="309874" y="865823"/>
                </a:lnTo>
                <a:lnTo>
                  <a:pt x="312729" y="862330"/>
                </a:lnTo>
                <a:lnTo>
                  <a:pt x="316219" y="858838"/>
                </a:lnTo>
                <a:lnTo>
                  <a:pt x="319391" y="855345"/>
                </a:lnTo>
                <a:lnTo>
                  <a:pt x="323516" y="852805"/>
                </a:lnTo>
                <a:lnTo>
                  <a:pt x="327323" y="850265"/>
                </a:lnTo>
                <a:lnTo>
                  <a:pt x="331764" y="848043"/>
                </a:lnTo>
                <a:lnTo>
                  <a:pt x="336206" y="846773"/>
                </a:lnTo>
                <a:lnTo>
                  <a:pt x="340965" y="845185"/>
                </a:lnTo>
                <a:lnTo>
                  <a:pt x="346041" y="844550"/>
                </a:lnTo>
                <a:close/>
                <a:moveTo>
                  <a:pt x="344144" y="590550"/>
                </a:moveTo>
                <a:lnTo>
                  <a:pt x="960782" y="590550"/>
                </a:lnTo>
                <a:lnTo>
                  <a:pt x="966812" y="591185"/>
                </a:lnTo>
                <a:lnTo>
                  <a:pt x="973159" y="592138"/>
                </a:lnTo>
                <a:lnTo>
                  <a:pt x="978871" y="593725"/>
                </a:lnTo>
                <a:lnTo>
                  <a:pt x="984584" y="595630"/>
                </a:lnTo>
                <a:lnTo>
                  <a:pt x="990296" y="598488"/>
                </a:lnTo>
                <a:lnTo>
                  <a:pt x="995374" y="601345"/>
                </a:lnTo>
                <a:lnTo>
                  <a:pt x="1000135" y="604838"/>
                </a:lnTo>
                <a:lnTo>
                  <a:pt x="1004260" y="608965"/>
                </a:lnTo>
                <a:lnTo>
                  <a:pt x="1008386" y="613410"/>
                </a:lnTo>
                <a:lnTo>
                  <a:pt x="1011560" y="617855"/>
                </a:lnTo>
                <a:lnTo>
                  <a:pt x="1015051" y="623253"/>
                </a:lnTo>
                <a:lnTo>
                  <a:pt x="1017590" y="628650"/>
                </a:lnTo>
                <a:lnTo>
                  <a:pt x="1019811" y="634048"/>
                </a:lnTo>
                <a:lnTo>
                  <a:pt x="1021081" y="639763"/>
                </a:lnTo>
                <a:lnTo>
                  <a:pt x="1021715" y="646113"/>
                </a:lnTo>
                <a:lnTo>
                  <a:pt x="1022350" y="652145"/>
                </a:lnTo>
                <a:lnTo>
                  <a:pt x="1021715" y="658813"/>
                </a:lnTo>
                <a:lnTo>
                  <a:pt x="1021081" y="664528"/>
                </a:lnTo>
                <a:lnTo>
                  <a:pt x="1019811" y="670878"/>
                </a:lnTo>
                <a:lnTo>
                  <a:pt x="1017590" y="676275"/>
                </a:lnTo>
                <a:lnTo>
                  <a:pt x="1015051" y="681673"/>
                </a:lnTo>
                <a:lnTo>
                  <a:pt x="1011560" y="686753"/>
                </a:lnTo>
                <a:lnTo>
                  <a:pt x="1008386" y="691515"/>
                </a:lnTo>
                <a:lnTo>
                  <a:pt x="1004260" y="695960"/>
                </a:lnTo>
                <a:lnTo>
                  <a:pt x="1000135" y="700088"/>
                </a:lnTo>
                <a:lnTo>
                  <a:pt x="995374" y="703580"/>
                </a:lnTo>
                <a:lnTo>
                  <a:pt x="990296" y="706438"/>
                </a:lnTo>
                <a:lnTo>
                  <a:pt x="984584" y="708978"/>
                </a:lnTo>
                <a:lnTo>
                  <a:pt x="978871" y="711200"/>
                </a:lnTo>
                <a:lnTo>
                  <a:pt x="973159" y="712788"/>
                </a:lnTo>
                <a:lnTo>
                  <a:pt x="966812" y="713740"/>
                </a:lnTo>
                <a:lnTo>
                  <a:pt x="960782" y="714375"/>
                </a:lnTo>
                <a:lnTo>
                  <a:pt x="344144" y="714375"/>
                </a:lnTo>
                <a:lnTo>
                  <a:pt x="338114" y="713740"/>
                </a:lnTo>
                <a:lnTo>
                  <a:pt x="331767" y="712788"/>
                </a:lnTo>
                <a:lnTo>
                  <a:pt x="326054" y="711200"/>
                </a:lnTo>
                <a:lnTo>
                  <a:pt x="320342" y="708978"/>
                </a:lnTo>
                <a:lnTo>
                  <a:pt x="314946" y="706438"/>
                </a:lnTo>
                <a:lnTo>
                  <a:pt x="309869" y="703580"/>
                </a:lnTo>
                <a:lnTo>
                  <a:pt x="305108" y="700088"/>
                </a:lnTo>
                <a:lnTo>
                  <a:pt x="300982" y="695960"/>
                </a:lnTo>
                <a:lnTo>
                  <a:pt x="296857" y="691515"/>
                </a:lnTo>
                <a:lnTo>
                  <a:pt x="293366" y="686753"/>
                </a:lnTo>
                <a:lnTo>
                  <a:pt x="290192" y="681673"/>
                </a:lnTo>
                <a:lnTo>
                  <a:pt x="287653" y="676275"/>
                </a:lnTo>
                <a:lnTo>
                  <a:pt x="285432" y="670878"/>
                </a:lnTo>
                <a:lnTo>
                  <a:pt x="284162" y="664528"/>
                </a:lnTo>
                <a:lnTo>
                  <a:pt x="282893" y="658813"/>
                </a:lnTo>
                <a:lnTo>
                  <a:pt x="282575" y="652145"/>
                </a:lnTo>
                <a:lnTo>
                  <a:pt x="282893" y="646113"/>
                </a:lnTo>
                <a:lnTo>
                  <a:pt x="284162" y="639763"/>
                </a:lnTo>
                <a:lnTo>
                  <a:pt x="285432" y="634048"/>
                </a:lnTo>
                <a:lnTo>
                  <a:pt x="287653" y="628650"/>
                </a:lnTo>
                <a:lnTo>
                  <a:pt x="290192" y="623253"/>
                </a:lnTo>
                <a:lnTo>
                  <a:pt x="293366" y="617855"/>
                </a:lnTo>
                <a:lnTo>
                  <a:pt x="296857" y="613410"/>
                </a:lnTo>
                <a:lnTo>
                  <a:pt x="300982" y="608965"/>
                </a:lnTo>
                <a:lnTo>
                  <a:pt x="305108" y="604838"/>
                </a:lnTo>
                <a:lnTo>
                  <a:pt x="309869" y="601345"/>
                </a:lnTo>
                <a:lnTo>
                  <a:pt x="314946" y="598488"/>
                </a:lnTo>
                <a:lnTo>
                  <a:pt x="320342" y="595630"/>
                </a:lnTo>
                <a:lnTo>
                  <a:pt x="326054" y="593725"/>
                </a:lnTo>
                <a:lnTo>
                  <a:pt x="331767" y="592138"/>
                </a:lnTo>
                <a:lnTo>
                  <a:pt x="338114" y="591185"/>
                </a:lnTo>
                <a:lnTo>
                  <a:pt x="344144" y="590550"/>
                </a:lnTo>
                <a:close/>
                <a:moveTo>
                  <a:pt x="1750865" y="411163"/>
                </a:moveTo>
                <a:lnTo>
                  <a:pt x="1754043" y="411481"/>
                </a:lnTo>
                <a:lnTo>
                  <a:pt x="1757540" y="411798"/>
                </a:lnTo>
                <a:lnTo>
                  <a:pt x="1760718" y="413068"/>
                </a:lnTo>
                <a:lnTo>
                  <a:pt x="1764214" y="414021"/>
                </a:lnTo>
                <a:lnTo>
                  <a:pt x="1767710" y="414973"/>
                </a:lnTo>
                <a:lnTo>
                  <a:pt x="1770889" y="416878"/>
                </a:lnTo>
                <a:lnTo>
                  <a:pt x="1777563" y="421006"/>
                </a:lnTo>
                <a:lnTo>
                  <a:pt x="1784555" y="425768"/>
                </a:lnTo>
                <a:lnTo>
                  <a:pt x="1790912" y="431166"/>
                </a:lnTo>
                <a:lnTo>
                  <a:pt x="1797904" y="437198"/>
                </a:lnTo>
                <a:lnTo>
                  <a:pt x="1812207" y="451486"/>
                </a:lnTo>
                <a:lnTo>
                  <a:pt x="1827145" y="466408"/>
                </a:lnTo>
                <a:lnTo>
                  <a:pt x="1836680" y="476251"/>
                </a:lnTo>
                <a:lnTo>
                  <a:pt x="1851935" y="491173"/>
                </a:lnTo>
                <a:lnTo>
                  <a:pt x="1865920" y="505461"/>
                </a:lnTo>
                <a:lnTo>
                  <a:pt x="1872277" y="512446"/>
                </a:lnTo>
                <a:lnTo>
                  <a:pt x="1877680" y="519431"/>
                </a:lnTo>
                <a:lnTo>
                  <a:pt x="1882447" y="525781"/>
                </a:lnTo>
                <a:lnTo>
                  <a:pt x="1886579" y="532766"/>
                </a:lnTo>
                <a:lnTo>
                  <a:pt x="1888486" y="536258"/>
                </a:lnTo>
                <a:lnTo>
                  <a:pt x="1889439" y="539433"/>
                </a:lnTo>
                <a:lnTo>
                  <a:pt x="1891029" y="542608"/>
                </a:lnTo>
                <a:lnTo>
                  <a:pt x="1891664" y="546101"/>
                </a:lnTo>
                <a:lnTo>
                  <a:pt x="1891982" y="549593"/>
                </a:lnTo>
                <a:lnTo>
                  <a:pt x="1892300" y="552768"/>
                </a:lnTo>
                <a:lnTo>
                  <a:pt x="1892300" y="556261"/>
                </a:lnTo>
                <a:lnTo>
                  <a:pt x="1891664" y="559753"/>
                </a:lnTo>
                <a:lnTo>
                  <a:pt x="1891029" y="562928"/>
                </a:lnTo>
                <a:lnTo>
                  <a:pt x="1889757" y="566738"/>
                </a:lnTo>
                <a:lnTo>
                  <a:pt x="1888486" y="570231"/>
                </a:lnTo>
                <a:lnTo>
                  <a:pt x="1886261" y="574041"/>
                </a:lnTo>
                <a:lnTo>
                  <a:pt x="1884036" y="577533"/>
                </a:lnTo>
                <a:lnTo>
                  <a:pt x="1881176" y="581343"/>
                </a:lnTo>
                <a:lnTo>
                  <a:pt x="1877680" y="585153"/>
                </a:lnTo>
                <a:lnTo>
                  <a:pt x="1874184" y="588963"/>
                </a:lnTo>
                <a:lnTo>
                  <a:pt x="1476895" y="985838"/>
                </a:lnTo>
                <a:lnTo>
                  <a:pt x="1472763" y="989966"/>
                </a:lnTo>
                <a:lnTo>
                  <a:pt x="1468313" y="993458"/>
                </a:lnTo>
                <a:lnTo>
                  <a:pt x="1464182" y="996633"/>
                </a:lnTo>
                <a:lnTo>
                  <a:pt x="1459732" y="999808"/>
                </a:lnTo>
                <a:lnTo>
                  <a:pt x="1455282" y="1002348"/>
                </a:lnTo>
                <a:lnTo>
                  <a:pt x="1450515" y="1004888"/>
                </a:lnTo>
                <a:lnTo>
                  <a:pt x="1446065" y="1007111"/>
                </a:lnTo>
                <a:lnTo>
                  <a:pt x="1440980" y="1009016"/>
                </a:lnTo>
                <a:lnTo>
                  <a:pt x="1436212" y="1010921"/>
                </a:lnTo>
                <a:lnTo>
                  <a:pt x="1431445" y="1012826"/>
                </a:lnTo>
                <a:lnTo>
                  <a:pt x="1426360" y="1013778"/>
                </a:lnTo>
                <a:lnTo>
                  <a:pt x="1421274" y="1015366"/>
                </a:lnTo>
                <a:lnTo>
                  <a:pt x="1416507" y="1016001"/>
                </a:lnTo>
                <a:lnTo>
                  <a:pt x="1411422" y="1016953"/>
                </a:lnTo>
                <a:lnTo>
                  <a:pt x="1406336" y="1017271"/>
                </a:lnTo>
                <a:lnTo>
                  <a:pt x="1401569" y="1017588"/>
                </a:lnTo>
                <a:lnTo>
                  <a:pt x="1396484" y="1017588"/>
                </a:lnTo>
                <a:lnTo>
                  <a:pt x="1391716" y="1017271"/>
                </a:lnTo>
                <a:lnTo>
                  <a:pt x="1386949" y="1016953"/>
                </a:lnTo>
                <a:lnTo>
                  <a:pt x="1382499" y="1015683"/>
                </a:lnTo>
                <a:lnTo>
                  <a:pt x="1377731" y="1015048"/>
                </a:lnTo>
                <a:lnTo>
                  <a:pt x="1373282" y="1013461"/>
                </a:lnTo>
                <a:lnTo>
                  <a:pt x="1368832" y="1012191"/>
                </a:lnTo>
                <a:lnTo>
                  <a:pt x="1364700" y="1010286"/>
                </a:lnTo>
                <a:lnTo>
                  <a:pt x="1360886" y="1008063"/>
                </a:lnTo>
                <a:lnTo>
                  <a:pt x="1357072" y="1005523"/>
                </a:lnTo>
                <a:lnTo>
                  <a:pt x="1353576" y="1002983"/>
                </a:lnTo>
                <a:lnTo>
                  <a:pt x="1350080" y="1000126"/>
                </a:lnTo>
                <a:lnTo>
                  <a:pt x="1347220" y="996633"/>
                </a:lnTo>
                <a:lnTo>
                  <a:pt x="1344359" y="993458"/>
                </a:lnTo>
                <a:lnTo>
                  <a:pt x="1341817" y="989331"/>
                </a:lnTo>
                <a:lnTo>
                  <a:pt x="1339274" y="985521"/>
                </a:lnTo>
                <a:lnTo>
                  <a:pt x="1337367" y="981076"/>
                </a:lnTo>
                <a:lnTo>
                  <a:pt x="1335778" y="976313"/>
                </a:lnTo>
                <a:lnTo>
                  <a:pt x="1326561" y="967106"/>
                </a:lnTo>
                <a:lnTo>
                  <a:pt x="1322111" y="965518"/>
                </a:lnTo>
                <a:lnTo>
                  <a:pt x="1317979" y="963296"/>
                </a:lnTo>
                <a:lnTo>
                  <a:pt x="1314165" y="961073"/>
                </a:lnTo>
                <a:lnTo>
                  <a:pt x="1310351" y="958851"/>
                </a:lnTo>
                <a:lnTo>
                  <a:pt x="1307173" y="956311"/>
                </a:lnTo>
                <a:lnTo>
                  <a:pt x="1303995" y="953453"/>
                </a:lnTo>
                <a:lnTo>
                  <a:pt x="1301134" y="950913"/>
                </a:lnTo>
                <a:lnTo>
                  <a:pt x="1298274" y="948056"/>
                </a:lnTo>
                <a:lnTo>
                  <a:pt x="1295731" y="944563"/>
                </a:lnTo>
                <a:lnTo>
                  <a:pt x="1293824" y="941706"/>
                </a:lnTo>
                <a:lnTo>
                  <a:pt x="1291599" y="938531"/>
                </a:lnTo>
                <a:lnTo>
                  <a:pt x="1289692" y="935038"/>
                </a:lnTo>
                <a:lnTo>
                  <a:pt x="1288103" y="931546"/>
                </a:lnTo>
                <a:lnTo>
                  <a:pt x="1286832" y="928371"/>
                </a:lnTo>
                <a:lnTo>
                  <a:pt x="1284607" y="921068"/>
                </a:lnTo>
                <a:lnTo>
                  <a:pt x="1283336" y="913448"/>
                </a:lnTo>
                <a:lnTo>
                  <a:pt x="1282700" y="905511"/>
                </a:lnTo>
                <a:lnTo>
                  <a:pt x="1283018" y="897573"/>
                </a:lnTo>
                <a:lnTo>
                  <a:pt x="1283971" y="889953"/>
                </a:lnTo>
                <a:lnTo>
                  <a:pt x="1285560" y="882016"/>
                </a:lnTo>
                <a:lnTo>
                  <a:pt x="1287785" y="874078"/>
                </a:lnTo>
                <a:lnTo>
                  <a:pt x="1290646" y="866141"/>
                </a:lnTo>
                <a:lnTo>
                  <a:pt x="1294142" y="858521"/>
                </a:lnTo>
                <a:lnTo>
                  <a:pt x="1298909" y="849948"/>
                </a:lnTo>
                <a:lnTo>
                  <a:pt x="1304313" y="841376"/>
                </a:lnTo>
                <a:lnTo>
                  <a:pt x="1310351" y="833756"/>
                </a:lnTo>
                <a:lnTo>
                  <a:pt x="1317026" y="826136"/>
                </a:lnTo>
                <a:lnTo>
                  <a:pt x="1714315" y="429261"/>
                </a:lnTo>
                <a:lnTo>
                  <a:pt x="1718446" y="425768"/>
                </a:lnTo>
                <a:lnTo>
                  <a:pt x="1721943" y="422276"/>
                </a:lnTo>
                <a:lnTo>
                  <a:pt x="1726074" y="419736"/>
                </a:lnTo>
                <a:lnTo>
                  <a:pt x="1729571" y="417196"/>
                </a:lnTo>
                <a:lnTo>
                  <a:pt x="1733384" y="415608"/>
                </a:lnTo>
                <a:lnTo>
                  <a:pt x="1736881" y="414021"/>
                </a:lnTo>
                <a:lnTo>
                  <a:pt x="1740377" y="412433"/>
                </a:lnTo>
                <a:lnTo>
                  <a:pt x="1743873" y="411798"/>
                </a:lnTo>
                <a:lnTo>
                  <a:pt x="1747051" y="411481"/>
                </a:lnTo>
                <a:lnTo>
                  <a:pt x="1750865" y="411163"/>
                </a:lnTo>
                <a:close/>
                <a:moveTo>
                  <a:pt x="198373" y="319088"/>
                </a:moveTo>
                <a:lnTo>
                  <a:pt x="1557783" y="319088"/>
                </a:lnTo>
                <a:lnTo>
                  <a:pt x="1453042" y="423822"/>
                </a:lnTo>
                <a:lnTo>
                  <a:pt x="315492" y="423822"/>
                </a:lnTo>
                <a:lnTo>
                  <a:pt x="305336" y="424140"/>
                </a:lnTo>
                <a:lnTo>
                  <a:pt x="295179" y="424774"/>
                </a:lnTo>
                <a:lnTo>
                  <a:pt x="285340" y="426361"/>
                </a:lnTo>
                <a:lnTo>
                  <a:pt x="275500" y="427631"/>
                </a:lnTo>
                <a:lnTo>
                  <a:pt x="265979" y="429852"/>
                </a:lnTo>
                <a:lnTo>
                  <a:pt x="256457" y="433026"/>
                </a:lnTo>
                <a:lnTo>
                  <a:pt x="247570" y="435882"/>
                </a:lnTo>
                <a:lnTo>
                  <a:pt x="238365" y="439374"/>
                </a:lnTo>
                <a:lnTo>
                  <a:pt x="229478" y="443499"/>
                </a:lnTo>
                <a:lnTo>
                  <a:pt x="221226" y="447943"/>
                </a:lnTo>
                <a:lnTo>
                  <a:pt x="212973" y="452703"/>
                </a:lnTo>
                <a:lnTo>
                  <a:pt x="204721" y="457781"/>
                </a:lnTo>
                <a:lnTo>
                  <a:pt x="196786" y="463494"/>
                </a:lnTo>
                <a:lnTo>
                  <a:pt x="189486" y="469207"/>
                </a:lnTo>
                <a:lnTo>
                  <a:pt x="182186" y="475554"/>
                </a:lnTo>
                <a:lnTo>
                  <a:pt x="175203" y="481902"/>
                </a:lnTo>
                <a:lnTo>
                  <a:pt x="168855" y="488884"/>
                </a:lnTo>
                <a:lnTo>
                  <a:pt x="162507" y="496184"/>
                </a:lnTo>
                <a:lnTo>
                  <a:pt x="156794" y="503483"/>
                </a:lnTo>
                <a:lnTo>
                  <a:pt x="151398" y="511100"/>
                </a:lnTo>
                <a:lnTo>
                  <a:pt x="145685" y="519670"/>
                </a:lnTo>
                <a:lnTo>
                  <a:pt x="140924" y="527604"/>
                </a:lnTo>
                <a:lnTo>
                  <a:pt x="136798" y="536490"/>
                </a:lnTo>
                <a:lnTo>
                  <a:pt x="132672" y="545060"/>
                </a:lnTo>
                <a:lnTo>
                  <a:pt x="129498" y="554263"/>
                </a:lnTo>
                <a:lnTo>
                  <a:pt x="126007" y="563150"/>
                </a:lnTo>
                <a:lnTo>
                  <a:pt x="123468" y="572671"/>
                </a:lnTo>
                <a:lnTo>
                  <a:pt x="121246" y="582193"/>
                </a:lnTo>
                <a:lnTo>
                  <a:pt x="119659" y="592031"/>
                </a:lnTo>
                <a:lnTo>
                  <a:pt x="118072" y="601870"/>
                </a:lnTo>
                <a:lnTo>
                  <a:pt x="117437" y="612026"/>
                </a:lnTo>
                <a:lnTo>
                  <a:pt x="117437" y="622182"/>
                </a:lnTo>
                <a:lnTo>
                  <a:pt x="117437" y="1633658"/>
                </a:lnTo>
                <a:lnTo>
                  <a:pt x="117437" y="1643814"/>
                </a:lnTo>
                <a:lnTo>
                  <a:pt x="118072" y="1653970"/>
                </a:lnTo>
                <a:lnTo>
                  <a:pt x="119659" y="1663808"/>
                </a:lnTo>
                <a:lnTo>
                  <a:pt x="121246" y="1673647"/>
                </a:lnTo>
                <a:lnTo>
                  <a:pt x="123468" y="1683168"/>
                </a:lnTo>
                <a:lnTo>
                  <a:pt x="126007" y="1692689"/>
                </a:lnTo>
                <a:lnTo>
                  <a:pt x="129498" y="1701576"/>
                </a:lnTo>
                <a:lnTo>
                  <a:pt x="132672" y="1710780"/>
                </a:lnTo>
                <a:lnTo>
                  <a:pt x="136798" y="1719666"/>
                </a:lnTo>
                <a:lnTo>
                  <a:pt x="140924" y="1728235"/>
                </a:lnTo>
                <a:lnTo>
                  <a:pt x="145685" y="1736170"/>
                </a:lnTo>
                <a:lnTo>
                  <a:pt x="151398" y="1744739"/>
                </a:lnTo>
                <a:lnTo>
                  <a:pt x="156794" y="1752356"/>
                </a:lnTo>
                <a:lnTo>
                  <a:pt x="162507" y="1759656"/>
                </a:lnTo>
                <a:lnTo>
                  <a:pt x="168855" y="1766955"/>
                </a:lnTo>
                <a:lnTo>
                  <a:pt x="175203" y="1773938"/>
                </a:lnTo>
                <a:lnTo>
                  <a:pt x="182186" y="1780285"/>
                </a:lnTo>
                <a:lnTo>
                  <a:pt x="189486" y="1786633"/>
                </a:lnTo>
                <a:lnTo>
                  <a:pt x="196786" y="1792345"/>
                </a:lnTo>
                <a:lnTo>
                  <a:pt x="204721" y="1798375"/>
                </a:lnTo>
                <a:lnTo>
                  <a:pt x="212973" y="1803453"/>
                </a:lnTo>
                <a:lnTo>
                  <a:pt x="221226" y="1808214"/>
                </a:lnTo>
                <a:lnTo>
                  <a:pt x="229478" y="1812340"/>
                </a:lnTo>
                <a:lnTo>
                  <a:pt x="238365" y="1816466"/>
                </a:lnTo>
                <a:lnTo>
                  <a:pt x="247570" y="1819640"/>
                </a:lnTo>
                <a:lnTo>
                  <a:pt x="256457" y="1823131"/>
                </a:lnTo>
                <a:lnTo>
                  <a:pt x="265979" y="1825670"/>
                </a:lnTo>
                <a:lnTo>
                  <a:pt x="275500" y="1827891"/>
                </a:lnTo>
                <a:lnTo>
                  <a:pt x="285340" y="1829478"/>
                </a:lnTo>
                <a:lnTo>
                  <a:pt x="295179" y="1831065"/>
                </a:lnTo>
                <a:lnTo>
                  <a:pt x="305336" y="1831700"/>
                </a:lnTo>
                <a:lnTo>
                  <a:pt x="315492" y="1831700"/>
                </a:lnTo>
                <a:lnTo>
                  <a:pt x="1632371" y="1831700"/>
                </a:lnTo>
                <a:lnTo>
                  <a:pt x="1642527" y="1831700"/>
                </a:lnTo>
                <a:lnTo>
                  <a:pt x="1652367" y="1831065"/>
                </a:lnTo>
                <a:lnTo>
                  <a:pt x="1662523" y="1829478"/>
                </a:lnTo>
                <a:lnTo>
                  <a:pt x="1672045" y="1827891"/>
                </a:lnTo>
                <a:lnTo>
                  <a:pt x="1681885" y="1825670"/>
                </a:lnTo>
                <a:lnTo>
                  <a:pt x="1691089" y="1823131"/>
                </a:lnTo>
                <a:lnTo>
                  <a:pt x="1700611" y="1819640"/>
                </a:lnTo>
                <a:lnTo>
                  <a:pt x="1709181" y="1816466"/>
                </a:lnTo>
                <a:lnTo>
                  <a:pt x="1718385" y="1812340"/>
                </a:lnTo>
                <a:lnTo>
                  <a:pt x="1726637" y="1808214"/>
                </a:lnTo>
                <a:lnTo>
                  <a:pt x="1735207" y="1803453"/>
                </a:lnTo>
                <a:lnTo>
                  <a:pt x="1743142" y="1798375"/>
                </a:lnTo>
                <a:lnTo>
                  <a:pt x="1750760" y="1792345"/>
                </a:lnTo>
                <a:lnTo>
                  <a:pt x="1758377" y="1786633"/>
                </a:lnTo>
                <a:lnTo>
                  <a:pt x="1765677" y="1780285"/>
                </a:lnTo>
                <a:lnTo>
                  <a:pt x="1772660" y="1773938"/>
                </a:lnTo>
                <a:lnTo>
                  <a:pt x="1779325" y="1766955"/>
                </a:lnTo>
                <a:lnTo>
                  <a:pt x="1785356" y="1759973"/>
                </a:lnTo>
                <a:lnTo>
                  <a:pt x="1791069" y="1752356"/>
                </a:lnTo>
                <a:lnTo>
                  <a:pt x="1796782" y="1744739"/>
                </a:lnTo>
                <a:lnTo>
                  <a:pt x="1801861" y="1736805"/>
                </a:lnTo>
                <a:lnTo>
                  <a:pt x="1806621" y="1728235"/>
                </a:lnTo>
                <a:lnTo>
                  <a:pt x="1810748" y="1719666"/>
                </a:lnTo>
                <a:lnTo>
                  <a:pt x="1814874" y="1710780"/>
                </a:lnTo>
                <a:lnTo>
                  <a:pt x="1818683" y="1702211"/>
                </a:lnTo>
                <a:lnTo>
                  <a:pt x="1821857" y="1692689"/>
                </a:lnTo>
                <a:lnTo>
                  <a:pt x="1824396" y="1683168"/>
                </a:lnTo>
                <a:lnTo>
                  <a:pt x="1826617" y="1673647"/>
                </a:lnTo>
                <a:lnTo>
                  <a:pt x="1828522" y="1663808"/>
                </a:lnTo>
                <a:lnTo>
                  <a:pt x="1829474" y="1653970"/>
                </a:lnTo>
                <a:lnTo>
                  <a:pt x="1830109" y="1643814"/>
                </a:lnTo>
                <a:lnTo>
                  <a:pt x="1830426" y="1633658"/>
                </a:lnTo>
                <a:lnTo>
                  <a:pt x="1830426" y="1113162"/>
                </a:lnTo>
                <a:lnTo>
                  <a:pt x="1830426" y="773570"/>
                </a:lnTo>
                <a:lnTo>
                  <a:pt x="1947863" y="656458"/>
                </a:lnTo>
                <a:lnTo>
                  <a:pt x="1947863" y="1738391"/>
                </a:lnTo>
                <a:lnTo>
                  <a:pt x="1947546" y="1748865"/>
                </a:lnTo>
                <a:lnTo>
                  <a:pt x="1946911" y="1758704"/>
                </a:lnTo>
                <a:lnTo>
                  <a:pt x="1945324" y="1768860"/>
                </a:lnTo>
                <a:lnTo>
                  <a:pt x="1943419" y="1778063"/>
                </a:lnTo>
                <a:lnTo>
                  <a:pt x="1941198" y="1787902"/>
                </a:lnTo>
                <a:lnTo>
                  <a:pt x="1938659" y="1797423"/>
                </a:lnTo>
                <a:lnTo>
                  <a:pt x="1935802" y="1806627"/>
                </a:lnTo>
                <a:lnTo>
                  <a:pt x="1932311" y="1815831"/>
                </a:lnTo>
                <a:lnTo>
                  <a:pt x="1928184" y="1824400"/>
                </a:lnTo>
                <a:lnTo>
                  <a:pt x="1923741" y="1832969"/>
                </a:lnTo>
                <a:lnTo>
                  <a:pt x="1918980" y="1841221"/>
                </a:lnTo>
                <a:lnTo>
                  <a:pt x="1913902" y="1849156"/>
                </a:lnTo>
                <a:lnTo>
                  <a:pt x="1908188" y="1856773"/>
                </a:lnTo>
                <a:lnTo>
                  <a:pt x="1902475" y="1864707"/>
                </a:lnTo>
                <a:lnTo>
                  <a:pt x="1896127" y="1871689"/>
                </a:lnTo>
                <a:lnTo>
                  <a:pt x="1889462" y="1878671"/>
                </a:lnTo>
                <a:lnTo>
                  <a:pt x="1882797" y="1885336"/>
                </a:lnTo>
                <a:lnTo>
                  <a:pt x="1875497" y="1891366"/>
                </a:lnTo>
                <a:lnTo>
                  <a:pt x="1868197" y="1897397"/>
                </a:lnTo>
                <a:lnTo>
                  <a:pt x="1860579" y="1902792"/>
                </a:lnTo>
                <a:lnTo>
                  <a:pt x="1852327" y="1907870"/>
                </a:lnTo>
                <a:lnTo>
                  <a:pt x="1844074" y="1912631"/>
                </a:lnTo>
                <a:lnTo>
                  <a:pt x="1835187" y="1917074"/>
                </a:lnTo>
                <a:lnTo>
                  <a:pt x="1826617" y="1920882"/>
                </a:lnTo>
                <a:lnTo>
                  <a:pt x="1817413" y="1924691"/>
                </a:lnTo>
                <a:lnTo>
                  <a:pt x="1808209" y="1927865"/>
                </a:lnTo>
                <a:lnTo>
                  <a:pt x="1799004" y="1930404"/>
                </a:lnTo>
                <a:lnTo>
                  <a:pt x="1789482" y="1932625"/>
                </a:lnTo>
                <a:lnTo>
                  <a:pt x="1779643" y="1934530"/>
                </a:lnTo>
                <a:lnTo>
                  <a:pt x="1769803" y="1935482"/>
                </a:lnTo>
                <a:lnTo>
                  <a:pt x="1759647" y="1936434"/>
                </a:lnTo>
                <a:lnTo>
                  <a:pt x="1749173" y="1936751"/>
                </a:lnTo>
                <a:lnTo>
                  <a:pt x="198373" y="1936751"/>
                </a:lnTo>
                <a:lnTo>
                  <a:pt x="188216" y="1936434"/>
                </a:lnTo>
                <a:lnTo>
                  <a:pt x="178377" y="1935482"/>
                </a:lnTo>
                <a:lnTo>
                  <a:pt x="168538" y="1934530"/>
                </a:lnTo>
                <a:lnTo>
                  <a:pt x="158699" y="1932625"/>
                </a:lnTo>
                <a:lnTo>
                  <a:pt x="148859" y="1930404"/>
                </a:lnTo>
                <a:lnTo>
                  <a:pt x="139655" y="1927865"/>
                </a:lnTo>
                <a:lnTo>
                  <a:pt x="130133" y="1924691"/>
                </a:lnTo>
                <a:lnTo>
                  <a:pt x="121246" y="1920882"/>
                </a:lnTo>
                <a:lnTo>
                  <a:pt x="112359" y="1917074"/>
                </a:lnTo>
                <a:lnTo>
                  <a:pt x="103789" y="1912631"/>
                </a:lnTo>
                <a:lnTo>
                  <a:pt x="95537" y="1907870"/>
                </a:lnTo>
                <a:lnTo>
                  <a:pt x="87602" y="1902792"/>
                </a:lnTo>
                <a:lnTo>
                  <a:pt x="79984" y="1897397"/>
                </a:lnTo>
                <a:lnTo>
                  <a:pt x="72049" y="1891366"/>
                </a:lnTo>
                <a:lnTo>
                  <a:pt x="65067" y="1885336"/>
                </a:lnTo>
                <a:lnTo>
                  <a:pt x="58084" y="1878671"/>
                </a:lnTo>
                <a:lnTo>
                  <a:pt x="51418" y="1871689"/>
                </a:lnTo>
                <a:lnTo>
                  <a:pt x="45388" y="1864707"/>
                </a:lnTo>
                <a:lnTo>
                  <a:pt x="39357" y="1856773"/>
                </a:lnTo>
                <a:lnTo>
                  <a:pt x="33962" y="1849156"/>
                </a:lnTo>
                <a:lnTo>
                  <a:pt x="28883" y="1841221"/>
                </a:lnTo>
                <a:lnTo>
                  <a:pt x="24122" y="1832969"/>
                </a:lnTo>
                <a:lnTo>
                  <a:pt x="19679" y="1824400"/>
                </a:lnTo>
                <a:lnTo>
                  <a:pt x="15870" y="1815831"/>
                </a:lnTo>
                <a:lnTo>
                  <a:pt x="12061" y="1806627"/>
                </a:lnTo>
                <a:lnTo>
                  <a:pt x="8887" y="1797423"/>
                </a:lnTo>
                <a:lnTo>
                  <a:pt x="6348" y="1787902"/>
                </a:lnTo>
                <a:lnTo>
                  <a:pt x="4126" y="1778063"/>
                </a:lnTo>
                <a:lnTo>
                  <a:pt x="2222" y="1768860"/>
                </a:lnTo>
                <a:lnTo>
                  <a:pt x="1270" y="1758704"/>
                </a:lnTo>
                <a:lnTo>
                  <a:pt x="318" y="1748865"/>
                </a:lnTo>
                <a:lnTo>
                  <a:pt x="0" y="1738391"/>
                </a:lnTo>
                <a:lnTo>
                  <a:pt x="0" y="517448"/>
                </a:lnTo>
                <a:lnTo>
                  <a:pt x="318" y="507292"/>
                </a:lnTo>
                <a:lnTo>
                  <a:pt x="1270" y="497453"/>
                </a:lnTo>
                <a:lnTo>
                  <a:pt x="2222" y="487297"/>
                </a:lnTo>
                <a:lnTo>
                  <a:pt x="4126" y="477776"/>
                </a:lnTo>
                <a:lnTo>
                  <a:pt x="6348" y="467937"/>
                </a:lnTo>
                <a:lnTo>
                  <a:pt x="8887" y="458416"/>
                </a:lnTo>
                <a:lnTo>
                  <a:pt x="12061" y="449212"/>
                </a:lnTo>
                <a:lnTo>
                  <a:pt x="15870" y="440008"/>
                </a:lnTo>
                <a:lnTo>
                  <a:pt x="19679" y="431439"/>
                </a:lnTo>
                <a:lnTo>
                  <a:pt x="24122" y="423187"/>
                </a:lnTo>
                <a:lnTo>
                  <a:pt x="28883" y="414618"/>
                </a:lnTo>
                <a:lnTo>
                  <a:pt x="33962" y="406684"/>
                </a:lnTo>
                <a:lnTo>
                  <a:pt x="39357" y="399067"/>
                </a:lnTo>
                <a:lnTo>
                  <a:pt x="45388" y="391450"/>
                </a:lnTo>
                <a:lnTo>
                  <a:pt x="51418" y="384150"/>
                </a:lnTo>
                <a:lnTo>
                  <a:pt x="58084" y="377168"/>
                </a:lnTo>
                <a:lnTo>
                  <a:pt x="65067" y="370503"/>
                </a:lnTo>
                <a:lnTo>
                  <a:pt x="72049" y="364473"/>
                </a:lnTo>
                <a:lnTo>
                  <a:pt x="79984" y="358443"/>
                </a:lnTo>
                <a:lnTo>
                  <a:pt x="87602" y="353047"/>
                </a:lnTo>
                <a:lnTo>
                  <a:pt x="95537" y="347969"/>
                </a:lnTo>
                <a:lnTo>
                  <a:pt x="103789" y="343209"/>
                </a:lnTo>
                <a:lnTo>
                  <a:pt x="112359" y="338766"/>
                </a:lnTo>
                <a:lnTo>
                  <a:pt x="121246" y="334957"/>
                </a:lnTo>
                <a:lnTo>
                  <a:pt x="130133" y="331149"/>
                </a:lnTo>
                <a:lnTo>
                  <a:pt x="139655" y="328292"/>
                </a:lnTo>
                <a:lnTo>
                  <a:pt x="148859" y="325436"/>
                </a:lnTo>
                <a:lnTo>
                  <a:pt x="158699" y="323214"/>
                </a:lnTo>
                <a:lnTo>
                  <a:pt x="168538" y="321310"/>
                </a:lnTo>
                <a:lnTo>
                  <a:pt x="178377" y="320358"/>
                </a:lnTo>
                <a:lnTo>
                  <a:pt x="188216" y="319723"/>
                </a:lnTo>
                <a:lnTo>
                  <a:pt x="198373" y="319088"/>
                </a:lnTo>
                <a:close/>
                <a:moveTo>
                  <a:pt x="2076641" y="106363"/>
                </a:moveTo>
                <a:lnTo>
                  <a:pt x="2082030" y="106363"/>
                </a:lnTo>
                <a:lnTo>
                  <a:pt x="2087102" y="106363"/>
                </a:lnTo>
                <a:lnTo>
                  <a:pt x="2092174" y="106679"/>
                </a:lnTo>
                <a:lnTo>
                  <a:pt x="2097246" y="107313"/>
                </a:lnTo>
                <a:lnTo>
                  <a:pt x="2102318" y="108263"/>
                </a:lnTo>
                <a:lnTo>
                  <a:pt x="2107390" y="109213"/>
                </a:lnTo>
                <a:lnTo>
                  <a:pt x="2112145" y="110797"/>
                </a:lnTo>
                <a:lnTo>
                  <a:pt x="2117217" y="112064"/>
                </a:lnTo>
                <a:lnTo>
                  <a:pt x="2121972" y="113965"/>
                </a:lnTo>
                <a:lnTo>
                  <a:pt x="2126727" y="116182"/>
                </a:lnTo>
                <a:lnTo>
                  <a:pt x="2131482" y="118399"/>
                </a:lnTo>
                <a:lnTo>
                  <a:pt x="2136237" y="120933"/>
                </a:lnTo>
                <a:lnTo>
                  <a:pt x="2140358" y="123784"/>
                </a:lnTo>
                <a:lnTo>
                  <a:pt x="2144796" y="126634"/>
                </a:lnTo>
                <a:lnTo>
                  <a:pt x="2148916" y="130119"/>
                </a:lnTo>
                <a:lnTo>
                  <a:pt x="2153354" y="133603"/>
                </a:lnTo>
                <a:lnTo>
                  <a:pt x="2157158" y="137087"/>
                </a:lnTo>
                <a:lnTo>
                  <a:pt x="2166351" y="146589"/>
                </a:lnTo>
                <a:lnTo>
                  <a:pt x="2169838" y="150707"/>
                </a:lnTo>
                <a:lnTo>
                  <a:pt x="2173642" y="154825"/>
                </a:lnTo>
                <a:lnTo>
                  <a:pt x="2176812" y="158626"/>
                </a:lnTo>
                <a:lnTo>
                  <a:pt x="2179665" y="163060"/>
                </a:lnTo>
                <a:lnTo>
                  <a:pt x="2182835" y="167811"/>
                </a:lnTo>
                <a:lnTo>
                  <a:pt x="2185371" y="172246"/>
                </a:lnTo>
                <a:lnTo>
                  <a:pt x="2187273" y="176997"/>
                </a:lnTo>
                <a:lnTo>
                  <a:pt x="2189492" y="181748"/>
                </a:lnTo>
                <a:lnTo>
                  <a:pt x="2191394" y="186183"/>
                </a:lnTo>
                <a:lnTo>
                  <a:pt x="2192979" y="191567"/>
                </a:lnTo>
                <a:lnTo>
                  <a:pt x="2194247" y="196002"/>
                </a:lnTo>
                <a:lnTo>
                  <a:pt x="2195515" y="201387"/>
                </a:lnTo>
                <a:lnTo>
                  <a:pt x="2196149" y="206454"/>
                </a:lnTo>
                <a:lnTo>
                  <a:pt x="2196783" y="211522"/>
                </a:lnTo>
                <a:lnTo>
                  <a:pt x="2197100" y="216590"/>
                </a:lnTo>
                <a:lnTo>
                  <a:pt x="2197100" y="221658"/>
                </a:lnTo>
                <a:lnTo>
                  <a:pt x="2197100" y="226726"/>
                </a:lnTo>
                <a:lnTo>
                  <a:pt x="2196783" y="231794"/>
                </a:lnTo>
                <a:lnTo>
                  <a:pt x="2196149" y="236862"/>
                </a:lnTo>
                <a:lnTo>
                  <a:pt x="2195515" y="241613"/>
                </a:lnTo>
                <a:lnTo>
                  <a:pt x="2194247" y="246681"/>
                </a:lnTo>
                <a:lnTo>
                  <a:pt x="2192979" y="251749"/>
                </a:lnTo>
                <a:lnTo>
                  <a:pt x="2191394" y="256500"/>
                </a:lnTo>
                <a:lnTo>
                  <a:pt x="2189492" y="261251"/>
                </a:lnTo>
                <a:lnTo>
                  <a:pt x="2187273" y="266319"/>
                </a:lnTo>
                <a:lnTo>
                  <a:pt x="2185371" y="270754"/>
                </a:lnTo>
                <a:lnTo>
                  <a:pt x="2182835" y="275505"/>
                </a:lnTo>
                <a:lnTo>
                  <a:pt x="2179665" y="279623"/>
                </a:lnTo>
                <a:lnTo>
                  <a:pt x="2176812" y="284057"/>
                </a:lnTo>
                <a:lnTo>
                  <a:pt x="2173642" y="288492"/>
                </a:lnTo>
                <a:lnTo>
                  <a:pt x="2169838" y="292609"/>
                </a:lnTo>
                <a:lnTo>
                  <a:pt x="2166351" y="296410"/>
                </a:lnTo>
                <a:lnTo>
                  <a:pt x="1970764" y="491843"/>
                </a:lnTo>
                <a:lnTo>
                  <a:pt x="1967277" y="495010"/>
                </a:lnTo>
                <a:lnTo>
                  <a:pt x="1963473" y="498178"/>
                </a:lnTo>
                <a:lnTo>
                  <a:pt x="1959986" y="500712"/>
                </a:lnTo>
                <a:lnTo>
                  <a:pt x="1956816" y="502612"/>
                </a:lnTo>
                <a:lnTo>
                  <a:pt x="1953329" y="504513"/>
                </a:lnTo>
                <a:lnTo>
                  <a:pt x="1950476" y="505463"/>
                </a:lnTo>
                <a:lnTo>
                  <a:pt x="1947623" y="505780"/>
                </a:lnTo>
                <a:lnTo>
                  <a:pt x="1944771" y="506413"/>
                </a:lnTo>
                <a:lnTo>
                  <a:pt x="1941918" y="505780"/>
                </a:lnTo>
                <a:lnTo>
                  <a:pt x="1939382" y="505463"/>
                </a:lnTo>
                <a:lnTo>
                  <a:pt x="1936846" y="504513"/>
                </a:lnTo>
                <a:lnTo>
                  <a:pt x="1933993" y="502929"/>
                </a:lnTo>
                <a:lnTo>
                  <a:pt x="1931457" y="501662"/>
                </a:lnTo>
                <a:lnTo>
                  <a:pt x="1928921" y="499445"/>
                </a:lnTo>
                <a:lnTo>
                  <a:pt x="1924166" y="494694"/>
                </a:lnTo>
                <a:lnTo>
                  <a:pt x="1919094" y="489309"/>
                </a:lnTo>
                <a:lnTo>
                  <a:pt x="1914022" y="482657"/>
                </a:lnTo>
                <a:lnTo>
                  <a:pt x="1903561" y="467770"/>
                </a:lnTo>
                <a:lnTo>
                  <a:pt x="1897855" y="459852"/>
                </a:lnTo>
                <a:lnTo>
                  <a:pt x="1891515" y="451616"/>
                </a:lnTo>
                <a:lnTo>
                  <a:pt x="1884541" y="443698"/>
                </a:lnTo>
                <a:lnTo>
                  <a:pt x="1877250" y="435779"/>
                </a:lnTo>
                <a:lnTo>
                  <a:pt x="1868057" y="426277"/>
                </a:lnTo>
                <a:lnTo>
                  <a:pt x="1859815" y="418991"/>
                </a:lnTo>
                <a:lnTo>
                  <a:pt x="1851890" y="412023"/>
                </a:lnTo>
                <a:lnTo>
                  <a:pt x="1843966" y="406005"/>
                </a:lnTo>
                <a:lnTo>
                  <a:pt x="1836041" y="399987"/>
                </a:lnTo>
                <a:lnTo>
                  <a:pt x="1820825" y="389217"/>
                </a:lnTo>
                <a:lnTo>
                  <a:pt x="1814485" y="384466"/>
                </a:lnTo>
                <a:lnTo>
                  <a:pt x="1808462" y="379398"/>
                </a:lnTo>
                <a:lnTo>
                  <a:pt x="1804024" y="374647"/>
                </a:lnTo>
                <a:lnTo>
                  <a:pt x="1802122" y="372113"/>
                </a:lnTo>
                <a:lnTo>
                  <a:pt x="1800220" y="369579"/>
                </a:lnTo>
                <a:lnTo>
                  <a:pt x="1798635" y="367045"/>
                </a:lnTo>
                <a:lnTo>
                  <a:pt x="1798001" y="364511"/>
                </a:lnTo>
                <a:lnTo>
                  <a:pt x="1797367" y="361660"/>
                </a:lnTo>
                <a:lnTo>
                  <a:pt x="1797050" y="359126"/>
                </a:lnTo>
                <a:lnTo>
                  <a:pt x="1797367" y="355959"/>
                </a:lnTo>
                <a:lnTo>
                  <a:pt x="1797684" y="353108"/>
                </a:lnTo>
                <a:lnTo>
                  <a:pt x="1798635" y="349941"/>
                </a:lnTo>
                <a:lnTo>
                  <a:pt x="1800220" y="346773"/>
                </a:lnTo>
                <a:lnTo>
                  <a:pt x="1802439" y="343289"/>
                </a:lnTo>
                <a:lnTo>
                  <a:pt x="1804975" y="340122"/>
                </a:lnTo>
                <a:lnTo>
                  <a:pt x="1807828" y="336637"/>
                </a:lnTo>
                <a:lnTo>
                  <a:pt x="1811632" y="332520"/>
                </a:lnTo>
                <a:lnTo>
                  <a:pt x="2006902" y="137087"/>
                </a:lnTo>
                <a:lnTo>
                  <a:pt x="2011023" y="133603"/>
                </a:lnTo>
                <a:lnTo>
                  <a:pt x="2014827" y="130119"/>
                </a:lnTo>
                <a:lnTo>
                  <a:pt x="2019265" y="126634"/>
                </a:lnTo>
                <a:lnTo>
                  <a:pt x="2023703" y="123784"/>
                </a:lnTo>
                <a:lnTo>
                  <a:pt x="2028141" y="120933"/>
                </a:lnTo>
                <a:lnTo>
                  <a:pt x="2032896" y="118399"/>
                </a:lnTo>
                <a:lnTo>
                  <a:pt x="2037017" y="116182"/>
                </a:lnTo>
                <a:lnTo>
                  <a:pt x="2041772" y="113965"/>
                </a:lnTo>
                <a:lnTo>
                  <a:pt x="2046843" y="112064"/>
                </a:lnTo>
                <a:lnTo>
                  <a:pt x="2051598" y="110797"/>
                </a:lnTo>
                <a:lnTo>
                  <a:pt x="2056670" y="109213"/>
                </a:lnTo>
                <a:lnTo>
                  <a:pt x="2061425" y="108263"/>
                </a:lnTo>
                <a:lnTo>
                  <a:pt x="2066497" y="107313"/>
                </a:lnTo>
                <a:lnTo>
                  <a:pt x="2071569" y="106679"/>
                </a:lnTo>
                <a:lnTo>
                  <a:pt x="2076641" y="106363"/>
                </a:lnTo>
                <a:close/>
                <a:moveTo>
                  <a:pt x="2213628" y="19050"/>
                </a:moveTo>
                <a:lnTo>
                  <a:pt x="2219371" y="19369"/>
                </a:lnTo>
                <a:lnTo>
                  <a:pt x="2225751" y="20007"/>
                </a:lnTo>
                <a:lnTo>
                  <a:pt x="2231493" y="21602"/>
                </a:lnTo>
                <a:lnTo>
                  <a:pt x="2237236" y="23516"/>
                </a:lnTo>
                <a:lnTo>
                  <a:pt x="2242978" y="26387"/>
                </a:lnTo>
                <a:lnTo>
                  <a:pt x="2248401" y="29258"/>
                </a:lnTo>
                <a:lnTo>
                  <a:pt x="2253506" y="33087"/>
                </a:lnTo>
                <a:lnTo>
                  <a:pt x="2258291" y="37234"/>
                </a:lnTo>
                <a:lnTo>
                  <a:pt x="2262757" y="42019"/>
                </a:lnTo>
                <a:lnTo>
                  <a:pt x="2266266" y="47123"/>
                </a:lnTo>
                <a:lnTo>
                  <a:pt x="2269457" y="52547"/>
                </a:lnTo>
                <a:lnTo>
                  <a:pt x="2272009" y="58608"/>
                </a:lnTo>
                <a:lnTo>
                  <a:pt x="2273923" y="64350"/>
                </a:lnTo>
                <a:lnTo>
                  <a:pt x="2275518" y="70412"/>
                </a:lnTo>
                <a:lnTo>
                  <a:pt x="2276475" y="76154"/>
                </a:lnTo>
                <a:lnTo>
                  <a:pt x="2276475" y="82216"/>
                </a:lnTo>
                <a:lnTo>
                  <a:pt x="2276475" y="88277"/>
                </a:lnTo>
                <a:lnTo>
                  <a:pt x="2275518" y="94338"/>
                </a:lnTo>
                <a:lnTo>
                  <a:pt x="2273923" y="100400"/>
                </a:lnTo>
                <a:lnTo>
                  <a:pt x="2272009" y="106142"/>
                </a:lnTo>
                <a:lnTo>
                  <a:pt x="2269457" y="111565"/>
                </a:lnTo>
                <a:lnTo>
                  <a:pt x="2266266" y="117308"/>
                </a:lnTo>
                <a:lnTo>
                  <a:pt x="2262757" y="122412"/>
                </a:lnTo>
                <a:lnTo>
                  <a:pt x="2258291" y="126878"/>
                </a:lnTo>
                <a:lnTo>
                  <a:pt x="2241064" y="144105"/>
                </a:lnTo>
                <a:lnTo>
                  <a:pt x="2236598" y="148253"/>
                </a:lnTo>
                <a:lnTo>
                  <a:pt x="2232769" y="150805"/>
                </a:lnTo>
                <a:lnTo>
                  <a:pt x="2230855" y="151443"/>
                </a:lnTo>
                <a:lnTo>
                  <a:pt x="2228941" y="152400"/>
                </a:lnTo>
                <a:lnTo>
                  <a:pt x="2227346" y="152400"/>
                </a:lnTo>
                <a:lnTo>
                  <a:pt x="2225751" y="152400"/>
                </a:lnTo>
                <a:lnTo>
                  <a:pt x="2224156" y="152081"/>
                </a:lnTo>
                <a:lnTo>
                  <a:pt x="2222880" y="151443"/>
                </a:lnTo>
                <a:lnTo>
                  <a:pt x="2220009" y="149848"/>
                </a:lnTo>
                <a:lnTo>
                  <a:pt x="2217456" y="147295"/>
                </a:lnTo>
                <a:lnTo>
                  <a:pt x="2214904" y="143786"/>
                </a:lnTo>
                <a:lnTo>
                  <a:pt x="2212352" y="140277"/>
                </a:lnTo>
                <a:lnTo>
                  <a:pt x="2209800" y="135811"/>
                </a:lnTo>
                <a:lnTo>
                  <a:pt x="2204058" y="126240"/>
                </a:lnTo>
                <a:lnTo>
                  <a:pt x="2201186" y="121455"/>
                </a:lnTo>
                <a:lnTo>
                  <a:pt x="2197358" y="116351"/>
                </a:lnTo>
                <a:lnTo>
                  <a:pt x="2193530" y="111246"/>
                </a:lnTo>
                <a:lnTo>
                  <a:pt x="2189064" y="106461"/>
                </a:lnTo>
                <a:lnTo>
                  <a:pt x="2184278" y="101995"/>
                </a:lnTo>
                <a:lnTo>
                  <a:pt x="2179493" y="98167"/>
                </a:lnTo>
                <a:lnTo>
                  <a:pt x="2174389" y="94657"/>
                </a:lnTo>
                <a:lnTo>
                  <a:pt x="2169285" y="91467"/>
                </a:lnTo>
                <a:lnTo>
                  <a:pt x="2159714" y="85725"/>
                </a:lnTo>
                <a:lnTo>
                  <a:pt x="2155248" y="83173"/>
                </a:lnTo>
                <a:lnTo>
                  <a:pt x="2151739" y="80620"/>
                </a:lnTo>
                <a:lnTo>
                  <a:pt x="2148229" y="78068"/>
                </a:lnTo>
                <a:lnTo>
                  <a:pt x="2145677" y="75516"/>
                </a:lnTo>
                <a:lnTo>
                  <a:pt x="2144082" y="72964"/>
                </a:lnTo>
                <a:lnTo>
                  <a:pt x="2143763" y="71369"/>
                </a:lnTo>
                <a:lnTo>
                  <a:pt x="2143125" y="69774"/>
                </a:lnTo>
                <a:lnTo>
                  <a:pt x="2143125" y="68179"/>
                </a:lnTo>
                <a:lnTo>
                  <a:pt x="2143763" y="66584"/>
                </a:lnTo>
                <a:lnTo>
                  <a:pt x="2144082" y="64669"/>
                </a:lnTo>
                <a:lnTo>
                  <a:pt x="2144720" y="63074"/>
                </a:lnTo>
                <a:lnTo>
                  <a:pt x="2147591" y="59246"/>
                </a:lnTo>
                <a:lnTo>
                  <a:pt x="2151419" y="54780"/>
                </a:lnTo>
                <a:lnTo>
                  <a:pt x="2168647" y="37234"/>
                </a:lnTo>
                <a:lnTo>
                  <a:pt x="2173751" y="33087"/>
                </a:lnTo>
                <a:lnTo>
                  <a:pt x="2178855" y="29258"/>
                </a:lnTo>
                <a:lnTo>
                  <a:pt x="2183959" y="26387"/>
                </a:lnTo>
                <a:lnTo>
                  <a:pt x="2189702" y="23516"/>
                </a:lnTo>
                <a:lnTo>
                  <a:pt x="2195125" y="21602"/>
                </a:lnTo>
                <a:lnTo>
                  <a:pt x="2201506" y="20007"/>
                </a:lnTo>
                <a:lnTo>
                  <a:pt x="2207248" y="19369"/>
                </a:lnTo>
                <a:lnTo>
                  <a:pt x="2213628" y="19050"/>
                </a:lnTo>
                <a:close/>
                <a:moveTo>
                  <a:pt x="1985550" y="0"/>
                </a:moveTo>
                <a:lnTo>
                  <a:pt x="1989686" y="0"/>
                </a:lnTo>
                <a:lnTo>
                  <a:pt x="1993822" y="0"/>
                </a:lnTo>
                <a:lnTo>
                  <a:pt x="1997640" y="634"/>
                </a:lnTo>
                <a:lnTo>
                  <a:pt x="2001776" y="1903"/>
                </a:lnTo>
                <a:lnTo>
                  <a:pt x="2005594" y="2855"/>
                </a:lnTo>
                <a:lnTo>
                  <a:pt x="2009411" y="4759"/>
                </a:lnTo>
                <a:lnTo>
                  <a:pt x="2012911" y="6980"/>
                </a:lnTo>
                <a:lnTo>
                  <a:pt x="2016411" y="9518"/>
                </a:lnTo>
                <a:lnTo>
                  <a:pt x="2019592" y="12374"/>
                </a:lnTo>
                <a:lnTo>
                  <a:pt x="2022456" y="15229"/>
                </a:lnTo>
                <a:lnTo>
                  <a:pt x="2025001" y="19037"/>
                </a:lnTo>
                <a:lnTo>
                  <a:pt x="2026910" y="22210"/>
                </a:lnTo>
                <a:lnTo>
                  <a:pt x="2028819" y="26334"/>
                </a:lnTo>
                <a:lnTo>
                  <a:pt x="2030091" y="29824"/>
                </a:lnTo>
                <a:lnTo>
                  <a:pt x="2031364" y="33949"/>
                </a:lnTo>
                <a:lnTo>
                  <a:pt x="2031682" y="37757"/>
                </a:lnTo>
                <a:lnTo>
                  <a:pt x="2032000" y="41881"/>
                </a:lnTo>
                <a:lnTo>
                  <a:pt x="2031682" y="46006"/>
                </a:lnTo>
                <a:lnTo>
                  <a:pt x="2031046" y="49813"/>
                </a:lnTo>
                <a:lnTo>
                  <a:pt x="2030091" y="53938"/>
                </a:lnTo>
                <a:lnTo>
                  <a:pt x="2028819" y="57745"/>
                </a:lnTo>
                <a:lnTo>
                  <a:pt x="2026910" y="61553"/>
                </a:lnTo>
                <a:lnTo>
                  <a:pt x="2025001" y="65043"/>
                </a:lnTo>
                <a:lnTo>
                  <a:pt x="2022456" y="68533"/>
                </a:lnTo>
                <a:lnTo>
                  <a:pt x="2019592" y="71706"/>
                </a:lnTo>
                <a:lnTo>
                  <a:pt x="1637177" y="453081"/>
                </a:lnTo>
                <a:lnTo>
                  <a:pt x="1633995" y="455937"/>
                </a:lnTo>
                <a:lnTo>
                  <a:pt x="1630814" y="458158"/>
                </a:lnTo>
                <a:lnTo>
                  <a:pt x="1626996" y="460379"/>
                </a:lnTo>
                <a:lnTo>
                  <a:pt x="1623496" y="462283"/>
                </a:lnTo>
                <a:lnTo>
                  <a:pt x="1619360" y="463552"/>
                </a:lnTo>
                <a:lnTo>
                  <a:pt x="1615224" y="464186"/>
                </a:lnTo>
                <a:lnTo>
                  <a:pt x="1611407" y="465138"/>
                </a:lnTo>
                <a:lnTo>
                  <a:pt x="1607271" y="465138"/>
                </a:lnTo>
                <a:lnTo>
                  <a:pt x="1603135" y="465138"/>
                </a:lnTo>
                <a:lnTo>
                  <a:pt x="1599317" y="464186"/>
                </a:lnTo>
                <a:lnTo>
                  <a:pt x="1595181" y="463552"/>
                </a:lnTo>
                <a:lnTo>
                  <a:pt x="1591681" y="462283"/>
                </a:lnTo>
                <a:lnTo>
                  <a:pt x="1587864" y="460379"/>
                </a:lnTo>
                <a:lnTo>
                  <a:pt x="1584364" y="458158"/>
                </a:lnTo>
                <a:lnTo>
                  <a:pt x="1580864" y="455937"/>
                </a:lnTo>
                <a:lnTo>
                  <a:pt x="1577683" y="453081"/>
                </a:lnTo>
                <a:lnTo>
                  <a:pt x="1574819" y="449591"/>
                </a:lnTo>
                <a:lnTo>
                  <a:pt x="1572274" y="446418"/>
                </a:lnTo>
                <a:lnTo>
                  <a:pt x="1570047" y="442928"/>
                </a:lnTo>
                <a:lnTo>
                  <a:pt x="1568138" y="439121"/>
                </a:lnTo>
                <a:lnTo>
                  <a:pt x="1567184" y="435314"/>
                </a:lnTo>
                <a:lnTo>
                  <a:pt x="1565911" y="431189"/>
                </a:lnTo>
                <a:lnTo>
                  <a:pt x="1565275" y="427381"/>
                </a:lnTo>
                <a:lnTo>
                  <a:pt x="1565275" y="423257"/>
                </a:lnTo>
                <a:lnTo>
                  <a:pt x="1565275" y="419132"/>
                </a:lnTo>
                <a:lnTo>
                  <a:pt x="1565911" y="415007"/>
                </a:lnTo>
                <a:lnTo>
                  <a:pt x="1567184" y="411517"/>
                </a:lnTo>
                <a:lnTo>
                  <a:pt x="1568138" y="407393"/>
                </a:lnTo>
                <a:lnTo>
                  <a:pt x="1570047" y="403902"/>
                </a:lnTo>
                <a:lnTo>
                  <a:pt x="1572274" y="400095"/>
                </a:lnTo>
                <a:lnTo>
                  <a:pt x="1574819" y="396922"/>
                </a:lnTo>
                <a:lnTo>
                  <a:pt x="1577683" y="393749"/>
                </a:lnTo>
                <a:lnTo>
                  <a:pt x="1960098" y="12374"/>
                </a:lnTo>
                <a:lnTo>
                  <a:pt x="1962962" y="9518"/>
                </a:lnTo>
                <a:lnTo>
                  <a:pt x="1966779" y="6980"/>
                </a:lnTo>
                <a:lnTo>
                  <a:pt x="1970279" y="4759"/>
                </a:lnTo>
                <a:lnTo>
                  <a:pt x="1974097" y="2855"/>
                </a:lnTo>
                <a:lnTo>
                  <a:pt x="1977596" y="1903"/>
                </a:lnTo>
                <a:lnTo>
                  <a:pt x="1981732" y="634"/>
                </a:lnTo>
                <a:lnTo>
                  <a:pt x="19855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KSO_Shape"/>
          <p:cNvSpPr/>
          <p:nvPr/>
        </p:nvSpPr>
        <p:spPr>
          <a:xfrm>
            <a:off x="7331040" y="4016520"/>
            <a:ext cx="403200" cy="323640"/>
          </a:xfrm>
          <a:custGeom>
            <a:avLst/>
            <a:gdLst>
              <a:gd name="textAreaLeft" fmla="*/ 0 w 403200"/>
              <a:gd name="textAreaRight" fmla="*/ 403560 w 40320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2874963" h="2311400">
                <a:moveTo>
                  <a:pt x="1500188" y="1927225"/>
                </a:moveTo>
                <a:lnTo>
                  <a:pt x="2676526" y="1927225"/>
                </a:lnTo>
                <a:lnTo>
                  <a:pt x="2676526" y="1949450"/>
                </a:lnTo>
                <a:lnTo>
                  <a:pt x="1500188" y="1949450"/>
                </a:lnTo>
                <a:lnTo>
                  <a:pt x="1500188" y="1927225"/>
                </a:lnTo>
                <a:close/>
                <a:moveTo>
                  <a:pt x="1500188" y="1706563"/>
                </a:moveTo>
                <a:lnTo>
                  <a:pt x="2676526" y="1706563"/>
                </a:lnTo>
                <a:lnTo>
                  <a:pt x="2676526" y="1728788"/>
                </a:lnTo>
                <a:lnTo>
                  <a:pt x="1500188" y="1728788"/>
                </a:lnTo>
                <a:lnTo>
                  <a:pt x="1500188" y="1706563"/>
                </a:lnTo>
                <a:close/>
                <a:moveTo>
                  <a:pt x="741023" y="1676400"/>
                </a:moveTo>
                <a:lnTo>
                  <a:pt x="803616" y="1676400"/>
                </a:lnTo>
                <a:lnTo>
                  <a:pt x="835026" y="1736633"/>
                </a:lnTo>
                <a:lnTo>
                  <a:pt x="813107" y="1759278"/>
                </a:lnTo>
                <a:lnTo>
                  <a:pt x="833218" y="1897860"/>
                </a:lnTo>
                <a:lnTo>
                  <a:pt x="772432" y="2124075"/>
                </a:lnTo>
                <a:lnTo>
                  <a:pt x="711647" y="1897860"/>
                </a:lnTo>
                <a:lnTo>
                  <a:pt x="731532" y="1759278"/>
                </a:lnTo>
                <a:lnTo>
                  <a:pt x="709613" y="1736633"/>
                </a:lnTo>
                <a:lnTo>
                  <a:pt x="741023" y="1676400"/>
                </a:lnTo>
                <a:close/>
                <a:moveTo>
                  <a:pt x="1033510" y="1660525"/>
                </a:moveTo>
                <a:lnTo>
                  <a:pt x="1069768" y="1677761"/>
                </a:lnTo>
                <a:lnTo>
                  <a:pt x="1107612" y="1695904"/>
                </a:lnTo>
                <a:lnTo>
                  <a:pt x="1126421" y="1705202"/>
                </a:lnTo>
                <a:lnTo>
                  <a:pt x="1145003" y="1714727"/>
                </a:lnTo>
                <a:lnTo>
                  <a:pt x="1163585" y="1724252"/>
                </a:lnTo>
                <a:lnTo>
                  <a:pt x="1181261" y="1734004"/>
                </a:lnTo>
                <a:lnTo>
                  <a:pt x="1198257" y="1743302"/>
                </a:lnTo>
                <a:lnTo>
                  <a:pt x="1214346" y="1752600"/>
                </a:lnTo>
                <a:lnTo>
                  <a:pt x="1229076" y="1761671"/>
                </a:lnTo>
                <a:lnTo>
                  <a:pt x="1242673" y="1770289"/>
                </a:lnTo>
                <a:lnTo>
                  <a:pt x="1248792" y="1774598"/>
                </a:lnTo>
                <a:lnTo>
                  <a:pt x="1254683" y="1778680"/>
                </a:lnTo>
                <a:lnTo>
                  <a:pt x="1259896" y="1782762"/>
                </a:lnTo>
                <a:lnTo>
                  <a:pt x="1264881" y="1786618"/>
                </a:lnTo>
                <a:lnTo>
                  <a:pt x="1269187" y="1790473"/>
                </a:lnTo>
                <a:lnTo>
                  <a:pt x="1273039" y="1794102"/>
                </a:lnTo>
                <a:lnTo>
                  <a:pt x="1276438" y="1797504"/>
                </a:lnTo>
                <a:lnTo>
                  <a:pt x="1278931" y="1800905"/>
                </a:lnTo>
                <a:lnTo>
                  <a:pt x="1281197" y="1803627"/>
                </a:lnTo>
                <a:lnTo>
                  <a:pt x="1283237" y="1807029"/>
                </a:lnTo>
                <a:lnTo>
                  <a:pt x="1287542" y="1814739"/>
                </a:lnTo>
                <a:lnTo>
                  <a:pt x="1291621" y="1823811"/>
                </a:lnTo>
                <a:lnTo>
                  <a:pt x="1296380" y="1834016"/>
                </a:lnTo>
                <a:lnTo>
                  <a:pt x="1300686" y="1845582"/>
                </a:lnTo>
                <a:lnTo>
                  <a:pt x="1305445" y="1858282"/>
                </a:lnTo>
                <a:lnTo>
                  <a:pt x="1310203" y="1871889"/>
                </a:lnTo>
                <a:lnTo>
                  <a:pt x="1314736" y="1886404"/>
                </a:lnTo>
                <a:lnTo>
                  <a:pt x="1319495" y="1901371"/>
                </a:lnTo>
                <a:lnTo>
                  <a:pt x="1324027" y="1917246"/>
                </a:lnTo>
                <a:lnTo>
                  <a:pt x="1333318" y="1950130"/>
                </a:lnTo>
                <a:lnTo>
                  <a:pt x="1342382" y="1984375"/>
                </a:lnTo>
                <a:lnTo>
                  <a:pt x="1350994" y="2018620"/>
                </a:lnTo>
                <a:lnTo>
                  <a:pt x="1359378" y="2052411"/>
                </a:lnTo>
                <a:lnTo>
                  <a:pt x="1366857" y="2084388"/>
                </a:lnTo>
                <a:lnTo>
                  <a:pt x="1373655" y="2114097"/>
                </a:lnTo>
                <a:lnTo>
                  <a:pt x="1379320" y="2140404"/>
                </a:lnTo>
                <a:lnTo>
                  <a:pt x="1387478" y="2179184"/>
                </a:lnTo>
                <a:lnTo>
                  <a:pt x="1390651" y="2193925"/>
                </a:lnTo>
                <a:lnTo>
                  <a:pt x="798513" y="2193925"/>
                </a:lnTo>
                <a:lnTo>
                  <a:pt x="1111918" y="1875064"/>
                </a:lnTo>
                <a:lnTo>
                  <a:pt x="1011755" y="1800905"/>
                </a:lnTo>
                <a:lnTo>
                  <a:pt x="1094922" y="1766661"/>
                </a:lnTo>
                <a:lnTo>
                  <a:pt x="1033510" y="1660525"/>
                </a:lnTo>
                <a:close/>
                <a:moveTo>
                  <a:pt x="511355" y="1660525"/>
                </a:moveTo>
                <a:lnTo>
                  <a:pt x="449944" y="1766661"/>
                </a:lnTo>
                <a:lnTo>
                  <a:pt x="532657" y="1800905"/>
                </a:lnTo>
                <a:lnTo>
                  <a:pt x="432494" y="1875064"/>
                </a:lnTo>
                <a:lnTo>
                  <a:pt x="746126" y="2193925"/>
                </a:lnTo>
                <a:lnTo>
                  <a:pt x="153988" y="2193925"/>
                </a:lnTo>
                <a:lnTo>
                  <a:pt x="157160" y="2179184"/>
                </a:lnTo>
                <a:lnTo>
                  <a:pt x="165318" y="2140404"/>
                </a:lnTo>
                <a:lnTo>
                  <a:pt x="171210" y="2114097"/>
                </a:lnTo>
                <a:lnTo>
                  <a:pt x="177782" y="2084388"/>
                </a:lnTo>
                <a:lnTo>
                  <a:pt x="185260" y="2052411"/>
                </a:lnTo>
                <a:lnTo>
                  <a:pt x="193418" y="2018620"/>
                </a:lnTo>
                <a:lnTo>
                  <a:pt x="202256" y="1984375"/>
                </a:lnTo>
                <a:lnTo>
                  <a:pt x="211321" y="1950130"/>
                </a:lnTo>
                <a:lnTo>
                  <a:pt x="220385" y="1917246"/>
                </a:lnTo>
                <a:lnTo>
                  <a:pt x="224918" y="1901371"/>
                </a:lnTo>
                <a:lnTo>
                  <a:pt x="229676" y="1886404"/>
                </a:lnTo>
                <a:lnTo>
                  <a:pt x="234209" y="1871889"/>
                </a:lnTo>
                <a:lnTo>
                  <a:pt x="238967" y="1858282"/>
                </a:lnTo>
                <a:lnTo>
                  <a:pt x="243726" y="1845582"/>
                </a:lnTo>
                <a:lnTo>
                  <a:pt x="248259" y="1834016"/>
                </a:lnTo>
                <a:lnTo>
                  <a:pt x="252791" y="1823811"/>
                </a:lnTo>
                <a:lnTo>
                  <a:pt x="257096" y="1814739"/>
                </a:lnTo>
                <a:lnTo>
                  <a:pt x="261175" y="1807029"/>
                </a:lnTo>
                <a:lnTo>
                  <a:pt x="263442" y="1803627"/>
                </a:lnTo>
                <a:lnTo>
                  <a:pt x="265481" y="1800905"/>
                </a:lnTo>
                <a:lnTo>
                  <a:pt x="268200" y="1797504"/>
                </a:lnTo>
                <a:lnTo>
                  <a:pt x="271600" y="1794102"/>
                </a:lnTo>
                <a:lnTo>
                  <a:pt x="275452" y="1790473"/>
                </a:lnTo>
                <a:lnTo>
                  <a:pt x="279984" y="1786618"/>
                </a:lnTo>
                <a:lnTo>
                  <a:pt x="284517" y="1782762"/>
                </a:lnTo>
                <a:lnTo>
                  <a:pt x="289955" y="1778680"/>
                </a:lnTo>
                <a:lnTo>
                  <a:pt x="295621" y="1774598"/>
                </a:lnTo>
                <a:lnTo>
                  <a:pt x="301966" y="1770289"/>
                </a:lnTo>
                <a:lnTo>
                  <a:pt x="315336" y="1761671"/>
                </a:lnTo>
                <a:lnTo>
                  <a:pt x="330066" y="1752600"/>
                </a:lnTo>
                <a:lnTo>
                  <a:pt x="346155" y="1743302"/>
                </a:lnTo>
                <a:lnTo>
                  <a:pt x="363378" y="1734004"/>
                </a:lnTo>
                <a:lnTo>
                  <a:pt x="381053" y="1724252"/>
                </a:lnTo>
                <a:lnTo>
                  <a:pt x="399409" y="1714727"/>
                </a:lnTo>
                <a:lnTo>
                  <a:pt x="418218" y="1705202"/>
                </a:lnTo>
                <a:lnTo>
                  <a:pt x="437253" y="1695904"/>
                </a:lnTo>
                <a:lnTo>
                  <a:pt x="475098" y="1677761"/>
                </a:lnTo>
                <a:lnTo>
                  <a:pt x="511355" y="1660525"/>
                </a:lnTo>
                <a:close/>
                <a:moveTo>
                  <a:pt x="929254" y="1614488"/>
                </a:moveTo>
                <a:lnTo>
                  <a:pt x="950557" y="1623559"/>
                </a:lnTo>
                <a:lnTo>
                  <a:pt x="974579" y="1633992"/>
                </a:lnTo>
                <a:lnTo>
                  <a:pt x="1004946" y="1647599"/>
                </a:lnTo>
                <a:lnTo>
                  <a:pt x="1068853" y="1757817"/>
                </a:lnTo>
                <a:lnTo>
                  <a:pt x="975258" y="1796370"/>
                </a:lnTo>
                <a:lnTo>
                  <a:pt x="1084263" y="1877106"/>
                </a:lnTo>
                <a:lnTo>
                  <a:pt x="773113" y="2193926"/>
                </a:lnTo>
                <a:lnTo>
                  <a:pt x="929254" y="1614488"/>
                </a:lnTo>
                <a:close/>
                <a:moveTo>
                  <a:pt x="615947" y="1614488"/>
                </a:moveTo>
                <a:lnTo>
                  <a:pt x="773113" y="2193926"/>
                </a:lnTo>
                <a:lnTo>
                  <a:pt x="460375" y="1877106"/>
                </a:lnTo>
                <a:lnTo>
                  <a:pt x="569936" y="1796370"/>
                </a:lnTo>
                <a:lnTo>
                  <a:pt x="475636" y="1757817"/>
                </a:lnTo>
                <a:lnTo>
                  <a:pt x="539869" y="1647599"/>
                </a:lnTo>
                <a:lnTo>
                  <a:pt x="570619" y="1633992"/>
                </a:lnTo>
                <a:lnTo>
                  <a:pt x="594536" y="1623559"/>
                </a:lnTo>
                <a:lnTo>
                  <a:pt x="615947" y="1614488"/>
                </a:lnTo>
                <a:close/>
                <a:moveTo>
                  <a:pt x="1500188" y="1487488"/>
                </a:moveTo>
                <a:lnTo>
                  <a:pt x="2676526" y="1487488"/>
                </a:lnTo>
                <a:lnTo>
                  <a:pt x="2676526" y="1509713"/>
                </a:lnTo>
                <a:lnTo>
                  <a:pt x="1500188" y="1509713"/>
                </a:lnTo>
                <a:lnTo>
                  <a:pt x="1500188" y="1487488"/>
                </a:lnTo>
                <a:close/>
                <a:moveTo>
                  <a:pt x="1500188" y="1266825"/>
                </a:moveTo>
                <a:lnTo>
                  <a:pt x="2676526" y="1266825"/>
                </a:lnTo>
                <a:lnTo>
                  <a:pt x="2676526" y="1289050"/>
                </a:lnTo>
                <a:lnTo>
                  <a:pt x="1500188" y="1289050"/>
                </a:lnTo>
                <a:lnTo>
                  <a:pt x="1500188" y="1266825"/>
                </a:lnTo>
                <a:close/>
                <a:moveTo>
                  <a:pt x="1500188" y="1047750"/>
                </a:moveTo>
                <a:lnTo>
                  <a:pt x="2676526" y="1047750"/>
                </a:lnTo>
                <a:lnTo>
                  <a:pt x="2676526" y="1068388"/>
                </a:lnTo>
                <a:lnTo>
                  <a:pt x="1500188" y="1068388"/>
                </a:lnTo>
                <a:lnTo>
                  <a:pt x="1500188" y="1047750"/>
                </a:lnTo>
                <a:close/>
                <a:moveTo>
                  <a:pt x="929369" y="969963"/>
                </a:moveTo>
                <a:lnTo>
                  <a:pt x="936399" y="973819"/>
                </a:lnTo>
                <a:lnTo>
                  <a:pt x="942522" y="977674"/>
                </a:lnTo>
                <a:lnTo>
                  <a:pt x="948872" y="981756"/>
                </a:lnTo>
                <a:lnTo>
                  <a:pt x="954315" y="986519"/>
                </a:lnTo>
                <a:lnTo>
                  <a:pt x="959531" y="991281"/>
                </a:lnTo>
                <a:lnTo>
                  <a:pt x="964294" y="995817"/>
                </a:lnTo>
                <a:lnTo>
                  <a:pt x="968829" y="1001033"/>
                </a:lnTo>
                <a:lnTo>
                  <a:pt x="972911" y="1006249"/>
                </a:lnTo>
                <a:lnTo>
                  <a:pt x="976767" y="1011919"/>
                </a:lnTo>
                <a:lnTo>
                  <a:pt x="980395" y="1017588"/>
                </a:lnTo>
                <a:lnTo>
                  <a:pt x="983797" y="1023485"/>
                </a:lnTo>
                <a:lnTo>
                  <a:pt x="986745" y="1029835"/>
                </a:lnTo>
                <a:lnTo>
                  <a:pt x="989467" y="1035958"/>
                </a:lnTo>
                <a:lnTo>
                  <a:pt x="992188" y="1042535"/>
                </a:lnTo>
                <a:lnTo>
                  <a:pt x="994683" y="1049338"/>
                </a:lnTo>
                <a:lnTo>
                  <a:pt x="996724" y="1056368"/>
                </a:lnTo>
                <a:lnTo>
                  <a:pt x="998765" y="1063172"/>
                </a:lnTo>
                <a:lnTo>
                  <a:pt x="1001033" y="1070883"/>
                </a:lnTo>
                <a:lnTo>
                  <a:pt x="1004208" y="1085850"/>
                </a:lnTo>
                <a:lnTo>
                  <a:pt x="1007383" y="1101725"/>
                </a:lnTo>
                <a:lnTo>
                  <a:pt x="1010558" y="1118508"/>
                </a:lnTo>
                <a:lnTo>
                  <a:pt x="1016454" y="1153433"/>
                </a:lnTo>
                <a:lnTo>
                  <a:pt x="1019856" y="1172256"/>
                </a:lnTo>
                <a:lnTo>
                  <a:pt x="1023712" y="1191306"/>
                </a:lnTo>
                <a:lnTo>
                  <a:pt x="1029608" y="1192667"/>
                </a:lnTo>
                <a:lnTo>
                  <a:pt x="1035958" y="1194254"/>
                </a:lnTo>
                <a:lnTo>
                  <a:pt x="1041628" y="1196295"/>
                </a:lnTo>
                <a:lnTo>
                  <a:pt x="1047297" y="1198790"/>
                </a:lnTo>
                <a:lnTo>
                  <a:pt x="1052513" y="1201511"/>
                </a:lnTo>
                <a:lnTo>
                  <a:pt x="1057729" y="1204459"/>
                </a:lnTo>
                <a:lnTo>
                  <a:pt x="1062492" y="1208088"/>
                </a:lnTo>
                <a:lnTo>
                  <a:pt x="1066801" y="1211943"/>
                </a:lnTo>
                <a:lnTo>
                  <a:pt x="1070883" y="1216025"/>
                </a:lnTo>
                <a:lnTo>
                  <a:pt x="1074738" y="1220108"/>
                </a:lnTo>
                <a:lnTo>
                  <a:pt x="1078140" y="1224870"/>
                </a:lnTo>
                <a:lnTo>
                  <a:pt x="1081088" y="1229633"/>
                </a:lnTo>
                <a:lnTo>
                  <a:pt x="1083583" y="1234849"/>
                </a:lnTo>
                <a:lnTo>
                  <a:pt x="1085624" y="1240065"/>
                </a:lnTo>
                <a:lnTo>
                  <a:pt x="1087212" y="1245734"/>
                </a:lnTo>
                <a:lnTo>
                  <a:pt x="1088345" y="1251404"/>
                </a:lnTo>
                <a:lnTo>
                  <a:pt x="1089026" y="1257527"/>
                </a:lnTo>
                <a:lnTo>
                  <a:pt x="1089026" y="1263424"/>
                </a:lnTo>
                <a:lnTo>
                  <a:pt x="1088572" y="1270000"/>
                </a:lnTo>
                <a:lnTo>
                  <a:pt x="1087438" y="1276124"/>
                </a:lnTo>
                <a:lnTo>
                  <a:pt x="1085624" y="1282927"/>
                </a:lnTo>
                <a:lnTo>
                  <a:pt x="1083356" y="1289277"/>
                </a:lnTo>
                <a:lnTo>
                  <a:pt x="1080635" y="1296081"/>
                </a:lnTo>
                <a:lnTo>
                  <a:pt x="1077006" y="1303111"/>
                </a:lnTo>
                <a:lnTo>
                  <a:pt x="1072470" y="1310141"/>
                </a:lnTo>
                <a:lnTo>
                  <a:pt x="1067481" y="1317172"/>
                </a:lnTo>
                <a:lnTo>
                  <a:pt x="1061585" y="1324202"/>
                </a:lnTo>
                <a:lnTo>
                  <a:pt x="1055235" y="1331006"/>
                </a:lnTo>
                <a:lnTo>
                  <a:pt x="1047751" y="1338036"/>
                </a:lnTo>
                <a:lnTo>
                  <a:pt x="1039587" y="1345293"/>
                </a:lnTo>
                <a:lnTo>
                  <a:pt x="1030742" y="1352324"/>
                </a:lnTo>
                <a:lnTo>
                  <a:pt x="1020990" y="1359354"/>
                </a:lnTo>
                <a:lnTo>
                  <a:pt x="1018269" y="1372281"/>
                </a:lnTo>
                <a:lnTo>
                  <a:pt x="1015094" y="1385208"/>
                </a:lnTo>
                <a:lnTo>
                  <a:pt x="1011919" y="1398361"/>
                </a:lnTo>
                <a:lnTo>
                  <a:pt x="1007836" y="1411061"/>
                </a:lnTo>
                <a:lnTo>
                  <a:pt x="1003754" y="1423761"/>
                </a:lnTo>
                <a:lnTo>
                  <a:pt x="999445" y="1436008"/>
                </a:lnTo>
                <a:lnTo>
                  <a:pt x="994456" y="1448254"/>
                </a:lnTo>
                <a:lnTo>
                  <a:pt x="989240" y="1460274"/>
                </a:lnTo>
                <a:lnTo>
                  <a:pt x="983570" y="1472066"/>
                </a:lnTo>
                <a:lnTo>
                  <a:pt x="977901" y="1483633"/>
                </a:lnTo>
                <a:lnTo>
                  <a:pt x="971551" y="1494745"/>
                </a:lnTo>
                <a:lnTo>
                  <a:pt x="964974" y="1505858"/>
                </a:lnTo>
                <a:lnTo>
                  <a:pt x="958170" y="1516516"/>
                </a:lnTo>
                <a:lnTo>
                  <a:pt x="950913" y="1526722"/>
                </a:lnTo>
                <a:lnTo>
                  <a:pt x="943429" y="1536700"/>
                </a:lnTo>
                <a:lnTo>
                  <a:pt x="935492" y="1546225"/>
                </a:lnTo>
                <a:lnTo>
                  <a:pt x="927554" y="1555297"/>
                </a:lnTo>
                <a:lnTo>
                  <a:pt x="919163" y="1564141"/>
                </a:lnTo>
                <a:lnTo>
                  <a:pt x="910772" y="1572533"/>
                </a:lnTo>
                <a:lnTo>
                  <a:pt x="901701" y="1580243"/>
                </a:lnTo>
                <a:lnTo>
                  <a:pt x="892629" y="1587500"/>
                </a:lnTo>
                <a:lnTo>
                  <a:pt x="883331" y="1594531"/>
                </a:lnTo>
                <a:lnTo>
                  <a:pt x="873352" y="1600881"/>
                </a:lnTo>
                <a:lnTo>
                  <a:pt x="863601" y="1606550"/>
                </a:lnTo>
                <a:lnTo>
                  <a:pt x="858385" y="1609272"/>
                </a:lnTo>
                <a:lnTo>
                  <a:pt x="853169" y="1611766"/>
                </a:lnTo>
                <a:lnTo>
                  <a:pt x="847952" y="1614261"/>
                </a:lnTo>
                <a:lnTo>
                  <a:pt x="842736" y="1616302"/>
                </a:lnTo>
                <a:lnTo>
                  <a:pt x="837520" y="1618343"/>
                </a:lnTo>
                <a:lnTo>
                  <a:pt x="832077" y="1620384"/>
                </a:lnTo>
                <a:lnTo>
                  <a:pt x="826635" y="1621972"/>
                </a:lnTo>
                <a:lnTo>
                  <a:pt x="821192" y="1623786"/>
                </a:lnTo>
                <a:lnTo>
                  <a:pt x="815749" y="1625147"/>
                </a:lnTo>
                <a:lnTo>
                  <a:pt x="810079" y="1626508"/>
                </a:lnTo>
                <a:lnTo>
                  <a:pt x="804410" y="1627415"/>
                </a:lnTo>
                <a:lnTo>
                  <a:pt x="798740" y="1628549"/>
                </a:lnTo>
                <a:lnTo>
                  <a:pt x="793070" y="1629229"/>
                </a:lnTo>
                <a:lnTo>
                  <a:pt x="787401" y="1629909"/>
                </a:lnTo>
                <a:lnTo>
                  <a:pt x="781277" y="1630363"/>
                </a:lnTo>
                <a:lnTo>
                  <a:pt x="775381" y="1630363"/>
                </a:lnTo>
                <a:lnTo>
                  <a:pt x="769711" y="1630363"/>
                </a:lnTo>
                <a:lnTo>
                  <a:pt x="763815" y="1629909"/>
                </a:lnTo>
                <a:lnTo>
                  <a:pt x="757918" y="1629229"/>
                </a:lnTo>
                <a:lnTo>
                  <a:pt x="752249" y="1628549"/>
                </a:lnTo>
                <a:lnTo>
                  <a:pt x="746579" y="1627415"/>
                </a:lnTo>
                <a:lnTo>
                  <a:pt x="740910" y="1626508"/>
                </a:lnTo>
                <a:lnTo>
                  <a:pt x="735240" y="1625147"/>
                </a:lnTo>
                <a:lnTo>
                  <a:pt x="729797" y="1623786"/>
                </a:lnTo>
                <a:lnTo>
                  <a:pt x="724354" y="1621972"/>
                </a:lnTo>
                <a:lnTo>
                  <a:pt x="718911" y="1620384"/>
                </a:lnTo>
                <a:lnTo>
                  <a:pt x="713468" y="1618343"/>
                </a:lnTo>
                <a:lnTo>
                  <a:pt x="708252" y="1616302"/>
                </a:lnTo>
                <a:lnTo>
                  <a:pt x="703036" y="1614261"/>
                </a:lnTo>
                <a:lnTo>
                  <a:pt x="697820" y="1611766"/>
                </a:lnTo>
                <a:lnTo>
                  <a:pt x="692604" y="1609272"/>
                </a:lnTo>
                <a:lnTo>
                  <a:pt x="687388" y="1606550"/>
                </a:lnTo>
                <a:lnTo>
                  <a:pt x="677636" y="1600881"/>
                </a:lnTo>
                <a:lnTo>
                  <a:pt x="668111" y="1594531"/>
                </a:lnTo>
                <a:lnTo>
                  <a:pt x="658359" y="1587500"/>
                </a:lnTo>
                <a:lnTo>
                  <a:pt x="649288" y="1580243"/>
                </a:lnTo>
                <a:lnTo>
                  <a:pt x="640217" y="1572533"/>
                </a:lnTo>
                <a:lnTo>
                  <a:pt x="631826" y="1564141"/>
                </a:lnTo>
                <a:lnTo>
                  <a:pt x="623434" y="1555297"/>
                </a:lnTo>
                <a:lnTo>
                  <a:pt x="615497" y="1546225"/>
                </a:lnTo>
                <a:lnTo>
                  <a:pt x="607559" y="1536700"/>
                </a:lnTo>
                <a:lnTo>
                  <a:pt x="600075" y="1526722"/>
                </a:lnTo>
                <a:lnTo>
                  <a:pt x="592818" y="1516516"/>
                </a:lnTo>
                <a:lnTo>
                  <a:pt x="586015" y="1505858"/>
                </a:lnTo>
                <a:lnTo>
                  <a:pt x="579665" y="1494745"/>
                </a:lnTo>
                <a:lnTo>
                  <a:pt x="573315" y="1483633"/>
                </a:lnTo>
                <a:lnTo>
                  <a:pt x="567418" y="1472066"/>
                </a:lnTo>
                <a:lnTo>
                  <a:pt x="561975" y="1460274"/>
                </a:lnTo>
                <a:lnTo>
                  <a:pt x="556533" y="1448254"/>
                </a:lnTo>
                <a:lnTo>
                  <a:pt x="551997" y="1436008"/>
                </a:lnTo>
                <a:lnTo>
                  <a:pt x="547234" y="1423761"/>
                </a:lnTo>
                <a:lnTo>
                  <a:pt x="543152" y="1411061"/>
                </a:lnTo>
                <a:lnTo>
                  <a:pt x="539524" y="1398361"/>
                </a:lnTo>
                <a:lnTo>
                  <a:pt x="535895" y="1385208"/>
                </a:lnTo>
                <a:lnTo>
                  <a:pt x="532947" y="1372281"/>
                </a:lnTo>
                <a:lnTo>
                  <a:pt x="529999" y="1359354"/>
                </a:lnTo>
                <a:lnTo>
                  <a:pt x="520247" y="1352324"/>
                </a:lnTo>
                <a:lnTo>
                  <a:pt x="511402" y="1345293"/>
                </a:lnTo>
                <a:lnTo>
                  <a:pt x="503238" y="1338036"/>
                </a:lnTo>
                <a:lnTo>
                  <a:pt x="495981" y="1331006"/>
                </a:lnTo>
                <a:lnTo>
                  <a:pt x="489404" y="1324202"/>
                </a:lnTo>
                <a:lnTo>
                  <a:pt x="483734" y="1317172"/>
                </a:lnTo>
                <a:lnTo>
                  <a:pt x="478518" y="1310141"/>
                </a:lnTo>
                <a:lnTo>
                  <a:pt x="474209" y="1303111"/>
                </a:lnTo>
                <a:lnTo>
                  <a:pt x="470581" y="1296081"/>
                </a:lnTo>
                <a:lnTo>
                  <a:pt x="467633" y="1289277"/>
                </a:lnTo>
                <a:lnTo>
                  <a:pt x="465365" y="1282927"/>
                </a:lnTo>
                <a:lnTo>
                  <a:pt x="463550" y="1276124"/>
                </a:lnTo>
                <a:lnTo>
                  <a:pt x="462416" y="1270000"/>
                </a:lnTo>
                <a:lnTo>
                  <a:pt x="461963" y="1263424"/>
                </a:lnTo>
                <a:lnTo>
                  <a:pt x="462190" y="1257527"/>
                </a:lnTo>
                <a:lnTo>
                  <a:pt x="462643" y="1251404"/>
                </a:lnTo>
                <a:lnTo>
                  <a:pt x="463777" y="1245734"/>
                </a:lnTo>
                <a:lnTo>
                  <a:pt x="465591" y="1240065"/>
                </a:lnTo>
                <a:lnTo>
                  <a:pt x="467633" y="1234849"/>
                </a:lnTo>
                <a:lnTo>
                  <a:pt x="469900" y="1229633"/>
                </a:lnTo>
                <a:lnTo>
                  <a:pt x="473075" y="1224870"/>
                </a:lnTo>
                <a:lnTo>
                  <a:pt x="476477" y="1220108"/>
                </a:lnTo>
                <a:lnTo>
                  <a:pt x="480106" y="1216025"/>
                </a:lnTo>
                <a:lnTo>
                  <a:pt x="484188" y="1211943"/>
                </a:lnTo>
                <a:lnTo>
                  <a:pt x="488724" y="1208088"/>
                </a:lnTo>
                <a:lnTo>
                  <a:pt x="493486" y="1204459"/>
                </a:lnTo>
                <a:lnTo>
                  <a:pt x="498475" y="1201511"/>
                </a:lnTo>
                <a:lnTo>
                  <a:pt x="503918" y="1198790"/>
                </a:lnTo>
                <a:lnTo>
                  <a:pt x="509361" y="1196295"/>
                </a:lnTo>
                <a:lnTo>
                  <a:pt x="515258" y="1194254"/>
                </a:lnTo>
                <a:lnTo>
                  <a:pt x="521381" y="1192667"/>
                </a:lnTo>
                <a:lnTo>
                  <a:pt x="527504" y="1191306"/>
                </a:lnTo>
                <a:lnTo>
                  <a:pt x="529999" y="1178606"/>
                </a:lnTo>
                <a:lnTo>
                  <a:pt x="532493" y="1166133"/>
                </a:lnTo>
                <a:lnTo>
                  <a:pt x="536575" y="1142093"/>
                </a:lnTo>
                <a:lnTo>
                  <a:pt x="540431" y="1118961"/>
                </a:lnTo>
                <a:lnTo>
                  <a:pt x="544513" y="1097190"/>
                </a:lnTo>
                <a:lnTo>
                  <a:pt x="546781" y="1086531"/>
                </a:lnTo>
                <a:lnTo>
                  <a:pt x="548822" y="1076552"/>
                </a:lnTo>
                <a:lnTo>
                  <a:pt x="551317" y="1066574"/>
                </a:lnTo>
                <a:lnTo>
                  <a:pt x="554038" y="1057275"/>
                </a:lnTo>
                <a:lnTo>
                  <a:pt x="556759" y="1048204"/>
                </a:lnTo>
                <a:lnTo>
                  <a:pt x="560161" y="1039360"/>
                </a:lnTo>
                <a:lnTo>
                  <a:pt x="563790" y="1030742"/>
                </a:lnTo>
                <a:lnTo>
                  <a:pt x="567645" y="1022804"/>
                </a:lnTo>
                <a:lnTo>
                  <a:pt x="575809" y="1025299"/>
                </a:lnTo>
                <a:lnTo>
                  <a:pt x="586695" y="1028701"/>
                </a:lnTo>
                <a:lnTo>
                  <a:pt x="600075" y="1032330"/>
                </a:lnTo>
                <a:lnTo>
                  <a:pt x="607786" y="1034144"/>
                </a:lnTo>
                <a:lnTo>
                  <a:pt x="615950" y="1035958"/>
                </a:lnTo>
                <a:lnTo>
                  <a:pt x="625022" y="1037772"/>
                </a:lnTo>
                <a:lnTo>
                  <a:pt x="634320" y="1039360"/>
                </a:lnTo>
                <a:lnTo>
                  <a:pt x="644072" y="1040947"/>
                </a:lnTo>
                <a:lnTo>
                  <a:pt x="654731" y="1042308"/>
                </a:lnTo>
                <a:lnTo>
                  <a:pt x="665617" y="1043215"/>
                </a:lnTo>
                <a:lnTo>
                  <a:pt x="676956" y="1044122"/>
                </a:lnTo>
                <a:lnTo>
                  <a:pt x="688749" y="1044576"/>
                </a:lnTo>
                <a:lnTo>
                  <a:pt x="700995" y="1044576"/>
                </a:lnTo>
                <a:lnTo>
                  <a:pt x="713468" y="1044576"/>
                </a:lnTo>
                <a:lnTo>
                  <a:pt x="726395" y="1043896"/>
                </a:lnTo>
                <a:lnTo>
                  <a:pt x="739549" y="1042762"/>
                </a:lnTo>
                <a:lnTo>
                  <a:pt x="753156" y="1041174"/>
                </a:lnTo>
                <a:lnTo>
                  <a:pt x="766763" y="1039133"/>
                </a:lnTo>
                <a:lnTo>
                  <a:pt x="780824" y="1036185"/>
                </a:lnTo>
                <a:lnTo>
                  <a:pt x="795111" y="1033010"/>
                </a:lnTo>
                <a:lnTo>
                  <a:pt x="809626" y="1028928"/>
                </a:lnTo>
                <a:lnTo>
                  <a:pt x="816883" y="1026887"/>
                </a:lnTo>
                <a:lnTo>
                  <a:pt x="824140" y="1024619"/>
                </a:lnTo>
                <a:lnTo>
                  <a:pt x="831624" y="1022124"/>
                </a:lnTo>
                <a:lnTo>
                  <a:pt x="838881" y="1019176"/>
                </a:lnTo>
                <a:lnTo>
                  <a:pt x="846365" y="1016228"/>
                </a:lnTo>
                <a:lnTo>
                  <a:pt x="853849" y="1013280"/>
                </a:lnTo>
                <a:lnTo>
                  <a:pt x="861560" y="1009878"/>
                </a:lnTo>
                <a:lnTo>
                  <a:pt x="869044" y="1006249"/>
                </a:lnTo>
                <a:lnTo>
                  <a:pt x="876527" y="1002621"/>
                </a:lnTo>
                <a:lnTo>
                  <a:pt x="884011" y="998538"/>
                </a:lnTo>
                <a:lnTo>
                  <a:pt x="891495" y="994230"/>
                </a:lnTo>
                <a:lnTo>
                  <a:pt x="898979" y="989921"/>
                </a:lnTo>
                <a:lnTo>
                  <a:pt x="906463" y="985158"/>
                </a:lnTo>
                <a:lnTo>
                  <a:pt x="914401" y="980622"/>
                </a:lnTo>
                <a:lnTo>
                  <a:pt x="921885" y="975406"/>
                </a:lnTo>
                <a:lnTo>
                  <a:pt x="929369" y="969963"/>
                </a:lnTo>
                <a:close/>
                <a:moveTo>
                  <a:pt x="774700" y="801688"/>
                </a:moveTo>
                <a:lnTo>
                  <a:pt x="790563" y="802369"/>
                </a:lnTo>
                <a:lnTo>
                  <a:pt x="805746" y="803050"/>
                </a:lnTo>
                <a:lnTo>
                  <a:pt x="820702" y="804638"/>
                </a:lnTo>
                <a:lnTo>
                  <a:pt x="835205" y="806681"/>
                </a:lnTo>
                <a:lnTo>
                  <a:pt x="849255" y="809177"/>
                </a:lnTo>
                <a:lnTo>
                  <a:pt x="863079" y="812353"/>
                </a:lnTo>
                <a:lnTo>
                  <a:pt x="875996" y="815757"/>
                </a:lnTo>
                <a:lnTo>
                  <a:pt x="882567" y="817799"/>
                </a:lnTo>
                <a:lnTo>
                  <a:pt x="888459" y="819842"/>
                </a:lnTo>
                <a:lnTo>
                  <a:pt x="894578" y="822111"/>
                </a:lnTo>
                <a:lnTo>
                  <a:pt x="900243" y="824380"/>
                </a:lnTo>
                <a:lnTo>
                  <a:pt x="906135" y="826649"/>
                </a:lnTo>
                <a:lnTo>
                  <a:pt x="911574" y="829372"/>
                </a:lnTo>
                <a:lnTo>
                  <a:pt x="916559" y="831868"/>
                </a:lnTo>
                <a:lnTo>
                  <a:pt x="921771" y="834818"/>
                </a:lnTo>
                <a:lnTo>
                  <a:pt x="926757" y="837314"/>
                </a:lnTo>
                <a:lnTo>
                  <a:pt x="931516" y="840491"/>
                </a:lnTo>
                <a:lnTo>
                  <a:pt x="935821" y="843214"/>
                </a:lnTo>
                <a:lnTo>
                  <a:pt x="940127" y="846391"/>
                </a:lnTo>
                <a:lnTo>
                  <a:pt x="944206" y="849568"/>
                </a:lnTo>
                <a:lnTo>
                  <a:pt x="948058" y="852518"/>
                </a:lnTo>
                <a:lnTo>
                  <a:pt x="951684" y="855921"/>
                </a:lnTo>
                <a:lnTo>
                  <a:pt x="955083" y="859325"/>
                </a:lnTo>
                <a:lnTo>
                  <a:pt x="958029" y="862956"/>
                </a:lnTo>
                <a:lnTo>
                  <a:pt x="960975" y="866359"/>
                </a:lnTo>
                <a:lnTo>
                  <a:pt x="966867" y="866586"/>
                </a:lnTo>
                <a:lnTo>
                  <a:pt x="972986" y="867494"/>
                </a:lnTo>
                <a:lnTo>
                  <a:pt x="978651" y="868402"/>
                </a:lnTo>
                <a:lnTo>
                  <a:pt x="984090" y="869990"/>
                </a:lnTo>
                <a:lnTo>
                  <a:pt x="989302" y="871579"/>
                </a:lnTo>
                <a:lnTo>
                  <a:pt x="994287" y="873621"/>
                </a:lnTo>
                <a:lnTo>
                  <a:pt x="999273" y="876117"/>
                </a:lnTo>
                <a:lnTo>
                  <a:pt x="1003805" y="878840"/>
                </a:lnTo>
                <a:lnTo>
                  <a:pt x="1008337" y="882017"/>
                </a:lnTo>
                <a:lnTo>
                  <a:pt x="1012416" y="885194"/>
                </a:lnTo>
                <a:lnTo>
                  <a:pt x="1016722" y="888824"/>
                </a:lnTo>
                <a:lnTo>
                  <a:pt x="1020574" y="892909"/>
                </a:lnTo>
                <a:lnTo>
                  <a:pt x="1024200" y="896993"/>
                </a:lnTo>
                <a:lnTo>
                  <a:pt x="1027599" y="901078"/>
                </a:lnTo>
                <a:lnTo>
                  <a:pt x="1030999" y="905843"/>
                </a:lnTo>
                <a:lnTo>
                  <a:pt x="1034171" y="910835"/>
                </a:lnTo>
                <a:lnTo>
                  <a:pt x="1037117" y="915600"/>
                </a:lnTo>
                <a:lnTo>
                  <a:pt x="1040063" y="921046"/>
                </a:lnTo>
                <a:lnTo>
                  <a:pt x="1042556" y="926492"/>
                </a:lnTo>
                <a:lnTo>
                  <a:pt x="1045048" y="931938"/>
                </a:lnTo>
                <a:lnTo>
                  <a:pt x="1047541" y="938065"/>
                </a:lnTo>
                <a:lnTo>
                  <a:pt x="1049807" y="943965"/>
                </a:lnTo>
                <a:lnTo>
                  <a:pt x="1051847" y="949865"/>
                </a:lnTo>
                <a:lnTo>
                  <a:pt x="1053886" y="956218"/>
                </a:lnTo>
                <a:lnTo>
                  <a:pt x="1055699" y="962572"/>
                </a:lnTo>
                <a:lnTo>
                  <a:pt x="1057286" y="969153"/>
                </a:lnTo>
                <a:lnTo>
                  <a:pt x="1060458" y="982314"/>
                </a:lnTo>
                <a:lnTo>
                  <a:pt x="1062724" y="996156"/>
                </a:lnTo>
                <a:lnTo>
                  <a:pt x="1064764" y="1009997"/>
                </a:lnTo>
                <a:lnTo>
                  <a:pt x="1066577" y="1024066"/>
                </a:lnTo>
                <a:lnTo>
                  <a:pt x="1067936" y="1038362"/>
                </a:lnTo>
                <a:lnTo>
                  <a:pt x="1069069" y="1052430"/>
                </a:lnTo>
                <a:lnTo>
                  <a:pt x="1069523" y="1066499"/>
                </a:lnTo>
                <a:lnTo>
                  <a:pt x="1069749" y="1080341"/>
                </a:lnTo>
                <a:lnTo>
                  <a:pt x="1069976" y="1093956"/>
                </a:lnTo>
                <a:lnTo>
                  <a:pt x="1069749" y="1107117"/>
                </a:lnTo>
                <a:lnTo>
                  <a:pt x="1069523" y="1120051"/>
                </a:lnTo>
                <a:lnTo>
                  <a:pt x="1069069" y="1132305"/>
                </a:lnTo>
                <a:lnTo>
                  <a:pt x="1068390" y="1143878"/>
                </a:lnTo>
                <a:lnTo>
                  <a:pt x="1067030" y="1165208"/>
                </a:lnTo>
                <a:lnTo>
                  <a:pt x="1065444" y="1182907"/>
                </a:lnTo>
                <a:lnTo>
                  <a:pt x="1064084" y="1196295"/>
                </a:lnTo>
                <a:lnTo>
                  <a:pt x="1056832" y="1192665"/>
                </a:lnTo>
                <a:lnTo>
                  <a:pt x="1053207" y="1191076"/>
                </a:lnTo>
                <a:lnTo>
                  <a:pt x="1049581" y="1189715"/>
                </a:lnTo>
                <a:lnTo>
                  <a:pt x="1045728" y="1188353"/>
                </a:lnTo>
                <a:lnTo>
                  <a:pt x="1041876" y="1187219"/>
                </a:lnTo>
                <a:lnTo>
                  <a:pt x="1037570" y="1186311"/>
                </a:lnTo>
                <a:lnTo>
                  <a:pt x="1033491" y="1185403"/>
                </a:lnTo>
                <a:lnTo>
                  <a:pt x="1027826" y="1146147"/>
                </a:lnTo>
                <a:lnTo>
                  <a:pt x="1024880" y="1127086"/>
                </a:lnTo>
                <a:lnTo>
                  <a:pt x="1021934" y="1109159"/>
                </a:lnTo>
                <a:lnTo>
                  <a:pt x="1018761" y="1091914"/>
                </a:lnTo>
                <a:lnTo>
                  <a:pt x="1015136" y="1075122"/>
                </a:lnTo>
                <a:lnTo>
                  <a:pt x="1013096" y="1067180"/>
                </a:lnTo>
                <a:lnTo>
                  <a:pt x="1010603" y="1059465"/>
                </a:lnTo>
                <a:lnTo>
                  <a:pt x="1008337" y="1051523"/>
                </a:lnTo>
                <a:lnTo>
                  <a:pt x="1006071" y="1044262"/>
                </a:lnTo>
                <a:lnTo>
                  <a:pt x="1003125" y="1037000"/>
                </a:lnTo>
                <a:lnTo>
                  <a:pt x="1000406" y="1029966"/>
                </a:lnTo>
                <a:lnTo>
                  <a:pt x="997233" y="1023159"/>
                </a:lnTo>
                <a:lnTo>
                  <a:pt x="994061" y="1016578"/>
                </a:lnTo>
                <a:lnTo>
                  <a:pt x="990435" y="1009997"/>
                </a:lnTo>
                <a:lnTo>
                  <a:pt x="986583" y="1003871"/>
                </a:lnTo>
                <a:lnTo>
                  <a:pt x="982504" y="997971"/>
                </a:lnTo>
                <a:lnTo>
                  <a:pt x="977971" y="992298"/>
                </a:lnTo>
                <a:lnTo>
                  <a:pt x="973439" y="986852"/>
                </a:lnTo>
                <a:lnTo>
                  <a:pt x="968454" y="981406"/>
                </a:lnTo>
                <a:lnTo>
                  <a:pt x="963241" y="976414"/>
                </a:lnTo>
                <a:lnTo>
                  <a:pt x="957576" y="971422"/>
                </a:lnTo>
                <a:lnTo>
                  <a:pt x="951458" y="966657"/>
                </a:lnTo>
                <a:lnTo>
                  <a:pt x="945112" y="962345"/>
                </a:lnTo>
                <a:lnTo>
                  <a:pt x="938087" y="958261"/>
                </a:lnTo>
                <a:lnTo>
                  <a:pt x="931063" y="954403"/>
                </a:lnTo>
                <a:lnTo>
                  <a:pt x="923131" y="960076"/>
                </a:lnTo>
                <a:lnTo>
                  <a:pt x="915426" y="965295"/>
                </a:lnTo>
                <a:lnTo>
                  <a:pt x="907268" y="970287"/>
                </a:lnTo>
                <a:lnTo>
                  <a:pt x="899563" y="975052"/>
                </a:lnTo>
                <a:lnTo>
                  <a:pt x="891632" y="979818"/>
                </a:lnTo>
                <a:lnTo>
                  <a:pt x="883701" y="984129"/>
                </a:lnTo>
                <a:lnTo>
                  <a:pt x="875996" y="988213"/>
                </a:lnTo>
                <a:lnTo>
                  <a:pt x="868291" y="992298"/>
                </a:lnTo>
                <a:lnTo>
                  <a:pt x="860359" y="995929"/>
                </a:lnTo>
                <a:lnTo>
                  <a:pt x="852655" y="999559"/>
                </a:lnTo>
                <a:lnTo>
                  <a:pt x="844950" y="1002509"/>
                </a:lnTo>
                <a:lnTo>
                  <a:pt x="837018" y="1005686"/>
                </a:lnTo>
                <a:lnTo>
                  <a:pt x="829314" y="1008636"/>
                </a:lnTo>
                <a:lnTo>
                  <a:pt x="821835" y="1011359"/>
                </a:lnTo>
                <a:lnTo>
                  <a:pt x="814357" y="1013628"/>
                </a:lnTo>
                <a:lnTo>
                  <a:pt x="806879" y="1016124"/>
                </a:lnTo>
                <a:lnTo>
                  <a:pt x="791696" y="1020209"/>
                </a:lnTo>
                <a:lnTo>
                  <a:pt x="776966" y="1023612"/>
                </a:lnTo>
                <a:lnTo>
                  <a:pt x="762690" y="1026335"/>
                </a:lnTo>
                <a:lnTo>
                  <a:pt x="748413" y="1028832"/>
                </a:lnTo>
                <a:lnTo>
                  <a:pt x="734590" y="1030420"/>
                </a:lnTo>
                <a:lnTo>
                  <a:pt x="720993" y="1031328"/>
                </a:lnTo>
                <a:lnTo>
                  <a:pt x="707849" y="1032235"/>
                </a:lnTo>
                <a:lnTo>
                  <a:pt x="694932" y="1032462"/>
                </a:lnTo>
                <a:lnTo>
                  <a:pt x="682469" y="1032235"/>
                </a:lnTo>
                <a:lnTo>
                  <a:pt x="670232" y="1031555"/>
                </a:lnTo>
                <a:lnTo>
                  <a:pt x="658675" y="1030874"/>
                </a:lnTo>
                <a:lnTo>
                  <a:pt x="647570" y="1029739"/>
                </a:lnTo>
                <a:lnTo>
                  <a:pt x="636920" y="1028605"/>
                </a:lnTo>
                <a:lnTo>
                  <a:pt x="626496" y="1027016"/>
                </a:lnTo>
                <a:lnTo>
                  <a:pt x="616978" y="1025201"/>
                </a:lnTo>
                <a:lnTo>
                  <a:pt x="607913" y="1023385"/>
                </a:lnTo>
                <a:lnTo>
                  <a:pt x="599302" y="1021570"/>
                </a:lnTo>
                <a:lnTo>
                  <a:pt x="591597" y="1019755"/>
                </a:lnTo>
                <a:lnTo>
                  <a:pt x="577547" y="1015897"/>
                </a:lnTo>
                <a:lnTo>
                  <a:pt x="566443" y="1012267"/>
                </a:lnTo>
                <a:lnTo>
                  <a:pt x="558059" y="1009317"/>
                </a:lnTo>
                <a:lnTo>
                  <a:pt x="553980" y="1017940"/>
                </a:lnTo>
                <a:lnTo>
                  <a:pt x="550127" y="1026789"/>
                </a:lnTo>
                <a:lnTo>
                  <a:pt x="546728" y="1035866"/>
                </a:lnTo>
                <a:lnTo>
                  <a:pt x="543782" y="1045396"/>
                </a:lnTo>
                <a:lnTo>
                  <a:pt x="541063" y="1055607"/>
                </a:lnTo>
                <a:lnTo>
                  <a:pt x="538343" y="1065591"/>
                </a:lnTo>
                <a:lnTo>
                  <a:pt x="536077" y="1076257"/>
                </a:lnTo>
                <a:lnTo>
                  <a:pt x="533811" y="1087148"/>
                </a:lnTo>
                <a:lnTo>
                  <a:pt x="529505" y="1110067"/>
                </a:lnTo>
                <a:lnTo>
                  <a:pt x="525653" y="1133893"/>
                </a:lnTo>
                <a:lnTo>
                  <a:pt x="521347" y="1159081"/>
                </a:lnTo>
                <a:lnTo>
                  <a:pt x="518628" y="1172242"/>
                </a:lnTo>
                <a:lnTo>
                  <a:pt x="516135" y="1185403"/>
                </a:lnTo>
                <a:lnTo>
                  <a:pt x="512056" y="1186311"/>
                </a:lnTo>
                <a:lnTo>
                  <a:pt x="507751" y="1187219"/>
                </a:lnTo>
                <a:lnTo>
                  <a:pt x="503672" y="1188580"/>
                </a:lnTo>
                <a:lnTo>
                  <a:pt x="499819" y="1189942"/>
                </a:lnTo>
                <a:lnTo>
                  <a:pt x="495967" y="1191530"/>
                </a:lnTo>
                <a:lnTo>
                  <a:pt x="492341" y="1192891"/>
                </a:lnTo>
                <a:lnTo>
                  <a:pt x="488715" y="1195161"/>
                </a:lnTo>
                <a:lnTo>
                  <a:pt x="485089" y="1196976"/>
                </a:lnTo>
                <a:lnTo>
                  <a:pt x="482823" y="1181546"/>
                </a:lnTo>
                <a:lnTo>
                  <a:pt x="481464" y="1172015"/>
                </a:lnTo>
                <a:lnTo>
                  <a:pt x="480331" y="1161123"/>
                </a:lnTo>
                <a:lnTo>
                  <a:pt x="479424" y="1148870"/>
                </a:lnTo>
                <a:lnTo>
                  <a:pt x="478518" y="1135935"/>
                </a:lnTo>
                <a:lnTo>
                  <a:pt x="478064" y="1121867"/>
                </a:lnTo>
                <a:lnTo>
                  <a:pt x="477838" y="1107344"/>
                </a:lnTo>
                <a:lnTo>
                  <a:pt x="478064" y="1092141"/>
                </a:lnTo>
                <a:lnTo>
                  <a:pt x="478744" y="1076030"/>
                </a:lnTo>
                <a:lnTo>
                  <a:pt x="480104" y="1059692"/>
                </a:lnTo>
                <a:lnTo>
                  <a:pt x="481237" y="1051296"/>
                </a:lnTo>
                <a:lnTo>
                  <a:pt x="482144" y="1043127"/>
                </a:lnTo>
                <a:lnTo>
                  <a:pt x="483503" y="1034504"/>
                </a:lnTo>
                <a:lnTo>
                  <a:pt x="484863" y="1025882"/>
                </a:lnTo>
                <a:lnTo>
                  <a:pt x="486676" y="1017259"/>
                </a:lnTo>
                <a:lnTo>
                  <a:pt x="488489" y="1008863"/>
                </a:lnTo>
                <a:lnTo>
                  <a:pt x="490528" y="1000240"/>
                </a:lnTo>
                <a:lnTo>
                  <a:pt x="492794" y="991617"/>
                </a:lnTo>
                <a:lnTo>
                  <a:pt x="495514" y="983221"/>
                </a:lnTo>
                <a:lnTo>
                  <a:pt x="498233" y="974599"/>
                </a:lnTo>
                <a:lnTo>
                  <a:pt x="501406" y="966203"/>
                </a:lnTo>
                <a:lnTo>
                  <a:pt x="504578" y="957580"/>
                </a:lnTo>
                <a:lnTo>
                  <a:pt x="508204" y="949411"/>
                </a:lnTo>
                <a:lnTo>
                  <a:pt x="512056" y="941242"/>
                </a:lnTo>
                <a:lnTo>
                  <a:pt x="516362" y="933073"/>
                </a:lnTo>
                <a:lnTo>
                  <a:pt x="520894" y="924904"/>
                </a:lnTo>
                <a:lnTo>
                  <a:pt x="525653" y="917189"/>
                </a:lnTo>
                <a:lnTo>
                  <a:pt x="530639" y="909474"/>
                </a:lnTo>
                <a:lnTo>
                  <a:pt x="536077" y="901985"/>
                </a:lnTo>
                <a:lnTo>
                  <a:pt x="541969" y="894270"/>
                </a:lnTo>
                <a:lnTo>
                  <a:pt x="548314" y="887009"/>
                </a:lnTo>
                <a:lnTo>
                  <a:pt x="554659" y="880201"/>
                </a:lnTo>
                <a:lnTo>
                  <a:pt x="561458" y="873394"/>
                </a:lnTo>
                <a:lnTo>
                  <a:pt x="568709" y="866813"/>
                </a:lnTo>
                <a:lnTo>
                  <a:pt x="576414" y="860460"/>
                </a:lnTo>
                <a:lnTo>
                  <a:pt x="584572" y="854333"/>
                </a:lnTo>
                <a:lnTo>
                  <a:pt x="592730" y="848433"/>
                </a:lnTo>
                <a:lnTo>
                  <a:pt x="601795" y="842987"/>
                </a:lnTo>
                <a:lnTo>
                  <a:pt x="611313" y="837541"/>
                </a:lnTo>
                <a:lnTo>
                  <a:pt x="620830" y="832549"/>
                </a:lnTo>
                <a:lnTo>
                  <a:pt x="630801" y="828011"/>
                </a:lnTo>
                <a:lnTo>
                  <a:pt x="641452" y="823926"/>
                </a:lnTo>
                <a:lnTo>
                  <a:pt x="652783" y="819615"/>
                </a:lnTo>
                <a:lnTo>
                  <a:pt x="664340" y="815984"/>
                </a:lnTo>
                <a:lnTo>
                  <a:pt x="676350" y="812807"/>
                </a:lnTo>
                <a:lnTo>
                  <a:pt x="689041" y="810084"/>
                </a:lnTo>
                <a:lnTo>
                  <a:pt x="701957" y="807815"/>
                </a:lnTo>
                <a:lnTo>
                  <a:pt x="715328" y="805546"/>
                </a:lnTo>
                <a:lnTo>
                  <a:pt x="729378" y="804184"/>
                </a:lnTo>
                <a:lnTo>
                  <a:pt x="744107" y="802823"/>
                </a:lnTo>
                <a:lnTo>
                  <a:pt x="759064" y="801915"/>
                </a:lnTo>
                <a:lnTo>
                  <a:pt x="774700" y="801688"/>
                </a:lnTo>
                <a:close/>
                <a:moveTo>
                  <a:pt x="44000" y="736683"/>
                </a:moveTo>
                <a:lnTo>
                  <a:pt x="44000" y="2267412"/>
                </a:lnTo>
                <a:lnTo>
                  <a:pt x="2830736" y="2267412"/>
                </a:lnTo>
                <a:lnTo>
                  <a:pt x="2830736" y="736683"/>
                </a:lnTo>
                <a:lnTo>
                  <a:pt x="44000" y="736683"/>
                </a:lnTo>
                <a:close/>
                <a:moveTo>
                  <a:pt x="1266245" y="538738"/>
                </a:moveTo>
                <a:lnTo>
                  <a:pt x="1261935" y="538964"/>
                </a:lnTo>
                <a:lnTo>
                  <a:pt x="1257399" y="539645"/>
                </a:lnTo>
                <a:lnTo>
                  <a:pt x="1253317" y="540778"/>
                </a:lnTo>
                <a:lnTo>
                  <a:pt x="1249234" y="542365"/>
                </a:lnTo>
                <a:lnTo>
                  <a:pt x="1245605" y="544179"/>
                </a:lnTo>
                <a:lnTo>
                  <a:pt x="1241977" y="546220"/>
                </a:lnTo>
                <a:lnTo>
                  <a:pt x="1238348" y="548714"/>
                </a:lnTo>
                <a:lnTo>
                  <a:pt x="1235172" y="551662"/>
                </a:lnTo>
                <a:lnTo>
                  <a:pt x="1232224" y="554836"/>
                </a:lnTo>
                <a:lnTo>
                  <a:pt x="1229956" y="558237"/>
                </a:lnTo>
                <a:lnTo>
                  <a:pt x="1227688" y="561865"/>
                </a:lnTo>
                <a:lnTo>
                  <a:pt x="1225874" y="565720"/>
                </a:lnTo>
                <a:lnTo>
                  <a:pt x="1224286" y="569574"/>
                </a:lnTo>
                <a:lnTo>
                  <a:pt x="1223152" y="573883"/>
                </a:lnTo>
                <a:lnTo>
                  <a:pt x="1222471" y="578191"/>
                </a:lnTo>
                <a:lnTo>
                  <a:pt x="1222471" y="582725"/>
                </a:lnTo>
                <a:lnTo>
                  <a:pt x="1222471" y="604719"/>
                </a:lnTo>
                <a:lnTo>
                  <a:pt x="1222471" y="609254"/>
                </a:lnTo>
                <a:lnTo>
                  <a:pt x="1223152" y="613562"/>
                </a:lnTo>
                <a:lnTo>
                  <a:pt x="1224286" y="617870"/>
                </a:lnTo>
                <a:lnTo>
                  <a:pt x="1225874" y="621725"/>
                </a:lnTo>
                <a:lnTo>
                  <a:pt x="1227688" y="625579"/>
                </a:lnTo>
                <a:lnTo>
                  <a:pt x="1229956" y="629207"/>
                </a:lnTo>
                <a:lnTo>
                  <a:pt x="1232224" y="632608"/>
                </a:lnTo>
                <a:lnTo>
                  <a:pt x="1235172" y="635556"/>
                </a:lnTo>
                <a:lnTo>
                  <a:pt x="1238348" y="638504"/>
                </a:lnTo>
                <a:lnTo>
                  <a:pt x="1241977" y="640998"/>
                </a:lnTo>
                <a:lnTo>
                  <a:pt x="1245605" y="643492"/>
                </a:lnTo>
                <a:lnTo>
                  <a:pt x="1249234" y="645306"/>
                </a:lnTo>
                <a:lnTo>
                  <a:pt x="1253317" y="646893"/>
                </a:lnTo>
                <a:lnTo>
                  <a:pt x="1257399" y="647800"/>
                </a:lnTo>
                <a:lnTo>
                  <a:pt x="1261935" y="648254"/>
                </a:lnTo>
                <a:lnTo>
                  <a:pt x="1266245" y="648707"/>
                </a:lnTo>
                <a:lnTo>
                  <a:pt x="1608265" y="648707"/>
                </a:lnTo>
                <a:lnTo>
                  <a:pt x="1613028" y="648254"/>
                </a:lnTo>
                <a:lnTo>
                  <a:pt x="1617337" y="647800"/>
                </a:lnTo>
                <a:lnTo>
                  <a:pt x="1621419" y="646893"/>
                </a:lnTo>
                <a:lnTo>
                  <a:pt x="1625502" y="645306"/>
                </a:lnTo>
                <a:lnTo>
                  <a:pt x="1629358" y="643492"/>
                </a:lnTo>
                <a:lnTo>
                  <a:pt x="1632986" y="640998"/>
                </a:lnTo>
                <a:lnTo>
                  <a:pt x="1636388" y="638504"/>
                </a:lnTo>
                <a:lnTo>
                  <a:pt x="1639337" y="635556"/>
                </a:lnTo>
                <a:lnTo>
                  <a:pt x="1642285" y="632608"/>
                </a:lnTo>
                <a:lnTo>
                  <a:pt x="1644780" y="629207"/>
                </a:lnTo>
                <a:lnTo>
                  <a:pt x="1647275" y="625579"/>
                </a:lnTo>
                <a:lnTo>
                  <a:pt x="1649089" y="621725"/>
                </a:lnTo>
                <a:lnTo>
                  <a:pt x="1650224" y="617870"/>
                </a:lnTo>
                <a:lnTo>
                  <a:pt x="1651584" y="613562"/>
                </a:lnTo>
                <a:lnTo>
                  <a:pt x="1652038" y="609254"/>
                </a:lnTo>
                <a:lnTo>
                  <a:pt x="1652492" y="604719"/>
                </a:lnTo>
                <a:lnTo>
                  <a:pt x="1652492" y="582725"/>
                </a:lnTo>
                <a:lnTo>
                  <a:pt x="1652038" y="578191"/>
                </a:lnTo>
                <a:lnTo>
                  <a:pt x="1651584" y="573883"/>
                </a:lnTo>
                <a:lnTo>
                  <a:pt x="1650224" y="569574"/>
                </a:lnTo>
                <a:lnTo>
                  <a:pt x="1649089" y="565720"/>
                </a:lnTo>
                <a:lnTo>
                  <a:pt x="1647275" y="561865"/>
                </a:lnTo>
                <a:lnTo>
                  <a:pt x="1644780" y="558237"/>
                </a:lnTo>
                <a:lnTo>
                  <a:pt x="1642285" y="554836"/>
                </a:lnTo>
                <a:lnTo>
                  <a:pt x="1639337" y="551662"/>
                </a:lnTo>
                <a:lnTo>
                  <a:pt x="1636388" y="548714"/>
                </a:lnTo>
                <a:lnTo>
                  <a:pt x="1632986" y="546220"/>
                </a:lnTo>
                <a:lnTo>
                  <a:pt x="1629358" y="544179"/>
                </a:lnTo>
                <a:lnTo>
                  <a:pt x="1625502" y="542365"/>
                </a:lnTo>
                <a:lnTo>
                  <a:pt x="1621419" y="540778"/>
                </a:lnTo>
                <a:lnTo>
                  <a:pt x="1617337" y="539645"/>
                </a:lnTo>
                <a:lnTo>
                  <a:pt x="1613028" y="538964"/>
                </a:lnTo>
                <a:lnTo>
                  <a:pt x="1608265" y="538738"/>
                </a:lnTo>
                <a:lnTo>
                  <a:pt x="1583997" y="538738"/>
                </a:lnTo>
                <a:lnTo>
                  <a:pt x="1583997" y="549848"/>
                </a:lnTo>
                <a:lnTo>
                  <a:pt x="1583997" y="554156"/>
                </a:lnTo>
                <a:lnTo>
                  <a:pt x="1583090" y="558691"/>
                </a:lnTo>
                <a:lnTo>
                  <a:pt x="1582182" y="562772"/>
                </a:lnTo>
                <a:lnTo>
                  <a:pt x="1580595" y="566627"/>
                </a:lnTo>
                <a:lnTo>
                  <a:pt x="1578780" y="570481"/>
                </a:lnTo>
                <a:lnTo>
                  <a:pt x="1576512" y="574109"/>
                </a:lnTo>
                <a:lnTo>
                  <a:pt x="1574017" y="577510"/>
                </a:lnTo>
                <a:lnTo>
                  <a:pt x="1571296" y="580685"/>
                </a:lnTo>
                <a:lnTo>
                  <a:pt x="1568121" y="583632"/>
                </a:lnTo>
                <a:lnTo>
                  <a:pt x="1564492" y="586126"/>
                </a:lnTo>
                <a:lnTo>
                  <a:pt x="1560863" y="588394"/>
                </a:lnTo>
                <a:lnTo>
                  <a:pt x="1557234" y="590208"/>
                </a:lnTo>
                <a:lnTo>
                  <a:pt x="1553152" y="591795"/>
                </a:lnTo>
                <a:lnTo>
                  <a:pt x="1548842" y="592929"/>
                </a:lnTo>
                <a:lnTo>
                  <a:pt x="1544533" y="593382"/>
                </a:lnTo>
                <a:lnTo>
                  <a:pt x="1539997" y="593609"/>
                </a:lnTo>
                <a:lnTo>
                  <a:pt x="1334739" y="593609"/>
                </a:lnTo>
                <a:lnTo>
                  <a:pt x="1330430" y="593382"/>
                </a:lnTo>
                <a:lnTo>
                  <a:pt x="1325894" y="592929"/>
                </a:lnTo>
                <a:lnTo>
                  <a:pt x="1321811" y="591795"/>
                </a:lnTo>
                <a:lnTo>
                  <a:pt x="1317729" y="590208"/>
                </a:lnTo>
                <a:lnTo>
                  <a:pt x="1313647" y="588394"/>
                </a:lnTo>
                <a:lnTo>
                  <a:pt x="1310018" y="586126"/>
                </a:lnTo>
                <a:lnTo>
                  <a:pt x="1306842" y="583632"/>
                </a:lnTo>
                <a:lnTo>
                  <a:pt x="1303667" y="580685"/>
                </a:lnTo>
                <a:lnTo>
                  <a:pt x="1300719" y="577510"/>
                </a:lnTo>
                <a:lnTo>
                  <a:pt x="1298224" y="574109"/>
                </a:lnTo>
                <a:lnTo>
                  <a:pt x="1296183" y="570481"/>
                </a:lnTo>
                <a:lnTo>
                  <a:pt x="1294368" y="566627"/>
                </a:lnTo>
                <a:lnTo>
                  <a:pt x="1292781" y="562772"/>
                </a:lnTo>
                <a:lnTo>
                  <a:pt x="1291647" y="558691"/>
                </a:lnTo>
                <a:lnTo>
                  <a:pt x="1290966" y="554156"/>
                </a:lnTo>
                <a:lnTo>
                  <a:pt x="1290739" y="549848"/>
                </a:lnTo>
                <a:lnTo>
                  <a:pt x="1290739" y="538738"/>
                </a:lnTo>
                <a:lnTo>
                  <a:pt x="1266245" y="538738"/>
                </a:lnTo>
                <a:close/>
                <a:moveTo>
                  <a:pt x="1433626" y="87976"/>
                </a:moveTo>
                <a:lnTo>
                  <a:pt x="1429316" y="88203"/>
                </a:lnTo>
                <a:lnTo>
                  <a:pt x="1425688" y="88656"/>
                </a:lnTo>
                <a:lnTo>
                  <a:pt x="1421832" y="89336"/>
                </a:lnTo>
                <a:lnTo>
                  <a:pt x="1417976" y="90243"/>
                </a:lnTo>
                <a:lnTo>
                  <a:pt x="1414347" y="91150"/>
                </a:lnTo>
                <a:lnTo>
                  <a:pt x="1410718" y="92511"/>
                </a:lnTo>
                <a:lnTo>
                  <a:pt x="1407316" y="93871"/>
                </a:lnTo>
                <a:lnTo>
                  <a:pt x="1403688" y="95458"/>
                </a:lnTo>
                <a:lnTo>
                  <a:pt x="1400286" y="97272"/>
                </a:lnTo>
                <a:lnTo>
                  <a:pt x="1397337" y="99086"/>
                </a:lnTo>
                <a:lnTo>
                  <a:pt x="1394162" y="101127"/>
                </a:lnTo>
                <a:lnTo>
                  <a:pt x="1390987" y="103168"/>
                </a:lnTo>
                <a:lnTo>
                  <a:pt x="1388265" y="105435"/>
                </a:lnTo>
                <a:lnTo>
                  <a:pt x="1385316" y="107929"/>
                </a:lnTo>
                <a:lnTo>
                  <a:pt x="1382822" y="110423"/>
                </a:lnTo>
                <a:lnTo>
                  <a:pt x="1380100" y="113371"/>
                </a:lnTo>
                <a:lnTo>
                  <a:pt x="1377605" y="116092"/>
                </a:lnTo>
                <a:lnTo>
                  <a:pt x="1375110" y="119039"/>
                </a:lnTo>
                <a:lnTo>
                  <a:pt x="1373069" y="122214"/>
                </a:lnTo>
                <a:lnTo>
                  <a:pt x="1371028" y="125161"/>
                </a:lnTo>
                <a:lnTo>
                  <a:pt x="1369213" y="128336"/>
                </a:lnTo>
                <a:lnTo>
                  <a:pt x="1367399" y="131737"/>
                </a:lnTo>
                <a:lnTo>
                  <a:pt x="1365811" y="135138"/>
                </a:lnTo>
                <a:lnTo>
                  <a:pt x="1364677" y="138766"/>
                </a:lnTo>
                <a:lnTo>
                  <a:pt x="1363317" y="142394"/>
                </a:lnTo>
                <a:lnTo>
                  <a:pt x="1362183" y="146022"/>
                </a:lnTo>
                <a:lnTo>
                  <a:pt x="1361502" y="149650"/>
                </a:lnTo>
                <a:lnTo>
                  <a:pt x="1360595" y="153504"/>
                </a:lnTo>
                <a:lnTo>
                  <a:pt x="1360141" y="157359"/>
                </a:lnTo>
                <a:lnTo>
                  <a:pt x="1359914" y="161213"/>
                </a:lnTo>
                <a:lnTo>
                  <a:pt x="1359914" y="165295"/>
                </a:lnTo>
                <a:lnTo>
                  <a:pt x="1359914" y="169376"/>
                </a:lnTo>
                <a:lnTo>
                  <a:pt x="1360141" y="173231"/>
                </a:lnTo>
                <a:lnTo>
                  <a:pt x="1360595" y="177085"/>
                </a:lnTo>
                <a:lnTo>
                  <a:pt x="1361502" y="180940"/>
                </a:lnTo>
                <a:lnTo>
                  <a:pt x="1362183" y="184568"/>
                </a:lnTo>
                <a:lnTo>
                  <a:pt x="1363317" y="188422"/>
                </a:lnTo>
                <a:lnTo>
                  <a:pt x="1364677" y="192050"/>
                </a:lnTo>
                <a:lnTo>
                  <a:pt x="1365811" y="195451"/>
                </a:lnTo>
                <a:lnTo>
                  <a:pt x="1367399" y="198852"/>
                </a:lnTo>
                <a:lnTo>
                  <a:pt x="1369213" y="202253"/>
                </a:lnTo>
                <a:lnTo>
                  <a:pt x="1371028" y="205655"/>
                </a:lnTo>
                <a:lnTo>
                  <a:pt x="1373069" y="208602"/>
                </a:lnTo>
                <a:lnTo>
                  <a:pt x="1375110" y="211777"/>
                </a:lnTo>
                <a:lnTo>
                  <a:pt x="1377605" y="214724"/>
                </a:lnTo>
                <a:lnTo>
                  <a:pt x="1380100" y="217445"/>
                </a:lnTo>
                <a:lnTo>
                  <a:pt x="1382822" y="220166"/>
                </a:lnTo>
                <a:lnTo>
                  <a:pt x="1385316" y="222660"/>
                </a:lnTo>
                <a:lnTo>
                  <a:pt x="1388265" y="225381"/>
                </a:lnTo>
                <a:lnTo>
                  <a:pt x="1390987" y="227422"/>
                </a:lnTo>
                <a:lnTo>
                  <a:pt x="1394162" y="229689"/>
                </a:lnTo>
                <a:lnTo>
                  <a:pt x="1397337" y="231730"/>
                </a:lnTo>
                <a:lnTo>
                  <a:pt x="1400286" y="233544"/>
                </a:lnTo>
                <a:lnTo>
                  <a:pt x="1403688" y="235131"/>
                </a:lnTo>
                <a:lnTo>
                  <a:pt x="1407316" y="236718"/>
                </a:lnTo>
                <a:lnTo>
                  <a:pt x="1410718" y="238305"/>
                </a:lnTo>
                <a:lnTo>
                  <a:pt x="1414347" y="239212"/>
                </a:lnTo>
                <a:lnTo>
                  <a:pt x="1417976" y="240346"/>
                </a:lnTo>
                <a:lnTo>
                  <a:pt x="1421832" y="241253"/>
                </a:lnTo>
                <a:lnTo>
                  <a:pt x="1425688" y="241933"/>
                </a:lnTo>
                <a:lnTo>
                  <a:pt x="1429316" y="242387"/>
                </a:lnTo>
                <a:lnTo>
                  <a:pt x="1433626" y="242613"/>
                </a:lnTo>
                <a:lnTo>
                  <a:pt x="1437481" y="242840"/>
                </a:lnTo>
                <a:lnTo>
                  <a:pt x="1441337" y="242613"/>
                </a:lnTo>
                <a:lnTo>
                  <a:pt x="1445419" y="242387"/>
                </a:lnTo>
                <a:lnTo>
                  <a:pt x="1449275" y="241933"/>
                </a:lnTo>
                <a:lnTo>
                  <a:pt x="1452904" y="241253"/>
                </a:lnTo>
                <a:lnTo>
                  <a:pt x="1456986" y="240346"/>
                </a:lnTo>
                <a:lnTo>
                  <a:pt x="1460615" y="239212"/>
                </a:lnTo>
                <a:lnTo>
                  <a:pt x="1464244" y="238305"/>
                </a:lnTo>
                <a:lnTo>
                  <a:pt x="1467419" y="236718"/>
                </a:lnTo>
                <a:lnTo>
                  <a:pt x="1471048" y="235131"/>
                </a:lnTo>
                <a:lnTo>
                  <a:pt x="1474224" y="233544"/>
                </a:lnTo>
                <a:lnTo>
                  <a:pt x="1477626" y="231730"/>
                </a:lnTo>
                <a:lnTo>
                  <a:pt x="1480801" y="229689"/>
                </a:lnTo>
                <a:lnTo>
                  <a:pt x="1483749" y="227422"/>
                </a:lnTo>
                <a:lnTo>
                  <a:pt x="1486698" y="225381"/>
                </a:lnTo>
                <a:lnTo>
                  <a:pt x="1489646" y="222660"/>
                </a:lnTo>
                <a:lnTo>
                  <a:pt x="1492141" y="220166"/>
                </a:lnTo>
                <a:lnTo>
                  <a:pt x="1494636" y="217445"/>
                </a:lnTo>
                <a:lnTo>
                  <a:pt x="1497131" y="214724"/>
                </a:lnTo>
                <a:lnTo>
                  <a:pt x="1499399" y="211777"/>
                </a:lnTo>
                <a:lnTo>
                  <a:pt x="1501667" y="208602"/>
                </a:lnTo>
                <a:lnTo>
                  <a:pt x="1503482" y="205655"/>
                </a:lnTo>
                <a:lnTo>
                  <a:pt x="1505523" y="202253"/>
                </a:lnTo>
                <a:lnTo>
                  <a:pt x="1507110" y="198852"/>
                </a:lnTo>
                <a:lnTo>
                  <a:pt x="1508698" y="195451"/>
                </a:lnTo>
                <a:lnTo>
                  <a:pt x="1510286" y="192050"/>
                </a:lnTo>
                <a:lnTo>
                  <a:pt x="1511420" y="188422"/>
                </a:lnTo>
                <a:lnTo>
                  <a:pt x="1512327" y="184568"/>
                </a:lnTo>
                <a:lnTo>
                  <a:pt x="1513461" y="180940"/>
                </a:lnTo>
                <a:lnTo>
                  <a:pt x="1513915" y="177085"/>
                </a:lnTo>
                <a:lnTo>
                  <a:pt x="1514368" y="173231"/>
                </a:lnTo>
                <a:lnTo>
                  <a:pt x="1514595" y="169376"/>
                </a:lnTo>
                <a:lnTo>
                  <a:pt x="1515049" y="165295"/>
                </a:lnTo>
                <a:lnTo>
                  <a:pt x="1514595" y="161213"/>
                </a:lnTo>
                <a:lnTo>
                  <a:pt x="1514368" y="157359"/>
                </a:lnTo>
                <a:lnTo>
                  <a:pt x="1513915" y="153504"/>
                </a:lnTo>
                <a:lnTo>
                  <a:pt x="1513461" y="149650"/>
                </a:lnTo>
                <a:lnTo>
                  <a:pt x="1512327" y="146022"/>
                </a:lnTo>
                <a:lnTo>
                  <a:pt x="1511420" y="142394"/>
                </a:lnTo>
                <a:lnTo>
                  <a:pt x="1510286" y="138766"/>
                </a:lnTo>
                <a:lnTo>
                  <a:pt x="1508698" y="135138"/>
                </a:lnTo>
                <a:lnTo>
                  <a:pt x="1507110" y="131737"/>
                </a:lnTo>
                <a:lnTo>
                  <a:pt x="1505523" y="128336"/>
                </a:lnTo>
                <a:lnTo>
                  <a:pt x="1503482" y="125161"/>
                </a:lnTo>
                <a:lnTo>
                  <a:pt x="1501667" y="122214"/>
                </a:lnTo>
                <a:lnTo>
                  <a:pt x="1499399" y="119039"/>
                </a:lnTo>
                <a:lnTo>
                  <a:pt x="1497131" y="116092"/>
                </a:lnTo>
                <a:lnTo>
                  <a:pt x="1494636" y="113371"/>
                </a:lnTo>
                <a:lnTo>
                  <a:pt x="1492141" y="110423"/>
                </a:lnTo>
                <a:lnTo>
                  <a:pt x="1489646" y="107929"/>
                </a:lnTo>
                <a:lnTo>
                  <a:pt x="1486698" y="105435"/>
                </a:lnTo>
                <a:lnTo>
                  <a:pt x="1483749" y="103168"/>
                </a:lnTo>
                <a:lnTo>
                  <a:pt x="1480801" y="101127"/>
                </a:lnTo>
                <a:lnTo>
                  <a:pt x="1477626" y="99086"/>
                </a:lnTo>
                <a:lnTo>
                  <a:pt x="1474224" y="97272"/>
                </a:lnTo>
                <a:lnTo>
                  <a:pt x="1471048" y="95458"/>
                </a:lnTo>
                <a:lnTo>
                  <a:pt x="1467419" y="93871"/>
                </a:lnTo>
                <a:lnTo>
                  <a:pt x="1464244" y="92511"/>
                </a:lnTo>
                <a:lnTo>
                  <a:pt x="1460615" y="91150"/>
                </a:lnTo>
                <a:lnTo>
                  <a:pt x="1456986" y="90243"/>
                </a:lnTo>
                <a:lnTo>
                  <a:pt x="1452904" y="89336"/>
                </a:lnTo>
                <a:lnTo>
                  <a:pt x="1449275" y="88656"/>
                </a:lnTo>
                <a:lnTo>
                  <a:pt x="1445419" y="88203"/>
                </a:lnTo>
                <a:lnTo>
                  <a:pt x="1441337" y="87976"/>
                </a:lnTo>
                <a:lnTo>
                  <a:pt x="1437481" y="87976"/>
                </a:lnTo>
                <a:lnTo>
                  <a:pt x="1433626" y="87976"/>
                </a:lnTo>
                <a:close/>
                <a:moveTo>
                  <a:pt x="1330430" y="0"/>
                </a:moveTo>
                <a:lnTo>
                  <a:pt x="1334739" y="0"/>
                </a:lnTo>
                <a:lnTo>
                  <a:pt x="1539997" y="0"/>
                </a:lnTo>
                <a:lnTo>
                  <a:pt x="1544533" y="0"/>
                </a:lnTo>
                <a:lnTo>
                  <a:pt x="1548842" y="681"/>
                </a:lnTo>
                <a:lnTo>
                  <a:pt x="1553152" y="1814"/>
                </a:lnTo>
                <a:lnTo>
                  <a:pt x="1557234" y="3401"/>
                </a:lnTo>
                <a:lnTo>
                  <a:pt x="1560863" y="5215"/>
                </a:lnTo>
                <a:lnTo>
                  <a:pt x="1564492" y="7483"/>
                </a:lnTo>
                <a:lnTo>
                  <a:pt x="1568121" y="9750"/>
                </a:lnTo>
                <a:lnTo>
                  <a:pt x="1571296" y="12698"/>
                </a:lnTo>
                <a:lnTo>
                  <a:pt x="1574017" y="15872"/>
                </a:lnTo>
                <a:lnTo>
                  <a:pt x="1576512" y="19273"/>
                </a:lnTo>
                <a:lnTo>
                  <a:pt x="1578780" y="22901"/>
                </a:lnTo>
                <a:lnTo>
                  <a:pt x="1580595" y="26756"/>
                </a:lnTo>
                <a:lnTo>
                  <a:pt x="1582182" y="30837"/>
                </a:lnTo>
                <a:lnTo>
                  <a:pt x="1583090" y="34919"/>
                </a:lnTo>
                <a:lnTo>
                  <a:pt x="1583997" y="39453"/>
                </a:lnTo>
                <a:lnTo>
                  <a:pt x="1583997" y="43761"/>
                </a:lnTo>
                <a:lnTo>
                  <a:pt x="1583997" y="450762"/>
                </a:lnTo>
                <a:lnTo>
                  <a:pt x="2742963" y="450762"/>
                </a:lnTo>
                <a:lnTo>
                  <a:pt x="2749768" y="450762"/>
                </a:lnTo>
                <a:lnTo>
                  <a:pt x="2756345" y="451442"/>
                </a:lnTo>
                <a:lnTo>
                  <a:pt x="2762922" y="452349"/>
                </a:lnTo>
                <a:lnTo>
                  <a:pt x="2769499" y="453483"/>
                </a:lnTo>
                <a:lnTo>
                  <a:pt x="2775623" y="455070"/>
                </a:lnTo>
                <a:lnTo>
                  <a:pt x="2782200" y="456884"/>
                </a:lnTo>
                <a:lnTo>
                  <a:pt x="2788097" y="458925"/>
                </a:lnTo>
                <a:lnTo>
                  <a:pt x="2793994" y="461192"/>
                </a:lnTo>
                <a:lnTo>
                  <a:pt x="2799891" y="463686"/>
                </a:lnTo>
                <a:lnTo>
                  <a:pt x="2805788" y="466634"/>
                </a:lnTo>
                <a:lnTo>
                  <a:pt x="2811231" y="470035"/>
                </a:lnTo>
                <a:lnTo>
                  <a:pt x="2816675" y="473436"/>
                </a:lnTo>
                <a:lnTo>
                  <a:pt x="2821664" y="477064"/>
                </a:lnTo>
                <a:lnTo>
                  <a:pt x="2826654" y="480919"/>
                </a:lnTo>
                <a:lnTo>
                  <a:pt x="2831417" y="485000"/>
                </a:lnTo>
                <a:lnTo>
                  <a:pt x="2835953" y="489535"/>
                </a:lnTo>
                <a:lnTo>
                  <a:pt x="2840489" y="494070"/>
                </a:lnTo>
                <a:lnTo>
                  <a:pt x="2844571" y="498831"/>
                </a:lnTo>
                <a:lnTo>
                  <a:pt x="2848427" y="504046"/>
                </a:lnTo>
                <a:lnTo>
                  <a:pt x="2852056" y="509261"/>
                </a:lnTo>
                <a:lnTo>
                  <a:pt x="2855685" y="514249"/>
                </a:lnTo>
                <a:lnTo>
                  <a:pt x="2858860" y="520145"/>
                </a:lnTo>
                <a:lnTo>
                  <a:pt x="2861809" y="525813"/>
                </a:lnTo>
                <a:lnTo>
                  <a:pt x="2864530" y="531482"/>
                </a:lnTo>
                <a:lnTo>
                  <a:pt x="2866798" y="537377"/>
                </a:lnTo>
                <a:lnTo>
                  <a:pt x="2869066" y="543726"/>
                </a:lnTo>
                <a:lnTo>
                  <a:pt x="2870881" y="549848"/>
                </a:lnTo>
                <a:lnTo>
                  <a:pt x="2872015" y="556423"/>
                </a:lnTo>
                <a:lnTo>
                  <a:pt x="2873375" y="562772"/>
                </a:lnTo>
                <a:lnTo>
                  <a:pt x="2874056" y="569348"/>
                </a:lnTo>
                <a:lnTo>
                  <a:pt x="2874736" y="575923"/>
                </a:lnTo>
                <a:lnTo>
                  <a:pt x="2874963" y="582725"/>
                </a:lnTo>
                <a:lnTo>
                  <a:pt x="2874963" y="2311400"/>
                </a:lnTo>
                <a:lnTo>
                  <a:pt x="0" y="2311400"/>
                </a:lnTo>
                <a:lnTo>
                  <a:pt x="0" y="582725"/>
                </a:lnTo>
                <a:lnTo>
                  <a:pt x="227" y="575923"/>
                </a:lnTo>
                <a:lnTo>
                  <a:pt x="680" y="569348"/>
                </a:lnTo>
                <a:lnTo>
                  <a:pt x="1588" y="562772"/>
                </a:lnTo>
                <a:lnTo>
                  <a:pt x="2722" y="556423"/>
                </a:lnTo>
                <a:lnTo>
                  <a:pt x="4082" y="549848"/>
                </a:lnTo>
                <a:lnTo>
                  <a:pt x="5897" y="543726"/>
                </a:lnTo>
                <a:lnTo>
                  <a:pt x="7938" y="537377"/>
                </a:lnTo>
                <a:lnTo>
                  <a:pt x="10206" y="531482"/>
                </a:lnTo>
                <a:lnTo>
                  <a:pt x="13154" y="525813"/>
                </a:lnTo>
                <a:lnTo>
                  <a:pt x="16103" y="520145"/>
                </a:lnTo>
                <a:lnTo>
                  <a:pt x="19051" y="514249"/>
                </a:lnTo>
                <a:lnTo>
                  <a:pt x="22453" y="509261"/>
                </a:lnTo>
                <a:lnTo>
                  <a:pt x="26309" y="504046"/>
                </a:lnTo>
                <a:lnTo>
                  <a:pt x="30165" y="498831"/>
                </a:lnTo>
                <a:lnTo>
                  <a:pt x="34474" y="494070"/>
                </a:lnTo>
                <a:lnTo>
                  <a:pt x="38783" y="489535"/>
                </a:lnTo>
                <a:lnTo>
                  <a:pt x="43319" y="485000"/>
                </a:lnTo>
                <a:lnTo>
                  <a:pt x="48082" y="480919"/>
                </a:lnTo>
                <a:lnTo>
                  <a:pt x="53072" y="477064"/>
                </a:lnTo>
                <a:lnTo>
                  <a:pt x="58288" y="473436"/>
                </a:lnTo>
                <a:lnTo>
                  <a:pt x="63732" y="470035"/>
                </a:lnTo>
                <a:lnTo>
                  <a:pt x="69175" y="466634"/>
                </a:lnTo>
                <a:lnTo>
                  <a:pt x="74845" y="463686"/>
                </a:lnTo>
                <a:lnTo>
                  <a:pt x="80742" y="461192"/>
                </a:lnTo>
                <a:lnTo>
                  <a:pt x="86866" y="458925"/>
                </a:lnTo>
                <a:lnTo>
                  <a:pt x="92763" y="456884"/>
                </a:lnTo>
                <a:lnTo>
                  <a:pt x="99340" y="455070"/>
                </a:lnTo>
                <a:lnTo>
                  <a:pt x="105464" y="453483"/>
                </a:lnTo>
                <a:lnTo>
                  <a:pt x="112041" y="452349"/>
                </a:lnTo>
                <a:lnTo>
                  <a:pt x="118618" y="451442"/>
                </a:lnTo>
                <a:lnTo>
                  <a:pt x="125195" y="450762"/>
                </a:lnTo>
                <a:lnTo>
                  <a:pt x="132000" y="450762"/>
                </a:lnTo>
                <a:lnTo>
                  <a:pt x="1290739" y="450762"/>
                </a:lnTo>
                <a:lnTo>
                  <a:pt x="1290739" y="43761"/>
                </a:lnTo>
                <a:lnTo>
                  <a:pt x="1290966" y="39453"/>
                </a:lnTo>
                <a:lnTo>
                  <a:pt x="1291647" y="34919"/>
                </a:lnTo>
                <a:lnTo>
                  <a:pt x="1292781" y="30837"/>
                </a:lnTo>
                <a:lnTo>
                  <a:pt x="1294368" y="26756"/>
                </a:lnTo>
                <a:lnTo>
                  <a:pt x="1296183" y="22901"/>
                </a:lnTo>
                <a:lnTo>
                  <a:pt x="1298224" y="19273"/>
                </a:lnTo>
                <a:lnTo>
                  <a:pt x="1300719" y="15872"/>
                </a:lnTo>
                <a:lnTo>
                  <a:pt x="1303667" y="12698"/>
                </a:lnTo>
                <a:lnTo>
                  <a:pt x="1306842" y="9750"/>
                </a:lnTo>
                <a:lnTo>
                  <a:pt x="1310018" y="7483"/>
                </a:lnTo>
                <a:lnTo>
                  <a:pt x="1313647" y="5215"/>
                </a:lnTo>
                <a:lnTo>
                  <a:pt x="1317729" y="3401"/>
                </a:lnTo>
                <a:lnTo>
                  <a:pt x="1321811" y="1814"/>
                </a:lnTo>
                <a:lnTo>
                  <a:pt x="1325894" y="681"/>
                </a:lnTo>
                <a:lnTo>
                  <a:pt x="13304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圆角矩形 20"/>
          <p:cNvSpPr/>
          <p:nvPr/>
        </p:nvSpPr>
        <p:spPr>
          <a:xfrm>
            <a:off x="4002120" y="358128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圆角矩形 18"/>
          <p:cNvSpPr/>
          <p:nvPr/>
        </p:nvSpPr>
        <p:spPr>
          <a:xfrm>
            <a:off x="4002120" y="305100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圆角矩形 17"/>
          <p:cNvSpPr/>
          <p:nvPr/>
        </p:nvSpPr>
        <p:spPr>
          <a:xfrm>
            <a:off x="4002120" y="2502000"/>
            <a:ext cx="3894120" cy="21744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圆角矩形 5"/>
          <p:cNvSpPr/>
          <p:nvPr/>
        </p:nvSpPr>
        <p:spPr>
          <a:xfrm>
            <a:off x="4002120" y="197172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8"/>
          <p:cNvSpPr/>
          <p:nvPr/>
        </p:nvSpPr>
        <p:spPr>
          <a:xfrm>
            <a:off x="2946240" y="185436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9"/>
          <p:cNvSpPr/>
          <p:nvPr/>
        </p:nvSpPr>
        <p:spPr>
          <a:xfrm>
            <a:off x="8313840" y="18795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4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圆角矩形 22"/>
          <p:cNvSpPr/>
          <p:nvPr/>
        </p:nvSpPr>
        <p:spPr>
          <a:xfrm>
            <a:off x="4002120" y="2502000"/>
            <a:ext cx="1913040" cy="217440"/>
          </a:xfrm>
          <a:prstGeom prst="roundRect">
            <a:avLst>
              <a:gd name="adj" fmla="val 50000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23"/>
          <p:cNvSpPr/>
          <p:nvPr/>
        </p:nvSpPr>
        <p:spPr>
          <a:xfrm>
            <a:off x="2946240" y="2390760"/>
            <a:ext cx="914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24"/>
          <p:cNvSpPr/>
          <p:nvPr/>
        </p:nvSpPr>
        <p:spPr>
          <a:xfrm>
            <a:off x="8313840" y="2416320"/>
            <a:ext cx="718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圆角矩形 26"/>
          <p:cNvSpPr/>
          <p:nvPr/>
        </p:nvSpPr>
        <p:spPr>
          <a:xfrm>
            <a:off x="4002120" y="3051000"/>
            <a:ext cx="3346560" cy="216000"/>
          </a:xfrm>
          <a:prstGeom prst="roundRect">
            <a:avLst>
              <a:gd name="adj" fmla="val 50000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文本框 27"/>
          <p:cNvSpPr/>
          <p:nvPr/>
        </p:nvSpPr>
        <p:spPr>
          <a:xfrm>
            <a:off x="2946240" y="29275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28"/>
          <p:cNvSpPr/>
          <p:nvPr/>
        </p:nvSpPr>
        <p:spPr>
          <a:xfrm>
            <a:off x="8313840" y="29559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8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圆角矩形 30"/>
          <p:cNvSpPr/>
          <p:nvPr/>
        </p:nvSpPr>
        <p:spPr>
          <a:xfrm>
            <a:off x="4002120" y="3581280"/>
            <a:ext cx="955800" cy="216000"/>
          </a:xfrm>
          <a:prstGeom prst="roundRect">
            <a:avLst>
              <a:gd name="adj" fmla="val 50000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31"/>
          <p:cNvSpPr/>
          <p:nvPr/>
        </p:nvSpPr>
        <p:spPr>
          <a:xfrm>
            <a:off x="2946240" y="34639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32"/>
          <p:cNvSpPr/>
          <p:nvPr/>
        </p:nvSpPr>
        <p:spPr>
          <a:xfrm>
            <a:off x="8313840" y="3492360"/>
            <a:ext cx="718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35"/>
          <p:cNvSpPr/>
          <p:nvPr/>
        </p:nvSpPr>
        <p:spPr>
          <a:xfrm>
            <a:off x="3041640" y="4267080"/>
            <a:ext cx="5991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圆角矩形 19"/>
          <p:cNvSpPr/>
          <p:nvPr/>
        </p:nvSpPr>
        <p:spPr>
          <a:xfrm>
            <a:off x="4002120" y="1971720"/>
            <a:ext cx="1433520" cy="216000"/>
          </a:xfrm>
          <a:prstGeom prst="roundRect">
            <a:avLst>
              <a:gd name="adj" fmla="val 5000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椭圆 1"/>
          <p:cNvSpPr/>
          <p:nvPr/>
        </p:nvSpPr>
        <p:spPr>
          <a:xfrm>
            <a:off x="5073480" y="1776240"/>
            <a:ext cx="1837080" cy="2130480"/>
          </a:xfrm>
          <a:prstGeom prst="pie">
            <a:avLst/>
          </a:prstGeom>
          <a:solidFill>
            <a:srgbClr val="f2f2f2"/>
          </a:solidFill>
          <a:ln w="203040">
            <a:solidFill>
              <a:srgbClr val="ffbf1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c72a4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圆角矩形 28"/>
          <p:cNvSpPr/>
          <p:nvPr/>
        </p:nvSpPr>
        <p:spPr>
          <a:xfrm>
            <a:off x="5570640" y="4057560"/>
            <a:ext cx="858600" cy="17784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圆角矩形 29"/>
          <p:cNvSpPr/>
          <p:nvPr/>
        </p:nvSpPr>
        <p:spPr>
          <a:xfrm>
            <a:off x="5645160" y="4313160"/>
            <a:ext cx="709560" cy="179640"/>
          </a:xfrm>
          <a:prstGeom prst="roundRect">
            <a:avLst>
              <a:gd name="adj" fmla="val 5000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圆角矩形 30"/>
          <p:cNvSpPr/>
          <p:nvPr/>
        </p:nvSpPr>
        <p:spPr>
          <a:xfrm>
            <a:off x="5570640" y="4570560"/>
            <a:ext cx="858600" cy="17748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圆角矩形 31"/>
          <p:cNvSpPr/>
          <p:nvPr/>
        </p:nvSpPr>
        <p:spPr>
          <a:xfrm>
            <a:off x="5729400" y="4827600"/>
            <a:ext cx="541080" cy="135000"/>
          </a:xfrm>
          <a:prstGeom prst="roundRect">
            <a:avLst>
              <a:gd name="adj" fmla="val 5000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椭圆 32"/>
          <p:cNvSpPr/>
          <p:nvPr/>
        </p:nvSpPr>
        <p:spPr>
          <a:xfrm>
            <a:off x="3760920" y="172260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5625b"/>
                </a:solidFill>
                <a:latin typeface="Agency FB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直接连接符 33"/>
          <p:cNvSpPr/>
          <p:nvPr/>
        </p:nvSpPr>
        <p:spPr>
          <a:xfrm>
            <a:off x="4317840" y="2027160"/>
            <a:ext cx="648000" cy="271440"/>
          </a:xfrm>
          <a:prstGeom prst="line">
            <a:avLst/>
          </a:prstGeom>
          <a:ln w="3816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椭圆 34"/>
          <p:cNvSpPr/>
          <p:nvPr/>
        </p:nvSpPr>
        <p:spPr>
          <a:xfrm>
            <a:off x="7745400" y="172260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5625b"/>
                </a:solidFill>
                <a:latin typeface="Agency FB"/>
                <a:ea typeface="微软雅黑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直接连接符 35"/>
          <p:cNvSpPr/>
          <p:nvPr/>
        </p:nvSpPr>
        <p:spPr>
          <a:xfrm flipH="1">
            <a:off x="7022880" y="2034000"/>
            <a:ext cx="663480" cy="227520"/>
          </a:xfrm>
          <a:prstGeom prst="line">
            <a:avLst/>
          </a:prstGeom>
          <a:ln w="3816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椭圆 36"/>
          <p:cNvSpPr/>
          <p:nvPr/>
        </p:nvSpPr>
        <p:spPr>
          <a:xfrm>
            <a:off x="4392720" y="430992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5625b"/>
                </a:solidFill>
                <a:latin typeface="Agency FB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直接连接符 37"/>
          <p:cNvSpPr/>
          <p:nvPr/>
        </p:nvSpPr>
        <p:spPr>
          <a:xfrm flipV="1">
            <a:off x="4847760" y="3898080"/>
            <a:ext cx="534240" cy="454680"/>
          </a:xfrm>
          <a:prstGeom prst="line">
            <a:avLst/>
          </a:prstGeom>
          <a:ln w="3816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椭圆 38"/>
          <p:cNvSpPr/>
          <p:nvPr/>
        </p:nvSpPr>
        <p:spPr>
          <a:xfrm>
            <a:off x="7147080" y="430992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5625b"/>
                </a:solidFill>
                <a:latin typeface="Agency FB"/>
                <a:ea typeface="微软雅黑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直接连接符 39"/>
          <p:cNvSpPr/>
          <p:nvPr/>
        </p:nvSpPr>
        <p:spPr>
          <a:xfrm flipH="1" flipV="1">
            <a:off x="6615000" y="3897000"/>
            <a:ext cx="557280" cy="438120"/>
          </a:xfrm>
          <a:prstGeom prst="line">
            <a:avLst/>
          </a:prstGeom>
          <a:ln w="3816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45"/>
          <p:cNvSpPr/>
          <p:nvPr/>
        </p:nvSpPr>
        <p:spPr>
          <a:xfrm flipH="1">
            <a:off x="3395520" y="2349360"/>
            <a:ext cx="121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46"/>
          <p:cNvSpPr/>
          <p:nvPr/>
        </p:nvSpPr>
        <p:spPr>
          <a:xfrm>
            <a:off x="3111480" y="2608200"/>
            <a:ext cx="169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47"/>
          <p:cNvSpPr/>
          <p:nvPr/>
        </p:nvSpPr>
        <p:spPr>
          <a:xfrm flipH="1">
            <a:off x="7381800" y="2349360"/>
            <a:ext cx="1214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48"/>
          <p:cNvSpPr/>
          <p:nvPr/>
        </p:nvSpPr>
        <p:spPr>
          <a:xfrm>
            <a:off x="7130880" y="260820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49"/>
          <p:cNvSpPr/>
          <p:nvPr/>
        </p:nvSpPr>
        <p:spPr>
          <a:xfrm flipH="1">
            <a:off x="4028400" y="492588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50"/>
          <p:cNvSpPr/>
          <p:nvPr/>
        </p:nvSpPr>
        <p:spPr>
          <a:xfrm>
            <a:off x="3778200" y="518472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51"/>
          <p:cNvSpPr/>
          <p:nvPr/>
        </p:nvSpPr>
        <p:spPr>
          <a:xfrm flipH="1">
            <a:off x="6782760" y="492588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52"/>
          <p:cNvSpPr/>
          <p:nvPr/>
        </p:nvSpPr>
        <p:spPr>
          <a:xfrm>
            <a:off x="6532560" y="518472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6E40-8E56-4E80-8E9D-FD28369173B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11"/>
          <p:cNvSpPr/>
          <p:nvPr/>
        </p:nvSpPr>
        <p:spPr>
          <a:xfrm>
            <a:off x="6321600" y="4711680"/>
            <a:ext cx="691920" cy="1555920"/>
          </a:xfrm>
          <a:custGeom>
            <a:avLst/>
            <a:gdLst>
              <a:gd name="textAreaLeft" fmla="*/ 0 w 691920"/>
              <a:gd name="textAreaRight" fmla="*/ 691920 w 691920"/>
              <a:gd name="textAreaTop" fmla="*/ 0 h 1555920"/>
              <a:gd name="textAreaBottom" fmla="*/ 1556280 h 1555920"/>
            </a:gdLst>
            <a:ahLst/>
            <a:rect l="textAreaLeft" t="textAreaTop" r="textAreaRight" b="textAreaBottom"/>
            <a:pathLst>
              <a:path w="120" h="269">
                <a:moveTo>
                  <a:pt x="100" y="269"/>
                </a:moveTo>
                <a:cubicBezTo>
                  <a:pt x="20" y="269"/>
                  <a:pt x="20" y="269"/>
                  <a:pt x="20" y="269"/>
                </a:cubicBezTo>
                <a:cubicBezTo>
                  <a:pt x="9" y="269"/>
                  <a:pt x="0" y="260"/>
                  <a:pt x="0" y="249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27"/>
                  <a:pt x="27" y="0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93" y="0"/>
                  <a:pt x="120" y="27"/>
                  <a:pt x="120" y="60"/>
                </a:cubicBezTo>
                <a:cubicBezTo>
                  <a:pt x="120" y="249"/>
                  <a:pt x="120" y="249"/>
                  <a:pt x="120" y="249"/>
                </a:cubicBezTo>
                <a:cubicBezTo>
                  <a:pt x="120" y="260"/>
                  <a:pt x="111" y="269"/>
                  <a:pt x="100" y="269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15"/>
          <p:cNvSpPr/>
          <p:nvPr/>
        </p:nvSpPr>
        <p:spPr>
          <a:xfrm>
            <a:off x="6753240" y="3432240"/>
            <a:ext cx="4822920" cy="3200400"/>
          </a:xfrm>
          <a:custGeom>
            <a:avLst/>
            <a:gdLst>
              <a:gd name="textAreaLeft" fmla="*/ 0 w 4822920"/>
              <a:gd name="textAreaRight" fmla="*/ 4823280 w 482292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835" h="553">
                <a:moveTo>
                  <a:pt x="777" y="374"/>
                </a:moveTo>
                <a:cubicBezTo>
                  <a:pt x="684" y="374"/>
                  <a:pt x="684" y="374"/>
                  <a:pt x="684" y="374"/>
                </a:cubicBezTo>
                <a:cubicBezTo>
                  <a:pt x="684" y="323"/>
                  <a:pt x="684" y="323"/>
                  <a:pt x="684" y="323"/>
                </a:cubicBezTo>
                <a:cubicBezTo>
                  <a:pt x="684" y="277"/>
                  <a:pt x="647" y="240"/>
                  <a:pt x="601" y="240"/>
                </a:cubicBezTo>
                <a:cubicBezTo>
                  <a:pt x="493" y="240"/>
                  <a:pt x="493" y="240"/>
                  <a:pt x="493" y="240"/>
                </a:cubicBezTo>
                <a:cubicBezTo>
                  <a:pt x="493" y="183"/>
                  <a:pt x="493" y="183"/>
                  <a:pt x="493" y="183"/>
                </a:cubicBezTo>
                <a:cubicBezTo>
                  <a:pt x="493" y="153"/>
                  <a:pt x="469" y="129"/>
                  <a:pt x="440" y="129"/>
                </a:cubicBezTo>
                <a:cubicBezTo>
                  <a:pt x="435" y="129"/>
                  <a:pt x="435" y="129"/>
                  <a:pt x="435" y="129"/>
                </a:cubicBezTo>
                <a:cubicBezTo>
                  <a:pt x="435" y="92"/>
                  <a:pt x="435" y="92"/>
                  <a:pt x="435" y="92"/>
                </a:cubicBezTo>
                <a:cubicBezTo>
                  <a:pt x="435" y="45"/>
                  <a:pt x="398" y="5"/>
                  <a:pt x="351" y="2"/>
                </a:cubicBezTo>
                <a:cubicBezTo>
                  <a:pt x="301" y="0"/>
                  <a:pt x="260" y="40"/>
                  <a:pt x="260" y="90"/>
                </a:cubicBezTo>
                <a:cubicBezTo>
                  <a:pt x="260" y="98"/>
                  <a:pt x="260" y="98"/>
                  <a:pt x="260" y="98"/>
                </a:cubicBezTo>
                <a:cubicBezTo>
                  <a:pt x="257" y="98"/>
                  <a:pt x="257" y="98"/>
                  <a:pt x="257" y="98"/>
                </a:cubicBezTo>
                <a:cubicBezTo>
                  <a:pt x="217" y="98"/>
                  <a:pt x="185" y="130"/>
                  <a:pt x="185" y="170"/>
                </a:cubicBezTo>
                <a:cubicBezTo>
                  <a:pt x="185" y="214"/>
                  <a:pt x="185" y="214"/>
                  <a:pt x="185" y="214"/>
                </a:cubicBezTo>
                <a:cubicBezTo>
                  <a:pt x="162" y="214"/>
                  <a:pt x="162" y="214"/>
                  <a:pt x="162" y="214"/>
                </a:cubicBezTo>
                <a:cubicBezTo>
                  <a:pt x="128" y="214"/>
                  <a:pt x="100" y="242"/>
                  <a:pt x="100" y="275"/>
                </a:cubicBezTo>
                <a:cubicBezTo>
                  <a:pt x="100" y="324"/>
                  <a:pt x="100" y="324"/>
                  <a:pt x="100" y="324"/>
                </a:cubicBezTo>
                <a:cubicBezTo>
                  <a:pt x="58" y="324"/>
                  <a:pt x="58" y="324"/>
                  <a:pt x="58" y="324"/>
                </a:cubicBezTo>
                <a:cubicBezTo>
                  <a:pt x="26" y="324"/>
                  <a:pt x="0" y="349"/>
                  <a:pt x="0" y="381"/>
                </a:cubicBezTo>
                <a:cubicBezTo>
                  <a:pt x="0" y="502"/>
                  <a:pt x="0" y="502"/>
                  <a:pt x="0" y="502"/>
                </a:cubicBezTo>
                <a:cubicBezTo>
                  <a:pt x="124" y="502"/>
                  <a:pt x="124" y="502"/>
                  <a:pt x="124" y="502"/>
                </a:cubicBezTo>
                <a:cubicBezTo>
                  <a:pt x="124" y="498"/>
                  <a:pt x="124" y="498"/>
                  <a:pt x="124" y="498"/>
                </a:cubicBezTo>
                <a:cubicBezTo>
                  <a:pt x="185" y="498"/>
                  <a:pt x="185" y="498"/>
                  <a:pt x="185" y="498"/>
                </a:cubicBezTo>
                <a:cubicBezTo>
                  <a:pt x="185" y="524"/>
                  <a:pt x="185" y="524"/>
                  <a:pt x="185" y="524"/>
                </a:cubicBezTo>
                <a:cubicBezTo>
                  <a:pt x="300" y="524"/>
                  <a:pt x="300" y="524"/>
                  <a:pt x="300" y="524"/>
                </a:cubicBezTo>
                <a:cubicBezTo>
                  <a:pt x="300" y="512"/>
                  <a:pt x="300" y="512"/>
                  <a:pt x="300" y="512"/>
                </a:cubicBezTo>
                <a:cubicBezTo>
                  <a:pt x="435" y="512"/>
                  <a:pt x="435" y="512"/>
                  <a:pt x="435" y="512"/>
                </a:cubicBezTo>
                <a:cubicBezTo>
                  <a:pt x="435" y="490"/>
                  <a:pt x="435" y="490"/>
                  <a:pt x="435" y="490"/>
                </a:cubicBezTo>
                <a:cubicBezTo>
                  <a:pt x="470" y="490"/>
                  <a:pt x="470" y="490"/>
                  <a:pt x="470" y="490"/>
                </a:cubicBezTo>
                <a:cubicBezTo>
                  <a:pt x="470" y="527"/>
                  <a:pt x="470" y="527"/>
                  <a:pt x="470" y="527"/>
                </a:cubicBezTo>
                <a:cubicBezTo>
                  <a:pt x="646" y="527"/>
                  <a:pt x="646" y="527"/>
                  <a:pt x="646" y="527"/>
                </a:cubicBezTo>
                <a:cubicBezTo>
                  <a:pt x="646" y="553"/>
                  <a:pt x="646" y="553"/>
                  <a:pt x="646" y="553"/>
                </a:cubicBezTo>
                <a:cubicBezTo>
                  <a:pt x="835" y="553"/>
                  <a:pt x="835" y="553"/>
                  <a:pt x="835" y="553"/>
                </a:cubicBezTo>
                <a:cubicBezTo>
                  <a:pt x="835" y="433"/>
                  <a:pt x="835" y="433"/>
                  <a:pt x="835" y="433"/>
                </a:cubicBezTo>
                <a:cubicBezTo>
                  <a:pt x="835" y="401"/>
                  <a:pt x="809" y="374"/>
                  <a:pt x="777" y="374"/>
                </a:cubicBez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16"/>
          <p:cNvSpPr/>
          <p:nvPr/>
        </p:nvSpPr>
        <p:spPr>
          <a:xfrm>
            <a:off x="8775720" y="3444840"/>
            <a:ext cx="2800440" cy="3036960"/>
          </a:xfrm>
          <a:custGeom>
            <a:avLst/>
            <a:gdLst>
              <a:gd name="textAreaLeft" fmla="*/ 0 w 2800440"/>
              <a:gd name="textAreaRight" fmla="*/ 2800800 w 2800440"/>
              <a:gd name="textAreaTop" fmla="*/ 0 h 3036960"/>
              <a:gd name="textAreaBottom" fmla="*/ 3037320 h 3036960"/>
            </a:gdLst>
            <a:ahLst/>
            <a:rect l="textAreaLeft" t="textAreaTop" r="textAreaRight" b="textAreaBottom"/>
            <a:pathLst>
              <a:path w="485" h="525">
                <a:moveTo>
                  <a:pt x="427" y="372"/>
                </a:moveTo>
                <a:cubicBezTo>
                  <a:pt x="334" y="372"/>
                  <a:pt x="334" y="372"/>
                  <a:pt x="334" y="372"/>
                </a:cubicBezTo>
                <a:cubicBezTo>
                  <a:pt x="334" y="321"/>
                  <a:pt x="334" y="321"/>
                  <a:pt x="334" y="321"/>
                </a:cubicBezTo>
                <a:cubicBezTo>
                  <a:pt x="334" y="275"/>
                  <a:pt x="297" y="238"/>
                  <a:pt x="251" y="238"/>
                </a:cubicBezTo>
                <a:cubicBezTo>
                  <a:pt x="143" y="238"/>
                  <a:pt x="143" y="238"/>
                  <a:pt x="143" y="238"/>
                </a:cubicBezTo>
                <a:cubicBezTo>
                  <a:pt x="143" y="181"/>
                  <a:pt x="143" y="181"/>
                  <a:pt x="143" y="181"/>
                </a:cubicBezTo>
                <a:cubicBezTo>
                  <a:pt x="143" y="151"/>
                  <a:pt x="119" y="127"/>
                  <a:pt x="90" y="127"/>
                </a:cubicBezTo>
                <a:cubicBezTo>
                  <a:pt x="85" y="127"/>
                  <a:pt x="85" y="127"/>
                  <a:pt x="85" y="127"/>
                </a:cubicBezTo>
                <a:cubicBezTo>
                  <a:pt x="85" y="90"/>
                  <a:pt x="85" y="90"/>
                  <a:pt x="85" y="90"/>
                </a:cubicBezTo>
                <a:cubicBezTo>
                  <a:pt x="85" y="43"/>
                  <a:pt x="48" y="3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510"/>
                  <a:pt x="0" y="510"/>
                  <a:pt x="0" y="510"/>
                </a:cubicBezTo>
                <a:cubicBezTo>
                  <a:pt x="85" y="510"/>
                  <a:pt x="85" y="510"/>
                  <a:pt x="85" y="510"/>
                </a:cubicBezTo>
                <a:cubicBezTo>
                  <a:pt x="85" y="488"/>
                  <a:pt x="85" y="488"/>
                  <a:pt x="85" y="488"/>
                </a:cubicBezTo>
                <a:cubicBezTo>
                  <a:pt x="120" y="488"/>
                  <a:pt x="120" y="488"/>
                  <a:pt x="120" y="488"/>
                </a:cubicBezTo>
                <a:cubicBezTo>
                  <a:pt x="120" y="525"/>
                  <a:pt x="120" y="525"/>
                  <a:pt x="120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485" y="525"/>
                  <a:pt x="485" y="525"/>
                  <a:pt x="485" y="525"/>
                </a:cubicBezTo>
                <a:cubicBezTo>
                  <a:pt x="485" y="431"/>
                  <a:pt x="485" y="431"/>
                  <a:pt x="485" y="431"/>
                </a:cubicBezTo>
                <a:cubicBezTo>
                  <a:pt x="485" y="399"/>
                  <a:pt x="459" y="372"/>
                  <a:pt x="427" y="372"/>
                </a:cubicBezTo>
                <a:close/>
              </a:path>
            </a:pathLst>
          </a:custGeom>
          <a:solidFill>
            <a:srgbClr val="46b3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17"/>
          <p:cNvSpPr/>
          <p:nvPr/>
        </p:nvSpPr>
        <p:spPr>
          <a:xfrm>
            <a:off x="7324560" y="4591080"/>
            <a:ext cx="514440" cy="1249200"/>
          </a:xfrm>
          <a:custGeom>
            <a:avLst/>
            <a:gdLst>
              <a:gd name="textAreaLeft" fmla="*/ 0 w 514440"/>
              <a:gd name="textAreaRight" fmla="*/ 514800 w 514440"/>
              <a:gd name="textAreaTop" fmla="*/ 0 h 1249200"/>
              <a:gd name="textAreaBottom" fmla="*/ 1249200 h 1249200"/>
            </a:gdLst>
            <a:ahLst/>
            <a:rect l="textAreaLeft" t="textAreaTop" r="textAreaRight" b="textAreaBottom"/>
            <a:pathLst>
              <a:path w="89" h="216">
                <a:moveTo>
                  <a:pt x="89" y="0"/>
                </a:moveTo>
                <a:cubicBezTo>
                  <a:pt x="88" y="0"/>
                  <a:pt x="87" y="0"/>
                  <a:pt x="86" y="0"/>
                </a:cubicBezTo>
                <a:cubicBezTo>
                  <a:pt x="86" y="14"/>
                  <a:pt x="86" y="14"/>
                  <a:pt x="86" y="14"/>
                </a:cubicBezTo>
                <a:cubicBezTo>
                  <a:pt x="63" y="14"/>
                  <a:pt x="63" y="14"/>
                  <a:pt x="63" y="14"/>
                </a:cubicBezTo>
                <a:cubicBezTo>
                  <a:pt x="45" y="14"/>
                  <a:pt x="29" y="21"/>
                  <a:pt x="18" y="33"/>
                </a:cubicBezTo>
                <a:cubicBezTo>
                  <a:pt x="11" y="42"/>
                  <a:pt x="5" y="53"/>
                  <a:pt x="2" y="65"/>
                </a:cubicBezTo>
                <a:cubicBezTo>
                  <a:pt x="2" y="68"/>
                  <a:pt x="1" y="72"/>
                  <a:pt x="1" y="75"/>
                </a:cubicBezTo>
                <a:cubicBezTo>
                  <a:pt x="1" y="124"/>
                  <a:pt x="1" y="124"/>
                  <a:pt x="1" y="124"/>
                </a:cubicBezTo>
                <a:cubicBezTo>
                  <a:pt x="0" y="124"/>
                  <a:pt x="0" y="124"/>
                  <a:pt x="0" y="124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18"/>
          <p:cNvSpPr/>
          <p:nvPr/>
        </p:nvSpPr>
        <p:spPr>
          <a:xfrm>
            <a:off x="7821720" y="3930480"/>
            <a:ext cx="520560" cy="1249560"/>
          </a:xfrm>
          <a:custGeom>
            <a:avLst/>
            <a:gdLst>
              <a:gd name="textAreaLeft" fmla="*/ 0 w 520560"/>
              <a:gd name="textAreaRight" fmla="*/ 520920 w 520560"/>
              <a:gd name="textAreaTop" fmla="*/ 0 h 1249560"/>
              <a:gd name="textAreaBottom" fmla="*/ 1249560 h 1249560"/>
            </a:gdLst>
            <a:ahLst/>
            <a:rect l="textAreaLeft" t="textAreaTop" r="textAreaRight" b="textAreaBottom"/>
            <a:pathLst>
              <a:path w="90" h="216">
                <a:moveTo>
                  <a:pt x="89" y="0"/>
                </a:moveTo>
                <a:cubicBezTo>
                  <a:pt x="84" y="0"/>
                  <a:pt x="90" y="3"/>
                  <a:pt x="85" y="3"/>
                </a:cubicBezTo>
                <a:cubicBezTo>
                  <a:pt x="85" y="4"/>
                  <a:pt x="86" y="9"/>
                  <a:pt x="86" y="10"/>
                </a:cubicBezTo>
                <a:cubicBezTo>
                  <a:pt x="73" y="12"/>
                  <a:pt x="73" y="12"/>
                  <a:pt x="73" y="12"/>
                </a:cubicBezTo>
                <a:cubicBezTo>
                  <a:pt x="70" y="12"/>
                  <a:pt x="70" y="12"/>
                  <a:pt x="70" y="12"/>
                </a:cubicBezTo>
                <a:cubicBezTo>
                  <a:pt x="47" y="12"/>
                  <a:pt x="26" y="23"/>
                  <a:pt x="13" y="41"/>
                </a:cubicBezTo>
                <a:cubicBezTo>
                  <a:pt x="6" y="52"/>
                  <a:pt x="1" y="65"/>
                  <a:pt x="0" y="79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c5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19"/>
          <p:cNvSpPr/>
          <p:nvPr/>
        </p:nvSpPr>
        <p:spPr>
          <a:xfrm>
            <a:off x="8255160" y="3438360"/>
            <a:ext cx="520560" cy="1257480"/>
          </a:xfrm>
          <a:custGeom>
            <a:avLst/>
            <a:gdLst>
              <a:gd name="textAreaLeft" fmla="*/ 0 w 520560"/>
              <a:gd name="textAreaRight" fmla="*/ 520920 w 520560"/>
              <a:gd name="textAreaTop" fmla="*/ 0 h 1257480"/>
              <a:gd name="textAreaBottom" fmla="*/ 1257840 h 1257480"/>
            </a:gdLst>
            <a:ahLst/>
            <a:rect l="textAreaLeft" t="textAreaTop" r="textAreaRight" b="textAreaBottom"/>
            <a:pathLst>
              <a:path w="90" h="217">
                <a:moveTo>
                  <a:pt x="90" y="1"/>
                </a:moveTo>
                <a:cubicBezTo>
                  <a:pt x="43" y="0"/>
                  <a:pt x="5" y="35"/>
                  <a:pt x="0" y="80"/>
                </a:cubicBezTo>
                <a:cubicBezTo>
                  <a:pt x="0" y="217"/>
                  <a:pt x="0" y="217"/>
                  <a:pt x="0" y="217"/>
                </a:cubicBezTo>
                <a:cubicBezTo>
                  <a:pt x="90" y="217"/>
                  <a:pt x="90" y="217"/>
                  <a:pt x="90" y="217"/>
                </a:cubicBezTo>
                <a:lnTo>
                  <a:pt x="90" y="1"/>
                </a:lnTo>
                <a:close/>
              </a:path>
            </a:pathLst>
          </a:custGeom>
          <a:solidFill>
            <a:srgbClr val="9cd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20"/>
          <p:cNvSpPr/>
          <p:nvPr/>
        </p:nvSpPr>
        <p:spPr>
          <a:xfrm>
            <a:off x="7142040" y="4208400"/>
            <a:ext cx="3678480" cy="2424240"/>
          </a:xfrm>
          <a:custGeom>
            <a:avLst/>
            <a:gdLst>
              <a:gd name="textAreaLeft" fmla="*/ 0 w 3678480"/>
              <a:gd name="textAreaRight" fmla="*/ 3678840 w 3678480"/>
              <a:gd name="textAreaTop" fmla="*/ 0 h 2424240"/>
              <a:gd name="textAreaBottom" fmla="*/ 2424600 h 2424240"/>
            </a:gdLst>
            <a:ahLst/>
            <a:rect l="textAreaLeft" t="textAreaTop" r="textAreaRight" b="textAreaBottom"/>
            <a:pathLst>
              <a:path w="637" h="419">
                <a:moveTo>
                  <a:pt x="593" y="284"/>
                </a:moveTo>
                <a:cubicBezTo>
                  <a:pt x="522" y="284"/>
                  <a:pt x="522" y="284"/>
                  <a:pt x="522" y="284"/>
                </a:cubicBezTo>
                <a:cubicBezTo>
                  <a:pt x="522" y="245"/>
                  <a:pt x="522" y="245"/>
                  <a:pt x="522" y="245"/>
                </a:cubicBezTo>
                <a:cubicBezTo>
                  <a:pt x="522" y="210"/>
                  <a:pt x="494" y="182"/>
                  <a:pt x="459" y="182"/>
                </a:cubicBezTo>
                <a:cubicBezTo>
                  <a:pt x="378" y="182"/>
                  <a:pt x="378" y="182"/>
                  <a:pt x="378" y="182"/>
                </a:cubicBezTo>
                <a:cubicBezTo>
                  <a:pt x="378" y="138"/>
                  <a:pt x="378" y="138"/>
                  <a:pt x="378" y="138"/>
                </a:cubicBezTo>
                <a:cubicBezTo>
                  <a:pt x="378" y="116"/>
                  <a:pt x="359" y="98"/>
                  <a:pt x="337" y="98"/>
                </a:cubicBezTo>
                <a:cubicBezTo>
                  <a:pt x="333" y="98"/>
                  <a:pt x="333" y="98"/>
                  <a:pt x="333" y="98"/>
                </a:cubicBezTo>
                <a:cubicBezTo>
                  <a:pt x="333" y="70"/>
                  <a:pt x="333" y="70"/>
                  <a:pt x="333" y="70"/>
                </a:cubicBezTo>
                <a:cubicBezTo>
                  <a:pt x="333" y="34"/>
                  <a:pt x="306" y="3"/>
                  <a:pt x="270" y="2"/>
                </a:cubicBezTo>
                <a:cubicBezTo>
                  <a:pt x="232" y="0"/>
                  <a:pt x="201" y="30"/>
                  <a:pt x="201" y="68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168" y="74"/>
                  <a:pt x="144" y="98"/>
                  <a:pt x="144" y="128"/>
                </a:cubicBezTo>
                <a:cubicBezTo>
                  <a:pt x="144" y="162"/>
                  <a:pt x="144" y="162"/>
                  <a:pt x="144" y="162"/>
                </a:cubicBezTo>
                <a:cubicBezTo>
                  <a:pt x="126" y="162"/>
                  <a:pt x="126" y="162"/>
                  <a:pt x="126" y="162"/>
                </a:cubicBezTo>
                <a:cubicBezTo>
                  <a:pt x="101" y="162"/>
                  <a:pt x="80" y="183"/>
                  <a:pt x="80" y="209"/>
                </a:cubicBezTo>
                <a:cubicBezTo>
                  <a:pt x="80" y="245"/>
                  <a:pt x="80" y="245"/>
                  <a:pt x="80" y="245"/>
                </a:cubicBezTo>
                <a:cubicBezTo>
                  <a:pt x="47" y="245"/>
                  <a:pt x="47" y="245"/>
                  <a:pt x="47" y="245"/>
                </a:cubicBezTo>
                <a:cubicBezTo>
                  <a:pt x="23" y="245"/>
                  <a:pt x="4" y="264"/>
                  <a:pt x="0" y="289"/>
                </a:cubicBezTo>
                <a:cubicBezTo>
                  <a:pt x="0" y="380"/>
                  <a:pt x="0" y="380"/>
                  <a:pt x="0" y="380"/>
                </a:cubicBezTo>
                <a:cubicBezTo>
                  <a:pt x="98" y="380"/>
                  <a:pt x="98" y="380"/>
                  <a:pt x="98" y="380"/>
                </a:cubicBezTo>
                <a:cubicBezTo>
                  <a:pt x="98" y="377"/>
                  <a:pt x="98" y="377"/>
                  <a:pt x="98" y="377"/>
                </a:cubicBezTo>
                <a:cubicBezTo>
                  <a:pt x="144" y="377"/>
                  <a:pt x="144" y="377"/>
                  <a:pt x="144" y="377"/>
                </a:cubicBezTo>
                <a:cubicBezTo>
                  <a:pt x="144" y="397"/>
                  <a:pt x="144" y="397"/>
                  <a:pt x="144" y="397"/>
                </a:cubicBezTo>
                <a:cubicBezTo>
                  <a:pt x="231" y="397"/>
                  <a:pt x="231" y="397"/>
                  <a:pt x="231" y="397"/>
                </a:cubicBezTo>
                <a:cubicBezTo>
                  <a:pt x="231" y="388"/>
                  <a:pt x="231" y="388"/>
                  <a:pt x="231" y="388"/>
                </a:cubicBezTo>
                <a:cubicBezTo>
                  <a:pt x="333" y="388"/>
                  <a:pt x="333" y="388"/>
                  <a:pt x="333" y="388"/>
                </a:cubicBezTo>
                <a:cubicBezTo>
                  <a:pt x="333" y="371"/>
                  <a:pt x="333" y="371"/>
                  <a:pt x="333" y="371"/>
                </a:cubicBezTo>
                <a:cubicBezTo>
                  <a:pt x="360" y="371"/>
                  <a:pt x="360" y="371"/>
                  <a:pt x="360" y="371"/>
                </a:cubicBezTo>
                <a:cubicBezTo>
                  <a:pt x="360" y="399"/>
                  <a:pt x="360" y="399"/>
                  <a:pt x="360" y="399"/>
                </a:cubicBezTo>
                <a:cubicBezTo>
                  <a:pt x="494" y="399"/>
                  <a:pt x="494" y="399"/>
                  <a:pt x="494" y="399"/>
                </a:cubicBezTo>
                <a:cubicBezTo>
                  <a:pt x="494" y="419"/>
                  <a:pt x="494" y="419"/>
                  <a:pt x="494" y="419"/>
                </a:cubicBezTo>
                <a:cubicBezTo>
                  <a:pt x="637" y="419"/>
                  <a:pt x="637" y="419"/>
                  <a:pt x="637" y="419"/>
                </a:cubicBezTo>
                <a:cubicBezTo>
                  <a:pt x="637" y="328"/>
                  <a:pt x="637" y="328"/>
                  <a:pt x="637" y="328"/>
                </a:cubicBezTo>
                <a:cubicBezTo>
                  <a:pt x="637" y="303"/>
                  <a:pt x="617" y="284"/>
                  <a:pt x="593" y="284"/>
                </a:cubicBezTo>
                <a:close/>
              </a:path>
            </a:pathLst>
          </a:custGeom>
          <a:solidFill>
            <a:srgbClr val="8db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21"/>
          <p:cNvSpPr/>
          <p:nvPr/>
        </p:nvSpPr>
        <p:spPr>
          <a:xfrm>
            <a:off x="8670960" y="4214880"/>
            <a:ext cx="2149560" cy="212256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2122560"/>
              <a:gd name="textAreaBottom" fmla="*/ 2122920 h 2122560"/>
            </a:gdLst>
            <a:ahLst/>
            <a:rect l="textAreaLeft" t="textAreaTop" r="textAreaRight" b="textAreaBottom"/>
            <a:pathLst>
              <a:path w="372" h="367">
                <a:moveTo>
                  <a:pt x="328" y="283"/>
                </a:moveTo>
                <a:cubicBezTo>
                  <a:pt x="257" y="283"/>
                  <a:pt x="257" y="283"/>
                  <a:pt x="257" y="283"/>
                </a:cubicBezTo>
                <a:cubicBezTo>
                  <a:pt x="257" y="244"/>
                  <a:pt x="257" y="244"/>
                  <a:pt x="257" y="244"/>
                </a:cubicBezTo>
                <a:cubicBezTo>
                  <a:pt x="257" y="209"/>
                  <a:pt x="229" y="181"/>
                  <a:pt x="194" y="181"/>
                </a:cubicBezTo>
                <a:cubicBezTo>
                  <a:pt x="113" y="181"/>
                  <a:pt x="113" y="181"/>
                  <a:pt x="113" y="181"/>
                </a:cubicBezTo>
                <a:cubicBezTo>
                  <a:pt x="113" y="137"/>
                  <a:pt x="113" y="137"/>
                  <a:pt x="113" y="137"/>
                </a:cubicBezTo>
                <a:cubicBezTo>
                  <a:pt x="113" y="115"/>
                  <a:pt x="94" y="97"/>
                  <a:pt x="72" y="97"/>
                </a:cubicBezTo>
                <a:cubicBezTo>
                  <a:pt x="68" y="97"/>
                  <a:pt x="68" y="97"/>
                  <a:pt x="68" y="9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3"/>
                  <a:pt x="41" y="2"/>
                  <a:pt x="5" y="1"/>
                </a:cubicBezTo>
                <a:cubicBezTo>
                  <a:pt x="3" y="0"/>
                  <a:pt x="2" y="1"/>
                  <a:pt x="0" y="1"/>
                </a:cubicBezTo>
                <a:cubicBezTo>
                  <a:pt x="0" y="367"/>
                  <a:pt x="0" y="367"/>
                  <a:pt x="0" y="367"/>
                </a:cubicBezTo>
                <a:cubicBezTo>
                  <a:pt x="372" y="367"/>
                  <a:pt x="372" y="367"/>
                  <a:pt x="372" y="367"/>
                </a:cubicBezTo>
                <a:cubicBezTo>
                  <a:pt x="372" y="327"/>
                  <a:pt x="372" y="327"/>
                  <a:pt x="372" y="327"/>
                </a:cubicBezTo>
                <a:cubicBezTo>
                  <a:pt x="372" y="302"/>
                  <a:pt x="352" y="283"/>
                  <a:pt x="328" y="283"/>
                </a:cubicBezTo>
                <a:close/>
              </a:path>
            </a:pathLst>
          </a:custGeom>
          <a:solidFill>
            <a:srgbClr val="5693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22"/>
          <p:cNvSpPr/>
          <p:nvPr/>
        </p:nvSpPr>
        <p:spPr>
          <a:xfrm>
            <a:off x="7701120" y="4897440"/>
            <a:ext cx="2616120" cy="1735200"/>
          </a:xfrm>
          <a:custGeom>
            <a:avLst/>
            <a:gdLst>
              <a:gd name="textAreaLeft" fmla="*/ 0 w 2616120"/>
              <a:gd name="textAreaRight" fmla="*/ 2616480 w 2616120"/>
              <a:gd name="textAreaTop" fmla="*/ 0 h 1735200"/>
              <a:gd name="textAreaBottom" fmla="*/ 1735560 h 1735200"/>
            </a:gdLst>
            <a:ahLst/>
            <a:rect l="textAreaLeft" t="textAreaTop" r="textAreaRight" b="textAreaBottom"/>
            <a:pathLst>
              <a:path w="453" h="300">
                <a:moveTo>
                  <a:pt x="421" y="203"/>
                </a:moveTo>
                <a:cubicBezTo>
                  <a:pt x="371" y="203"/>
                  <a:pt x="371" y="203"/>
                  <a:pt x="371" y="203"/>
                </a:cubicBezTo>
                <a:cubicBezTo>
                  <a:pt x="371" y="175"/>
                  <a:pt x="371" y="175"/>
                  <a:pt x="371" y="175"/>
                </a:cubicBezTo>
                <a:cubicBezTo>
                  <a:pt x="371" y="150"/>
                  <a:pt x="351" y="130"/>
                  <a:pt x="326" y="130"/>
                </a:cubicBezTo>
                <a:cubicBezTo>
                  <a:pt x="268" y="130"/>
                  <a:pt x="268" y="130"/>
                  <a:pt x="268" y="130"/>
                </a:cubicBezTo>
                <a:cubicBezTo>
                  <a:pt x="268" y="99"/>
                  <a:pt x="268" y="99"/>
                  <a:pt x="268" y="99"/>
                </a:cubicBezTo>
                <a:cubicBezTo>
                  <a:pt x="268" y="83"/>
                  <a:pt x="255" y="70"/>
                  <a:pt x="239" y="70"/>
                </a:cubicBezTo>
                <a:cubicBezTo>
                  <a:pt x="236" y="70"/>
                  <a:pt x="236" y="70"/>
                  <a:pt x="236" y="70"/>
                </a:cubicBezTo>
                <a:cubicBezTo>
                  <a:pt x="236" y="50"/>
                  <a:pt x="236" y="50"/>
                  <a:pt x="236" y="50"/>
                </a:cubicBezTo>
                <a:cubicBezTo>
                  <a:pt x="236" y="24"/>
                  <a:pt x="216" y="2"/>
                  <a:pt x="191" y="1"/>
                </a:cubicBezTo>
                <a:cubicBezTo>
                  <a:pt x="163" y="0"/>
                  <a:pt x="141" y="22"/>
                  <a:pt x="141" y="48"/>
                </a:cubicBezTo>
                <a:cubicBezTo>
                  <a:pt x="141" y="53"/>
                  <a:pt x="141" y="53"/>
                  <a:pt x="141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18" y="53"/>
                  <a:pt x="100" y="70"/>
                  <a:pt x="100" y="92"/>
                </a:cubicBezTo>
                <a:cubicBezTo>
                  <a:pt x="100" y="116"/>
                  <a:pt x="100" y="116"/>
                  <a:pt x="100" y="116"/>
                </a:cubicBezTo>
                <a:cubicBezTo>
                  <a:pt x="88" y="116"/>
                  <a:pt x="88" y="116"/>
                  <a:pt x="88" y="116"/>
                </a:cubicBezTo>
                <a:cubicBezTo>
                  <a:pt x="69" y="116"/>
                  <a:pt x="54" y="131"/>
                  <a:pt x="54" y="149"/>
                </a:cubicBezTo>
                <a:cubicBezTo>
                  <a:pt x="54" y="175"/>
                  <a:pt x="54" y="175"/>
                  <a:pt x="54" y="175"/>
                </a:cubicBezTo>
                <a:cubicBezTo>
                  <a:pt x="31" y="175"/>
                  <a:pt x="31" y="175"/>
                  <a:pt x="31" y="175"/>
                </a:cubicBezTo>
                <a:cubicBezTo>
                  <a:pt x="14" y="175"/>
                  <a:pt x="0" y="189"/>
                  <a:pt x="0" y="207"/>
                </a:cubicBezTo>
                <a:cubicBezTo>
                  <a:pt x="0" y="272"/>
                  <a:pt x="0" y="272"/>
                  <a:pt x="0" y="272"/>
                </a:cubicBezTo>
                <a:cubicBezTo>
                  <a:pt x="67" y="272"/>
                  <a:pt x="67" y="272"/>
                  <a:pt x="67" y="272"/>
                </a:cubicBezTo>
                <a:cubicBezTo>
                  <a:pt x="67" y="270"/>
                  <a:pt x="67" y="270"/>
                  <a:pt x="67" y="270"/>
                </a:cubicBezTo>
                <a:cubicBezTo>
                  <a:pt x="100" y="270"/>
                  <a:pt x="100" y="270"/>
                  <a:pt x="100" y="270"/>
                </a:cubicBezTo>
                <a:cubicBezTo>
                  <a:pt x="100" y="284"/>
                  <a:pt x="100" y="284"/>
                  <a:pt x="100" y="284"/>
                </a:cubicBezTo>
                <a:cubicBezTo>
                  <a:pt x="163" y="284"/>
                  <a:pt x="163" y="284"/>
                  <a:pt x="163" y="284"/>
                </a:cubicBezTo>
                <a:cubicBezTo>
                  <a:pt x="163" y="278"/>
                  <a:pt x="163" y="278"/>
                  <a:pt x="163" y="278"/>
                </a:cubicBezTo>
                <a:cubicBezTo>
                  <a:pt x="236" y="278"/>
                  <a:pt x="236" y="278"/>
                  <a:pt x="236" y="278"/>
                </a:cubicBezTo>
                <a:cubicBezTo>
                  <a:pt x="236" y="265"/>
                  <a:pt x="236" y="265"/>
                  <a:pt x="236" y="265"/>
                </a:cubicBezTo>
                <a:cubicBezTo>
                  <a:pt x="255" y="265"/>
                  <a:pt x="255" y="265"/>
                  <a:pt x="255" y="265"/>
                </a:cubicBezTo>
                <a:cubicBezTo>
                  <a:pt x="255" y="286"/>
                  <a:pt x="255" y="286"/>
                  <a:pt x="255" y="286"/>
                </a:cubicBezTo>
                <a:cubicBezTo>
                  <a:pt x="351" y="286"/>
                  <a:pt x="351" y="286"/>
                  <a:pt x="351" y="286"/>
                </a:cubicBezTo>
                <a:cubicBezTo>
                  <a:pt x="351" y="300"/>
                  <a:pt x="351" y="300"/>
                  <a:pt x="351" y="300"/>
                </a:cubicBezTo>
                <a:cubicBezTo>
                  <a:pt x="453" y="300"/>
                  <a:pt x="453" y="300"/>
                  <a:pt x="453" y="300"/>
                </a:cubicBezTo>
                <a:cubicBezTo>
                  <a:pt x="453" y="235"/>
                  <a:pt x="453" y="235"/>
                  <a:pt x="453" y="235"/>
                </a:cubicBezTo>
                <a:cubicBezTo>
                  <a:pt x="453" y="217"/>
                  <a:pt x="439" y="203"/>
                  <a:pt x="421" y="203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34"/>
          <p:cNvSpPr/>
          <p:nvPr/>
        </p:nvSpPr>
        <p:spPr>
          <a:xfrm>
            <a:off x="8775720" y="4903920"/>
            <a:ext cx="1541520" cy="1728720"/>
          </a:xfrm>
          <a:custGeom>
            <a:avLst/>
            <a:gdLst>
              <a:gd name="textAreaLeft" fmla="*/ 0 w 1541520"/>
              <a:gd name="textAreaRight" fmla="*/ 1541880 w 154152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267" h="299">
                <a:moveTo>
                  <a:pt x="235" y="202"/>
                </a:moveTo>
                <a:cubicBezTo>
                  <a:pt x="185" y="202"/>
                  <a:pt x="185" y="202"/>
                  <a:pt x="185" y="202"/>
                </a:cubicBezTo>
                <a:cubicBezTo>
                  <a:pt x="185" y="174"/>
                  <a:pt x="185" y="174"/>
                  <a:pt x="185" y="174"/>
                </a:cubicBezTo>
                <a:cubicBezTo>
                  <a:pt x="185" y="149"/>
                  <a:pt x="165" y="129"/>
                  <a:pt x="140" y="129"/>
                </a:cubicBezTo>
                <a:cubicBezTo>
                  <a:pt x="82" y="129"/>
                  <a:pt x="82" y="129"/>
                  <a:pt x="82" y="129"/>
                </a:cubicBezTo>
                <a:cubicBezTo>
                  <a:pt x="82" y="98"/>
                  <a:pt x="82" y="98"/>
                  <a:pt x="82" y="98"/>
                </a:cubicBezTo>
                <a:cubicBezTo>
                  <a:pt x="82" y="82"/>
                  <a:pt x="69" y="69"/>
                  <a:pt x="53" y="69"/>
                </a:cubicBezTo>
                <a:cubicBezTo>
                  <a:pt x="50" y="69"/>
                  <a:pt x="50" y="69"/>
                  <a:pt x="50" y="69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23"/>
                  <a:pt x="30" y="1"/>
                  <a:pt x="5" y="0"/>
                </a:cubicBezTo>
                <a:cubicBezTo>
                  <a:pt x="3" y="0"/>
                  <a:pt x="1" y="0"/>
                  <a:pt x="0" y="0"/>
                </a:cubicBezTo>
                <a:cubicBezTo>
                  <a:pt x="0" y="277"/>
                  <a:pt x="0" y="277"/>
                  <a:pt x="0" y="277"/>
                </a:cubicBezTo>
                <a:cubicBezTo>
                  <a:pt x="50" y="277"/>
                  <a:pt x="50" y="277"/>
                  <a:pt x="50" y="277"/>
                </a:cubicBezTo>
                <a:cubicBezTo>
                  <a:pt x="50" y="264"/>
                  <a:pt x="50" y="264"/>
                  <a:pt x="50" y="264"/>
                </a:cubicBezTo>
                <a:cubicBezTo>
                  <a:pt x="69" y="264"/>
                  <a:pt x="69" y="264"/>
                  <a:pt x="69" y="264"/>
                </a:cubicBezTo>
                <a:cubicBezTo>
                  <a:pt x="69" y="285"/>
                  <a:pt x="69" y="285"/>
                  <a:pt x="69" y="285"/>
                </a:cubicBezTo>
                <a:cubicBezTo>
                  <a:pt x="165" y="285"/>
                  <a:pt x="165" y="285"/>
                  <a:pt x="165" y="285"/>
                </a:cubicBezTo>
                <a:cubicBezTo>
                  <a:pt x="165" y="299"/>
                  <a:pt x="165" y="299"/>
                  <a:pt x="165" y="299"/>
                </a:cubicBezTo>
                <a:cubicBezTo>
                  <a:pt x="267" y="299"/>
                  <a:pt x="267" y="299"/>
                  <a:pt x="267" y="299"/>
                </a:cubicBezTo>
                <a:cubicBezTo>
                  <a:pt x="267" y="234"/>
                  <a:pt x="267" y="234"/>
                  <a:pt x="267" y="234"/>
                </a:cubicBezTo>
                <a:cubicBezTo>
                  <a:pt x="267" y="216"/>
                  <a:pt x="253" y="202"/>
                  <a:pt x="235" y="202"/>
                </a:cubicBezTo>
                <a:close/>
              </a:path>
            </a:pathLst>
          </a:custGeom>
          <a:solidFill>
            <a:srgbClr val="4866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74"/>
          <p:cNvSpPr/>
          <p:nvPr/>
        </p:nvSpPr>
        <p:spPr>
          <a:xfrm>
            <a:off x="11315880" y="4527720"/>
            <a:ext cx="137880" cy="726840"/>
          </a:xfrm>
          <a:custGeom>
            <a:avLst/>
            <a:gdLst/>
            <a:ahLst/>
            <a:rect l="l" t="t" r="r" b="b"/>
            <a:pathLst>
              <a:path w="94" h="496">
                <a:moveTo>
                  <a:pt x="0" y="496"/>
                </a:moveTo>
                <a:lnTo>
                  <a:pt x="94" y="409"/>
                </a:lnTo>
                <a:lnTo>
                  <a:pt x="94" y="0"/>
                </a:lnTo>
                <a:lnTo>
                  <a:pt x="4" y="0"/>
                </a:lnTo>
                <a:lnTo>
                  <a:pt x="0" y="496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reeform 75"/>
          <p:cNvSpPr/>
          <p:nvPr/>
        </p:nvSpPr>
        <p:spPr>
          <a:xfrm>
            <a:off x="10137600" y="4178160"/>
            <a:ext cx="293760" cy="1417680"/>
          </a:xfrm>
          <a:custGeom>
            <a:avLst/>
            <a:gdLst>
              <a:gd name="textAreaLeft" fmla="*/ 0 w 293760"/>
              <a:gd name="textAreaRight" fmla="*/ 294120 w 293760"/>
              <a:gd name="textAreaTop" fmla="*/ 0 h 1417680"/>
              <a:gd name="textAreaBottom" fmla="*/ 1417680 h 1417680"/>
            </a:gdLst>
            <a:ahLst/>
            <a:rect l="textAreaLeft" t="textAreaTop" r="textAreaRight" b="textAreaBottom"/>
            <a:pathLst>
              <a:path w="200" h="965">
                <a:moveTo>
                  <a:pt x="200" y="965"/>
                </a:moveTo>
                <a:lnTo>
                  <a:pt x="0" y="792"/>
                </a:lnTo>
                <a:lnTo>
                  <a:pt x="0" y="0"/>
                </a:lnTo>
                <a:lnTo>
                  <a:pt x="200" y="0"/>
                </a:lnTo>
                <a:lnTo>
                  <a:pt x="200" y="965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76"/>
          <p:cNvSpPr/>
          <p:nvPr/>
        </p:nvSpPr>
        <p:spPr>
          <a:xfrm>
            <a:off x="10503000" y="4757760"/>
            <a:ext cx="374400" cy="1771560"/>
          </a:xfrm>
          <a:custGeom>
            <a:avLst/>
            <a:gdLst>
              <a:gd name="textAreaLeft" fmla="*/ 0 w 374400"/>
              <a:gd name="textAreaRight" fmla="*/ 374760 w 374400"/>
              <a:gd name="textAreaTop" fmla="*/ 0 h 1771560"/>
              <a:gd name="textAreaBottom" fmla="*/ 1771920 h 1771560"/>
            </a:gdLst>
            <a:ahLst/>
            <a:rect l="textAreaLeft" t="textAreaTop" r="textAreaRight" b="textAreaBottom"/>
            <a:pathLst>
              <a:path w="255" h="1206">
                <a:moveTo>
                  <a:pt x="255" y="0"/>
                </a:moveTo>
                <a:lnTo>
                  <a:pt x="0" y="0"/>
                </a:lnTo>
                <a:lnTo>
                  <a:pt x="3" y="890"/>
                </a:lnTo>
                <a:lnTo>
                  <a:pt x="78" y="969"/>
                </a:lnTo>
                <a:lnTo>
                  <a:pt x="78" y="1206"/>
                </a:lnTo>
                <a:lnTo>
                  <a:pt x="255" y="1206"/>
                </a:lnTo>
                <a:lnTo>
                  <a:pt x="255" y="1146"/>
                </a:lnTo>
                <a:lnTo>
                  <a:pt x="255" y="1146"/>
                </a:lnTo>
                <a:lnTo>
                  <a:pt x="255" y="0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77"/>
          <p:cNvSpPr/>
          <p:nvPr/>
        </p:nvSpPr>
        <p:spPr>
          <a:xfrm>
            <a:off x="10871280" y="4127400"/>
            <a:ext cx="450720" cy="2401920"/>
          </a:xfrm>
          <a:custGeom>
            <a:avLst/>
            <a:gdLst>
              <a:gd name="textAreaLeft" fmla="*/ 0 w 450720"/>
              <a:gd name="textAreaRight" fmla="*/ 450720 w 450720"/>
              <a:gd name="textAreaTop" fmla="*/ 0 h 2401920"/>
              <a:gd name="textAreaBottom" fmla="*/ 2402280 h 2401920"/>
            </a:gdLst>
            <a:ahLst/>
            <a:rect l="textAreaLeft" t="textAreaTop" r="textAreaRight" b="textAreaBottom"/>
            <a:pathLst>
              <a:path w="307" h="1635">
                <a:moveTo>
                  <a:pt x="4" y="1635"/>
                </a:moveTo>
                <a:lnTo>
                  <a:pt x="134" y="1635"/>
                </a:lnTo>
                <a:lnTo>
                  <a:pt x="303" y="1473"/>
                </a:lnTo>
                <a:lnTo>
                  <a:pt x="307" y="0"/>
                </a:lnTo>
                <a:lnTo>
                  <a:pt x="0" y="0"/>
                </a:lnTo>
                <a:lnTo>
                  <a:pt x="4" y="1635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78"/>
          <p:cNvSpPr/>
          <p:nvPr/>
        </p:nvSpPr>
        <p:spPr>
          <a:xfrm>
            <a:off x="10323360" y="4578480"/>
            <a:ext cx="293760" cy="1380960"/>
          </a:xfrm>
          <a:custGeom>
            <a:avLst/>
            <a:gdLst>
              <a:gd name="textAreaLeft" fmla="*/ 0 w 293760"/>
              <a:gd name="textAreaRight" fmla="*/ 294120 w 29376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w="200" h="941">
                <a:moveTo>
                  <a:pt x="200" y="941"/>
                </a:moveTo>
                <a:lnTo>
                  <a:pt x="0" y="764"/>
                </a:lnTo>
                <a:lnTo>
                  <a:pt x="0" y="0"/>
                </a:lnTo>
                <a:lnTo>
                  <a:pt x="200" y="0"/>
                </a:lnTo>
                <a:lnTo>
                  <a:pt x="200" y="94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79"/>
          <p:cNvSpPr/>
          <p:nvPr/>
        </p:nvSpPr>
        <p:spPr>
          <a:xfrm>
            <a:off x="10503000" y="4289400"/>
            <a:ext cx="374400" cy="1682640"/>
          </a:xfrm>
          <a:custGeom>
            <a:avLst/>
            <a:gdLst>
              <a:gd name="textAreaLeft" fmla="*/ 0 w 374400"/>
              <a:gd name="textAreaRight" fmla="*/ 374760 w 3744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255" h="1146">
                <a:moveTo>
                  <a:pt x="255" y="1146"/>
                </a:moveTo>
                <a:lnTo>
                  <a:pt x="3" y="890"/>
                </a:lnTo>
                <a:lnTo>
                  <a:pt x="0" y="0"/>
                </a:lnTo>
                <a:lnTo>
                  <a:pt x="255" y="0"/>
                </a:lnTo>
                <a:lnTo>
                  <a:pt x="255" y="1146"/>
                </a:lnTo>
                <a:close/>
              </a:path>
            </a:pathLst>
          </a:custGeom>
          <a:solidFill>
            <a:srgbClr val="8b6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80"/>
          <p:cNvSpPr/>
          <p:nvPr/>
        </p:nvSpPr>
        <p:spPr>
          <a:xfrm>
            <a:off x="10877400" y="4289400"/>
            <a:ext cx="295560" cy="1892160"/>
          </a:xfrm>
          <a:custGeom>
            <a:avLst/>
            <a:gdLst>
              <a:gd name="textAreaLeft" fmla="*/ 0 w 295560"/>
              <a:gd name="textAreaRight" fmla="*/ 295920 w 29556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201" h="1288">
                <a:moveTo>
                  <a:pt x="0" y="1288"/>
                </a:moveTo>
                <a:lnTo>
                  <a:pt x="201" y="1115"/>
                </a:lnTo>
                <a:lnTo>
                  <a:pt x="201" y="0"/>
                </a:lnTo>
                <a:lnTo>
                  <a:pt x="0" y="0"/>
                </a:lnTo>
                <a:lnTo>
                  <a:pt x="0" y="1288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81"/>
          <p:cNvSpPr/>
          <p:nvPr/>
        </p:nvSpPr>
        <p:spPr>
          <a:xfrm>
            <a:off x="10715760" y="4289400"/>
            <a:ext cx="160200" cy="1347840"/>
          </a:xfrm>
          <a:custGeom>
            <a:avLst/>
            <a:gdLst>
              <a:gd name="textAreaLeft" fmla="*/ 0 w 160200"/>
              <a:gd name="textAreaRight" fmla="*/ 160560 w 160200"/>
              <a:gd name="textAreaTop" fmla="*/ 0 h 1347840"/>
              <a:gd name="textAreaBottom" fmla="*/ 1348200 h 1347840"/>
            </a:gdLst>
            <a:ahLst/>
            <a:rect l="textAreaLeft" t="textAreaTop" r="textAreaRight" b="textAreaBottom"/>
            <a:pathLst>
              <a:path w="110" h="918">
                <a:moveTo>
                  <a:pt x="110" y="918"/>
                </a:moveTo>
                <a:lnTo>
                  <a:pt x="0" y="796"/>
                </a:lnTo>
                <a:lnTo>
                  <a:pt x="0" y="0"/>
                </a:lnTo>
                <a:lnTo>
                  <a:pt x="110" y="0"/>
                </a:lnTo>
                <a:lnTo>
                  <a:pt x="110" y="918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82"/>
          <p:cNvSpPr/>
          <p:nvPr/>
        </p:nvSpPr>
        <p:spPr>
          <a:xfrm>
            <a:off x="10877400" y="4289400"/>
            <a:ext cx="214560" cy="1515960"/>
          </a:xfrm>
          <a:custGeom>
            <a:avLst/>
            <a:gdLst>
              <a:gd name="textAreaLeft" fmla="*/ 0 w 214560"/>
              <a:gd name="textAreaRight" fmla="*/ 214920 w 21456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46" h="1032">
                <a:moveTo>
                  <a:pt x="0" y="1032"/>
                </a:moveTo>
                <a:lnTo>
                  <a:pt x="142" y="890"/>
                </a:lnTo>
                <a:lnTo>
                  <a:pt x="146" y="0"/>
                </a:lnTo>
                <a:lnTo>
                  <a:pt x="0" y="0"/>
                </a:lnTo>
                <a:lnTo>
                  <a:pt x="0" y="1032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83"/>
          <p:cNvSpPr/>
          <p:nvPr/>
        </p:nvSpPr>
        <p:spPr>
          <a:xfrm>
            <a:off x="9890280" y="3375000"/>
            <a:ext cx="1638000" cy="1389240"/>
          </a:xfrm>
          <a:custGeom>
            <a:avLst/>
            <a:gdLst>
              <a:gd name="textAreaLeft" fmla="*/ 0 w 1638000"/>
              <a:gd name="textAreaRight" fmla="*/ 1638360 w 1638000"/>
              <a:gd name="textAreaTop" fmla="*/ 0 h 1389240"/>
              <a:gd name="textAreaBottom" fmla="*/ 1389240 h 1389240"/>
            </a:gdLst>
            <a:ahLst/>
            <a:rect l="textAreaLeft" t="textAreaTop" r="textAreaRight" b="textAreaBottom"/>
            <a:pathLst>
              <a:path w="284" h="240">
                <a:moveTo>
                  <a:pt x="284" y="97"/>
                </a:moveTo>
                <a:cubicBezTo>
                  <a:pt x="284" y="75"/>
                  <a:pt x="266" y="58"/>
                  <a:pt x="245" y="58"/>
                </a:cubicBezTo>
                <a:cubicBezTo>
                  <a:pt x="234" y="58"/>
                  <a:pt x="224" y="62"/>
                  <a:pt x="217" y="69"/>
                </a:cubicBezTo>
                <a:cubicBezTo>
                  <a:pt x="216" y="68"/>
                  <a:pt x="214" y="67"/>
                  <a:pt x="212" y="66"/>
                </a:cubicBezTo>
                <a:cubicBezTo>
                  <a:pt x="212" y="65"/>
                  <a:pt x="213" y="64"/>
                  <a:pt x="213" y="62"/>
                </a:cubicBezTo>
                <a:cubicBezTo>
                  <a:pt x="213" y="46"/>
                  <a:pt x="200" y="34"/>
                  <a:pt x="184" y="34"/>
                </a:cubicBezTo>
                <a:cubicBezTo>
                  <a:pt x="181" y="34"/>
                  <a:pt x="178" y="34"/>
                  <a:pt x="176" y="35"/>
                </a:cubicBezTo>
                <a:cubicBezTo>
                  <a:pt x="176" y="35"/>
                  <a:pt x="176" y="34"/>
                  <a:pt x="176" y="34"/>
                </a:cubicBezTo>
                <a:cubicBezTo>
                  <a:pt x="176" y="15"/>
                  <a:pt x="161" y="0"/>
                  <a:pt x="142" y="0"/>
                </a:cubicBezTo>
                <a:cubicBezTo>
                  <a:pt x="124" y="0"/>
                  <a:pt x="109" y="15"/>
                  <a:pt x="109" y="34"/>
                </a:cubicBezTo>
                <a:cubicBezTo>
                  <a:pt x="109" y="42"/>
                  <a:pt x="112" y="49"/>
                  <a:pt x="117" y="55"/>
                </a:cubicBezTo>
                <a:cubicBezTo>
                  <a:pt x="111" y="50"/>
                  <a:pt x="105" y="47"/>
                  <a:pt x="97" y="47"/>
                </a:cubicBezTo>
                <a:cubicBezTo>
                  <a:pt x="80" y="47"/>
                  <a:pt x="67" y="61"/>
                  <a:pt x="67" y="77"/>
                </a:cubicBezTo>
                <a:cubicBezTo>
                  <a:pt x="67" y="83"/>
                  <a:pt x="68" y="87"/>
                  <a:pt x="71" y="91"/>
                </a:cubicBezTo>
                <a:cubicBezTo>
                  <a:pt x="68" y="92"/>
                  <a:pt x="65" y="93"/>
                  <a:pt x="63" y="94"/>
                </a:cubicBezTo>
                <a:cubicBezTo>
                  <a:pt x="57" y="84"/>
                  <a:pt x="46" y="77"/>
                  <a:pt x="34" y="77"/>
                </a:cubicBezTo>
                <a:cubicBezTo>
                  <a:pt x="15" y="77"/>
                  <a:pt x="0" y="92"/>
                  <a:pt x="0" y="111"/>
                </a:cubicBezTo>
                <a:cubicBezTo>
                  <a:pt x="0" y="125"/>
                  <a:pt x="10" y="138"/>
                  <a:pt x="23" y="142"/>
                </a:cubicBezTo>
                <a:cubicBezTo>
                  <a:pt x="12" y="147"/>
                  <a:pt x="4" y="157"/>
                  <a:pt x="4" y="170"/>
                </a:cubicBezTo>
                <a:cubicBezTo>
                  <a:pt x="4" y="186"/>
                  <a:pt x="17" y="199"/>
                  <a:pt x="34" y="199"/>
                </a:cubicBezTo>
                <a:cubicBezTo>
                  <a:pt x="43" y="199"/>
                  <a:pt x="51" y="195"/>
                  <a:pt x="57" y="188"/>
                </a:cubicBezTo>
                <a:cubicBezTo>
                  <a:pt x="60" y="193"/>
                  <a:pt x="66" y="196"/>
                  <a:pt x="73" y="196"/>
                </a:cubicBezTo>
                <a:cubicBezTo>
                  <a:pt x="73" y="220"/>
                  <a:pt x="73" y="220"/>
                  <a:pt x="73" y="220"/>
                </a:cubicBezTo>
                <a:cubicBezTo>
                  <a:pt x="73" y="231"/>
                  <a:pt x="82" y="240"/>
                  <a:pt x="92" y="240"/>
                </a:cubicBezTo>
                <a:cubicBezTo>
                  <a:pt x="103" y="240"/>
                  <a:pt x="112" y="231"/>
                  <a:pt x="112" y="220"/>
                </a:cubicBezTo>
                <a:cubicBezTo>
                  <a:pt x="112" y="196"/>
                  <a:pt x="112" y="196"/>
                  <a:pt x="112" y="196"/>
                </a:cubicBezTo>
                <a:cubicBezTo>
                  <a:pt x="113" y="196"/>
                  <a:pt x="113" y="196"/>
                  <a:pt x="114" y="196"/>
                </a:cubicBezTo>
                <a:cubicBezTo>
                  <a:pt x="115" y="196"/>
                  <a:pt x="116" y="196"/>
                  <a:pt x="117" y="196"/>
                </a:cubicBezTo>
                <a:cubicBezTo>
                  <a:pt x="119" y="207"/>
                  <a:pt x="128" y="214"/>
                  <a:pt x="139" y="214"/>
                </a:cubicBezTo>
                <a:cubicBezTo>
                  <a:pt x="151" y="214"/>
                  <a:pt x="161" y="205"/>
                  <a:pt x="161" y="193"/>
                </a:cubicBezTo>
                <a:cubicBezTo>
                  <a:pt x="161" y="193"/>
                  <a:pt x="162" y="193"/>
                  <a:pt x="162" y="193"/>
                </a:cubicBezTo>
                <a:cubicBezTo>
                  <a:pt x="162" y="205"/>
                  <a:pt x="172" y="214"/>
                  <a:pt x="184" y="214"/>
                </a:cubicBezTo>
                <a:cubicBezTo>
                  <a:pt x="195" y="214"/>
                  <a:pt x="205" y="206"/>
                  <a:pt x="206" y="195"/>
                </a:cubicBezTo>
                <a:cubicBezTo>
                  <a:pt x="209" y="196"/>
                  <a:pt x="211" y="196"/>
                  <a:pt x="214" y="196"/>
                </a:cubicBezTo>
                <a:cubicBezTo>
                  <a:pt x="240" y="196"/>
                  <a:pt x="262" y="174"/>
                  <a:pt x="262" y="148"/>
                </a:cubicBezTo>
                <a:cubicBezTo>
                  <a:pt x="262" y="143"/>
                  <a:pt x="261" y="138"/>
                  <a:pt x="260" y="133"/>
                </a:cubicBezTo>
                <a:cubicBezTo>
                  <a:pt x="274" y="127"/>
                  <a:pt x="284" y="113"/>
                  <a:pt x="284" y="97"/>
                </a:cubicBezTo>
                <a:close/>
              </a:path>
            </a:pathLst>
          </a:custGeom>
          <a:solidFill>
            <a:srgbClr val="00b9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84"/>
          <p:cNvSpPr/>
          <p:nvPr/>
        </p:nvSpPr>
        <p:spPr>
          <a:xfrm>
            <a:off x="10431360" y="3375000"/>
            <a:ext cx="1096920" cy="1389240"/>
          </a:xfrm>
          <a:custGeom>
            <a:avLst/>
            <a:gdLst/>
            <a:ahLst/>
            <a:rect l="l" t="t" r="r" b="b"/>
            <a:pathLst>
              <a:path w="190" h="240">
                <a:moveTo>
                  <a:pt x="151" y="58"/>
                </a:moveTo>
                <a:cubicBezTo>
                  <a:pt x="140" y="58"/>
                  <a:pt x="130" y="62"/>
                  <a:pt x="123" y="69"/>
                </a:cubicBezTo>
                <a:cubicBezTo>
                  <a:pt x="122" y="68"/>
                  <a:pt x="120" y="67"/>
                  <a:pt x="118" y="66"/>
                </a:cubicBezTo>
                <a:cubicBezTo>
                  <a:pt x="118" y="65"/>
                  <a:pt x="119" y="64"/>
                  <a:pt x="119" y="62"/>
                </a:cubicBezTo>
                <a:cubicBezTo>
                  <a:pt x="119" y="46"/>
                  <a:pt x="106" y="34"/>
                  <a:pt x="90" y="34"/>
                </a:cubicBezTo>
                <a:cubicBezTo>
                  <a:pt x="87" y="34"/>
                  <a:pt x="84" y="34"/>
                  <a:pt x="82" y="35"/>
                </a:cubicBezTo>
                <a:cubicBezTo>
                  <a:pt x="82" y="35"/>
                  <a:pt x="82" y="34"/>
                  <a:pt x="82" y="34"/>
                </a:cubicBezTo>
                <a:cubicBezTo>
                  <a:pt x="82" y="15"/>
                  <a:pt x="67" y="0"/>
                  <a:pt x="48" y="0"/>
                </a:cubicBezTo>
                <a:cubicBezTo>
                  <a:pt x="30" y="0"/>
                  <a:pt x="15" y="15"/>
                  <a:pt x="15" y="34"/>
                </a:cubicBezTo>
                <a:cubicBezTo>
                  <a:pt x="15" y="42"/>
                  <a:pt x="18" y="49"/>
                  <a:pt x="23" y="55"/>
                </a:cubicBezTo>
                <a:cubicBezTo>
                  <a:pt x="17" y="50"/>
                  <a:pt x="11" y="47"/>
                  <a:pt x="3" y="47"/>
                </a:cubicBezTo>
                <a:cubicBezTo>
                  <a:pt x="2" y="47"/>
                  <a:pt x="1" y="48"/>
                  <a:pt x="0" y="48"/>
                </a:cubicBezTo>
                <a:cubicBezTo>
                  <a:pt x="0" y="240"/>
                  <a:pt x="0" y="240"/>
                  <a:pt x="0" y="240"/>
                </a:cubicBezTo>
                <a:cubicBezTo>
                  <a:pt x="10" y="240"/>
                  <a:pt x="18" y="231"/>
                  <a:pt x="18" y="220"/>
                </a:cubicBezTo>
                <a:cubicBezTo>
                  <a:pt x="18" y="196"/>
                  <a:pt x="18" y="196"/>
                  <a:pt x="18" y="196"/>
                </a:cubicBezTo>
                <a:cubicBezTo>
                  <a:pt x="19" y="196"/>
                  <a:pt x="19" y="196"/>
                  <a:pt x="20" y="196"/>
                </a:cubicBezTo>
                <a:cubicBezTo>
                  <a:pt x="21" y="196"/>
                  <a:pt x="22" y="196"/>
                  <a:pt x="23" y="196"/>
                </a:cubicBezTo>
                <a:cubicBezTo>
                  <a:pt x="25" y="207"/>
                  <a:pt x="34" y="214"/>
                  <a:pt x="45" y="214"/>
                </a:cubicBezTo>
                <a:cubicBezTo>
                  <a:pt x="57" y="214"/>
                  <a:pt x="67" y="205"/>
                  <a:pt x="67" y="193"/>
                </a:cubicBezTo>
                <a:cubicBezTo>
                  <a:pt x="67" y="193"/>
                  <a:pt x="68" y="193"/>
                  <a:pt x="68" y="193"/>
                </a:cubicBezTo>
                <a:cubicBezTo>
                  <a:pt x="68" y="205"/>
                  <a:pt x="78" y="214"/>
                  <a:pt x="90" y="214"/>
                </a:cubicBezTo>
                <a:cubicBezTo>
                  <a:pt x="101" y="214"/>
                  <a:pt x="111" y="206"/>
                  <a:pt x="112" y="195"/>
                </a:cubicBezTo>
                <a:cubicBezTo>
                  <a:pt x="115" y="196"/>
                  <a:pt x="117" y="196"/>
                  <a:pt x="120" y="196"/>
                </a:cubicBezTo>
                <a:cubicBezTo>
                  <a:pt x="146" y="196"/>
                  <a:pt x="168" y="174"/>
                  <a:pt x="168" y="148"/>
                </a:cubicBezTo>
                <a:cubicBezTo>
                  <a:pt x="168" y="143"/>
                  <a:pt x="167" y="138"/>
                  <a:pt x="166" y="133"/>
                </a:cubicBezTo>
                <a:cubicBezTo>
                  <a:pt x="180" y="127"/>
                  <a:pt x="190" y="113"/>
                  <a:pt x="190" y="97"/>
                </a:cubicBezTo>
                <a:cubicBezTo>
                  <a:pt x="190" y="75"/>
                  <a:pt x="172" y="58"/>
                  <a:pt x="151" y="58"/>
                </a:cubicBezTo>
                <a:close/>
              </a:path>
            </a:pathLst>
          </a:custGeom>
          <a:solidFill>
            <a:srgbClr val="009a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85"/>
          <p:cNvSpPr/>
          <p:nvPr/>
        </p:nvSpPr>
        <p:spPr>
          <a:xfrm>
            <a:off x="11004480" y="3578400"/>
            <a:ext cx="523800" cy="1023840"/>
          </a:xfrm>
          <a:custGeom>
            <a:avLst/>
            <a:gdLst>
              <a:gd name="textAreaLeft" fmla="*/ 0 w 523800"/>
              <a:gd name="textAreaRight" fmla="*/ 524160 w 52380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91" h="177">
                <a:moveTo>
                  <a:pt x="52" y="23"/>
                </a:moveTo>
                <a:cubicBezTo>
                  <a:pt x="41" y="23"/>
                  <a:pt x="31" y="27"/>
                  <a:pt x="24" y="34"/>
                </a:cubicBezTo>
                <a:cubicBezTo>
                  <a:pt x="23" y="33"/>
                  <a:pt x="21" y="32"/>
                  <a:pt x="19" y="31"/>
                </a:cubicBezTo>
                <a:cubicBezTo>
                  <a:pt x="19" y="30"/>
                  <a:pt x="20" y="29"/>
                  <a:pt x="20" y="27"/>
                </a:cubicBezTo>
                <a:cubicBezTo>
                  <a:pt x="20" y="14"/>
                  <a:pt x="11" y="4"/>
                  <a:pt x="0" y="0"/>
                </a:cubicBezTo>
                <a:cubicBezTo>
                  <a:pt x="0" y="177"/>
                  <a:pt x="0" y="177"/>
                  <a:pt x="0" y="177"/>
                </a:cubicBezTo>
                <a:cubicBezTo>
                  <a:pt x="7" y="174"/>
                  <a:pt x="12" y="168"/>
                  <a:pt x="13" y="160"/>
                </a:cubicBezTo>
                <a:cubicBezTo>
                  <a:pt x="16" y="161"/>
                  <a:pt x="18" y="161"/>
                  <a:pt x="21" y="161"/>
                </a:cubicBezTo>
                <a:cubicBezTo>
                  <a:pt x="47" y="161"/>
                  <a:pt x="69" y="139"/>
                  <a:pt x="69" y="113"/>
                </a:cubicBezTo>
                <a:cubicBezTo>
                  <a:pt x="69" y="108"/>
                  <a:pt x="68" y="103"/>
                  <a:pt x="67" y="98"/>
                </a:cubicBezTo>
                <a:cubicBezTo>
                  <a:pt x="81" y="92"/>
                  <a:pt x="91" y="78"/>
                  <a:pt x="91" y="62"/>
                </a:cubicBezTo>
                <a:cubicBezTo>
                  <a:pt x="91" y="40"/>
                  <a:pt x="73" y="23"/>
                  <a:pt x="52" y="23"/>
                </a:cubicBezTo>
                <a:close/>
              </a:path>
            </a:pathLst>
          </a:cu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86"/>
          <p:cNvSpPr/>
          <p:nvPr/>
        </p:nvSpPr>
        <p:spPr>
          <a:xfrm>
            <a:off x="11079000" y="4202280"/>
            <a:ext cx="530280" cy="561960"/>
          </a:xfrm>
          <a:custGeom>
            <a:avLst/>
            <a:gdLst>
              <a:gd name="textAreaLeft" fmla="*/ 0 w 530280"/>
              <a:gd name="textAreaRight" fmla="*/ 530640 w 53028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92" h="97">
                <a:moveTo>
                  <a:pt x="63" y="12"/>
                </a:moveTo>
                <a:cubicBezTo>
                  <a:pt x="57" y="12"/>
                  <a:pt x="51" y="13"/>
                  <a:pt x="47" y="16"/>
                </a:cubicBezTo>
                <a:cubicBezTo>
                  <a:pt x="44" y="7"/>
                  <a:pt x="35" y="0"/>
                  <a:pt x="24" y="0"/>
                </a:cubicBezTo>
                <a:cubicBezTo>
                  <a:pt x="10" y="0"/>
                  <a:pt x="0" y="11"/>
                  <a:pt x="0" y="24"/>
                </a:cubicBezTo>
                <a:cubicBezTo>
                  <a:pt x="0" y="35"/>
                  <a:pt x="7" y="45"/>
                  <a:pt x="17" y="47"/>
                </a:cubicBezTo>
                <a:cubicBezTo>
                  <a:pt x="11" y="53"/>
                  <a:pt x="7" y="60"/>
                  <a:pt x="7" y="69"/>
                </a:cubicBezTo>
                <a:cubicBezTo>
                  <a:pt x="7" y="85"/>
                  <a:pt x="19" y="97"/>
                  <a:pt x="35" y="97"/>
                </a:cubicBezTo>
                <a:cubicBezTo>
                  <a:pt x="49" y="97"/>
                  <a:pt x="62" y="86"/>
                  <a:pt x="62" y="71"/>
                </a:cubicBezTo>
                <a:cubicBezTo>
                  <a:pt x="62" y="71"/>
                  <a:pt x="63" y="71"/>
                  <a:pt x="63" y="71"/>
                </a:cubicBezTo>
                <a:cubicBezTo>
                  <a:pt x="79" y="71"/>
                  <a:pt x="92" y="58"/>
                  <a:pt x="92" y="41"/>
                </a:cubicBezTo>
                <a:cubicBezTo>
                  <a:pt x="92" y="25"/>
                  <a:pt x="79" y="12"/>
                  <a:pt x="63" y="12"/>
                </a:cubicBezTo>
                <a:close/>
              </a:path>
            </a:pathLst>
          </a:cu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87"/>
          <p:cNvSpPr/>
          <p:nvPr/>
        </p:nvSpPr>
        <p:spPr>
          <a:xfrm>
            <a:off x="11661840" y="4243320"/>
            <a:ext cx="155520" cy="150840"/>
          </a:xfrm>
          <a:prstGeom prst="ellipse">
            <a:avLst/>
          </a:pr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88"/>
          <p:cNvSpPr/>
          <p:nvPr/>
        </p:nvSpPr>
        <p:spPr>
          <a:xfrm>
            <a:off x="10385280" y="4849920"/>
            <a:ext cx="174600" cy="1792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89"/>
          <p:cNvSpPr/>
          <p:nvPr/>
        </p:nvSpPr>
        <p:spPr>
          <a:xfrm>
            <a:off x="9941040" y="3594240"/>
            <a:ext cx="144360" cy="1396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90"/>
          <p:cNvSpPr/>
          <p:nvPr/>
        </p:nvSpPr>
        <p:spPr>
          <a:xfrm>
            <a:off x="10652040" y="3733920"/>
            <a:ext cx="168480" cy="16812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91"/>
          <p:cNvSpPr/>
          <p:nvPr/>
        </p:nvSpPr>
        <p:spPr>
          <a:xfrm>
            <a:off x="10559880" y="3987720"/>
            <a:ext cx="392400" cy="38916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92"/>
          <p:cNvSpPr/>
          <p:nvPr/>
        </p:nvSpPr>
        <p:spPr>
          <a:xfrm>
            <a:off x="9109080" y="5648400"/>
            <a:ext cx="98280" cy="301680"/>
          </a:xfrm>
          <a:custGeom>
            <a:avLst/>
            <a:gdLst>
              <a:gd name="textAreaLeft" fmla="*/ 0 w 98280"/>
              <a:gd name="textAreaRight" fmla="*/ 98640 w 9828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67" h="205">
                <a:moveTo>
                  <a:pt x="67" y="205"/>
                </a:moveTo>
                <a:lnTo>
                  <a:pt x="0" y="153"/>
                </a:lnTo>
                <a:lnTo>
                  <a:pt x="0" y="51"/>
                </a:lnTo>
                <a:lnTo>
                  <a:pt x="67" y="0"/>
                </a:lnTo>
                <a:lnTo>
                  <a:pt x="67" y="205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93"/>
          <p:cNvSpPr/>
          <p:nvPr/>
        </p:nvSpPr>
        <p:spPr>
          <a:xfrm>
            <a:off x="9202680" y="5208480"/>
            <a:ext cx="345960" cy="1638360"/>
          </a:xfrm>
          <a:custGeom>
            <a:avLst/>
            <a:gdLst>
              <a:gd name="textAreaLeft" fmla="*/ 0 w 345960"/>
              <a:gd name="textAreaRight" fmla="*/ 346320 w 34596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236" h="1115">
                <a:moveTo>
                  <a:pt x="236" y="863"/>
                </a:moveTo>
                <a:lnTo>
                  <a:pt x="232" y="0"/>
                </a:lnTo>
                <a:lnTo>
                  <a:pt x="0" y="0"/>
                </a:lnTo>
                <a:lnTo>
                  <a:pt x="0" y="631"/>
                </a:lnTo>
                <a:lnTo>
                  <a:pt x="94" y="709"/>
                </a:lnTo>
                <a:lnTo>
                  <a:pt x="94" y="1115"/>
                </a:lnTo>
                <a:lnTo>
                  <a:pt x="236" y="1115"/>
                </a:lnTo>
                <a:lnTo>
                  <a:pt x="236" y="863"/>
                </a:lnTo>
                <a:lnTo>
                  <a:pt x="236" y="863"/>
                </a:lnTo>
                <a:close/>
              </a:path>
            </a:pathLst>
          </a:custGeom>
          <a:solidFill>
            <a:srgbClr val="9b7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94"/>
          <p:cNvSpPr/>
          <p:nvPr/>
        </p:nvSpPr>
        <p:spPr>
          <a:xfrm>
            <a:off x="9543960" y="5208480"/>
            <a:ext cx="352440" cy="1211400"/>
          </a:xfrm>
          <a:custGeom>
            <a:avLst/>
            <a:gdLst/>
            <a:ahLst/>
            <a:rect l="l" t="t" r="r" b="b"/>
            <a:pathLst>
              <a:path w="240" h="824">
                <a:moveTo>
                  <a:pt x="0" y="824"/>
                </a:moveTo>
                <a:lnTo>
                  <a:pt x="236" y="583"/>
                </a:lnTo>
                <a:lnTo>
                  <a:pt x="240" y="0"/>
                </a:lnTo>
                <a:lnTo>
                  <a:pt x="4" y="0"/>
                </a:lnTo>
                <a:lnTo>
                  <a:pt x="0" y="824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95"/>
          <p:cNvSpPr/>
          <p:nvPr/>
        </p:nvSpPr>
        <p:spPr>
          <a:xfrm>
            <a:off x="9543960" y="5208480"/>
            <a:ext cx="212760" cy="933480"/>
          </a:xfrm>
          <a:custGeom>
            <a:avLst/>
            <a:gdLst>
              <a:gd name="textAreaLeft" fmla="*/ 0 w 212760"/>
              <a:gd name="textAreaRight" fmla="*/ 213120 w 21276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145" h="635">
                <a:moveTo>
                  <a:pt x="145" y="509"/>
                </a:moveTo>
                <a:lnTo>
                  <a:pt x="145" y="0"/>
                </a:lnTo>
                <a:lnTo>
                  <a:pt x="0" y="0"/>
                </a:lnTo>
                <a:lnTo>
                  <a:pt x="4" y="635"/>
                </a:lnTo>
                <a:lnTo>
                  <a:pt x="145" y="509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96"/>
          <p:cNvSpPr/>
          <p:nvPr/>
        </p:nvSpPr>
        <p:spPr>
          <a:xfrm>
            <a:off x="9369360" y="5208480"/>
            <a:ext cx="179280" cy="868320"/>
          </a:xfrm>
          <a:custGeom>
            <a:avLst/>
            <a:gdLst>
              <a:gd name="textAreaLeft" fmla="*/ 0 w 179280"/>
              <a:gd name="textAreaRight" fmla="*/ 179640 w 17928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22" h="591">
                <a:moveTo>
                  <a:pt x="122" y="591"/>
                </a:moveTo>
                <a:lnTo>
                  <a:pt x="4" y="477"/>
                </a:lnTo>
                <a:lnTo>
                  <a:pt x="0" y="0"/>
                </a:lnTo>
                <a:lnTo>
                  <a:pt x="118" y="0"/>
                </a:lnTo>
                <a:lnTo>
                  <a:pt x="122" y="59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97"/>
          <p:cNvSpPr/>
          <p:nvPr/>
        </p:nvSpPr>
        <p:spPr>
          <a:xfrm>
            <a:off x="9294840" y="5208480"/>
            <a:ext cx="253800" cy="642960"/>
          </a:xfrm>
          <a:custGeom>
            <a:avLst/>
            <a:gdLst>
              <a:gd name="textAreaLeft" fmla="*/ 0 w 253800"/>
              <a:gd name="textAreaRight" fmla="*/ 254160 w 2538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73" h="438">
                <a:moveTo>
                  <a:pt x="169" y="438"/>
                </a:moveTo>
                <a:lnTo>
                  <a:pt x="0" y="280"/>
                </a:lnTo>
                <a:lnTo>
                  <a:pt x="0" y="0"/>
                </a:lnTo>
                <a:lnTo>
                  <a:pt x="173" y="0"/>
                </a:lnTo>
                <a:lnTo>
                  <a:pt x="169" y="438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98"/>
          <p:cNvSpPr/>
          <p:nvPr/>
        </p:nvSpPr>
        <p:spPr>
          <a:xfrm>
            <a:off x="9548640" y="5602320"/>
            <a:ext cx="87480" cy="369720"/>
          </a:xfrm>
          <a:custGeom>
            <a:avLst/>
            <a:gdLst>
              <a:gd name="textAreaLeft" fmla="*/ 0 w 87480"/>
              <a:gd name="textAreaRight" fmla="*/ 87480 w 8748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59" h="252">
                <a:moveTo>
                  <a:pt x="0" y="252"/>
                </a:moveTo>
                <a:lnTo>
                  <a:pt x="59" y="201"/>
                </a:lnTo>
                <a:lnTo>
                  <a:pt x="59" y="55"/>
                </a:lnTo>
                <a:lnTo>
                  <a:pt x="0" y="0"/>
                </a:lnTo>
                <a:lnTo>
                  <a:pt x="0" y="252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99"/>
          <p:cNvSpPr/>
          <p:nvPr/>
        </p:nvSpPr>
        <p:spPr>
          <a:xfrm>
            <a:off x="10051920" y="5551560"/>
            <a:ext cx="200160" cy="2016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100"/>
          <p:cNvSpPr/>
          <p:nvPr/>
        </p:nvSpPr>
        <p:spPr>
          <a:xfrm>
            <a:off x="8556480" y="4429080"/>
            <a:ext cx="230400" cy="2304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104"/>
          <p:cNvSpPr/>
          <p:nvPr/>
        </p:nvSpPr>
        <p:spPr>
          <a:xfrm>
            <a:off x="9097920" y="428940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105"/>
          <p:cNvSpPr/>
          <p:nvPr/>
        </p:nvSpPr>
        <p:spPr>
          <a:xfrm>
            <a:off x="8169120" y="483228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106"/>
          <p:cNvSpPr/>
          <p:nvPr/>
        </p:nvSpPr>
        <p:spPr>
          <a:xfrm>
            <a:off x="7839000" y="5291280"/>
            <a:ext cx="209520" cy="102960"/>
          </a:xfrm>
          <a:custGeom>
            <a:avLst/>
            <a:gdLst>
              <a:gd name="textAreaLeft" fmla="*/ 0 w 209520"/>
              <a:gd name="textAreaRight" fmla="*/ 209880 w 209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107"/>
          <p:cNvSpPr/>
          <p:nvPr/>
        </p:nvSpPr>
        <p:spPr>
          <a:xfrm>
            <a:off x="8400960" y="5527800"/>
            <a:ext cx="182520" cy="91800"/>
          </a:xfrm>
          <a:custGeom>
            <a:avLst/>
            <a:gdLst>
              <a:gd name="textAreaLeft" fmla="*/ 0 w 182520"/>
              <a:gd name="textAreaRight" fmla="*/ 182880 w 1825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4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108"/>
          <p:cNvSpPr/>
          <p:nvPr/>
        </p:nvSpPr>
        <p:spPr>
          <a:xfrm>
            <a:off x="8694720" y="528012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09"/>
          <p:cNvSpPr/>
          <p:nvPr/>
        </p:nvSpPr>
        <p:spPr>
          <a:xfrm>
            <a:off x="8694720" y="568944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110"/>
          <p:cNvSpPr/>
          <p:nvPr/>
        </p:nvSpPr>
        <p:spPr>
          <a:xfrm>
            <a:off x="8677440" y="3733920"/>
            <a:ext cx="196560" cy="98280"/>
          </a:xfrm>
          <a:custGeom>
            <a:avLst/>
            <a:gdLst>
              <a:gd name="textAreaLeft" fmla="*/ 0 w 196560"/>
              <a:gd name="textAreaRight" fmla="*/ 196920 w 1965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34" h="17">
                <a:moveTo>
                  <a:pt x="17" y="0"/>
                </a:moveTo>
                <a:cubicBezTo>
                  <a:pt x="7" y="0"/>
                  <a:pt x="0" y="8"/>
                  <a:pt x="0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8"/>
                  <a:pt x="26" y="0"/>
                  <a:pt x="17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11"/>
          <p:cNvSpPr/>
          <p:nvPr/>
        </p:nvSpPr>
        <p:spPr>
          <a:xfrm>
            <a:off x="7943760" y="5965920"/>
            <a:ext cx="69840" cy="163440"/>
          </a:xfrm>
          <a:custGeom>
            <a:avLst/>
            <a:gdLst>
              <a:gd name="textAreaLeft" fmla="*/ 0 w 69840"/>
              <a:gd name="textAreaRight" fmla="*/ 70200 w 698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12"/>
          <p:cNvSpPr/>
          <p:nvPr/>
        </p:nvSpPr>
        <p:spPr>
          <a:xfrm>
            <a:off x="7978680" y="6094440"/>
            <a:ext cx="39960" cy="6840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113"/>
          <p:cNvSpPr/>
          <p:nvPr/>
        </p:nvSpPr>
        <p:spPr>
          <a:xfrm>
            <a:off x="7378560" y="6002280"/>
            <a:ext cx="160560" cy="98640"/>
          </a:xfrm>
          <a:custGeom>
            <a:avLst/>
            <a:gdLst>
              <a:gd name="textAreaLeft" fmla="*/ 0 w 160560"/>
              <a:gd name="textAreaRight" fmla="*/ 160920 w 1605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8" h="17">
                <a:moveTo>
                  <a:pt x="4" y="13"/>
                </a:moveTo>
                <a:cubicBezTo>
                  <a:pt x="3" y="13"/>
                  <a:pt x="2" y="13"/>
                  <a:pt x="0" y="13"/>
                </a:cubicBezTo>
                <a:cubicBezTo>
                  <a:pt x="3" y="15"/>
                  <a:pt x="7" y="17"/>
                  <a:pt x="11" y="17"/>
                </a:cubicBezTo>
                <a:cubicBezTo>
                  <a:pt x="20" y="17"/>
                  <a:pt x="28" y="9"/>
                  <a:pt x="28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14"/>
          <p:cNvSpPr/>
          <p:nvPr/>
        </p:nvSpPr>
        <p:spPr>
          <a:xfrm>
            <a:off x="7794720" y="6041880"/>
            <a:ext cx="79200" cy="2192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15"/>
          <p:cNvSpPr/>
          <p:nvPr/>
        </p:nvSpPr>
        <p:spPr>
          <a:xfrm>
            <a:off x="7567560" y="5989680"/>
            <a:ext cx="81000" cy="2714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116"/>
          <p:cNvSpPr/>
          <p:nvPr/>
        </p:nvSpPr>
        <p:spPr>
          <a:xfrm>
            <a:off x="7632720" y="5891040"/>
            <a:ext cx="322200" cy="370080"/>
          </a:xfrm>
          <a:custGeom>
            <a:avLst/>
            <a:gdLst>
              <a:gd name="textAreaLeft" fmla="*/ 0 w 322200"/>
              <a:gd name="textAreaRight" fmla="*/ 322560 w 32220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6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2" y="34"/>
                </a:cubicBezTo>
                <a:cubicBezTo>
                  <a:pt x="35" y="34"/>
                  <a:pt x="35" y="34"/>
                  <a:pt x="35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6" y="34"/>
                  <a:pt x="56" y="34"/>
                  <a:pt x="56" y="34"/>
                </a:cubicBezTo>
                <a:cubicBezTo>
                  <a:pt x="56" y="26"/>
                  <a:pt x="56" y="26"/>
                  <a:pt x="56" y="26"/>
                </a:cubicBezTo>
                <a:cubicBezTo>
                  <a:pt x="56" y="17"/>
                  <a:pt x="56" y="17"/>
                  <a:pt x="56" y="17"/>
                </a:cubicBezTo>
                <a:cubicBezTo>
                  <a:pt x="56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117"/>
          <p:cNvSpPr/>
          <p:nvPr/>
        </p:nvSpPr>
        <p:spPr>
          <a:xfrm>
            <a:off x="7632720" y="6105600"/>
            <a:ext cx="74520" cy="87120"/>
          </a:xfrm>
          <a:custGeom>
            <a:avLst/>
            <a:gdLst>
              <a:gd name="textAreaLeft" fmla="*/ 0 w 74520"/>
              <a:gd name="textAreaRight" fmla="*/ 74880 w 7452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3" h="15">
                <a:moveTo>
                  <a:pt x="13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3" y="15"/>
                  <a:pt x="13" y="15"/>
                  <a:pt x="13" y="15"/>
                </a:cubicBezTo>
                <a:lnTo>
                  <a:pt x="13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118"/>
          <p:cNvSpPr/>
          <p:nvPr/>
        </p:nvSpPr>
        <p:spPr>
          <a:xfrm>
            <a:off x="763272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119"/>
          <p:cNvSpPr/>
          <p:nvPr/>
        </p:nvSpPr>
        <p:spPr>
          <a:xfrm>
            <a:off x="7453440" y="5694480"/>
            <a:ext cx="137880" cy="284040"/>
          </a:xfrm>
          <a:custGeom>
            <a:avLst/>
            <a:gdLst>
              <a:gd name="textAreaLeft" fmla="*/ 0 w 137880"/>
              <a:gd name="textAreaRight" fmla="*/ 138240 w 13788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120"/>
          <p:cNvSpPr/>
          <p:nvPr/>
        </p:nvSpPr>
        <p:spPr>
          <a:xfrm>
            <a:off x="7499520" y="5816520"/>
            <a:ext cx="166680" cy="365040"/>
          </a:xfrm>
          <a:custGeom>
            <a:avLst/>
            <a:gdLst>
              <a:gd name="textAreaLeft" fmla="*/ 0 w 166680"/>
              <a:gd name="textAreaRight" fmla="*/ 167040 w 16668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9" h="63">
                <a:moveTo>
                  <a:pt x="29" y="23"/>
                </a:moveTo>
                <a:cubicBezTo>
                  <a:pt x="29" y="6"/>
                  <a:pt x="29" y="6"/>
                  <a:pt x="29" y="6"/>
                </a:cubicBezTo>
                <a:cubicBezTo>
                  <a:pt x="29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3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4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5" y="32"/>
                  <a:pt x="29" y="28"/>
                  <a:pt x="29" y="23"/>
                </a:cubicBez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121"/>
          <p:cNvSpPr/>
          <p:nvPr/>
        </p:nvSpPr>
        <p:spPr>
          <a:xfrm>
            <a:off x="7615080" y="5694480"/>
            <a:ext cx="138240" cy="284040"/>
          </a:xfrm>
          <a:custGeom>
            <a:avLst/>
            <a:gdLst>
              <a:gd name="textAreaLeft" fmla="*/ 0 w 138240"/>
              <a:gd name="textAreaRight" fmla="*/ 138600 w 1382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val 122"/>
          <p:cNvSpPr/>
          <p:nvPr/>
        </p:nvSpPr>
        <p:spPr>
          <a:xfrm>
            <a:off x="7558200" y="5897520"/>
            <a:ext cx="2700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123"/>
          <p:cNvSpPr/>
          <p:nvPr/>
        </p:nvSpPr>
        <p:spPr>
          <a:xfrm>
            <a:off x="7453440" y="6002280"/>
            <a:ext cx="155520" cy="98640"/>
          </a:xfrm>
          <a:custGeom>
            <a:avLst/>
            <a:gdLst>
              <a:gd name="textAreaLeft" fmla="*/ 0 w 155520"/>
              <a:gd name="textAreaRight" fmla="*/ 155880 w 1555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3" y="13"/>
                </a:moveTo>
                <a:cubicBezTo>
                  <a:pt x="2" y="13"/>
                  <a:pt x="1" y="13"/>
                  <a:pt x="0" y="13"/>
                </a:cubicBezTo>
                <a:cubicBezTo>
                  <a:pt x="2" y="15"/>
                  <a:pt x="6" y="17"/>
                  <a:pt x="10" y="17"/>
                </a:cubicBezTo>
                <a:cubicBezTo>
                  <a:pt x="19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7"/>
                  <a:pt x="11" y="13"/>
                  <a:pt x="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24"/>
          <p:cNvSpPr/>
          <p:nvPr/>
        </p:nvSpPr>
        <p:spPr>
          <a:xfrm>
            <a:off x="8699400" y="6094440"/>
            <a:ext cx="39960" cy="6840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125"/>
          <p:cNvSpPr/>
          <p:nvPr/>
        </p:nvSpPr>
        <p:spPr>
          <a:xfrm>
            <a:off x="8658360" y="5965920"/>
            <a:ext cx="71280" cy="163440"/>
          </a:xfrm>
          <a:custGeom>
            <a:avLst/>
            <a:gdLst>
              <a:gd name="textAreaLeft" fmla="*/ 0 w 71280"/>
              <a:gd name="textAreaRight" fmla="*/ 71640 w 712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26"/>
          <p:cNvSpPr/>
          <p:nvPr/>
        </p:nvSpPr>
        <p:spPr>
          <a:xfrm>
            <a:off x="809928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27"/>
          <p:cNvSpPr/>
          <p:nvPr/>
        </p:nvSpPr>
        <p:spPr>
          <a:xfrm>
            <a:off x="8515440" y="6041880"/>
            <a:ext cx="81000" cy="2192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28"/>
          <p:cNvSpPr/>
          <p:nvPr/>
        </p:nvSpPr>
        <p:spPr>
          <a:xfrm>
            <a:off x="8283600" y="5989680"/>
            <a:ext cx="87120" cy="2714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129"/>
          <p:cNvSpPr/>
          <p:nvPr/>
        </p:nvSpPr>
        <p:spPr>
          <a:xfrm>
            <a:off x="8353440" y="5891040"/>
            <a:ext cx="317520" cy="370080"/>
          </a:xfrm>
          <a:custGeom>
            <a:avLst/>
            <a:gdLst>
              <a:gd name="textAreaLeft" fmla="*/ 0 w 317520"/>
              <a:gd name="textAreaRight" fmla="*/ 317880 w 31752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5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1" y="34"/>
                </a:cubicBezTo>
                <a:cubicBezTo>
                  <a:pt x="34" y="34"/>
                  <a:pt x="34" y="34"/>
                  <a:pt x="34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5" y="64"/>
                  <a:pt x="55" y="64"/>
                  <a:pt x="55" y="64"/>
                </a:cubicBezTo>
                <a:cubicBezTo>
                  <a:pt x="55" y="34"/>
                  <a:pt x="55" y="34"/>
                  <a:pt x="55" y="34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17"/>
                  <a:pt x="55" y="17"/>
                  <a:pt x="55" y="17"/>
                </a:cubicBezTo>
                <a:cubicBezTo>
                  <a:pt x="55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130"/>
          <p:cNvSpPr/>
          <p:nvPr/>
        </p:nvSpPr>
        <p:spPr>
          <a:xfrm>
            <a:off x="8353440" y="6105600"/>
            <a:ext cx="69840" cy="87120"/>
          </a:xfrm>
          <a:custGeom>
            <a:avLst/>
            <a:gdLst>
              <a:gd name="textAreaLeft" fmla="*/ 0 w 69840"/>
              <a:gd name="textAreaRight" fmla="*/ 70200 w 6984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2" h="15">
                <a:moveTo>
                  <a:pt x="1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2" y="15"/>
                  <a:pt x="12" y="15"/>
                  <a:pt x="12" y="15"/>
                </a:cubicBezTo>
                <a:lnTo>
                  <a:pt x="12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131"/>
          <p:cNvSpPr/>
          <p:nvPr/>
        </p:nvSpPr>
        <p:spPr>
          <a:xfrm>
            <a:off x="835344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132"/>
          <p:cNvSpPr/>
          <p:nvPr/>
        </p:nvSpPr>
        <p:spPr>
          <a:xfrm>
            <a:off x="8169120" y="5694480"/>
            <a:ext cx="144720" cy="284040"/>
          </a:xfrm>
          <a:custGeom>
            <a:avLst/>
            <a:gdLst>
              <a:gd name="textAreaLeft" fmla="*/ 0 w 144720"/>
              <a:gd name="textAreaRight" fmla="*/ 145080 w 1447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133"/>
          <p:cNvSpPr/>
          <p:nvPr/>
        </p:nvSpPr>
        <p:spPr>
          <a:xfrm>
            <a:off x="8215200" y="5816520"/>
            <a:ext cx="173160" cy="365040"/>
          </a:xfrm>
          <a:custGeom>
            <a:avLst/>
            <a:gdLst>
              <a:gd name="textAreaLeft" fmla="*/ 0 w 173160"/>
              <a:gd name="textAreaRight" fmla="*/ 173520 w 1731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30" h="63">
                <a:moveTo>
                  <a:pt x="30" y="23"/>
                </a:moveTo>
                <a:cubicBezTo>
                  <a:pt x="30" y="6"/>
                  <a:pt x="30" y="6"/>
                  <a:pt x="30" y="6"/>
                </a:cubicBezTo>
                <a:cubicBezTo>
                  <a:pt x="30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4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5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6" y="32"/>
                  <a:pt x="30" y="28"/>
                  <a:pt x="30" y="23"/>
                </a:cubicBez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134"/>
          <p:cNvSpPr/>
          <p:nvPr/>
        </p:nvSpPr>
        <p:spPr>
          <a:xfrm>
            <a:off x="8329680" y="5694480"/>
            <a:ext cx="146160" cy="284040"/>
          </a:xfrm>
          <a:custGeom>
            <a:avLst/>
            <a:gdLst>
              <a:gd name="textAreaLeft" fmla="*/ 0 w 146160"/>
              <a:gd name="textAreaRight" fmla="*/ 146520 w 146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135"/>
          <p:cNvSpPr/>
          <p:nvPr/>
        </p:nvSpPr>
        <p:spPr>
          <a:xfrm>
            <a:off x="8278920" y="5897520"/>
            <a:ext cx="2376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136"/>
          <p:cNvSpPr/>
          <p:nvPr/>
        </p:nvSpPr>
        <p:spPr>
          <a:xfrm>
            <a:off x="816912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141"/>
          <p:cNvSpPr/>
          <p:nvPr/>
        </p:nvSpPr>
        <p:spPr>
          <a:xfrm>
            <a:off x="7626240" y="3219480"/>
            <a:ext cx="571680" cy="317520"/>
          </a:xfrm>
          <a:custGeom>
            <a:avLst/>
            <a:gdLst>
              <a:gd name="textAreaLeft" fmla="*/ 0 w 571680"/>
              <a:gd name="textAreaRight" fmla="*/ 572040 w 57168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99" h="55">
                <a:moveTo>
                  <a:pt x="82" y="21"/>
                </a:moveTo>
                <a:cubicBezTo>
                  <a:pt x="80" y="21"/>
                  <a:pt x="78" y="21"/>
                  <a:pt x="77" y="22"/>
                </a:cubicBezTo>
                <a:cubicBezTo>
                  <a:pt x="74" y="9"/>
                  <a:pt x="63" y="0"/>
                  <a:pt x="49" y="0"/>
                </a:cubicBezTo>
                <a:cubicBezTo>
                  <a:pt x="36" y="0"/>
                  <a:pt x="25" y="9"/>
                  <a:pt x="22" y="21"/>
                </a:cubicBezTo>
                <a:cubicBezTo>
                  <a:pt x="21" y="21"/>
                  <a:pt x="19" y="21"/>
                  <a:pt x="18" y="21"/>
                </a:cubicBezTo>
                <a:cubicBezTo>
                  <a:pt x="8" y="21"/>
                  <a:pt x="0" y="29"/>
                  <a:pt x="0" y="38"/>
                </a:cubicBezTo>
                <a:cubicBezTo>
                  <a:pt x="0" y="48"/>
                  <a:pt x="8" y="55"/>
                  <a:pt x="18" y="55"/>
                </a:cubicBezTo>
                <a:cubicBezTo>
                  <a:pt x="23" y="55"/>
                  <a:pt x="76" y="55"/>
                  <a:pt x="82" y="55"/>
                </a:cubicBezTo>
                <a:cubicBezTo>
                  <a:pt x="92" y="55"/>
                  <a:pt x="99" y="48"/>
                  <a:pt x="99" y="38"/>
                </a:cubicBezTo>
                <a:cubicBezTo>
                  <a:pt x="99" y="29"/>
                  <a:pt x="92" y="21"/>
                  <a:pt x="8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142"/>
          <p:cNvSpPr/>
          <p:nvPr/>
        </p:nvSpPr>
        <p:spPr>
          <a:xfrm>
            <a:off x="9118440" y="2924280"/>
            <a:ext cx="374760" cy="207720"/>
          </a:xfrm>
          <a:custGeom>
            <a:avLst/>
            <a:gdLst>
              <a:gd name="textAreaLeft" fmla="*/ 0 w 374760"/>
              <a:gd name="textAreaRight" fmla="*/ 375120 w 37476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65" h="36">
                <a:moveTo>
                  <a:pt x="54" y="14"/>
                </a:moveTo>
                <a:cubicBezTo>
                  <a:pt x="53" y="14"/>
                  <a:pt x="52" y="14"/>
                  <a:pt x="51" y="14"/>
                </a:cubicBezTo>
                <a:cubicBezTo>
                  <a:pt x="49" y="6"/>
                  <a:pt x="41" y="0"/>
                  <a:pt x="33" y="0"/>
                </a:cubicBezTo>
                <a:cubicBezTo>
                  <a:pt x="24" y="0"/>
                  <a:pt x="16" y="6"/>
                  <a:pt x="15" y="14"/>
                </a:cubicBezTo>
                <a:cubicBezTo>
                  <a:pt x="14" y="14"/>
                  <a:pt x="13" y="14"/>
                  <a:pt x="12" y="14"/>
                </a:cubicBezTo>
                <a:cubicBezTo>
                  <a:pt x="5" y="14"/>
                  <a:pt x="0" y="19"/>
                  <a:pt x="0" y="25"/>
                </a:cubicBezTo>
                <a:cubicBezTo>
                  <a:pt x="0" y="31"/>
                  <a:pt x="5" y="36"/>
                  <a:pt x="12" y="36"/>
                </a:cubicBezTo>
                <a:cubicBezTo>
                  <a:pt x="15" y="36"/>
                  <a:pt x="50" y="36"/>
                  <a:pt x="54" y="36"/>
                </a:cubicBezTo>
                <a:cubicBezTo>
                  <a:pt x="60" y="36"/>
                  <a:pt x="65" y="31"/>
                  <a:pt x="65" y="25"/>
                </a:cubicBezTo>
                <a:cubicBezTo>
                  <a:pt x="65" y="19"/>
                  <a:pt x="60" y="14"/>
                  <a:pt x="54" y="14"/>
                </a:cubicBezTo>
                <a:close/>
              </a:path>
            </a:pathLst>
          </a:custGeom>
          <a:solidFill>
            <a:srgbClr val="29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187"/>
          <p:cNvSpPr/>
          <p:nvPr/>
        </p:nvSpPr>
        <p:spPr>
          <a:xfrm>
            <a:off x="9774360" y="3033720"/>
            <a:ext cx="565200" cy="324000"/>
          </a:xfrm>
          <a:custGeom>
            <a:avLst/>
            <a:gdLst>
              <a:gd name="textAreaLeft" fmla="*/ 0 w 565200"/>
              <a:gd name="textAreaRight" fmla="*/ 565560 w 56520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98" h="56">
                <a:moveTo>
                  <a:pt x="81" y="21"/>
                </a:moveTo>
                <a:cubicBezTo>
                  <a:pt x="79" y="21"/>
                  <a:pt x="78" y="21"/>
                  <a:pt x="76" y="22"/>
                </a:cubicBezTo>
                <a:cubicBezTo>
                  <a:pt x="73" y="9"/>
                  <a:pt x="62" y="0"/>
                  <a:pt x="49" y="0"/>
                </a:cubicBezTo>
                <a:cubicBezTo>
                  <a:pt x="35" y="0"/>
                  <a:pt x="24" y="9"/>
                  <a:pt x="21" y="22"/>
                </a:cubicBezTo>
                <a:cubicBezTo>
                  <a:pt x="20" y="21"/>
                  <a:pt x="18" y="21"/>
                  <a:pt x="17" y="21"/>
                </a:cubicBezTo>
                <a:cubicBezTo>
                  <a:pt x="7" y="21"/>
                  <a:pt x="0" y="29"/>
                  <a:pt x="0" y="38"/>
                </a:cubicBezTo>
                <a:cubicBezTo>
                  <a:pt x="0" y="48"/>
                  <a:pt x="7" y="56"/>
                  <a:pt x="17" y="56"/>
                </a:cubicBezTo>
                <a:cubicBezTo>
                  <a:pt x="22" y="56"/>
                  <a:pt x="75" y="56"/>
                  <a:pt x="81" y="56"/>
                </a:cubicBezTo>
                <a:cubicBezTo>
                  <a:pt x="91" y="56"/>
                  <a:pt x="98" y="48"/>
                  <a:pt x="98" y="38"/>
                </a:cubicBezTo>
                <a:cubicBezTo>
                  <a:pt x="98" y="29"/>
                  <a:pt x="91" y="21"/>
                  <a:pt x="81" y="21"/>
                </a:cubicBezTo>
                <a:close/>
              </a:path>
            </a:pathLst>
          </a:custGeom>
          <a:solidFill>
            <a:srgbClr val="64d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188"/>
          <p:cNvSpPr/>
          <p:nvPr/>
        </p:nvSpPr>
        <p:spPr>
          <a:xfrm>
            <a:off x="9034560" y="4444920"/>
            <a:ext cx="965160" cy="990720"/>
          </a:xfrm>
          <a:custGeom>
            <a:avLst/>
            <a:gdLst>
              <a:gd name="textAreaLeft" fmla="*/ 0 w 965160"/>
              <a:gd name="textAreaRight" fmla="*/ 965520 w 9651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167" h="171">
                <a:moveTo>
                  <a:pt x="156" y="106"/>
                </a:moveTo>
                <a:cubicBezTo>
                  <a:pt x="158" y="101"/>
                  <a:pt x="160" y="95"/>
                  <a:pt x="160" y="90"/>
                </a:cubicBezTo>
                <a:cubicBezTo>
                  <a:pt x="160" y="70"/>
                  <a:pt x="144" y="54"/>
                  <a:pt x="124" y="54"/>
                </a:cubicBezTo>
                <a:cubicBezTo>
                  <a:pt x="122" y="54"/>
                  <a:pt x="120" y="54"/>
                  <a:pt x="118" y="54"/>
                </a:cubicBezTo>
                <a:cubicBezTo>
                  <a:pt x="118" y="54"/>
                  <a:pt x="118" y="54"/>
                  <a:pt x="118" y="54"/>
                </a:cubicBezTo>
                <a:cubicBezTo>
                  <a:pt x="128" y="50"/>
                  <a:pt x="135" y="40"/>
                  <a:pt x="135" y="28"/>
                </a:cubicBezTo>
                <a:cubicBezTo>
                  <a:pt x="135" y="12"/>
                  <a:pt x="122" y="0"/>
                  <a:pt x="106" y="0"/>
                </a:cubicBezTo>
                <a:cubicBezTo>
                  <a:pt x="90" y="0"/>
                  <a:pt x="78" y="12"/>
                  <a:pt x="78" y="28"/>
                </a:cubicBezTo>
                <a:cubicBezTo>
                  <a:pt x="78" y="31"/>
                  <a:pt x="78" y="33"/>
                  <a:pt x="79" y="36"/>
                </a:cubicBezTo>
                <a:cubicBezTo>
                  <a:pt x="69" y="37"/>
                  <a:pt x="61" y="42"/>
                  <a:pt x="55" y="48"/>
                </a:cubicBezTo>
                <a:cubicBezTo>
                  <a:pt x="49" y="43"/>
                  <a:pt x="42" y="40"/>
                  <a:pt x="34" y="40"/>
                </a:cubicBezTo>
                <a:cubicBezTo>
                  <a:pt x="15" y="40"/>
                  <a:pt x="0" y="55"/>
                  <a:pt x="0" y="74"/>
                </a:cubicBezTo>
                <a:cubicBezTo>
                  <a:pt x="0" y="85"/>
                  <a:pt x="6" y="95"/>
                  <a:pt x="15" y="101"/>
                </a:cubicBezTo>
                <a:cubicBezTo>
                  <a:pt x="13" y="105"/>
                  <a:pt x="12" y="110"/>
                  <a:pt x="12" y="115"/>
                </a:cubicBezTo>
                <a:cubicBezTo>
                  <a:pt x="12" y="133"/>
                  <a:pt x="26" y="148"/>
                  <a:pt x="44" y="148"/>
                </a:cubicBezTo>
                <a:cubicBezTo>
                  <a:pt x="50" y="148"/>
                  <a:pt x="56" y="146"/>
                  <a:pt x="60" y="144"/>
                </a:cubicBezTo>
                <a:cubicBezTo>
                  <a:pt x="66" y="160"/>
                  <a:pt x="81" y="171"/>
                  <a:pt x="99" y="171"/>
                </a:cubicBezTo>
                <a:cubicBezTo>
                  <a:pt x="115" y="171"/>
                  <a:pt x="128" y="162"/>
                  <a:pt x="135" y="149"/>
                </a:cubicBezTo>
                <a:cubicBezTo>
                  <a:pt x="137" y="149"/>
                  <a:pt x="140" y="150"/>
                  <a:pt x="142" y="150"/>
                </a:cubicBezTo>
                <a:cubicBezTo>
                  <a:pt x="156" y="150"/>
                  <a:pt x="167" y="139"/>
                  <a:pt x="167" y="126"/>
                </a:cubicBezTo>
                <a:cubicBezTo>
                  <a:pt x="167" y="117"/>
                  <a:pt x="162" y="110"/>
                  <a:pt x="156" y="106"/>
                </a:cubicBezTo>
                <a:close/>
              </a:path>
            </a:pathLst>
          </a:custGeom>
          <a:solidFill>
            <a:srgbClr val="0dd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189"/>
          <p:cNvSpPr/>
          <p:nvPr/>
        </p:nvSpPr>
        <p:spPr>
          <a:xfrm>
            <a:off x="9548640" y="4444920"/>
            <a:ext cx="451080" cy="990720"/>
          </a:xfrm>
          <a:custGeom>
            <a:avLst/>
            <a:gdLst>
              <a:gd name="textAreaLeft" fmla="*/ 0 w 451080"/>
              <a:gd name="textAreaRight" fmla="*/ 451440 w 4510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78" h="171">
                <a:moveTo>
                  <a:pt x="67" y="106"/>
                </a:moveTo>
                <a:cubicBezTo>
                  <a:pt x="69" y="101"/>
                  <a:pt x="71" y="95"/>
                  <a:pt x="71" y="90"/>
                </a:cubicBezTo>
                <a:cubicBezTo>
                  <a:pt x="71" y="70"/>
                  <a:pt x="55" y="54"/>
                  <a:pt x="35" y="54"/>
                </a:cubicBezTo>
                <a:cubicBezTo>
                  <a:pt x="33" y="54"/>
                  <a:pt x="31" y="54"/>
                  <a:pt x="29" y="54"/>
                </a:cubicBezTo>
                <a:cubicBezTo>
                  <a:pt x="29" y="54"/>
                  <a:pt x="29" y="54"/>
                  <a:pt x="29" y="54"/>
                </a:cubicBezTo>
                <a:cubicBezTo>
                  <a:pt x="39" y="50"/>
                  <a:pt x="46" y="40"/>
                  <a:pt x="46" y="28"/>
                </a:cubicBezTo>
                <a:cubicBezTo>
                  <a:pt x="46" y="12"/>
                  <a:pt x="33" y="0"/>
                  <a:pt x="17" y="0"/>
                </a:cubicBezTo>
                <a:cubicBezTo>
                  <a:pt x="11" y="0"/>
                  <a:pt x="4" y="2"/>
                  <a:pt x="0" y="6"/>
                </a:cubicBezTo>
                <a:cubicBezTo>
                  <a:pt x="0" y="170"/>
                  <a:pt x="0" y="170"/>
                  <a:pt x="0" y="170"/>
                </a:cubicBezTo>
                <a:cubicBezTo>
                  <a:pt x="3" y="171"/>
                  <a:pt x="6" y="171"/>
                  <a:pt x="10" y="171"/>
                </a:cubicBezTo>
                <a:cubicBezTo>
                  <a:pt x="26" y="171"/>
                  <a:pt x="39" y="162"/>
                  <a:pt x="46" y="149"/>
                </a:cubicBezTo>
                <a:cubicBezTo>
                  <a:pt x="48" y="149"/>
                  <a:pt x="51" y="150"/>
                  <a:pt x="53" y="150"/>
                </a:cubicBezTo>
                <a:cubicBezTo>
                  <a:pt x="67" y="150"/>
                  <a:pt x="78" y="139"/>
                  <a:pt x="78" y="126"/>
                </a:cubicBezTo>
                <a:cubicBezTo>
                  <a:pt x="78" y="117"/>
                  <a:pt x="73" y="110"/>
                  <a:pt x="67" y="106"/>
                </a:cubicBezTo>
                <a:close/>
              </a:path>
            </a:pathLst>
          </a:custGeom>
          <a:solidFill>
            <a:srgbClr val="0d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190"/>
          <p:cNvSpPr/>
          <p:nvPr/>
        </p:nvSpPr>
        <p:spPr>
          <a:xfrm>
            <a:off x="9433080" y="5000760"/>
            <a:ext cx="225360" cy="23148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191"/>
          <p:cNvSpPr/>
          <p:nvPr/>
        </p:nvSpPr>
        <p:spPr>
          <a:xfrm>
            <a:off x="9485280" y="4788000"/>
            <a:ext cx="131760" cy="127080"/>
          </a:xfrm>
          <a:prstGeom prst="ellipse">
            <a:avLst/>
          </a:prstGeom>
          <a:solidFill>
            <a:srgbClr val="76f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73"/>
          <p:cNvSpPr/>
          <p:nvPr/>
        </p:nvSpPr>
        <p:spPr>
          <a:xfrm>
            <a:off x="3886200" y="6267600"/>
            <a:ext cx="8042400" cy="3999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393" h="69">
                <a:moveTo>
                  <a:pt x="1366" y="0"/>
                </a:moveTo>
                <a:cubicBezTo>
                  <a:pt x="28" y="0"/>
                  <a:pt x="28" y="0"/>
                  <a:pt x="28" y="0"/>
                </a:cubicBezTo>
                <a:cubicBezTo>
                  <a:pt x="13" y="0"/>
                  <a:pt x="0" y="12"/>
                  <a:pt x="0" y="27"/>
                </a:cubicBezTo>
                <a:cubicBezTo>
                  <a:pt x="0" y="69"/>
                  <a:pt x="0" y="69"/>
                  <a:pt x="0" y="69"/>
                </a:cubicBezTo>
                <a:cubicBezTo>
                  <a:pt x="1393" y="69"/>
                  <a:pt x="1393" y="69"/>
                  <a:pt x="1393" y="69"/>
                </a:cubicBezTo>
                <a:cubicBezTo>
                  <a:pt x="1393" y="27"/>
                  <a:pt x="1393" y="27"/>
                  <a:pt x="1393" y="27"/>
                </a:cubicBezTo>
                <a:cubicBezTo>
                  <a:pt x="1393" y="12"/>
                  <a:pt x="1381" y="0"/>
                  <a:pt x="1366" y="0"/>
                </a:cubicBezTo>
                <a:close/>
              </a:path>
            </a:pathLst>
          </a:custGeom>
          <a:solidFill>
            <a:srgbClr val="00c2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101"/>
          <p:cNvSpPr/>
          <p:nvPr/>
        </p:nvSpPr>
        <p:spPr>
          <a:xfrm>
            <a:off x="3886200" y="6383160"/>
            <a:ext cx="8042400" cy="3765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560"/>
              <a:gd name="textAreaBottom" fmla="*/ 376920 h 376560"/>
            </a:gdLst>
            <a:ahLst/>
            <a:rect l="textAreaLeft" t="textAreaTop" r="textAreaRight" b="textAreaBottom"/>
            <a:pathLst>
              <a:path w="1393" h="65">
                <a:moveTo>
                  <a:pt x="1393" y="23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3"/>
                  <a:pt x="0" y="23"/>
                  <a:pt x="0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20" y="23"/>
                  <a:pt x="20" y="0"/>
                  <a:pt x="37" y="0"/>
                </a:cubicBezTo>
                <a:cubicBezTo>
                  <a:pt x="55" y="0"/>
                  <a:pt x="55" y="23"/>
                  <a:pt x="72" y="23"/>
                </a:cubicBezTo>
                <a:cubicBezTo>
                  <a:pt x="89" y="23"/>
                  <a:pt x="89" y="0"/>
                  <a:pt x="107" y="0"/>
                </a:cubicBezTo>
                <a:cubicBezTo>
                  <a:pt x="124" y="0"/>
                  <a:pt x="124" y="23"/>
                  <a:pt x="141" y="23"/>
                </a:cubicBezTo>
                <a:cubicBezTo>
                  <a:pt x="159" y="23"/>
                  <a:pt x="159" y="0"/>
                  <a:pt x="176" y="0"/>
                </a:cubicBezTo>
                <a:cubicBezTo>
                  <a:pt x="194" y="0"/>
                  <a:pt x="194" y="23"/>
                  <a:pt x="211" y="23"/>
                </a:cubicBezTo>
                <a:cubicBezTo>
                  <a:pt x="228" y="23"/>
                  <a:pt x="228" y="0"/>
                  <a:pt x="246" y="0"/>
                </a:cubicBezTo>
                <a:cubicBezTo>
                  <a:pt x="263" y="0"/>
                  <a:pt x="263" y="23"/>
                  <a:pt x="280" y="23"/>
                </a:cubicBezTo>
                <a:cubicBezTo>
                  <a:pt x="298" y="23"/>
                  <a:pt x="298" y="0"/>
                  <a:pt x="315" y="0"/>
                </a:cubicBezTo>
                <a:cubicBezTo>
                  <a:pt x="333" y="0"/>
                  <a:pt x="333" y="23"/>
                  <a:pt x="350" y="23"/>
                </a:cubicBezTo>
                <a:cubicBezTo>
                  <a:pt x="367" y="23"/>
                  <a:pt x="367" y="0"/>
                  <a:pt x="385" y="0"/>
                </a:cubicBezTo>
                <a:cubicBezTo>
                  <a:pt x="402" y="0"/>
                  <a:pt x="402" y="23"/>
                  <a:pt x="419" y="23"/>
                </a:cubicBezTo>
                <a:cubicBezTo>
                  <a:pt x="437" y="23"/>
                  <a:pt x="437" y="0"/>
                  <a:pt x="454" y="0"/>
                </a:cubicBezTo>
                <a:cubicBezTo>
                  <a:pt x="472" y="0"/>
                  <a:pt x="472" y="23"/>
                  <a:pt x="489" y="23"/>
                </a:cubicBezTo>
                <a:cubicBezTo>
                  <a:pt x="506" y="23"/>
                  <a:pt x="506" y="0"/>
                  <a:pt x="524" y="0"/>
                </a:cubicBezTo>
                <a:cubicBezTo>
                  <a:pt x="541" y="0"/>
                  <a:pt x="541" y="23"/>
                  <a:pt x="558" y="23"/>
                </a:cubicBezTo>
                <a:cubicBezTo>
                  <a:pt x="576" y="23"/>
                  <a:pt x="576" y="0"/>
                  <a:pt x="593" y="0"/>
                </a:cubicBezTo>
                <a:cubicBezTo>
                  <a:pt x="611" y="0"/>
                  <a:pt x="611" y="23"/>
                  <a:pt x="628" y="23"/>
                </a:cubicBezTo>
                <a:cubicBezTo>
                  <a:pt x="645" y="23"/>
                  <a:pt x="645" y="0"/>
                  <a:pt x="663" y="0"/>
                </a:cubicBezTo>
                <a:cubicBezTo>
                  <a:pt x="680" y="0"/>
                  <a:pt x="680" y="23"/>
                  <a:pt x="698" y="23"/>
                </a:cubicBezTo>
                <a:cubicBezTo>
                  <a:pt x="715" y="23"/>
                  <a:pt x="715" y="0"/>
                  <a:pt x="732" y="0"/>
                </a:cubicBezTo>
                <a:cubicBezTo>
                  <a:pt x="750" y="0"/>
                  <a:pt x="750" y="23"/>
                  <a:pt x="767" y="23"/>
                </a:cubicBezTo>
                <a:cubicBezTo>
                  <a:pt x="784" y="23"/>
                  <a:pt x="784" y="0"/>
                  <a:pt x="802" y="0"/>
                </a:cubicBezTo>
                <a:cubicBezTo>
                  <a:pt x="819" y="0"/>
                  <a:pt x="819" y="23"/>
                  <a:pt x="837" y="23"/>
                </a:cubicBezTo>
                <a:cubicBezTo>
                  <a:pt x="854" y="23"/>
                  <a:pt x="854" y="0"/>
                  <a:pt x="871" y="0"/>
                </a:cubicBezTo>
                <a:cubicBezTo>
                  <a:pt x="889" y="0"/>
                  <a:pt x="889" y="23"/>
                  <a:pt x="906" y="23"/>
                </a:cubicBezTo>
                <a:cubicBezTo>
                  <a:pt x="924" y="23"/>
                  <a:pt x="924" y="0"/>
                  <a:pt x="941" y="0"/>
                </a:cubicBezTo>
                <a:cubicBezTo>
                  <a:pt x="958" y="0"/>
                  <a:pt x="958" y="23"/>
                  <a:pt x="976" y="23"/>
                </a:cubicBezTo>
                <a:cubicBezTo>
                  <a:pt x="993" y="23"/>
                  <a:pt x="993" y="0"/>
                  <a:pt x="1011" y="0"/>
                </a:cubicBezTo>
                <a:cubicBezTo>
                  <a:pt x="1028" y="0"/>
                  <a:pt x="1028" y="23"/>
                  <a:pt x="1045" y="23"/>
                </a:cubicBezTo>
                <a:cubicBezTo>
                  <a:pt x="1063" y="23"/>
                  <a:pt x="1063" y="0"/>
                  <a:pt x="1080" y="0"/>
                </a:cubicBezTo>
                <a:cubicBezTo>
                  <a:pt x="1097" y="0"/>
                  <a:pt x="1097" y="23"/>
                  <a:pt x="1115" y="23"/>
                </a:cubicBezTo>
                <a:cubicBezTo>
                  <a:pt x="1132" y="23"/>
                  <a:pt x="1132" y="0"/>
                  <a:pt x="1150" y="0"/>
                </a:cubicBezTo>
                <a:cubicBezTo>
                  <a:pt x="1167" y="0"/>
                  <a:pt x="1167" y="23"/>
                  <a:pt x="1184" y="23"/>
                </a:cubicBezTo>
                <a:cubicBezTo>
                  <a:pt x="1202" y="23"/>
                  <a:pt x="1202" y="0"/>
                  <a:pt x="1219" y="0"/>
                </a:cubicBezTo>
                <a:cubicBezTo>
                  <a:pt x="1237" y="0"/>
                  <a:pt x="1237" y="23"/>
                  <a:pt x="1254" y="23"/>
                </a:cubicBezTo>
                <a:cubicBezTo>
                  <a:pt x="1271" y="23"/>
                  <a:pt x="1271" y="0"/>
                  <a:pt x="1289" y="0"/>
                </a:cubicBezTo>
                <a:cubicBezTo>
                  <a:pt x="1306" y="0"/>
                  <a:pt x="1306" y="23"/>
                  <a:pt x="1324" y="23"/>
                </a:cubicBezTo>
                <a:cubicBezTo>
                  <a:pt x="1341" y="23"/>
                  <a:pt x="1341" y="0"/>
                  <a:pt x="1358" y="0"/>
                </a:cubicBezTo>
                <a:cubicBezTo>
                  <a:pt x="1376" y="0"/>
                  <a:pt x="1376" y="23"/>
                  <a:pt x="1393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102"/>
          <p:cNvSpPr/>
          <p:nvPr/>
        </p:nvSpPr>
        <p:spPr>
          <a:xfrm>
            <a:off x="3886200" y="6481800"/>
            <a:ext cx="8042400" cy="37620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1393" h="65">
                <a:moveTo>
                  <a:pt x="1393" y="22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2"/>
                  <a:pt x="0" y="22"/>
                  <a:pt x="0" y="22"/>
                </a:cubicBezTo>
                <a:cubicBezTo>
                  <a:pt x="2" y="22"/>
                  <a:pt x="2" y="22"/>
                  <a:pt x="2" y="22"/>
                </a:cubicBezTo>
                <a:cubicBezTo>
                  <a:pt x="20" y="22"/>
                  <a:pt x="20" y="0"/>
                  <a:pt x="37" y="0"/>
                </a:cubicBezTo>
                <a:cubicBezTo>
                  <a:pt x="55" y="0"/>
                  <a:pt x="55" y="22"/>
                  <a:pt x="72" y="22"/>
                </a:cubicBezTo>
                <a:cubicBezTo>
                  <a:pt x="89" y="22"/>
                  <a:pt x="89" y="0"/>
                  <a:pt x="107" y="0"/>
                </a:cubicBezTo>
                <a:cubicBezTo>
                  <a:pt x="124" y="0"/>
                  <a:pt x="124" y="22"/>
                  <a:pt x="141" y="22"/>
                </a:cubicBezTo>
                <a:cubicBezTo>
                  <a:pt x="159" y="22"/>
                  <a:pt x="159" y="0"/>
                  <a:pt x="176" y="0"/>
                </a:cubicBezTo>
                <a:cubicBezTo>
                  <a:pt x="194" y="0"/>
                  <a:pt x="194" y="22"/>
                  <a:pt x="211" y="22"/>
                </a:cubicBezTo>
                <a:cubicBezTo>
                  <a:pt x="228" y="22"/>
                  <a:pt x="228" y="0"/>
                  <a:pt x="246" y="0"/>
                </a:cubicBezTo>
                <a:cubicBezTo>
                  <a:pt x="263" y="0"/>
                  <a:pt x="263" y="22"/>
                  <a:pt x="280" y="22"/>
                </a:cubicBezTo>
                <a:cubicBezTo>
                  <a:pt x="298" y="22"/>
                  <a:pt x="298" y="0"/>
                  <a:pt x="315" y="0"/>
                </a:cubicBezTo>
                <a:cubicBezTo>
                  <a:pt x="333" y="0"/>
                  <a:pt x="333" y="22"/>
                  <a:pt x="350" y="22"/>
                </a:cubicBezTo>
                <a:cubicBezTo>
                  <a:pt x="367" y="22"/>
                  <a:pt x="367" y="0"/>
                  <a:pt x="385" y="0"/>
                </a:cubicBezTo>
                <a:cubicBezTo>
                  <a:pt x="402" y="0"/>
                  <a:pt x="402" y="22"/>
                  <a:pt x="419" y="22"/>
                </a:cubicBezTo>
                <a:cubicBezTo>
                  <a:pt x="437" y="22"/>
                  <a:pt x="437" y="0"/>
                  <a:pt x="454" y="0"/>
                </a:cubicBezTo>
                <a:cubicBezTo>
                  <a:pt x="472" y="0"/>
                  <a:pt x="472" y="22"/>
                  <a:pt x="489" y="22"/>
                </a:cubicBezTo>
                <a:cubicBezTo>
                  <a:pt x="506" y="22"/>
                  <a:pt x="506" y="0"/>
                  <a:pt x="524" y="0"/>
                </a:cubicBezTo>
                <a:cubicBezTo>
                  <a:pt x="541" y="0"/>
                  <a:pt x="541" y="22"/>
                  <a:pt x="558" y="22"/>
                </a:cubicBezTo>
                <a:cubicBezTo>
                  <a:pt x="576" y="22"/>
                  <a:pt x="576" y="0"/>
                  <a:pt x="593" y="0"/>
                </a:cubicBezTo>
                <a:cubicBezTo>
                  <a:pt x="611" y="0"/>
                  <a:pt x="611" y="22"/>
                  <a:pt x="628" y="22"/>
                </a:cubicBezTo>
                <a:cubicBezTo>
                  <a:pt x="645" y="22"/>
                  <a:pt x="645" y="0"/>
                  <a:pt x="663" y="0"/>
                </a:cubicBezTo>
                <a:cubicBezTo>
                  <a:pt x="680" y="0"/>
                  <a:pt x="680" y="22"/>
                  <a:pt x="698" y="22"/>
                </a:cubicBezTo>
                <a:cubicBezTo>
                  <a:pt x="715" y="22"/>
                  <a:pt x="715" y="0"/>
                  <a:pt x="732" y="0"/>
                </a:cubicBezTo>
                <a:cubicBezTo>
                  <a:pt x="750" y="0"/>
                  <a:pt x="750" y="22"/>
                  <a:pt x="767" y="22"/>
                </a:cubicBezTo>
                <a:cubicBezTo>
                  <a:pt x="784" y="22"/>
                  <a:pt x="784" y="0"/>
                  <a:pt x="802" y="0"/>
                </a:cubicBezTo>
                <a:cubicBezTo>
                  <a:pt x="819" y="0"/>
                  <a:pt x="819" y="22"/>
                  <a:pt x="837" y="22"/>
                </a:cubicBezTo>
                <a:cubicBezTo>
                  <a:pt x="854" y="22"/>
                  <a:pt x="854" y="0"/>
                  <a:pt x="871" y="0"/>
                </a:cubicBezTo>
                <a:cubicBezTo>
                  <a:pt x="889" y="0"/>
                  <a:pt x="889" y="22"/>
                  <a:pt x="906" y="22"/>
                </a:cubicBezTo>
                <a:cubicBezTo>
                  <a:pt x="924" y="22"/>
                  <a:pt x="924" y="0"/>
                  <a:pt x="941" y="0"/>
                </a:cubicBezTo>
                <a:cubicBezTo>
                  <a:pt x="958" y="0"/>
                  <a:pt x="958" y="22"/>
                  <a:pt x="976" y="22"/>
                </a:cubicBezTo>
                <a:cubicBezTo>
                  <a:pt x="993" y="22"/>
                  <a:pt x="993" y="0"/>
                  <a:pt x="1011" y="0"/>
                </a:cubicBezTo>
                <a:cubicBezTo>
                  <a:pt x="1028" y="0"/>
                  <a:pt x="1028" y="22"/>
                  <a:pt x="1045" y="22"/>
                </a:cubicBezTo>
                <a:cubicBezTo>
                  <a:pt x="1063" y="22"/>
                  <a:pt x="1063" y="0"/>
                  <a:pt x="1080" y="0"/>
                </a:cubicBezTo>
                <a:cubicBezTo>
                  <a:pt x="1097" y="0"/>
                  <a:pt x="1097" y="22"/>
                  <a:pt x="1115" y="22"/>
                </a:cubicBezTo>
                <a:cubicBezTo>
                  <a:pt x="1132" y="22"/>
                  <a:pt x="1132" y="0"/>
                  <a:pt x="1150" y="0"/>
                </a:cubicBezTo>
                <a:cubicBezTo>
                  <a:pt x="1167" y="0"/>
                  <a:pt x="1167" y="22"/>
                  <a:pt x="1184" y="22"/>
                </a:cubicBezTo>
                <a:cubicBezTo>
                  <a:pt x="1202" y="22"/>
                  <a:pt x="1202" y="0"/>
                  <a:pt x="1219" y="0"/>
                </a:cubicBezTo>
                <a:cubicBezTo>
                  <a:pt x="1237" y="0"/>
                  <a:pt x="1237" y="22"/>
                  <a:pt x="1254" y="22"/>
                </a:cubicBezTo>
                <a:cubicBezTo>
                  <a:pt x="1271" y="22"/>
                  <a:pt x="1271" y="0"/>
                  <a:pt x="1289" y="0"/>
                </a:cubicBezTo>
                <a:cubicBezTo>
                  <a:pt x="1306" y="0"/>
                  <a:pt x="1306" y="22"/>
                  <a:pt x="1324" y="22"/>
                </a:cubicBezTo>
                <a:cubicBezTo>
                  <a:pt x="1341" y="22"/>
                  <a:pt x="1341" y="0"/>
                  <a:pt x="1358" y="0"/>
                </a:cubicBezTo>
                <a:cubicBezTo>
                  <a:pt x="1376" y="0"/>
                  <a:pt x="1376" y="22"/>
                  <a:pt x="1393" y="22"/>
                </a:cubicBezTo>
                <a:close/>
              </a:path>
            </a:pathLst>
          </a:custGeom>
          <a:solidFill>
            <a:srgbClr val="39a1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103"/>
          <p:cNvSpPr/>
          <p:nvPr/>
        </p:nvSpPr>
        <p:spPr>
          <a:xfrm>
            <a:off x="3886200" y="6654960"/>
            <a:ext cx="8042400" cy="20304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393" h="35">
                <a:moveTo>
                  <a:pt x="1358" y="0"/>
                </a:moveTo>
                <a:cubicBezTo>
                  <a:pt x="1341" y="0"/>
                  <a:pt x="1341" y="22"/>
                  <a:pt x="1324" y="22"/>
                </a:cubicBezTo>
                <a:cubicBezTo>
                  <a:pt x="1306" y="22"/>
                  <a:pt x="1306" y="0"/>
                  <a:pt x="1289" y="0"/>
                </a:cubicBezTo>
                <a:cubicBezTo>
                  <a:pt x="1271" y="0"/>
                  <a:pt x="1271" y="22"/>
                  <a:pt x="1254" y="22"/>
                </a:cubicBezTo>
                <a:cubicBezTo>
                  <a:pt x="1237" y="22"/>
                  <a:pt x="1237" y="0"/>
                  <a:pt x="1219" y="0"/>
                </a:cubicBezTo>
                <a:cubicBezTo>
                  <a:pt x="1202" y="0"/>
                  <a:pt x="1202" y="22"/>
                  <a:pt x="1184" y="22"/>
                </a:cubicBezTo>
                <a:cubicBezTo>
                  <a:pt x="1167" y="22"/>
                  <a:pt x="1167" y="0"/>
                  <a:pt x="1150" y="0"/>
                </a:cubicBezTo>
                <a:cubicBezTo>
                  <a:pt x="1132" y="0"/>
                  <a:pt x="1132" y="22"/>
                  <a:pt x="1115" y="22"/>
                </a:cubicBezTo>
                <a:cubicBezTo>
                  <a:pt x="1097" y="22"/>
                  <a:pt x="1097" y="0"/>
                  <a:pt x="1080" y="0"/>
                </a:cubicBezTo>
                <a:cubicBezTo>
                  <a:pt x="1063" y="0"/>
                  <a:pt x="1063" y="22"/>
                  <a:pt x="1045" y="22"/>
                </a:cubicBezTo>
                <a:cubicBezTo>
                  <a:pt x="1028" y="22"/>
                  <a:pt x="1028" y="0"/>
                  <a:pt x="1011" y="0"/>
                </a:cubicBezTo>
                <a:cubicBezTo>
                  <a:pt x="993" y="0"/>
                  <a:pt x="993" y="22"/>
                  <a:pt x="976" y="22"/>
                </a:cubicBezTo>
                <a:cubicBezTo>
                  <a:pt x="958" y="22"/>
                  <a:pt x="958" y="0"/>
                  <a:pt x="941" y="0"/>
                </a:cubicBezTo>
                <a:cubicBezTo>
                  <a:pt x="924" y="0"/>
                  <a:pt x="924" y="22"/>
                  <a:pt x="906" y="22"/>
                </a:cubicBezTo>
                <a:cubicBezTo>
                  <a:pt x="889" y="22"/>
                  <a:pt x="889" y="0"/>
                  <a:pt x="871" y="0"/>
                </a:cubicBezTo>
                <a:cubicBezTo>
                  <a:pt x="854" y="0"/>
                  <a:pt x="854" y="22"/>
                  <a:pt x="837" y="22"/>
                </a:cubicBezTo>
                <a:cubicBezTo>
                  <a:pt x="819" y="22"/>
                  <a:pt x="819" y="0"/>
                  <a:pt x="802" y="0"/>
                </a:cubicBezTo>
                <a:cubicBezTo>
                  <a:pt x="784" y="0"/>
                  <a:pt x="784" y="22"/>
                  <a:pt x="767" y="22"/>
                </a:cubicBezTo>
                <a:cubicBezTo>
                  <a:pt x="750" y="22"/>
                  <a:pt x="750" y="0"/>
                  <a:pt x="732" y="0"/>
                </a:cubicBezTo>
                <a:cubicBezTo>
                  <a:pt x="715" y="0"/>
                  <a:pt x="715" y="22"/>
                  <a:pt x="698" y="22"/>
                </a:cubicBezTo>
                <a:cubicBezTo>
                  <a:pt x="680" y="22"/>
                  <a:pt x="680" y="0"/>
                  <a:pt x="663" y="0"/>
                </a:cubicBezTo>
                <a:cubicBezTo>
                  <a:pt x="645" y="0"/>
                  <a:pt x="645" y="22"/>
                  <a:pt x="628" y="22"/>
                </a:cubicBezTo>
                <a:cubicBezTo>
                  <a:pt x="611" y="22"/>
                  <a:pt x="611" y="0"/>
                  <a:pt x="593" y="0"/>
                </a:cubicBezTo>
                <a:cubicBezTo>
                  <a:pt x="576" y="0"/>
                  <a:pt x="576" y="22"/>
                  <a:pt x="558" y="22"/>
                </a:cubicBezTo>
                <a:cubicBezTo>
                  <a:pt x="541" y="22"/>
                  <a:pt x="541" y="0"/>
                  <a:pt x="524" y="0"/>
                </a:cubicBezTo>
                <a:cubicBezTo>
                  <a:pt x="506" y="0"/>
                  <a:pt x="506" y="22"/>
                  <a:pt x="489" y="22"/>
                </a:cubicBezTo>
                <a:cubicBezTo>
                  <a:pt x="472" y="22"/>
                  <a:pt x="472" y="0"/>
                  <a:pt x="454" y="0"/>
                </a:cubicBezTo>
                <a:cubicBezTo>
                  <a:pt x="437" y="0"/>
                  <a:pt x="437" y="22"/>
                  <a:pt x="419" y="22"/>
                </a:cubicBezTo>
                <a:cubicBezTo>
                  <a:pt x="402" y="22"/>
                  <a:pt x="402" y="0"/>
                  <a:pt x="385" y="0"/>
                </a:cubicBezTo>
                <a:cubicBezTo>
                  <a:pt x="367" y="0"/>
                  <a:pt x="367" y="22"/>
                  <a:pt x="350" y="22"/>
                </a:cubicBezTo>
                <a:cubicBezTo>
                  <a:pt x="333" y="22"/>
                  <a:pt x="333" y="0"/>
                  <a:pt x="315" y="0"/>
                </a:cubicBezTo>
                <a:cubicBezTo>
                  <a:pt x="298" y="0"/>
                  <a:pt x="298" y="22"/>
                  <a:pt x="280" y="22"/>
                </a:cubicBezTo>
                <a:cubicBezTo>
                  <a:pt x="263" y="22"/>
                  <a:pt x="263" y="0"/>
                  <a:pt x="246" y="0"/>
                </a:cubicBezTo>
                <a:cubicBezTo>
                  <a:pt x="228" y="0"/>
                  <a:pt x="228" y="22"/>
                  <a:pt x="211" y="22"/>
                </a:cubicBezTo>
                <a:cubicBezTo>
                  <a:pt x="194" y="22"/>
                  <a:pt x="194" y="0"/>
                  <a:pt x="176" y="0"/>
                </a:cubicBezTo>
                <a:cubicBezTo>
                  <a:pt x="159" y="0"/>
                  <a:pt x="159" y="22"/>
                  <a:pt x="141" y="22"/>
                </a:cubicBezTo>
                <a:cubicBezTo>
                  <a:pt x="124" y="22"/>
                  <a:pt x="124" y="0"/>
                  <a:pt x="107" y="0"/>
                </a:cubicBezTo>
                <a:cubicBezTo>
                  <a:pt x="89" y="0"/>
                  <a:pt x="89" y="22"/>
                  <a:pt x="72" y="22"/>
                </a:cubicBezTo>
                <a:cubicBezTo>
                  <a:pt x="55" y="22"/>
                  <a:pt x="55" y="0"/>
                  <a:pt x="37" y="0"/>
                </a:cubicBezTo>
                <a:cubicBezTo>
                  <a:pt x="20" y="0"/>
                  <a:pt x="20" y="22"/>
                  <a:pt x="2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5"/>
                  <a:pt x="0" y="35"/>
                  <a:pt x="0" y="35"/>
                </a:cubicBezTo>
                <a:cubicBezTo>
                  <a:pt x="1393" y="35"/>
                  <a:pt x="1393" y="35"/>
                  <a:pt x="1393" y="35"/>
                </a:cubicBezTo>
                <a:cubicBezTo>
                  <a:pt x="1393" y="22"/>
                  <a:pt x="1393" y="22"/>
                  <a:pt x="1393" y="22"/>
                </a:cubicBezTo>
                <a:cubicBezTo>
                  <a:pt x="1376" y="22"/>
                  <a:pt x="1376" y="0"/>
                  <a:pt x="1358" y="0"/>
                </a:cubicBezTo>
                <a:close/>
              </a:path>
            </a:pathLst>
          </a:custGeom>
          <a:solidFill>
            <a:srgbClr val="005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MH_Number_1"/>
          <p:cNvSpPr/>
          <p:nvPr/>
        </p:nvSpPr>
        <p:spPr>
          <a:xfrm flipH="1">
            <a:off x="480960" y="1498680"/>
            <a:ext cx="2610000" cy="2608200"/>
          </a:xfrm>
          <a:prstGeom prst="roundRect">
            <a:avLst>
              <a:gd name="adj" fmla="val 16667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MH_Entry_1"/>
          <p:cNvSpPr/>
          <p:nvPr/>
        </p:nvSpPr>
        <p:spPr>
          <a:xfrm flipH="1">
            <a:off x="3368520" y="1498680"/>
            <a:ext cx="6353280" cy="965160"/>
          </a:xfrm>
          <a:prstGeom prst="roundRect">
            <a:avLst>
              <a:gd name="adj" fmla="val 16667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108"/>
          <p:cNvSpPr/>
          <p:nvPr/>
        </p:nvSpPr>
        <p:spPr>
          <a:xfrm>
            <a:off x="3992040" y="27273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625b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75625b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文本框 109"/>
          <p:cNvSpPr/>
          <p:nvPr/>
        </p:nvSpPr>
        <p:spPr>
          <a:xfrm>
            <a:off x="3992040" y="32529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625b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75625b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文本框 110"/>
          <p:cNvSpPr/>
          <p:nvPr/>
        </p:nvSpPr>
        <p:spPr>
          <a:xfrm>
            <a:off x="3992040" y="373680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625b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75625b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14"/>
          <p:cNvSpPr/>
          <p:nvPr/>
        </p:nvSpPr>
        <p:spPr>
          <a:xfrm>
            <a:off x="0" y="1395360"/>
            <a:ext cx="3736800" cy="245124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矩形 19"/>
          <p:cNvSpPr/>
          <p:nvPr/>
        </p:nvSpPr>
        <p:spPr>
          <a:xfrm>
            <a:off x="8445600" y="1392120"/>
            <a:ext cx="3770280" cy="245448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4" descr=""/>
          <p:cNvPicPr/>
          <p:nvPr/>
        </p:nvPicPr>
        <p:blipFill>
          <a:blip r:embed="rId1">
            <a:grayscl/>
          </a:blip>
          <a:srcRect l="0" t="0" r="0" b="7923"/>
          <a:stretch/>
        </p:blipFill>
        <p:spPr>
          <a:xfrm>
            <a:off x="2984400" y="1392120"/>
            <a:ext cx="6218280" cy="2454480"/>
          </a:xfrm>
          <a:prstGeom prst="rect">
            <a:avLst/>
          </a:prstGeom>
          <a:ln w="0">
            <a:noFill/>
          </a:ln>
        </p:spPr>
      </p:pic>
      <p:sp>
        <p:nvSpPr>
          <p:cNvPr id="610" name="直角三角形 22"/>
          <p:cNvSpPr/>
          <p:nvPr/>
        </p:nvSpPr>
        <p:spPr>
          <a:xfrm rot="13481400">
            <a:off x="2463480" y="2109600"/>
            <a:ext cx="1023840" cy="1025280"/>
          </a:xfrm>
          <a:prstGeom prst="rtTriangl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直角三角形 23"/>
          <p:cNvSpPr/>
          <p:nvPr/>
        </p:nvSpPr>
        <p:spPr>
          <a:xfrm rot="2680200">
            <a:off x="8699040" y="2109960"/>
            <a:ext cx="1025640" cy="1025280"/>
          </a:xfrm>
          <a:prstGeom prst="rtTriangl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矩形 12"/>
          <p:cNvSpPr/>
          <p:nvPr/>
        </p:nvSpPr>
        <p:spPr>
          <a:xfrm>
            <a:off x="1667880" y="4361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13"/>
          <p:cNvSpPr/>
          <p:nvPr/>
        </p:nvSpPr>
        <p:spPr>
          <a:xfrm>
            <a:off x="1182600" y="4856040"/>
            <a:ext cx="983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直接连接符 27"/>
          <p:cNvSpPr/>
          <p:nvPr/>
        </p:nvSpPr>
        <p:spPr>
          <a:xfrm>
            <a:off x="1227240" y="48387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矩形 15"/>
          <p:cNvSpPr/>
          <p:nvPr/>
        </p:nvSpPr>
        <p:spPr>
          <a:xfrm>
            <a:off x="216000" y="236232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16"/>
          <p:cNvSpPr/>
          <p:nvPr/>
        </p:nvSpPr>
        <p:spPr>
          <a:xfrm>
            <a:off x="669240" y="1768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直接连接符 30"/>
          <p:cNvSpPr/>
          <p:nvPr/>
        </p:nvSpPr>
        <p:spPr>
          <a:xfrm>
            <a:off x="243000" y="2260440"/>
            <a:ext cx="25239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18"/>
          <p:cNvSpPr/>
          <p:nvPr/>
        </p:nvSpPr>
        <p:spPr>
          <a:xfrm>
            <a:off x="9439200" y="2378160"/>
            <a:ext cx="274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矩形 19"/>
          <p:cNvSpPr/>
          <p:nvPr/>
        </p:nvSpPr>
        <p:spPr>
          <a:xfrm>
            <a:off x="9893520" y="1784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直接连接符 33"/>
          <p:cNvSpPr/>
          <p:nvPr/>
        </p:nvSpPr>
        <p:spPr>
          <a:xfrm>
            <a:off x="9466200" y="2276640"/>
            <a:ext cx="25257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3T14:48:00Z</dcterms:created>
  <dc:creator>xiaofan Zhou</dc:creator>
  <dc:description/>
  <cp:keywords/>
  <dc:language>en-US</dc:language>
  <cp:lastModifiedBy>my</cp:lastModifiedBy>
  <dcterms:modified xsi:type="dcterms:W3CDTF">2015-10-24T04:51:14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