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1F8-FD58-4A4C-A1CA-46ACE5D6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B38-70EF-45D0-847E-64AF7532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F0E-5250-4380-A663-C5D5E0B2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328-B80B-4D28-871A-BD00268E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C97-17F0-4156-9B84-2A4F467F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BAA9-0020-4BEF-A591-5DE5AD70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C2A-E8DB-4F9F-A03D-0D45D93F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E91-0060-4585-947E-263FABB9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35B-24D8-4446-970B-D04E0D14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0DB-387F-4DD7-B2FE-70791A49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D20-E1A7-493A-8E6C-AF6A298B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B11-1BB3-43C9-A05C-EFCDEE8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B3C9-6FAF-4045-8FA6-44FB5F19C7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:\Users\冰凝\Desktop\ppt 比赛\未标题-1-01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冰凝\Desktop\ppt 比赛\未标题-1-02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冰凝\Desktop\ppt 比赛\未标题-1-03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C:\Users\冰凝\Desktop\ppt 比赛\未标题-1-04.jpg"/>
          <p:cNvPicPr/>
          <p:nvPr/>
        </p:nvPicPr>
        <p:blipFill>
          <a:blip r:embed="rId1"/>
          <a:stretch/>
        </p:blipFill>
        <p:spPr>
          <a:xfrm>
            <a:off x="468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冰凝\Desktop\ppt 比赛\未标题-1-05.jpg"/>
          <p:cNvPicPr/>
          <p:nvPr/>
        </p:nvPicPr>
        <p:blipFill>
          <a:blip r:embed="rId1"/>
          <a:stretch/>
        </p:blipFill>
        <p:spPr>
          <a:xfrm>
            <a:off x="3240" y="-3240"/>
            <a:ext cx="121888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Users\冰凝\Desktop\ppt 比赛\未标题-1-06.jpg"/>
          <p:cNvPicPr/>
          <p:nvPr/>
        </p:nvPicPr>
        <p:blipFill>
          <a:blip r:embed="rId1"/>
          <a:stretch/>
        </p:blipFill>
        <p:spPr>
          <a:xfrm>
            <a:off x="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冰凝\Desktop\ppt 比赛\未标题-1-07.jpg"/>
          <p:cNvPicPr/>
          <p:nvPr/>
        </p:nvPicPr>
        <p:blipFill>
          <a:blip r:embed="rId1"/>
          <a:stretch/>
        </p:blipFill>
        <p:spPr>
          <a:xfrm>
            <a:off x="4680" y="0"/>
            <a:ext cx="1218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冰凝\Desktop\ppt 比赛\未标题-1-08.jpg"/>
          <p:cNvPicPr/>
          <p:nvPr/>
        </p:nvPicPr>
        <p:blipFill>
          <a:blip r:embed="rId1"/>
          <a:stretch/>
        </p:blipFill>
        <p:spPr>
          <a:xfrm>
            <a:off x="0" y="-3240"/>
            <a:ext cx="121888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4-09-06T14:41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